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FC0-0544-4576-B291-78A45115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96400" y="424404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81B-54B4-4B02-A2C7-8761A552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2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C02-C930-46C8-9C1E-D43AA9EE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5484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1328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9640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5484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1328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483-9DD1-4582-B8FB-0821739B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5285-123C-4292-B939-1DC372D2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A702-5C83-4C34-AB94-BDC4D379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A344-F5D3-4AA5-AAF9-1D7D404B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CDD0-BEF0-4789-B28D-763BD7CF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A929-9ED7-4BEF-BB27-D7A4BA1C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25600" y="452160"/>
            <a:ext cx="76420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DB9A-B39B-4573-8308-9679CD71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3F19-D7DE-45DD-A638-5A604013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F80-4588-4D91-92FE-A6790767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22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5EEC-566D-4B21-A8AF-A477784F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FFE6-8C92-469C-A55D-CB35BD7C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96400" y="424404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B44F-B8CD-4E02-8B48-EAF869A2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22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269C-B633-4015-A28B-C5F2B94E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5484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328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9640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5484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1328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655D-D74A-443C-9F58-34F943BE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CD93-A300-4ACD-9F1E-C555D904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F4DF-07CD-4369-9DDA-17D2CC41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4584-0388-4FF7-A078-2C928FD0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3DB15-A4D2-4168-B3DA-4DC1CD53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7FD9-CEB3-4333-82C0-855F7209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3C0-4CCD-46A4-8809-825970FC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25600" y="452160"/>
            <a:ext cx="76420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9579-17EC-4AD5-936E-25D50186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EE87-9DB7-4FE7-AA28-91044D32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22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0C21-10AE-4D6E-9386-401EF2B3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FA1A-D95C-45EA-9E2D-C1A78AA5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96400" y="424404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01AB-42AA-46FE-A10D-22391EDF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22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14DED-E5EA-44B5-82CF-6D1E3F10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484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1328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9640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484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1328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F6FB-E08B-4B6F-B6B2-C50B5815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F468A-8CC4-4D8A-B212-5328129B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BC7D-F368-40BF-9A75-3EE83126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6950E-F7B7-40BE-860C-8BC07F4D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0EA-1183-4BB9-BA1D-794835B8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59DB1-3B22-4FEF-B6C1-E05B1F27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B2280-0F8A-47A6-902C-055D7F63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25600" y="452160"/>
            <a:ext cx="76420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BF3E1-18DC-4BA8-943F-740C62A9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592FF-72F9-4852-82F6-CA803DA5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22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19E4-9F4C-49A3-AD0A-8966497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4145C-9FAD-40AA-BADB-A298555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96400" y="424404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E0034-0B72-4E73-A852-D016B406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22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6016-C929-4F36-BAAF-D61BDA0E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5484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1328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9640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5484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1328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BB965-509B-4F8B-A547-1ADE8126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B593D-A918-4EA2-8E60-1D84992B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F2C-1EA1-469B-9529-A3E51A34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FB12F-4565-44A4-A8AB-A66DFEF8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448D4-F9DD-42D3-A02B-23C0C322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AAEFB-639A-4F55-8868-15C12385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2CF4C-7EB8-4E46-84D4-BB78D780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25600" y="452160"/>
            <a:ext cx="76420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21499-91E1-4B05-A49D-E55B110F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0C4E3-B403-4A24-B7AA-73E9C668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22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0DA8-005C-485B-83A8-D3166462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42A2C-FCB7-441A-896E-4F04FF7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96400" y="424404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2AA0C-0ADD-47ED-889D-3C46A43D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22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1511B-565C-42A9-878B-566FC574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25600" y="452160"/>
            <a:ext cx="76420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F063-D8D2-4E59-868C-A59F3A77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5484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13280" y="205236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9640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5484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13280" y="4244040"/>
            <a:ext cx="234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853EE-2959-4E40-BC9B-FB10B8CF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CCB-38C1-4E4F-B037-079D5FD5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2400" y="424404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FD4-6801-452A-9C1B-1004F56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6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2400" y="2052360"/>
            <a:ext cx="354816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96400" y="4244040"/>
            <a:ext cx="72709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CCD-D966-47BA-B098-1EFD9A27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821640" y="1676520"/>
            <a:ext cx="3060720" cy="2822400"/>
            <a:chOff x="6821640" y="1676520"/>
            <a:chExt cx="306072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821640" y="1676520"/>
              <a:ext cx="306072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272360" y="2089080"/>
              <a:ext cx="215892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6162840" y="-457200"/>
            <a:ext cx="1738080" cy="1603440"/>
            <a:chOff x="6162840" y="-457200"/>
            <a:chExt cx="173808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6162840" y="-457200"/>
              <a:ext cx="17380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6418440" y="-222120"/>
              <a:ext cx="12254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821640" y="6095880"/>
            <a:ext cx="1079280" cy="993960"/>
            <a:chOff x="6821640" y="6095880"/>
            <a:chExt cx="107928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821640" y="6095880"/>
              <a:ext cx="10792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981840" y="6240600"/>
              <a:ext cx="758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65240" y="2670120"/>
            <a:ext cx="4535640" cy="4187880"/>
            <a:chOff x="-165240" y="2670120"/>
            <a:chExt cx="453564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65240" y="2670120"/>
              <a:ext cx="453564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98600" y="3281400"/>
              <a:ext cx="320976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907920" y="2895480"/>
            <a:ext cx="2560680" cy="2365560"/>
            <a:chOff x="-907920" y="2895480"/>
            <a:chExt cx="256068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907920" y="2895480"/>
              <a:ext cx="256068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534960" y="3241800"/>
              <a:ext cx="180972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8391600" y="0"/>
            <a:ext cx="74304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8161200" y="1818720"/>
            <a:ext cx="990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914520" y="3253680"/>
            <a:ext cx="38592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8413560" y="294840"/>
            <a:ext cx="6807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140DF-38A5-4191-883E-1031157FA47E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821640" y="1676520"/>
            <a:ext cx="3060720" cy="2822400"/>
            <a:chOff x="6821640" y="1676520"/>
            <a:chExt cx="306072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821640" y="1676520"/>
              <a:ext cx="306072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272360" y="2089080"/>
              <a:ext cx="215892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6162840" y="-457200"/>
            <a:ext cx="1738080" cy="1603440"/>
            <a:chOff x="6162840" y="-457200"/>
            <a:chExt cx="173808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6162840" y="-457200"/>
              <a:ext cx="17380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18440" y="-222120"/>
              <a:ext cx="12254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821640" y="6095880"/>
            <a:ext cx="1079280" cy="993960"/>
            <a:chOff x="6821640" y="6095880"/>
            <a:chExt cx="107928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821640" y="6095880"/>
              <a:ext cx="10792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981840" y="6240600"/>
              <a:ext cx="758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65240" y="2670120"/>
            <a:ext cx="4535640" cy="4187880"/>
            <a:chOff x="-165240" y="2670120"/>
            <a:chExt cx="453564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65240" y="2670120"/>
              <a:ext cx="453564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98600" y="3281400"/>
              <a:ext cx="320976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907920" y="2895480"/>
            <a:ext cx="2560680" cy="2365560"/>
            <a:chOff x="-907920" y="2895480"/>
            <a:chExt cx="256068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907920" y="2895480"/>
              <a:ext cx="256068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534960" y="3241800"/>
              <a:ext cx="180972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8391600" y="0"/>
            <a:ext cx="74304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 rot="5400000">
            <a:off x="8161200" y="1818720"/>
            <a:ext cx="990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 rot="5400000">
            <a:off x="6914520" y="3253680"/>
            <a:ext cx="38592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413560" y="294840"/>
            <a:ext cx="6807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1D17E-909C-49B2-8CDA-0ADB30E3E992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Oval 21"/>
          <p:cNvGrpSpPr/>
          <p:nvPr/>
        </p:nvGrpSpPr>
        <p:grpSpPr>
          <a:xfrm>
            <a:off x="6821640" y="1676520"/>
            <a:ext cx="3060720" cy="2822400"/>
            <a:chOff x="6821640" y="1676520"/>
            <a:chExt cx="3060720" cy="2822400"/>
          </a:xfrm>
        </p:grpSpPr>
        <p:pic>
          <p:nvPicPr>
            <p:cNvPr id="115" name="Oval 21" descr=""/>
            <p:cNvPicPr/>
            <p:nvPr/>
          </p:nvPicPr>
          <p:blipFill>
            <a:blip r:embed="rId3"/>
            <a:stretch/>
          </p:blipFill>
          <p:spPr>
            <a:xfrm>
              <a:off x="6821640" y="1676520"/>
              <a:ext cx="306072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272360" y="2089080"/>
              <a:ext cx="215892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7" name="Oval 22"/>
          <p:cNvGrpSpPr/>
          <p:nvPr/>
        </p:nvGrpSpPr>
        <p:grpSpPr>
          <a:xfrm>
            <a:off x="6162840" y="-457200"/>
            <a:ext cx="1738080" cy="1603440"/>
            <a:chOff x="6162840" y="-457200"/>
            <a:chExt cx="1738080" cy="1603440"/>
          </a:xfrm>
        </p:grpSpPr>
        <p:pic>
          <p:nvPicPr>
            <p:cNvPr id="118" name="Oval 22" descr=""/>
            <p:cNvPicPr/>
            <p:nvPr/>
          </p:nvPicPr>
          <p:blipFill>
            <a:blip r:embed="rId4"/>
            <a:stretch/>
          </p:blipFill>
          <p:spPr>
            <a:xfrm>
              <a:off x="6162840" y="-457200"/>
              <a:ext cx="17380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418440" y="-222120"/>
              <a:ext cx="12254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0" name="Oval 23"/>
          <p:cNvGrpSpPr/>
          <p:nvPr/>
        </p:nvGrpSpPr>
        <p:grpSpPr>
          <a:xfrm>
            <a:off x="6821640" y="6095880"/>
            <a:ext cx="1079280" cy="993960"/>
            <a:chOff x="6821640" y="6095880"/>
            <a:chExt cx="1079280" cy="993960"/>
          </a:xfrm>
        </p:grpSpPr>
        <p:pic>
          <p:nvPicPr>
            <p:cNvPr id="121" name="Oval 23" descr=""/>
            <p:cNvPicPr/>
            <p:nvPr/>
          </p:nvPicPr>
          <p:blipFill>
            <a:blip r:embed="rId5"/>
            <a:stretch/>
          </p:blipFill>
          <p:spPr>
            <a:xfrm>
              <a:off x="6821640" y="6095880"/>
              <a:ext cx="10792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81840" y="6240600"/>
              <a:ext cx="758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3" name="Oval 19"/>
          <p:cNvGrpSpPr/>
          <p:nvPr/>
        </p:nvGrpSpPr>
        <p:grpSpPr>
          <a:xfrm>
            <a:off x="-165240" y="2670120"/>
            <a:ext cx="4535640" cy="4187880"/>
            <a:chOff x="-165240" y="2670120"/>
            <a:chExt cx="4535640" cy="4187880"/>
          </a:xfrm>
        </p:grpSpPr>
        <p:pic>
          <p:nvPicPr>
            <p:cNvPr id="124" name="Oval 19" descr=""/>
            <p:cNvPicPr/>
            <p:nvPr/>
          </p:nvPicPr>
          <p:blipFill>
            <a:blip r:embed="rId6"/>
            <a:stretch/>
          </p:blipFill>
          <p:spPr>
            <a:xfrm>
              <a:off x="-165240" y="2670120"/>
              <a:ext cx="453564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98600" y="3281400"/>
              <a:ext cx="320976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6" name="Oval 20"/>
          <p:cNvGrpSpPr/>
          <p:nvPr/>
        </p:nvGrpSpPr>
        <p:grpSpPr>
          <a:xfrm>
            <a:off x="-907920" y="2895480"/>
            <a:ext cx="2560680" cy="2365560"/>
            <a:chOff x="-907920" y="2895480"/>
            <a:chExt cx="2560680" cy="2365560"/>
          </a:xfrm>
        </p:grpSpPr>
        <p:pic>
          <p:nvPicPr>
            <p:cNvPr id="127" name="Oval 20" descr=""/>
            <p:cNvPicPr/>
            <p:nvPr/>
          </p:nvPicPr>
          <p:blipFill>
            <a:blip r:embed="rId7"/>
            <a:stretch/>
          </p:blipFill>
          <p:spPr>
            <a:xfrm>
              <a:off x="-907920" y="2895480"/>
              <a:ext cx="256068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-534960" y="3241800"/>
              <a:ext cx="180972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29" name="Rectangle 18"/>
          <p:cNvSpPr/>
          <p:nvPr/>
        </p:nvSpPr>
        <p:spPr>
          <a:xfrm>
            <a:off x="8391600" y="0"/>
            <a:ext cx="74304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730080" y="971640"/>
            <a:ext cx="6508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7583400" y="2612880"/>
            <a:ext cx="6508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 rot="5400000">
            <a:off x="8161200" y="1818720"/>
            <a:ext cx="990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 rot="5400000">
            <a:off x="6914520" y="3253680"/>
            <a:ext cx="38592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8413560" y="294840"/>
            <a:ext cx="6807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6E103-9C31-4D38-8FAF-5AC23DF16C96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Oval 21"/>
          <p:cNvGrpSpPr/>
          <p:nvPr/>
        </p:nvGrpSpPr>
        <p:grpSpPr>
          <a:xfrm>
            <a:off x="6821640" y="1676520"/>
            <a:ext cx="3060720" cy="2822400"/>
            <a:chOff x="6821640" y="1676520"/>
            <a:chExt cx="3060720" cy="2822400"/>
          </a:xfrm>
        </p:grpSpPr>
        <p:pic>
          <p:nvPicPr>
            <p:cNvPr id="174" name="Oval 21" descr=""/>
            <p:cNvPicPr/>
            <p:nvPr/>
          </p:nvPicPr>
          <p:blipFill>
            <a:blip r:embed="rId3"/>
            <a:stretch/>
          </p:blipFill>
          <p:spPr>
            <a:xfrm>
              <a:off x="6821640" y="1676520"/>
              <a:ext cx="306072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272360" y="2089080"/>
              <a:ext cx="215892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6" name="Oval 22"/>
          <p:cNvGrpSpPr/>
          <p:nvPr/>
        </p:nvGrpSpPr>
        <p:grpSpPr>
          <a:xfrm>
            <a:off x="6162840" y="-457200"/>
            <a:ext cx="1738080" cy="1603440"/>
            <a:chOff x="6162840" y="-457200"/>
            <a:chExt cx="1738080" cy="1603440"/>
          </a:xfrm>
        </p:grpSpPr>
        <p:pic>
          <p:nvPicPr>
            <p:cNvPr id="177" name="Oval 22" descr=""/>
            <p:cNvPicPr/>
            <p:nvPr/>
          </p:nvPicPr>
          <p:blipFill>
            <a:blip r:embed="rId4"/>
            <a:stretch/>
          </p:blipFill>
          <p:spPr>
            <a:xfrm>
              <a:off x="6162840" y="-457200"/>
              <a:ext cx="17380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418440" y="-222120"/>
              <a:ext cx="12254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9" name="Oval 23"/>
          <p:cNvGrpSpPr/>
          <p:nvPr/>
        </p:nvGrpSpPr>
        <p:grpSpPr>
          <a:xfrm>
            <a:off x="6821640" y="6095880"/>
            <a:ext cx="1079280" cy="993960"/>
            <a:chOff x="6821640" y="6095880"/>
            <a:chExt cx="1079280" cy="993960"/>
          </a:xfrm>
        </p:grpSpPr>
        <p:pic>
          <p:nvPicPr>
            <p:cNvPr id="180" name="Oval 23" descr=""/>
            <p:cNvPicPr/>
            <p:nvPr/>
          </p:nvPicPr>
          <p:blipFill>
            <a:blip r:embed="rId5"/>
            <a:stretch/>
          </p:blipFill>
          <p:spPr>
            <a:xfrm>
              <a:off x="6821640" y="6095880"/>
              <a:ext cx="10792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981840" y="6240600"/>
              <a:ext cx="758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2" name="Oval 19"/>
          <p:cNvGrpSpPr/>
          <p:nvPr/>
        </p:nvGrpSpPr>
        <p:grpSpPr>
          <a:xfrm>
            <a:off x="-165240" y="2670120"/>
            <a:ext cx="4535640" cy="4187880"/>
            <a:chOff x="-165240" y="2670120"/>
            <a:chExt cx="4535640" cy="4187880"/>
          </a:xfrm>
        </p:grpSpPr>
        <p:pic>
          <p:nvPicPr>
            <p:cNvPr id="183" name="Oval 19" descr=""/>
            <p:cNvPicPr/>
            <p:nvPr/>
          </p:nvPicPr>
          <p:blipFill>
            <a:blip r:embed="rId6"/>
            <a:stretch/>
          </p:blipFill>
          <p:spPr>
            <a:xfrm>
              <a:off x="-165240" y="2670120"/>
              <a:ext cx="453564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98600" y="3281400"/>
              <a:ext cx="320976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5" name="Oval 20"/>
          <p:cNvGrpSpPr/>
          <p:nvPr/>
        </p:nvGrpSpPr>
        <p:grpSpPr>
          <a:xfrm>
            <a:off x="-907920" y="2895480"/>
            <a:ext cx="2560680" cy="2365560"/>
            <a:chOff x="-907920" y="2895480"/>
            <a:chExt cx="2560680" cy="2365560"/>
          </a:xfrm>
        </p:grpSpPr>
        <p:pic>
          <p:nvPicPr>
            <p:cNvPr id="186" name="Oval 20" descr=""/>
            <p:cNvPicPr/>
            <p:nvPr/>
          </p:nvPicPr>
          <p:blipFill>
            <a:blip r:embed="rId7"/>
            <a:stretch/>
          </p:blipFill>
          <p:spPr>
            <a:xfrm>
              <a:off x="-907920" y="2895480"/>
              <a:ext cx="256068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-534960" y="3241800"/>
              <a:ext cx="180972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88" name="Rectangle 18"/>
          <p:cNvSpPr/>
          <p:nvPr/>
        </p:nvSpPr>
        <p:spPr>
          <a:xfrm>
            <a:off x="8391600" y="0"/>
            <a:ext cx="74304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Straight Connector 12"/>
          <p:cNvSpPr/>
          <p:nvPr/>
        </p:nvSpPr>
        <p:spPr>
          <a:xfrm>
            <a:off x="302904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Straight Connector 13"/>
          <p:cNvSpPr/>
          <p:nvPr/>
        </p:nvSpPr>
        <p:spPr>
          <a:xfrm>
            <a:off x="5657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 rot="5400000">
            <a:off x="8161200" y="1818720"/>
            <a:ext cx="990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 rot="5400000">
            <a:off x="6914520" y="3253680"/>
            <a:ext cx="38592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8413560" y="294840"/>
            <a:ext cx="6807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6749B-5B21-429E-AA0E-FF8193744C35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val 21"/>
          <p:cNvGrpSpPr/>
          <p:nvPr/>
        </p:nvGrpSpPr>
        <p:grpSpPr>
          <a:xfrm>
            <a:off x="6821640" y="1676520"/>
            <a:ext cx="3060720" cy="2822400"/>
            <a:chOff x="6821640" y="1676520"/>
            <a:chExt cx="3060720" cy="2822400"/>
          </a:xfrm>
        </p:grpSpPr>
        <p:pic>
          <p:nvPicPr>
            <p:cNvPr id="233" name="Oval 21" descr=""/>
            <p:cNvPicPr/>
            <p:nvPr/>
          </p:nvPicPr>
          <p:blipFill>
            <a:blip r:embed="rId3"/>
            <a:stretch/>
          </p:blipFill>
          <p:spPr>
            <a:xfrm>
              <a:off x="6821640" y="1676520"/>
              <a:ext cx="306072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272360" y="2089080"/>
              <a:ext cx="215892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235" name="Oval 22"/>
          <p:cNvGrpSpPr/>
          <p:nvPr/>
        </p:nvGrpSpPr>
        <p:grpSpPr>
          <a:xfrm>
            <a:off x="6162840" y="-457200"/>
            <a:ext cx="1738080" cy="1603440"/>
            <a:chOff x="6162840" y="-457200"/>
            <a:chExt cx="1738080" cy="1603440"/>
          </a:xfrm>
        </p:grpSpPr>
        <p:pic>
          <p:nvPicPr>
            <p:cNvPr id="236" name="Oval 22" descr=""/>
            <p:cNvPicPr/>
            <p:nvPr/>
          </p:nvPicPr>
          <p:blipFill>
            <a:blip r:embed="rId4"/>
            <a:stretch/>
          </p:blipFill>
          <p:spPr>
            <a:xfrm>
              <a:off x="6162840" y="-457200"/>
              <a:ext cx="17380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418440" y="-222120"/>
              <a:ext cx="12254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238" name="Oval 23"/>
          <p:cNvGrpSpPr/>
          <p:nvPr/>
        </p:nvGrpSpPr>
        <p:grpSpPr>
          <a:xfrm>
            <a:off x="6821640" y="6095880"/>
            <a:ext cx="1079280" cy="993960"/>
            <a:chOff x="6821640" y="6095880"/>
            <a:chExt cx="1079280" cy="993960"/>
          </a:xfrm>
        </p:grpSpPr>
        <p:pic>
          <p:nvPicPr>
            <p:cNvPr id="239" name="Oval 23" descr=""/>
            <p:cNvPicPr/>
            <p:nvPr/>
          </p:nvPicPr>
          <p:blipFill>
            <a:blip r:embed="rId5"/>
            <a:stretch/>
          </p:blipFill>
          <p:spPr>
            <a:xfrm>
              <a:off x="6821640" y="6095880"/>
              <a:ext cx="10792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981840" y="6240600"/>
              <a:ext cx="7588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241" name="Oval 19"/>
          <p:cNvGrpSpPr/>
          <p:nvPr/>
        </p:nvGrpSpPr>
        <p:grpSpPr>
          <a:xfrm>
            <a:off x="-165240" y="2670120"/>
            <a:ext cx="4535640" cy="4187880"/>
            <a:chOff x="-165240" y="2670120"/>
            <a:chExt cx="4535640" cy="4187880"/>
          </a:xfrm>
        </p:grpSpPr>
        <p:pic>
          <p:nvPicPr>
            <p:cNvPr id="242" name="Oval 19" descr=""/>
            <p:cNvPicPr/>
            <p:nvPr/>
          </p:nvPicPr>
          <p:blipFill>
            <a:blip r:embed="rId6"/>
            <a:stretch/>
          </p:blipFill>
          <p:spPr>
            <a:xfrm>
              <a:off x="-165240" y="2670120"/>
              <a:ext cx="453564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98600" y="3281400"/>
              <a:ext cx="320976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244" name="Oval 20"/>
          <p:cNvGrpSpPr/>
          <p:nvPr/>
        </p:nvGrpSpPr>
        <p:grpSpPr>
          <a:xfrm>
            <a:off x="-907920" y="2895480"/>
            <a:ext cx="2560680" cy="2365560"/>
            <a:chOff x="-907920" y="2895480"/>
            <a:chExt cx="2560680" cy="2365560"/>
          </a:xfrm>
        </p:grpSpPr>
        <p:pic>
          <p:nvPicPr>
            <p:cNvPr id="245" name="Oval 20" descr=""/>
            <p:cNvPicPr/>
            <p:nvPr/>
          </p:nvPicPr>
          <p:blipFill>
            <a:blip r:embed="rId7"/>
            <a:stretch/>
          </p:blipFill>
          <p:spPr>
            <a:xfrm>
              <a:off x="-907920" y="2895480"/>
              <a:ext cx="256068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-534960" y="3241800"/>
              <a:ext cx="180972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47" name="Rectangle 18"/>
          <p:cNvSpPr/>
          <p:nvPr/>
        </p:nvSpPr>
        <p:spPr>
          <a:xfrm>
            <a:off x="8391600" y="0"/>
            <a:ext cx="74304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Straight Connector 12"/>
          <p:cNvSpPr/>
          <p:nvPr/>
        </p:nvSpPr>
        <p:spPr>
          <a:xfrm>
            <a:off x="302904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Straight Connector 13"/>
          <p:cNvSpPr/>
          <p:nvPr/>
        </p:nvSpPr>
        <p:spPr>
          <a:xfrm>
            <a:off x="5657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6400" y="2052360"/>
            <a:ext cx="7270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 rot="5400000">
            <a:off x="8161200" y="1818720"/>
            <a:ext cx="990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 rot="5400000">
            <a:off x="6914520" y="3253680"/>
            <a:ext cx="38592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8413560" y="294840"/>
            <a:ext cx="6807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0A38A-8894-425A-B4FF-AFDEE5BBCCBF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360" y="2052360"/>
            <a:ext cx="6851520" cy="28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بسم الله الرحمن الرحیم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a-IR" sz="32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درس</a:t>
            </a:r>
            <a:br>
              <a:rPr sz="7200"/>
            </a:br>
            <a:r>
              <a:rPr b="1" lang="fa-IR" sz="7200" spc="-1" strike="noStrike">
                <a:solidFill>
                  <a:srgbClr val="ffff00"/>
                </a:solidFill>
                <a:latin typeface="Century Gothic"/>
                <a:ea typeface="B Zar"/>
              </a:rPr>
              <a:t> </a:t>
            </a:r>
            <a:r>
              <a:rPr b="1" lang="en-US" sz="7200" spc="-1" strike="noStrike">
                <a:solidFill>
                  <a:srgbClr val="ffff00"/>
                </a:solidFill>
                <a:latin typeface="Century Gothic"/>
                <a:ea typeface="B Zar"/>
              </a:rPr>
              <a:t>“ </a:t>
            </a:r>
            <a:r>
              <a:rPr b="1" lang="fa-IR" sz="7200" spc="-1" strike="noStrike">
                <a:solidFill>
                  <a:srgbClr val="ffff00"/>
                </a:solidFill>
                <a:latin typeface="Arial"/>
                <a:cs typeface="B Zar"/>
              </a:rPr>
              <a:t>مبانی طراحی معماری</a:t>
            </a:r>
            <a:r>
              <a:rPr b="1" lang="en-US" sz="7200" spc="-1" strike="noStrike">
                <a:solidFill>
                  <a:srgbClr val="ffff00"/>
                </a:solidFill>
                <a:latin typeface="Century Gothic"/>
                <a:ea typeface="B Zar"/>
              </a:rPr>
              <a:t> </a:t>
            </a:r>
            <a:r>
              <a:rPr b="1" lang="fa-IR" sz="7200" spc="-1" strike="noStrike">
                <a:solidFill>
                  <a:srgbClr val="ffff00"/>
                </a:solidFill>
                <a:latin typeface="Century Gothic"/>
                <a:ea typeface="B Zar"/>
              </a:rPr>
              <a:t> </a:t>
            </a:r>
            <a:r>
              <a:rPr b="1" lang="en-US" sz="7200" spc="-1" strike="noStrike">
                <a:solidFill>
                  <a:srgbClr val="ffff00"/>
                </a:solidFill>
                <a:latin typeface="Century Gothic"/>
                <a:ea typeface="B Zar"/>
              </a:rPr>
              <a:t>“ 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38160" y="4776840"/>
            <a:ext cx="71740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400" spc="-1" strike="noStrike">
                <a:solidFill>
                  <a:srgbClr val="8ad0d6"/>
                </a:solidFill>
                <a:latin typeface="Century Gothic"/>
                <a:cs typeface="Times New Roman"/>
              </a:rPr>
              <a:t>دانشگاه تهران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400" spc="-1" strike="noStrike">
                <a:solidFill>
                  <a:srgbClr val="8ad0d6"/>
                </a:solidFill>
                <a:latin typeface="Century Gothic"/>
                <a:cs typeface="Times New Roman"/>
              </a:rPr>
              <a:t>دانشکده فن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400" spc="-1" strike="noStrike">
                <a:solidFill>
                  <a:srgbClr val="8ad0d6"/>
                </a:solidFill>
                <a:latin typeface="Century Gothic"/>
                <a:cs typeface="Times New Roman"/>
              </a:rPr>
              <a:t>گروه نقشه بردار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چهار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شناخت اجزاء پروژه و تهیه ی برنامه فیزیک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40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pic>
        <p:nvPicPr>
          <p:cNvPr id="341" name="TextBox 4" descr=""/>
          <p:cNvPicPr/>
          <p:nvPr/>
        </p:nvPicPr>
        <p:blipFill>
          <a:blip r:embed="rId2"/>
          <a:stretch/>
        </p:blipFill>
        <p:spPr>
          <a:xfrm>
            <a:off x="7143840" y="609480"/>
            <a:ext cx="41580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چهار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شناخت اجزاء پروژه و تهیه ی برنامه فیزیک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43" name="Content Placeholder 4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pic>
        <p:nvPicPr>
          <p:cNvPr id="344" name="TextBox 5" descr=""/>
          <p:cNvPicPr/>
          <p:nvPr/>
        </p:nvPicPr>
        <p:blipFill>
          <a:blip r:embed="rId2"/>
          <a:stretch/>
        </p:blipFill>
        <p:spPr>
          <a:xfrm>
            <a:off x="7089840" y="3024360"/>
            <a:ext cx="511200" cy="2199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چهار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شناخت اجزاء پروژه و تهیه ی برنامه فیزیک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46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pic>
        <p:nvPicPr>
          <p:cNvPr id="347" name="TextBox 5" descr=""/>
          <p:cNvPicPr/>
          <p:nvPr/>
        </p:nvPicPr>
        <p:blipFill>
          <a:blip r:embed="rId2"/>
          <a:stretch/>
        </p:blipFill>
        <p:spPr>
          <a:xfrm>
            <a:off x="7089840" y="2457360"/>
            <a:ext cx="738000" cy="2889360"/>
          </a:xfrm>
          <a:prstGeom prst="rect">
            <a:avLst/>
          </a:prstGeom>
          <a:ln w="0">
            <a:noFill/>
          </a:ln>
        </p:spPr>
      </p:pic>
      <p:sp>
        <p:nvSpPr>
          <p:cNvPr id="348" name="Snip Diagonal Corner Rectangle 6"/>
          <p:cNvSpPr/>
          <p:nvPr/>
        </p:nvSpPr>
        <p:spPr>
          <a:xfrm>
            <a:off x="2286000" y="2286000"/>
            <a:ext cx="2133720" cy="609480"/>
          </a:xfrm>
          <a:prstGeom prst="pie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اتاق خواب والدین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Snip Diagonal Corner Rectangle 8"/>
          <p:cNvSpPr/>
          <p:nvPr/>
        </p:nvSpPr>
        <p:spPr>
          <a:xfrm>
            <a:off x="2286000" y="3048120"/>
            <a:ext cx="2133720" cy="609480"/>
          </a:xfrm>
          <a:prstGeom prst="pie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اتاق خواب فرزندان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Snip Diagonal Corner Rectangle 9"/>
          <p:cNvSpPr/>
          <p:nvPr/>
        </p:nvSpPr>
        <p:spPr>
          <a:xfrm>
            <a:off x="2286000" y="3809880"/>
            <a:ext cx="2133720" cy="609840"/>
          </a:xfrm>
          <a:prstGeom prst="pie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اتاق خواب مهمان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Snip Diagonal Corner Rectangle 10"/>
          <p:cNvSpPr/>
          <p:nvPr/>
        </p:nvSpPr>
        <p:spPr>
          <a:xfrm>
            <a:off x="2314440" y="4572000"/>
            <a:ext cx="2133720" cy="609480"/>
          </a:xfrm>
          <a:prstGeom prst="pie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اتاق مطالعه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چهار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شناخت اجزاء پروژه و تهیه ی برنامه فیزیک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53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pic>
        <p:nvPicPr>
          <p:cNvPr id="354" name="TextBox 4" descr=""/>
          <p:cNvPicPr/>
          <p:nvPr/>
        </p:nvPicPr>
        <p:blipFill>
          <a:blip r:embed="rId2"/>
          <a:stretch/>
        </p:blipFill>
        <p:spPr>
          <a:xfrm>
            <a:off x="7162920" y="2914560"/>
            <a:ext cx="738000" cy="2200320"/>
          </a:xfrm>
          <a:prstGeom prst="rect">
            <a:avLst/>
          </a:prstGeom>
          <a:ln w="0">
            <a:noFill/>
          </a:ln>
        </p:spPr>
      </p:pic>
      <p:sp>
        <p:nvSpPr>
          <p:cNvPr id="355" name="Pentagon 5"/>
          <p:cNvSpPr/>
          <p:nvPr/>
        </p:nvSpPr>
        <p:spPr>
          <a:xfrm>
            <a:off x="2743200" y="1905120"/>
            <a:ext cx="1130400" cy="1447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خوانا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دعوت کننده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زیبا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جاذب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چهار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شناخت اجزاء پروژه و تهیه ی برنامه فیزیک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pic>
        <p:nvPicPr>
          <p:cNvPr id="358" name="TextBox 4" descr=""/>
          <p:cNvPicPr/>
          <p:nvPr/>
        </p:nvPicPr>
        <p:blipFill>
          <a:blip r:embed="rId2"/>
          <a:stretch/>
        </p:blipFill>
        <p:spPr>
          <a:xfrm>
            <a:off x="7089840" y="2779560"/>
            <a:ext cx="738000" cy="231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چهار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شناخت اجزاء پروژه و تهیه ی برنامه فیزیک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pic>
        <p:nvPicPr>
          <p:cNvPr id="361" name="TextBox 4" descr=""/>
          <p:cNvPicPr/>
          <p:nvPr/>
        </p:nvPicPr>
        <p:blipFill>
          <a:blip r:embed="rId2"/>
          <a:stretch/>
        </p:blipFill>
        <p:spPr>
          <a:xfrm>
            <a:off x="7089840" y="2809800"/>
            <a:ext cx="511200" cy="2468520"/>
          </a:xfrm>
          <a:prstGeom prst="rect">
            <a:avLst/>
          </a:prstGeom>
          <a:ln w="0">
            <a:noFill/>
          </a:ln>
        </p:spPr>
      </p:pic>
      <p:sp>
        <p:nvSpPr>
          <p:cNvPr id="362" name="Pentagon 5"/>
          <p:cNvSpPr/>
          <p:nvPr/>
        </p:nvSpPr>
        <p:spPr>
          <a:xfrm>
            <a:off x="3124080" y="2895480"/>
            <a:ext cx="978120" cy="636840"/>
          </a:xfrm>
          <a:custGeom>
            <a:avLst/>
            <a:gdLst>
              <a:gd name="textAreaLeft" fmla="*/ 0 w 978120"/>
              <a:gd name="textAreaRight" fmla="*/ 978480 w 978120"/>
              <a:gd name="textAreaTop" fmla="*/ 0 h 636840"/>
              <a:gd name="textAreaBottom" fmla="*/ 637200 h 6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69" y="0"/>
                </a:lnTo>
                <a:lnTo>
                  <a:pt x="21600" y="10800"/>
                </a:lnTo>
                <a:lnTo>
                  <a:pt x="145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بیرون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entagon 6"/>
          <p:cNvSpPr/>
          <p:nvPr/>
        </p:nvSpPr>
        <p:spPr>
          <a:xfrm>
            <a:off x="3124080" y="4572000"/>
            <a:ext cx="978120" cy="636480"/>
          </a:xfrm>
          <a:custGeom>
            <a:avLst/>
            <a:gdLst>
              <a:gd name="textAreaLeft" fmla="*/ 0 w 978120"/>
              <a:gd name="textAreaRight" fmla="*/ 978480 w 97812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69" y="0"/>
                </a:lnTo>
                <a:lnTo>
                  <a:pt x="21600" y="10800"/>
                </a:lnTo>
                <a:lnTo>
                  <a:pt x="145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اندرون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Right Arrow Callout 7"/>
          <p:cNvSpPr/>
          <p:nvPr/>
        </p:nvSpPr>
        <p:spPr>
          <a:xfrm>
            <a:off x="685800" y="2971800"/>
            <a:ext cx="2514600" cy="231300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بر غنای منظر شهری         می افزایند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ورودی ساختمان را جذاب تر می کنند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بر ایمنی و کیفیت ورود و خروج افراد سواره و پیاده    می افزایند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مکمل مناسبی برای فضاهای باز شهری و مسیرهای      پیاده اند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پنج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طراحی معماری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599840" y="4647960"/>
            <a:ext cx="6096240" cy="1067040"/>
          </a:xfrm>
          <a:prstGeom prst="rect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1280" indent="-341280" algn="ctr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500" spc="-1" strike="noStrike">
                <a:solidFill>
                  <a:srgbClr val="ffffff"/>
                </a:solidFill>
                <a:latin typeface="Century Gothic"/>
                <a:cs typeface="Arial"/>
              </a:rPr>
              <a:t>طبق برنامه فیزیکی پروژه ، جمع مساحت فضاها ، </a:t>
            </a:r>
            <a:r>
              <a:rPr b="0" lang="fa-IR" sz="1500" spc="-1" strike="noStrike">
                <a:solidFill>
                  <a:srgbClr val="ffffff"/>
                </a:solidFill>
                <a:latin typeface="Century Gothic"/>
                <a:cs typeface="Arial"/>
              </a:rPr>
              <a:t>مساحت خالص فضاها</a:t>
            </a:r>
            <a:r>
              <a:rPr b="0" lang="fa-IR" sz="1500" spc="-1" strike="noStrike">
                <a:solidFill>
                  <a:srgbClr val="ffffff"/>
                </a:solidFill>
                <a:latin typeface="Century Gothic"/>
                <a:ea typeface="Arial"/>
              </a:rPr>
              <a:t> را نمایش می دهد ، و برای دسترسی به مساحت کل ، باید حدود </a:t>
            </a:r>
            <a:r>
              <a:rPr b="0" lang="fa-IR" sz="1500" spc="-1" strike="noStrike">
                <a:solidFill>
                  <a:srgbClr val="ffffff"/>
                </a:solidFill>
                <a:latin typeface="Century Gothic"/>
                <a:ea typeface="Arial"/>
              </a:rPr>
              <a:t>30</a:t>
            </a:r>
            <a:r>
              <a:rPr b="0" lang="fa-IR" sz="1500" spc="-1" strike="noStrike">
                <a:solidFill>
                  <a:srgbClr val="ffffff"/>
                </a:solidFill>
                <a:latin typeface="Century Gothic"/>
                <a:ea typeface="Arial"/>
              </a:rPr>
              <a:t>%</a:t>
            </a:r>
            <a:r>
              <a:rPr b="0" lang="fa-IR" sz="1500" spc="-1" strike="noStrike">
                <a:solidFill>
                  <a:srgbClr val="ffffff"/>
                </a:solidFill>
                <a:latin typeface="Century Gothic"/>
                <a:ea typeface="Arial"/>
              </a:rPr>
              <a:t> به عنوان مساحت زیر دیوارها ، کمدها و پله ها و فضاهای ارتباطی به مساحت خالص(زیربنا) اضافه کنیم</a:t>
            </a:r>
            <a:r>
              <a:rPr b="0" lang="fa-IR" sz="15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500" spc="-1" strike="noStrike">
                <a:solidFill>
                  <a:srgbClr val="ffffff"/>
                </a:solidFill>
                <a:latin typeface="Century Gothic"/>
                <a:ea typeface="Arial"/>
              </a:rPr>
              <a:t>. </a:t>
            </a:r>
            <a:r>
              <a:rPr b="0" lang="fa-IR" sz="1500" spc="-1" strike="noStrike">
                <a:solidFill>
                  <a:srgbClr val="ffffff"/>
                </a:solidFill>
                <a:latin typeface="Century Gothic"/>
                <a:ea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Left Arrow Callout 3" descr=""/>
          <p:cNvPicPr/>
          <p:nvPr/>
        </p:nvPicPr>
        <p:blipFill>
          <a:blip r:embed="rId1"/>
          <a:stretch/>
        </p:blipFill>
        <p:spPr>
          <a:xfrm>
            <a:off x="7686720" y="2517840"/>
            <a:ext cx="1469880" cy="2908080"/>
          </a:xfrm>
          <a:prstGeom prst="rect">
            <a:avLst/>
          </a:prstGeom>
          <a:ln w="0">
            <a:noFill/>
          </a:ln>
        </p:spPr>
      </p:pic>
      <p:sp>
        <p:nvSpPr>
          <p:cNvPr id="368" name="Snip Diagonal Corner Rectangle 5"/>
          <p:cNvSpPr/>
          <p:nvPr/>
        </p:nvSpPr>
        <p:spPr>
          <a:xfrm>
            <a:off x="1600200" y="3424320"/>
            <a:ext cx="6095880" cy="1057320"/>
          </a:xfrm>
          <a:prstGeom prst="pie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ابعاد و مشخصات فضاها ، با توجه به مواردی از قبیل : 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نوع فعالیت 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، 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حجم فعالیت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 ، 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مبلمان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 و 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استانداردهای موجود 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تعیین می کنیم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Snip Diagonal Corner Rectangle 6"/>
          <p:cNvSpPr/>
          <p:nvPr/>
        </p:nvSpPr>
        <p:spPr>
          <a:xfrm>
            <a:off x="1600200" y="2219400"/>
            <a:ext cx="6095880" cy="1057320"/>
          </a:xfrm>
          <a:prstGeom prst="pie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فضاهای مورد نیاز هر پروژه به همراه تعداد،مساحت و ویژگیهای اصلی هر فضا را 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برنامه فیزیکی آن پروژه </a:t>
            </a:r>
            <a:r>
              <a:rPr b="0" lang="fa-IR" sz="1800" spc="-1" strike="noStrike">
                <a:solidFill>
                  <a:srgbClr val="000000"/>
                </a:solidFill>
                <a:latin typeface="Century Gothic"/>
                <a:cs typeface="Arial"/>
              </a:rPr>
              <a:t>می گویند</a:t>
            </a:r>
            <a:r>
              <a:rPr b="0" lang="fa-IR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پنج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طراحی معماری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71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pic>
        <p:nvPicPr>
          <p:cNvPr id="372" name="TextBox 4" descr=""/>
          <p:cNvPicPr/>
          <p:nvPr/>
        </p:nvPicPr>
        <p:blipFill>
          <a:blip r:embed="rId2"/>
          <a:stretch/>
        </p:blipFill>
        <p:spPr>
          <a:xfrm>
            <a:off x="7010280" y="2779560"/>
            <a:ext cx="513000" cy="2872080"/>
          </a:xfrm>
          <a:prstGeom prst="rect">
            <a:avLst/>
          </a:prstGeom>
          <a:ln w="0">
            <a:noFill/>
          </a:ln>
        </p:spPr>
      </p:pic>
      <p:sp>
        <p:nvSpPr>
          <p:cNvPr id="373" name="Left Arrow 5"/>
          <p:cNvSpPr/>
          <p:nvPr/>
        </p:nvSpPr>
        <p:spPr>
          <a:xfrm>
            <a:off x="2438280" y="2538360"/>
            <a:ext cx="762120" cy="3571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Folded Corner 6"/>
          <p:cNvSpPr/>
          <p:nvPr/>
        </p:nvSpPr>
        <p:spPr>
          <a:xfrm>
            <a:off x="1295280" y="1890720"/>
            <a:ext cx="990720" cy="1614600"/>
          </a:xfrm>
          <a:prstGeom prst="foldedCorner">
            <a:avLst>
              <a:gd name="adj" fmla="val 16666"/>
            </a:avLst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اندازه و شکل زمین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شیب زمین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عوارض ، پستی و بلندی های زمین  و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جنس خاک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امکانات دسترسی و همجواریها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دید و منظر و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Left Arrow 7"/>
          <p:cNvSpPr/>
          <p:nvPr/>
        </p:nvSpPr>
        <p:spPr>
          <a:xfrm>
            <a:off x="2438280" y="3657600"/>
            <a:ext cx="762120" cy="35712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Folded Corner 8"/>
          <p:cNvSpPr/>
          <p:nvPr/>
        </p:nvSpPr>
        <p:spPr>
          <a:xfrm>
            <a:off x="1343160" y="3633840"/>
            <a:ext cx="942840" cy="762120"/>
          </a:xfrm>
          <a:prstGeom prst="foldedCorner">
            <a:avLst>
              <a:gd name="adj" fmla="val 16666"/>
            </a:avLst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دیگرام حبابی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دیاگرام ارتباطی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ایدئو گرام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Left Arrow 9"/>
          <p:cNvSpPr/>
          <p:nvPr/>
        </p:nvSpPr>
        <p:spPr>
          <a:xfrm>
            <a:off x="2438280" y="4648320"/>
            <a:ext cx="762120" cy="35712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Folded Corner 10"/>
          <p:cNvSpPr/>
          <p:nvPr/>
        </p:nvSpPr>
        <p:spPr>
          <a:xfrm>
            <a:off x="1343160" y="4495680"/>
            <a:ext cx="990360" cy="1614600"/>
          </a:xfrm>
          <a:prstGeom prst="foldedCorner">
            <a:avLst>
              <a:gd name="adj" fmla="val 16666"/>
            </a:avLst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طراحی با تاکید بر روابط فضاها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طراحی با تاکید بر تفکیک عرصه ها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طراحی با تاکید بر اساس فضاهای باز و بسته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شش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عناصر تشکیل دهنده فضا در گزینه ها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80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7010280" y="411480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Franklin Gothic Medium"/>
                <a:cs typeface="Arial Bold"/>
              </a:rPr>
              <a:t>فضا</a:t>
            </a:r>
            <a:r>
              <a:rPr b="0" lang="fa-IR" sz="3200" spc="-1" strike="noStrike">
                <a:solidFill>
                  <a:srgbClr val="ffffff"/>
                </a:solidFill>
                <a:latin typeface="Franklin Gothic Medium"/>
                <a:ea typeface="Arial Bol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Franklin Gothic Medium"/>
                <a:ea typeface="Arial Bol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Right Arrow 5"/>
          <p:cNvSpPr/>
          <p:nvPr/>
        </p:nvSpPr>
        <p:spPr>
          <a:xfrm flipH="1">
            <a:off x="3398760" y="2286000"/>
            <a:ext cx="609840" cy="3808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Right Arrow 6"/>
          <p:cNvSpPr/>
          <p:nvPr/>
        </p:nvSpPr>
        <p:spPr>
          <a:xfrm flipH="1">
            <a:off x="3444120" y="3260880"/>
            <a:ext cx="60948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Rounded Rectangle 8"/>
          <p:cNvSpPr/>
          <p:nvPr/>
        </p:nvSpPr>
        <p:spPr>
          <a:xfrm>
            <a:off x="3962520" y="2438280"/>
            <a:ext cx="98280" cy="1028880"/>
          </a:xfrm>
          <a:custGeom>
            <a:avLst/>
            <a:gdLst>
              <a:gd name="textAreaLeft" fmla="*/ 4680 w 98280"/>
              <a:gd name="textAreaRight" fmla="*/ 93600 w 98280"/>
              <a:gd name="textAreaTop" fmla="*/ 4680 h 1028880"/>
              <a:gd name="textAreaBottom" fmla="*/ 1024200 h 1028880"/>
            </a:gdLst>
            <a:ahLst/>
            <a:rect l="textAreaLeft" t="textAreaTop" r="textAreaRight" b="textAreaBottom"/>
            <a:pathLst>
              <a:path w="21600" h="225381">
                <a:moveTo>
                  <a:pt x="3600" y="0"/>
                </a:moveTo>
                <a:arcTo wR="3600" hR="3600" stAng="16200000" swAng="-5400000"/>
                <a:lnTo>
                  <a:pt x="0" y="221781"/>
                </a:lnTo>
                <a:arcTo wR="3600" hR="3600" stAng="10800000" swAng="-5400000"/>
                <a:lnTo>
                  <a:pt x="18000" y="2253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f9c9d"/>
          </a:solidFill>
          <a:ln cap="rnd" w="19080">
            <a:solidFill>
              <a:srgbClr val="5f9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Horizontal Scroll 9"/>
          <p:cNvSpPr/>
          <p:nvPr/>
        </p:nvSpPr>
        <p:spPr>
          <a:xfrm>
            <a:off x="1143000" y="1960560"/>
            <a:ext cx="1981080" cy="1031760"/>
          </a:xfrm>
          <a:prstGeom prst="horizontalScroll">
            <a:avLst>
              <a:gd name="adj" fmla="val 12500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عناصر هندسی مانند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نقطه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،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خط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،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سطح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و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حجم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، با هم ترکیب شده و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فضای تجسمی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را شکل می دهند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Horizontal Scroll 10"/>
          <p:cNvSpPr/>
          <p:nvPr/>
        </p:nvSpPr>
        <p:spPr>
          <a:xfrm>
            <a:off x="1158840" y="2951280"/>
            <a:ext cx="1981080" cy="1031760"/>
          </a:xfrm>
          <a:prstGeom prst="horizontalScroll">
            <a:avLst>
              <a:gd name="adj" fmla="val 12500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در مقیاس معماری ، عناصری مانند 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تیرها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،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ستونها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،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سقفها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،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کفها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 و 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احجام معماری 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با هم ترکیب شده و 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فضای معماری 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را تشکیل می دهند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Down Arrow 11"/>
          <p:cNvSpPr/>
          <p:nvPr/>
        </p:nvSpPr>
        <p:spPr>
          <a:xfrm>
            <a:off x="1908000" y="4029120"/>
            <a:ext cx="301680" cy="61920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Rectangular Callout 12"/>
          <p:cNvSpPr/>
          <p:nvPr/>
        </p:nvSpPr>
        <p:spPr>
          <a:xfrm>
            <a:off x="839880" y="4800600"/>
            <a:ext cx="2438280" cy="10666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عوامل تعیین کننده 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کیفیت فضای معماری 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عبارتند از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100" spc="-1" strike="noStrike">
                <a:solidFill>
                  <a:srgbClr val="ffffff"/>
                </a:solidFill>
                <a:latin typeface="Century Gothic"/>
                <a:ea typeface="Arial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فرم ، شکل و کیفیت عناصر تعریف کننده فضا    ( تیر،ستون،سقف،کف و ... )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الگوهای درها و پنجره ها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Arial"/>
              </a:rPr>
              <a:t>نحوه ی ترکیب فضاهای داخلی و خارجی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شش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عناصر تشکیل دهنده فضا در گزینه ها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90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73800" cy="42130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3809880" y="3429000"/>
            <a:ext cx="24386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Medium"/>
                <a:cs typeface="Arial Bold"/>
              </a:rPr>
              <a:t>عناصر تشکیل دهنده فضا    </a:t>
            </a:r>
            <a:r>
              <a:rPr b="0" lang="fa-IR" sz="1100" spc="-1" strike="noStrike">
                <a:solidFill>
                  <a:srgbClr val="ffffff"/>
                </a:solidFill>
                <a:latin typeface="Franklin Gothic Medium"/>
                <a:ea typeface="Arial Bold"/>
              </a:rPr>
              <a:t>( عناصر تجسم یا عناصر اولیه طراحی )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Left Arrow 8"/>
          <p:cNvSpPr/>
          <p:nvPr/>
        </p:nvSpPr>
        <p:spPr>
          <a:xfrm>
            <a:off x="1631880" y="4876920"/>
            <a:ext cx="609840" cy="242640"/>
          </a:xfrm>
          <a:prstGeom prst="leftArrow">
            <a:avLst>
              <a:gd name="adj1" fmla="val 50000"/>
              <a:gd name="adj2" fmla="val 50069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Rounded Rectangle 9"/>
          <p:cNvSpPr/>
          <p:nvPr/>
        </p:nvSpPr>
        <p:spPr>
          <a:xfrm>
            <a:off x="609480" y="45403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در فضای معماری به صورت تیرها و ستون ها نمایان می شوند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Left Arrow 10"/>
          <p:cNvSpPr/>
          <p:nvPr/>
        </p:nvSpPr>
        <p:spPr>
          <a:xfrm flipH="1">
            <a:off x="7771680" y="4861080"/>
            <a:ext cx="609480" cy="24264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Rounded Rectangle 11"/>
          <p:cNvSpPr/>
          <p:nvPr/>
        </p:nvSpPr>
        <p:spPr>
          <a:xfrm flipH="1">
            <a:off x="8481960" y="4524480"/>
            <a:ext cx="96696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در فضای معماری به صورت سقفها و کفها و دیوارها نمایان می شوند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Left Arrow 12"/>
          <p:cNvSpPr/>
          <p:nvPr/>
        </p:nvSpPr>
        <p:spPr>
          <a:xfrm flipH="1">
            <a:off x="7760520" y="2800440"/>
            <a:ext cx="609480" cy="24264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Rounded Rectangle 13"/>
          <p:cNvSpPr/>
          <p:nvPr/>
        </p:nvSpPr>
        <p:spPr>
          <a:xfrm flipH="1">
            <a:off x="8471880" y="2465280"/>
            <a:ext cx="96516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حجم کلی ساختمان یا بنا یا عنصر معماری را شامل می شود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4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فصل اول </a:t>
            </a:r>
            <a:r>
              <a:rPr b="0" lang="fa-IR" sz="4200" spc="-1" strike="noStrike">
                <a:solidFill>
                  <a:srgbClr val="ebebeb"/>
                </a:solidFill>
                <a:latin typeface="Century Gothic"/>
                <a:ea typeface="Times New Roman"/>
              </a:rPr>
              <a:t>: </a:t>
            </a:r>
            <a:r>
              <a:rPr b="1" i="1" lang="fa-IR" sz="4200" spc="-1" strike="noStrike" u="sng">
                <a:solidFill>
                  <a:srgbClr val="ebebeb"/>
                </a:solidFill>
                <a:uFillTx/>
                <a:latin typeface="Century Gothic"/>
                <a:cs typeface="Times New Roman"/>
              </a:rPr>
              <a:t>مفهوم برنامه ریزی و طراحی</a:t>
            </a:r>
            <a:r>
              <a:rPr b="1" i="1" lang="fa-IR" sz="4200" spc="-1" strike="noStrike" u="sng">
                <a:solidFill>
                  <a:srgbClr val="ebebeb"/>
                </a:solidFill>
                <a:uFillTx/>
                <a:latin typeface="Century Gothic"/>
                <a:ea typeface="Times New Roman"/>
              </a:rPr>
              <a:t>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94" name="Content Placeholder 3" descr=""/>
          <p:cNvPicPr/>
          <p:nvPr/>
        </p:nvPicPr>
        <p:blipFill>
          <a:blip r:embed="rId1"/>
          <a:stretch/>
        </p:blipFill>
        <p:spPr>
          <a:xfrm>
            <a:off x="384120" y="1719360"/>
            <a:ext cx="913788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شش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عناصر تشکیل دهنده فضا در گزینه ها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99" name="Content Placeholder 4" descr=""/>
          <p:cNvPicPr/>
          <p:nvPr/>
        </p:nvPicPr>
        <p:blipFill>
          <a:blip r:embed="rId1"/>
          <a:stretch/>
        </p:blipFill>
        <p:spPr>
          <a:xfrm>
            <a:off x="895320" y="2054160"/>
            <a:ext cx="7273800" cy="41943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6629400" y="1969920"/>
            <a:ext cx="139680" cy="1067040"/>
          </a:xfrm>
          <a:prstGeom prst="rect">
            <a:avLst/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Left Arrow 8"/>
          <p:cNvSpPr/>
          <p:nvPr/>
        </p:nvSpPr>
        <p:spPr>
          <a:xfrm>
            <a:off x="5791320" y="2351160"/>
            <a:ext cx="977760" cy="3571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Left Arrow 9"/>
          <p:cNvSpPr/>
          <p:nvPr/>
        </p:nvSpPr>
        <p:spPr>
          <a:xfrm>
            <a:off x="5791320" y="2857680"/>
            <a:ext cx="977760" cy="35856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Left Arrow 10"/>
          <p:cNvSpPr/>
          <p:nvPr/>
        </p:nvSpPr>
        <p:spPr>
          <a:xfrm>
            <a:off x="5791320" y="1839960"/>
            <a:ext cx="977760" cy="35856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4114800" y="1792440"/>
            <a:ext cx="1523880" cy="390240"/>
          </a:xfrm>
          <a:prstGeom prst="rect">
            <a:avLst/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Gothic"/>
                <a:cs typeface="Arial"/>
              </a:rPr>
              <a:t>شکلهای طبیع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Rectangle 17"/>
          <p:cNvSpPr/>
          <p:nvPr/>
        </p:nvSpPr>
        <p:spPr>
          <a:xfrm>
            <a:off x="4114800" y="2327400"/>
            <a:ext cx="1523880" cy="392040"/>
          </a:xfrm>
          <a:prstGeom prst="rect">
            <a:avLst/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Gothic"/>
                <a:cs typeface="Arial"/>
              </a:rPr>
              <a:t>شکلهای هندس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Rectangle 18"/>
          <p:cNvSpPr/>
          <p:nvPr/>
        </p:nvSpPr>
        <p:spPr>
          <a:xfrm>
            <a:off x="4114800" y="2857680"/>
            <a:ext cx="1530360" cy="380880"/>
          </a:xfrm>
          <a:prstGeom prst="rect">
            <a:avLst/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Gothic"/>
                <a:cs typeface="Arial"/>
              </a:rPr>
              <a:t>شکلهای غیرماد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Left Arrow 19"/>
          <p:cNvSpPr/>
          <p:nvPr/>
        </p:nvSpPr>
        <p:spPr>
          <a:xfrm>
            <a:off x="5845320" y="3733920"/>
            <a:ext cx="979200" cy="35856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Rectangle 20"/>
          <p:cNvSpPr/>
          <p:nvPr/>
        </p:nvSpPr>
        <p:spPr>
          <a:xfrm>
            <a:off x="603360" y="3733920"/>
            <a:ext cx="5095800" cy="380880"/>
          </a:xfrm>
          <a:prstGeom prst="rect">
            <a:avLst/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entury Gothic"/>
                <a:cs typeface="Arial"/>
              </a:rPr>
              <a:t>باعث شناخت بهتر اشیاء و تاثیر گذاری بر احساسات ، ادراک و عواطف انسان می شود</a:t>
            </a:r>
            <a:r>
              <a:rPr b="0" lang="fa-IR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fa-IR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Rounded Rectangle 21"/>
          <p:cNvSpPr/>
          <p:nvPr/>
        </p:nvSpPr>
        <p:spPr>
          <a:xfrm>
            <a:off x="7315200" y="4724280"/>
            <a:ext cx="1523880" cy="990720"/>
          </a:xfrm>
          <a:prstGeom prst="roundRect">
            <a:avLst>
              <a:gd name="adj" fmla="val 16667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Century Gothic"/>
                <a:cs typeface="Arial"/>
              </a:rPr>
              <a:t>بافت</a:t>
            </a:r>
            <a:r>
              <a:rPr b="0" lang="fa-IR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ویژگی خاص یک سطح که به ماده و ساختار آن بستگی دارد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Rectangle 25"/>
          <p:cNvSpPr/>
          <p:nvPr/>
        </p:nvSpPr>
        <p:spPr>
          <a:xfrm>
            <a:off x="6699240" y="4902120"/>
            <a:ext cx="158760" cy="584280"/>
          </a:xfrm>
          <a:prstGeom prst="rect">
            <a:avLst/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Left Arrow 26"/>
          <p:cNvSpPr/>
          <p:nvPr/>
        </p:nvSpPr>
        <p:spPr>
          <a:xfrm>
            <a:off x="5751360" y="5283360"/>
            <a:ext cx="1106640" cy="32364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Left Arrow 27"/>
          <p:cNvSpPr/>
          <p:nvPr/>
        </p:nvSpPr>
        <p:spPr>
          <a:xfrm>
            <a:off x="5751360" y="4772160"/>
            <a:ext cx="1106640" cy="32544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3886200" y="4724280"/>
            <a:ext cx="1722600" cy="354240"/>
          </a:xfrm>
          <a:prstGeom prst="rect">
            <a:avLst/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Gothic"/>
                <a:cs typeface="Arial"/>
              </a:rPr>
              <a:t>بافت قابل لمس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3886200" y="5259240"/>
            <a:ext cx="1722600" cy="355680"/>
          </a:xfrm>
          <a:prstGeom prst="rect">
            <a:avLst/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Gothic"/>
                <a:cs typeface="Arial"/>
              </a:rPr>
              <a:t>بافت بصر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3386160" y="5376960"/>
            <a:ext cx="158760" cy="584280"/>
          </a:xfrm>
          <a:prstGeom prst="rect">
            <a:avLst/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Left Arrow 31"/>
          <p:cNvSpPr/>
          <p:nvPr/>
        </p:nvSpPr>
        <p:spPr>
          <a:xfrm>
            <a:off x="2438280" y="5757840"/>
            <a:ext cx="1106640" cy="32544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Left Arrow 32"/>
          <p:cNvSpPr/>
          <p:nvPr/>
        </p:nvSpPr>
        <p:spPr>
          <a:xfrm>
            <a:off x="2438280" y="5248440"/>
            <a:ext cx="1106640" cy="32364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Rectangle 33"/>
          <p:cNvSpPr/>
          <p:nvPr/>
        </p:nvSpPr>
        <p:spPr>
          <a:xfrm>
            <a:off x="609480" y="5205240"/>
            <a:ext cx="1722600" cy="355680"/>
          </a:xfrm>
          <a:prstGeom prst="rect">
            <a:avLst/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Gothic"/>
                <a:cs typeface="Arial"/>
              </a:rPr>
              <a:t>واقع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Rectangle 34"/>
          <p:cNvSpPr/>
          <p:nvPr/>
        </p:nvSpPr>
        <p:spPr>
          <a:xfrm>
            <a:off x="609480" y="5742000"/>
            <a:ext cx="1722600" cy="353880"/>
          </a:xfrm>
          <a:prstGeom prst="rect">
            <a:avLst/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Gothic"/>
                <a:cs typeface="Arial"/>
              </a:rPr>
              <a:t>غیر واقع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شش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عناصر تشکیل دهنده فضا در گزینه ها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421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7010280" y="332280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Franklin Gothic Medium"/>
                <a:cs typeface="Arial Bold"/>
              </a:rPr>
              <a:t>نور</a:t>
            </a:r>
            <a:r>
              <a:rPr b="0" lang="fa-IR" sz="2400" spc="-1" strike="noStrike">
                <a:solidFill>
                  <a:srgbClr val="ffffff"/>
                </a:solidFill>
                <a:latin typeface="Franklin Gothic Medium"/>
                <a:ea typeface="Arial Bold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Franklin Gothic Medium"/>
                <a:ea typeface="Arial Bol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Rounded Rectangle 5"/>
          <p:cNvSpPr/>
          <p:nvPr/>
        </p:nvSpPr>
        <p:spPr>
          <a:xfrm>
            <a:off x="1371600" y="2819520"/>
            <a:ext cx="5638680" cy="83808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وظایف نور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روشن کردن فضا و احجام معماری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کمک به تشخیص رنگها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فراهم کردن امکان زندگی ، حرکت و فعالیت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Rounded Rectangle 6"/>
          <p:cNvSpPr/>
          <p:nvPr/>
        </p:nvSpPr>
        <p:spPr>
          <a:xfrm>
            <a:off x="1371600" y="3962520"/>
            <a:ext cx="5638680" cy="53316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نورپردازی با توجه به ، ویژگیهای معماری فضا، نیاز استفاده کننده، ایجاد کیفیات بصری مناسب،        انجام می گیرد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Rounded Rectangle 7"/>
          <p:cNvSpPr/>
          <p:nvPr/>
        </p:nvSpPr>
        <p:spPr>
          <a:xfrm>
            <a:off x="1371600" y="4800600"/>
            <a:ext cx="5562720" cy="38088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انواع روشهای نورپردازی عبارتند از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عمومی ، موضعی ، متمرکز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Rounded Rectangle 8"/>
          <p:cNvSpPr/>
          <p:nvPr/>
        </p:nvSpPr>
        <p:spPr>
          <a:xfrm>
            <a:off x="1447920" y="5410080"/>
            <a:ext cx="5486400" cy="4572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انواع منابع نور عبارتند از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نقطه ای ، خطی ، صفحه ای ، حجمی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هفتم 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اصول ترکیب بندی و ارزشهای بصری و ادراکی در گزینه ها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428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pic>
        <p:nvPicPr>
          <p:cNvPr id="429" name="TextBox 4" descr=""/>
          <p:cNvPicPr/>
          <p:nvPr/>
        </p:nvPicPr>
        <p:blipFill>
          <a:blip r:embed="rId2"/>
          <a:stretch/>
        </p:blipFill>
        <p:spPr>
          <a:xfrm>
            <a:off x="7162920" y="2597040"/>
            <a:ext cx="512640" cy="3065400"/>
          </a:xfrm>
          <a:prstGeom prst="rect">
            <a:avLst/>
          </a:prstGeom>
          <a:ln w="0">
            <a:noFill/>
          </a:ln>
        </p:spPr>
      </p:pic>
      <p:sp>
        <p:nvSpPr>
          <p:cNvPr id="430" name="Rounded Rectangle 5"/>
          <p:cNvSpPr/>
          <p:nvPr/>
        </p:nvSpPr>
        <p:spPr>
          <a:xfrm>
            <a:off x="2666880" y="2971800"/>
            <a:ext cx="4419720" cy="83808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ترکیب عناصر معماری در یک فضا مستلزم سازماندهی و استفاده از الگوهایی است که این عناصر را به صورت معنا داری به هم مرتبط می کند و در یک ترکیب معماری ، همه اجزاء و عناصر و قسمتها ، تاثیر کیفی و کمی داشته و به هم متکی و وابسته اند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Rounded Rectangle 6"/>
          <p:cNvSpPr/>
          <p:nvPr/>
        </p:nvSpPr>
        <p:spPr>
          <a:xfrm>
            <a:off x="2666880" y="3962520"/>
            <a:ext cx="4419720" cy="6858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موفقیت هر اثر معماری بستگی کامل به چگونگی ترکیب عناصر و نحوه استفاده از الگوهای سه بعدی فضا دارد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Rounded Rectangle 7"/>
          <p:cNvSpPr/>
          <p:nvPr/>
        </p:nvSpPr>
        <p:spPr>
          <a:xfrm>
            <a:off x="2666880" y="4800600"/>
            <a:ext cx="4419720" cy="6858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به طور کلی ترکیب بندی و ترکیب در هر فرآیندی حتی معماری ، دو جنبه دارد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جنبه ساختاری و مفهومی      و     جنبه احساسی و بصری</a:t>
            </a:r>
            <a:r>
              <a:rPr b="0" lang="fa-IR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هفتم 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اصول ترکیب بندی و ارزشهای بصری و ادراکی در گزینه ها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434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pic>
        <p:nvPicPr>
          <p:cNvPr id="435" name="TextBox 4" descr=""/>
          <p:cNvPicPr/>
          <p:nvPr/>
        </p:nvPicPr>
        <p:blipFill>
          <a:blip r:embed="rId2"/>
          <a:stretch/>
        </p:blipFill>
        <p:spPr>
          <a:xfrm>
            <a:off x="7083360" y="2212920"/>
            <a:ext cx="513000" cy="3681360"/>
          </a:xfrm>
          <a:prstGeom prst="rect">
            <a:avLst/>
          </a:prstGeom>
          <a:ln w="0">
            <a:noFill/>
          </a:ln>
        </p:spPr>
      </p:pic>
      <p:sp>
        <p:nvSpPr>
          <p:cNvPr id="436" name="Rounded Rectangle 5"/>
          <p:cNvSpPr/>
          <p:nvPr/>
        </p:nvSpPr>
        <p:spPr>
          <a:xfrm>
            <a:off x="5257800" y="2739960"/>
            <a:ext cx="1752480" cy="38124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وحدت در کثرت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Rounded Rectangle 6"/>
          <p:cNvSpPr/>
          <p:nvPr/>
        </p:nvSpPr>
        <p:spPr>
          <a:xfrm>
            <a:off x="5257800" y="3527280"/>
            <a:ext cx="1752480" cy="38124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تناسب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Rounded Rectangle 7"/>
          <p:cNvSpPr/>
          <p:nvPr/>
        </p:nvSpPr>
        <p:spPr>
          <a:xfrm>
            <a:off x="5257800" y="48769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تعادل و پایدار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Left Arrow 11"/>
          <p:cNvSpPr/>
          <p:nvPr/>
        </p:nvSpPr>
        <p:spPr>
          <a:xfrm>
            <a:off x="4348080" y="2576520"/>
            <a:ext cx="860400" cy="24300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Horizontal Scroll 12"/>
          <p:cNvSpPr/>
          <p:nvPr/>
        </p:nvSpPr>
        <p:spPr>
          <a:xfrm>
            <a:off x="685800" y="2090880"/>
            <a:ext cx="3581280" cy="1033200"/>
          </a:xfrm>
          <a:prstGeom prst="horizontalScroll">
            <a:avLst>
              <a:gd name="adj" fmla="val 12500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علاوه بر وحدت و هماهنگی که لازمه ایجاد هر کلیت واحد و منسجم است باید به این نکته نیز توجه داشته باشیم که هر مفهومی فقط در برابر ضد خودش معنا پیدا می کند و این بدان معنا است که تضاد و تنوع در اجزاء و کیفیات ، در ایجاد یک ترکیب از نظر ساختاری ، مفهومی و بصری بسیار حایز لاهمیت است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Horizontal Scroll 13"/>
          <p:cNvSpPr/>
          <p:nvPr/>
        </p:nvSpPr>
        <p:spPr>
          <a:xfrm>
            <a:off x="685800" y="3200400"/>
            <a:ext cx="3581280" cy="1033560"/>
          </a:xfrm>
          <a:prstGeom prst="horizontalScroll">
            <a:avLst>
              <a:gd name="adj" fmla="val 12500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تناسب از نظر مفهومی اشاره به شخصیت ذاتی دارد و از نظر شکل و اندازه در مقایسه ی یک جزء با جزء دیگر ، یک جزء با کل و یا یک چیز با چیز دیگر از هر نظر معنا پیدا می کند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Left Arrow 14"/>
          <p:cNvSpPr/>
          <p:nvPr/>
        </p:nvSpPr>
        <p:spPr>
          <a:xfrm>
            <a:off x="4343400" y="3597120"/>
            <a:ext cx="860400" cy="241560"/>
          </a:xfrm>
          <a:prstGeom prst="leftArrow">
            <a:avLst>
              <a:gd name="adj1" fmla="val 50000"/>
              <a:gd name="adj2" fmla="val 49948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Left Arrow 15"/>
          <p:cNvSpPr/>
          <p:nvPr/>
        </p:nvSpPr>
        <p:spPr>
          <a:xfrm>
            <a:off x="4321080" y="4946760"/>
            <a:ext cx="860400" cy="241200"/>
          </a:xfrm>
          <a:prstGeom prst="leftArrow">
            <a:avLst>
              <a:gd name="adj1" fmla="val 50000"/>
              <a:gd name="adj2" fmla="val 50023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Horizontal Scroll 16"/>
          <p:cNvSpPr/>
          <p:nvPr/>
        </p:nvSpPr>
        <p:spPr>
          <a:xfrm>
            <a:off x="690480" y="4551480"/>
            <a:ext cx="3581640" cy="1031760"/>
          </a:xfrm>
          <a:prstGeom prst="horizontalScroll">
            <a:avLst>
              <a:gd name="adj" fmla="val 12500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لذت تعادل از تنش بین پایداری و ناپایداری و رسیدن به پایداری و احساس ایمنی و انعطاف پذیری حاصل می شود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سه روش رسیدن به تعادل عبارتند از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محوری ( متقارن )     شعاعی      نا متقارن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هفتم 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اصول ترکیب بندی و ارزشهای بصری و ادراکی در گزینه ها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446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84960" cy="4213080"/>
          </a:xfrm>
          <a:prstGeom prst="rect">
            <a:avLst/>
          </a:prstGeom>
          <a:ln w="0">
            <a:noFill/>
          </a:ln>
        </p:spPr>
      </p:pic>
      <p:pic>
        <p:nvPicPr>
          <p:cNvPr id="447" name="TextBox 4" descr=""/>
          <p:cNvPicPr/>
          <p:nvPr/>
        </p:nvPicPr>
        <p:blipFill>
          <a:blip r:embed="rId2"/>
          <a:stretch/>
        </p:blipFill>
        <p:spPr>
          <a:xfrm>
            <a:off x="7089840" y="1603440"/>
            <a:ext cx="511200" cy="4363920"/>
          </a:xfrm>
          <a:prstGeom prst="rect">
            <a:avLst/>
          </a:prstGeom>
          <a:ln w="0">
            <a:noFill/>
          </a:ln>
        </p:spPr>
      </p:pic>
      <p:sp>
        <p:nvSpPr>
          <p:cNvPr id="448" name="Rounded Rectangle 6"/>
          <p:cNvSpPr/>
          <p:nvPr/>
        </p:nvSpPr>
        <p:spPr>
          <a:xfrm>
            <a:off x="5257800" y="365760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entury Gothic"/>
                <a:cs typeface="Arial"/>
              </a:rPr>
              <a:t>ریتم ، حرکت و سکون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Rounded Rectangle 7"/>
          <p:cNvSpPr/>
          <p:nvPr/>
        </p:nvSpPr>
        <p:spPr>
          <a:xfrm>
            <a:off x="5257800" y="48769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تاکید و یکنواختی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0" name="Left Arrow 8"/>
          <p:cNvSpPr/>
          <p:nvPr/>
        </p:nvSpPr>
        <p:spPr>
          <a:xfrm>
            <a:off x="3962520" y="2438280"/>
            <a:ext cx="1130040" cy="30492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Horizontal Scroll 9"/>
          <p:cNvSpPr/>
          <p:nvPr/>
        </p:nvSpPr>
        <p:spPr>
          <a:xfrm>
            <a:off x="633240" y="1998720"/>
            <a:ext cx="3176640" cy="1125360"/>
          </a:xfrm>
          <a:prstGeom prst="horizontalScroll">
            <a:avLst>
              <a:gd name="adj" fmla="val 12500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ffffff"/>
                </a:solidFill>
                <a:latin typeface="Century Gothic"/>
                <a:cs typeface="Arial"/>
              </a:rPr>
              <a:t>هماهنگی از طریق ایجاد توافق و هم نوایی بین عناصرفضایی و یا اجزای آنها حاصل می شود</a:t>
            </a:r>
            <a:r>
              <a:rPr b="0" lang="fa-I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ffffff"/>
                </a:solidFill>
                <a:latin typeface="Century Gothic"/>
                <a:cs typeface="Arial"/>
              </a:rPr>
              <a:t>در هماهنگی سعی در انتخاب عناصر با ویژگیهای مشترک از نظر</a:t>
            </a:r>
            <a:r>
              <a:rPr b="0" lang="fa-I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ffffff"/>
                </a:solidFill>
                <a:latin typeface="Century Gothic"/>
                <a:cs typeface="Arial"/>
              </a:rPr>
              <a:t>شکل      رنگ      بافت      مصالح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ffffff"/>
                </a:solidFill>
                <a:latin typeface="Century Gothic"/>
                <a:cs typeface="Arial"/>
              </a:rPr>
              <a:t>داریم ، تا از طریق تکرار یک ویژگی مشترک ، وحدت و انسجام لازم را بین فرم ها و عناصر فضایی ایجاد کنیم</a:t>
            </a:r>
            <a:r>
              <a:rPr b="0" lang="fa-I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Left Arrow 10"/>
          <p:cNvSpPr/>
          <p:nvPr/>
        </p:nvSpPr>
        <p:spPr>
          <a:xfrm>
            <a:off x="3962520" y="3657600"/>
            <a:ext cx="1130040" cy="30492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Horizontal Scroll 11"/>
          <p:cNvSpPr/>
          <p:nvPr/>
        </p:nvSpPr>
        <p:spPr>
          <a:xfrm>
            <a:off x="609480" y="3294000"/>
            <a:ext cx="3176640" cy="1125720"/>
          </a:xfrm>
          <a:prstGeom prst="horizontalScroll">
            <a:avLst>
              <a:gd name="adj" fmla="val 12500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ffffff"/>
                </a:solidFill>
                <a:latin typeface="Century Gothic"/>
                <a:cs typeface="Arial"/>
              </a:rPr>
              <a:t>ریتم عبارتست از تکرار هر چیزی در فواصل زمانی و مکانی معین و     می توان آن را به عنوان یک قاعده طراحی بر اساس تکرار عناصر در فضا و زمان دانست ، این تکرار باعث</a:t>
            </a:r>
            <a:r>
              <a:rPr b="0" lang="fa-I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ffffff"/>
                </a:solidFill>
                <a:latin typeface="Century Gothic"/>
                <a:cs typeface="Arial"/>
              </a:rPr>
              <a:t>وحدت و انسجام بصری و ایجاد حالتی از حرکت مداوم میان مغز و چشم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ffffff"/>
                </a:solidFill>
                <a:latin typeface="Century Gothic"/>
                <a:cs typeface="Arial"/>
              </a:rPr>
              <a:t>می شود</a:t>
            </a:r>
            <a:r>
              <a:rPr b="0" lang="fa-I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Left Arrow 12"/>
          <p:cNvSpPr/>
          <p:nvPr/>
        </p:nvSpPr>
        <p:spPr>
          <a:xfrm>
            <a:off x="3962520" y="4876920"/>
            <a:ext cx="1130040" cy="30456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5" name="Horizontal Scroll 13"/>
          <p:cNvSpPr/>
          <p:nvPr/>
        </p:nvSpPr>
        <p:spPr>
          <a:xfrm>
            <a:off x="609480" y="4437000"/>
            <a:ext cx="3176640" cy="1125720"/>
          </a:xfrm>
          <a:prstGeom prst="horizontalScroll">
            <a:avLst>
              <a:gd name="adj" fmla="val 12500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قاعده تاکید ، امکان حضور عناصر مهم و با ارزش را در کنار سایر عناصر معماری فراهم می آورد و طرح بدون قاعده تاکید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یکنواخت        و        بی تحرک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Arial"/>
              </a:rPr>
              <a:t>است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fa-IR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هشتم 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توسعه گزینه های طرح ، ارزیابی و تکمیل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457" name="Content Placeholder 3" descr=""/>
          <p:cNvPicPr/>
          <p:nvPr/>
        </p:nvPicPr>
        <p:blipFill>
          <a:blip r:embed="rId1"/>
          <a:stretch/>
        </p:blipFill>
        <p:spPr>
          <a:xfrm>
            <a:off x="895320" y="2054160"/>
            <a:ext cx="7273800" cy="4194360"/>
          </a:xfrm>
          <a:prstGeom prst="rect">
            <a:avLst/>
          </a:prstGeom>
          <a:ln w="0">
            <a:noFill/>
          </a:ln>
        </p:spPr>
      </p:pic>
      <p:sp>
        <p:nvSpPr>
          <p:cNvPr id="458" name="Rounded Rectangle 4"/>
          <p:cNvSpPr/>
          <p:nvPr/>
        </p:nvSpPr>
        <p:spPr>
          <a:xfrm>
            <a:off x="762120" y="4572000"/>
            <a:ext cx="8229600" cy="99072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Gothic"/>
                <a:cs typeface="Arial"/>
              </a:rPr>
              <a:t>آشنایی با نقشه های فاز دو و آلبوم نقشه های فاز دو وهدف از تهیه آن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entury Gothic"/>
                <a:cs typeface="B Zar"/>
              </a:rPr>
              <a:t>فصل اول </a:t>
            </a:r>
            <a:r>
              <a:rPr b="0" lang="fa-IR" sz="4200" spc="-1" strike="noStrike">
                <a:solidFill>
                  <a:srgbClr val="ffffff"/>
                </a:solidFill>
                <a:latin typeface="Century Gothic"/>
                <a:ea typeface="B Zar"/>
              </a:rPr>
              <a:t>: </a:t>
            </a:r>
            <a:r>
              <a:rPr b="1" i="1" lang="fa-IR" sz="4200" spc="-1" strike="noStrike" u="sng">
                <a:solidFill>
                  <a:srgbClr val="ffffff"/>
                </a:solidFill>
                <a:uFillTx/>
                <a:latin typeface="Century Gothic"/>
                <a:cs typeface="B Zar"/>
              </a:rPr>
              <a:t>مفهوم برنامه ریزی و طراحی</a:t>
            </a:r>
            <a:r>
              <a:rPr b="1" i="1" lang="fa-IR" sz="4200" spc="-1" strike="noStrike" u="sng">
                <a:solidFill>
                  <a:srgbClr val="ffffff"/>
                </a:solidFill>
                <a:uFillTx/>
                <a:latin typeface="Century Gothic"/>
                <a:ea typeface="B Zar"/>
              </a:rPr>
              <a:t>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96" name="Content Placeholder 3" descr=""/>
          <p:cNvPicPr/>
          <p:nvPr/>
        </p:nvPicPr>
        <p:blipFill>
          <a:blip r:embed="rId1"/>
          <a:stretch/>
        </p:blipFill>
        <p:spPr>
          <a:xfrm>
            <a:off x="414360" y="1841400"/>
            <a:ext cx="9107640" cy="4407120"/>
          </a:xfrm>
          <a:prstGeom prst="rect">
            <a:avLst/>
          </a:prstGeom>
          <a:ln w="0">
            <a:noFill/>
          </a:ln>
        </p:spPr>
      </p:pic>
      <p:sp>
        <p:nvSpPr>
          <p:cNvPr id="297" name="Left Arrow 9"/>
          <p:cNvSpPr/>
          <p:nvPr/>
        </p:nvSpPr>
        <p:spPr>
          <a:xfrm>
            <a:off x="5638680" y="3363840"/>
            <a:ext cx="838440" cy="37800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Left Arrow 10"/>
          <p:cNvSpPr/>
          <p:nvPr/>
        </p:nvSpPr>
        <p:spPr>
          <a:xfrm>
            <a:off x="5638680" y="3919680"/>
            <a:ext cx="838440" cy="377640"/>
          </a:xfrm>
          <a:prstGeom prst="leftArrow">
            <a:avLst>
              <a:gd name="adj1" fmla="val 50000"/>
              <a:gd name="adj2" fmla="val 50037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Left Arrow 11"/>
          <p:cNvSpPr/>
          <p:nvPr/>
        </p:nvSpPr>
        <p:spPr>
          <a:xfrm>
            <a:off x="5649840" y="4529160"/>
            <a:ext cx="827280" cy="37764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Left Arrow 12"/>
          <p:cNvSpPr/>
          <p:nvPr/>
        </p:nvSpPr>
        <p:spPr>
          <a:xfrm>
            <a:off x="5649840" y="5138640"/>
            <a:ext cx="827280" cy="37800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Left Arrow 13"/>
          <p:cNvSpPr/>
          <p:nvPr/>
        </p:nvSpPr>
        <p:spPr>
          <a:xfrm>
            <a:off x="5649840" y="5824440"/>
            <a:ext cx="827280" cy="37800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Left Arrow 17"/>
          <p:cNvSpPr/>
          <p:nvPr/>
        </p:nvSpPr>
        <p:spPr>
          <a:xfrm>
            <a:off x="5638680" y="2895480"/>
            <a:ext cx="838440" cy="37800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اول </a:t>
            </a:r>
            <a:r>
              <a:rPr b="0" lang="fa-IR" sz="4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</a:t>
            </a:r>
            <a:r>
              <a:rPr b="1" i="1" lang="fa-IR" sz="42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مفهوم برنامه ریزی و طراحی</a:t>
            </a:r>
            <a:r>
              <a:rPr b="1" i="1" lang="fa-IR" sz="42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04" name="Content Placeholder 5" descr=""/>
          <p:cNvPicPr/>
          <p:nvPr/>
        </p:nvPicPr>
        <p:blipFill>
          <a:blip r:embed="rId1"/>
          <a:stretch/>
        </p:blipFill>
        <p:spPr>
          <a:xfrm>
            <a:off x="865080" y="2041560"/>
            <a:ext cx="7351920" cy="4226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دوم </a:t>
            </a:r>
            <a:r>
              <a:rPr b="0" lang="fa-IR" sz="4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</a:t>
            </a:r>
            <a:r>
              <a:rPr b="1" i="1" lang="fa-IR" sz="42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ابعاد مختلف در طراحی طبیعی و مصنوعی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06" name="Content Placeholder 4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73800" cy="42130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5"/>
          <p:cNvSpPr/>
          <p:nvPr/>
        </p:nvSpPr>
        <p:spPr>
          <a:xfrm>
            <a:off x="3951360" y="3048120"/>
            <a:ext cx="193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Franklin Gothic Medium"/>
                <a:cs typeface="Arial Bold"/>
              </a:rPr>
              <a:t>معماری عناصرطبیعی     </a:t>
            </a:r>
            <a:r>
              <a:rPr b="0" lang="fa-IR" sz="1800" spc="-1" strike="noStrike">
                <a:solidFill>
                  <a:srgbClr val="ffffff"/>
                </a:solidFill>
                <a:latin typeface="Franklin Gothic Medium"/>
                <a:cs typeface="Arial Bold"/>
              </a:rPr>
              <a:t>بر اساس موارد زیر شکل می گیرد</a:t>
            </a:r>
            <a:r>
              <a:rPr b="0" lang="fa-IR" sz="1800" spc="-1" strike="noStrike">
                <a:solidFill>
                  <a:srgbClr val="ffffff"/>
                </a:solidFill>
                <a:latin typeface="Franklin Gothic Medium"/>
                <a:ea typeface="Arial Bold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Franklin Gothic Medium"/>
                <a:ea typeface="Arial Bold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دوم </a:t>
            </a:r>
            <a:r>
              <a:rPr b="0" lang="fa-IR" sz="4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</a:t>
            </a:r>
            <a:r>
              <a:rPr b="1" i="1" lang="fa-IR" sz="42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ابعاد مختلف در طراحی طبیعی و مصنوعی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09" name="Content Placeholder 3" descr=""/>
          <p:cNvPicPr/>
          <p:nvPr/>
        </p:nvPicPr>
        <p:blipFill>
          <a:blip r:embed="rId1"/>
          <a:stretch/>
        </p:blipFill>
        <p:spPr>
          <a:xfrm>
            <a:off x="895320" y="2048040"/>
            <a:ext cx="7273800" cy="4213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/>
          <p:cNvSpPr/>
          <p:nvPr/>
        </p:nvSpPr>
        <p:spPr>
          <a:xfrm>
            <a:off x="4114800" y="3276720"/>
            <a:ext cx="16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Franklin Gothic Medium"/>
                <a:cs typeface="Arial Bold"/>
              </a:rPr>
              <a:t>معماری عناصرمصنو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دوم </a:t>
            </a:r>
            <a:r>
              <a:rPr b="0" lang="fa-IR" sz="4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: </a:t>
            </a:r>
            <a:r>
              <a:rPr b="1" i="1" lang="fa-IR" sz="42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ابعاد مختلف در طراحی طبیعی و مصنوعی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895320" y="2054160"/>
            <a:ext cx="7284960" cy="41943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6781680" y="37987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Franklin Gothic Medium"/>
                <a:cs typeface="Arial Bold"/>
              </a:rPr>
              <a:t>ابعاد مختلف طراحی معماری</a:t>
            </a:r>
            <a:r>
              <a:rPr b="0" lang="fa-IR" sz="1800" spc="-1" strike="noStrike">
                <a:solidFill>
                  <a:srgbClr val="ffffff"/>
                </a:solidFill>
                <a:latin typeface="Franklin Gothic Medium"/>
                <a:ea typeface="Arial Bold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Franklin Gothic Medium"/>
                <a:ea typeface="Arial Bold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Rounded Rectangle 5"/>
          <p:cNvSpPr/>
          <p:nvPr/>
        </p:nvSpPr>
        <p:spPr>
          <a:xfrm>
            <a:off x="5181480" y="5248440"/>
            <a:ext cx="1204920" cy="60948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ffffff"/>
                </a:solidFill>
                <a:latin typeface="Century Gothic"/>
                <a:cs typeface="Arial"/>
              </a:rPr>
              <a:t>ابعاد اجتماعی و فرهنگی</a:t>
            </a:r>
            <a:r>
              <a:rPr b="0" lang="fa-IR" sz="9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Diamond 6"/>
          <p:cNvSpPr/>
          <p:nvPr/>
        </p:nvSpPr>
        <p:spPr>
          <a:xfrm>
            <a:off x="457200" y="2341440"/>
            <a:ext cx="2467080" cy="3426120"/>
          </a:xfrm>
          <a:prstGeom prst="diamond">
            <a:avLst/>
          </a:prstGeom>
          <a:solidFill>
            <a:srgbClr val="5f9c9d"/>
          </a:solidFill>
          <a:ln cap="rnd" w="19080">
            <a:solidFill>
              <a:srgbClr val="447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838080" y="3865680"/>
            <a:ext cx="21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Franklin Gothic Medium"/>
                <a:ea typeface="Arial Bold"/>
              </a:rPr>
              <a:t>: </a:t>
            </a:r>
            <a:r>
              <a:rPr b="0" lang="fa-IR" sz="1800" spc="-1" strike="noStrike">
                <a:solidFill>
                  <a:srgbClr val="ffffff"/>
                </a:solidFill>
                <a:latin typeface="Franklin Gothic Medium"/>
                <a:cs typeface="Arial Bold"/>
              </a:rPr>
              <a:t>اصول معماری ایران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Rounded Rectangle 8"/>
          <p:cNvSpPr/>
          <p:nvPr/>
        </p:nvSpPr>
        <p:spPr>
          <a:xfrm>
            <a:off x="3095640" y="2324160"/>
            <a:ext cx="1204920" cy="60948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Arial"/>
              </a:rPr>
              <a:t>پرهیز از بیهودگی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Rounded Rectangle 9"/>
          <p:cNvSpPr/>
          <p:nvPr/>
        </p:nvSpPr>
        <p:spPr>
          <a:xfrm>
            <a:off x="3124080" y="3048120"/>
            <a:ext cx="1204920" cy="60948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بوم آور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Rounded Rectangle 10"/>
          <p:cNvSpPr/>
          <p:nvPr/>
        </p:nvSpPr>
        <p:spPr>
          <a:xfrm>
            <a:off x="3124080" y="3798720"/>
            <a:ext cx="1204920" cy="60984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entury Gothic"/>
                <a:cs typeface="Arial"/>
              </a:rPr>
              <a:t>درونگرایی</a:t>
            </a:r>
            <a:r>
              <a:rPr b="0" lang="fa-IR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Rounded Rectangle 11"/>
          <p:cNvSpPr/>
          <p:nvPr/>
        </p:nvSpPr>
        <p:spPr>
          <a:xfrm>
            <a:off x="3152880" y="4471920"/>
            <a:ext cx="1204920" cy="60984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400" spc="-1" strike="noStrike">
                <a:solidFill>
                  <a:srgbClr val="ffffff"/>
                </a:solidFill>
                <a:latin typeface="Century Gothic"/>
                <a:cs typeface="Arial"/>
              </a:rPr>
              <a:t>نیارش و پیمون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Rounded Rectangle 12"/>
          <p:cNvSpPr/>
          <p:nvPr/>
        </p:nvSpPr>
        <p:spPr>
          <a:xfrm>
            <a:off x="3162240" y="5178600"/>
            <a:ext cx="1204920" cy="60948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Arial"/>
              </a:rPr>
              <a:t>مردم واری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25600" y="452160"/>
            <a:ext cx="76420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فصل سوم: </a:t>
            </a:r>
            <a:r>
              <a:rPr b="1" i="1" lang="fa-IR" sz="2000" spc="-1" strike="noStrike" u="sng">
                <a:solidFill>
                  <a:srgbClr val="ffffff"/>
                </a:solidFill>
                <a:uFillTx/>
                <a:latin typeface="Century Gothic"/>
                <a:cs typeface="Times New Roman"/>
              </a:rPr>
              <a:t>عوامل موثر در طراحی معماری و تبیین صورت عقلانی طرح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23" name="Content Placeholder 7" descr=""/>
          <p:cNvPicPr/>
          <p:nvPr/>
        </p:nvPicPr>
        <p:blipFill>
          <a:blip r:embed="rId1"/>
          <a:stretch/>
        </p:blipFill>
        <p:spPr>
          <a:xfrm>
            <a:off x="895320" y="2054160"/>
            <a:ext cx="7297920" cy="4194360"/>
          </a:xfrm>
          <a:prstGeom prst="rect">
            <a:avLst/>
          </a:prstGeom>
          <a:ln w="0">
            <a:noFill/>
          </a:ln>
        </p:spPr>
      </p:pic>
      <p:pic>
        <p:nvPicPr>
          <p:cNvPr id="324" name="TextBox 8" descr=""/>
          <p:cNvPicPr/>
          <p:nvPr/>
        </p:nvPicPr>
        <p:blipFill>
          <a:blip r:embed="rId2"/>
          <a:stretch/>
        </p:blipFill>
        <p:spPr>
          <a:xfrm>
            <a:off x="7394400" y="2895480"/>
            <a:ext cx="511200" cy="322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60240" y="609120"/>
            <a:ext cx="8685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entury Gothic"/>
                <a:cs typeface="B Zar"/>
              </a:rPr>
              <a:t>فصل سوم: </a:t>
            </a:r>
            <a:r>
              <a:rPr b="1" i="1" lang="fa-IR" sz="2400" spc="-1" strike="noStrike" u="sng">
                <a:solidFill>
                  <a:srgbClr val="ffffff"/>
                </a:solidFill>
                <a:uFillTx/>
                <a:latin typeface="Century Gothic"/>
                <a:cs typeface="B Zar"/>
              </a:rPr>
              <a:t>عوامل موثر در طراحی معماری و تبیین صورت عقلانی طرح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26" name="Content Placeholder 3" descr=""/>
          <p:cNvPicPr/>
          <p:nvPr/>
        </p:nvPicPr>
        <p:blipFill>
          <a:blip r:embed="rId1"/>
          <a:stretch/>
        </p:blipFill>
        <p:spPr>
          <a:xfrm>
            <a:off x="414360" y="1670040"/>
            <a:ext cx="9120240" cy="4425840"/>
          </a:xfrm>
          <a:prstGeom prst="rect">
            <a:avLst/>
          </a:prstGeom>
          <a:ln w="0">
            <a:noFill/>
          </a:ln>
        </p:spPr>
      </p:pic>
      <p:pic>
        <p:nvPicPr>
          <p:cNvPr id="327" name="TextBox 7" descr=""/>
          <p:cNvPicPr/>
          <p:nvPr/>
        </p:nvPicPr>
        <p:blipFill>
          <a:blip r:embed="rId2"/>
          <a:stretch/>
        </p:blipFill>
        <p:spPr>
          <a:xfrm>
            <a:off x="6754680" y="1554120"/>
            <a:ext cx="517680" cy="4522680"/>
          </a:xfrm>
          <a:prstGeom prst="rect">
            <a:avLst/>
          </a:prstGeom>
          <a:ln w="0">
            <a:noFill/>
          </a:ln>
        </p:spPr>
      </p:pic>
      <p:sp>
        <p:nvSpPr>
          <p:cNvPr id="328" name="Flowchart: Process 8"/>
          <p:cNvSpPr/>
          <p:nvPr/>
        </p:nvSpPr>
        <p:spPr>
          <a:xfrm>
            <a:off x="4495680" y="2438280"/>
            <a:ext cx="1762200" cy="381240"/>
          </a:xfrm>
          <a:prstGeom prst="flowChartProcess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entury Gothic"/>
                <a:cs typeface="B Zar"/>
              </a:rPr>
              <a:t>تعیین برنامه فیزیکی طر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Flowchart: Process 13"/>
          <p:cNvSpPr/>
          <p:nvPr/>
        </p:nvSpPr>
        <p:spPr>
          <a:xfrm>
            <a:off x="4495680" y="2857680"/>
            <a:ext cx="1762200" cy="419040"/>
          </a:xfrm>
          <a:prstGeom prst="flowChartProcess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100" spc="-1" strike="noStrike">
                <a:solidFill>
                  <a:srgbClr val="ffffff"/>
                </a:solidFill>
                <a:latin typeface="Century Gothic"/>
                <a:cs typeface="B Zar"/>
              </a:rPr>
              <a:t>بررسی عوامل جغرافیایی و محیطی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Flowchart: Process 14"/>
          <p:cNvSpPr/>
          <p:nvPr/>
        </p:nvSpPr>
        <p:spPr>
          <a:xfrm>
            <a:off x="4514760" y="3333600"/>
            <a:ext cx="1762200" cy="381240"/>
          </a:xfrm>
          <a:prstGeom prst="flowChartProcess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Century Gothic"/>
                <a:cs typeface="B Zar"/>
              </a:rPr>
              <a:t>بررسی شرایط اقلیمی و زیست محیطی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Flowchart: Process 15"/>
          <p:cNvSpPr/>
          <p:nvPr/>
        </p:nvSpPr>
        <p:spPr>
          <a:xfrm>
            <a:off x="4495680" y="3762360"/>
            <a:ext cx="1771920" cy="352440"/>
          </a:xfrm>
          <a:prstGeom prst="flowChartProcess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400" spc="-1" strike="noStrike">
                <a:solidFill>
                  <a:srgbClr val="ffffff"/>
                </a:solidFill>
                <a:latin typeface="Century Gothic"/>
                <a:cs typeface="B Zar"/>
              </a:rPr>
              <a:t>بررسی و تجزیه تحلیل زمین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Flowchart: Process 20"/>
          <p:cNvSpPr/>
          <p:nvPr/>
        </p:nvSpPr>
        <p:spPr>
          <a:xfrm>
            <a:off x="4514760" y="4172040"/>
            <a:ext cx="1771920" cy="352440"/>
          </a:xfrm>
          <a:prstGeom prst="flowChartProcess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B Zar"/>
              </a:rPr>
              <a:t>بررسی مصالح،تکنولوژی وسازه ساختمان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Flowchart: Process 21"/>
          <p:cNvSpPr/>
          <p:nvPr/>
        </p:nvSpPr>
        <p:spPr>
          <a:xfrm>
            <a:off x="4505400" y="4572000"/>
            <a:ext cx="1771560" cy="352440"/>
          </a:xfrm>
          <a:prstGeom prst="flowChartProcess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400" spc="-1" strike="noStrike">
                <a:solidFill>
                  <a:srgbClr val="ffffff"/>
                </a:solidFill>
                <a:latin typeface="Century Gothic"/>
                <a:cs typeface="B Zar"/>
              </a:rPr>
              <a:t>مطالعه ابعاد انسانی و فضای معمار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Flowchart: Process 22"/>
          <p:cNvSpPr/>
          <p:nvPr/>
        </p:nvSpPr>
        <p:spPr>
          <a:xfrm>
            <a:off x="4505400" y="4952880"/>
            <a:ext cx="1771560" cy="352440"/>
          </a:xfrm>
          <a:prstGeom prst="flowChartProcess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200" spc="-1" strike="noStrike">
                <a:solidFill>
                  <a:srgbClr val="ffffff"/>
                </a:solidFill>
                <a:latin typeface="Century Gothic"/>
                <a:cs typeface="B Zar"/>
              </a:rPr>
              <a:t>مقیاس انسانی در فضای معماری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Flowchart: Process 23"/>
          <p:cNvSpPr/>
          <p:nvPr/>
        </p:nvSpPr>
        <p:spPr>
          <a:xfrm>
            <a:off x="4505400" y="5362560"/>
            <a:ext cx="1771560" cy="352440"/>
          </a:xfrm>
          <a:prstGeom prst="flowChartProcess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entury Gothic"/>
                <a:cs typeface="B Zar"/>
              </a:rPr>
              <a:t>الزامات فنی و تاسیسات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Flowchart: Process 24"/>
          <p:cNvSpPr/>
          <p:nvPr/>
        </p:nvSpPr>
        <p:spPr>
          <a:xfrm>
            <a:off x="4514760" y="5757840"/>
            <a:ext cx="1771920" cy="352440"/>
          </a:xfrm>
          <a:prstGeom prst="flowChartProcess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Century Gothic"/>
                <a:cs typeface="B Zar"/>
              </a:rPr>
              <a:t>جمع بندی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Flowchart: Process 16"/>
          <p:cNvSpPr/>
          <p:nvPr/>
        </p:nvSpPr>
        <p:spPr>
          <a:xfrm>
            <a:off x="1320840" y="1649520"/>
            <a:ext cx="1771560" cy="4460760"/>
          </a:xfrm>
          <a:prstGeom prst="flowChartProcess">
            <a:avLst/>
          </a:prstGeom>
          <a:solidFill>
            <a:srgbClr val="b01513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B Zar"/>
              </a:rPr>
              <a:t>بررسی و تجزیه تحلیل زمین شامل</a:t>
            </a:r>
            <a:r>
              <a:rPr b="0" lang="fa-IR" sz="1800" spc="-1" strike="noStrike">
                <a:solidFill>
                  <a:srgbClr val="ffffff"/>
                </a:solidFill>
                <a:latin typeface="Century Gothic"/>
                <a:ea typeface="B Zar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B Zar"/>
              </a:rPr>
              <a:t>شکل و مساحت زمین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B Zar"/>
              </a:rPr>
              <a:t>شیب و جهت و میزان آن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B Zar"/>
              </a:rPr>
              <a:t>کاربریهای زمینهای اطراف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B Zar"/>
              </a:rPr>
              <a:t>امکانات دسترس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B Zar"/>
              </a:rPr>
              <a:t>دید و منظر زمین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B Zar"/>
              </a:rPr>
              <a:t>عوارض طبیع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B Zar"/>
              </a:rPr>
              <a:t>عوارض مصنوعی موجود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Century Gothic"/>
                <a:cs typeface="B Zar"/>
              </a:rPr>
              <a:t>جنس خاک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38" name="Straight Arrow Connector 4"/>
          <p:cNvCxnSpPr>
            <a:stCxn id="331" idx="1"/>
          </p:cNvCxnSpPr>
          <p:nvPr/>
        </p:nvCxnSpPr>
        <p:spPr>
          <a:xfrm flipH="1" flipV="1">
            <a:off x="3092040" y="3938040"/>
            <a:ext cx="1404000" cy="1080"/>
          </a:xfrm>
          <a:prstGeom prst="straightConnector1">
            <a:avLst/>
          </a:prstGeom>
          <a:ln cap="rnd" w="9360">
            <a:solidFill>
              <a:srgbClr val="b01513"/>
            </a:solidFill>
            <a:miter/>
            <a:tailEnd len="med" type="triangle" w="med"/>
          </a:ln>
        </p:spPr>
      </p:cxn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4:19:13Z</dcterms:created>
  <dc:creator>Ali</dc:creator>
  <dc:description/>
  <dc:language>en-US</dc:language>
  <cp:lastModifiedBy>Windows User</cp:lastModifiedBy>
  <dcterms:modified xsi:type="dcterms:W3CDTF">2017-03-07T06:15:35Z</dcterms:modified>
  <cp:revision>102</cp:revision>
  <dc:subject/>
  <dc:title>آشنایی با کتاب   “ مبانی طراحی معماری  “</dc:title>
</cp:coreProperties>
</file>