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DAF99-54CE-499A-A09D-53EE5B16B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1C072-B494-414E-B50B-F34D7D2C2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0FD5B-0D6C-4E81-A5D5-B466652A3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3AA22-C997-4623-80E5-50EAB28CA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1E3CA-49A0-4865-815F-E0844E21E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7E0F1-752D-4B83-A5A1-4E4EA39BA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60DF5-4650-4D40-800C-363733576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3275A-AD8B-4533-B761-1DB2431CF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6C4C8-D9F5-409B-A4DB-8B58AD0DD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4DE02-3031-43BB-9AD5-08F06868E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1D732-75AD-4ECF-AEFC-47E2126CF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111CB-AC4C-4450-9283-E52772567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332B3-1784-4765-BD6F-02FAB9C227F0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1523880" y="3352320"/>
            <a:ext cx="6019920" cy="34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3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pic>
        <p:nvPicPr>
          <p:cNvPr id="242" name="Picture 3" descr=""/>
          <p:cNvPicPr/>
          <p:nvPr/>
        </p:nvPicPr>
        <p:blipFill>
          <a:blip r:embed="rId1"/>
          <a:stretch/>
        </p:blipFill>
        <p:spPr>
          <a:xfrm>
            <a:off x="7986600" y="-76320"/>
            <a:ext cx="1157400" cy="60984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5" descr="Screen Clipping"/>
          <p:cNvPicPr/>
          <p:nvPr/>
        </p:nvPicPr>
        <p:blipFill>
          <a:blip r:embed="rId2"/>
          <a:stretch/>
        </p:blipFill>
        <p:spPr>
          <a:xfrm>
            <a:off x="7651800" y="0"/>
            <a:ext cx="247680" cy="32860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6" descr="Screen Clipping"/>
          <p:cNvPicPr/>
          <p:nvPr/>
        </p:nvPicPr>
        <p:blipFill>
          <a:blip r:embed="rId3"/>
          <a:stretch/>
        </p:blipFill>
        <p:spPr>
          <a:xfrm>
            <a:off x="3321000" y="25560"/>
            <a:ext cx="2278080" cy="40464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7" descr="Screen Clipping"/>
          <p:cNvPicPr/>
          <p:nvPr/>
        </p:nvPicPr>
        <p:blipFill>
          <a:blip r:embed="rId4"/>
          <a:stretch/>
        </p:blipFill>
        <p:spPr>
          <a:xfrm>
            <a:off x="1189080" y="0"/>
            <a:ext cx="247680" cy="328608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11" descr="Screen Clipping"/>
          <p:cNvPicPr/>
          <p:nvPr/>
        </p:nvPicPr>
        <p:blipFill>
          <a:blip r:embed="rId5"/>
          <a:stretch/>
        </p:blipFill>
        <p:spPr>
          <a:xfrm>
            <a:off x="5943600" y="3389400"/>
            <a:ext cx="1584360" cy="70164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12" descr="Screen Clipping"/>
          <p:cNvPicPr/>
          <p:nvPr/>
        </p:nvPicPr>
        <p:blipFill>
          <a:blip r:embed="rId6"/>
          <a:stretch/>
        </p:blipFill>
        <p:spPr>
          <a:xfrm>
            <a:off x="1523880" y="3386160"/>
            <a:ext cx="1590840" cy="41112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13" descr="Screen Clipping"/>
          <p:cNvPicPr/>
          <p:nvPr/>
        </p:nvPicPr>
        <p:blipFill>
          <a:blip r:embed="rId7"/>
          <a:stretch/>
        </p:blipFill>
        <p:spPr>
          <a:xfrm>
            <a:off x="1835280" y="3830760"/>
            <a:ext cx="5249880" cy="2867040"/>
          </a:xfrm>
          <a:prstGeom prst="rect">
            <a:avLst/>
          </a:prstGeom>
          <a:ln w="0">
            <a:noFill/>
          </a:ln>
        </p:spPr>
      </p:pic>
      <p:sp>
        <p:nvSpPr>
          <p:cNvPr id="249" name="Rounded Rectangle 10"/>
          <p:cNvSpPr/>
          <p:nvPr/>
        </p:nvSpPr>
        <p:spPr>
          <a:xfrm>
            <a:off x="7956720" y="6281640"/>
            <a:ext cx="1187280" cy="576360"/>
          </a:xfrm>
          <a:prstGeom prst="roundRect">
            <a:avLst>
              <a:gd name="adj" fmla="val 16667"/>
            </a:avLst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600" spc="-1" strike="noStrike">
                <a:solidFill>
                  <a:srgbClr val="ffffff"/>
                </a:solidFill>
                <a:latin typeface="Calibri"/>
                <a:cs typeface="Arial"/>
              </a:rPr>
              <a:t>منصورجمالی فرد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Rounded Rectangle 14"/>
          <p:cNvSpPr/>
          <p:nvPr/>
        </p:nvSpPr>
        <p:spPr>
          <a:xfrm>
            <a:off x="0" y="6281640"/>
            <a:ext cx="1187280" cy="576360"/>
          </a:xfrm>
          <a:prstGeom prst="roundRect">
            <a:avLst>
              <a:gd name="adj" fmla="val 16667"/>
            </a:avLst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600" spc="-1" strike="noStrike">
                <a:solidFill>
                  <a:srgbClr val="ffffff"/>
                </a:solidFill>
                <a:latin typeface="Calibri"/>
                <a:cs typeface="Arial"/>
              </a:rPr>
              <a:t>منصورجمالی فرد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50680" y="274680"/>
            <a:ext cx="739116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000" spc="-1" strike="noStrike">
                <a:solidFill>
                  <a:srgbClr val="ffff00"/>
                </a:solidFill>
                <a:latin typeface="Calibri"/>
                <a:cs typeface="Times New Roman"/>
              </a:rPr>
              <a:t>اهمیت و ضرورت تبلیغ اینترنتی</a:t>
            </a:r>
            <a:br>
              <a:rPr sz="4000"/>
            </a:br>
            <a:r>
              <a:rPr b="0" lang="fa-IR" sz="4000" spc="-1" strike="noStrike">
                <a:solidFill>
                  <a:srgbClr val="ffff00"/>
                </a:solidFill>
                <a:latin typeface="Calibri"/>
                <a:ea typeface="Times New Roman"/>
              </a:rPr>
              <a:t>1</a:t>
            </a:r>
            <a:r>
              <a:rPr b="0" lang="fa-IR" sz="4000" spc="-1" strike="noStrike">
                <a:solidFill>
                  <a:srgbClr val="ffff00"/>
                </a:solidFill>
                <a:latin typeface="Calibri"/>
                <a:ea typeface="Times New Roman"/>
              </a:rPr>
              <a:t>. تبلیغ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57200" y="17524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Down Arrow Callout 4"/>
          <p:cNvSpPr/>
          <p:nvPr/>
        </p:nvSpPr>
        <p:spPr>
          <a:xfrm>
            <a:off x="3000240" y="1785960"/>
            <a:ext cx="2786040" cy="500040"/>
          </a:xfrm>
          <a:prstGeom prst="downArrowCallout">
            <a:avLst>
              <a:gd name="adj1" fmla="val 25023"/>
              <a:gd name="adj2" fmla="val 24995"/>
              <a:gd name="adj3" fmla="val 25000"/>
              <a:gd name="adj4" fmla="val 6497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Calibri"/>
                <a:cs typeface="Arial"/>
              </a:rPr>
              <a:t>تعریف تبلیغ</a:t>
            </a:r>
            <a:r>
              <a:rPr b="1" lang="fa-IR" sz="1800" spc="-1" strike="noStrike">
                <a:solidFill>
                  <a:srgbClr val="ffffff"/>
                </a:solidFill>
                <a:latin typeface="Calibri"/>
                <a:ea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Rounded Rectangle 5"/>
          <p:cNvSpPr/>
          <p:nvPr/>
        </p:nvSpPr>
        <p:spPr>
          <a:xfrm>
            <a:off x="5572080" y="2357280"/>
            <a:ext cx="2857680" cy="4287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Calibri"/>
                <a:cs typeface="Arial"/>
              </a:rPr>
              <a:t>لغت: </a:t>
            </a:r>
            <a:r>
              <a:rPr b="0" lang="fa-IR" sz="1800" spc="-1" strike="noStrike">
                <a:solidFill>
                  <a:srgbClr val="ffffff"/>
                </a:solidFill>
                <a:latin typeface="Calibri"/>
                <a:cs typeface="Arial"/>
              </a:rPr>
              <a:t>تبلیغ به معنای رساندن آمده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Rounded Rectangle 6"/>
          <p:cNvSpPr/>
          <p:nvPr/>
        </p:nvSpPr>
        <p:spPr>
          <a:xfrm>
            <a:off x="714240" y="2357280"/>
            <a:ext cx="3286440" cy="5004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ffffff"/>
                </a:solidFill>
                <a:latin typeface="Calibri"/>
                <a:cs typeface="Arial"/>
              </a:rPr>
              <a:t>تبلیغ در اصطلاح، </a:t>
            </a:r>
            <a:r>
              <a:rPr b="1" lang="fa-IR" sz="1200" spc="-1" strike="noStrike">
                <a:solidFill>
                  <a:srgbClr val="ffffff"/>
                </a:solidFill>
                <a:latin typeface="Calibri"/>
                <a:cs typeface="Arial"/>
              </a:rPr>
              <a:t>رساندن پیام به دیگری به منظور ایجاد دگرگونی در بینش و رفتار او است</a:t>
            </a:r>
            <a:r>
              <a:rPr b="1" lang="fa-IR" sz="1200" spc="-1" strike="noStrike">
                <a:solidFill>
                  <a:srgbClr val="ffffff"/>
                </a:solidFill>
                <a:latin typeface="Calibri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Rounded Rectangle 7"/>
          <p:cNvSpPr/>
          <p:nvPr/>
        </p:nvSpPr>
        <p:spPr>
          <a:xfrm>
            <a:off x="1071720" y="3786120"/>
            <a:ext cx="6929280" cy="785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Calibri"/>
                <a:cs typeface="Arial"/>
              </a:rPr>
              <a:t>تعریف تبلیغ دینی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Calibri"/>
                <a:ea typeface="Arial"/>
              </a:rPr>
              <a:t>«تلاش برای هدایت و رشد انسانها و تبیین روشن گفتاری، رفتاری معارف ناب و زلال دینی با براهین متقن و زیباترین مناظره، موعظه نیکو، بشارت وانذار مردم و با پرهیز از اجبار دیگران بر پذیرش.»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Rounded Rectangle 10"/>
          <p:cNvSpPr/>
          <p:nvPr/>
        </p:nvSpPr>
        <p:spPr>
          <a:xfrm>
            <a:off x="1285920" y="5072040"/>
            <a:ext cx="7215120" cy="1500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Calibri"/>
                <a:cs typeface="Arial"/>
              </a:rPr>
              <a:t>تعریف تبلیغ دینی اینترنتی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Calibri"/>
                <a:cs typeface="Arial"/>
              </a:rPr>
              <a:t>زمانی که تلاش برای هدایت و رشد انسانها و تبیین روشن گفتاری، رفتاری معارف ناب و زلال دینی با براهین متقن و زیباترین مناظره، موعظه نیکو، بشارت وانذار مردم و با پرهیز از اجبار دیگران بر پذیرش، در فضای سایبری و اینترنت انجام پذیرد، تبلیغ دینی اینترنتی شکل می گیرد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50680" y="274680"/>
            <a:ext cx="739116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ffff00"/>
                </a:solidFill>
                <a:latin typeface="Calibri"/>
                <a:cs typeface="Times New Roman"/>
              </a:rPr>
              <a:t>اهمیت و ضرورت</a:t>
            </a:r>
            <a:br>
              <a:rPr sz="4400"/>
            </a:br>
            <a:r>
              <a:rPr b="1" lang="fa-IR" sz="2700" spc="-1" strike="noStrike">
                <a:solidFill>
                  <a:srgbClr val="574422"/>
                </a:solidFill>
                <a:latin typeface="Arial"/>
                <a:cs typeface="Times New Roman"/>
              </a:rPr>
              <a:t>جایگاه تبلیغ دین در آیات و روایات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457200" y="17524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 rt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Left Arrow 3"/>
          <p:cNvSpPr/>
          <p:nvPr/>
        </p:nvSpPr>
        <p:spPr>
          <a:xfrm>
            <a:off x="6786720" y="2000160"/>
            <a:ext cx="1785960" cy="1214640"/>
          </a:xfrm>
          <a:prstGeom prst="leftArrow">
            <a:avLst>
              <a:gd name="adj1" fmla="val 50000"/>
              <a:gd name="adj2" fmla="val 4999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600" spc="-1" strike="noStrike">
                <a:solidFill>
                  <a:srgbClr val="ffffff"/>
                </a:solidFill>
                <a:latin typeface="Calibri"/>
                <a:cs typeface="Arial"/>
              </a:rPr>
              <a:t>بهترین سخن دعوت به سوی خداست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Flowchart: Alternate Process 5"/>
          <p:cNvSpPr/>
          <p:nvPr/>
        </p:nvSpPr>
        <p:spPr>
          <a:xfrm>
            <a:off x="642960" y="1928880"/>
            <a:ext cx="5500800" cy="1143000"/>
          </a:xfrm>
          <a:prstGeom prst="flowChartAlternateProcess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Calibri"/>
                <a:cs typeface="Arial"/>
              </a:rPr>
              <a:t>وَمَنْ أَحْسَنُ قَوْلاً مِّمَّن دَعَا إِلَى اللهِ وَعَمِلَ صَلِحًا و َقَالَ إِنَّنِي مِنَ الْمُسْلِمِينَ؛</a:t>
            </a:r>
            <a:br>
              <a:rPr sz="1800"/>
            </a:br>
            <a:r>
              <a:rPr b="0" lang="fa-IR" sz="1800" spc="-1" strike="noStrike">
                <a:solidFill>
                  <a:srgbClr val="000000"/>
                </a:solidFill>
                <a:latin typeface="Calibri"/>
                <a:ea typeface="Arial"/>
              </a:rPr>
              <a:t> و کیست خوشگفتارتر از آن کس که به سوی خدا دعوت نماید و کار نیک کند؟ و گوید: «من ‌‌[در برابر خدا] از تسلیم شدگانم</a:t>
            </a:r>
            <a:r>
              <a:rPr b="0" lang="fa-IR" sz="1800" spc="-1" strike="noStrike">
                <a:solidFill>
                  <a:srgbClr val="000000"/>
                </a:solidFill>
                <a:latin typeface="Calibri"/>
                <a:ea typeface="Arial"/>
              </a:rPr>
              <a:t>»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Left Arrow 10"/>
          <p:cNvSpPr/>
          <p:nvPr/>
        </p:nvSpPr>
        <p:spPr>
          <a:xfrm>
            <a:off x="6786720" y="3214800"/>
            <a:ext cx="1785960" cy="1214280"/>
          </a:xfrm>
          <a:prstGeom prst="leftArrow">
            <a:avLst>
              <a:gd name="adj1" fmla="val 50000"/>
              <a:gd name="adj2" fmla="val 5000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600" spc="-1" strike="noStrike">
                <a:solidFill>
                  <a:srgbClr val="ffffff"/>
                </a:solidFill>
                <a:latin typeface="Calibri"/>
                <a:cs typeface="Arial"/>
              </a:rPr>
              <a:t>اوج کوشش و تلاش بی وقفه نوح</a:t>
            </a:r>
            <a:r>
              <a:rPr b="0" lang="fa-IR" sz="1600" spc="-1" strike="noStrike">
                <a:solidFill>
                  <a:srgbClr val="ffffff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Left Arrow 11"/>
          <p:cNvSpPr/>
          <p:nvPr/>
        </p:nvSpPr>
        <p:spPr>
          <a:xfrm>
            <a:off x="6786720" y="4429080"/>
            <a:ext cx="1785960" cy="1214640"/>
          </a:xfrm>
          <a:prstGeom prst="leftArrow">
            <a:avLst>
              <a:gd name="adj1" fmla="val 50000"/>
              <a:gd name="adj2" fmla="val 4999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600" spc="-1" strike="noStrike">
                <a:solidFill>
                  <a:srgbClr val="ffffff"/>
                </a:solidFill>
                <a:latin typeface="Calibri"/>
                <a:cs typeface="Arial"/>
              </a:rPr>
              <a:t>تلاش مستمر برای هدایت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Left Arrow 12"/>
          <p:cNvSpPr/>
          <p:nvPr/>
        </p:nvSpPr>
        <p:spPr>
          <a:xfrm>
            <a:off x="6786720" y="5643720"/>
            <a:ext cx="1785960" cy="1214280"/>
          </a:xfrm>
          <a:prstGeom prst="leftArrow">
            <a:avLst>
              <a:gd name="adj1" fmla="val 50000"/>
              <a:gd name="adj2" fmla="val 5000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600" spc="-1" strike="noStrike">
                <a:solidFill>
                  <a:srgbClr val="ffffff"/>
                </a:solidFill>
                <a:latin typeface="Calibri"/>
                <a:cs typeface="Arial"/>
              </a:rPr>
              <a:t>جانشین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Flowchart: Alternate Process 13"/>
          <p:cNvSpPr/>
          <p:nvPr/>
        </p:nvSpPr>
        <p:spPr>
          <a:xfrm>
            <a:off x="642960" y="3214800"/>
            <a:ext cx="5500800" cy="1143000"/>
          </a:xfrm>
          <a:prstGeom prst="flowChartAlternateProcess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‌</a:t>
            </a:r>
            <a:r>
              <a:rPr b="0" lang="fa-IR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fa-IR" sz="1800" spc="-1" strike="noStrike">
                <a:solidFill>
                  <a:srgbClr val="000000"/>
                </a:solidFill>
                <a:latin typeface="Calibri"/>
                <a:cs typeface="Arial"/>
              </a:rPr>
              <a:t>قَالَ رَبِّ إِنِّی دَعَوْتُ قَوْمِی لَیلًا وَنَهَارًا فَلَمْ یزِدْهُمْ دُعَائِی إِلَّا فِرَارًا ... ثُمَّ إِنِّی دَعَوْتُهُمْ جِهَارًا ثُمَّ إِنِّی أَعْلَنتُ لَهُمْ وَأَسْرَرْتُ لَهُمْ إِسْرَارًا</a:t>
            </a:r>
            <a:r>
              <a:rPr b="0" lang="fa-IR" sz="1800" spc="-1" strike="noStrike">
                <a:solidFill>
                  <a:srgbClr val="000000"/>
                </a:solidFill>
                <a:latin typeface="Calibri"/>
                <a:ea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Flowchart: Alternate Process 14"/>
          <p:cNvSpPr/>
          <p:nvPr/>
        </p:nvSpPr>
        <p:spPr>
          <a:xfrm>
            <a:off x="714240" y="4429080"/>
            <a:ext cx="5500800" cy="1143000"/>
          </a:xfrm>
          <a:prstGeom prst="flowChartAlternateProcess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Calibri"/>
                <a:ea typeface="Arial"/>
              </a:rPr>
              <a:t>«</a:t>
            </a:r>
            <a:r>
              <a:rPr b="0" lang="fa-IR" sz="1800" spc="-1" strike="noStrike">
                <a:solidFill>
                  <a:srgbClr val="000000"/>
                </a:solidFill>
                <a:latin typeface="Calibri"/>
                <a:cs typeface="Arial"/>
              </a:rPr>
              <a:t>يَا عَلِيُّ ... وَ ايْمُ اللَّهِ لَأَنْ يَهْدِيَ‌ اللَّهُ‌ عَلَى‌ يَدَيْكَ‌ رَجُلًا خَيْرٌ لَكَ مِمَّا طَلَعَتْ عَلَيْهِ الشَّمْسُ وَ غَرَبَتْ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Flowchart: Alternate Process 15"/>
          <p:cNvSpPr/>
          <p:nvPr/>
        </p:nvSpPr>
        <p:spPr>
          <a:xfrm>
            <a:off x="714240" y="5715000"/>
            <a:ext cx="5500800" cy="1143000"/>
          </a:xfrm>
          <a:prstGeom prst="flowChartAlternateProcess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Calibri"/>
                <a:ea typeface="Arial"/>
              </a:rPr>
              <a:t>»</a:t>
            </a:r>
            <a:r>
              <a:rPr b="0" lang="fa-IR" sz="1800" spc="-1" strike="noStrike">
                <a:solidFill>
                  <a:srgbClr val="000000"/>
                </a:solidFill>
                <a:latin typeface="Calibri"/>
                <a:cs typeface="Arial"/>
              </a:rPr>
              <a:t>اللّهُمَّ ارحَم خُلَفائي! - ثَلاثاً - قيلَ : يا رَسولَ اللهِ، ومَن خُلَفاؤُكَ؟ قالَ : الَّذينَ يُبَلِّغونَ حَديثي وسُنَّتي، ثُمَّ يُعَلِّمونَها أُمَّتي؛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1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7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9" dur="200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1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50680" y="274680"/>
            <a:ext cx="739116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ffff00"/>
                </a:solidFill>
                <a:latin typeface="Calibri"/>
                <a:cs typeface="Times New Roman"/>
              </a:rPr>
              <a:t>اینترنت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468000" y="1699920"/>
            <a:ext cx="8218440" cy="51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Oval Callout 6"/>
          <p:cNvSpPr/>
          <p:nvPr/>
        </p:nvSpPr>
        <p:spPr>
          <a:xfrm>
            <a:off x="5000760" y="1714680"/>
            <a:ext cx="3714480" cy="71424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600" spc="-1" strike="noStrike">
                <a:solidFill>
                  <a:srgbClr val="ffffff"/>
                </a:solidFill>
                <a:latin typeface="Calibri"/>
                <a:cs typeface="Arial"/>
              </a:rPr>
              <a:t>زمانی که اینترنت وارد ایران میشود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600" spc="-1" strike="noStrike">
                <a:solidFill>
                  <a:srgbClr val="ffffff"/>
                </a:solidFill>
                <a:latin typeface="Calibri"/>
                <a:cs typeface="Arial"/>
              </a:rPr>
              <a:t>سه توصیه رهبری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Vertical Scroll 8"/>
          <p:cNvSpPr/>
          <p:nvPr/>
        </p:nvSpPr>
        <p:spPr>
          <a:xfrm>
            <a:off x="4500720" y="4357800"/>
            <a:ext cx="4214520" cy="85716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600" spc="-1" strike="noStrike">
                <a:solidFill>
                  <a:srgbClr val="000000"/>
                </a:solidFill>
                <a:latin typeface="Calibri"/>
                <a:cs typeface="Arial"/>
              </a:rPr>
              <a:t>و در نهایت تاکید کردند این صنعت مانند سایر صنایع، آلودگی خاص خود را دارد که باید برای آن برنامه‌ریزی کرد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Vertical Scroll 9"/>
          <p:cNvSpPr/>
          <p:nvPr/>
        </p:nvSpPr>
        <p:spPr>
          <a:xfrm>
            <a:off x="4500720" y="3429000"/>
            <a:ext cx="4214520" cy="85716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600" spc="-1" strike="noStrike">
                <a:solidFill>
                  <a:srgbClr val="000000"/>
                </a:solidFill>
                <a:latin typeface="Calibri"/>
                <a:cs typeface="Arial"/>
              </a:rPr>
              <a:t>همچنین این فناوری باید برای جوانان بسیار جاذب باشد و لازم است میدان را برای آنها فراهم کنیم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Vertical Scroll 10"/>
          <p:cNvSpPr/>
          <p:nvPr/>
        </p:nvSpPr>
        <p:spPr>
          <a:xfrm>
            <a:off x="4500720" y="2500200"/>
            <a:ext cx="4214520" cy="85752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Calibri"/>
                <a:cs typeface="Arial"/>
              </a:rPr>
              <a:t>این صنعت بسیار جالب است و باید از همین حالا بر روی آن سرمایه‌گذاری شود</a:t>
            </a:r>
            <a:r>
              <a:rPr b="0" lang="fa-IR" sz="18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Flowchart: Merge 11"/>
          <p:cNvSpPr/>
          <p:nvPr/>
        </p:nvSpPr>
        <p:spPr>
          <a:xfrm>
            <a:off x="428760" y="1714680"/>
            <a:ext cx="4071960" cy="857160"/>
          </a:xfrm>
          <a:prstGeom prst="flowChartMerg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600" spc="-1" strike="noStrike">
                <a:solidFill>
                  <a:srgbClr val="ffffff"/>
                </a:solidFill>
                <a:latin typeface="Calibri"/>
                <a:cs typeface="Arial"/>
              </a:rPr>
              <a:t>بایستی از این وسایل (اینترنت) استفاده کرد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Rounded Rectangle 12"/>
          <p:cNvSpPr/>
          <p:nvPr/>
        </p:nvSpPr>
        <p:spPr>
          <a:xfrm>
            <a:off x="428760" y="2571840"/>
            <a:ext cx="4000320" cy="1571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000000"/>
                </a:solidFill>
                <a:latin typeface="Calibri"/>
                <a:cs typeface="Arial"/>
              </a:rPr>
              <a:t>امروز دشمن از همه روش‌ها استفاده می‏کند من دیروز در جمع جوان‌ها می‏گفتم: که امروز صدها سایت اصلی و هزاران سایت فرعی در اینترنت وجود دارد که هدف عمده‏شان این است که تفکرات اسلامی و بخصوص تفکرات شیعی را مورد تهاجم قرار دهند؛ تهاجم هم تهاجم استدلالی نیست از روش‌های تخریبی و از روش‌های روانشناسانه و غیره استفاده می‏کنند، همه این‌ها پاسخ دارد پاسخ‌هایش هم مشکل نیست</a:t>
            </a:r>
            <a:r>
              <a:rPr b="0" lang="fa-IR" sz="12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Flowchart: Alternate Process 13"/>
          <p:cNvSpPr/>
          <p:nvPr/>
        </p:nvSpPr>
        <p:spPr>
          <a:xfrm>
            <a:off x="571680" y="4286160"/>
            <a:ext cx="3714480" cy="1500120"/>
          </a:xfrm>
          <a:prstGeom prst="flowChartAlternateProcess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000000"/>
                </a:solidFill>
                <a:latin typeface="Calibri"/>
                <a:cs typeface="Arial"/>
              </a:rPr>
              <a:t>بایستی از این وسایل استفاده کرد باید از آنچه که در اختیار داریم حداکثر استفاده را بکنیم ما نه از صدا و سیمایمان نه از مطبوعاتمان و نه از بسیاری از منابر عظیم عمومی‏مان چنان که باید و شاید استفاده نمی‏کنیم این ضعف‌های ماست این ضعف‌ها را بایستی کم کنیم باید روزبه‏روز نقاط ضعف را کم و نقاط قوّت را زیاد کرد</a:t>
            </a:r>
            <a:r>
              <a:rPr b="0" lang="fa-IR" sz="12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50680" y="274680"/>
            <a:ext cx="739116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800" spc="-1" strike="noStrike">
                <a:solidFill>
                  <a:srgbClr val="ffff00"/>
                </a:solidFill>
                <a:latin typeface="Calibri"/>
                <a:cs typeface="Times New Roman"/>
              </a:rPr>
              <a:t>اینترنت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57200" y="17524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r" rtl="1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0000"/>
                </a:solidFill>
                <a:latin typeface="Calibri"/>
                <a:cs typeface="Arial"/>
              </a:rPr>
              <a:t>بیانات رهبر معظم انقلاب در دیدار روحانیون استان سمنا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r" rtl="1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r" rtl="1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r" rtl="1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r" rtl="1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r" rtl="1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r" rtl="1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r" rtl="1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r" rtl="1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r" rtl="1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r" rtl="1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r" rtl="1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r" rtl="1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r" rtl="1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r" rtl="1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r" rtl="1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Calibri"/>
                <a:cs typeface="Arial"/>
              </a:rPr>
              <a:t>بیانات رهبر معظم انقلاب در دیدار روحانیون استان سمنان </a:t>
            </a:r>
            <a:r>
              <a:rPr b="1" lang="fa-IR" sz="2000" spc="-1" strike="noStrike">
                <a:solidFill>
                  <a:srgbClr val="000000"/>
                </a:solidFill>
                <a:latin typeface="Calibri"/>
                <a:ea typeface="Arial"/>
              </a:rPr>
              <a:t>1385/8/17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Vertical Scroll 3"/>
          <p:cNvSpPr/>
          <p:nvPr/>
        </p:nvSpPr>
        <p:spPr>
          <a:xfrm>
            <a:off x="714240" y="2643120"/>
            <a:ext cx="7643880" cy="3143160"/>
          </a:xfrm>
          <a:prstGeom prst="verticalScroll">
            <a:avLst>
              <a:gd name="adj" fmla="val 12500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200" spc="-1" strike="noStrike">
                <a:solidFill>
                  <a:srgbClr val="000000"/>
                </a:solidFill>
                <a:latin typeface="Calibri"/>
                <a:cs typeface="Arial"/>
              </a:rPr>
              <a:t>من بار‌ها گفته‌ام که با همه‌ى این وسایل ارتباط جمعى‌اى که وجود دارد - البته روحانیت باید از همه‌ى این وسایل ارتباط جمعى استفاده کند؛ از اینترنت و تکنولوژیهاى جدید ارتباطاتى باید همه‌ى روحانیت براى دین استفاده کند؛ همچنانى که از رادیو و تلویزیون و بقیه‌ى چیز‌ها استفاده مى‌کند - در عین حال، مسجد، جلسه‌ى مذهبى، نشستن روبه‌روى مردم، دهان به دهان و نفس به نفس با مردم حرف زدن، یک نقش بى‌بدیل دارد و هیچ چیزى جاى این را نمى‌گیرد و این هم مال شماست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200" spc="-1" strike="noStrike">
                <a:solidFill>
                  <a:srgbClr val="000000"/>
                </a:solidFill>
                <a:latin typeface="Calibri"/>
                <a:cs typeface="Arial"/>
              </a:rPr>
              <a:t>گروههاى سیاسى خودشان را مى‌کُشند که بتوانند یک چنین نقشى را به دست آورند؛ اما نمى‌شود. شما که معمم و روحانى هستید، یا آن خانم طلبه یا مبلغ، وقتى در مقابل مخاطبان خودش قرار مى‌گیرد و مى‌دانند روحانى است، دلبستگى و دلدادگى و اعتماد به او، از نوع دیگرى است و ربطى به اعتماد به بقیه‌ى گویندگان و سخنوران ندارد. ما باید این نقش را قدر بدانی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 txBox="1"/>
          <p:nvPr/>
        </p:nvSpPr>
        <p:spPr>
          <a:xfrm>
            <a:off x="25560" y="1773360"/>
            <a:ext cx="4114800" cy="502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686480" y="1773360"/>
            <a:ext cx="4394160" cy="502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Rounded Rectangle 1"/>
          <p:cNvSpPr/>
          <p:nvPr/>
        </p:nvSpPr>
        <p:spPr>
          <a:xfrm>
            <a:off x="5940360" y="620640"/>
            <a:ext cx="2735280" cy="863640"/>
          </a:xfrm>
          <a:prstGeom prst="roundRect">
            <a:avLst>
              <a:gd name="adj" fmla="val 16667"/>
            </a:avLst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Calibri"/>
                <a:cs typeface="Arial"/>
              </a:rPr>
              <a:t>نبرد سایبر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Rounded Rectangle 5"/>
          <p:cNvSpPr/>
          <p:nvPr/>
        </p:nvSpPr>
        <p:spPr>
          <a:xfrm>
            <a:off x="142920" y="500040"/>
            <a:ext cx="2736720" cy="863640"/>
          </a:xfrm>
          <a:prstGeom prst="roundRect">
            <a:avLst>
              <a:gd name="adj" fmla="val 16667"/>
            </a:avLst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Calibri"/>
                <a:cs typeface="Arial"/>
              </a:rPr>
              <a:t>صلاحیت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Flowchart: Multidocument 6"/>
          <p:cNvSpPr/>
          <p:nvPr/>
        </p:nvSpPr>
        <p:spPr>
          <a:xfrm>
            <a:off x="5572080" y="2000160"/>
            <a:ext cx="2857680" cy="1000080"/>
          </a:xfrm>
          <a:prstGeom prst="flowChartMultidocumen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Calibri"/>
                <a:cs typeface="Arial"/>
              </a:rPr>
              <a:t>آگاهى، شناخت و هوشيارى</a:t>
            </a:r>
            <a:r>
              <a:rPr b="0" lang="fa-IR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Flowchart: Multidocument 7"/>
          <p:cNvSpPr/>
          <p:nvPr/>
        </p:nvSpPr>
        <p:spPr>
          <a:xfrm>
            <a:off x="6143760" y="3786120"/>
            <a:ext cx="2857320" cy="1000080"/>
          </a:xfrm>
          <a:prstGeom prst="flowChartMultidocumen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Calibri"/>
                <a:cs typeface="Arial"/>
              </a:rPr>
              <a:t>تقویت عقائد وباورها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Flowchart: Multidocument 8"/>
          <p:cNvSpPr/>
          <p:nvPr/>
        </p:nvSpPr>
        <p:spPr>
          <a:xfrm>
            <a:off x="5000760" y="5429160"/>
            <a:ext cx="2857320" cy="1000080"/>
          </a:xfrm>
          <a:prstGeom prst="flowChartMultidocumen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Calibri"/>
                <a:cs typeface="Arial"/>
              </a:rPr>
              <a:t>تربیت جهادگران مجازی در برابر تهاجم دشم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Down Arrow Callout 11"/>
          <p:cNvSpPr/>
          <p:nvPr/>
        </p:nvSpPr>
        <p:spPr>
          <a:xfrm>
            <a:off x="0" y="1785960"/>
            <a:ext cx="4143240" cy="785880"/>
          </a:xfrm>
          <a:prstGeom prst="downArrowCallout">
            <a:avLst>
              <a:gd name="adj1" fmla="val 24996"/>
              <a:gd name="adj2" fmla="val 24994"/>
              <a:gd name="adj3" fmla="val 25000"/>
              <a:gd name="adj4" fmla="val 64977"/>
            </a:avLst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600" spc="-1" strike="noStrike">
                <a:solidFill>
                  <a:srgbClr val="ffffff"/>
                </a:solidFill>
                <a:latin typeface="Calibri"/>
                <a:cs typeface="Arial"/>
              </a:rPr>
              <a:t>آیا من صلاحیت نوشتن و انتشار در فضای مجازی را دارم ؟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Flowchart: Card 12"/>
          <p:cNvSpPr/>
          <p:nvPr/>
        </p:nvSpPr>
        <p:spPr>
          <a:xfrm>
            <a:off x="214200" y="2643120"/>
            <a:ext cx="3714840" cy="785880"/>
          </a:xfrm>
          <a:prstGeom prst="flowChartPunchedCard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600" spc="-1" strike="noStrike">
                <a:solidFill>
                  <a:srgbClr val="000000"/>
                </a:solidFill>
                <a:latin typeface="Calibri"/>
                <a:cs typeface="Arial"/>
              </a:rPr>
              <a:t>انجام هر کاری مستلزم دانستن الفبای اولیه برای ورود در آن کار هست که این الفبا باید آموخته شود</a:t>
            </a:r>
            <a:r>
              <a:rPr b="0" lang="fa-IR" sz="1600" spc="-1" strike="noStrike">
                <a:solidFill>
                  <a:srgbClr val="000000"/>
                </a:solidFill>
                <a:latin typeface="Calibri"/>
                <a:ea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Oval 13"/>
          <p:cNvSpPr/>
          <p:nvPr/>
        </p:nvSpPr>
        <p:spPr>
          <a:xfrm>
            <a:off x="1928880" y="3571920"/>
            <a:ext cx="2357280" cy="6429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Calibri"/>
                <a:ea typeface="Arial"/>
              </a:rPr>
              <a:t>1. </a:t>
            </a:r>
            <a:r>
              <a:rPr b="0" lang="fa-IR" sz="1800" spc="-1" strike="noStrike">
                <a:solidFill>
                  <a:srgbClr val="000000"/>
                </a:solidFill>
                <a:latin typeface="Calibri"/>
                <a:cs typeface="Arial"/>
              </a:rPr>
              <a:t>طرز برخورد با مخاطبین</a:t>
            </a:r>
            <a:r>
              <a:rPr b="0" lang="fa-IR" sz="18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Oval 14"/>
          <p:cNvSpPr/>
          <p:nvPr/>
        </p:nvSpPr>
        <p:spPr>
          <a:xfrm>
            <a:off x="1857240" y="4286160"/>
            <a:ext cx="2357640" cy="6429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fa-IR" sz="1800" spc="-1" strike="noStrike">
                <a:solidFill>
                  <a:srgbClr val="000000"/>
                </a:solidFill>
                <a:latin typeface="Calibri"/>
                <a:ea typeface="Arial"/>
              </a:rPr>
              <a:t>. سبک ها و قالب های نگارش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Oval 15"/>
          <p:cNvSpPr/>
          <p:nvPr/>
        </p:nvSpPr>
        <p:spPr>
          <a:xfrm>
            <a:off x="1857240" y="5072040"/>
            <a:ext cx="2357640" cy="7142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Calibri"/>
                <a:ea typeface="Arial"/>
              </a:rPr>
              <a:t>3</a:t>
            </a:r>
            <a:r>
              <a:rPr b="0" lang="fa-IR" sz="1800" spc="-1" strike="noStrike">
                <a:solidFill>
                  <a:srgbClr val="000000"/>
                </a:solidFill>
                <a:latin typeface="Calibri"/>
                <a:ea typeface="Arial"/>
              </a:rPr>
              <a:t>. محتواهایی که قابلیت انتشار دارند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Oval 16"/>
          <p:cNvSpPr/>
          <p:nvPr/>
        </p:nvSpPr>
        <p:spPr>
          <a:xfrm>
            <a:off x="1785960" y="5929200"/>
            <a:ext cx="2357280" cy="7146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600" spc="-1" strike="noStrike">
                <a:solidFill>
                  <a:srgbClr val="000000"/>
                </a:solidFill>
                <a:latin typeface="Calibri"/>
                <a:ea typeface="Arial"/>
              </a:rPr>
              <a:t>4</a:t>
            </a:r>
            <a:r>
              <a:rPr b="0" lang="fa-IR" sz="1600" spc="-1" strike="noStrike">
                <a:solidFill>
                  <a:srgbClr val="000000"/>
                </a:solidFill>
                <a:latin typeface="Calibri"/>
                <a:ea typeface="Arial"/>
              </a:rPr>
              <a:t>. داشتن چارچوب برای حضور در این فضا و رعایت آن ها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Flowchart: Alternate Process 17"/>
          <p:cNvSpPr/>
          <p:nvPr/>
        </p:nvSpPr>
        <p:spPr>
          <a:xfrm>
            <a:off x="142920" y="3643200"/>
            <a:ext cx="1714320" cy="3071880"/>
          </a:xfrm>
          <a:prstGeom prst="flowChartAlternateProcess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Calibri"/>
                <a:cs typeface="Arial"/>
              </a:rPr>
              <a:t>اما هدف دار بودن ، مهم تر از هر چیزی است. </a:t>
            </a:r>
            <a:br>
              <a:rPr sz="1400"/>
            </a:br>
            <a:br>
              <a:rPr sz="1400"/>
            </a:br>
            <a:r>
              <a:rPr b="1" lang="fa-IR" sz="1400" spc="-1" strike="noStrike">
                <a:solidFill>
                  <a:srgbClr val="000000"/>
                </a:solidFill>
                <a:latin typeface="Calibri"/>
                <a:cs typeface="Arial"/>
              </a:rPr>
              <a:t>رسول اکرم (صلی الله علیه و اله): اَجوَدُکُم مِن بَعدی رَجُلٌ عَلِمَ عِلماً فَنَشَرَ عِلمَهُ؛</a:t>
            </a:r>
            <a:br>
              <a:rPr sz="1400"/>
            </a:br>
            <a:r>
              <a:rPr b="1" lang="fa-IR" sz="1400" spc="-1" strike="noStrike">
                <a:solidFill>
                  <a:srgbClr val="000000"/>
                </a:solidFill>
                <a:latin typeface="Calibri"/>
                <a:cs typeface="Arial"/>
              </a:rPr>
              <a:t>بخشنده ترین شما پس از من کسی است که دانشی بیاموزد آنگاه دانش خود را بپراکند.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0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8" dur="2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5736960" y="1623960"/>
            <a:ext cx="3228840" cy="17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alibri"/>
                <a:cs typeface="Arial"/>
              </a:rPr>
              <a:t>ویژگی های فردی مبلغ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alibri"/>
                <a:cs typeface="Arial"/>
              </a:rPr>
              <a:t>ویژگی های فضای تبلی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alibri"/>
                <a:cs typeface="Arial"/>
              </a:rPr>
              <a:t>ویژگی های مخاطب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alibri"/>
                <a:cs typeface="Arial"/>
              </a:rPr>
              <a:t>شناخت اصول تبلیغی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755280" y="1104480"/>
            <a:ext cx="8210520" cy="52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000000"/>
                </a:solidFill>
                <a:latin typeface="Calibri"/>
                <a:cs typeface="Times New Roman"/>
              </a:rPr>
              <a:t>لوازم و مقدمات ووظایف تبلیغ دینی اینترنتی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Content Placeholder 4"/>
          <p:cNvSpPr/>
          <p:nvPr/>
        </p:nvSpPr>
        <p:spPr>
          <a:xfrm>
            <a:off x="774720" y="3281400"/>
            <a:ext cx="5977080" cy="479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Calibri"/>
                <a:cs typeface="Arial"/>
              </a:rPr>
              <a:t>وظایف کلی یک مبلغ دینی در امر تبلیغ اینترنت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alibri"/>
                <a:cs typeface="Arial"/>
              </a:rPr>
              <a:t>مجسم کردن فرهنگ آرمانی مخاطبین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alibri"/>
                <a:cs typeface="Arial"/>
              </a:rPr>
              <a:t>ایجاد جامعه پذیری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alibri"/>
                <a:cs typeface="Arial"/>
              </a:rPr>
              <a:t>ایجاد انسجام اجتماع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alibri"/>
                <a:cs typeface="Arial"/>
              </a:rPr>
              <a:t>اصلاح اجتماعیات مخاطب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alibri"/>
                <a:cs typeface="Arial"/>
              </a:rPr>
              <a:t>تقویت اراده فردی مخاطب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alibri"/>
                <a:cs typeface="Arial"/>
              </a:rPr>
              <a:t>اصلاح شخصیت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alibri"/>
                <a:cs typeface="Arial"/>
              </a:rPr>
              <a:t>بالا بردن آگاهی های دینی فر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2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2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2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2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2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2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29T17:12:57Z</dcterms:created>
  <dc:creator>z</dc:creator>
  <dc:description/>
  <dc:language>en-US</dc:language>
  <cp:lastModifiedBy>ali</cp:lastModifiedBy>
  <dcterms:modified xsi:type="dcterms:W3CDTF">2016-01-15T10:45:41Z</dcterms:modified>
  <cp:revision>40</cp:revision>
  <dc:subject/>
  <dc:title>PowerPoint Presentation</dc:title>
</cp:coreProperties>
</file>