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1C3-D504-400A-9B83-110CE3D7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FA7-7DBA-48E5-B8A5-2562DE73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326-7A1E-41E1-99CE-29F1138A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F6C-5BCB-444A-9BCC-2E9AF98E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3D26-9CA2-4E28-8086-B28A1D07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78E2-5053-4DDF-BA3D-43D0E03C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F2B0-0780-48C0-98FC-1E9DC93E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BC35-E9AA-45FA-A7F0-99A69C83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E34E-9E5E-4421-9C98-BF086A0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C743-B94E-4E1E-AC1F-FFB87724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EC3-2B8A-42F6-8E3E-E273C12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3A0-BCA5-4B6C-B210-99743E61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BDE9-7819-409F-AB61-AFE9633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5FEC-3449-42C5-BE9E-D2E45EF3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80B4-1DDC-44AC-9C67-D4D165AC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2251-6DED-4BAA-A76E-12523E39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8291-1CED-4896-A63E-3E5634A0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68A-A9F8-4BF9-9CE2-6596995E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3FC-E852-4D0C-9421-83B0162F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5FB-652B-4FE4-8D2D-CA692C50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5A5-5ADA-4690-B95F-54E73F74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528-5874-4009-A5E3-13B492A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5ED-FA0F-4886-9A49-CCD9994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5E3-408B-4315-A601-11062660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19E2-D62E-4E8E-B106-054831B8E31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CF9D-AA47-4D1E-92A7-779ABAC0FE9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8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: Microbiology Jawetz, 2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editio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Table 35-4 Jawetz"/>
          <p:cNvPicPr/>
          <p:nvPr/>
        </p:nvPicPr>
        <p:blipFill>
          <a:blip r:embed="rId1"/>
          <a:stretch/>
        </p:blipFill>
        <p:spPr>
          <a:xfrm>
            <a:off x="1389240" y="173160"/>
            <a:ext cx="63640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ig"/>
          <p:cNvPicPr/>
          <p:nvPr/>
        </p:nvPicPr>
        <p:blipFill>
          <a:blip r:embed="rId1"/>
          <a:stretch/>
        </p:blipFill>
        <p:spPr>
          <a:xfrm>
            <a:off x="1908000" y="1589040"/>
            <a:ext cx="5328000" cy="471960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5" descr=""/>
          <p:cNvPicPr/>
          <p:nvPr/>
        </p:nvPicPr>
        <p:blipFill>
          <a:blip r:embed="rId2"/>
          <a:stretch/>
        </p:blipFill>
        <p:spPr>
          <a:xfrm>
            <a:off x="176040" y="122400"/>
            <a:ext cx="87552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Fig"/>
          <p:cNvPicPr/>
          <p:nvPr/>
        </p:nvPicPr>
        <p:blipFill>
          <a:blip r:embed="rId1"/>
          <a:stretch/>
        </p:blipFill>
        <p:spPr>
          <a:xfrm>
            <a:off x="1316160" y="1773360"/>
            <a:ext cx="6510240" cy="4754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9c2d1"/>
                </a:solidFill>
                <a:latin typeface="Arial"/>
              </a:rPr>
              <a:t>علائم ایمونولوژیک و بیولوژیک ابتلاء ب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Arial"/>
              </a:rPr>
              <a:t>HBV</a:t>
            </a:r>
            <a:r>
              <a:rPr b="0" lang="fa-IR" sz="4000" spc="-1" strike="noStrike">
                <a:solidFill>
                  <a:srgbClr val="c9c2d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Fig"/>
          <p:cNvPicPr/>
          <p:nvPr/>
        </p:nvPicPr>
        <p:blipFill>
          <a:blip r:embed="rId1"/>
          <a:stretch/>
        </p:blipFill>
        <p:spPr>
          <a:xfrm>
            <a:off x="1376280" y="1849320"/>
            <a:ext cx="6364440" cy="4243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9c2d1"/>
                </a:solidFill>
                <a:latin typeface="Arial"/>
              </a:rPr>
              <a:t>علائم ایمونولوژیک و بیولوژیک ابتلاء ب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9c2d1"/>
                </a:solidFill>
                <a:latin typeface="Arial"/>
              </a:rPr>
              <a:t>HC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 algn="r" rtl="1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در حال حاضردرمان قطعی برای هپاتیت های ویروسی وجود ندارد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r" rtl="1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غلب داروهای موجود برای هپاتیت های ویروسی، داروهای حمایتی برای بیماران می باشد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r" rtl="1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در حال حاضر فقط برای هپاتیت های نوع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fa-I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و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fa-I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داروهای اختصاصی وجود دارد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r" rtl="1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ز جمله داروهای مفید و تا حدودی موثر برای هپاتیت های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fa-I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و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fa-I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اینترفرون نوترکیب نوع آلفا می باشد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r" rtl="1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mivudine</a:t>
            </a:r>
            <a:r>
              <a:rPr b="0" lang="fa-I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مهار کننده تکثیر ژنوم هپاتیت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fa-I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است که گاهی همراه با اینترفرون تجویز می شود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r" rtl="1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در مراحل بسیار پیشرفته ی هپاتیت های ویروسی، پیوند کبد نیز توصیه می شود که البته باید توجه داشت که پیوند کبد هم در بیشتر مواقع با آلودگی مجدد به ویروس همراه می شود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r" rtl="1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اکسن و ایمونوگلوبولین اختصاصی هپاتیت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fa-IR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در دسترس می باشند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malin-inactivated HAV vaccines since 1995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V Immune (gamma) globulin for passive protec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اکسن و ایمونوگلوبولین های اختصاصی هپاتیت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fa-IR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در دسترس می باشند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lasma-derived HBV vaccines since 1982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combinant DNA-derived HBV vaccin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patitis B immune globulin (HBIG) for passive protec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علی رغم تلاشهای زیادی که تاکنون صورت گرفته ، متاسفانه در حال حاضر واکسن تایید شده ای برای هپاتیت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fa-IR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وجود ندارد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ه منظور پیشگیری از هپاتیت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</a:t>
            </a:r>
            <a:r>
              <a:rPr b="0" lang="fa-IR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نیز می بایست از واکسن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BV</a:t>
            </a:r>
            <a:r>
              <a:rPr b="0" lang="fa-IR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استفاده نمود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4" descr=""/>
          <p:cNvPicPr/>
          <p:nvPr/>
        </p:nvPicPr>
        <p:blipFill>
          <a:blip r:embed="rId1"/>
          <a:stretch/>
        </p:blipFill>
        <p:spPr>
          <a:xfrm>
            <a:off x="689040" y="1511280"/>
            <a:ext cx="7851600" cy="2828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1BA4-290C-4FDD-A2C0-E7D5A127726A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question%20in%20the%20sky"/>
          <p:cNvPicPr/>
          <p:nvPr/>
        </p:nvPicPr>
        <p:blipFill>
          <a:blip r:embed="rId2"/>
          <a:stretch/>
        </p:blipFill>
        <p:spPr>
          <a:xfrm>
            <a:off x="28440" y="32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751120" y="243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ه طور کلی هپاتیت به معنی التهاب کبد بکار برده می شود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lammation of the liv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fa-IR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در مشاهدات میکروسکپی سلولهای پارانشیم کبدی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ver parenchym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fa-IR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ضایعه دیده و نکروز هپاتوسیت ها نیز دیده می شود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فزایش سلولهای کوپفر کبدی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upffer cell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fa-IR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و تجمع و مرگ مونونوکلئرها نیز از علامت های اصلی هپاتیت به شمار می رود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علاوه بر نشانه های هیستوپاتولوژیک، تب، علائم گوارشی (تهوع و استفراغ) و یرقان نیزمشاهده می شود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291960" y="2746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یروسهای زیر به عنوان ویروسهای ایجاد کننده هپاتیت شناخته شده اند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یروس های هپاتیت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, B, C, D, 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علاوه بر ویروسهای یاد شده، عفونتهای ویروسی دیگری نیز ممکن است با علائم کبدی و یرقان همراه باشد، از جمله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llow fever virus, CMV, EBV,HSV,Rubella vrirus,and Enteroviru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رخی ازعفونتهای میکروبی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ptospirosis, syphilis, tuberculosis, toxoplasmosis, and amebia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عوامل غیر عفونی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گرفتگی مجاری صفراوی، سیروز صفراوی، بیماری ویلسون، مسمومیت دارویی، و حساسیت دارویی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8205840" y="500040"/>
            <a:ext cx="1500120" cy="6357960"/>
          </a:xfrm>
          <a:prstGeom prst="rect">
            <a:avLst/>
          </a:prstGeom>
          <a:solidFill>
            <a:srgbClr val="e4e1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8205840" y="500040"/>
            <a:ext cx="1500120" cy="6357960"/>
          </a:xfrm>
          <a:prstGeom prst="rect">
            <a:avLst/>
          </a:prstGeom>
          <a:solidFill>
            <a:srgbClr val="e4e1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47600" y="500040"/>
            <a:ext cx="9286920" cy="2286000"/>
          </a:xfrm>
          <a:prstGeom prst="rect">
            <a:avLst/>
          </a:prstGeom>
          <a:solidFill>
            <a:srgbClr val="e4e1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42920" y="4429080"/>
            <a:ext cx="9286920" cy="2446560"/>
          </a:xfrm>
          <a:prstGeom prst="rect">
            <a:avLst/>
          </a:prstGeom>
          <a:solidFill>
            <a:srgbClr val="e4e1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14200" y="1500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38–1.  Classification and Properties of Some Arthropod-Borne and Rodent-Borne Viru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able 35-1 Jawetz"/>
          <p:cNvPicPr/>
          <p:nvPr/>
        </p:nvPicPr>
        <p:blipFill>
          <a:blip r:embed="rId1"/>
          <a:stretch/>
        </p:blipFill>
        <p:spPr>
          <a:xfrm>
            <a:off x="108000" y="979560"/>
            <a:ext cx="8893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BV surface antigen (HBsAg) genotyp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 specific antigen (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bdeterminant antigens (d/y; w/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w, adr, ayw, ay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CV has been differentiated by RNA sequence analysis into at leas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jor genotypes (clades) 25-35% differenc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d more than 100 subtypes 15-25% dif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5:34:29Z</dcterms:created>
  <dc:creator>Ali</dc:creator>
  <dc:description/>
  <dc:language>en-US</dc:language>
  <cp:lastModifiedBy>Ali Rahimi</cp:lastModifiedBy>
  <dcterms:modified xsi:type="dcterms:W3CDTF">2015-05-05T04:59:08Z</dcterms:modified>
  <cp:revision>65</cp:revision>
  <dc:subject/>
  <dc:title>Hepatitis Viruses</dc:title>
</cp:coreProperties>
</file>