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7DB-789B-4E18-8391-65A63015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BFB-8D0B-493C-9345-D9671FF1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922-2094-45CD-BDE2-180E7D2E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1C9-C957-4168-8C6A-874DBEA8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E6C-8052-4BE3-A98E-087C8424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7AE2-AE81-4C4E-BC00-C302D2BF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ACF7-970D-4795-BC9F-5B8CF33D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646A-C6EA-417A-9378-7173BB3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A728-771F-45DD-A1B3-0BDE0B8C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B9CE-EEF0-4034-A9F4-A0749FB8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F214-85DA-419A-A0A6-A6924DB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DFC-0C6E-4683-A270-267ABFA7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2B8A-C208-4C57-973A-630BFE83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9950-7D71-4E53-954B-961F287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BF3C-8EA2-4CC0-A09E-A693955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049-C380-4113-B268-90F647CD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6789-1776-4697-A07C-C8B0CB20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D62A-1D15-466D-AB4F-7DFB9583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9B07-525C-4E69-A8A8-F1CDF58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F285-58E0-414C-9ECF-DD6ADC42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C2A9-3885-44F7-B140-196DA61D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D535-7996-4CFB-8FFD-56F364B0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941-680B-4516-AC9D-3DD428E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C6F1-B3A8-4B53-A900-22B91CEE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077A-A58B-494F-A61C-55ACFA4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78BD-D24A-4552-B7FE-225C547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6E70-9B24-4DCD-93BA-8474B72D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F360-22AD-400A-A288-92794834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8385-E091-46D3-9324-1DE666F7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5EB7-4253-4F31-A53E-FC4DCA9B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EC58-401F-4351-A17B-EE1860F6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3877-18F3-44C7-98D0-E93643BB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90EA-1387-473B-B030-C7D6A6C4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640-A21F-44D6-BFBF-3394802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7B08-26F4-4FB7-94A4-C89F642E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E277-A622-4E16-B6F2-9240DD3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67E1-AA6E-4C26-BBAC-1C1357D5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522C-C1D5-4DF4-9742-E451231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CF80-C0D8-4E1F-B52F-647BFF0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D123-F433-466B-81DA-2C9C06B4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2E36B-FF8E-4846-B505-969F4BF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9FBE-E7EC-4A15-9FAE-AD635274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A588-BF36-4B62-BA85-D80C7A09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300-F095-4346-A602-8438700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B59-3E96-469F-821B-4E8F20CC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D64-D520-4D8F-8931-48E4D547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12B-3B82-422E-ACE7-7329833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79B-42FE-4915-8B21-80958D6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F3F-7B22-4408-9025-D19BA07E34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82DB-4BC9-4735-B9A5-341C0C8B0837}" type="slidenum">
              <a:rPr b="0" lang="ar-S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8C28-2542-4226-A770-5582AFCE64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57B9-E6B3-4617-BDCA-4C91EDB5BB9F}" type="slidenum">
              <a:rPr b="0" lang="ar-S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3821-DD71-4308-BA0F-18A63C727FB9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600" spc="-1" strike="noStrike">
                <a:solidFill>
                  <a:srgbClr val="ffffcc"/>
                </a:solidFill>
                <a:latin typeface="Arial"/>
              </a:rPr>
              <a:t>ویروس شناسی پزشکی</a:t>
            </a:r>
            <a:br>
              <a:rPr sz="7600"/>
            </a:b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(سیستماتیک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دانشجویان پزشک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دانشگاه علوم پزشکی تبری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ED17-B786-4852-8565-38047889D11F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تقسیم بندی رتروویروسها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خانواده رتروویروسها به سه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family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زیرتقسیم شده است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covirinae (HTLV-1, HTLV-2, HTLV-5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ntivirinae (HIV-1, HIV-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umavirinae (Human foamy viru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B288-1B8D-46B0-BF53-B350B57B97D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uman Immunodeficiency Virus (HIV-1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به خاطر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rbiditiy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و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rtality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سیار بالایی که این گروه از ویروسها دارند، شاید به جرات بتوان گفت که تاکنون بیشترین تحقیقات بیوتکنولوژی بر روی این خانواده از ویروسها صورت گرفته است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تاکنون بیش از 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20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میلیون نفر با ابتلاء به این ویروس جان خود را از دست داده ان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در حال حاضر بیش از 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35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میلیون نفر در دنیا به این این ویروس مبتلا هستن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این ویروسها دارای اینولوپ و حاوی ژنومی دو قطعه ای از جنس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NA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ا پلاریتی مثبت می باشند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این ویروسها دارای ساختمان و روش تکثیری  منحصر به این گروه از ویروسها می باشن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8C1-088C-461B-9E11-35B70120EE9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ساختار ویروس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V-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3" name="Picture 8" descr="hiv1"/>
          <p:cNvPicPr/>
          <p:nvPr/>
        </p:nvPicPr>
        <p:blipFill>
          <a:blip r:embed="rId1"/>
          <a:stretch/>
        </p:blipFill>
        <p:spPr>
          <a:xfrm>
            <a:off x="2509920" y="1476360"/>
            <a:ext cx="4124160" cy="39052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5112720" y="6497640"/>
            <a:ext cx="392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stanford.edu/group/virus/retro/2005gongishmail/hiv1.jpg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81E-744B-48CD-9F15-85A9D2C8F0AC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cc"/>
                </a:solidFill>
                <a:latin typeface="Arial"/>
              </a:rPr>
              <a:t>The HIV-1 genome and transcript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7" name="Picture 5" descr="HIV genome, transcripts and proteins {806}"/>
          <p:cNvPicPr/>
          <p:nvPr/>
        </p:nvPicPr>
        <p:blipFill>
          <a:blip r:embed="rId1"/>
          <a:stretch/>
        </p:blipFill>
        <p:spPr>
          <a:xfrm>
            <a:off x="2181240" y="1555920"/>
            <a:ext cx="5127480" cy="5113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17080" y="385452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Arial"/>
              </a:rPr>
              <a:t>HIV-1 accessory genes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Tat: Transactivation of viral and cellular ge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Rev: Regulation of RNA splicing and promotion of export to cytoplas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ef: Alteration of cell activation signals; progression to AIDS (essential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Vif: Virus infectivity, promotion of assembl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Vpu: Facilitation of release of virus, decrease of cell surface CD4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Vpr: Trasport of complementary DNA to nucleus, arresting of cell growth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6233760" y="17208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~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393C-FD4F-46E1-83AD-52C0E426A94E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The HIV-1 genome, transcripts and protei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3" name="Picture 3" descr="HIV genome, transcripts and proteins {806}"/>
          <p:cNvPicPr/>
          <p:nvPr/>
        </p:nvPicPr>
        <p:blipFill>
          <a:blip r:embed="rId1"/>
          <a:stretch/>
        </p:blipFill>
        <p:spPr>
          <a:xfrm>
            <a:off x="2181240" y="1555920"/>
            <a:ext cx="51274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5227-5183-4873-8B5F-157991F2B230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راههای ورود ویروس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V-1</a:t>
            </a: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 به بد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oculation in blo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خون و فراورده های خونی، تزریق با سوزن مشترک، سوزن آلوده، زخم باز و مخاطات (قابل توجه کارکنان بهداشتی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xual transmi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روده بزرگ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l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، رکتوم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ctum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، واژن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agina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rinatal transmi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هنگام زایمان، حین بارداری، دوران شیرخوارگ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D00A-F3AB-417A-BCDF-9E68D502689B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سلولهای هدف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rget cell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پس از ورود ویروس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V-1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به بدن ، ابتدا ویروس باعث آلودگی ماکروفاژها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crophage lineag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شده و پس از تکثیر و تغییر در ساختمان مولکولهای سطحی ویروس، گرایش زیادی به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 cells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می یابد و به طور وسیعی این رده از سلولها را آلوده می کن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6B29-C7C3-4168-A149-26417573F491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Picture 5" descr="HIV Replication Cycle"/>
          <p:cNvPicPr/>
          <p:nvPr/>
        </p:nvPicPr>
        <p:blipFill>
          <a:blip r:embed="rId1"/>
          <a:stretch/>
        </p:blipFill>
        <p:spPr>
          <a:xfrm>
            <a:off x="1504800" y="115920"/>
            <a:ext cx="6134400" cy="65768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 rot="16200000">
            <a:off x="-1708560" y="3161520"/>
            <a:ext cx="517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3.niaid.nih.gov/topics/HIVAIDS/Understanding/Biology/hivReplicationCycle.htm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 rot="16200000">
            <a:off x="-785520" y="317304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IV-1 Replication Cyc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A777-9213-4494-A0A1-D28D4BAA31D7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ymphatic syst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6" name="Picture 3" descr="Lymphatic system.jpg"/>
          <p:cNvPicPr/>
          <p:nvPr/>
        </p:nvPicPr>
        <p:blipFill>
          <a:blip r:embed="rId1"/>
          <a:stretch/>
        </p:blipFill>
        <p:spPr>
          <a:xfrm>
            <a:off x="2050920" y="1663560"/>
            <a:ext cx="49294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B63C-025E-4680-B843-891F8E54C236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irculatory syst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9" name="Picture 3" descr="circulatory_system"/>
          <p:cNvPicPr/>
          <p:nvPr/>
        </p:nvPicPr>
        <p:blipFill>
          <a:blip r:embed="rId1"/>
          <a:stretch/>
        </p:blipFill>
        <p:spPr>
          <a:xfrm>
            <a:off x="2852640" y="1601640"/>
            <a:ext cx="3519720" cy="48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درس : دکتر علی اکبر رحیم رحیم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عضو هیات علمی گروه میکروب شناس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لیسانس علوم آزمایشگاهی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(دانشگاه تبریز و شهید بهشتی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فوق لیسانس ویروس شناسی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(دانشگاه تربیت مدرس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فوق لیسانس ویروس شناسی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(دانشگاه اتاوا - کانادا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D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ویروس شناسی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(دانشگاه اتاوا - کانادا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تلفن تماس :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eaeaea"/>
                </a:solidFill>
                <a:latin typeface="Verdana"/>
              </a:rPr>
              <a:t>دانشکده پزشکی </a:t>
            </a:r>
            <a:r>
              <a:rPr b="0" lang="fa-IR" sz="1800" spc="-1" strike="noStrike">
                <a:solidFill>
                  <a:srgbClr val="eaeaea"/>
                </a:solidFill>
                <a:latin typeface="Verdana"/>
              </a:rPr>
              <a:t>3376923</a:t>
            </a:r>
            <a:r>
              <a:rPr b="0" lang="fa-IR" sz="1800" spc="-1" strike="noStrike">
                <a:solidFill>
                  <a:srgbClr val="eaeaea"/>
                </a:solidFill>
                <a:latin typeface="Verdana"/>
              </a:rPr>
              <a:t> داخلی </a:t>
            </a:r>
            <a:r>
              <a:rPr b="0" lang="fa-IR" sz="1800" spc="-1" strike="noStrike">
                <a:solidFill>
                  <a:srgbClr val="eaeaea"/>
                </a:solidFill>
                <a:latin typeface="Verdana"/>
              </a:rPr>
              <a:t>424</a:t>
            </a:r>
            <a:r>
              <a:rPr b="0" lang="fa-IR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eaeaea"/>
                </a:solidFill>
                <a:latin typeface="Verdana"/>
              </a:rPr>
              <a:t>گروه میکروب شناسی </a:t>
            </a:r>
            <a:r>
              <a:rPr b="0" lang="fa-IR" sz="1800" spc="-1" strike="noStrike">
                <a:solidFill>
                  <a:srgbClr val="eaeaea"/>
                </a:solidFill>
                <a:latin typeface="Verdana"/>
              </a:rPr>
              <a:t>3364661</a:t>
            </a:r>
            <a:r>
              <a:rPr b="0" lang="en-CA" sz="18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پست الکترونیک :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ahimrahimi@hotmail.c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C99-56F0-4A79-AF2E-9FAD99D8CF25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01C2-0326-48C2-BF75-9A41744F51B5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rvous syst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92" name="Picture 3" descr="Nervous system"/>
          <p:cNvPicPr/>
          <p:nvPr/>
        </p:nvPicPr>
        <p:blipFill>
          <a:blip r:embed="rId1"/>
          <a:stretch/>
        </p:blipFill>
        <p:spPr>
          <a:xfrm>
            <a:off x="2006640" y="1674720"/>
            <a:ext cx="515772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6B3E-AD01-45EE-8EF2-A613F6803897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12920" y="571680"/>
            <a:ext cx="8318160" cy="571500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sp>
        <p:nvSpPr>
          <p:cNvPr id="295" name="Text Box 3"/>
          <p:cNvSpPr/>
          <p:nvPr/>
        </p:nvSpPr>
        <p:spPr>
          <a:xfrm>
            <a:off x="6645960" y="638172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ww.ncbi.nlm.nih.gov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657600" y="1600200"/>
            <a:ext cx="914400" cy="360036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480960" y="4791240"/>
            <a:ext cx="8137440" cy="5094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05F-7E72-4935-8457-BB43DAA88664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V-1 immunopathoge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ماکروفاژها مخازن اصلی حضور ویروس در بدن میزبان می باشند و ویروس به طور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sistent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در این رده از سلولها باقی می مانن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به علاوه، ویروس ایدز در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 cells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ه طور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ytic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و یا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tent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رشد و تکثیر می یاب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آلودگی ماکروفاژها و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D4+ Th cells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اعث نقص در عملکرد این سلولها که عناصر اصلی ایمنی طبیعی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nat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و اکتسابی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aptiv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ه شمار می روند شده و بیمار علائم مربوط به نقص سیستم ایمنی را بروز می ده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1738-2E3E-48FE-8E78-38488CF2E547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نقش مهم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D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T cells</a:t>
            </a: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 در سیستم ایمن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3" name="Picture 6" descr="410980ad"/>
          <p:cNvPicPr/>
          <p:nvPr/>
        </p:nvPicPr>
        <p:blipFill>
          <a:blip r:embed="rId1"/>
          <a:stretch/>
        </p:blipFill>
        <p:spPr>
          <a:xfrm>
            <a:off x="1714680" y="1562040"/>
            <a:ext cx="5715000" cy="49626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7"/>
          <p:cNvSpPr/>
          <p:nvPr/>
        </p:nvSpPr>
        <p:spPr>
          <a:xfrm>
            <a:off x="4751280" y="6568920"/>
            <a:ext cx="42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nature.com/nature/journal/v410/n6831/images/410980ad.2.jpg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CABB-BC6F-481B-9317-36FF50ACA7AB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نقش مهم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D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T cells</a:t>
            </a: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 در سیستم ایمن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Picture 6" descr="Lymphocyte_activation_simple"/>
          <p:cNvPicPr/>
          <p:nvPr/>
        </p:nvPicPr>
        <p:blipFill>
          <a:blip r:embed="rId1"/>
          <a:stretch/>
        </p:blipFill>
        <p:spPr>
          <a:xfrm>
            <a:off x="1657440" y="2324160"/>
            <a:ext cx="5829120" cy="3409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3940200" y="6568920"/>
            <a:ext cx="509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upload.wikimedia.org/wikipedia/commons/e/ec/Lymphocyte_activation_simple.png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048E-4081-4B66-8F33-48813CC7D48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cc"/>
                </a:solidFill>
                <a:latin typeface="Arial"/>
              </a:rPr>
              <a:t>رابطه ی مستقیم افزایش تعداد ویروس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IV-1</a:t>
            </a:r>
            <a:r>
              <a:rPr b="0" lang="fa-IR" sz="4000" spc="-1" strike="noStrike">
                <a:solidFill>
                  <a:srgbClr val="ffffcc"/>
                </a:solidFill>
                <a:latin typeface="Arial"/>
              </a:rPr>
              <a:t> و کاهش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 cell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1" name="Picture 3" descr="211212-1358427-211316-1377359"/>
          <p:cNvPicPr/>
          <p:nvPr/>
        </p:nvPicPr>
        <p:blipFill>
          <a:blip r:embed="rId1"/>
          <a:stretch/>
        </p:blipFill>
        <p:spPr>
          <a:xfrm>
            <a:off x="1171440" y="2006640"/>
            <a:ext cx="6801120" cy="3943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3476160" y="6568920"/>
            <a:ext cx="56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img.medscape.com/pi/emed/ckb/infectious_diseases/211212-1358427-211316-1377359.jpg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CDBE-E801-459D-A212-BD26DCB2BA84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علائم بالینی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nical syndrome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Opportunistic infec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aeaea"/>
                </a:solidFill>
                <a:latin typeface="Verdana"/>
              </a:rPr>
              <a:t>عفونت های انگل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توکسوپلاسموزمغزی، کریپتوسپوریوزیس با اسهال، ایزوسوریازیس با اسهال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aeaea"/>
                </a:solidFill>
                <a:latin typeface="Verdana"/>
              </a:rPr>
              <a:t>عفونت های قارچ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کاندیدیازیس مجاری تنفسی و ریه، پنومو سیستیس کارینی، کریپتوکوکوس، هیستوپلاسموزیس، کوکسیدیو مایکوزیس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aeaea"/>
                </a:solidFill>
                <a:latin typeface="Verdana"/>
              </a:rPr>
              <a:t>عفونت های ویروس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سایتومگالو ویروس، هرپس ویروس، لوکوآنسفالوپاتی پیشرونده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ML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 ، لوکوپلاکیا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BV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aeaea"/>
                </a:solidFill>
                <a:latin typeface="Verdana"/>
              </a:rPr>
              <a:t>عفونت های باکتریال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مایکوباکتریوم اویوم، توبرکلوزیس، سپتی سمی سالمونلایی تکرار شونده،  عفونتهای مکرر همراه با تب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7B91-CB42-401A-83E1-645AD4AADD2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pportunistic neoplasi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aposi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sarcom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mary lymphoma of br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non-Hodgk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th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V wasting syndro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V encephalopath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ymphoid interstitial pneumon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67A2-69F5-4A66-89EB-78723736CD90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0" name="Picture 2" descr="230px-Kaposi%27s_Sarcoma"/>
          <p:cNvPicPr/>
          <p:nvPr/>
        </p:nvPicPr>
        <p:blipFill>
          <a:blip r:embed="rId1"/>
          <a:stretch/>
        </p:blipFill>
        <p:spPr>
          <a:xfrm>
            <a:off x="1763640" y="1816200"/>
            <a:ext cx="2737080" cy="1820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220px-Kaposi%E2%80%99s_sarcoma_intraoral_AIDS_072_lores"/>
          <p:cNvPicPr/>
          <p:nvPr/>
        </p:nvPicPr>
        <p:blipFill>
          <a:blip r:embed="rId2"/>
          <a:stretch/>
        </p:blipFill>
        <p:spPr>
          <a:xfrm>
            <a:off x="1835280" y="3789360"/>
            <a:ext cx="2663640" cy="176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220px-Kaposi%27s_sarcoma_before"/>
          <p:cNvPicPr/>
          <p:nvPr/>
        </p:nvPicPr>
        <p:blipFill>
          <a:blip r:embed="rId3"/>
          <a:stretch/>
        </p:blipFill>
        <p:spPr>
          <a:xfrm>
            <a:off x="5076720" y="1787400"/>
            <a:ext cx="2495520" cy="374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aposi’s Sarcoma (K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E2CD-27CA-45AB-AD82-68A844FA9DA5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V Wasting Syndro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6" name="Picture 3" descr="ANd9GcRNcKE-LX4O9H16yZ98bY7zKy3pV1KXsE1cp0GdRgzj7mDsvXM&amp;t=1&amp;h=156&amp;w=238&amp;usg=__zX-HqMaOaApeyWMavLouFgctpsA="/>
          <p:cNvPicPr/>
          <p:nvPr/>
        </p:nvPicPr>
        <p:blipFill>
          <a:blip r:embed="rId1"/>
          <a:stretch/>
        </p:blipFill>
        <p:spPr>
          <a:xfrm>
            <a:off x="5724360" y="2852640"/>
            <a:ext cx="2903760" cy="1911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ANd9GcRgtFbJI1Ujy-RpMFZVPXzfcr_rOV9pSv3WkxepN8uuulTvsHM&amp;t=1&amp;usg=__-s-tod7TMv_n8g0SYX9wEkyXpYM="/>
          <p:cNvPicPr/>
          <p:nvPr/>
        </p:nvPicPr>
        <p:blipFill>
          <a:blip r:embed="rId2"/>
          <a:stretch/>
        </p:blipFill>
        <p:spPr>
          <a:xfrm>
            <a:off x="1403280" y="20606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1235-9394-4ED3-B38A-1002E15E3147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منابع قابل استفاده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BOOK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elds Virology, Fields et 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l Microbiology, Zinsser et 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l Microbiology, Jawetz et 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l Microbiology, Murray et 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l Virology,  Fenner et 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gnostic Procedures for Viral, Rickettsial, and Chlamydial Infections, Edvin H. Lennette, et 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0066-E669-4AB8-9459-096191C0D926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تشخیص آزمایشگاه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تستهای آزمایشگاهی در مورد ویروس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V-1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به چند منظور انجام می پذیرد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برای شناسایی افراد آلوده به ویروس به منظور شروع درمان داروی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برای شناسایی ناقلین بیماری (افراد اهداء کننده خون، بافت، زنان باردار، و شریک جنسی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جهت تایید تشخیص پزشک در خصوص علائم بیماری اید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آزمایشات دوره ای افرادی که به واسطه ی شغلشان در معرض خطر هستند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A2BB-9E0B-4992-AE3B-50632A047DC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روشهای تشخیص آزمایشگاه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سرولوژ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ISA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و آگلوتیناسیون لاتکس (غربالگری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stern blotting and immunofluorescence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(تستهای تاییدی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ردیابی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NA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ویروس به روش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T-PC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ردیابی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NA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ویروس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ندازه گیری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V-1p24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آنتی ژ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نسبت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D4:CD8 T cel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714B-3224-45F7-9F33-5DBA463832AF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D4/CD8 Ratio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(Flowcytometry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6" name="Picture 3" descr="ANd9GcQSrw3sauGEM4gDjXjBK-0JI7JYDZCFVzmyxohWc-TRqVmkpNY&amp;t=1&amp;usg=__GQyYmQ16sY4NmuF1d-zBZGJKzyA="/>
          <p:cNvPicPr/>
          <p:nvPr/>
        </p:nvPicPr>
        <p:blipFill>
          <a:blip r:embed="rId1"/>
          <a:stretch/>
        </p:blipFill>
        <p:spPr>
          <a:xfrm>
            <a:off x="2052720" y="2473200"/>
            <a:ext cx="5256000" cy="39369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4263480" y="642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D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 rot="16200000">
            <a:off x="1395720" y="4241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D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835280" y="17082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Normal ratio for CD4/CD8 is about 1-2</a:t>
            </a: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Normal range for CD4 percentage is %20-%4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6C6-1957-4940-9AC8-1CB1CF375C88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داروهای ضد ویروس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V-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ucleoside Analogue Reverse Transcriptase Inhibito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ZT, ddC, ddI, d4T, 3TC,AB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n-nucleoside Reverse Transcriptase Inhibito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evirapine, Delavirdine, Dfavirenz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otease Inhibito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aquinavir, Ritonavir, Indinavir, Nelfinavir, Amprenavi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ighly Active Antiretroviral Therapy (HAART) (Combination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dinavir/AZT/3TC, Ritonavir/AZT/3TC, Nelfinavir/AZT/3TC, Nevirapine/AZT/ddI, Nevirapine/indinavir/3T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B1F9-6368-48C4-A7E2-E25E0ADE31FE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736640" y="1403280"/>
            <a:ext cx="5715000" cy="49053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ucleoside analog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204280" y="6426360"/>
            <a:ext cx="46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http://images.google.com/images?hl=en&amp;tab=wi&amp;q=nucleoside%20analogs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C759-7999-474D-A88F-AFF3F6E4F285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ucleoside analog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enos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deoxyinosine, Adenosine arabinos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uanos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ibavarin, Penciclovir, Acyclovir, Canciclov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ytid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deoxycytidine, Lamivudine (3TC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ymid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ifluridine, Iododeoxyuridine, Azidothymidine (AZT), Stavudine (d4T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782-D404-40C5-A7D5-4A4142263CB1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51" name="Picture 2" descr="table01_large"/>
          <p:cNvPicPr/>
          <p:nvPr/>
        </p:nvPicPr>
        <p:blipFill>
          <a:blip r:embed="rId1"/>
          <a:stretch/>
        </p:blipFill>
        <p:spPr>
          <a:xfrm>
            <a:off x="1914480" y="871560"/>
            <a:ext cx="5315040" cy="51148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"/>
          <p:cNvSpPr/>
          <p:nvPr/>
        </p:nvSpPr>
        <p:spPr>
          <a:xfrm>
            <a:off x="1596240" y="6308640"/>
            <a:ext cx="596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http://img.medscape.com/slide/migrated/editorial/cmecircle/2004/2960/images/table01_large.gif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3893-BEA7-4F5F-A316-8A0BAA7E4F0E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شیوع عفونت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HIV</a:t>
            </a: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 در افراد </a:t>
            </a: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49</a:t>
            </a: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15</a:t>
            </a: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 ساله بر اساس آمار سازمان جهانی بهداشت در سال </a:t>
            </a: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1387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پاکستان حدود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در هزا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یران حدود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در هزا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کانادا حدود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در هزا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مریکا حدود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در هزا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فریقای جنوبی حدود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18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در هزا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برای اطلاعات بیشتر به سایت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ww.UNAIDS.org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 مراجعه فرمایید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ADC-6ACA-48B6-87DB-5358C79876F9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پیشگیری و کنتر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aeaea"/>
                </a:solidFill>
                <a:latin typeface="Verdana"/>
              </a:rPr>
              <a:t>آموز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آموزش همگانی در مورد نحوه ی انتقال بیمار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توصیه های بهداشتی در خصوص پیشگیری از انتشار عفونت در جامعه (ترویج تک همسری، آموزش بهداشت مقاربت جنسی واستفاده از کاندوم، عدم استفاده از سوزن و سرنگ مشترک، ..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aeaea"/>
                </a:solidFill>
                <a:latin typeface="Verdana"/>
              </a:rPr>
              <a:t>غربالگری خون و فراورده های خون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توجه اکید به غربالگری خون و فراورده های خونی قبل از تزریق خون و پیوند بافت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eaeaea"/>
                </a:solidFill>
                <a:latin typeface="Verdana"/>
              </a:rPr>
              <a:t>کنترل عفونت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استفاده از دستکش، روپوش، و سایر محافظت کننده های فیزیک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استفاده از ضد عفونی کننده ها برای تمیز نمودن سطوح و فضای فیزیکی و وسایل مورد استفاده درهنگام کار (وایتکس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%، الکل اتانول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70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%، گلوتارآلدئید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%، فرمالدئید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%، ئیدروژن پراکساید 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0" lang="fa-IR" sz="2000" spc="-1" strike="noStrike">
                <a:solidFill>
                  <a:srgbClr val="eaeaea"/>
                </a:solidFill>
                <a:latin typeface="Verdana"/>
              </a:rPr>
              <a:t>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پیشگیری و کنترل </a:t>
            </a: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HIV/AIDS</a:t>
            </a: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 در ایرا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مراکز مبارزه با بیماری های رفتار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مبتلایان به </a:t>
            </a:r>
            <a:r>
              <a:rPr b="0" lang="en-CA" sz="2800" spc="-1" strike="noStrike">
                <a:solidFill>
                  <a:srgbClr val="eaeaea"/>
                </a:solidFill>
                <a:latin typeface="Verdana"/>
              </a:rPr>
              <a:t>HIV/A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آموزش به خانواده های مبتلایا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آموزش به معتادان مواد مخدر و مراقبت های لازم از ایشا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آموزش به افراد بی سرپناه و بی خانما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aeaea"/>
                </a:solidFill>
                <a:latin typeface="Verdana"/>
              </a:rPr>
              <a:t>Sex Trade Work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زندانیان و آموزش های لازم به آنا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EC31-434F-453B-916D-FE2C75F1BFBE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7E2A-9094-424A-945D-3EF055EAF6A9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سایر منابع قابل استفاده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JOURNAL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Journal of Virolog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Virology: Research and Treatmen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ternational Journal of Virolog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Journal of Clinical Virolog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Journal of General Virolog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Journal of Human Virolog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Journal of Medical Virolog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Virus Research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WEBSITE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www.virology.net/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www.isv.org.ir/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www.cdc.gov/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www.ncbi.nlm.nih.gov/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0A8A-AFB8-428F-8B8C-9281DFA1F9A2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تحقیق و توسعه در خصوص تولید واکس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تاکنون واکسنهای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unit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ا استفاده از ژنوم مربوط به آنتی ژنهای سطحی ویروس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p120, gp160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تولید شده است، اما به خاطر موتاسیون دائمی ویروس و بوجود آمدن سروتایپ های جدید ویروس، این واکسنها کارایی لازم را نداشته ان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همچنین از اپی توپ های آنتی ژنیک اینولوپ ویروس نیز استفاده شده که نتیجه ی مطلوب در بر نداشته است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متاسفانه علی رغم تلاشهای زیاد و آزمون انواع مختلف واکسن روی داوطلبین انسانی، تاکنون واکسن مورد تاییدی تولید نشده است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51D-AA07-4363-AE9B-14FF23C873C1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cc"/>
                </a:solidFill>
                <a:latin typeface="Arial"/>
              </a:rPr>
              <a:t>روز جهانی مبارزه با ایدز                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orld AIDS Day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هر ساله روز اول ماه دسامبر (دهم آذرماه) به عنوان روز جهانی مبارزه با ایدز در بسیاری از کشورهای دنیا با توجه به وضعیت اپیدمی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V/AIDS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برنامه های آگاهی دهنده و هشدار دهنده برای همه ی گروههای سنی آن جامعه تدارک  دیده می شو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ز یکایک شما عزیزان دعوت می شود که به صورت فعال در طراحی و اجراء اینگونه برنامه ها شرکت نموده و نقش خود را به عنوان قشرتحصیل کرده و مطلع جامعه به نحو احسن ایفا نمایی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68" name="Picture 4" descr="ANd9GcRN20NRoFxdbgAAqtjjEOpXmcdsqtuD4B3chSoU85VKVxBERus&amp;t=1&amp;h=219&amp;w=127&amp;usg=__qvVZzdVEpLsMGWgLapDk828B4L0="/>
          <p:cNvPicPr/>
          <p:nvPr/>
        </p:nvPicPr>
        <p:blipFill>
          <a:blip r:embed="rId1"/>
          <a:stretch/>
        </p:blipFill>
        <p:spPr>
          <a:xfrm>
            <a:off x="395280" y="189000"/>
            <a:ext cx="1209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3FB3-AFB7-4B82-8AD1-85E23073B96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70" name="Picture 2" descr="question%20in%20the%20sky"/>
          <p:cNvPicPr/>
          <p:nvPr/>
        </p:nvPicPr>
        <p:blipFill>
          <a:blip r:embed="rId1"/>
          <a:stretch/>
        </p:blipFill>
        <p:spPr>
          <a:xfrm>
            <a:off x="28440" y="32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2751120" y="243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7240" y="19605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100" spc="-1" strike="noStrike">
                <a:solidFill>
                  <a:srgbClr val="ffffcc"/>
                </a:solidFill>
                <a:latin typeface="Arial"/>
              </a:rPr>
              <a:t>سوال؟</a:t>
            </a:r>
            <a:br>
              <a:rPr sz="5100"/>
            </a:br>
            <a:br>
              <a:rPr sz="5100"/>
            </a:br>
            <a:r>
              <a:rPr b="0" lang="fa-IR" sz="5100" spc="-1" strike="noStrike">
                <a:solidFill>
                  <a:srgbClr val="ffffcc"/>
                </a:solidFill>
                <a:latin typeface="Arial"/>
              </a:rPr>
              <a:t>و یا موضوعی برای بحث؟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D3A3-B196-4080-B0FE-9621BC5070B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74" name="Picture 2" descr="Flowers"/>
          <p:cNvPicPr/>
          <p:nvPr/>
        </p:nvPicPr>
        <p:blipFill>
          <a:blip r:embed="rId1"/>
          <a:stretch/>
        </p:blipFill>
        <p:spPr>
          <a:xfrm>
            <a:off x="324000" y="1409760"/>
            <a:ext cx="8496000" cy="52592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شاد و پیروز باشید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700" spc="-1" strike="noStrike">
                <a:solidFill>
                  <a:srgbClr val="ffffcc"/>
                </a:solidFill>
                <a:latin typeface="Arial"/>
              </a:rPr>
              <a:t>رترو ویروسها 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Retroviruses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3241-0313-440D-B517-DB47C84CA28E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825E-1937-497B-9510-628FA3BC7C18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در سال 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1970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التیمور و همکارانش ویروسهایی را شناسایی نمودند که دارای آنزیم پلیمرازی بودند که بر خلاف آنزیم های شناخته شده ی قبلی، توانایی رونویسی از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NA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برای تولید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NA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را داشتند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verse Transcriptas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NA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ی تولید شده از روی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NA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ی ویروس، با استفاده از آنزیم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tegrase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ویروس، به داخل ژنوم سلول میزبان وارد شده و همچون ژنوم سلول میزبان از همه ی امکانات سلول برای تولید انبوه ویروس استفاده می نمای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کشف این آنزیم و بیان مکانیسم عمل آن به برنده شدن جایزه نوبل برای کاشفان آن انجامید و فرضیه ی به ظاهر قطعی قبلی که رونویسی همیشه از روی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NA</a:t>
            </a: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 انجام می پذیرد نیز رد شد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860A-AD39-4368-B53E-589553DF79A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ولین ویروس کشف شده از این خانواده، ویروس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us sarcoma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بود و ویژگی اصلی آن، یعنی توانایی ایجاد تومور در جوجه ها بسیار حائز اهمیت می باش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bert Gallo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و همکارانش در سال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1981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ویروس لوکمیای انسان را شناسایی و معرفی نمودند و از آنجا که این ویروسها گرایش خاصی به لنفوسیتهای با منشاء تیموس انسان داشتند، بنابراین آنها را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uman T-Lymphotropic Virus (HTLV-1)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نامیدن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CD4A-F464-4A85-9390-0890CDD34F32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واخر دهه ی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70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و اوایل دهه ی 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80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میلادی دربین چهار گروه از افراد جامعه ی آمریکا، بیماری نقص سیستم ایمنی که باعث مرگ بیماران می شد گزارش گردید، این افراد از بین گروههای زیر بودند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H clu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مردان جوان هم جنس باز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mosexua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مردانی از کشور هائیتی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itian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معتادان به هروئین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roin addic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aeaea"/>
                </a:solidFill>
                <a:latin typeface="Verdana"/>
              </a:rPr>
              <a:t>و بیماران مبتلا به هموفیلی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mophiliac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A9E-23AD-4A38-9D9C-D420AC64E92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quired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I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muno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d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ficiency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yndrom (</a:t>
            </a: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AID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علائم بیماری در این افراد به نامگذاری یک بیماری جدید بنام ”سندروم نقص ایمنی اکتسابی (ایدز)“ منجر ش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امروزه کاملا مشخص شده است که ایدز تنها مختص افراد فوق الذکر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H clu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fa-IR" sz="3200" spc="-1" strike="noStrike">
                <a:solidFill>
                  <a:srgbClr val="eaeaea"/>
                </a:solidFill>
                <a:latin typeface="Verdana"/>
              </a:rPr>
              <a:t> نیست و در همه افراد جامعه که به نوعی با ویروس مواجه شوند، امکان ایجاد بیماری وجود دار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57:08Z</dcterms:created>
  <dc:creator>s</dc:creator>
  <dc:description/>
  <dc:language>en-US</dc:language>
  <cp:lastModifiedBy>Ali Rahimi</cp:lastModifiedBy>
  <dcterms:modified xsi:type="dcterms:W3CDTF">2015-04-21T08:58:13Z</dcterms:modified>
  <cp:revision>76</cp:revision>
  <dc:subject/>
  <dc:title>ویروس شناسی پزشکی</dc:title>
</cp:coreProperties>
</file>