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C16C-4D96-4521-8E56-17CED93C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1DDF-9070-4442-B01A-600DE75C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6E62-599F-4038-96B4-2EB68FA9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FA3-22F3-4A04-8123-EA76FB9A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EC6-AE26-4A38-A2E9-4CA14742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9F7-CCE9-451C-A700-6D33AA36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6B8-B511-4442-8E68-3EC8BAD5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D14-2EC8-4E57-ACEF-A77D8AFE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8A2A-9D9A-46C7-9559-BFAE0C1E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BC8-7599-4FA9-BC58-2F4F36E8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3D5-2CA5-4B47-8E57-C39D2693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928-06DE-4D72-8414-DBA03E06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618C-2580-4E76-AB33-F332A59397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22AE-1F7A-42D9-BE90-C77F453B30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homyxovirid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flu3c"/>
          <p:cNvPicPr/>
          <p:nvPr/>
        </p:nvPicPr>
        <p:blipFill>
          <a:blip r:embed="rId1"/>
          <a:stretch/>
        </p:blipFill>
        <p:spPr>
          <a:xfrm>
            <a:off x="324000" y="189000"/>
            <a:ext cx="2409840" cy="211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flucolo3"/>
          <p:cNvPicPr/>
          <p:nvPr/>
        </p:nvPicPr>
        <p:blipFill>
          <a:blip r:embed="rId2"/>
          <a:stretch/>
        </p:blipFill>
        <p:spPr>
          <a:xfrm>
            <a:off x="6443640" y="4437000"/>
            <a:ext cx="24098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1935-6442-4C35-8920-CBCBCF6F80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انتشار ویروس در هوا باعث آلودگی افرادی می شود که از هوای آلوده به ویروس تنفس می نمای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ذرات تنفسی بیماران ممکن است روی اشیاء و سطوح مختلف جایگزین شو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انتقال ویروس از طریق تماس دست انسان با اشیاء و سطوح آلوده و سپس تماس آن با چشم ، دهان و بینی نیز صورت می گیر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910F-8C51-49ED-8674-848827A55B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99"/>
                </a:solidFill>
                <a:latin typeface="Arial"/>
              </a:rPr>
              <a:t>علائم بی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ین بیماری ممکن است با برخی و یا همه علائم زیر همراه باش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سرف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گلو  د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گرفتگی و یا آبریزش بین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رد عضلات بد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سرد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لر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خستگی مفر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و در برخی مواقع حتی اسهال و استفراغ هم گزارش شده 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49C8-7B10-4117-90FF-97E785937A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99"/>
                </a:solidFill>
                <a:latin typeface="Arial"/>
              </a:rPr>
              <a:t>اهمیّت بی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آنفلوآنزا می تواند به اشکال گوناگون از جمله سرما- خوردگی معمولی تا  بیماریهای سخت تنفسی (پنومونی باکتریال) و حتی آنسفالیت بروز نمای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این ویروس در برخی موارد حتی باعث مرگ فرد آلوده نیز می شو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B294-4F36-4280-97A3-30A0D3D89A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99"/>
                </a:solidFill>
                <a:latin typeface="Arial"/>
              </a:rPr>
              <a:t>چه کسانی بیشتر در معرض خطر قرار دارند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اگرچه اغلب افرادی که به این ویروس مبتلا می شوند بدون نیاز به دارو و درمان پس از چند روز بهبود می یابند، اما باید توجه داشت که </a:t>
            </a:r>
            <a:r>
              <a:rPr b="1" lang="fa-IR" sz="3200" spc="-1" strike="noStrike">
                <a:solidFill>
                  <a:srgbClr val="cc0000"/>
                </a:solidFill>
                <a:latin typeface="Arial"/>
              </a:rPr>
              <a:t>افراد زیر، بیشتر در معرض خطر    می باشن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فراد با سنین بالا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س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کودکان کمتر از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س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زنان بار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فرادی که دچار بیماری های مزمن و یا شرایط خاص بیماری قرار دارند (آسم، دیابت، نقص ایمنی، بیماری قلبی، بیماری کلیوی، و بارداری)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3451-8011-4B5C-B983-819C1B1CF3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99"/>
                </a:solidFill>
                <a:latin typeface="Arial"/>
              </a:rPr>
              <a:t>تا چه مدت فرد آلوده می تواند باعث بیماری اطرافیان شود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افراد آلوده به ویروس آنفلوآنزا معمولا از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روز قبل از بروز علایم بیماری تا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روز بعد از شروع بیماری می توانند ویروس را به اطرافیان خود انتقال ده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اید توجه داشت که این دوره در برخی از بیماران ممکن است طولانی تر باش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C675-DC51-4468-BE8D-6F90D8531D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99"/>
                </a:solidFill>
                <a:latin typeface="Arial"/>
              </a:rPr>
              <a:t>چگونه می توان ازانتشاراین بیماری پیشگیری نمود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اگر چه موثرترین راه پیشگیری از این بیماری، استفاده از واکسن اختصاصی آن است، اما رعایت جدی نکات بهداشتی در حفظ سلامت خود و اطرافیانتان بسیار مهم و ضروری اس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flu"/>
          <p:cNvPicPr/>
          <p:nvPr/>
        </p:nvPicPr>
        <p:blipFill>
          <a:blip r:embed="rId1"/>
          <a:stretch/>
        </p:blipFill>
        <p:spPr>
          <a:xfrm>
            <a:off x="3081240" y="3789360"/>
            <a:ext cx="27147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AD9E-F2EB-411D-A6BB-C4FBBCC767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99"/>
                </a:solidFill>
                <a:latin typeface="Arial"/>
              </a:rPr>
              <a:t>هنگام عطسه و سرفه، بینی و دهان خود را با دستمال کاغذی تمیز بپوشانید و بلا فاصله دستمال آلوده را در سطل زباله بیاندازی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a96741_sneezing-tissue"/>
          <p:cNvPicPr/>
          <p:nvPr/>
        </p:nvPicPr>
        <p:blipFill>
          <a:blip r:embed="rId1"/>
          <a:stretch/>
        </p:blipFill>
        <p:spPr>
          <a:xfrm>
            <a:off x="755640" y="198900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pd_sneezing_070425_ms"/>
          <p:cNvPicPr/>
          <p:nvPr/>
        </p:nvPicPr>
        <p:blipFill>
          <a:blip r:embed="rId2"/>
          <a:stretch/>
        </p:blipFill>
        <p:spPr>
          <a:xfrm>
            <a:off x="4716360" y="256536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59B1-4BC2-44C6-AD6B-5C8A10543C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DOHMSCoveryourcoughenglish"/>
          <p:cNvPicPr/>
          <p:nvPr/>
        </p:nvPicPr>
        <p:blipFill>
          <a:blip r:embed="rId1"/>
          <a:stretch/>
        </p:blipFill>
        <p:spPr>
          <a:xfrm>
            <a:off x="1587600" y="1414440"/>
            <a:ext cx="3666960" cy="50389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4572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99"/>
                </a:solidFill>
                <a:latin typeface="Arial"/>
              </a:rPr>
              <a:t>در صورت نبودن دستمال،</a:t>
            </a:r>
            <a:br>
              <a:rPr sz="3200"/>
            </a:br>
            <a:r>
              <a:rPr b="0" lang="fa-IR" sz="3200" spc="-1" strike="noStrike">
                <a:solidFill>
                  <a:srgbClr val="000099"/>
                </a:solidFill>
                <a:latin typeface="Arial"/>
              </a:rPr>
              <a:t> هنگام عطسه، دهان خود را با آستین لباستان بپوشانی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405080" y="1413000"/>
            <a:ext cx="4032000" cy="4824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istockphoto_10275319-small-boy-sneezing-into-his-arm-in-the-proper-manner"/>
          <p:cNvPicPr/>
          <p:nvPr/>
        </p:nvPicPr>
        <p:blipFill>
          <a:blip r:embed="rId2"/>
          <a:stretch/>
        </p:blipFill>
        <p:spPr>
          <a:xfrm>
            <a:off x="5772240" y="2401920"/>
            <a:ext cx="2400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C53C-1905-4FFC-933D-3C7CA1E863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99"/>
                </a:solidFill>
                <a:latin typeface="Arial"/>
              </a:rPr>
              <a:t>به طور مرتب دستهای خود را با آب و صابون بشویید.</a:t>
            </a:r>
            <a:br>
              <a:rPr sz="3200"/>
            </a:b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در صورت در دسترس نبودن آب و صابون می توانید دستهای خود را با استفاده از ضد عفونی کننده های مخصوص دست، ضد عفونی نمایید.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swine%20flu1"/>
          <p:cNvPicPr/>
          <p:nvPr/>
        </p:nvPicPr>
        <p:blipFill>
          <a:blip r:embed="rId1"/>
          <a:stretch/>
        </p:blipFill>
        <p:spPr>
          <a:xfrm>
            <a:off x="539640" y="2254320"/>
            <a:ext cx="4695840" cy="3190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2+hand_sanitizer"/>
          <p:cNvPicPr/>
          <p:nvPr/>
        </p:nvPicPr>
        <p:blipFill>
          <a:blip r:embed="rId2"/>
          <a:stretch/>
        </p:blipFill>
        <p:spPr>
          <a:xfrm>
            <a:off x="5425920" y="1924200"/>
            <a:ext cx="2962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1D13-3137-4FC8-8572-A2A79B4028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تشخیص بی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یزولاسیون و شناسایی ویروس عامل عفون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نمونه گیری از ترشحات بینی و گلو ظرف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روز اول بروز علائم بیمار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حمل و نگهداری نمونه در دمای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درجه تا هنگام انجام آزمایش (اگر بیش از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روز نگهداری می شود، نمونه باید در دمای منفی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درجه نگهداری شو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سلول مناسب برای کشت ویروس تخم مرغ جنین دار و یا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Monkey Kid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استفاده از روشها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madsorption &amp; Hemagglutination or Hemagglutination Inhib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استفاده از روشهای مولکولی نوین همچون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RT-P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روشهای سرولوژی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SA &amp; HI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بر روی دو نمونه سرمی دوره حاد و نقاهت بیماری برای نشان دادن افزایش معنی دار (حداقل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برابر) آنتی بادی در خون بیم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E0A5-C1EB-4C33-A405-048525C710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اهمیت این گروه از ویروس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قریبا بیش از نیمی از عفونتهای حاد جوامع انسانی مربوط به عفونتهای تنفسی می باش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ارتومیکسو ویروسها به خاط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tality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bidity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بالا از اهمیت زیادی برخوردار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اکنون عفونت آنفلوآنزایی باعث مرگ میلیون ها انسان در سراسر کره خاکی شده اس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وتاسیون (تغییرات ژنتیکی) زیاد و نیز نوترکیبی ژنوم ویروس های آنفلوآنزا، کار مقابله با این گروه از ویروسها را بسیار دشوار نموده اس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8AF0-168B-4EC5-9474-027288E77C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99"/>
                </a:solidFill>
                <a:latin typeface="Arial"/>
              </a:rPr>
              <a:t>درمان این بیماری چگونه است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ر بیشتر موارد بیماری بدون هیچ نیازی به دارو خود به خود بر طرف می شود و فرد بهبود می یاب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فقط در مواقعی که شدت بیماری به حدی باشد که بستری شدن فرد در بیمارستان ضروری باشد، در آنصورت است که ممکن است پزشک معالج مصرف دارو را تجویز نما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گاهی هم به عنوان پیشگیری از بیماری و فقط با تشخیص پزشک می توان از داروهای ضد ویروسی استفاده نم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ر حال حاض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eltamivir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miflu) &amp; zanamivir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nza)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داروهای تایید شده برای درمان انواع ویروسهای آنفلوآنزا در دسترس       می باش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D26F-439D-42FF-8DEC-04412C7D4E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question%20in%20the%20sky"/>
          <p:cNvPicPr/>
          <p:nvPr/>
        </p:nvPicPr>
        <p:blipFill>
          <a:blip r:embed="rId1"/>
          <a:stretch/>
        </p:blipFill>
        <p:spPr>
          <a:xfrm>
            <a:off x="28440" y="324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2751120" y="2435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7240" y="19605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100" spc="-1" strike="noStrike">
                <a:solidFill>
                  <a:srgbClr val="000000"/>
                </a:solidFill>
                <a:latin typeface="Arial"/>
              </a:rPr>
              <a:t>سوال؟</a:t>
            </a:r>
            <a:br>
              <a:rPr sz="5100"/>
            </a:br>
            <a:br>
              <a:rPr sz="5100"/>
            </a:br>
            <a:r>
              <a:rPr b="0" lang="fa-IR" sz="5100" spc="-1" strike="noStrike">
                <a:solidFill>
                  <a:srgbClr val="000000"/>
                </a:solidFill>
                <a:latin typeface="Arial"/>
              </a:rPr>
              <a:t>و یا موضوعی برای بحث؟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45FB-55C6-441C-B017-AE73E1FA89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سروتایپ های این گروه ویروس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ه گونه ی اصلی ایمونولوژیک در این خانواده شناسایی شده اس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آنفلوآنزا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این گروه از ویروسها بیشترین میزان تغییرات ژنتیکی را بروز می دهن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این گروه از ویروسها در حیواناتی چون پرندگان، ماکیان، خوک، و اسب نیز ایجاد بیماری می نمای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آنفلوآنزا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آنفلوآنزا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به میزان کمتری تغییرات ژنتیکی دار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آنفلوآنزا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آنفلوآنزا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پایداری و ثبات ژنتیکی زیادی دار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باعث بروز بیماری خفیف در افرادی که وضعیت ایمنی خوبی ندارند می گرد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7F43-7FED-4E5B-85FF-7803BBAABC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99"/>
                </a:solidFill>
                <a:latin typeface="Arial"/>
              </a:rPr>
              <a:t>آنفلوآنزای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2009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H1N1</a:t>
            </a:r>
            <a:r>
              <a:rPr b="0" lang="fa-IR" sz="4400" spc="-1" strike="noStrike">
                <a:solidFill>
                  <a:srgbClr val="000099"/>
                </a:solidFill>
                <a:latin typeface="Arial"/>
              </a:rPr>
              <a:t> چیست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خرداد ماه سال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38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رابر با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2009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سازمان جهانی بهداش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همه گیری آنفلوآنزای جدیدی را در بسیاری از کشورهای دنیا تحت عنوا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1N1 Flu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رسما اعلام نم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ز آنجا که در ابتدای این پاندمی شباهتهایی بین این ویروس با ویروس آنفلوآنزای رایج در خوک ها مشاهده شد، آن را آنفلوآنزای خوکی نامید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پس از بررسی های بیشتر معلوم شد که ساختار ژنتیکی این ویروس با ویروس آنفلوآنزای انسان، پرندگان، و خوک شباهتهایی دارد که ساختار جدیدی از ویروس آنفلوآنزا را بوجود آورده است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1N1 Influenza virus image"/>
          <p:cNvPicPr/>
          <p:nvPr/>
        </p:nvPicPr>
        <p:blipFill>
          <a:blip r:embed="rId1"/>
          <a:stretch/>
        </p:blipFill>
        <p:spPr>
          <a:xfrm>
            <a:off x="7835760" y="15840"/>
            <a:ext cx="128772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C22F-3A40-4B43-8C33-7030E26E42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ویژگیهای مهم آنفلوآنزای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شکل ویری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کروی، چند شکلی، 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نانومت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ترکیب ویرو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A (1%), protein (73%), lipid (20%), carbohydrate (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ژنوم ویرو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هشت قطعه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تک رشته ای، پلاریته ی منفی، 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36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نوکلئوتی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پروتئین های ویرو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پروتئین ساختمانی، 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پروتئین غیر ساختمان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اینولوپ ویرو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شامل همآگلوتینی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1-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و نورآمینیدا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1-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تکثیر ویرو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رونویسی ژنوم ویروس در هسته میزبان،  خروج ویروس از سلول میزبان به روش جوانه زد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ویژگی خاص ویرو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نوترتیب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sort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متداول مابین ویروسهای مختلف این گرو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ایجاد اپیدمی و پاندم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0549-8CC7-43A9-BEFB-AA3B5DA14B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swineflux"/>
          <p:cNvPicPr/>
          <p:nvPr/>
        </p:nvPicPr>
        <p:blipFill>
          <a:blip r:embed="rId1"/>
          <a:stretch/>
        </p:blipFill>
        <p:spPr>
          <a:xfrm>
            <a:off x="2117880" y="1604880"/>
            <a:ext cx="5190840" cy="4129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717160" y="6424560"/>
            <a:ext cx="323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ma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neflux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99"/>
                </a:solidFill>
                <a:latin typeface="Arial"/>
              </a:rPr>
              <a:t>ساختار ویروس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2009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H1N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H1N1 Influenza virus image"/>
          <p:cNvPicPr/>
          <p:nvPr/>
        </p:nvPicPr>
        <p:blipFill>
          <a:blip r:embed="rId2"/>
          <a:stretch/>
        </p:blipFill>
        <p:spPr>
          <a:xfrm>
            <a:off x="7835760" y="15840"/>
            <a:ext cx="128772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D15E-6980-4ABA-BF01-EC6B70CB0E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تکثیر ویروس آنفلوآنز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تصال به رسپتور اختصاصی (اسید سیالی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ستفاده از شرایط اسیدی محیط و پروتئازهای سلولی (پلاسمین) برای فعال ساز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و نفود به داخل سل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or mediated endocyt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o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رسا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ه داخل هسته ی سل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ونویسی ژنوم در داخل هسته با استفاده ا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 polymerase II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سلول میزب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کثیر ژنوم داخل هس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ونتاژ و خروج ویروس از سلول به روش جوانه ز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359A-DF57-469C-AD58-0256331A8D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در حال حاضر این ویروس در بسیاری از کشورهای دنیا در بین انسان ها منتشر شده و ایجاد بیماری نموده اس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انتشار این ویروس مانند سایر ویروسهای آنفلوآنزا از انسان به انسان صورت می گیرد و مهمترین راه انتقال آن از راه عطسه و سرفه ی بیماران می باش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0FD9-1142-4CFA-8847-F3AC2981E7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sneeze"/>
          <p:cNvPicPr/>
          <p:nvPr/>
        </p:nvPicPr>
        <p:blipFill>
          <a:blip r:embed="rId1"/>
          <a:stretch/>
        </p:blipFill>
        <p:spPr>
          <a:xfrm>
            <a:off x="1116000" y="2305080"/>
            <a:ext cx="3371760" cy="3429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-54000" y="476280"/>
            <a:ext cx="874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99"/>
                </a:solidFill>
                <a:latin typeface="Arial"/>
              </a:rPr>
              <a:t>عطسه و سرف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99"/>
                </a:solidFill>
                <a:latin typeface="Arial"/>
              </a:rPr>
              <a:t>(اصلی ترین منبع آلودگی ویروس های تنفسی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SPL_5_M130797-Man_sneezing"/>
          <p:cNvPicPr/>
          <p:nvPr/>
        </p:nvPicPr>
        <p:blipFill>
          <a:blip r:embed="rId2"/>
          <a:stretch/>
        </p:blipFill>
        <p:spPr>
          <a:xfrm>
            <a:off x="4716360" y="2492280"/>
            <a:ext cx="3897360" cy="3048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6:10:57Z</dcterms:created>
  <dc:creator>s</dc:creator>
  <dc:description/>
  <dc:language>en-US</dc:language>
  <cp:lastModifiedBy>Ali Rahimi</cp:lastModifiedBy>
  <dcterms:modified xsi:type="dcterms:W3CDTF">2015-05-26T08:04:47Z</dcterms:modified>
  <cp:revision>69</cp:revision>
  <dc:subject/>
  <dc:title>Flu</dc:title>
</cp:coreProperties>
</file>