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32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DE7-3F50-4890-AE65-E05F882D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330-2540-4E1E-8748-5AB3F990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436-2EC9-4100-A4F0-65BC28F5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B35-1359-46D9-9818-69362508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F8AE-B18A-42B9-81DC-81DCA29C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895D-4232-4A18-AD68-39F9A0CA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1702-7182-424C-A4E7-71CE3B42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F257-2000-439A-8DED-90D50F60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CB00-4BDD-4101-8230-A18AEE17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D20C-B048-4355-A94A-E02C506E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D122-33EF-4869-82CA-87BF92FE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2E1-0FCB-4833-BE33-4C8D7804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3EBA-4B81-49A5-B388-5DC06F19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E036-AC2B-4E57-B1F0-ED04B374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7CA2-3894-46FD-A85B-7F8786FC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3451-7631-4BE1-A370-BD0375A0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FAB9-7F69-4E59-95A0-5D06568E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99B2E-5979-4798-83F2-5464CB59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1FAE8-1B2D-41E4-B778-003899AD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83E89-5A09-44EF-AAB3-B8F89B96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72C50-AD2E-4186-B73A-D1CCE842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83F51-5F10-4BC3-BE22-0BAF56B7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A3DB-3BE6-4105-BF79-53A7FF26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2F481-7475-410D-9858-5E0E566B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86BC9-741F-46C5-B264-0236AD88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26C2-2813-4084-83CF-472C0693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CA549-7D71-4D7F-AA5E-44BC2C0E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3763B-4FBA-4356-8F8C-E32784A0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94B5-AC5A-4014-90C1-DA11B137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1258-2F08-4C7F-AC46-9B8B7D3B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29C-D97D-4335-ACDE-05818458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E4D-8449-4F11-BCE6-0D713459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667-82FE-41DC-8F40-39477FA6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894-E62F-4DFB-A716-43C1AD23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B03-51B9-4A0D-9D57-C35F95D0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9FDE-F213-4888-87AC-D7F1C5F9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2F71-CC9E-43A4-B2BA-E2F7AC872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55B5-9170-4D32-AC4C-79C6AB5F17B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A359-B890-4287-9A35-6B45AF61D28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hyperlink" Target="http://shervin8060.persiangig.com/DARHAM.htm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Arial"/>
              </a:rPr>
              <a:t>TORCH Synd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rpes simplex virus inf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opharyngeal disease (HSV I,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ngivostomat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atoconjunctivites (HSV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ital herpes (HSV II,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n infection (HSV I,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tic herpes (herpetic whit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ephalitis (HSV I,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onatal herpes (HSV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in immunocopromised hosts (HSV I,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Ali Rahimi\Desktop\New folder\Contract page 2.jpeg"/>
          <p:cNvPicPr/>
          <p:nvPr/>
        </p:nvPicPr>
        <p:blipFill>
          <a:blip r:embed="rId1"/>
          <a:stretch/>
        </p:blipFill>
        <p:spPr>
          <a:xfrm>
            <a:off x="2297160" y="968400"/>
            <a:ext cx="4506840" cy="59896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1908000" y="6673680"/>
            <a:ext cx="5359680" cy="284400"/>
          </a:xfrm>
          <a:prstGeom prst="rect">
            <a:avLst/>
          </a:prstGeom>
          <a:solidFill>
            <a:srgbClr val="2d2d8a"/>
          </a:solidFill>
          <a:ln w="93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517680" y="189000"/>
            <a:ext cx="81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Arial"/>
              </a:rPr>
              <a:t>Disease syndromes of herpes simplex virus (HS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coldsore"/>
          <p:cNvPicPr/>
          <p:nvPr/>
        </p:nvPicPr>
        <p:blipFill>
          <a:blip r:embed="rId1"/>
          <a:stretch/>
        </p:blipFill>
        <p:spPr>
          <a:xfrm>
            <a:off x="1547640" y="1125360"/>
            <a:ext cx="2743200" cy="1905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230px-Herpeticwhitolow"/>
          <p:cNvPicPr/>
          <p:nvPr/>
        </p:nvPicPr>
        <p:blipFill>
          <a:blip r:embed="rId2"/>
          <a:stretch/>
        </p:blipFill>
        <p:spPr>
          <a:xfrm>
            <a:off x="1908000" y="3213000"/>
            <a:ext cx="2190960" cy="2505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afp20091015p875-uf1"/>
          <p:cNvPicPr/>
          <p:nvPr/>
        </p:nvPicPr>
        <p:blipFill>
          <a:blip r:embed="rId3"/>
          <a:stretch/>
        </p:blipFill>
        <p:spPr>
          <a:xfrm>
            <a:off x="4356000" y="3933720"/>
            <a:ext cx="3333960" cy="1724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epidemic-keratoconjunctivit"/>
          <p:cNvPicPr/>
          <p:nvPr/>
        </p:nvPicPr>
        <p:blipFill>
          <a:blip r:embed="rId4"/>
          <a:stretch/>
        </p:blipFill>
        <p:spPr>
          <a:xfrm>
            <a:off x="4932360" y="1700280"/>
            <a:ext cx="2143080" cy="16192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1"/>
          <p:cNvSpPr/>
          <p:nvPr/>
        </p:nvSpPr>
        <p:spPr>
          <a:xfrm>
            <a:off x="4879080" y="131760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ratoconjunctiv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2179440" y="7444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d s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2564640" y="57182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5006520" y="56386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ngivostomat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4870440" y="3103560"/>
            <a:ext cx="2397240" cy="216000"/>
          </a:xfrm>
          <a:prstGeom prst="rect">
            <a:avLst/>
          </a:prstGeom>
          <a:solidFill>
            <a:srgbClr val="002060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C:\Users\Ali Rahimi\Desktop\New folder\Contract page 2.jpeg"/>
          <p:cNvPicPr/>
          <p:nvPr/>
        </p:nvPicPr>
        <p:blipFill>
          <a:blip r:embed="rId1"/>
          <a:stretch/>
        </p:blipFill>
        <p:spPr>
          <a:xfrm>
            <a:off x="92160" y="1916280"/>
            <a:ext cx="4554360" cy="3082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Users\Ali Rahimi\Desktop\New folder\Contract page 2.jpeg"/>
          <p:cNvPicPr/>
          <p:nvPr/>
        </p:nvPicPr>
        <p:blipFill>
          <a:blip r:embed="rId2"/>
          <a:stretch/>
        </p:blipFill>
        <p:spPr>
          <a:xfrm>
            <a:off x="4716360" y="1916280"/>
            <a:ext cx="4286520" cy="3082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00"/>
                </a:solidFill>
                <a:latin typeface="Arial"/>
              </a:rPr>
              <a:t>Primary herpes gingivostomat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Arial"/>
              </a:rPr>
              <a:t>Path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Disease initiated by direct contact and depends on infected tissue (e.g., oral, genital, b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Virus causes direct cytopathologic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Virus avoids antibody by cell-to-cell spread and syncy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Virus establishes latency in neurons (hides from immune respon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Virus is reactivated from latency by stress or immune su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ell-mediated immunity is required for resolution, with limited role for anti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00"/>
                </a:solidFill>
                <a:latin typeface="Arial"/>
              </a:rPr>
              <a:t>Laboratory Diagnosis of HSV inf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16120" y="1628640"/>
          <a:ext cx="7511760" cy="4753080"/>
        </p:xfrm>
        <a:graphic>
          <a:graphicData uri="http://schemas.openxmlformats.org/drawingml/2006/table">
            <a:tbl>
              <a:tblPr/>
              <a:tblGrid>
                <a:gridCol w="3755880"/>
                <a:gridCol w="3755880"/>
              </a:tblGrid>
              <a:tr h="453600"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 &amp; 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microscopic examination of cells form base of le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zanck smear 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nucleated giant cells 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wdry type A inclusion bo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E identification in most cell cul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ay of tissue biopsy, smaer, CSF, vesicular fluid for HSV antigen or gen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A, IF, in situ DNA probe analysis, and P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V type identification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V I vs. HSV II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-specific antibody, DNA maps of restriction enzyme fragments, SDS-page gel protein pattern, DNA probe analysis, and PCR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ology is not useful except for epidemi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ricello virus inf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cella (chickenp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ild, highly contagious disease, chiefly of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ute of infection is the mucosa of the upper respiratory tract or the conjun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ster (shing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n acute inflammation of the sensory verves and gang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2318"/>
          <p:cNvPicPr/>
          <p:nvPr/>
        </p:nvPicPr>
        <p:blipFill>
          <a:blip r:embed="rId1"/>
          <a:stretch/>
        </p:blipFill>
        <p:spPr>
          <a:xfrm>
            <a:off x="1042920" y="1052640"/>
            <a:ext cx="2914560" cy="2152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19687"/>
          <p:cNvPicPr/>
          <p:nvPr/>
        </p:nvPicPr>
        <p:blipFill>
          <a:blip r:embed="rId2"/>
          <a:stretch/>
        </p:blipFill>
        <p:spPr>
          <a:xfrm>
            <a:off x="4643280" y="692280"/>
            <a:ext cx="3810240" cy="3047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ANd9GcR9cQdWAZcLShQ7JuiosGl8680RHZXecP0bR5Tw-Ko4fZGu5OSP"/>
          <p:cNvPicPr/>
          <p:nvPr/>
        </p:nvPicPr>
        <p:blipFill>
          <a:blip r:embed="rId3"/>
          <a:stretch/>
        </p:blipFill>
        <p:spPr>
          <a:xfrm>
            <a:off x="5435640" y="4149720"/>
            <a:ext cx="2628720" cy="1733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ANd9GcQvE40HwxhTEchLURYFk3ijiBz6vMtw8GjYxk_q4G9Jf_8miPASQ_d7RDkX"/>
          <p:cNvPicPr/>
          <p:nvPr/>
        </p:nvPicPr>
        <p:blipFill>
          <a:blip r:embed="rId4"/>
          <a:stretch/>
        </p:blipFill>
        <p:spPr>
          <a:xfrm>
            <a:off x="1547640" y="3716280"/>
            <a:ext cx="1771920" cy="25812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2"/>
          <p:cNvSpPr/>
          <p:nvPr/>
        </p:nvSpPr>
        <p:spPr>
          <a:xfrm>
            <a:off x="1838520" y="6858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ckenp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014880" y="314280"/>
            <a:ext cx="105408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6159600" y="588636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1838160" y="63025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ory and motor gangl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ill"/>
          <p:cNvPicPr/>
          <p:nvPr/>
        </p:nvPicPr>
        <p:blipFill>
          <a:blip r:embed="rId1"/>
          <a:stretch/>
        </p:blipFill>
        <p:spPr>
          <a:xfrm>
            <a:off x="2195640" y="1989000"/>
            <a:ext cx="469260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Cytomegalovirus (CM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V is a common human pathogen, infecting 0.5% to 2.5% of all newborns and approximately 40% of women visiting clinics for sexually transmitted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most common viral cause of congenital de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V is particularly important as an opportunistic pathogen in immunocompromis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RCH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mptoms of the TORCH syndrome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size in proportion to length of the mother's pregnancy at time of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larged liver and spl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level of platelets in the bl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n r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olvement of the central nervous system. These defects can include encephal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u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000"/>
                </a:solidFill>
                <a:latin typeface="Arial"/>
              </a:rPr>
              <a:t>Structure and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MV has the largest genome (DNA) of the human herpes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uman CMV replicates only in human cells. Fibroblasts, epithelial cells, macrophages, and other cells are permissive for CMV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MV establishes latent infection in mononuclear lymphocytes, the stromal cells of the bone marrow, and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6EB9-8634-4387-AA4B-DA1370262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Mode of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ssion requires close person-to-person conta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us may be shed in urine, saliva, semen, breast milk, and cervical secretions and is carried in circulating white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can also spread transplacentally, by blood transfusion, by organ transplantation, and by sexual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000"/>
                </a:solidFill>
                <a:latin typeface="Arial"/>
              </a:rPr>
              <a:t>Path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MV is acquired from blood, tissue, and most body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MV causes productive infection of epithelial and other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MV establishes latency in T cells, macrophages, and other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ell-mediated immunity is required for resolution and contributes to symptoms, role of antibody is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MV generally causes subclinical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E50E-D5B1-4A61-B2BB-CDBBCDD3F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MV infection alters the function of lymphocytes and other leukoc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virus prevents the expression of MHC-I molecules on the cell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viral protein blocks natural-killer-cell attack of CMV-infecte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MV also encodes an IL-10 analogue that would inhibit TH1 protective immune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0EE6-FF09-4D09-AC74-A1285ECBA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Laboratory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topat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istologic hallmark of CMV infection is the cytomegalic cell, which is an enlarged cell (25 to 35 mm in diameter) that contains a dense, central, basophilic intranuclear inclusio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274840" y="3573360"/>
            <a:ext cx="464364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Laboratory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ion and identification of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culture (human fibrobla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merase chain reaction (PC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ntional and Real-Time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 antibody titers (IgM, Ig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Biotechnology hel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 immediate earl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r-enhancer of CM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one of the strongest known enhancers, due to the concentration of binding sites for cellular transcripti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used experimentally to support high-level expression of target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584360" cy="1450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7272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ausative agent of acut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fectious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ononucleo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also associated with nasopharyngeal carcinoma, Burkitt’s lymphoma, Hodgkin’s disease, and other lymphoproliferative disorders in immunodeficient individu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ajor target cell for EBV is the B lymphocyt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BV is commonly transmitted by infected saliva and initiates infection in the oropharyn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SV antiviral drugs (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acyclovi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valacyclovir, and vidarabin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aricella-zoster drugs (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acyclovi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valacyclovir, famciclovir, foscarnet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MV drug (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Ganciclovi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foscarnet, acyclovir, and valacyclovi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Rectangle 4" descr=""/>
          <p:cNvPicPr/>
          <p:nvPr/>
        </p:nvPicPr>
        <p:blipFill>
          <a:blip r:embed="rId1"/>
          <a:stretch/>
        </p:blipFill>
        <p:spPr>
          <a:xfrm>
            <a:off x="689040" y="1511280"/>
            <a:ext cx="7851600" cy="2828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96B9-4B86-4C31-B1F3-56C52B1D720E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question%20in%20the%20sky"/>
          <p:cNvPicPr/>
          <p:nvPr/>
        </p:nvPicPr>
        <p:blipFill>
          <a:blip r:embed="rId2"/>
          <a:stretch/>
        </p:blipFill>
        <p:spPr>
          <a:xfrm>
            <a:off x="28440" y="324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2751120" y="2435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RC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est (            pan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RCH test belongs to a category of blood tests called infectious-disease antibody titer tests. This type of blood test measures the presence of antibodies and their level of concentration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me of the test comes from the initial letters of the five disease categories.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oplasmosis,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 infections,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bella,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tomegalovirus, and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pes simplex vir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076720" y="195120"/>
            <a:ext cx="89856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phavirus (Arboviruse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Rubivirus (Rubella viru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terivirus (None in huma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FC7B-960E-4E0E-A3A9-8539EF7FB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06360" y="109440"/>
            <a:ext cx="9906120" cy="1579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296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acute febrile illness characterized with a rash and lymphadenopathy that affects children an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296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ng adult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296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29600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ubella is one of the five classic exanthems.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Rubella, Measles, Roseola, fifth disease, chickenpox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296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296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the mildest in common viral exanthem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296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ection during early pregnancy may result in serious abnormalities of the fetu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0513-4691-4B7C-963E-4C4A0F51A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heric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70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m in diame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velope covers the nucleocaps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plication in cytopla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udding through host cell membran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0E97-91A0-4B43-82EE-86ADB4F00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-973080" y="1989000"/>
            <a:ext cx="10972800" cy="85726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-108000" y="4365720"/>
            <a:ext cx="9323280" cy="2881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sRNA, positive sense, 11-12 k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08000" y="2205000"/>
            <a:ext cx="1993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6671160" y="616572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biology Jaw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8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1332-7285-4D97-BD5F-E3BB70418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-900000" y="-390600"/>
            <a:ext cx="10972800" cy="85726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"/>
          <p:cNvSpPr/>
          <p:nvPr/>
        </p:nvSpPr>
        <p:spPr>
          <a:xfrm>
            <a:off x="-973080" y="6381720"/>
            <a:ext cx="11090160" cy="9144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-973080" y="-387360"/>
            <a:ext cx="11090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Togaviruses life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5807520" y="637236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biology Jaw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C666-87D1-4BA5-BE41-802207903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ubella virus is not cytolytic but does have limited cytopathologic effects in certain cell lines, such as Vero and RK1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ubella infects the upper respiratory tract and then spreads to local lymph nodes followed by viremi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prodromal period lasts approximately 2 week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3090-0158-4F4B-AE93-D791BCE6B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9313-7D24-4B8C-94E2-1CC126F2C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-914400" y="-857160"/>
            <a:ext cx="10972800" cy="85723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539640" y="6618240"/>
            <a:ext cx="8137800" cy="9144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 rot="16200000">
            <a:off x="-2736720" y="2673000"/>
            <a:ext cx="7632720" cy="1079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of spread of virus through the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human viral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6668640" y="6381720"/>
            <a:ext cx="167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biology Jaw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-973080" y="-747720"/>
            <a:ext cx="10298160" cy="76327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"/>
          <p:cNvSpPr/>
          <p:nvPr/>
        </p:nvSpPr>
        <p:spPr>
          <a:xfrm>
            <a:off x="6775920" y="644364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biology Jaw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9"/>
          <p:cNvSpPr/>
          <p:nvPr/>
        </p:nvSpPr>
        <p:spPr>
          <a:xfrm rot="16200000">
            <a:off x="-1337760" y="227736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Rubella clinical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10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2068-B104-41C3-BC1B-6A1AC77CD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335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umans are the only host for rubell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35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35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virus is spread in respiratory secre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35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35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pproximately 20% of women of childbearing age escape infection during childhoo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35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fore rubella vaccine coverage congenital rubella occoured in as many as 1% of all the children, but now it is less than 1 per million peregnanci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7776-8D51-40B7-B18E-443FBBA34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"other infections" usually inclu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phili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patitis B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sackie vir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stein-Barr vir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cella-zoster vir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Parvovir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best means of preventing rubella is vaccination with the live cold-adopted RA27/3 vaccine strain of viru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live rubella vaccine is usually administrated with the measles and mumps vaccines (MMR vaccine) at 24 months of ag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F325-6D7A-4024-9B2D-0A9D88763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85840" y="274680"/>
            <a:ext cx="8669160" cy="1189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335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Infants 12 month (could be down to 6 month)</a:t>
            </a: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35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Older unvaccinated children and adolescents</a:t>
            </a: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35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College students</a:t>
            </a: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35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Childcare personnel</a:t>
            </a: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35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Health care workers</a:t>
            </a: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35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Military personnel</a:t>
            </a: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35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Adult women before pregnancy</a:t>
            </a: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35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Adult seronegative women postpartum</a:t>
            </a: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35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Adult men in contact with pregnant  women</a:t>
            </a: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35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All of the above as part of a two-dose elimination strate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23AE-3FDA-4F8F-A813-9D0F49AC5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4" descr=""/>
          <p:cNvPicPr/>
          <p:nvPr/>
        </p:nvPicPr>
        <p:blipFill>
          <a:blip r:embed="rId1"/>
          <a:stretch/>
        </p:blipFill>
        <p:spPr>
          <a:xfrm>
            <a:off x="689040" y="1511280"/>
            <a:ext cx="7851600" cy="2828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8865-1B5E-4B51-8CED-D74CB1955AF8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question%20in%20the%20sky"/>
          <p:cNvPicPr/>
          <p:nvPr/>
        </p:nvPicPr>
        <p:blipFill>
          <a:blip r:embed="rId2"/>
          <a:stretch/>
        </p:blipFill>
        <p:spPr>
          <a:xfrm>
            <a:off x="28440" y="324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"/>
          <p:cNvSpPr/>
          <p:nvPr/>
        </p:nvSpPr>
        <p:spPr>
          <a:xfrm>
            <a:off x="2751120" y="2435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854B-9FA1-41A5-8211-B4954E209999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Rectang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گروه اينترنتي درهم | www.darhami.co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00080" y="1209600"/>
            <a:ext cx="704844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fections can cause a cluster of symptomatic birth defects in newborns. This group of defects is sometimes called the TORCH syndr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ORCH t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used to screen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egnant wom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newborns for antibodies to the infectious diseases included in the pan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RPESVIRID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erpesviridae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Calssification based on biologic proper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pha Herpesvirina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hort growth cycles, 18 hrs, cytolyt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plex vi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pes Simplexvirus type I (HSV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pes Simplexvirus type II (HSV 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icello vi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ricella-Zoster Virus (VZ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ta Herpesvirina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long growth cycles, 70 h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ytomegalo Virus (cytomegal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megalo Virus (CM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seolo Virus (lymphoprolifera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 Herpesvirus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 Herpesvirus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amma Herpesvirina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variable growth cycles, lymphoproliferat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ymphocrypto Vi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stein-Barr Virus (EB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hadino Vi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posi’s-sarcoma-associated herpes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Arial"/>
              </a:rPr>
              <a:t>Virus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large family of viruses 150–200 nm in diame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nucleocapsid is 100 nm in diame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genome is linear, dsDNA, 125–240 kbp in si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Virions contain over 30 prote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Latent infections may last for the life span in ganglial or lymphoblastoid c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Ali Rahimi\Desktop\New folder\Contract page 2.jpeg"/>
          <p:cNvPicPr/>
          <p:nvPr/>
        </p:nvPicPr>
        <p:blipFill>
          <a:blip r:embed="rId1"/>
          <a:stretch/>
        </p:blipFill>
        <p:spPr>
          <a:xfrm>
            <a:off x="3133800" y="1268280"/>
            <a:ext cx="3292560" cy="51850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6076800" y="1125360"/>
            <a:ext cx="503280" cy="5616720"/>
          </a:xfrm>
          <a:prstGeom prst="rect">
            <a:avLst/>
          </a:prstGeom>
          <a:solidFill>
            <a:srgbClr val="2d2d8a"/>
          </a:solidFill>
          <a:ln w="93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eft Brace 5"/>
          <p:cNvSpPr/>
          <p:nvPr/>
        </p:nvSpPr>
        <p:spPr>
          <a:xfrm>
            <a:off x="2403360" y="1413000"/>
            <a:ext cx="190440" cy="2592360"/>
          </a:xfrm>
          <a:custGeom>
            <a:avLst/>
            <a:gdLst>
              <a:gd name="textAreaLeft" fmla="*/ 121680 w 190440"/>
              <a:gd name="textAreaRight" fmla="*/ 190800 w 190440"/>
              <a:gd name="textAreaTop" fmla="*/ 4680 h 2592360"/>
              <a:gd name="textAreaBottom" fmla="*/ 258768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solidFill>
            <a:srgbClr val="2d2d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 rot="16200000">
            <a:off x="972000" y="254376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on Micro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2403360" y="4210200"/>
            <a:ext cx="168480" cy="22431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8"/>
          <p:cNvSpPr/>
          <p:nvPr/>
        </p:nvSpPr>
        <p:spPr>
          <a:xfrm rot="16200000">
            <a:off x="1092960" y="501372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Gener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863080" y="189000"/>
            <a:ext cx="342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00"/>
                </a:solidFill>
                <a:latin typeface="Arial"/>
              </a:rPr>
              <a:t>Herpesvir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4:41:22Z</dcterms:created>
  <dc:creator>Ali</dc:creator>
  <dc:description/>
  <dc:language>en-US</dc:language>
  <cp:lastModifiedBy>Ali Rahimi</cp:lastModifiedBy>
  <dcterms:modified xsi:type="dcterms:W3CDTF">2015-05-19T08:46:03Z</dcterms:modified>
  <cp:revision>59</cp:revision>
  <dc:subject/>
  <dc:title>HERPESVIRIDAE</dc:title>
</cp:coreProperties>
</file>