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9C0-57E3-45CD-B4F5-26E4B85C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DC6-2EBA-4878-B132-689FEC54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954-038F-4A56-B059-17390F29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B12-455C-4311-8000-FD7CE37E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61C-4D42-4E61-B4A6-A49373B9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59D-A9FC-4AE6-A4B2-1AF4BB3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30C-CA58-43B1-A074-819165FA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8F1-3A78-4A6F-9187-8C9BB4EE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EA2-1CDE-4EC6-A1DC-491C228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0C3-72C5-49E4-9C31-165A63A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46D-DEE1-458A-A089-FFE56C4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774-A692-4AFC-AE30-2549545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14CB-C15F-4B44-9908-4221ACC9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3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4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3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4" Type="http://schemas.openxmlformats.org/officeDocument/2006/relationships/hyperlink" Target="http://www.google.com/imgres?imgurl=http://flushrush.com/wp-content/uploads/2009/06/asian-tiger-mosquito.jpg&amp;imgrefurl=http://flushrush.com/insects-will-be-happy-to-suck-your-blood/&amp;h=474&amp;w=700&amp;sz=27&amp;tbnid=pNBA6XdStm4kBM:&amp;tbnh=95&amp;tbnw=140&amp;prev=/images%3Fq%3Daedes&amp;zoom=1&amp;q=aedes&amp;hl=en&amp;usg=__8Jfqbtrag5MtG_A5AididHTTLpE=&amp;sa=X&amp;ei=PgPyTLv5GIGYOuGp0ZsK&amp;ved=0CD8Q9QEwB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AD6-F866-442E-B174-A33BF750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hropod-Borne Viral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Microbiology, Jawetz, 2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nostic Procedures for Viral, Rickettsial, and Chlamydial infections, Edvin Lennette, et al,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150C-9368-47FE-90C2-CE6727EC1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edes-albopictus"/>
          <p:cNvPicPr/>
          <p:nvPr/>
        </p:nvPicPr>
        <p:blipFill>
          <a:blip r:embed="rId1"/>
          <a:stretch/>
        </p:blipFill>
        <p:spPr>
          <a:xfrm>
            <a:off x="990720" y="2637000"/>
            <a:ext cx="4038480" cy="278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351880" y="5560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3833640" y="2795760"/>
            <a:ext cx="147672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ANd9GcSIBqCUiOlZs1Zouc_H1Eny6_idOxkyBn6kibVCENpKDTOR9vFn"/>
          <p:cNvPicPr/>
          <p:nvPr/>
        </p:nvPicPr>
        <p:blipFill>
          <a:blip r:embed="rId2"/>
          <a:stretch/>
        </p:blipFill>
        <p:spPr>
          <a:xfrm>
            <a:off x="5796000" y="2997360"/>
            <a:ext cx="23050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6283080" y="5321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ex tars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12920" y="17733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, Pacific, 3-7%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F413-3753-464F-97A6-6F61DB0D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Louis encephalitis (S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ANd9GcTHABVPwiMS7fOqTdBplukelUe6UrfsqZouNNYM18iVbDcyuSaz"/>
          <p:cNvPicPr/>
          <p:nvPr/>
        </p:nvPicPr>
        <p:blipFill>
          <a:blip r:embed="rId1"/>
          <a:stretch/>
        </p:blipFill>
        <p:spPr>
          <a:xfrm>
            <a:off x="3635280" y="3244680"/>
            <a:ext cx="2086200" cy="2190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365000" y="57992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98840" y="1773360"/>
            <a:ext cx="59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, Rural, Widespread, 3-10% under 65, 30% over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5122-735F-412B-82F6-0FB668F9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Nile 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edes-albopictus"/>
          <p:cNvPicPr/>
          <p:nvPr/>
        </p:nvPicPr>
        <p:blipFill>
          <a:blip r:embed="rId1"/>
          <a:stretch/>
        </p:blipFill>
        <p:spPr>
          <a:xfrm>
            <a:off x="577800" y="2997360"/>
            <a:ext cx="3220920" cy="2224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rId2"/>
          </p:cNvPr>
          <p:cNvSpPr/>
          <p:nvPr/>
        </p:nvSpPr>
        <p:spPr>
          <a:xfrm>
            <a:off x="4145040" y="3225960"/>
            <a:ext cx="10951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145040" y="3225960"/>
            <a:ext cx="10951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4145040" y="3225960"/>
            <a:ext cx="10951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473280" y="2658960"/>
            <a:ext cx="24386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473280" y="2658960"/>
            <a:ext cx="24386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473280" y="2658960"/>
            <a:ext cx="24386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ANd9GcTHABVPwiMS7fOqTdBplukelUe6UrfsqZouNNYM18iVbDcyuSaz"/>
          <p:cNvPicPr/>
          <p:nvPr/>
        </p:nvPicPr>
        <p:blipFill>
          <a:blip r:embed="rId3"/>
          <a:stretch/>
        </p:blipFill>
        <p:spPr>
          <a:xfrm>
            <a:off x="4014720" y="3000240"/>
            <a:ext cx="2086200" cy="2190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4736520" y="52228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674000" y="522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ANd9GcRBQbcvAOTqaHUf0hG66hOQ1cCDcY2igwuEGw1BaqzP2mHOgBY4AQ"/>
          <p:cNvPicPr/>
          <p:nvPr/>
        </p:nvPicPr>
        <p:blipFill>
          <a:blip r:embed="rId4"/>
          <a:stretch/>
        </p:blipFill>
        <p:spPr>
          <a:xfrm>
            <a:off x="6246720" y="3276720"/>
            <a:ext cx="2286000" cy="1893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8"/>
          <p:cNvSpPr/>
          <p:nvPr/>
        </p:nvSpPr>
        <p:spPr>
          <a:xfrm>
            <a:off x="6826680" y="51498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ph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341800" y="177336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, Rural, Widespread, 3-15%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A64-13C9-45EC-9D50-E372B3FA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ado tick fever (Coltivir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ANd9GcR-Y-68XeJAzszfU7NXVmaVlfsMDPtz7IjSh2pukisK1kxQMwzZyQ"/>
          <p:cNvPicPr/>
          <p:nvPr/>
        </p:nvPicPr>
        <p:blipFill>
          <a:blip r:embed="rId1"/>
          <a:stretch/>
        </p:blipFill>
        <p:spPr>
          <a:xfrm>
            <a:off x="4788000" y="350028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3157200" y="544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macentor anders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046320" y="21985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, Pacific, Fatalities 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7" descr="ANd9GcQvrozTMwhTt_ibzIPu_vjE8hW4gWQpwwh1KrPjF3c71PqwVspjDw"/>
          <p:cNvPicPr/>
          <p:nvPr/>
        </p:nvPicPr>
        <p:blipFill>
          <a:blip r:embed="rId2"/>
          <a:stretch/>
        </p:blipFill>
        <p:spPr>
          <a:xfrm>
            <a:off x="2340000" y="3357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928-C6B2-47B9-88D3-4AF4A39D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ovirus Host-Vector Transmiss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arbovirus%20cycle2a"/>
          <p:cNvPicPr/>
          <p:nvPr/>
        </p:nvPicPr>
        <p:blipFill>
          <a:blip r:embed="rId1"/>
          <a:stretch/>
        </p:blipFill>
        <p:spPr>
          <a:xfrm>
            <a:off x="1671480" y="2147760"/>
            <a:ext cx="58010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7383960" y="44560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-en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383960" y="27082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-en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763B-E68C-49A7-B0FF-DDBD1F0B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ovirus Host-Vector Transmiss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ANd9GcTDpFclBUpC445eFDVV18p3nIRuOczA38sGNhdZB-g4LLuC1tDVcdRnFtd2"/>
          <p:cNvPicPr/>
          <p:nvPr/>
        </p:nvPicPr>
        <p:blipFill>
          <a:blip r:embed="rId1"/>
          <a:stretch/>
        </p:blipFill>
        <p:spPr>
          <a:xfrm>
            <a:off x="1979640" y="1989000"/>
            <a:ext cx="55450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9A4-E12F-415E-833E-76E0E660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شخیص آزمایشگاه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 Cell Culture (Vero, BHK-21, LLC-MK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ER, and primary cells from hamster kidney, chick embryo, and duck embry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quito Cel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Rodents (suckling mouse, suckling hamst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9FC8-951B-4D35-9D75-1A0DAA0D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A, IIF, Nt, HI, and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ochemica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determination, nucleic acid determination, Ether or Sodium Deoxycholate sensitivity test, acid sensitivity test, electron microscopy, animal or cell culture host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detection of virus antigen or genomic sequence in speci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A, IF, Nucleic acid hybridization,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3BD-6DB7-4405-94F3-59C65576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پیشگیری و کنتر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صلی ترین راه پیشگیری از عفونتهای آربوویروسی، جلوگیری از گزش انسان توسط پشه، کنه، و سایر بندپایان م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تفاده از توری های محافظ برای درها و پنجر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 بین بردن آب های راکد که محل بسیار مناسبی برای رشد و تکثیر حشرات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تفاده از روشهای مناسب برای از بین بردن حشرات (روشهای بیولوژیک و سازگار با محیط زیس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زریق واکسنهای مناس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fever &amp; Japanese Encephal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یش از مسافرت به مناطق آندمی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9E77-EF36-4AB0-9F6E-48AF22C03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question%20in%20the%20sky"/>
          <p:cNvPicPr/>
          <p:nvPr/>
        </p:nvPicPr>
        <p:blipFill>
          <a:blip r:embed="rId1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7240" y="19605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100" spc="-1" strike="noStrike">
                <a:solidFill>
                  <a:srgbClr val="000000"/>
                </a:solidFill>
                <a:latin typeface="Arial"/>
              </a:rPr>
              <a:t>سوال؟</a:t>
            </a:r>
            <a:br>
              <a:rPr sz="5100"/>
            </a:br>
            <a:br>
              <a:rPr sz="5100"/>
            </a:br>
            <a:r>
              <a:rPr b="0" lang="fa-IR" sz="5100" spc="-1" strike="noStrike">
                <a:solidFill>
                  <a:srgbClr val="000000"/>
                </a:solidFill>
                <a:latin typeface="Arial"/>
              </a:rPr>
              <a:t>و یا موضوعی برای بحث؟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0BE-8669-44BA-A00C-B42E1235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hropod-borne viruses (arboviru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گروهی از ویروسها که از طریق بندپایان منتقل می شوند به نام آربوویروسها نامگذاری شده اند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ین ویروسها به علت تفاوت های زیادی که در ساختار فیزیکی و شیمیایی آنها وجود دارد، در خانواده های مختلف ویروس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طبقه بندی شده اند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viruses, Bunyaviruses, Flaviviruses, Reoviruses, Filoviruses, and Togavir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(جدول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ضمیمه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ویژگی مشترک این ویروسها در نوع انتقال آنها از میزبانی به میزبان دیگر می باشد (نیش و خون آلود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ویروس در بدن بندپای آلوده، به رشد و تکثیر خود ادامه می دهد بدون اینکه علامتی از بیماری در میزبان خود به جا بگذ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گاهی ویروس به صور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ovarian transmissio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از نسلی به  نسل دیگر منتقل می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0E8-4084-41A3-8B27-EF7FC54F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بیماری های رایج آربوویروس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fever (YF)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ue (breakbone fever)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 encephalitis (JE)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. Louis encephalitis (SLE)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equine encephalitis (WEE) [Toga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equine encephalitis (EEE) [Toga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spring-summer encephalitis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SSE)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Nile fever [Flavi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fly fever [Bunya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ross encephalitis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Bunyavirida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456-D686-4DEC-BAF3-13C509AFA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عفونت های آربو ویروسی انس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اکنون صدها گونه ی آربوویروسی شناخته شده اند که در بین آنها بیش از صد ویروس بیماریزا برای انسان وجود دا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عمولا انسان میزبان تصادفی و نهای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-end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رای آربوویروسها می باشد. انسان نقش مهمی در بقا و یا انتقال ویروس ایفا نمی کن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yellow fever, dengue, and chikungunya vir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سیاری از آربوویروسها توسط پشه ها و کنه ها به انسان منتقل می شوند. هر قاره ای آربوویروسهای خاص خود را دارد و معمولا براساس محل انتشار ویروس برای بیماری تعیین نام شده است (شک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ضمیمه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6F13-469D-4E32-A7A5-04105574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علائم بالینی عفونت های آربوویروس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عفونت های آربو ویروسی ممکن است با یک یا چند علامت بالینی زیر همراه باش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ب همراه با راشهای پوستی و یا بدون راش، لرز، سردرد، سرگیجه، درد عضلات (خصوصا درد عضلات پش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نسفالیت (التهاب مغز) که معمولا با میزان مرگ و میر بالا همراه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ب های خونریزی دهنده و خطرنا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22E-DFDD-453A-B24B-EBD5B18A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dfly fever (phlebotomus fe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dl0fccvAGZjG4-DQOOD9lihln_A4ostYEJeX8VOPJPXiwL-1f"/>
          <p:cNvPicPr/>
          <p:nvPr/>
        </p:nvPicPr>
        <p:blipFill>
          <a:blip r:embed="rId1"/>
          <a:stretch/>
        </p:blipFill>
        <p:spPr>
          <a:xfrm>
            <a:off x="1887480" y="2997360"/>
            <a:ext cx="2600280" cy="1761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3"/>
          <p:cNvSpPr/>
          <p:nvPr/>
        </p:nvSpPr>
        <p:spPr>
          <a:xfrm>
            <a:off x="4392720" y="2828880"/>
            <a:ext cx="17809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4392720" y="2828880"/>
            <a:ext cx="17809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ANd9GcQZcVfyoExF-pzzlRqzmyPF073G34jYY7wYXq82Q0Xc7OV2oa0tEA"/>
          <p:cNvPicPr/>
          <p:nvPr/>
        </p:nvPicPr>
        <p:blipFill>
          <a:blip r:embed="rId2"/>
          <a:stretch/>
        </p:blipFill>
        <p:spPr>
          <a:xfrm>
            <a:off x="4707000" y="2997360"/>
            <a:ext cx="2673360" cy="1777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3"/>
          <p:cNvSpPr/>
          <p:nvPr/>
        </p:nvSpPr>
        <p:spPr>
          <a:xfrm>
            <a:off x="2847960" y="4797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lebotomus papatasii (sandf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94000" y="1647720"/>
            <a:ext cx="80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کشورهای حوزه مدیترانه، روسیه، ایران، پاکستان، هندوستان، پاناما، برزیل، و ترینید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388A-F88C-4522-9615-575851B9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fly feve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ین بیماری توسط حشره ماده (خونخوار) و معمولا در فصل های گرم سال به انسان منتقل می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مناطق اندمیک، بیشتر کودکان به این بیماری مبتلا می شو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تازه واردین غیر ایمن نسبت به این بیماری (نیروهای نظامی وارد شده به مناطق اندمیک)، خیلی سریع اپیدمی رخ می دهد و گاهی با اپیدمی مالاریا اشتباه گرفته می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وره کمون بیمار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وز می باشد و امکان جداسازی ویروس از خون در ایام بروز علائم بیماری وجود 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ردرد، تن درد، بی اشتهایی، تب، نورگریزی، سفتی گردن و پشت، دردهای شکمی، و لکوپنی از علائم شایع این عفونت می باش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حال حاضر درمان خاصی برای این بیماری وجود ندارد، ولی همه ی افراد آلوده شده بهبود می یاب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6D07-6A19-46B3-93BA-A51F8B30B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ezuelan equine encephalitis (VE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aedes-albopictus"/>
          <p:cNvPicPr/>
          <p:nvPr/>
        </p:nvPicPr>
        <p:blipFill>
          <a:blip r:embed="rId1"/>
          <a:stretch/>
        </p:blipFill>
        <p:spPr>
          <a:xfrm>
            <a:off x="684360" y="3321000"/>
            <a:ext cx="307656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>
            <a:hlinkClick r:id="rId2"/>
          </p:cNvPr>
          <p:cNvSpPr/>
          <p:nvPr/>
        </p:nvSpPr>
        <p:spPr>
          <a:xfrm>
            <a:off x="425124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rId3"/>
          </p:cNvPr>
          <p:cNvSpPr/>
          <p:nvPr/>
        </p:nvSpPr>
        <p:spPr>
          <a:xfrm>
            <a:off x="425124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rId4"/>
          </p:cNvPr>
          <p:cNvSpPr/>
          <p:nvPr/>
        </p:nvSpPr>
        <p:spPr>
          <a:xfrm>
            <a:off x="425124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57984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357984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357984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ANd9GcTHABVPwiMS7fOqTdBplukelUe6UrfsqZouNNYM18iVbDcyuSaz"/>
          <p:cNvPicPr/>
          <p:nvPr/>
        </p:nvPicPr>
        <p:blipFill>
          <a:blip r:embed="rId5"/>
          <a:stretch/>
        </p:blipFill>
        <p:spPr>
          <a:xfrm>
            <a:off x="4121280" y="3284640"/>
            <a:ext cx="2085840" cy="2190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4773240" y="54896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1747080" y="5445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3322800" y="2214720"/>
            <a:ext cx="1885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3322800" y="2214720"/>
            <a:ext cx="1885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0" descr="ANd9GcRjtk_Fc58BvbDTqYGSeeHyPDoRjZfNdDIurpPAbSev1svCSwct_A"/>
          <p:cNvPicPr/>
          <p:nvPr/>
        </p:nvPicPr>
        <p:blipFill>
          <a:blip r:embed="rId6"/>
          <a:stretch/>
        </p:blipFill>
        <p:spPr>
          <a:xfrm>
            <a:off x="6353280" y="3357720"/>
            <a:ext cx="2257200" cy="2019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2"/>
          <p:cNvSpPr/>
          <p:nvPr/>
        </p:nvSpPr>
        <p:spPr>
          <a:xfrm>
            <a:off x="6791400" y="53737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orop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135240" y="177336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, South, Fatalities 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A017-4A5F-4CF1-A723-445484DF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aedes-albopictus"/>
          <p:cNvPicPr/>
          <p:nvPr/>
        </p:nvPicPr>
        <p:blipFill>
          <a:blip r:embed="rId1"/>
          <a:stretch/>
        </p:blipFill>
        <p:spPr>
          <a:xfrm>
            <a:off x="990720" y="2637000"/>
            <a:ext cx="4038480" cy="2788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>
            <a:hlinkClick r:id="rId2"/>
          </p:cNvPr>
          <p:cNvSpPr/>
          <p:nvPr/>
        </p:nvSpPr>
        <p:spPr>
          <a:xfrm>
            <a:off x="455760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>
            <a:hlinkClick r:id="rId3"/>
          </p:cNvPr>
          <p:cNvSpPr/>
          <p:nvPr/>
        </p:nvSpPr>
        <p:spPr>
          <a:xfrm>
            <a:off x="455760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>
            <a:hlinkClick r:id="rId4"/>
          </p:cNvPr>
          <p:cNvSpPr/>
          <p:nvPr/>
        </p:nvSpPr>
        <p:spPr>
          <a:xfrm>
            <a:off x="4557600" y="3225960"/>
            <a:ext cx="10954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8620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388620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3886200" y="2658960"/>
            <a:ext cx="2438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ANd9GcTHABVPwiMS7fOqTdBplukelUe6UrfsqZouNNYM18iVbDcyuSaz"/>
          <p:cNvPicPr/>
          <p:nvPr/>
        </p:nvPicPr>
        <p:blipFill>
          <a:blip r:embed="rId5"/>
          <a:stretch/>
        </p:blipFill>
        <p:spPr>
          <a:xfrm>
            <a:off x="6157800" y="2935440"/>
            <a:ext cx="2086200" cy="219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5"/>
          <p:cNvSpPr/>
          <p:nvPr/>
        </p:nvSpPr>
        <p:spPr>
          <a:xfrm>
            <a:off x="6887520" y="54896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2351880" y="5560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2919960" y="177336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, Atlantic, 30-70%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6:19:20Z</dcterms:created>
  <dc:creator>Ali</dc:creator>
  <dc:description/>
  <dc:language>en-US</dc:language>
  <cp:lastModifiedBy>Ali Rahimi</cp:lastModifiedBy>
  <dcterms:modified xsi:type="dcterms:W3CDTF">2015-05-26T08:04:03Z</dcterms:modified>
  <cp:revision>30</cp:revision>
  <dc:subject/>
  <dc:title>Arthropod-Borne Viral Diseases</dc:title>
</cp:coreProperties>
</file>