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550A-A51A-4AF6-BC9B-E4EC94275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972E-30FF-49DE-ADD6-50C5E108F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365E-6376-4D1D-BDDE-4F05630A0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7C2B-6AB8-4595-9D28-BB6DE8373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94BCA-07E5-4EEF-B845-6048A1E0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2F56D-F052-4B79-BBED-06810AC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735F1-5451-4B9D-9552-8DEEA438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D24A-25B8-42FB-9FD9-1326D3B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3FB98-310F-4040-8F2F-CC16B5C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966E0-C085-4541-9BFB-726A28D7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920B-4A74-4B57-9523-D6F19D5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88F8-207C-4319-B102-EE7EF3E42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50B39-20F6-4FA6-B681-B5765E5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7CA78-F195-4D84-9064-0FB21A71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EA43-2639-4821-9FBE-30412A0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A3925-A84F-4FAE-8A0A-56304B57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6F86-C25A-4E62-A811-35B9B86E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4EDF-E88B-4201-942E-3CA3D144E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B889-02E8-42FB-AE53-450A3B89C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B42E-24A7-4688-85BF-26877632A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CDCC-5FC8-43A7-B04D-EEF6C92B3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214B-1116-4C1F-B843-C6FD895EF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89D7-71F6-4A08-98F7-DCFB203CD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7EAC-5A74-4CCE-913B-61158F9C0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4AAE-EBD0-4BE8-B396-0304BD33A8D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FA81-2092-4081-9E56-1F43C4E6CA98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توسعه برپاية عامل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Agent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01440" y="22050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پانز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094D-16C1-4776-B1BD-9C8D029F714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عام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هدف‌گرا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Goal-oriented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تنها به محيط خود پاسخ نمي‌گويد بلکه بدنبال دستيابي به اهداف خود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تحرک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Mobile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توانايي جابه‌جا کردن خود از سيستمي به سيستم ديگر را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شخصيت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Character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داراي حالت بوده و شخصيتي مستقل اس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EE88-85BC-4900-8964-D05FF9F30B3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باهت عامل با ش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وجود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ي را تعريف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امل‌ها ر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شيا فعا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ي‌نام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 دو ساختار داخلي‌شان ر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سته‌بند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ي‌كن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ه وسيل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رسال پيا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 يكديگر ارتباط برقرار مي‌كن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6" name="Picture 4" descr="AMCOMMUN"/>
          <p:cNvPicPr/>
          <p:nvPr/>
        </p:nvPicPr>
        <p:blipFill>
          <a:blip r:embed="rId1"/>
          <a:stretch/>
        </p:blipFill>
        <p:spPr>
          <a:xfrm>
            <a:off x="2411280" y="4724280"/>
            <a:ext cx="27352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3E65-8E6C-4F7A-AB7D-CD89D76AECE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فاوت عامل با ش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امل‌ه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يش‌فعا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ست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ش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قبل از آنكه فعال شو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ي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خواست دريافت ك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امل‌ها از نظ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ساختار دروني انعطاف‌پذي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شيا د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اقع متدها و خواص را بست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ندی  مي‌ك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گر يک تابع به صورت خصوصي در شي تعريف شده باشد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شيا ديگ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مکان دسترسي به آن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دا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 عامل ي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نترل مخصوص به خو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کنترل در سيستم‌هاي شي‌گرا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ه صورت مركزي انجام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DBEA-DF40-480A-AB80-F8274129C9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فاوت عامل با 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ر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امل مي‌تواند د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ر زم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كه تشخيص بدهد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ا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وجه به شراي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 عامل ديگ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رتبا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قرار ك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 روش شي‌گرا ارتباط‌ها به صورت مقطعي و از پيش تعيين شده در سيستم وجود دارند كه به وسيله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سلسله مراتبي تعريف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2592-6EC4-4D0D-A7CB-5E9A6DAF98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عامل با 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5" name="Group 49"/>
          <p:cNvGrpSpPr/>
          <p:nvPr/>
        </p:nvGrpSpPr>
        <p:grpSpPr>
          <a:xfrm>
            <a:off x="324000" y="1833480"/>
            <a:ext cx="4752720" cy="4332240"/>
            <a:chOff x="324000" y="1833480"/>
            <a:chExt cx="4752720" cy="4332240"/>
          </a:xfrm>
        </p:grpSpPr>
        <p:sp>
          <p:nvSpPr>
            <p:cNvPr id="156" name="Oval 6"/>
            <p:cNvSpPr/>
            <p:nvPr/>
          </p:nvSpPr>
          <p:spPr>
            <a:xfrm>
              <a:off x="514440" y="4438440"/>
              <a:ext cx="4464000" cy="172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324000" y="1833480"/>
              <a:ext cx="4752720" cy="2519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3780000" y="2481120"/>
              <a:ext cx="720720" cy="5763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2530440" y="2577960"/>
              <a:ext cx="720720" cy="5763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2038320" y="3306600"/>
              <a:ext cx="720720" cy="5032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539640" y="3116160"/>
              <a:ext cx="720720" cy="5763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1797120" y="5000400"/>
              <a:ext cx="1224000" cy="5050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3517920" y="4929120"/>
              <a:ext cx="947880" cy="5047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1085760" y="5073480"/>
              <a:ext cx="893880" cy="4320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V="1">
              <a:off x="3263760" y="2768040"/>
              <a:ext cx="503280" cy="73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132000" y="3057480"/>
              <a:ext cx="576360" cy="360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 flipH="1">
              <a:off x="2674800" y="3154320"/>
              <a:ext cx="122400" cy="2635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 flipH="1">
              <a:off x="1258920" y="3489120"/>
              <a:ext cx="792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 flipH="1" flipV="1">
              <a:off x="1090080" y="3633840"/>
              <a:ext cx="863640" cy="158400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 flipH="1" flipV="1">
              <a:off x="874440" y="3704760"/>
              <a:ext cx="215640" cy="158436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30"/>
            <p:cNvSpPr/>
            <p:nvPr/>
          </p:nvSpPr>
          <p:spPr>
            <a:xfrm flipH="1" flipV="1">
              <a:off x="2581200" y="3776400"/>
              <a:ext cx="432000" cy="1441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Line 31"/>
            <p:cNvSpPr/>
            <p:nvPr/>
          </p:nvSpPr>
          <p:spPr>
            <a:xfrm flipV="1">
              <a:off x="1763640" y="3776400"/>
              <a:ext cx="432000" cy="1441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 flipH="1" flipV="1">
              <a:off x="4101840" y="3776400"/>
              <a:ext cx="360360" cy="136872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V="1">
              <a:off x="3530520" y="3717720"/>
              <a:ext cx="358920" cy="14400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44"/>
            <p:cNvSpPr/>
            <p:nvPr/>
          </p:nvSpPr>
          <p:spPr>
            <a:xfrm>
              <a:off x="900000" y="2176200"/>
              <a:ext cx="360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ciety of Agents (Multiagent Architecture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Text Box 45"/>
            <p:cNvSpPr/>
            <p:nvPr/>
          </p:nvSpPr>
          <p:spPr>
            <a:xfrm>
              <a:off x="826920" y="2705040"/>
              <a:ext cx="169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gh-level Dynamic Interactions between Agen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46"/>
            <p:cNvSpPr/>
            <p:nvPr/>
          </p:nvSpPr>
          <p:spPr>
            <a:xfrm>
              <a:off x="2627280" y="3705120"/>
              <a:ext cx="1152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actions with the Environmen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47"/>
            <p:cNvSpPr/>
            <p:nvPr/>
          </p:nvSpPr>
          <p:spPr>
            <a:xfrm>
              <a:off x="1908000" y="56498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viron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3708360" y="3200400"/>
              <a:ext cx="720720" cy="57600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" name="Group 50"/>
          <p:cNvGrpSpPr/>
          <p:nvPr/>
        </p:nvGrpSpPr>
        <p:grpSpPr>
          <a:xfrm>
            <a:off x="5508720" y="1916280"/>
            <a:ext cx="2879640" cy="4176720"/>
            <a:chOff x="5508720" y="1916280"/>
            <a:chExt cx="2879640" cy="4176720"/>
          </a:xfrm>
        </p:grpSpPr>
        <p:sp>
          <p:nvSpPr>
            <p:cNvPr id="181" name="Rectangle 41"/>
            <p:cNvSpPr/>
            <p:nvPr/>
          </p:nvSpPr>
          <p:spPr>
            <a:xfrm>
              <a:off x="5508720" y="1916280"/>
              <a:ext cx="2879640" cy="41767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308720" y="5445000"/>
              <a:ext cx="648000" cy="4320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5796000" y="4902120"/>
              <a:ext cx="647640" cy="4320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6804000" y="4653000"/>
              <a:ext cx="647640" cy="43164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7236000" y="3932280"/>
              <a:ext cx="647640" cy="43164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5724360" y="3906720"/>
              <a:ext cx="648000" cy="4320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4"/>
            <p:cNvSpPr/>
            <p:nvPr/>
          </p:nvSpPr>
          <p:spPr>
            <a:xfrm>
              <a:off x="7308720" y="2421000"/>
              <a:ext cx="648000" cy="43164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Line 34"/>
            <p:cNvSpPr/>
            <p:nvPr/>
          </p:nvSpPr>
          <p:spPr>
            <a:xfrm>
              <a:off x="6372360" y="2563920"/>
              <a:ext cx="9363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>
              <a:off x="6012000" y="2805120"/>
              <a:ext cx="0" cy="108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>
              <a:off x="6084720" y="4330800"/>
              <a:ext cx="0" cy="576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>
              <a:off x="6372360" y="4076640"/>
              <a:ext cx="8636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6372360" y="4148280"/>
              <a:ext cx="576000" cy="504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>
              <a:off x="7667640" y="4363920"/>
              <a:ext cx="0" cy="108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40"/>
            <p:cNvSpPr/>
            <p:nvPr/>
          </p:nvSpPr>
          <p:spPr>
            <a:xfrm>
              <a:off x="6443640" y="5084640"/>
              <a:ext cx="865080" cy="576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Text Box 42"/>
            <p:cNvSpPr/>
            <p:nvPr/>
          </p:nvSpPr>
          <p:spPr>
            <a:xfrm>
              <a:off x="6054840" y="2886120"/>
              <a:ext cx="1295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al Dependencies Between Object/ Componen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43"/>
            <p:cNvSpPr/>
            <p:nvPr/>
          </p:nvSpPr>
          <p:spPr>
            <a:xfrm>
              <a:off x="5508720" y="1916280"/>
              <a:ext cx="28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ditional Software Architec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737320" y="2373480"/>
              <a:ext cx="647640" cy="43164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omponent)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D4C-E205-43C9-906C-093DDC86F94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بقه‌بندي عامل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امل‌ها از نقطه نظرات متفاوت، طبقه‌بندي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حيط، نوع عامل، هوشمندي، نوع کار و ...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1" name="Group 21"/>
          <p:cNvGrpSpPr/>
          <p:nvPr/>
        </p:nvGrpSpPr>
        <p:grpSpPr>
          <a:xfrm>
            <a:off x="1042920" y="2852640"/>
            <a:ext cx="7040520" cy="3744000"/>
            <a:chOff x="1042920" y="2852640"/>
            <a:chExt cx="7040520" cy="3744000"/>
          </a:xfrm>
        </p:grpSpPr>
        <p:sp>
          <p:nvSpPr>
            <p:cNvPr id="202" name="Text Box 4"/>
            <p:cNvSpPr/>
            <p:nvPr/>
          </p:nvSpPr>
          <p:spPr>
            <a:xfrm>
              <a:off x="2771640" y="2852640"/>
              <a:ext cx="21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Autonomous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>
              <a:off x="1042920" y="402552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Biological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2793960" y="4027320"/>
              <a:ext cx="17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Robotic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4678200" y="402732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Computational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Text Box 8"/>
            <p:cNvSpPr/>
            <p:nvPr/>
          </p:nvSpPr>
          <p:spPr>
            <a:xfrm>
              <a:off x="5851440" y="520524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Artificial Life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3706920" y="520524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Software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1547640" y="6259320"/>
              <a:ext cx="22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Task-specific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3851280" y="6259320"/>
              <a:ext cx="23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Entertainment Ag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12"/>
            <p:cNvSpPr/>
            <p:nvPr/>
          </p:nvSpPr>
          <p:spPr>
            <a:xfrm>
              <a:off x="6443640" y="6259320"/>
              <a:ext cx="9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Virus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 flipH="1">
              <a:off x="1979280" y="3309840"/>
              <a:ext cx="1871640" cy="64764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 flipH="1">
              <a:off x="3851280" y="3309840"/>
              <a:ext cx="1440" cy="72072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5"/>
            <p:cNvSpPr/>
            <p:nvPr/>
          </p:nvSpPr>
          <p:spPr>
            <a:xfrm>
              <a:off x="3851280" y="3309840"/>
              <a:ext cx="1944720" cy="72072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4788000" y="4460760"/>
              <a:ext cx="1009440" cy="72072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5796000" y="4460760"/>
              <a:ext cx="936720" cy="72072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 flipH="1">
              <a:off x="2700000" y="5613120"/>
              <a:ext cx="2087640" cy="64764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Line 19"/>
            <p:cNvSpPr/>
            <p:nvPr/>
          </p:nvSpPr>
          <p:spPr>
            <a:xfrm>
              <a:off x="4788000" y="5613120"/>
              <a:ext cx="0" cy="64764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20"/>
            <p:cNvSpPr/>
            <p:nvPr/>
          </p:nvSpPr>
          <p:spPr>
            <a:xfrm flipH="1" flipV="1">
              <a:off x="4788000" y="5612760"/>
              <a:ext cx="2016000" cy="64764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2D40-C10F-4548-B91E-8CDB7B02440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يستم‌هاي چندعامل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يستمي نرم‌افزاري که از مجموعه‌اي از عامل‌ها که با يکديگ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عامل دارند، رقابت مي‌کنند و همکاري دارن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تشکيل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عامل‌ها مي‌توانند داراي اهداف متفاوتي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عامل‌ها همانند انسان‌ها با ديگر عامل‌ها تعامل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2" name="Picture 4" descr="MEDIATE"/>
          <p:cNvPicPr/>
          <p:nvPr/>
        </p:nvPicPr>
        <p:blipFill>
          <a:blip r:embed="rId1"/>
          <a:stretch/>
        </p:blipFill>
        <p:spPr>
          <a:xfrm>
            <a:off x="3203640" y="4546440"/>
            <a:ext cx="302400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A8F2-0405-4BFD-B8E6-41433627BCE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رم‌افزار عامل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استفاده از عامل‌ها نمي‌توان از </a:t>
            </a: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روش‌هاي متداو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تحليل و طراحي استفاده نم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وش‌هاي متداول نمي‌توانند به سوالات ذيل پاسخ گويند: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چگونگي تجزيه مسئله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چگونگي انتساب وظايف به عامل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چگونگي هماهنگي، کنترل و ارتباط عامل‌ها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چگونگي حل تعارض بين اهداف عامل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چگونگي تصميم‌گيري عامل در مورد ساير عامل‌ها و حالتش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4C5-21B3-415E-89F9-A0A5E653C7D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ندسي نرم‌افزار عامل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 عامل‌گر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متدولوژي كه براي توسعه يك سيستم برپايه عامل مورد استفاده قرار مي‌گي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 عامل‌گرا علاوه بر پاسخ به سوالات قبلي، بايد روشي </a:t>
            </a: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شفا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راي </a:t>
            </a: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تحليل، طراحي و توسع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سيستم‌هاي چندعامله ارائه ده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774-40E7-4E27-888D-A5841B693D4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متدولوژي‌هاي عامل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‌هاي عامل‌گرا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gent-oriented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تدولوژي‌هايي که از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روش‌هاي شي‌گر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اشي شده‌ا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6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UML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AIA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DEPT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metheus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و ...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تدولوژي‌هايي که از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هندسي دان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اشي شده‌ا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6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DESIRE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mmonKADS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ropos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و ...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337-DFBF-4996-AE21-6EE1B04CC3D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پيچيدگي نرم‌اف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مفهو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ع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خصوصيات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يی ب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سيستم‌ها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چندعامل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آشنايي با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انواع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‌هاي عامل‌گرا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gent-oriented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7A8-7945-400F-AF98-446331AA778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‌هاي عامل‌گر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زاياي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تدولوژي‌هايي که از روش‌هاي شي‌گرا ناشي شده‌ا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برخي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 عامل را شي فعال م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نامند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و ادعا مي‌کنند که روش‌هاي شي‌گرايي به‌تنهايي براي توسعه عامل‌ها کافي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روش‌هاي شي‌گرا متداول و شناخته شده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يادگيري اين متدلوژ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 توسط مهندسان نرم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افزار سريعتر انجام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شده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 و هزينه کلي توليد سيستم کاهش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مي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ياب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امکان استفاده از برخي مدل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ي موجود در روش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ي ش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گرا مانند موارد کاربري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در عامل‌ها وجود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B75-EA79-4D7D-9EC7-0BDDA59CD7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‌هاي عامل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عايب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تدولوژي‌هايي که از روش‌هاي شي‌گرا ناشي شده‌ا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عامل‌ها 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تجر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د بالاتر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 نسبت به شي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دارند، بنابراين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 نحوه شکستن مسئله در روش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ي مبتني بر عامل نسبت به ش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گرا متفاوت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مي‌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در روش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ي ش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گرا تکنيکي براي مدل کردن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حالت‌هايي 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مانند هدف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گراي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پيش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فعال بودن وجود ن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مدل کردن نحو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ة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 ارتباط ميان عامل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 با استفاده از متدلوژ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هاي شي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گرا امکان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پذير ني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D802-5F4D-486D-84BA-8F27BA32F42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‌هاي عامل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‌هايي که از مهندسي دانش ناشي شده‌ا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فرآيند استخراج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liciting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، ساختاربند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tructuring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، شکل‌ده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malizing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عملياتي نمودن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erationalizing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دانش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زاي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مکان استفاده از ابزار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ها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کتابخانه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اي هستان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شناسي و روش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اي با قابليت استفاده مجد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در حل مسائ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عاي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ژگيهاي توزيعي عامل در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اين روش‌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ديده نم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شو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6BD7-1038-4B9A-B10E-516C3ACE870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عروفترين متدولوژي توسعه ع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اولين بار توسط 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Jennings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و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Wooldridge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در سال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1999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نسخه نهايي توسط 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Zambonelli</a:t>
            </a:r>
            <a:r>
              <a:rPr b="1" i="1" lang="fa-IR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fa-IR" sz="2600" spc="-1" strike="noStrike">
                <a:solidFill>
                  <a:srgbClr val="663300"/>
                </a:solidFill>
                <a:latin typeface="Times New Roman"/>
              </a:rPr>
              <a:t>،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Jennings</a:t>
            </a:r>
            <a:r>
              <a:rPr b="1" i="1" lang="fa-IR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و 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Wooldridge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در سال 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2003</a:t>
            </a: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 ارائه 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هداف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روع از نيازمندي‌ها (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بعد از تشخيص نيازمندي‌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دايت توسعه‌دهنده براي طراحي يک سيستم چندعامله خوش-تعريف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وانايي مدلسازي و حل پيچيدگي سيستم‌هاي چندعامله را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1269-DF70-4CE4-A2BA-F554B7467DE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تامد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665360" y="1268280"/>
            <a:ext cx="58593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C51-14E5-4FA9-8097-AF9EE2E5D65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از تحلي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سازمانده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Sub-organisatio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عيين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سازماندهي‌ها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چندگانه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در سيستم (در صورت وجود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آيا مي‌توان سيستم را به چند مجموعه از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مسائل با اتصال سست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تقسيم نمود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دل محيط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Environmental Mode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حليل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محيط عملياتي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گونه مي‌توان محيط را با استفاده از عامل‌ها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مدل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نم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منابع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که مورد استفاده قرار مي‌گيرند و چگونگي استفاده از آنه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51A9-40C2-43F8-BD89-14B9CC86FF7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از تحليل (ادامه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دل نقش‌هاي اوليه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reliminary Role Mode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يافتن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نقش‌هاي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که در سازمان‌ها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organisations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) وجود دار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هر نقش، مجموعه‌اي از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وظايف و رفتارها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مورد انتظار را در سازمان تعريف مي‌نما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دل تعامل اوليه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reliminary Interaction Mode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گونگي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تعامل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نقش‌ها با يکديگر براي رسيدن به هدف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عريف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پروتکل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براي هر تعامل بين نقش‌ه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2B5D-DCED-4730-A189-3AC2057093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از تحليل (ادامه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قواعد سازمان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Organisational Rule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حليل و يافتن قواعدي که در کل سيستم وجود دارند و بر رفتار و تعامل بين نقش‌ها تاثير مي‌گذارند (اين قواعد به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قواعد اجتماع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يا قانون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law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) معروفند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187280" y="2492280"/>
            <a:ext cx="6912000" cy="2305080"/>
          </a:xfrm>
          <a:prstGeom prst="roundRect">
            <a:avLst>
              <a:gd name="adj" fmla="val 75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Nazanin"/>
              </a:rPr>
              <a:t>در انتهاي فاز تحليل شناخت کاملي از سازماندهي مسئله، ساختار سازمان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</a:rPr>
              <a:t>‌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Nazanin"/>
              </a:rPr>
              <a:t>ها و ارتباطات حاصل مي‌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532-ED48-41F8-B496-282410E5D14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از طراحي معم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هدف از اين فاز تعيين معماري نهايي سيستم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نتخاب ساختار سازمانده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نکاتي چون سادگي، واقعي بودن، پيچيدگي مسئله و ... در اين انتخاب نقش دار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کميل مدل نقش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کميل مدل تعام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نتقال نقش‌ها و پروتکل‌هاي تعامل به مولفه‌هايي که قابل پياده‌سازي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47B5-A00A-47AB-8DEC-133B3D5267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از طراحي معماري (ادامه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بديل نقش‌ها به عامل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74240" indent="-21456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در برخي موارد، چند نقش در يک عامل قرار مي‌گير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74240" indent="-21456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ابتدا «کلاس عامل» طراحي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74240" indent="-21456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هر عامل نياز به دانش داخلي، زمينه، فعاليت‌هاي داخلي و فراهم نمودن سرويس‌هايي براي ديگران دار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پروتکل‌هاي تعامل تبديل به دنباله‌اي از پيام‌ها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74240" indent="-21456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پيام‌ها بين دو عامل خاص رد و بدل مي‌شو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7424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8FB-691E-4289-A5BF-31C37EEAC00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پيچيدگي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19640" y="1483920"/>
            <a:ext cx="504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پيچيدگي به‌عنوان يکي از خصوصيات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ذات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رم‌افزار مطرح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‌هاي بسياري سعي به حل پيچيدگي نموده‌ا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وش‌هاي حل پيچيد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تجزي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Decomposition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تجري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Abstraction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سازمانده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Organisation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9" name="Picture 4" descr="TRACKS"/>
          <p:cNvPicPr/>
          <p:nvPr/>
        </p:nvPicPr>
        <p:blipFill>
          <a:blip r:embed="rId1"/>
          <a:stretch/>
        </p:blipFill>
        <p:spPr>
          <a:xfrm>
            <a:off x="108000" y="1484280"/>
            <a:ext cx="331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A07A-B22A-4652-B300-A2A69016A9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GAIA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– ضعف‌ها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سائل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شکلات پياده‌ساز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در نظر گرفته ن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عيي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يازمندي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دل‌ساز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نها مسکوت مان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سعه با اين روش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رتيب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B2AD-B5A5-4AD9-AEE3-645B6491B46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ين متدولوژ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ساساً عامل‌گر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طراحي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ادگذار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notion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امل‌ها، اهداف و مسائلي از اين قبيل در فرآيند توسعه ديده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ا تعداد کمي از عناصر شروع مي‌کند و تدريجاً آنها را افزايش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جزئيات تدريجاً افزوده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تعامل و وابستگي‌ها بررسي و بروز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هر گام مي‌تواند منجر به معرفي/حذف عناصر يا ارتباطات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078-EF88-4D14-BEC9-684FC5A16B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نيازمندي‌هاي اوليه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Early Requirements Analysi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مرکز روي منظور ذينفع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 استفاده از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تحليل هدف‌گر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Goal-oriented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، اهداف اوليه به مجموعه‌اي از نيازهاي وظيفه‌مندي و غيروظيفه‌مندي تبديل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ذينفعان به‌عنوان مجموعه‌اي از عامل‌ها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ctor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نشان داده مي‌شوند که براي دستيابي به اهداف با يکديگر وابسته شده‌اند. اين امر منجر به توليد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Actor diagram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ationale diagram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C160-1B65-45FD-84A9-82FB57445AC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نيازمندي‌هاي اوليه (ادامه)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55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Actor Diagram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يک گراف از عامل‌هاست که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وابستگي استراتژيک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عامل‌ها را نشان مي‌ده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وابستگي، </a:t>
            </a:r>
            <a:r>
              <a:rPr b="1" lang="fa-IR" sz="2000" spc="-1" strike="noStrike">
                <a:solidFill>
                  <a:srgbClr val="cc3300"/>
                </a:solidFill>
                <a:latin typeface="Times New Roman"/>
              </a:rPr>
              <a:t>توافق بين دو عامل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55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Rationale diagram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نشان‌دهنده و توصيف‌کننده دلايلي است که يک عامل را به عامل ديگر مرتبط مي‌ساز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در اين نمودار دلايل تعامل عامل بيان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08F-1F00-4EE4-B464-94C5D671550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نيازمندي‌هاي نهاي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Late Requirements Analysi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دل مفهومي «تحليل نيازمندي‌هاي اوليه» توسعه داد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سيستم به عنوان عامل (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Actor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) جديد توسعه داده مي‌شود و ارتباطات آن با محيط در نظر گرفته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5473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1AE-40FD-4663-9CC2-2BF4501E98F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حليل نيازمندي‌هاي نهاي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عامل‌هاي درون سيستم نشان داده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57610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F640-DA5E-4A90-8EFF-5EBA79215E1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راحي معمار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rchitectural Desig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عامل‌هاي مورد نياز براي دستيابي به اهداف افزوده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فزودن عامل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ctor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مي‌تواند براساس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سبک يا الگوي معما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خاصي مي‌باشد (سبک يا الگوي عامل‌گرا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835280" y="3825720"/>
            <a:ext cx="48243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3AE-8914-48C8-8307-01B2468A53F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راحي تفصيل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Detailed Desig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جزئيات بيشت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ه عامل‌ها نظير اهدافي که برآورده مي‌کنند، نحوة انجام آن، اجبارهاي زماني و ... افزده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اين مرحله عامل‌ها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ctor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به عامل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gen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تبديل مي‌شوند!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ستفاده از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لگوهاي طراح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کمک شاياني به طراحي تفصيلي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A6D-0339-4C1C-BC1A-503880EE64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مراحل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395280" y="1739880"/>
            <a:ext cx="8064360" cy="392112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5"/>
          <p:cNvSpPr/>
          <p:nvPr/>
        </p:nvSpPr>
        <p:spPr>
          <a:xfrm>
            <a:off x="826920" y="5734080"/>
            <a:ext cx="7490160" cy="719280"/>
          </a:xfrm>
          <a:prstGeom prst="rightArrow">
            <a:avLst>
              <a:gd name="adj1" fmla="val 61593"/>
              <a:gd name="adj2" fmla="val 141690"/>
            </a:avLst>
          </a:prstGeom>
          <a:solidFill>
            <a:srgbClr val="ffff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 driven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1CB-F4AB-4D5E-8C98-D838FE3175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roops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– ضعف‌ها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طراح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رم‌افزارهاي عامل پيچي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ه ارتباطات بين ذينفعان پيچيده است، مناسب ني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ضمين کيف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تنها با استفاده از الگوهاي طراحي!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راهنمايي‌هاي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سيار کمي در مورد گام‌ها و چگونگي انجام آن مي‌توان يافت نم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حويل‌دادني‌ه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آن خوش-تعريف نيستن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443C-8FCC-4BFB-8462-01A08623E37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پيچيدگي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محيط‌هاي مدرن، پيچيدگي به شکل‌هاي ديگر ظهور نمو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وشمندي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Intelligent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تعامل‌پذيري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Interoperability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سازگاري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Adaptive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ناهمگني سکوها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Heterogeneous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محيط توزيع‌شده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6600"/>
                </a:solidFill>
                <a:latin typeface="Times New Roman"/>
              </a:rPr>
              <a:t>Distributed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D08-17E7-4235-9A12-55402150FA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B75-FF67-4327-A2ED-81D42880497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رم‌افزارهاي مدر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حيط‌هاي مدرن نياز به نرم‌افزارهايي دارند ک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ياز به کاربر نداشته باشند و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ستق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از او واکنش 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توانند به سود ما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تصميم‌‌گي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 ديگر سيستم‌ها براحتي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تعام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رقرار 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حيط‌هاي شبکه‌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ختل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قابليت اجرا داشته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 شرايط جديد محيط 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سازگا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900000" y="2203560"/>
            <a:ext cx="7201080" cy="2520720"/>
          </a:xfrm>
          <a:prstGeom prst="roundRect">
            <a:avLst>
              <a:gd name="adj" fmla="val 9713"/>
            </a:avLst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هر يک از اين ويژگي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</a:rPr>
              <a:t>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ها سبب توسعه علوم و دانش قبلي کامپيوتر شده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</a:rPr>
              <a:t>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اند، اما برآورده ‌نمودن همه، سبب ايجاد زمينه جديدي به‌نام «</a:t>
            </a:r>
            <a:r>
              <a:rPr b="1" lang="fa-IR" sz="2800" spc="-1" strike="noStrike">
                <a:solidFill>
                  <a:srgbClr val="0033cc"/>
                </a:solidFill>
                <a:latin typeface="Tahoma"/>
                <a:cs typeface="Titr"/>
              </a:rPr>
              <a:t>سيستم</a:t>
            </a:r>
            <a:r>
              <a:rPr b="1" lang="fa-IR" sz="2800" spc="-1" strike="noStrike">
                <a:solidFill>
                  <a:srgbClr val="0033cc"/>
                </a:solidFill>
                <a:latin typeface="Tahoma"/>
              </a:rPr>
              <a:t>‌</a:t>
            </a:r>
            <a:r>
              <a:rPr b="1" lang="fa-IR" sz="2800" spc="-1" strike="noStrike">
                <a:solidFill>
                  <a:srgbClr val="0033cc"/>
                </a:solidFill>
                <a:latin typeface="Tahoma"/>
                <a:cs typeface="Titr"/>
              </a:rPr>
              <a:t>هاي چند عامله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» شده است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B273-C272-4037-BAAF-A4593BA4148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عامل (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gent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وجود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رم‌افزا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يا سيستم کامپيوتري)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ك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ناسب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حيط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خاص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طراحي شده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 قادر ب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جام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عمال 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انعطاف‌پذي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مستق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رسيدن به 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اهداف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نظر گرفته شده براي آن سيستم مي‌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32"/>
          <p:cNvGrpSpPr/>
          <p:nvPr/>
        </p:nvGrpSpPr>
        <p:grpSpPr>
          <a:xfrm>
            <a:off x="1908000" y="4149720"/>
            <a:ext cx="5185080" cy="2232000"/>
            <a:chOff x="1908000" y="4149720"/>
            <a:chExt cx="5185080" cy="2232000"/>
          </a:xfrm>
        </p:grpSpPr>
        <p:sp>
          <p:nvSpPr>
            <p:cNvPr id="122" name="Rectangle 31"/>
            <p:cNvSpPr/>
            <p:nvPr/>
          </p:nvSpPr>
          <p:spPr>
            <a:xfrm>
              <a:off x="1908000" y="4149720"/>
              <a:ext cx="5185080" cy="223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2050920" y="5013360"/>
              <a:ext cx="72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ensor Inp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6227640" y="5084640"/>
              <a:ext cx="576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tion outp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AutoShape 27"/>
            <p:cNvSpPr/>
            <p:nvPr/>
          </p:nvSpPr>
          <p:spPr>
            <a:xfrm>
              <a:off x="5435640" y="4724280"/>
              <a:ext cx="649080" cy="1368720"/>
            </a:xfrm>
            <a:custGeom>
              <a:avLst/>
              <a:gdLst>
                <a:gd name="textAreaLeft" fmla="*/ 86760 w 649080"/>
                <a:gd name="textAreaRight" fmla="*/ 562320 w 649080"/>
                <a:gd name="textAreaTop" fmla="*/ 239400 h 1368720"/>
                <a:gd name="textAreaBottom" fmla="*/ 99252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AutoShape 28"/>
            <p:cNvSpPr/>
            <p:nvPr/>
          </p:nvSpPr>
          <p:spPr>
            <a:xfrm flipH="1" flipV="1">
              <a:off x="2842560" y="4581360"/>
              <a:ext cx="649080" cy="1368720"/>
            </a:xfrm>
            <a:custGeom>
              <a:avLst/>
              <a:gdLst>
                <a:gd name="textAreaLeft" fmla="*/ 86760 w 649080"/>
                <a:gd name="textAreaRight" fmla="*/ 562320 w 649080"/>
                <a:gd name="textAreaTop" fmla="*/ 239400 h 1368720"/>
                <a:gd name="textAreaBottom" fmla="*/ 99252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3468600" y="4595760"/>
              <a:ext cx="1994040" cy="509760"/>
            </a:xfrm>
            <a:prstGeom prst="rect">
              <a:avLst/>
            </a:prstGeom>
            <a:solidFill>
              <a:srgbClr val="cc99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4206960" y="472932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3468600" y="5530680"/>
              <a:ext cx="1994040" cy="608040"/>
            </a:xfrm>
            <a:prstGeom prst="rect">
              <a:avLst/>
            </a:prstGeom>
            <a:solidFill>
              <a:srgbClr val="cc9900"/>
            </a:solidFill>
            <a:ln cap="rnd" w="2844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3889800" y="571356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nvironm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0686-1829-4B36-A514-4A2AFABC958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عام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امل‌ها،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وجوديت‌هاي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قابل تشخيص براي حل مسئله با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حدو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رابط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خوش‌تعري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هست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محيط‌هاي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خاص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ناسب هست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سته به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حالت‌ش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رودي‌هايي را از طريق سنسورها دريافت مي‌کنند و را از طريق مجريان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effector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مي‌گذا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برآورده نمودن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اهداف خاص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طراحي شده‌ان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A7B-6093-40BC-A478-7D423AE17C5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عام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خودگرداني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Autonomous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اعمال اصلي بدون دخالت انسان يا عامل ديگري انجام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ارتباط ميان عامل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ها با ديگر اجزا به صورت سلسله مراتبي ني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پيش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فعال بودن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Pro-activeness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يك عامل نبايد حتماً منتظر فراخواني باشد بلكه بايد تحت شرايط خاص محيط فعال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واکنش‌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دهي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Reactivity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-2426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عامل بايد د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برخي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سيستم‌ها محيط خود را حس كرده و به تغييراتي كه در آن رخ مي‌دهد پاسخ 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B2C7-040D-4B92-AB89-9F31870DEAB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عام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ارتباط با ديگران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Communicative</a:t>
            </a:r>
            <a:r>
              <a:rPr b="1" lang="ar-SA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ممكن است يك عامل نرم‌افزاري عامل ديگر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فراخواني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كند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درباره آن استنتاج انجام دهد و يا با آن به مذاكره بپرداز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يادگيري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Learning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براساس تغييراتي كه در محيط رخ مي‌دهد رفتار خود را تغيير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انعطاف‌پذيري (</a:t>
            </a:r>
            <a:r>
              <a:rPr b="1" i="1" lang="en-US" sz="2200" spc="-1" strike="noStrike">
                <a:solidFill>
                  <a:srgbClr val="993300"/>
                </a:solidFill>
                <a:latin typeface="Times New Roman"/>
              </a:rPr>
              <a:t>Flexibility</a:t>
            </a: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رفتارهايي که عامل انجام مي‌دهد، از پيش تعيين‌شده ني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0:50Z</dcterms:modified>
  <cp:revision>2607</cp:revision>
  <dc:subject/>
  <dc:title>PowerPoint Presentation</dc:title>
</cp:coreProperties>
</file>