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361E-66BC-49DA-9DF7-20482A197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54B3-7865-449B-AAE9-D06177833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43D5-0C08-4077-9216-680FFD51E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A3A7-234C-4D4F-97DA-C30065631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4770E-3B3D-4BF4-A2DE-F2EBAEFC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8134D-8B9A-4435-A766-56771941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386FA-FA57-4F4B-921A-3880F557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6E313-9B49-4BC3-9E2B-64BC3745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306A7-2CF2-4063-949C-3A8A8CF9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B2830-9BD0-46D3-B4AE-04C825FF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721CA-D12A-4CA6-954E-D69006B3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C1E3-E006-42E3-9CFC-776BB04158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3FB4D-0B8D-4036-A73F-8FBE562F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D50F7-0D52-41A2-B325-A3107E9F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64698-FD8B-4D60-804D-822E2899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0E43A-E5FA-4FE5-A5E5-47E90B25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B2759-06F3-4616-B08A-33D717DF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BF85-4F98-431B-B21A-BE4BFB996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4969-C3A6-4907-800C-0907F5D28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A35E-00FD-4D0E-90BA-A52DE73F9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83FD-DFE5-4D67-8D73-BF731D00A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9E8F-624E-4515-BBCD-C2715D45C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4FC7-1612-485C-B2C8-0A6BD5EA8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F51F-0EED-4C82-8390-0E59245F3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14440" y="504720"/>
            <a:ext cx="8521200" cy="1052280"/>
            <a:chOff x="514440" y="504720"/>
            <a:chExt cx="8521200" cy="1052280"/>
          </a:xfrm>
        </p:grpSpPr>
        <p:grpSp>
          <p:nvGrpSpPr>
            <p:cNvPr id="1" name="Group 16"/>
            <p:cNvGrpSpPr/>
            <p:nvPr/>
          </p:nvGrpSpPr>
          <p:grpSpPr>
            <a:xfrm>
              <a:off x="7883280" y="504720"/>
              <a:ext cx="1152360" cy="1052280"/>
              <a:chOff x="7883280" y="504720"/>
              <a:chExt cx="1152360" cy="105228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556480" y="6127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8297640" y="1035000"/>
                <a:ext cx="4222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7883280" y="612720"/>
                <a:ext cx="1152360" cy="896760"/>
                <a:chOff x="7883280" y="612720"/>
                <a:chExt cx="1152360" cy="89676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8173800" y="612720"/>
                  <a:ext cx="438120" cy="474480"/>
                </a:xfrm>
                <a:prstGeom prst="rect">
                  <a:avLst/>
                </a:prstGeom>
                <a:solidFill>
                  <a:srgbClr val="4b4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8667360" y="103500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7883280" y="96192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481c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" name="Rectangle 7"/>
              <p:cNvSpPr/>
              <p:nvPr/>
            </p:nvSpPr>
            <p:spPr>
              <a:xfrm>
                <a:off x="8518320" y="504720"/>
                <a:ext cx="31680" cy="10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Rectangle 8"/>
            <p:cNvSpPr/>
            <p:nvPr/>
          </p:nvSpPr>
          <p:spPr>
            <a:xfrm flipH="1">
              <a:off x="514440" y="1204920"/>
              <a:ext cx="82260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25056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itr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A518-998A-4D6D-B036-A4EB5AEF6C6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E1E3-F00D-43FB-8053-CC80939D0742}" type="slidenum">
              <a:rPr b="0" lang="ar-SA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dcff"/>
            </a:gs>
            <a:gs pos="100000">
              <a:srgbClr val="3739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051"/>
          <p:cNvSpPr/>
          <p:nvPr/>
        </p:nvSpPr>
        <p:spPr>
          <a:xfrm>
            <a:off x="3435480" y="333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بسمه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تعا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2052"/>
          <p:cNvSpPr/>
          <p:nvPr/>
        </p:nvSpPr>
        <p:spPr>
          <a:xfrm>
            <a:off x="619200" y="3429000"/>
            <a:ext cx="79056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tr"/>
              </a:rPr>
              <a:t>بحران نرم</a:t>
            </a:r>
            <a:r>
              <a:rPr b="0" lang="fa-IR" sz="3600" spc="-1" strike="noStrike">
                <a:solidFill>
                  <a:srgbClr val="000000"/>
                </a:solidFill>
                <a:latin typeface="Times New Roman"/>
                <a:ea typeface="Titr"/>
              </a:rPr>
              <a:t>‌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tr"/>
              </a:rPr>
              <a:t>افزار و بررسي پيچيدگي نرم</a:t>
            </a:r>
            <a:r>
              <a:rPr b="0" lang="fa-IR" sz="3600" spc="-1" strike="noStrike">
                <a:solidFill>
                  <a:srgbClr val="000000"/>
                </a:solidFill>
                <a:latin typeface="Times New Roman"/>
                <a:ea typeface="Titr"/>
              </a:rPr>
              <a:t>‌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tr"/>
              </a:rPr>
              <a:t>افزار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2054"/>
          <p:cNvSpPr/>
          <p:nvPr/>
        </p:nvSpPr>
        <p:spPr>
          <a:xfrm>
            <a:off x="3630960" y="250668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فصل او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0566-890E-453A-BD6F-A1D8610247E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هميت متدولوژ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 rtl="1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«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يكي از علل اساسي بحران نرم‌افزار عدم وجود روش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اي مناسبي براي توليد نرم‌افزار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»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روش‌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فرآيندي منظم كه با استفاده از مجموعه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اي از نمادگذاري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هاي خوش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تعريف، مجموعه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اي از مدل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ها را ايجاد مي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كند كه هر كدام بخشي از سيستم نرم‌افزاري در دست توليد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(يا توسعه) را توصيف مي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نماي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ن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395C-6079-4578-BBDB-234A2CAF609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هميت متدولوژ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تدولوژ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مجموعه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اي از روش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ها كه در تمام چرخه حيات سيستم نرم‌افزاري اعمال شده و بر يك نوع نگرش كلي درباره جهان نرم‌افزار متكي 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755640" y="4149720"/>
            <a:ext cx="71294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بنظر بسياري از متخصصين بكارگيري يك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Nazanin"/>
              </a:rPr>
              <a:t>متدولوژي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Nazanin"/>
              </a:rPr>
              <a:t>مدون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 در 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توسعه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 نرم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Lotus"/>
              </a:rPr>
              <a:t>‌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افزار مي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تواند تا اندازه قابل توجهي مشكلات بيان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شده را برطرف ساز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5DEA-A1CD-4F52-B32C-6C12BD01E08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يژگيهاي يك متدولوژي مطلو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ئه تعاريف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ز مفاهيم اوليه بكار رفته در متدولوژ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رائه مدلي براي فرآيند تول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اشتن مدل زيربنائ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(مدل معماري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رائه يك شيوه علام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گذاري استاندار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عرفي تكنيك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ي براي پيا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ازي متدولوژ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که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وانايي كنترل پيچيدگي سيست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كنوني را دارا باش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DF81-7254-47F2-9D66-EEAA70C075D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يژگيهاي يك متدولوژي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... (ادامه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رائه معيارهاي براي ارزيابي نتايج حاصل از بكارگيري متدولوژ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وجود ابزار اتوماتيك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اي كمك به توليد و اجراي مد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مبتني بر متدولوژ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44" name="Picture 4" descr="MEASPROG"/>
          <p:cNvPicPr/>
          <p:nvPr/>
        </p:nvPicPr>
        <p:blipFill>
          <a:blip r:embed="rId1"/>
          <a:stretch/>
        </p:blipFill>
        <p:spPr>
          <a:xfrm>
            <a:off x="900000" y="3789360"/>
            <a:ext cx="29433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0AED-648B-4EAB-BEB9-D1AA25AC870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فاوت نرم‌افزار و سخ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ف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84360" y="1484280"/>
            <a:ext cx="74469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  <a:cs typeface="Nazanin"/>
              </a:rPr>
              <a:t>فرآيند توليد نرم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  <a:ea typeface="Lotus"/>
              </a:rPr>
              <a:t>‌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  <a:cs typeface="Nazanin"/>
              </a:rPr>
              <a:t>افزار</a:t>
            </a:r>
            <a:r>
              <a:rPr b="1" lang="fa-IR" sz="3200" spc="-1" strike="noStrike">
                <a:solidFill>
                  <a:srgbClr val="663300"/>
                </a:solidFill>
                <a:latin typeface="Times New Roman"/>
                <a:ea typeface="Nazanin"/>
              </a:rPr>
              <a:t> 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  <a:cs typeface="Nazanin"/>
              </a:rPr>
              <a:t>يك فرآيند مهندسي است نه يك فرآيند توليد ص</a:t>
            </a:r>
            <a:r>
              <a:rPr b="1" lang="fa-IR" sz="3200" spc="-1" strike="noStrike">
                <a:solidFill>
                  <a:srgbClr val="663300"/>
                </a:solidFill>
                <a:latin typeface="Times New Roman"/>
                <a:cs typeface="Nazanin"/>
              </a:rPr>
              <a:t>ن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  <a:cs typeface="Nazanin"/>
              </a:rPr>
              <a:t>عت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8101080" y="1844640"/>
            <a:ext cx="304560" cy="304920"/>
          </a:xfrm>
          <a:prstGeom prst="ellipse">
            <a:avLst/>
          </a:prstGeom>
          <a:gradFill rotWithShape="0">
            <a:gsLst>
              <a:gs pos="0">
                <a:srgbClr val="4b4eb5"/>
              </a:gs>
              <a:gs pos="50000">
                <a:srgbClr val="ffffff"/>
              </a:gs>
              <a:gs pos="100000">
                <a:srgbClr val="4b4e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284720" y="3886200"/>
            <a:ext cx="22683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Homa"/>
                <a:cs typeface="Nazanin"/>
              </a:rPr>
              <a:t>بوسيله متخصصي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28600" y="3886200"/>
            <a:ext cx="35812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بوسيله استفاده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كنندگان نها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877080" y="3860640"/>
            <a:ext cx="201600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تعيين مشخصا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Group 9"/>
          <p:cNvGrpSpPr/>
          <p:nvPr/>
        </p:nvGrpSpPr>
        <p:grpSpPr>
          <a:xfrm>
            <a:off x="152280" y="4797360"/>
            <a:ext cx="8915400" cy="1191240"/>
            <a:chOff x="152280" y="4797360"/>
            <a:chExt cx="8915400" cy="1191240"/>
          </a:xfrm>
        </p:grpSpPr>
        <p:sp>
          <p:nvSpPr>
            <p:cNvPr id="153" name="Text Box 10"/>
            <p:cNvSpPr/>
            <p:nvPr/>
          </p:nvSpPr>
          <p:spPr>
            <a:xfrm>
              <a:off x="6341400" y="4892400"/>
              <a:ext cx="272628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33cc"/>
                  </a:solidFill>
                  <a:latin typeface="Times New Roman"/>
                  <a:cs typeface="Nazanin"/>
                </a:rPr>
                <a:t>ماهيت فرآيند توليد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11"/>
            <p:cNvSpPr/>
            <p:nvPr/>
          </p:nvSpPr>
          <p:spPr>
            <a:xfrm>
              <a:off x="5301360" y="4889160"/>
              <a:ext cx="138456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Homa"/>
                  <a:cs typeface="Nazanin"/>
                </a:rPr>
                <a:t>مكانيكي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ext Box 12"/>
            <p:cNvSpPr/>
            <p:nvPr/>
          </p:nvSpPr>
          <p:spPr>
            <a:xfrm>
              <a:off x="152280" y="4797360"/>
              <a:ext cx="3690000" cy="119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Homa"/>
                  <a:cs typeface="Nazanin"/>
                </a:rPr>
                <a:t>فرآيند مهندسي كه براي هر كاربرد جديد منحصر به فرد است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6" name="Group 13"/>
          <p:cNvGrpSpPr/>
          <p:nvPr/>
        </p:nvGrpSpPr>
        <p:grpSpPr>
          <a:xfrm>
            <a:off x="2774160" y="5902200"/>
            <a:ext cx="6080760" cy="847440"/>
            <a:chOff x="2774160" y="5902200"/>
            <a:chExt cx="6080760" cy="847440"/>
          </a:xfrm>
        </p:grpSpPr>
        <p:sp>
          <p:nvSpPr>
            <p:cNvPr id="157" name="Text Box 14"/>
            <p:cNvSpPr/>
            <p:nvPr/>
          </p:nvSpPr>
          <p:spPr>
            <a:xfrm>
              <a:off x="6797520" y="5924160"/>
              <a:ext cx="205740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33cc"/>
                  </a:solidFill>
                  <a:latin typeface="Times New Roman"/>
                  <a:cs typeface="Nazanin"/>
                </a:rPr>
                <a:t>ماهيت محصول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Text Box 15"/>
            <p:cNvSpPr/>
            <p:nvPr/>
          </p:nvSpPr>
          <p:spPr>
            <a:xfrm>
              <a:off x="5420880" y="5902200"/>
              <a:ext cx="129312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فيزيكي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Text Box 16"/>
            <p:cNvSpPr/>
            <p:nvPr/>
          </p:nvSpPr>
          <p:spPr>
            <a:xfrm>
              <a:off x="2774160" y="5902200"/>
              <a:ext cx="1319040" cy="45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منطقي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0" name="Rectangle 17"/>
          <p:cNvSpPr/>
          <p:nvPr/>
        </p:nvSpPr>
        <p:spPr>
          <a:xfrm>
            <a:off x="4570200" y="313704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Nazanin"/>
              </a:rPr>
              <a:t>سخت</a:t>
            </a:r>
            <a:r>
              <a:rPr b="1" lang="fa-IR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Nazanin"/>
              </a:rPr>
              <a:t>افز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542240" y="3124080"/>
            <a:ext cx="16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Nazanin"/>
              </a:rPr>
              <a:t>نرم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Homa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Nazanin"/>
              </a:rPr>
              <a:t>افز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528F-034E-467A-B154-435D9B56DE2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1476360" y="2133720"/>
          <a:ext cx="6248520" cy="36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133720"/>
                    <a:ext cx="624852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فاوت نرم‌افزار و سخ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فزار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4000" y="1700280"/>
            <a:ext cx="796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3300"/>
                </a:solidFill>
                <a:latin typeface="Times New Roman"/>
                <a:cs typeface="Nazanin"/>
              </a:rPr>
              <a:t>نرم</a:t>
            </a:r>
            <a:r>
              <a:rPr b="1" lang="ar-SA" sz="2800" spc="-1" strike="noStrike">
                <a:solidFill>
                  <a:srgbClr val="663300"/>
                </a:solidFill>
                <a:latin typeface="Times New Roman"/>
                <a:ea typeface="Lotus"/>
              </a:rPr>
              <a:t>‌</a:t>
            </a:r>
            <a:r>
              <a:rPr b="1" lang="ar-SA" sz="2800" spc="-1" strike="noStrike">
                <a:solidFill>
                  <a:srgbClr val="663300"/>
                </a:solidFill>
                <a:latin typeface="Times New Roman"/>
                <a:cs typeface="Nazanin"/>
              </a:rPr>
              <a:t>افزار با گذشت زمان دچار فرسودگي نشده بلكه فاسد مي</a:t>
            </a:r>
            <a:r>
              <a:rPr b="1" lang="fa-IR" sz="2800" spc="-1" strike="noStrike">
                <a:solidFill>
                  <a:srgbClr val="663300"/>
                </a:solidFill>
                <a:latin typeface="Times New Roman"/>
                <a:ea typeface="Nazanin"/>
              </a:rPr>
              <a:t>‌</a:t>
            </a:r>
            <a:r>
              <a:rPr b="1" lang="ar-SA" sz="2800" spc="-1" strike="noStrike">
                <a:solidFill>
                  <a:srgbClr val="663300"/>
                </a:solidFill>
                <a:latin typeface="Times New Roman"/>
                <a:cs typeface="Nazanin"/>
              </a:rPr>
              <a:t>گرد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8443800" y="1763640"/>
            <a:ext cx="304920" cy="304920"/>
          </a:xfrm>
          <a:prstGeom prst="ellipse">
            <a:avLst/>
          </a:prstGeom>
          <a:gradFill rotWithShape="0">
            <a:gsLst>
              <a:gs pos="0">
                <a:srgbClr val="4b4eb5"/>
              </a:gs>
              <a:gs pos="50000">
                <a:srgbClr val="ffffff"/>
              </a:gs>
              <a:gs pos="100000">
                <a:srgbClr val="4b4e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124000" y="606744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منحني نرخ خرابي سخت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افزار نسبت به زم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343400" y="5734080"/>
            <a:ext cx="6094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 (Arabic)"/>
                <a:cs typeface="Homa"/>
              </a:rPr>
              <a:t>زمان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539640" y="3718080"/>
            <a:ext cx="990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 (Arabic)"/>
                <a:cs typeface="Homa"/>
              </a:rPr>
              <a:t>نرخ خراب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" name="Group 10"/>
          <p:cNvGrpSpPr/>
          <p:nvPr/>
        </p:nvGrpSpPr>
        <p:grpSpPr>
          <a:xfrm>
            <a:off x="2362320" y="3336840"/>
            <a:ext cx="1828800" cy="1676160"/>
            <a:chOff x="2362320" y="3336840"/>
            <a:chExt cx="1828800" cy="1676160"/>
          </a:xfrm>
        </p:grpSpPr>
        <p:sp>
          <p:nvSpPr>
            <p:cNvPr id="172" name="Line 11"/>
            <p:cNvSpPr/>
            <p:nvPr/>
          </p:nvSpPr>
          <p:spPr>
            <a:xfrm flipH="1">
              <a:off x="3047760" y="4098600"/>
              <a:ext cx="75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2362320" y="333684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Times New Roman"/>
                  <a:cs typeface="Homa"/>
                </a:rPr>
                <a:t>پس از رفع خطاهاي طراحي و ساخت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4" name="Group 13"/>
          <p:cNvGrpSpPr/>
          <p:nvPr/>
        </p:nvGrpSpPr>
        <p:grpSpPr>
          <a:xfrm>
            <a:off x="5029200" y="3565440"/>
            <a:ext cx="1828800" cy="1371600"/>
            <a:chOff x="5029200" y="3565440"/>
            <a:chExt cx="1828800" cy="1371600"/>
          </a:xfrm>
        </p:grpSpPr>
        <p:sp>
          <p:nvSpPr>
            <p:cNvPr id="175" name="Line 14"/>
            <p:cNvSpPr/>
            <p:nvPr/>
          </p:nvSpPr>
          <p:spPr>
            <a:xfrm>
              <a:off x="6400800" y="4098600"/>
              <a:ext cx="1522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Text Box 15"/>
            <p:cNvSpPr/>
            <p:nvPr/>
          </p:nvSpPr>
          <p:spPr>
            <a:xfrm>
              <a:off x="5029200" y="356544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Times New Roman"/>
                  <a:cs typeface="Homa"/>
                </a:rPr>
                <a:t>آغاز فرسودگي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74A2-708B-4B7C-8E54-AF153683B84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فاوت نرم‌افزار و سخ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فزار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825480" y="1557360"/>
            <a:ext cx="7315200" cy="4076640"/>
            <a:chOff x="825480" y="1557360"/>
            <a:chExt cx="7315200" cy="4076640"/>
          </a:xfrm>
        </p:grpSpPr>
        <p:graphicFrame>
          <p:nvGraphicFramePr>
            <p:cNvPr id="180" name="Object 5"/>
            <p:cNvGraphicFramePr/>
            <p:nvPr/>
          </p:nvGraphicFramePr>
          <p:xfrm>
            <a:off x="1663920" y="1557360"/>
            <a:ext cx="6476760" cy="378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63920" y="1557360"/>
                      <a:ext cx="6476760" cy="378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6"/>
            <p:cNvSpPr/>
            <p:nvPr/>
          </p:nvSpPr>
          <p:spPr>
            <a:xfrm>
              <a:off x="4559400" y="5291280"/>
              <a:ext cx="6094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 (Arabic)"/>
                  <a:cs typeface="Homa"/>
                </a:rPr>
                <a:t>زمان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825480" y="3386160"/>
              <a:ext cx="990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 (Arabic)"/>
                  <a:cs typeface="Homa"/>
                </a:rPr>
                <a:t>نرخ خرابي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" name="Text Box 8"/>
          <p:cNvSpPr/>
          <p:nvPr/>
        </p:nvSpPr>
        <p:spPr>
          <a:xfrm>
            <a:off x="1816200" y="578016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منحني نرخ خرابي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ايده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آل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 نرم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ea typeface="Lotus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افزار نسبت به زم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D288-14EC-4829-BAD7-724114345CF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فاوت نرم‌افزار و سخ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فزار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1187280" y="2081160"/>
          <a:ext cx="646128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081160"/>
                    <a:ext cx="646128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Line 5"/>
          <p:cNvSpPr/>
          <p:nvPr/>
        </p:nvSpPr>
        <p:spPr>
          <a:xfrm>
            <a:off x="2940120" y="38336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558880" y="345276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 (Arabic)"/>
                <a:cs typeface="Homa"/>
              </a:rPr>
              <a:t>تغيي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2940120" y="2386080"/>
            <a:ext cx="482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1568520" y="1700280"/>
            <a:ext cx="2514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Homa"/>
              </a:rPr>
              <a:t>نرخ خرابي افزايش يافته به علت تاثيرات جانب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9"/>
          <p:cNvSpPr/>
          <p:nvPr/>
        </p:nvSpPr>
        <p:spPr>
          <a:xfrm flipH="1" flipV="1">
            <a:off x="6399360" y="3808080"/>
            <a:ext cx="81576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7130880" y="3986280"/>
            <a:ext cx="1486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Homa"/>
              </a:rPr>
              <a:t>منحني واقع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750000" y="4900680"/>
            <a:ext cx="1523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Homa"/>
              </a:rPr>
              <a:t>منحني ايده آ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339920" y="581508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منحني نرخ خرابي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Nazanin"/>
              </a:rPr>
              <a:t>واقعي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 نرم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  <a:ea typeface="Lotus"/>
              </a:rPr>
              <a:t>‌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افزار نسبت به زم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6D2E-6F01-4AFD-B350-D559F2DF0E7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فاوت نرم‌افزار و سخ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فزار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Freeform 4"/>
          <p:cNvSpPr/>
          <p:nvPr/>
        </p:nvSpPr>
        <p:spPr>
          <a:xfrm>
            <a:off x="1709640" y="2174760"/>
            <a:ext cx="5384880" cy="3565800"/>
          </a:xfrm>
          <a:custGeom>
            <a:avLst/>
            <a:gdLst>
              <a:gd name="textAreaLeft" fmla="*/ 0 w 5384880"/>
              <a:gd name="textAreaRight" fmla="*/ 5385240 w 5384880"/>
              <a:gd name="textAreaTop" fmla="*/ 0 h 3565800"/>
              <a:gd name="textAreaBottom" fmla="*/ 3566160 h 3565800"/>
            </a:gdLst>
            <a:ahLst/>
            <a:rect l="textAreaLeft" t="textAreaTop" r="textAreaRight" b="textAreaBottom"/>
            <a:pathLst>
              <a:path w="3652" h="2433">
                <a:moveTo>
                  <a:pt x="0" y="2433"/>
                </a:moveTo>
                <a:lnTo>
                  <a:pt x="0" y="0"/>
                </a:lnTo>
                <a:lnTo>
                  <a:pt x="260" y="0"/>
                </a:lnTo>
                <a:lnTo>
                  <a:pt x="520" y="136"/>
                </a:lnTo>
                <a:lnTo>
                  <a:pt x="780" y="136"/>
                </a:lnTo>
                <a:lnTo>
                  <a:pt x="1046" y="271"/>
                </a:lnTo>
                <a:lnTo>
                  <a:pt x="1306" y="542"/>
                </a:lnTo>
                <a:lnTo>
                  <a:pt x="1566" y="813"/>
                </a:lnTo>
                <a:lnTo>
                  <a:pt x="1826" y="1084"/>
                </a:lnTo>
                <a:lnTo>
                  <a:pt x="2086" y="1349"/>
                </a:lnTo>
                <a:lnTo>
                  <a:pt x="2346" y="1620"/>
                </a:lnTo>
                <a:lnTo>
                  <a:pt x="2606" y="1891"/>
                </a:lnTo>
                <a:lnTo>
                  <a:pt x="2872" y="2027"/>
                </a:lnTo>
                <a:lnTo>
                  <a:pt x="3132" y="2027"/>
                </a:lnTo>
                <a:lnTo>
                  <a:pt x="3392" y="2162"/>
                </a:lnTo>
                <a:lnTo>
                  <a:pt x="3652" y="2162"/>
                </a:lnTo>
                <a:lnTo>
                  <a:pt x="3652" y="2433"/>
                </a:lnTo>
                <a:lnTo>
                  <a:pt x="3392" y="2433"/>
                </a:lnTo>
                <a:lnTo>
                  <a:pt x="3132" y="2433"/>
                </a:lnTo>
                <a:lnTo>
                  <a:pt x="2872" y="2433"/>
                </a:lnTo>
                <a:lnTo>
                  <a:pt x="2606" y="2433"/>
                </a:lnTo>
                <a:lnTo>
                  <a:pt x="2346" y="2433"/>
                </a:lnTo>
                <a:lnTo>
                  <a:pt x="2086" y="2433"/>
                </a:lnTo>
                <a:lnTo>
                  <a:pt x="1826" y="2433"/>
                </a:lnTo>
                <a:lnTo>
                  <a:pt x="1566" y="2433"/>
                </a:lnTo>
                <a:lnTo>
                  <a:pt x="1306" y="2433"/>
                </a:lnTo>
                <a:lnTo>
                  <a:pt x="1046" y="2433"/>
                </a:lnTo>
                <a:lnTo>
                  <a:pt x="780" y="2433"/>
                </a:lnTo>
                <a:lnTo>
                  <a:pt x="520" y="2433"/>
                </a:lnTo>
                <a:lnTo>
                  <a:pt x="260" y="2433"/>
                </a:lnTo>
                <a:lnTo>
                  <a:pt x="0" y="243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Freeform 5"/>
          <p:cNvSpPr/>
          <p:nvPr/>
        </p:nvSpPr>
        <p:spPr>
          <a:xfrm>
            <a:off x="1709640" y="1778040"/>
            <a:ext cx="5384880" cy="3564000"/>
          </a:xfrm>
          <a:custGeom>
            <a:avLst/>
            <a:gdLst>
              <a:gd name="textAreaLeft" fmla="*/ 0 w 5384880"/>
              <a:gd name="textAreaRight" fmla="*/ 5385240 w 5384880"/>
              <a:gd name="textAreaTop" fmla="*/ 0 h 3564000"/>
              <a:gd name="textAreaBottom" fmla="*/ 3564360 h 3564000"/>
            </a:gdLst>
            <a:ahLst/>
            <a:rect l="textAreaLeft" t="textAreaTop" r="textAreaRight" b="textAreaBottom"/>
            <a:pathLst>
              <a:path w="3652" h="2433">
                <a:moveTo>
                  <a:pt x="0" y="271"/>
                </a:moveTo>
                <a:lnTo>
                  <a:pt x="0" y="0"/>
                </a:lnTo>
                <a:lnTo>
                  <a:pt x="260" y="0"/>
                </a:lnTo>
                <a:lnTo>
                  <a:pt x="520" y="0"/>
                </a:lnTo>
                <a:lnTo>
                  <a:pt x="780" y="0"/>
                </a:lnTo>
                <a:lnTo>
                  <a:pt x="1046" y="0"/>
                </a:lnTo>
                <a:lnTo>
                  <a:pt x="1306" y="0"/>
                </a:lnTo>
                <a:lnTo>
                  <a:pt x="1566" y="0"/>
                </a:lnTo>
                <a:lnTo>
                  <a:pt x="1826" y="0"/>
                </a:lnTo>
                <a:lnTo>
                  <a:pt x="2086" y="0"/>
                </a:lnTo>
                <a:lnTo>
                  <a:pt x="2346" y="0"/>
                </a:lnTo>
                <a:lnTo>
                  <a:pt x="2606" y="0"/>
                </a:lnTo>
                <a:lnTo>
                  <a:pt x="2872" y="0"/>
                </a:lnTo>
                <a:lnTo>
                  <a:pt x="3132" y="0"/>
                </a:lnTo>
                <a:lnTo>
                  <a:pt x="3392" y="0"/>
                </a:lnTo>
                <a:lnTo>
                  <a:pt x="3652" y="0"/>
                </a:lnTo>
                <a:lnTo>
                  <a:pt x="3652" y="2433"/>
                </a:lnTo>
                <a:lnTo>
                  <a:pt x="3392" y="2433"/>
                </a:lnTo>
                <a:lnTo>
                  <a:pt x="3132" y="2298"/>
                </a:lnTo>
                <a:lnTo>
                  <a:pt x="2872" y="2298"/>
                </a:lnTo>
                <a:lnTo>
                  <a:pt x="2606" y="2162"/>
                </a:lnTo>
                <a:lnTo>
                  <a:pt x="2346" y="1891"/>
                </a:lnTo>
                <a:lnTo>
                  <a:pt x="2086" y="1620"/>
                </a:lnTo>
                <a:lnTo>
                  <a:pt x="1826" y="1355"/>
                </a:lnTo>
                <a:lnTo>
                  <a:pt x="1566" y="1084"/>
                </a:lnTo>
                <a:lnTo>
                  <a:pt x="1306" y="813"/>
                </a:lnTo>
                <a:lnTo>
                  <a:pt x="1046" y="542"/>
                </a:lnTo>
                <a:lnTo>
                  <a:pt x="780" y="407"/>
                </a:lnTo>
                <a:lnTo>
                  <a:pt x="520" y="407"/>
                </a:lnTo>
                <a:lnTo>
                  <a:pt x="260" y="271"/>
                </a:lnTo>
                <a:lnTo>
                  <a:pt x="0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201560" y="5788080"/>
            <a:ext cx="59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7"/>
          <p:cNvSpPr/>
          <p:nvPr/>
        </p:nvSpPr>
        <p:spPr>
          <a:xfrm rot="16200000">
            <a:off x="1124280" y="3457440"/>
            <a:ext cx="86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oll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418480" y="4518000"/>
            <a:ext cx="2337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6633"/>
                </a:solidFill>
                <a:latin typeface="Arial"/>
              </a:rPr>
              <a:t>Hardware Cos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4512240" y="2444760"/>
            <a:ext cx="2225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00"/>
                </a:solidFill>
                <a:latin typeface="Arial"/>
              </a:rPr>
              <a:t>Software Cos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765080" y="5365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6496560" y="54324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4662-3BCB-4815-AB10-A98BD71FE39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فاوت نرم‌افزار و سخ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فزار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57200" y="1628640"/>
            <a:ext cx="76438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b4eb5"/>
                </a:solidFill>
                <a:latin typeface="Times New Roman"/>
                <a:cs typeface="Nazanin"/>
              </a:rPr>
              <a:t>بيشتر نرم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ea typeface="Lotus"/>
              </a:rPr>
              <a:t>‌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cs typeface="Nazanin"/>
              </a:rPr>
              <a:t>افزارها به شيوه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Nazanin"/>
              </a:rPr>
              <a:t>سنتي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ea typeface="Nazanin"/>
              </a:rPr>
              <a:t> ساخته مي</a:t>
            </a:r>
            <a:r>
              <a:rPr b="1" lang="fa-IR" sz="3200" spc="-1" strike="noStrike">
                <a:solidFill>
                  <a:srgbClr val="4b4eb5"/>
                </a:solidFill>
                <a:latin typeface="Times New Roman"/>
                <a:ea typeface="Lotus"/>
              </a:rPr>
              <a:t>‌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cs typeface="Nazanin"/>
              </a:rPr>
              <a:t>شوند و از تركيب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Nazanin"/>
              </a:rPr>
              <a:t>مولفه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Lotus"/>
              </a:rPr>
              <a:t>‌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Nazanin"/>
              </a:rPr>
              <a:t>هاي استاندارد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ea typeface="Nazanin"/>
              </a:rPr>
              <a:t> توليد نمي</a:t>
            </a:r>
            <a:r>
              <a:rPr b="1" lang="fa-IR" sz="3200" spc="-1" strike="noStrike">
                <a:solidFill>
                  <a:srgbClr val="4b4eb5"/>
                </a:solidFill>
                <a:latin typeface="Times New Roman"/>
                <a:ea typeface="Lotus"/>
              </a:rPr>
              <a:t>‌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cs typeface="Nazanin"/>
              </a:rPr>
              <a:t>گردن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8388360" y="2124000"/>
            <a:ext cx="304920" cy="304920"/>
          </a:xfrm>
          <a:prstGeom prst="ellipse">
            <a:avLst/>
          </a:prstGeom>
          <a:gradFill rotWithShape="0">
            <a:gsLst>
              <a:gs pos="0">
                <a:srgbClr val="4b4eb5"/>
              </a:gs>
              <a:gs pos="50000">
                <a:srgbClr val="ffffff"/>
              </a:gs>
              <a:gs pos="100000">
                <a:srgbClr val="4b4e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Freeform 12"/>
          <p:cNvSpPr/>
          <p:nvPr/>
        </p:nvSpPr>
        <p:spPr>
          <a:xfrm>
            <a:off x="2905200" y="4064040"/>
            <a:ext cx="1420560" cy="1382760"/>
          </a:xfrm>
          <a:custGeom>
            <a:avLst/>
            <a:gdLst>
              <a:gd name="textAreaLeft" fmla="*/ 0 w 1420560"/>
              <a:gd name="textAreaRight" fmla="*/ 1420560 w 142056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1790" h="1743">
                <a:moveTo>
                  <a:pt x="0" y="364"/>
                </a:moveTo>
                <a:lnTo>
                  <a:pt x="0" y="0"/>
                </a:lnTo>
                <a:lnTo>
                  <a:pt x="1789" y="0"/>
                </a:lnTo>
                <a:lnTo>
                  <a:pt x="1790" y="1392"/>
                </a:lnTo>
                <a:lnTo>
                  <a:pt x="1635" y="1392"/>
                </a:lnTo>
                <a:lnTo>
                  <a:pt x="1629" y="1404"/>
                </a:lnTo>
                <a:lnTo>
                  <a:pt x="1624" y="1421"/>
                </a:lnTo>
                <a:lnTo>
                  <a:pt x="1624" y="1435"/>
                </a:lnTo>
                <a:lnTo>
                  <a:pt x="1626" y="1452"/>
                </a:lnTo>
                <a:lnTo>
                  <a:pt x="1632" y="1474"/>
                </a:lnTo>
                <a:lnTo>
                  <a:pt x="1638" y="1502"/>
                </a:lnTo>
                <a:lnTo>
                  <a:pt x="1644" y="1521"/>
                </a:lnTo>
                <a:lnTo>
                  <a:pt x="1649" y="1544"/>
                </a:lnTo>
                <a:lnTo>
                  <a:pt x="1652" y="1566"/>
                </a:lnTo>
                <a:lnTo>
                  <a:pt x="1652" y="1588"/>
                </a:lnTo>
                <a:lnTo>
                  <a:pt x="1649" y="1608"/>
                </a:lnTo>
                <a:lnTo>
                  <a:pt x="1644" y="1629"/>
                </a:lnTo>
                <a:lnTo>
                  <a:pt x="1637" y="1650"/>
                </a:lnTo>
                <a:lnTo>
                  <a:pt x="1624" y="1665"/>
                </a:lnTo>
                <a:lnTo>
                  <a:pt x="1607" y="1684"/>
                </a:lnTo>
                <a:lnTo>
                  <a:pt x="1590" y="1698"/>
                </a:lnTo>
                <a:lnTo>
                  <a:pt x="1575" y="1712"/>
                </a:lnTo>
                <a:lnTo>
                  <a:pt x="1556" y="1723"/>
                </a:lnTo>
                <a:lnTo>
                  <a:pt x="1534" y="1730"/>
                </a:lnTo>
                <a:lnTo>
                  <a:pt x="1508" y="1738"/>
                </a:lnTo>
                <a:lnTo>
                  <a:pt x="1483" y="1741"/>
                </a:lnTo>
                <a:lnTo>
                  <a:pt x="1461" y="1743"/>
                </a:lnTo>
                <a:lnTo>
                  <a:pt x="1438" y="1743"/>
                </a:lnTo>
                <a:lnTo>
                  <a:pt x="1416" y="1741"/>
                </a:lnTo>
                <a:lnTo>
                  <a:pt x="1399" y="1738"/>
                </a:lnTo>
                <a:lnTo>
                  <a:pt x="1379" y="1732"/>
                </a:lnTo>
                <a:lnTo>
                  <a:pt x="1359" y="1726"/>
                </a:lnTo>
                <a:lnTo>
                  <a:pt x="1343" y="1716"/>
                </a:lnTo>
                <a:lnTo>
                  <a:pt x="1326" y="1704"/>
                </a:lnTo>
                <a:lnTo>
                  <a:pt x="1311" y="1689"/>
                </a:lnTo>
                <a:lnTo>
                  <a:pt x="1295" y="1671"/>
                </a:lnTo>
                <a:lnTo>
                  <a:pt x="1281" y="1654"/>
                </a:lnTo>
                <a:lnTo>
                  <a:pt x="1270" y="1636"/>
                </a:lnTo>
                <a:lnTo>
                  <a:pt x="1262" y="1612"/>
                </a:lnTo>
                <a:lnTo>
                  <a:pt x="1256" y="1586"/>
                </a:lnTo>
                <a:lnTo>
                  <a:pt x="1256" y="1561"/>
                </a:lnTo>
                <a:lnTo>
                  <a:pt x="1262" y="1536"/>
                </a:lnTo>
                <a:lnTo>
                  <a:pt x="1269" y="1511"/>
                </a:lnTo>
                <a:lnTo>
                  <a:pt x="1275" y="1487"/>
                </a:lnTo>
                <a:lnTo>
                  <a:pt x="1283" y="1459"/>
                </a:lnTo>
                <a:lnTo>
                  <a:pt x="1286" y="1437"/>
                </a:lnTo>
                <a:lnTo>
                  <a:pt x="1286" y="1424"/>
                </a:lnTo>
                <a:lnTo>
                  <a:pt x="1284" y="1414"/>
                </a:lnTo>
                <a:lnTo>
                  <a:pt x="1279" y="1401"/>
                </a:lnTo>
                <a:lnTo>
                  <a:pt x="981" y="1401"/>
                </a:lnTo>
                <a:lnTo>
                  <a:pt x="986" y="1348"/>
                </a:lnTo>
                <a:lnTo>
                  <a:pt x="984" y="1319"/>
                </a:lnTo>
                <a:lnTo>
                  <a:pt x="981" y="1291"/>
                </a:lnTo>
                <a:lnTo>
                  <a:pt x="978" y="1264"/>
                </a:lnTo>
                <a:lnTo>
                  <a:pt x="973" y="1247"/>
                </a:lnTo>
                <a:lnTo>
                  <a:pt x="966" y="1232"/>
                </a:lnTo>
                <a:lnTo>
                  <a:pt x="956" y="1218"/>
                </a:lnTo>
                <a:lnTo>
                  <a:pt x="941" y="1205"/>
                </a:lnTo>
                <a:lnTo>
                  <a:pt x="924" y="1195"/>
                </a:lnTo>
                <a:lnTo>
                  <a:pt x="907" y="1188"/>
                </a:lnTo>
                <a:lnTo>
                  <a:pt x="891" y="1185"/>
                </a:lnTo>
                <a:lnTo>
                  <a:pt x="865" y="1184"/>
                </a:lnTo>
                <a:lnTo>
                  <a:pt x="834" y="1184"/>
                </a:lnTo>
                <a:lnTo>
                  <a:pt x="804" y="1187"/>
                </a:lnTo>
                <a:lnTo>
                  <a:pt x="772" y="1188"/>
                </a:lnTo>
                <a:lnTo>
                  <a:pt x="747" y="1191"/>
                </a:lnTo>
                <a:lnTo>
                  <a:pt x="714" y="1193"/>
                </a:lnTo>
                <a:lnTo>
                  <a:pt x="688" y="1191"/>
                </a:lnTo>
                <a:lnTo>
                  <a:pt x="664" y="1188"/>
                </a:lnTo>
                <a:lnTo>
                  <a:pt x="629" y="1181"/>
                </a:lnTo>
                <a:lnTo>
                  <a:pt x="605" y="1170"/>
                </a:lnTo>
                <a:lnTo>
                  <a:pt x="584" y="1154"/>
                </a:lnTo>
                <a:lnTo>
                  <a:pt x="570" y="1137"/>
                </a:lnTo>
                <a:lnTo>
                  <a:pt x="557" y="1118"/>
                </a:lnTo>
                <a:lnTo>
                  <a:pt x="548" y="1095"/>
                </a:lnTo>
                <a:lnTo>
                  <a:pt x="546" y="1070"/>
                </a:lnTo>
                <a:lnTo>
                  <a:pt x="546" y="1039"/>
                </a:lnTo>
                <a:lnTo>
                  <a:pt x="548" y="1016"/>
                </a:lnTo>
                <a:lnTo>
                  <a:pt x="546" y="993"/>
                </a:lnTo>
                <a:lnTo>
                  <a:pt x="540" y="966"/>
                </a:lnTo>
                <a:lnTo>
                  <a:pt x="535" y="951"/>
                </a:lnTo>
                <a:lnTo>
                  <a:pt x="528" y="935"/>
                </a:lnTo>
                <a:lnTo>
                  <a:pt x="518" y="924"/>
                </a:lnTo>
                <a:lnTo>
                  <a:pt x="509" y="915"/>
                </a:lnTo>
                <a:lnTo>
                  <a:pt x="489" y="906"/>
                </a:lnTo>
                <a:lnTo>
                  <a:pt x="466" y="895"/>
                </a:lnTo>
                <a:lnTo>
                  <a:pt x="439" y="887"/>
                </a:lnTo>
                <a:lnTo>
                  <a:pt x="408" y="879"/>
                </a:lnTo>
                <a:lnTo>
                  <a:pt x="377" y="873"/>
                </a:lnTo>
                <a:lnTo>
                  <a:pt x="344" y="868"/>
                </a:lnTo>
                <a:lnTo>
                  <a:pt x="321" y="861"/>
                </a:lnTo>
                <a:lnTo>
                  <a:pt x="296" y="853"/>
                </a:lnTo>
                <a:lnTo>
                  <a:pt x="271" y="844"/>
                </a:lnTo>
                <a:lnTo>
                  <a:pt x="254" y="830"/>
                </a:lnTo>
                <a:lnTo>
                  <a:pt x="234" y="812"/>
                </a:lnTo>
                <a:lnTo>
                  <a:pt x="220" y="797"/>
                </a:lnTo>
                <a:lnTo>
                  <a:pt x="208" y="778"/>
                </a:lnTo>
                <a:lnTo>
                  <a:pt x="198" y="757"/>
                </a:lnTo>
                <a:lnTo>
                  <a:pt x="195" y="733"/>
                </a:lnTo>
                <a:lnTo>
                  <a:pt x="195" y="711"/>
                </a:lnTo>
                <a:lnTo>
                  <a:pt x="200" y="691"/>
                </a:lnTo>
                <a:lnTo>
                  <a:pt x="208" y="662"/>
                </a:lnTo>
                <a:lnTo>
                  <a:pt x="215" y="632"/>
                </a:lnTo>
                <a:lnTo>
                  <a:pt x="219" y="606"/>
                </a:lnTo>
                <a:lnTo>
                  <a:pt x="225" y="579"/>
                </a:lnTo>
                <a:lnTo>
                  <a:pt x="228" y="553"/>
                </a:lnTo>
                <a:lnTo>
                  <a:pt x="225" y="525"/>
                </a:lnTo>
                <a:lnTo>
                  <a:pt x="219" y="500"/>
                </a:lnTo>
                <a:lnTo>
                  <a:pt x="209" y="475"/>
                </a:lnTo>
                <a:lnTo>
                  <a:pt x="197" y="452"/>
                </a:lnTo>
                <a:lnTo>
                  <a:pt x="183" y="433"/>
                </a:lnTo>
                <a:lnTo>
                  <a:pt x="175" y="423"/>
                </a:lnTo>
                <a:lnTo>
                  <a:pt x="161" y="409"/>
                </a:lnTo>
                <a:lnTo>
                  <a:pt x="147" y="396"/>
                </a:lnTo>
                <a:lnTo>
                  <a:pt x="133" y="387"/>
                </a:lnTo>
                <a:lnTo>
                  <a:pt x="115" y="378"/>
                </a:lnTo>
                <a:lnTo>
                  <a:pt x="96" y="371"/>
                </a:lnTo>
                <a:lnTo>
                  <a:pt x="73" y="365"/>
                </a:lnTo>
                <a:lnTo>
                  <a:pt x="46" y="364"/>
                </a:lnTo>
                <a:lnTo>
                  <a:pt x="23" y="364"/>
                </a:lnTo>
                <a:lnTo>
                  <a:pt x="0" y="364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Freeform 13"/>
          <p:cNvSpPr/>
          <p:nvPr/>
        </p:nvSpPr>
        <p:spPr>
          <a:xfrm>
            <a:off x="2898720" y="5167440"/>
            <a:ext cx="1427040" cy="1158840"/>
          </a:xfrm>
          <a:custGeom>
            <a:avLst/>
            <a:gdLst>
              <a:gd name="textAreaLeft" fmla="*/ 0 w 1427040"/>
              <a:gd name="textAreaRight" fmla="*/ 1427400 w 142704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1798" h="1460">
                <a:moveTo>
                  <a:pt x="0" y="1154"/>
                </a:moveTo>
                <a:lnTo>
                  <a:pt x="0" y="1460"/>
                </a:lnTo>
                <a:lnTo>
                  <a:pt x="1798" y="1460"/>
                </a:lnTo>
                <a:lnTo>
                  <a:pt x="1797" y="0"/>
                </a:lnTo>
                <a:lnTo>
                  <a:pt x="1637" y="0"/>
                </a:lnTo>
                <a:lnTo>
                  <a:pt x="1629" y="28"/>
                </a:lnTo>
                <a:lnTo>
                  <a:pt x="1629" y="48"/>
                </a:lnTo>
                <a:lnTo>
                  <a:pt x="1634" y="76"/>
                </a:lnTo>
                <a:lnTo>
                  <a:pt x="1643" y="106"/>
                </a:lnTo>
                <a:lnTo>
                  <a:pt x="1652" y="142"/>
                </a:lnTo>
                <a:lnTo>
                  <a:pt x="1657" y="170"/>
                </a:lnTo>
                <a:lnTo>
                  <a:pt x="1657" y="194"/>
                </a:lnTo>
                <a:lnTo>
                  <a:pt x="1654" y="222"/>
                </a:lnTo>
                <a:lnTo>
                  <a:pt x="1646" y="249"/>
                </a:lnTo>
                <a:lnTo>
                  <a:pt x="1629" y="274"/>
                </a:lnTo>
                <a:lnTo>
                  <a:pt x="1609" y="295"/>
                </a:lnTo>
                <a:lnTo>
                  <a:pt x="1587" y="316"/>
                </a:lnTo>
                <a:lnTo>
                  <a:pt x="1562" y="330"/>
                </a:lnTo>
                <a:lnTo>
                  <a:pt x="1533" y="340"/>
                </a:lnTo>
                <a:lnTo>
                  <a:pt x="1506" y="347"/>
                </a:lnTo>
                <a:lnTo>
                  <a:pt x="1469" y="348"/>
                </a:lnTo>
                <a:lnTo>
                  <a:pt x="1426" y="345"/>
                </a:lnTo>
                <a:lnTo>
                  <a:pt x="1398" y="340"/>
                </a:lnTo>
                <a:lnTo>
                  <a:pt x="1373" y="334"/>
                </a:lnTo>
                <a:lnTo>
                  <a:pt x="1350" y="320"/>
                </a:lnTo>
                <a:lnTo>
                  <a:pt x="1320" y="297"/>
                </a:lnTo>
                <a:lnTo>
                  <a:pt x="1301" y="275"/>
                </a:lnTo>
                <a:lnTo>
                  <a:pt x="1284" y="252"/>
                </a:lnTo>
                <a:lnTo>
                  <a:pt x="1275" y="227"/>
                </a:lnTo>
                <a:lnTo>
                  <a:pt x="1269" y="204"/>
                </a:lnTo>
                <a:lnTo>
                  <a:pt x="1269" y="177"/>
                </a:lnTo>
                <a:lnTo>
                  <a:pt x="1272" y="151"/>
                </a:lnTo>
                <a:lnTo>
                  <a:pt x="1278" y="126"/>
                </a:lnTo>
                <a:lnTo>
                  <a:pt x="1284" y="103"/>
                </a:lnTo>
                <a:lnTo>
                  <a:pt x="1292" y="78"/>
                </a:lnTo>
                <a:lnTo>
                  <a:pt x="1297" y="53"/>
                </a:lnTo>
                <a:lnTo>
                  <a:pt x="1297" y="31"/>
                </a:lnTo>
                <a:lnTo>
                  <a:pt x="1291" y="6"/>
                </a:lnTo>
                <a:lnTo>
                  <a:pt x="989" y="6"/>
                </a:lnTo>
                <a:lnTo>
                  <a:pt x="992" y="58"/>
                </a:lnTo>
                <a:lnTo>
                  <a:pt x="989" y="93"/>
                </a:lnTo>
                <a:lnTo>
                  <a:pt x="988" y="123"/>
                </a:lnTo>
                <a:lnTo>
                  <a:pt x="988" y="149"/>
                </a:lnTo>
                <a:lnTo>
                  <a:pt x="985" y="177"/>
                </a:lnTo>
                <a:lnTo>
                  <a:pt x="978" y="205"/>
                </a:lnTo>
                <a:lnTo>
                  <a:pt x="971" y="224"/>
                </a:lnTo>
                <a:lnTo>
                  <a:pt x="960" y="241"/>
                </a:lnTo>
                <a:lnTo>
                  <a:pt x="944" y="255"/>
                </a:lnTo>
                <a:lnTo>
                  <a:pt x="927" y="266"/>
                </a:lnTo>
                <a:lnTo>
                  <a:pt x="907" y="272"/>
                </a:lnTo>
                <a:lnTo>
                  <a:pt x="885" y="275"/>
                </a:lnTo>
                <a:lnTo>
                  <a:pt x="865" y="277"/>
                </a:lnTo>
                <a:lnTo>
                  <a:pt x="839" y="277"/>
                </a:lnTo>
                <a:lnTo>
                  <a:pt x="814" y="274"/>
                </a:lnTo>
                <a:lnTo>
                  <a:pt x="794" y="272"/>
                </a:lnTo>
                <a:lnTo>
                  <a:pt x="767" y="271"/>
                </a:lnTo>
                <a:lnTo>
                  <a:pt x="739" y="267"/>
                </a:lnTo>
                <a:lnTo>
                  <a:pt x="708" y="267"/>
                </a:lnTo>
                <a:lnTo>
                  <a:pt x="682" y="271"/>
                </a:lnTo>
                <a:lnTo>
                  <a:pt x="655" y="274"/>
                </a:lnTo>
                <a:lnTo>
                  <a:pt x="627" y="281"/>
                </a:lnTo>
                <a:lnTo>
                  <a:pt x="607" y="292"/>
                </a:lnTo>
                <a:lnTo>
                  <a:pt x="585" y="306"/>
                </a:lnTo>
                <a:lnTo>
                  <a:pt x="571" y="325"/>
                </a:lnTo>
                <a:lnTo>
                  <a:pt x="557" y="345"/>
                </a:lnTo>
                <a:lnTo>
                  <a:pt x="551" y="365"/>
                </a:lnTo>
                <a:lnTo>
                  <a:pt x="548" y="389"/>
                </a:lnTo>
                <a:lnTo>
                  <a:pt x="551" y="412"/>
                </a:lnTo>
                <a:lnTo>
                  <a:pt x="553" y="437"/>
                </a:lnTo>
                <a:lnTo>
                  <a:pt x="551" y="463"/>
                </a:lnTo>
                <a:lnTo>
                  <a:pt x="547" y="483"/>
                </a:lnTo>
                <a:lnTo>
                  <a:pt x="540" y="505"/>
                </a:lnTo>
                <a:lnTo>
                  <a:pt x="531" y="525"/>
                </a:lnTo>
                <a:lnTo>
                  <a:pt x="519" y="539"/>
                </a:lnTo>
                <a:lnTo>
                  <a:pt x="498" y="553"/>
                </a:lnTo>
                <a:lnTo>
                  <a:pt x="474" y="563"/>
                </a:lnTo>
                <a:lnTo>
                  <a:pt x="449" y="570"/>
                </a:lnTo>
                <a:lnTo>
                  <a:pt x="425" y="577"/>
                </a:lnTo>
                <a:lnTo>
                  <a:pt x="401" y="583"/>
                </a:lnTo>
                <a:lnTo>
                  <a:pt x="368" y="589"/>
                </a:lnTo>
                <a:lnTo>
                  <a:pt x="343" y="594"/>
                </a:lnTo>
                <a:lnTo>
                  <a:pt x="317" y="601"/>
                </a:lnTo>
                <a:lnTo>
                  <a:pt x="295" y="609"/>
                </a:lnTo>
                <a:lnTo>
                  <a:pt x="273" y="618"/>
                </a:lnTo>
                <a:lnTo>
                  <a:pt x="256" y="631"/>
                </a:lnTo>
                <a:lnTo>
                  <a:pt x="241" y="643"/>
                </a:lnTo>
                <a:lnTo>
                  <a:pt x="223" y="664"/>
                </a:lnTo>
                <a:lnTo>
                  <a:pt x="213" y="682"/>
                </a:lnTo>
                <a:lnTo>
                  <a:pt x="203" y="704"/>
                </a:lnTo>
                <a:lnTo>
                  <a:pt x="199" y="730"/>
                </a:lnTo>
                <a:lnTo>
                  <a:pt x="202" y="755"/>
                </a:lnTo>
                <a:lnTo>
                  <a:pt x="205" y="780"/>
                </a:lnTo>
                <a:lnTo>
                  <a:pt x="213" y="810"/>
                </a:lnTo>
                <a:lnTo>
                  <a:pt x="220" y="842"/>
                </a:lnTo>
                <a:lnTo>
                  <a:pt x="227" y="872"/>
                </a:lnTo>
                <a:lnTo>
                  <a:pt x="230" y="895"/>
                </a:lnTo>
                <a:lnTo>
                  <a:pt x="230" y="917"/>
                </a:lnTo>
                <a:lnTo>
                  <a:pt x="227" y="946"/>
                </a:lnTo>
                <a:lnTo>
                  <a:pt x="219" y="971"/>
                </a:lnTo>
                <a:lnTo>
                  <a:pt x="213" y="993"/>
                </a:lnTo>
                <a:lnTo>
                  <a:pt x="203" y="1013"/>
                </a:lnTo>
                <a:lnTo>
                  <a:pt x="191" y="1039"/>
                </a:lnTo>
                <a:lnTo>
                  <a:pt x="174" y="1069"/>
                </a:lnTo>
                <a:lnTo>
                  <a:pt x="155" y="1091"/>
                </a:lnTo>
                <a:lnTo>
                  <a:pt x="136" y="1108"/>
                </a:lnTo>
                <a:lnTo>
                  <a:pt x="119" y="1123"/>
                </a:lnTo>
                <a:lnTo>
                  <a:pt x="101" y="1136"/>
                </a:lnTo>
                <a:lnTo>
                  <a:pt x="82" y="1144"/>
                </a:lnTo>
                <a:lnTo>
                  <a:pt x="56" y="1150"/>
                </a:lnTo>
                <a:lnTo>
                  <a:pt x="26" y="1154"/>
                </a:lnTo>
                <a:lnTo>
                  <a:pt x="0" y="1154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Freeform 14"/>
          <p:cNvSpPr/>
          <p:nvPr/>
        </p:nvSpPr>
        <p:spPr>
          <a:xfrm>
            <a:off x="1476360" y="4941720"/>
            <a:ext cx="1422360" cy="138456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384560"/>
              <a:gd name="textAreaBottom" fmla="*/ 1384920 h 1384560"/>
            </a:gdLst>
            <a:ahLst/>
            <a:rect l="textAreaLeft" t="textAreaTop" r="textAreaRight" b="textAreaBottom"/>
            <a:pathLst>
              <a:path w="1791" h="1742">
                <a:moveTo>
                  <a:pt x="1791" y="1435"/>
                </a:moveTo>
                <a:lnTo>
                  <a:pt x="1791" y="1742"/>
                </a:lnTo>
                <a:lnTo>
                  <a:pt x="1" y="1742"/>
                </a:lnTo>
                <a:lnTo>
                  <a:pt x="0" y="351"/>
                </a:lnTo>
                <a:lnTo>
                  <a:pt x="155" y="351"/>
                </a:lnTo>
                <a:lnTo>
                  <a:pt x="161" y="338"/>
                </a:lnTo>
                <a:lnTo>
                  <a:pt x="166" y="321"/>
                </a:lnTo>
                <a:lnTo>
                  <a:pt x="166" y="307"/>
                </a:lnTo>
                <a:lnTo>
                  <a:pt x="165" y="290"/>
                </a:lnTo>
                <a:lnTo>
                  <a:pt x="158" y="268"/>
                </a:lnTo>
                <a:lnTo>
                  <a:pt x="152" y="240"/>
                </a:lnTo>
                <a:lnTo>
                  <a:pt x="146" y="222"/>
                </a:lnTo>
                <a:lnTo>
                  <a:pt x="140" y="198"/>
                </a:lnTo>
                <a:lnTo>
                  <a:pt x="138" y="177"/>
                </a:lnTo>
                <a:lnTo>
                  <a:pt x="138" y="155"/>
                </a:lnTo>
                <a:lnTo>
                  <a:pt x="140" y="135"/>
                </a:lnTo>
                <a:lnTo>
                  <a:pt x="146" y="113"/>
                </a:lnTo>
                <a:lnTo>
                  <a:pt x="154" y="93"/>
                </a:lnTo>
                <a:lnTo>
                  <a:pt x="166" y="77"/>
                </a:lnTo>
                <a:lnTo>
                  <a:pt x="183" y="59"/>
                </a:lnTo>
                <a:lnTo>
                  <a:pt x="199" y="45"/>
                </a:lnTo>
                <a:lnTo>
                  <a:pt x="216" y="31"/>
                </a:lnTo>
                <a:lnTo>
                  <a:pt x="234" y="20"/>
                </a:lnTo>
                <a:lnTo>
                  <a:pt x="256" y="10"/>
                </a:lnTo>
                <a:lnTo>
                  <a:pt x="281" y="4"/>
                </a:lnTo>
                <a:lnTo>
                  <a:pt x="307" y="1"/>
                </a:lnTo>
                <a:lnTo>
                  <a:pt x="329" y="0"/>
                </a:lnTo>
                <a:lnTo>
                  <a:pt x="352" y="0"/>
                </a:lnTo>
                <a:lnTo>
                  <a:pt x="374" y="1"/>
                </a:lnTo>
                <a:lnTo>
                  <a:pt x="391" y="4"/>
                </a:lnTo>
                <a:lnTo>
                  <a:pt x="411" y="10"/>
                </a:lnTo>
                <a:lnTo>
                  <a:pt x="432" y="17"/>
                </a:lnTo>
                <a:lnTo>
                  <a:pt x="447" y="26"/>
                </a:lnTo>
                <a:lnTo>
                  <a:pt x="464" y="38"/>
                </a:lnTo>
                <a:lnTo>
                  <a:pt x="480" y="54"/>
                </a:lnTo>
                <a:lnTo>
                  <a:pt x="495" y="71"/>
                </a:lnTo>
                <a:lnTo>
                  <a:pt x="509" y="88"/>
                </a:lnTo>
                <a:lnTo>
                  <a:pt x="520" y="107"/>
                </a:lnTo>
                <a:lnTo>
                  <a:pt x="528" y="130"/>
                </a:lnTo>
                <a:lnTo>
                  <a:pt x="534" y="156"/>
                </a:lnTo>
                <a:lnTo>
                  <a:pt x="534" y="181"/>
                </a:lnTo>
                <a:lnTo>
                  <a:pt x="528" y="206"/>
                </a:lnTo>
                <a:lnTo>
                  <a:pt x="522" y="231"/>
                </a:lnTo>
                <a:lnTo>
                  <a:pt x="516" y="256"/>
                </a:lnTo>
                <a:lnTo>
                  <a:pt x="508" y="284"/>
                </a:lnTo>
                <a:lnTo>
                  <a:pt x="503" y="306"/>
                </a:lnTo>
                <a:lnTo>
                  <a:pt x="503" y="318"/>
                </a:lnTo>
                <a:lnTo>
                  <a:pt x="506" y="329"/>
                </a:lnTo>
                <a:lnTo>
                  <a:pt x="511" y="341"/>
                </a:lnTo>
                <a:lnTo>
                  <a:pt x="808" y="341"/>
                </a:lnTo>
                <a:lnTo>
                  <a:pt x="801" y="399"/>
                </a:lnTo>
                <a:lnTo>
                  <a:pt x="800" y="433"/>
                </a:lnTo>
                <a:lnTo>
                  <a:pt x="801" y="461"/>
                </a:lnTo>
                <a:lnTo>
                  <a:pt x="803" y="487"/>
                </a:lnTo>
                <a:lnTo>
                  <a:pt x="806" y="515"/>
                </a:lnTo>
                <a:lnTo>
                  <a:pt x="811" y="543"/>
                </a:lnTo>
                <a:lnTo>
                  <a:pt x="820" y="562"/>
                </a:lnTo>
                <a:lnTo>
                  <a:pt x="831" y="577"/>
                </a:lnTo>
                <a:lnTo>
                  <a:pt x="845" y="591"/>
                </a:lnTo>
                <a:lnTo>
                  <a:pt x="863" y="602"/>
                </a:lnTo>
                <a:lnTo>
                  <a:pt x="884" y="610"/>
                </a:lnTo>
                <a:lnTo>
                  <a:pt x="904" y="613"/>
                </a:lnTo>
                <a:lnTo>
                  <a:pt x="926" y="615"/>
                </a:lnTo>
                <a:lnTo>
                  <a:pt x="950" y="615"/>
                </a:lnTo>
                <a:lnTo>
                  <a:pt x="977" y="612"/>
                </a:lnTo>
                <a:lnTo>
                  <a:pt x="996" y="610"/>
                </a:lnTo>
                <a:lnTo>
                  <a:pt x="1023" y="607"/>
                </a:lnTo>
                <a:lnTo>
                  <a:pt x="1051" y="604"/>
                </a:lnTo>
                <a:lnTo>
                  <a:pt x="1083" y="604"/>
                </a:lnTo>
                <a:lnTo>
                  <a:pt x="1109" y="607"/>
                </a:lnTo>
                <a:lnTo>
                  <a:pt x="1135" y="612"/>
                </a:lnTo>
                <a:lnTo>
                  <a:pt x="1162" y="621"/>
                </a:lnTo>
                <a:lnTo>
                  <a:pt x="1183" y="630"/>
                </a:lnTo>
                <a:lnTo>
                  <a:pt x="1205" y="646"/>
                </a:lnTo>
                <a:lnTo>
                  <a:pt x="1219" y="663"/>
                </a:lnTo>
                <a:lnTo>
                  <a:pt x="1232" y="683"/>
                </a:lnTo>
                <a:lnTo>
                  <a:pt x="1239" y="705"/>
                </a:lnTo>
                <a:lnTo>
                  <a:pt x="1242" y="727"/>
                </a:lnTo>
                <a:lnTo>
                  <a:pt x="1239" y="751"/>
                </a:lnTo>
                <a:lnTo>
                  <a:pt x="1238" y="776"/>
                </a:lnTo>
                <a:lnTo>
                  <a:pt x="1239" y="801"/>
                </a:lnTo>
                <a:lnTo>
                  <a:pt x="1242" y="823"/>
                </a:lnTo>
                <a:lnTo>
                  <a:pt x="1250" y="843"/>
                </a:lnTo>
                <a:lnTo>
                  <a:pt x="1260" y="863"/>
                </a:lnTo>
                <a:lnTo>
                  <a:pt x="1272" y="877"/>
                </a:lnTo>
                <a:lnTo>
                  <a:pt x="1291" y="891"/>
                </a:lnTo>
                <a:lnTo>
                  <a:pt x="1315" y="900"/>
                </a:lnTo>
                <a:lnTo>
                  <a:pt x="1342" y="908"/>
                </a:lnTo>
                <a:lnTo>
                  <a:pt x="1364" y="914"/>
                </a:lnTo>
                <a:lnTo>
                  <a:pt x="1390" y="921"/>
                </a:lnTo>
                <a:lnTo>
                  <a:pt x="1421" y="927"/>
                </a:lnTo>
                <a:lnTo>
                  <a:pt x="1448" y="932"/>
                </a:lnTo>
                <a:lnTo>
                  <a:pt x="1474" y="939"/>
                </a:lnTo>
                <a:lnTo>
                  <a:pt x="1496" y="947"/>
                </a:lnTo>
                <a:lnTo>
                  <a:pt x="1517" y="956"/>
                </a:lnTo>
                <a:lnTo>
                  <a:pt x="1535" y="969"/>
                </a:lnTo>
                <a:lnTo>
                  <a:pt x="1548" y="981"/>
                </a:lnTo>
                <a:lnTo>
                  <a:pt x="1567" y="1001"/>
                </a:lnTo>
                <a:lnTo>
                  <a:pt x="1578" y="1020"/>
                </a:lnTo>
                <a:lnTo>
                  <a:pt x="1587" y="1040"/>
                </a:lnTo>
                <a:lnTo>
                  <a:pt x="1592" y="1068"/>
                </a:lnTo>
                <a:lnTo>
                  <a:pt x="1589" y="1095"/>
                </a:lnTo>
                <a:lnTo>
                  <a:pt x="1584" y="1118"/>
                </a:lnTo>
                <a:lnTo>
                  <a:pt x="1578" y="1147"/>
                </a:lnTo>
                <a:lnTo>
                  <a:pt x="1570" y="1180"/>
                </a:lnTo>
                <a:lnTo>
                  <a:pt x="1562" y="1210"/>
                </a:lnTo>
                <a:lnTo>
                  <a:pt x="1559" y="1234"/>
                </a:lnTo>
                <a:lnTo>
                  <a:pt x="1559" y="1255"/>
                </a:lnTo>
                <a:lnTo>
                  <a:pt x="1564" y="1284"/>
                </a:lnTo>
                <a:lnTo>
                  <a:pt x="1570" y="1309"/>
                </a:lnTo>
                <a:lnTo>
                  <a:pt x="1580" y="1328"/>
                </a:lnTo>
                <a:lnTo>
                  <a:pt x="1590" y="1346"/>
                </a:lnTo>
                <a:lnTo>
                  <a:pt x="1606" y="1366"/>
                </a:lnTo>
                <a:lnTo>
                  <a:pt x="1623" y="1387"/>
                </a:lnTo>
                <a:lnTo>
                  <a:pt x="1643" y="1404"/>
                </a:lnTo>
                <a:lnTo>
                  <a:pt x="1667" y="1418"/>
                </a:lnTo>
                <a:lnTo>
                  <a:pt x="1688" y="1426"/>
                </a:lnTo>
                <a:lnTo>
                  <a:pt x="1712" y="1432"/>
                </a:lnTo>
                <a:lnTo>
                  <a:pt x="1735" y="1435"/>
                </a:lnTo>
                <a:lnTo>
                  <a:pt x="1763" y="1436"/>
                </a:lnTo>
                <a:lnTo>
                  <a:pt x="1791" y="143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Freeform 15"/>
          <p:cNvSpPr/>
          <p:nvPr/>
        </p:nvSpPr>
        <p:spPr>
          <a:xfrm>
            <a:off x="1476360" y="4064040"/>
            <a:ext cx="1428840" cy="115884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1799" h="1460">
                <a:moveTo>
                  <a:pt x="1799" y="364"/>
                </a:moveTo>
                <a:lnTo>
                  <a:pt x="1799" y="0"/>
                </a:lnTo>
                <a:lnTo>
                  <a:pt x="0" y="0"/>
                </a:lnTo>
                <a:lnTo>
                  <a:pt x="1" y="1460"/>
                </a:lnTo>
                <a:lnTo>
                  <a:pt x="161" y="1460"/>
                </a:lnTo>
                <a:lnTo>
                  <a:pt x="169" y="1432"/>
                </a:lnTo>
                <a:lnTo>
                  <a:pt x="169" y="1412"/>
                </a:lnTo>
                <a:lnTo>
                  <a:pt x="165" y="1384"/>
                </a:lnTo>
                <a:lnTo>
                  <a:pt x="155" y="1355"/>
                </a:lnTo>
                <a:lnTo>
                  <a:pt x="146" y="1319"/>
                </a:lnTo>
                <a:lnTo>
                  <a:pt x="141" y="1291"/>
                </a:lnTo>
                <a:lnTo>
                  <a:pt x="140" y="1266"/>
                </a:lnTo>
                <a:lnTo>
                  <a:pt x="144" y="1238"/>
                </a:lnTo>
                <a:lnTo>
                  <a:pt x="152" y="1212"/>
                </a:lnTo>
                <a:lnTo>
                  <a:pt x="169" y="1185"/>
                </a:lnTo>
                <a:lnTo>
                  <a:pt x="189" y="1165"/>
                </a:lnTo>
                <a:lnTo>
                  <a:pt x="211" y="1145"/>
                </a:lnTo>
                <a:lnTo>
                  <a:pt x="236" y="1131"/>
                </a:lnTo>
                <a:lnTo>
                  <a:pt x="265" y="1118"/>
                </a:lnTo>
                <a:lnTo>
                  <a:pt x="292" y="1114"/>
                </a:lnTo>
                <a:lnTo>
                  <a:pt x="329" y="1112"/>
                </a:lnTo>
                <a:lnTo>
                  <a:pt x="373" y="1115"/>
                </a:lnTo>
                <a:lnTo>
                  <a:pt x="401" y="1118"/>
                </a:lnTo>
                <a:lnTo>
                  <a:pt x="425" y="1126"/>
                </a:lnTo>
                <a:lnTo>
                  <a:pt x="449" y="1140"/>
                </a:lnTo>
                <a:lnTo>
                  <a:pt x="478" y="1164"/>
                </a:lnTo>
                <a:lnTo>
                  <a:pt x="497" y="1185"/>
                </a:lnTo>
                <a:lnTo>
                  <a:pt x="514" y="1209"/>
                </a:lnTo>
                <a:lnTo>
                  <a:pt x="523" y="1233"/>
                </a:lnTo>
                <a:lnTo>
                  <a:pt x="530" y="1257"/>
                </a:lnTo>
                <a:lnTo>
                  <a:pt x="530" y="1283"/>
                </a:lnTo>
                <a:lnTo>
                  <a:pt x="526" y="1310"/>
                </a:lnTo>
                <a:lnTo>
                  <a:pt x="520" y="1334"/>
                </a:lnTo>
                <a:lnTo>
                  <a:pt x="514" y="1358"/>
                </a:lnTo>
                <a:lnTo>
                  <a:pt x="506" y="1383"/>
                </a:lnTo>
                <a:lnTo>
                  <a:pt x="502" y="1407"/>
                </a:lnTo>
                <a:lnTo>
                  <a:pt x="502" y="1429"/>
                </a:lnTo>
                <a:lnTo>
                  <a:pt x="508" y="1454"/>
                </a:lnTo>
                <a:lnTo>
                  <a:pt x="809" y="1454"/>
                </a:lnTo>
                <a:lnTo>
                  <a:pt x="806" y="1403"/>
                </a:lnTo>
                <a:lnTo>
                  <a:pt x="809" y="1365"/>
                </a:lnTo>
                <a:lnTo>
                  <a:pt x="809" y="1337"/>
                </a:lnTo>
                <a:lnTo>
                  <a:pt x="811" y="1311"/>
                </a:lnTo>
                <a:lnTo>
                  <a:pt x="814" y="1283"/>
                </a:lnTo>
                <a:lnTo>
                  <a:pt x="820" y="1255"/>
                </a:lnTo>
                <a:lnTo>
                  <a:pt x="828" y="1237"/>
                </a:lnTo>
                <a:lnTo>
                  <a:pt x="839" y="1219"/>
                </a:lnTo>
                <a:lnTo>
                  <a:pt x="854" y="1205"/>
                </a:lnTo>
                <a:lnTo>
                  <a:pt x="871" y="1195"/>
                </a:lnTo>
                <a:lnTo>
                  <a:pt x="891" y="1188"/>
                </a:lnTo>
                <a:lnTo>
                  <a:pt x="913" y="1185"/>
                </a:lnTo>
                <a:lnTo>
                  <a:pt x="933" y="1184"/>
                </a:lnTo>
                <a:lnTo>
                  <a:pt x="960" y="1184"/>
                </a:lnTo>
                <a:lnTo>
                  <a:pt x="985" y="1185"/>
                </a:lnTo>
                <a:lnTo>
                  <a:pt x="1005" y="1188"/>
                </a:lnTo>
                <a:lnTo>
                  <a:pt x="1031" y="1190"/>
                </a:lnTo>
                <a:lnTo>
                  <a:pt x="1059" y="1193"/>
                </a:lnTo>
                <a:lnTo>
                  <a:pt x="1090" y="1193"/>
                </a:lnTo>
                <a:lnTo>
                  <a:pt x="1117" y="1190"/>
                </a:lnTo>
                <a:lnTo>
                  <a:pt x="1143" y="1185"/>
                </a:lnTo>
                <a:lnTo>
                  <a:pt x="1171" y="1179"/>
                </a:lnTo>
                <a:lnTo>
                  <a:pt x="1191" y="1168"/>
                </a:lnTo>
                <a:lnTo>
                  <a:pt x="1213" y="1154"/>
                </a:lnTo>
                <a:lnTo>
                  <a:pt x="1227" y="1136"/>
                </a:lnTo>
                <a:lnTo>
                  <a:pt x="1241" y="1115"/>
                </a:lnTo>
                <a:lnTo>
                  <a:pt x="1247" y="1095"/>
                </a:lnTo>
                <a:lnTo>
                  <a:pt x="1250" y="1072"/>
                </a:lnTo>
                <a:lnTo>
                  <a:pt x="1247" y="1049"/>
                </a:lnTo>
                <a:lnTo>
                  <a:pt x="1246" y="1024"/>
                </a:lnTo>
                <a:lnTo>
                  <a:pt x="1247" y="997"/>
                </a:lnTo>
                <a:lnTo>
                  <a:pt x="1252" y="977"/>
                </a:lnTo>
                <a:lnTo>
                  <a:pt x="1258" y="955"/>
                </a:lnTo>
                <a:lnTo>
                  <a:pt x="1267" y="935"/>
                </a:lnTo>
                <a:lnTo>
                  <a:pt x="1280" y="921"/>
                </a:lnTo>
                <a:lnTo>
                  <a:pt x="1300" y="907"/>
                </a:lnTo>
                <a:lnTo>
                  <a:pt x="1325" y="898"/>
                </a:lnTo>
                <a:lnTo>
                  <a:pt x="1350" y="890"/>
                </a:lnTo>
                <a:lnTo>
                  <a:pt x="1373" y="884"/>
                </a:lnTo>
                <a:lnTo>
                  <a:pt x="1398" y="878"/>
                </a:lnTo>
                <a:lnTo>
                  <a:pt x="1430" y="871"/>
                </a:lnTo>
                <a:lnTo>
                  <a:pt x="1455" y="867"/>
                </a:lnTo>
                <a:lnTo>
                  <a:pt x="1482" y="859"/>
                </a:lnTo>
                <a:lnTo>
                  <a:pt x="1503" y="851"/>
                </a:lnTo>
                <a:lnTo>
                  <a:pt x="1525" y="842"/>
                </a:lnTo>
                <a:lnTo>
                  <a:pt x="1542" y="830"/>
                </a:lnTo>
                <a:lnTo>
                  <a:pt x="1558" y="817"/>
                </a:lnTo>
                <a:lnTo>
                  <a:pt x="1575" y="797"/>
                </a:lnTo>
                <a:lnTo>
                  <a:pt x="1586" y="778"/>
                </a:lnTo>
                <a:lnTo>
                  <a:pt x="1595" y="757"/>
                </a:lnTo>
                <a:lnTo>
                  <a:pt x="1600" y="729"/>
                </a:lnTo>
                <a:lnTo>
                  <a:pt x="1597" y="705"/>
                </a:lnTo>
                <a:lnTo>
                  <a:pt x="1594" y="680"/>
                </a:lnTo>
                <a:lnTo>
                  <a:pt x="1586" y="651"/>
                </a:lnTo>
                <a:lnTo>
                  <a:pt x="1578" y="618"/>
                </a:lnTo>
                <a:lnTo>
                  <a:pt x="1570" y="589"/>
                </a:lnTo>
                <a:lnTo>
                  <a:pt x="1569" y="565"/>
                </a:lnTo>
                <a:lnTo>
                  <a:pt x="1569" y="544"/>
                </a:lnTo>
                <a:lnTo>
                  <a:pt x="1572" y="514"/>
                </a:lnTo>
                <a:lnTo>
                  <a:pt x="1580" y="489"/>
                </a:lnTo>
                <a:lnTo>
                  <a:pt x="1587" y="471"/>
                </a:lnTo>
                <a:lnTo>
                  <a:pt x="1598" y="452"/>
                </a:lnTo>
                <a:lnTo>
                  <a:pt x="1614" y="432"/>
                </a:lnTo>
                <a:lnTo>
                  <a:pt x="1631" y="412"/>
                </a:lnTo>
                <a:lnTo>
                  <a:pt x="1653" y="395"/>
                </a:lnTo>
                <a:lnTo>
                  <a:pt x="1676" y="381"/>
                </a:lnTo>
                <a:lnTo>
                  <a:pt x="1698" y="373"/>
                </a:lnTo>
                <a:lnTo>
                  <a:pt x="1719" y="367"/>
                </a:lnTo>
                <a:lnTo>
                  <a:pt x="1743" y="364"/>
                </a:lnTo>
                <a:lnTo>
                  <a:pt x="1771" y="364"/>
                </a:lnTo>
                <a:lnTo>
                  <a:pt x="1799" y="364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Freeform 16"/>
          <p:cNvSpPr/>
          <p:nvPr/>
        </p:nvSpPr>
        <p:spPr>
          <a:xfrm>
            <a:off x="2106720" y="4349880"/>
            <a:ext cx="1582560" cy="173340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1733400"/>
              <a:gd name="textAreaBottom" fmla="*/ 1733760 h 1733400"/>
            </a:gdLst>
            <a:ahLst/>
            <a:rect l="textAreaLeft" t="textAreaTop" r="textAreaRight" b="textAreaBottom"/>
            <a:pathLst>
              <a:path w="1994" h="2186">
                <a:moveTo>
                  <a:pt x="759" y="457"/>
                </a:moveTo>
                <a:lnTo>
                  <a:pt x="779" y="432"/>
                </a:lnTo>
                <a:lnTo>
                  <a:pt x="793" y="409"/>
                </a:lnTo>
                <a:lnTo>
                  <a:pt x="801" y="383"/>
                </a:lnTo>
                <a:lnTo>
                  <a:pt x="801" y="348"/>
                </a:lnTo>
                <a:lnTo>
                  <a:pt x="792" y="310"/>
                </a:lnTo>
                <a:lnTo>
                  <a:pt x="784" y="277"/>
                </a:lnTo>
                <a:lnTo>
                  <a:pt x="773" y="237"/>
                </a:lnTo>
                <a:lnTo>
                  <a:pt x="768" y="193"/>
                </a:lnTo>
                <a:lnTo>
                  <a:pt x="773" y="167"/>
                </a:lnTo>
                <a:lnTo>
                  <a:pt x="781" y="134"/>
                </a:lnTo>
                <a:lnTo>
                  <a:pt x="796" y="100"/>
                </a:lnTo>
                <a:lnTo>
                  <a:pt x="818" y="67"/>
                </a:lnTo>
                <a:lnTo>
                  <a:pt x="846" y="41"/>
                </a:lnTo>
                <a:lnTo>
                  <a:pt x="871" y="21"/>
                </a:lnTo>
                <a:lnTo>
                  <a:pt x="905" y="8"/>
                </a:lnTo>
                <a:lnTo>
                  <a:pt x="946" y="2"/>
                </a:lnTo>
                <a:lnTo>
                  <a:pt x="989" y="0"/>
                </a:lnTo>
                <a:lnTo>
                  <a:pt x="1048" y="0"/>
                </a:lnTo>
                <a:lnTo>
                  <a:pt x="1095" y="5"/>
                </a:lnTo>
                <a:lnTo>
                  <a:pt x="1121" y="14"/>
                </a:lnTo>
                <a:lnTo>
                  <a:pt x="1141" y="27"/>
                </a:lnTo>
                <a:lnTo>
                  <a:pt x="1163" y="41"/>
                </a:lnTo>
                <a:lnTo>
                  <a:pt x="1185" y="63"/>
                </a:lnTo>
                <a:lnTo>
                  <a:pt x="1205" y="91"/>
                </a:lnTo>
                <a:lnTo>
                  <a:pt x="1220" y="115"/>
                </a:lnTo>
                <a:lnTo>
                  <a:pt x="1228" y="137"/>
                </a:lnTo>
                <a:lnTo>
                  <a:pt x="1234" y="174"/>
                </a:lnTo>
                <a:lnTo>
                  <a:pt x="1234" y="207"/>
                </a:lnTo>
                <a:lnTo>
                  <a:pt x="1230" y="240"/>
                </a:lnTo>
                <a:lnTo>
                  <a:pt x="1224" y="265"/>
                </a:lnTo>
                <a:lnTo>
                  <a:pt x="1216" y="305"/>
                </a:lnTo>
                <a:lnTo>
                  <a:pt x="1205" y="347"/>
                </a:lnTo>
                <a:lnTo>
                  <a:pt x="1200" y="373"/>
                </a:lnTo>
                <a:lnTo>
                  <a:pt x="1208" y="400"/>
                </a:lnTo>
                <a:lnTo>
                  <a:pt x="1217" y="418"/>
                </a:lnTo>
                <a:lnTo>
                  <a:pt x="1234" y="443"/>
                </a:lnTo>
                <a:lnTo>
                  <a:pt x="1259" y="463"/>
                </a:lnTo>
                <a:lnTo>
                  <a:pt x="1283" y="480"/>
                </a:lnTo>
                <a:lnTo>
                  <a:pt x="1317" y="494"/>
                </a:lnTo>
                <a:lnTo>
                  <a:pt x="1351" y="504"/>
                </a:lnTo>
                <a:lnTo>
                  <a:pt x="1384" y="511"/>
                </a:lnTo>
                <a:lnTo>
                  <a:pt x="1418" y="516"/>
                </a:lnTo>
                <a:lnTo>
                  <a:pt x="1453" y="525"/>
                </a:lnTo>
                <a:lnTo>
                  <a:pt x="1481" y="535"/>
                </a:lnTo>
                <a:lnTo>
                  <a:pt x="1503" y="546"/>
                </a:lnTo>
                <a:lnTo>
                  <a:pt x="1520" y="558"/>
                </a:lnTo>
                <a:lnTo>
                  <a:pt x="1533" y="572"/>
                </a:lnTo>
                <a:lnTo>
                  <a:pt x="1542" y="589"/>
                </a:lnTo>
                <a:lnTo>
                  <a:pt x="1550" y="609"/>
                </a:lnTo>
                <a:lnTo>
                  <a:pt x="1553" y="628"/>
                </a:lnTo>
                <a:lnTo>
                  <a:pt x="1556" y="645"/>
                </a:lnTo>
                <a:lnTo>
                  <a:pt x="1556" y="668"/>
                </a:lnTo>
                <a:lnTo>
                  <a:pt x="1553" y="695"/>
                </a:lnTo>
                <a:lnTo>
                  <a:pt x="1553" y="715"/>
                </a:lnTo>
                <a:lnTo>
                  <a:pt x="1558" y="740"/>
                </a:lnTo>
                <a:lnTo>
                  <a:pt x="1568" y="762"/>
                </a:lnTo>
                <a:lnTo>
                  <a:pt x="1581" y="780"/>
                </a:lnTo>
                <a:lnTo>
                  <a:pt x="1596" y="794"/>
                </a:lnTo>
                <a:lnTo>
                  <a:pt x="1617" y="810"/>
                </a:lnTo>
                <a:lnTo>
                  <a:pt x="1637" y="819"/>
                </a:lnTo>
                <a:lnTo>
                  <a:pt x="1668" y="825"/>
                </a:lnTo>
                <a:lnTo>
                  <a:pt x="1694" y="828"/>
                </a:lnTo>
                <a:lnTo>
                  <a:pt x="1719" y="830"/>
                </a:lnTo>
                <a:lnTo>
                  <a:pt x="1747" y="828"/>
                </a:lnTo>
                <a:lnTo>
                  <a:pt x="1781" y="825"/>
                </a:lnTo>
                <a:lnTo>
                  <a:pt x="1808" y="824"/>
                </a:lnTo>
                <a:lnTo>
                  <a:pt x="1834" y="821"/>
                </a:lnTo>
                <a:lnTo>
                  <a:pt x="1859" y="819"/>
                </a:lnTo>
                <a:lnTo>
                  <a:pt x="1888" y="821"/>
                </a:lnTo>
                <a:lnTo>
                  <a:pt x="1904" y="824"/>
                </a:lnTo>
                <a:lnTo>
                  <a:pt x="1923" y="828"/>
                </a:lnTo>
                <a:lnTo>
                  <a:pt x="1940" y="838"/>
                </a:lnTo>
                <a:lnTo>
                  <a:pt x="1958" y="852"/>
                </a:lnTo>
                <a:lnTo>
                  <a:pt x="1972" y="867"/>
                </a:lnTo>
                <a:lnTo>
                  <a:pt x="1983" y="890"/>
                </a:lnTo>
                <a:lnTo>
                  <a:pt x="1988" y="911"/>
                </a:lnTo>
                <a:lnTo>
                  <a:pt x="1991" y="936"/>
                </a:lnTo>
                <a:lnTo>
                  <a:pt x="1994" y="981"/>
                </a:lnTo>
                <a:lnTo>
                  <a:pt x="1992" y="1033"/>
                </a:lnTo>
                <a:lnTo>
                  <a:pt x="1994" y="1089"/>
                </a:lnTo>
                <a:lnTo>
                  <a:pt x="1989" y="1155"/>
                </a:lnTo>
                <a:lnTo>
                  <a:pt x="1985" y="1200"/>
                </a:lnTo>
                <a:lnTo>
                  <a:pt x="1980" y="1235"/>
                </a:lnTo>
                <a:lnTo>
                  <a:pt x="1972" y="1256"/>
                </a:lnTo>
                <a:lnTo>
                  <a:pt x="1960" y="1274"/>
                </a:lnTo>
                <a:lnTo>
                  <a:pt x="1946" y="1287"/>
                </a:lnTo>
                <a:lnTo>
                  <a:pt x="1927" y="1297"/>
                </a:lnTo>
                <a:lnTo>
                  <a:pt x="1905" y="1304"/>
                </a:lnTo>
                <a:lnTo>
                  <a:pt x="1887" y="1308"/>
                </a:lnTo>
                <a:lnTo>
                  <a:pt x="1848" y="1310"/>
                </a:lnTo>
                <a:lnTo>
                  <a:pt x="1814" y="1308"/>
                </a:lnTo>
                <a:lnTo>
                  <a:pt x="1786" y="1304"/>
                </a:lnTo>
                <a:lnTo>
                  <a:pt x="1761" y="1302"/>
                </a:lnTo>
                <a:lnTo>
                  <a:pt x="1733" y="1301"/>
                </a:lnTo>
                <a:lnTo>
                  <a:pt x="1708" y="1301"/>
                </a:lnTo>
                <a:lnTo>
                  <a:pt x="1686" y="1302"/>
                </a:lnTo>
                <a:lnTo>
                  <a:pt x="1663" y="1304"/>
                </a:lnTo>
                <a:lnTo>
                  <a:pt x="1635" y="1311"/>
                </a:lnTo>
                <a:lnTo>
                  <a:pt x="1620" y="1318"/>
                </a:lnTo>
                <a:lnTo>
                  <a:pt x="1606" y="1324"/>
                </a:lnTo>
                <a:lnTo>
                  <a:pt x="1587" y="1336"/>
                </a:lnTo>
                <a:lnTo>
                  <a:pt x="1575" y="1352"/>
                </a:lnTo>
                <a:lnTo>
                  <a:pt x="1565" y="1366"/>
                </a:lnTo>
                <a:lnTo>
                  <a:pt x="1556" y="1383"/>
                </a:lnTo>
                <a:lnTo>
                  <a:pt x="1551" y="1400"/>
                </a:lnTo>
                <a:lnTo>
                  <a:pt x="1550" y="1419"/>
                </a:lnTo>
                <a:lnTo>
                  <a:pt x="1551" y="1439"/>
                </a:lnTo>
                <a:lnTo>
                  <a:pt x="1551" y="1473"/>
                </a:lnTo>
                <a:lnTo>
                  <a:pt x="1550" y="1509"/>
                </a:lnTo>
                <a:lnTo>
                  <a:pt x="1540" y="1535"/>
                </a:lnTo>
                <a:lnTo>
                  <a:pt x="1531" y="1557"/>
                </a:lnTo>
                <a:lnTo>
                  <a:pt x="1517" y="1572"/>
                </a:lnTo>
                <a:lnTo>
                  <a:pt x="1497" y="1585"/>
                </a:lnTo>
                <a:lnTo>
                  <a:pt x="1477" y="1596"/>
                </a:lnTo>
                <a:lnTo>
                  <a:pt x="1453" y="1602"/>
                </a:lnTo>
                <a:lnTo>
                  <a:pt x="1424" y="1608"/>
                </a:lnTo>
                <a:lnTo>
                  <a:pt x="1399" y="1616"/>
                </a:lnTo>
                <a:lnTo>
                  <a:pt x="1370" y="1621"/>
                </a:lnTo>
                <a:lnTo>
                  <a:pt x="1345" y="1625"/>
                </a:lnTo>
                <a:lnTo>
                  <a:pt x="1317" y="1631"/>
                </a:lnTo>
                <a:lnTo>
                  <a:pt x="1295" y="1642"/>
                </a:lnTo>
                <a:lnTo>
                  <a:pt x="1270" y="1653"/>
                </a:lnTo>
                <a:lnTo>
                  <a:pt x="1247" y="1667"/>
                </a:lnTo>
                <a:lnTo>
                  <a:pt x="1230" y="1686"/>
                </a:lnTo>
                <a:lnTo>
                  <a:pt x="1214" y="1708"/>
                </a:lnTo>
                <a:lnTo>
                  <a:pt x="1202" y="1734"/>
                </a:lnTo>
                <a:lnTo>
                  <a:pt x="1199" y="1757"/>
                </a:lnTo>
                <a:lnTo>
                  <a:pt x="1200" y="1784"/>
                </a:lnTo>
                <a:lnTo>
                  <a:pt x="1205" y="1808"/>
                </a:lnTo>
                <a:lnTo>
                  <a:pt x="1213" y="1835"/>
                </a:lnTo>
                <a:lnTo>
                  <a:pt x="1219" y="1864"/>
                </a:lnTo>
                <a:lnTo>
                  <a:pt x="1224" y="1891"/>
                </a:lnTo>
                <a:lnTo>
                  <a:pt x="1230" y="1925"/>
                </a:lnTo>
                <a:lnTo>
                  <a:pt x="1230" y="1959"/>
                </a:lnTo>
                <a:lnTo>
                  <a:pt x="1222" y="1993"/>
                </a:lnTo>
                <a:lnTo>
                  <a:pt x="1214" y="2020"/>
                </a:lnTo>
                <a:lnTo>
                  <a:pt x="1205" y="2046"/>
                </a:lnTo>
                <a:lnTo>
                  <a:pt x="1193" y="2071"/>
                </a:lnTo>
                <a:lnTo>
                  <a:pt x="1175" y="2102"/>
                </a:lnTo>
                <a:lnTo>
                  <a:pt x="1157" y="2122"/>
                </a:lnTo>
                <a:lnTo>
                  <a:pt x="1141" y="2136"/>
                </a:lnTo>
                <a:lnTo>
                  <a:pt x="1121" y="2153"/>
                </a:lnTo>
                <a:lnTo>
                  <a:pt x="1099" y="2169"/>
                </a:lnTo>
                <a:lnTo>
                  <a:pt x="1079" y="2177"/>
                </a:lnTo>
                <a:lnTo>
                  <a:pt x="1060" y="2181"/>
                </a:lnTo>
                <a:lnTo>
                  <a:pt x="1029" y="2184"/>
                </a:lnTo>
                <a:lnTo>
                  <a:pt x="994" y="2186"/>
                </a:lnTo>
                <a:lnTo>
                  <a:pt x="950" y="2184"/>
                </a:lnTo>
                <a:lnTo>
                  <a:pt x="930" y="2184"/>
                </a:lnTo>
                <a:lnTo>
                  <a:pt x="904" y="2180"/>
                </a:lnTo>
                <a:lnTo>
                  <a:pt x="876" y="2172"/>
                </a:lnTo>
                <a:lnTo>
                  <a:pt x="851" y="2158"/>
                </a:lnTo>
                <a:lnTo>
                  <a:pt x="835" y="2146"/>
                </a:lnTo>
                <a:lnTo>
                  <a:pt x="818" y="2128"/>
                </a:lnTo>
                <a:lnTo>
                  <a:pt x="804" y="2113"/>
                </a:lnTo>
                <a:lnTo>
                  <a:pt x="790" y="2093"/>
                </a:lnTo>
                <a:lnTo>
                  <a:pt x="779" y="2073"/>
                </a:lnTo>
                <a:lnTo>
                  <a:pt x="770" y="2048"/>
                </a:lnTo>
                <a:lnTo>
                  <a:pt x="765" y="2021"/>
                </a:lnTo>
                <a:lnTo>
                  <a:pt x="764" y="2001"/>
                </a:lnTo>
                <a:lnTo>
                  <a:pt x="764" y="1973"/>
                </a:lnTo>
                <a:lnTo>
                  <a:pt x="765" y="1950"/>
                </a:lnTo>
                <a:lnTo>
                  <a:pt x="773" y="1925"/>
                </a:lnTo>
                <a:lnTo>
                  <a:pt x="779" y="1895"/>
                </a:lnTo>
                <a:lnTo>
                  <a:pt x="787" y="1868"/>
                </a:lnTo>
                <a:lnTo>
                  <a:pt x="792" y="1843"/>
                </a:lnTo>
                <a:lnTo>
                  <a:pt x="793" y="1819"/>
                </a:lnTo>
                <a:lnTo>
                  <a:pt x="792" y="1801"/>
                </a:lnTo>
                <a:lnTo>
                  <a:pt x="787" y="1782"/>
                </a:lnTo>
                <a:lnTo>
                  <a:pt x="775" y="1759"/>
                </a:lnTo>
                <a:lnTo>
                  <a:pt x="762" y="1743"/>
                </a:lnTo>
                <a:lnTo>
                  <a:pt x="747" y="1726"/>
                </a:lnTo>
                <a:lnTo>
                  <a:pt x="730" y="1714"/>
                </a:lnTo>
                <a:lnTo>
                  <a:pt x="713" y="1701"/>
                </a:lnTo>
                <a:lnTo>
                  <a:pt x="688" y="1692"/>
                </a:lnTo>
                <a:lnTo>
                  <a:pt x="666" y="1686"/>
                </a:lnTo>
                <a:lnTo>
                  <a:pt x="638" y="1680"/>
                </a:lnTo>
                <a:lnTo>
                  <a:pt x="613" y="1676"/>
                </a:lnTo>
                <a:lnTo>
                  <a:pt x="590" y="1670"/>
                </a:lnTo>
                <a:lnTo>
                  <a:pt x="562" y="1664"/>
                </a:lnTo>
                <a:lnTo>
                  <a:pt x="539" y="1655"/>
                </a:lnTo>
                <a:lnTo>
                  <a:pt x="511" y="1647"/>
                </a:lnTo>
                <a:lnTo>
                  <a:pt x="489" y="1638"/>
                </a:lnTo>
                <a:lnTo>
                  <a:pt x="472" y="1624"/>
                </a:lnTo>
                <a:lnTo>
                  <a:pt x="458" y="1605"/>
                </a:lnTo>
                <a:lnTo>
                  <a:pt x="448" y="1582"/>
                </a:lnTo>
                <a:lnTo>
                  <a:pt x="441" y="1551"/>
                </a:lnTo>
                <a:lnTo>
                  <a:pt x="439" y="1526"/>
                </a:lnTo>
                <a:lnTo>
                  <a:pt x="441" y="1498"/>
                </a:lnTo>
                <a:lnTo>
                  <a:pt x="444" y="1476"/>
                </a:lnTo>
                <a:lnTo>
                  <a:pt x="441" y="1450"/>
                </a:lnTo>
                <a:lnTo>
                  <a:pt x="433" y="1429"/>
                </a:lnTo>
                <a:lnTo>
                  <a:pt x="419" y="1408"/>
                </a:lnTo>
                <a:lnTo>
                  <a:pt x="405" y="1394"/>
                </a:lnTo>
                <a:lnTo>
                  <a:pt x="388" y="1380"/>
                </a:lnTo>
                <a:lnTo>
                  <a:pt x="365" y="1370"/>
                </a:lnTo>
                <a:lnTo>
                  <a:pt x="338" y="1361"/>
                </a:lnTo>
                <a:lnTo>
                  <a:pt x="310" y="1358"/>
                </a:lnTo>
                <a:lnTo>
                  <a:pt x="287" y="1355"/>
                </a:lnTo>
                <a:lnTo>
                  <a:pt x="261" y="1355"/>
                </a:lnTo>
                <a:lnTo>
                  <a:pt x="237" y="1358"/>
                </a:lnTo>
                <a:lnTo>
                  <a:pt x="214" y="1360"/>
                </a:lnTo>
                <a:lnTo>
                  <a:pt x="191" y="1363"/>
                </a:lnTo>
                <a:lnTo>
                  <a:pt x="167" y="1366"/>
                </a:lnTo>
                <a:lnTo>
                  <a:pt x="129" y="1366"/>
                </a:lnTo>
                <a:lnTo>
                  <a:pt x="104" y="1364"/>
                </a:lnTo>
                <a:lnTo>
                  <a:pt x="77" y="1358"/>
                </a:lnTo>
                <a:lnTo>
                  <a:pt x="59" y="1349"/>
                </a:lnTo>
                <a:lnTo>
                  <a:pt x="38" y="1333"/>
                </a:lnTo>
                <a:lnTo>
                  <a:pt x="24" y="1316"/>
                </a:lnTo>
                <a:lnTo>
                  <a:pt x="15" y="1297"/>
                </a:lnTo>
                <a:lnTo>
                  <a:pt x="4" y="1262"/>
                </a:lnTo>
                <a:lnTo>
                  <a:pt x="3" y="1224"/>
                </a:lnTo>
                <a:lnTo>
                  <a:pt x="1" y="1187"/>
                </a:lnTo>
                <a:lnTo>
                  <a:pt x="0" y="1141"/>
                </a:lnTo>
                <a:lnTo>
                  <a:pt x="3" y="1100"/>
                </a:lnTo>
                <a:lnTo>
                  <a:pt x="4" y="1057"/>
                </a:lnTo>
                <a:lnTo>
                  <a:pt x="6" y="1018"/>
                </a:lnTo>
                <a:lnTo>
                  <a:pt x="9" y="977"/>
                </a:lnTo>
                <a:lnTo>
                  <a:pt x="14" y="946"/>
                </a:lnTo>
                <a:lnTo>
                  <a:pt x="18" y="912"/>
                </a:lnTo>
                <a:lnTo>
                  <a:pt x="24" y="886"/>
                </a:lnTo>
                <a:lnTo>
                  <a:pt x="34" y="869"/>
                </a:lnTo>
                <a:lnTo>
                  <a:pt x="48" y="852"/>
                </a:lnTo>
                <a:lnTo>
                  <a:pt x="62" y="841"/>
                </a:lnTo>
                <a:lnTo>
                  <a:pt x="80" y="828"/>
                </a:lnTo>
                <a:lnTo>
                  <a:pt x="97" y="825"/>
                </a:lnTo>
                <a:lnTo>
                  <a:pt x="119" y="821"/>
                </a:lnTo>
                <a:lnTo>
                  <a:pt x="147" y="819"/>
                </a:lnTo>
                <a:lnTo>
                  <a:pt x="172" y="821"/>
                </a:lnTo>
                <a:lnTo>
                  <a:pt x="206" y="825"/>
                </a:lnTo>
                <a:lnTo>
                  <a:pt x="236" y="827"/>
                </a:lnTo>
                <a:lnTo>
                  <a:pt x="261" y="828"/>
                </a:lnTo>
                <a:lnTo>
                  <a:pt x="295" y="830"/>
                </a:lnTo>
                <a:lnTo>
                  <a:pt x="330" y="825"/>
                </a:lnTo>
                <a:lnTo>
                  <a:pt x="360" y="819"/>
                </a:lnTo>
                <a:lnTo>
                  <a:pt x="388" y="808"/>
                </a:lnTo>
                <a:lnTo>
                  <a:pt x="407" y="797"/>
                </a:lnTo>
                <a:lnTo>
                  <a:pt x="425" y="780"/>
                </a:lnTo>
                <a:lnTo>
                  <a:pt x="439" y="758"/>
                </a:lnTo>
                <a:lnTo>
                  <a:pt x="448" y="737"/>
                </a:lnTo>
                <a:lnTo>
                  <a:pt x="452" y="713"/>
                </a:lnTo>
                <a:lnTo>
                  <a:pt x="450" y="696"/>
                </a:lnTo>
                <a:lnTo>
                  <a:pt x="448" y="664"/>
                </a:lnTo>
                <a:lnTo>
                  <a:pt x="450" y="631"/>
                </a:lnTo>
                <a:lnTo>
                  <a:pt x="456" y="606"/>
                </a:lnTo>
                <a:lnTo>
                  <a:pt x="464" y="583"/>
                </a:lnTo>
                <a:lnTo>
                  <a:pt x="475" y="566"/>
                </a:lnTo>
                <a:lnTo>
                  <a:pt x="497" y="549"/>
                </a:lnTo>
                <a:lnTo>
                  <a:pt x="520" y="536"/>
                </a:lnTo>
                <a:lnTo>
                  <a:pt x="549" y="527"/>
                </a:lnTo>
                <a:lnTo>
                  <a:pt x="579" y="519"/>
                </a:lnTo>
                <a:lnTo>
                  <a:pt x="604" y="513"/>
                </a:lnTo>
                <a:lnTo>
                  <a:pt x="635" y="508"/>
                </a:lnTo>
                <a:lnTo>
                  <a:pt x="664" y="502"/>
                </a:lnTo>
                <a:lnTo>
                  <a:pt x="699" y="493"/>
                </a:lnTo>
                <a:lnTo>
                  <a:pt x="731" y="479"/>
                </a:lnTo>
                <a:lnTo>
                  <a:pt x="759" y="45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CBDF-E402-483D-B9E7-4D714D3A587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هداف جلس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ك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شكلات توليد نرم‌افزا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راه مقابله با آ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ك اهميت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هندسي نرم‌افز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ك ضرورت روي آوردن به يك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تدولوژي مدو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ك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اهيت نرم‌افزا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تفاو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 آ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ا بقيه محصولات مهندس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ك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پيچيدگي نرم‌افزا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عوامل پديد آورنده آ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ئي با مبحث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سيستم‌هاي پيچيد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ويژگيهاي آن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3C67-820A-48E2-B2BC-A1661A7EFC2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پيچيدگي ذاتي نرم‌اف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يژگيهاي اين پيچيدگي عبارتند از: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ا پيچيدگي سيست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طبيعي و محصولات فيزيكي ساخت دست بشر متفاوت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يك خاصيت ذاتي سيست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نرم‌افزاري بزر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79280" y="1484280"/>
            <a:ext cx="8431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b4eb5"/>
                </a:solidFill>
                <a:latin typeface="Times New Roman"/>
                <a:ea typeface="Nazanin"/>
              </a:rPr>
              <a:t>”بدليل تفاوت ذاتي بين نرم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ea typeface="Lotus"/>
              </a:rPr>
              <a:t>‌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cs typeface="Nazanin"/>
              </a:rPr>
              <a:t>افزار و سخت</a:t>
            </a:r>
            <a:r>
              <a:rPr b="1" lang="fa-IR" sz="3200" spc="-1" strike="noStrike">
                <a:solidFill>
                  <a:srgbClr val="4b4eb5"/>
                </a:solidFill>
                <a:latin typeface="Times New Roman"/>
                <a:ea typeface="Nazanin"/>
              </a:rPr>
              <a:t>‌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cs typeface="Nazanin"/>
              </a:rPr>
              <a:t>افزار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Nazanin"/>
              </a:rPr>
              <a:t>پيچيدگي خاصي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ea typeface="Nazanin"/>
              </a:rPr>
              <a:t> در ابعاد مختلف از جمله در تعريف نرم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ea typeface="Lotus"/>
              </a:rPr>
              <a:t>‌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cs typeface="Nazanin"/>
              </a:rPr>
              <a:t>افزار، طراحي، پياده</a:t>
            </a:r>
            <a:r>
              <a:rPr b="1" lang="fa-IR" sz="3200" spc="-1" strike="noStrike">
                <a:solidFill>
                  <a:srgbClr val="4b4eb5"/>
                </a:solidFill>
                <a:latin typeface="Times New Roman"/>
                <a:ea typeface="Nazanin"/>
              </a:rPr>
              <a:t>‌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cs typeface="Nazanin"/>
              </a:rPr>
              <a:t>سازي، تست و نگهداري آن وجود دارد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684360" y="2781360"/>
            <a:ext cx="770400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66"/>
              </a:gs>
              <a:gs pos="100000">
                <a:srgbClr val="ffcc00"/>
              </a:gs>
            </a:gsLst>
            <a:lin ang="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Tahoma"/>
                <a:cs typeface="Nazanin"/>
              </a:rPr>
              <a:t>بنابراين ”نمي</a:t>
            </a:r>
            <a:r>
              <a:rPr b="1" lang="fa-IR" sz="3200" spc="-1" strike="noStrike">
                <a:solidFill>
                  <a:srgbClr val="0033cc"/>
                </a:solidFill>
                <a:latin typeface="Tahoma"/>
                <a:ea typeface="Nazanin"/>
              </a:rPr>
              <a:t>‌</a:t>
            </a:r>
            <a:r>
              <a:rPr b="1" lang="ar-SA" sz="3200" spc="-1" strike="noStrike">
                <a:solidFill>
                  <a:srgbClr val="0033cc"/>
                </a:solidFill>
                <a:latin typeface="Tahoma"/>
                <a:cs typeface="Nazanin"/>
              </a:rPr>
              <a:t>توان اين پيچيدگي را از بين برد بلكه بايد</a:t>
            </a:r>
            <a:r>
              <a:rPr b="1" lang="fa-IR" sz="3200" spc="-1" strike="noStrike">
                <a:solidFill>
                  <a:srgbClr val="0033cc"/>
                </a:solidFill>
                <a:latin typeface="Tahoma"/>
                <a:ea typeface="Nazanin"/>
              </a:rPr>
              <a:t> </a:t>
            </a:r>
            <a:r>
              <a:rPr b="1" lang="ar-SA" sz="3200" spc="-1" strike="noStrike">
                <a:solidFill>
                  <a:srgbClr val="0033cc"/>
                </a:solidFill>
                <a:latin typeface="Tahoma"/>
                <a:cs typeface="Nazanin"/>
              </a:rPr>
              <a:t>آن</a:t>
            </a:r>
            <a:r>
              <a:rPr b="1" lang="fa-IR" sz="3200" spc="-1" strike="noStrike">
                <a:solidFill>
                  <a:srgbClr val="0033cc"/>
                </a:solidFill>
                <a:latin typeface="Tahoma"/>
                <a:ea typeface="Nazanin"/>
              </a:rPr>
              <a:t> </a:t>
            </a:r>
            <a:r>
              <a:rPr b="1" lang="ar-SA" sz="3200" spc="-1" strike="noStrike">
                <a:solidFill>
                  <a:srgbClr val="0033cc"/>
                </a:solidFill>
                <a:latin typeface="Tahoma"/>
                <a:cs typeface="Nazanin"/>
              </a:rPr>
              <a:t>را كنترل نمو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D5AA-1663-498C-9501-FE820D947F6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عوامل پديد آورنده پيچيدگي نرم‌افزار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پيچيدگي حوزة مسال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</a:rPr>
              <a:t>نيازمندي</a:t>
            </a:r>
            <a:r>
              <a:rPr b="1" lang="fa-IR" sz="2400" spc="-1" strike="noStrike">
                <a:solidFill>
                  <a:srgbClr val="4b4eb5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</a:rPr>
              <a:t>هاي گوناگون و متضا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</a:rPr>
              <a:t>ارتباط بين كاربر و مهندس نرم‌افزار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</a:rPr>
              <a:t>تغيير نيازها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پيچيدگي فرآيند تول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عطاف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پذيري نرم‌افزار و استاندارد نبودن آ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شكل توصيف رفتار سيست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پيچيد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C453-5E39-4E5B-8AB4-B6F227BA097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يژگيهاي سيستم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ي پيچيد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6920" y="1341360"/>
            <a:ext cx="7097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 ”</a:t>
            </a:r>
            <a:r>
              <a:rPr b="1" lang="ar-SA" sz="2800" spc="-1" strike="noStrike">
                <a:solidFill>
                  <a:srgbClr val="0033cc"/>
                </a:solidFill>
                <a:latin typeface="Lotus"/>
                <a:cs typeface="Nazanin"/>
              </a:rPr>
              <a:t>در اغلب سيستم</a:t>
            </a:r>
            <a:r>
              <a:rPr b="1" lang="fa-IR" sz="2800" spc="-1" strike="noStrike">
                <a:solidFill>
                  <a:srgbClr val="0033cc"/>
                </a:solidFill>
                <a:latin typeface="Lotus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Lotus"/>
                <a:cs typeface="Nazanin"/>
              </a:rPr>
              <a:t>هاي پيچيده، پيچيدگي به صورت </a:t>
            </a:r>
            <a:r>
              <a:rPr b="1" lang="ar-SA" sz="2800" spc="-1" strike="noStrike">
                <a:solidFill>
                  <a:srgbClr val="cc3300"/>
                </a:solidFill>
                <a:latin typeface="Lotus"/>
                <a:cs typeface="Nazanin"/>
              </a:rPr>
              <a:t>سلسله مراتب</a:t>
            </a:r>
            <a:r>
              <a:rPr b="1" lang="fa-IR" sz="2800" spc="-1" strike="noStrike">
                <a:solidFill>
                  <a:srgbClr val="cc3300"/>
                </a:solidFill>
                <a:latin typeface="Lotus"/>
                <a:ea typeface="Nazani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Lotus"/>
                <a:ea typeface="Nazanin"/>
              </a:rPr>
              <a:t>(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Nazanin"/>
              </a:rPr>
              <a:t>Hierarchy</a:t>
            </a:r>
            <a:r>
              <a:rPr b="1" lang="ar-SA" sz="2800" spc="-1" strike="noStrike">
                <a:solidFill>
                  <a:srgbClr val="cc3300"/>
                </a:solidFill>
                <a:latin typeface="Lotus"/>
                <a:ea typeface="Nazanin"/>
              </a:rPr>
              <a:t>)</a:t>
            </a:r>
            <a:r>
              <a:rPr b="1" lang="ar-SA" sz="2800" spc="-1" strike="noStrike">
                <a:solidFill>
                  <a:srgbClr val="0033cc"/>
                </a:solidFill>
                <a:latin typeface="Lotus"/>
                <a:ea typeface="Nazanin"/>
              </a:rPr>
              <a:t> ظاهر مي</a:t>
            </a:r>
            <a:r>
              <a:rPr b="1" lang="fa-IR" sz="2800" spc="-1" strike="noStrike">
                <a:solidFill>
                  <a:srgbClr val="0033cc"/>
                </a:solidFill>
                <a:latin typeface="Lotus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Lotus"/>
                <a:cs typeface="Nazanin"/>
              </a:rPr>
              <a:t>شود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7740720" y="184464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3727440" y="3220920"/>
            <a:ext cx="1828800" cy="83844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2889360" y="4668840"/>
            <a:ext cx="1371600" cy="77004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4870440" y="4668840"/>
            <a:ext cx="1295280" cy="77004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6699240" y="4668840"/>
            <a:ext cx="1600200" cy="77004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755640" y="4668840"/>
            <a:ext cx="1523880" cy="77004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3" name="AutoShape 11"/>
          <p:cNvCxnSpPr>
            <a:stCxn id="228" idx="2"/>
            <a:endCxn id="232" idx="0"/>
          </p:cNvCxnSpPr>
          <p:nvPr/>
        </p:nvCxnSpPr>
        <p:spPr>
          <a:xfrm rot="5400000">
            <a:off x="2774520" y="2801880"/>
            <a:ext cx="610200" cy="312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AutoShape 12"/>
          <p:cNvCxnSpPr>
            <a:stCxn id="228" idx="2"/>
            <a:endCxn id="231" idx="0"/>
          </p:cNvCxnSpPr>
          <p:nvPr/>
        </p:nvCxnSpPr>
        <p:spPr>
          <a:xfrm flipH="1" rot="16200000">
            <a:off x="5765760" y="2934720"/>
            <a:ext cx="610200" cy="2858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AutoShape 13"/>
          <p:cNvCxnSpPr>
            <a:stCxn id="228" idx="2"/>
            <a:endCxn id="230" idx="0"/>
          </p:cNvCxnSpPr>
          <p:nvPr/>
        </p:nvCxnSpPr>
        <p:spPr>
          <a:xfrm flipH="1" rot="16200000">
            <a:off x="4775040" y="3925440"/>
            <a:ext cx="610200" cy="876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AutoShape 14"/>
          <p:cNvCxnSpPr>
            <a:stCxn id="228" idx="2"/>
            <a:endCxn id="229" idx="0"/>
          </p:cNvCxnSpPr>
          <p:nvPr/>
        </p:nvCxnSpPr>
        <p:spPr>
          <a:xfrm rot="5400000">
            <a:off x="3803040" y="3830400"/>
            <a:ext cx="610200" cy="1067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37" name="Rectangle 15"/>
          <p:cNvSpPr/>
          <p:nvPr/>
        </p:nvSpPr>
        <p:spPr>
          <a:xfrm>
            <a:off x="2610000" y="5964120"/>
            <a:ext cx="1752480" cy="533520"/>
          </a:xfrm>
          <a:prstGeom prst="rect">
            <a:avLst/>
          </a:prstGeom>
          <a:gradFill rotWithShape="0">
            <a:gsLst>
              <a:gs pos="0">
                <a:srgbClr val="c4709a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4603680" y="5964120"/>
            <a:ext cx="1828800" cy="533520"/>
          </a:xfrm>
          <a:prstGeom prst="rect">
            <a:avLst/>
          </a:prstGeom>
          <a:gradFill rotWithShape="0">
            <a:gsLst>
              <a:gs pos="0">
                <a:srgbClr val="c4709a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9" name="AutoShape 17"/>
          <p:cNvCxnSpPr>
            <a:stCxn id="230" idx="2"/>
            <a:endCxn id="238" idx="0"/>
          </p:cNvCxnSpPr>
          <p:nvPr/>
        </p:nvCxnSpPr>
        <p:spPr>
          <a:xfrm flipH="1">
            <a:off x="5517360" y="5438520"/>
            <a:ext cx="1080" cy="52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AutoShape 18"/>
          <p:cNvCxnSpPr>
            <a:stCxn id="230" idx="2"/>
            <a:endCxn id="237" idx="0"/>
          </p:cNvCxnSpPr>
          <p:nvPr/>
        </p:nvCxnSpPr>
        <p:spPr>
          <a:xfrm rot="5400000">
            <a:off x="4239360" y="4685400"/>
            <a:ext cx="525960" cy="2032200"/>
          </a:xfrm>
          <a:prstGeom prst="bentConnector3">
            <a:avLst>
              <a:gd name="adj1" fmla="val 4979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Rectangle 19"/>
          <p:cNvSpPr/>
          <p:nvPr/>
        </p:nvSpPr>
        <p:spPr>
          <a:xfrm>
            <a:off x="6648480" y="5964120"/>
            <a:ext cx="1828800" cy="533520"/>
          </a:xfrm>
          <a:prstGeom prst="rect">
            <a:avLst/>
          </a:prstGeom>
          <a:gradFill rotWithShape="0">
            <a:gsLst>
              <a:gs pos="0">
                <a:srgbClr val="c4709a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2" name="AutoShape 20"/>
          <p:cNvCxnSpPr>
            <a:stCxn id="230" idx="2"/>
            <a:endCxn id="241" idx="0"/>
          </p:cNvCxnSpPr>
          <p:nvPr/>
        </p:nvCxnSpPr>
        <p:spPr>
          <a:xfrm flipH="1" rot="16200000">
            <a:off x="6277680" y="4678560"/>
            <a:ext cx="525960" cy="2045520"/>
          </a:xfrm>
          <a:prstGeom prst="bentConnector3">
            <a:avLst>
              <a:gd name="adj1" fmla="val 4979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43" name="Text Box 21"/>
          <p:cNvSpPr/>
          <p:nvPr/>
        </p:nvSpPr>
        <p:spPr>
          <a:xfrm>
            <a:off x="7232760" y="3068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Homa"/>
              </a:rPr>
              <a:t>مثا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DEAB-33D3-47A1-9C7E-12BE111D680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609480" y="4295880"/>
            <a:ext cx="792504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3f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609480" y="4295880"/>
            <a:ext cx="7925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يژگيهاي سيستم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ي پيچي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324000" y="1341360"/>
            <a:ext cx="7848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 ” </a:t>
            </a:r>
            <a:r>
              <a:rPr b="1" lang="ar-SA" sz="2800" spc="-1" strike="noStrike">
                <a:solidFill>
                  <a:srgbClr val="0033cc"/>
                </a:solidFill>
                <a:latin typeface="Lotus"/>
                <a:cs typeface="Nazanin"/>
              </a:rPr>
              <a:t>انتخاب مؤلفه</a:t>
            </a:r>
            <a:r>
              <a:rPr b="1" lang="fa-IR" sz="2800" spc="-1" strike="noStrike">
                <a:solidFill>
                  <a:srgbClr val="0033cc"/>
                </a:solidFill>
                <a:latin typeface="Lotus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Lotus"/>
                <a:cs typeface="Nazanin"/>
              </a:rPr>
              <a:t>هاي اوليه سيستم، امري است نسبتا</a:t>
            </a:r>
            <a:r>
              <a:rPr b="1" lang="fa-IR" sz="2800" spc="-1" strike="noStrike">
                <a:solidFill>
                  <a:srgbClr val="0033cc"/>
                </a:solidFill>
                <a:latin typeface="Lotus"/>
                <a:cs typeface="Nazanin"/>
              </a:rPr>
              <a:t>ً</a:t>
            </a:r>
            <a:r>
              <a:rPr b="1" lang="ar-SA" sz="2800" spc="-1" strike="noStrike">
                <a:solidFill>
                  <a:srgbClr val="0033cc"/>
                </a:solidFill>
                <a:latin typeface="Lotus"/>
                <a:ea typeface="Nazanin"/>
              </a:rPr>
              <a:t> دلخواه   بوده و تا حدود زيادي بستگي به ديد طراح</a:t>
            </a:r>
            <a:r>
              <a:rPr b="1" lang="en-US" sz="2800" spc="-1" strike="noStrike">
                <a:solidFill>
                  <a:srgbClr val="0033cc"/>
                </a:solidFill>
                <a:latin typeface="Lotus"/>
                <a:ea typeface="Nazanin"/>
              </a:rPr>
              <a:t> </a:t>
            </a:r>
            <a:r>
              <a:rPr b="1" lang="ar-SA" sz="2800" spc="-1" strike="noStrike">
                <a:solidFill>
                  <a:srgbClr val="0033cc"/>
                </a:solidFill>
                <a:latin typeface="Lotus"/>
                <a:cs typeface="Nazanin"/>
              </a:rPr>
              <a:t>سيستم دارد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val 5"/>
          <p:cNvSpPr/>
          <p:nvPr/>
        </p:nvSpPr>
        <p:spPr>
          <a:xfrm>
            <a:off x="8028000" y="184464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2463840" y="5743440"/>
            <a:ext cx="6324480" cy="76212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1" name="Group 9"/>
          <p:cNvGrpSpPr/>
          <p:nvPr/>
        </p:nvGrpSpPr>
        <p:grpSpPr>
          <a:xfrm>
            <a:off x="838080" y="3076560"/>
            <a:ext cx="7721640" cy="3276360"/>
            <a:chOff x="838080" y="3076560"/>
            <a:chExt cx="7721640" cy="3276360"/>
          </a:xfrm>
        </p:grpSpPr>
        <p:sp>
          <p:nvSpPr>
            <p:cNvPr id="252" name="Rectangle 10"/>
            <p:cNvSpPr/>
            <p:nvPr/>
          </p:nvSpPr>
          <p:spPr>
            <a:xfrm>
              <a:off x="3809880" y="3076560"/>
              <a:ext cx="1828800" cy="8380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ute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11"/>
            <p:cNvSpPr/>
            <p:nvPr/>
          </p:nvSpPr>
          <p:spPr>
            <a:xfrm>
              <a:off x="2971800" y="4524120"/>
              <a:ext cx="1371600" cy="770040"/>
            </a:xfrm>
            <a:prstGeom prst="rect">
              <a:avLst/>
            </a:prstGeom>
            <a:gradFill rotWithShape="0">
              <a:gsLst>
                <a:gs pos="0">
                  <a:srgbClr val="4b4eb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yboar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12"/>
            <p:cNvSpPr/>
            <p:nvPr/>
          </p:nvSpPr>
          <p:spPr>
            <a:xfrm>
              <a:off x="4952880" y="4524120"/>
              <a:ext cx="1295640" cy="770040"/>
            </a:xfrm>
            <a:prstGeom prst="rect">
              <a:avLst/>
            </a:prstGeom>
            <a:gradFill rotWithShape="0">
              <a:gsLst>
                <a:gs pos="0">
                  <a:srgbClr val="4b4eb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13"/>
            <p:cNvSpPr/>
            <p:nvPr/>
          </p:nvSpPr>
          <p:spPr>
            <a:xfrm>
              <a:off x="6781680" y="4524120"/>
              <a:ext cx="1600200" cy="770040"/>
            </a:xfrm>
            <a:prstGeom prst="rect">
              <a:avLst/>
            </a:prstGeom>
            <a:gradFill rotWithShape="0">
              <a:gsLst>
                <a:gs pos="0">
                  <a:srgbClr val="4b4eb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ito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14"/>
            <p:cNvSpPr/>
            <p:nvPr/>
          </p:nvSpPr>
          <p:spPr>
            <a:xfrm>
              <a:off x="838080" y="4524120"/>
              <a:ext cx="1524240" cy="770040"/>
            </a:xfrm>
            <a:prstGeom prst="rect">
              <a:avLst/>
            </a:prstGeom>
            <a:gradFill rotWithShape="0">
              <a:gsLst>
                <a:gs pos="0">
                  <a:srgbClr val="4b4eb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257" name="AutoShape 15"/>
            <p:cNvCxnSpPr>
              <a:stCxn id="252" idx="2"/>
              <a:endCxn id="256" idx="0"/>
            </p:cNvCxnSpPr>
            <p:nvPr/>
          </p:nvCxnSpPr>
          <p:spPr>
            <a:xfrm rot="5400000">
              <a:off x="2856960" y="2657160"/>
              <a:ext cx="610200" cy="3124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8" name="AutoShape 16"/>
            <p:cNvCxnSpPr>
              <a:stCxn id="252" idx="2"/>
              <a:endCxn id="255" idx="0"/>
            </p:cNvCxnSpPr>
            <p:nvPr/>
          </p:nvCxnSpPr>
          <p:spPr>
            <a:xfrm flipH="1" rot="16200000">
              <a:off x="5848200" y="2790000"/>
              <a:ext cx="610200" cy="2858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9" name="AutoShape 17"/>
            <p:cNvCxnSpPr>
              <a:stCxn id="252" idx="2"/>
              <a:endCxn id="254" idx="0"/>
            </p:cNvCxnSpPr>
            <p:nvPr/>
          </p:nvCxnSpPr>
          <p:spPr>
            <a:xfrm flipH="1" rot="16200000">
              <a:off x="4856760" y="3780720"/>
              <a:ext cx="610200" cy="877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0" name="AutoShape 18"/>
            <p:cNvCxnSpPr>
              <a:stCxn id="252" idx="2"/>
              <a:endCxn id="253" idx="0"/>
            </p:cNvCxnSpPr>
            <p:nvPr/>
          </p:nvCxnSpPr>
          <p:spPr>
            <a:xfrm rot="5400000">
              <a:off x="3885480" y="3685680"/>
              <a:ext cx="610200" cy="1067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61" name="Rectangle 19"/>
            <p:cNvSpPr/>
            <p:nvPr/>
          </p:nvSpPr>
          <p:spPr>
            <a:xfrm>
              <a:off x="2692440" y="5819760"/>
              <a:ext cx="1752480" cy="533160"/>
            </a:xfrm>
            <a:prstGeom prst="rect">
              <a:avLst/>
            </a:prstGeom>
            <a:gradFill rotWithShape="0">
              <a:gsLst>
                <a:gs pos="0">
                  <a:srgbClr val="c4709a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U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Rectangle 20"/>
            <p:cNvSpPr/>
            <p:nvPr/>
          </p:nvSpPr>
          <p:spPr>
            <a:xfrm>
              <a:off x="4686480" y="5819760"/>
              <a:ext cx="1828800" cy="533160"/>
            </a:xfrm>
            <a:prstGeom prst="rect">
              <a:avLst/>
            </a:prstGeom>
            <a:gradFill rotWithShape="0">
              <a:gsLst>
                <a:gs pos="0">
                  <a:srgbClr val="c4709a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rol Uni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263" name="AutoShape 21"/>
            <p:cNvCxnSpPr>
              <a:stCxn id="254" idx="2"/>
              <a:endCxn id="262" idx="0"/>
            </p:cNvCxnSpPr>
            <p:nvPr/>
          </p:nvCxnSpPr>
          <p:spPr>
            <a:xfrm flipH="1">
              <a:off x="5600160" y="5294160"/>
              <a:ext cx="108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4" name="AutoShape 22"/>
            <p:cNvCxnSpPr>
              <a:stCxn id="254" idx="2"/>
              <a:endCxn id="261" idx="0"/>
            </p:cNvCxnSpPr>
            <p:nvPr/>
          </p:nvCxnSpPr>
          <p:spPr>
            <a:xfrm rot="5400000">
              <a:off x="4321080" y="4540680"/>
              <a:ext cx="526320" cy="2032920"/>
            </a:xfrm>
            <a:prstGeom prst="bentConnector3">
              <a:avLst>
                <a:gd name="adj1" fmla="val 4982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65" name="Rectangle 23"/>
            <p:cNvSpPr/>
            <p:nvPr/>
          </p:nvSpPr>
          <p:spPr>
            <a:xfrm>
              <a:off x="6730920" y="5819760"/>
              <a:ext cx="1828800" cy="533160"/>
            </a:xfrm>
            <a:prstGeom prst="rect">
              <a:avLst/>
            </a:prstGeom>
            <a:gradFill rotWithShape="0">
              <a:gsLst>
                <a:gs pos="0">
                  <a:srgbClr val="c4709a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266" name="AutoShape 24"/>
            <p:cNvCxnSpPr>
              <a:stCxn id="254" idx="2"/>
              <a:endCxn id="265" idx="0"/>
            </p:cNvCxnSpPr>
            <p:nvPr/>
          </p:nvCxnSpPr>
          <p:spPr>
            <a:xfrm flipH="1" rot="16200000">
              <a:off x="6359400" y="4534560"/>
              <a:ext cx="526320" cy="2045160"/>
            </a:xfrm>
            <a:prstGeom prst="bentConnector3">
              <a:avLst>
                <a:gd name="adj1" fmla="val 49828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67" name="AutoShape 25"/>
          <p:cNvSpPr/>
          <p:nvPr/>
        </p:nvSpPr>
        <p:spPr>
          <a:xfrm>
            <a:off x="838080" y="3673440"/>
            <a:ext cx="486000" cy="595440"/>
          </a:xfrm>
          <a:prstGeom prst="downArrow">
            <a:avLst>
              <a:gd name="adj1" fmla="val 50000"/>
              <a:gd name="adj2" fmla="val 3063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AutoShape 26"/>
          <p:cNvSpPr/>
          <p:nvPr/>
        </p:nvSpPr>
        <p:spPr>
          <a:xfrm>
            <a:off x="1905120" y="5896080"/>
            <a:ext cx="519120" cy="485640"/>
          </a:xfrm>
          <a:prstGeom prst="rightArrow">
            <a:avLst>
              <a:gd name="adj1" fmla="val 50000"/>
              <a:gd name="adj2" fmla="val 26723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27"/>
          <p:cNvSpPr/>
          <p:nvPr/>
        </p:nvSpPr>
        <p:spPr>
          <a:xfrm>
            <a:off x="228600" y="581976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Homa"/>
              </a:rPr>
              <a:t>ممكن است اين سطح انتخاب اول باشد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Homa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28"/>
          <p:cNvSpPr/>
          <p:nvPr/>
        </p:nvSpPr>
        <p:spPr>
          <a:xfrm>
            <a:off x="152280" y="300024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Homa"/>
              </a:rPr>
              <a:t>اين سطح مي تواند انتخاب اول باش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AutoShape 29"/>
          <p:cNvSpPr/>
          <p:nvPr/>
        </p:nvSpPr>
        <p:spPr>
          <a:xfrm>
            <a:off x="838080" y="3673440"/>
            <a:ext cx="486000" cy="595440"/>
          </a:xfrm>
          <a:prstGeom prst="downArrow">
            <a:avLst>
              <a:gd name="adj1" fmla="val 50000"/>
              <a:gd name="adj2" fmla="val 30630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7315200" y="2924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Homa"/>
              </a:rPr>
              <a:t>مثال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0BB4-8F39-4442-BCDF-BFE3BA2BCE5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يژگيهاي سيستم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ي پيچي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611280" y="1773360"/>
            <a:ext cx="79200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 ” در سيستمي كه از چند زيرسيستم تشكيل مي</a:t>
            </a:r>
            <a:r>
              <a:rPr b="1" lang="fa-IR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Nazanin"/>
              </a:rPr>
              <a:t>گردد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   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 ارتباط</a:t>
            </a:r>
            <a:r>
              <a:rPr b="1" lang="fa-IR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 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Nazanin"/>
              </a:rPr>
              <a:t>بين اجزاي دروني هر زير سيست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    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Intra-component Linkage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   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 قويتر از ارتباط بين خود</a:t>
            </a:r>
            <a:r>
              <a:rPr b="1" lang="fa-IR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 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Nazanin"/>
              </a:rPr>
              <a:t>زير سيستم</a:t>
            </a:r>
            <a:r>
              <a:rPr b="1" lang="fa-IR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Nazanin"/>
              </a:rPr>
              <a:t>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   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 (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Inter-components Linkage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) است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Oval 5"/>
          <p:cNvSpPr/>
          <p:nvPr/>
        </p:nvSpPr>
        <p:spPr>
          <a:xfrm>
            <a:off x="8028000" y="191628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A7F8-9117-43DF-99B3-23F46C44666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يژگيهاي سيستم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ي پيچي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2982960" y="5121360"/>
            <a:ext cx="1143000" cy="1143000"/>
            <a:chOff x="2982960" y="5121360"/>
            <a:chExt cx="1143000" cy="1143000"/>
          </a:xfrm>
        </p:grpSpPr>
        <p:sp>
          <p:nvSpPr>
            <p:cNvPr id="280" name="Oval 5"/>
            <p:cNvSpPr/>
            <p:nvPr/>
          </p:nvSpPr>
          <p:spPr>
            <a:xfrm>
              <a:off x="2982960" y="512136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Oval 6"/>
            <p:cNvSpPr/>
            <p:nvPr/>
          </p:nvSpPr>
          <p:spPr>
            <a:xfrm>
              <a:off x="3198960" y="55659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Oval 7"/>
            <p:cNvSpPr/>
            <p:nvPr/>
          </p:nvSpPr>
          <p:spPr>
            <a:xfrm>
              <a:off x="3351240" y="58708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Oval 8"/>
            <p:cNvSpPr/>
            <p:nvPr/>
          </p:nvSpPr>
          <p:spPr>
            <a:xfrm>
              <a:off x="3808440" y="556596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9"/>
            <p:cNvSpPr/>
            <p:nvPr/>
          </p:nvSpPr>
          <p:spPr>
            <a:xfrm>
              <a:off x="3656160" y="587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10"/>
            <p:cNvSpPr/>
            <p:nvPr/>
          </p:nvSpPr>
          <p:spPr>
            <a:xfrm>
              <a:off x="3503880" y="53373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286" name="AutoShape 11"/>
            <p:cNvCxnSpPr>
              <a:stCxn id="282" idx="5"/>
              <a:endCxn id="284" idx="3"/>
            </p:cNvCxnSpPr>
            <p:nvPr/>
          </p:nvCxnSpPr>
          <p:spPr>
            <a:xfrm>
              <a:off x="3481200" y="6000480"/>
              <a:ext cx="197640" cy="1080"/>
            </a:xfrm>
            <a:prstGeom prst="straightConnector1">
              <a:avLst/>
            </a:prstGeom>
            <a:ln w="19080">
              <a:solidFill>
                <a:srgbClr val="ff6f6f"/>
              </a:solidFill>
              <a:miter/>
            </a:ln>
          </p:spPr>
        </p:cxnSp>
        <p:cxnSp>
          <p:nvCxnSpPr>
            <p:cNvPr id="287" name="AutoShape 12"/>
            <p:cNvCxnSpPr>
              <a:stCxn id="284" idx="7"/>
            </p:cNvCxnSpPr>
            <p:nvPr/>
          </p:nvCxnSpPr>
          <p:spPr>
            <a:xfrm flipV="1">
              <a:off x="3786120" y="5717520"/>
              <a:ext cx="99000" cy="175320"/>
            </a:xfrm>
            <a:prstGeom prst="straightConnector1">
              <a:avLst/>
            </a:prstGeom>
            <a:ln w="19080">
              <a:solidFill>
                <a:srgbClr val="ff6f6f"/>
              </a:solidFill>
              <a:miter/>
            </a:ln>
          </p:spPr>
        </p:cxnSp>
        <p:cxnSp>
          <p:nvCxnSpPr>
            <p:cNvPr id="288" name="AutoShape 13"/>
            <p:cNvCxnSpPr>
              <a:stCxn id="282" idx="1"/>
              <a:endCxn id="281" idx="4"/>
            </p:cNvCxnSpPr>
            <p:nvPr/>
          </p:nvCxnSpPr>
          <p:spPr>
            <a:xfrm flipH="1" flipV="1">
              <a:off x="3274560" y="5717520"/>
              <a:ext cx="99000" cy="175320"/>
            </a:xfrm>
            <a:prstGeom prst="straightConnector1">
              <a:avLst/>
            </a:prstGeom>
            <a:ln w="19080">
              <a:solidFill>
                <a:srgbClr val="ff6f6f"/>
              </a:solidFill>
              <a:miter/>
            </a:ln>
          </p:spPr>
        </p:cxnSp>
        <p:cxnSp>
          <p:nvCxnSpPr>
            <p:cNvPr id="289" name="AutoShape 14"/>
            <p:cNvCxnSpPr>
              <a:stCxn id="285" idx="3"/>
              <a:endCxn id="281" idx="7"/>
            </p:cNvCxnSpPr>
            <p:nvPr/>
          </p:nvCxnSpPr>
          <p:spPr>
            <a:xfrm flipH="1">
              <a:off x="3328920" y="5467320"/>
              <a:ext cx="197280" cy="121320"/>
            </a:xfrm>
            <a:prstGeom prst="straightConnector1">
              <a:avLst/>
            </a:prstGeom>
            <a:ln w="19080">
              <a:solidFill>
                <a:srgbClr val="ff6f6f"/>
              </a:solidFill>
              <a:miter/>
            </a:ln>
          </p:spPr>
        </p:cxnSp>
        <p:cxnSp>
          <p:nvCxnSpPr>
            <p:cNvPr id="290" name="AutoShape 15"/>
            <p:cNvCxnSpPr>
              <a:stCxn id="285" idx="5"/>
              <a:endCxn id="283" idx="1"/>
            </p:cNvCxnSpPr>
            <p:nvPr/>
          </p:nvCxnSpPr>
          <p:spPr>
            <a:xfrm>
              <a:off x="3633480" y="5467320"/>
              <a:ext cx="197640" cy="121320"/>
            </a:xfrm>
            <a:prstGeom prst="straightConnector1">
              <a:avLst/>
            </a:prstGeom>
            <a:ln w="19080">
              <a:solidFill>
                <a:srgbClr val="ff6f6f"/>
              </a:solidFill>
              <a:miter/>
            </a:ln>
          </p:spPr>
        </p:cxnSp>
        <p:cxnSp>
          <p:nvCxnSpPr>
            <p:cNvPr id="291" name="AutoShape 16"/>
            <p:cNvCxnSpPr>
              <a:stCxn id="282" idx="7"/>
              <a:endCxn id="283" idx="3"/>
            </p:cNvCxnSpPr>
            <p:nvPr/>
          </p:nvCxnSpPr>
          <p:spPr>
            <a:xfrm flipV="1">
              <a:off x="3481560" y="5695920"/>
              <a:ext cx="349920" cy="19728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292" name="AutoShape 17"/>
            <p:cNvCxnSpPr>
              <a:stCxn id="284" idx="0"/>
              <a:endCxn id="281" idx="5"/>
            </p:cNvCxnSpPr>
            <p:nvPr/>
          </p:nvCxnSpPr>
          <p:spPr>
            <a:xfrm flipH="1" flipV="1">
              <a:off x="3328920" y="5695560"/>
              <a:ext cx="403920" cy="175320"/>
            </a:xfrm>
            <a:prstGeom prst="straightConnector1">
              <a:avLst/>
            </a:prstGeom>
            <a:ln w="19080">
              <a:solidFill>
                <a:srgbClr val="ff6f6f"/>
              </a:solidFill>
              <a:miter/>
            </a:ln>
          </p:spPr>
        </p:cxnSp>
        <p:cxnSp>
          <p:nvCxnSpPr>
            <p:cNvPr id="293" name="AutoShape 18"/>
            <p:cNvCxnSpPr>
              <a:stCxn id="284" idx="0"/>
              <a:endCxn id="285" idx="4"/>
            </p:cNvCxnSpPr>
            <p:nvPr/>
          </p:nvCxnSpPr>
          <p:spPr>
            <a:xfrm flipH="1" flipV="1">
              <a:off x="3579480" y="5488920"/>
              <a:ext cx="153360" cy="381960"/>
            </a:xfrm>
            <a:prstGeom prst="straightConnector1">
              <a:avLst/>
            </a:prstGeom>
            <a:ln w="19080">
              <a:solidFill>
                <a:srgbClr val="ff6f6f"/>
              </a:solidFill>
              <a:miter/>
            </a:ln>
          </p:spPr>
        </p:cxnSp>
      </p:grpSp>
      <p:grpSp>
        <p:nvGrpSpPr>
          <p:cNvPr id="294" name="Group 19"/>
          <p:cNvGrpSpPr/>
          <p:nvPr/>
        </p:nvGrpSpPr>
        <p:grpSpPr>
          <a:xfrm>
            <a:off x="4049640" y="1920960"/>
            <a:ext cx="1143000" cy="1143000"/>
            <a:chOff x="4049640" y="1920960"/>
            <a:chExt cx="1143000" cy="1143000"/>
          </a:xfrm>
        </p:grpSpPr>
        <p:sp>
          <p:nvSpPr>
            <p:cNvPr id="295" name="Oval 20"/>
            <p:cNvSpPr/>
            <p:nvPr/>
          </p:nvSpPr>
          <p:spPr>
            <a:xfrm>
              <a:off x="4049640" y="192096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Oval 21"/>
            <p:cNvSpPr/>
            <p:nvPr/>
          </p:nvSpPr>
          <p:spPr>
            <a:xfrm>
              <a:off x="4417920" y="2670480"/>
              <a:ext cx="152280" cy="152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Oval 22"/>
            <p:cNvSpPr/>
            <p:nvPr/>
          </p:nvSpPr>
          <p:spPr>
            <a:xfrm>
              <a:off x="4875120" y="2365560"/>
              <a:ext cx="152280" cy="152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Oval 23"/>
            <p:cNvSpPr/>
            <p:nvPr/>
          </p:nvSpPr>
          <p:spPr>
            <a:xfrm>
              <a:off x="4722480" y="2670480"/>
              <a:ext cx="152640" cy="152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Oval 24"/>
            <p:cNvSpPr/>
            <p:nvPr/>
          </p:nvSpPr>
          <p:spPr>
            <a:xfrm>
              <a:off x="4354200" y="2302200"/>
              <a:ext cx="152640" cy="152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300" name="AutoShape 25"/>
            <p:cNvCxnSpPr>
              <a:stCxn id="296" idx="5"/>
              <a:endCxn id="298" idx="3"/>
            </p:cNvCxnSpPr>
            <p:nvPr/>
          </p:nvCxnSpPr>
          <p:spPr>
            <a:xfrm>
              <a:off x="4547520" y="2800080"/>
              <a:ext cx="197640" cy="1080"/>
            </a:xfrm>
            <a:prstGeom prst="straightConnector1">
              <a:avLst/>
            </a:prstGeom>
            <a:ln w="19080">
              <a:solidFill>
                <a:srgbClr val="00ccff"/>
              </a:solidFill>
              <a:miter/>
            </a:ln>
          </p:spPr>
        </p:cxnSp>
        <p:cxnSp>
          <p:nvCxnSpPr>
            <p:cNvPr id="301" name="AutoShape 26"/>
            <p:cNvCxnSpPr>
              <a:stCxn id="298" idx="7"/>
            </p:cNvCxnSpPr>
            <p:nvPr/>
          </p:nvCxnSpPr>
          <p:spPr>
            <a:xfrm flipV="1">
              <a:off x="4852440" y="2517120"/>
              <a:ext cx="99000" cy="175320"/>
            </a:xfrm>
            <a:prstGeom prst="straightConnector1">
              <a:avLst/>
            </a:prstGeom>
            <a:ln w="19080">
              <a:solidFill>
                <a:srgbClr val="00ccff"/>
              </a:solidFill>
              <a:miter/>
            </a:ln>
          </p:spPr>
        </p:cxnSp>
        <p:cxnSp>
          <p:nvCxnSpPr>
            <p:cNvPr id="302" name="AutoShape 27"/>
            <p:cNvCxnSpPr>
              <a:stCxn id="299" idx="6"/>
              <a:endCxn id="297" idx="1"/>
            </p:cNvCxnSpPr>
            <p:nvPr/>
          </p:nvCxnSpPr>
          <p:spPr>
            <a:xfrm>
              <a:off x="4506840" y="2377800"/>
              <a:ext cx="390960" cy="10440"/>
            </a:xfrm>
            <a:prstGeom prst="straightConnector1">
              <a:avLst/>
            </a:prstGeom>
            <a:ln w="19080">
              <a:solidFill>
                <a:srgbClr val="00ccff"/>
              </a:solidFill>
              <a:miter/>
            </a:ln>
          </p:spPr>
        </p:cxnSp>
        <p:cxnSp>
          <p:nvCxnSpPr>
            <p:cNvPr id="303" name="AutoShape 28"/>
            <p:cNvCxnSpPr>
              <a:stCxn id="296" idx="7"/>
              <a:endCxn id="297" idx="3"/>
            </p:cNvCxnSpPr>
            <p:nvPr/>
          </p:nvCxnSpPr>
          <p:spPr>
            <a:xfrm flipV="1">
              <a:off x="4547880" y="2495520"/>
              <a:ext cx="349920" cy="197280"/>
            </a:xfrm>
            <a:prstGeom prst="straightConnector1">
              <a:avLst/>
            </a:prstGeom>
            <a:ln w="19080">
              <a:solidFill>
                <a:srgbClr val="00ccff"/>
              </a:solidFill>
              <a:miter/>
            </a:ln>
          </p:spPr>
        </p:cxnSp>
        <p:cxnSp>
          <p:nvCxnSpPr>
            <p:cNvPr id="304" name="AutoShape 29"/>
            <p:cNvCxnSpPr>
              <a:stCxn id="296" idx="7"/>
              <a:endCxn id="299" idx="4"/>
            </p:cNvCxnSpPr>
            <p:nvPr/>
          </p:nvCxnSpPr>
          <p:spPr>
            <a:xfrm flipH="1" flipV="1">
              <a:off x="4430160" y="2453760"/>
              <a:ext cx="118080" cy="238680"/>
            </a:xfrm>
            <a:prstGeom prst="straightConnector1">
              <a:avLst/>
            </a:prstGeom>
            <a:ln w="19080">
              <a:solidFill>
                <a:srgbClr val="00ccff"/>
              </a:solidFill>
              <a:miter/>
            </a:ln>
          </p:spPr>
        </p:cxnSp>
        <p:cxnSp>
          <p:nvCxnSpPr>
            <p:cNvPr id="305" name="AutoShape 30"/>
            <p:cNvCxnSpPr>
              <a:stCxn id="298" idx="0"/>
              <a:endCxn id="299" idx="4"/>
            </p:cNvCxnSpPr>
            <p:nvPr/>
          </p:nvCxnSpPr>
          <p:spPr>
            <a:xfrm flipH="1" flipV="1">
              <a:off x="4429800" y="2454120"/>
              <a:ext cx="369000" cy="216720"/>
            </a:xfrm>
            <a:prstGeom prst="straightConnector1">
              <a:avLst/>
            </a:prstGeom>
            <a:ln w="19080">
              <a:solidFill>
                <a:srgbClr val="00ccff"/>
              </a:solidFill>
              <a:miter/>
            </a:ln>
          </p:spPr>
        </p:cxnSp>
      </p:grpSp>
      <p:grpSp>
        <p:nvGrpSpPr>
          <p:cNvPr id="306" name="Group 31"/>
          <p:cNvGrpSpPr/>
          <p:nvPr/>
        </p:nvGrpSpPr>
        <p:grpSpPr>
          <a:xfrm>
            <a:off x="1763640" y="3063960"/>
            <a:ext cx="1143000" cy="1143000"/>
            <a:chOff x="1763640" y="3063960"/>
            <a:chExt cx="1143000" cy="1143000"/>
          </a:xfrm>
        </p:grpSpPr>
        <p:sp>
          <p:nvSpPr>
            <p:cNvPr id="307" name="Oval 32"/>
            <p:cNvSpPr/>
            <p:nvPr/>
          </p:nvSpPr>
          <p:spPr>
            <a:xfrm>
              <a:off x="1763640" y="306396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017657"/>
                </a:gs>
                <a:gs pos="100000">
                  <a:srgbClr val="bfffe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Oval 33"/>
            <p:cNvSpPr/>
            <p:nvPr/>
          </p:nvSpPr>
          <p:spPr>
            <a:xfrm>
              <a:off x="1979640" y="3508560"/>
              <a:ext cx="152280" cy="152280"/>
            </a:xfrm>
            <a:prstGeom prst="ellipse">
              <a:avLst/>
            </a:prstGeom>
            <a:solidFill>
              <a:srgbClr val="03f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Oval 34"/>
            <p:cNvSpPr/>
            <p:nvPr/>
          </p:nvSpPr>
          <p:spPr>
            <a:xfrm>
              <a:off x="2131920" y="3813480"/>
              <a:ext cx="152280" cy="152280"/>
            </a:xfrm>
            <a:prstGeom prst="ellipse">
              <a:avLst/>
            </a:prstGeom>
            <a:solidFill>
              <a:srgbClr val="03f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Oval 35"/>
            <p:cNvSpPr/>
            <p:nvPr/>
          </p:nvSpPr>
          <p:spPr>
            <a:xfrm>
              <a:off x="2589120" y="3508560"/>
              <a:ext cx="152280" cy="152280"/>
            </a:xfrm>
            <a:prstGeom prst="ellipse">
              <a:avLst/>
            </a:prstGeom>
            <a:solidFill>
              <a:srgbClr val="03f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Oval 36"/>
            <p:cNvSpPr/>
            <p:nvPr/>
          </p:nvSpPr>
          <p:spPr>
            <a:xfrm>
              <a:off x="2436840" y="3813480"/>
              <a:ext cx="152280" cy="152280"/>
            </a:xfrm>
            <a:prstGeom prst="ellipse">
              <a:avLst/>
            </a:prstGeom>
            <a:solidFill>
              <a:srgbClr val="03f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Oval 37"/>
            <p:cNvSpPr/>
            <p:nvPr/>
          </p:nvSpPr>
          <p:spPr>
            <a:xfrm>
              <a:off x="2284200" y="3279960"/>
              <a:ext cx="152640" cy="152280"/>
            </a:xfrm>
            <a:prstGeom prst="ellipse">
              <a:avLst/>
            </a:prstGeom>
            <a:solidFill>
              <a:srgbClr val="03f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313" name="AutoShape 38"/>
            <p:cNvCxnSpPr>
              <a:stCxn id="309" idx="5"/>
              <a:endCxn id="311" idx="3"/>
            </p:cNvCxnSpPr>
            <p:nvPr/>
          </p:nvCxnSpPr>
          <p:spPr>
            <a:xfrm>
              <a:off x="2262240" y="3943080"/>
              <a:ext cx="19728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314" name="AutoShape 39"/>
            <p:cNvCxnSpPr>
              <a:stCxn id="311" idx="7"/>
            </p:cNvCxnSpPr>
            <p:nvPr/>
          </p:nvCxnSpPr>
          <p:spPr>
            <a:xfrm flipV="1">
              <a:off x="2566800" y="3660120"/>
              <a:ext cx="99360" cy="175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315" name="AutoShape 40"/>
            <p:cNvCxnSpPr>
              <a:stCxn id="309" idx="1"/>
              <a:endCxn id="308" idx="4"/>
            </p:cNvCxnSpPr>
            <p:nvPr/>
          </p:nvCxnSpPr>
          <p:spPr>
            <a:xfrm flipH="1" flipV="1">
              <a:off x="2055240" y="3660120"/>
              <a:ext cx="99360" cy="175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316" name="AutoShape 41"/>
            <p:cNvCxnSpPr>
              <a:stCxn id="312" idx="3"/>
              <a:endCxn id="308" idx="7"/>
            </p:cNvCxnSpPr>
            <p:nvPr/>
          </p:nvCxnSpPr>
          <p:spPr>
            <a:xfrm flipH="1">
              <a:off x="2108880" y="3409920"/>
              <a:ext cx="197640" cy="121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317" name="AutoShape 42"/>
            <p:cNvCxnSpPr>
              <a:stCxn id="312" idx="5"/>
              <a:endCxn id="310" idx="1"/>
            </p:cNvCxnSpPr>
            <p:nvPr/>
          </p:nvCxnSpPr>
          <p:spPr>
            <a:xfrm>
              <a:off x="2414160" y="3409920"/>
              <a:ext cx="197640" cy="121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318" name="AutoShape 43"/>
            <p:cNvCxnSpPr>
              <a:stCxn id="309" idx="7"/>
              <a:endCxn id="310" idx="3"/>
            </p:cNvCxnSpPr>
            <p:nvPr/>
          </p:nvCxnSpPr>
          <p:spPr>
            <a:xfrm flipV="1">
              <a:off x="2262240" y="3638520"/>
              <a:ext cx="349920" cy="19728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319" name="AutoShape 44"/>
            <p:cNvCxnSpPr>
              <a:stCxn id="311" idx="0"/>
              <a:endCxn id="308" idx="5"/>
            </p:cNvCxnSpPr>
            <p:nvPr/>
          </p:nvCxnSpPr>
          <p:spPr>
            <a:xfrm flipH="1" flipV="1">
              <a:off x="2109240" y="3638160"/>
              <a:ext cx="403920" cy="175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320" name="AutoShape 45"/>
            <p:cNvCxnSpPr>
              <a:stCxn id="309" idx="7"/>
            </p:cNvCxnSpPr>
            <p:nvPr/>
          </p:nvCxnSpPr>
          <p:spPr>
            <a:xfrm flipV="1">
              <a:off x="2261880" y="3431880"/>
              <a:ext cx="99000" cy="4039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321" name="AutoShape 46"/>
            <p:cNvCxnSpPr>
              <a:stCxn id="311" idx="0"/>
              <a:endCxn id="312" idx="4"/>
            </p:cNvCxnSpPr>
            <p:nvPr/>
          </p:nvCxnSpPr>
          <p:spPr>
            <a:xfrm flipH="1" flipV="1">
              <a:off x="2359800" y="3431520"/>
              <a:ext cx="153000" cy="3819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</p:grpSp>
      <p:grpSp>
        <p:nvGrpSpPr>
          <p:cNvPr id="322" name="Group 47"/>
          <p:cNvGrpSpPr/>
          <p:nvPr/>
        </p:nvGrpSpPr>
        <p:grpSpPr>
          <a:xfrm>
            <a:off x="6335640" y="3063960"/>
            <a:ext cx="1143000" cy="1143000"/>
            <a:chOff x="6335640" y="3063960"/>
            <a:chExt cx="1143000" cy="1143000"/>
          </a:xfrm>
        </p:grpSpPr>
        <p:sp>
          <p:nvSpPr>
            <p:cNvPr id="323" name="Oval 48"/>
            <p:cNvSpPr/>
            <p:nvPr/>
          </p:nvSpPr>
          <p:spPr>
            <a:xfrm>
              <a:off x="6335640" y="306396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6551280" y="3508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Oval 50"/>
            <p:cNvSpPr/>
            <p:nvPr/>
          </p:nvSpPr>
          <p:spPr>
            <a:xfrm>
              <a:off x="6703920" y="3813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51"/>
            <p:cNvSpPr/>
            <p:nvPr/>
          </p:nvSpPr>
          <p:spPr>
            <a:xfrm>
              <a:off x="6856200" y="3279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327" name="AutoShape 52"/>
            <p:cNvCxnSpPr>
              <a:stCxn id="325" idx="1"/>
              <a:endCxn id="324" idx="4"/>
            </p:cNvCxnSpPr>
            <p:nvPr/>
          </p:nvCxnSpPr>
          <p:spPr>
            <a:xfrm flipH="1" flipV="1">
              <a:off x="6626880" y="3660120"/>
              <a:ext cx="99000" cy="175320"/>
            </a:xfrm>
            <a:prstGeom prst="straightConnector1">
              <a:avLst/>
            </a:prstGeom>
            <a:ln w="19080">
              <a:solidFill>
                <a:srgbClr val="ffcc00"/>
              </a:solidFill>
              <a:miter/>
            </a:ln>
          </p:spPr>
        </p:cxnSp>
        <p:cxnSp>
          <p:nvCxnSpPr>
            <p:cNvPr id="328" name="AutoShape 53"/>
            <p:cNvCxnSpPr>
              <a:stCxn id="326" idx="3"/>
              <a:endCxn id="324" idx="7"/>
            </p:cNvCxnSpPr>
            <p:nvPr/>
          </p:nvCxnSpPr>
          <p:spPr>
            <a:xfrm flipH="1">
              <a:off x="6680880" y="3409920"/>
              <a:ext cx="197640" cy="121320"/>
            </a:xfrm>
            <a:prstGeom prst="straightConnector1">
              <a:avLst/>
            </a:prstGeom>
            <a:ln w="19080">
              <a:solidFill>
                <a:srgbClr val="ffcc00"/>
              </a:solidFill>
              <a:miter/>
            </a:ln>
          </p:spPr>
        </p:cxnSp>
        <p:cxnSp>
          <p:nvCxnSpPr>
            <p:cNvPr id="329" name="AutoShape 54"/>
            <p:cNvCxnSpPr>
              <a:stCxn id="325" idx="7"/>
            </p:cNvCxnSpPr>
            <p:nvPr/>
          </p:nvCxnSpPr>
          <p:spPr>
            <a:xfrm flipV="1">
              <a:off x="6833880" y="3431880"/>
              <a:ext cx="99360" cy="403920"/>
            </a:xfrm>
            <a:prstGeom prst="straightConnector1">
              <a:avLst/>
            </a:prstGeom>
            <a:ln w="19080">
              <a:solidFill>
                <a:srgbClr val="ffcc00"/>
              </a:solidFill>
              <a:miter/>
            </a:ln>
          </p:spPr>
        </p:cxnSp>
      </p:grpSp>
      <p:grpSp>
        <p:nvGrpSpPr>
          <p:cNvPr id="330" name="Group 55"/>
          <p:cNvGrpSpPr/>
          <p:nvPr/>
        </p:nvGrpSpPr>
        <p:grpSpPr>
          <a:xfrm>
            <a:off x="5345280" y="5121360"/>
            <a:ext cx="1143000" cy="1143000"/>
            <a:chOff x="5345280" y="5121360"/>
            <a:chExt cx="1143000" cy="1143000"/>
          </a:xfrm>
        </p:grpSpPr>
        <p:sp>
          <p:nvSpPr>
            <p:cNvPr id="331" name="Oval 56"/>
            <p:cNvSpPr/>
            <p:nvPr/>
          </p:nvSpPr>
          <p:spPr>
            <a:xfrm>
              <a:off x="5345280" y="512136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57"/>
            <p:cNvSpPr/>
            <p:nvPr/>
          </p:nvSpPr>
          <p:spPr>
            <a:xfrm>
              <a:off x="5561280" y="5565960"/>
              <a:ext cx="152280" cy="152280"/>
            </a:xfrm>
            <a:prstGeom prst="ellipse">
              <a:avLst/>
            </a:prstGeom>
            <a:solidFill>
              <a:srgbClr val="76b7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Oval 58"/>
            <p:cNvSpPr/>
            <p:nvPr/>
          </p:nvSpPr>
          <p:spPr>
            <a:xfrm>
              <a:off x="5713560" y="5870880"/>
              <a:ext cx="152280" cy="152280"/>
            </a:xfrm>
            <a:prstGeom prst="ellipse">
              <a:avLst/>
            </a:prstGeom>
            <a:solidFill>
              <a:srgbClr val="76b7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Oval 59"/>
            <p:cNvSpPr/>
            <p:nvPr/>
          </p:nvSpPr>
          <p:spPr>
            <a:xfrm>
              <a:off x="6170760" y="5565960"/>
              <a:ext cx="152280" cy="152280"/>
            </a:xfrm>
            <a:prstGeom prst="ellipse">
              <a:avLst/>
            </a:prstGeom>
            <a:solidFill>
              <a:srgbClr val="76b7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Oval 60"/>
            <p:cNvSpPr/>
            <p:nvPr/>
          </p:nvSpPr>
          <p:spPr>
            <a:xfrm>
              <a:off x="6018480" y="5870880"/>
              <a:ext cx="152280" cy="152280"/>
            </a:xfrm>
            <a:prstGeom prst="ellipse">
              <a:avLst/>
            </a:prstGeom>
            <a:solidFill>
              <a:srgbClr val="76b7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Oval 61"/>
            <p:cNvSpPr/>
            <p:nvPr/>
          </p:nvSpPr>
          <p:spPr>
            <a:xfrm>
              <a:off x="5865840" y="5337360"/>
              <a:ext cx="152640" cy="152280"/>
            </a:xfrm>
            <a:prstGeom prst="ellipse">
              <a:avLst/>
            </a:prstGeom>
            <a:solidFill>
              <a:srgbClr val="76b7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337" name="AutoShape 62"/>
            <p:cNvCxnSpPr>
              <a:stCxn id="333" idx="5"/>
              <a:endCxn id="335" idx="3"/>
            </p:cNvCxnSpPr>
            <p:nvPr/>
          </p:nvCxnSpPr>
          <p:spPr>
            <a:xfrm>
              <a:off x="5843880" y="6000480"/>
              <a:ext cx="197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38" name="AutoShape 63"/>
            <p:cNvCxnSpPr>
              <a:stCxn id="333" idx="1"/>
              <a:endCxn id="332" idx="4"/>
            </p:cNvCxnSpPr>
            <p:nvPr/>
          </p:nvCxnSpPr>
          <p:spPr>
            <a:xfrm flipH="1" flipV="1">
              <a:off x="5636880" y="5717520"/>
              <a:ext cx="99360" cy="175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339" name="AutoShape 64"/>
            <p:cNvCxnSpPr>
              <a:stCxn id="336" idx="3"/>
              <a:endCxn id="332" idx="7"/>
            </p:cNvCxnSpPr>
            <p:nvPr/>
          </p:nvCxnSpPr>
          <p:spPr>
            <a:xfrm flipH="1">
              <a:off x="5690520" y="5467320"/>
              <a:ext cx="197640" cy="121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40" name="AutoShape 65"/>
            <p:cNvCxnSpPr>
              <a:stCxn id="336" idx="5"/>
              <a:endCxn id="334" idx="1"/>
            </p:cNvCxnSpPr>
            <p:nvPr/>
          </p:nvCxnSpPr>
          <p:spPr>
            <a:xfrm>
              <a:off x="5995800" y="5467320"/>
              <a:ext cx="197640" cy="121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41" name="AutoShape 66"/>
            <p:cNvCxnSpPr>
              <a:stCxn id="333" idx="7"/>
              <a:endCxn id="334" idx="3"/>
            </p:cNvCxnSpPr>
            <p:nvPr/>
          </p:nvCxnSpPr>
          <p:spPr>
            <a:xfrm flipV="1">
              <a:off x="5843880" y="5695920"/>
              <a:ext cx="349920" cy="197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42" name="AutoShape 67"/>
            <p:cNvCxnSpPr>
              <a:stCxn id="335" idx="0"/>
              <a:endCxn id="332" idx="5"/>
            </p:cNvCxnSpPr>
            <p:nvPr/>
          </p:nvCxnSpPr>
          <p:spPr>
            <a:xfrm flipH="1" flipV="1">
              <a:off x="5690880" y="5695560"/>
              <a:ext cx="403920" cy="175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43" name="AutoShape 68"/>
            <p:cNvCxnSpPr>
              <a:stCxn id="333" idx="7"/>
            </p:cNvCxnSpPr>
            <p:nvPr/>
          </p:nvCxnSpPr>
          <p:spPr>
            <a:xfrm flipV="1">
              <a:off x="5843520" y="5489280"/>
              <a:ext cx="99000" cy="403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cxnSp>
        <p:nvCxnSpPr>
          <p:cNvPr id="344" name="AutoShape 69"/>
          <p:cNvCxnSpPr>
            <a:stCxn id="280" idx="6"/>
            <a:endCxn id="331" idx="2"/>
          </p:cNvCxnSpPr>
          <p:nvPr/>
        </p:nvCxnSpPr>
        <p:spPr>
          <a:xfrm>
            <a:off x="4125600" y="569232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AutoShape 70"/>
          <p:cNvCxnSpPr>
            <a:stCxn id="331" idx="7"/>
            <a:endCxn id="323" idx="4"/>
          </p:cNvCxnSpPr>
          <p:nvPr/>
        </p:nvCxnSpPr>
        <p:spPr>
          <a:xfrm flipV="1">
            <a:off x="6321240" y="4206240"/>
            <a:ext cx="58644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AutoShape 71"/>
          <p:cNvCxnSpPr>
            <a:stCxn id="280" idx="1"/>
            <a:endCxn id="307" idx="4"/>
          </p:cNvCxnSpPr>
          <p:nvPr/>
        </p:nvCxnSpPr>
        <p:spPr>
          <a:xfrm flipH="1" flipV="1">
            <a:off x="2334960" y="4206240"/>
            <a:ext cx="81504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AutoShape 72"/>
          <p:cNvCxnSpPr>
            <a:stCxn id="307" idx="7"/>
            <a:endCxn id="295" idx="2"/>
          </p:cNvCxnSpPr>
          <p:nvPr/>
        </p:nvCxnSpPr>
        <p:spPr>
          <a:xfrm flipV="1">
            <a:off x="2739960" y="2491560"/>
            <a:ext cx="1310400" cy="73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AutoShape 73"/>
          <p:cNvCxnSpPr>
            <a:stCxn id="323" idx="1"/>
            <a:endCxn id="295" idx="6"/>
          </p:cNvCxnSpPr>
          <p:nvPr/>
        </p:nvCxnSpPr>
        <p:spPr>
          <a:xfrm flipH="1" flipV="1">
            <a:off x="5192280" y="2491560"/>
            <a:ext cx="1310400" cy="73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" name="AutoShape 74"/>
          <p:cNvCxnSpPr>
            <a:stCxn id="307" idx="6"/>
            <a:endCxn id="331" idx="1"/>
          </p:cNvCxnSpPr>
          <p:nvPr/>
        </p:nvCxnSpPr>
        <p:spPr>
          <a:xfrm>
            <a:off x="2906280" y="3634920"/>
            <a:ext cx="2606040" cy="1653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0" name="AutoShape 75"/>
          <p:cNvCxnSpPr>
            <a:stCxn id="280" idx="7"/>
            <a:endCxn id="323" idx="2"/>
          </p:cNvCxnSpPr>
          <p:nvPr/>
        </p:nvCxnSpPr>
        <p:spPr>
          <a:xfrm flipV="1">
            <a:off x="3958920" y="3634560"/>
            <a:ext cx="2377080" cy="1653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1" name="Text Box 76"/>
          <p:cNvSpPr/>
          <p:nvPr/>
        </p:nvSpPr>
        <p:spPr>
          <a:xfrm>
            <a:off x="7174080" y="1844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Homa"/>
              </a:rPr>
              <a:t>مثا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300C-2775-46C4-A54F-E42CF83880C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يژگيهاي سيستم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ي پيچي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395280" y="1557360"/>
            <a:ext cx="792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”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cs typeface="Nazanin"/>
              </a:rPr>
              <a:t>سيستم</a:t>
            </a:r>
            <a:r>
              <a:rPr b="1" lang="fa-IR" sz="2800" spc="-1" strike="noStrike">
                <a:solidFill>
                  <a:srgbClr val="0033cc"/>
                </a:solidFill>
                <a:latin typeface="Zar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cs typeface="Nazanin"/>
              </a:rPr>
              <a:t>هاي سلسله مراتبي معمولا</a:t>
            </a:r>
            <a:r>
              <a:rPr b="1" lang="fa-IR" sz="2800" spc="-1" strike="noStrike">
                <a:solidFill>
                  <a:srgbClr val="0033cc"/>
                </a:solidFill>
                <a:latin typeface="Zar"/>
                <a:cs typeface="Nazanin"/>
              </a:rPr>
              <a:t>ً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ea typeface="Nazanin"/>
              </a:rPr>
              <a:t> از تعداد كمي از زيرسيستم</a:t>
            </a:r>
            <a:r>
              <a:rPr b="1" lang="fa-IR" sz="2800" spc="-1" strike="noStrike">
                <a:solidFill>
                  <a:srgbClr val="0033cc"/>
                </a:solidFill>
                <a:latin typeface="Zar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cs typeface="Nazanin"/>
              </a:rPr>
              <a:t>هاي مشخص و متفاوت تشكيل مي</a:t>
            </a:r>
            <a:r>
              <a:rPr b="1" lang="fa-IR" sz="2800" spc="-1" strike="noStrike">
                <a:solidFill>
                  <a:srgbClr val="0033cc"/>
                </a:solidFill>
                <a:latin typeface="Zar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cs typeface="Nazanin"/>
              </a:rPr>
              <a:t>شوند كه اين زيرسيستم</a:t>
            </a:r>
            <a:r>
              <a:rPr b="1" lang="fa-IR" sz="2800" spc="-1" strike="noStrike">
                <a:solidFill>
                  <a:srgbClr val="0033cc"/>
                </a:solidFill>
                <a:latin typeface="Zar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cs typeface="Nazanin"/>
              </a:rPr>
              <a:t>ها به صورت</a:t>
            </a:r>
            <a:r>
              <a:rPr b="1" lang="fa-IR" sz="2800" spc="-1" strike="noStrike">
                <a:solidFill>
                  <a:srgbClr val="0033cc"/>
                </a:solidFill>
                <a:latin typeface="Zar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cs typeface="Nazanin"/>
              </a:rPr>
              <a:t>هاي گوناگون و ترتيب</a:t>
            </a:r>
            <a:r>
              <a:rPr b="1" lang="fa-IR" sz="2800" spc="-1" strike="noStrike">
                <a:solidFill>
                  <a:srgbClr val="0033cc"/>
                </a:solidFill>
                <a:latin typeface="Zar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cs typeface="Nazanin"/>
              </a:rPr>
              <a:t>هاي مختلف ظاهر مي</a:t>
            </a:r>
            <a:r>
              <a:rPr b="1" lang="fa-IR" sz="2800" spc="-1" strike="noStrike">
                <a:solidFill>
                  <a:srgbClr val="0033cc"/>
                </a:solidFill>
                <a:latin typeface="Zar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cs typeface="Nazanin"/>
              </a:rPr>
              <a:t>شوند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Oval 5"/>
          <p:cNvSpPr/>
          <p:nvPr/>
        </p:nvSpPr>
        <p:spPr>
          <a:xfrm>
            <a:off x="8381880" y="212076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5684-AA7F-4D87-8A76-FB6D2A20FDC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يژگيهاي سيستم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ي پيچي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476360" y="1992240"/>
            <a:ext cx="5715000" cy="4343400"/>
            <a:chOff x="1476360" y="1992240"/>
            <a:chExt cx="5715000" cy="4343400"/>
          </a:xfrm>
        </p:grpSpPr>
        <p:sp>
          <p:nvSpPr>
            <p:cNvPr id="359" name="Oval 5"/>
            <p:cNvSpPr/>
            <p:nvPr/>
          </p:nvSpPr>
          <p:spPr>
            <a:xfrm>
              <a:off x="2695320" y="519264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Oval 6"/>
            <p:cNvSpPr/>
            <p:nvPr/>
          </p:nvSpPr>
          <p:spPr>
            <a:xfrm>
              <a:off x="2911320" y="5637240"/>
              <a:ext cx="152280" cy="152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Oval 7"/>
            <p:cNvSpPr/>
            <p:nvPr/>
          </p:nvSpPr>
          <p:spPr>
            <a:xfrm>
              <a:off x="3063600" y="59421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Oval 8"/>
            <p:cNvSpPr/>
            <p:nvPr/>
          </p:nvSpPr>
          <p:spPr>
            <a:xfrm>
              <a:off x="3520800" y="5637240"/>
              <a:ext cx="152640" cy="152280"/>
            </a:xfrm>
            <a:prstGeom prst="ellipse">
              <a:avLst/>
            </a:prstGeom>
            <a:solidFill>
              <a:srgbClr val="03f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3368520" y="5942160"/>
              <a:ext cx="152280" cy="152280"/>
            </a:xfrm>
            <a:prstGeom prst="ellipse">
              <a:avLst/>
            </a:prstGeom>
            <a:solidFill>
              <a:srgbClr val="76b7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3216240" y="54086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365" name="AutoShape 11"/>
            <p:cNvCxnSpPr>
              <a:stCxn id="361" idx="5"/>
              <a:endCxn id="363" idx="3"/>
            </p:cNvCxnSpPr>
            <p:nvPr/>
          </p:nvCxnSpPr>
          <p:spPr>
            <a:xfrm>
              <a:off x="3193560" y="6071760"/>
              <a:ext cx="197640" cy="1080"/>
            </a:xfrm>
            <a:prstGeom prst="straightConnector1">
              <a:avLst/>
            </a:prstGeom>
            <a:ln w="19080">
              <a:solidFill>
                <a:srgbClr val="ff6f6f"/>
              </a:solidFill>
              <a:miter/>
            </a:ln>
          </p:spPr>
        </p:cxnSp>
        <p:cxnSp>
          <p:nvCxnSpPr>
            <p:cNvPr id="366" name="AutoShape 12"/>
            <p:cNvCxnSpPr>
              <a:stCxn id="363" idx="7"/>
            </p:cNvCxnSpPr>
            <p:nvPr/>
          </p:nvCxnSpPr>
          <p:spPr>
            <a:xfrm flipV="1">
              <a:off x="3498480" y="5788800"/>
              <a:ext cx="99000" cy="175320"/>
            </a:xfrm>
            <a:prstGeom prst="straightConnector1">
              <a:avLst/>
            </a:prstGeom>
            <a:ln w="19080">
              <a:solidFill>
                <a:srgbClr val="ff6f6f"/>
              </a:solidFill>
              <a:miter/>
            </a:ln>
          </p:spPr>
        </p:cxnSp>
        <p:cxnSp>
          <p:nvCxnSpPr>
            <p:cNvPr id="367" name="AutoShape 13"/>
            <p:cNvCxnSpPr>
              <a:stCxn id="361" idx="1"/>
              <a:endCxn id="360" idx="4"/>
            </p:cNvCxnSpPr>
            <p:nvPr/>
          </p:nvCxnSpPr>
          <p:spPr>
            <a:xfrm flipH="1" flipV="1">
              <a:off x="2986920" y="5788800"/>
              <a:ext cx="99000" cy="175320"/>
            </a:xfrm>
            <a:prstGeom prst="straightConnector1">
              <a:avLst/>
            </a:prstGeom>
            <a:ln w="19080">
              <a:solidFill>
                <a:srgbClr val="ff6f6f"/>
              </a:solidFill>
              <a:miter/>
            </a:ln>
          </p:spPr>
        </p:cxnSp>
        <p:cxnSp>
          <p:nvCxnSpPr>
            <p:cNvPr id="368" name="AutoShape 14"/>
            <p:cNvCxnSpPr>
              <a:stCxn id="364" idx="3"/>
              <a:endCxn id="360" idx="7"/>
            </p:cNvCxnSpPr>
            <p:nvPr/>
          </p:nvCxnSpPr>
          <p:spPr>
            <a:xfrm flipH="1">
              <a:off x="3041280" y="5538600"/>
              <a:ext cx="197280" cy="121320"/>
            </a:xfrm>
            <a:prstGeom prst="straightConnector1">
              <a:avLst/>
            </a:prstGeom>
            <a:ln w="19080">
              <a:solidFill>
                <a:srgbClr val="ff6f6f"/>
              </a:solidFill>
              <a:miter/>
            </a:ln>
          </p:spPr>
        </p:cxnSp>
        <p:cxnSp>
          <p:nvCxnSpPr>
            <p:cNvPr id="369" name="AutoShape 15"/>
            <p:cNvCxnSpPr>
              <a:stCxn id="364" idx="5"/>
              <a:endCxn id="362" idx="1"/>
            </p:cNvCxnSpPr>
            <p:nvPr/>
          </p:nvCxnSpPr>
          <p:spPr>
            <a:xfrm>
              <a:off x="3345840" y="5538600"/>
              <a:ext cx="197640" cy="121320"/>
            </a:xfrm>
            <a:prstGeom prst="straightConnector1">
              <a:avLst/>
            </a:prstGeom>
            <a:ln w="19080">
              <a:solidFill>
                <a:srgbClr val="ff6f6f"/>
              </a:solidFill>
              <a:miter/>
            </a:ln>
          </p:spPr>
        </p:cxnSp>
        <p:cxnSp>
          <p:nvCxnSpPr>
            <p:cNvPr id="370" name="AutoShape 16"/>
            <p:cNvCxnSpPr>
              <a:stCxn id="361" idx="7"/>
              <a:endCxn id="362" idx="3"/>
            </p:cNvCxnSpPr>
            <p:nvPr/>
          </p:nvCxnSpPr>
          <p:spPr>
            <a:xfrm flipV="1">
              <a:off x="3193920" y="5767200"/>
              <a:ext cx="349920" cy="197280"/>
            </a:xfrm>
            <a:prstGeom prst="straightConnector1">
              <a:avLst/>
            </a:prstGeom>
            <a:ln w="19080">
              <a:solidFill>
                <a:srgbClr val="ff6f6f"/>
              </a:solidFill>
              <a:miter/>
            </a:ln>
          </p:spPr>
        </p:cxnSp>
        <p:cxnSp>
          <p:nvCxnSpPr>
            <p:cNvPr id="371" name="AutoShape 17"/>
            <p:cNvCxnSpPr>
              <a:stCxn id="363" idx="0"/>
              <a:endCxn id="360" idx="5"/>
            </p:cNvCxnSpPr>
            <p:nvPr/>
          </p:nvCxnSpPr>
          <p:spPr>
            <a:xfrm flipH="1" flipV="1">
              <a:off x="3041280" y="5766840"/>
              <a:ext cx="403920" cy="175320"/>
            </a:xfrm>
            <a:prstGeom prst="straightConnector1">
              <a:avLst/>
            </a:prstGeom>
            <a:ln w="19080">
              <a:solidFill>
                <a:srgbClr val="ff6f6f"/>
              </a:solidFill>
              <a:miter/>
            </a:ln>
          </p:spPr>
        </p:cxnSp>
        <p:cxnSp>
          <p:nvCxnSpPr>
            <p:cNvPr id="372" name="AutoShape 18"/>
            <p:cNvCxnSpPr>
              <a:stCxn id="363" idx="0"/>
              <a:endCxn id="364" idx="4"/>
            </p:cNvCxnSpPr>
            <p:nvPr/>
          </p:nvCxnSpPr>
          <p:spPr>
            <a:xfrm flipH="1" flipV="1">
              <a:off x="3291840" y="5560200"/>
              <a:ext cx="153360" cy="381960"/>
            </a:xfrm>
            <a:prstGeom prst="straightConnector1">
              <a:avLst/>
            </a:prstGeom>
            <a:ln w="19080">
              <a:solidFill>
                <a:srgbClr val="ff6f6f"/>
              </a:solidFill>
              <a:miter/>
            </a:ln>
          </p:spPr>
        </p:cxnSp>
        <p:sp>
          <p:nvSpPr>
            <p:cNvPr id="373" name="Oval 19"/>
            <p:cNvSpPr/>
            <p:nvPr/>
          </p:nvSpPr>
          <p:spPr>
            <a:xfrm>
              <a:off x="3762360" y="199224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20"/>
            <p:cNvSpPr/>
            <p:nvPr/>
          </p:nvSpPr>
          <p:spPr>
            <a:xfrm>
              <a:off x="4130640" y="2741760"/>
              <a:ext cx="152280" cy="152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21"/>
            <p:cNvSpPr/>
            <p:nvPr/>
          </p:nvSpPr>
          <p:spPr>
            <a:xfrm>
              <a:off x="4587840" y="24368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22"/>
            <p:cNvSpPr/>
            <p:nvPr/>
          </p:nvSpPr>
          <p:spPr>
            <a:xfrm>
              <a:off x="4435200" y="274176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23"/>
            <p:cNvSpPr/>
            <p:nvPr/>
          </p:nvSpPr>
          <p:spPr>
            <a:xfrm>
              <a:off x="4066920" y="2373480"/>
              <a:ext cx="152640" cy="152280"/>
            </a:xfrm>
            <a:prstGeom prst="ellipse">
              <a:avLst/>
            </a:prstGeom>
            <a:solidFill>
              <a:srgbClr val="03f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378" name="AutoShape 24"/>
            <p:cNvCxnSpPr>
              <a:stCxn id="374" idx="5"/>
              <a:endCxn id="376" idx="3"/>
            </p:cNvCxnSpPr>
            <p:nvPr/>
          </p:nvCxnSpPr>
          <p:spPr>
            <a:xfrm>
              <a:off x="4260240" y="2871360"/>
              <a:ext cx="197640" cy="1080"/>
            </a:xfrm>
            <a:prstGeom prst="straightConnector1">
              <a:avLst/>
            </a:prstGeom>
            <a:ln w="19080">
              <a:solidFill>
                <a:srgbClr val="00ccff"/>
              </a:solidFill>
              <a:miter/>
            </a:ln>
          </p:spPr>
        </p:cxnSp>
        <p:cxnSp>
          <p:nvCxnSpPr>
            <p:cNvPr id="379" name="AutoShape 25"/>
            <p:cNvCxnSpPr>
              <a:stCxn id="376" idx="7"/>
            </p:cNvCxnSpPr>
            <p:nvPr/>
          </p:nvCxnSpPr>
          <p:spPr>
            <a:xfrm flipV="1">
              <a:off x="4565160" y="2588400"/>
              <a:ext cx="99000" cy="175320"/>
            </a:xfrm>
            <a:prstGeom prst="straightConnector1">
              <a:avLst/>
            </a:prstGeom>
            <a:ln w="19080">
              <a:solidFill>
                <a:srgbClr val="00ccff"/>
              </a:solidFill>
              <a:miter/>
            </a:ln>
          </p:spPr>
        </p:cxnSp>
        <p:cxnSp>
          <p:nvCxnSpPr>
            <p:cNvPr id="380" name="AutoShape 26"/>
            <p:cNvCxnSpPr>
              <a:stCxn id="377" idx="6"/>
              <a:endCxn id="375" idx="1"/>
            </p:cNvCxnSpPr>
            <p:nvPr/>
          </p:nvCxnSpPr>
          <p:spPr>
            <a:xfrm>
              <a:off x="4219560" y="2449080"/>
              <a:ext cx="390960" cy="10440"/>
            </a:xfrm>
            <a:prstGeom prst="straightConnector1">
              <a:avLst/>
            </a:prstGeom>
            <a:ln w="19080">
              <a:solidFill>
                <a:srgbClr val="00ccff"/>
              </a:solidFill>
              <a:miter/>
            </a:ln>
          </p:spPr>
        </p:cxnSp>
        <p:cxnSp>
          <p:nvCxnSpPr>
            <p:cNvPr id="381" name="AutoShape 27"/>
            <p:cNvCxnSpPr>
              <a:stCxn id="374" idx="7"/>
              <a:endCxn id="375" idx="3"/>
            </p:cNvCxnSpPr>
            <p:nvPr/>
          </p:nvCxnSpPr>
          <p:spPr>
            <a:xfrm flipV="1">
              <a:off x="4260600" y="2566800"/>
              <a:ext cx="349920" cy="197280"/>
            </a:xfrm>
            <a:prstGeom prst="straightConnector1">
              <a:avLst/>
            </a:prstGeom>
            <a:ln w="19080">
              <a:solidFill>
                <a:srgbClr val="00ccff"/>
              </a:solidFill>
              <a:miter/>
            </a:ln>
          </p:spPr>
        </p:cxnSp>
        <p:cxnSp>
          <p:nvCxnSpPr>
            <p:cNvPr id="382" name="AutoShape 28"/>
            <p:cNvCxnSpPr>
              <a:stCxn id="374" idx="0"/>
              <a:endCxn id="377" idx="4"/>
            </p:cNvCxnSpPr>
            <p:nvPr/>
          </p:nvCxnSpPr>
          <p:spPr>
            <a:xfrm flipH="1" flipV="1">
              <a:off x="4142880" y="2525400"/>
              <a:ext cx="64080" cy="216720"/>
            </a:xfrm>
            <a:prstGeom prst="straightConnector1">
              <a:avLst/>
            </a:prstGeom>
            <a:ln w="19080">
              <a:solidFill>
                <a:srgbClr val="00ccff"/>
              </a:solidFill>
              <a:miter/>
            </a:ln>
          </p:spPr>
        </p:cxnSp>
        <p:cxnSp>
          <p:nvCxnSpPr>
            <p:cNvPr id="383" name="AutoShape 29"/>
            <p:cNvCxnSpPr>
              <a:stCxn id="376" idx="0"/>
              <a:endCxn id="377" idx="5"/>
            </p:cNvCxnSpPr>
            <p:nvPr/>
          </p:nvCxnSpPr>
          <p:spPr>
            <a:xfrm flipH="1" flipV="1">
              <a:off x="4196520" y="2503080"/>
              <a:ext cx="315000" cy="239040"/>
            </a:xfrm>
            <a:prstGeom prst="straightConnector1">
              <a:avLst/>
            </a:prstGeom>
            <a:ln w="19080">
              <a:solidFill>
                <a:srgbClr val="00ccff"/>
              </a:solidFill>
              <a:miter/>
            </a:ln>
          </p:spPr>
        </p:cxnSp>
        <p:sp>
          <p:nvSpPr>
            <p:cNvPr id="384" name="Oval 30"/>
            <p:cNvSpPr/>
            <p:nvPr/>
          </p:nvSpPr>
          <p:spPr>
            <a:xfrm>
              <a:off x="1476360" y="313524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017657"/>
                </a:gs>
                <a:gs pos="100000">
                  <a:srgbClr val="bfffe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Oval 31"/>
            <p:cNvSpPr/>
            <p:nvPr/>
          </p:nvSpPr>
          <p:spPr>
            <a:xfrm>
              <a:off x="1692000" y="3579840"/>
              <a:ext cx="152640" cy="152280"/>
            </a:xfrm>
            <a:prstGeom prst="ellipse">
              <a:avLst/>
            </a:prstGeom>
            <a:solidFill>
              <a:srgbClr val="76b7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Oval 32"/>
            <p:cNvSpPr/>
            <p:nvPr/>
          </p:nvSpPr>
          <p:spPr>
            <a:xfrm>
              <a:off x="1844640" y="38847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Oval 33"/>
            <p:cNvSpPr/>
            <p:nvPr/>
          </p:nvSpPr>
          <p:spPr>
            <a:xfrm>
              <a:off x="2301840" y="3579840"/>
              <a:ext cx="152280" cy="152280"/>
            </a:xfrm>
            <a:prstGeom prst="ellipse">
              <a:avLst/>
            </a:prstGeom>
            <a:solidFill>
              <a:srgbClr val="03f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Oval 34"/>
            <p:cNvSpPr/>
            <p:nvPr/>
          </p:nvSpPr>
          <p:spPr>
            <a:xfrm>
              <a:off x="2149200" y="38847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Oval 35"/>
            <p:cNvSpPr/>
            <p:nvPr/>
          </p:nvSpPr>
          <p:spPr>
            <a:xfrm>
              <a:off x="1996920" y="3351240"/>
              <a:ext cx="152280" cy="152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390" name="AutoShape 36"/>
            <p:cNvCxnSpPr>
              <a:stCxn id="386" idx="5"/>
              <a:endCxn id="388" idx="3"/>
            </p:cNvCxnSpPr>
            <p:nvPr/>
          </p:nvCxnSpPr>
          <p:spPr>
            <a:xfrm>
              <a:off x="1974240" y="4014360"/>
              <a:ext cx="19764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391" name="AutoShape 37"/>
            <p:cNvCxnSpPr>
              <a:stCxn id="388" idx="7"/>
            </p:cNvCxnSpPr>
            <p:nvPr/>
          </p:nvCxnSpPr>
          <p:spPr>
            <a:xfrm flipV="1">
              <a:off x="2279160" y="3731400"/>
              <a:ext cx="99000" cy="175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392" name="AutoShape 38"/>
            <p:cNvCxnSpPr>
              <a:stCxn id="386" idx="1"/>
              <a:endCxn id="385" idx="4"/>
            </p:cNvCxnSpPr>
            <p:nvPr/>
          </p:nvCxnSpPr>
          <p:spPr>
            <a:xfrm flipH="1" flipV="1">
              <a:off x="1767600" y="3731400"/>
              <a:ext cx="99000" cy="175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393" name="AutoShape 39"/>
            <p:cNvCxnSpPr>
              <a:stCxn id="389" idx="3"/>
              <a:endCxn id="385" idx="7"/>
            </p:cNvCxnSpPr>
            <p:nvPr/>
          </p:nvCxnSpPr>
          <p:spPr>
            <a:xfrm flipH="1">
              <a:off x="1821600" y="3481200"/>
              <a:ext cx="197640" cy="121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394" name="AutoShape 40"/>
            <p:cNvCxnSpPr>
              <a:stCxn id="389" idx="5"/>
              <a:endCxn id="387" idx="1"/>
            </p:cNvCxnSpPr>
            <p:nvPr/>
          </p:nvCxnSpPr>
          <p:spPr>
            <a:xfrm>
              <a:off x="2127240" y="3481200"/>
              <a:ext cx="197280" cy="121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395" name="AutoShape 41"/>
            <p:cNvCxnSpPr>
              <a:stCxn id="386" idx="7"/>
              <a:endCxn id="387" idx="3"/>
            </p:cNvCxnSpPr>
            <p:nvPr/>
          </p:nvCxnSpPr>
          <p:spPr>
            <a:xfrm flipV="1">
              <a:off x="1974600" y="3709800"/>
              <a:ext cx="349920" cy="19728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396" name="AutoShape 42"/>
            <p:cNvCxnSpPr>
              <a:stCxn id="388" idx="0"/>
              <a:endCxn id="385" idx="5"/>
            </p:cNvCxnSpPr>
            <p:nvPr/>
          </p:nvCxnSpPr>
          <p:spPr>
            <a:xfrm flipH="1" flipV="1">
              <a:off x="1821960" y="3709440"/>
              <a:ext cx="403920" cy="175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397" name="AutoShape 43"/>
            <p:cNvCxnSpPr>
              <a:stCxn id="386" idx="7"/>
            </p:cNvCxnSpPr>
            <p:nvPr/>
          </p:nvCxnSpPr>
          <p:spPr>
            <a:xfrm flipV="1">
              <a:off x="1974600" y="3503160"/>
              <a:ext cx="99360" cy="4039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398" name="AutoShape 44"/>
            <p:cNvCxnSpPr>
              <a:stCxn id="388" idx="0"/>
              <a:endCxn id="389" idx="4"/>
            </p:cNvCxnSpPr>
            <p:nvPr/>
          </p:nvCxnSpPr>
          <p:spPr>
            <a:xfrm flipH="1" flipV="1">
              <a:off x="2072520" y="3502800"/>
              <a:ext cx="153000" cy="3819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399" name="Oval 45"/>
            <p:cNvSpPr/>
            <p:nvPr/>
          </p:nvSpPr>
          <p:spPr>
            <a:xfrm>
              <a:off x="6048360" y="313524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46"/>
            <p:cNvSpPr/>
            <p:nvPr/>
          </p:nvSpPr>
          <p:spPr>
            <a:xfrm>
              <a:off x="6264000" y="357984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Oval 47"/>
            <p:cNvSpPr/>
            <p:nvPr/>
          </p:nvSpPr>
          <p:spPr>
            <a:xfrm>
              <a:off x="6416640" y="3884760"/>
              <a:ext cx="152280" cy="152280"/>
            </a:xfrm>
            <a:prstGeom prst="ellipse">
              <a:avLst/>
            </a:prstGeom>
            <a:solidFill>
              <a:srgbClr val="76b7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Oval 48"/>
            <p:cNvSpPr/>
            <p:nvPr/>
          </p:nvSpPr>
          <p:spPr>
            <a:xfrm>
              <a:off x="6568920" y="3351240"/>
              <a:ext cx="152280" cy="152280"/>
            </a:xfrm>
            <a:prstGeom prst="ellipse">
              <a:avLst/>
            </a:prstGeom>
            <a:solidFill>
              <a:srgbClr val="03f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403" name="AutoShape 49"/>
            <p:cNvCxnSpPr>
              <a:stCxn id="401" idx="1"/>
              <a:endCxn id="400" idx="4"/>
            </p:cNvCxnSpPr>
            <p:nvPr/>
          </p:nvCxnSpPr>
          <p:spPr>
            <a:xfrm flipH="1" flipV="1">
              <a:off x="6339600" y="3731400"/>
              <a:ext cx="99000" cy="175320"/>
            </a:xfrm>
            <a:prstGeom prst="straightConnector1">
              <a:avLst/>
            </a:prstGeom>
            <a:ln w="19080">
              <a:solidFill>
                <a:srgbClr val="ffcc00"/>
              </a:solidFill>
              <a:miter/>
            </a:ln>
          </p:spPr>
        </p:cxnSp>
        <p:cxnSp>
          <p:nvCxnSpPr>
            <p:cNvPr id="404" name="AutoShape 50"/>
            <p:cNvCxnSpPr>
              <a:stCxn id="402" idx="3"/>
              <a:endCxn id="400" idx="7"/>
            </p:cNvCxnSpPr>
            <p:nvPr/>
          </p:nvCxnSpPr>
          <p:spPr>
            <a:xfrm flipH="1">
              <a:off x="6393600" y="3481200"/>
              <a:ext cx="197640" cy="121320"/>
            </a:xfrm>
            <a:prstGeom prst="straightConnector1">
              <a:avLst/>
            </a:prstGeom>
            <a:ln w="19080">
              <a:solidFill>
                <a:srgbClr val="ffcc00"/>
              </a:solidFill>
              <a:miter/>
            </a:ln>
          </p:spPr>
        </p:cxnSp>
        <p:cxnSp>
          <p:nvCxnSpPr>
            <p:cNvPr id="405" name="AutoShape 51"/>
            <p:cNvCxnSpPr>
              <a:stCxn id="401" idx="7"/>
            </p:cNvCxnSpPr>
            <p:nvPr/>
          </p:nvCxnSpPr>
          <p:spPr>
            <a:xfrm flipV="1">
              <a:off x="6546600" y="3503160"/>
              <a:ext cx="99360" cy="403920"/>
            </a:xfrm>
            <a:prstGeom prst="straightConnector1">
              <a:avLst/>
            </a:prstGeom>
            <a:ln w="19080">
              <a:solidFill>
                <a:srgbClr val="ffcc00"/>
              </a:solidFill>
              <a:miter/>
            </a:ln>
          </p:spPr>
        </p:cxnSp>
        <p:sp>
          <p:nvSpPr>
            <p:cNvPr id="406" name="Oval 52"/>
            <p:cNvSpPr/>
            <p:nvPr/>
          </p:nvSpPr>
          <p:spPr>
            <a:xfrm>
              <a:off x="5057640" y="519264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Oval 53"/>
            <p:cNvSpPr/>
            <p:nvPr/>
          </p:nvSpPr>
          <p:spPr>
            <a:xfrm>
              <a:off x="5273640" y="563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Oval 54"/>
            <p:cNvSpPr/>
            <p:nvPr/>
          </p:nvSpPr>
          <p:spPr>
            <a:xfrm>
              <a:off x="5425920" y="594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Oval 55"/>
            <p:cNvSpPr/>
            <p:nvPr/>
          </p:nvSpPr>
          <p:spPr>
            <a:xfrm>
              <a:off x="5883120" y="5637240"/>
              <a:ext cx="152280" cy="152280"/>
            </a:xfrm>
            <a:prstGeom prst="ellipse">
              <a:avLst/>
            </a:prstGeom>
            <a:solidFill>
              <a:srgbClr val="03f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Oval 56"/>
            <p:cNvSpPr/>
            <p:nvPr/>
          </p:nvSpPr>
          <p:spPr>
            <a:xfrm>
              <a:off x="5730840" y="5942160"/>
              <a:ext cx="152280" cy="152280"/>
            </a:xfrm>
            <a:prstGeom prst="ellipse">
              <a:avLst/>
            </a:prstGeom>
            <a:solidFill>
              <a:srgbClr val="76b7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Oval 57"/>
            <p:cNvSpPr/>
            <p:nvPr/>
          </p:nvSpPr>
          <p:spPr>
            <a:xfrm>
              <a:off x="5578200" y="5408640"/>
              <a:ext cx="152640" cy="152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412" name="AutoShape 58"/>
            <p:cNvCxnSpPr>
              <a:stCxn id="408" idx="5"/>
              <a:endCxn id="410" idx="3"/>
            </p:cNvCxnSpPr>
            <p:nvPr/>
          </p:nvCxnSpPr>
          <p:spPr>
            <a:xfrm>
              <a:off x="5556240" y="6071760"/>
              <a:ext cx="197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3" name="AutoShape 59"/>
            <p:cNvCxnSpPr>
              <a:stCxn id="408" idx="1"/>
              <a:endCxn id="407" idx="4"/>
            </p:cNvCxnSpPr>
            <p:nvPr/>
          </p:nvCxnSpPr>
          <p:spPr>
            <a:xfrm flipH="1" flipV="1">
              <a:off x="5349240" y="5788800"/>
              <a:ext cx="99360" cy="175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4" name="AutoShape 60"/>
            <p:cNvCxnSpPr>
              <a:stCxn id="411" idx="3"/>
              <a:endCxn id="407" idx="7"/>
            </p:cNvCxnSpPr>
            <p:nvPr/>
          </p:nvCxnSpPr>
          <p:spPr>
            <a:xfrm flipH="1">
              <a:off x="5402880" y="5538600"/>
              <a:ext cx="197640" cy="121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5" name="AutoShape 61"/>
            <p:cNvCxnSpPr>
              <a:stCxn id="411" idx="5"/>
              <a:endCxn id="409" idx="1"/>
            </p:cNvCxnSpPr>
            <p:nvPr/>
          </p:nvCxnSpPr>
          <p:spPr>
            <a:xfrm>
              <a:off x="5708160" y="5538600"/>
              <a:ext cx="197640" cy="121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6" name="AutoShape 62"/>
            <p:cNvCxnSpPr>
              <a:stCxn id="408" idx="7"/>
              <a:endCxn id="409" idx="3"/>
            </p:cNvCxnSpPr>
            <p:nvPr/>
          </p:nvCxnSpPr>
          <p:spPr>
            <a:xfrm flipV="1">
              <a:off x="5556240" y="5767200"/>
              <a:ext cx="349920" cy="197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7" name="AutoShape 63"/>
            <p:cNvCxnSpPr>
              <a:stCxn id="410" idx="0"/>
              <a:endCxn id="407" idx="5"/>
            </p:cNvCxnSpPr>
            <p:nvPr/>
          </p:nvCxnSpPr>
          <p:spPr>
            <a:xfrm flipH="1" flipV="1">
              <a:off x="5403240" y="5766840"/>
              <a:ext cx="403920" cy="175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8" name="AutoShape 64"/>
            <p:cNvCxnSpPr>
              <a:stCxn id="408" idx="7"/>
            </p:cNvCxnSpPr>
            <p:nvPr/>
          </p:nvCxnSpPr>
          <p:spPr>
            <a:xfrm flipV="1">
              <a:off x="5555880" y="5560560"/>
              <a:ext cx="99000" cy="403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9" name="AutoShape 65"/>
            <p:cNvCxnSpPr>
              <a:stCxn id="359" idx="6"/>
              <a:endCxn id="406" idx="2"/>
            </p:cNvCxnSpPr>
            <p:nvPr/>
          </p:nvCxnSpPr>
          <p:spPr>
            <a:xfrm>
              <a:off x="3837960" y="5763960"/>
              <a:ext cx="1220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0" name="AutoShape 66"/>
            <p:cNvCxnSpPr>
              <a:stCxn id="406" idx="7"/>
              <a:endCxn id="399" idx="4"/>
            </p:cNvCxnSpPr>
            <p:nvPr/>
          </p:nvCxnSpPr>
          <p:spPr>
            <a:xfrm flipV="1">
              <a:off x="6033600" y="4277520"/>
              <a:ext cx="586440" cy="10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1" name="AutoShape 67"/>
            <p:cNvCxnSpPr>
              <a:stCxn id="359" idx="1"/>
              <a:endCxn id="384" idx="4"/>
            </p:cNvCxnSpPr>
            <p:nvPr/>
          </p:nvCxnSpPr>
          <p:spPr>
            <a:xfrm flipH="1" flipV="1">
              <a:off x="2047320" y="4277520"/>
              <a:ext cx="815040" cy="10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2" name="AutoShape 68"/>
            <p:cNvCxnSpPr>
              <a:stCxn id="384" idx="7"/>
              <a:endCxn id="373" idx="2"/>
            </p:cNvCxnSpPr>
            <p:nvPr/>
          </p:nvCxnSpPr>
          <p:spPr>
            <a:xfrm flipV="1">
              <a:off x="2452680" y="2563560"/>
              <a:ext cx="1310400" cy="73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3" name="AutoShape 69"/>
            <p:cNvCxnSpPr>
              <a:stCxn id="399" idx="1"/>
              <a:endCxn id="373" idx="6"/>
            </p:cNvCxnSpPr>
            <p:nvPr/>
          </p:nvCxnSpPr>
          <p:spPr>
            <a:xfrm flipH="1" flipV="1">
              <a:off x="4905000" y="2563560"/>
              <a:ext cx="1310400" cy="73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4" name="AutoShape 70"/>
            <p:cNvCxnSpPr>
              <a:stCxn id="384" idx="6"/>
              <a:endCxn id="406" idx="1"/>
            </p:cNvCxnSpPr>
            <p:nvPr/>
          </p:nvCxnSpPr>
          <p:spPr>
            <a:xfrm>
              <a:off x="2619360" y="3706920"/>
              <a:ext cx="2605680" cy="16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5" name="AutoShape 71"/>
            <p:cNvCxnSpPr>
              <a:stCxn id="359" idx="7"/>
              <a:endCxn id="399" idx="2"/>
            </p:cNvCxnSpPr>
            <p:nvPr/>
          </p:nvCxnSpPr>
          <p:spPr>
            <a:xfrm flipV="1">
              <a:off x="3671640" y="3706560"/>
              <a:ext cx="2377440" cy="16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26" name="Text Box 72"/>
          <p:cNvSpPr/>
          <p:nvPr/>
        </p:nvSpPr>
        <p:spPr>
          <a:xfrm>
            <a:off x="6886440" y="1916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Homa"/>
              </a:rPr>
              <a:t>مثا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C1E7-C43F-4754-9BDC-69B4BB0E1FE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يژگيها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يستم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ي پيچي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3520" y="1700280"/>
            <a:ext cx="771048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«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cs typeface="Nazanin"/>
              </a:rPr>
              <a:t>معمولا</a:t>
            </a:r>
            <a:r>
              <a:rPr b="1" lang="fa-IR" sz="2800" spc="-1" strike="noStrike">
                <a:solidFill>
                  <a:srgbClr val="0033cc"/>
                </a:solidFill>
                <a:latin typeface="Zar"/>
                <a:cs typeface="Nazanin"/>
              </a:rPr>
              <a:t>ً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ea typeface="Nazanin"/>
              </a:rPr>
              <a:t> سيستم</a:t>
            </a:r>
            <a:r>
              <a:rPr b="1" lang="fa-IR" sz="2800" spc="-1" strike="noStrike">
                <a:solidFill>
                  <a:srgbClr val="0033cc"/>
                </a:solidFill>
                <a:latin typeface="Zar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cs typeface="Nazanin"/>
              </a:rPr>
              <a:t>هاي پيچيده كه به صورت </a:t>
            </a:r>
            <a:r>
              <a:rPr b="1" lang="ar-SA" sz="2800" spc="-1" strike="noStrike">
                <a:solidFill>
                  <a:srgbClr val="ff0000"/>
                </a:solidFill>
                <a:latin typeface="Zar"/>
                <a:cs typeface="Nazanin"/>
              </a:rPr>
              <a:t>محكم و استوار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ea typeface="Nazanin"/>
              </a:rPr>
              <a:t> عمل مي</a:t>
            </a:r>
            <a:r>
              <a:rPr b="1" lang="fa-IR" sz="2800" spc="-1" strike="noStrike">
                <a:solidFill>
                  <a:srgbClr val="0033cc"/>
                </a:solidFill>
                <a:latin typeface="Zar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cs typeface="Nazanin"/>
              </a:rPr>
              <a:t>كنند حاصل تكامل </a:t>
            </a:r>
            <a:r>
              <a:rPr b="1" lang="ar-SA" sz="2800" spc="-1" strike="noStrike">
                <a:solidFill>
                  <a:srgbClr val="ff0000"/>
                </a:solidFill>
                <a:latin typeface="Zar"/>
                <a:cs typeface="Nazanin"/>
              </a:rPr>
              <a:t>سيستم</a:t>
            </a:r>
            <a:r>
              <a:rPr b="1" lang="fa-IR" sz="2800" spc="-1" strike="noStrike">
                <a:solidFill>
                  <a:srgbClr val="ff0000"/>
                </a:solidFill>
                <a:latin typeface="Zar"/>
                <a:ea typeface="Nazanin"/>
              </a:rPr>
              <a:t>‌</a:t>
            </a:r>
            <a:r>
              <a:rPr b="1" lang="ar-SA" sz="2800" spc="-1" strike="noStrike">
                <a:solidFill>
                  <a:srgbClr val="ff0000"/>
                </a:solidFill>
                <a:latin typeface="Zar"/>
                <a:cs typeface="Nazanin"/>
              </a:rPr>
              <a:t>هاي ساده</a:t>
            </a:r>
            <a:r>
              <a:rPr b="1" lang="fa-IR" sz="2800" spc="-1" strike="noStrike">
                <a:solidFill>
                  <a:srgbClr val="ff0000"/>
                </a:solidFill>
                <a:latin typeface="Zar"/>
                <a:ea typeface="Nazanin"/>
              </a:rPr>
              <a:t>‌</a:t>
            </a:r>
            <a:r>
              <a:rPr b="1" lang="ar-SA" sz="2800" spc="-1" strike="noStrike">
                <a:solidFill>
                  <a:srgbClr val="ff0000"/>
                </a:solidFill>
                <a:latin typeface="Zar"/>
                <a:cs typeface="Nazanin"/>
              </a:rPr>
              <a:t>اي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ea typeface="Nazanin"/>
              </a:rPr>
              <a:t> هستند كه به درستي عمل مي</a:t>
            </a:r>
            <a:r>
              <a:rPr b="1" lang="fa-IR" sz="2800" spc="-1" strike="noStrike">
                <a:solidFill>
                  <a:srgbClr val="0033cc"/>
                </a:solidFill>
                <a:latin typeface="Zar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cs typeface="Nazanin"/>
              </a:rPr>
              <a:t>كردند</a:t>
            </a:r>
            <a:r>
              <a:rPr b="1" lang="fa-IR" sz="2800" spc="-1" strike="noStrike">
                <a:solidFill>
                  <a:srgbClr val="0033cc"/>
                </a:solidFill>
                <a:latin typeface="Times New Roman"/>
                <a:ea typeface="Nazani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 rtl="1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Zar"/>
                <a:cs typeface="Nazanin"/>
              </a:rPr>
              <a:t>سيستم</a:t>
            </a:r>
            <a:r>
              <a:rPr b="1" lang="fa-IR" sz="2800" spc="-1" strike="noStrike">
                <a:solidFill>
                  <a:srgbClr val="0033cc"/>
                </a:solidFill>
                <a:latin typeface="Zar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cs typeface="Nazanin"/>
              </a:rPr>
              <a:t>هاي پيچيده كه از ابتدا به صورت پيچيده طراحي مي</a:t>
            </a:r>
            <a:r>
              <a:rPr b="1" lang="fa-IR" sz="2800" spc="-1" strike="noStrike">
                <a:solidFill>
                  <a:srgbClr val="0033cc"/>
                </a:solidFill>
                <a:latin typeface="Zar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Zar"/>
                <a:cs typeface="Nazanin"/>
              </a:rPr>
              <a:t>شوند، هرگز كار نخواهند ك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Oval 5"/>
          <p:cNvSpPr/>
          <p:nvPr/>
        </p:nvSpPr>
        <p:spPr>
          <a:xfrm>
            <a:off x="8381880" y="212076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F736-5F61-428A-B16B-C8BE8B92DF4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يژگيها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يستم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ي پيچي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7389720" y="198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Homa"/>
              </a:rPr>
              <a:t>مثا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Oval 5"/>
          <p:cNvSpPr/>
          <p:nvPr/>
        </p:nvSpPr>
        <p:spPr>
          <a:xfrm>
            <a:off x="1141560" y="2979720"/>
            <a:ext cx="228600" cy="228600"/>
          </a:xfrm>
          <a:prstGeom prst="ellipse">
            <a:avLst/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Oval 6"/>
          <p:cNvSpPr/>
          <p:nvPr/>
        </p:nvSpPr>
        <p:spPr>
          <a:xfrm>
            <a:off x="760320" y="3513240"/>
            <a:ext cx="228600" cy="228600"/>
          </a:xfrm>
          <a:prstGeom prst="ellipse">
            <a:avLst/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Oval 7"/>
          <p:cNvSpPr/>
          <p:nvPr/>
        </p:nvSpPr>
        <p:spPr>
          <a:xfrm>
            <a:off x="1522440" y="3513240"/>
            <a:ext cx="228600" cy="228600"/>
          </a:xfrm>
          <a:prstGeom prst="ellipse">
            <a:avLst/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37" name="AutoShape 8"/>
          <p:cNvCxnSpPr>
            <a:stCxn id="434" idx="5"/>
            <a:endCxn id="436" idx="0"/>
          </p:cNvCxnSpPr>
          <p:nvPr/>
        </p:nvCxnSpPr>
        <p:spPr>
          <a:xfrm>
            <a:off x="1336320" y="3174840"/>
            <a:ext cx="300600" cy="33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8" name="AutoShape 9"/>
          <p:cNvCxnSpPr>
            <a:stCxn id="436" idx="2"/>
            <a:endCxn id="435" idx="6"/>
          </p:cNvCxnSpPr>
          <p:nvPr/>
        </p:nvCxnSpPr>
        <p:spPr>
          <a:xfrm flipH="1">
            <a:off x="988560" y="362700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AutoShape 10"/>
          <p:cNvCxnSpPr>
            <a:stCxn id="435" idx="0"/>
            <a:endCxn id="434" idx="3"/>
          </p:cNvCxnSpPr>
          <p:nvPr/>
        </p:nvCxnSpPr>
        <p:spPr>
          <a:xfrm flipV="1">
            <a:off x="874440" y="3174480"/>
            <a:ext cx="300600" cy="33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0" name="AutoShape 11"/>
          <p:cNvSpPr/>
          <p:nvPr/>
        </p:nvSpPr>
        <p:spPr>
          <a:xfrm>
            <a:off x="2284560" y="3208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1" name="Group 12"/>
          <p:cNvGrpSpPr/>
          <p:nvPr/>
        </p:nvGrpSpPr>
        <p:grpSpPr>
          <a:xfrm>
            <a:off x="3427560" y="1989000"/>
            <a:ext cx="4267080" cy="4114800"/>
            <a:chOff x="3427560" y="1989000"/>
            <a:chExt cx="4267080" cy="4114800"/>
          </a:xfrm>
        </p:grpSpPr>
        <p:sp>
          <p:nvSpPr>
            <p:cNvPr id="442" name="Rectangle 13"/>
            <p:cNvSpPr/>
            <p:nvPr/>
          </p:nvSpPr>
          <p:spPr>
            <a:xfrm>
              <a:off x="3427560" y="1989000"/>
              <a:ext cx="4267080" cy="411480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Oval 14"/>
            <p:cNvSpPr/>
            <p:nvPr/>
          </p:nvSpPr>
          <p:spPr>
            <a:xfrm>
              <a:off x="5865840" y="2293560"/>
              <a:ext cx="1066320" cy="1143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Oval 15"/>
            <p:cNvSpPr/>
            <p:nvPr/>
          </p:nvSpPr>
          <p:spPr>
            <a:xfrm>
              <a:off x="3757680" y="2090520"/>
              <a:ext cx="1218600" cy="10666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Oval 16"/>
            <p:cNvSpPr/>
            <p:nvPr/>
          </p:nvSpPr>
          <p:spPr>
            <a:xfrm>
              <a:off x="6018120" y="4350960"/>
              <a:ext cx="1523520" cy="14479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Oval 17"/>
            <p:cNvSpPr/>
            <p:nvPr/>
          </p:nvSpPr>
          <p:spPr>
            <a:xfrm>
              <a:off x="3579840" y="3741480"/>
              <a:ext cx="1218600" cy="12952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Oval 18"/>
            <p:cNvSpPr/>
            <p:nvPr/>
          </p:nvSpPr>
          <p:spPr>
            <a:xfrm>
              <a:off x="4265640" y="2141280"/>
              <a:ext cx="228240" cy="22860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Oval 19"/>
            <p:cNvSpPr/>
            <p:nvPr/>
          </p:nvSpPr>
          <p:spPr>
            <a:xfrm>
              <a:off x="3884400" y="2674800"/>
              <a:ext cx="228240" cy="22860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Oval 20"/>
            <p:cNvSpPr/>
            <p:nvPr/>
          </p:nvSpPr>
          <p:spPr>
            <a:xfrm>
              <a:off x="4646520" y="2674800"/>
              <a:ext cx="228240" cy="22860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450" name="AutoShape 21"/>
            <p:cNvCxnSpPr>
              <a:stCxn id="447" idx="5"/>
              <a:endCxn id="449" idx="0"/>
            </p:cNvCxnSpPr>
            <p:nvPr/>
          </p:nvCxnSpPr>
          <p:spPr>
            <a:xfrm>
              <a:off x="4460400" y="2336400"/>
              <a:ext cx="300600" cy="33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1" name="AutoShape 22"/>
            <p:cNvCxnSpPr>
              <a:stCxn id="449" idx="2"/>
              <a:endCxn id="448" idx="6"/>
            </p:cNvCxnSpPr>
            <p:nvPr/>
          </p:nvCxnSpPr>
          <p:spPr>
            <a:xfrm flipH="1">
              <a:off x="4112280" y="2788560"/>
              <a:ext cx="533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2" name="AutoShape 23"/>
            <p:cNvCxnSpPr>
              <a:stCxn id="448" idx="0"/>
              <a:endCxn id="447" idx="3"/>
            </p:cNvCxnSpPr>
            <p:nvPr/>
          </p:nvCxnSpPr>
          <p:spPr>
            <a:xfrm flipV="1">
              <a:off x="3998880" y="2336040"/>
              <a:ext cx="300240" cy="33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53" name="Oval 24"/>
            <p:cNvSpPr/>
            <p:nvPr/>
          </p:nvSpPr>
          <p:spPr>
            <a:xfrm>
              <a:off x="4113000" y="3817800"/>
              <a:ext cx="228240" cy="22860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Oval 25"/>
            <p:cNvSpPr/>
            <p:nvPr/>
          </p:nvSpPr>
          <p:spPr>
            <a:xfrm>
              <a:off x="3732120" y="4350960"/>
              <a:ext cx="228240" cy="22860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Oval 26"/>
            <p:cNvSpPr/>
            <p:nvPr/>
          </p:nvSpPr>
          <p:spPr>
            <a:xfrm>
              <a:off x="4494240" y="4350960"/>
              <a:ext cx="228240" cy="22860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456" name="AutoShape 27"/>
            <p:cNvCxnSpPr>
              <a:stCxn id="453" idx="5"/>
              <a:endCxn id="455" idx="0"/>
            </p:cNvCxnSpPr>
            <p:nvPr/>
          </p:nvCxnSpPr>
          <p:spPr>
            <a:xfrm>
              <a:off x="4308480" y="4012560"/>
              <a:ext cx="30024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7" name="AutoShape 28"/>
            <p:cNvCxnSpPr>
              <a:stCxn id="455" idx="2"/>
              <a:endCxn id="454" idx="6"/>
            </p:cNvCxnSpPr>
            <p:nvPr/>
          </p:nvCxnSpPr>
          <p:spPr>
            <a:xfrm flipH="1">
              <a:off x="3960000" y="4465080"/>
              <a:ext cx="533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8" name="AutoShape 29"/>
            <p:cNvCxnSpPr>
              <a:stCxn id="454" idx="0"/>
              <a:endCxn id="453" idx="3"/>
            </p:cNvCxnSpPr>
            <p:nvPr/>
          </p:nvCxnSpPr>
          <p:spPr>
            <a:xfrm flipV="1">
              <a:off x="3846600" y="4012200"/>
              <a:ext cx="30024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59" name="Oval 30"/>
            <p:cNvSpPr/>
            <p:nvPr/>
          </p:nvSpPr>
          <p:spPr>
            <a:xfrm>
              <a:off x="6475320" y="2522160"/>
              <a:ext cx="228240" cy="22860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Oval 31"/>
            <p:cNvSpPr/>
            <p:nvPr/>
          </p:nvSpPr>
          <p:spPr>
            <a:xfrm>
              <a:off x="6094440" y="3055680"/>
              <a:ext cx="228240" cy="22860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461" name="AutoShape 32"/>
            <p:cNvCxnSpPr>
              <a:stCxn id="460" idx="0"/>
              <a:endCxn id="459" idx="3"/>
            </p:cNvCxnSpPr>
            <p:nvPr/>
          </p:nvCxnSpPr>
          <p:spPr>
            <a:xfrm flipV="1">
              <a:off x="6208200" y="2716920"/>
              <a:ext cx="30060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62" name="Oval 33"/>
            <p:cNvSpPr/>
            <p:nvPr/>
          </p:nvSpPr>
          <p:spPr>
            <a:xfrm>
              <a:off x="6703920" y="4503600"/>
              <a:ext cx="228240" cy="22860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Oval 34"/>
            <p:cNvSpPr/>
            <p:nvPr/>
          </p:nvSpPr>
          <p:spPr>
            <a:xfrm>
              <a:off x="6323040" y="4884480"/>
              <a:ext cx="228240" cy="22860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Oval 35"/>
            <p:cNvSpPr/>
            <p:nvPr/>
          </p:nvSpPr>
          <p:spPr>
            <a:xfrm>
              <a:off x="7084800" y="4884480"/>
              <a:ext cx="228240" cy="22860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465" name="AutoShape 36"/>
            <p:cNvCxnSpPr>
              <a:stCxn id="462" idx="5"/>
              <a:endCxn id="464" idx="0"/>
            </p:cNvCxnSpPr>
            <p:nvPr/>
          </p:nvCxnSpPr>
          <p:spPr>
            <a:xfrm>
              <a:off x="6898680" y="4698720"/>
              <a:ext cx="30060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6" name="AutoShape 37"/>
            <p:cNvCxnSpPr>
              <a:stCxn id="464" idx="2"/>
              <a:endCxn id="463" idx="6"/>
            </p:cNvCxnSpPr>
            <p:nvPr/>
          </p:nvCxnSpPr>
          <p:spPr>
            <a:xfrm flipH="1">
              <a:off x="6551280" y="499860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7" name="AutoShape 38"/>
            <p:cNvCxnSpPr>
              <a:stCxn id="463" idx="0"/>
              <a:endCxn id="462" idx="3"/>
            </p:cNvCxnSpPr>
            <p:nvPr/>
          </p:nvCxnSpPr>
          <p:spPr>
            <a:xfrm flipV="1">
              <a:off x="6436800" y="4698360"/>
              <a:ext cx="30060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68" name="Oval 39"/>
            <p:cNvSpPr/>
            <p:nvPr/>
          </p:nvSpPr>
          <p:spPr>
            <a:xfrm>
              <a:off x="6246720" y="5341680"/>
              <a:ext cx="228240" cy="22860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Oval 40"/>
            <p:cNvSpPr/>
            <p:nvPr/>
          </p:nvSpPr>
          <p:spPr>
            <a:xfrm>
              <a:off x="4113000" y="4732200"/>
              <a:ext cx="228240" cy="22860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Oval 41"/>
            <p:cNvSpPr/>
            <p:nvPr/>
          </p:nvSpPr>
          <p:spPr>
            <a:xfrm>
              <a:off x="7084800" y="5341680"/>
              <a:ext cx="228240" cy="22860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471" name="AutoShape 42"/>
            <p:cNvCxnSpPr>
              <a:stCxn id="468" idx="0"/>
              <a:endCxn id="463" idx="4"/>
            </p:cNvCxnSpPr>
            <p:nvPr/>
          </p:nvCxnSpPr>
          <p:spPr>
            <a:xfrm flipV="1">
              <a:off x="6361200" y="5112360"/>
              <a:ext cx="763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2" name="AutoShape 43"/>
            <p:cNvCxnSpPr>
              <a:stCxn id="468" idx="6"/>
              <a:endCxn id="470" idx="2"/>
            </p:cNvCxnSpPr>
            <p:nvPr/>
          </p:nvCxnSpPr>
          <p:spPr>
            <a:xfrm>
              <a:off x="6475320" y="5455800"/>
              <a:ext cx="609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3" name="AutoShape 44"/>
            <p:cNvCxnSpPr>
              <a:stCxn id="470" idx="0"/>
              <a:endCxn id="464" idx="4"/>
            </p:cNvCxnSpPr>
            <p:nvPr/>
          </p:nvCxnSpPr>
          <p:spPr>
            <a:xfrm flipV="1">
              <a:off x="7198920" y="511236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4" name="AutoShape 45"/>
            <p:cNvCxnSpPr>
              <a:stCxn id="463" idx="5"/>
              <a:endCxn id="470" idx="1"/>
            </p:cNvCxnSpPr>
            <p:nvPr/>
          </p:nvCxnSpPr>
          <p:spPr>
            <a:xfrm>
              <a:off x="6518160" y="5079240"/>
              <a:ext cx="600480" cy="29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5" name="AutoShape 46"/>
            <p:cNvCxnSpPr>
              <a:stCxn id="468" idx="7"/>
              <a:endCxn id="462" idx="4"/>
            </p:cNvCxnSpPr>
            <p:nvPr/>
          </p:nvCxnSpPr>
          <p:spPr>
            <a:xfrm flipV="1">
              <a:off x="6441480" y="4732200"/>
              <a:ext cx="376920" cy="643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6" name="AutoShape 47"/>
            <p:cNvCxnSpPr>
              <a:stCxn id="468" idx="7"/>
              <a:endCxn id="464" idx="3"/>
            </p:cNvCxnSpPr>
            <p:nvPr/>
          </p:nvCxnSpPr>
          <p:spPr>
            <a:xfrm flipV="1">
              <a:off x="6441840" y="5078880"/>
              <a:ext cx="676800" cy="29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7" name="AutoShape 48"/>
            <p:cNvCxnSpPr>
              <a:stCxn id="469" idx="0"/>
              <a:endCxn id="453" idx="4"/>
            </p:cNvCxnSpPr>
            <p:nvPr/>
          </p:nvCxnSpPr>
          <p:spPr>
            <a:xfrm flipV="1">
              <a:off x="4227120" y="4045680"/>
              <a:ext cx="108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8" name="AutoShape 49"/>
            <p:cNvCxnSpPr>
              <a:stCxn id="469" idx="1"/>
              <a:endCxn id="454" idx="5"/>
            </p:cNvCxnSpPr>
            <p:nvPr/>
          </p:nvCxnSpPr>
          <p:spPr>
            <a:xfrm flipH="1" flipV="1">
              <a:off x="3926880" y="4546080"/>
              <a:ext cx="219600" cy="21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9" name="AutoShape 50"/>
            <p:cNvCxnSpPr>
              <a:stCxn id="444" idx="4"/>
              <a:endCxn id="446" idx="0"/>
            </p:cNvCxnSpPr>
            <p:nvPr/>
          </p:nvCxnSpPr>
          <p:spPr>
            <a:xfrm flipH="1">
              <a:off x="4188600" y="3156840"/>
              <a:ext cx="178200" cy="58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0" name="AutoShape 51"/>
            <p:cNvCxnSpPr>
              <a:stCxn id="446" idx="6"/>
              <a:endCxn id="445" idx="2"/>
            </p:cNvCxnSpPr>
            <p:nvPr/>
          </p:nvCxnSpPr>
          <p:spPr>
            <a:xfrm>
              <a:off x="4798800" y="4388760"/>
              <a:ext cx="121968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1" name="AutoShape 52"/>
            <p:cNvCxnSpPr>
              <a:stCxn id="445" idx="0"/>
              <a:endCxn id="443" idx="4"/>
            </p:cNvCxnSpPr>
            <p:nvPr/>
          </p:nvCxnSpPr>
          <p:spPr>
            <a:xfrm flipH="1" flipV="1">
              <a:off x="6398640" y="3436200"/>
              <a:ext cx="38160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2" name="AutoShape 53"/>
            <p:cNvCxnSpPr>
              <a:stCxn id="443" idx="2"/>
              <a:endCxn id="444" idx="6"/>
            </p:cNvCxnSpPr>
            <p:nvPr/>
          </p:nvCxnSpPr>
          <p:spPr>
            <a:xfrm flipH="1" flipV="1">
              <a:off x="4975920" y="2623680"/>
              <a:ext cx="8895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3" name="AutoShape 54"/>
            <p:cNvCxnSpPr>
              <a:stCxn id="446" idx="7"/>
              <a:endCxn id="443" idx="3"/>
            </p:cNvCxnSpPr>
            <p:nvPr/>
          </p:nvCxnSpPr>
          <p:spPr>
            <a:xfrm flipV="1">
              <a:off x="4620600" y="3269160"/>
              <a:ext cx="1400400" cy="66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4" name="AutoShape 55"/>
            <p:cNvCxnSpPr>
              <a:stCxn id="445" idx="1"/>
              <a:endCxn id="444" idx="5"/>
            </p:cNvCxnSpPr>
            <p:nvPr/>
          </p:nvCxnSpPr>
          <p:spPr>
            <a:xfrm flipH="1" flipV="1">
              <a:off x="4798440" y="3000960"/>
              <a:ext cx="1443600" cy="1562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485" name="Group 56"/>
          <p:cNvGrpSpPr/>
          <p:nvPr/>
        </p:nvGrpSpPr>
        <p:grpSpPr>
          <a:xfrm>
            <a:off x="2436840" y="2445840"/>
            <a:ext cx="609480" cy="609840"/>
            <a:chOff x="2436840" y="2445840"/>
            <a:chExt cx="609480" cy="609840"/>
          </a:xfrm>
        </p:grpSpPr>
        <p:sp>
          <p:nvSpPr>
            <p:cNvPr id="486" name="Line 57"/>
            <p:cNvSpPr/>
            <p:nvPr/>
          </p:nvSpPr>
          <p:spPr>
            <a:xfrm>
              <a:off x="2436840" y="2446200"/>
              <a:ext cx="609480" cy="60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Line 58"/>
            <p:cNvSpPr/>
            <p:nvPr/>
          </p:nvSpPr>
          <p:spPr>
            <a:xfrm flipV="1">
              <a:off x="2436840" y="2445840"/>
              <a:ext cx="609480" cy="60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8" name="AutoShape 59"/>
          <p:cNvSpPr/>
          <p:nvPr/>
        </p:nvSpPr>
        <p:spPr>
          <a:xfrm>
            <a:off x="227160" y="4122720"/>
            <a:ext cx="3124080" cy="914400"/>
          </a:xfrm>
          <a:prstGeom prst="wedgeEllipseCallout">
            <a:avLst>
              <a:gd name="adj1" fmla="val 55134"/>
              <a:gd name="adj2" fmla="val 5468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Homa"/>
              </a:rPr>
              <a:t>اين سيستم كار نخواهد ك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ECFC-E1BB-4634-A140-47F833EFE16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هرست مطال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حران نرم‌افز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هندسي نرم‌افزار و ضرورت آ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تدولوژي و اهميت آ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فاوت نرم‌افزار و سخ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فز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پيچيدگي ذاتي نرم‌افز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عوامل پديدآورنده پيچيدگي نرم‌افز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اختار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و ويژگي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يست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پيچيد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پيچيدگي سازمان يافته و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ازم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يافت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C409-8748-4B2D-B7DF-97482C4C427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يژگيها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يستم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ي پيچي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1177920" y="2992320"/>
            <a:ext cx="838080" cy="914400"/>
            <a:chOff x="1177920" y="2992320"/>
            <a:chExt cx="838080" cy="914400"/>
          </a:xfrm>
        </p:grpSpPr>
        <p:sp>
          <p:nvSpPr>
            <p:cNvPr id="492" name="Rectangle 5"/>
            <p:cNvSpPr/>
            <p:nvPr/>
          </p:nvSpPr>
          <p:spPr>
            <a:xfrm>
              <a:off x="1177920" y="2992320"/>
              <a:ext cx="838080" cy="91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3" name="Group 6"/>
            <p:cNvGrpSpPr/>
            <p:nvPr/>
          </p:nvGrpSpPr>
          <p:grpSpPr>
            <a:xfrm>
              <a:off x="1254240" y="3068280"/>
              <a:ext cx="685440" cy="685440"/>
              <a:chOff x="1254240" y="3068280"/>
              <a:chExt cx="685440" cy="685440"/>
            </a:xfrm>
          </p:grpSpPr>
          <p:sp>
            <p:nvSpPr>
              <p:cNvPr id="494" name="Oval 7"/>
              <p:cNvSpPr/>
              <p:nvPr/>
            </p:nvSpPr>
            <p:spPr>
              <a:xfrm>
                <a:off x="1517760" y="3068280"/>
                <a:ext cx="158040" cy="20556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5" name="Oval 8"/>
              <p:cNvSpPr/>
              <p:nvPr/>
            </p:nvSpPr>
            <p:spPr>
              <a:xfrm>
                <a:off x="1254240" y="3548160"/>
                <a:ext cx="158040" cy="20556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6" name="Oval 9"/>
              <p:cNvSpPr/>
              <p:nvPr/>
            </p:nvSpPr>
            <p:spPr>
              <a:xfrm>
                <a:off x="1781640" y="3548160"/>
                <a:ext cx="158040" cy="20556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cxnSp>
            <p:nvCxnSpPr>
              <p:cNvPr id="497" name="AutoShape 10"/>
              <p:cNvCxnSpPr>
                <a:stCxn id="494" idx="5"/>
                <a:endCxn id="496" idx="0"/>
              </p:cNvCxnSpPr>
              <p:nvPr/>
            </p:nvCxnSpPr>
            <p:spPr>
              <a:xfrm>
                <a:off x="1652760" y="3243600"/>
                <a:ext cx="208440" cy="304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8" name="AutoShape 11"/>
              <p:cNvCxnSpPr>
                <a:stCxn id="496" idx="2"/>
                <a:endCxn id="495" idx="6"/>
              </p:cNvCxnSpPr>
              <p:nvPr/>
            </p:nvCxnSpPr>
            <p:spPr>
              <a:xfrm flipH="1">
                <a:off x="1411560" y="3650760"/>
                <a:ext cx="369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9" name="AutoShape 12"/>
              <p:cNvCxnSpPr>
                <a:stCxn id="495" idx="0"/>
                <a:endCxn id="494" idx="3"/>
              </p:cNvCxnSpPr>
              <p:nvPr/>
            </p:nvCxnSpPr>
            <p:spPr>
              <a:xfrm flipV="1">
                <a:off x="1332720" y="3243240"/>
                <a:ext cx="208440" cy="304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500" name="AutoShape 13"/>
          <p:cNvSpPr/>
          <p:nvPr/>
        </p:nvSpPr>
        <p:spPr>
          <a:xfrm>
            <a:off x="2092320" y="3297240"/>
            <a:ext cx="609480" cy="485640"/>
          </a:xfrm>
          <a:prstGeom prst="rightArrow">
            <a:avLst>
              <a:gd name="adj1" fmla="val 50000"/>
              <a:gd name="adj2" fmla="val 31375"/>
            </a:avLst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1" name="Group 14"/>
          <p:cNvGrpSpPr/>
          <p:nvPr/>
        </p:nvGrpSpPr>
        <p:grpSpPr>
          <a:xfrm>
            <a:off x="2778120" y="3081240"/>
            <a:ext cx="838080" cy="838440"/>
            <a:chOff x="2778120" y="3081240"/>
            <a:chExt cx="838080" cy="838440"/>
          </a:xfrm>
        </p:grpSpPr>
        <p:sp>
          <p:nvSpPr>
            <p:cNvPr id="502" name="Oval 15"/>
            <p:cNvSpPr/>
            <p:nvPr/>
          </p:nvSpPr>
          <p:spPr>
            <a:xfrm>
              <a:off x="2778120" y="3081240"/>
              <a:ext cx="838080" cy="8384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Oval 16"/>
            <p:cNvSpPr/>
            <p:nvPr/>
          </p:nvSpPr>
          <p:spPr>
            <a:xfrm>
              <a:off x="3127320" y="3120840"/>
              <a:ext cx="156960" cy="17964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Oval 17"/>
            <p:cNvSpPr/>
            <p:nvPr/>
          </p:nvSpPr>
          <p:spPr>
            <a:xfrm>
              <a:off x="2865240" y="3540240"/>
              <a:ext cx="156960" cy="17964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Oval 18"/>
            <p:cNvSpPr/>
            <p:nvPr/>
          </p:nvSpPr>
          <p:spPr>
            <a:xfrm>
              <a:off x="3389040" y="3540240"/>
              <a:ext cx="156960" cy="17964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06" name="AutoShape 19"/>
            <p:cNvCxnSpPr>
              <a:stCxn id="503" idx="5"/>
              <a:endCxn id="505" idx="0"/>
            </p:cNvCxnSpPr>
            <p:nvPr/>
          </p:nvCxnSpPr>
          <p:spPr>
            <a:xfrm>
              <a:off x="3260880" y="3274200"/>
              <a:ext cx="20700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7" name="AutoShape 20"/>
            <p:cNvCxnSpPr>
              <a:stCxn id="505" idx="2"/>
              <a:endCxn id="504" idx="6"/>
            </p:cNvCxnSpPr>
            <p:nvPr/>
          </p:nvCxnSpPr>
          <p:spPr>
            <a:xfrm flipH="1">
              <a:off x="3021480" y="3629880"/>
              <a:ext cx="367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8" name="AutoShape 21"/>
            <p:cNvCxnSpPr>
              <a:stCxn id="504" idx="0"/>
              <a:endCxn id="503" idx="3"/>
            </p:cNvCxnSpPr>
            <p:nvPr/>
          </p:nvCxnSpPr>
          <p:spPr>
            <a:xfrm flipV="1">
              <a:off x="2943720" y="3273840"/>
              <a:ext cx="2066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09" name="Group 22"/>
          <p:cNvGrpSpPr/>
          <p:nvPr/>
        </p:nvGrpSpPr>
        <p:grpSpPr>
          <a:xfrm>
            <a:off x="3997440" y="3144960"/>
            <a:ext cx="609480" cy="723600"/>
            <a:chOff x="3997440" y="3144960"/>
            <a:chExt cx="609480" cy="723600"/>
          </a:xfrm>
        </p:grpSpPr>
        <p:sp>
          <p:nvSpPr>
            <p:cNvPr id="510" name="Oval 23"/>
            <p:cNvSpPr/>
            <p:nvPr/>
          </p:nvSpPr>
          <p:spPr>
            <a:xfrm>
              <a:off x="3997440" y="3144960"/>
              <a:ext cx="609480" cy="7236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Oval 24"/>
            <p:cNvSpPr/>
            <p:nvPr/>
          </p:nvSpPr>
          <p:spPr>
            <a:xfrm>
              <a:off x="4345560" y="3289680"/>
              <a:ext cx="130320" cy="14472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Oval 25"/>
            <p:cNvSpPr/>
            <p:nvPr/>
          </p:nvSpPr>
          <p:spPr>
            <a:xfrm>
              <a:off x="4127760" y="3627360"/>
              <a:ext cx="130320" cy="14472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13" name="AutoShape 26"/>
            <p:cNvCxnSpPr>
              <a:stCxn id="512" idx="0"/>
              <a:endCxn id="511" idx="3"/>
            </p:cNvCxnSpPr>
            <p:nvPr/>
          </p:nvCxnSpPr>
          <p:spPr>
            <a:xfrm flipV="1">
              <a:off x="4193280" y="3412800"/>
              <a:ext cx="172080" cy="21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4" name="Group 27"/>
          <p:cNvGrpSpPr/>
          <p:nvPr/>
        </p:nvGrpSpPr>
        <p:grpSpPr>
          <a:xfrm>
            <a:off x="5369040" y="2001960"/>
            <a:ext cx="914400" cy="914400"/>
            <a:chOff x="5369040" y="2001960"/>
            <a:chExt cx="914400" cy="914400"/>
          </a:xfrm>
        </p:grpSpPr>
        <p:sp>
          <p:nvSpPr>
            <p:cNvPr id="515" name="Oval 28"/>
            <p:cNvSpPr/>
            <p:nvPr/>
          </p:nvSpPr>
          <p:spPr>
            <a:xfrm>
              <a:off x="5369040" y="2001960"/>
              <a:ext cx="914400" cy="9144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Oval 29"/>
            <p:cNvSpPr/>
            <p:nvPr/>
          </p:nvSpPr>
          <p:spPr>
            <a:xfrm>
              <a:off x="5769000" y="2055600"/>
              <a:ext cx="171360" cy="16128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Oval 30"/>
            <p:cNvSpPr/>
            <p:nvPr/>
          </p:nvSpPr>
          <p:spPr>
            <a:xfrm>
              <a:off x="5483160" y="2432160"/>
              <a:ext cx="171360" cy="16128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Oval 31"/>
            <p:cNvSpPr/>
            <p:nvPr/>
          </p:nvSpPr>
          <p:spPr>
            <a:xfrm>
              <a:off x="6054840" y="2432160"/>
              <a:ext cx="171360" cy="16128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19" name="AutoShape 32"/>
            <p:cNvCxnSpPr>
              <a:stCxn id="516" idx="5"/>
              <a:endCxn id="518" idx="0"/>
            </p:cNvCxnSpPr>
            <p:nvPr/>
          </p:nvCxnSpPr>
          <p:spPr>
            <a:xfrm>
              <a:off x="5915520" y="2193480"/>
              <a:ext cx="225360" cy="23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0" name="AutoShape 33"/>
            <p:cNvCxnSpPr>
              <a:stCxn id="518" idx="2"/>
              <a:endCxn id="517" idx="6"/>
            </p:cNvCxnSpPr>
            <p:nvPr/>
          </p:nvCxnSpPr>
          <p:spPr>
            <a:xfrm flipH="1">
              <a:off x="5653800" y="2512440"/>
              <a:ext cx="400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1" name="AutoShape 34"/>
            <p:cNvCxnSpPr>
              <a:stCxn id="517" idx="0"/>
              <a:endCxn id="516" idx="3"/>
            </p:cNvCxnSpPr>
            <p:nvPr/>
          </p:nvCxnSpPr>
          <p:spPr>
            <a:xfrm flipV="1">
              <a:off x="5568840" y="2193120"/>
              <a:ext cx="225360" cy="23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22" name="Oval 35"/>
            <p:cNvSpPr/>
            <p:nvPr/>
          </p:nvSpPr>
          <p:spPr>
            <a:xfrm>
              <a:off x="5769000" y="2701080"/>
              <a:ext cx="171360" cy="16128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23" name="AutoShape 36"/>
            <p:cNvCxnSpPr>
              <a:stCxn id="522" idx="0"/>
              <a:endCxn id="516" idx="4"/>
            </p:cNvCxnSpPr>
            <p:nvPr/>
          </p:nvCxnSpPr>
          <p:spPr>
            <a:xfrm flipV="1">
              <a:off x="5854320" y="2216880"/>
              <a:ext cx="1080" cy="48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4" name="AutoShape 37"/>
            <p:cNvCxnSpPr>
              <a:stCxn id="522" idx="1"/>
              <a:endCxn id="517" idx="5"/>
            </p:cNvCxnSpPr>
            <p:nvPr/>
          </p:nvCxnSpPr>
          <p:spPr>
            <a:xfrm flipH="1" flipV="1">
              <a:off x="5629320" y="2569320"/>
              <a:ext cx="164520" cy="15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525" name="AutoShape 38"/>
          <p:cNvCxnSpPr>
            <a:stCxn id="510" idx="2"/>
            <a:endCxn id="502" idx="6"/>
          </p:cNvCxnSpPr>
          <p:nvPr/>
        </p:nvCxnSpPr>
        <p:spPr>
          <a:xfrm flipH="1" flipV="1">
            <a:off x="3615480" y="3499920"/>
            <a:ext cx="381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6" name="AutoShape 39"/>
          <p:cNvSpPr/>
          <p:nvPr/>
        </p:nvSpPr>
        <p:spPr>
          <a:xfrm>
            <a:off x="1177920" y="4135320"/>
            <a:ext cx="2819520" cy="990720"/>
          </a:xfrm>
          <a:prstGeom prst="wedgeEllipseCallout">
            <a:avLst>
              <a:gd name="adj1" fmla="val 47185"/>
              <a:gd name="adj2" fmla="val 626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Homa"/>
              </a:rPr>
              <a:t>اين سيستم نيز بخوبي كار خواهد كر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AutoShape 40"/>
          <p:cNvSpPr/>
          <p:nvPr/>
        </p:nvSpPr>
        <p:spPr>
          <a:xfrm>
            <a:off x="4759200" y="3297240"/>
            <a:ext cx="609840" cy="485640"/>
          </a:xfrm>
          <a:prstGeom prst="rightArrow">
            <a:avLst>
              <a:gd name="adj1" fmla="val 50000"/>
              <a:gd name="adj2" fmla="val 31394"/>
            </a:avLst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" name="Group 41"/>
          <p:cNvGrpSpPr/>
          <p:nvPr/>
        </p:nvGrpSpPr>
        <p:grpSpPr>
          <a:xfrm>
            <a:off x="5445000" y="3144960"/>
            <a:ext cx="1828800" cy="838080"/>
            <a:chOff x="5445000" y="3144960"/>
            <a:chExt cx="1828800" cy="838080"/>
          </a:xfrm>
        </p:grpSpPr>
        <p:grpSp>
          <p:nvGrpSpPr>
            <p:cNvPr id="529" name="Group 42"/>
            <p:cNvGrpSpPr/>
            <p:nvPr/>
          </p:nvGrpSpPr>
          <p:grpSpPr>
            <a:xfrm>
              <a:off x="5445000" y="3144960"/>
              <a:ext cx="838440" cy="838080"/>
              <a:chOff x="5445000" y="3144960"/>
              <a:chExt cx="838440" cy="838080"/>
            </a:xfrm>
          </p:grpSpPr>
          <p:sp>
            <p:nvSpPr>
              <p:cNvPr id="530" name="Oval 43"/>
              <p:cNvSpPr/>
              <p:nvPr/>
            </p:nvSpPr>
            <p:spPr>
              <a:xfrm>
                <a:off x="5445000" y="3144960"/>
                <a:ext cx="838440" cy="83808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1" name="Oval 44"/>
              <p:cNvSpPr/>
              <p:nvPr/>
            </p:nvSpPr>
            <p:spPr>
              <a:xfrm>
                <a:off x="5794200" y="3184560"/>
                <a:ext cx="156960" cy="17928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" name="Oval 45"/>
              <p:cNvSpPr/>
              <p:nvPr/>
            </p:nvSpPr>
            <p:spPr>
              <a:xfrm>
                <a:off x="5532120" y="3603960"/>
                <a:ext cx="156960" cy="17928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" name="Oval 46"/>
              <p:cNvSpPr/>
              <p:nvPr/>
            </p:nvSpPr>
            <p:spPr>
              <a:xfrm>
                <a:off x="6056280" y="3603960"/>
                <a:ext cx="156960" cy="17928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cxnSp>
            <p:nvCxnSpPr>
              <p:cNvPr id="534" name="AutoShape 47"/>
              <p:cNvCxnSpPr>
                <a:stCxn id="531" idx="5"/>
                <a:endCxn id="533" idx="0"/>
              </p:cNvCxnSpPr>
              <p:nvPr/>
            </p:nvCxnSpPr>
            <p:spPr>
              <a:xfrm>
                <a:off x="5928120" y="3337920"/>
                <a:ext cx="207000" cy="266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48"/>
              <p:cNvCxnSpPr>
                <a:stCxn id="533" idx="2"/>
                <a:endCxn id="532" idx="6"/>
              </p:cNvCxnSpPr>
              <p:nvPr/>
            </p:nvCxnSpPr>
            <p:spPr>
              <a:xfrm flipH="1">
                <a:off x="5688360" y="3693240"/>
                <a:ext cx="3675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49"/>
              <p:cNvCxnSpPr>
                <a:stCxn id="532" idx="0"/>
                <a:endCxn id="531" idx="3"/>
              </p:cNvCxnSpPr>
              <p:nvPr/>
            </p:nvCxnSpPr>
            <p:spPr>
              <a:xfrm flipV="1">
                <a:off x="5610240" y="3337560"/>
                <a:ext cx="207000" cy="266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537" name="Group 50"/>
            <p:cNvGrpSpPr/>
            <p:nvPr/>
          </p:nvGrpSpPr>
          <p:grpSpPr>
            <a:xfrm>
              <a:off x="6664320" y="3208320"/>
              <a:ext cx="609480" cy="723960"/>
              <a:chOff x="6664320" y="3208320"/>
              <a:chExt cx="609480" cy="723960"/>
            </a:xfrm>
          </p:grpSpPr>
          <p:sp>
            <p:nvSpPr>
              <p:cNvPr id="538" name="Oval 51"/>
              <p:cNvSpPr/>
              <p:nvPr/>
            </p:nvSpPr>
            <p:spPr>
              <a:xfrm>
                <a:off x="6664320" y="3208320"/>
                <a:ext cx="609480" cy="72396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9" name="Oval 52"/>
              <p:cNvSpPr/>
              <p:nvPr/>
            </p:nvSpPr>
            <p:spPr>
              <a:xfrm>
                <a:off x="7012440" y="3353040"/>
                <a:ext cx="130320" cy="14472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0" name="Oval 53"/>
              <p:cNvSpPr/>
              <p:nvPr/>
            </p:nvSpPr>
            <p:spPr>
              <a:xfrm>
                <a:off x="6794640" y="3691080"/>
                <a:ext cx="130320" cy="14472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cxnSp>
            <p:nvCxnSpPr>
              <p:cNvPr id="541" name="AutoShape 54"/>
              <p:cNvCxnSpPr>
                <a:stCxn id="540" idx="0"/>
                <a:endCxn id="539" idx="3"/>
              </p:cNvCxnSpPr>
              <p:nvPr/>
            </p:nvCxnSpPr>
            <p:spPr>
              <a:xfrm flipV="1">
                <a:off x="6860160" y="3476520"/>
                <a:ext cx="172080" cy="21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542" name="AutoShape 55"/>
            <p:cNvCxnSpPr>
              <a:stCxn id="538" idx="2"/>
              <a:endCxn id="530" idx="6"/>
            </p:cNvCxnSpPr>
            <p:nvPr/>
          </p:nvCxnSpPr>
          <p:spPr>
            <a:xfrm flipH="1" flipV="1">
              <a:off x="6283080" y="3563640"/>
              <a:ext cx="38160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543" name="AutoShape 56"/>
          <p:cNvCxnSpPr>
            <a:stCxn id="530" idx="0"/>
            <a:endCxn id="515" idx="4"/>
          </p:cNvCxnSpPr>
          <p:nvPr/>
        </p:nvCxnSpPr>
        <p:spPr>
          <a:xfrm flipH="1" flipV="1">
            <a:off x="5825880" y="2915640"/>
            <a:ext cx="38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AutoShape 57"/>
          <p:cNvSpPr/>
          <p:nvPr/>
        </p:nvSpPr>
        <p:spPr>
          <a:xfrm>
            <a:off x="7655040" y="34495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58"/>
          <p:cNvSpPr/>
          <p:nvPr/>
        </p:nvSpPr>
        <p:spPr>
          <a:xfrm>
            <a:off x="4073400" y="4287960"/>
            <a:ext cx="312444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6" name="Group 59"/>
          <p:cNvGrpSpPr/>
          <p:nvPr/>
        </p:nvGrpSpPr>
        <p:grpSpPr>
          <a:xfrm>
            <a:off x="6207120" y="4668840"/>
            <a:ext cx="914400" cy="990720"/>
            <a:chOff x="6207120" y="4668840"/>
            <a:chExt cx="914400" cy="990720"/>
          </a:xfrm>
        </p:grpSpPr>
        <p:sp>
          <p:nvSpPr>
            <p:cNvPr id="547" name="Oval 60"/>
            <p:cNvSpPr/>
            <p:nvPr/>
          </p:nvSpPr>
          <p:spPr>
            <a:xfrm>
              <a:off x="6207120" y="4668840"/>
              <a:ext cx="914400" cy="9907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Oval 61"/>
            <p:cNvSpPr/>
            <p:nvPr/>
          </p:nvSpPr>
          <p:spPr>
            <a:xfrm>
              <a:off x="6618600" y="4773240"/>
              <a:ext cx="137160" cy="15624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Oval 62"/>
            <p:cNvSpPr/>
            <p:nvPr/>
          </p:nvSpPr>
          <p:spPr>
            <a:xfrm>
              <a:off x="6390000" y="5033880"/>
              <a:ext cx="137160" cy="15624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Oval 63"/>
            <p:cNvSpPr/>
            <p:nvPr/>
          </p:nvSpPr>
          <p:spPr>
            <a:xfrm>
              <a:off x="6847200" y="5033880"/>
              <a:ext cx="137160" cy="15624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51" name="AutoShape 64"/>
            <p:cNvCxnSpPr>
              <a:stCxn id="548" idx="5"/>
              <a:endCxn id="550" idx="0"/>
            </p:cNvCxnSpPr>
            <p:nvPr/>
          </p:nvCxnSpPr>
          <p:spPr>
            <a:xfrm>
              <a:off x="6735600" y="4906440"/>
              <a:ext cx="180720" cy="127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2" name="AutoShape 65"/>
            <p:cNvCxnSpPr>
              <a:stCxn id="550" idx="2"/>
              <a:endCxn id="549" idx="6"/>
            </p:cNvCxnSpPr>
            <p:nvPr/>
          </p:nvCxnSpPr>
          <p:spPr>
            <a:xfrm flipH="1">
              <a:off x="6526800" y="5111640"/>
              <a:ext cx="320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3" name="AutoShape 66"/>
            <p:cNvCxnSpPr>
              <a:stCxn id="549" idx="0"/>
              <a:endCxn id="548" idx="3"/>
            </p:cNvCxnSpPr>
            <p:nvPr/>
          </p:nvCxnSpPr>
          <p:spPr>
            <a:xfrm flipV="1">
              <a:off x="6458400" y="4906080"/>
              <a:ext cx="180720" cy="127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54" name="Oval 67"/>
            <p:cNvSpPr/>
            <p:nvPr/>
          </p:nvSpPr>
          <p:spPr>
            <a:xfrm>
              <a:off x="6344280" y="5346720"/>
              <a:ext cx="137160" cy="15624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Oval 68"/>
            <p:cNvSpPr/>
            <p:nvPr/>
          </p:nvSpPr>
          <p:spPr>
            <a:xfrm>
              <a:off x="6847200" y="5346720"/>
              <a:ext cx="137160" cy="156240"/>
            </a:xfrm>
            <a:prstGeom prst="ellipse">
              <a:avLst/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56" name="AutoShape 69"/>
            <p:cNvCxnSpPr>
              <a:stCxn id="554" idx="0"/>
              <a:endCxn id="549" idx="4"/>
            </p:cNvCxnSpPr>
            <p:nvPr/>
          </p:nvCxnSpPr>
          <p:spPr>
            <a:xfrm flipV="1">
              <a:off x="6412680" y="5189760"/>
              <a:ext cx="46080" cy="15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7" name="AutoShape 70"/>
            <p:cNvCxnSpPr>
              <a:stCxn id="554" idx="6"/>
              <a:endCxn id="555" idx="2"/>
            </p:cNvCxnSpPr>
            <p:nvPr/>
          </p:nvCxnSpPr>
          <p:spPr>
            <a:xfrm>
              <a:off x="6481440" y="5424480"/>
              <a:ext cx="36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8" name="AutoShape 71"/>
            <p:cNvCxnSpPr>
              <a:stCxn id="555" idx="0"/>
              <a:endCxn id="550" idx="4"/>
            </p:cNvCxnSpPr>
            <p:nvPr/>
          </p:nvCxnSpPr>
          <p:spPr>
            <a:xfrm flipV="1">
              <a:off x="6915600" y="5189760"/>
              <a:ext cx="1080" cy="15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9" name="AutoShape 72"/>
            <p:cNvCxnSpPr>
              <a:stCxn id="549" idx="5"/>
              <a:endCxn id="555" idx="1"/>
            </p:cNvCxnSpPr>
            <p:nvPr/>
          </p:nvCxnSpPr>
          <p:spPr>
            <a:xfrm>
              <a:off x="6507000" y="5167080"/>
              <a:ext cx="360720" cy="20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0" name="AutoShape 73"/>
            <p:cNvCxnSpPr>
              <a:stCxn id="554" idx="7"/>
              <a:endCxn id="548" idx="4"/>
            </p:cNvCxnSpPr>
            <p:nvPr/>
          </p:nvCxnSpPr>
          <p:spPr>
            <a:xfrm flipV="1">
              <a:off x="6460920" y="4929120"/>
              <a:ext cx="22644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1" name="AutoShape 74"/>
            <p:cNvCxnSpPr>
              <a:stCxn id="554" idx="7"/>
              <a:endCxn id="550" idx="3"/>
            </p:cNvCxnSpPr>
            <p:nvPr/>
          </p:nvCxnSpPr>
          <p:spPr>
            <a:xfrm flipV="1">
              <a:off x="6460920" y="5166720"/>
              <a:ext cx="406440" cy="20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62" name="Group 75"/>
          <p:cNvGrpSpPr/>
          <p:nvPr/>
        </p:nvGrpSpPr>
        <p:grpSpPr>
          <a:xfrm>
            <a:off x="4226040" y="4440240"/>
            <a:ext cx="1904760" cy="1980720"/>
            <a:chOff x="4226040" y="4440240"/>
            <a:chExt cx="1904760" cy="1980720"/>
          </a:xfrm>
        </p:grpSpPr>
        <p:grpSp>
          <p:nvGrpSpPr>
            <p:cNvPr id="563" name="Group 76"/>
            <p:cNvGrpSpPr/>
            <p:nvPr/>
          </p:nvGrpSpPr>
          <p:grpSpPr>
            <a:xfrm>
              <a:off x="4226040" y="4440240"/>
              <a:ext cx="914400" cy="914040"/>
              <a:chOff x="4226040" y="4440240"/>
              <a:chExt cx="914400" cy="914040"/>
            </a:xfrm>
          </p:grpSpPr>
          <p:sp>
            <p:nvSpPr>
              <p:cNvPr id="564" name="Oval 77"/>
              <p:cNvSpPr/>
              <p:nvPr/>
            </p:nvSpPr>
            <p:spPr>
              <a:xfrm>
                <a:off x="4226040" y="4440240"/>
                <a:ext cx="914400" cy="91404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Oval 78"/>
              <p:cNvSpPr/>
              <p:nvPr/>
            </p:nvSpPr>
            <p:spPr>
              <a:xfrm>
                <a:off x="4626000" y="4493880"/>
                <a:ext cx="171360" cy="16128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" name="Oval 79"/>
              <p:cNvSpPr/>
              <p:nvPr/>
            </p:nvSpPr>
            <p:spPr>
              <a:xfrm>
                <a:off x="4340160" y="4870080"/>
                <a:ext cx="171360" cy="16128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" name="Oval 80"/>
              <p:cNvSpPr/>
              <p:nvPr/>
            </p:nvSpPr>
            <p:spPr>
              <a:xfrm>
                <a:off x="4911840" y="4870080"/>
                <a:ext cx="171360" cy="16128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cxnSp>
            <p:nvCxnSpPr>
              <p:cNvPr id="568" name="AutoShape 81"/>
              <p:cNvCxnSpPr>
                <a:stCxn id="565" idx="5"/>
                <a:endCxn id="567" idx="0"/>
              </p:cNvCxnSpPr>
              <p:nvPr/>
            </p:nvCxnSpPr>
            <p:spPr>
              <a:xfrm>
                <a:off x="4772520" y="4631760"/>
                <a:ext cx="225360" cy="239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9" name="AutoShape 82"/>
              <p:cNvCxnSpPr>
                <a:stCxn id="567" idx="2"/>
                <a:endCxn id="566" idx="6"/>
              </p:cNvCxnSpPr>
              <p:nvPr/>
            </p:nvCxnSpPr>
            <p:spPr>
              <a:xfrm flipH="1">
                <a:off x="4510800" y="4950720"/>
                <a:ext cx="4006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0" name="AutoShape 83"/>
              <p:cNvCxnSpPr>
                <a:stCxn id="566" idx="0"/>
                <a:endCxn id="565" idx="3"/>
              </p:cNvCxnSpPr>
              <p:nvPr/>
            </p:nvCxnSpPr>
            <p:spPr>
              <a:xfrm flipV="1">
                <a:off x="4425840" y="4631400"/>
                <a:ext cx="225360" cy="239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71" name="Oval 84"/>
              <p:cNvSpPr/>
              <p:nvPr/>
            </p:nvSpPr>
            <p:spPr>
              <a:xfrm>
                <a:off x="4626000" y="5139360"/>
                <a:ext cx="171360" cy="16128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cxnSp>
            <p:nvCxnSpPr>
              <p:cNvPr id="572" name="AutoShape 85"/>
              <p:cNvCxnSpPr>
                <a:stCxn id="571" idx="0"/>
                <a:endCxn id="565" idx="4"/>
              </p:cNvCxnSpPr>
              <p:nvPr/>
            </p:nvCxnSpPr>
            <p:spPr>
              <a:xfrm flipV="1">
                <a:off x="4711320" y="4654800"/>
                <a:ext cx="1080" cy="48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3" name="AutoShape 86"/>
              <p:cNvCxnSpPr>
                <a:stCxn id="571" idx="1"/>
                <a:endCxn id="566" idx="5"/>
              </p:cNvCxnSpPr>
              <p:nvPr/>
            </p:nvCxnSpPr>
            <p:spPr>
              <a:xfrm flipH="1" flipV="1">
                <a:off x="4486320" y="5007600"/>
                <a:ext cx="164520" cy="155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574" name="Group 87"/>
            <p:cNvGrpSpPr/>
            <p:nvPr/>
          </p:nvGrpSpPr>
          <p:grpSpPr>
            <a:xfrm>
              <a:off x="4302000" y="5582880"/>
              <a:ext cx="838440" cy="838080"/>
              <a:chOff x="4302000" y="5582880"/>
              <a:chExt cx="838440" cy="838080"/>
            </a:xfrm>
          </p:grpSpPr>
          <p:sp>
            <p:nvSpPr>
              <p:cNvPr id="575" name="Oval 88"/>
              <p:cNvSpPr/>
              <p:nvPr/>
            </p:nvSpPr>
            <p:spPr>
              <a:xfrm>
                <a:off x="4302000" y="5582880"/>
                <a:ext cx="838440" cy="83808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Oval 89"/>
              <p:cNvSpPr/>
              <p:nvPr/>
            </p:nvSpPr>
            <p:spPr>
              <a:xfrm>
                <a:off x="4651200" y="5622480"/>
                <a:ext cx="156960" cy="17928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" name="Oval 90"/>
              <p:cNvSpPr/>
              <p:nvPr/>
            </p:nvSpPr>
            <p:spPr>
              <a:xfrm>
                <a:off x="4389120" y="6041880"/>
                <a:ext cx="156960" cy="17928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Oval 91"/>
              <p:cNvSpPr/>
              <p:nvPr/>
            </p:nvSpPr>
            <p:spPr>
              <a:xfrm>
                <a:off x="4913280" y="6041880"/>
                <a:ext cx="156960" cy="17928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cxnSp>
            <p:nvCxnSpPr>
              <p:cNvPr id="579" name="AutoShape 92"/>
              <p:cNvCxnSpPr>
                <a:stCxn id="576" idx="5"/>
                <a:endCxn id="578" idx="0"/>
              </p:cNvCxnSpPr>
              <p:nvPr/>
            </p:nvCxnSpPr>
            <p:spPr>
              <a:xfrm>
                <a:off x="4785120" y="5775840"/>
                <a:ext cx="207000" cy="266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80" name="AutoShape 93"/>
              <p:cNvCxnSpPr>
                <a:stCxn id="578" idx="2"/>
                <a:endCxn id="577" idx="6"/>
              </p:cNvCxnSpPr>
              <p:nvPr/>
            </p:nvCxnSpPr>
            <p:spPr>
              <a:xfrm flipH="1">
                <a:off x="4545360" y="6131160"/>
                <a:ext cx="3675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81" name="AutoShape 94"/>
              <p:cNvCxnSpPr>
                <a:stCxn id="577" idx="0"/>
                <a:endCxn id="576" idx="3"/>
              </p:cNvCxnSpPr>
              <p:nvPr/>
            </p:nvCxnSpPr>
            <p:spPr>
              <a:xfrm flipV="1">
                <a:off x="4467240" y="5775480"/>
                <a:ext cx="207000" cy="266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582" name="Group 95"/>
            <p:cNvGrpSpPr/>
            <p:nvPr/>
          </p:nvGrpSpPr>
          <p:grpSpPr>
            <a:xfrm>
              <a:off x="5521320" y="5646600"/>
              <a:ext cx="609480" cy="723600"/>
              <a:chOff x="5521320" y="5646600"/>
              <a:chExt cx="609480" cy="723600"/>
            </a:xfrm>
          </p:grpSpPr>
          <p:sp>
            <p:nvSpPr>
              <p:cNvPr id="583" name="Oval 96"/>
              <p:cNvSpPr/>
              <p:nvPr/>
            </p:nvSpPr>
            <p:spPr>
              <a:xfrm>
                <a:off x="5521320" y="5646600"/>
                <a:ext cx="609480" cy="72360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" name="Oval 97"/>
              <p:cNvSpPr/>
              <p:nvPr/>
            </p:nvSpPr>
            <p:spPr>
              <a:xfrm>
                <a:off x="5869440" y="5791320"/>
                <a:ext cx="130320" cy="14472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5" name="Oval 98"/>
              <p:cNvSpPr/>
              <p:nvPr/>
            </p:nvSpPr>
            <p:spPr>
              <a:xfrm>
                <a:off x="5651640" y="6129000"/>
                <a:ext cx="130320" cy="144720"/>
              </a:xfrm>
              <a:prstGeom prst="ellipse">
                <a:avLst/>
              </a:prstGeom>
              <a:solidFill>
                <a:srgbClr val="c470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cxnSp>
            <p:nvCxnSpPr>
              <p:cNvPr id="586" name="AutoShape 99"/>
              <p:cNvCxnSpPr>
                <a:stCxn id="585" idx="0"/>
                <a:endCxn id="584" idx="3"/>
              </p:cNvCxnSpPr>
              <p:nvPr/>
            </p:nvCxnSpPr>
            <p:spPr>
              <a:xfrm flipV="1">
                <a:off x="5717160" y="5914440"/>
                <a:ext cx="172080" cy="21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587" name="AutoShape 100"/>
            <p:cNvCxnSpPr>
              <a:stCxn id="583" idx="2"/>
              <a:endCxn id="575" idx="6"/>
            </p:cNvCxnSpPr>
            <p:nvPr/>
          </p:nvCxnSpPr>
          <p:spPr>
            <a:xfrm flipH="1" flipV="1">
              <a:off x="5140080" y="6001920"/>
              <a:ext cx="381600" cy="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8" name="AutoShape 101"/>
            <p:cNvCxnSpPr>
              <a:stCxn id="575" idx="0"/>
              <a:endCxn id="564" idx="4"/>
            </p:cNvCxnSpPr>
            <p:nvPr/>
          </p:nvCxnSpPr>
          <p:spPr>
            <a:xfrm flipH="1" flipV="1">
              <a:off x="4682880" y="5353920"/>
              <a:ext cx="38880" cy="22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589" name="AutoShape 102"/>
          <p:cNvCxnSpPr>
            <a:stCxn id="583" idx="7"/>
            <a:endCxn id="547" idx="3"/>
          </p:cNvCxnSpPr>
          <p:nvPr/>
        </p:nvCxnSpPr>
        <p:spPr>
          <a:xfrm flipV="1">
            <a:off x="6041520" y="5514480"/>
            <a:ext cx="29916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0" name="AutoShape 103"/>
          <p:cNvCxnSpPr>
            <a:stCxn id="547" idx="2"/>
            <a:endCxn id="564" idx="6"/>
          </p:cNvCxnSpPr>
          <p:nvPr/>
        </p:nvCxnSpPr>
        <p:spPr>
          <a:xfrm flipH="1" flipV="1">
            <a:off x="5139720" y="4897080"/>
            <a:ext cx="106740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1" name="AutoShape 104"/>
          <p:cNvSpPr/>
          <p:nvPr/>
        </p:nvSpPr>
        <p:spPr>
          <a:xfrm>
            <a:off x="1406520" y="1773360"/>
            <a:ext cx="2666880" cy="990360"/>
          </a:xfrm>
          <a:prstGeom prst="wedgeEllipseCallout">
            <a:avLst>
              <a:gd name="adj1" fmla="val -43097"/>
              <a:gd name="adj2" fmla="val 6875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Homa"/>
              </a:rPr>
              <a:t>اين سيستم بخوبي كار مي كن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7216-15CA-485F-8F59-154BEEDEE3E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شكل اصلي سيستم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ي پيچيد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826920" y="3284640"/>
            <a:ext cx="7772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Homa"/>
                <a:cs typeface="Nazanin"/>
              </a:rPr>
              <a:t>ساختار كلاس</a:t>
            </a:r>
            <a:r>
              <a:rPr b="1" lang="ar-SA" sz="2800" spc="-1" strike="noStrike">
                <a:solidFill>
                  <a:srgbClr val="0033cc"/>
                </a:solidFill>
                <a:latin typeface="Homa"/>
                <a:ea typeface="Homa"/>
              </a:rPr>
              <a:t>‌</a:t>
            </a:r>
            <a:r>
              <a:rPr b="1" lang="ar-SA" sz="2800" spc="-1" strike="noStrike">
                <a:solidFill>
                  <a:srgbClr val="4b4eb5"/>
                </a:solidFill>
                <a:latin typeface="Homa"/>
                <a:ea typeface="Nazanin"/>
              </a:rPr>
              <a:t>: </a:t>
            </a:r>
            <a:r>
              <a:rPr b="1" lang="ar-SA" sz="2800" spc="-1" strike="noStrike">
                <a:solidFill>
                  <a:srgbClr val="000000"/>
                </a:solidFill>
                <a:latin typeface="Homa"/>
                <a:cs typeface="Nazanin"/>
              </a:rPr>
              <a:t>سلسه مرات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IS-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Homa"/>
                <a:cs typeface="Nazanin"/>
              </a:rPr>
              <a:t>ساختار شئ:</a:t>
            </a:r>
            <a:r>
              <a:rPr b="1" lang="ar-SA" sz="2800" spc="-1" strike="noStrike">
                <a:solidFill>
                  <a:srgbClr val="4b4eb5"/>
                </a:solidFill>
                <a:latin typeface="Homa"/>
                <a:ea typeface="Nazani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Homa"/>
                <a:cs typeface="Nazanin"/>
              </a:rPr>
              <a:t>سلسه مرات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PART-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Homa"/>
                <a:cs typeface="Nazanin"/>
              </a:rPr>
              <a:t>شكل اصلي سيستم</a:t>
            </a:r>
            <a:r>
              <a:rPr b="1" lang="fa-IR" sz="3200" spc="-1" strike="noStrike">
                <a:solidFill>
                  <a:srgbClr val="ff0000"/>
                </a:solidFill>
                <a:latin typeface="Homa"/>
                <a:ea typeface="Nazanin"/>
              </a:rPr>
              <a:t>‌</a:t>
            </a:r>
            <a:r>
              <a:rPr b="1" lang="ar-SA" sz="3200" spc="-1" strike="noStrike">
                <a:solidFill>
                  <a:srgbClr val="ff0000"/>
                </a:solidFill>
                <a:latin typeface="Homa"/>
                <a:cs typeface="Nazanin"/>
              </a:rPr>
              <a:t>هاي پيچيده</a:t>
            </a:r>
            <a:r>
              <a:rPr b="1" lang="en-US" sz="3200" spc="-1" strike="noStrike">
                <a:solidFill>
                  <a:srgbClr val="ff0000"/>
                </a:solidFill>
                <a:latin typeface="Homa"/>
                <a:ea typeface="Nazanin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Homa"/>
                <a:ea typeface="Nazani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Homa"/>
                <a:ea typeface="Nazanin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Homa"/>
                <a:cs typeface="Nazanin"/>
              </a:rPr>
              <a:t>خواص پنجگانه</a:t>
            </a:r>
            <a:r>
              <a:rPr b="1" lang="en-US" sz="3200" spc="-1" strike="noStrike">
                <a:solidFill>
                  <a:srgbClr val="ff0000"/>
                </a:solidFill>
                <a:latin typeface="Homa"/>
                <a:ea typeface="Nazanin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Homa"/>
                <a:ea typeface="Nazanin"/>
              </a:rPr>
              <a:t>+</a:t>
            </a:r>
            <a:r>
              <a:rPr b="1" lang="en-US" sz="3200" spc="-1" strike="noStrike">
                <a:solidFill>
                  <a:srgbClr val="ff0000"/>
                </a:solidFill>
                <a:latin typeface="Homa"/>
                <a:ea typeface="Nazanin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Homa"/>
                <a:cs typeface="Nazanin"/>
              </a:rPr>
              <a:t>سلسله مراتب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Nazanin"/>
              </a:rPr>
              <a:t>IS-A</a:t>
            </a:r>
            <a:r>
              <a:rPr b="1" lang="ar-SA" sz="3200" spc="-1" strike="noStrike">
                <a:solidFill>
                  <a:srgbClr val="ff0000"/>
                </a:solidFill>
                <a:latin typeface="Homa"/>
                <a:ea typeface="Nazanin"/>
              </a:rPr>
              <a:t>+ سلسه مراتب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Nazanin"/>
              </a:rPr>
              <a:t>PART-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539640" y="1557360"/>
            <a:ext cx="7983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b4eb5"/>
                </a:solidFill>
                <a:latin typeface="Times New Roman"/>
                <a:ea typeface="Nazanin"/>
              </a:rPr>
              <a:t>”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cs typeface="Nazanin"/>
              </a:rPr>
              <a:t>مجموعه ويژگيهاي كلي كه در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Nazanin"/>
              </a:rPr>
              <a:t>همه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ea typeface="Nazanin"/>
              </a:rPr>
              <a:t> سيستم</a:t>
            </a:r>
            <a:r>
              <a:rPr b="1" lang="fa-IR" sz="3200" spc="-1" strike="noStrike">
                <a:solidFill>
                  <a:srgbClr val="4b4eb5"/>
                </a:solidFill>
                <a:latin typeface="Times New Roman"/>
                <a:ea typeface="Nazanin"/>
              </a:rPr>
              <a:t>‌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cs typeface="Nazanin"/>
              </a:rPr>
              <a:t>هاي پيچيده، صرفنظر از اندازه پيچيدگي، به چشم مي</a:t>
            </a:r>
            <a:r>
              <a:rPr b="1" lang="fa-IR" sz="3200" spc="-1" strike="noStrike">
                <a:solidFill>
                  <a:srgbClr val="4b4eb5"/>
                </a:solidFill>
                <a:latin typeface="Times New Roman"/>
                <a:ea typeface="Nazanin"/>
              </a:rPr>
              <a:t>‌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cs typeface="Nazanin"/>
              </a:rPr>
              <a:t>خورند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ea typeface="Nazanin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5C99-F2AA-4836-91A5-39AC4AAD385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شكل اصلي سيستم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ي پيچي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468360" y="1557360"/>
            <a:ext cx="82771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Homa"/>
                <a:ea typeface="Nazanin"/>
              </a:rPr>
              <a:t>  </a:t>
            </a:r>
            <a:r>
              <a:rPr b="1" lang="ar-SA" sz="2800" spc="-1" strike="noStrike">
                <a:solidFill>
                  <a:srgbClr val="4b4eb5"/>
                </a:solidFill>
                <a:latin typeface="Homa"/>
                <a:cs typeface="Nazanin"/>
              </a:rPr>
              <a:t>پيچيدگي سازمان</a:t>
            </a:r>
            <a:r>
              <a:rPr b="1" lang="fa-IR" sz="2800" spc="-1" strike="noStrike">
                <a:solidFill>
                  <a:srgbClr val="4b4eb5"/>
                </a:solidFill>
                <a:latin typeface="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4b4eb5"/>
                </a:solidFill>
                <a:latin typeface="Homa"/>
                <a:cs typeface="Nazanin"/>
              </a:rPr>
              <a:t>نيافته:</a:t>
            </a:r>
            <a:r>
              <a:rPr b="1" lang="ar-SA" sz="2800" spc="-1" strike="noStrike">
                <a:solidFill>
                  <a:srgbClr val="000066"/>
                </a:solidFill>
                <a:latin typeface="Homa"/>
                <a:ea typeface="Nazanin"/>
              </a:rPr>
              <a:t> وضعيت مسئله قبل از تحليل و طراحي</a:t>
            </a:r>
            <a:r>
              <a:rPr b="1" lang="fa-IR" sz="2800" spc="-1" strike="noStrike">
                <a:solidFill>
                  <a:srgbClr val="000066"/>
                </a:solidFill>
                <a:latin typeface="Homa"/>
                <a:ea typeface="Nazanin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Homa"/>
                <a:ea typeface="Nazanin"/>
              </a:rPr>
              <a:t>(اجزاء بسيار زياد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Homa"/>
                <a:ea typeface="Nazanin"/>
              </a:rPr>
              <a:t>  </a:t>
            </a:r>
            <a:r>
              <a:rPr b="1" lang="ar-SA" sz="2800" spc="-1" strike="noStrike">
                <a:solidFill>
                  <a:srgbClr val="4b4eb5"/>
                </a:solidFill>
                <a:latin typeface="Homa"/>
                <a:cs typeface="Nazanin"/>
              </a:rPr>
              <a:t>پيچيدگي سازمان</a:t>
            </a:r>
            <a:r>
              <a:rPr b="1" lang="fa-IR" sz="2800" spc="-1" strike="noStrike">
                <a:solidFill>
                  <a:srgbClr val="4b4eb5"/>
                </a:solidFill>
                <a:latin typeface="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4b4eb5"/>
                </a:solidFill>
                <a:latin typeface="Homa"/>
                <a:cs typeface="Nazanin"/>
              </a:rPr>
              <a:t>يافته:</a:t>
            </a:r>
            <a:r>
              <a:rPr b="1" lang="ar-SA" sz="2800" spc="-1" strike="noStrike">
                <a:solidFill>
                  <a:srgbClr val="000066"/>
                </a:solidFill>
                <a:latin typeface="Homa"/>
                <a:ea typeface="Nazanin"/>
              </a:rPr>
              <a:t> وضعيت مسئله پس از تحليل و طراح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5243400" y="3754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AutoShape 6"/>
          <p:cNvSpPr/>
          <p:nvPr/>
        </p:nvSpPr>
        <p:spPr>
          <a:xfrm>
            <a:off x="4253040" y="37544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6234120" y="3500280"/>
            <a:ext cx="2585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قدرت پردازش همزمان مغز انسان محدود اس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442800" y="3500280"/>
            <a:ext cx="35816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پيچيدگي سيستم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هاي نرم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ea typeface="Lotus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افزاري روز به روز در حال افزايش اس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5167440" y="32972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Nazanin"/>
              </a:rPr>
              <a:t>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AutoShape 10"/>
          <p:cNvSpPr/>
          <p:nvPr/>
        </p:nvSpPr>
        <p:spPr>
          <a:xfrm>
            <a:off x="5014800" y="42879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4024440" y="44402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303"/>
                </a:solidFill>
                <a:latin typeface="Times New Roman"/>
                <a:cs typeface="Nazanin"/>
              </a:rPr>
              <a:t>راه ح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4395960" y="535464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imes New Roman"/>
                <a:cs typeface="Nazanin"/>
              </a:rPr>
              <a:t>تجزيه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AutoShape 13"/>
          <p:cNvSpPr/>
          <p:nvPr/>
        </p:nvSpPr>
        <p:spPr>
          <a:xfrm>
            <a:off x="3719520" y="54309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14"/>
          <p:cNvSpPr/>
          <p:nvPr/>
        </p:nvSpPr>
        <p:spPr>
          <a:xfrm>
            <a:off x="3338640" y="588816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نحوه اعما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Text Box 15"/>
          <p:cNvSpPr/>
          <p:nvPr/>
        </p:nvSpPr>
        <p:spPr>
          <a:xfrm>
            <a:off x="130320" y="4950000"/>
            <a:ext cx="3504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imes New Roman"/>
                <a:cs typeface="Nazanin"/>
              </a:rPr>
              <a:t>بوسيله متدولوژي خوب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FE35-864F-4239-80F2-22F1B3501E8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 rtl="1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400" spc="-1" strike="noStrike">
                <a:solidFill>
                  <a:srgbClr val="000099"/>
                </a:solidFill>
                <a:latin typeface="Times New Roman"/>
              </a:rPr>
              <a:t>پرسش و پاسخ</a:t>
            </a:r>
            <a:endParaRPr b="1" lang="en-US" sz="8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6082-B43E-4100-8C79-CDF5E0F645D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حران نرم‌اف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11280" y="1989000"/>
            <a:ext cx="7607160" cy="3095640"/>
          </a:xfrm>
          <a:prstGeom prst="rect">
            <a:avLst/>
          </a:prstGeom>
          <a:solidFill>
            <a:srgbClr val="ffcc00"/>
          </a:soli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”پيشرفت شگرف سخت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افزار و ضعف روش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ي 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توسعه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نر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افزار و ناتواني اين روش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 در كنترل پيچيدگي نر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افزار بحران نر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افزار را بوجود آورد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EC9C-4FCD-47CC-9763-6366F641E95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حران نرم‌افزار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لايم اين بحران عبارتند از: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عدم بهره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گيري كامل از قدرت سخت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افزار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ناتواني روش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هاي توليد نرم‌افزار در پاسخگوئي به افزايش تقاض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هزينه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هاي هنگفت توليد نرم‌افزار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عدم تحويل به موقع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عدم تامين نيازمندي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هاي كاربر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كيفيت پايين و نامطمئن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سختي نگهداري بعلت كيفيت پايين طراح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0B5B-4765-46B7-8677-E0B064AF74A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هندسي نرم‌افزار و ضرورت آن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55640" y="1916280"/>
            <a:ext cx="775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b4eb5"/>
                </a:solidFill>
                <a:latin typeface="Times New Roman"/>
                <a:ea typeface="Nazanin"/>
              </a:rPr>
              <a:t>”براي مقابله با اين بحران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Nazanin"/>
              </a:rPr>
              <a:t>مهندسي نرم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Lotus"/>
              </a:rPr>
              <a:t>‌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Nazanin"/>
              </a:rPr>
              <a:t>افزار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ea typeface="Nazanin"/>
              </a:rPr>
              <a:t> مطرح شد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042920" y="3500280"/>
            <a:ext cx="72723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ويژگيهاي مهندسي نر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Homa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افز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58840" algn="r" rtl="1">
              <a:lnSpc>
                <a:spcPct val="120000"/>
              </a:lnSpc>
              <a:spcBef>
                <a:spcPts val="1500"/>
              </a:spcBef>
              <a:buClr>
                <a:srgbClr val="76b7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تجديد نظر در روش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هاي برنامه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ريزي و كنتر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58840" algn="r" rtl="1">
              <a:lnSpc>
                <a:spcPct val="120000"/>
              </a:lnSpc>
              <a:spcBef>
                <a:spcPts val="1500"/>
              </a:spcBef>
              <a:buClr>
                <a:srgbClr val="76b7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استفاده از تجربيات ديگر رشته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هاي مهندسي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(مثال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 الگو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ها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58840" algn="r" rtl="1">
              <a:lnSpc>
                <a:spcPct val="120000"/>
              </a:lnSpc>
              <a:spcBef>
                <a:spcPts val="1500"/>
              </a:spcBef>
              <a:buClr>
                <a:srgbClr val="76b7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تهيه و جايگزيني استانداردهاي مطمئ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F66D-E597-48CB-954B-3005719891D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عريف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هندسي نرم‌اف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95280" y="1916280"/>
            <a:ext cx="8064360" cy="3168360"/>
          </a:xfrm>
          <a:prstGeom prst="rect">
            <a:avLst/>
          </a:prstGeom>
          <a:solidFill>
            <a:srgbClr val="ffff66"/>
          </a:solid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4b4eb5"/>
                </a:solidFill>
                <a:latin typeface="Times New Roman"/>
                <a:ea typeface="Nazanin"/>
              </a:rPr>
              <a:t>«</a:t>
            </a:r>
            <a:r>
              <a:rPr b="1" lang="ar-SA" sz="3000" spc="-1" strike="noStrike">
                <a:solidFill>
                  <a:srgbClr val="4b4eb5"/>
                </a:solidFill>
                <a:latin typeface="Times New Roman"/>
                <a:cs typeface="Nazanin"/>
              </a:rPr>
              <a:t>بكارگيري يك روش </a:t>
            </a:r>
            <a:r>
              <a:rPr b="1" lang="ar-SA" sz="3000" spc="-1" strike="noStrike">
                <a:solidFill>
                  <a:srgbClr val="ff0000"/>
                </a:solidFill>
                <a:latin typeface="Times New Roman"/>
                <a:cs typeface="Nazanin"/>
              </a:rPr>
              <a:t>سيستماتيك، منظم و قابل اندازه</a:t>
            </a:r>
            <a:r>
              <a:rPr b="1" lang="fa-IR" sz="3000" spc="-1" strike="noStrike">
                <a:solidFill>
                  <a:srgbClr val="ff0000"/>
                </a:solidFill>
                <a:latin typeface="Times New Roman"/>
                <a:ea typeface="Nazanin"/>
              </a:rPr>
              <a:t>‌</a:t>
            </a:r>
            <a:r>
              <a:rPr b="1" lang="ar-SA" sz="3000" spc="-1" strike="noStrike">
                <a:solidFill>
                  <a:srgbClr val="ff0000"/>
                </a:solidFill>
                <a:latin typeface="Times New Roman"/>
                <a:cs typeface="Nazanin"/>
              </a:rPr>
              <a:t>گيري</a:t>
            </a:r>
            <a:r>
              <a:rPr b="1" lang="ar-SA" sz="3000" spc="-1" strike="noStrike">
                <a:solidFill>
                  <a:srgbClr val="4b4eb5"/>
                </a:solidFill>
                <a:latin typeface="Times New Roman"/>
                <a:ea typeface="Nazanin"/>
              </a:rPr>
              <a:t> براي توليد و توسعه، عملياتي كردن و نگهداري نرم</a:t>
            </a:r>
            <a:r>
              <a:rPr b="1" lang="ar-SA" sz="3000" spc="-1" strike="noStrike">
                <a:solidFill>
                  <a:srgbClr val="4b4eb5"/>
                </a:solidFill>
                <a:latin typeface="Times New Roman"/>
                <a:ea typeface="Lotus"/>
              </a:rPr>
              <a:t>‌</a:t>
            </a:r>
            <a:r>
              <a:rPr b="1" lang="ar-SA" sz="3000" spc="-1" strike="noStrike">
                <a:solidFill>
                  <a:srgbClr val="4b4eb5"/>
                </a:solidFill>
                <a:latin typeface="Times New Roman"/>
                <a:cs typeface="Nazanin"/>
              </a:rPr>
              <a:t>افزار؛ بكارگيري </a:t>
            </a:r>
            <a:r>
              <a:rPr b="1" lang="ar-SA" sz="3000" spc="-1" strike="noStrike">
                <a:solidFill>
                  <a:srgbClr val="ff0000"/>
                </a:solidFill>
                <a:latin typeface="Times New Roman"/>
                <a:cs typeface="Nazanin"/>
              </a:rPr>
              <a:t>اصول مهندسي</a:t>
            </a:r>
            <a:r>
              <a:rPr b="1" lang="ar-SA" sz="3000" spc="-1" strike="noStrike">
                <a:solidFill>
                  <a:srgbClr val="4b4eb5"/>
                </a:solidFill>
                <a:latin typeface="Times New Roman"/>
                <a:ea typeface="Nazanin"/>
              </a:rPr>
              <a:t> در توليد نرم</a:t>
            </a:r>
            <a:r>
              <a:rPr b="1" lang="ar-SA" sz="3000" spc="-1" strike="noStrike">
                <a:solidFill>
                  <a:srgbClr val="4b4eb5"/>
                </a:solidFill>
                <a:latin typeface="Times New Roman"/>
                <a:ea typeface="Lotus"/>
              </a:rPr>
              <a:t>‌</a:t>
            </a:r>
            <a:r>
              <a:rPr b="1" lang="ar-SA" sz="3000" spc="-1" strike="noStrike">
                <a:solidFill>
                  <a:srgbClr val="4b4eb5"/>
                </a:solidFill>
                <a:latin typeface="Times New Roman"/>
                <a:cs typeface="Nazanin"/>
              </a:rPr>
              <a:t>افزار</a:t>
            </a:r>
            <a:r>
              <a:rPr b="1" lang="fa-IR" sz="3000" spc="-1" strike="noStrike">
                <a:solidFill>
                  <a:srgbClr val="4b4eb5"/>
                </a:solidFill>
                <a:latin typeface="Times New Roman"/>
                <a:ea typeface="Nazanin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D24D-4F5E-4DFE-9D61-41977BBD613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هداف مهندسي نرم‌اف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3300"/>
                </a:solidFill>
                <a:latin typeface="Times New Roman"/>
              </a:rPr>
              <a:t>افزايش كيفيت، قابليت اطمينان، قابليت نگهدا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3300"/>
                </a:solidFill>
                <a:latin typeface="Times New Roman"/>
              </a:rPr>
              <a:t>رضايت كاربر و سهامدارا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3300"/>
                </a:solidFill>
                <a:latin typeface="Times New Roman"/>
              </a:rPr>
              <a:t>كاهش هزين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3300"/>
                </a:solidFill>
                <a:latin typeface="Times New Roman"/>
              </a:rPr>
              <a:t>تحويل به موقع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3300"/>
                </a:solidFill>
                <a:latin typeface="Times New Roman"/>
              </a:rPr>
              <a:t>استفاده از مولفه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993300"/>
                </a:solidFill>
                <a:latin typeface="Times New Roman"/>
              </a:rPr>
              <a:t>هاي استاندار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3300"/>
                </a:solidFill>
                <a:latin typeface="Times New Roman"/>
              </a:rPr>
              <a:t>استفاده مجد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6284-005C-402C-9523-D7A59951398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صول مهندسي نرم‌اف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870520" y="3995640"/>
            <a:ext cx="1752480" cy="129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Homa"/>
              </a:rPr>
              <a:t>ابزارهاي خودكار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ea typeface="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Homa"/>
              </a:rPr>
              <a:t>س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  <a:ea typeface="Homa"/>
              </a:rPr>
              <a:t>(CASE Too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889440" y="3995640"/>
            <a:ext cx="1752480" cy="129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Homa"/>
              </a:rPr>
              <a:t>متدولوژ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908000" y="2852640"/>
            <a:ext cx="5715000" cy="6858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Homa"/>
              </a:rPr>
              <a:t>تكنولوژي مهندسي نرم‌افزا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908000" y="3995640"/>
            <a:ext cx="1752840" cy="129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Homa"/>
              </a:rPr>
              <a:t>فرآيند تول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13:32Z</dcterms:created>
  <dc:creator>Fereidoon Shams</dc:creator>
  <dc:description/>
  <dc:language>en-US</dc:language>
  <cp:lastModifiedBy>Rahmani</cp:lastModifiedBy>
  <cp:lastPrinted>2015-11-03T02:26:54Z</cp:lastPrinted>
  <dcterms:modified xsi:type="dcterms:W3CDTF">2015-11-03T03:06:21Z</dcterms:modified>
  <cp:revision>311</cp:revision>
  <dc:subject/>
  <dc:title>PowerPoint Presentation</dc:title>
</cp:coreProperties>
</file>