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BE50C-163B-4805-A9CC-C398F84B4E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F1759-1509-467D-994F-9089A08B0D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89967-13A7-41A6-A481-8414C400F0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2156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4784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9492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2156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4784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CAAB3-DD86-433B-B188-A59AA66F08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89B91-74A8-4294-95AF-F8DEA07DB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9B3FD-4298-48C2-A3F1-330E3172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B7105-D8B8-4B28-BAE8-029AF115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FA53A-FD53-4D95-B046-695D774F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692BA3-57B2-4174-8E95-DE7D523D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74883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DCA98-DCB9-4ADC-9985-3B04D865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62D727-3639-4197-A5BD-4CD246C5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C6F9F-2FF6-4679-B49C-2198BB9E43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DFCE3-5DE7-4514-A0BE-A28375A6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00A74-3333-445D-8635-3B26EC0A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21314-DAD2-4028-83F6-423CFE79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CE7D3-711E-4748-A59F-85C34517C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2156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84784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9492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2156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84784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B3DA8-C144-4F7B-B685-E886DE97B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5F073-A7F4-4EC0-ACE3-D8A3D1C66D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75B32-CF02-4C29-9C5F-83DD802A89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D9048-72B4-4C4A-834A-CABD0866FE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74883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CB400-4B39-4B40-9679-0FE0500FC3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80440-07C8-44D1-AFB1-2EF9209C03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B4896-BE3B-4330-B1F3-1EC8973C51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64801-E7A9-4E23-B920-59AA2014F8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"/>
          <p:cNvGrpSpPr/>
          <p:nvPr/>
        </p:nvGrpSpPr>
        <p:grpSpPr>
          <a:xfrm>
            <a:off x="514440" y="504720"/>
            <a:ext cx="8521200" cy="1052280"/>
            <a:chOff x="514440" y="504720"/>
            <a:chExt cx="8521200" cy="1052280"/>
          </a:xfrm>
        </p:grpSpPr>
        <p:grpSp>
          <p:nvGrpSpPr>
            <p:cNvPr id="1" name="Group 16"/>
            <p:cNvGrpSpPr/>
            <p:nvPr/>
          </p:nvGrpSpPr>
          <p:grpSpPr>
            <a:xfrm>
              <a:off x="7883280" y="504720"/>
              <a:ext cx="1152360" cy="1052280"/>
              <a:chOff x="7883280" y="504720"/>
              <a:chExt cx="1152360" cy="105228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8556480" y="61272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4b4eb5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Rectangle 4"/>
              <p:cNvSpPr/>
              <p:nvPr/>
            </p:nvSpPr>
            <p:spPr>
              <a:xfrm>
                <a:off x="8297640" y="1035000"/>
                <a:ext cx="422280" cy="47448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" name="Group 15"/>
              <p:cNvGrpSpPr/>
              <p:nvPr/>
            </p:nvGrpSpPr>
            <p:grpSpPr>
              <a:xfrm>
                <a:off x="7883280" y="612720"/>
                <a:ext cx="1152360" cy="896760"/>
                <a:chOff x="7883280" y="612720"/>
                <a:chExt cx="1152360" cy="896760"/>
              </a:xfrm>
            </p:grpSpPr>
            <p:sp>
              <p:nvSpPr>
                <p:cNvPr id="5" name="Rectangle 2"/>
                <p:cNvSpPr/>
                <p:nvPr/>
              </p:nvSpPr>
              <p:spPr>
                <a:xfrm>
                  <a:off x="8173800" y="612720"/>
                  <a:ext cx="438120" cy="474480"/>
                </a:xfrm>
                <a:prstGeom prst="rect">
                  <a:avLst/>
                </a:prstGeom>
                <a:solidFill>
                  <a:srgbClr val="4b4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" name="Rectangle 5"/>
                <p:cNvSpPr/>
                <p:nvPr/>
              </p:nvSpPr>
              <p:spPr>
                <a:xfrm>
                  <a:off x="8667360" y="1035000"/>
                  <a:ext cx="368280" cy="474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6b749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" name="Rectangle 6"/>
                <p:cNvSpPr/>
                <p:nvPr/>
              </p:nvSpPr>
              <p:spPr>
                <a:xfrm>
                  <a:off x="7883280" y="961920"/>
                  <a:ext cx="560160" cy="42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481c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" name="Rectangle 7"/>
              <p:cNvSpPr/>
              <p:nvPr/>
            </p:nvSpPr>
            <p:spPr>
              <a:xfrm>
                <a:off x="8518320" y="504720"/>
                <a:ext cx="31680" cy="10522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" name="Rectangle 8"/>
            <p:cNvSpPr/>
            <p:nvPr/>
          </p:nvSpPr>
          <p:spPr>
            <a:xfrm flipH="1">
              <a:off x="514440" y="1204920"/>
              <a:ext cx="822600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spcBef>
                <a:spcPts val="75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51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51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51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sldNum" idx="1"/>
          </p:nvPr>
        </p:nvSpPr>
        <p:spPr>
          <a:xfrm>
            <a:off x="25056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itr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C978-38A9-4DB1-BEF2-9B22AEB3B84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76b74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4b4eb5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481c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spcBef>
                <a:spcPts val="75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51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51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51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4A17-A6C7-47DF-A062-BF0AF2931E85}" type="slidenum">
              <a:rPr b="0" lang="ar-SA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dcff"/>
            </a:gs>
            <a:gs pos="100000">
              <a:srgbClr val="3739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075"/>
          <p:cNvSpPr/>
          <p:nvPr/>
        </p:nvSpPr>
        <p:spPr>
          <a:xfrm>
            <a:off x="3435480" y="33336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Lotus"/>
              </a:rPr>
              <a:t>بسمه</a:t>
            </a:r>
            <a:r>
              <a:rPr b="1" lang="fa-IR" sz="1800" spc="-1" strike="noStrike">
                <a:solidFill>
                  <a:srgbClr val="000000"/>
                </a:solidFill>
                <a:latin typeface="Times New Roman"/>
                <a:ea typeface="Lotus"/>
              </a:rPr>
              <a:t>‌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Lotus"/>
              </a:rPr>
              <a:t>تعال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3076"/>
          <p:cNvSpPr/>
          <p:nvPr/>
        </p:nvSpPr>
        <p:spPr>
          <a:xfrm>
            <a:off x="539640" y="3068640"/>
            <a:ext cx="80647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tr"/>
              </a:rPr>
              <a:t>بررسي ساختاري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tr"/>
              </a:rPr>
              <a:t>R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3078"/>
          <p:cNvSpPr/>
          <p:nvPr/>
        </p:nvSpPr>
        <p:spPr>
          <a:xfrm>
            <a:off x="3523320" y="2205000"/>
            <a:ext cx="18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imes New Roman"/>
                <a:cs typeface="Titr"/>
              </a:rPr>
              <a:t>فصل شش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4E8D-58C0-4F7A-ABEA-2546D912F87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قش (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Role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)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صداق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ي نقش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افراد متخصص: تحليلگر سيستم، طراح، معمار، ...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سهامداران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(ذينفعان) سيستم: مشتري، كاربر نهائي ، ...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1476360" y="3500280"/>
            <a:ext cx="5637960" cy="2508120"/>
            <a:chOff x="1476360" y="3500280"/>
            <a:chExt cx="5637960" cy="2508120"/>
          </a:xfrm>
        </p:grpSpPr>
        <p:graphicFrame>
          <p:nvGraphicFramePr>
            <p:cNvPr id="174" name="Object 5"/>
            <p:cNvGraphicFramePr/>
            <p:nvPr/>
          </p:nvGraphicFramePr>
          <p:xfrm>
            <a:off x="4143240" y="3500280"/>
            <a:ext cx="296280" cy="381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5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43240" y="3500280"/>
                      <a:ext cx="29628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6" name="Object 6"/>
            <p:cNvGraphicFramePr/>
            <p:nvPr/>
          </p:nvGraphicFramePr>
          <p:xfrm>
            <a:off x="5819400" y="3500280"/>
            <a:ext cx="609480" cy="357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7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19400" y="3500280"/>
                      <a:ext cx="60948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8" name="Group 7"/>
            <p:cNvGrpSpPr/>
            <p:nvPr/>
          </p:nvGrpSpPr>
          <p:grpSpPr>
            <a:xfrm>
              <a:off x="3238200" y="3500280"/>
              <a:ext cx="3876120" cy="2508120"/>
              <a:chOff x="3238200" y="3500280"/>
              <a:chExt cx="3876120" cy="2508120"/>
            </a:xfrm>
          </p:grpSpPr>
          <p:grpSp>
            <p:nvGrpSpPr>
              <p:cNvPr id="179" name="Group 8"/>
              <p:cNvGrpSpPr/>
              <p:nvPr/>
            </p:nvGrpSpPr>
            <p:grpSpPr>
              <a:xfrm>
                <a:off x="3238200" y="3500280"/>
                <a:ext cx="1966680" cy="354600"/>
                <a:chOff x="3238200" y="3500280"/>
                <a:chExt cx="1966680" cy="354600"/>
              </a:xfrm>
            </p:grpSpPr>
            <p:sp>
              <p:nvSpPr>
                <p:cNvPr id="180" name="Rectangle 9"/>
                <p:cNvSpPr/>
                <p:nvPr/>
              </p:nvSpPr>
              <p:spPr>
                <a:xfrm>
                  <a:off x="3304440" y="3500280"/>
                  <a:ext cx="1834200" cy="35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" name="Rectangle 10"/>
                <p:cNvSpPr/>
                <p:nvPr/>
              </p:nvSpPr>
              <p:spPr>
                <a:xfrm>
                  <a:off x="3238200" y="3500280"/>
                  <a:ext cx="1966680" cy="35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2" name="Group 11"/>
              <p:cNvGrpSpPr/>
              <p:nvPr/>
            </p:nvGrpSpPr>
            <p:grpSpPr>
              <a:xfrm>
                <a:off x="5204880" y="3500280"/>
                <a:ext cx="1909440" cy="354600"/>
                <a:chOff x="5204880" y="3500280"/>
                <a:chExt cx="1909440" cy="354600"/>
              </a:xfrm>
            </p:grpSpPr>
            <p:sp>
              <p:nvSpPr>
                <p:cNvPr id="183" name="Rectangle 12"/>
                <p:cNvSpPr/>
                <p:nvPr/>
              </p:nvSpPr>
              <p:spPr>
                <a:xfrm>
                  <a:off x="5271120" y="3500280"/>
                  <a:ext cx="1776960" cy="35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4" name="Rectangle 13"/>
                <p:cNvSpPr/>
                <p:nvPr/>
              </p:nvSpPr>
              <p:spPr>
                <a:xfrm>
                  <a:off x="5204880" y="3500280"/>
                  <a:ext cx="1909440" cy="35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5" name="Group 14"/>
              <p:cNvGrpSpPr/>
              <p:nvPr/>
            </p:nvGrpSpPr>
            <p:grpSpPr>
              <a:xfrm>
                <a:off x="3238200" y="3854880"/>
                <a:ext cx="1966680" cy="538200"/>
                <a:chOff x="3238200" y="3854880"/>
                <a:chExt cx="1966680" cy="538200"/>
              </a:xfrm>
            </p:grpSpPr>
            <p:sp>
              <p:nvSpPr>
                <p:cNvPr id="186" name="Rectangle 15"/>
                <p:cNvSpPr/>
                <p:nvPr/>
              </p:nvSpPr>
              <p:spPr>
                <a:xfrm>
                  <a:off x="3304440" y="3854880"/>
                  <a:ext cx="1830960" cy="53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4111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طراح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111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" name="Rectangle 16"/>
                <p:cNvSpPr/>
                <p:nvPr/>
              </p:nvSpPr>
              <p:spPr>
                <a:xfrm>
                  <a:off x="3238200" y="3857400"/>
                  <a:ext cx="1966680" cy="53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8" name="Group 17"/>
              <p:cNvGrpSpPr/>
              <p:nvPr/>
            </p:nvGrpSpPr>
            <p:grpSpPr>
              <a:xfrm>
                <a:off x="5204880" y="3854880"/>
                <a:ext cx="1909440" cy="538200"/>
                <a:chOff x="5204880" y="3854880"/>
                <a:chExt cx="1909440" cy="538200"/>
              </a:xfrm>
            </p:grpSpPr>
            <p:sp>
              <p:nvSpPr>
                <p:cNvPr id="189" name="Rectangle 18"/>
                <p:cNvSpPr/>
                <p:nvPr/>
              </p:nvSpPr>
              <p:spPr>
                <a:xfrm>
                  <a:off x="5271120" y="3854880"/>
                  <a:ext cx="1773720" cy="53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4111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طراحي كلاسها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، ...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111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0" name="Rectangle 19"/>
                <p:cNvSpPr/>
                <p:nvPr/>
              </p:nvSpPr>
              <p:spPr>
                <a:xfrm>
                  <a:off x="5204880" y="3857400"/>
                  <a:ext cx="1909440" cy="53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1" name="Group 20"/>
              <p:cNvGrpSpPr/>
              <p:nvPr/>
            </p:nvGrpSpPr>
            <p:grpSpPr>
              <a:xfrm>
                <a:off x="3238200" y="4393440"/>
                <a:ext cx="1966680" cy="538200"/>
                <a:chOff x="3238200" y="4393440"/>
                <a:chExt cx="1966680" cy="538200"/>
              </a:xfrm>
            </p:grpSpPr>
            <p:sp>
              <p:nvSpPr>
                <p:cNvPr id="192" name="Rectangle 21"/>
                <p:cNvSpPr/>
                <p:nvPr/>
              </p:nvSpPr>
              <p:spPr>
                <a:xfrm>
                  <a:off x="3304440" y="4395960"/>
                  <a:ext cx="1830960" cy="53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4111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طراح</a:t>
                  </a: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  <a:ea typeface="Homa"/>
                    </a:rPr>
                    <a:t>‌</a:t>
                  </a: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  <a:ea typeface="Nazanin"/>
                    </a:rPr>
                    <a:t> مورد</a:t>
                  </a:r>
                  <a:r>
                    <a:rPr b="1" lang="fa-IR" sz="1800" spc="-1" strike="noStrike">
                      <a:solidFill>
                        <a:srgbClr val="000000"/>
                      </a:solidFill>
                      <a:latin typeface="Times New Roman"/>
                      <a:ea typeface="Nazanin"/>
                    </a:rPr>
                    <a:t> </a:t>
                  </a: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  <a:ea typeface="Homa"/>
                    </a:rPr>
                    <a:t>‌</a:t>
                  </a: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كاربري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111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3" name="Rectangle 22"/>
                <p:cNvSpPr/>
                <p:nvPr/>
              </p:nvSpPr>
              <p:spPr>
                <a:xfrm>
                  <a:off x="3238200" y="4393440"/>
                  <a:ext cx="1966680" cy="53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4" name="Group 23"/>
              <p:cNvGrpSpPr/>
              <p:nvPr/>
            </p:nvGrpSpPr>
            <p:grpSpPr>
              <a:xfrm>
                <a:off x="5204880" y="4393440"/>
                <a:ext cx="1909440" cy="538200"/>
                <a:chOff x="5204880" y="4393440"/>
                <a:chExt cx="1909440" cy="538200"/>
              </a:xfrm>
            </p:grpSpPr>
            <p:sp>
              <p:nvSpPr>
                <p:cNvPr id="195" name="Rectangle 24"/>
                <p:cNvSpPr/>
                <p:nvPr/>
              </p:nvSpPr>
              <p:spPr>
                <a:xfrm>
                  <a:off x="5271120" y="4395960"/>
                  <a:ext cx="1773720" cy="53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4111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طراحي مورد</a:t>
                  </a: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  <a:ea typeface="Homa"/>
                    </a:rPr>
                    <a:t>‌</a:t>
                  </a: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كاربري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Nazanin"/>
                    </a:rPr>
                    <a:t> ...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111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6" name="Rectangle 25"/>
                <p:cNvSpPr/>
                <p:nvPr/>
              </p:nvSpPr>
              <p:spPr>
                <a:xfrm>
                  <a:off x="5204880" y="4393440"/>
                  <a:ext cx="1909440" cy="53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7" name="Group 26"/>
              <p:cNvGrpSpPr/>
              <p:nvPr/>
            </p:nvGrpSpPr>
            <p:grpSpPr>
              <a:xfrm>
                <a:off x="3238200" y="4931640"/>
                <a:ext cx="1966680" cy="538200"/>
                <a:chOff x="3238200" y="4931640"/>
                <a:chExt cx="1966680" cy="538200"/>
              </a:xfrm>
            </p:grpSpPr>
            <p:sp>
              <p:nvSpPr>
                <p:cNvPr id="198" name="Rectangle 27"/>
                <p:cNvSpPr/>
                <p:nvPr/>
              </p:nvSpPr>
              <p:spPr>
                <a:xfrm>
                  <a:off x="3304440" y="4931640"/>
                  <a:ext cx="1830960" cy="53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4111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بازبين</a:t>
                  </a: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  <a:ea typeface="Homa"/>
                    </a:rPr>
                    <a:t>‌</a:t>
                  </a: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كننده طراحي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111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" name="Rectangle 28"/>
                <p:cNvSpPr/>
                <p:nvPr/>
              </p:nvSpPr>
              <p:spPr>
                <a:xfrm>
                  <a:off x="3238200" y="4931640"/>
                  <a:ext cx="1966680" cy="53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00" name="Group 29"/>
              <p:cNvGrpSpPr/>
              <p:nvPr/>
            </p:nvGrpSpPr>
            <p:grpSpPr>
              <a:xfrm>
                <a:off x="5204880" y="4931640"/>
                <a:ext cx="1909440" cy="538200"/>
                <a:chOff x="5204880" y="4931640"/>
                <a:chExt cx="1909440" cy="538200"/>
              </a:xfrm>
            </p:grpSpPr>
            <p:sp>
              <p:nvSpPr>
                <p:cNvPr id="201" name="Rectangle 30"/>
                <p:cNvSpPr/>
                <p:nvPr/>
              </p:nvSpPr>
              <p:spPr>
                <a:xfrm>
                  <a:off x="5271120" y="4931640"/>
                  <a:ext cx="1773720" cy="53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4111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بازبيني طراحي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، ...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111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" name="Rectangle 31"/>
                <p:cNvSpPr/>
                <p:nvPr/>
              </p:nvSpPr>
              <p:spPr>
                <a:xfrm>
                  <a:off x="5204880" y="4931640"/>
                  <a:ext cx="1909440" cy="53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03" name="Group 32"/>
              <p:cNvGrpSpPr/>
              <p:nvPr/>
            </p:nvGrpSpPr>
            <p:grpSpPr>
              <a:xfrm>
                <a:off x="3238200" y="5470200"/>
                <a:ext cx="1966680" cy="538200"/>
                <a:chOff x="3238200" y="5470200"/>
                <a:chExt cx="1966680" cy="538200"/>
              </a:xfrm>
            </p:grpSpPr>
            <p:sp>
              <p:nvSpPr>
                <p:cNvPr id="204" name="Rectangle 33"/>
                <p:cNvSpPr/>
                <p:nvPr/>
              </p:nvSpPr>
              <p:spPr>
                <a:xfrm>
                  <a:off x="3304440" y="5470200"/>
                  <a:ext cx="1830960" cy="53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4111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معمار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111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Rectangle 34"/>
                <p:cNvSpPr/>
                <p:nvPr/>
              </p:nvSpPr>
              <p:spPr>
                <a:xfrm>
                  <a:off x="3238200" y="5470200"/>
                  <a:ext cx="1966680" cy="53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06" name="Group 35"/>
              <p:cNvGrpSpPr/>
              <p:nvPr/>
            </p:nvGrpSpPr>
            <p:grpSpPr>
              <a:xfrm>
                <a:off x="5204880" y="5470200"/>
                <a:ext cx="1909440" cy="538200"/>
                <a:chOff x="5204880" y="5470200"/>
                <a:chExt cx="1909440" cy="538200"/>
              </a:xfrm>
            </p:grpSpPr>
            <p:sp>
              <p:nvSpPr>
                <p:cNvPr id="207" name="Rectangle 36"/>
                <p:cNvSpPr/>
                <p:nvPr/>
              </p:nvSpPr>
              <p:spPr>
                <a:xfrm>
                  <a:off x="5271120" y="5470200"/>
                  <a:ext cx="1773720" cy="53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4111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تحليل معماري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، ..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111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Rectangle 37"/>
                <p:cNvSpPr/>
                <p:nvPr/>
              </p:nvSpPr>
              <p:spPr>
                <a:xfrm>
                  <a:off x="5204880" y="5470200"/>
                  <a:ext cx="1909440" cy="53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9" name="Line 38"/>
            <p:cNvSpPr/>
            <p:nvPr/>
          </p:nvSpPr>
          <p:spPr>
            <a:xfrm flipV="1">
              <a:off x="2323800" y="4262400"/>
              <a:ext cx="11426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Line 39"/>
            <p:cNvSpPr/>
            <p:nvPr/>
          </p:nvSpPr>
          <p:spPr>
            <a:xfrm>
              <a:off x="2314440" y="4754520"/>
              <a:ext cx="114264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Line 40"/>
            <p:cNvSpPr/>
            <p:nvPr/>
          </p:nvSpPr>
          <p:spPr>
            <a:xfrm>
              <a:off x="2533320" y="5462640"/>
              <a:ext cx="1257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Line 41"/>
            <p:cNvSpPr/>
            <p:nvPr/>
          </p:nvSpPr>
          <p:spPr>
            <a:xfrm flipV="1">
              <a:off x="2543040" y="4719240"/>
              <a:ext cx="1142640" cy="72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Line 42"/>
            <p:cNvSpPr/>
            <p:nvPr/>
          </p:nvSpPr>
          <p:spPr>
            <a:xfrm>
              <a:off x="2543040" y="4110120"/>
              <a:ext cx="110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Rectangle 43"/>
            <p:cNvSpPr/>
            <p:nvPr/>
          </p:nvSpPr>
          <p:spPr>
            <a:xfrm>
              <a:off x="1552320" y="3881520"/>
              <a:ext cx="96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411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cc3300"/>
                  </a:solidFill>
                  <a:latin typeface="Times New Roman"/>
                  <a:cs typeface="Nazanin"/>
                </a:rPr>
                <a:t>احمد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Rectangle 44"/>
            <p:cNvSpPr/>
            <p:nvPr/>
          </p:nvSpPr>
          <p:spPr>
            <a:xfrm>
              <a:off x="1476360" y="4567320"/>
              <a:ext cx="96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411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cc3300"/>
                  </a:solidFill>
                  <a:latin typeface="Times New Roman"/>
                  <a:cs typeface="Nazanin"/>
                </a:rPr>
                <a:t>علي</a:t>
              </a:r>
              <a:r>
                <a:rPr b="1" lang="en-US" sz="1800" spc="-1" strike="noStrike">
                  <a:solidFill>
                    <a:srgbClr val="cc3300"/>
                  </a:solidFill>
                  <a:latin typeface="Times New Roman"/>
                  <a:ea typeface="Nazani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Rectangle 45"/>
            <p:cNvSpPr/>
            <p:nvPr/>
          </p:nvSpPr>
          <p:spPr>
            <a:xfrm>
              <a:off x="1476360" y="5329080"/>
              <a:ext cx="96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411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cc3300"/>
                  </a:solidFill>
                  <a:latin typeface="Times New Roman"/>
                  <a:cs typeface="Nazanin"/>
                </a:rPr>
                <a:t>جواد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" name="Text Box 46"/>
          <p:cNvSpPr/>
          <p:nvPr/>
        </p:nvSpPr>
        <p:spPr>
          <a:xfrm>
            <a:off x="3276720" y="614052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نگاشت نيروي انساني به نقش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ه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F2B5-9AD8-47EF-B4AC-5EB8F905B62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عاليت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ها (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Activities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lnSpc>
                <a:spcPct val="12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كارهايي كه يك نقش بايد انجام دهد به صورت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فعاليت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بيان م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شون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12120" indent="-312120" algn="r" rtl="1">
              <a:lnSpc>
                <a:spcPct val="12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يك فعاليت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 algn="r" rtl="1">
              <a:lnSpc>
                <a:spcPct val="12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داراي هدف روشني است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 algn="r" rtl="1">
              <a:lnSpc>
                <a:spcPct val="12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تنها به يك نقش انتساب مي‌شو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 algn="r" rtl="1">
              <a:lnSpc>
                <a:spcPct val="12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بر يك فرآورده (يا مجموعه كوچكي از فرآورده‌ها) اثر مي‌گذار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 algn="r" rtl="1">
              <a:lnSpc>
                <a:spcPct val="12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مدت زماني انجام فعاليت: چند ساعت تا چند روز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 algn="r" rtl="1">
              <a:lnSpc>
                <a:spcPct val="12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در برنامه‌ريزي و زمانبندي 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واحد انجام كار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4612-7460-44CF-B008-7332E28E60B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عاليت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ها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ثال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يي از فعاليت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05600" indent="-27144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يافتن موارد كاربري و عامل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 بوسيله تحليلگر سيستم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05600" indent="-27144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بازبيني طراحي بوسيله بازبين كننده طراحي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25800" indent="-32580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گام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ي فعاليت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05600" indent="0" algn="r" rtl="1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) انديشيدن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05600" indent="0" algn="r" rtl="1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) اجرا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05600" indent="0" algn="r" rtl="1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3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) بازبيني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77C0-3A51-45A3-8453-35CBB0298B0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عاليت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ها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1827360" y="5759280"/>
            <a:ext cx="6632280" cy="559080"/>
          </a:xfrm>
          <a:prstGeom prst="rect">
            <a:avLst/>
          </a:prstGeom>
          <a:solidFill>
            <a:srgbClr val="c6a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1827360" y="4157640"/>
            <a:ext cx="6632280" cy="1511280"/>
          </a:xfrm>
          <a:prstGeom prst="rect">
            <a:avLst/>
          </a:prstGeom>
          <a:solidFill>
            <a:srgbClr val="e8b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1827360" y="2382840"/>
            <a:ext cx="6632280" cy="1701720"/>
          </a:xfrm>
          <a:prstGeom prst="rect">
            <a:avLst/>
          </a:prstGeom>
          <a:solidFill>
            <a:srgbClr val="ffd4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304920" y="1557360"/>
            <a:ext cx="8153280" cy="63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Nazanin"/>
              </a:rPr>
              <a:t>مثال: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Nazanin"/>
              </a:rPr>
              <a:t>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Times New Roman"/>
                <a:cs typeface="Nazanin"/>
              </a:rPr>
              <a:t>فعاليت: موارد كاربري و عوامل مربوطه را بيابيد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Nazani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r" rtl="1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r" rtl="1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b4eb5"/>
                </a:solidFill>
                <a:latin typeface="Times New Roman"/>
                <a:ea typeface="Nazanin"/>
              </a:rPr>
              <a:t>1</a:t>
            </a:r>
            <a:r>
              <a:rPr b="1" lang="ar-SA" sz="2800" spc="-1" strike="noStrike">
                <a:solidFill>
                  <a:srgbClr val="4b4eb5"/>
                </a:solidFill>
                <a:latin typeface="Times New Roman"/>
                <a:ea typeface="Nazanin"/>
              </a:rPr>
              <a:t>) عوامل را پيدا كنيد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r" rtl="1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b4eb5"/>
                </a:solidFill>
                <a:latin typeface="Times New Roman"/>
                <a:ea typeface="Nazanin"/>
              </a:rPr>
              <a:t>2</a:t>
            </a:r>
            <a:r>
              <a:rPr b="1" lang="ar-SA" sz="2800" spc="-1" strike="noStrike">
                <a:solidFill>
                  <a:srgbClr val="4b4eb5"/>
                </a:solidFill>
                <a:latin typeface="Times New Roman"/>
                <a:ea typeface="Nazanin"/>
              </a:rPr>
              <a:t>) موارد كاربري را پيدا كنيد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r" rtl="1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b4eb5"/>
                </a:solidFill>
                <a:latin typeface="Times New Roman"/>
                <a:ea typeface="Nazanin"/>
              </a:rPr>
              <a:t>3</a:t>
            </a:r>
            <a:r>
              <a:rPr b="1" lang="ar-SA" sz="2800" spc="-1" strike="noStrike">
                <a:solidFill>
                  <a:srgbClr val="4b4eb5"/>
                </a:solidFill>
                <a:latin typeface="Times New Roman"/>
                <a:ea typeface="Nazanin"/>
              </a:rPr>
              <a:t>) نحوه ارتباط عوامل با موارد كاربري را توصيف نماييد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r" rtl="1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  <a:ea typeface="Nazanin"/>
              </a:rPr>
              <a:t>4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  <a:ea typeface="Nazanin"/>
              </a:rPr>
              <a:t>) موارد كاربري و عوامل را با هم بسته</a:t>
            </a:r>
            <a:r>
              <a:rPr b="1" lang="fa-IR" sz="2800" spc="-1" strike="noStrike">
                <a:solidFill>
                  <a:srgbClr val="000099"/>
                </a:solidFill>
                <a:latin typeface="Times New Roman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  <a:cs typeface="Nazanin"/>
              </a:rPr>
              <a:t>بندي نماييد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r" rtl="1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  <a:ea typeface="Nazanin"/>
              </a:rPr>
              <a:t>5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  <a:ea typeface="Nazanin"/>
              </a:rPr>
              <a:t>) نمودار موارد كاربري را ايجاد كني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r" rtl="1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  <a:ea typeface="Nazanin"/>
              </a:rPr>
              <a:t>6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  <a:ea typeface="Nazanin"/>
              </a:rPr>
              <a:t>) مدل موارد كاربري را مستند سازيد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r" rtl="1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7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) نتاي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ج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 را ارزيابي نماييد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0" name="Group 17"/>
          <p:cNvGrpSpPr/>
          <p:nvPr/>
        </p:nvGrpSpPr>
        <p:grpSpPr>
          <a:xfrm>
            <a:off x="95400" y="2852640"/>
            <a:ext cx="1668240" cy="825480"/>
            <a:chOff x="95400" y="2852640"/>
            <a:chExt cx="1668240" cy="825480"/>
          </a:xfrm>
        </p:grpSpPr>
        <p:sp>
          <p:nvSpPr>
            <p:cNvPr id="231" name="AutoShape 9"/>
            <p:cNvSpPr/>
            <p:nvPr/>
          </p:nvSpPr>
          <p:spPr>
            <a:xfrm>
              <a:off x="1230480" y="2879640"/>
              <a:ext cx="533160" cy="486000"/>
            </a:xfrm>
            <a:prstGeom prst="leftArrow">
              <a:avLst>
                <a:gd name="adj1" fmla="val 71241"/>
                <a:gd name="adj2" fmla="val 53480"/>
              </a:avLst>
            </a:prstGeom>
            <a:gradFill rotWithShape="0">
              <a:gsLst>
                <a:gs pos="0">
                  <a:srgbClr val="6b5700"/>
                </a:gs>
                <a:gs pos="100000">
                  <a:srgbClr val="e8b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Text Box 10"/>
            <p:cNvSpPr/>
            <p:nvPr/>
          </p:nvSpPr>
          <p:spPr>
            <a:xfrm>
              <a:off x="95400" y="2852640"/>
              <a:ext cx="104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99"/>
                  </a:solidFill>
                  <a:latin typeface="Times New Roman"/>
                  <a:cs typeface="Nazanin"/>
                </a:rPr>
                <a:t>انديشيدن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3" name="Group 18"/>
          <p:cNvGrpSpPr/>
          <p:nvPr/>
        </p:nvGrpSpPr>
        <p:grpSpPr>
          <a:xfrm>
            <a:off x="324000" y="4606920"/>
            <a:ext cx="1428480" cy="485640"/>
            <a:chOff x="324000" y="4606920"/>
            <a:chExt cx="1428480" cy="485640"/>
          </a:xfrm>
        </p:grpSpPr>
        <p:sp>
          <p:nvSpPr>
            <p:cNvPr id="234" name="Text Box 12"/>
            <p:cNvSpPr/>
            <p:nvPr/>
          </p:nvSpPr>
          <p:spPr>
            <a:xfrm>
              <a:off x="324000" y="4606920"/>
              <a:ext cx="9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99"/>
                  </a:solidFill>
                  <a:latin typeface="Times New Roman"/>
                  <a:cs typeface="Nazanin"/>
                </a:rPr>
                <a:t>اجرا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AutoShape 13"/>
            <p:cNvSpPr/>
            <p:nvPr/>
          </p:nvSpPr>
          <p:spPr>
            <a:xfrm>
              <a:off x="1219320" y="4606920"/>
              <a:ext cx="533160" cy="485640"/>
            </a:xfrm>
            <a:prstGeom prst="leftArrow">
              <a:avLst>
                <a:gd name="adj1" fmla="val 71241"/>
                <a:gd name="adj2" fmla="val 53520"/>
              </a:avLst>
            </a:prstGeom>
            <a:gradFill rotWithShape="0">
              <a:gsLst>
                <a:gs pos="0">
                  <a:srgbClr val="6b5700"/>
                </a:gs>
                <a:gs pos="100000">
                  <a:srgbClr val="e8b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6" name="Group 19"/>
          <p:cNvGrpSpPr/>
          <p:nvPr/>
        </p:nvGrpSpPr>
        <p:grpSpPr>
          <a:xfrm>
            <a:off x="250920" y="5759280"/>
            <a:ext cx="1501560" cy="825480"/>
            <a:chOff x="250920" y="5759280"/>
            <a:chExt cx="1501560" cy="825480"/>
          </a:xfrm>
        </p:grpSpPr>
        <p:sp>
          <p:nvSpPr>
            <p:cNvPr id="237" name="Text Box 15"/>
            <p:cNvSpPr/>
            <p:nvPr/>
          </p:nvSpPr>
          <p:spPr>
            <a:xfrm>
              <a:off x="250920" y="5759280"/>
              <a:ext cx="934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99"/>
                  </a:solidFill>
                  <a:latin typeface="Times New Roman"/>
                  <a:cs typeface="Nazanin"/>
                </a:rPr>
                <a:t>بازبيني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AutoShape 16"/>
            <p:cNvSpPr/>
            <p:nvPr/>
          </p:nvSpPr>
          <p:spPr>
            <a:xfrm>
              <a:off x="1219320" y="5759280"/>
              <a:ext cx="533160" cy="486000"/>
            </a:xfrm>
            <a:prstGeom prst="leftArrow">
              <a:avLst>
                <a:gd name="adj1" fmla="val 71241"/>
                <a:gd name="adj2" fmla="val 53480"/>
              </a:avLst>
            </a:prstGeom>
            <a:gradFill rotWithShape="0">
              <a:gsLst>
                <a:gs pos="0">
                  <a:srgbClr val="6b5700"/>
                </a:gs>
                <a:gs pos="100000">
                  <a:srgbClr val="e8b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C3C3-0F5D-4699-A018-CD4CCEA6D14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رآورده‌ها (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Artifacts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حصولاتي (يا قطعات اطلاعاتي) كه در طي فرآيند توليد نرم‌افزار،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ايجاد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،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استفاده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يا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به‌روز‌رساني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مي‌شوند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08520" indent="-30852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فرآورده‌ها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668520" indent="-25704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خروجي قابل لمس فرآيند توليد را تشكيل مي‌دهند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668520" indent="-25704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ورودي و خروجي فعاليت‌ها هستن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668520" indent="-25704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تنها يك مسئول(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Owner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) دارند، ولي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668520" indent="-25704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استفاده‌كنندگان مختلفي مي‌توانند داشته باشن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1EBF-14DF-4E2C-A06D-71DA531CB8A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رآورده‌ها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نمونه‌هايي از فرآورده‌ها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مدل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: مدل موارد كاربري، مدل طراحي و...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عناصر مدل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: كلاس ها، موارد كاربري، زير سيستم ها و..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مستندات، كد منبع، فايل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ي كتابخانه‌ا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(مانند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LL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)، مولفه‌هاي اجرائ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(مانند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OCX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)، فايل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ي اجرايي و...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611280" y="2709720"/>
            <a:ext cx="7632720" cy="1440000"/>
          </a:xfrm>
          <a:prstGeom prst="rect">
            <a:avLst/>
          </a:prstGeom>
          <a:solidFill>
            <a:srgbClr val="ffd4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در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RUP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 فرآورده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Lotus"/>
              </a:rPr>
              <a:t>‌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ها الزاما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ً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 يك مستند كاغذي نيستن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D2FC-6518-47A7-8683-9108641EB97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رآورده‌ها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12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ر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RUP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فرآورده‌ها در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9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مجموعه ذيل طبقه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بندي م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شوند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0" algn="r" rtl="1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ar-SA" sz="2600" spc="-1" strike="noStrike">
                <a:solidFill>
                  <a:srgbClr val="000066"/>
                </a:solidFill>
                <a:latin typeface="Times New Roman"/>
              </a:rPr>
              <a:t>) مجموعه مدلسازي </a:t>
            </a:r>
            <a:r>
              <a:rPr b="1" lang="fa-IR" sz="2600" spc="-1" strike="noStrike">
                <a:solidFill>
                  <a:srgbClr val="000066"/>
                </a:solidFill>
                <a:latin typeface="Times New Roman"/>
              </a:rPr>
              <a:t>حرفه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2" marL="1017000" indent="-203400" algn="r" rtl="1">
              <a:lnSpc>
                <a:spcPct val="12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ff"/>
                </a:solidFill>
                <a:latin typeface="Times New Roman"/>
              </a:rPr>
              <a:t>مدل موارد كاربري حرفه</a:t>
            </a:r>
            <a:r>
              <a:rPr b="1" lang="fa-IR" sz="22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Business Use Case Model</a:t>
            </a:r>
            <a:r>
              <a:rPr b="1" lang="fa-IR" sz="2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2" marL="1017000" indent="-203400" algn="r" rtl="1">
              <a:lnSpc>
                <a:spcPct val="12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ff"/>
                </a:solidFill>
                <a:latin typeface="Times New Roman"/>
              </a:rPr>
              <a:t>مستند معماري حرفه</a:t>
            </a:r>
            <a:r>
              <a:rPr b="1" lang="fa-IR" sz="22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Business Architecture Document</a:t>
            </a:r>
            <a:r>
              <a:rPr b="1" lang="fa-IR" sz="2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2" marL="1017000" indent="-203400" algn="r" rtl="1">
              <a:lnSpc>
                <a:spcPct val="12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ff"/>
                </a:solidFill>
                <a:latin typeface="Times New Roman"/>
              </a:rPr>
              <a:t>مستند دورنماي حرفه</a:t>
            </a:r>
            <a:r>
              <a:rPr b="1" lang="fa-IR" sz="22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Business Vision Document</a:t>
            </a:r>
            <a:r>
              <a:rPr b="1" lang="fa-IR" sz="2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0" algn="r" rtl="1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ar-SA" sz="2600" spc="-1" strike="noStrike">
                <a:solidFill>
                  <a:srgbClr val="000066"/>
                </a:solidFill>
                <a:latin typeface="Times New Roman"/>
              </a:rPr>
              <a:t>) مجموعه نيازمندي</a:t>
            </a:r>
            <a:r>
              <a:rPr b="1" lang="fa-IR" sz="26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66"/>
                </a:solidFill>
                <a:latin typeface="Times New Roman"/>
              </a:rPr>
              <a:t>ها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2" marL="1017000" indent="-203400" algn="r" rtl="1">
              <a:lnSpc>
                <a:spcPct val="12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ff"/>
                </a:solidFill>
                <a:latin typeface="Times New Roman"/>
              </a:rPr>
              <a:t>مستند دورنما</a:t>
            </a:r>
            <a:r>
              <a:rPr b="1" lang="fa-IR" sz="22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Vision Document</a:t>
            </a:r>
            <a:r>
              <a:rPr b="1" lang="fa-IR" sz="2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2" marL="1017000" indent="-203400" algn="r" rtl="1">
              <a:lnSpc>
                <a:spcPct val="12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ff"/>
                </a:solidFill>
                <a:latin typeface="Times New Roman"/>
              </a:rPr>
              <a:t>نيازمنديها: نيازهاي ذينفعان، مدل موارد كاربري و مشخصات تكميلي(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Supplementary Specification</a:t>
            </a:r>
            <a:r>
              <a:rPr b="1" lang="fa-IR" sz="2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2" marL="1017000" indent="-203400" algn="r" rtl="1">
              <a:lnSpc>
                <a:spcPct val="12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ff"/>
                </a:solidFill>
                <a:latin typeface="Times New Roman"/>
              </a:rPr>
              <a:t>برنامه مديريت نيازمندي</a:t>
            </a:r>
            <a:r>
              <a:rPr b="1" lang="fa-IR" sz="22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200" spc="-1" strike="noStrike">
                <a:solidFill>
                  <a:srgbClr val="0000ff"/>
                </a:solidFill>
                <a:latin typeface="Times New Roman"/>
              </a:rPr>
              <a:t>ها 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AEA4-7A6F-48A1-953A-3F1565A16AD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رآورده‌ها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r" rtl="1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ar-SA" sz="3000" spc="-1" strike="noStrike">
                <a:solidFill>
                  <a:srgbClr val="000066"/>
                </a:solidFill>
                <a:latin typeface="Times New Roman"/>
              </a:rPr>
              <a:t>) مجموعه تحليل و طراحي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2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مدل تحليل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Analysis Model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2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مستند معماري نرم‌افزار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Software Architecture Document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2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مدل طراحي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Design Model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2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مدل استقرار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Deployment Model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0" algn="r" rtl="1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Times New Roman"/>
              </a:rPr>
              <a:t>4</a:t>
            </a:r>
            <a:r>
              <a:rPr b="1" lang="ar-SA" sz="3000" spc="-1" strike="noStrike">
                <a:solidFill>
                  <a:srgbClr val="000066"/>
                </a:solidFill>
                <a:latin typeface="Times New Roman"/>
              </a:rPr>
              <a:t>) مجموعه پياده</a:t>
            </a:r>
            <a:r>
              <a:rPr b="1" lang="fa-IR" sz="30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66"/>
                </a:solidFill>
                <a:latin typeface="Times New Roman"/>
              </a:rPr>
              <a:t>سازي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2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كد منبع و فايل‌هاي اجرائي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2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فايل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هاي داده‌اي مورد نياز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4C97-F460-4000-89A5-4CAB48A9BEB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رآورده‌ها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Times New Roman"/>
              </a:rPr>
              <a:t>5</a:t>
            </a:r>
            <a:r>
              <a:rPr b="1" lang="ar-SA" sz="3000" spc="-1" strike="noStrike">
                <a:solidFill>
                  <a:srgbClr val="000066"/>
                </a:solidFill>
                <a:latin typeface="Times New Roman"/>
              </a:rPr>
              <a:t>) مجموعه آزمايش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برنامه آزمايش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Test Plan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روال آزمايش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Test Procedure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مدل آزمايش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Test Model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داده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هاي آزمايش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Test Case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ar-SA" sz="3000" spc="-1" strike="noStrike">
                <a:solidFill>
                  <a:srgbClr val="000066"/>
                </a:solidFill>
                <a:latin typeface="Times New Roman"/>
              </a:rPr>
              <a:t>) مجموعه استقرار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برنامه استقرار 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محصول نهائي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مستندات كاربر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مواد آموزشي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Training Materials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C74A-B8E4-42F6-B9BE-7FB4E18E834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رآورده‌ها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r" rtl="1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Times New Roman"/>
              </a:rPr>
              <a:t>7</a:t>
            </a:r>
            <a:r>
              <a:rPr b="1" lang="ar-SA" sz="3000" spc="-1" strike="noStrike">
                <a:solidFill>
                  <a:srgbClr val="000066"/>
                </a:solidFill>
                <a:latin typeface="Times New Roman"/>
              </a:rPr>
              <a:t>) مجموعه مديريت پيكربندي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683280" indent="-262800" algn="r" rtl="1">
              <a:lnSpc>
                <a:spcPct val="12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برنامه مديريت پيكربندي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Configuration Management Plan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683280" indent="-262800" algn="r" rtl="1">
              <a:lnSpc>
                <a:spcPct val="12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مستند درخواست تغيير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Change Request Document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15360" indent="0" algn="r" rtl="1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Times New Roman"/>
              </a:rPr>
              <a:t>8</a:t>
            </a:r>
            <a:r>
              <a:rPr b="1" lang="ar-SA" sz="3000" spc="-1" strike="noStrike">
                <a:solidFill>
                  <a:srgbClr val="000066"/>
                </a:solidFill>
                <a:latin typeface="Times New Roman"/>
              </a:rPr>
              <a:t>) مجموعه مديريت پروژه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683280" indent="-262800" algn="r" rtl="1">
              <a:lnSpc>
                <a:spcPct val="12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فرآورده‌هاي برنامه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ريزي: برنامه توسعه نرم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افزار، نقشه تكرار،  فهرست ريسك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ها و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مورد 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حرفه</a:t>
            </a: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Business Case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683280" indent="-262800" algn="r" rtl="1">
              <a:lnSpc>
                <a:spcPct val="12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فرآورده‌هاي عملكردي مانند توصيف نشرها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683280" indent="0" algn="r" rtl="1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  (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Release Description</a:t>
            </a: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)، تشخيص وضعيت پروژه،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...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5C13-FCD1-438A-8D71-718F33261A3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هداف جلسه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آشنائي با بعد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ايستا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و مولفه‌هاي آن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آشنائي با بعد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پويا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و مولفه‌هاي آن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آشنائي با فازهاي چهارگانه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و هدف، فرآورده‌هاي اصلي، فعاليت</a:t>
            </a:r>
            <a:r>
              <a:rPr b="1" lang="fa-IR" sz="30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هاي اساسي و فرسنگ‌شمار هر فاز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70D2-9E24-4EA1-86B5-53EABEF5911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رآورده‌ها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9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) مجموعه محيط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vironment Set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مورد توسعه 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Development Case</a:t>
            </a:r>
            <a:r>
              <a:rPr b="1" lang="fa-IR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راهنمائي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هاي مدلسازي 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حرفه</a:t>
            </a: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راهنمائي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هاي طراحي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61" name="Picture 4" descr="fig5"/>
          <p:cNvPicPr/>
          <p:nvPr/>
        </p:nvPicPr>
        <p:blipFill>
          <a:blip r:embed="rId1">
            <a:grayscl/>
          </a:blip>
          <a:stretch/>
        </p:blipFill>
        <p:spPr>
          <a:xfrm>
            <a:off x="2050920" y="3716280"/>
            <a:ext cx="4610160" cy="24116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5"/>
          <p:cNvSpPr/>
          <p:nvPr/>
        </p:nvSpPr>
        <p:spPr>
          <a:xfrm>
            <a:off x="1476360" y="614052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  <a:cs typeface="Nazanin"/>
              </a:rPr>
              <a:t>رشد مجموعه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  <a:cs typeface="Nazanin"/>
              </a:rPr>
              <a:t>هاي فرآورده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  <a:cs typeface="Nazanin"/>
              </a:rPr>
              <a:t>ها در طي چهار فاز توليد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4833-1834-4BD9-874D-0989AEE66D0E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ظم‌ها (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Disciplines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از مجموعه‌اي از فعاليت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ي مرتبط كه به يكي از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نواحي مهم (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Area of Concerns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)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پروژه وابسته باشن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نواحي مهم اشاره‌اي به مراحل 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كلاسيك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فرآيند توليد آبشاري را دارد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نظم‌ها طبيعت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نيمه مرتبي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دارند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C78C-1FC8-4AA8-BF16-537E657F23A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ظم‌ها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نظم‌ها به دو گروه تقسيم مي‌شون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0" algn="r" rtl="1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) نظم‌هاي فرآيند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Process Disciplines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 algn="r" rtl="1">
              <a:lnSpc>
                <a:spcPct val="14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مدل</a:t>
            </a:r>
            <a:r>
              <a:rPr b="1" lang="fa-IR" sz="22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سازي جريان كار حرفه</a:t>
            </a:r>
            <a:r>
              <a:rPr b="1" lang="fa-IR" sz="22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Business Modeling Workflow</a:t>
            </a:r>
            <a:r>
              <a:rPr b="1" lang="fa-IR" sz="2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 algn="r" rtl="1">
              <a:lnSpc>
                <a:spcPct val="14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جمع</a:t>
            </a:r>
            <a:r>
              <a:rPr b="1" lang="fa-IR" sz="22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آوري نيازمندي</a:t>
            </a:r>
            <a:r>
              <a:rPr b="1" lang="fa-IR" sz="22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ها 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 algn="r" rtl="1">
              <a:lnSpc>
                <a:spcPct val="14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تحليل و طراحي 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 algn="r" rtl="1">
              <a:lnSpc>
                <a:spcPct val="14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پياده</a:t>
            </a:r>
            <a:r>
              <a:rPr b="1" lang="fa-IR" sz="22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سازي 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 algn="r" rtl="1">
              <a:lnSpc>
                <a:spcPct val="14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آزمايش 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 algn="r" rtl="1">
              <a:lnSpc>
                <a:spcPct val="14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استقرار 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1A70-9C5C-4213-AA0E-7EF2616619D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ظم‌ها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) نظم‌هاي پشتيبان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upport Disciplines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مديريت پروژه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مديريت پيكربندي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محيط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Environment Discipline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3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900000" y="2924280"/>
            <a:ext cx="7391520" cy="1368360"/>
          </a:xfrm>
          <a:prstGeom prst="rect">
            <a:avLst/>
          </a:prstGeom>
          <a:solidFill>
            <a:srgbClr val="ffe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هر نظم با يك گردش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Homa"/>
              </a:rPr>
              <a:t>‌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كار (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Workflow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) نمايش داده مي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3A9F-1922-476A-ADA6-5FC578F060A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گردش‌كار‌ها (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Workflows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توالي مجموعه‌اي از فعاليت‌ها كه نتيجه با ارزشي در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‌پ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‌دارن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ر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RUP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براي نمايش گردش‌كار يك نظم از نمودارهاي فعاليت (در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UML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) استفاده م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شو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7F03-53C2-402E-867B-C7AE2E925C9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گردش‌كار‌ها (ادام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78" name="Picture 4" descr="Req Workflow"/>
          <p:cNvPicPr/>
          <p:nvPr/>
        </p:nvPicPr>
        <p:blipFill>
          <a:blip r:embed="rId1"/>
          <a:stretch/>
        </p:blipFill>
        <p:spPr>
          <a:xfrm>
            <a:off x="1905120" y="1614600"/>
            <a:ext cx="4857480" cy="4971960"/>
          </a:xfrm>
          <a:prstGeom prst="rect">
            <a:avLst/>
          </a:prstGeom>
          <a:ln w="0">
            <a:noFill/>
          </a:ln>
        </p:spPr>
      </p:pic>
      <p:sp>
        <p:nvSpPr>
          <p:cNvPr id="279" name="Line 5"/>
          <p:cNvSpPr/>
          <p:nvPr/>
        </p:nvSpPr>
        <p:spPr>
          <a:xfrm>
            <a:off x="2133720" y="1785960"/>
            <a:ext cx="175248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1219320" y="15573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b4eb5"/>
                </a:solidFill>
                <a:latin typeface="Times New Roman"/>
                <a:cs typeface="Nazanin"/>
              </a:rPr>
              <a:t>شرو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Line 7"/>
          <p:cNvSpPr/>
          <p:nvPr/>
        </p:nvSpPr>
        <p:spPr>
          <a:xfrm>
            <a:off x="2438280" y="6383160"/>
            <a:ext cx="175284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1523880" y="6129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b4eb5"/>
                </a:solidFill>
                <a:latin typeface="Times New Roman"/>
                <a:cs typeface="Nazanin"/>
              </a:rPr>
              <a:t>پايا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Line 9"/>
          <p:cNvSpPr/>
          <p:nvPr/>
        </p:nvSpPr>
        <p:spPr>
          <a:xfrm flipV="1">
            <a:off x="2133720" y="2356920"/>
            <a:ext cx="1752480" cy="30492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Text Box 10"/>
          <p:cNvSpPr/>
          <p:nvPr/>
        </p:nvSpPr>
        <p:spPr>
          <a:xfrm>
            <a:off x="609480" y="247176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b4eb5"/>
                </a:solidFill>
                <a:latin typeface="Times New Roman"/>
                <a:cs typeface="Nazanin"/>
              </a:rPr>
              <a:t>تصميم</a:t>
            </a:r>
            <a:r>
              <a:rPr b="1" lang="ar-SA" sz="2400" spc="-1" strike="noStrike">
                <a:solidFill>
                  <a:srgbClr val="4b4eb5"/>
                </a:solidFill>
                <a:latin typeface="Times New Roman"/>
                <a:ea typeface="Homa"/>
              </a:rPr>
              <a:t>‌</a:t>
            </a:r>
            <a:r>
              <a:rPr b="1" lang="ar-SA" sz="2400" spc="-1" strike="noStrike">
                <a:solidFill>
                  <a:srgbClr val="4b4eb5"/>
                </a:solidFill>
                <a:latin typeface="Times New Roman"/>
                <a:cs typeface="Nazanin"/>
              </a:rPr>
              <a:t>گير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Line 11"/>
          <p:cNvSpPr/>
          <p:nvPr/>
        </p:nvSpPr>
        <p:spPr>
          <a:xfrm flipH="1">
            <a:off x="6400440" y="3081240"/>
            <a:ext cx="1676520" cy="4572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6629400" y="2090880"/>
            <a:ext cx="251460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b4eb5"/>
                </a:solidFill>
                <a:latin typeface="Times New Roman"/>
                <a:cs typeface="Nazanin"/>
              </a:rPr>
              <a:t>جزئيات</a:t>
            </a:r>
            <a:r>
              <a:rPr b="1" lang="ar-SA" sz="2400" spc="-1" strike="noStrike">
                <a:solidFill>
                  <a:srgbClr val="4b4eb5"/>
                </a:solidFill>
                <a:latin typeface="Times New Roman"/>
                <a:ea typeface="Homa"/>
              </a:rPr>
              <a:t>‌</a:t>
            </a:r>
            <a:r>
              <a:rPr b="1" lang="ar-SA" sz="2400" spc="-1" strike="noStrike">
                <a:solidFill>
                  <a:srgbClr val="4b4eb5"/>
                </a:solidFill>
                <a:latin typeface="Times New Roman"/>
                <a:ea typeface="Nazanin"/>
              </a:rPr>
              <a:t> گردش</a:t>
            </a:r>
            <a:r>
              <a:rPr b="1" lang="ar-SA" sz="2400" spc="-1" strike="noStrike">
                <a:solidFill>
                  <a:srgbClr val="4b4eb5"/>
                </a:solidFill>
                <a:latin typeface="Times New Roman"/>
                <a:ea typeface="Homa"/>
              </a:rPr>
              <a:t>‌</a:t>
            </a:r>
            <a:r>
              <a:rPr b="1" lang="ar-SA" sz="2400" spc="-1" strike="noStrike">
                <a:solidFill>
                  <a:srgbClr val="4b4eb5"/>
                </a:solidFill>
                <a:latin typeface="Times New Roman"/>
                <a:cs typeface="Nazanin"/>
              </a:rPr>
              <a:t>كا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3300"/>
                </a:solidFill>
                <a:latin typeface="Times New Roman"/>
                <a:ea typeface="Nazanin"/>
              </a:rPr>
              <a:t>(</a:t>
            </a:r>
            <a:r>
              <a:rPr b="1" i="1" lang="en-US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Workflow Details</a:t>
            </a:r>
            <a:r>
              <a:rPr b="1" lang="ar-SA" sz="2000" spc="-1" strike="noStrike">
                <a:solidFill>
                  <a:srgbClr val="cc3300"/>
                </a:solidFill>
                <a:latin typeface="Times New Roman"/>
                <a:ea typeface="Nazani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Line 13"/>
          <p:cNvSpPr/>
          <p:nvPr/>
        </p:nvSpPr>
        <p:spPr>
          <a:xfrm flipH="1">
            <a:off x="6248520" y="5595840"/>
            <a:ext cx="761760" cy="3812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6095880" y="4529160"/>
            <a:ext cx="289584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b4eb5"/>
                </a:solidFill>
                <a:latin typeface="Times New Roman"/>
                <a:cs typeface="Nazanin"/>
              </a:rPr>
              <a:t>سطح هماهنگ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3300"/>
                </a:solidFill>
                <a:latin typeface="Times New Roman"/>
                <a:ea typeface="Nazanin"/>
              </a:rPr>
              <a:t>(</a:t>
            </a:r>
            <a:r>
              <a:rPr b="1" i="1" lang="en-US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Synchronization Bar</a:t>
            </a:r>
            <a:r>
              <a:rPr b="1" lang="ar-SA" sz="2000" spc="-1" strike="noStrike">
                <a:solidFill>
                  <a:srgbClr val="cc3300"/>
                </a:solidFill>
                <a:latin typeface="Times New Roman"/>
                <a:ea typeface="Nazani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Line 15"/>
          <p:cNvSpPr/>
          <p:nvPr/>
        </p:nvSpPr>
        <p:spPr>
          <a:xfrm flipV="1">
            <a:off x="1676520" y="3462120"/>
            <a:ext cx="1600200" cy="60948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Line 16"/>
          <p:cNvSpPr/>
          <p:nvPr/>
        </p:nvSpPr>
        <p:spPr>
          <a:xfrm>
            <a:off x="1676520" y="4148280"/>
            <a:ext cx="1066680" cy="106668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152280" y="384336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b4eb5"/>
                </a:solidFill>
                <a:latin typeface="Times New Roman"/>
                <a:cs typeface="Nazanin"/>
              </a:rPr>
              <a:t>جمله</a:t>
            </a:r>
            <a:r>
              <a:rPr b="1" lang="ar-SA" sz="2400" spc="-1" strike="noStrike">
                <a:solidFill>
                  <a:srgbClr val="4b4eb5"/>
                </a:solidFill>
                <a:latin typeface="Times New Roman"/>
                <a:ea typeface="Homa"/>
              </a:rPr>
              <a:t>‌</a:t>
            </a:r>
            <a:r>
              <a:rPr b="1" lang="ar-SA" sz="2400" spc="-1" strike="noStrike">
                <a:solidFill>
                  <a:srgbClr val="4b4eb5"/>
                </a:solidFill>
                <a:latin typeface="Times New Roman"/>
                <a:cs typeface="Nazanin"/>
              </a:rPr>
              <a:t>هاي شرط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F805-A49D-45B1-A09D-5017A677310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جزئيات گردش‌كار‌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جموعه‌اي از فعاليت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 كه معمولاً با يكديگر انجام مي‌شون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جريان اطلاعات و نحوه ارتباط فعاليت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 بوسيله فرآورده‌هاي متفاوت را نمايش م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ه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4DCC-1898-4894-96DA-171A5EC879C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جزئيات گردش‌كار‌ها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97" name="Picture 4" descr="Workflow Details-1"/>
          <p:cNvPicPr/>
          <p:nvPr/>
        </p:nvPicPr>
        <p:blipFill>
          <a:blip r:embed="rId1"/>
          <a:stretch/>
        </p:blipFill>
        <p:spPr>
          <a:xfrm>
            <a:off x="1981080" y="1776240"/>
            <a:ext cx="5715000" cy="395136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5"/>
          <p:cNvSpPr/>
          <p:nvPr/>
        </p:nvSpPr>
        <p:spPr>
          <a:xfrm>
            <a:off x="609480" y="5967360"/>
            <a:ext cx="792504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نمونه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Homa"/>
              </a:rPr>
              <a:t>‌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اي از يك جزئيات گردش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Homa"/>
              </a:rPr>
              <a:t>‌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كار مربوط به نظم جمع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آوري نيازمند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ها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Line 6"/>
          <p:cNvSpPr/>
          <p:nvPr/>
        </p:nvSpPr>
        <p:spPr>
          <a:xfrm>
            <a:off x="1752480" y="2233440"/>
            <a:ext cx="609840" cy="30492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52280" y="1700280"/>
            <a:ext cx="1752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  <a:cs typeface="Nazanin"/>
              </a:rPr>
              <a:t>به نيمه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  <a:ea typeface="Homa"/>
              </a:rPr>
              <a:t>‌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  <a:cs typeface="Nazanin"/>
              </a:rPr>
              <a:t>مرتب بودن جزئيات گردش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  <a:ea typeface="Homa"/>
              </a:rPr>
              <a:t>‌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  <a:cs typeface="Nazanin"/>
              </a:rPr>
              <a:t>كار توجه نمايي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7543-B488-4B74-B2B6-606AF09D59B0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عناصر ثانوي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RUP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ولفه‌هاي ذيل 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نيز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جز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ء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محصول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RUP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هستند: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راهنماها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Guidelines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الگوها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Templates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راهنمايي‌هاي ابزار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Tool Mentors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برخي از مفاهيم پايه: ريسك، تكرار، فرسنگ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شمار،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...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چارچوب فرآيند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Process Framework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48C3-D2BE-4C66-A08B-199CAC9130C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ساختار پوي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r" rtl="1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298440" indent="0" algn="r" rtl="1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298440" indent="0" algn="r" rtl="1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298440" indent="-298440" algn="r" rtl="1">
              <a:lnSpc>
                <a:spcPct val="11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فاز آغازين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Inception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):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محدوده پروژه را مشخص نماييد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298440" indent="-298440" algn="r" rtl="1">
              <a:lnSpc>
                <a:spcPct val="11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فاز تشريح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laboration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):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برنامه</a:t>
            </a:r>
            <a:r>
              <a:rPr b="1" lang="fa-IR" sz="30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ريزي پروژه، </a:t>
            </a:r>
            <a:r>
              <a:rPr b="1" lang="fa-IR" sz="3000" spc="-1" strike="noStrike">
                <a:solidFill>
                  <a:srgbClr val="cc3300"/>
                </a:solidFill>
                <a:latin typeface="Times New Roman"/>
              </a:rPr>
              <a:t>حصول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 معماري پايا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298440" indent="-298440" algn="r" rtl="1">
              <a:lnSpc>
                <a:spcPct val="11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فاز ساخت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struction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):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ساخت محصول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298440" indent="-298440" algn="r" rtl="1">
              <a:lnSpc>
                <a:spcPct val="11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فاز انتقال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ition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):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انتقال محصول به جامعه كاربران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668160" y="1989000"/>
            <a:ext cx="7790040" cy="568440"/>
          </a:xfrm>
          <a:prstGeom prst="rect">
            <a:avLst/>
          </a:prstGeom>
          <a:solidFill>
            <a:srgbClr val="ffd3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Line 5"/>
          <p:cNvSpPr/>
          <p:nvPr/>
        </p:nvSpPr>
        <p:spPr>
          <a:xfrm flipV="1">
            <a:off x="6477120" y="200664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1144440" y="2104920"/>
            <a:ext cx="1084320" cy="335880"/>
          </a:xfrm>
          <a:prstGeom prst="rect">
            <a:avLst/>
          </a:prstGeom>
          <a:solidFill>
            <a:srgbClr val="ffd3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Nazanin"/>
              </a:rPr>
              <a:t>Incep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2972880" y="2104920"/>
            <a:ext cx="1299240" cy="335880"/>
          </a:xfrm>
          <a:prstGeom prst="rect">
            <a:avLst/>
          </a:prstGeom>
          <a:solidFill>
            <a:srgbClr val="ffd3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Nazanin"/>
              </a:rPr>
              <a:t>Elabor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4802400" y="2104920"/>
            <a:ext cx="1443960" cy="335880"/>
          </a:xfrm>
          <a:prstGeom prst="rect">
            <a:avLst/>
          </a:prstGeom>
          <a:solidFill>
            <a:srgbClr val="ffd3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Nazanin"/>
              </a:rPr>
              <a:t>Constru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Rectangle 9"/>
          <p:cNvSpPr/>
          <p:nvPr/>
        </p:nvSpPr>
        <p:spPr>
          <a:xfrm>
            <a:off x="6935760" y="2104920"/>
            <a:ext cx="1163520" cy="335880"/>
          </a:xfrm>
          <a:prstGeom prst="rect">
            <a:avLst/>
          </a:prstGeom>
          <a:solidFill>
            <a:srgbClr val="ffd3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Nazanin"/>
              </a:rPr>
              <a:t>Transi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Line 10"/>
          <p:cNvSpPr/>
          <p:nvPr/>
        </p:nvSpPr>
        <p:spPr>
          <a:xfrm flipV="1">
            <a:off x="4572000" y="200664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Line 11"/>
          <p:cNvSpPr/>
          <p:nvPr/>
        </p:nvSpPr>
        <p:spPr>
          <a:xfrm flipV="1">
            <a:off x="2666880" y="200664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5" name="Group 12"/>
          <p:cNvGrpSpPr/>
          <p:nvPr/>
        </p:nvGrpSpPr>
        <p:grpSpPr>
          <a:xfrm>
            <a:off x="622440" y="2722680"/>
            <a:ext cx="7759440" cy="366840"/>
            <a:chOff x="622440" y="2722680"/>
            <a:chExt cx="7759440" cy="366840"/>
          </a:xfrm>
        </p:grpSpPr>
        <p:sp>
          <p:nvSpPr>
            <p:cNvPr id="316" name="Line 13"/>
            <p:cNvSpPr/>
            <p:nvPr/>
          </p:nvSpPr>
          <p:spPr>
            <a:xfrm>
              <a:off x="762120" y="2734920"/>
              <a:ext cx="761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14"/>
            <p:cNvSpPr/>
            <p:nvPr/>
          </p:nvSpPr>
          <p:spPr>
            <a:xfrm>
              <a:off x="622440" y="2722680"/>
              <a:ext cx="616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Nazani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9B6E-EFDF-4C47-9374-32FEBE7A6EE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هرست مطالب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1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قدمه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1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ساختار ايستا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1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نقش‌ها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1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فعاليت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1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فرآورده‌ها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1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نظم‌ها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1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گردش‌كارها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1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جزئيات گردش‌كارها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1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عناصر ثانوي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B585-8C38-4A56-81D3-1EC2954DBFC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ساختار پويا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نقاطي در زمان كه در آن براساس معيارهاي دقيق بايد معين نماييم كه آيا مرحله قبل موفق بوده يا نه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21" name="Group 4"/>
          <p:cNvGrpSpPr/>
          <p:nvPr/>
        </p:nvGrpSpPr>
        <p:grpSpPr>
          <a:xfrm>
            <a:off x="538920" y="3500280"/>
            <a:ext cx="8365680" cy="2386800"/>
            <a:chOff x="538920" y="3500280"/>
            <a:chExt cx="8365680" cy="2386800"/>
          </a:xfrm>
        </p:grpSpPr>
        <p:grpSp>
          <p:nvGrpSpPr>
            <p:cNvPr id="322" name="Group 5"/>
            <p:cNvGrpSpPr/>
            <p:nvPr/>
          </p:nvGrpSpPr>
          <p:grpSpPr>
            <a:xfrm>
              <a:off x="603000" y="3500280"/>
              <a:ext cx="7790040" cy="568440"/>
              <a:chOff x="603000" y="3500280"/>
              <a:chExt cx="7790040" cy="568440"/>
            </a:xfrm>
          </p:grpSpPr>
          <p:sp>
            <p:nvSpPr>
              <p:cNvPr id="323" name="Rectangle 6"/>
              <p:cNvSpPr/>
              <p:nvPr/>
            </p:nvSpPr>
            <p:spPr>
              <a:xfrm>
                <a:off x="603000" y="3500280"/>
                <a:ext cx="7790040" cy="568440"/>
              </a:xfrm>
              <a:prstGeom prst="rect">
                <a:avLst/>
              </a:prstGeom>
              <a:solidFill>
                <a:srgbClr val="ffd3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Line 7"/>
              <p:cNvSpPr/>
              <p:nvPr/>
            </p:nvSpPr>
            <p:spPr>
              <a:xfrm flipV="1">
                <a:off x="6411960" y="3517560"/>
                <a:ext cx="0" cy="533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Rectangle 8"/>
              <p:cNvSpPr/>
              <p:nvPr/>
            </p:nvSpPr>
            <p:spPr>
              <a:xfrm>
                <a:off x="1078560" y="3616200"/>
                <a:ext cx="1008000" cy="335880"/>
              </a:xfrm>
              <a:prstGeom prst="rect">
                <a:avLst/>
              </a:prstGeom>
              <a:solidFill>
                <a:srgbClr val="ffd3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nception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Rectangle 9"/>
              <p:cNvSpPr/>
              <p:nvPr/>
            </p:nvSpPr>
            <p:spPr>
              <a:xfrm>
                <a:off x="2906640" y="3616200"/>
                <a:ext cx="1224360" cy="335880"/>
              </a:xfrm>
              <a:prstGeom prst="rect">
                <a:avLst/>
              </a:prstGeom>
              <a:solidFill>
                <a:srgbClr val="ffd3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Elaboration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0"/>
              <p:cNvSpPr/>
              <p:nvPr/>
            </p:nvSpPr>
            <p:spPr>
              <a:xfrm>
                <a:off x="4736520" y="3616200"/>
                <a:ext cx="1323360" cy="335880"/>
              </a:xfrm>
              <a:prstGeom prst="rect">
                <a:avLst/>
              </a:prstGeom>
              <a:solidFill>
                <a:srgbClr val="ffd3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struction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8" name="Rectangle 11"/>
              <p:cNvSpPr/>
              <p:nvPr/>
            </p:nvSpPr>
            <p:spPr>
              <a:xfrm>
                <a:off x="6869520" y="3616200"/>
                <a:ext cx="1099440" cy="335880"/>
              </a:xfrm>
              <a:prstGeom prst="rect">
                <a:avLst/>
              </a:prstGeom>
              <a:solidFill>
                <a:srgbClr val="ffd3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ransition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9" name="Line 12"/>
              <p:cNvSpPr/>
              <p:nvPr/>
            </p:nvSpPr>
            <p:spPr>
              <a:xfrm flipV="1">
                <a:off x="4506840" y="3517560"/>
                <a:ext cx="0" cy="533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0" name="Line 13"/>
              <p:cNvSpPr/>
              <p:nvPr/>
            </p:nvSpPr>
            <p:spPr>
              <a:xfrm flipV="1">
                <a:off x="2601720" y="3517560"/>
                <a:ext cx="0" cy="533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31" name="Text Box 14"/>
            <p:cNvSpPr/>
            <p:nvPr/>
          </p:nvSpPr>
          <p:spPr>
            <a:xfrm>
              <a:off x="1991160" y="4695840"/>
              <a:ext cx="1192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fecycle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jective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ilestone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Text Box 15"/>
            <p:cNvSpPr/>
            <p:nvPr/>
          </p:nvSpPr>
          <p:spPr>
            <a:xfrm>
              <a:off x="3749760" y="4695840"/>
              <a:ext cx="1485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fecycle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chitecture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ilestone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Text Box 16"/>
            <p:cNvSpPr/>
            <p:nvPr/>
          </p:nvSpPr>
          <p:spPr>
            <a:xfrm>
              <a:off x="5352840" y="4695840"/>
              <a:ext cx="2076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ial Operational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pability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ilestone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Text Box 17"/>
            <p:cNvSpPr/>
            <p:nvPr/>
          </p:nvSpPr>
          <p:spPr>
            <a:xfrm>
              <a:off x="7877880" y="4695840"/>
              <a:ext cx="102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duct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leas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AutoShape 18"/>
            <p:cNvSpPr/>
            <p:nvPr/>
          </p:nvSpPr>
          <p:spPr>
            <a:xfrm>
              <a:off x="2406600" y="4224240"/>
              <a:ext cx="380880" cy="38124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AutoShape 19"/>
            <p:cNvSpPr/>
            <p:nvPr/>
          </p:nvSpPr>
          <p:spPr>
            <a:xfrm>
              <a:off x="4311360" y="4224240"/>
              <a:ext cx="381240" cy="38124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AutoShape 20"/>
            <p:cNvSpPr/>
            <p:nvPr/>
          </p:nvSpPr>
          <p:spPr>
            <a:xfrm>
              <a:off x="6216480" y="4224240"/>
              <a:ext cx="380880" cy="38124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AutoShape 21"/>
            <p:cNvSpPr/>
            <p:nvPr/>
          </p:nvSpPr>
          <p:spPr>
            <a:xfrm>
              <a:off x="8184960" y="4224240"/>
              <a:ext cx="381240" cy="38124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Line 22"/>
            <p:cNvSpPr/>
            <p:nvPr/>
          </p:nvSpPr>
          <p:spPr>
            <a:xfrm>
              <a:off x="590400" y="4186080"/>
              <a:ext cx="796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Rectangle 23"/>
            <p:cNvSpPr/>
            <p:nvPr/>
          </p:nvSpPr>
          <p:spPr>
            <a:xfrm>
              <a:off x="538920" y="4173480"/>
              <a:ext cx="579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D12F-FA2D-429E-83DC-16B454B2856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ساختار پويا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685800" y="2763720"/>
            <a:ext cx="7924680" cy="533520"/>
          </a:xfrm>
          <a:prstGeom prst="rect">
            <a:avLst/>
          </a:prstGeom>
          <a:solidFill>
            <a:srgbClr val="ffe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2514600" y="466884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r Milestones:  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eleas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Line 6"/>
          <p:cNvSpPr/>
          <p:nvPr/>
        </p:nvSpPr>
        <p:spPr>
          <a:xfrm flipV="1">
            <a:off x="4267080" y="3373200"/>
            <a:ext cx="914400" cy="1284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7"/>
          <p:cNvSpPr/>
          <p:nvPr/>
        </p:nvSpPr>
        <p:spPr>
          <a:xfrm flipH="1" flipV="1">
            <a:off x="3428640" y="3373200"/>
            <a:ext cx="444600" cy="128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Line 8"/>
          <p:cNvSpPr/>
          <p:nvPr/>
        </p:nvSpPr>
        <p:spPr>
          <a:xfrm flipV="1">
            <a:off x="4800600" y="3373200"/>
            <a:ext cx="1143000" cy="1274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9"/>
          <p:cNvSpPr/>
          <p:nvPr/>
        </p:nvSpPr>
        <p:spPr>
          <a:xfrm flipV="1">
            <a:off x="5334120" y="3449160"/>
            <a:ext cx="228600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Rectangle 10"/>
          <p:cNvSpPr/>
          <p:nvPr/>
        </p:nvSpPr>
        <p:spPr>
          <a:xfrm>
            <a:off x="668160" y="2190600"/>
            <a:ext cx="7942320" cy="568440"/>
          </a:xfrm>
          <a:prstGeom prst="rect">
            <a:avLst/>
          </a:prstGeom>
          <a:solidFill>
            <a:srgbClr val="ffd3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Rectangle 11"/>
          <p:cNvSpPr/>
          <p:nvPr/>
        </p:nvSpPr>
        <p:spPr>
          <a:xfrm>
            <a:off x="1144440" y="2306520"/>
            <a:ext cx="1084320" cy="335880"/>
          </a:xfrm>
          <a:prstGeom prst="rect">
            <a:avLst/>
          </a:prstGeom>
          <a:solidFill>
            <a:srgbClr val="ffd3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cep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Rectangle 12"/>
          <p:cNvSpPr/>
          <p:nvPr/>
        </p:nvSpPr>
        <p:spPr>
          <a:xfrm>
            <a:off x="2820600" y="2306520"/>
            <a:ext cx="1299240" cy="335880"/>
          </a:xfrm>
          <a:prstGeom prst="rect">
            <a:avLst/>
          </a:prstGeom>
          <a:solidFill>
            <a:srgbClr val="ffd3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Rectangle 13"/>
          <p:cNvSpPr/>
          <p:nvPr/>
        </p:nvSpPr>
        <p:spPr>
          <a:xfrm>
            <a:off x="4802400" y="2306520"/>
            <a:ext cx="1443960" cy="335880"/>
          </a:xfrm>
          <a:prstGeom prst="rect">
            <a:avLst/>
          </a:prstGeom>
          <a:solidFill>
            <a:srgbClr val="ffd3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u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Rectangle 14"/>
          <p:cNvSpPr/>
          <p:nvPr/>
        </p:nvSpPr>
        <p:spPr>
          <a:xfrm>
            <a:off x="7140600" y="2306520"/>
            <a:ext cx="1163520" cy="335880"/>
          </a:xfrm>
          <a:prstGeom prst="rect">
            <a:avLst/>
          </a:prstGeom>
          <a:solidFill>
            <a:srgbClr val="ffd3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ransi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Line 15"/>
          <p:cNvSpPr/>
          <p:nvPr/>
        </p:nvSpPr>
        <p:spPr>
          <a:xfrm flipV="1">
            <a:off x="2514600" y="2231640"/>
            <a:ext cx="0" cy="1065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5" name="Group 16"/>
          <p:cNvGrpSpPr/>
          <p:nvPr/>
        </p:nvGrpSpPr>
        <p:grpSpPr>
          <a:xfrm>
            <a:off x="609480" y="1773360"/>
            <a:ext cx="7759440" cy="366840"/>
            <a:chOff x="609480" y="1773360"/>
            <a:chExt cx="7759440" cy="366840"/>
          </a:xfrm>
        </p:grpSpPr>
        <p:sp>
          <p:nvSpPr>
            <p:cNvPr id="356" name="Line 17"/>
            <p:cNvSpPr/>
            <p:nvPr/>
          </p:nvSpPr>
          <p:spPr>
            <a:xfrm>
              <a:off x="749160" y="1785600"/>
              <a:ext cx="761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Rectangle 18"/>
            <p:cNvSpPr/>
            <p:nvPr/>
          </p:nvSpPr>
          <p:spPr>
            <a:xfrm>
              <a:off x="609480" y="1773360"/>
              <a:ext cx="616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8" name="Line 19"/>
          <p:cNvSpPr/>
          <p:nvPr/>
        </p:nvSpPr>
        <p:spPr>
          <a:xfrm flipV="1">
            <a:off x="4343400" y="2231640"/>
            <a:ext cx="0" cy="1065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Line 20"/>
          <p:cNvSpPr/>
          <p:nvPr/>
        </p:nvSpPr>
        <p:spPr>
          <a:xfrm flipV="1">
            <a:off x="6781680" y="2230200"/>
            <a:ext cx="0" cy="1065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Line 21"/>
          <p:cNvSpPr/>
          <p:nvPr/>
        </p:nvSpPr>
        <p:spPr>
          <a:xfrm>
            <a:off x="3429000" y="2763720"/>
            <a:ext cx="0" cy="5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Text Box 22"/>
          <p:cNvSpPr/>
          <p:nvPr/>
        </p:nvSpPr>
        <p:spPr>
          <a:xfrm>
            <a:off x="762120" y="276372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Text Box 23"/>
          <p:cNvSpPr/>
          <p:nvPr/>
        </p:nvSpPr>
        <p:spPr>
          <a:xfrm>
            <a:off x="914400" y="276372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Preliminary Iterat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Text Box 24"/>
          <p:cNvSpPr/>
          <p:nvPr/>
        </p:nvSpPr>
        <p:spPr>
          <a:xfrm>
            <a:off x="2476440" y="276372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rchitect. Iter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Line 25"/>
          <p:cNvSpPr/>
          <p:nvPr/>
        </p:nvSpPr>
        <p:spPr>
          <a:xfrm>
            <a:off x="5156280" y="2760840"/>
            <a:ext cx="0" cy="5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Line 26"/>
          <p:cNvSpPr/>
          <p:nvPr/>
        </p:nvSpPr>
        <p:spPr>
          <a:xfrm>
            <a:off x="5943600" y="2763720"/>
            <a:ext cx="0" cy="5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27"/>
          <p:cNvSpPr/>
          <p:nvPr/>
        </p:nvSpPr>
        <p:spPr>
          <a:xfrm>
            <a:off x="7696080" y="2763720"/>
            <a:ext cx="0" cy="5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Text Box 28"/>
          <p:cNvSpPr/>
          <p:nvPr/>
        </p:nvSpPr>
        <p:spPr>
          <a:xfrm>
            <a:off x="3352680" y="276372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rchitect. Iter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Text Box 29"/>
          <p:cNvSpPr/>
          <p:nvPr/>
        </p:nvSpPr>
        <p:spPr>
          <a:xfrm>
            <a:off x="5029200" y="276372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Devlop. Iter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Text Box 30"/>
          <p:cNvSpPr/>
          <p:nvPr/>
        </p:nvSpPr>
        <p:spPr>
          <a:xfrm>
            <a:off x="4267080" y="276372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Devlop. Iter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Text Box 31"/>
          <p:cNvSpPr/>
          <p:nvPr/>
        </p:nvSpPr>
        <p:spPr>
          <a:xfrm>
            <a:off x="5791320" y="276372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Devlop. Iter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Text Box 32"/>
          <p:cNvSpPr/>
          <p:nvPr/>
        </p:nvSpPr>
        <p:spPr>
          <a:xfrm>
            <a:off x="6705720" y="2716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Transition Iter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Text Box 33"/>
          <p:cNvSpPr/>
          <p:nvPr/>
        </p:nvSpPr>
        <p:spPr>
          <a:xfrm>
            <a:off x="7620120" y="2716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Transition Iter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3" name="Group 35"/>
          <p:cNvGrpSpPr/>
          <p:nvPr/>
        </p:nvGrpSpPr>
        <p:grpSpPr>
          <a:xfrm>
            <a:off x="3478320" y="2763360"/>
            <a:ext cx="3531600" cy="3581640"/>
            <a:chOff x="3478320" y="2763360"/>
            <a:chExt cx="3531600" cy="3581640"/>
          </a:xfrm>
        </p:grpSpPr>
        <p:grpSp>
          <p:nvGrpSpPr>
            <p:cNvPr id="374" name="Group 36"/>
            <p:cNvGrpSpPr/>
            <p:nvPr/>
          </p:nvGrpSpPr>
          <p:grpSpPr>
            <a:xfrm>
              <a:off x="3478320" y="3525480"/>
              <a:ext cx="3531600" cy="2819520"/>
              <a:chOff x="3478320" y="3525480"/>
              <a:chExt cx="3531600" cy="2819520"/>
            </a:xfrm>
          </p:grpSpPr>
          <p:grpSp>
            <p:nvGrpSpPr>
              <p:cNvPr id="375" name="Group 37"/>
              <p:cNvGrpSpPr/>
              <p:nvPr/>
            </p:nvGrpSpPr>
            <p:grpSpPr>
              <a:xfrm>
                <a:off x="3478320" y="3525480"/>
                <a:ext cx="3531600" cy="2819520"/>
                <a:chOff x="3478320" y="3525480"/>
                <a:chExt cx="3531600" cy="2819520"/>
              </a:xfrm>
            </p:grpSpPr>
            <p:sp>
              <p:nvSpPr>
                <p:cNvPr id="376" name="Rectangle 38"/>
                <p:cNvSpPr/>
                <p:nvPr/>
              </p:nvSpPr>
              <p:spPr>
                <a:xfrm>
                  <a:off x="3503520" y="4135320"/>
                  <a:ext cx="3504600" cy="2209680"/>
                </a:xfrm>
                <a:prstGeom prst="rect">
                  <a:avLst/>
                </a:prstGeom>
                <a:solidFill>
                  <a:srgbClr val="cc33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377" name="Group 39"/>
                <p:cNvGrpSpPr/>
                <p:nvPr/>
              </p:nvGrpSpPr>
              <p:grpSpPr>
                <a:xfrm>
                  <a:off x="3579480" y="4363920"/>
                  <a:ext cx="3430440" cy="1490040"/>
                  <a:chOff x="3579480" y="4363920"/>
                  <a:chExt cx="3430440" cy="1490040"/>
                </a:xfrm>
              </p:grpSpPr>
              <p:sp>
                <p:nvSpPr>
                  <p:cNvPr id="378" name="Rectangle 40"/>
                  <p:cNvSpPr/>
                  <p:nvPr/>
                </p:nvSpPr>
                <p:spPr>
                  <a:xfrm>
                    <a:off x="5300280" y="5146200"/>
                    <a:ext cx="573120" cy="229680"/>
                  </a:xfrm>
                  <a:prstGeom prst="rect">
                    <a:avLst/>
                  </a:prstGeom>
                  <a:solidFill>
                    <a:srgbClr val="99ff3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81360" rIns="81360" tIns="40680" bIns="40680" anchor="ctr">
                    <a:noAutofit/>
                  </a:bodyPr>
                  <a:p>
                    <a:pPr algn="ctr">
                      <a:lnSpc>
                        <a:spcPct val="87000"/>
                      </a:lnSpc>
                      <a:tabLst>
                        <a:tab algn="l" pos="0"/>
                        <a:tab algn="l" pos="861840"/>
                        <a:tab algn="l" pos="1724040"/>
                        <a:tab algn="l" pos="2585880"/>
                        <a:tab algn="l" pos="3448080"/>
                        <a:tab algn="l" pos="4309920"/>
                        <a:tab algn="l" pos="5172120"/>
                        <a:tab algn="l" pos="6033960"/>
                        <a:tab algn="l" pos="6896160"/>
                        <a:tab algn="l" pos="7758000"/>
                        <a:tab algn="l" pos="8620200"/>
                        <a:tab algn="l" pos="9482040"/>
                        <a:tab algn="l" pos="10344240"/>
                      </a:tabLst>
                    </a:pPr>
                    <a:r>
                      <a:rPr b="1" lang="en-US" sz="1600" spc="-1" strike="noStrike">
                        <a:solidFill>
                          <a:srgbClr val="4b4eb5"/>
                        </a:solidFill>
                        <a:latin typeface="Arial"/>
                        <a:ea typeface="Times New Roman"/>
                      </a:rPr>
                      <a:t>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9" name="Rectangle 41"/>
                  <p:cNvSpPr/>
                  <p:nvPr/>
                </p:nvSpPr>
                <p:spPr>
                  <a:xfrm>
                    <a:off x="4725720" y="4874760"/>
                    <a:ext cx="574560" cy="240840"/>
                  </a:xfrm>
                  <a:prstGeom prst="rect">
                    <a:avLst/>
                  </a:prstGeom>
                  <a:solidFill>
                    <a:srgbClr val="99ff3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81360" rIns="81360" tIns="40680" bIns="40680" anchor="ctr">
                    <a:noAutofit/>
                  </a:bodyPr>
                  <a:p>
                    <a:pPr algn="ctr">
                      <a:lnSpc>
                        <a:spcPct val="87000"/>
                      </a:lnSpc>
                      <a:tabLst>
                        <a:tab algn="l" pos="0"/>
                        <a:tab algn="l" pos="861840"/>
                        <a:tab algn="l" pos="1724040"/>
                        <a:tab algn="l" pos="2585880"/>
                        <a:tab algn="l" pos="3448080"/>
                        <a:tab algn="l" pos="4309920"/>
                        <a:tab algn="l" pos="5172120"/>
                        <a:tab algn="l" pos="6033960"/>
                        <a:tab algn="l" pos="6896160"/>
                        <a:tab algn="l" pos="7758000"/>
                        <a:tab algn="l" pos="8620200"/>
                        <a:tab algn="l" pos="9482040"/>
                        <a:tab algn="l" pos="10344240"/>
                      </a:tabLst>
                    </a:pPr>
                    <a:r>
                      <a:rPr b="1" lang="en-US" sz="1600" spc="-1" strike="noStrike">
                        <a:solidFill>
                          <a:srgbClr val="4b4eb5"/>
                        </a:solidFill>
                        <a:latin typeface="Arial"/>
                        <a:ea typeface="Times New Roman"/>
                      </a:rPr>
                      <a:t>A/D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0" name="Rectangle 42"/>
                  <p:cNvSpPr/>
                  <p:nvPr/>
                </p:nvSpPr>
                <p:spPr>
                  <a:xfrm>
                    <a:off x="4152600" y="4625640"/>
                    <a:ext cx="573120" cy="221760"/>
                  </a:xfrm>
                  <a:prstGeom prst="rect">
                    <a:avLst/>
                  </a:prstGeom>
                  <a:solidFill>
                    <a:srgbClr val="99ff3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81360" rIns="81360" tIns="40680" bIns="40680" anchor="ctr">
                    <a:noAutofit/>
                  </a:bodyPr>
                  <a:p>
                    <a:pPr algn="ctr">
                      <a:lnSpc>
                        <a:spcPct val="87000"/>
                      </a:lnSpc>
                      <a:tabLst>
                        <a:tab algn="l" pos="0"/>
                        <a:tab algn="l" pos="861840"/>
                        <a:tab algn="l" pos="1724040"/>
                        <a:tab algn="l" pos="2585880"/>
                        <a:tab algn="l" pos="3448080"/>
                        <a:tab algn="l" pos="4309920"/>
                        <a:tab algn="l" pos="5172120"/>
                        <a:tab algn="l" pos="6033960"/>
                        <a:tab algn="l" pos="6896160"/>
                        <a:tab algn="l" pos="7758000"/>
                        <a:tab algn="l" pos="8620200"/>
                        <a:tab algn="l" pos="9482040"/>
                        <a:tab algn="l" pos="10344240"/>
                      </a:tabLst>
                    </a:pPr>
                    <a:r>
                      <a:rPr b="1" lang="en-US" sz="1600" spc="-1" strike="noStrike">
                        <a:solidFill>
                          <a:srgbClr val="4b4eb5"/>
                        </a:solidFill>
                        <a:latin typeface="Arial"/>
                        <a:ea typeface="Times New Roman"/>
                      </a:rPr>
                      <a:t>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1" name="Rectangle 43"/>
                  <p:cNvSpPr/>
                  <p:nvPr/>
                </p:nvSpPr>
                <p:spPr>
                  <a:xfrm>
                    <a:off x="3579480" y="4363920"/>
                    <a:ext cx="573120" cy="236160"/>
                  </a:xfrm>
                  <a:prstGeom prst="rect">
                    <a:avLst/>
                  </a:prstGeom>
                  <a:solidFill>
                    <a:srgbClr val="99ff3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81360" rIns="81360" tIns="40680" bIns="40680" anchor="ctr">
                    <a:noAutofit/>
                  </a:bodyPr>
                  <a:p>
                    <a:pPr algn="ctr">
                      <a:lnSpc>
                        <a:spcPct val="87000"/>
                      </a:lnSpc>
                      <a:tabLst>
                        <a:tab algn="l" pos="0"/>
                        <a:tab algn="l" pos="861840"/>
                        <a:tab algn="l" pos="1724040"/>
                        <a:tab algn="l" pos="2585880"/>
                        <a:tab algn="l" pos="3448080"/>
                        <a:tab algn="l" pos="4309920"/>
                        <a:tab algn="l" pos="5172120"/>
                        <a:tab algn="l" pos="6033960"/>
                        <a:tab algn="l" pos="6896160"/>
                        <a:tab algn="l" pos="7758000"/>
                        <a:tab algn="l" pos="8620200"/>
                        <a:tab algn="l" pos="9482040"/>
                        <a:tab algn="l" pos="10344240"/>
                      </a:tabLst>
                    </a:pPr>
                    <a:r>
                      <a:rPr b="1" lang="en-US" sz="1600" spc="-1" strike="noStrike">
                        <a:solidFill>
                          <a:srgbClr val="4b4eb5"/>
                        </a:solidFill>
                        <a:latin typeface="Arial"/>
                        <a:ea typeface="Times New Roman"/>
                      </a:rPr>
                      <a:t>BM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cxnSp>
                <p:nvCxnSpPr>
                  <p:cNvPr id="382" name="AutoShape 44"/>
                  <p:cNvCxnSpPr>
                    <a:stCxn id="381" idx="2"/>
                    <a:endCxn id="380" idx="1"/>
                  </p:cNvCxnSpPr>
                  <p:nvPr/>
                </p:nvCxnSpPr>
                <p:spPr>
                  <a:xfrm flipH="1" rot="16200000">
                    <a:off x="3941640" y="4524840"/>
                    <a:ext cx="136800" cy="286560"/>
                  </a:xfrm>
                  <a:prstGeom prst="bentConnector2">
                    <a:avLst/>
                  </a:prstGeom>
                  <a:ln w="15840">
                    <a:solidFill>
                      <a:srgbClr val="000066"/>
                    </a:solidFill>
                    <a:miter/>
                    <a:tailEnd len="lg" type="triangle" w="med"/>
                  </a:ln>
                </p:spPr>
              </p:cxnSp>
              <p:cxnSp>
                <p:nvCxnSpPr>
                  <p:cNvPr id="383" name="AutoShape 45"/>
                  <p:cNvCxnSpPr/>
                  <p:nvPr/>
                </p:nvCxnSpPr>
                <p:spPr>
                  <a:xfrm flipH="1" rot="16200000">
                    <a:off x="5094720" y="5027400"/>
                    <a:ext cx="111600" cy="288000"/>
                  </a:xfrm>
                  <a:prstGeom prst="bentConnector2">
                    <a:avLst/>
                  </a:prstGeom>
                  <a:ln w="15840">
                    <a:solidFill>
                      <a:srgbClr val="000066"/>
                    </a:solidFill>
                    <a:miter/>
                    <a:tailEnd len="lg" type="triangle" w="med"/>
                  </a:ln>
                </p:spPr>
              </p:cxnSp>
              <p:cxnSp>
                <p:nvCxnSpPr>
                  <p:cNvPr id="384" name="AutoShape 46"/>
                  <p:cNvCxnSpPr>
                    <a:stCxn id="380" idx="2"/>
                    <a:endCxn id="379" idx="1"/>
                  </p:cNvCxnSpPr>
                  <p:nvPr/>
                </p:nvCxnSpPr>
                <p:spPr>
                  <a:xfrm flipH="1" rot="16200000">
                    <a:off x="4509000" y="4777920"/>
                    <a:ext cx="147960" cy="286560"/>
                  </a:xfrm>
                  <a:prstGeom prst="bentConnector2">
                    <a:avLst/>
                  </a:prstGeom>
                  <a:ln w="15840">
                    <a:solidFill>
                      <a:srgbClr val="000066"/>
                    </a:solidFill>
                    <a:miter/>
                    <a:tailEnd len="lg" type="triangle" w="med"/>
                  </a:ln>
                </p:spPr>
              </p:cxnSp>
              <p:sp>
                <p:nvSpPr>
                  <p:cNvPr id="385" name="Rectangle 47"/>
                  <p:cNvSpPr/>
                  <p:nvPr/>
                </p:nvSpPr>
                <p:spPr>
                  <a:xfrm>
                    <a:off x="6436800" y="5623920"/>
                    <a:ext cx="573120" cy="230040"/>
                  </a:xfrm>
                  <a:prstGeom prst="rect">
                    <a:avLst/>
                  </a:prstGeom>
                  <a:solidFill>
                    <a:srgbClr val="99ff3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81360" rIns="81360" tIns="40680" bIns="40680" anchor="ctr">
                    <a:noAutofit/>
                  </a:bodyPr>
                  <a:p>
                    <a:pPr algn="ctr">
                      <a:lnSpc>
                        <a:spcPct val="87000"/>
                      </a:lnSpc>
                      <a:tabLst>
                        <a:tab algn="l" pos="0"/>
                        <a:tab algn="l" pos="861840"/>
                        <a:tab algn="l" pos="1724040"/>
                        <a:tab algn="l" pos="2585880"/>
                        <a:tab algn="l" pos="3448080"/>
                        <a:tab algn="l" pos="4309920"/>
                        <a:tab algn="l" pos="5172120"/>
                        <a:tab algn="l" pos="6033960"/>
                        <a:tab algn="l" pos="6896160"/>
                        <a:tab algn="l" pos="7758000"/>
                        <a:tab algn="l" pos="8620200"/>
                        <a:tab algn="l" pos="9482040"/>
                        <a:tab algn="l" pos="10344240"/>
                      </a:tabLst>
                    </a:pPr>
                    <a:r>
                      <a:rPr b="1" lang="en-US" sz="1600" spc="-1" strike="noStrike">
                        <a:solidFill>
                          <a:srgbClr val="4b4eb5"/>
                        </a:solidFill>
                        <a:latin typeface="Arial"/>
                        <a:ea typeface="Times New Roman"/>
                      </a:rPr>
                      <a:t>D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6" name="Rectangle 48"/>
                  <p:cNvSpPr/>
                  <p:nvPr/>
                </p:nvSpPr>
                <p:spPr>
                  <a:xfrm>
                    <a:off x="5866920" y="5395320"/>
                    <a:ext cx="574920" cy="241200"/>
                  </a:xfrm>
                  <a:prstGeom prst="rect">
                    <a:avLst/>
                  </a:prstGeom>
                  <a:solidFill>
                    <a:srgbClr val="99ff3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81360" rIns="81360" tIns="40680" bIns="40680" anchor="ctr">
                    <a:noAutofit/>
                  </a:bodyPr>
                  <a:p>
                    <a:pPr algn="ctr">
                      <a:lnSpc>
                        <a:spcPct val="87000"/>
                      </a:lnSpc>
                      <a:tabLst>
                        <a:tab algn="l" pos="0"/>
                        <a:tab algn="l" pos="861840"/>
                        <a:tab algn="l" pos="1724040"/>
                        <a:tab algn="l" pos="2585880"/>
                        <a:tab algn="l" pos="3448080"/>
                        <a:tab algn="l" pos="4309920"/>
                        <a:tab algn="l" pos="5172120"/>
                        <a:tab algn="l" pos="6033960"/>
                        <a:tab algn="l" pos="6896160"/>
                        <a:tab algn="l" pos="7758000"/>
                        <a:tab algn="l" pos="8620200"/>
                        <a:tab algn="l" pos="9482040"/>
                        <a:tab algn="l" pos="10344240"/>
                      </a:tabLst>
                    </a:pPr>
                    <a:r>
                      <a:rPr b="1" lang="en-US" sz="1600" spc="-1" strike="noStrike">
                        <a:solidFill>
                          <a:srgbClr val="4b4eb5"/>
                        </a:solidFill>
                        <a:latin typeface="Arial"/>
                        <a:ea typeface="Times New Roman"/>
                      </a:rPr>
                      <a:t>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cxnSp>
                <p:nvCxnSpPr>
                  <p:cNvPr id="387" name="AutoShape 49"/>
                  <p:cNvCxnSpPr/>
                  <p:nvPr/>
                </p:nvCxnSpPr>
                <p:spPr>
                  <a:xfrm flipH="1" rot="16200000">
                    <a:off x="5650560" y="5294160"/>
                    <a:ext cx="111600" cy="288000"/>
                  </a:xfrm>
                  <a:prstGeom prst="bentConnector2">
                    <a:avLst/>
                  </a:prstGeom>
                  <a:ln w="15840">
                    <a:solidFill>
                      <a:srgbClr val="000066"/>
                    </a:solidFill>
                    <a:miter/>
                    <a:tailEnd len="lg" type="triangle" w="med"/>
                  </a:ln>
                </p:spPr>
              </p:cxnSp>
              <p:cxnSp>
                <p:nvCxnSpPr>
                  <p:cNvPr id="388" name="AutoShape 50"/>
                  <p:cNvCxnSpPr/>
                  <p:nvPr/>
                </p:nvCxnSpPr>
                <p:spPr>
                  <a:xfrm flipH="1" rot="16200000">
                    <a:off x="6233760" y="5547960"/>
                    <a:ext cx="111240" cy="288360"/>
                  </a:xfrm>
                  <a:prstGeom prst="bentConnector2">
                    <a:avLst/>
                  </a:prstGeom>
                  <a:ln w="15840">
                    <a:solidFill>
                      <a:srgbClr val="000066"/>
                    </a:solidFill>
                    <a:miter/>
                    <a:tailEnd len="lg" type="triangle" w="med"/>
                  </a:ln>
                </p:spPr>
              </p:cxnSp>
            </p:grpSp>
            <p:sp>
              <p:nvSpPr>
                <p:cNvPr id="389" name="Line 51"/>
                <p:cNvSpPr/>
                <p:nvPr/>
              </p:nvSpPr>
              <p:spPr>
                <a:xfrm flipH="1">
                  <a:off x="3478320" y="3538440"/>
                  <a:ext cx="1676160" cy="609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0" name="Line 52"/>
                <p:cNvSpPr/>
                <p:nvPr/>
              </p:nvSpPr>
              <p:spPr>
                <a:xfrm>
                  <a:off x="5941800" y="3525480"/>
                  <a:ext cx="990360" cy="609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91" name="Text Box 53"/>
              <p:cNvSpPr/>
              <p:nvPr/>
            </p:nvSpPr>
            <p:spPr>
              <a:xfrm>
                <a:off x="3579480" y="5811480"/>
                <a:ext cx="243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Comic Sans MS"/>
                    <a:ea typeface="Times New Roman"/>
                  </a:rPr>
                  <a:t>One Iteration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92" name="Line 54"/>
            <p:cNvSpPr/>
            <p:nvPr/>
          </p:nvSpPr>
          <p:spPr>
            <a:xfrm flipV="1">
              <a:off x="5942160" y="2763360"/>
              <a:ext cx="0" cy="76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Line 55"/>
            <p:cNvSpPr/>
            <p:nvPr/>
          </p:nvSpPr>
          <p:spPr>
            <a:xfrm flipV="1">
              <a:off x="5156280" y="2763360"/>
              <a:ext cx="0" cy="76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4" name="Text Box 34"/>
          <p:cNvSpPr/>
          <p:nvPr/>
        </p:nvSpPr>
        <p:spPr>
          <a:xfrm>
            <a:off x="684360" y="2133720"/>
            <a:ext cx="7924680" cy="143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يك تكرار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ration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) عبارتست از يك گذر كامل از همه نظم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Homa"/>
              </a:rPr>
              <a:t>‌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ها كه منتهي به يك نشر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داخلي يا خارجي م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گرد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8B66-5FAB-4DEA-9913-07CA0B4A672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ساختار پويا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279360" y="2235240"/>
            <a:ext cx="7790040" cy="1371600"/>
          </a:xfrm>
          <a:prstGeom prst="rect">
            <a:avLst/>
          </a:prstGeom>
          <a:solidFill>
            <a:srgbClr val="ffd3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Line 5"/>
          <p:cNvSpPr/>
          <p:nvPr/>
        </p:nvSpPr>
        <p:spPr>
          <a:xfrm flipV="1">
            <a:off x="5376960" y="225252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501480" y="2351160"/>
            <a:ext cx="1084320" cy="335880"/>
          </a:xfrm>
          <a:prstGeom prst="rect">
            <a:avLst/>
          </a:prstGeom>
          <a:solidFill>
            <a:srgbClr val="ffd3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cep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2101320" y="2351160"/>
            <a:ext cx="1299240" cy="335880"/>
          </a:xfrm>
          <a:prstGeom prst="rect">
            <a:avLst/>
          </a:prstGeom>
          <a:solidFill>
            <a:srgbClr val="ffd3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3811680" y="2351160"/>
            <a:ext cx="1443960" cy="335880"/>
          </a:xfrm>
          <a:prstGeom prst="rect">
            <a:avLst/>
          </a:prstGeom>
          <a:solidFill>
            <a:srgbClr val="ffd3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u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Rectangle 9"/>
          <p:cNvSpPr/>
          <p:nvPr/>
        </p:nvSpPr>
        <p:spPr>
          <a:xfrm>
            <a:off x="5454720" y="2351160"/>
            <a:ext cx="1163520" cy="335880"/>
          </a:xfrm>
          <a:prstGeom prst="rect">
            <a:avLst/>
          </a:prstGeom>
          <a:solidFill>
            <a:srgbClr val="ffd3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ransi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Line 10"/>
          <p:cNvSpPr/>
          <p:nvPr/>
        </p:nvSpPr>
        <p:spPr>
          <a:xfrm flipV="1">
            <a:off x="3548160" y="225252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Line 11"/>
          <p:cNvSpPr/>
          <p:nvPr/>
        </p:nvSpPr>
        <p:spPr>
          <a:xfrm flipV="1">
            <a:off x="1871640" y="225252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Rectangle 12"/>
          <p:cNvSpPr/>
          <p:nvPr/>
        </p:nvSpPr>
        <p:spPr>
          <a:xfrm>
            <a:off x="6783120" y="2362320"/>
            <a:ext cx="1107000" cy="335880"/>
          </a:xfrm>
          <a:prstGeom prst="rect">
            <a:avLst/>
          </a:prstGeom>
          <a:solidFill>
            <a:srgbClr val="ffd3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Evolu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Line 13"/>
          <p:cNvSpPr/>
          <p:nvPr/>
        </p:nvSpPr>
        <p:spPr>
          <a:xfrm flipV="1">
            <a:off x="6672240" y="224784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Line 14"/>
          <p:cNvSpPr/>
          <p:nvPr/>
        </p:nvSpPr>
        <p:spPr>
          <a:xfrm flipH="1">
            <a:off x="347400" y="276876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Line 15"/>
          <p:cNvSpPr/>
          <p:nvPr/>
        </p:nvSpPr>
        <p:spPr>
          <a:xfrm flipH="1">
            <a:off x="2023920" y="276876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Line 16"/>
          <p:cNvSpPr/>
          <p:nvPr/>
        </p:nvSpPr>
        <p:spPr>
          <a:xfrm flipH="1">
            <a:off x="3852720" y="276876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Line 17"/>
          <p:cNvSpPr/>
          <p:nvPr/>
        </p:nvSpPr>
        <p:spPr>
          <a:xfrm flipH="1">
            <a:off x="5528880" y="276876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Line 18"/>
          <p:cNvSpPr/>
          <p:nvPr/>
        </p:nvSpPr>
        <p:spPr>
          <a:xfrm flipV="1">
            <a:off x="8043840" y="223524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Line 19"/>
          <p:cNvSpPr/>
          <p:nvPr/>
        </p:nvSpPr>
        <p:spPr>
          <a:xfrm flipH="1">
            <a:off x="6900480" y="27558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Line 20"/>
          <p:cNvSpPr/>
          <p:nvPr/>
        </p:nvSpPr>
        <p:spPr>
          <a:xfrm>
            <a:off x="311040" y="3059280"/>
            <a:ext cx="63612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21"/>
          <p:cNvSpPr/>
          <p:nvPr/>
        </p:nvSpPr>
        <p:spPr>
          <a:xfrm>
            <a:off x="265680" y="2768760"/>
            <a:ext cx="616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22"/>
          <p:cNvSpPr/>
          <p:nvPr/>
        </p:nvSpPr>
        <p:spPr>
          <a:xfrm>
            <a:off x="1800360" y="3149640"/>
            <a:ext cx="2964960" cy="335880"/>
          </a:xfrm>
          <a:prstGeom prst="rect">
            <a:avLst/>
          </a:prstGeom>
          <a:solidFill>
            <a:srgbClr val="ffd3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An Initial Development Cyc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Oval 23"/>
          <p:cNvSpPr/>
          <p:nvPr/>
        </p:nvSpPr>
        <p:spPr>
          <a:xfrm>
            <a:off x="6647040" y="298440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Rectangle 24"/>
          <p:cNvSpPr/>
          <p:nvPr/>
        </p:nvSpPr>
        <p:spPr>
          <a:xfrm>
            <a:off x="6141240" y="3225960"/>
            <a:ext cx="1422360" cy="335880"/>
          </a:xfrm>
          <a:prstGeom prst="rect">
            <a:avLst/>
          </a:prstGeom>
          <a:solidFill>
            <a:srgbClr val="ffd3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b4eb5"/>
                </a:solidFill>
                <a:latin typeface="Arial"/>
                <a:ea typeface="Times New Roman"/>
              </a:rPr>
              <a:t>Generation 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8" name="Group 25"/>
          <p:cNvGrpSpPr/>
          <p:nvPr/>
        </p:nvGrpSpPr>
        <p:grpSpPr>
          <a:xfrm>
            <a:off x="1143000" y="2743200"/>
            <a:ext cx="7790040" cy="2362320"/>
            <a:chOff x="1143000" y="2743200"/>
            <a:chExt cx="7790040" cy="2362320"/>
          </a:xfrm>
        </p:grpSpPr>
        <p:sp>
          <p:nvSpPr>
            <p:cNvPr id="419" name="Line 26"/>
            <p:cNvSpPr/>
            <p:nvPr/>
          </p:nvSpPr>
          <p:spPr>
            <a:xfrm>
              <a:off x="8077320" y="2743200"/>
              <a:ext cx="838080" cy="990720"/>
            </a:xfrm>
            <a:prstGeom prst="line">
              <a:avLst/>
            </a:prstGeom>
            <a:ln w="28440">
              <a:solidFill>
                <a:srgbClr val="4b4e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27"/>
            <p:cNvSpPr/>
            <p:nvPr/>
          </p:nvSpPr>
          <p:spPr>
            <a:xfrm flipH="1">
              <a:off x="1143000" y="2743200"/>
              <a:ext cx="5562720" cy="990720"/>
            </a:xfrm>
            <a:prstGeom prst="line">
              <a:avLst/>
            </a:prstGeom>
            <a:ln w="28440">
              <a:solidFill>
                <a:srgbClr val="4b4e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Rectangle 28"/>
            <p:cNvSpPr/>
            <p:nvPr/>
          </p:nvSpPr>
          <p:spPr>
            <a:xfrm>
              <a:off x="1143000" y="3733920"/>
              <a:ext cx="7790040" cy="1371600"/>
            </a:xfrm>
            <a:prstGeom prst="rect">
              <a:avLst/>
            </a:prstGeom>
            <a:solidFill>
              <a:srgbClr val="ffe7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Line 29"/>
            <p:cNvSpPr/>
            <p:nvPr/>
          </p:nvSpPr>
          <p:spPr>
            <a:xfrm flipV="1">
              <a:off x="6265800" y="375120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" name="Rectangle 30"/>
            <p:cNvSpPr/>
            <p:nvPr/>
          </p:nvSpPr>
          <p:spPr>
            <a:xfrm>
              <a:off x="1389240" y="3824280"/>
              <a:ext cx="1087200" cy="335880"/>
            </a:xfrm>
            <a:prstGeom prst="rect">
              <a:avLst/>
            </a:prstGeom>
            <a:solidFill>
              <a:srgbClr val="ffe7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ceptio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Rectangle 31"/>
            <p:cNvSpPr/>
            <p:nvPr/>
          </p:nvSpPr>
          <p:spPr>
            <a:xfrm>
              <a:off x="2990520" y="3849840"/>
              <a:ext cx="1299240" cy="335880"/>
            </a:xfrm>
            <a:prstGeom prst="rect">
              <a:avLst/>
            </a:prstGeom>
            <a:solidFill>
              <a:srgbClr val="ffe7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laboratio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32"/>
            <p:cNvSpPr/>
            <p:nvPr/>
          </p:nvSpPr>
          <p:spPr>
            <a:xfrm>
              <a:off x="4591440" y="3849840"/>
              <a:ext cx="1443960" cy="335880"/>
            </a:xfrm>
            <a:prstGeom prst="rect">
              <a:avLst/>
            </a:prstGeom>
            <a:solidFill>
              <a:srgbClr val="ffe7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structio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Rectangle 33"/>
            <p:cNvSpPr/>
            <p:nvPr/>
          </p:nvSpPr>
          <p:spPr>
            <a:xfrm>
              <a:off x="6343560" y="3849840"/>
              <a:ext cx="1163520" cy="335880"/>
            </a:xfrm>
            <a:prstGeom prst="rect">
              <a:avLst/>
            </a:prstGeom>
            <a:solidFill>
              <a:srgbClr val="ffe7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34"/>
            <p:cNvSpPr/>
            <p:nvPr/>
          </p:nvSpPr>
          <p:spPr>
            <a:xfrm flipV="1">
              <a:off x="4437000" y="375120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Line 35"/>
            <p:cNvSpPr/>
            <p:nvPr/>
          </p:nvSpPr>
          <p:spPr>
            <a:xfrm flipV="1">
              <a:off x="2760840" y="375120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Rectangle 36"/>
            <p:cNvSpPr/>
            <p:nvPr/>
          </p:nvSpPr>
          <p:spPr>
            <a:xfrm>
              <a:off x="7671960" y="3860640"/>
              <a:ext cx="1107000" cy="335880"/>
            </a:xfrm>
            <a:prstGeom prst="rect">
              <a:avLst/>
            </a:prstGeom>
            <a:solidFill>
              <a:srgbClr val="ffe7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volutio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Line 37"/>
            <p:cNvSpPr/>
            <p:nvPr/>
          </p:nvSpPr>
          <p:spPr>
            <a:xfrm flipV="1">
              <a:off x="7561440" y="374652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Line 38"/>
            <p:cNvSpPr/>
            <p:nvPr/>
          </p:nvSpPr>
          <p:spPr>
            <a:xfrm flipH="1">
              <a:off x="1244520" y="4280040"/>
              <a:ext cx="152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39"/>
            <p:cNvSpPr/>
            <p:nvPr/>
          </p:nvSpPr>
          <p:spPr>
            <a:xfrm flipH="1">
              <a:off x="2912760" y="428004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40"/>
            <p:cNvSpPr/>
            <p:nvPr/>
          </p:nvSpPr>
          <p:spPr>
            <a:xfrm flipH="1">
              <a:off x="4741560" y="428004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Line 41"/>
            <p:cNvSpPr/>
            <p:nvPr/>
          </p:nvSpPr>
          <p:spPr>
            <a:xfrm flipH="1">
              <a:off x="6418080" y="428004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Line 42"/>
            <p:cNvSpPr/>
            <p:nvPr/>
          </p:nvSpPr>
          <p:spPr>
            <a:xfrm flipV="1">
              <a:off x="8933040" y="3733560"/>
              <a:ext cx="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Line 43"/>
            <p:cNvSpPr/>
            <p:nvPr/>
          </p:nvSpPr>
          <p:spPr>
            <a:xfrm flipH="1">
              <a:off x="7789680" y="425448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Line 44"/>
            <p:cNvSpPr/>
            <p:nvPr/>
          </p:nvSpPr>
          <p:spPr>
            <a:xfrm>
              <a:off x="1200240" y="4557600"/>
              <a:ext cx="63612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Rectangle 45"/>
            <p:cNvSpPr/>
            <p:nvPr/>
          </p:nvSpPr>
          <p:spPr>
            <a:xfrm>
              <a:off x="1193040" y="4584600"/>
              <a:ext cx="616320" cy="366840"/>
            </a:xfrm>
            <a:prstGeom prst="rect">
              <a:avLst/>
            </a:prstGeom>
            <a:solidFill>
              <a:srgbClr val="ffe7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Rectangle 46"/>
            <p:cNvSpPr/>
            <p:nvPr/>
          </p:nvSpPr>
          <p:spPr>
            <a:xfrm>
              <a:off x="2687760" y="4648320"/>
              <a:ext cx="2615760" cy="335880"/>
            </a:xfrm>
            <a:prstGeom prst="rect">
              <a:avLst/>
            </a:prstGeom>
            <a:solidFill>
              <a:srgbClr val="ffe7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3300"/>
                  </a:solidFill>
                  <a:latin typeface="Arial"/>
                  <a:ea typeface="Times New Roman"/>
                </a:rPr>
                <a:t>The Next Evolution Cycl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Oval 47"/>
            <p:cNvSpPr/>
            <p:nvPr/>
          </p:nvSpPr>
          <p:spPr>
            <a:xfrm>
              <a:off x="7535880" y="44830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Rectangle 48"/>
            <p:cNvSpPr/>
            <p:nvPr/>
          </p:nvSpPr>
          <p:spPr>
            <a:xfrm>
              <a:off x="7027920" y="4724280"/>
              <a:ext cx="1506600" cy="335880"/>
            </a:xfrm>
            <a:prstGeom prst="rect">
              <a:avLst/>
            </a:prstGeom>
            <a:solidFill>
              <a:srgbClr val="ffe7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4b4eb5"/>
                  </a:solidFill>
                  <a:latin typeface="Arial"/>
                  <a:ea typeface="Times New Roman"/>
                </a:rPr>
                <a:t>Generation 2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EE6D-27FA-4F27-AE7B-7BE1E2997C40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از آغازين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هدف اصلي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اين فاز بررسي امكان انجام پروژه از نقطه نظر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اقتصادي</a:t>
            </a:r>
            <a:r>
              <a:rPr b="1" lang="fa-IR" sz="3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و</a:t>
            </a:r>
            <a:r>
              <a:rPr b="1" lang="fa-IR" sz="3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اطمينان از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توافق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همه ذينفعان روي صورت مسأله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(پروژه) و اهداف آن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است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E129-DE42-44F3-9AD4-172F0023A98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از آغازين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- اهداف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تعيين محدوده سيستم نرم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افزاري، شرايط مرزي و شرايط ارزيابي تكرارهاي اين فاز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05280" indent="-3052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شناخت موارد كاربري مهم و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حياتي سيستم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05280" indent="-3052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بدست آوردن يك معماري اوليه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05280" indent="-3052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تشخيص زود هنگام خطرات احتمالي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05280" indent="-3052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برآورد تقريبي هزينه، زمان و سودآوري پروژه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05280" indent="-3052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برنامه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ريزي براي فاز بعدي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0988-FA4F-4499-A72E-C1F2968F34E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از آغازين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-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عاليت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تشخيص محدوده پروژه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كه با تعيين مهمترين نيازمند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ي سيستم و شناخت محدوديت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ي موجود انجام م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پذير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668520" indent="-25704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م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توان به 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معيارهاي ارزيابي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محصول نهائي دست يافت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08520" indent="-30852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تهيه و آماده كردن مستند مورد كاري و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ارزيابي جايگزين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ي موجود براي مديريت ريسك، استخدام نيروي انساني و برنامه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ريزي پروژه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C274-64F6-45DB-AF6C-733CEE658CE5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از آغازين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-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عاليت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ها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موازنه بين فاكتورهاي گوناگون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مؤثر در توليد سيستم مانند هزينه و زمان مورد نياز پروژه و سودآوري سيستم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08520" indent="-30852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ارزيابي معماري پيشنهادي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و جايگزين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ي موجود براي طراحي است،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كه تصميم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گيري در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ورد خريد/توليد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/استفاده مجدد از منابع موجود را نيز دربردار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668520" indent="-25704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زمان و منابع مورد نياز به صورت واقعيتر پيش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بيني 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مي‌شوند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3982-8734-470D-9917-F628BE96ADB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از آغازين 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رآورده‌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ff"/>
                </a:solidFill>
                <a:latin typeface="Times New Roman"/>
              </a:rPr>
              <a:t>مستند دورنما </a:t>
            </a:r>
            <a:r>
              <a:rPr b="1" lang="fa-IR" sz="30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Vision</a:t>
            </a:r>
            <a:r>
              <a:rPr b="1" lang="fa-IR" sz="30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 algn="r" rtl="1"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4b4eb5"/>
                </a:solidFill>
                <a:latin typeface="Times New Roman"/>
              </a:rPr>
              <a:t>يك ديد اوليه و كلي، با نگرش</a:t>
            </a:r>
            <a:r>
              <a:rPr b="1" lang="fa-IR" sz="2600" spc="-1" strike="noStrike">
                <a:solidFill>
                  <a:srgbClr val="4b4eb5"/>
                </a:solidFill>
                <a:latin typeface="Times New Roman"/>
              </a:rPr>
              <a:t>ي</a:t>
            </a:r>
            <a:r>
              <a:rPr b="1" lang="ar-SA" sz="2600" spc="-1" strike="noStrike">
                <a:solidFill>
                  <a:srgbClr val="4b4eb5"/>
                </a:solidFill>
                <a:latin typeface="Times New Roman"/>
              </a:rPr>
              <a:t> فني، درباره نيازمندي</a:t>
            </a:r>
            <a:r>
              <a:rPr b="1" lang="fa-IR" sz="2600" spc="-1" strike="noStrike">
                <a:solidFill>
                  <a:srgbClr val="4b4eb5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4b4eb5"/>
                </a:solidFill>
                <a:latin typeface="Times New Roman"/>
              </a:rPr>
              <a:t>هاي اصلي، ويژگي</a:t>
            </a:r>
            <a:r>
              <a:rPr b="1" lang="fa-IR" sz="2600" spc="-1" strike="noStrike">
                <a:solidFill>
                  <a:srgbClr val="4b4eb5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4b4eb5"/>
                </a:solidFill>
                <a:latin typeface="Times New Roman"/>
              </a:rPr>
              <a:t>هاي كليدي و محدوديت</a:t>
            </a:r>
            <a:r>
              <a:rPr b="1" lang="fa-IR" sz="2600" spc="-1" strike="noStrike">
                <a:solidFill>
                  <a:srgbClr val="4b4eb5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4b4eb5"/>
                </a:solidFill>
                <a:latin typeface="Times New Roman"/>
              </a:rPr>
              <a:t>هاي اساسي سيستم را به توسعه دهندگان مي</a:t>
            </a:r>
            <a:r>
              <a:rPr b="1" lang="fa-IR" sz="2600" spc="-1" strike="noStrike">
                <a:solidFill>
                  <a:srgbClr val="4b4eb5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4b4eb5"/>
                </a:solidFill>
                <a:latin typeface="Times New Roman"/>
              </a:rPr>
              <a:t>ده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29040" indent="-329040" algn="r" rtl="1"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ff"/>
                </a:solidFill>
                <a:latin typeface="Times New Roman"/>
              </a:rPr>
              <a:t>مدل موارد كاربري</a:t>
            </a:r>
            <a:r>
              <a:rPr b="1" lang="fa-IR" sz="30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Use-case Model</a:t>
            </a:r>
            <a:r>
              <a:rPr b="1" lang="fa-IR" sz="30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 algn="r" rtl="1"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4b4eb5"/>
                </a:solidFill>
                <a:latin typeface="Times New Roman"/>
              </a:rPr>
              <a:t>دربردارنده همه موارد كاربري و عواملي كه در اين فاز قابل تشخيصن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29040" indent="-329040" algn="r" rtl="1"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ff"/>
                </a:solidFill>
                <a:latin typeface="Times New Roman"/>
              </a:rPr>
              <a:t>واژه‌نامه (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Glossary</a:t>
            </a:r>
            <a:r>
              <a:rPr b="1" lang="ar-SA" sz="30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 algn="r" rtl="1"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4b4eb5"/>
                </a:solidFill>
                <a:latin typeface="Times New Roman"/>
              </a:rPr>
              <a:t>شامل اصطلاحات مهمي كه در پروژه استفاده مي‌شود همراه تعريف دقيق آن</a:t>
            </a:r>
            <a:r>
              <a:rPr b="1" lang="fa-IR" sz="2600" spc="-1" strike="noStrike">
                <a:solidFill>
                  <a:srgbClr val="4b4eb5"/>
                </a:solidFill>
                <a:latin typeface="Times New Roman"/>
              </a:rPr>
              <a:t>ها</a:t>
            </a:r>
            <a:r>
              <a:rPr b="1" lang="ar-SA" sz="2600" spc="-1" strike="noStrike">
                <a:solidFill>
                  <a:srgbClr val="4b4eb5"/>
                </a:solidFill>
                <a:latin typeface="Times New Roman"/>
              </a:rPr>
              <a:t>ست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F38F-AF21-4FCA-BE75-73EC89A781E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از آغازين 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رآورده‌ها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11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ff"/>
                </a:solidFill>
                <a:latin typeface="Times New Roman"/>
              </a:rPr>
              <a:t>مورد كاري ابتدائي</a:t>
            </a:r>
            <a:r>
              <a:rPr b="1" lang="fa-IR" sz="30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usiness Case</a:t>
            </a:r>
            <a:r>
              <a:rPr b="1" lang="fa-IR" sz="30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 algn="r" rtl="1">
              <a:lnSpc>
                <a:spcPct val="11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4b4eb5"/>
                </a:solidFill>
                <a:latin typeface="Times New Roman"/>
              </a:rPr>
              <a:t>شرح محيط شغلي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 algn="r" rtl="1">
              <a:lnSpc>
                <a:spcPct val="11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4b4eb5"/>
                </a:solidFill>
                <a:latin typeface="Times New Roman"/>
              </a:rPr>
              <a:t>فاكتورهاي موفقيت</a:t>
            </a:r>
            <a:r>
              <a:rPr b="1" lang="fa-IR" sz="2600" spc="-1" strike="noStrike">
                <a:solidFill>
                  <a:srgbClr val="4b4eb5"/>
                </a:solidFill>
                <a:latin typeface="Times New Roman"/>
              </a:rPr>
              <a:t> </a:t>
            </a:r>
            <a:r>
              <a:rPr b="1" lang="ar-SA" sz="2600" spc="-1" strike="noStrike">
                <a:solidFill>
                  <a:srgbClr val="4b4eb5"/>
                </a:solidFill>
                <a:latin typeface="Times New Roman"/>
              </a:rPr>
              <a:t>(برآورد درآمد، شناخت بازار،…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 algn="r" rtl="1">
              <a:lnSpc>
                <a:spcPct val="11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4b4eb5"/>
                </a:solidFill>
                <a:latin typeface="Times New Roman"/>
              </a:rPr>
              <a:t>برآورد هزينه</a:t>
            </a:r>
            <a:r>
              <a:rPr b="1" lang="fa-IR" sz="2600" spc="-1" strike="noStrike">
                <a:solidFill>
                  <a:srgbClr val="4b4eb5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4b4eb5"/>
                </a:solidFill>
                <a:latin typeface="Times New Roman"/>
              </a:rPr>
              <a:t>هاي مالي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 algn="r" rtl="1">
              <a:lnSpc>
                <a:spcPct val="11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4b4eb5"/>
                </a:solidFill>
                <a:latin typeface="Times New Roman"/>
              </a:rPr>
              <a:t>پيش</a:t>
            </a:r>
            <a:r>
              <a:rPr b="1" lang="fa-IR" sz="2600" spc="-1" strike="noStrike">
                <a:solidFill>
                  <a:srgbClr val="4b4eb5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4b4eb5"/>
                </a:solidFill>
                <a:latin typeface="Times New Roman"/>
              </a:rPr>
              <a:t>بيني ابتدائي ريسك هاي احتمالي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 algn="r" rtl="1">
              <a:lnSpc>
                <a:spcPct val="11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4b4eb5"/>
                </a:solidFill>
                <a:latin typeface="Times New Roman"/>
              </a:rPr>
              <a:t>برنامه</a:t>
            </a:r>
            <a:r>
              <a:rPr b="1" lang="fa-IR" sz="2600" spc="-1" strike="noStrike">
                <a:solidFill>
                  <a:srgbClr val="4b4eb5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4b4eb5"/>
                </a:solidFill>
                <a:latin typeface="Times New Roman"/>
              </a:rPr>
              <a:t>ريزي براي پروژه و زمانبندي آن( زمان شروع فازهاي چهارگانه و تكرارهاي آنها)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29040" indent="-329040" algn="r" rtl="1">
              <a:lnSpc>
                <a:spcPct val="11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ff"/>
                </a:solidFill>
                <a:latin typeface="Times New Roman"/>
              </a:rPr>
              <a:t>تخمين منابع مورد نياز در اين فاز يا كل پروژه است 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2821-D69C-470F-A162-24C74ADA21D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از آغازين 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رآورده‌هاي انتخابي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ff"/>
                </a:solidFill>
                <a:latin typeface="Times New Roman"/>
              </a:rPr>
              <a:t>مدل دامنه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Domain Model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) كه از فهرست انعطاف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پذيري بيشتري دار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ff"/>
                </a:solidFill>
                <a:latin typeface="Times New Roman"/>
              </a:rPr>
              <a:t>مدل </a:t>
            </a:r>
            <a:r>
              <a:rPr b="1" lang="fa-IR" sz="3000" spc="-1" strike="noStrike">
                <a:solidFill>
                  <a:srgbClr val="0000ff"/>
                </a:solidFill>
                <a:latin typeface="Times New Roman"/>
              </a:rPr>
              <a:t>حرفه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Business Model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) كه فرآيندها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ي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حرفه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سيستم را بيان م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نماي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ff"/>
                </a:solidFill>
                <a:latin typeface="Times New Roman"/>
              </a:rPr>
              <a:t>نمونه‌هايي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Prototypes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) از سيستم مورد نظر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D4EF-466C-4A09-ADAF-11EFA1DEF53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هرست مطالب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ساختار پويا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فازآغازين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فاز تشريح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فاز ساخت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فاز انتقال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430B-A7C2-4560-BCF4-D9C06A8F67C5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از آغازين 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رسنگ شمار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توافق ذينفعان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روي تعيين محدوده سيستم و برآوردهاي انجام شده روي زمان و هزينه مورد نياز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05280" indent="-3052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پايداري موارد كاربري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م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شخص شده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پايداري معيار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ي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براي كيفيت درك نيازمند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ي سيستم تلقي م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گرد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05280" indent="-3052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منطقي بودن برآورد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هزينه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، زمان مورد نياز و ريسك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آيا برنامه فاز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ها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حاوي جزئيات كافي 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هستند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؟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468360" y="2565360"/>
            <a:ext cx="7924680" cy="2016000"/>
          </a:xfrm>
          <a:prstGeom prst="rect">
            <a:avLst/>
          </a:prstGeom>
          <a:solidFill>
            <a:srgbClr val="ff3300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Nazanin"/>
              </a:rPr>
              <a:t>ناتواني پروژه از گذشتن از اين فرسنگ شمار به معني عدم موفقيت آن خواهد بود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8954-5732-4A51-BE7C-D3AC4E6B87E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از تشريح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هدف اصلي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اين فاز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تحليل دامنه مسأله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، بدست آوردن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معماري مناسب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و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مستحكم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براي سيستم، توسعه نقشه پروژه و جلوگيري از ريسك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ي حياتي سيستم است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8A59-2D65-42F8-85D2-7CC41FBA1E6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از تشريح 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- اهداف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lnSpc>
                <a:spcPct val="11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بدست آوردن يك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معماري بنيادي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Architecture Baseline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)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مناسب و پايا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بوده به طوريكه زمينه اصلي و نقطه شروع توسعه سيستم در فازهاي بعدي باش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288000" indent="-288000" algn="r" rtl="1">
              <a:lnSpc>
                <a:spcPct val="11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بدست آوردن يك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دورنماي مناسب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كه بعنوان دورنماي بنيادي عمل مي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نمايد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288000" indent="-288000" algn="r" rtl="1">
              <a:lnSpc>
                <a:spcPct val="11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بدست آوردن يك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برنامه پايا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(بنيادي) براي توسعه فاز ساخت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288000" indent="-288000" algn="r" rtl="1">
              <a:lnSpc>
                <a:spcPct val="11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نشان دادن اين كه معماري بنيادي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قدرت پشتيباني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از دورنماي بدست آمده با هزينه و زمان مناسب داراست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AB51-987A-4D7C-AC03-409CDB0C720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از تشريح 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عاليت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توسعه و بدست آوردن جزئيات دورنما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277560" indent="-27756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شخص نمودن محيط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ي توسعه مورد نياز و جايگاه ابزارهاي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ASE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در خودكارسازي فرآيند تولي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277560" indent="-27756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توسعه معماري و انتخاب مؤلفه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ي لازم است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601560" indent="-23148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مؤلفه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ي در دسترس ارزيابي مي شوند و درباره ساختن/خريدن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/استفاده مجدد از مؤلفه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ي مورد نياز، تصميم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گير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ي لازم اتخاذ م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شوند و بدين صورت م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توان هزينه و زمان مورد نياز فاز بعد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(ساخت) پيش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بيني و براي آن برنامه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ريزي مناسبي نمو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669E-166F-4F84-A8ED-D28EB1123B85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از تشريح 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رآورده‌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120000"/>
              </a:lnSpc>
              <a:spcBef>
                <a:spcPts val="64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مدل موارد كاربر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(حداقل بايد 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80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% آن كامل باشد) كه در آن بيشتر موارد كاربري سيستم و عوامل آن، شناسائي و مستند شده باشن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-318960" algn="r" rtl="1">
              <a:lnSpc>
                <a:spcPct val="120000"/>
              </a:lnSpc>
              <a:spcBef>
                <a:spcPts val="64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نيازمندي</a:t>
            </a:r>
            <a:r>
              <a:rPr b="1" lang="fa-IR" sz="26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هاي تكميلي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upplementary Requirement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) كه شامل نيازهاي غير وظيفه‌مندي و نيازمند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يي كه به يك مورد كاربري معيني انتساب داده نشده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ان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-318960" algn="r" rtl="1">
              <a:lnSpc>
                <a:spcPct val="120000"/>
              </a:lnSpc>
              <a:spcBef>
                <a:spcPts val="64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توصيف معماري سيستم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-318960" algn="r" rtl="1">
              <a:lnSpc>
                <a:spcPct val="120000"/>
              </a:lnSpc>
              <a:spcBef>
                <a:spcPts val="64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نمونه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(آزمايشگاهي) از يك معماري قابل اجرا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-318960" algn="r" rtl="1">
              <a:lnSpc>
                <a:spcPct val="120000"/>
              </a:lnSpc>
              <a:spcBef>
                <a:spcPts val="64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فهرست ريسك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ي و موارد كاري بازبيني شده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-318960" algn="r" rtl="1">
              <a:lnSpc>
                <a:spcPct val="120000"/>
              </a:lnSpc>
              <a:spcBef>
                <a:spcPts val="64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برنامه 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تفصيلي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توسعه كل پروژه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284F-285A-4A88-AC67-6DD91C56FC0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از تشريح 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رسنگ شمار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آيا به يك دورنماي پايا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ble Vision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) رسيده‌ايم؟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15360" indent="-31536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آيا معماري بدست آمده پايدار است؟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15360" indent="-31536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آيا نمونه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ي اجرائي ساخته شده نشان م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هند كه ريسك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ي اصلي به خوبي شناخته و راه مقابله با آن مشخص شده است؟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15360" indent="-31536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آيا برنامه فاز ساخت حاوي جزئيات كافي است؟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961D-0F77-460B-A5D1-BB08A4012AC0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از تشريح (ادام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آيا همه ذينفعان بر توانايي دستيابي به دورنمای مورد نظر بوسيله اجراي دقيق نقشه فعلي و با توجه به معماري فعلي اتفاق نظر دارند؟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آيا مصرف حقيقي منابع، تا به حال، با مصرف پيش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بيني شده سازگار است؟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3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" name="Text Box 4"/>
          <p:cNvSpPr/>
          <p:nvPr/>
        </p:nvSpPr>
        <p:spPr>
          <a:xfrm>
            <a:off x="539640" y="2349360"/>
            <a:ext cx="7925040" cy="2376720"/>
          </a:xfrm>
          <a:prstGeom prst="rect">
            <a:avLst/>
          </a:prstGeom>
          <a:solidFill>
            <a:srgbClr val="ff3300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Nazanin"/>
              </a:rPr>
              <a:t>اگ</a:t>
            </a:r>
            <a:r>
              <a:rPr b="1" lang="fa-IR" sz="3600" spc="-1" strike="noStrike">
                <a:solidFill>
                  <a:srgbClr val="ffff00"/>
                </a:solidFill>
                <a:latin typeface="Times New Roman"/>
                <a:cs typeface="Nazanin"/>
              </a:rPr>
              <a:t>ـ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Nazanin"/>
              </a:rPr>
              <a:t>ر پ</a:t>
            </a:r>
            <a:r>
              <a:rPr b="1" lang="fa-IR" sz="3600" spc="-1" strike="noStrike">
                <a:solidFill>
                  <a:srgbClr val="ffff00"/>
                </a:solidFill>
                <a:latin typeface="Times New Roman"/>
                <a:cs typeface="Nazanin"/>
              </a:rPr>
              <a:t>ـ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Nazanin"/>
              </a:rPr>
              <a:t>روژه نت</a:t>
            </a:r>
            <a:r>
              <a:rPr b="1" lang="fa-IR" sz="3600" spc="-1" strike="noStrike">
                <a:solidFill>
                  <a:srgbClr val="ffff00"/>
                </a:solidFill>
                <a:latin typeface="Times New Roman"/>
                <a:cs typeface="Nazanin"/>
              </a:rPr>
              <a:t>ـ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Nazanin"/>
              </a:rPr>
              <a:t>واند از اين فرسنگ شمار بگذرد يا اجراي آن بايد قطع گردد يا دربارة آن بايد تجديد نظر نمود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6" name="Picture 5" descr="FRUSTRAT"/>
          <p:cNvPicPr/>
          <p:nvPr/>
        </p:nvPicPr>
        <p:blipFill>
          <a:blip r:embed="rId1"/>
          <a:stretch/>
        </p:blipFill>
        <p:spPr>
          <a:xfrm>
            <a:off x="3564000" y="5025960"/>
            <a:ext cx="201600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A5F9-A1F9-4A37-8E97-14BB6A85A2E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از ساخت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از يك نگاه، عبارتست از 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فرآيند توليد صنعتي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Manufacturing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) كه در آن روي مديريت منابع، كنترل عمليات، بهينه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سازي هزينه‌ها، زمانبندي و كيفيت تاكيد م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شو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9296-2E42-438E-91F9-54B0ED93575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از ساخت 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- اهداف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به</a:t>
            </a:r>
            <a:r>
              <a:rPr b="1" lang="fa-IR" sz="30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حداقل رساندن هزينه‌ها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ي توليد بوسيله بهينه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سازي استفاده از منابع و ناديده گرفتن بعضي از كارهاي تكراري و غير مهم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-31896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بدست آوردن يك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كيفيت </a:t>
            </a:r>
            <a:r>
              <a:rPr b="1" lang="fa-IR" sz="3000" spc="-1" strike="noStrike">
                <a:solidFill>
                  <a:srgbClr val="cc3300"/>
                </a:solidFill>
                <a:latin typeface="Times New Roman"/>
              </a:rPr>
              <a:t>عالي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در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سريعترين زمان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عملي ممكن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-31896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رسيدن به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نسخه</a:t>
            </a:r>
            <a:r>
              <a:rPr b="1" lang="fa-IR" sz="30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هاي قابل استفاده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عملي كاربران (آلفا، بتا) در سريعترين زمان ممكن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9A4B-82E8-45DA-B74F-702641B3742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از ساخت 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- فعاليت‌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ديريت منابع و كنترل آن و همچنين بهينه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سازي فرآيند تولي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تكميل توسعه مؤلفه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 و انجام آزمايش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ي گوناگون با توجه شرايط ارزيابي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on Criteria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ارزيابي نشرها در مقايسه با دورنمای مطلوب (همان شرايط ارزيابي)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3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56FB-82C0-44F9-AC61-9DBF15C3020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قدمه‌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1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و بعد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RUP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از ديدگاه ديگر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1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4b4eb5"/>
                </a:solidFill>
                <a:latin typeface="Times New Roman"/>
              </a:rPr>
              <a:t>تكنيكي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: جنبه‌هاي كيفيت، مهندسي، و روش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ي طراحي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1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4b4eb5"/>
                </a:solidFill>
                <a:latin typeface="Times New Roman"/>
              </a:rPr>
              <a:t>مديريتي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: جنبه‌هاي مالي، استراتژيك، تجاري و كنترل منابع انساني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6905520" y="2646360"/>
            <a:ext cx="486000" cy="519120"/>
          </a:xfrm>
          <a:prstGeom prst="downArrow">
            <a:avLst>
              <a:gd name="adj1" fmla="val 49676"/>
              <a:gd name="adj2" fmla="val 3723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372360" y="321300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  <a:cs typeface="Nazanin"/>
              </a:rPr>
              <a:t>بعد ايست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372360" y="5235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  <a:cs typeface="Nazanin"/>
              </a:rPr>
              <a:t>بعد پوي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6981840" y="4702320"/>
            <a:ext cx="485640" cy="519120"/>
          </a:xfrm>
          <a:prstGeom prst="downArrow">
            <a:avLst>
              <a:gd name="adj1" fmla="val 49676"/>
              <a:gd name="adj2" fmla="val 3726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D113-F857-4E16-9CCF-FCB0E8C1562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از ساخت 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رآورده‌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حصول نهائي نرم افزار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فترچه راهنماي كاربران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توصيف نشرهاي فعلي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10F5-5238-4F2F-B1A6-BC2A05563E4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از ساخت 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رسنگ شمار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آيا نشر محصول به اندازه كافي محكم و پايدار است كه براي استفاده بوسيله كاربران آماده باشد؟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آيا هزينه واقعي منابع با هزينه پيش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بيني شده هنوز سازگار است؟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6A20-8968-45CC-A05D-4D1D8E3B71A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از انتقال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هدف اصلي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اين فاز عملياتي كردن نرم‌افزار يا انتقال آن به جامعه كاربران است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C036-1176-4552-9335-3B758CC0367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از انتقال 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- اهداف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انتقال نرم</a:t>
            </a:r>
            <a:r>
              <a:rPr b="1" lang="fa-IR" sz="30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افزار به محيط كاربران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و گرفتن نظرات آنها در مورد نحوه عملكرد سيستم جديد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15360" indent="-31536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بدست آوردن توافق همه ذينفعان درباره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كامل بودن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Deployment Baseline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و سازگار بودن آن با شرايط ارزيابي دورنما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15360" indent="-31536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بدست آوردن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Product Baseline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 نهائي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در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سريعترين زمان و با كمترين هزينه ممكن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734C-4927-4B89-A972-F51AA525D65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از انتقال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– فعاليت‌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انجام جنبه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ي مهندسي مربوط به استقرار شامل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بسته</a:t>
            </a:r>
            <a:r>
              <a:rPr b="1" lang="fa-IR" sz="30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بندي و نصب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محصول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-31896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انجام فعاليت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ي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بهينه</a:t>
            </a:r>
            <a:r>
              <a:rPr b="1" lang="fa-IR" sz="30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سازي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مانند اصلاح خطاها و سرعت بخشيدن به اجراي برنامه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-31896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انجام آزمايش بتا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براي آزمايش سيستم و ارزيابي نتايج اين آزمايش با توجه به عملكرد مورد انتظار كاربران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7AF5-EAE8-47C0-9FFB-F4F0AD367FF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از انتقال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– فعاليت‌ها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آماده‌سازي مستندات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، آموزش كاربران و آماد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گي براي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پاسخگويي و پشتيباني از آنها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اجراي هر دو سيستم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، قديمي و جديد با هم به صورت موازي، براي مدتي از زمان، براي مقايسه عملكرد اين دو سيستم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3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4B7D-C13D-44C6-8155-F8DD9049BC7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از انتقال 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– فرآورده‌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تكميل دفترچه راهنماي كاربران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تكميل دفترچه نصب و نگهداري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ستند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Notes Release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اطلاعات مربوط به اشكالات برنامه، شماره نسخه فعلي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FCE8-22AF-401E-930E-C504FC6DC15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از انتقال 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– فرسنگ‌شمار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آيا كاربر راضي است؟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زينه‌هاي پيش‌بيني‌شده با هزينه‌هاي واقعي چه تفاوتي دارند؟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3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0C96-4093-4FA1-966D-7B563212681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 rtl="1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000" spc="-1" strike="noStrike">
                <a:solidFill>
                  <a:srgbClr val="000099"/>
                </a:solidFill>
                <a:latin typeface="Times New Roman"/>
              </a:rPr>
              <a:t>پرسش و پاسخ</a:t>
            </a:r>
            <a:endParaRPr b="1" lang="en-US" sz="9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0DFE-356B-4541-9AFD-88CE2526054E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فرآيند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عبارت از مجموعه‌اي از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گام</a:t>
            </a:r>
            <a:r>
              <a:rPr b="1" lang="fa-IR" sz="30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هاي نيمه‌مرتب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emi-Order Steps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) كه نتيجه آن رسيدن به يك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هدف معين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است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فرآيند توليد نرم‌افزار يك فرآيند خشك (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Rigid Process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) كه گام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ي آن كاملاً مشخص و از پيش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تعريف شده باشد نيست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(اصطلاحاً مانند كتاب آشپزي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Cookbook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نيست!) يك فرآيند 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تدريجي و تكراري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كه در آن جايي براي ابداع و خلاقيت بايد وجود داشته باشد.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12120" indent="0" algn="r" rtl="1">
              <a:lnSpc>
                <a:spcPct val="1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1116000" y="5877000"/>
            <a:ext cx="6781680" cy="961200"/>
            <a:chOff x="1116000" y="5877000"/>
            <a:chExt cx="6781680" cy="961200"/>
          </a:xfrm>
        </p:grpSpPr>
        <p:sp>
          <p:nvSpPr>
            <p:cNvPr id="123" name="Text Box 5"/>
            <p:cNvSpPr/>
            <p:nvPr/>
          </p:nvSpPr>
          <p:spPr>
            <a:xfrm>
              <a:off x="5154480" y="5891040"/>
              <a:ext cx="2743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cc3300"/>
                  </a:solidFill>
                  <a:latin typeface="Times New Roman"/>
                  <a:cs typeface="Nazanin"/>
                </a:rPr>
                <a:t>چرا نيمه مرتب؟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AutoShape 6"/>
            <p:cNvSpPr/>
            <p:nvPr/>
          </p:nvSpPr>
          <p:spPr>
            <a:xfrm>
              <a:off x="4545000" y="5877000"/>
              <a:ext cx="761760" cy="485640"/>
            </a:xfrm>
            <a:prstGeom prst="leftArrow">
              <a:avLst>
                <a:gd name="adj1" fmla="val 60787"/>
                <a:gd name="adj2" fmla="val 60455"/>
              </a:avLst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Text Box 7"/>
            <p:cNvSpPr/>
            <p:nvPr/>
          </p:nvSpPr>
          <p:spPr>
            <a:xfrm>
              <a:off x="1116000" y="5877000"/>
              <a:ext cx="3352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cc3300"/>
                  </a:solidFill>
                  <a:latin typeface="Times New Roman"/>
                  <a:cs typeface="Nazanin"/>
                </a:rPr>
                <a:t>بعلت وجود نيروي انساني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A6BE-AA69-4F48-B21D-E09C6AC4B2E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ساختار ايست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از يك فرآيند توليد انتظار مي‌رود كه معين‌كند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چه كس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Who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)،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به چه صورت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How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)،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چه چيزي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What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) را بايد در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چه زمان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When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)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توليد کن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29" name="Group 4"/>
          <p:cNvGrpSpPr/>
          <p:nvPr/>
        </p:nvGrpSpPr>
        <p:grpSpPr>
          <a:xfrm>
            <a:off x="179280" y="3341520"/>
            <a:ext cx="8001000" cy="3111480"/>
            <a:chOff x="179280" y="3341520"/>
            <a:chExt cx="8001000" cy="3111480"/>
          </a:xfrm>
        </p:grpSpPr>
        <p:sp>
          <p:nvSpPr>
            <p:cNvPr id="130" name="Text Box 5"/>
            <p:cNvSpPr/>
            <p:nvPr/>
          </p:nvSpPr>
          <p:spPr>
            <a:xfrm>
              <a:off x="179280" y="3646440"/>
              <a:ext cx="8001000" cy="27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4b4eb5"/>
                  </a:solidFill>
                  <a:latin typeface="Times New Roman"/>
                  <a:cs typeface="Nazanin"/>
                </a:rPr>
                <a:t>نقش</a:t>
              </a:r>
              <a:r>
                <a:rPr b="1" lang="fa-IR" sz="3200" spc="-1" strike="noStrike">
                  <a:solidFill>
                    <a:srgbClr val="4b4eb5"/>
                  </a:solidFill>
                  <a:latin typeface="Times New Roman"/>
                  <a:ea typeface="Nazanin"/>
                </a:rPr>
                <a:t>‌</a:t>
              </a:r>
              <a:r>
                <a:rPr b="1" lang="ar-SA" sz="3200" spc="-1" strike="noStrike">
                  <a:solidFill>
                    <a:srgbClr val="4b4eb5"/>
                  </a:solidFill>
                  <a:latin typeface="Times New Roman"/>
                  <a:cs typeface="Nazanin"/>
                </a:rPr>
                <a:t>ها(</a:t>
              </a:r>
              <a:r>
                <a:rPr b="1" i="1" lang="en-US" sz="2800" spc="-1" strike="noStrike">
                  <a:solidFill>
                    <a:srgbClr val="4b4eb5"/>
                  </a:solidFill>
                  <a:latin typeface="Times New Roman"/>
                  <a:ea typeface="Nazanin"/>
                </a:rPr>
                <a:t>Roles</a:t>
              </a:r>
              <a:r>
                <a:rPr b="1" lang="ar-SA" sz="3200" spc="-1" strike="noStrike">
                  <a:solidFill>
                    <a:srgbClr val="4b4eb5"/>
                  </a:solidFill>
                  <a:latin typeface="Times New Roman"/>
                  <a:ea typeface="Nazanin"/>
                </a:rPr>
                <a:t>): </a:t>
              </a:r>
              <a:r>
                <a:rPr b="1" lang="en-US" sz="3200" spc="-1" strike="noStrike">
                  <a:solidFill>
                    <a:srgbClr val="4b4eb5"/>
                  </a:solidFill>
                  <a:latin typeface="Times New Roman"/>
                  <a:ea typeface="Nazanin"/>
                </a:rPr>
                <a:t>  </a:t>
              </a: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  <a:ea typeface="Nazanin"/>
                </a:rPr>
                <a:t>Who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r" rtl="1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4b4eb5"/>
                  </a:solidFill>
                  <a:latin typeface="Times New Roman"/>
                  <a:cs typeface="Nazanin"/>
                </a:rPr>
                <a:t>فعاليت</a:t>
              </a:r>
              <a:r>
                <a:rPr b="1" lang="fa-IR" sz="3200" spc="-1" strike="noStrike">
                  <a:solidFill>
                    <a:srgbClr val="4b4eb5"/>
                  </a:solidFill>
                  <a:latin typeface="Times New Roman"/>
                  <a:ea typeface="Nazanin"/>
                </a:rPr>
                <a:t>‌</a:t>
              </a:r>
              <a:r>
                <a:rPr b="1" lang="ar-SA" sz="3200" spc="-1" strike="noStrike">
                  <a:solidFill>
                    <a:srgbClr val="4b4eb5"/>
                  </a:solidFill>
                  <a:latin typeface="Times New Roman"/>
                  <a:cs typeface="Nazanin"/>
                </a:rPr>
                <a:t>ها(</a:t>
              </a:r>
              <a:r>
                <a:rPr b="1" i="1" lang="en-US" sz="2800" spc="-1" strike="noStrike">
                  <a:solidFill>
                    <a:srgbClr val="4b4eb5"/>
                  </a:solidFill>
                  <a:latin typeface="Times New Roman"/>
                  <a:ea typeface="Nazanin"/>
                </a:rPr>
                <a:t>Activities</a:t>
              </a:r>
              <a:r>
                <a:rPr b="1" lang="ar-SA" sz="3200" spc="-1" strike="noStrike">
                  <a:solidFill>
                    <a:srgbClr val="4b4eb5"/>
                  </a:solidFill>
                  <a:latin typeface="Times New Roman"/>
                  <a:ea typeface="Nazanin"/>
                </a:rPr>
                <a:t>): </a:t>
              </a: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  <a:ea typeface="Nazanin"/>
                </a:rPr>
                <a:t>How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4b4eb5"/>
                  </a:solidFill>
                  <a:latin typeface="Times New Roman"/>
                  <a:cs typeface="Nazanin"/>
                </a:rPr>
                <a:t>فرآورده</a:t>
              </a:r>
              <a:r>
                <a:rPr b="1" lang="ar-SA" sz="3200" spc="-1" strike="noStrike">
                  <a:solidFill>
                    <a:srgbClr val="4b4eb5"/>
                  </a:solidFill>
                  <a:latin typeface="Times New Roman"/>
                  <a:ea typeface="Homa"/>
                </a:rPr>
                <a:t>‌</a:t>
              </a:r>
              <a:r>
                <a:rPr b="1" lang="ar-SA" sz="3200" spc="-1" strike="noStrike">
                  <a:solidFill>
                    <a:srgbClr val="4b4eb5"/>
                  </a:solidFill>
                  <a:latin typeface="Times New Roman"/>
                  <a:cs typeface="Nazanin"/>
                </a:rPr>
                <a:t>ها(</a:t>
              </a:r>
              <a:r>
                <a:rPr b="1" i="1" lang="en-US" sz="2800" spc="-1" strike="noStrike">
                  <a:solidFill>
                    <a:srgbClr val="4b4eb5"/>
                  </a:solidFill>
                  <a:latin typeface="Times New Roman"/>
                  <a:ea typeface="Nazanin"/>
                </a:rPr>
                <a:t>Artifacts</a:t>
              </a:r>
              <a:r>
                <a:rPr b="1" lang="ar-SA" sz="3200" spc="-1" strike="noStrike">
                  <a:solidFill>
                    <a:srgbClr val="4b4eb5"/>
                  </a:solidFill>
                  <a:latin typeface="Times New Roman"/>
                  <a:ea typeface="Nazanin"/>
                </a:rPr>
                <a:t>):</a:t>
              </a:r>
              <a:r>
                <a:rPr b="1" lang="en-US" sz="3200" spc="-1" strike="noStrike">
                  <a:solidFill>
                    <a:srgbClr val="4b4eb5"/>
                  </a:solidFill>
                  <a:latin typeface="Times New Roman"/>
                  <a:ea typeface="Nazanin"/>
                </a:rPr>
                <a:t> </a:t>
              </a: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  <a:ea typeface="Nazanin"/>
                </a:rPr>
                <a:t>What</a:t>
              </a:r>
              <a:r>
                <a:rPr b="1" lang="en-US" sz="3200" spc="-1" strike="noStrike">
                  <a:solidFill>
                    <a:srgbClr val="4b4eb5"/>
                  </a:solidFill>
                  <a:latin typeface="Times New Roman"/>
                  <a:ea typeface="Nazani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r" rtl="1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4b4eb5"/>
                  </a:solidFill>
                  <a:latin typeface="Times New Roman"/>
                  <a:cs typeface="Nazanin"/>
                </a:rPr>
                <a:t>نظم</a:t>
              </a:r>
              <a:r>
                <a:rPr b="1" lang="ar-SA" sz="3200" spc="-1" strike="noStrike">
                  <a:solidFill>
                    <a:srgbClr val="4b4eb5"/>
                  </a:solidFill>
                  <a:latin typeface="Times New Roman"/>
                  <a:ea typeface="Homa"/>
                </a:rPr>
                <a:t>‌</a:t>
              </a:r>
              <a:r>
                <a:rPr b="1" lang="ar-SA" sz="3200" spc="-1" strike="noStrike">
                  <a:solidFill>
                    <a:srgbClr val="4b4eb5"/>
                  </a:solidFill>
                  <a:latin typeface="Times New Roman"/>
                  <a:cs typeface="Nazanin"/>
                </a:rPr>
                <a:t>ها</a:t>
              </a:r>
              <a:r>
                <a:rPr b="1" lang="fa-IR" sz="3200" spc="-1" strike="noStrike">
                  <a:solidFill>
                    <a:srgbClr val="4b4eb5"/>
                  </a:solidFill>
                  <a:latin typeface="Times New Roman"/>
                  <a:ea typeface="Nazanin"/>
                </a:rPr>
                <a:t> </a:t>
              </a:r>
              <a:r>
                <a:rPr b="1" lang="ar-SA" sz="3200" spc="-1" strike="noStrike">
                  <a:solidFill>
                    <a:srgbClr val="4b4eb5"/>
                  </a:solidFill>
                  <a:latin typeface="Times New Roman"/>
                  <a:ea typeface="Nazanin"/>
                </a:rPr>
                <a:t>(</a:t>
              </a:r>
              <a:r>
                <a:rPr b="1" i="1" lang="en-US" sz="2800" spc="-1" strike="noStrike">
                  <a:solidFill>
                    <a:srgbClr val="4b4eb5"/>
                  </a:solidFill>
                  <a:latin typeface="Times New Roman"/>
                  <a:ea typeface="Nazanin"/>
                </a:rPr>
                <a:t>Disciplines</a:t>
              </a:r>
              <a:r>
                <a:rPr b="1" lang="ar-SA" sz="3200" spc="-1" strike="noStrike">
                  <a:solidFill>
                    <a:srgbClr val="4b4eb5"/>
                  </a:solidFill>
                  <a:latin typeface="Times New Roman"/>
                  <a:ea typeface="Nazanin"/>
                </a:rPr>
                <a:t>): </a:t>
              </a: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  <a:ea typeface="Nazanin"/>
                </a:rPr>
                <a:t>When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131" name="Object 6"/>
            <p:cNvGraphicFramePr/>
            <p:nvPr/>
          </p:nvGraphicFramePr>
          <p:xfrm>
            <a:off x="2693880" y="3341520"/>
            <a:ext cx="709560" cy="969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2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93880" y="3341520"/>
                      <a:ext cx="709560" cy="96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" name="Object 7"/>
            <p:cNvGraphicFramePr/>
            <p:nvPr/>
          </p:nvGraphicFramePr>
          <p:xfrm>
            <a:off x="2770200" y="4408200"/>
            <a:ext cx="914400" cy="55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4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70200" y="4408200"/>
                      <a:ext cx="914400" cy="55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" name="Object 8"/>
            <p:cNvGraphicFramePr/>
            <p:nvPr/>
          </p:nvGraphicFramePr>
          <p:xfrm>
            <a:off x="2846160" y="5170320"/>
            <a:ext cx="52704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6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46160" y="5170320"/>
                      <a:ext cx="52704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7" name="Object 9"/>
            <p:cNvGraphicFramePr/>
            <p:nvPr/>
          </p:nvGraphicFramePr>
          <p:xfrm>
            <a:off x="2541600" y="5856120"/>
            <a:ext cx="982440" cy="596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8" name="Object 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41600" y="5856120"/>
                      <a:ext cx="98244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1FC5-D607-4085-A105-C905AA0A283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ساختار ايستا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41" name="Group 20"/>
          <p:cNvGrpSpPr/>
          <p:nvPr/>
        </p:nvGrpSpPr>
        <p:grpSpPr>
          <a:xfrm>
            <a:off x="684360" y="1376280"/>
            <a:ext cx="6984360" cy="4500360"/>
            <a:chOff x="684360" y="1376280"/>
            <a:chExt cx="6984360" cy="4500360"/>
          </a:xfrm>
        </p:grpSpPr>
        <p:graphicFrame>
          <p:nvGraphicFramePr>
            <p:cNvPr id="142" name="Object 21"/>
            <p:cNvGraphicFramePr/>
            <p:nvPr/>
          </p:nvGraphicFramePr>
          <p:xfrm>
            <a:off x="2252160" y="1376280"/>
            <a:ext cx="5416560" cy="4500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3" name="Object 2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52160" y="1376280"/>
                      <a:ext cx="5416560" cy="450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4" name="Text Box 22"/>
            <p:cNvSpPr/>
            <p:nvPr/>
          </p:nvSpPr>
          <p:spPr>
            <a:xfrm>
              <a:off x="1913400" y="1719360"/>
              <a:ext cx="1652040" cy="75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66"/>
                  </a:solidFill>
                  <a:latin typeface="Times New Roman (Arabic)"/>
                  <a:cs typeface="Nazanin"/>
                </a:rPr>
                <a:t>فرآيند مهندسي نرم</a:t>
              </a:r>
              <a:r>
                <a:rPr b="1" lang="fa-IR" sz="1600" spc="-1" strike="noStrike">
                  <a:solidFill>
                    <a:srgbClr val="000066"/>
                  </a:solidFill>
                  <a:latin typeface="Times New Roman (Arabic)"/>
                  <a:ea typeface="Nazanin"/>
                </a:rPr>
                <a:t>‌</a:t>
              </a:r>
              <a:r>
                <a:rPr b="1" lang="ar-SA" sz="1600" spc="-1" strike="noStrike">
                  <a:solidFill>
                    <a:srgbClr val="000066"/>
                  </a:solidFill>
                  <a:latin typeface="Times New Roman (Arabic)"/>
                  <a:cs typeface="Nazanin"/>
                </a:rPr>
                <a:t>افزار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Text Box 23"/>
            <p:cNvSpPr/>
            <p:nvPr/>
          </p:nvSpPr>
          <p:spPr>
            <a:xfrm>
              <a:off x="3944880" y="1633320"/>
              <a:ext cx="22003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66"/>
                  </a:solidFill>
                  <a:latin typeface="Lotus"/>
                  <a:cs typeface="Nazanin"/>
                </a:rPr>
                <a:t>سازماندهي مي</a:t>
              </a:r>
              <a:r>
                <a:rPr b="1" lang="fa-IR" sz="1600" spc="-1" strike="noStrike">
                  <a:solidFill>
                    <a:srgbClr val="000066"/>
                  </a:solidFill>
                  <a:latin typeface="Lotus"/>
                  <a:ea typeface="Nazanin"/>
                </a:rPr>
                <a:t>‌</a:t>
              </a:r>
              <a:r>
                <a:rPr b="1" lang="ar-SA" sz="1600" spc="-1" strike="noStrike">
                  <a:solidFill>
                    <a:srgbClr val="000066"/>
                  </a:solidFill>
                  <a:latin typeface="Lotus"/>
                  <a:cs typeface="Nazanin"/>
                </a:rPr>
                <a:t>شود بوسيله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Line 24"/>
            <p:cNvSpPr/>
            <p:nvPr/>
          </p:nvSpPr>
          <p:spPr>
            <a:xfrm>
              <a:off x="2760120" y="2748960"/>
              <a:ext cx="0" cy="60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Text Box 25"/>
            <p:cNvSpPr/>
            <p:nvPr/>
          </p:nvSpPr>
          <p:spPr>
            <a:xfrm>
              <a:off x="897840" y="2849040"/>
              <a:ext cx="165204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66"/>
                  </a:solidFill>
                  <a:latin typeface="Lotus"/>
                  <a:cs typeface="Nazanin"/>
                </a:rPr>
                <a:t>بيان مي شود بوسيله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Line 26"/>
            <p:cNvSpPr/>
            <p:nvPr/>
          </p:nvSpPr>
          <p:spPr>
            <a:xfrm>
              <a:off x="2844360" y="4464720"/>
              <a:ext cx="0" cy="60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Text Box 27"/>
            <p:cNvSpPr/>
            <p:nvPr/>
          </p:nvSpPr>
          <p:spPr>
            <a:xfrm>
              <a:off x="684360" y="4636440"/>
              <a:ext cx="2160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66"/>
                  </a:solidFill>
                  <a:latin typeface="Times New Roman (Arabic)"/>
                  <a:cs typeface="Nazanin"/>
                </a:rPr>
                <a:t>توصيف مي</a:t>
              </a:r>
              <a:r>
                <a:rPr b="1" lang="fa-IR" sz="1600" spc="-1" strike="noStrike">
                  <a:solidFill>
                    <a:srgbClr val="000066"/>
                  </a:solidFill>
                  <a:latin typeface="Times New Roman (Arabic)"/>
                  <a:ea typeface="Nazanin"/>
                </a:rPr>
                <a:t>‌</a:t>
              </a:r>
              <a:r>
                <a:rPr b="1" lang="ar-SA" sz="1600" spc="-1" strike="noStrike">
                  <a:solidFill>
                    <a:srgbClr val="000066"/>
                  </a:solidFill>
                  <a:latin typeface="Times New Roman (Arabic)"/>
                  <a:cs typeface="Nazanin"/>
                </a:rPr>
                <a:t>شود بوسيله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Text Box 28"/>
            <p:cNvSpPr/>
            <p:nvPr/>
          </p:nvSpPr>
          <p:spPr>
            <a:xfrm>
              <a:off x="2505960" y="4164120"/>
              <a:ext cx="90072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66"/>
                  </a:solidFill>
                  <a:latin typeface="Times New Roman (Arabic)"/>
                  <a:cs typeface="Nazanin"/>
                </a:rPr>
                <a:t>گردش كار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Text Box 29"/>
            <p:cNvSpPr/>
            <p:nvPr/>
          </p:nvSpPr>
          <p:spPr>
            <a:xfrm>
              <a:off x="6437880" y="2405520"/>
              <a:ext cx="120276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66"/>
                  </a:solidFill>
                  <a:latin typeface="Times New Roman (Arabic)"/>
                  <a:cs typeface="Nazanin"/>
                </a:rPr>
                <a:t>نظم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Text Box 30"/>
            <p:cNvSpPr/>
            <p:nvPr/>
          </p:nvSpPr>
          <p:spPr>
            <a:xfrm>
              <a:off x="6288480" y="3492360"/>
              <a:ext cx="75096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66"/>
                  </a:solidFill>
                  <a:latin typeface="Times New Roman (Arabic)"/>
                  <a:cs typeface="Nazanin"/>
                </a:rPr>
                <a:t>فعاليت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Text Box 31"/>
            <p:cNvSpPr/>
            <p:nvPr/>
          </p:nvSpPr>
          <p:spPr>
            <a:xfrm>
              <a:off x="5891400" y="5322600"/>
              <a:ext cx="120060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66"/>
                  </a:solidFill>
                  <a:latin typeface="Times New Roman (Arabic)"/>
                  <a:cs typeface="Nazanin"/>
                </a:rPr>
                <a:t>فرآورده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Text Box 32"/>
            <p:cNvSpPr/>
            <p:nvPr/>
          </p:nvSpPr>
          <p:spPr>
            <a:xfrm>
              <a:off x="4029480" y="4293360"/>
              <a:ext cx="75096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66"/>
                  </a:solidFill>
                  <a:latin typeface="Times New Roman (Arabic)"/>
                  <a:cs typeface="Nazanin"/>
                </a:rPr>
                <a:t>نقش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Text Box 33"/>
            <p:cNvSpPr/>
            <p:nvPr/>
          </p:nvSpPr>
          <p:spPr>
            <a:xfrm>
              <a:off x="4960440" y="3092400"/>
              <a:ext cx="7513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66"/>
                  </a:solidFill>
                  <a:latin typeface="Times New Roman (Arabic)"/>
                  <a:cs typeface="Nazanin"/>
                </a:rPr>
                <a:t>انجام مي</a:t>
              </a:r>
              <a:r>
                <a:rPr b="1" lang="fa-IR" sz="1600" spc="-1" strike="noStrike">
                  <a:solidFill>
                    <a:srgbClr val="000066"/>
                  </a:solidFill>
                  <a:latin typeface="Times New Roman (Arabic)"/>
                  <a:ea typeface="Nazanin"/>
                </a:rPr>
                <a:t>‌</a:t>
              </a:r>
              <a:r>
                <a:rPr b="1" lang="ar-SA" sz="1600" spc="-1" strike="noStrike">
                  <a:solidFill>
                    <a:srgbClr val="000066"/>
                  </a:solidFill>
                  <a:latin typeface="Times New Roman (Arabic)"/>
                  <a:cs typeface="Nazanin"/>
                </a:rPr>
                <a:t>دهد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Text Box 34"/>
            <p:cNvSpPr/>
            <p:nvPr/>
          </p:nvSpPr>
          <p:spPr>
            <a:xfrm>
              <a:off x="4198680" y="4636440"/>
              <a:ext cx="172440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66"/>
                  </a:solidFill>
                  <a:latin typeface="Times New Roman (Arabic)"/>
                  <a:cs typeface="Nazanin"/>
                </a:rPr>
                <a:t>مسئوليت دارد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66"/>
                  </a:solidFill>
                  <a:latin typeface="Times New Roman (Arabic)"/>
                  <a:cs typeface="Nazanin"/>
                </a:rPr>
                <a:t>در رابطه با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Line 35"/>
            <p:cNvSpPr/>
            <p:nvPr/>
          </p:nvSpPr>
          <p:spPr>
            <a:xfrm>
              <a:off x="3648600" y="1976760"/>
              <a:ext cx="279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8" name="Text Box 36"/>
          <p:cNvSpPr/>
          <p:nvPr/>
        </p:nvSpPr>
        <p:spPr>
          <a:xfrm>
            <a:off x="1639800" y="5985000"/>
            <a:ext cx="6245280" cy="7038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Nazanin"/>
              </a:rPr>
              <a:t>رابطه بين مؤلفه</a:t>
            </a:r>
            <a:r>
              <a:rPr b="1" lang="fa-IR" sz="2000" spc="-1" strike="noStrike">
                <a:solidFill>
                  <a:srgbClr val="000000"/>
                </a:solidFill>
                <a:latin typeface="Times New Roman"/>
                <a:ea typeface="Nazanin"/>
              </a:rPr>
              <a:t>‌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Nazanin"/>
              </a:rPr>
              <a:t>هاي اساسي بعد ايستاي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P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Nazanin"/>
              </a:rPr>
              <a:t> و فرآيند توليد نرم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Homa"/>
              </a:rPr>
              <a:t>‌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Nazanin"/>
              </a:rPr>
              <a:t>افزار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6CD6-505C-4245-BD34-45F9C3CFEA0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قش (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Role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cc3300"/>
                </a:solidFill>
                <a:latin typeface="Times New Roman"/>
              </a:rPr>
              <a:t>ر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فتار و مسئوليت</a:t>
            </a:r>
            <a:r>
              <a:rPr b="1" lang="fa-IR" sz="30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ها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يي كه يك نفر (يا افراد يك تيم) در پروژه بعهده دارد، را مشخص مي‌نمايد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62" name="Group 4"/>
          <p:cNvGrpSpPr/>
          <p:nvPr/>
        </p:nvGrpSpPr>
        <p:grpSpPr>
          <a:xfrm>
            <a:off x="1403280" y="3573360"/>
            <a:ext cx="6400800" cy="825480"/>
            <a:chOff x="1403280" y="3573360"/>
            <a:chExt cx="6400800" cy="825480"/>
          </a:xfrm>
        </p:grpSpPr>
        <p:sp>
          <p:nvSpPr>
            <p:cNvPr id="163" name="AutoShape 5"/>
            <p:cNvSpPr/>
            <p:nvPr/>
          </p:nvSpPr>
          <p:spPr>
            <a:xfrm>
              <a:off x="6051240" y="3573360"/>
              <a:ext cx="533520" cy="485640"/>
            </a:xfrm>
            <a:prstGeom prst="leftArrow">
              <a:avLst>
                <a:gd name="adj1" fmla="val 71241"/>
                <a:gd name="adj2" fmla="val 53556"/>
              </a:avLst>
            </a:prstGeom>
            <a:solidFill>
              <a:srgbClr val="c470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Rectangle 6"/>
            <p:cNvSpPr/>
            <p:nvPr/>
          </p:nvSpPr>
          <p:spPr>
            <a:xfrm>
              <a:off x="6737040" y="357336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cc3300"/>
                  </a:solidFill>
                  <a:latin typeface="Times New Roman"/>
                  <a:cs typeface="Nazanin"/>
                </a:rPr>
                <a:t>رفتار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1403280" y="3573360"/>
              <a:ext cx="4419360" cy="82548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فعاليت</a:t>
              </a:r>
              <a:r>
                <a:rPr b="1" lang="fa-IR" sz="2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‌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هايي كه يك نفر بايد انجام دهد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6" name="Group 8"/>
          <p:cNvGrpSpPr/>
          <p:nvPr/>
        </p:nvGrpSpPr>
        <p:grpSpPr>
          <a:xfrm>
            <a:off x="1403280" y="4653000"/>
            <a:ext cx="6781680" cy="1629720"/>
            <a:chOff x="1403280" y="4653000"/>
            <a:chExt cx="6781680" cy="1629720"/>
          </a:xfrm>
        </p:grpSpPr>
        <p:sp>
          <p:nvSpPr>
            <p:cNvPr id="167" name="AutoShape 9"/>
            <p:cNvSpPr/>
            <p:nvPr/>
          </p:nvSpPr>
          <p:spPr>
            <a:xfrm>
              <a:off x="6051240" y="4875120"/>
              <a:ext cx="533520" cy="486000"/>
            </a:xfrm>
            <a:prstGeom prst="leftArrow">
              <a:avLst>
                <a:gd name="adj1" fmla="val 71241"/>
                <a:gd name="adj2" fmla="val 53516"/>
              </a:avLst>
            </a:prstGeom>
            <a:solidFill>
              <a:srgbClr val="c470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Rectangle 10"/>
            <p:cNvSpPr/>
            <p:nvPr/>
          </p:nvSpPr>
          <p:spPr>
            <a:xfrm>
              <a:off x="6737040" y="4875120"/>
              <a:ext cx="144792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cc3300"/>
                  </a:solidFill>
                  <a:latin typeface="Times New Roman"/>
                  <a:cs typeface="Nazanin"/>
                </a:rPr>
                <a:t>مسئوليت</a:t>
              </a:r>
              <a:r>
                <a:rPr b="1" lang="fa-IR" sz="2400" spc="-1" strike="noStrike">
                  <a:solidFill>
                    <a:srgbClr val="cc3300"/>
                  </a:solidFill>
                  <a:latin typeface="Times New Roman"/>
                  <a:ea typeface="Nazanin"/>
                </a:rPr>
                <a:t>‌</a:t>
              </a:r>
              <a:r>
                <a:rPr b="1" lang="ar-SA" sz="2400" spc="-1" strike="noStrike">
                  <a:solidFill>
                    <a:srgbClr val="cc3300"/>
                  </a:solidFill>
                  <a:latin typeface="Times New Roman"/>
                  <a:cs typeface="Nazanin"/>
                </a:rPr>
                <a:t>ها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1403280" y="4653000"/>
              <a:ext cx="4419360" cy="162972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وظيفه يك نفر در رابطه با توليد، به روز رساني، يا استفاده از فرآورده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ea typeface="Lotus"/>
                </a:rPr>
                <a:t>‌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ها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4:13:32Z</dcterms:created>
  <dc:creator>Fereidoon Shams</dc:creator>
  <dc:description/>
  <dc:language>en-US</dc:language>
  <cp:lastModifiedBy>Administrator</cp:lastModifiedBy>
  <dcterms:modified xsi:type="dcterms:W3CDTF">2011-10-06T09:21:35Z</dcterms:modified>
  <cp:revision>1308</cp:revision>
  <dc:subject/>
  <dc:title>PowerPoint Presentation</dc:title>
</cp:coreProperties>
</file>