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.wmf" ContentType="image/x-wmf"/>
  <Override PartName="/ppt/media/image15.png" ContentType="image/png"/>
  <Override PartName="/ppt/media/image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91C3-F1B2-4883-82E1-839F9CA7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38AB-6EBE-41E4-B354-8AE7E7BF3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8854-3E4C-44D8-B2F1-1A5C3237B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9838-453E-4FE4-A194-B046965E0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C7C0A-F2C3-425A-9A4B-8159F3C5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54048-423D-4BC8-AD8E-8AF0F3D2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1ADDE-6767-42DD-9B2C-F80E557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23167-091B-49B1-8A2E-74726F35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D6E0-7D64-4488-B327-A3C34E1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76DA9-B75F-4529-B340-55496EC1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1AF19-B6C8-4AEB-91A9-C88D16A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24D1-3E18-4F24-BB46-FE3989FC8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4D45F-B880-4FBC-AAD8-81D237F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35C94-FA12-4FFC-BDE6-437D155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BDD50-81B4-49C3-9C9F-F4433639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73C5-9CE3-4C19-BC65-AB85C849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16977-683C-4288-BE39-F5BFA077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63C7-0E8F-4284-8C6A-1F9B24FF7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9B4E-AE6A-4C9F-B7FC-035F39E82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CC07-A29D-4AB2-8467-F769DEC4D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6A9F-1F9C-43D8-A6E0-A4FC63F6D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286D-5EFD-4B8E-B784-78233D1D2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6565-85FE-4AF1-A929-59F455B9A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0C1E-9A0C-4E2C-862A-7A20643B9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77C-C87F-4C8C-91EE-352FAFF4708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22A-9C60-455F-997B-323903BEA302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روش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های سريع الانتقال (چابک) توسعه نرم افزا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16200" y="220500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دوا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8CA-1EB0-4683-9943-D9ABE69BE59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عيارهای مقايسه متدولوژي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ها با يکديگر 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يار موفقي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ازه پروژ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بک مديري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حوه مستندسازی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چرخ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ازه تيم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گشت سرماي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1F8-EEAD-4068-A301-078E07AED25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صورت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daptiv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يا سازگار عمل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ند يعنی با شرايط منطبق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بصورت پيشگو يا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edictiv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عمل   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ند يعنی در آغاز همه چيز را پ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ينی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1116000" y="2637000"/>
            <a:ext cx="6551640" cy="180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  <a:cs typeface="Nazanin"/>
              </a:rPr>
              <a:t>آيا </a:t>
            </a:r>
            <a:r>
              <a:rPr b="1" lang="fa-IR" sz="3200" spc="-1" strike="noStrike" u="sng">
                <a:solidFill>
                  <a:srgbClr val="000000"/>
                </a:solidFill>
                <a:uFillTx/>
                <a:latin typeface="Tahoma"/>
                <a:cs typeface="Nazanin"/>
              </a:rPr>
              <a:t>همه چيز</a:t>
            </a:r>
            <a:r>
              <a:rPr b="1" lang="fa-IR" sz="3200" spc="-1" strike="noStrike">
                <a:solidFill>
                  <a:srgbClr val="000000"/>
                </a:solidFill>
                <a:latin typeface="Tahoma"/>
                <a:ea typeface="Nazanin"/>
              </a:rPr>
              <a:t> از ابتدا قابل پيش‌بينی است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5" name="Group 5"/>
          <p:cNvGrpSpPr/>
          <p:nvPr/>
        </p:nvGrpSpPr>
        <p:grpSpPr>
          <a:xfrm>
            <a:off x="638280" y="5229360"/>
            <a:ext cx="7772400" cy="368280"/>
            <a:chOff x="638280" y="5229360"/>
            <a:chExt cx="7772400" cy="368280"/>
          </a:xfrm>
        </p:grpSpPr>
        <p:sp>
          <p:nvSpPr>
            <p:cNvPr id="416" name="Line 6"/>
            <p:cNvSpPr/>
            <p:nvPr/>
          </p:nvSpPr>
          <p:spPr>
            <a:xfrm>
              <a:off x="638280" y="5457600"/>
              <a:ext cx="7772400" cy="0"/>
            </a:xfrm>
            <a:prstGeom prst="line">
              <a:avLst/>
            </a:prstGeom>
            <a:ln w="76320">
              <a:solidFill>
                <a:srgbClr val="c4709a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Text Box 7"/>
            <p:cNvSpPr/>
            <p:nvPr/>
          </p:nvSpPr>
          <p:spPr>
            <a:xfrm>
              <a:off x="3611880" y="5229360"/>
              <a:ext cx="221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Discipl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Text Box 8"/>
          <p:cNvSpPr/>
          <p:nvPr/>
        </p:nvSpPr>
        <p:spPr>
          <a:xfrm>
            <a:off x="6438240" y="446724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igi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Highly Structu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94280" y="45435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Ad hoc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Chao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684360" y="5734080"/>
            <a:ext cx="7696080" cy="403200"/>
          </a:xfrm>
          <a:prstGeom prst="rect">
            <a:avLst/>
          </a:prstGeom>
          <a:gradFill rotWithShape="0">
            <a:gsLst>
              <a:gs pos="0">
                <a:srgbClr val="c4709a">
                  <a:alpha val="52156"/>
                </a:srgbClr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044000" y="57326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ile Proce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6204600" y="5734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13"/>
          <p:cNvGrpSpPr/>
          <p:nvPr/>
        </p:nvGrpSpPr>
        <p:grpSpPr>
          <a:xfrm>
            <a:off x="1143000" y="6265800"/>
            <a:ext cx="6629400" cy="368280"/>
            <a:chOff x="1143000" y="6265800"/>
            <a:chExt cx="6629400" cy="368280"/>
          </a:xfrm>
        </p:grpSpPr>
        <p:sp>
          <p:nvSpPr>
            <p:cNvPr id="424" name="Line 14"/>
            <p:cNvSpPr/>
            <p:nvPr/>
          </p:nvSpPr>
          <p:spPr>
            <a:xfrm>
              <a:off x="1143000" y="6418440"/>
              <a:ext cx="6629400" cy="0"/>
            </a:xfrm>
            <a:prstGeom prst="line">
              <a:avLst/>
            </a:prstGeom>
            <a:ln w="76320">
              <a:solidFill>
                <a:srgbClr val="76b74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15"/>
            <p:cNvSpPr/>
            <p:nvPr/>
          </p:nvSpPr>
          <p:spPr>
            <a:xfrm>
              <a:off x="3963600" y="6265800"/>
              <a:ext cx="1299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MM - SW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9F37-0CB0-4B44-8421-6D41C81AD0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يار موفق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يار موفقيت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ستيابی به ارزش کاری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Business Valu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معيار موفقيت پيش رفتن در راستای طرح اولي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116000" y="2708280"/>
            <a:ext cx="6551640" cy="180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Nazanin"/>
              </a:rPr>
              <a:t>روش</a:t>
            </a:r>
            <a:r>
              <a:rPr b="1" lang="fa-IR" sz="32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Nazanin"/>
              </a:rPr>
              <a:t>های سنگين وزن انعطاف</a:t>
            </a:r>
            <a:r>
              <a:rPr b="1" lang="fa-IR" sz="32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Nazanin"/>
              </a:rPr>
              <a:t>پذيری ندارند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BD5-1874-45F1-863B-9B9009AFA19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ندازه پروژ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ازه پروژه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کوچک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ازه پروژه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اند بسيار بزرگ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324000" y="2708280"/>
            <a:ext cx="8280360" cy="1942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ين مسأله از محبوبيت روش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چاب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 ن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کاهد 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(آمار نشان 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دهد که تعداد پروژ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کوچک بسيار بيشتر است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CC8-D064-4B17-B51F-CE07B5D0364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بک مدير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يت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صورت غيرمتمرکز و آزاد 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مديريت بصورت مطلق و استبدادی 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684360" y="2708280"/>
            <a:ext cx="7705440" cy="180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مديريت غيرمتمرکز امکان تصميم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گيری بهتر را فراهم 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کن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4BA-01F7-48EF-AB15-EDC17D40741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مستندساز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ستندسازی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صورت بسيار محدود انجام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مستندسازی بصورت کامل و جامع انجام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611280" y="2637000"/>
            <a:ext cx="7705800" cy="180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در بسياری از موارد مستند سازي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سنگين, کار بسيار دشوار و زمانبری اس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B43D-3959-4527-A359-7D2A2F36F7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چرخ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داد چرخ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ycle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سيار زياد است اما زمان آنها کوت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تعداد چرخ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کم است ولی زمان آنها بسيار زياد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AutoShape 4"/>
          <p:cNvSpPr/>
          <p:nvPr/>
        </p:nvSpPr>
        <p:spPr>
          <a:xfrm>
            <a:off x="611280" y="2708280"/>
            <a:ext cx="7705800" cy="180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زمانبر بودن چرخ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توليد, موجب طولانی شدن زمان انتظار برای رسيدن به نشرها 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شو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A1F-F0DD-4D53-92D3-9FAB26699BB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ندازه تيم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ندازه تيم کوچک است (بين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ا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فر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اندازه تيم توسعه بزرگ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611280" y="2781360"/>
            <a:ext cx="7705800" cy="180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خلاقيت و همکاری در تيم کوچک بسيار بيشتر خواهد بو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BCD0-D66A-48A8-96E6-828E6BD89E9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برگشت سرماي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رمايه خيلی زود در طول پروژه بر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سنگين وزن برای برگشت سرمايه بايد تا انتهای پروژه صبر ک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11280" y="2637000"/>
            <a:ext cx="7416720" cy="180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روش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چاب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 از لحاظ اقتصادی بصرف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ن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5748-8B08-454D-9751-B850878E662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ي سبک و سنگي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828720" y="1916280"/>
          <a:ext cx="7054920" cy="4176720"/>
        </p:xfrm>
        <a:graphic>
          <a:graphicData uri="http://schemas.openxmlformats.org/drawingml/2006/table">
            <a:tbl>
              <a:tblPr/>
              <a:tblGrid>
                <a:gridCol w="2116080"/>
                <a:gridCol w="2811600"/>
                <a:gridCol w="212724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ile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vy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da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edi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ess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siness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nformation to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ment 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central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utoc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eople-Ori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cess-Ori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Unpredictable/Explora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edic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mall/Cre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112-42CB-48F9-9448-C4397B54841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قسي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ندی متدولوژ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توسعه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عيارها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قايس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تدولوژ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با يکديگ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قايسه متدولوژ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بر اساس معيارهای مطرح ش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صو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نياد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تدولوژ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چابک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رف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ند روش چابك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0503-EB63-477E-BD26-03380ED45D7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يانيه روش‌هاي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چابک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سال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2001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تخصصان روش‌هاي چابک بيانيه‌اي  را منتشر كردند و اين روش‌ها را در چهار اصل كلي به دنياي نرم‌افزار معرفي نمودند كه عبارتند از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فردگراي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عامل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تر از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فرآيندها و ابزار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رم‌افزار قابل اجر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ر از مستندات مفهوم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مکاري با مشتريا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ر از مذاکرات قراردادگر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پاسخ به تغيي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هت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 از دنبال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وي از طرح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100-ECF1-4F51-8CBF-4C8FDA75DDC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عروف‌ترين روش‌هاي چابک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XP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treme Programming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crum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ystal Family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DD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Feature Driven Development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ynamic System Development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daptive Software Development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n Source Software Development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D133-08E0-4800-B453-8CB76139C13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xtreme Programming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 مبنای اصو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دگ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مکار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ازخور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د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سريع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وا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يده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توسط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ent Bec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 سا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2000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رائه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بتنی بر آزمايش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st-Drive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قش مشتريان بسيار پررنگ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آن شامل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فعاليت و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فاز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7EEB-4D1C-4E10-8CCE-74656A62D2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7257960" y="1717560"/>
            <a:ext cx="797040" cy="4608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6465960" y="1717560"/>
            <a:ext cx="796680" cy="4608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5437080" y="1717560"/>
            <a:ext cx="1035000" cy="4608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949480" y="1717560"/>
            <a:ext cx="2487600" cy="4608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1868400" y="1717560"/>
            <a:ext cx="1081080" cy="4608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819000" y="1717560"/>
            <a:ext cx="1055880" cy="46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– چرخه ح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74" name="Picture 6" descr="_x001e_H砂W砂_x0012_焑真㱸眭຀_x0017_締_x001e_綴_x001e_Ğ砂հ_x001a_"/>
          <p:cNvPicPr/>
          <p:nvPr/>
        </p:nvPicPr>
        <p:blipFill>
          <a:blip r:embed="rId1">
            <a:lum bright="-32000"/>
          </a:blip>
          <a:stretch/>
        </p:blipFill>
        <p:spPr>
          <a:xfrm>
            <a:off x="828720" y="2004840"/>
            <a:ext cx="727236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EDD-7B5B-49AB-B39E-5FEAEB1DFE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فاز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چرخه حيات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X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 شامل پنج فاز است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ploratio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lann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terations To Releas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duct Tioniz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Maintenance and Dead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8" name="Picture 6" descr="GuydrawingData_iStock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AE0-E39F-4411-86FC-12F7237506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نقش‌ها و مسئوليت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نامه‌نويس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شت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زمايش‌کنند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پي‌گيري کننده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rack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رب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شاور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دير (رئيس ارشد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1224000" cy="1155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232000" cy="1432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1725840" cy="2052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4"/>
          <a:stretch/>
        </p:blipFill>
        <p:spPr>
          <a:xfrm>
            <a:off x="2927520" y="4797360"/>
            <a:ext cx="13795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745-D2EF-44FB-946C-855D6EB3CC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er Storie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عمول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اً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بشکل متنی بوده و توسط مشتريان نوشته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ز طريق آنها نيازمندي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سيستم مشخص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eration Pla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جموع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ی از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User Story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هاست که توسط مشتری انتخاب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ر يک تکرار که معمول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اً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دو هفته طول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کشد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توليد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طرح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تکرار با توجه به اولويت مشخص شده توسط مشتری اجرا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نتخاب براساس بودجه تعيين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ده توسط توسع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هندگان خواهد بو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7DEC-4C08-4BCE-8B51-2E13B203DCF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lease Pla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جموع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ی از طرح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تکرار را در قالب يک نقشه کلی برای رسيدن به نشرها نمايش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ask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زيرمجموع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ی از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User Story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ها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Task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 از نظر تکنيکی و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کاری اولويت بيشتری دارند و بايد سريع انجام 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Task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 در مرحله طرح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ريز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کرار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ها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Iteration Planning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) مشخص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53B-9760-46B2-B795-AA480DBF508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taphor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نشان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هنده يک تصوير کلی از سيستم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رای هر عنصر در سيستم يک نام در نظر گرفته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رتباط بين عناصر درگير در سيستم از طريق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Metaphore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مشخص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pik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يک را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ل ضربتی (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Spike Solution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رنامه ساد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يست که بوسيل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آن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وان را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ل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بالقوه را کشف ک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ر مواردی که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User Story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ها حساس و مهمند از آن استفاده می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9698-FA56-4C81-BC96-5D79E02CEC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عمل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nning Gam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يک تعامل محصور (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Close Interaction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) بين مشتری و برنام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نويس بدست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آ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رنام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نويس کار لازم برای پياد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سازی گزارش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مشتری را تخمين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زند و مشتری در مورد حوزه و زمان نشرها تصميم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گيری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mple Desig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أکيد اصلی در اين روش بر روی طراحی ساد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رين  را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ل ممکن است و پيچيدگي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ای غيرضروری و کدهای اضافی به سرعت حذف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E598-8C96-4734-A361-401BB6B0F54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توسعه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توليد و توسعه نرم‌افزار ذاتاً يك فرآين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ي‌نظ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پر هرج و مرج است. برا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ظ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ادن به اين فرآيند، متدولوژي‌هاي توسعه نرم‌افزار مطرح شد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دولوژي توسعه نرم‌افزار مشخص مي‌کند،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ه فرآورده‌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ha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توسط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ه کس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ho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و د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ه زمان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he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توليد شود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48E-9D07-4B17-9757-EBFCDFBB229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عمليا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st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وسعه نرم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فزار يک فرآيند آزمايش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گراست (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Test-Driven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قبل از اينکه برنامه</a:t>
            </a:r>
            <a:r>
              <a:rPr b="1" lang="fa-IR" sz="20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نويس يک خاصيت را اضافه کند</a:t>
            </a:r>
            <a:r>
              <a:rPr b="1" lang="fa-IR" sz="2000" spc="-1" strike="noStrike">
                <a:solidFill>
                  <a:srgbClr val="800000"/>
                </a:solidFill>
                <a:latin typeface="Times New Roman"/>
              </a:rPr>
              <a:t>،</a:t>
            </a: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 برای آن يک تست طراحی می</a:t>
            </a:r>
            <a:r>
              <a:rPr b="1" lang="fa-IR" sz="20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کند</a:t>
            </a:r>
            <a:r>
              <a:rPr b="1" lang="fa-IR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که بصورت پيوسته اجرا می</a:t>
            </a:r>
            <a:r>
              <a:rPr b="1" lang="fa-IR" sz="20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800000"/>
                </a:solidFill>
                <a:latin typeface="Times New Roman"/>
              </a:rPr>
              <a:t>گرد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factor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ازسازی سيستم با حذف موارد تکرار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بهبود ارتباطات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ساد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‍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سازی و افزايش انعطاف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پذيری سيست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air Programm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دو نفر کد را روی يک کامپيوتر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نويسند (يک کدنويس و يک متخصص استراتژی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F55-6DAB-4A4B-BEE2-E0E7F420011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عمليا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llective Ownershi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هر فردی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واند کد را در هر زمانی تغيير 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1160" indent="-28116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tinuous Integratio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کد جديد در حداقل زمان ممکن به کد اوليه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پيوندد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بنابراين سيستم دفعات زيادی در روز يکپارچه شده و ساخته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1160" indent="-28116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our Week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داکثر چهل ساعت کار در هفته کافی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اين مورد اجباری است و بيشتر از اين ساعات کار مجاز ن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188-D86C-43EB-A180-D57C7F4A76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XP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عمليا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n- Site Customer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شتری بايد بصورت تمام وقت برای تيم توسعه در دسترس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ding Standard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قواعد کدنويسی بايد توسط برنام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نويسان رعايت شود و ارتباط بين کدها مورد توجه قرار گي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205-C487-4402-B21D-D13C4E971DF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fa-IR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eature Driven Development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مام فرآيند توسعه نرم افزار را پوشش ن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د و بيشتر روی دو فاز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راح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ياد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ز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تمرکز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ی استفاده بهمراه ساير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يک پروژه توسعه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 طراحی شده است و هيچ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دل فرآيند خاصی لازم ندار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بتنی بر توسع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کرار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انتخاب بهترين و موثرترين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ی جنب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کيفتی تأکيد دارد و شام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شرهای محسوس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پيگيری دقيق پيشرفت پروژه 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D063-4737-487E-BA02-183C8ED4F7A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فرآيندهای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امل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نج فرآين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رتيبی است که از طريق آنها 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طراحی و پي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ی انجام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 rtl="1">
              <a:lnSpc>
                <a:spcPct val="12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 rtl="1">
              <a:lnSpc>
                <a:spcPct val="12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قسمت تکراری فرآيند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DD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(طراحی و ساخت) از توسع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اب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حمايت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تکرار از يک خاص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مو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ً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ا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هفته زمان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985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9223-50F8-4F79-AF07-944D2612D4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DD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ق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خود را به سه دسته کلی تقسيم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ق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ی کليدی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ق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ی حمايتی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ق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ی اضافی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7" name="Picture 7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2046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085-2A9C-4AD2-9E27-93472DEC4AD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ي کلي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 پروژ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مار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ر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 توس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نام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ويس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ر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الك كلاس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ass Own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تخصص دام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omain Manag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1" name="Picture 6" descr=""/>
          <p:cNvPicPr/>
          <p:nvPr/>
        </p:nvPicPr>
        <p:blipFill>
          <a:blip r:embed="rId1"/>
          <a:stretch/>
        </p:blipFill>
        <p:spPr>
          <a:xfrm>
            <a:off x="179280" y="3235320"/>
            <a:ext cx="352908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B0C-497A-4C09-B468-D72149121D5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ي حمايت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 نش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lease Manag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شاور زب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anguage Guru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هندس ساخت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ild Engine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سئول ابز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oolsmith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ystem Administrato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28447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698-7D12-4039-983B-E5A98856BE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ي اضاف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ه نقش اضافی که در همه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وجود دا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آزمايش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کننده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Tester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مستقرکننده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Deployer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نويسنده 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فني</a:t>
            </a:r>
            <a:r>
              <a:rPr b="1" lang="ar-SA" sz="2400" spc="-1" strike="noStrike">
                <a:solidFill>
                  <a:srgbClr val="3366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6600"/>
                </a:solidFill>
                <a:latin typeface="Times New Roman"/>
              </a:rPr>
              <a:t>Technical Writer</a:t>
            </a:r>
            <a:r>
              <a:rPr b="1" lang="fa-IR" sz="24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عضو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اند چندين نقش بازی کند و هر نقش ممکن است به چند عضو نسبت داده شو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9AA-1798-42FC-AC3D-AE085AB965C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هترين تجرب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omain Object Model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شامل استخراج و توضيح دامنه مسأله م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eveloping By Featur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توسعه و بررسی ميزان  پيشرفت پروژه از طريق دنبال کردن پياده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سازی ليست وظايف و خواص مشخص شد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ndividual Class Ownershi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برای هر کلاس شخص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وجود دا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شته باشد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که مسئول سازگاری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،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کارايی و صحت آن 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ED4-077E-43CF-AE0B-8612C4AB84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تقسيم بندی متدولوژي</a:t>
            </a: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های توسعه نرم</a:t>
            </a: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افزار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متدولوژي</a:t>
            </a:r>
            <a:r>
              <a:rPr b="1" lang="fa-IR" sz="28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های سنگين وزن (</a:t>
            </a:r>
            <a:r>
              <a:rPr b="1" i="1" lang="en-US" sz="2200" spc="-1" strike="noStrike">
                <a:solidFill>
                  <a:srgbClr val="800000"/>
                </a:solidFill>
                <a:latin typeface="Times New Roman"/>
              </a:rPr>
              <a:t>Heavyweight</a:t>
            </a:r>
            <a:r>
              <a:rPr b="1" lang="fa-IR" sz="28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فازها بطور کامل اجرا شده و مستندات کامل ايجاد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متدولوژي</a:t>
            </a:r>
            <a:r>
              <a:rPr b="1" lang="fa-IR" sz="2800" spc="-1" strike="noStrike">
                <a:solidFill>
                  <a:srgbClr val="8000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های سبک وزن (</a:t>
            </a:r>
            <a:r>
              <a:rPr b="1" i="1" lang="en-US" sz="2200" spc="-1" strike="noStrike">
                <a:solidFill>
                  <a:srgbClr val="800000"/>
                </a:solidFill>
                <a:latin typeface="Times New Roman"/>
              </a:rPr>
              <a:t>Lightweight</a:t>
            </a:r>
            <a:r>
              <a:rPr b="1" lang="fa-IR" sz="28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فازها به صورت کوتاه و مستندات به اندازه ايجاد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تدولوژيها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چابک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دسته دوم قرار دار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هترين تجرب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Feature Team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تيم كوچكي كه به‌صورت پويا شكل گرفته‌ا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nspection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استفاده از معروفترين و بهترين مكانيزهاي شناسايي خطا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gular Builds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تضمين اينكه هميشه يك سيستم قابل اجرا و قابل نمايش دادن (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Demo</a:t>
            </a: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) وجود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figuration Management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داشتن تاريخچه تغييرات و نسخه‌هاي مختلف (بهمراه كد منبع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ی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DD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بهترين تجرب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gress Reportin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Times New Roman"/>
              </a:rPr>
              <a:t>روند اجراي فعاليت‌ها به صورت كامل و در سطوح مختلف سازماني گزارش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617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4F0-D5BA-4812-BF38-23C7B46EAD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يک استراتژی در باز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گبي اقتباس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ش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أکيد روی اصو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نعطاف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ذير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زگار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ودمند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تمرک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چگونه اعضای تيم بايد عمل کنند تا سيستم توليد ش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يک محيط کا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ً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غييرپذي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نعطا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ی کافی داشته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يده اصل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وسعه 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شامل چندين متغير محيطی و تکنيکی است (نياز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زم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نابع و تکنولوژی)که احتم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ً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طول فرآيند توسعه تغيير م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ک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25560" indent="-18504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اين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وضوع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فرآيند توسعه را پيچيده و غيرقابل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پيش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بينی می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کند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207B-DDA6-4320-843F-94A95A05BE3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ور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crum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سه دسته اصلی تقسيم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duct Backlo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print Backlog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print BurnDown Chart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45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53C-E541-4DF3-847B-CB3B93E2B5C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roduct Backlo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امل يک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صف اولوي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ند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شده است که در آن  وظي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کنيکی و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مايش داده ش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 که بايد توسعه داده شو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ی هر مورد مشخص شده در اين فرآور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خواصی مانند وضع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ولويت و تخمين کاری وجود دار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BF1-6BA7-4BDA-AED8-5A0F3D0E85F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print Backlo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جمو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ی از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وارد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حرفه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فن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که برای تکرار جاری 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urrent Iteration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زمانبندی ش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 در اين فرآورده نمايش داده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ياز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اين فرآورده ب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وظايف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بديل می شو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ی هر وظيفه يک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شرح کوتا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جود دارد و مشخص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 که چه کسی مسئو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جام آن است و همچنين وضعيت و تعداد ساعات باقيمانده تا تکميل شدن هر وظيفه در اين ف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آ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ده مشخص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52C-3DF2-4B38-A0BE-5E29BF35EF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956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print BurnDown Char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عات باقيمانده برای تکميل شدن همه وظايف مربوط به يک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print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در قالب يک گراف بصورت برجسته نمايش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53" name="Picture 4" descr="ΩH砂W砂_x0012_焑真㱸眭॰_x0017_ධΩ඄ΩĞ砂笰_x001c_"/>
          <p:cNvPicPr/>
          <p:nvPr/>
        </p:nvPicPr>
        <p:blipFill>
          <a:blip r:embed="rId1"/>
          <a:stretch/>
        </p:blipFill>
        <p:spPr>
          <a:xfrm>
            <a:off x="1258920" y="3068640"/>
            <a:ext cx="6553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BBE0-D148-4C7F-A49D-2E0BC3C01B6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crum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crum Master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duct owner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crum team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nager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580A-FCBB-4EB0-9A80-6B756C6CCA9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‌هاي خانواده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ystal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ام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جموع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ی از متدولوژ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تفاوت است که مناسبترين آنها برای هر پروژه منحصر به فرد انتخاب می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ارای اصولی است ک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تدولوژ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برای شرايط مختلف موجود در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سفارشی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ش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ystal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پيشنهاد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 که يک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تدولوژی مناسب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راساس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نداز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يزان بحرانی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ود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پروژه انتخاب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0" algn="r" rtl="1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593-2F57-4907-A2FA-7C56382B875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متدولوژي‌هاي خانواده</a:t>
            </a: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rystal</a:t>
            </a:r>
            <a:r>
              <a:rPr b="1" lang="fa-IR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ر عضو از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خانوا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ysta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ک رنگ مشخص می‌شو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يزان سنگينی متدولوژی را نشان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د. رنگ تاريکتر نشان دهنده متدولوژی سنگي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292720" y="3767040"/>
            <a:ext cx="3382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C:  Com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D: Discretionary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:  Essential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L: 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5" name="Picture 5" descr=""/>
          <p:cNvPicPr/>
          <p:nvPr/>
        </p:nvPicPr>
        <p:blipFill>
          <a:blip r:embed="rId1"/>
          <a:srcRect l="0" t="0" r="0" b="4761"/>
          <a:stretch/>
        </p:blipFill>
        <p:spPr>
          <a:xfrm>
            <a:off x="395280" y="2924280"/>
            <a:ext cx="46814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7D64-4972-45E1-8560-4D06E0DA20F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تدولوژي سنگين وز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ال اخير روش‌هاي بسيار زيادي براي توسعه نرم‌افزار معرفي شدند اما امروزه تعداد بسيار اندكي از آنها مورد استفاده قرار مي‌گير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تدولوژي‌هاي فعلي بيش از انداز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اشين‌گر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كانيز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هستند و بصورت فرآيندي وارد جزئيات غيرضروري مي‌شون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ه همين دليل اين نوع متدولوژها را سنگين وزن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ام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CE1B-77B5-44DC-8B3E-F21DD00F4DC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تدولوژي‌هاي خانواد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ystal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مامی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از توسع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فزايش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بازه زمانی حداکثر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اه استفاده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أکيد رو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رتباطات و همکار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ين افراد درگير در پروژ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يچ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ا ابزاری را برای توسعه محدود ن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ث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ً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وان از فعال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crum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ا هم در اين روش استفاده کر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2428-B351-4D12-84F2-FB750B41B9B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زايای رو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ی سريع الانتقا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أکيد رو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شرک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دادن مشتری در پروژ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ت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ه در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کاربردی بسيار مفيد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أکيد رو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ارگروه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رتباط متقاب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که در بالا بردن راندمان کاری نقش مهمی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مه افراد درگير در پروژه در قبال کيفيت محصول مسئول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نجش مستمر کارهای انجام شده از مزايای بسيار مفيد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1A2-AEF0-4964-85F1-50884A8552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زايای رو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ی سريع الانتقال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سعه افزايشی که با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مدرن توسعه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 سازگا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ده و روش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ی فرآيند توسعه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ازبينی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ی مستم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که به بالا رفتن کيفيت کار برنام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ويسان کمک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F19-430A-42AA-B154-5B6BCA3572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عايب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رو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ی سريع الانتقا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دلي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مبود فعالي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ی طراح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گر کد بيش از چند هزار خط باشد ممکن است فرآيند توسعه با موانع خطرناکی برخورد 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مبود مستندات مربوط به طراح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آنها را به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کوچک محدود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 و قاب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استفاده مجدد را در آنها محدود م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مبود فرآيندهای بازبينی ساخ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افت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B1A-853B-4625-A7F9-D2D4CC1143F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عايب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روش‌های سريع الانتقال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مبود فرآيند طراحی منظم و استفاده از بازبين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ی غير سا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افته باعث اتلاف زمان و هزينه می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مبود طرح کيفي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. در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هيچ نوع طرح استانداردی برای ارزيابی کيفيت وجود ن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کمبود راهنماهای آموزش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ی استفاده از اين رو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629-1F02-4D05-ABEC-4728DA33713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32A-4DB3-4D4D-9851-4A9F6972C73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شکلات متدولوژي‌هاي سنگين وز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شتريان نرم‌افزارها حاضر نيستند كه براي دست يافتن به نرم‌افزارهاي مورد نياز خود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مدت زيادي منتظ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مان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رقابت بسي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شديد شرك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توليد نرم‌افزار براي ارائه خدمات نرم‌افزار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 كاربر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تغييرپذي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سيار زياد نرم‌افزارهاي امروزي انكارناپذي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F11B-D89E-4628-8943-45251E8A8C3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لزوم تغييرات در توسعه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Picture 4" descr="bd07151_[1]"/>
          <p:cNvPicPr/>
          <p:nvPr/>
        </p:nvPicPr>
        <p:blipFill>
          <a:blip r:embed="rId1"/>
          <a:stretch/>
        </p:blipFill>
        <p:spPr>
          <a:xfrm>
            <a:off x="7164360" y="2347920"/>
            <a:ext cx="16002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468360" y="2565360"/>
            <a:ext cx="1999800" cy="2735280"/>
            <a:chOff x="468360" y="2565360"/>
            <a:chExt cx="1999800" cy="2735280"/>
          </a:xfrm>
        </p:grpSpPr>
        <p:sp>
          <p:nvSpPr>
            <p:cNvPr id="122" name="AutoShape 6"/>
            <p:cNvSpPr/>
            <p:nvPr/>
          </p:nvSpPr>
          <p:spPr>
            <a:xfrm>
              <a:off x="468360" y="2565360"/>
              <a:ext cx="136656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98240" y="2791080"/>
              <a:ext cx="1326960" cy="22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1800000" y="3586320"/>
              <a:ext cx="641160" cy="979560"/>
            </a:xfrm>
            <a:prstGeom prst="pie">
              <a:avLst/>
            </a:pr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900000" y="3078360"/>
              <a:ext cx="204480" cy="4683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801440" y="3961080"/>
              <a:ext cx="131400" cy="17280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090440" y="2820960"/>
              <a:ext cx="412200" cy="6699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1249200" y="3308400"/>
              <a:ext cx="69480" cy="1015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1145880" y="2716200"/>
              <a:ext cx="417240" cy="23976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1160280" y="3381480"/>
              <a:ext cx="172800" cy="30312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2089080" y="4094280"/>
              <a:ext cx="259920" cy="39384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987120" y="2957760"/>
              <a:ext cx="144360" cy="2095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020600" y="3291120"/>
              <a:ext cx="151920" cy="1904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244520" y="3301920"/>
              <a:ext cx="77400" cy="7020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1525320" y="2838600"/>
              <a:ext cx="53640" cy="1522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1126800" y="2710080"/>
              <a:ext cx="409320" cy="26352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501480" y="3432240"/>
              <a:ext cx="1242720" cy="163368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722240" y="3987720"/>
              <a:ext cx="58320" cy="12240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1339560" y="3743280"/>
              <a:ext cx="112320" cy="1303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000080" y="4035600"/>
              <a:ext cx="50400" cy="4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126800" y="4056120"/>
              <a:ext cx="37800" cy="4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041120" y="3846600"/>
              <a:ext cx="53640" cy="69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>
              <a:off x="1029960" y="3733920"/>
              <a:ext cx="274320" cy="291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817200" y="3438720"/>
              <a:ext cx="326880" cy="50940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29"/>
            <p:cNvSpPr/>
            <p:nvPr/>
          </p:nvSpPr>
          <p:spPr>
            <a:xfrm>
              <a:off x="725400" y="4140360"/>
              <a:ext cx="529920" cy="534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30"/>
            <p:cNvSpPr/>
            <p:nvPr/>
          </p:nvSpPr>
          <p:spPr>
            <a:xfrm>
              <a:off x="768240" y="4959360"/>
              <a:ext cx="174240" cy="1335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31"/>
            <p:cNvSpPr/>
            <p:nvPr/>
          </p:nvSpPr>
          <p:spPr>
            <a:xfrm>
              <a:off x="1153800" y="2951280"/>
              <a:ext cx="404640" cy="76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32"/>
            <p:cNvSpPr/>
            <p:nvPr/>
          </p:nvSpPr>
          <p:spPr>
            <a:xfrm>
              <a:off x="985680" y="3192480"/>
              <a:ext cx="918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33"/>
            <p:cNvSpPr/>
            <p:nvPr/>
          </p:nvSpPr>
          <p:spPr>
            <a:xfrm>
              <a:off x="1400040" y="3372120"/>
              <a:ext cx="132840" cy="32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34"/>
            <p:cNvSpPr/>
            <p:nvPr/>
          </p:nvSpPr>
          <p:spPr>
            <a:xfrm>
              <a:off x="1010880" y="3457800"/>
              <a:ext cx="15552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1106280" y="3452760"/>
              <a:ext cx="37260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36"/>
            <p:cNvSpPr/>
            <p:nvPr/>
          </p:nvSpPr>
          <p:spPr>
            <a:xfrm>
              <a:off x="1285560" y="3048120"/>
              <a:ext cx="396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1206360" y="3129120"/>
              <a:ext cx="1076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1388880" y="3036960"/>
              <a:ext cx="4896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1288800" y="2897280"/>
              <a:ext cx="568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>
              <a:off x="1441080" y="3137040"/>
              <a:ext cx="3636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>
              <a:off x="1320480" y="3183120"/>
              <a:ext cx="1029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1233360" y="3272040"/>
              <a:ext cx="16956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>
              <a:off x="1234800" y="3311640"/>
              <a:ext cx="1202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>
              <a:off x="1473120" y="3041640"/>
              <a:ext cx="1090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45"/>
            <p:cNvSpPr/>
            <p:nvPr/>
          </p:nvSpPr>
          <p:spPr>
            <a:xfrm>
              <a:off x="1363320" y="2892600"/>
              <a:ext cx="1425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1125360" y="2686320"/>
              <a:ext cx="47124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47"/>
            <p:cNvSpPr/>
            <p:nvPr/>
          </p:nvSpPr>
          <p:spPr>
            <a:xfrm>
              <a:off x="1220760" y="2765520"/>
              <a:ext cx="15336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48"/>
            <p:cNvSpPr/>
            <p:nvPr/>
          </p:nvSpPr>
          <p:spPr>
            <a:xfrm>
              <a:off x="1382400" y="2952720"/>
              <a:ext cx="9504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49"/>
            <p:cNvSpPr/>
            <p:nvPr/>
          </p:nvSpPr>
          <p:spPr>
            <a:xfrm>
              <a:off x="1093680" y="2873520"/>
              <a:ext cx="11700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50"/>
            <p:cNvSpPr/>
            <p:nvPr/>
          </p:nvSpPr>
          <p:spPr>
            <a:xfrm>
              <a:off x="1508040" y="3506760"/>
              <a:ext cx="435960" cy="60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51"/>
            <p:cNvSpPr/>
            <p:nvPr/>
          </p:nvSpPr>
          <p:spPr>
            <a:xfrm>
              <a:off x="846000" y="3756240"/>
              <a:ext cx="645840" cy="50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52"/>
            <p:cNvSpPr/>
            <p:nvPr/>
          </p:nvSpPr>
          <p:spPr>
            <a:xfrm>
              <a:off x="1376280" y="3813120"/>
              <a:ext cx="44712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Freeform 53"/>
            <p:cNvSpPr/>
            <p:nvPr/>
          </p:nvSpPr>
          <p:spPr>
            <a:xfrm>
              <a:off x="468360" y="3363840"/>
              <a:ext cx="464760" cy="44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Freeform 54"/>
            <p:cNvSpPr/>
            <p:nvPr/>
          </p:nvSpPr>
          <p:spPr>
            <a:xfrm>
              <a:off x="669600" y="3633840"/>
              <a:ext cx="263160" cy="13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Freeform 55"/>
            <p:cNvSpPr/>
            <p:nvPr/>
          </p:nvSpPr>
          <p:spPr>
            <a:xfrm>
              <a:off x="628560" y="4346640"/>
              <a:ext cx="425160" cy="8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Freeform 56"/>
            <p:cNvSpPr/>
            <p:nvPr/>
          </p:nvSpPr>
          <p:spPr>
            <a:xfrm>
              <a:off x="1036440" y="4162680"/>
              <a:ext cx="5043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Freeform 57"/>
            <p:cNvSpPr/>
            <p:nvPr/>
          </p:nvSpPr>
          <p:spPr>
            <a:xfrm>
              <a:off x="1253880" y="4940280"/>
              <a:ext cx="2822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Freeform 58"/>
            <p:cNvSpPr/>
            <p:nvPr/>
          </p:nvSpPr>
          <p:spPr>
            <a:xfrm>
              <a:off x="1371240" y="4946760"/>
              <a:ext cx="36504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Freeform 59"/>
            <p:cNvSpPr/>
            <p:nvPr/>
          </p:nvSpPr>
          <p:spPr>
            <a:xfrm>
              <a:off x="987120" y="4040280"/>
              <a:ext cx="4896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60"/>
            <p:cNvSpPr/>
            <p:nvPr/>
          </p:nvSpPr>
          <p:spPr>
            <a:xfrm>
              <a:off x="1106280" y="4057920"/>
              <a:ext cx="4248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Freeform 61"/>
            <p:cNvSpPr/>
            <p:nvPr/>
          </p:nvSpPr>
          <p:spPr>
            <a:xfrm>
              <a:off x="1025280" y="3795840"/>
              <a:ext cx="267840" cy="21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62"/>
            <p:cNvSpPr/>
            <p:nvPr/>
          </p:nvSpPr>
          <p:spPr>
            <a:xfrm>
              <a:off x="1671480" y="2889360"/>
              <a:ext cx="25668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Freeform 63"/>
            <p:cNvSpPr/>
            <p:nvPr/>
          </p:nvSpPr>
          <p:spPr>
            <a:xfrm>
              <a:off x="1680840" y="2648160"/>
              <a:ext cx="17604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Freeform 64"/>
            <p:cNvSpPr/>
            <p:nvPr/>
          </p:nvSpPr>
          <p:spPr>
            <a:xfrm>
              <a:off x="979200" y="2916360"/>
              <a:ext cx="16956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Freeform 65"/>
            <p:cNvSpPr/>
            <p:nvPr/>
          </p:nvSpPr>
          <p:spPr>
            <a:xfrm>
              <a:off x="1025280" y="3265560"/>
              <a:ext cx="182160" cy="22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Freeform 66"/>
            <p:cNvSpPr/>
            <p:nvPr/>
          </p:nvSpPr>
          <p:spPr>
            <a:xfrm>
              <a:off x="1087200" y="3084480"/>
              <a:ext cx="871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Freeform 67"/>
            <p:cNvSpPr/>
            <p:nvPr/>
          </p:nvSpPr>
          <p:spPr>
            <a:xfrm>
              <a:off x="1631880" y="3164040"/>
              <a:ext cx="2822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669680" y="3295800"/>
              <a:ext cx="2174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69"/>
            <p:cNvSpPr/>
            <p:nvPr/>
          </p:nvSpPr>
          <p:spPr>
            <a:xfrm>
              <a:off x="1339560" y="3787920"/>
              <a:ext cx="1220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70"/>
            <p:cNvSpPr/>
            <p:nvPr/>
          </p:nvSpPr>
          <p:spPr>
            <a:xfrm>
              <a:off x="1344240" y="3733920"/>
              <a:ext cx="118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71"/>
            <p:cNvSpPr/>
            <p:nvPr/>
          </p:nvSpPr>
          <p:spPr>
            <a:xfrm>
              <a:off x="1969920" y="3984840"/>
              <a:ext cx="205920" cy="16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72"/>
            <p:cNvSpPr/>
            <p:nvPr/>
          </p:nvSpPr>
          <p:spPr>
            <a:xfrm>
              <a:off x="1965240" y="4056120"/>
              <a:ext cx="1598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Freeform 73"/>
            <p:cNvSpPr/>
            <p:nvPr/>
          </p:nvSpPr>
          <p:spPr>
            <a:xfrm>
              <a:off x="1939680" y="4138560"/>
              <a:ext cx="13464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Freeform 74"/>
            <p:cNvSpPr/>
            <p:nvPr/>
          </p:nvSpPr>
          <p:spPr>
            <a:xfrm>
              <a:off x="1895400" y="4200480"/>
              <a:ext cx="1440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75"/>
            <p:cNvSpPr/>
            <p:nvPr/>
          </p:nvSpPr>
          <p:spPr>
            <a:xfrm>
              <a:off x="2085840" y="3851280"/>
              <a:ext cx="3823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Freeform 76"/>
            <p:cNvSpPr/>
            <p:nvPr/>
          </p:nvSpPr>
          <p:spPr>
            <a:xfrm>
              <a:off x="2253960" y="4227480"/>
              <a:ext cx="18720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Freeform 77"/>
            <p:cNvSpPr/>
            <p:nvPr/>
          </p:nvSpPr>
          <p:spPr>
            <a:xfrm>
              <a:off x="1782720" y="3564000"/>
              <a:ext cx="605880" cy="120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78"/>
            <p:cNvSpPr/>
            <p:nvPr/>
          </p:nvSpPr>
          <p:spPr>
            <a:xfrm>
              <a:off x="1809720" y="3987720"/>
              <a:ext cx="12816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79"/>
            <p:cNvSpPr/>
            <p:nvPr/>
          </p:nvSpPr>
          <p:spPr>
            <a:xfrm>
              <a:off x="2001600" y="3675240"/>
              <a:ext cx="345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80"/>
            <p:cNvSpPr/>
            <p:nvPr/>
          </p:nvSpPr>
          <p:spPr>
            <a:xfrm>
              <a:off x="939600" y="3046680"/>
              <a:ext cx="6804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81"/>
            <p:cNvSpPr/>
            <p:nvPr/>
          </p:nvSpPr>
          <p:spPr>
            <a:xfrm>
              <a:off x="868320" y="3119400"/>
              <a:ext cx="256680" cy="49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82"/>
            <p:cNvSpPr/>
            <p:nvPr/>
          </p:nvSpPr>
          <p:spPr>
            <a:xfrm>
              <a:off x="952200" y="3256200"/>
              <a:ext cx="15228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3"/>
            <p:cNvSpPr/>
            <p:nvPr/>
          </p:nvSpPr>
          <p:spPr>
            <a:xfrm>
              <a:off x="1027080" y="3441960"/>
              <a:ext cx="35820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84"/>
            <p:cNvSpPr/>
            <p:nvPr/>
          </p:nvSpPr>
          <p:spPr>
            <a:xfrm>
              <a:off x="717480" y="5114880"/>
              <a:ext cx="166320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Text Box 87"/>
          <p:cNvSpPr/>
          <p:nvPr/>
        </p:nvSpPr>
        <p:spPr>
          <a:xfrm>
            <a:off x="766440" y="52293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big chee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88"/>
          <p:cNvSpPr/>
          <p:nvPr/>
        </p:nvSpPr>
        <p:spPr>
          <a:xfrm>
            <a:off x="7093080" y="515628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94"/>
          <p:cNvGrpSpPr/>
          <p:nvPr/>
        </p:nvGrpSpPr>
        <p:grpSpPr>
          <a:xfrm>
            <a:off x="2916360" y="2421000"/>
            <a:ext cx="4248000" cy="3915000"/>
            <a:chOff x="2916360" y="2421000"/>
            <a:chExt cx="4248000" cy="3915000"/>
          </a:xfrm>
        </p:grpSpPr>
        <p:sp>
          <p:nvSpPr>
            <p:cNvPr id="204" name="Line 85"/>
            <p:cNvSpPr/>
            <p:nvPr/>
          </p:nvSpPr>
          <p:spPr>
            <a:xfrm>
              <a:off x="2916360" y="242100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86"/>
            <p:cNvSpPr/>
            <p:nvPr/>
          </p:nvSpPr>
          <p:spPr>
            <a:xfrm flipH="1">
              <a:off x="2916360" y="580536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2928960" y="2563920"/>
              <a:ext cx="3600360" cy="324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90"/>
            <p:cNvSpPr/>
            <p:nvPr/>
          </p:nvSpPr>
          <p:spPr>
            <a:xfrm rot="18263400">
              <a:off x="5041080" y="468648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ost of chang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91"/>
            <p:cNvSpPr/>
            <p:nvPr/>
          </p:nvSpPr>
          <p:spPr>
            <a:xfrm>
              <a:off x="6300720" y="5805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92"/>
            <p:cNvSpPr/>
            <p:nvPr/>
          </p:nvSpPr>
          <p:spPr>
            <a:xfrm>
              <a:off x="6224760" y="5877000"/>
              <a:ext cx="86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Promised </a:t>
              </a:r>
              <a:br>
                <a:rPr sz="1200"/>
              </a:b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" name="AutoShape 93"/>
          <p:cNvSpPr/>
          <p:nvPr/>
        </p:nvSpPr>
        <p:spPr>
          <a:xfrm>
            <a:off x="1619280" y="1413000"/>
            <a:ext cx="3168720" cy="1655640"/>
          </a:xfrm>
          <a:prstGeom prst="wedgeRoundRectCallout">
            <a:avLst>
              <a:gd name="adj1" fmla="val -43185"/>
              <a:gd name="adj2" fmla="val 60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Chan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We are already running lat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I need to meet my da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We worked hard to prevent change at the st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2715-71AC-4692-B50C-FF48EFBFDC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لزوم تغييرات در توسعه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3" name="Picture 4" descr="bd07151_[1]"/>
          <p:cNvPicPr/>
          <p:nvPr/>
        </p:nvPicPr>
        <p:blipFill>
          <a:blip r:embed="rId1"/>
          <a:stretch/>
        </p:blipFill>
        <p:spPr>
          <a:xfrm>
            <a:off x="7164360" y="2347920"/>
            <a:ext cx="16002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468360" y="2563920"/>
            <a:ext cx="1999800" cy="2735280"/>
            <a:chOff x="468360" y="2563920"/>
            <a:chExt cx="1999800" cy="2735280"/>
          </a:xfrm>
        </p:grpSpPr>
        <p:sp>
          <p:nvSpPr>
            <p:cNvPr id="215" name="AutoShape 6"/>
            <p:cNvSpPr/>
            <p:nvPr/>
          </p:nvSpPr>
          <p:spPr>
            <a:xfrm>
              <a:off x="468360" y="2563920"/>
              <a:ext cx="136656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498240" y="2789640"/>
              <a:ext cx="1326960" cy="22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>
              <a:off x="1800000" y="3584880"/>
              <a:ext cx="641160" cy="979560"/>
            </a:xfrm>
            <a:prstGeom prst="pie">
              <a:avLst/>
            </a:pr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9"/>
            <p:cNvSpPr/>
            <p:nvPr/>
          </p:nvSpPr>
          <p:spPr>
            <a:xfrm>
              <a:off x="900000" y="3076920"/>
              <a:ext cx="204480" cy="4683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1801440" y="3959640"/>
              <a:ext cx="131400" cy="17280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11"/>
            <p:cNvSpPr/>
            <p:nvPr/>
          </p:nvSpPr>
          <p:spPr>
            <a:xfrm>
              <a:off x="1090440" y="2819520"/>
              <a:ext cx="412200" cy="6699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1249200" y="3306960"/>
              <a:ext cx="69480" cy="1015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1145880" y="2714760"/>
              <a:ext cx="417240" cy="23976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1160280" y="3380040"/>
              <a:ext cx="172800" cy="30312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2089080" y="4092840"/>
              <a:ext cx="259920" cy="39384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987120" y="2956320"/>
              <a:ext cx="144360" cy="2095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1020600" y="3289680"/>
              <a:ext cx="151920" cy="1904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1244520" y="3300480"/>
              <a:ext cx="77400" cy="7020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1525320" y="2837160"/>
              <a:ext cx="53640" cy="1522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1126800" y="2708640"/>
              <a:ext cx="409320" cy="26352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501480" y="3430800"/>
              <a:ext cx="1242720" cy="163368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1722240" y="3986280"/>
              <a:ext cx="58320" cy="12240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1339560" y="3741840"/>
              <a:ext cx="112320" cy="1303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1000080" y="4034160"/>
              <a:ext cx="50400" cy="4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1126800" y="4054680"/>
              <a:ext cx="37800" cy="4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1041120" y="3845160"/>
              <a:ext cx="53640" cy="69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1029960" y="3732480"/>
              <a:ext cx="274320" cy="291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817200" y="3437280"/>
              <a:ext cx="326880" cy="50940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725400" y="4138920"/>
              <a:ext cx="529920" cy="534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768240" y="4957920"/>
              <a:ext cx="174240" cy="1335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1153800" y="2949840"/>
              <a:ext cx="404640" cy="76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985680" y="3191040"/>
              <a:ext cx="918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1400040" y="3370680"/>
              <a:ext cx="132840" cy="32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34"/>
            <p:cNvSpPr/>
            <p:nvPr/>
          </p:nvSpPr>
          <p:spPr>
            <a:xfrm>
              <a:off x="1010880" y="3456360"/>
              <a:ext cx="15552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35"/>
            <p:cNvSpPr/>
            <p:nvPr/>
          </p:nvSpPr>
          <p:spPr>
            <a:xfrm>
              <a:off x="1106280" y="3451320"/>
              <a:ext cx="37260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36"/>
            <p:cNvSpPr/>
            <p:nvPr/>
          </p:nvSpPr>
          <p:spPr>
            <a:xfrm>
              <a:off x="1285560" y="3046680"/>
              <a:ext cx="396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Freeform 37"/>
            <p:cNvSpPr/>
            <p:nvPr/>
          </p:nvSpPr>
          <p:spPr>
            <a:xfrm>
              <a:off x="1206360" y="3127680"/>
              <a:ext cx="1076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Freeform 38"/>
            <p:cNvSpPr/>
            <p:nvPr/>
          </p:nvSpPr>
          <p:spPr>
            <a:xfrm>
              <a:off x="1388880" y="3035520"/>
              <a:ext cx="4896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1288800" y="2895840"/>
              <a:ext cx="568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Freeform 40"/>
            <p:cNvSpPr/>
            <p:nvPr/>
          </p:nvSpPr>
          <p:spPr>
            <a:xfrm>
              <a:off x="1441080" y="3135600"/>
              <a:ext cx="3636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Freeform 41"/>
            <p:cNvSpPr/>
            <p:nvPr/>
          </p:nvSpPr>
          <p:spPr>
            <a:xfrm>
              <a:off x="1320480" y="3181680"/>
              <a:ext cx="1029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Freeform 42"/>
            <p:cNvSpPr/>
            <p:nvPr/>
          </p:nvSpPr>
          <p:spPr>
            <a:xfrm>
              <a:off x="1233360" y="3270600"/>
              <a:ext cx="16956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Freeform 43"/>
            <p:cNvSpPr/>
            <p:nvPr/>
          </p:nvSpPr>
          <p:spPr>
            <a:xfrm>
              <a:off x="1234800" y="3310200"/>
              <a:ext cx="1202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Freeform 44"/>
            <p:cNvSpPr/>
            <p:nvPr/>
          </p:nvSpPr>
          <p:spPr>
            <a:xfrm>
              <a:off x="1473120" y="3040200"/>
              <a:ext cx="1090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Freeform 45"/>
            <p:cNvSpPr/>
            <p:nvPr/>
          </p:nvSpPr>
          <p:spPr>
            <a:xfrm>
              <a:off x="1363320" y="2891160"/>
              <a:ext cx="1425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Freeform 46"/>
            <p:cNvSpPr/>
            <p:nvPr/>
          </p:nvSpPr>
          <p:spPr>
            <a:xfrm>
              <a:off x="1125360" y="2684880"/>
              <a:ext cx="47124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Freeform 47"/>
            <p:cNvSpPr/>
            <p:nvPr/>
          </p:nvSpPr>
          <p:spPr>
            <a:xfrm>
              <a:off x="1220760" y="2764080"/>
              <a:ext cx="15336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1382400" y="2951280"/>
              <a:ext cx="9504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093680" y="2872080"/>
              <a:ext cx="11700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508040" y="3505320"/>
              <a:ext cx="435960" cy="60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846000" y="3754800"/>
              <a:ext cx="645840" cy="50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1376280" y="3811680"/>
              <a:ext cx="44712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Freeform 53"/>
            <p:cNvSpPr/>
            <p:nvPr/>
          </p:nvSpPr>
          <p:spPr>
            <a:xfrm>
              <a:off x="468360" y="3362400"/>
              <a:ext cx="464760" cy="44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Freeform 54"/>
            <p:cNvSpPr/>
            <p:nvPr/>
          </p:nvSpPr>
          <p:spPr>
            <a:xfrm>
              <a:off x="669600" y="3632400"/>
              <a:ext cx="263160" cy="13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Freeform 55"/>
            <p:cNvSpPr/>
            <p:nvPr/>
          </p:nvSpPr>
          <p:spPr>
            <a:xfrm>
              <a:off x="628560" y="4345200"/>
              <a:ext cx="425160" cy="8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Freeform 56"/>
            <p:cNvSpPr/>
            <p:nvPr/>
          </p:nvSpPr>
          <p:spPr>
            <a:xfrm>
              <a:off x="1036440" y="4161240"/>
              <a:ext cx="5043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Freeform 57"/>
            <p:cNvSpPr/>
            <p:nvPr/>
          </p:nvSpPr>
          <p:spPr>
            <a:xfrm>
              <a:off x="1253880" y="4938840"/>
              <a:ext cx="2822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Freeform 58"/>
            <p:cNvSpPr/>
            <p:nvPr/>
          </p:nvSpPr>
          <p:spPr>
            <a:xfrm>
              <a:off x="1371240" y="4945320"/>
              <a:ext cx="36504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Freeform 59"/>
            <p:cNvSpPr/>
            <p:nvPr/>
          </p:nvSpPr>
          <p:spPr>
            <a:xfrm>
              <a:off x="987120" y="4038840"/>
              <a:ext cx="4896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60"/>
            <p:cNvSpPr/>
            <p:nvPr/>
          </p:nvSpPr>
          <p:spPr>
            <a:xfrm>
              <a:off x="1106280" y="4056480"/>
              <a:ext cx="4248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61"/>
            <p:cNvSpPr/>
            <p:nvPr/>
          </p:nvSpPr>
          <p:spPr>
            <a:xfrm>
              <a:off x="1025280" y="3794400"/>
              <a:ext cx="267840" cy="21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62"/>
            <p:cNvSpPr/>
            <p:nvPr/>
          </p:nvSpPr>
          <p:spPr>
            <a:xfrm>
              <a:off x="1671480" y="2887920"/>
              <a:ext cx="25668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63"/>
            <p:cNvSpPr/>
            <p:nvPr/>
          </p:nvSpPr>
          <p:spPr>
            <a:xfrm>
              <a:off x="1680840" y="2646720"/>
              <a:ext cx="17604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Freeform 64"/>
            <p:cNvSpPr/>
            <p:nvPr/>
          </p:nvSpPr>
          <p:spPr>
            <a:xfrm>
              <a:off x="979200" y="2914920"/>
              <a:ext cx="16956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Freeform 65"/>
            <p:cNvSpPr/>
            <p:nvPr/>
          </p:nvSpPr>
          <p:spPr>
            <a:xfrm>
              <a:off x="1025280" y="3264120"/>
              <a:ext cx="182160" cy="22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Freeform 66"/>
            <p:cNvSpPr/>
            <p:nvPr/>
          </p:nvSpPr>
          <p:spPr>
            <a:xfrm>
              <a:off x="1087200" y="3083040"/>
              <a:ext cx="871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Freeform 67"/>
            <p:cNvSpPr/>
            <p:nvPr/>
          </p:nvSpPr>
          <p:spPr>
            <a:xfrm>
              <a:off x="1631880" y="3162600"/>
              <a:ext cx="2822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68"/>
            <p:cNvSpPr/>
            <p:nvPr/>
          </p:nvSpPr>
          <p:spPr>
            <a:xfrm>
              <a:off x="1669680" y="3294360"/>
              <a:ext cx="2174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69"/>
            <p:cNvSpPr/>
            <p:nvPr/>
          </p:nvSpPr>
          <p:spPr>
            <a:xfrm>
              <a:off x="1339560" y="3786480"/>
              <a:ext cx="1220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70"/>
            <p:cNvSpPr/>
            <p:nvPr/>
          </p:nvSpPr>
          <p:spPr>
            <a:xfrm>
              <a:off x="1344240" y="3732480"/>
              <a:ext cx="118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Freeform 71"/>
            <p:cNvSpPr/>
            <p:nvPr/>
          </p:nvSpPr>
          <p:spPr>
            <a:xfrm>
              <a:off x="1969920" y="3983400"/>
              <a:ext cx="205920" cy="16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72"/>
            <p:cNvSpPr/>
            <p:nvPr/>
          </p:nvSpPr>
          <p:spPr>
            <a:xfrm>
              <a:off x="1965240" y="4054680"/>
              <a:ext cx="1598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Freeform 73"/>
            <p:cNvSpPr/>
            <p:nvPr/>
          </p:nvSpPr>
          <p:spPr>
            <a:xfrm>
              <a:off x="1939680" y="4137120"/>
              <a:ext cx="13464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74"/>
            <p:cNvSpPr/>
            <p:nvPr/>
          </p:nvSpPr>
          <p:spPr>
            <a:xfrm>
              <a:off x="1895400" y="4199040"/>
              <a:ext cx="1440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75"/>
            <p:cNvSpPr/>
            <p:nvPr/>
          </p:nvSpPr>
          <p:spPr>
            <a:xfrm>
              <a:off x="2085840" y="3849840"/>
              <a:ext cx="3823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76"/>
            <p:cNvSpPr/>
            <p:nvPr/>
          </p:nvSpPr>
          <p:spPr>
            <a:xfrm>
              <a:off x="2253960" y="4226040"/>
              <a:ext cx="18720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Freeform 77"/>
            <p:cNvSpPr/>
            <p:nvPr/>
          </p:nvSpPr>
          <p:spPr>
            <a:xfrm>
              <a:off x="1782720" y="3562560"/>
              <a:ext cx="605880" cy="120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78"/>
            <p:cNvSpPr/>
            <p:nvPr/>
          </p:nvSpPr>
          <p:spPr>
            <a:xfrm>
              <a:off x="1809720" y="3986280"/>
              <a:ext cx="12816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79"/>
            <p:cNvSpPr/>
            <p:nvPr/>
          </p:nvSpPr>
          <p:spPr>
            <a:xfrm>
              <a:off x="2001600" y="3673800"/>
              <a:ext cx="345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80"/>
            <p:cNvSpPr/>
            <p:nvPr/>
          </p:nvSpPr>
          <p:spPr>
            <a:xfrm>
              <a:off x="939600" y="3045240"/>
              <a:ext cx="6804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81"/>
            <p:cNvSpPr/>
            <p:nvPr/>
          </p:nvSpPr>
          <p:spPr>
            <a:xfrm>
              <a:off x="868320" y="3117960"/>
              <a:ext cx="256680" cy="49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82"/>
            <p:cNvSpPr/>
            <p:nvPr/>
          </p:nvSpPr>
          <p:spPr>
            <a:xfrm>
              <a:off x="952200" y="3254760"/>
              <a:ext cx="15228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83"/>
            <p:cNvSpPr/>
            <p:nvPr/>
          </p:nvSpPr>
          <p:spPr>
            <a:xfrm>
              <a:off x="1027080" y="3440520"/>
              <a:ext cx="35820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84"/>
            <p:cNvSpPr/>
            <p:nvPr/>
          </p:nvSpPr>
          <p:spPr>
            <a:xfrm>
              <a:off x="717480" y="5113440"/>
              <a:ext cx="166320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Text Box 85"/>
          <p:cNvSpPr/>
          <p:nvPr/>
        </p:nvSpPr>
        <p:spPr>
          <a:xfrm>
            <a:off x="766440" y="52293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big chee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86"/>
          <p:cNvSpPr/>
          <p:nvPr/>
        </p:nvSpPr>
        <p:spPr>
          <a:xfrm>
            <a:off x="7093080" y="515628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" name="Group 87"/>
          <p:cNvGrpSpPr/>
          <p:nvPr/>
        </p:nvGrpSpPr>
        <p:grpSpPr>
          <a:xfrm>
            <a:off x="2916360" y="2421000"/>
            <a:ext cx="4248000" cy="3915000"/>
            <a:chOff x="2916360" y="2421000"/>
            <a:chExt cx="4248000" cy="3915000"/>
          </a:xfrm>
        </p:grpSpPr>
        <p:sp>
          <p:nvSpPr>
            <p:cNvPr id="297" name="Line 88"/>
            <p:cNvSpPr/>
            <p:nvPr/>
          </p:nvSpPr>
          <p:spPr>
            <a:xfrm>
              <a:off x="2916360" y="242100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89"/>
            <p:cNvSpPr/>
            <p:nvPr/>
          </p:nvSpPr>
          <p:spPr>
            <a:xfrm flipH="1">
              <a:off x="2916360" y="580536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90"/>
            <p:cNvSpPr/>
            <p:nvPr/>
          </p:nvSpPr>
          <p:spPr>
            <a:xfrm>
              <a:off x="2928960" y="2563920"/>
              <a:ext cx="3600360" cy="324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Text Box 91"/>
            <p:cNvSpPr/>
            <p:nvPr/>
          </p:nvSpPr>
          <p:spPr>
            <a:xfrm rot="18263400">
              <a:off x="5041080" y="468648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ost of chang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92"/>
            <p:cNvSpPr/>
            <p:nvPr/>
          </p:nvSpPr>
          <p:spPr>
            <a:xfrm>
              <a:off x="6300720" y="5805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93"/>
            <p:cNvSpPr/>
            <p:nvPr/>
          </p:nvSpPr>
          <p:spPr>
            <a:xfrm>
              <a:off x="6224760" y="5877000"/>
              <a:ext cx="86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Promised </a:t>
              </a:r>
              <a:br>
                <a:rPr sz="1200"/>
              </a:b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3" name="AutoShape 94"/>
          <p:cNvSpPr/>
          <p:nvPr/>
        </p:nvSpPr>
        <p:spPr>
          <a:xfrm>
            <a:off x="1619280" y="1413000"/>
            <a:ext cx="3168720" cy="1655640"/>
          </a:xfrm>
          <a:prstGeom prst="wedgeRoundRectCallout">
            <a:avLst>
              <a:gd name="adj1" fmla="val -43185"/>
              <a:gd name="adj2" fmla="val 60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Chan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We are already running lat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I need to meet my da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We worked hard to prevent change at the st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95"/>
          <p:cNvSpPr/>
          <p:nvPr/>
        </p:nvSpPr>
        <p:spPr>
          <a:xfrm>
            <a:off x="3146400" y="319104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Change &amp; Rework happens at the most expensive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96"/>
          <p:cNvSpPr/>
          <p:nvPr/>
        </p:nvSpPr>
        <p:spPr>
          <a:xfrm rot="1800000">
            <a:off x="4858920" y="2320560"/>
            <a:ext cx="865080" cy="3095640"/>
          </a:xfrm>
          <a:custGeom>
            <a:avLst/>
            <a:gdLst>
              <a:gd name="textAreaLeft" fmla="*/ 552600 w 865080"/>
              <a:gd name="textAreaRight" fmla="*/ 865440 w 8650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978"/>
                </a:lnTo>
                <a:cubicBezTo>
                  <a:pt x="10800" y="11878"/>
                  <a:pt x="5400" y="12778"/>
                  <a:pt x="0" y="12778"/>
                </a:cubicBezTo>
                <a:cubicBezTo>
                  <a:pt x="5400" y="12778"/>
                  <a:pt x="10800" y="13678"/>
                  <a:pt x="10800" y="1457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4b4e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97"/>
          <p:cNvSpPr/>
          <p:nvPr/>
        </p:nvSpPr>
        <p:spPr>
          <a:xfrm>
            <a:off x="2987640" y="621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Spec signed off he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98"/>
          <p:cNvSpPr/>
          <p:nvPr/>
        </p:nvSpPr>
        <p:spPr>
          <a:xfrm flipV="1">
            <a:off x="3780000" y="5855760"/>
            <a:ext cx="0" cy="358920"/>
          </a:xfrm>
          <a:prstGeom prst="line">
            <a:avLst/>
          </a:prstGeom>
          <a:ln w="57240">
            <a:solidFill>
              <a:srgbClr val="4b4e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9AF-BFCA-474B-B494-539DCC72F6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لزوم تغييرات در توسعه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0" name="Picture 4" descr="bd07151_[1]"/>
          <p:cNvPicPr/>
          <p:nvPr/>
        </p:nvPicPr>
        <p:blipFill>
          <a:blip r:embed="rId1"/>
          <a:stretch/>
        </p:blipFill>
        <p:spPr>
          <a:xfrm>
            <a:off x="7508880" y="2347920"/>
            <a:ext cx="16002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5"/>
          <p:cNvGrpSpPr/>
          <p:nvPr/>
        </p:nvGrpSpPr>
        <p:grpSpPr>
          <a:xfrm>
            <a:off x="36360" y="2563920"/>
            <a:ext cx="2000520" cy="2735280"/>
            <a:chOff x="36360" y="2563920"/>
            <a:chExt cx="2000520" cy="2735280"/>
          </a:xfrm>
        </p:grpSpPr>
        <p:sp>
          <p:nvSpPr>
            <p:cNvPr id="312" name="AutoShape 6"/>
            <p:cNvSpPr/>
            <p:nvPr/>
          </p:nvSpPr>
          <p:spPr>
            <a:xfrm>
              <a:off x="36360" y="2563920"/>
              <a:ext cx="136692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Freeform 7"/>
            <p:cNvSpPr/>
            <p:nvPr/>
          </p:nvSpPr>
          <p:spPr>
            <a:xfrm>
              <a:off x="66600" y="2789640"/>
              <a:ext cx="1327320" cy="22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1368360" y="3584880"/>
              <a:ext cx="641520" cy="979560"/>
            </a:xfrm>
            <a:prstGeom prst="pie">
              <a:avLst/>
            </a:pr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468360" y="3076920"/>
              <a:ext cx="204840" cy="4683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Freeform 10"/>
            <p:cNvSpPr/>
            <p:nvPr/>
          </p:nvSpPr>
          <p:spPr>
            <a:xfrm>
              <a:off x="1369800" y="3959640"/>
              <a:ext cx="131760" cy="17280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11"/>
            <p:cNvSpPr/>
            <p:nvPr/>
          </p:nvSpPr>
          <p:spPr>
            <a:xfrm>
              <a:off x="658800" y="2819520"/>
              <a:ext cx="412560" cy="669960"/>
            </a:xfrm>
            <a:prstGeom prst="pie">
              <a:avLst/>
            </a:pr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817560" y="3306960"/>
              <a:ext cx="69840" cy="1015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714240" y="2714760"/>
              <a:ext cx="417600" cy="23976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728640" y="3380040"/>
              <a:ext cx="173160" cy="30312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1657440" y="4092840"/>
              <a:ext cx="260280" cy="393840"/>
            </a:xfrm>
            <a:prstGeom prst="pie">
              <a:avLst/>
            </a:pr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555480" y="2956320"/>
              <a:ext cx="144720" cy="2095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588960" y="3289680"/>
              <a:ext cx="152280" cy="1904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812880" y="3300480"/>
              <a:ext cx="77760" cy="70200"/>
            </a:xfrm>
            <a:prstGeom prst="pie">
              <a:avLst/>
            </a:pr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19"/>
            <p:cNvSpPr/>
            <p:nvPr/>
          </p:nvSpPr>
          <p:spPr>
            <a:xfrm>
              <a:off x="1093680" y="2837160"/>
              <a:ext cx="54000" cy="1522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Freeform 20"/>
            <p:cNvSpPr/>
            <p:nvPr/>
          </p:nvSpPr>
          <p:spPr>
            <a:xfrm>
              <a:off x="695160" y="2708640"/>
              <a:ext cx="409680" cy="26352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Freeform 21"/>
            <p:cNvSpPr/>
            <p:nvPr/>
          </p:nvSpPr>
          <p:spPr>
            <a:xfrm>
              <a:off x="69840" y="3430800"/>
              <a:ext cx="1243080" cy="1633680"/>
            </a:xfrm>
            <a:prstGeom prst="pie">
              <a:avLst/>
            </a:pr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22"/>
            <p:cNvSpPr/>
            <p:nvPr/>
          </p:nvSpPr>
          <p:spPr>
            <a:xfrm>
              <a:off x="1290600" y="3986280"/>
              <a:ext cx="58680" cy="122400"/>
            </a:xfrm>
            <a:prstGeom prst="pie">
              <a:avLst/>
            </a:prstGeom>
            <a:solidFill>
              <a:srgbClr val="e5d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23"/>
            <p:cNvSpPr/>
            <p:nvPr/>
          </p:nvSpPr>
          <p:spPr>
            <a:xfrm>
              <a:off x="907920" y="3741840"/>
              <a:ext cx="112680" cy="1303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Freeform 24"/>
            <p:cNvSpPr/>
            <p:nvPr/>
          </p:nvSpPr>
          <p:spPr>
            <a:xfrm>
              <a:off x="568440" y="4034160"/>
              <a:ext cx="50760" cy="4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Freeform 25"/>
            <p:cNvSpPr/>
            <p:nvPr/>
          </p:nvSpPr>
          <p:spPr>
            <a:xfrm>
              <a:off x="695160" y="4054680"/>
              <a:ext cx="38160" cy="4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Freeform 26"/>
            <p:cNvSpPr/>
            <p:nvPr/>
          </p:nvSpPr>
          <p:spPr>
            <a:xfrm>
              <a:off x="609480" y="3845160"/>
              <a:ext cx="54000" cy="69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Freeform 27"/>
            <p:cNvSpPr/>
            <p:nvPr/>
          </p:nvSpPr>
          <p:spPr>
            <a:xfrm>
              <a:off x="598320" y="3732480"/>
              <a:ext cx="274680" cy="291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Freeform 28"/>
            <p:cNvSpPr/>
            <p:nvPr/>
          </p:nvSpPr>
          <p:spPr>
            <a:xfrm>
              <a:off x="385560" y="3437280"/>
              <a:ext cx="327240" cy="50940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Freeform 29"/>
            <p:cNvSpPr/>
            <p:nvPr/>
          </p:nvSpPr>
          <p:spPr>
            <a:xfrm>
              <a:off x="293760" y="4138920"/>
              <a:ext cx="530280" cy="5349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Freeform 30"/>
            <p:cNvSpPr/>
            <p:nvPr/>
          </p:nvSpPr>
          <p:spPr>
            <a:xfrm>
              <a:off x="336600" y="4957920"/>
              <a:ext cx="174600" cy="133560"/>
            </a:xfrm>
            <a:prstGeom prst="pie">
              <a:avLst/>
            </a:pr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Freeform 31"/>
            <p:cNvSpPr/>
            <p:nvPr/>
          </p:nvSpPr>
          <p:spPr>
            <a:xfrm>
              <a:off x="722160" y="2949840"/>
              <a:ext cx="405000" cy="76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32"/>
            <p:cNvSpPr/>
            <p:nvPr/>
          </p:nvSpPr>
          <p:spPr>
            <a:xfrm>
              <a:off x="554040" y="3191040"/>
              <a:ext cx="9216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33"/>
            <p:cNvSpPr/>
            <p:nvPr/>
          </p:nvSpPr>
          <p:spPr>
            <a:xfrm>
              <a:off x="968400" y="3370680"/>
              <a:ext cx="133200" cy="32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34"/>
            <p:cNvSpPr/>
            <p:nvPr/>
          </p:nvSpPr>
          <p:spPr>
            <a:xfrm>
              <a:off x="579240" y="3456360"/>
              <a:ext cx="15588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35"/>
            <p:cNvSpPr/>
            <p:nvPr/>
          </p:nvSpPr>
          <p:spPr>
            <a:xfrm>
              <a:off x="674640" y="3451320"/>
              <a:ext cx="37296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Freeform 36"/>
            <p:cNvSpPr/>
            <p:nvPr/>
          </p:nvSpPr>
          <p:spPr>
            <a:xfrm>
              <a:off x="853920" y="3046680"/>
              <a:ext cx="399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Freeform 37"/>
            <p:cNvSpPr/>
            <p:nvPr/>
          </p:nvSpPr>
          <p:spPr>
            <a:xfrm>
              <a:off x="774720" y="3127680"/>
              <a:ext cx="10800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Freeform 38"/>
            <p:cNvSpPr/>
            <p:nvPr/>
          </p:nvSpPr>
          <p:spPr>
            <a:xfrm>
              <a:off x="957240" y="3035520"/>
              <a:ext cx="4932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Freeform 39"/>
            <p:cNvSpPr/>
            <p:nvPr/>
          </p:nvSpPr>
          <p:spPr>
            <a:xfrm>
              <a:off x="857160" y="2895840"/>
              <a:ext cx="5724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Freeform 40"/>
            <p:cNvSpPr/>
            <p:nvPr/>
          </p:nvSpPr>
          <p:spPr>
            <a:xfrm>
              <a:off x="1009440" y="3135600"/>
              <a:ext cx="3672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41"/>
            <p:cNvSpPr/>
            <p:nvPr/>
          </p:nvSpPr>
          <p:spPr>
            <a:xfrm>
              <a:off x="888840" y="3181680"/>
              <a:ext cx="1033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42"/>
            <p:cNvSpPr/>
            <p:nvPr/>
          </p:nvSpPr>
          <p:spPr>
            <a:xfrm>
              <a:off x="801720" y="3270600"/>
              <a:ext cx="16992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43"/>
            <p:cNvSpPr/>
            <p:nvPr/>
          </p:nvSpPr>
          <p:spPr>
            <a:xfrm>
              <a:off x="803160" y="3310200"/>
              <a:ext cx="12060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44"/>
            <p:cNvSpPr/>
            <p:nvPr/>
          </p:nvSpPr>
          <p:spPr>
            <a:xfrm>
              <a:off x="1041480" y="3040200"/>
              <a:ext cx="1094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45"/>
            <p:cNvSpPr/>
            <p:nvPr/>
          </p:nvSpPr>
          <p:spPr>
            <a:xfrm>
              <a:off x="931680" y="2891160"/>
              <a:ext cx="142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693720" y="2684880"/>
              <a:ext cx="471600" cy="33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47"/>
            <p:cNvSpPr/>
            <p:nvPr/>
          </p:nvSpPr>
          <p:spPr>
            <a:xfrm>
              <a:off x="789120" y="2764080"/>
              <a:ext cx="15372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48"/>
            <p:cNvSpPr/>
            <p:nvPr/>
          </p:nvSpPr>
          <p:spPr>
            <a:xfrm>
              <a:off x="950760" y="2951280"/>
              <a:ext cx="954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49"/>
            <p:cNvSpPr/>
            <p:nvPr/>
          </p:nvSpPr>
          <p:spPr>
            <a:xfrm>
              <a:off x="662040" y="2872080"/>
              <a:ext cx="11736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50"/>
            <p:cNvSpPr/>
            <p:nvPr/>
          </p:nvSpPr>
          <p:spPr>
            <a:xfrm>
              <a:off x="1076400" y="3505320"/>
              <a:ext cx="436320" cy="60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Freeform 51"/>
            <p:cNvSpPr/>
            <p:nvPr/>
          </p:nvSpPr>
          <p:spPr>
            <a:xfrm>
              <a:off x="414360" y="3754800"/>
              <a:ext cx="646200" cy="50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Freeform 52"/>
            <p:cNvSpPr/>
            <p:nvPr/>
          </p:nvSpPr>
          <p:spPr>
            <a:xfrm>
              <a:off x="944640" y="3811680"/>
              <a:ext cx="44748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Freeform 53"/>
            <p:cNvSpPr/>
            <p:nvPr/>
          </p:nvSpPr>
          <p:spPr>
            <a:xfrm>
              <a:off x="36360" y="3362400"/>
              <a:ext cx="465120" cy="44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Freeform 54"/>
            <p:cNvSpPr/>
            <p:nvPr/>
          </p:nvSpPr>
          <p:spPr>
            <a:xfrm>
              <a:off x="237960" y="3632400"/>
              <a:ext cx="263520" cy="13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55"/>
            <p:cNvSpPr/>
            <p:nvPr/>
          </p:nvSpPr>
          <p:spPr>
            <a:xfrm>
              <a:off x="196920" y="4345200"/>
              <a:ext cx="425520" cy="8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56"/>
            <p:cNvSpPr/>
            <p:nvPr/>
          </p:nvSpPr>
          <p:spPr>
            <a:xfrm>
              <a:off x="604800" y="4161240"/>
              <a:ext cx="50472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57"/>
            <p:cNvSpPr/>
            <p:nvPr/>
          </p:nvSpPr>
          <p:spPr>
            <a:xfrm>
              <a:off x="822240" y="4938840"/>
              <a:ext cx="2826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58"/>
            <p:cNvSpPr/>
            <p:nvPr/>
          </p:nvSpPr>
          <p:spPr>
            <a:xfrm>
              <a:off x="939600" y="4945320"/>
              <a:ext cx="36540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59"/>
            <p:cNvSpPr/>
            <p:nvPr/>
          </p:nvSpPr>
          <p:spPr>
            <a:xfrm>
              <a:off x="555480" y="4038840"/>
              <a:ext cx="4932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60"/>
            <p:cNvSpPr/>
            <p:nvPr/>
          </p:nvSpPr>
          <p:spPr>
            <a:xfrm>
              <a:off x="674640" y="4056480"/>
              <a:ext cx="4284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61"/>
            <p:cNvSpPr/>
            <p:nvPr/>
          </p:nvSpPr>
          <p:spPr>
            <a:xfrm>
              <a:off x="593640" y="3794400"/>
              <a:ext cx="268200" cy="21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Freeform 62"/>
            <p:cNvSpPr/>
            <p:nvPr/>
          </p:nvSpPr>
          <p:spPr>
            <a:xfrm>
              <a:off x="1239840" y="2887920"/>
              <a:ext cx="2570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Freeform 63"/>
            <p:cNvSpPr/>
            <p:nvPr/>
          </p:nvSpPr>
          <p:spPr>
            <a:xfrm>
              <a:off x="1249200" y="2646720"/>
              <a:ext cx="17640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Freeform 64"/>
            <p:cNvSpPr/>
            <p:nvPr/>
          </p:nvSpPr>
          <p:spPr>
            <a:xfrm>
              <a:off x="547560" y="2914920"/>
              <a:ext cx="1699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Freeform 65"/>
            <p:cNvSpPr/>
            <p:nvPr/>
          </p:nvSpPr>
          <p:spPr>
            <a:xfrm>
              <a:off x="593640" y="3264120"/>
              <a:ext cx="182520" cy="22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655560" y="3083040"/>
              <a:ext cx="874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200240" y="3162600"/>
              <a:ext cx="2826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238040" y="3294360"/>
              <a:ext cx="2178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Freeform 69"/>
            <p:cNvSpPr/>
            <p:nvPr/>
          </p:nvSpPr>
          <p:spPr>
            <a:xfrm>
              <a:off x="907920" y="3786480"/>
              <a:ext cx="1224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Freeform 70"/>
            <p:cNvSpPr/>
            <p:nvPr/>
          </p:nvSpPr>
          <p:spPr>
            <a:xfrm>
              <a:off x="912600" y="3732480"/>
              <a:ext cx="1191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Freeform 71"/>
            <p:cNvSpPr/>
            <p:nvPr/>
          </p:nvSpPr>
          <p:spPr>
            <a:xfrm>
              <a:off x="1538280" y="3983400"/>
              <a:ext cx="206280" cy="16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Freeform 72"/>
            <p:cNvSpPr/>
            <p:nvPr/>
          </p:nvSpPr>
          <p:spPr>
            <a:xfrm>
              <a:off x="1533600" y="4054680"/>
              <a:ext cx="16020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73"/>
            <p:cNvSpPr/>
            <p:nvPr/>
          </p:nvSpPr>
          <p:spPr>
            <a:xfrm>
              <a:off x="1508040" y="4137120"/>
              <a:ext cx="13500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74"/>
            <p:cNvSpPr/>
            <p:nvPr/>
          </p:nvSpPr>
          <p:spPr>
            <a:xfrm>
              <a:off x="1463760" y="4199040"/>
              <a:ext cx="14436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Freeform 75"/>
            <p:cNvSpPr/>
            <p:nvPr/>
          </p:nvSpPr>
          <p:spPr>
            <a:xfrm>
              <a:off x="1654200" y="3849840"/>
              <a:ext cx="38268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Freeform 76"/>
            <p:cNvSpPr/>
            <p:nvPr/>
          </p:nvSpPr>
          <p:spPr>
            <a:xfrm>
              <a:off x="1822320" y="4226040"/>
              <a:ext cx="1875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Freeform 77"/>
            <p:cNvSpPr/>
            <p:nvPr/>
          </p:nvSpPr>
          <p:spPr>
            <a:xfrm>
              <a:off x="1351080" y="3562560"/>
              <a:ext cx="606240" cy="120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Freeform 78"/>
            <p:cNvSpPr/>
            <p:nvPr/>
          </p:nvSpPr>
          <p:spPr>
            <a:xfrm>
              <a:off x="1378080" y="3986280"/>
              <a:ext cx="12852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Freeform 79"/>
            <p:cNvSpPr/>
            <p:nvPr/>
          </p:nvSpPr>
          <p:spPr>
            <a:xfrm>
              <a:off x="1569960" y="3673800"/>
              <a:ext cx="349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80"/>
            <p:cNvSpPr/>
            <p:nvPr/>
          </p:nvSpPr>
          <p:spPr>
            <a:xfrm>
              <a:off x="507960" y="3045240"/>
              <a:ext cx="6840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81"/>
            <p:cNvSpPr/>
            <p:nvPr/>
          </p:nvSpPr>
          <p:spPr>
            <a:xfrm>
              <a:off x="436680" y="3117960"/>
              <a:ext cx="257040" cy="49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82"/>
            <p:cNvSpPr/>
            <p:nvPr/>
          </p:nvSpPr>
          <p:spPr>
            <a:xfrm>
              <a:off x="520560" y="3254760"/>
              <a:ext cx="15264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>
              <a:off x="595440" y="3440520"/>
              <a:ext cx="35856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Freeform 84"/>
            <p:cNvSpPr/>
            <p:nvPr/>
          </p:nvSpPr>
          <p:spPr>
            <a:xfrm>
              <a:off x="285840" y="5113440"/>
              <a:ext cx="166356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1" name="AutoShape 85"/>
          <p:cNvSpPr/>
          <p:nvPr/>
        </p:nvSpPr>
        <p:spPr>
          <a:xfrm>
            <a:off x="2413080" y="4869000"/>
            <a:ext cx="2160360" cy="1150920"/>
          </a:xfrm>
          <a:prstGeom prst="wedgeRoundRectCallout">
            <a:avLst>
              <a:gd name="adj1" fmla="val -115685"/>
              <a:gd name="adj2" fmla="val -18806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Chan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86"/>
          <p:cNvSpPr/>
          <p:nvPr/>
        </p:nvSpPr>
        <p:spPr>
          <a:xfrm>
            <a:off x="5292720" y="4869000"/>
            <a:ext cx="1873080" cy="1152360"/>
          </a:xfrm>
          <a:prstGeom prst="wedgeRoundRectCallout">
            <a:avLst>
              <a:gd name="adj1" fmla="val 111949"/>
              <a:gd name="adj2" fmla="val -189120"/>
              <a:gd name="adj3" fmla="val 16667"/>
            </a:avLst>
          </a:prstGeom>
          <a:solidFill>
            <a:srgbClr val="ffff66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han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87"/>
          <p:cNvSpPr/>
          <p:nvPr/>
        </p:nvSpPr>
        <p:spPr>
          <a:xfrm>
            <a:off x="460080" y="5229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big chee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88"/>
          <p:cNvSpPr/>
          <p:nvPr/>
        </p:nvSpPr>
        <p:spPr>
          <a:xfrm>
            <a:off x="7750080" y="5156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9"/>
          <p:cNvGrpSpPr/>
          <p:nvPr/>
        </p:nvGrpSpPr>
        <p:grpSpPr>
          <a:xfrm>
            <a:off x="4515120" y="5301720"/>
            <a:ext cx="807120" cy="649800"/>
            <a:chOff x="4515120" y="5301720"/>
            <a:chExt cx="807120" cy="649800"/>
          </a:xfrm>
        </p:grpSpPr>
        <p:sp>
          <p:nvSpPr>
            <p:cNvPr id="396" name="Line 90"/>
            <p:cNvSpPr/>
            <p:nvPr/>
          </p:nvSpPr>
          <p:spPr>
            <a:xfrm flipV="1">
              <a:off x="4974840" y="5301720"/>
              <a:ext cx="288720" cy="3603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 flipH="1">
              <a:off x="4614120" y="5373720"/>
              <a:ext cx="215640" cy="3603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>
              <a:off x="4830480" y="5373720"/>
              <a:ext cx="144000" cy="2887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93"/>
            <p:cNvSpPr/>
            <p:nvPr/>
          </p:nvSpPr>
          <p:spPr>
            <a:xfrm>
              <a:off x="4515120" y="5675040"/>
              <a:ext cx="8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onflict</a:t>
              </a:r>
              <a:r>
                <a:rPr b="1" i="1" lang="en-GB" sz="1200" spc="-1" strike="noStrike">
                  <a:solidFill>
                    <a:srgbClr val="4b4eb5"/>
                  </a:solidFill>
                  <a:latin typeface="Arial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AutoShape 94"/>
          <p:cNvSpPr/>
          <p:nvPr/>
        </p:nvSpPr>
        <p:spPr>
          <a:xfrm>
            <a:off x="2413080" y="3284640"/>
            <a:ext cx="2160360" cy="1150920"/>
          </a:xfrm>
          <a:prstGeom prst="wedgeRoundRectCallout">
            <a:avLst>
              <a:gd name="adj1" fmla="val -50148"/>
              <a:gd name="adj2" fmla="val 168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Meet Schedu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utoShape 95"/>
          <p:cNvSpPr/>
          <p:nvPr/>
        </p:nvSpPr>
        <p:spPr>
          <a:xfrm>
            <a:off x="4789440" y="3284640"/>
            <a:ext cx="2160720" cy="1150920"/>
          </a:xfrm>
          <a:prstGeom prst="wedgeRoundRectCallout">
            <a:avLst>
              <a:gd name="adj1" fmla="val 31041"/>
              <a:gd name="adj2" fmla="val 8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Best Produc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96"/>
          <p:cNvSpPr/>
          <p:nvPr/>
        </p:nvSpPr>
        <p:spPr>
          <a:xfrm flipV="1">
            <a:off x="3565440" y="4581000"/>
            <a:ext cx="0" cy="2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97"/>
          <p:cNvSpPr/>
          <p:nvPr/>
        </p:nvSpPr>
        <p:spPr>
          <a:xfrm flipV="1">
            <a:off x="3492360" y="4437000"/>
            <a:ext cx="0" cy="432000"/>
          </a:xfrm>
          <a:prstGeom prst="line">
            <a:avLst/>
          </a:prstGeom>
          <a:ln w="76320">
            <a:solidFill>
              <a:srgbClr val="4b4e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98"/>
          <p:cNvSpPr/>
          <p:nvPr/>
        </p:nvSpPr>
        <p:spPr>
          <a:xfrm flipV="1">
            <a:off x="6013440" y="4437000"/>
            <a:ext cx="0" cy="432000"/>
          </a:xfrm>
          <a:prstGeom prst="line">
            <a:avLst/>
          </a:prstGeom>
          <a:ln w="76320">
            <a:solidFill>
              <a:srgbClr val="4b4e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AutoShape 99"/>
          <p:cNvSpPr/>
          <p:nvPr/>
        </p:nvSpPr>
        <p:spPr>
          <a:xfrm>
            <a:off x="3348000" y="1846440"/>
            <a:ext cx="2665440" cy="1150920"/>
          </a:xfrm>
          <a:prstGeom prst="wedgeRoundRectCallout">
            <a:avLst>
              <a:gd name="adj1" fmla="val -37074"/>
              <a:gd name="adj2" fmla="val -448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Successful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100"/>
          <p:cNvSpPr/>
          <p:nvPr/>
        </p:nvSpPr>
        <p:spPr>
          <a:xfrm flipV="1">
            <a:off x="3492360" y="2997360"/>
            <a:ext cx="1152720" cy="287280"/>
          </a:xfrm>
          <a:prstGeom prst="line">
            <a:avLst/>
          </a:prstGeom>
          <a:ln w="76320">
            <a:solidFill>
              <a:srgbClr val="4b4e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101"/>
          <p:cNvSpPr/>
          <p:nvPr/>
        </p:nvSpPr>
        <p:spPr>
          <a:xfrm flipH="1" flipV="1">
            <a:off x="4716360" y="2997360"/>
            <a:ext cx="1152720" cy="287280"/>
          </a:xfrm>
          <a:prstGeom prst="line">
            <a:avLst/>
          </a:prstGeom>
          <a:ln w="76320">
            <a:solidFill>
              <a:srgbClr val="4b4e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06Z</dcterms:modified>
  <cp:revision>1827</cp:revision>
  <dc:subject/>
  <dc:title>PowerPoint Presentation</dc:title>
</cp:coreProperties>
</file>