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0E9C-121D-438C-AB6D-30F10912B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1DB9-E90C-4251-92AA-E8ED5C7FD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2829-123A-4092-8CE1-381C4758F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9C66-BC0B-4D97-A44B-3406B8530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989E0-87C3-4735-9F12-30D5E5F8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E003A-77D4-4240-AD06-9DA1A5BB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5CA87-BABE-47B2-AE34-389E4CD7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05540-B5A8-49FD-9287-1A894CB2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F6B6F-A1A9-46C9-848C-8EFC5AE0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0B049-9B87-4C6B-BF9C-2861FD9F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CE897-F4AC-4C62-90AC-2BA2D9F2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B8BB-8CE5-45CA-862B-BD107C5C5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81921-DDBF-4D2A-9055-84D1FAF8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F14FC-5096-4050-8000-9997264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DF316-4A62-4ECC-87AD-54967C70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44AF7-98AB-43AA-B304-04E92041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626C4-622E-410F-A12E-2BA92862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26D0-6C7F-4A3C-AD5F-FEA1C3A55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3FEA-3361-4523-A9E5-4FFC371C7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FAC5-10D3-4DB1-8E27-4765D5D0A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DEB9-E227-4818-9E00-3A7FDCA45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6D82-56D7-4DEC-A055-D5A00BD2B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6182-4792-4B9C-8E2B-F035AA232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3A32-5AE9-4D0E-A5C6-178924C32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D5AC-5421-4802-A7F5-107DC650A62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CEA2-77E2-4F42-81A1-8D46D78D3002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مدل‌سازي تعامل و رفتا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632040" y="220500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د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D2A8-A9FF-41B1-B7DA-ADA9F68521F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همكا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 روي سازماندهي اشياء شرك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ننده در يك تعامل تاكيد مي‌ك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عمولاً براي بيان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حوه اجراي سناريو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فاده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5" name="Picture 4" descr="MERGE"/>
          <p:cNvPicPr/>
          <p:nvPr/>
        </p:nvPicPr>
        <p:blipFill>
          <a:blip r:embed="rId1"/>
          <a:stretch/>
        </p:blipFill>
        <p:spPr>
          <a:xfrm>
            <a:off x="357120" y="4272120"/>
            <a:ext cx="29908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3964-A77F-402D-8F32-5ABD41802C1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همكار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295280" y="2133720"/>
          <a:ext cx="693432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93432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Line 5"/>
          <p:cNvSpPr/>
          <p:nvPr/>
        </p:nvSpPr>
        <p:spPr>
          <a:xfrm flipH="1">
            <a:off x="3733560" y="1676520"/>
            <a:ext cx="1143000" cy="12189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657600" y="1295280"/>
            <a:ext cx="247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Times New Roman (Arabic)"/>
                <a:cs typeface="Nazanin"/>
              </a:rPr>
              <a:t>براي نمايش پيام</a:t>
            </a:r>
            <a:r>
              <a:rPr b="1" lang="fa-IR" sz="1800" spc="-1" strike="noStrike">
                <a:solidFill>
                  <a:srgbClr val="003399"/>
                </a:solidFill>
                <a:latin typeface="Times New Roman (Arabic)"/>
                <a:ea typeface="Nazanin"/>
              </a:rPr>
              <a:t>‌</a:t>
            </a:r>
            <a:r>
              <a:rPr b="1" lang="ar-SA" sz="1800" spc="-1" strike="noStrike">
                <a:solidFill>
                  <a:srgbClr val="003399"/>
                </a:solidFill>
                <a:latin typeface="Times New Roman (Arabic)"/>
                <a:cs typeface="Nazanin"/>
              </a:rPr>
              <a:t>هاي تو در ت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4876920" y="1676520"/>
            <a:ext cx="1218960" cy="1295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55F5-0244-489F-9846-EFCA4CF7380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همكار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ز آنج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ه نمودار همكاري نشاندهنده نحوه سازماندهي اشياء مي‌باشد، زمينه لازم براي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تخاذ برخي از تصميما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رابطه با اين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زمانده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فراهم مي‌گرد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6" name="Picture 4" descr="MARKDOWN"/>
          <p:cNvPicPr/>
          <p:nvPr/>
        </p:nvPicPr>
        <p:blipFill>
          <a:blip r:embed="rId1"/>
          <a:stretch/>
        </p:blipFill>
        <p:spPr>
          <a:xfrm>
            <a:off x="468360" y="4108320"/>
            <a:ext cx="25192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204B-5B9D-4484-8B0F-FC4E39287DF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دار حال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دف از اين نمودار، طراحي حالت رفتاري اشياء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حالت‌هاي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که يک شي در زمان‌هاي مختلف دارد و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ارتباط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ين حالت‌ها در اين نمودار نمايش داده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چرخه زندگي يک شي را نشان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0" name="Picture 4" descr="AMERROR"/>
          <p:cNvPicPr/>
          <p:nvPr/>
        </p:nvPicPr>
        <p:blipFill>
          <a:blip r:embed="rId1"/>
          <a:stretch/>
        </p:blipFill>
        <p:spPr>
          <a:xfrm>
            <a:off x="6372360" y="4581360"/>
            <a:ext cx="1752480" cy="18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FRUSTRAT"/>
          <p:cNvPicPr/>
          <p:nvPr/>
        </p:nvPicPr>
        <p:blipFill>
          <a:blip r:embed="rId2"/>
          <a:stretch/>
        </p:blipFill>
        <p:spPr>
          <a:xfrm>
            <a:off x="3708360" y="4581360"/>
            <a:ext cx="2016000" cy="1605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MEDIATE"/>
          <p:cNvPicPr/>
          <p:nvPr/>
        </p:nvPicPr>
        <p:blipFill>
          <a:blip r:embed="rId3"/>
          <a:stretch/>
        </p:blipFill>
        <p:spPr>
          <a:xfrm>
            <a:off x="395280" y="4581360"/>
            <a:ext cx="25909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3759-A03B-4EE4-A6D3-2A0B3AC05BE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نمودار حال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زمين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Contex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نواع اشياء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شياء كنترل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كننده معمولا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ً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 رفتارهاي قابل توجهي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برخي از اشياء بايد به سيگنال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هاي خارجي نيز پاسخ 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911160" y="2133720"/>
            <a:ext cx="5257800" cy="1428840"/>
            <a:chOff x="911160" y="2133720"/>
            <a:chExt cx="5257800" cy="1428840"/>
          </a:xfrm>
        </p:grpSpPr>
        <p:sp>
          <p:nvSpPr>
            <p:cNvPr id="177" name="AutoShape 4"/>
            <p:cNvSpPr/>
            <p:nvPr/>
          </p:nvSpPr>
          <p:spPr>
            <a:xfrm>
              <a:off x="5940360" y="213372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" name="Group 5"/>
            <p:cNvGrpSpPr/>
            <p:nvPr/>
          </p:nvGrpSpPr>
          <p:grpSpPr>
            <a:xfrm>
              <a:off x="911160" y="2133720"/>
              <a:ext cx="5105160" cy="1428840"/>
              <a:chOff x="911160" y="2133720"/>
              <a:chExt cx="5105160" cy="1428840"/>
            </a:xfrm>
          </p:grpSpPr>
          <p:sp>
            <p:nvSpPr>
              <p:cNvPr id="179" name="Text Box 6"/>
              <p:cNvSpPr/>
              <p:nvPr/>
            </p:nvSpPr>
            <p:spPr>
              <a:xfrm>
                <a:off x="911160" y="2133720"/>
                <a:ext cx="51051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cc3300"/>
                    </a:solidFill>
                    <a:latin typeface="Times New Roman"/>
                    <a:ea typeface="Nazanin"/>
                  </a:rPr>
                  <a:t> اكثر اشياء حساس به تاريخچه خود هستند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Text Box 7"/>
              <p:cNvSpPr/>
              <p:nvPr/>
            </p:nvSpPr>
            <p:spPr>
              <a:xfrm>
                <a:off x="911160" y="2590920"/>
                <a:ext cx="510516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cc3300"/>
                    </a:solidFill>
                    <a:latin typeface="Times New Roman"/>
                    <a:cs typeface="Nazanin"/>
                  </a:rPr>
                  <a:t>برخي از اشياء داراي پيچيدگي رفتاري هستند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1" name="Text Box 8"/>
          <p:cNvSpPr/>
          <p:nvPr/>
        </p:nvSpPr>
        <p:spPr>
          <a:xfrm>
            <a:off x="684360" y="2708280"/>
            <a:ext cx="7561080" cy="2160720"/>
          </a:xfrm>
          <a:prstGeom prst="rect">
            <a:avLst/>
          </a:prstGeom>
          <a:solidFill>
            <a:srgbClr val="ffff66"/>
          </a:solidFill>
          <a:ln w="19080">
            <a:solidFill>
              <a:srgbClr val="cc33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رفتار اشيائي كه به تاريخچه خود حساسيت دارند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اشيائي كه بايد به سيگنال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 خارجي پاسخ دهند و اشياء كنترلي بهتر است كه بوسيله </a:t>
            </a:r>
            <a:r>
              <a:rPr b="1" lang="ar-SA" sz="2800" spc="-1" strike="noStrike">
                <a:solidFill>
                  <a:srgbClr val="a88800"/>
                </a:solidFill>
                <a:latin typeface="Times New Roman"/>
                <a:cs typeface="Nazanin"/>
              </a:rPr>
              <a:t>نمودار چارت حال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مدلسازي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2BDF-6685-4C1D-826B-8619A54B6B6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نمودار حال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حال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Stat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وضعيتي است در دوران حيات يك شي كه در آن، اين شي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شرايط ويژه‌اي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را احراز نموده، فعاليتي را انجام داده و يا منتظر رخ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دادن يك رويداد مشخص 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268360" y="4221000"/>
            <a:ext cx="4648320" cy="1433520"/>
            <a:chOff x="2268360" y="4221000"/>
            <a:chExt cx="4648320" cy="1433520"/>
          </a:xfrm>
        </p:grpSpPr>
        <p:graphicFrame>
          <p:nvGraphicFramePr>
            <p:cNvPr id="186" name="Object 5"/>
            <p:cNvGraphicFramePr/>
            <p:nvPr/>
          </p:nvGraphicFramePr>
          <p:xfrm>
            <a:off x="2268360" y="4221000"/>
            <a:ext cx="2514600" cy="14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360" y="4221000"/>
                      <a:ext cx="2514600" cy="14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Line 6"/>
            <p:cNvSpPr/>
            <p:nvPr/>
          </p:nvSpPr>
          <p:spPr>
            <a:xfrm flipH="1">
              <a:off x="4402080" y="5348160"/>
              <a:ext cx="12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5659200" y="5233680"/>
              <a:ext cx="12574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يك فعاليت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 flipH="1">
              <a:off x="4402080" y="5043240"/>
              <a:ext cx="12571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5659200" y="4928760"/>
              <a:ext cx="1104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كنش خروجي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H="1">
              <a:off x="4515840" y="4601880"/>
              <a:ext cx="118116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5621040" y="4449600"/>
              <a:ext cx="12574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كنش ورودي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A8D5-C52B-47C3-96AE-7C73871860F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نمودار حال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تقا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Transitio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عبارت از تغييري در حالت شي كه بوسيله يك محرك (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Trigger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) بوجود آمد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99"/>
                </a:solidFill>
                <a:latin typeface="Times New Roman"/>
              </a:rPr>
              <a:t>اجزاي برچسب يك انتقا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26920" y="4005360"/>
            <a:ext cx="464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 [Guard] / Action</a:t>
            </a:r>
            <a:r>
              <a:rPr b="0" i="1" lang="ar-SA" sz="3200" spc="-1" strike="noStrike">
                <a:solidFill>
                  <a:srgbClr val="000000"/>
                </a:solidFill>
                <a:latin typeface="Times New Roman"/>
                <a:ea typeface="Lot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4FC2-F4D4-4E5D-B16F-391D3411651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نمودار حال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24000" y="15573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b4eb5"/>
                </a:solidFill>
                <a:latin typeface="Times New Roman"/>
                <a:cs typeface="Nazanin"/>
              </a:rPr>
              <a:t>مثال: سيستم كنترل خودكار حرارت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34920" y="2743200"/>
          <a:ext cx="91440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743200"/>
                    <a:ext cx="914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Line 7"/>
          <p:cNvSpPr/>
          <p:nvPr/>
        </p:nvSpPr>
        <p:spPr>
          <a:xfrm>
            <a:off x="2397240" y="2514600"/>
            <a:ext cx="914400" cy="3049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863720" y="2133720"/>
            <a:ext cx="125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حالت ابتدائ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5901840" y="2819520"/>
            <a:ext cx="1143000" cy="152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6435720" y="2514600"/>
            <a:ext cx="125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حالت انتهائ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1101240" y="3886200"/>
            <a:ext cx="228600" cy="7621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873000" y="35812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رويدا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13"/>
          <p:cNvSpPr/>
          <p:nvPr/>
        </p:nvSpPr>
        <p:spPr>
          <a:xfrm flipH="1">
            <a:off x="2091960" y="3886200"/>
            <a:ext cx="228600" cy="7621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1558800" y="35812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پارامتر رويدا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5292720" y="3733920"/>
            <a:ext cx="1752480" cy="228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6816600" y="3581280"/>
            <a:ext cx="72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حال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2E1B-A9A4-4A63-83FA-00E4D083FC6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رسم نمودار حال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رسم نمودار حال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تعيين و تعريف حالت‌ها 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State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تعيين رويدادها 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Events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تعيين انتقال‌ها 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Transitions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افزودن فعاليت‌ها 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Activities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 و عمليات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Actions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16" name="Picture 4" descr="AMRESULT"/>
          <p:cNvPicPr/>
          <p:nvPr/>
        </p:nvPicPr>
        <p:blipFill>
          <a:blip r:embed="rId1"/>
          <a:stretch/>
        </p:blipFill>
        <p:spPr>
          <a:xfrm>
            <a:off x="179280" y="4437000"/>
            <a:ext cx="30258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885E-E0B5-4BDE-B7C5-D44771289EE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عيين و تعريف حالت‌ها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عيين خصوصيات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غييرپذي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سيار با اهميت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مثال: بيشترين تعداد دانشجوياني که مي‌توانند درس را انتخاب کنند، 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25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وجود يا عدم وجود يک ارتباط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1193760" y="2924280"/>
            <a:ext cx="5791320" cy="1055160"/>
            <a:chOff x="1193760" y="2924280"/>
            <a:chExt cx="5791320" cy="1055160"/>
          </a:xfrm>
        </p:grpSpPr>
        <p:sp>
          <p:nvSpPr>
            <p:cNvPr id="221" name="Rectangle 4"/>
            <p:cNvSpPr/>
            <p:nvPr/>
          </p:nvSpPr>
          <p:spPr>
            <a:xfrm>
              <a:off x="1193760" y="2924280"/>
              <a:ext cx="232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mStudents  &lt;  25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2" name="Group 11"/>
            <p:cNvGrpSpPr/>
            <p:nvPr/>
          </p:nvGrpSpPr>
          <p:grpSpPr>
            <a:xfrm>
              <a:off x="1562040" y="3411360"/>
              <a:ext cx="1306440" cy="568080"/>
              <a:chOff x="1562040" y="3411360"/>
              <a:chExt cx="1306440" cy="568080"/>
            </a:xfrm>
          </p:grpSpPr>
          <p:sp>
            <p:nvSpPr>
              <p:cNvPr id="223" name="AutoShape 5"/>
              <p:cNvSpPr/>
              <p:nvPr/>
            </p:nvSpPr>
            <p:spPr>
              <a:xfrm>
                <a:off x="1562040" y="3411360"/>
                <a:ext cx="1306440" cy="568080"/>
              </a:xfrm>
              <a:prstGeom prst="roundRect">
                <a:avLst>
                  <a:gd name="adj" fmla="val 12495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6"/>
              <p:cNvSpPr/>
              <p:nvPr/>
            </p:nvSpPr>
            <p:spPr>
              <a:xfrm>
                <a:off x="1908720" y="3499920"/>
                <a:ext cx="701640" cy="335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pen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5" name="Rectangle 7"/>
            <p:cNvSpPr/>
            <p:nvPr/>
          </p:nvSpPr>
          <p:spPr>
            <a:xfrm>
              <a:off x="4673520" y="2924280"/>
              <a:ext cx="2311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mStudents  &gt; =  2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" name="Group 10"/>
            <p:cNvGrpSpPr/>
            <p:nvPr/>
          </p:nvGrpSpPr>
          <p:grpSpPr>
            <a:xfrm>
              <a:off x="5186520" y="3411360"/>
              <a:ext cx="1311120" cy="568080"/>
              <a:chOff x="5186520" y="3411360"/>
              <a:chExt cx="1311120" cy="568080"/>
            </a:xfrm>
          </p:grpSpPr>
          <p:sp>
            <p:nvSpPr>
              <p:cNvPr id="227" name="AutoShape 8"/>
              <p:cNvSpPr/>
              <p:nvPr/>
            </p:nvSpPr>
            <p:spPr>
              <a:xfrm>
                <a:off x="5186520" y="3411360"/>
                <a:ext cx="1311120" cy="568080"/>
              </a:xfrm>
              <a:prstGeom prst="roundRect">
                <a:avLst>
                  <a:gd name="adj" fmla="val 12495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5435640" y="3530160"/>
                <a:ext cx="860040" cy="335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losed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29" name="Group 48"/>
          <p:cNvGrpSpPr/>
          <p:nvPr/>
        </p:nvGrpSpPr>
        <p:grpSpPr>
          <a:xfrm>
            <a:off x="755640" y="5013360"/>
            <a:ext cx="7098120" cy="1668600"/>
            <a:chOff x="755640" y="5013360"/>
            <a:chExt cx="7098120" cy="1668600"/>
          </a:xfrm>
        </p:grpSpPr>
        <p:grpSp>
          <p:nvGrpSpPr>
            <p:cNvPr id="230" name="Group 34"/>
            <p:cNvGrpSpPr/>
            <p:nvPr/>
          </p:nvGrpSpPr>
          <p:grpSpPr>
            <a:xfrm>
              <a:off x="1238400" y="5643720"/>
              <a:ext cx="1306440" cy="568080"/>
              <a:chOff x="1238400" y="5643720"/>
              <a:chExt cx="1306440" cy="568080"/>
            </a:xfrm>
          </p:grpSpPr>
          <p:sp>
            <p:nvSpPr>
              <p:cNvPr id="231" name="AutoShape 18"/>
              <p:cNvSpPr/>
              <p:nvPr/>
            </p:nvSpPr>
            <p:spPr>
              <a:xfrm>
                <a:off x="1238400" y="5643720"/>
                <a:ext cx="1306440" cy="568080"/>
              </a:xfrm>
              <a:prstGeom prst="roundRect">
                <a:avLst>
                  <a:gd name="adj" fmla="val 12495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20"/>
              <p:cNvSpPr/>
              <p:nvPr/>
            </p:nvSpPr>
            <p:spPr>
              <a:xfrm>
                <a:off x="1352880" y="5762520"/>
                <a:ext cx="1073520" cy="335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eaching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35"/>
            <p:cNvGrpSpPr/>
            <p:nvPr/>
          </p:nvGrpSpPr>
          <p:grpSpPr>
            <a:xfrm>
              <a:off x="3435480" y="5668920"/>
              <a:ext cx="1662120" cy="568440"/>
              <a:chOff x="3435480" y="5668920"/>
              <a:chExt cx="1662120" cy="568440"/>
            </a:xfrm>
          </p:grpSpPr>
          <p:sp>
            <p:nvSpPr>
              <p:cNvPr id="234" name="AutoShape 19"/>
              <p:cNvSpPr/>
              <p:nvPr/>
            </p:nvSpPr>
            <p:spPr>
              <a:xfrm>
                <a:off x="3435480" y="5668920"/>
                <a:ext cx="1662120" cy="568440"/>
              </a:xfrm>
              <a:prstGeom prst="roundRect">
                <a:avLst>
                  <a:gd name="adj" fmla="val 12495"/>
                </a:avLst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21"/>
              <p:cNvSpPr/>
              <p:nvPr/>
            </p:nvSpPr>
            <p:spPr>
              <a:xfrm>
                <a:off x="3463200" y="5762520"/>
                <a:ext cx="153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n Sabbatic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6" name="Text Box 22"/>
            <p:cNvSpPr/>
            <p:nvPr/>
          </p:nvSpPr>
          <p:spPr>
            <a:xfrm>
              <a:off x="755640" y="5029200"/>
              <a:ext cx="243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nk to CourseOffering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s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3515400" y="5072040"/>
              <a:ext cx="2384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nk to CourseOffering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esn’t Exis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" name="Group 46"/>
            <p:cNvGrpSpPr/>
            <p:nvPr/>
          </p:nvGrpSpPr>
          <p:grpSpPr>
            <a:xfrm>
              <a:off x="6184440" y="5013360"/>
              <a:ext cx="1669320" cy="1668600"/>
              <a:chOff x="6184440" y="5013360"/>
              <a:chExt cx="1669320" cy="1668600"/>
            </a:xfrm>
          </p:grpSpPr>
          <p:sp>
            <p:nvSpPr>
              <p:cNvPr id="239" name="Rectangle 38"/>
              <p:cNvSpPr/>
              <p:nvPr/>
            </p:nvSpPr>
            <p:spPr>
              <a:xfrm>
                <a:off x="6453360" y="5013360"/>
                <a:ext cx="1136520" cy="5634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39"/>
              <p:cNvSpPr/>
              <p:nvPr/>
            </p:nvSpPr>
            <p:spPr>
              <a:xfrm>
                <a:off x="6443640" y="5084640"/>
                <a:ext cx="1131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sor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41"/>
              <p:cNvSpPr/>
              <p:nvPr/>
            </p:nvSpPr>
            <p:spPr>
              <a:xfrm>
                <a:off x="6227640" y="6118200"/>
                <a:ext cx="1589040" cy="56376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42"/>
              <p:cNvSpPr/>
              <p:nvPr/>
            </p:nvSpPr>
            <p:spPr>
              <a:xfrm>
                <a:off x="6184440" y="6200640"/>
                <a:ext cx="1669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urseOffering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43"/>
              <p:cNvSpPr/>
              <p:nvPr/>
            </p:nvSpPr>
            <p:spPr>
              <a:xfrm>
                <a:off x="6526080" y="5800680"/>
                <a:ext cx="45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..*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44"/>
              <p:cNvSpPr/>
              <p:nvPr/>
            </p:nvSpPr>
            <p:spPr>
              <a:xfrm>
                <a:off x="6533640" y="551664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..1  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Line 45"/>
              <p:cNvSpPr/>
              <p:nvPr/>
            </p:nvSpPr>
            <p:spPr>
              <a:xfrm>
                <a:off x="7023240" y="5576760"/>
                <a:ext cx="0" cy="51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80F6-7A51-4B7A-8AEE-76104334882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مدلسازي تعام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ترتيب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اهميت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همكار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اهميت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حال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اهميت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فعالي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اهميت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4335-C747-4F8F-A3D3-DA55113D9CB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عيين رويداد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ک رويداد مي‌تواند سبب فعال شدن رويداد ديگر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ک فعاليت مي‌تواند رويدادي را به شي ديگري ارسال دا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2217600" y="3411360"/>
            <a:ext cx="4977000" cy="2393640"/>
            <a:chOff x="2217600" y="3411360"/>
            <a:chExt cx="4977000" cy="2393640"/>
          </a:xfrm>
        </p:grpSpPr>
        <p:sp>
          <p:nvSpPr>
            <p:cNvPr id="250" name="AutoShape 5"/>
            <p:cNvSpPr/>
            <p:nvPr/>
          </p:nvSpPr>
          <p:spPr>
            <a:xfrm>
              <a:off x="4599000" y="5103360"/>
              <a:ext cx="2595600" cy="701640"/>
            </a:xfrm>
            <a:prstGeom prst="roundRect">
              <a:avLst>
                <a:gd name="adj" fmla="val 12069"/>
              </a:avLst>
            </a:prstGeom>
            <a:solidFill>
              <a:srgbClr val="ffff00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914080" y="508284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e 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4618080" y="5354280"/>
              <a:ext cx="255744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4724640" y="5427360"/>
              <a:ext cx="232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^TargetObject.ev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>
              <a:off x="2217600" y="3411360"/>
              <a:ext cx="1078200" cy="47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431080" y="345564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e 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182760" y="3893760"/>
              <a:ext cx="2090880" cy="11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 flipH="1" flipV="1">
              <a:off x="5184360" y="4938120"/>
              <a:ext cx="8892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 flipH="1" flipV="1">
              <a:off x="5138280" y="5028840"/>
              <a:ext cx="13500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14"/>
            <p:cNvSpPr/>
            <p:nvPr/>
          </p:nvSpPr>
          <p:spPr>
            <a:xfrm>
              <a:off x="3132000" y="4343040"/>
              <a:ext cx="253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ent ^TargetObject.ev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DCEB-A86D-46FE-9599-365FCF270F6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عيين انتقال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اي هر حالت، تعيين کنيد: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چه رويدادي سبب انتقال به چه حالتي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نتقال مشخص مي‌کند که: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در پاسخ به ورود يک رويداد چه اتفاقي مي‌افت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2340000" y="3616200"/>
            <a:ext cx="3386160" cy="2836800"/>
            <a:chOff x="2340000" y="3616200"/>
            <a:chExt cx="3386160" cy="2836800"/>
          </a:xfrm>
        </p:grpSpPr>
        <p:sp>
          <p:nvSpPr>
            <p:cNvPr id="264" name="AutoShape 5"/>
            <p:cNvSpPr/>
            <p:nvPr/>
          </p:nvSpPr>
          <p:spPr>
            <a:xfrm>
              <a:off x="3262320" y="3616200"/>
              <a:ext cx="1079640" cy="484200"/>
            </a:xfrm>
            <a:prstGeom prst="roundRect">
              <a:avLst>
                <a:gd name="adj" fmla="val 16278"/>
              </a:avLst>
            </a:prstGeom>
            <a:solidFill>
              <a:srgbClr val="ffff00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519360" y="368460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e 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AutoShape 7"/>
            <p:cNvSpPr/>
            <p:nvPr/>
          </p:nvSpPr>
          <p:spPr>
            <a:xfrm>
              <a:off x="2340000" y="5867280"/>
              <a:ext cx="1090800" cy="585720"/>
            </a:xfrm>
            <a:prstGeom prst="roundRect">
              <a:avLst>
                <a:gd name="adj" fmla="val 13463"/>
              </a:avLst>
            </a:prstGeom>
            <a:solidFill>
              <a:srgbClr val="ffff00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2597040" y="593568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e B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9"/>
            <p:cNvSpPr/>
            <p:nvPr/>
          </p:nvSpPr>
          <p:spPr>
            <a:xfrm>
              <a:off x="2386080" y="6172200"/>
              <a:ext cx="101124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419920" y="619452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activit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 flipH="1">
              <a:off x="3003480" y="4100400"/>
              <a:ext cx="709560" cy="1778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 flipV="1">
              <a:off x="3003840" y="5776920"/>
              <a:ext cx="10152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 flipV="1">
              <a:off x="3003840" y="5732280"/>
              <a:ext cx="14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14"/>
            <p:cNvSpPr/>
            <p:nvPr/>
          </p:nvSpPr>
          <p:spPr>
            <a:xfrm>
              <a:off x="2545200" y="4956120"/>
              <a:ext cx="21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ent[ condition ] / ac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>
              <a:off x="4646880" y="5924520"/>
              <a:ext cx="1079280" cy="482760"/>
            </a:xfrm>
            <a:prstGeom prst="roundRect">
              <a:avLst>
                <a:gd name="adj" fmla="val 16278"/>
              </a:avLst>
            </a:prstGeom>
            <a:solidFill>
              <a:srgbClr val="ffff00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6"/>
            <p:cNvSpPr/>
            <p:nvPr/>
          </p:nvSpPr>
          <p:spPr>
            <a:xfrm>
              <a:off x="4846680" y="596880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e C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>
              <a:off x="3443400" y="6172200"/>
              <a:ext cx="1203480" cy="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 flipH="1">
              <a:off x="4523040" y="6172200"/>
              <a:ext cx="123840" cy="4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 flipH="1" flipV="1">
              <a:off x="4523040" y="6114600"/>
              <a:ext cx="123840" cy="5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D5B8-6F7A-42EB-A2A8-9C28CE60EB8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فزودن فعاليت‌ها و عمليا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عاليت‌ها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Activitie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با يک حالت مرتبط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با ورود به حالت، شروع مي‌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نياز به زمان براي انجام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قابل توقف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عمليات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Action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با يک انتقال مرتبط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زمان بسيار کمي نياز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غير قابل توقف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4697-9DA3-4592-833C-704A0D613EC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نمودارحال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4" name="Group 4"/>
          <p:cNvGrpSpPr/>
          <p:nvPr/>
        </p:nvGrpSpPr>
        <p:grpSpPr>
          <a:xfrm>
            <a:off x="0" y="1266840"/>
            <a:ext cx="9144000" cy="5257800"/>
            <a:chOff x="0" y="1266840"/>
            <a:chExt cx="9144000" cy="5257800"/>
          </a:xfrm>
        </p:grpSpPr>
        <p:sp>
          <p:nvSpPr>
            <p:cNvPr id="285" name="Oval 5"/>
            <p:cNvSpPr/>
            <p:nvPr/>
          </p:nvSpPr>
          <p:spPr>
            <a:xfrm>
              <a:off x="0" y="2341440"/>
              <a:ext cx="142920" cy="163800"/>
            </a:xfrm>
            <a:prstGeom prst="ellipse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AutoShape 6"/>
            <p:cNvSpPr/>
            <p:nvPr/>
          </p:nvSpPr>
          <p:spPr>
            <a:xfrm>
              <a:off x="681120" y="2104920"/>
              <a:ext cx="1401840" cy="685800"/>
            </a:xfrm>
            <a:prstGeom prst="roundRect">
              <a:avLst>
                <a:gd name="adj" fmla="val 124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1064520" y="2108160"/>
              <a:ext cx="73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itializ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8"/>
            <p:cNvSpPr/>
            <p:nvPr/>
          </p:nvSpPr>
          <p:spPr>
            <a:xfrm>
              <a:off x="687240" y="2394000"/>
              <a:ext cx="138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>
              <a:off x="687600" y="2367000"/>
              <a:ext cx="1494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Initialize cours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150840" y="2446200"/>
              <a:ext cx="52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AutoShape 11"/>
            <p:cNvSpPr/>
            <p:nvPr/>
          </p:nvSpPr>
          <p:spPr>
            <a:xfrm>
              <a:off x="2449440" y="2138400"/>
              <a:ext cx="1631880" cy="685800"/>
            </a:xfrm>
            <a:prstGeom prst="roundRect">
              <a:avLst>
                <a:gd name="adj" fmla="val 124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2454120" y="2428920"/>
              <a:ext cx="162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2421000" y="2400480"/>
              <a:ext cx="16221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Assign professor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 cours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2090880" y="244620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AutoShape 15"/>
            <p:cNvSpPr/>
            <p:nvPr/>
          </p:nvSpPr>
          <p:spPr>
            <a:xfrm>
              <a:off x="5746680" y="2100240"/>
              <a:ext cx="1422360" cy="673200"/>
            </a:xfrm>
            <a:prstGeom prst="roundRect">
              <a:avLst>
                <a:gd name="adj" fmla="val 124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>
              <a:off x="6014520" y="2054160"/>
              <a:ext cx="559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5753160" y="2371680"/>
              <a:ext cx="141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18"/>
            <p:cNvSpPr/>
            <p:nvPr/>
          </p:nvSpPr>
          <p:spPr>
            <a:xfrm>
              <a:off x="5753160" y="2360520"/>
              <a:ext cx="1306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y: Register 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uden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19"/>
            <p:cNvSpPr/>
            <p:nvPr/>
          </p:nvSpPr>
          <p:spPr>
            <a:xfrm>
              <a:off x="3732120" y="5519880"/>
              <a:ext cx="1297080" cy="682560"/>
            </a:xfrm>
            <a:prstGeom prst="roundRect">
              <a:avLst>
                <a:gd name="adj" fmla="val 124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0"/>
            <p:cNvSpPr/>
            <p:nvPr/>
          </p:nvSpPr>
          <p:spPr>
            <a:xfrm>
              <a:off x="4123440" y="5526000"/>
              <a:ext cx="660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ose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>
              <a:off x="3732120" y="5810400"/>
              <a:ext cx="129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22"/>
            <p:cNvSpPr/>
            <p:nvPr/>
          </p:nvSpPr>
          <p:spPr>
            <a:xfrm>
              <a:off x="3793320" y="5781600"/>
              <a:ext cx="1033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Report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urse is ful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23"/>
            <p:cNvSpPr/>
            <p:nvPr/>
          </p:nvSpPr>
          <p:spPr>
            <a:xfrm>
              <a:off x="2014560" y="3817800"/>
              <a:ext cx="1681200" cy="758880"/>
            </a:xfrm>
            <a:prstGeom prst="roundRect">
              <a:avLst>
                <a:gd name="adj" fmla="val 124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24"/>
            <p:cNvSpPr/>
            <p:nvPr/>
          </p:nvSpPr>
          <p:spPr>
            <a:xfrm>
              <a:off x="2495160" y="3821040"/>
              <a:ext cx="831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cele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>
              <a:off x="2021040" y="4106880"/>
              <a:ext cx="167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6"/>
            <p:cNvSpPr/>
            <p:nvPr/>
          </p:nvSpPr>
          <p:spPr>
            <a:xfrm>
              <a:off x="2035800" y="4078440"/>
              <a:ext cx="1692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Send cancellation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tic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4089240" y="2457360"/>
              <a:ext cx="165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28"/>
            <p:cNvSpPr/>
            <p:nvPr/>
          </p:nvSpPr>
          <p:spPr>
            <a:xfrm>
              <a:off x="4274280" y="1932120"/>
              <a:ext cx="1389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dStudent/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mStudents =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29"/>
            <p:cNvSpPr/>
            <p:nvPr/>
          </p:nvSpPr>
          <p:spPr>
            <a:xfrm>
              <a:off x="2903400" y="282420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30"/>
            <p:cNvSpPr/>
            <p:nvPr/>
          </p:nvSpPr>
          <p:spPr>
            <a:xfrm>
              <a:off x="2871720" y="3673440"/>
              <a:ext cx="63720" cy="138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31"/>
            <p:cNvSpPr/>
            <p:nvPr/>
          </p:nvSpPr>
          <p:spPr>
            <a:xfrm>
              <a:off x="1761480" y="3143160"/>
              <a:ext cx="1119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celCours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>
              <a:off x="6670800" y="5753160"/>
              <a:ext cx="1703160" cy="771480"/>
            </a:xfrm>
            <a:prstGeom prst="roundRect">
              <a:avLst>
                <a:gd name="adj" fmla="val 124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6708240" y="5753160"/>
              <a:ext cx="1654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istrationComplet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Line 34"/>
            <p:cNvSpPr/>
            <p:nvPr/>
          </p:nvSpPr>
          <p:spPr>
            <a:xfrm>
              <a:off x="6676920" y="6043680"/>
              <a:ext cx="169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35"/>
            <p:cNvSpPr/>
            <p:nvPr/>
          </p:nvSpPr>
          <p:spPr>
            <a:xfrm>
              <a:off x="6580440" y="6016680"/>
              <a:ext cx="1469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Generate clas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os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Line 36"/>
            <p:cNvSpPr/>
            <p:nvPr/>
          </p:nvSpPr>
          <p:spPr>
            <a:xfrm>
              <a:off x="8381880" y="6087960"/>
              <a:ext cx="50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Line 37"/>
            <p:cNvSpPr/>
            <p:nvPr/>
          </p:nvSpPr>
          <p:spPr>
            <a:xfrm>
              <a:off x="2633760" y="45846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Freeform 38"/>
            <p:cNvSpPr/>
            <p:nvPr/>
          </p:nvSpPr>
          <p:spPr>
            <a:xfrm>
              <a:off x="3171960" y="4584600"/>
              <a:ext cx="564840" cy="1228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39"/>
            <p:cNvSpPr/>
            <p:nvPr/>
          </p:nvSpPr>
          <p:spPr>
            <a:xfrm>
              <a:off x="2606040" y="5475240"/>
              <a:ext cx="1119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celCours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Line 40"/>
            <p:cNvSpPr/>
            <p:nvPr/>
          </p:nvSpPr>
          <p:spPr>
            <a:xfrm>
              <a:off x="5037120" y="6103800"/>
              <a:ext cx="162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41"/>
            <p:cNvSpPr/>
            <p:nvPr/>
          </p:nvSpPr>
          <p:spPr>
            <a:xfrm>
              <a:off x="5037120" y="2781360"/>
              <a:ext cx="1785960" cy="2752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42"/>
            <p:cNvSpPr/>
            <p:nvPr/>
          </p:nvSpPr>
          <p:spPr>
            <a:xfrm>
              <a:off x="5234400" y="5249880"/>
              <a:ext cx="1602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[ numStudents = 10 ]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43"/>
            <p:cNvSpPr/>
            <p:nvPr/>
          </p:nvSpPr>
          <p:spPr>
            <a:xfrm>
              <a:off x="3701880" y="2646360"/>
              <a:ext cx="2040120" cy="1600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44"/>
            <p:cNvSpPr/>
            <p:nvPr/>
          </p:nvSpPr>
          <p:spPr>
            <a:xfrm>
              <a:off x="4340880" y="2706840"/>
              <a:ext cx="1119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celCours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45"/>
            <p:cNvSpPr/>
            <p:nvPr/>
          </p:nvSpPr>
          <p:spPr>
            <a:xfrm>
              <a:off x="7035840" y="2773440"/>
              <a:ext cx="0" cy="29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46"/>
            <p:cNvSpPr/>
            <p:nvPr/>
          </p:nvSpPr>
          <p:spPr>
            <a:xfrm>
              <a:off x="6983640" y="3648240"/>
              <a:ext cx="1510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istration closed[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47"/>
            <p:cNvSpPr/>
            <p:nvPr/>
          </p:nvSpPr>
          <p:spPr>
            <a:xfrm>
              <a:off x="7013520" y="3835440"/>
              <a:ext cx="1562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mStudents &gt; = 3 ]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48"/>
            <p:cNvSpPr/>
            <p:nvPr/>
          </p:nvSpPr>
          <p:spPr>
            <a:xfrm>
              <a:off x="6140520" y="1554120"/>
              <a:ext cx="412560" cy="520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Line 49"/>
            <p:cNvSpPr/>
            <p:nvPr/>
          </p:nvSpPr>
          <p:spPr>
            <a:xfrm>
              <a:off x="6226200" y="2773440"/>
              <a:ext cx="4680" cy="17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50"/>
            <p:cNvSpPr/>
            <p:nvPr/>
          </p:nvSpPr>
          <p:spPr>
            <a:xfrm>
              <a:off x="4489920" y="3495600"/>
              <a:ext cx="1553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istration  closed[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51"/>
            <p:cNvSpPr/>
            <p:nvPr/>
          </p:nvSpPr>
          <p:spPr>
            <a:xfrm>
              <a:off x="4479480" y="3735360"/>
              <a:ext cx="143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mStudents &lt; 3 ]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52"/>
            <p:cNvSpPr/>
            <p:nvPr/>
          </p:nvSpPr>
          <p:spPr>
            <a:xfrm>
              <a:off x="2462040" y="5095800"/>
              <a:ext cx="250920" cy="26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Oval 53"/>
            <p:cNvSpPr/>
            <p:nvPr/>
          </p:nvSpPr>
          <p:spPr>
            <a:xfrm>
              <a:off x="2514600" y="5143680"/>
              <a:ext cx="144360" cy="172800"/>
            </a:xfrm>
            <a:prstGeom prst="ellipse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Oval 54"/>
            <p:cNvSpPr/>
            <p:nvPr/>
          </p:nvSpPr>
          <p:spPr>
            <a:xfrm>
              <a:off x="8893080" y="5934240"/>
              <a:ext cx="250920" cy="26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Oval 55"/>
            <p:cNvSpPr/>
            <p:nvPr/>
          </p:nvSpPr>
          <p:spPr>
            <a:xfrm>
              <a:off x="8945640" y="5981760"/>
              <a:ext cx="144360" cy="173160"/>
            </a:xfrm>
            <a:prstGeom prst="ellipse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 Box 56"/>
            <p:cNvSpPr/>
            <p:nvPr/>
          </p:nvSpPr>
          <p:spPr>
            <a:xfrm>
              <a:off x="2712960" y="2158920"/>
              <a:ext cx="11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assigne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 Box 57"/>
            <p:cNvSpPr/>
            <p:nvPr/>
          </p:nvSpPr>
          <p:spPr>
            <a:xfrm>
              <a:off x="5821200" y="1266840"/>
              <a:ext cx="102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dStudent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H="1">
              <a:off x="3657240" y="424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59"/>
            <p:cNvSpPr/>
            <p:nvPr/>
          </p:nvSpPr>
          <p:spPr>
            <a:xfrm flipH="1">
              <a:off x="3657240" y="454356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60"/>
            <p:cNvSpPr/>
            <p:nvPr/>
          </p:nvSpPr>
          <p:spPr>
            <a:xfrm flipV="1">
              <a:off x="3171960" y="4543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H="1">
              <a:off x="4952520" y="55339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Line 62"/>
            <p:cNvSpPr/>
            <p:nvPr/>
          </p:nvSpPr>
          <p:spPr>
            <a:xfrm>
              <a:off x="6553080" y="1876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C91D-B11D-4E0D-A73F-2181621CADF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دار حالت با حالت‌هاي تودرتو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4541760" y="142416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b4eb5"/>
                </a:solidFill>
                <a:latin typeface="Arial"/>
                <a:ea typeface="Times New Roman"/>
              </a:rPr>
              <a:t>super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63"/>
          <p:cNvSpPr/>
          <p:nvPr/>
        </p:nvSpPr>
        <p:spPr>
          <a:xfrm>
            <a:off x="5832360" y="1603440"/>
            <a:ext cx="687600" cy="269640"/>
          </a:xfrm>
          <a:prstGeom prst="line">
            <a:avLst/>
          </a:prstGeom>
          <a:ln w="12600">
            <a:solidFill>
              <a:srgbClr val="4b4eb5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Group 68"/>
          <p:cNvGrpSpPr/>
          <p:nvPr/>
        </p:nvGrpSpPr>
        <p:grpSpPr>
          <a:xfrm>
            <a:off x="157680" y="1725480"/>
            <a:ext cx="8786160" cy="4727880"/>
            <a:chOff x="157680" y="1725480"/>
            <a:chExt cx="8786160" cy="4727880"/>
          </a:xfrm>
        </p:grpSpPr>
        <p:grpSp>
          <p:nvGrpSpPr>
            <p:cNvPr id="348" name="Group 36"/>
            <p:cNvGrpSpPr/>
            <p:nvPr/>
          </p:nvGrpSpPr>
          <p:grpSpPr>
            <a:xfrm>
              <a:off x="162000" y="2668680"/>
              <a:ext cx="1748880" cy="532800"/>
              <a:chOff x="162000" y="2668680"/>
              <a:chExt cx="1748880" cy="532800"/>
            </a:xfrm>
          </p:grpSpPr>
          <p:sp>
            <p:nvSpPr>
              <p:cNvPr id="349" name="AutoShape 37"/>
              <p:cNvSpPr/>
              <p:nvPr/>
            </p:nvSpPr>
            <p:spPr>
              <a:xfrm>
                <a:off x="162000" y="2668680"/>
                <a:ext cx="1748880" cy="532800"/>
              </a:xfrm>
              <a:prstGeom prst="roundRect">
                <a:avLst>
                  <a:gd name="adj" fmla="val 1249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Line 38"/>
              <p:cNvSpPr/>
              <p:nvPr/>
            </p:nvSpPr>
            <p:spPr>
              <a:xfrm>
                <a:off x="172800" y="2939400"/>
                <a:ext cx="173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" name="Rectangle 5"/>
            <p:cNvSpPr/>
            <p:nvPr/>
          </p:nvSpPr>
          <p:spPr>
            <a:xfrm>
              <a:off x="415800" y="1725480"/>
              <a:ext cx="8528040" cy="4618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AutoShape 6"/>
            <p:cNvSpPr/>
            <p:nvPr/>
          </p:nvSpPr>
          <p:spPr>
            <a:xfrm>
              <a:off x="2131920" y="1946160"/>
              <a:ext cx="936720" cy="455760"/>
            </a:xfrm>
            <a:prstGeom prst="roundRect">
              <a:avLst>
                <a:gd name="adj" fmla="val 124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2266200" y="1962000"/>
              <a:ext cx="77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itialize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AutoShape 8"/>
            <p:cNvSpPr/>
            <p:nvPr/>
          </p:nvSpPr>
          <p:spPr>
            <a:xfrm>
              <a:off x="4575240" y="1873080"/>
              <a:ext cx="4187880" cy="4580280"/>
            </a:xfrm>
            <a:custGeom>
              <a:avLst/>
              <a:gdLst>
                <a:gd name="textAreaLeft" fmla="*/ 153000 w 4187880"/>
                <a:gd name="textAreaRight" fmla="*/ 4034880 w 4187880"/>
                <a:gd name="textAreaTop" fmla="*/ 153000 h 4580280"/>
                <a:gd name="textAreaBottom" fmla="*/ 4427280 h 4580280"/>
              </a:gdLst>
              <a:ahLst/>
              <a:rect l="textAreaLeft" t="textAreaTop" r="textAreaRight" b="textAreaBottom"/>
              <a:pathLst>
                <a:path w="21600" h="23624">
                  <a:moveTo>
                    <a:pt x="2699" y="0"/>
                  </a:moveTo>
                  <a:arcTo wR="2699" hR="2699" stAng="16200000" swAng="-5400000"/>
                  <a:lnTo>
                    <a:pt x="0" y="20925"/>
                  </a:lnTo>
                  <a:arcTo wR="2699" hR="2699" stAng="10800000" swAng="-5400000"/>
                  <a:lnTo>
                    <a:pt x="18901" y="2362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6276600" y="1919160"/>
              <a:ext cx="7977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ister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95720" y="3156120"/>
              <a:ext cx="18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AutoShape 11"/>
            <p:cNvSpPr/>
            <p:nvPr/>
          </p:nvSpPr>
          <p:spPr>
            <a:xfrm>
              <a:off x="5126040" y="3811680"/>
              <a:ext cx="1627200" cy="6397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5685480" y="3830760"/>
              <a:ext cx="587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5133960" y="4083120"/>
              <a:ext cx="16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14"/>
            <p:cNvSpPr/>
            <p:nvPr/>
          </p:nvSpPr>
          <p:spPr>
            <a:xfrm>
              <a:off x="5053320" y="4057560"/>
              <a:ext cx="1977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y: Register a student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15"/>
            <p:cNvSpPr/>
            <p:nvPr/>
          </p:nvSpPr>
          <p:spPr>
            <a:xfrm>
              <a:off x="5459400" y="2293920"/>
              <a:ext cx="174600" cy="1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16"/>
            <p:cNvSpPr/>
            <p:nvPr/>
          </p:nvSpPr>
          <p:spPr>
            <a:xfrm>
              <a:off x="1415880" y="2171880"/>
              <a:ext cx="709920" cy="31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AutoShape 17"/>
            <p:cNvSpPr/>
            <p:nvPr/>
          </p:nvSpPr>
          <p:spPr>
            <a:xfrm>
              <a:off x="5600880" y="5162400"/>
              <a:ext cx="2419200" cy="4557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8"/>
            <p:cNvSpPr/>
            <p:nvPr/>
          </p:nvSpPr>
          <p:spPr>
            <a:xfrm>
              <a:off x="5502600" y="2903400"/>
              <a:ext cx="1053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assigned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5" name="Group 19"/>
            <p:cNvGrpSpPr/>
            <p:nvPr/>
          </p:nvGrpSpPr>
          <p:grpSpPr>
            <a:xfrm>
              <a:off x="4987800" y="2884320"/>
              <a:ext cx="2031840" cy="536400"/>
              <a:chOff x="4987800" y="2884320"/>
              <a:chExt cx="2031840" cy="536400"/>
            </a:xfrm>
          </p:grpSpPr>
          <p:sp>
            <p:nvSpPr>
              <p:cNvPr id="366" name="AutoShape 20"/>
              <p:cNvSpPr/>
              <p:nvPr/>
            </p:nvSpPr>
            <p:spPr>
              <a:xfrm>
                <a:off x="4987800" y="2884320"/>
                <a:ext cx="2031840" cy="5364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" name="Line 21"/>
              <p:cNvSpPr/>
              <p:nvPr/>
            </p:nvSpPr>
            <p:spPr>
              <a:xfrm>
                <a:off x="4998600" y="3156840"/>
                <a:ext cx="20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Rectangle 22"/>
            <p:cNvSpPr/>
            <p:nvPr/>
          </p:nvSpPr>
          <p:spPr>
            <a:xfrm>
              <a:off x="4968720" y="3130560"/>
              <a:ext cx="2406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Assign professor to course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AutoShape 23"/>
            <p:cNvSpPr/>
            <p:nvPr/>
          </p:nvSpPr>
          <p:spPr>
            <a:xfrm>
              <a:off x="5126040" y="3811680"/>
              <a:ext cx="1627200" cy="6397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24"/>
            <p:cNvSpPr/>
            <p:nvPr/>
          </p:nvSpPr>
          <p:spPr>
            <a:xfrm>
              <a:off x="5685480" y="3830760"/>
              <a:ext cx="587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5133960" y="4083120"/>
              <a:ext cx="16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26"/>
            <p:cNvSpPr/>
            <p:nvPr/>
          </p:nvSpPr>
          <p:spPr>
            <a:xfrm>
              <a:off x="6222240" y="5118120"/>
              <a:ext cx="696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osed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Oval 27"/>
            <p:cNvSpPr/>
            <p:nvPr/>
          </p:nvSpPr>
          <p:spPr>
            <a:xfrm>
              <a:off x="5459400" y="2293920"/>
              <a:ext cx="174600" cy="196920"/>
            </a:xfrm>
            <a:prstGeom prst="ellipse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5549760" y="2495520"/>
              <a:ext cx="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5502240" y="342576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AutoShape 30"/>
            <p:cNvSpPr/>
            <p:nvPr/>
          </p:nvSpPr>
          <p:spPr>
            <a:xfrm>
              <a:off x="1247760" y="5100480"/>
              <a:ext cx="938160" cy="455760"/>
            </a:xfrm>
            <a:prstGeom prst="roundRect">
              <a:avLst>
                <a:gd name="adj" fmla="val 124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31"/>
            <p:cNvSpPr/>
            <p:nvPr/>
          </p:nvSpPr>
          <p:spPr>
            <a:xfrm>
              <a:off x="1315800" y="5118120"/>
              <a:ext cx="925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celed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1590840" y="6056280"/>
              <a:ext cx="252360" cy="282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3"/>
            <p:cNvSpPr/>
            <p:nvPr/>
          </p:nvSpPr>
          <p:spPr>
            <a:xfrm>
              <a:off x="1630440" y="6099120"/>
              <a:ext cx="174600" cy="196920"/>
            </a:xfrm>
            <a:prstGeom prst="ellipse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Line 34"/>
            <p:cNvSpPr/>
            <p:nvPr/>
          </p:nvSpPr>
          <p:spPr>
            <a:xfrm>
              <a:off x="1716120" y="556416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268920" y="2671920"/>
              <a:ext cx="176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istrationComplete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39"/>
            <p:cNvSpPr/>
            <p:nvPr/>
          </p:nvSpPr>
          <p:spPr>
            <a:xfrm>
              <a:off x="157680" y="2900520"/>
              <a:ext cx="20322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Generate class roster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1411200" y="3571920"/>
              <a:ext cx="250920" cy="28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1447920" y="3613320"/>
              <a:ext cx="176040" cy="198360"/>
            </a:xfrm>
            <a:prstGeom prst="ellipse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Freeform 42"/>
            <p:cNvSpPr/>
            <p:nvPr/>
          </p:nvSpPr>
          <p:spPr>
            <a:xfrm>
              <a:off x="1143000" y="3208320"/>
              <a:ext cx="246240" cy="501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43"/>
            <p:cNvSpPr/>
            <p:nvPr/>
          </p:nvSpPr>
          <p:spPr>
            <a:xfrm>
              <a:off x="5497200" y="3486240"/>
              <a:ext cx="2494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d student / numStudents = 0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Line 44"/>
            <p:cNvSpPr/>
            <p:nvPr/>
          </p:nvSpPr>
          <p:spPr>
            <a:xfrm>
              <a:off x="5745240" y="4451400"/>
              <a:ext cx="0" cy="63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45"/>
            <p:cNvSpPr/>
            <p:nvPr/>
          </p:nvSpPr>
          <p:spPr>
            <a:xfrm>
              <a:off x="5693760" y="4597560"/>
              <a:ext cx="1707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[ numStudents = 10 ]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46"/>
            <p:cNvSpPr/>
            <p:nvPr/>
          </p:nvSpPr>
          <p:spPr>
            <a:xfrm>
              <a:off x="3076560" y="2147760"/>
              <a:ext cx="14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47"/>
            <p:cNvSpPr/>
            <p:nvPr/>
          </p:nvSpPr>
          <p:spPr>
            <a:xfrm flipH="1">
              <a:off x="2192040" y="546732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48"/>
            <p:cNvSpPr/>
            <p:nvPr/>
          </p:nvSpPr>
          <p:spPr>
            <a:xfrm>
              <a:off x="2889720" y="5491080"/>
              <a:ext cx="1190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celCourse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49"/>
            <p:cNvSpPr/>
            <p:nvPr/>
          </p:nvSpPr>
          <p:spPr>
            <a:xfrm flipH="1" flipV="1">
              <a:off x="1917720" y="2904840"/>
              <a:ext cx="320832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50"/>
            <p:cNvSpPr/>
            <p:nvPr/>
          </p:nvSpPr>
          <p:spPr>
            <a:xfrm>
              <a:off x="2333520" y="2690640"/>
              <a:ext cx="22543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istration closed[ numStudents &gt; = 3 ]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Line 51"/>
            <p:cNvSpPr/>
            <p:nvPr/>
          </p:nvSpPr>
          <p:spPr>
            <a:xfrm flipH="1">
              <a:off x="1766880" y="4187880"/>
              <a:ext cx="334800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52"/>
            <p:cNvSpPr/>
            <p:nvPr/>
          </p:nvSpPr>
          <p:spPr>
            <a:xfrm>
              <a:off x="2154240" y="3979800"/>
              <a:ext cx="1654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istration closed[ numStudents &lt; 3 ]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53"/>
            <p:cNvSpPr/>
            <p:nvPr/>
          </p:nvSpPr>
          <p:spPr>
            <a:xfrm>
              <a:off x="7318800" y="3957480"/>
              <a:ext cx="1072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dStudent 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54"/>
            <p:cNvSpPr/>
            <p:nvPr/>
          </p:nvSpPr>
          <p:spPr>
            <a:xfrm>
              <a:off x="6737400" y="3948120"/>
              <a:ext cx="5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Line 55"/>
            <p:cNvSpPr/>
            <p:nvPr/>
          </p:nvSpPr>
          <p:spPr>
            <a:xfrm>
              <a:off x="7253280" y="39481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56"/>
            <p:cNvSpPr/>
            <p:nvPr/>
          </p:nvSpPr>
          <p:spPr>
            <a:xfrm>
              <a:off x="6746760" y="4367160"/>
              <a:ext cx="5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Line 57"/>
            <p:cNvSpPr/>
            <p:nvPr/>
          </p:nvSpPr>
          <p:spPr>
            <a:xfrm>
              <a:off x="1917720" y="3159000"/>
              <a:ext cx="2074680" cy="6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58"/>
            <p:cNvSpPr/>
            <p:nvPr/>
          </p:nvSpPr>
          <p:spPr>
            <a:xfrm flipH="1" flipV="1">
              <a:off x="3949200" y="3825360"/>
              <a:ext cx="1651320" cy="155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Line 59"/>
            <p:cNvSpPr/>
            <p:nvPr/>
          </p:nvSpPr>
          <p:spPr>
            <a:xfrm>
              <a:off x="1773360" y="4578480"/>
              <a:ext cx="0" cy="4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60"/>
            <p:cNvSpPr/>
            <p:nvPr/>
          </p:nvSpPr>
          <p:spPr>
            <a:xfrm>
              <a:off x="5690160" y="5376960"/>
              <a:ext cx="21783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: Report course is closed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Line 61"/>
            <p:cNvSpPr/>
            <p:nvPr/>
          </p:nvSpPr>
          <p:spPr>
            <a:xfrm>
              <a:off x="5600880" y="5376960"/>
              <a:ext cx="24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Oval 66"/>
            <p:cNvSpPr/>
            <p:nvPr/>
          </p:nvSpPr>
          <p:spPr>
            <a:xfrm>
              <a:off x="1285920" y="2111400"/>
              <a:ext cx="174600" cy="195120"/>
            </a:xfrm>
            <a:prstGeom prst="ellipse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Line 67"/>
            <p:cNvSpPr/>
            <p:nvPr/>
          </p:nvSpPr>
          <p:spPr>
            <a:xfrm>
              <a:off x="1295280" y="3710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7" name="Text Box 64"/>
          <p:cNvSpPr/>
          <p:nvPr/>
        </p:nvSpPr>
        <p:spPr>
          <a:xfrm>
            <a:off x="3422520" y="2232000"/>
            <a:ext cx="17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b4eb5"/>
                </a:solidFill>
                <a:latin typeface="Arial"/>
                <a:ea typeface="Times New Roman"/>
              </a:rPr>
              <a:t>sub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5"/>
          <p:cNvSpPr/>
          <p:nvPr/>
        </p:nvSpPr>
        <p:spPr>
          <a:xfrm>
            <a:off x="4427640" y="2489040"/>
            <a:ext cx="801720" cy="371520"/>
          </a:xfrm>
          <a:prstGeom prst="line">
            <a:avLst/>
          </a:prstGeom>
          <a:ln w="12600">
            <a:solidFill>
              <a:srgbClr val="4b4eb5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10BE-289B-4AA1-A690-F10797E06C2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نمودارحال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ثا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عميرگا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رسيم نمودار چارت حالت براي كلاس «كار»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 توجه به عملكرد سيستم رويدادهاي خارجي و موارد كاربري مربوط به آنها را شناسائي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مايي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2" name="Group 4"/>
          <p:cNvGrpSpPr/>
          <p:nvPr/>
        </p:nvGrpSpPr>
        <p:grpSpPr>
          <a:xfrm>
            <a:off x="1476360" y="3573360"/>
            <a:ext cx="5562360" cy="2895840"/>
            <a:chOff x="1476360" y="3573360"/>
            <a:chExt cx="5562360" cy="2895840"/>
          </a:xfrm>
        </p:grpSpPr>
        <p:grpSp>
          <p:nvGrpSpPr>
            <p:cNvPr id="413" name="Group 5"/>
            <p:cNvGrpSpPr/>
            <p:nvPr/>
          </p:nvGrpSpPr>
          <p:grpSpPr>
            <a:xfrm>
              <a:off x="1482480" y="3576240"/>
              <a:ext cx="5548680" cy="2889360"/>
              <a:chOff x="1482480" y="3576240"/>
              <a:chExt cx="5548680" cy="2889360"/>
            </a:xfrm>
          </p:grpSpPr>
          <p:grpSp>
            <p:nvGrpSpPr>
              <p:cNvPr id="414" name="Group 6"/>
              <p:cNvGrpSpPr/>
              <p:nvPr/>
            </p:nvGrpSpPr>
            <p:grpSpPr>
              <a:xfrm>
                <a:off x="1482480" y="3576240"/>
                <a:ext cx="2792880" cy="412560"/>
                <a:chOff x="1482480" y="3576240"/>
                <a:chExt cx="2792880" cy="412560"/>
              </a:xfrm>
            </p:grpSpPr>
            <p:sp>
              <p:nvSpPr>
                <p:cNvPr id="415" name="Rectangle 7"/>
                <p:cNvSpPr/>
                <p:nvPr/>
              </p:nvSpPr>
              <p:spPr>
                <a:xfrm>
                  <a:off x="1482480" y="3576240"/>
                  <a:ext cx="2792880" cy="41256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16" name="Group 8"/>
                <p:cNvGrpSpPr/>
                <p:nvPr/>
              </p:nvGrpSpPr>
              <p:grpSpPr>
                <a:xfrm>
                  <a:off x="1482480" y="3576240"/>
                  <a:ext cx="2792520" cy="412560"/>
                  <a:chOff x="1482480" y="3576240"/>
                  <a:chExt cx="2792520" cy="412560"/>
                </a:xfrm>
              </p:grpSpPr>
              <p:sp>
                <p:nvSpPr>
                  <p:cNvPr id="417" name="Rectangle 9"/>
                  <p:cNvSpPr/>
                  <p:nvPr/>
                </p:nvSpPr>
                <p:spPr>
                  <a:xfrm>
                    <a:off x="1576800" y="3576240"/>
                    <a:ext cx="2608200" cy="41256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lnSpc>
                        <a:spcPct val="100000"/>
                      </a:lnSpc>
                      <a:tabLst>
                        <a:tab algn="l" pos="0"/>
                        <a:tab algn="r" pos="457200"/>
                        <a:tab algn="ctr" pos="2637000"/>
                        <a:tab algn="r" pos="527364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Nazanin"/>
                      </a:rPr>
                      <a:t>رويداد مربوطه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r" pos="457200"/>
                        <a:tab algn="ctr" pos="2637000"/>
                        <a:tab algn="r" pos="527364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8" name="Rectangle 10"/>
                  <p:cNvSpPr/>
                  <p:nvPr/>
                </p:nvSpPr>
                <p:spPr>
                  <a:xfrm>
                    <a:off x="1482480" y="3576240"/>
                    <a:ext cx="2792520" cy="412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19" name="Group 11"/>
              <p:cNvGrpSpPr/>
              <p:nvPr/>
            </p:nvGrpSpPr>
            <p:grpSpPr>
              <a:xfrm>
                <a:off x="4275720" y="3576240"/>
                <a:ext cx="2755440" cy="412560"/>
                <a:chOff x="4275720" y="3576240"/>
                <a:chExt cx="2755440" cy="412560"/>
              </a:xfrm>
            </p:grpSpPr>
            <p:sp>
              <p:nvSpPr>
                <p:cNvPr id="420" name="Rectangle 12"/>
                <p:cNvSpPr/>
                <p:nvPr/>
              </p:nvSpPr>
              <p:spPr>
                <a:xfrm>
                  <a:off x="4275720" y="3576240"/>
                  <a:ext cx="2755440" cy="41256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21" name="Group 13"/>
                <p:cNvGrpSpPr/>
                <p:nvPr/>
              </p:nvGrpSpPr>
              <p:grpSpPr>
                <a:xfrm>
                  <a:off x="4275720" y="3576240"/>
                  <a:ext cx="2755080" cy="412560"/>
                  <a:chOff x="4275720" y="3576240"/>
                  <a:chExt cx="2755080" cy="412560"/>
                </a:xfrm>
              </p:grpSpPr>
              <p:sp>
                <p:nvSpPr>
                  <p:cNvPr id="422" name="Rectangle 14"/>
                  <p:cNvSpPr/>
                  <p:nvPr/>
                </p:nvSpPr>
                <p:spPr>
                  <a:xfrm>
                    <a:off x="4370040" y="3576240"/>
                    <a:ext cx="2566080" cy="41256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Nazanin"/>
                      </a:rPr>
                      <a:t>مورد كاربري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3" name="Rectangle 15"/>
                  <p:cNvSpPr/>
                  <p:nvPr/>
                </p:nvSpPr>
                <p:spPr>
                  <a:xfrm>
                    <a:off x="4275720" y="3576240"/>
                    <a:ext cx="2755080" cy="412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24" name="Group 16"/>
              <p:cNvGrpSpPr/>
              <p:nvPr/>
            </p:nvGrpSpPr>
            <p:grpSpPr>
              <a:xfrm>
                <a:off x="1482480" y="3988800"/>
                <a:ext cx="2792880" cy="412560"/>
                <a:chOff x="1482480" y="3988800"/>
                <a:chExt cx="2792880" cy="412560"/>
              </a:xfrm>
            </p:grpSpPr>
            <p:sp>
              <p:nvSpPr>
                <p:cNvPr id="425" name="Rectangle 17"/>
                <p:cNvSpPr/>
                <p:nvPr/>
              </p:nvSpPr>
              <p:spPr>
                <a:xfrm>
                  <a:off x="1576800" y="3988800"/>
                  <a:ext cx="260856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Job Reques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6" name="Rectangle 18"/>
                <p:cNvSpPr/>
                <p:nvPr/>
              </p:nvSpPr>
              <p:spPr>
                <a:xfrm>
                  <a:off x="1482480" y="3988800"/>
                  <a:ext cx="279288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7" name="Group 19"/>
              <p:cNvGrpSpPr/>
              <p:nvPr/>
            </p:nvGrpSpPr>
            <p:grpSpPr>
              <a:xfrm>
                <a:off x="4275720" y="3988800"/>
                <a:ext cx="2755440" cy="412560"/>
                <a:chOff x="4275720" y="3988800"/>
                <a:chExt cx="2755440" cy="412560"/>
              </a:xfrm>
            </p:grpSpPr>
            <p:sp>
              <p:nvSpPr>
                <p:cNvPr id="428" name="Rectangle 20"/>
                <p:cNvSpPr/>
                <p:nvPr/>
              </p:nvSpPr>
              <p:spPr>
                <a:xfrm>
                  <a:off x="4370040" y="3988800"/>
                  <a:ext cx="25664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Book Job for Custom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9" name="Rectangle 21"/>
                <p:cNvSpPr/>
                <p:nvPr/>
              </p:nvSpPr>
              <p:spPr>
                <a:xfrm>
                  <a:off x="4275720" y="3988800"/>
                  <a:ext cx="275544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0" name="Group 22"/>
              <p:cNvGrpSpPr/>
              <p:nvPr/>
            </p:nvGrpSpPr>
            <p:grpSpPr>
              <a:xfrm>
                <a:off x="1482480" y="4401720"/>
                <a:ext cx="2792880" cy="412560"/>
                <a:chOff x="1482480" y="4401720"/>
                <a:chExt cx="2792880" cy="412560"/>
              </a:xfrm>
            </p:grpSpPr>
            <p:sp>
              <p:nvSpPr>
                <p:cNvPr id="431" name="Rectangle 23"/>
                <p:cNvSpPr/>
                <p:nvPr/>
              </p:nvSpPr>
              <p:spPr>
                <a:xfrm>
                  <a:off x="1576800" y="4401720"/>
                  <a:ext cx="260856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Parts Time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2" name="Rectangle 24"/>
                <p:cNvSpPr/>
                <p:nvPr/>
              </p:nvSpPr>
              <p:spPr>
                <a:xfrm>
                  <a:off x="1482480" y="4401720"/>
                  <a:ext cx="279288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3" name="Group 25"/>
              <p:cNvGrpSpPr/>
              <p:nvPr/>
            </p:nvGrpSpPr>
            <p:grpSpPr>
              <a:xfrm>
                <a:off x="4275720" y="4401720"/>
                <a:ext cx="2755440" cy="412560"/>
                <a:chOff x="4275720" y="4401720"/>
                <a:chExt cx="2755440" cy="412560"/>
              </a:xfrm>
            </p:grpSpPr>
            <p:sp>
              <p:nvSpPr>
                <p:cNvPr id="434" name="Rectangle 26"/>
                <p:cNvSpPr/>
                <p:nvPr/>
              </p:nvSpPr>
              <p:spPr>
                <a:xfrm>
                  <a:off x="4370040" y="4401720"/>
                  <a:ext cx="25664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Establish Parts for Job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5" name="Rectangle 27"/>
                <p:cNvSpPr/>
                <p:nvPr/>
              </p:nvSpPr>
              <p:spPr>
                <a:xfrm>
                  <a:off x="4275720" y="4401720"/>
                  <a:ext cx="275544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6" name="Group 28"/>
              <p:cNvGrpSpPr/>
              <p:nvPr/>
            </p:nvGrpSpPr>
            <p:grpSpPr>
              <a:xfrm>
                <a:off x="1482480" y="4814640"/>
                <a:ext cx="2792880" cy="412560"/>
                <a:chOff x="1482480" y="4814640"/>
                <a:chExt cx="2792880" cy="412560"/>
              </a:xfrm>
            </p:grpSpPr>
            <p:sp>
              <p:nvSpPr>
                <p:cNvPr id="437" name="Rectangle 29"/>
                <p:cNvSpPr/>
                <p:nvPr/>
              </p:nvSpPr>
              <p:spPr>
                <a:xfrm>
                  <a:off x="1576800" y="4814640"/>
                  <a:ext cx="260856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Parts Reques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Rectangle 30"/>
                <p:cNvSpPr/>
                <p:nvPr/>
              </p:nvSpPr>
              <p:spPr>
                <a:xfrm>
                  <a:off x="1482480" y="4814640"/>
                  <a:ext cx="279288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9" name="Group 31"/>
              <p:cNvGrpSpPr/>
              <p:nvPr/>
            </p:nvGrpSpPr>
            <p:grpSpPr>
              <a:xfrm>
                <a:off x="4275720" y="4814640"/>
                <a:ext cx="2755440" cy="412560"/>
                <a:chOff x="4275720" y="4814640"/>
                <a:chExt cx="2755440" cy="412560"/>
              </a:xfrm>
            </p:grpSpPr>
            <p:sp>
              <p:nvSpPr>
                <p:cNvPr id="440" name="Rectangle 32"/>
                <p:cNvSpPr/>
                <p:nvPr/>
              </p:nvSpPr>
              <p:spPr>
                <a:xfrm>
                  <a:off x="4370040" y="4814640"/>
                  <a:ext cx="25664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Request Parts for Job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Rectangle 33"/>
                <p:cNvSpPr/>
                <p:nvPr/>
              </p:nvSpPr>
              <p:spPr>
                <a:xfrm>
                  <a:off x="4275720" y="4814640"/>
                  <a:ext cx="275544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2" name="Group 34"/>
              <p:cNvGrpSpPr/>
              <p:nvPr/>
            </p:nvGrpSpPr>
            <p:grpSpPr>
              <a:xfrm>
                <a:off x="1482480" y="5227200"/>
                <a:ext cx="2792880" cy="412920"/>
                <a:chOff x="1482480" y="5227200"/>
                <a:chExt cx="2792880" cy="412920"/>
              </a:xfrm>
            </p:grpSpPr>
            <p:sp>
              <p:nvSpPr>
                <p:cNvPr id="443" name="Rectangle 35"/>
                <p:cNvSpPr/>
                <p:nvPr/>
              </p:nvSpPr>
              <p:spPr>
                <a:xfrm>
                  <a:off x="1576800" y="5227200"/>
                  <a:ext cx="2608560" cy="4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Schedule Ti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Rectangle 36"/>
                <p:cNvSpPr/>
                <p:nvPr/>
              </p:nvSpPr>
              <p:spPr>
                <a:xfrm>
                  <a:off x="1482480" y="5227200"/>
                  <a:ext cx="2792880" cy="41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5" name="Group 37"/>
              <p:cNvGrpSpPr/>
              <p:nvPr/>
            </p:nvGrpSpPr>
            <p:grpSpPr>
              <a:xfrm>
                <a:off x="4275720" y="5227200"/>
                <a:ext cx="2755440" cy="412920"/>
                <a:chOff x="4275720" y="5227200"/>
                <a:chExt cx="2755440" cy="412920"/>
              </a:xfrm>
            </p:grpSpPr>
            <p:sp>
              <p:nvSpPr>
                <p:cNvPr id="446" name="Rectangle 38"/>
                <p:cNvSpPr/>
                <p:nvPr/>
              </p:nvSpPr>
              <p:spPr>
                <a:xfrm>
                  <a:off x="4370040" y="5227200"/>
                  <a:ext cx="2566440" cy="4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Schedule Job for Day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Rectangle 39"/>
                <p:cNvSpPr/>
                <p:nvPr/>
              </p:nvSpPr>
              <p:spPr>
                <a:xfrm>
                  <a:off x="4275720" y="5227200"/>
                  <a:ext cx="2755440" cy="41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8" name="Group 40"/>
              <p:cNvGrpSpPr/>
              <p:nvPr/>
            </p:nvGrpSpPr>
            <p:grpSpPr>
              <a:xfrm>
                <a:off x="1482480" y="5640480"/>
                <a:ext cx="2792880" cy="412560"/>
                <a:chOff x="1482480" y="5640480"/>
                <a:chExt cx="2792880" cy="412560"/>
              </a:xfrm>
            </p:grpSpPr>
            <p:sp>
              <p:nvSpPr>
                <p:cNvPr id="449" name="Rectangle 41"/>
                <p:cNvSpPr/>
                <p:nvPr/>
              </p:nvSpPr>
              <p:spPr>
                <a:xfrm>
                  <a:off x="1576800" y="5640480"/>
                  <a:ext cx="260856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Job Comple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0" name="Rectangle 42"/>
                <p:cNvSpPr/>
                <p:nvPr/>
              </p:nvSpPr>
              <p:spPr>
                <a:xfrm>
                  <a:off x="1482480" y="5640480"/>
                  <a:ext cx="279288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1" name="Group 43"/>
              <p:cNvGrpSpPr/>
              <p:nvPr/>
            </p:nvGrpSpPr>
            <p:grpSpPr>
              <a:xfrm>
                <a:off x="4275720" y="5640480"/>
                <a:ext cx="2755440" cy="412560"/>
                <a:chOff x="4275720" y="5640480"/>
                <a:chExt cx="2755440" cy="412560"/>
              </a:xfrm>
            </p:grpSpPr>
            <p:sp>
              <p:nvSpPr>
                <p:cNvPr id="452" name="Rectangle 44"/>
                <p:cNvSpPr/>
                <p:nvPr/>
              </p:nvSpPr>
              <p:spPr>
                <a:xfrm>
                  <a:off x="4370040" y="5640480"/>
                  <a:ext cx="25664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Record Job Comple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3" name="Rectangle 45"/>
                <p:cNvSpPr/>
                <p:nvPr/>
              </p:nvSpPr>
              <p:spPr>
                <a:xfrm>
                  <a:off x="4275720" y="5640480"/>
                  <a:ext cx="275544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4" name="Group 46"/>
              <p:cNvGrpSpPr/>
              <p:nvPr/>
            </p:nvGrpSpPr>
            <p:grpSpPr>
              <a:xfrm>
                <a:off x="1482480" y="6053040"/>
                <a:ext cx="2792880" cy="412560"/>
                <a:chOff x="1482480" y="6053040"/>
                <a:chExt cx="2792880" cy="412560"/>
              </a:xfrm>
            </p:grpSpPr>
            <p:sp>
              <p:nvSpPr>
                <p:cNvPr id="455" name="Rectangle 47"/>
                <p:cNvSpPr/>
                <p:nvPr/>
              </p:nvSpPr>
              <p:spPr>
                <a:xfrm>
                  <a:off x="1576800" y="6053040"/>
                  <a:ext cx="260856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Customer Arrives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6" name="Rectangle 48"/>
                <p:cNvSpPr/>
                <p:nvPr/>
              </p:nvSpPr>
              <p:spPr>
                <a:xfrm>
                  <a:off x="1482480" y="6053040"/>
                  <a:ext cx="279288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7" name="Group 49"/>
              <p:cNvGrpSpPr/>
              <p:nvPr/>
            </p:nvGrpSpPr>
            <p:grpSpPr>
              <a:xfrm>
                <a:off x="4275720" y="6053040"/>
                <a:ext cx="2755440" cy="412560"/>
                <a:chOff x="4275720" y="6053040"/>
                <a:chExt cx="2755440" cy="412560"/>
              </a:xfrm>
            </p:grpSpPr>
            <p:sp>
              <p:nvSpPr>
                <p:cNvPr id="458" name="Rectangle 50"/>
                <p:cNvSpPr/>
                <p:nvPr/>
              </p:nvSpPr>
              <p:spPr>
                <a:xfrm>
                  <a:off x="4370040" y="6053040"/>
                  <a:ext cx="2566440" cy="41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Close Job with Custom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9" name="Rectangle 51"/>
                <p:cNvSpPr/>
                <p:nvPr/>
              </p:nvSpPr>
              <p:spPr>
                <a:xfrm>
                  <a:off x="4275720" y="6053040"/>
                  <a:ext cx="2755440" cy="41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0" name="Rectangle 52"/>
            <p:cNvSpPr/>
            <p:nvPr/>
          </p:nvSpPr>
          <p:spPr>
            <a:xfrm>
              <a:off x="1476360" y="3573360"/>
              <a:ext cx="5562360" cy="289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1298-FDA0-4B3B-BA8A-C760C46C099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نمودارحال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مودار اولي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64" name="Object 7"/>
          <p:cNvGraphicFramePr/>
          <p:nvPr/>
        </p:nvGraphicFramePr>
        <p:xfrm>
          <a:off x="3348000" y="1484280"/>
          <a:ext cx="213696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1369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124E-B3F6-4704-B50F-223315B100D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نمودارحال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68" name="Object 4"/>
          <p:cNvGraphicFramePr/>
          <p:nvPr/>
        </p:nvGraphicFramePr>
        <p:xfrm>
          <a:off x="250920" y="1197000"/>
          <a:ext cx="50324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50324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Line 5"/>
          <p:cNvSpPr/>
          <p:nvPr/>
        </p:nvSpPr>
        <p:spPr>
          <a:xfrm flipH="1">
            <a:off x="4140000" y="2755800"/>
            <a:ext cx="190476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5740560" y="2374920"/>
            <a:ext cx="1257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Times New Roman (Arabic)"/>
                <a:cs typeface="Nazanin"/>
              </a:rPr>
              <a:t>شرط نگهبا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119760" y="151596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ahoma"/>
                <a:cs typeface="Nazanin"/>
              </a:rPr>
              <a:t>نمودار بهبود يافته چارت حالت شي «كار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97CF-5578-44F1-97B7-A9919050EFD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نمودارحالت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75" name="Object 7"/>
          <p:cNvGraphicFramePr/>
          <p:nvPr/>
        </p:nvGraphicFramePr>
        <p:xfrm>
          <a:off x="1187280" y="1268280"/>
          <a:ext cx="628812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62881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8"/>
          <p:cNvSpPr/>
          <p:nvPr/>
        </p:nvSpPr>
        <p:spPr>
          <a:xfrm>
            <a:off x="4241880" y="144000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b4eb5"/>
                </a:solidFill>
                <a:latin typeface="Tahoma"/>
                <a:cs typeface="Nazanin"/>
              </a:rPr>
              <a:t>نمودار نهائي چارت حالت شي «كار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8835-AFA7-4E6F-B791-FBB5503DACE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فعالي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فلوچارت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 ك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جري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كنترل را از يك فعاليت به فعاليت ديگر نمايش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تعامل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 روي مدلسازي جري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كنترلي ميان اشياء تاكيد نموده درحاليك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فعالي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 روي مدلسازي جريان كنترلي ميان فعا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كه هر كدام منتسب به يك شي هستند، تاكيد مي‌ك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1680" indent="-3016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مودار فعاليت نوع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ويژه‌ا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ز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حال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حسوب مي‌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054C-0D22-428D-B25C-E452F73055F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قدم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مودار ترتيب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مودار همكا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دار حال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نمودار فعالي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FB16-7715-4C2B-8ACC-358C488F21F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فعاليت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وارد استفاده: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مدلسازي يك گردش كار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Workflow Modeling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مدلسازي يك عمل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Operation Modeling</a:t>
            </a:r>
            <a:r>
              <a:rPr b="1" lang="fa-IR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4" name="Picture 4" descr="AMSTRATE"/>
          <p:cNvPicPr/>
          <p:nvPr/>
        </p:nvPicPr>
        <p:blipFill>
          <a:blip r:embed="rId1"/>
          <a:stretch/>
        </p:blipFill>
        <p:spPr>
          <a:xfrm>
            <a:off x="3059280" y="3789360"/>
            <a:ext cx="2808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7BB3-875B-4CCB-A0ED-434DA9DB696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فعالي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عا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Activity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فرآيند محاسباتي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پيوست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جزي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پذير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كه در يكي از حالات ماشين حالت اجرا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گاهي نياز است كه يك فعاليت را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جزي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ناپذير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عريف نمايي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آنگاه به فعاليت معمولي 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«حالت فعاليت»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Activity State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) گفته و به فعاليت تجزيه ناپذير، 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«حالت كنش»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Action State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) كه نشاندهنده اجراي يك كنش است، گفته مي‌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7018-BD59-4F82-B2C4-CEF93EFAABD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فعالي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تقا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Transitio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نگاميكه يك فعاليت خاتمه مي‌يابد،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كنترل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لافاصله به يك حالت ديگر انتقال پيدا مي‌ك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شعاب و ادغام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راي مدلسازي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جريان‌هاي همزما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ي‌توان از سطح همگام سازي استفاده نم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wimlane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نجام‌دهنده فعاليت را نشان مي‌‌ده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A1F8-20BA-4382-AB8C-F33553B5076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فعالي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93" name="Object 5"/>
          <p:cNvGraphicFramePr/>
          <p:nvPr/>
        </p:nvGraphicFramePr>
        <p:xfrm>
          <a:off x="324000" y="1197000"/>
          <a:ext cx="5418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5418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Line 7"/>
          <p:cNvSpPr/>
          <p:nvPr/>
        </p:nvSpPr>
        <p:spPr>
          <a:xfrm flipH="1" flipV="1">
            <a:off x="4903920" y="1447920"/>
            <a:ext cx="1295280" cy="938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6046920" y="2368440"/>
            <a:ext cx="125712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 (Arabic)"/>
                <a:ea typeface="Homa"/>
              </a:rPr>
              <a:t>Swim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9"/>
          <p:cNvSpPr/>
          <p:nvPr/>
        </p:nvSpPr>
        <p:spPr>
          <a:xfrm flipH="1">
            <a:off x="1703160" y="2073240"/>
            <a:ext cx="9522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2732040" y="1947960"/>
            <a:ext cx="12574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فعالي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1"/>
          <p:cNvSpPr/>
          <p:nvPr/>
        </p:nvSpPr>
        <p:spPr>
          <a:xfrm flipH="1" flipV="1">
            <a:off x="3379680" y="5516640"/>
            <a:ext cx="3200400" cy="18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732720" y="5578560"/>
            <a:ext cx="12571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سطح همگام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3"/>
          <p:cNvSpPr/>
          <p:nvPr/>
        </p:nvSpPr>
        <p:spPr>
          <a:xfrm flipH="1">
            <a:off x="1170000" y="3262320"/>
            <a:ext cx="6477120" cy="6890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14"/>
          <p:cNvSpPr/>
          <p:nvPr/>
        </p:nvSpPr>
        <p:spPr>
          <a:xfrm flipH="1">
            <a:off x="5055840" y="3262320"/>
            <a:ext cx="2590920" cy="876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7723080" y="3137040"/>
            <a:ext cx="125748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 (Arabic)"/>
                <a:ea typeface="Homa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16"/>
          <p:cNvSpPr/>
          <p:nvPr/>
        </p:nvSpPr>
        <p:spPr>
          <a:xfrm flipH="1">
            <a:off x="1703520" y="4013280"/>
            <a:ext cx="5943600" cy="752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17"/>
          <p:cNvSpPr/>
          <p:nvPr/>
        </p:nvSpPr>
        <p:spPr>
          <a:xfrm flipH="1">
            <a:off x="2922480" y="4013280"/>
            <a:ext cx="4724640" cy="752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18"/>
          <p:cNvSpPr/>
          <p:nvPr/>
        </p:nvSpPr>
        <p:spPr>
          <a:xfrm>
            <a:off x="7723080" y="3889440"/>
            <a:ext cx="12574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 (Arabic)"/>
                <a:ea typeface="Homa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7E57-E749-47CF-906F-4AC352895C5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راحل ايجاد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فعالي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ردش كار مورد نظر را تعيين نماييد. در يك سيستم واقعي مدلسازي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مه گردش كار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يك نمود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مك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ذير ني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شياء حرفه كليد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را انتخاب نماي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ين اشياء مي‌توانند موجود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واقعي كه از واژگان سيستم استخراج شده يا مي‌توان در سطح تجريدي بالاتري قرار گيرند، باش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ي هر شي حرفه كليدي يك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Swimlan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يجاد نماي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815A-F796-4C83-8855-ABDE797ED6E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راحل ايجاد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فعالي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پيش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شرط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حالت ابتدائي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پس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شرط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حالت پاياني را شناسائ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ماي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دي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صورت مرزهاي گردش كار معين مي‌گرد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ز حالت ابتدائي آغاز نماييد و فعا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ي كه د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طول زم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صورت مي‌گيرند با توجه به 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Swimlan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ربوطه در نمودار فعاليت ترسيم نماي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منظور بيان رفتار فعا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پيچيده براي هركدام ي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ودار فعاليت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جداگان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رسيم نماي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3F08-3B6D-4C9D-A501-99C6E572E69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راحل ايجاد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فعالي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نتقال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ين فعا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را ترسيم نماي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ز جري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ترتيبي آغاز كرده، سپس جري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شرطي و بالاخره به ترسيم جري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مواز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به صورت انشعاب و ادغام) بپرداز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6" name="Picture 4" descr="AMSTRATE"/>
          <p:cNvPicPr/>
          <p:nvPr/>
        </p:nvPicPr>
        <p:blipFill>
          <a:blip r:embed="rId1"/>
          <a:stretch/>
        </p:blipFill>
        <p:spPr>
          <a:xfrm>
            <a:off x="684360" y="3860640"/>
            <a:ext cx="270036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A3D4-BA7D-49A5-ACC6-1F1321B6D16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فعالي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9" name="Picture 4" descr="AnaDesign_Workflow"/>
          <p:cNvPicPr/>
          <p:nvPr/>
        </p:nvPicPr>
        <p:blipFill>
          <a:blip r:embed="rId1"/>
          <a:stretch/>
        </p:blipFill>
        <p:spPr>
          <a:xfrm>
            <a:off x="755640" y="1413000"/>
            <a:ext cx="4059360" cy="54450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2939040" y="1484280"/>
            <a:ext cx="60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Nazanin"/>
              </a:rPr>
              <a:t>بيان نظم </a:t>
            </a:r>
            <a:r>
              <a:rPr b="1" lang="ar-SA" sz="2800" spc="-1" strike="noStrike">
                <a:solidFill>
                  <a:srgbClr val="000066"/>
                </a:solidFill>
                <a:latin typeface="Tahoma"/>
                <a:cs typeface="Nazanin"/>
              </a:rPr>
              <a:t>تحليل و طراحي  در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CC9F-E91B-42CB-8CD6-A41270E4E57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BACF-5972-4FD6-810B-8E57198D2B0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ساختار پوي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ك سيستم علاوه بر ساختار ايستاي خود داراي يك رفتار پويا، مبتني بر ساختار ايستاست كه بي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نند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حو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ترتيب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رتباط اجزاي مختلف با يكديگر براي انجام وظايف وابسته به سيستم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لسازي كلاس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ختار ايستاي سيستم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را نمايش مي‌دهد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حاليكه مدلسازي تعامل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ختار پويا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سيستم را نمايش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900000" y="2349360"/>
            <a:ext cx="7129440" cy="2305080"/>
          </a:xfrm>
          <a:prstGeom prst="roundRect">
            <a:avLst>
              <a:gd name="adj" fmla="val 90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3399"/>
                </a:solidFill>
                <a:latin typeface="Tahoma"/>
                <a:cs typeface="Nazanin"/>
              </a:rPr>
              <a:t>نمودارهاي ترتيبي، همكاري، حالت و فعاليت براي نمايش پويايي سيستم بكار مي</a:t>
            </a:r>
            <a:r>
              <a:rPr b="1" lang="fa-IR" sz="2800" spc="-1" strike="noStrike">
                <a:solidFill>
                  <a:srgbClr val="003399"/>
                </a:solidFill>
                <a:latin typeface="Tahoma"/>
              </a:rPr>
              <a:t>‌</a:t>
            </a:r>
            <a:r>
              <a:rPr b="1" lang="fa-IR" sz="2800" spc="-1" strike="noStrike">
                <a:solidFill>
                  <a:srgbClr val="003399"/>
                </a:solidFill>
                <a:latin typeface="Tahoma"/>
                <a:cs typeface="Nazanin"/>
              </a:rPr>
              <a:t>رون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23BD-D163-42E1-8861-2FE8DCE4771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ترتيب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يان ترتيب زماني تبادل پيا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بين اشياء شرك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ننده در يك تعام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عمولاً در توصيف مراحل اجراي (عينيت بخشيدن به) يك مورد كاربري استفاده مي‌گرد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Picture 4" descr="AMCOMMUN"/>
          <p:cNvPicPr/>
          <p:nvPr/>
        </p:nvPicPr>
        <p:blipFill>
          <a:blip r:embed="rId1"/>
          <a:stretch/>
        </p:blipFill>
        <p:spPr>
          <a:xfrm>
            <a:off x="2843280" y="4724280"/>
            <a:ext cx="273672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33EF-FFC6-4F1F-9BE5-C9EE93762F8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ترتيب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446040" y="1373040"/>
          <a:ext cx="843444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373040"/>
                    <a:ext cx="843444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5"/>
          <p:cNvSpPr/>
          <p:nvPr/>
        </p:nvSpPr>
        <p:spPr>
          <a:xfrm flipV="1">
            <a:off x="654120" y="1979280"/>
            <a:ext cx="114120" cy="571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11040" y="2573280"/>
            <a:ext cx="57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imes New Roman (Arabic)"/>
                <a:cs typeface="Nazanin"/>
              </a:rPr>
              <a:t>ش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3195720" y="2411280"/>
            <a:ext cx="0" cy="5716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852640" y="2982960"/>
            <a:ext cx="57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imes New Roman (Arabic)"/>
                <a:cs typeface="Nazanin"/>
              </a:rPr>
              <a:t>تكرا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9"/>
          <p:cNvSpPr/>
          <p:nvPr/>
        </p:nvSpPr>
        <p:spPr>
          <a:xfrm flipH="1">
            <a:off x="5226120" y="3046320"/>
            <a:ext cx="914400" cy="38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216480" y="2894040"/>
            <a:ext cx="57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شر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7207200" y="5713560"/>
            <a:ext cx="228600" cy="3045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292800" y="5904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 (Arabic)"/>
                <a:cs typeface="Nazanin"/>
              </a:rPr>
              <a:t>ايجاد يك شي جدي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3"/>
          <p:cNvSpPr/>
          <p:nvPr/>
        </p:nvSpPr>
        <p:spPr>
          <a:xfrm flipV="1">
            <a:off x="1835280" y="2288880"/>
            <a:ext cx="0" cy="571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492200" y="2860560"/>
            <a:ext cx="57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imes New Roman (Arabic)"/>
                <a:cs typeface="Nazanin"/>
              </a:rPr>
              <a:t>پيا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730080" y="403704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6920" y="4494240"/>
            <a:ext cx="5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 (Arabic)"/>
                <a:cs typeface="Nazanin"/>
              </a:rPr>
              <a:t>زما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72000" y="1700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7093080" y="1557360"/>
            <a:ext cx="5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 (Arabic)"/>
                <a:cs typeface="Nazanin"/>
              </a:rPr>
              <a:t>اشيا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20"/>
          <p:cNvSpPr/>
          <p:nvPr/>
        </p:nvSpPr>
        <p:spPr>
          <a:xfrm flipH="1">
            <a:off x="6368760" y="3503520"/>
            <a:ext cx="1447560" cy="3049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7740720" y="3274920"/>
            <a:ext cx="1295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elf-Deleg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E09F-1444-43FE-988C-10E84502347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مودار ترتيب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امگذاري اشياء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</a:rPr>
              <a:t>بصورت </a:t>
            </a:r>
            <a:r>
              <a:rPr b="1" lang="en-US" sz="1700" spc="-1" strike="noStrike">
                <a:solidFill>
                  <a:srgbClr val="0000ff"/>
                </a:solidFill>
                <a:latin typeface="Times New Roman"/>
              </a:rPr>
              <a:t>::</a:t>
            </a:r>
            <a:r>
              <a:rPr b="1" lang="en-US" sz="1700" spc="-1" strike="noStrike">
                <a:solidFill>
                  <a:srgbClr val="0000ff"/>
                </a:solidFill>
                <a:latin typeface="Times New Roman"/>
              </a:rPr>
              <a:t>ClassName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</a:rPr>
              <a:t> براي نشان دادن يك كلاس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</a:rPr>
              <a:t>بصورت</a:t>
            </a:r>
            <a:r>
              <a:rPr b="1" lang="ar-SA" sz="17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Times New Roman"/>
              </a:rPr>
              <a:t>ObjectName::ClassName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</a:rPr>
              <a:t> براي نشان دادن نمونه مشخصي از يك كلاس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راي ترسيم نمودار ترتيبي، نخست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شرح مورد كاربر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ورد نظر را بررسي كرده سپس با استفاده از رو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شناسائي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كه در فصل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قبل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يان شده‌اند، تلاش مي‌كنيم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كلاس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 كليد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را شناسائي نمايي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D70E-CB05-424B-8E30-A400E36C303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66"/>
                </a:solidFill>
                <a:latin typeface="Times New Roman"/>
              </a:rPr>
              <a:t>مثال: ترسيم نمودار ترتيبي براي مورد كاري «ثبت كار استاندارد براي مشتري» 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2" name="Object 12"/>
          <p:cNvGraphicFramePr/>
          <p:nvPr/>
        </p:nvGraphicFramePr>
        <p:xfrm>
          <a:off x="179280" y="1352520"/>
          <a:ext cx="868680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52520"/>
                    <a:ext cx="86868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Line 13"/>
          <p:cNvSpPr/>
          <p:nvPr/>
        </p:nvSpPr>
        <p:spPr>
          <a:xfrm>
            <a:off x="2465280" y="1204920"/>
            <a:ext cx="228600" cy="152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170000" y="1052640"/>
            <a:ext cx="125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00"/>
                </a:solidFill>
                <a:latin typeface="Times New Roman (Arabic)"/>
                <a:cs typeface="Nazanin"/>
              </a:rPr>
              <a:t>يك شي جدي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07880" y="2781360"/>
            <a:ext cx="8458200" cy="12002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دف از اضافه كردن ش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Control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جدا نمودن اشياء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حرف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از تغييرات در  واسط كاربر مي باشد و بدين صورت سطح استفاده مجدد بالا خواهد رف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07880" y="4292640"/>
            <a:ext cx="8458200" cy="720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شكل واسط كاربر ناديده گرفته شده اس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CE31-2EBE-470D-8BCB-0FF638D87C5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ثال...: در نظر گرفتن واسط كارب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0" y="1442880"/>
          <a:ext cx="84596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2880"/>
                    <a:ext cx="845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18Z</dcterms:modified>
  <cp:revision>1823</cp:revision>
  <dc:subject/>
  <dc:title>PowerPoint Presentation</dc:title>
</cp:coreProperties>
</file>