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00A3-7049-4CAD-A916-71319CA2B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973E-1738-4C67-AD13-03F375AF3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570C-9894-4168-99D5-4D8B0BB7F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129A-8468-4E48-8FCA-FE7853F51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FF780-D982-45FD-ADCC-9233AB81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5BAC8-8B4C-48C0-AF5B-7FEF5A08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78790-483A-4488-A27A-18CC33FB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D6352-66F9-4DDF-BBE8-D0C2634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94E94-E93A-4D24-9CB6-B22B6D1E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EF4EE-5307-4A9C-82B4-30DE42FB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224BC-1E76-485D-81C9-E494837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039D-4218-4E4B-9656-519365CB5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AB6FD-3FCF-4A1F-8BD3-5CDCE9D9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4C9A2-3CD9-463E-B66B-87734E8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2A0A4-96F2-43FD-9E5A-B9F3BA1E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F1010-F9B6-48AF-8B25-AFDB0B4D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7BFA-0C79-4E04-855E-5FAC6383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AFFE-FD92-4B99-8E8D-46FE78AA3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513E-EC0C-4D80-86D9-3AA513140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7D9A-E83B-461A-A021-F675AFD2D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78F6-270D-4664-B873-2C8E24269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DF60-96D3-4221-A796-B7A672743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3B3F-8535-448A-89FA-A9E699649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9274-C159-421E-BA0A-10ED583F0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0B29-7506-4CE8-991D-9047499C4E1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BA43-F299-46E9-B806-901556062EBE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539640" y="3068640"/>
            <a:ext cx="8064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فرآيند توليد نرم</a:t>
            </a:r>
            <a:r>
              <a:rPr b="0" lang="fa-IR" sz="3600" spc="-1" strike="noStrike">
                <a:solidFill>
                  <a:srgbClr val="000000"/>
                </a:solidFill>
                <a:latin typeface="Times New Roman"/>
                <a:ea typeface="Titr"/>
              </a:rPr>
              <a:t>‌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افزار در متدولوژ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tr"/>
              </a:rPr>
              <a:t>USD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t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619800" y="220500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پنج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E217-39A1-46AE-A08C-F058FAEF237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كرار و توسعه تدريج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539640" y="2330280"/>
            <a:ext cx="7645320" cy="4267080"/>
            <a:chOff x="539640" y="2330280"/>
            <a:chExt cx="7645320" cy="4267080"/>
          </a:xfrm>
        </p:grpSpPr>
        <p:sp>
          <p:nvSpPr>
            <p:cNvPr id="223" name="Line 5"/>
            <p:cNvSpPr/>
            <p:nvPr/>
          </p:nvSpPr>
          <p:spPr>
            <a:xfrm>
              <a:off x="5976360" y="4719960"/>
              <a:ext cx="84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4" name="Group 6"/>
            <p:cNvGrpSpPr/>
            <p:nvPr/>
          </p:nvGrpSpPr>
          <p:grpSpPr>
            <a:xfrm>
              <a:off x="539640" y="2330280"/>
              <a:ext cx="7645320" cy="4267080"/>
              <a:chOff x="539640" y="2330280"/>
              <a:chExt cx="7645320" cy="4267080"/>
            </a:xfrm>
          </p:grpSpPr>
          <p:grpSp>
            <p:nvGrpSpPr>
              <p:cNvPr id="225" name="Group 7"/>
              <p:cNvGrpSpPr/>
              <p:nvPr/>
            </p:nvGrpSpPr>
            <p:grpSpPr>
              <a:xfrm>
                <a:off x="1049040" y="2330280"/>
                <a:ext cx="1189080" cy="682560"/>
                <a:chOff x="1049040" y="2330280"/>
                <a:chExt cx="1189080" cy="682560"/>
              </a:xfrm>
            </p:grpSpPr>
            <p:sp>
              <p:nvSpPr>
                <p:cNvPr id="226" name="Oval 8"/>
                <p:cNvSpPr/>
                <p:nvPr/>
              </p:nvSpPr>
              <p:spPr>
                <a:xfrm>
                  <a:off x="1049040" y="2330280"/>
                  <a:ext cx="118908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Text Box 9"/>
                <p:cNvSpPr/>
                <p:nvPr/>
              </p:nvSpPr>
              <p:spPr>
                <a:xfrm>
                  <a:off x="1150920" y="2500560"/>
                  <a:ext cx="101916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امكان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سنجي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8" name="Group 10"/>
              <p:cNvGrpSpPr/>
              <p:nvPr/>
            </p:nvGrpSpPr>
            <p:grpSpPr>
              <a:xfrm>
                <a:off x="4277160" y="2330280"/>
                <a:ext cx="1189440" cy="682560"/>
                <a:chOff x="4277160" y="2330280"/>
                <a:chExt cx="1189440" cy="682560"/>
              </a:xfrm>
            </p:grpSpPr>
            <p:sp>
              <p:nvSpPr>
                <p:cNvPr id="229" name="Oval 11"/>
                <p:cNvSpPr/>
                <p:nvPr/>
              </p:nvSpPr>
              <p:spPr>
                <a:xfrm>
                  <a:off x="4277160" y="2330280"/>
                  <a:ext cx="118944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Text Box 12"/>
                <p:cNvSpPr/>
                <p:nvPr/>
              </p:nvSpPr>
              <p:spPr>
                <a:xfrm>
                  <a:off x="4379040" y="2500560"/>
                  <a:ext cx="101952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تحليل نيازها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1" name="Group 13"/>
              <p:cNvGrpSpPr/>
              <p:nvPr/>
            </p:nvGrpSpPr>
            <p:grpSpPr>
              <a:xfrm>
                <a:off x="6825960" y="2330280"/>
                <a:ext cx="1189080" cy="682560"/>
                <a:chOff x="6825960" y="2330280"/>
                <a:chExt cx="1189080" cy="682560"/>
              </a:xfrm>
            </p:grpSpPr>
            <p:sp>
              <p:nvSpPr>
                <p:cNvPr id="232" name="Oval 14"/>
                <p:cNvSpPr/>
                <p:nvPr/>
              </p:nvSpPr>
              <p:spPr>
                <a:xfrm>
                  <a:off x="6825960" y="2330280"/>
                  <a:ext cx="118908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Text Box 15"/>
                <p:cNvSpPr/>
                <p:nvPr/>
              </p:nvSpPr>
              <p:spPr>
                <a:xfrm>
                  <a:off x="6927840" y="2500560"/>
                  <a:ext cx="101916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نمونه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سازي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4" name="Group 16"/>
              <p:cNvGrpSpPr/>
              <p:nvPr/>
            </p:nvGrpSpPr>
            <p:grpSpPr>
              <a:xfrm>
                <a:off x="6825960" y="4378680"/>
                <a:ext cx="1359000" cy="682560"/>
                <a:chOff x="6825960" y="4378680"/>
                <a:chExt cx="1359000" cy="682560"/>
              </a:xfrm>
            </p:grpSpPr>
            <p:sp>
              <p:nvSpPr>
                <p:cNvPr id="235" name="Oval 17"/>
                <p:cNvSpPr/>
                <p:nvPr/>
              </p:nvSpPr>
              <p:spPr>
                <a:xfrm>
                  <a:off x="6825960" y="4378680"/>
                  <a:ext cx="135900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Text Box 18"/>
                <p:cNvSpPr/>
                <p:nvPr/>
              </p:nvSpPr>
              <p:spPr>
                <a:xfrm>
                  <a:off x="6871320" y="4548960"/>
                  <a:ext cx="125712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طراحي و ساخت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7" name="Group 19"/>
              <p:cNvGrpSpPr/>
              <p:nvPr/>
            </p:nvGrpSpPr>
            <p:grpSpPr>
              <a:xfrm>
                <a:off x="4277160" y="3354480"/>
                <a:ext cx="1189440" cy="682560"/>
                <a:chOff x="4277160" y="3354480"/>
                <a:chExt cx="1189440" cy="682560"/>
              </a:xfrm>
            </p:grpSpPr>
            <p:sp>
              <p:nvSpPr>
                <p:cNvPr id="238" name="Oval 20"/>
                <p:cNvSpPr/>
                <p:nvPr/>
              </p:nvSpPr>
              <p:spPr>
                <a:xfrm>
                  <a:off x="4277160" y="3354480"/>
                  <a:ext cx="118944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Text Box 21"/>
                <p:cNvSpPr/>
                <p:nvPr/>
              </p:nvSpPr>
              <p:spPr>
                <a:xfrm>
                  <a:off x="4379040" y="3525120"/>
                  <a:ext cx="101952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عماري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0" name="Group 22"/>
              <p:cNvGrpSpPr/>
              <p:nvPr/>
            </p:nvGrpSpPr>
            <p:grpSpPr>
              <a:xfrm>
                <a:off x="3767760" y="4378680"/>
                <a:ext cx="2208600" cy="682560"/>
                <a:chOff x="3767760" y="4378680"/>
                <a:chExt cx="2208600" cy="682560"/>
              </a:xfrm>
            </p:grpSpPr>
            <p:sp>
              <p:nvSpPr>
                <p:cNvPr id="241" name="Oval 23"/>
                <p:cNvSpPr/>
                <p:nvPr/>
              </p:nvSpPr>
              <p:spPr>
                <a:xfrm>
                  <a:off x="3767760" y="4378680"/>
                  <a:ext cx="220860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Text Box 24"/>
                <p:cNvSpPr/>
                <p:nvPr/>
              </p:nvSpPr>
              <p:spPr>
                <a:xfrm>
                  <a:off x="3824280" y="4549320"/>
                  <a:ext cx="210672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برنامه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ريزي براي توليد پروژه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3" name="Group 25"/>
              <p:cNvGrpSpPr/>
              <p:nvPr/>
            </p:nvGrpSpPr>
            <p:grpSpPr>
              <a:xfrm>
                <a:off x="539640" y="5232240"/>
                <a:ext cx="2208600" cy="682560"/>
                <a:chOff x="539640" y="5232240"/>
                <a:chExt cx="2208600" cy="682560"/>
              </a:xfrm>
            </p:grpSpPr>
            <p:sp>
              <p:nvSpPr>
                <p:cNvPr id="244" name="Oval 26"/>
                <p:cNvSpPr/>
                <p:nvPr/>
              </p:nvSpPr>
              <p:spPr>
                <a:xfrm>
                  <a:off x="539640" y="5232240"/>
                  <a:ext cx="220860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Text Box 27"/>
                <p:cNvSpPr/>
                <p:nvPr/>
              </p:nvSpPr>
              <p:spPr>
                <a:xfrm>
                  <a:off x="596160" y="5402880"/>
                  <a:ext cx="210672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تحويل مولفه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هاي ساخته شده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6" name="Group 28"/>
              <p:cNvGrpSpPr/>
              <p:nvPr/>
            </p:nvGrpSpPr>
            <p:grpSpPr>
              <a:xfrm>
                <a:off x="539640" y="3354480"/>
                <a:ext cx="2208600" cy="853200"/>
                <a:chOff x="539640" y="3354480"/>
                <a:chExt cx="2208600" cy="853200"/>
              </a:xfrm>
            </p:grpSpPr>
            <p:sp>
              <p:nvSpPr>
                <p:cNvPr id="247" name="Oval 29"/>
                <p:cNvSpPr/>
                <p:nvPr/>
              </p:nvSpPr>
              <p:spPr>
                <a:xfrm>
                  <a:off x="539640" y="3354480"/>
                  <a:ext cx="2208600" cy="85320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Text Box 30"/>
                <p:cNvSpPr/>
                <p:nvPr/>
              </p:nvSpPr>
              <p:spPr>
                <a:xfrm>
                  <a:off x="596160" y="3445560"/>
                  <a:ext cx="21067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جتمع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سازي مولفه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ها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 با يكديگر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9" name="Group 31"/>
              <p:cNvGrpSpPr/>
              <p:nvPr/>
            </p:nvGrpSpPr>
            <p:grpSpPr>
              <a:xfrm>
                <a:off x="3767760" y="5914800"/>
                <a:ext cx="2208600" cy="682560"/>
                <a:chOff x="3767760" y="5914800"/>
                <a:chExt cx="2208600" cy="682560"/>
              </a:xfrm>
            </p:grpSpPr>
            <p:sp>
              <p:nvSpPr>
                <p:cNvPr id="250" name="Oval 32"/>
                <p:cNvSpPr/>
                <p:nvPr/>
              </p:nvSpPr>
              <p:spPr>
                <a:xfrm>
                  <a:off x="3767760" y="5914800"/>
                  <a:ext cx="2208600" cy="68256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Text Box 33"/>
                <p:cNvSpPr/>
                <p:nvPr/>
              </p:nvSpPr>
              <p:spPr>
                <a:xfrm>
                  <a:off x="3824280" y="6085440"/>
                  <a:ext cx="210672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مقبوليت استفاده</a:t>
                  </a:r>
                  <a:r>
                    <a:rPr b="1" lang="fa-IR" sz="1800" spc="-1" strike="noStrike">
                      <a:solidFill>
                        <a:srgbClr val="000000"/>
                      </a:solidFill>
                      <a:latin typeface="Times New Roman"/>
                      <a:ea typeface="Nazanin"/>
                    </a:rPr>
                    <a:t>‌</a:t>
                  </a: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  <a:cs typeface="Nazanin"/>
                    </a:rPr>
                    <a:t>كننده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52" name="Line 34"/>
              <p:cNvSpPr/>
              <p:nvPr/>
            </p:nvSpPr>
            <p:spPr>
              <a:xfrm>
                <a:off x="2238480" y="2671560"/>
                <a:ext cx="2038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Line 35"/>
              <p:cNvSpPr/>
              <p:nvPr/>
            </p:nvSpPr>
            <p:spPr>
              <a:xfrm>
                <a:off x="5466960" y="2671560"/>
                <a:ext cx="1359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Line 36"/>
              <p:cNvSpPr/>
              <p:nvPr/>
            </p:nvSpPr>
            <p:spPr>
              <a:xfrm>
                <a:off x="7505640" y="3012840"/>
                <a:ext cx="0" cy="136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Line 37"/>
              <p:cNvSpPr/>
              <p:nvPr/>
            </p:nvSpPr>
            <p:spPr>
              <a:xfrm flipH="1">
                <a:off x="5806080" y="5061240"/>
                <a:ext cx="1359000" cy="10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Line 38"/>
              <p:cNvSpPr/>
              <p:nvPr/>
            </p:nvSpPr>
            <p:spPr>
              <a:xfrm flipV="1">
                <a:off x="5976360" y="5060880"/>
                <a:ext cx="1528920" cy="1194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Line 39"/>
              <p:cNvSpPr/>
              <p:nvPr/>
            </p:nvSpPr>
            <p:spPr>
              <a:xfrm flipH="1" flipV="1">
                <a:off x="2702880" y="5709960"/>
                <a:ext cx="1019520" cy="51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Line 40"/>
              <p:cNvSpPr/>
              <p:nvPr/>
            </p:nvSpPr>
            <p:spPr>
              <a:xfrm flipV="1">
                <a:off x="1649520" y="4208760"/>
                <a:ext cx="0" cy="102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Line 41"/>
              <p:cNvSpPr/>
              <p:nvPr/>
            </p:nvSpPr>
            <p:spPr>
              <a:xfrm flipV="1">
                <a:off x="2623680" y="2842200"/>
                <a:ext cx="1698840" cy="68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Line 42"/>
              <p:cNvSpPr/>
              <p:nvPr/>
            </p:nvSpPr>
            <p:spPr>
              <a:xfrm>
                <a:off x="4889160" y="3012840"/>
                <a:ext cx="0" cy="34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Line 43"/>
              <p:cNvSpPr/>
              <p:nvPr/>
            </p:nvSpPr>
            <p:spPr>
              <a:xfrm>
                <a:off x="4900320" y="4038120"/>
                <a:ext cx="0" cy="34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Line 44"/>
              <p:cNvSpPr/>
              <p:nvPr/>
            </p:nvSpPr>
            <p:spPr>
              <a:xfrm>
                <a:off x="4923000" y="5061240"/>
                <a:ext cx="0" cy="85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Line 45"/>
              <p:cNvSpPr/>
              <p:nvPr/>
            </p:nvSpPr>
            <p:spPr>
              <a:xfrm flipV="1">
                <a:off x="2374200" y="4754160"/>
                <a:ext cx="1359000" cy="51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Text Box 46"/>
              <p:cNvSpPr/>
              <p:nvPr/>
            </p:nvSpPr>
            <p:spPr>
              <a:xfrm>
                <a:off x="3088080" y="3354480"/>
                <a:ext cx="6793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Nazanin"/>
                  </a:rPr>
                  <a:t>تكرار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Text Box 47"/>
              <p:cNvSpPr/>
              <p:nvPr/>
            </p:nvSpPr>
            <p:spPr>
              <a:xfrm>
                <a:off x="3258000" y="5061240"/>
                <a:ext cx="6793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Nazanin"/>
                  </a:rPr>
                  <a:t>تدريج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6" name="Rectangle 49"/>
          <p:cNvSpPr/>
          <p:nvPr/>
        </p:nvSpPr>
        <p:spPr>
          <a:xfrm>
            <a:off x="4159080" y="1541520"/>
            <a:ext cx="51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روش تکرار و توسعه تدريج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4C24-17C4-4816-8865-6F7FFF18BE7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كرار و توسعه تدريج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ويژگي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شخيص زود هنگام خطاهايي كه در درك مسأله، تحليل يا طراحي رخ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شخيص زودهنگام ناسازگار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وجود بين تحليل نيازم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، طراحي و پياد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از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اربر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د دائما از روند پيشرفت پروژه مطلع گرد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0" name="Picture 4" descr="ANALYZE"/>
          <p:cNvPicPr/>
          <p:nvPr/>
        </p:nvPicPr>
        <p:blipFill>
          <a:blip r:embed="rId1"/>
          <a:stretch/>
        </p:blipFill>
        <p:spPr>
          <a:xfrm>
            <a:off x="900000" y="4941720"/>
            <a:ext cx="1594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8FB5-9385-4840-B7B8-4D300A924BA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كرار و توسعه تدريج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ويژگيه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وسيله اين روش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 روي قسم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همتر پروژه متمركز شد و از پرداختن به قسم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ك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هميت‌تر پرهيز نمو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آزمايش تكراري و مستمر امكان تشخيص بهتر روند پيشرفت پروژه را به ما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اركاري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Workload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تي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، بخصوص آزمايش‌كنندگان، روي چرخه توليد پروژه به صورت متوازن توزيع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6FA5-78BE-43C8-8A72-39792C0EC4F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يريت نيازم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يازم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عبارتست از شرطي يا قابليتي كه سيستم بايد داراي آن باش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91600" indent="-29160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ديريت نيازم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شامل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ريافت، سازماندهي و مستندسازي عملكرد مطلوب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يستم و محدود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موجو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عمال تغييرات مطلوب روي نيازم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جمع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آوري شده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314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ديابي و مستندكردن اثرات بوجود آمده و تصمي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اتخاذ شده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50920" y="2276640"/>
            <a:ext cx="1368360" cy="1873080"/>
            <a:chOff x="250920" y="2276640"/>
            <a:chExt cx="1368360" cy="1873080"/>
          </a:xfrm>
        </p:grpSpPr>
        <p:sp>
          <p:nvSpPr>
            <p:cNvPr id="278" name="Rectangle 5"/>
            <p:cNvSpPr/>
            <p:nvPr/>
          </p:nvSpPr>
          <p:spPr>
            <a:xfrm>
              <a:off x="250920" y="2276640"/>
              <a:ext cx="1368360" cy="1873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79" name="Object 6"/>
            <p:cNvGraphicFramePr/>
            <p:nvPr/>
          </p:nvGraphicFramePr>
          <p:xfrm>
            <a:off x="279000" y="3268440"/>
            <a:ext cx="1310760" cy="82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9000" y="3268440"/>
                      <a:ext cx="1310760" cy="82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1" name="Group 7"/>
            <p:cNvGrpSpPr/>
            <p:nvPr/>
          </p:nvGrpSpPr>
          <p:grpSpPr>
            <a:xfrm>
              <a:off x="661680" y="2345040"/>
              <a:ext cx="546840" cy="822960"/>
              <a:chOff x="661680" y="2345040"/>
              <a:chExt cx="546840" cy="822960"/>
            </a:xfrm>
          </p:grpSpPr>
          <p:sp>
            <p:nvSpPr>
              <p:cNvPr id="282" name="Freeform 8"/>
              <p:cNvSpPr/>
              <p:nvPr/>
            </p:nvSpPr>
            <p:spPr>
              <a:xfrm>
                <a:off x="691920" y="2378880"/>
                <a:ext cx="516600" cy="789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Freeform 9"/>
              <p:cNvSpPr/>
              <p:nvPr/>
            </p:nvSpPr>
            <p:spPr>
              <a:xfrm>
                <a:off x="691920" y="2378880"/>
                <a:ext cx="516600" cy="789120"/>
              </a:xfrm>
              <a:prstGeom prst="pie">
                <a:avLst/>
              </a:prstGeom>
              <a:solidFill>
                <a:srgbClr val="99ccff"/>
              </a:solidFill>
              <a:ln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>
                <a:off x="661680" y="2351880"/>
                <a:ext cx="520200" cy="7819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Freeform 11"/>
              <p:cNvSpPr/>
              <p:nvPr/>
            </p:nvSpPr>
            <p:spPr>
              <a:xfrm>
                <a:off x="661680" y="2351880"/>
                <a:ext cx="520200" cy="781920"/>
              </a:xfrm>
              <a:prstGeom prst="pie">
                <a:avLst/>
              </a:prstGeom>
              <a:solidFill>
                <a:srgbClr val="99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1065960" y="2345040"/>
                <a:ext cx="115560" cy="140040"/>
              </a:xfrm>
              <a:prstGeom prst="pie">
                <a:avLst/>
              </a:prstGeom>
              <a:solidFill>
                <a:srgbClr val="99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Line 13"/>
              <p:cNvSpPr/>
              <p:nvPr/>
            </p:nvSpPr>
            <p:spPr>
              <a:xfrm>
                <a:off x="789480" y="2491920"/>
                <a:ext cx="2314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Line 14"/>
              <p:cNvSpPr/>
              <p:nvPr/>
            </p:nvSpPr>
            <p:spPr>
              <a:xfrm>
                <a:off x="789480" y="256032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Line 15"/>
              <p:cNvSpPr/>
              <p:nvPr/>
            </p:nvSpPr>
            <p:spPr>
              <a:xfrm>
                <a:off x="789480" y="2604240"/>
                <a:ext cx="320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Line 16"/>
              <p:cNvSpPr/>
              <p:nvPr/>
            </p:nvSpPr>
            <p:spPr>
              <a:xfrm>
                <a:off x="789480" y="264924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17"/>
              <p:cNvSpPr/>
              <p:nvPr/>
            </p:nvSpPr>
            <p:spPr>
              <a:xfrm>
                <a:off x="789480" y="270036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Line 18"/>
              <p:cNvSpPr/>
              <p:nvPr/>
            </p:nvSpPr>
            <p:spPr>
              <a:xfrm>
                <a:off x="789480" y="2744640"/>
                <a:ext cx="320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Line 19"/>
              <p:cNvSpPr/>
              <p:nvPr/>
            </p:nvSpPr>
            <p:spPr>
              <a:xfrm>
                <a:off x="789480" y="278928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Line 20"/>
              <p:cNvSpPr/>
              <p:nvPr/>
            </p:nvSpPr>
            <p:spPr>
              <a:xfrm>
                <a:off x="789480" y="283356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Line 21"/>
              <p:cNvSpPr/>
              <p:nvPr/>
            </p:nvSpPr>
            <p:spPr>
              <a:xfrm>
                <a:off x="789480" y="2877840"/>
                <a:ext cx="320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Line 22"/>
              <p:cNvSpPr/>
              <p:nvPr/>
            </p:nvSpPr>
            <p:spPr>
              <a:xfrm>
                <a:off x="789480" y="292248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Line 23"/>
              <p:cNvSpPr/>
              <p:nvPr/>
            </p:nvSpPr>
            <p:spPr>
              <a:xfrm>
                <a:off x="789480" y="2962800"/>
                <a:ext cx="320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Line 24"/>
              <p:cNvSpPr/>
              <p:nvPr/>
            </p:nvSpPr>
            <p:spPr>
              <a:xfrm>
                <a:off x="789480" y="301464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Line 25"/>
              <p:cNvSpPr/>
              <p:nvPr/>
            </p:nvSpPr>
            <p:spPr>
              <a:xfrm>
                <a:off x="789480" y="3058920"/>
                <a:ext cx="320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>
                <a:off x="691920" y="2819520"/>
                <a:ext cx="47160" cy="619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>
                <a:off x="691920" y="2819520"/>
                <a:ext cx="47160" cy="61920"/>
              </a:xfrm>
              <a:prstGeom prst="pie">
                <a:avLst/>
              </a:prstGeom>
              <a:solidFill>
                <a:srgbClr val="99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28"/>
              <p:cNvSpPr/>
              <p:nvPr/>
            </p:nvSpPr>
            <p:spPr>
              <a:xfrm>
                <a:off x="691920" y="2945880"/>
                <a:ext cx="52920" cy="619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29"/>
              <p:cNvSpPr/>
              <p:nvPr/>
            </p:nvSpPr>
            <p:spPr>
              <a:xfrm>
                <a:off x="691920" y="2945880"/>
                <a:ext cx="52920" cy="61920"/>
              </a:xfrm>
              <a:prstGeom prst="pie">
                <a:avLst/>
              </a:prstGeom>
              <a:solidFill>
                <a:srgbClr val="99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30"/>
              <p:cNvSpPr/>
              <p:nvPr/>
            </p:nvSpPr>
            <p:spPr>
              <a:xfrm>
                <a:off x="691920" y="2693520"/>
                <a:ext cx="52920" cy="648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Freeform 31"/>
              <p:cNvSpPr/>
              <p:nvPr/>
            </p:nvSpPr>
            <p:spPr>
              <a:xfrm>
                <a:off x="691920" y="2693520"/>
                <a:ext cx="52920" cy="64800"/>
              </a:xfrm>
              <a:prstGeom prst="pie">
                <a:avLst/>
              </a:prstGeom>
              <a:solidFill>
                <a:srgbClr val="99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Freeform 32"/>
              <p:cNvSpPr/>
              <p:nvPr/>
            </p:nvSpPr>
            <p:spPr>
              <a:xfrm>
                <a:off x="685800" y="2560320"/>
                <a:ext cx="52920" cy="720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33"/>
              <p:cNvSpPr/>
              <p:nvPr/>
            </p:nvSpPr>
            <p:spPr>
              <a:xfrm>
                <a:off x="685800" y="2560320"/>
                <a:ext cx="52920" cy="72000"/>
              </a:xfrm>
              <a:prstGeom prst="pie">
                <a:avLst/>
              </a:prstGeom>
              <a:solidFill>
                <a:srgbClr val="99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8" name="Text Box 34"/>
          <p:cNvSpPr/>
          <p:nvPr/>
        </p:nvSpPr>
        <p:spPr>
          <a:xfrm>
            <a:off x="468360" y="3141720"/>
            <a:ext cx="792000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Nazanin"/>
              </a:rPr>
              <a:t>يكي از ثابت</a:t>
            </a:r>
            <a:r>
              <a:rPr b="1" lang="fa-IR" sz="26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 در دنياي نرم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متغير و پويا بودن نيازمندي</a:t>
            </a:r>
            <a:r>
              <a:rPr b="1" lang="fa-IR" sz="26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ست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85B9-B510-4D44-8F11-80C62433FFF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يريت نيازم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ويژگي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ك روش منظم و سيستماتيك براي مديريت نيازم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ر اين روش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وان نيازم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 را اولو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ندي، فيلتربندي يا رديابي نمو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مكان تشخيص واقعي و منصفانه عملكرد و كارايي سيستم وجود دار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اسازگا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 به آساني قابل كشفن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7BE7-B0CD-42EB-8E0F-00DB35ABA15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ستفاده از معماري مبتني بر مؤلفه‌ها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ماري سيستم عبارتست از تعيين ساختار كلي سيستم و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ي كه اين ساختار را قادر به تامين كليه ويژگيهاي كليدي سيستم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oss-cutting concerns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از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5" name="Picture 5" descr="BUILDNG5"/>
          <p:cNvPicPr/>
          <p:nvPr/>
        </p:nvPicPr>
        <p:blipFill>
          <a:blip r:embed="rId1"/>
          <a:stretch/>
        </p:blipFill>
        <p:spPr>
          <a:xfrm>
            <a:off x="5724360" y="4437000"/>
            <a:ext cx="2664000" cy="1708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BUILDNG4"/>
          <p:cNvPicPr/>
          <p:nvPr/>
        </p:nvPicPr>
        <p:blipFill>
          <a:blip r:embed="rId2"/>
          <a:stretch/>
        </p:blipFill>
        <p:spPr>
          <a:xfrm>
            <a:off x="2484360" y="4869000"/>
            <a:ext cx="2808360" cy="1292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HOUSE1"/>
          <p:cNvPicPr/>
          <p:nvPr/>
        </p:nvPicPr>
        <p:blipFill>
          <a:blip r:embed="rId3"/>
          <a:stretch/>
        </p:blipFill>
        <p:spPr>
          <a:xfrm>
            <a:off x="393840" y="4941720"/>
            <a:ext cx="1657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0B0A-04CB-4470-81C5-A1E8FC3B39F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ستفاده از معماري...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ماري سيستم شامل تصمي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ي در سطح كلان در موارد ذيل است: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حوه سازماندهي سيستم نرم‌افزار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انتخاب عناصر ساختاري و واسط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آنها + مشخص نمودن رفتار اين عناصر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سازماندهي اين عناصر در گرو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بزرگت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زيرسيست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بك معماري مورد استفاده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611280" y="2276640"/>
            <a:ext cx="7775640" cy="23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علاوه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بر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ساختار و رفتار سيستم، معماري با مواردي از قبيل كارايي، انعطاف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پذيري، استفاده مجدد و محدودي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تكنولوژي و اقتصادي نيز سروكار دار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1325-232C-4AD4-84A3-8A2C0709E26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ستفاده از معماري...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ي از شيو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هم معماري نرم‌افزار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وسعه مبتني بر مؤلف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ست زيرا اين روش  امكان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ستفاده مجد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ز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آن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را به ما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8520" indent="-3085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ويژگيها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مك در داشتن يك معماري كشسان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فزايش قابليت استفاده مجدد از مؤلف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 و تكنولوژ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موجو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-2570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ؤلف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پايه خوبي براي مديريت پيكربندي اس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E7F-7FA3-4D38-B09F-8FF0EAA126D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تصويري نرم‌افز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دل عبارت از يك توصيف ساده شده، با توجه به يك نگرش معين، از سيستم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826920" y="3092400"/>
            <a:ext cx="7467120" cy="3505320"/>
            <a:chOff x="826920" y="3092400"/>
            <a:chExt cx="7467120" cy="3505320"/>
          </a:xfrm>
        </p:grpSpPr>
        <p:sp>
          <p:nvSpPr>
            <p:cNvPr id="329" name="Line 5"/>
            <p:cNvSpPr/>
            <p:nvPr/>
          </p:nvSpPr>
          <p:spPr>
            <a:xfrm flipV="1">
              <a:off x="4859280" y="4024080"/>
              <a:ext cx="205740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4995720" y="51148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2339640" y="4237200"/>
              <a:ext cx="205740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 flipV="1">
              <a:off x="3106440" y="5489280"/>
              <a:ext cx="10861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9"/>
            <p:cNvSpPr/>
            <p:nvPr/>
          </p:nvSpPr>
          <p:spPr>
            <a:xfrm>
              <a:off x="3877920" y="3902040"/>
              <a:ext cx="50040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10"/>
            <p:cNvSpPr/>
            <p:nvPr/>
          </p:nvSpPr>
          <p:spPr>
            <a:xfrm>
              <a:off x="2339640" y="51148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 flipH="1">
              <a:off x="4719240" y="3880080"/>
              <a:ext cx="500040" cy="9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 flipH="1" flipV="1">
              <a:off x="4803120" y="5114880"/>
              <a:ext cx="1521000" cy="6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13"/>
            <p:cNvSpPr/>
            <p:nvPr/>
          </p:nvSpPr>
          <p:spPr>
            <a:xfrm>
              <a:off x="3989160" y="5916600"/>
              <a:ext cx="1376280" cy="6811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333333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ployment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agram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8" name="Group 14"/>
            <p:cNvGrpSpPr/>
            <p:nvPr/>
          </p:nvGrpSpPr>
          <p:grpSpPr>
            <a:xfrm>
              <a:off x="2890800" y="3443400"/>
              <a:ext cx="1647360" cy="894960"/>
              <a:chOff x="2890800" y="3443400"/>
              <a:chExt cx="1647360" cy="894960"/>
            </a:xfrm>
          </p:grpSpPr>
          <p:sp>
            <p:nvSpPr>
              <p:cNvPr id="339" name="Rectangle 15"/>
              <p:cNvSpPr/>
              <p:nvPr/>
            </p:nvSpPr>
            <p:spPr>
              <a:xfrm>
                <a:off x="2890800" y="3443400"/>
                <a:ext cx="1376280" cy="6807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se Cas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Rectangle 16"/>
              <p:cNvSpPr/>
              <p:nvPr/>
            </p:nvSpPr>
            <p:spPr>
              <a:xfrm>
                <a:off x="3027960" y="3551760"/>
                <a:ext cx="1374480" cy="6796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se Cas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Rectangle 17"/>
              <p:cNvSpPr/>
              <p:nvPr/>
            </p:nvSpPr>
            <p:spPr>
              <a:xfrm>
                <a:off x="3162240" y="3657960"/>
                <a:ext cx="1375920" cy="6804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se Cas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2" name="Group 18"/>
            <p:cNvGrpSpPr/>
            <p:nvPr/>
          </p:nvGrpSpPr>
          <p:grpSpPr>
            <a:xfrm>
              <a:off x="826920" y="4684680"/>
              <a:ext cx="1649160" cy="894960"/>
              <a:chOff x="826920" y="4684680"/>
              <a:chExt cx="1649160" cy="894960"/>
            </a:xfrm>
          </p:grpSpPr>
          <p:sp>
            <p:nvSpPr>
              <p:cNvPr id="343" name="Rectangle 19"/>
              <p:cNvSpPr/>
              <p:nvPr/>
            </p:nvSpPr>
            <p:spPr>
              <a:xfrm>
                <a:off x="826920" y="4684680"/>
                <a:ext cx="1376640" cy="681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cenario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Rectangle 20"/>
              <p:cNvSpPr/>
              <p:nvPr/>
            </p:nvSpPr>
            <p:spPr>
              <a:xfrm>
                <a:off x="963360" y="4790520"/>
                <a:ext cx="1376280" cy="68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cenario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Rectangle 21"/>
              <p:cNvSpPr/>
              <p:nvPr/>
            </p:nvSpPr>
            <p:spPr>
              <a:xfrm>
                <a:off x="1099440" y="4901040"/>
                <a:ext cx="1376640" cy="67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quenc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6" name="Group 22"/>
            <p:cNvGrpSpPr/>
            <p:nvPr/>
          </p:nvGrpSpPr>
          <p:grpSpPr>
            <a:xfrm>
              <a:off x="6645240" y="4684680"/>
              <a:ext cx="1648800" cy="894960"/>
              <a:chOff x="6645240" y="4684680"/>
              <a:chExt cx="1648800" cy="894960"/>
            </a:xfrm>
          </p:grpSpPr>
          <p:sp>
            <p:nvSpPr>
              <p:cNvPr id="347" name="Rectangle 23"/>
              <p:cNvSpPr/>
              <p:nvPr/>
            </p:nvSpPr>
            <p:spPr>
              <a:xfrm>
                <a:off x="6645240" y="4684680"/>
                <a:ext cx="1376280" cy="67860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at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Rectangle 24"/>
              <p:cNvSpPr/>
              <p:nvPr/>
            </p:nvSpPr>
            <p:spPr>
              <a:xfrm>
                <a:off x="6781680" y="4790160"/>
                <a:ext cx="1375920" cy="6811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at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Rectangle 25"/>
              <p:cNvSpPr/>
              <p:nvPr/>
            </p:nvSpPr>
            <p:spPr>
              <a:xfrm>
                <a:off x="6917760" y="4898520"/>
                <a:ext cx="1376280" cy="6811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at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0" name="Group 26"/>
            <p:cNvGrpSpPr/>
            <p:nvPr/>
          </p:nvGrpSpPr>
          <p:grpSpPr>
            <a:xfrm>
              <a:off x="5583240" y="5667480"/>
              <a:ext cx="1648800" cy="894960"/>
              <a:chOff x="5583240" y="5667480"/>
              <a:chExt cx="1648800" cy="894960"/>
            </a:xfrm>
          </p:grpSpPr>
          <p:sp>
            <p:nvSpPr>
              <p:cNvPr id="351" name="Rectangle 27"/>
              <p:cNvSpPr/>
              <p:nvPr/>
            </p:nvSpPr>
            <p:spPr>
              <a:xfrm>
                <a:off x="5583240" y="5667480"/>
                <a:ext cx="1377000" cy="680400"/>
              </a:xfrm>
              <a:prstGeom prst="rect">
                <a:avLst/>
              </a:prstGeom>
              <a:solidFill>
                <a:srgbClr val="c6a0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onent</a:t>
                </a:r>
                <a:endParaRPr b="0" lang="en-US" sz="13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Rectangle 28"/>
              <p:cNvSpPr/>
              <p:nvPr/>
            </p:nvSpPr>
            <p:spPr>
              <a:xfrm>
                <a:off x="5719320" y="5775840"/>
                <a:ext cx="1373760" cy="679680"/>
              </a:xfrm>
              <a:prstGeom prst="rect">
                <a:avLst/>
              </a:prstGeom>
              <a:solidFill>
                <a:srgbClr val="c6a0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onent</a:t>
                </a:r>
                <a:endParaRPr b="0" lang="en-US" sz="13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Rectangle 29"/>
              <p:cNvSpPr/>
              <p:nvPr/>
            </p:nvSpPr>
            <p:spPr>
              <a:xfrm>
                <a:off x="5855040" y="5882040"/>
                <a:ext cx="1377000" cy="680400"/>
              </a:xfrm>
              <a:prstGeom prst="rect">
                <a:avLst/>
              </a:prstGeom>
              <a:solidFill>
                <a:srgbClr val="c6a0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onent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4" name="Group 30"/>
            <p:cNvGrpSpPr/>
            <p:nvPr/>
          </p:nvGrpSpPr>
          <p:grpSpPr>
            <a:xfrm>
              <a:off x="3852720" y="4829400"/>
              <a:ext cx="1426680" cy="750240"/>
              <a:chOff x="3852720" y="4829400"/>
              <a:chExt cx="1426680" cy="750240"/>
            </a:xfrm>
          </p:grpSpPr>
          <p:grpSp>
            <p:nvGrpSpPr>
              <p:cNvPr id="355" name="Group 31"/>
              <p:cNvGrpSpPr/>
              <p:nvPr/>
            </p:nvGrpSpPr>
            <p:grpSpPr>
              <a:xfrm>
                <a:off x="3852720" y="4829400"/>
                <a:ext cx="1426680" cy="750240"/>
                <a:chOff x="3852720" y="4829400"/>
                <a:chExt cx="1426680" cy="750240"/>
              </a:xfrm>
            </p:grpSpPr>
            <p:sp>
              <p:nvSpPr>
                <p:cNvPr id="356" name="Oval 32"/>
                <p:cNvSpPr/>
                <p:nvPr/>
              </p:nvSpPr>
              <p:spPr>
                <a:xfrm>
                  <a:off x="3854520" y="5311800"/>
                  <a:ext cx="1423800" cy="267840"/>
                </a:xfrm>
                <a:prstGeom prst="ellipse">
                  <a:avLst/>
                </a:prstGeom>
                <a:solidFill>
                  <a:srgbClr val="b2b2b2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7" name="Rectangle 33"/>
                <p:cNvSpPr/>
                <p:nvPr/>
              </p:nvSpPr>
              <p:spPr>
                <a:xfrm>
                  <a:off x="3865320" y="4936320"/>
                  <a:ext cx="1402200" cy="51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" name="Oval 34"/>
                <p:cNvSpPr/>
                <p:nvPr/>
              </p:nvSpPr>
              <p:spPr>
                <a:xfrm>
                  <a:off x="3854520" y="4829400"/>
                  <a:ext cx="1423800" cy="267840"/>
                </a:xfrm>
                <a:prstGeom prst="ellipse">
                  <a:avLst/>
                </a:prstGeom>
                <a:solidFill>
                  <a:srgbClr val="b2b2b2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35"/>
                <p:cNvSpPr/>
                <p:nvPr/>
              </p:nvSpPr>
              <p:spPr>
                <a:xfrm>
                  <a:off x="3852720" y="4965480"/>
                  <a:ext cx="720" cy="484920"/>
                </a:xfrm>
                <a:prstGeom prst="line">
                  <a:avLst/>
                </a:prstGeom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36"/>
                <p:cNvSpPr/>
                <p:nvPr/>
              </p:nvSpPr>
              <p:spPr>
                <a:xfrm>
                  <a:off x="5278680" y="4962240"/>
                  <a:ext cx="720" cy="484920"/>
                </a:xfrm>
                <a:prstGeom prst="line">
                  <a:avLst/>
                </a:prstGeom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1" name="Text Box 37"/>
              <p:cNvSpPr/>
              <p:nvPr/>
            </p:nvSpPr>
            <p:spPr>
              <a:xfrm>
                <a:off x="4161600" y="5205600"/>
                <a:ext cx="83412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861840"/>
                    <a:tab algn="l" pos="1724040"/>
                    <a:tab algn="l" pos="2585880"/>
                    <a:tab algn="l" pos="3448080"/>
                    <a:tab algn="l" pos="4309920"/>
                    <a:tab algn="l" pos="5172120"/>
                    <a:tab algn="l" pos="6033960"/>
                    <a:tab algn="l" pos="6896160"/>
                    <a:tab algn="l" pos="7758000"/>
                    <a:tab algn="l" pos="8620200"/>
                    <a:tab algn="l" pos="9482040"/>
                    <a:tab algn="l" pos="10344240"/>
                  </a:tabLst>
                </a:pPr>
                <a:r>
                  <a:rPr b="1" lang="en-US" sz="1800" spc="-1" strike="noStrike">
                    <a:solidFill>
                      <a:srgbClr val="a50021"/>
                    </a:solidFill>
                    <a:latin typeface="Arial"/>
                    <a:ea typeface="Times New Roman"/>
                  </a:rPr>
                  <a:t>Mode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2" name="Group 38"/>
            <p:cNvGrpSpPr/>
            <p:nvPr/>
          </p:nvGrpSpPr>
          <p:grpSpPr>
            <a:xfrm>
              <a:off x="6645240" y="3557520"/>
              <a:ext cx="1648800" cy="894960"/>
              <a:chOff x="6645240" y="3557520"/>
              <a:chExt cx="1648800" cy="894960"/>
            </a:xfrm>
          </p:grpSpPr>
          <p:sp>
            <p:nvSpPr>
              <p:cNvPr id="363" name="Rectangle 39"/>
              <p:cNvSpPr/>
              <p:nvPr/>
            </p:nvSpPr>
            <p:spPr>
              <a:xfrm>
                <a:off x="6645240" y="3557520"/>
                <a:ext cx="1376280" cy="67860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at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Rectangle 40"/>
              <p:cNvSpPr/>
              <p:nvPr/>
            </p:nvSpPr>
            <p:spPr>
              <a:xfrm>
                <a:off x="6781680" y="3663000"/>
                <a:ext cx="1375920" cy="6811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at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Rectangle 41"/>
              <p:cNvSpPr/>
              <p:nvPr/>
            </p:nvSpPr>
            <p:spPr>
              <a:xfrm>
                <a:off x="6917760" y="3771360"/>
                <a:ext cx="1376280" cy="6811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bject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6" name="Group 42"/>
            <p:cNvGrpSpPr/>
            <p:nvPr/>
          </p:nvGrpSpPr>
          <p:grpSpPr>
            <a:xfrm>
              <a:off x="1455480" y="5702400"/>
              <a:ext cx="1650600" cy="894960"/>
              <a:chOff x="1455480" y="5702400"/>
              <a:chExt cx="1650600" cy="894960"/>
            </a:xfrm>
          </p:grpSpPr>
          <p:sp>
            <p:nvSpPr>
              <p:cNvPr id="367" name="Rectangle 43"/>
              <p:cNvSpPr/>
              <p:nvPr/>
            </p:nvSpPr>
            <p:spPr>
              <a:xfrm>
                <a:off x="1455480" y="5702400"/>
                <a:ext cx="1377720" cy="681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cenario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8" name="Rectangle 44"/>
              <p:cNvSpPr/>
              <p:nvPr/>
            </p:nvSpPr>
            <p:spPr>
              <a:xfrm>
                <a:off x="1591920" y="5808240"/>
                <a:ext cx="1377360" cy="68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cenario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9" name="Rectangle 45"/>
              <p:cNvSpPr/>
              <p:nvPr/>
            </p:nvSpPr>
            <p:spPr>
              <a:xfrm>
                <a:off x="1728360" y="5918760"/>
                <a:ext cx="1377720" cy="67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llaboration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0" name="Group 46"/>
            <p:cNvGrpSpPr/>
            <p:nvPr/>
          </p:nvGrpSpPr>
          <p:grpSpPr>
            <a:xfrm>
              <a:off x="1168200" y="3692520"/>
              <a:ext cx="1649160" cy="894960"/>
              <a:chOff x="1168200" y="3692520"/>
              <a:chExt cx="1649160" cy="894960"/>
            </a:xfrm>
          </p:grpSpPr>
          <p:sp>
            <p:nvSpPr>
              <p:cNvPr id="371" name="Rectangle 47"/>
              <p:cNvSpPr/>
              <p:nvPr/>
            </p:nvSpPr>
            <p:spPr>
              <a:xfrm>
                <a:off x="1168200" y="3692520"/>
                <a:ext cx="1377720" cy="6807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se Cas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Rectangle 48"/>
              <p:cNvSpPr/>
              <p:nvPr/>
            </p:nvSpPr>
            <p:spPr>
              <a:xfrm>
                <a:off x="1303920" y="3800880"/>
                <a:ext cx="1374840" cy="6796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se Cas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Rectangle 49"/>
              <p:cNvSpPr/>
              <p:nvPr/>
            </p:nvSpPr>
            <p:spPr>
              <a:xfrm>
                <a:off x="1440000" y="3907080"/>
                <a:ext cx="1377360" cy="6804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680" rIns="76680" tIns="38160" bIns="3816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ity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4" name="Group 50"/>
            <p:cNvGrpSpPr/>
            <p:nvPr/>
          </p:nvGrpSpPr>
          <p:grpSpPr>
            <a:xfrm>
              <a:off x="4563720" y="3092400"/>
              <a:ext cx="1650960" cy="894960"/>
              <a:chOff x="4563720" y="3092400"/>
              <a:chExt cx="1650960" cy="894960"/>
            </a:xfrm>
          </p:grpSpPr>
          <p:sp>
            <p:nvSpPr>
              <p:cNvPr id="375" name="Rectangle 51"/>
              <p:cNvSpPr/>
              <p:nvPr/>
            </p:nvSpPr>
            <p:spPr>
              <a:xfrm>
                <a:off x="4563720" y="3092400"/>
                <a:ext cx="1378080" cy="67860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at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Rectangle 52"/>
              <p:cNvSpPr/>
              <p:nvPr/>
            </p:nvSpPr>
            <p:spPr>
              <a:xfrm>
                <a:off x="4700160" y="3197880"/>
                <a:ext cx="1377720" cy="6811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ate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Rectangle 53"/>
              <p:cNvSpPr/>
              <p:nvPr/>
            </p:nvSpPr>
            <p:spPr>
              <a:xfrm>
                <a:off x="4836600" y="3306240"/>
                <a:ext cx="1378080" cy="6811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333333"/>
                </a:solidFill>
                <a:miter/>
              </a:ln>
              <a:effectLst>
                <a:outerShdw dist="107932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040" rIns="86040" tIns="43200" bIns="43200" anchor="ctr">
                <a:noAutofit/>
              </a:bodyPr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las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384120" indent="-384120" algn="ctr">
                  <a:lnSpc>
                    <a:spcPct val="90000"/>
                  </a:lnSpc>
                  <a:tabLst>
                    <a:tab algn="l" pos="0"/>
                    <a:tab algn="l" pos="903240"/>
                    <a:tab algn="l" pos="1806480"/>
                    <a:tab algn="l" pos="2709720"/>
                    <a:tab algn="l" pos="3613320"/>
                    <a:tab algn="l" pos="4516560"/>
                    <a:tab algn="l" pos="5419800"/>
                    <a:tab algn="l" pos="6323040"/>
                    <a:tab algn="l" pos="7226280"/>
                    <a:tab algn="l" pos="8129520"/>
                    <a:tab algn="l" pos="9032760"/>
                    <a:tab algn="l" pos="9936000"/>
                    <a:tab algn="l" pos="108396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grams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78" name="Line 54"/>
            <p:cNvSpPr/>
            <p:nvPr/>
          </p:nvSpPr>
          <p:spPr>
            <a:xfrm>
              <a:off x="4563720" y="558000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EEFB-652C-4F54-BE98-D169F54FF0C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لسازي تصويري نرم‌افزار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ويژگي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مكان توصيف سيستم با ميزان دلخواهي از جزئيا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وسيله مدل‌ها مي‌توان طراحي سيستم را به صورت روشن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و صريح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بيان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نمو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امكان تشخيص معما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غير قابل انعطاف و واحدبندي نشد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رم‌افزار خوب حاصل مد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با كيفيت بالا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94A9-294D-42F6-BE6C-B13F0719249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وش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 مدر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توسعه نرم‌افزار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رفي فرآيند توليد در متدولوژي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USD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ك تفاوت بين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USDP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 و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U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رف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حورها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صل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D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حصول بود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بعا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C820-F3E3-4BD9-9B6F-8E0FCAACC73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ررسي كيفيت نرم‌افز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295280" y="56196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زينه اصلاح خطاها به صورت نمايي رشد م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نما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359000" y="3144960"/>
            <a:ext cx="65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2010960" y="1916280"/>
            <a:ext cx="4735440" cy="2724120"/>
            <a:chOff x="2010960" y="1916280"/>
            <a:chExt cx="4735440" cy="2724120"/>
          </a:xfrm>
        </p:grpSpPr>
        <p:sp>
          <p:nvSpPr>
            <p:cNvPr id="387" name="Line 7"/>
            <p:cNvSpPr/>
            <p:nvPr/>
          </p:nvSpPr>
          <p:spPr>
            <a:xfrm flipV="1">
              <a:off x="5652720" y="1916280"/>
              <a:ext cx="1093680" cy="16516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Arc 8"/>
            <p:cNvSpPr/>
            <p:nvPr/>
          </p:nvSpPr>
          <p:spPr>
            <a:xfrm flipH="1">
              <a:off x="2010600" y="3312000"/>
              <a:ext cx="3642120" cy="1328400"/>
            </a:xfrm>
            <a:prstGeom prst="pie">
              <a:avLst/>
            </a:pr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9" name="Rectangle 9"/>
          <p:cNvSpPr/>
          <p:nvPr/>
        </p:nvSpPr>
        <p:spPr>
          <a:xfrm>
            <a:off x="2011320" y="4956120"/>
            <a:ext cx="5519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8240"/>
                <a:tab algn="l" pos="3878280"/>
                <a:tab algn="l" pos="4846680"/>
                <a:tab algn="l" pos="5816520"/>
                <a:tab algn="l" pos="684540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                      Deploy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0"/>
          <p:cNvSpPr/>
          <p:nvPr/>
        </p:nvSpPr>
        <p:spPr>
          <a:xfrm flipH="1">
            <a:off x="2004480" y="1940040"/>
            <a:ext cx="3240" cy="272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2011320" y="4649760"/>
            <a:ext cx="523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359000" y="3144960"/>
            <a:ext cx="654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13"/>
          <p:cNvSpPr/>
          <p:nvPr/>
        </p:nvSpPr>
        <p:spPr>
          <a:xfrm>
            <a:off x="4699080" y="47815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14"/>
          <p:cNvSpPr/>
          <p:nvPr/>
        </p:nvSpPr>
        <p:spPr>
          <a:xfrm flipH="1">
            <a:off x="2006280" y="47815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16"/>
          <p:cNvSpPr/>
          <p:nvPr/>
        </p:nvSpPr>
        <p:spPr>
          <a:xfrm flipV="1">
            <a:off x="6172200" y="287604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684360" y="2492280"/>
            <a:ext cx="7416720" cy="187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براي رسيدن به يك نر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با كيفيت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قابل قبو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بايد فرآيند تشخيص كيفيت به صورت مستمر و پيوسته از همان مراحل اوليه توليد نر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به اجرا درآي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181A-5A19-4FD6-A25C-E2AA701E5AC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ررسي كيفيت نرم‌افزار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ويژگي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رآيند تشخيص روند پيشرفت پروژه مبتني بر واقع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، نه بر حدس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 و محاسبات كاغذي خواهد بو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ين فرآيند ناسازگا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موجود بين نيازم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، طراحي و پيا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ازي را آشكار مي‌ساز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مكان كشف زود هنگام خطاها را به ما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هد و بدين صورت هزينه اصلاح آنها بشدت كاهش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اب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1063-4E99-4D0F-A7FE-016AB69E812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يريت پيكربن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ن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شخيص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زمانده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كنترل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غييرات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ه براي نرم‌افزار در مدت كاركرد خو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از ابتداي توليد تا خارج شدن از عمل) رخ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ي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شكلات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ساسي توليد نرم‌افزار مديريت پيكربندي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ين مشكل بويژه در پروژ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بزرگ كه د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آن تي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متعددي با يكديگر بر روي تكرارها، نشرها، محصولات و سكوهاي متفاوت كار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نند، قابل مشاهده اس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0DE-257E-4BBA-BF05-171A56C72F3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ديريت پيكربند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ويژگيها 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ك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روش سيستماتيك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و قاب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كرار براي كنترل تغييرات نرم‌افزار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نترل انتشار تغييرا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اهش تداخل بين كار توسع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هندگان كه به صورت موازي با هم كار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نن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رخ تغيير معيار مناسبي براي تشخيص وضعيت فعلي پروژه اس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EF07-A1DF-497F-9874-021F81E1560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تدولوژ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ی توسعه نرم افزار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تدولوژ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Heavyweight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اين نوع متدولوژي‌ها معمولاً مستندات، محصولات و فرآورده‌هاي بيشتري توليد مي‌نماي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تدولوژ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بک وزن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ightweight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تاکيد بر توليد محصول نهايي و نه فرآورده‌ها و مستندات بسيار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60F-6FC8-41FC-8C4C-249D4F0E8DF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ي سبک و سنگين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يارهای مقايسه متدولوژ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با يکديگر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عيار موفقي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ندازه پروژ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بک مديري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حوه مستندسازی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چرخ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ندازه تيم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رگشت سرمايه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A2E1-AD9E-47D6-AFB7-35F36ED6C00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روش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بصورت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daptive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يا سازگار عمل  م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کنند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و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ا شرايط منطبق م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بصورت پيشگو يا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edictive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عمل    م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کنند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و سعي مي‌کنن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ر آغاز همه چيز را پي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ينی کنن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258920" y="2349360"/>
            <a:ext cx="6265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آيا همه چيز از ابتدا قابل پيش‌بينی است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5" descr="AMPLAN2"/>
          <p:cNvPicPr/>
          <p:nvPr/>
        </p:nvPicPr>
        <p:blipFill>
          <a:blip r:embed="rId1"/>
          <a:stretch/>
        </p:blipFill>
        <p:spPr>
          <a:xfrm>
            <a:off x="3419640" y="4437000"/>
            <a:ext cx="1341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2A7D-8CDC-4B42-91BC-B4A28BEEDE2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يار موفق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يار موفقيت 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دستيابی به ارزش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کار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usiness Value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معيار موفقيت پي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فتن در راستای طرح اوليه ا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258920" y="2349360"/>
            <a:ext cx="6265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روش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سنگين وزن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 از نظر تغيير در فرآيند توسعه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در حين پروژه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نعطاف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پذيری ندارن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7" descr="TEAMWIN"/>
          <p:cNvPicPr/>
          <p:nvPr/>
        </p:nvPicPr>
        <p:blipFill>
          <a:blip r:embed="rId1"/>
          <a:stretch/>
        </p:blipFill>
        <p:spPr>
          <a:xfrm>
            <a:off x="3348000" y="4437000"/>
            <a:ext cx="22320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67E-2AF0-4ED6-B6C0-D2A188FA7B3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انداز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ندازه پروژه 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کوچک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ندازه پروژه 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م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د بسيار بزرگ باش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826920" y="2349360"/>
            <a:ext cx="7129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ين مسأله از محبوبيت روش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سريع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لانتقال نم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کاه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ahoma"/>
                <a:ea typeface="Nazanin"/>
              </a:rPr>
              <a:t>(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Nazanin"/>
              </a:rPr>
              <a:t>آمار نشان می</a:t>
            </a:r>
            <a:r>
              <a:rPr b="1" lang="fa-IR" sz="24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Nazanin"/>
              </a:rPr>
              <a:t>دهد که تعداد پروژه</a:t>
            </a:r>
            <a:r>
              <a:rPr b="1" lang="fa-IR" sz="24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Nazanin"/>
              </a:rPr>
              <a:t>های کوچک بسيار بيشتر است</a:t>
            </a:r>
            <a:r>
              <a:rPr b="1" lang="fa-IR" sz="2400" spc="-1" strike="noStrike">
                <a:solidFill>
                  <a:srgbClr val="000000"/>
                </a:solidFill>
                <a:latin typeface="Tahoma"/>
                <a:ea typeface="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5" descr="AMWEAK"/>
          <p:cNvPicPr/>
          <p:nvPr/>
        </p:nvPicPr>
        <p:blipFill>
          <a:blip r:embed="rId1"/>
          <a:stretch/>
        </p:blipFill>
        <p:spPr>
          <a:xfrm>
            <a:off x="3492360" y="4508640"/>
            <a:ext cx="19447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2B72-2216-4C9C-BD8A-670C2029ACE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سبک مديريت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ديريت 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بصورت غيرمتمرکز و آزاد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مديريت بصورت مطلق و استبدادی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826920" y="2349360"/>
            <a:ext cx="7129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مديريت غيرمتمرکز امکان تصميم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گيری بهتر را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در حين پروژه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فراهم م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کن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8" descr="AMPOWER"/>
          <p:cNvPicPr/>
          <p:nvPr/>
        </p:nvPicPr>
        <p:blipFill>
          <a:blip r:embed="rId1"/>
          <a:stretch/>
        </p:blipFill>
        <p:spPr>
          <a:xfrm>
            <a:off x="3059280" y="4581360"/>
            <a:ext cx="230328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493C-C065-44B4-B32A-6273ED37278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فرآيند توليد نرم‌افزار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درن توسعه نرم‌افزار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روش‌هاي سنگين و سبک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قدم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 بر فرآيند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D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حورهاي اصل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D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عنوان يك محصول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رفي ابعاد فرآيند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1E97-AF7E-4250-86DD-DD9419D9F68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ستندسازی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ستندسازی 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بصورت بسيار محدود انجام م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مستندسازی بصورت کامل و جامع انجام م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826920" y="2349360"/>
            <a:ext cx="7129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در بسياری از موارد مستندسازي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سنگين, کار بسيار دشوار و زمانبری اس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5" descr="AMBUSY"/>
          <p:cNvPicPr/>
          <p:nvPr/>
        </p:nvPicPr>
        <p:blipFill>
          <a:blip r:embed="rId1"/>
          <a:stretch/>
        </p:blipFill>
        <p:spPr>
          <a:xfrm>
            <a:off x="3419640" y="4508640"/>
            <a:ext cx="16333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DAC-47CA-4F96-A1E8-B3EDFFEFACC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چرخ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عداد چرخ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ycles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بسيار زياد است اما زمان آنها کوتا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ه 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تعداد چرخ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کم است ولی زمان آنها بسيار زياد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826920" y="2349360"/>
            <a:ext cx="7129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زمانبر بودن چرخه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توليد, موجب طولانی شدن زمان انتظار برای رسيدن به نشرها می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شو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5" descr="AMADJUST"/>
          <p:cNvPicPr/>
          <p:nvPr/>
        </p:nvPicPr>
        <p:blipFill>
          <a:blip r:embed="rId1"/>
          <a:stretch/>
        </p:blipFill>
        <p:spPr>
          <a:xfrm>
            <a:off x="3348000" y="4508640"/>
            <a:ext cx="2303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C61-FFAD-4D0E-9806-8B6A1A62B90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ندازه تيم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اندازه تيم کوچک است (بين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تا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30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نفر)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اندازه تيم توسعه بزرگ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826920" y="2349360"/>
            <a:ext cx="7129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خلاقيت و همکاری در تيم کوچک بسيار بيشتر خواهد بو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Picture 5" descr="CAROLERS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154-707A-47BB-98C2-D4B4363FC31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تدولوژي‌ها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رگشت سرمايه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ريع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لانتقال سرمايه خيلی زود در طول پروژه    بر می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رد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ی سنگين وزن برای برگشت سرمايه بايد تا انتهای پروژه صبر ک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826920" y="2349360"/>
            <a:ext cx="7129800" cy="1800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روش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های سريع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لانتقال از لحاظ اقتصادی بصرفه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ن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5" descr="AMMONEY"/>
          <p:cNvPicPr/>
          <p:nvPr/>
        </p:nvPicPr>
        <p:blipFill>
          <a:blip r:embed="rId1"/>
          <a:stretch/>
        </p:blipFill>
        <p:spPr>
          <a:xfrm>
            <a:off x="3132000" y="4724280"/>
            <a:ext cx="22813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D775-AFF9-431E-B1D9-7A7BDC6F34F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SDP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يک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رآيند توليد مهندسي نرم‌افزار است كه رو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ي 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منظ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يستماتيك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ر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رتيب انجام فعاليت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ر يك پروژه نرم‌افزاري را پيشنهاد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ما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84400" indent="-28440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اراي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چارچوب فرآين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cess Framework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16680" indent="-2372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مه عناصر لازم براي توليد محصولات نرم‌افزاري از سيست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سنتي و معمولي گرفته تا سيست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هوشمند و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سيستم‌هاي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طلاعاتي بزرگ را دربردا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826920" y="2781360"/>
            <a:ext cx="7129800" cy="1800000"/>
          </a:xfrm>
          <a:prstGeom prst="rect">
            <a:avLst/>
          </a:prstGeom>
          <a:solidFill>
            <a:srgbClr val="99ccff"/>
          </a:solidFill>
          <a:ln w="19080">
            <a:solidFill>
              <a:srgbClr val="4b4e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فرآين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P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Nazanin"/>
              </a:rPr>
              <a:t>از مدل شي‌گرايي حمايت نموده و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پايه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Nazanin"/>
              </a:rPr>
              <a:t> روش‌هاي مدرن توسعه نرم‌افزار </a:t>
            </a:r>
            <a:r>
              <a:rPr b="1" lang="fa-IR" sz="2800" spc="-1" strike="noStrike">
                <a:solidFill>
                  <a:srgbClr val="000000"/>
                </a:solidFill>
                <a:latin typeface="Tahoma"/>
                <a:cs typeface="Nazanin"/>
              </a:rPr>
              <a:t>است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72D8-9328-4F1B-AE06-D24C9894984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حورهاي اصل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SD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سه محور اصل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DP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اهبري بر مبناي موارد كارب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se-Case Driven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حوريت قرار دادن معما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Architecture Centric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ستفاده از روش تكرار و توسعه تدريج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terative and Incremental Development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D382-5BC8-4A15-8756-33DB165BE4F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هبري بر مبناي موارد كاربري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ورد كاربري عبارت از دنبال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 از عمليات است كه يك سيستم انجا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د تا يك نتيجه قابل مشاهده و ارزشمند براي كاربر فراهم نما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AutoShape 5"/>
          <p:cNvSpPr/>
          <p:nvPr/>
        </p:nvSpPr>
        <p:spPr>
          <a:xfrm>
            <a:off x="5322960" y="4067280"/>
            <a:ext cx="685800" cy="485640"/>
          </a:xfrm>
          <a:prstGeom prst="leftArrow">
            <a:avLst>
              <a:gd name="adj1" fmla="val 60787"/>
              <a:gd name="adj2" fmla="val 4903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755640" y="3789360"/>
            <a:ext cx="4262400" cy="1519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سيستم بايد چه عملكردهايي از خود را  نشان دهد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372360" y="408132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نگرش سنت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AutoShape 9"/>
          <p:cNvSpPr/>
          <p:nvPr/>
        </p:nvSpPr>
        <p:spPr>
          <a:xfrm>
            <a:off x="5253120" y="5435640"/>
            <a:ext cx="685800" cy="485640"/>
          </a:xfrm>
          <a:prstGeom prst="leftArrow">
            <a:avLst>
              <a:gd name="adj1" fmla="val 60787"/>
              <a:gd name="adj2" fmla="val 4903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755640" y="5157720"/>
            <a:ext cx="4267080" cy="1519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سيستم، به ازاي هر كاربر، بايد چه عملكردهايي از خود را  نشان دهد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6372360" y="5230800"/>
            <a:ext cx="21603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نگرش مبتني بر موارد كاربر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5D12-A3AE-4BB6-B158-168436D7ABD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هبري بر مبناي موارد كاربر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395280" y="1852560"/>
            <a:ext cx="1143360" cy="1069200"/>
            <a:chOff x="395280" y="1852560"/>
            <a:chExt cx="1143360" cy="1069200"/>
          </a:xfrm>
        </p:grpSpPr>
        <p:sp>
          <p:nvSpPr>
            <p:cNvPr id="471" name="Rectangle 5"/>
            <p:cNvSpPr/>
            <p:nvPr/>
          </p:nvSpPr>
          <p:spPr>
            <a:xfrm>
              <a:off x="430200" y="2415960"/>
              <a:ext cx="11084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Use-Case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395280" y="1852560"/>
              <a:ext cx="1028520" cy="501480"/>
              <a:chOff x="395280" y="1852560"/>
              <a:chExt cx="1028520" cy="501480"/>
            </a:xfrm>
          </p:grpSpPr>
          <p:sp>
            <p:nvSpPr>
              <p:cNvPr id="473" name="Line 7"/>
              <p:cNvSpPr/>
              <p:nvPr/>
            </p:nvSpPr>
            <p:spPr>
              <a:xfrm>
                <a:off x="877680" y="2055600"/>
                <a:ext cx="60480" cy="4932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Line 8"/>
              <p:cNvSpPr/>
              <p:nvPr/>
            </p:nvSpPr>
            <p:spPr>
              <a:xfrm flipH="1">
                <a:off x="1090080" y="2055600"/>
                <a:ext cx="57240" cy="4932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Line 9"/>
              <p:cNvSpPr/>
              <p:nvPr/>
            </p:nvSpPr>
            <p:spPr>
              <a:xfrm>
                <a:off x="574560" y="1952640"/>
                <a:ext cx="24300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Freeform 10"/>
              <p:cNvSpPr/>
              <p:nvPr/>
            </p:nvSpPr>
            <p:spPr>
              <a:xfrm>
                <a:off x="836640" y="1887480"/>
                <a:ext cx="347400" cy="144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Freeform 11"/>
              <p:cNvSpPr/>
              <p:nvPr/>
            </p:nvSpPr>
            <p:spPr>
              <a:xfrm>
                <a:off x="836640" y="1887480"/>
                <a:ext cx="347400" cy="1443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12"/>
              <p:cNvSpPr/>
              <p:nvPr/>
            </p:nvSpPr>
            <p:spPr>
              <a:xfrm flipV="1">
                <a:off x="774720" y="2042640"/>
                <a:ext cx="163440" cy="1954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Freeform 13"/>
              <p:cNvSpPr/>
              <p:nvPr/>
            </p:nvSpPr>
            <p:spPr>
              <a:xfrm>
                <a:off x="873000" y="2028600"/>
                <a:ext cx="84240" cy="334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Freeform 14"/>
              <p:cNvSpPr/>
              <p:nvPr/>
            </p:nvSpPr>
            <p:spPr>
              <a:xfrm>
                <a:off x="930240" y="2031840"/>
                <a:ext cx="27000" cy="763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Line 15"/>
              <p:cNvSpPr/>
              <p:nvPr/>
            </p:nvSpPr>
            <p:spPr>
              <a:xfrm flipH="1" flipV="1">
                <a:off x="1085400" y="2042640"/>
                <a:ext cx="182520" cy="2062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2" name="Freeform 16"/>
              <p:cNvSpPr/>
              <p:nvPr/>
            </p:nvSpPr>
            <p:spPr>
              <a:xfrm>
                <a:off x="1066680" y="2028600"/>
                <a:ext cx="31680" cy="795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Freeform 17"/>
              <p:cNvSpPr/>
              <p:nvPr/>
            </p:nvSpPr>
            <p:spPr>
              <a:xfrm>
                <a:off x="1074600" y="2028600"/>
                <a:ext cx="76320" cy="334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Freeform 18"/>
              <p:cNvSpPr/>
              <p:nvPr/>
            </p:nvSpPr>
            <p:spPr>
              <a:xfrm>
                <a:off x="1074600" y="2189160"/>
                <a:ext cx="349200" cy="144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" name="Freeform 19"/>
              <p:cNvSpPr/>
              <p:nvPr/>
            </p:nvSpPr>
            <p:spPr>
              <a:xfrm>
                <a:off x="1074600" y="2189160"/>
                <a:ext cx="349200" cy="1443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Freeform 20"/>
              <p:cNvSpPr/>
              <p:nvPr/>
            </p:nvSpPr>
            <p:spPr>
              <a:xfrm>
                <a:off x="596880" y="2189160"/>
                <a:ext cx="349200" cy="144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7" name="Freeform 21"/>
              <p:cNvSpPr/>
              <p:nvPr/>
            </p:nvSpPr>
            <p:spPr>
              <a:xfrm>
                <a:off x="596880" y="2189160"/>
                <a:ext cx="349200" cy="1443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" name="Freeform 22"/>
              <p:cNvSpPr/>
              <p:nvPr/>
            </p:nvSpPr>
            <p:spPr>
              <a:xfrm>
                <a:off x="804600" y="1857240"/>
                <a:ext cx="349560" cy="14472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" name="Freeform 23"/>
              <p:cNvSpPr/>
              <p:nvPr/>
            </p:nvSpPr>
            <p:spPr>
              <a:xfrm>
                <a:off x="804600" y="1857240"/>
                <a:ext cx="349560" cy="1447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" name="Line 24"/>
              <p:cNvSpPr/>
              <p:nvPr/>
            </p:nvSpPr>
            <p:spPr>
              <a:xfrm flipV="1">
                <a:off x="744480" y="2017440"/>
                <a:ext cx="166680" cy="190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1" name="Freeform 25"/>
              <p:cNvSpPr/>
              <p:nvPr/>
            </p:nvSpPr>
            <p:spPr>
              <a:xfrm>
                <a:off x="842760" y="1998720"/>
                <a:ext cx="8424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Freeform 26"/>
              <p:cNvSpPr/>
              <p:nvPr/>
            </p:nvSpPr>
            <p:spPr>
              <a:xfrm>
                <a:off x="900000" y="2004840"/>
                <a:ext cx="2700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3" name="Freeform 27"/>
              <p:cNvSpPr/>
              <p:nvPr/>
            </p:nvSpPr>
            <p:spPr>
              <a:xfrm>
                <a:off x="1044360" y="2157480"/>
                <a:ext cx="349200" cy="14580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Freeform 28"/>
              <p:cNvSpPr/>
              <p:nvPr/>
            </p:nvSpPr>
            <p:spPr>
              <a:xfrm>
                <a:off x="1044360" y="2157480"/>
                <a:ext cx="349200" cy="145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5" name="Freeform 29"/>
              <p:cNvSpPr/>
              <p:nvPr/>
            </p:nvSpPr>
            <p:spPr>
              <a:xfrm>
                <a:off x="566640" y="2157480"/>
                <a:ext cx="349200" cy="14580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Freeform 30"/>
              <p:cNvSpPr/>
              <p:nvPr/>
            </p:nvSpPr>
            <p:spPr>
              <a:xfrm>
                <a:off x="566640" y="2157480"/>
                <a:ext cx="349200" cy="145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Freeform 31"/>
              <p:cNvSpPr/>
              <p:nvPr/>
            </p:nvSpPr>
            <p:spPr>
              <a:xfrm>
                <a:off x="460080" y="1852560"/>
                <a:ext cx="79560" cy="81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Freeform 32"/>
              <p:cNvSpPr/>
              <p:nvPr/>
            </p:nvSpPr>
            <p:spPr>
              <a:xfrm>
                <a:off x="460080" y="1852560"/>
                <a:ext cx="79560" cy="81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9" name="Line 33"/>
              <p:cNvSpPr/>
              <p:nvPr/>
            </p:nvSpPr>
            <p:spPr>
              <a:xfrm>
                <a:off x="449280" y="1952640"/>
                <a:ext cx="10620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Freeform 34"/>
              <p:cNvSpPr/>
              <p:nvPr/>
            </p:nvSpPr>
            <p:spPr>
              <a:xfrm>
                <a:off x="419040" y="1933560"/>
                <a:ext cx="82440" cy="1476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Line 35"/>
              <p:cNvSpPr/>
              <p:nvPr/>
            </p:nvSpPr>
            <p:spPr>
              <a:xfrm>
                <a:off x="501480" y="2001960"/>
                <a:ext cx="79560" cy="792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Freeform 36"/>
              <p:cNvSpPr/>
              <p:nvPr/>
            </p:nvSpPr>
            <p:spPr>
              <a:xfrm>
                <a:off x="438120" y="2278080"/>
                <a:ext cx="79200" cy="7596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Freeform 37"/>
              <p:cNvSpPr/>
              <p:nvPr/>
            </p:nvSpPr>
            <p:spPr>
              <a:xfrm>
                <a:off x="438120" y="2278080"/>
                <a:ext cx="79200" cy="759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Line 38"/>
              <p:cNvSpPr/>
              <p:nvPr/>
            </p:nvSpPr>
            <p:spPr>
              <a:xfrm>
                <a:off x="422280" y="1925640"/>
                <a:ext cx="1094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Freeform 39"/>
              <p:cNvSpPr/>
              <p:nvPr/>
            </p:nvSpPr>
            <p:spPr>
              <a:xfrm>
                <a:off x="395280" y="1906560"/>
                <a:ext cx="81000" cy="1490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Line 40"/>
              <p:cNvSpPr/>
              <p:nvPr/>
            </p:nvSpPr>
            <p:spPr>
              <a:xfrm>
                <a:off x="476280" y="1974960"/>
                <a:ext cx="82440" cy="806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Line 41"/>
              <p:cNvSpPr/>
              <p:nvPr/>
            </p:nvSpPr>
            <p:spPr>
              <a:xfrm>
                <a:off x="547560" y="1933560"/>
                <a:ext cx="246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Line 42"/>
              <p:cNvSpPr/>
              <p:nvPr/>
            </p:nvSpPr>
            <p:spPr>
              <a:xfrm>
                <a:off x="850680" y="2023920"/>
                <a:ext cx="57240" cy="540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Line 43"/>
              <p:cNvSpPr/>
              <p:nvPr/>
            </p:nvSpPr>
            <p:spPr>
              <a:xfrm flipH="1">
                <a:off x="1055520" y="2023920"/>
                <a:ext cx="60480" cy="540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Freeform 44"/>
              <p:cNvSpPr/>
              <p:nvPr/>
            </p:nvSpPr>
            <p:spPr>
              <a:xfrm>
                <a:off x="861840" y="2017800"/>
                <a:ext cx="4608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Freeform 45"/>
              <p:cNvSpPr/>
              <p:nvPr/>
            </p:nvSpPr>
            <p:spPr>
              <a:xfrm>
                <a:off x="861840" y="2017800"/>
                <a:ext cx="46080" cy="41040"/>
              </a:xfrm>
              <a:prstGeom prst="pie">
                <a:avLst/>
              </a:prstGeom>
              <a:noFill/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Freeform 46"/>
              <p:cNvSpPr/>
              <p:nvPr/>
            </p:nvSpPr>
            <p:spPr>
              <a:xfrm>
                <a:off x="915840" y="2039760"/>
                <a:ext cx="30240" cy="604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Freeform 47"/>
              <p:cNvSpPr/>
              <p:nvPr/>
            </p:nvSpPr>
            <p:spPr>
              <a:xfrm>
                <a:off x="915840" y="2039760"/>
                <a:ext cx="30240" cy="6048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Freeform 48"/>
              <p:cNvSpPr/>
              <p:nvPr/>
            </p:nvSpPr>
            <p:spPr>
              <a:xfrm>
                <a:off x="1079280" y="2043000"/>
                <a:ext cx="6372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Freeform 49"/>
              <p:cNvSpPr/>
              <p:nvPr/>
            </p:nvSpPr>
            <p:spPr>
              <a:xfrm>
                <a:off x="1079280" y="2043000"/>
                <a:ext cx="6372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Line 50"/>
              <p:cNvSpPr/>
              <p:nvPr/>
            </p:nvSpPr>
            <p:spPr>
              <a:xfrm flipH="1" flipV="1">
                <a:off x="1055520" y="2017800"/>
                <a:ext cx="125280" cy="1396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Freeform 51"/>
              <p:cNvSpPr/>
              <p:nvPr/>
            </p:nvSpPr>
            <p:spPr>
              <a:xfrm>
                <a:off x="1041120" y="1998720"/>
                <a:ext cx="255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Freeform 52"/>
              <p:cNvSpPr/>
              <p:nvPr/>
            </p:nvSpPr>
            <p:spPr>
              <a:xfrm>
                <a:off x="1044360" y="1998720"/>
                <a:ext cx="7632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Freeform 53"/>
              <p:cNvSpPr/>
              <p:nvPr/>
            </p:nvSpPr>
            <p:spPr>
              <a:xfrm>
                <a:off x="1060200" y="2020680"/>
                <a:ext cx="38160" cy="38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Freeform 54"/>
              <p:cNvSpPr/>
              <p:nvPr/>
            </p:nvSpPr>
            <p:spPr>
              <a:xfrm>
                <a:off x="1060200" y="2020680"/>
                <a:ext cx="38160" cy="38160"/>
              </a:xfrm>
              <a:prstGeom prst="pie">
                <a:avLst/>
              </a:prstGeom>
              <a:noFill/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21" name="Group 55"/>
          <p:cNvGrpSpPr/>
          <p:nvPr/>
        </p:nvGrpSpPr>
        <p:grpSpPr>
          <a:xfrm>
            <a:off x="3904200" y="4441680"/>
            <a:ext cx="1680120" cy="1193400"/>
            <a:chOff x="3904200" y="4441680"/>
            <a:chExt cx="1680120" cy="1193400"/>
          </a:xfrm>
        </p:grpSpPr>
        <p:sp>
          <p:nvSpPr>
            <p:cNvPr id="522" name="Rectangle 56"/>
            <p:cNvSpPr/>
            <p:nvPr/>
          </p:nvSpPr>
          <p:spPr>
            <a:xfrm>
              <a:off x="3904200" y="5129280"/>
              <a:ext cx="168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Implementation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3" name="Group 57"/>
            <p:cNvGrpSpPr/>
            <p:nvPr/>
          </p:nvGrpSpPr>
          <p:grpSpPr>
            <a:xfrm>
              <a:off x="4586040" y="4441680"/>
              <a:ext cx="994320" cy="554040"/>
              <a:chOff x="4586040" y="4441680"/>
              <a:chExt cx="994320" cy="554040"/>
            </a:xfrm>
          </p:grpSpPr>
          <p:sp>
            <p:nvSpPr>
              <p:cNvPr id="524" name="Freeform 58"/>
              <p:cNvSpPr/>
              <p:nvPr/>
            </p:nvSpPr>
            <p:spPr>
              <a:xfrm>
                <a:off x="4586040" y="4603680"/>
                <a:ext cx="90360" cy="190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Freeform 59"/>
              <p:cNvSpPr/>
              <p:nvPr/>
            </p:nvSpPr>
            <p:spPr>
              <a:xfrm>
                <a:off x="4586040" y="4603680"/>
                <a:ext cx="90360" cy="190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Freeform 60"/>
              <p:cNvSpPr/>
              <p:nvPr/>
            </p:nvSpPr>
            <p:spPr>
              <a:xfrm>
                <a:off x="4586040" y="4641840"/>
                <a:ext cx="90360" cy="190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Freeform 61"/>
              <p:cNvSpPr/>
              <p:nvPr/>
            </p:nvSpPr>
            <p:spPr>
              <a:xfrm>
                <a:off x="4586040" y="4641840"/>
                <a:ext cx="90360" cy="190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Rectangle 62"/>
              <p:cNvSpPr/>
              <p:nvPr/>
            </p:nvSpPr>
            <p:spPr>
              <a:xfrm>
                <a:off x="4593600" y="4573440"/>
                <a:ext cx="71280" cy="1908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9" name="Rectangle 63"/>
              <p:cNvSpPr/>
              <p:nvPr/>
            </p:nvSpPr>
            <p:spPr>
              <a:xfrm>
                <a:off x="4593600" y="4573440"/>
                <a:ext cx="71280" cy="1908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0" name="Group 64"/>
              <p:cNvGrpSpPr/>
              <p:nvPr/>
            </p:nvGrpSpPr>
            <p:grpSpPr>
              <a:xfrm>
                <a:off x="4604760" y="4441680"/>
                <a:ext cx="975600" cy="554040"/>
                <a:chOff x="4604760" y="4441680"/>
                <a:chExt cx="975600" cy="554040"/>
              </a:xfrm>
            </p:grpSpPr>
            <p:sp>
              <p:nvSpPr>
                <p:cNvPr id="531" name="Line 65"/>
                <p:cNvSpPr/>
                <p:nvPr/>
              </p:nvSpPr>
              <p:spPr>
                <a:xfrm flipV="1">
                  <a:off x="4812480" y="4528800"/>
                  <a:ext cx="215640" cy="8244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66"/>
                <p:cNvSpPr/>
                <p:nvPr/>
              </p:nvSpPr>
              <p:spPr>
                <a:xfrm flipH="1">
                  <a:off x="5058360" y="4630680"/>
                  <a:ext cx="41040" cy="21132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67"/>
                <p:cNvSpPr/>
                <p:nvPr/>
              </p:nvSpPr>
              <p:spPr>
                <a:xfrm>
                  <a:off x="4798080" y="4732200"/>
                  <a:ext cx="142560" cy="10980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68"/>
                <p:cNvSpPr/>
                <p:nvPr/>
              </p:nvSpPr>
              <p:spPr>
                <a:xfrm flipV="1">
                  <a:off x="5137920" y="4844520"/>
                  <a:ext cx="163080" cy="79560"/>
                </a:xfrm>
                <a:prstGeom prst="line">
                  <a:avLst/>
                </a:prstGeom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Rectangle 69"/>
                <p:cNvSpPr/>
                <p:nvPr/>
              </p:nvSpPr>
              <p:spPr>
                <a:xfrm>
                  <a:off x="5342760" y="4701960"/>
                  <a:ext cx="128160" cy="1130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6" name="Rectangle 70"/>
                <p:cNvSpPr/>
                <p:nvPr/>
              </p:nvSpPr>
              <p:spPr>
                <a:xfrm>
                  <a:off x="5342760" y="4701960"/>
                  <a:ext cx="128160" cy="11304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7" name="Freeform 71"/>
                <p:cNvSpPr/>
                <p:nvPr/>
              </p:nvSpPr>
              <p:spPr>
                <a:xfrm>
                  <a:off x="5301360" y="474660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8" name="Freeform 72"/>
                <p:cNvSpPr/>
                <p:nvPr/>
              </p:nvSpPr>
              <p:spPr>
                <a:xfrm>
                  <a:off x="5301360" y="474660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9" name="Freeform 73"/>
                <p:cNvSpPr/>
                <p:nvPr/>
              </p:nvSpPr>
              <p:spPr>
                <a:xfrm>
                  <a:off x="5301360" y="478476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0" name="Freeform 74"/>
                <p:cNvSpPr/>
                <p:nvPr/>
              </p:nvSpPr>
              <p:spPr>
                <a:xfrm>
                  <a:off x="5301360" y="478476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Rectangle 75"/>
                <p:cNvSpPr/>
                <p:nvPr/>
              </p:nvSpPr>
              <p:spPr>
                <a:xfrm>
                  <a:off x="5309280" y="4713120"/>
                  <a:ext cx="71280" cy="223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2" name="Rectangle 76"/>
                <p:cNvSpPr/>
                <p:nvPr/>
              </p:nvSpPr>
              <p:spPr>
                <a:xfrm>
                  <a:off x="5309280" y="4713120"/>
                  <a:ext cx="71280" cy="2232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3" name="Rectangle 77"/>
                <p:cNvSpPr/>
                <p:nvPr/>
              </p:nvSpPr>
              <p:spPr>
                <a:xfrm>
                  <a:off x="5085360" y="4464000"/>
                  <a:ext cx="131400" cy="117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4" name="Rectangle 78"/>
                <p:cNvSpPr/>
                <p:nvPr/>
              </p:nvSpPr>
              <p:spPr>
                <a:xfrm>
                  <a:off x="5085360" y="4464000"/>
                  <a:ext cx="131400" cy="11736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5" name="Freeform 79"/>
                <p:cNvSpPr/>
                <p:nvPr/>
              </p:nvSpPr>
              <p:spPr>
                <a:xfrm>
                  <a:off x="5047560" y="451008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6" name="Freeform 80"/>
                <p:cNvSpPr/>
                <p:nvPr/>
              </p:nvSpPr>
              <p:spPr>
                <a:xfrm>
                  <a:off x="5047560" y="451008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7" name="Freeform 81"/>
                <p:cNvSpPr/>
                <p:nvPr/>
              </p:nvSpPr>
              <p:spPr>
                <a:xfrm>
                  <a:off x="5047560" y="4546440"/>
                  <a:ext cx="9000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8" name="Freeform 82"/>
                <p:cNvSpPr/>
                <p:nvPr/>
              </p:nvSpPr>
              <p:spPr>
                <a:xfrm>
                  <a:off x="5047560" y="454644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9" name="Rectangle 83"/>
                <p:cNvSpPr/>
                <p:nvPr/>
              </p:nvSpPr>
              <p:spPr>
                <a:xfrm>
                  <a:off x="5055480" y="4475160"/>
                  <a:ext cx="70920" cy="237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0" name="Rectangle 84"/>
                <p:cNvSpPr/>
                <p:nvPr/>
              </p:nvSpPr>
              <p:spPr>
                <a:xfrm>
                  <a:off x="5055480" y="4475160"/>
                  <a:ext cx="70920" cy="2376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Rectangle 85"/>
                <p:cNvSpPr/>
                <p:nvPr/>
              </p:nvSpPr>
              <p:spPr>
                <a:xfrm>
                  <a:off x="4645800" y="4581360"/>
                  <a:ext cx="132840" cy="1159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2" name="Rectangle 86"/>
                <p:cNvSpPr/>
                <p:nvPr/>
              </p:nvSpPr>
              <p:spPr>
                <a:xfrm>
                  <a:off x="4645800" y="4581360"/>
                  <a:ext cx="132840" cy="11592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3" name="Freeform 87"/>
                <p:cNvSpPr/>
                <p:nvPr/>
              </p:nvSpPr>
              <p:spPr>
                <a:xfrm>
                  <a:off x="4604760" y="4626000"/>
                  <a:ext cx="9036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88"/>
                <p:cNvSpPr/>
                <p:nvPr/>
              </p:nvSpPr>
              <p:spPr>
                <a:xfrm>
                  <a:off x="4604760" y="4626000"/>
                  <a:ext cx="9036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5" name="Freeform 89"/>
                <p:cNvSpPr/>
                <p:nvPr/>
              </p:nvSpPr>
              <p:spPr>
                <a:xfrm>
                  <a:off x="4604760" y="4664160"/>
                  <a:ext cx="90360" cy="19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6" name="Freeform 90"/>
                <p:cNvSpPr/>
                <p:nvPr/>
              </p:nvSpPr>
              <p:spPr>
                <a:xfrm>
                  <a:off x="4604760" y="4664160"/>
                  <a:ext cx="90360" cy="1908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7" name="Rectangle 91"/>
                <p:cNvSpPr/>
                <p:nvPr/>
              </p:nvSpPr>
              <p:spPr>
                <a:xfrm>
                  <a:off x="4615560" y="4595760"/>
                  <a:ext cx="68040" cy="19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8" name="Rectangle 92"/>
                <p:cNvSpPr/>
                <p:nvPr/>
              </p:nvSpPr>
              <p:spPr>
                <a:xfrm>
                  <a:off x="4615560" y="4595760"/>
                  <a:ext cx="68040" cy="1908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Rectangle 93"/>
                <p:cNvSpPr/>
                <p:nvPr/>
              </p:nvSpPr>
              <p:spPr>
                <a:xfrm>
                  <a:off x="4968000" y="4878360"/>
                  <a:ext cx="131400" cy="117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0" name="Rectangle 94"/>
                <p:cNvSpPr/>
                <p:nvPr/>
              </p:nvSpPr>
              <p:spPr>
                <a:xfrm>
                  <a:off x="4968000" y="4878360"/>
                  <a:ext cx="131400" cy="11736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1" name="Freeform 95"/>
                <p:cNvSpPr/>
                <p:nvPr/>
              </p:nvSpPr>
              <p:spPr>
                <a:xfrm>
                  <a:off x="4926600" y="4924440"/>
                  <a:ext cx="90360" cy="223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2" name="Freeform 96"/>
                <p:cNvSpPr/>
                <p:nvPr/>
              </p:nvSpPr>
              <p:spPr>
                <a:xfrm>
                  <a:off x="4926600" y="4924440"/>
                  <a:ext cx="90360" cy="2232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3" name="Freeform 97"/>
                <p:cNvSpPr/>
                <p:nvPr/>
              </p:nvSpPr>
              <p:spPr>
                <a:xfrm>
                  <a:off x="4926600" y="4962600"/>
                  <a:ext cx="90360" cy="2196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4" name="Freeform 98"/>
                <p:cNvSpPr/>
                <p:nvPr/>
              </p:nvSpPr>
              <p:spPr>
                <a:xfrm>
                  <a:off x="4926600" y="4962600"/>
                  <a:ext cx="90360" cy="21960"/>
                </a:xfrm>
                <a:prstGeom prst="pie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5" name="Rectangle 99"/>
                <p:cNvSpPr/>
                <p:nvPr/>
              </p:nvSpPr>
              <p:spPr>
                <a:xfrm>
                  <a:off x="4937760" y="4894200"/>
                  <a:ext cx="68040" cy="19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6" name="Rectangle 100"/>
                <p:cNvSpPr/>
                <p:nvPr/>
              </p:nvSpPr>
              <p:spPr>
                <a:xfrm>
                  <a:off x="4937760" y="4894200"/>
                  <a:ext cx="68040" cy="19080"/>
                </a:xfrm>
                <a:prstGeom prst="rect">
                  <a:avLst/>
                </a:prstGeom>
                <a:noFill/>
                <a:ln cap="sq"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101"/>
                <p:cNvSpPr/>
                <p:nvPr/>
              </p:nvSpPr>
              <p:spPr>
                <a:xfrm flipV="1">
                  <a:off x="4793400" y="4505040"/>
                  <a:ext cx="215640" cy="838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102"/>
                <p:cNvSpPr/>
                <p:nvPr/>
              </p:nvSpPr>
              <p:spPr>
                <a:xfrm flipH="1">
                  <a:off x="5036400" y="4606920"/>
                  <a:ext cx="43920" cy="21096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" name="Line 103"/>
                <p:cNvSpPr/>
                <p:nvPr/>
              </p:nvSpPr>
              <p:spPr>
                <a:xfrm>
                  <a:off x="4779000" y="4713120"/>
                  <a:ext cx="139320" cy="10476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0" name="Line 104"/>
                <p:cNvSpPr/>
                <p:nvPr/>
              </p:nvSpPr>
              <p:spPr>
                <a:xfrm flipV="1">
                  <a:off x="5118840" y="4822920"/>
                  <a:ext cx="163080" cy="7920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1" name="Rectangle 105"/>
                <p:cNvSpPr/>
                <p:nvPr/>
              </p:nvSpPr>
              <p:spPr>
                <a:xfrm>
                  <a:off x="5320440" y="4680000"/>
                  <a:ext cx="131400" cy="11268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2" name="Rectangle 106"/>
                <p:cNvSpPr/>
                <p:nvPr/>
              </p:nvSpPr>
              <p:spPr>
                <a:xfrm>
                  <a:off x="5320440" y="4680000"/>
                  <a:ext cx="131400" cy="11268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3" name="Freeform 107"/>
                <p:cNvSpPr/>
                <p:nvPr/>
              </p:nvSpPr>
              <p:spPr>
                <a:xfrm>
                  <a:off x="5277600" y="4724280"/>
                  <a:ext cx="918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4" name="Freeform 108"/>
                <p:cNvSpPr/>
                <p:nvPr/>
              </p:nvSpPr>
              <p:spPr>
                <a:xfrm>
                  <a:off x="5277600" y="4724280"/>
                  <a:ext cx="918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5" name="Freeform 109"/>
                <p:cNvSpPr/>
                <p:nvPr/>
              </p:nvSpPr>
              <p:spPr>
                <a:xfrm>
                  <a:off x="5277600" y="4762440"/>
                  <a:ext cx="918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6" name="Freeform 110"/>
                <p:cNvSpPr/>
                <p:nvPr/>
              </p:nvSpPr>
              <p:spPr>
                <a:xfrm>
                  <a:off x="5277600" y="4762440"/>
                  <a:ext cx="918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Rectangle 111"/>
                <p:cNvSpPr/>
                <p:nvPr/>
              </p:nvSpPr>
              <p:spPr>
                <a:xfrm>
                  <a:off x="5290200" y="4691160"/>
                  <a:ext cx="68040" cy="2196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8" name="Rectangle 112"/>
                <p:cNvSpPr/>
                <p:nvPr/>
              </p:nvSpPr>
              <p:spPr>
                <a:xfrm>
                  <a:off x="5290200" y="4691160"/>
                  <a:ext cx="68040" cy="2196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9" name="Rectangle 113"/>
                <p:cNvSpPr/>
                <p:nvPr/>
              </p:nvSpPr>
              <p:spPr>
                <a:xfrm>
                  <a:off x="5066280" y="4441680"/>
                  <a:ext cx="131400" cy="11772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0" name="Rectangle 114"/>
                <p:cNvSpPr/>
                <p:nvPr/>
              </p:nvSpPr>
              <p:spPr>
                <a:xfrm>
                  <a:off x="5066280" y="4441680"/>
                  <a:ext cx="131400" cy="11772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1" name="Freeform 115"/>
                <p:cNvSpPr/>
                <p:nvPr/>
              </p:nvSpPr>
              <p:spPr>
                <a:xfrm>
                  <a:off x="5025240" y="4486320"/>
                  <a:ext cx="900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2" name="Freeform 116"/>
                <p:cNvSpPr/>
                <p:nvPr/>
              </p:nvSpPr>
              <p:spPr>
                <a:xfrm>
                  <a:off x="5025240" y="448632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3" name="Freeform 117"/>
                <p:cNvSpPr/>
                <p:nvPr/>
              </p:nvSpPr>
              <p:spPr>
                <a:xfrm>
                  <a:off x="5025240" y="4524480"/>
                  <a:ext cx="90000" cy="1872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4" name="Freeform 118"/>
                <p:cNvSpPr/>
                <p:nvPr/>
              </p:nvSpPr>
              <p:spPr>
                <a:xfrm>
                  <a:off x="5025240" y="4524480"/>
                  <a:ext cx="90000" cy="1872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5" name="Rectangle 119"/>
                <p:cNvSpPr/>
                <p:nvPr/>
              </p:nvSpPr>
              <p:spPr>
                <a:xfrm>
                  <a:off x="5512680" y="4500360"/>
                  <a:ext cx="67680" cy="1908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Rectangle 120"/>
                <p:cNvSpPr/>
                <p:nvPr/>
              </p:nvSpPr>
              <p:spPr>
                <a:xfrm>
                  <a:off x="5036400" y="4456080"/>
                  <a:ext cx="67680" cy="1908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7" name="Rectangle 121"/>
                <p:cNvSpPr/>
                <p:nvPr/>
              </p:nvSpPr>
              <p:spPr>
                <a:xfrm>
                  <a:off x="4626720" y="4559400"/>
                  <a:ext cx="128160" cy="11556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8" name="Rectangle 122"/>
                <p:cNvSpPr/>
                <p:nvPr/>
              </p:nvSpPr>
              <p:spPr>
                <a:xfrm>
                  <a:off x="4626720" y="4559400"/>
                  <a:ext cx="128160" cy="11556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9" name="Rectangle 123"/>
                <p:cNvSpPr/>
                <p:nvPr/>
              </p:nvSpPr>
              <p:spPr>
                <a:xfrm>
                  <a:off x="4948920" y="4856040"/>
                  <a:ext cx="128160" cy="11772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0" name="Rectangle 124"/>
                <p:cNvSpPr/>
                <p:nvPr/>
              </p:nvSpPr>
              <p:spPr>
                <a:xfrm>
                  <a:off x="4948920" y="4856040"/>
                  <a:ext cx="128160" cy="11772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1" name="Freeform 125"/>
                <p:cNvSpPr/>
                <p:nvPr/>
              </p:nvSpPr>
              <p:spPr>
                <a:xfrm>
                  <a:off x="4907880" y="4905360"/>
                  <a:ext cx="900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2" name="Freeform 126"/>
                <p:cNvSpPr/>
                <p:nvPr/>
              </p:nvSpPr>
              <p:spPr>
                <a:xfrm>
                  <a:off x="4907880" y="490536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3" name="Freeform 127"/>
                <p:cNvSpPr/>
                <p:nvPr/>
              </p:nvSpPr>
              <p:spPr>
                <a:xfrm>
                  <a:off x="4907880" y="4943520"/>
                  <a:ext cx="90000" cy="19080"/>
                </a:xfrm>
                <a:prstGeom prst="pi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4" name="Freeform 128"/>
                <p:cNvSpPr/>
                <p:nvPr/>
              </p:nvSpPr>
              <p:spPr>
                <a:xfrm>
                  <a:off x="4907880" y="4943520"/>
                  <a:ext cx="90000" cy="19080"/>
                </a:xfrm>
                <a:prstGeom prst="pie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Rectangle 129"/>
                <p:cNvSpPr/>
                <p:nvPr/>
              </p:nvSpPr>
              <p:spPr>
                <a:xfrm>
                  <a:off x="4914000" y="4871880"/>
                  <a:ext cx="72720" cy="19080"/>
                </a:xfrm>
                <a:prstGeom prst="rect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6" name="Rectangle 130"/>
                <p:cNvSpPr/>
                <p:nvPr/>
              </p:nvSpPr>
              <p:spPr>
                <a:xfrm>
                  <a:off x="4914000" y="4871880"/>
                  <a:ext cx="72720" cy="19080"/>
                </a:xfrm>
                <a:prstGeom prst="rect">
                  <a:avLst/>
                </a:prstGeom>
                <a:noFill/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97" name="Group 131"/>
          <p:cNvGrpSpPr/>
          <p:nvPr/>
        </p:nvGrpSpPr>
        <p:grpSpPr>
          <a:xfrm>
            <a:off x="2833560" y="3784680"/>
            <a:ext cx="1410840" cy="1037520"/>
            <a:chOff x="2833560" y="3784680"/>
            <a:chExt cx="1410840" cy="1037520"/>
          </a:xfrm>
        </p:grpSpPr>
        <p:sp>
          <p:nvSpPr>
            <p:cNvPr id="598" name="Rectangle 132"/>
            <p:cNvSpPr/>
            <p:nvPr/>
          </p:nvSpPr>
          <p:spPr>
            <a:xfrm>
              <a:off x="3384360" y="4316400"/>
              <a:ext cx="860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Design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9" name="Group 133"/>
            <p:cNvGrpSpPr/>
            <p:nvPr/>
          </p:nvGrpSpPr>
          <p:grpSpPr>
            <a:xfrm>
              <a:off x="2833560" y="3784680"/>
              <a:ext cx="1081080" cy="534960"/>
              <a:chOff x="2833560" y="3784680"/>
              <a:chExt cx="1081080" cy="534960"/>
            </a:xfrm>
          </p:grpSpPr>
          <p:sp>
            <p:nvSpPr>
              <p:cNvPr id="600" name="Line 134"/>
              <p:cNvSpPr/>
              <p:nvPr/>
            </p:nvSpPr>
            <p:spPr>
              <a:xfrm flipV="1">
                <a:off x="3073320" y="3867120"/>
                <a:ext cx="285840" cy="842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Line 135"/>
              <p:cNvSpPr/>
              <p:nvPr/>
            </p:nvSpPr>
            <p:spPr>
              <a:xfrm flipH="1">
                <a:off x="3398760" y="3970440"/>
                <a:ext cx="55440" cy="2124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Line 136"/>
              <p:cNvSpPr/>
              <p:nvPr/>
            </p:nvSpPr>
            <p:spPr>
              <a:xfrm>
                <a:off x="3054240" y="4073400"/>
                <a:ext cx="189000" cy="109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Line 137"/>
              <p:cNvSpPr/>
              <p:nvPr/>
            </p:nvSpPr>
            <p:spPr>
              <a:xfrm flipV="1">
                <a:off x="3503520" y="4185720"/>
                <a:ext cx="216000" cy="810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Rectangle 138"/>
              <p:cNvSpPr/>
              <p:nvPr/>
            </p:nvSpPr>
            <p:spPr>
              <a:xfrm>
                <a:off x="2863800" y="3902040"/>
                <a:ext cx="16488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Rectangle 139"/>
              <p:cNvSpPr/>
              <p:nvPr/>
            </p:nvSpPr>
            <p:spPr>
              <a:xfrm>
                <a:off x="2863800" y="3902040"/>
                <a:ext cx="16488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40"/>
              <p:cNvSpPr/>
              <p:nvPr/>
            </p:nvSpPr>
            <p:spPr>
              <a:xfrm>
                <a:off x="2863800" y="394344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Line 141"/>
              <p:cNvSpPr/>
              <p:nvPr/>
            </p:nvSpPr>
            <p:spPr>
              <a:xfrm>
                <a:off x="2863800" y="397044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Rectangle 142"/>
              <p:cNvSpPr/>
              <p:nvPr/>
            </p:nvSpPr>
            <p:spPr>
              <a:xfrm>
                <a:off x="3744720" y="4122720"/>
                <a:ext cx="16992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Rectangle 143"/>
              <p:cNvSpPr/>
              <p:nvPr/>
            </p:nvSpPr>
            <p:spPr>
              <a:xfrm>
                <a:off x="3744720" y="412272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Line 144"/>
              <p:cNvSpPr/>
              <p:nvPr/>
            </p:nvSpPr>
            <p:spPr>
              <a:xfrm>
                <a:off x="3744720" y="4164120"/>
                <a:ext cx="16992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Line 145"/>
              <p:cNvSpPr/>
              <p:nvPr/>
            </p:nvSpPr>
            <p:spPr>
              <a:xfrm>
                <a:off x="3744720" y="4191120"/>
                <a:ext cx="16992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Rectangle 146"/>
              <p:cNvSpPr/>
              <p:nvPr/>
            </p:nvSpPr>
            <p:spPr>
              <a:xfrm>
                <a:off x="3273120" y="4201920"/>
                <a:ext cx="165240" cy="117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Rectangle 147"/>
              <p:cNvSpPr/>
              <p:nvPr/>
            </p:nvSpPr>
            <p:spPr>
              <a:xfrm>
                <a:off x="3273120" y="4201920"/>
                <a:ext cx="165240" cy="1177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Line 148"/>
              <p:cNvSpPr/>
              <p:nvPr/>
            </p:nvSpPr>
            <p:spPr>
              <a:xfrm>
                <a:off x="3273120" y="424332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Line 149"/>
              <p:cNvSpPr/>
              <p:nvPr/>
            </p:nvSpPr>
            <p:spPr>
              <a:xfrm>
                <a:off x="3273120" y="427032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Rectangle 150"/>
              <p:cNvSpPr/>
              <p:nvPr/>
            </p:nvSpPr>
            <p:spPr>
              <a:xfrm>
                <a:off x="3394080" y="3809880"/>
                <a:ext cx="169560" cy="119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Rectangle 151"/>
              <p:cNvSpPr/>
              <p:nvPr/>
            </p:nvSpPr>
            <p:spPr>
              <a:xfrm>
                <a:off x="3394080" y="3809880"/>
                <a:ext cx="169560" cy="1191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Line 152"/>
              <p:cNvSpPr/>
              <p:nvPr/>
            </p:nvSpPr>
            <p:spPr>
              <a:xfrm>
                <a:off x="3394080" y="3852720"/>
                <a:ext cx="16956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Line 153"/>
              <p:cNvSpPr/>
              <p:nvPr/>
            </p:nvSpPr>
            <p:spPr>
              <a:xfrm>
                <a:off x="3394080" y="3879720"/>
                <a:ext cx="16956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Line 154"/>
              <p:cNvSpPr/>
              <p:nvPr/>
            </p:nvSpPr>
            <p:spPr>
              <a:xfrm flipV="1">
                <a:off x="3043080" y="3844800"/>
                <a:ext cx="285840" cy="842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Line 155"/>
              <p:cNvSpPr/>
              <p:nvPr/>
            </p:nvSpPr>
            <p:spPr>
              <a:xfrm flipH="1">
                <a:off x="3368520" y="3948120"/>
                <a:ext cx="55440" cy="2127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Line 156"/>
              <p:cNvSpPr/>
              <p:nvPr/>
            </p:nvSpPr>
            <p:spPr>
              <a:xfrm>
                <a:off x="3024000" y="4049640"/>
                <a:ext cx="190440" cy="1112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Line 157"/>
              <p:cNvSpPr/>
              <p:nvPr/>
            </p:nvSpPr>
            <p:spPr>
              <a:xfrm flipV="1">
                <a:off x="3475080" y="4163760"/>
                <a:ext cx="214200" cy="759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Rectangle 158"/>
              <p:cNvSpPr/>
              <p:nvPr/>
            </p:nvSpPr>
            <p:spPr>
              <a:xfrm>
                <a:off x="2833560" y="3879720"/>
                <a:ext cx="16524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Rectangle 159"/>
              <p:cNvSpPr/>
              <p:nvPr/>
            </p:nvSpPr>
            <p:spPr>
              <a:xfrm>
                <a:off x="2833560" y="3879720"/>
                <a:ext cx="16524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Line 160"/>
              <p:cNvSpPr/>
              <p:nvPr/>
            </p:nvSpPr>
            <p:spPr>
              <a:xfrm>
                <a:off x="2833560" y="392112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Line 161"/>
              <p:cNvSpPr/>
              <p:nvPr/>
            </p:nvSpPr>
            <p:spPr>
              <a:xfrm>
                <a:off x="2833560" y="394812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162"/>
              <p:cNvSpPr/>
              <p:nvPr/>
            </p:nvSpPr>
            <p:spPr>
              <a:xfrm>
                <a:off x="3714480" y="4095720"/>
                <a:ext cx="1699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Rectangle 163"/>
              <p:cNvSpPr/>
              <p:nvPr/>
            </p:nvSpPr>
            <p:spPr>
              <a:xfrm>
                <a:off x="3714480" y="409572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Line 164"/>
              <p:cNvSpPr/>
              <p:nvPr/>
            </p:nvSpPr>
            <p:spPr>
              <a:xfrm>
                <a:off x="3714480" y="414180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Line 165"/>
              <p:cNvSpPr/>
              <p:nvPr/>
            </p:nvSpPr>
            <p:spPr>
              <a:xfrm>
                <a:off x="3714480" y="416412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Rectangle 166"/>
              <p:cNvSpPr/>
              <p:nvPr/>
            </p:nvSpPr>
            <p:spPr>
              <a:xfrm>
                <a:off x="3243240" y="4174920"/>
                <a:ext cx="16668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Rectangle 167"/>
              <p:cNvSpPr/>
              <p:nvPr/>
            </p:nvSpPr>
            <p:spPr>
              <a:xfrm>
                <a:off x="3243240" y="4174920"/>
                <a:ext cx="16668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68"/>
              <p:cNvSpPr/>
              <p:nvPr/>
            </p:nvSpPr>
            <p:spPr>
              <a:xfrm>
                <a:off x="3243240" y="421632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Line 169"/>
              <p:cNvSpPr/>
              <p:nvPr/>
            </p:nvSpPr>
            <p:spPr>
              <a:xfrm>
                <a:off x="3243240" y="424332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Rectangle 170"/>
              <p:cNvSpPr/>
              <p:nvPr/>
            </p:nvSpPr>
            <p:spPr>
              <a:xfrm>
                <a:off x="3363840" y="3784680"/>
                <a:ext cx="1699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171"/>
              <p:cNvSpPr/>
              <p:nvPr/>
            </p:nvSpPr>
            <p:spPr>
              <a:xfrm>
                <a:off x="3363840" y="378468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Line 172"/>
              <p:cNvSpPr/>
              <p:nvPr/>
            </p:nvSpPr>
            <p:spPr>
              <a:xfrm>
                <a:off x="3363840" y="3852720"/>
                <a:ext cx="16992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39" name="Group 173"/>
          <p:cNvGrpSpPr/>
          <p:nvPr/>
        </p:nvGrpSpPr>
        <p:grpSpPr>
          <a:xfrm>
            <a:off x="1461960" y="2919240"/>
            <a:ext cx="1081080" cy="1237680"/>
            <a:chOff x="1461960" y="2919240"/>
            <a:chExt cx="1081080" cy="1237680"/>
          </a:xfrm>
        </p:grpSpPr>
        <p:grpSp>
          <p:nvGrpSpPr>
            <p:cNvPr id="640" name="Group 174"/>
            <p:cNvGrpSpPr/>
            <p:nvPr/>
          </p:nvGrpSpPr>
          <p:grpSpPr>
            <a:xfrm>
              <a:off x="1461960" y="2919240"/>
              <a:ext cx="1081080" cy="534960"/>
              <a:chOff x="1461960" y="2919240"/>
              <a:chExt cx="1081080" cy="534960"/>
            </a:xfrm>
          </p:grpSpPr>
          <p:sp>
            <p:nvSpPr>
              <p:cNvPr id="641" name="Rectangle 175"/>
              <p:cNvSpPr/>
              <p:nvPr/>
            </p:nvSpPr>
            <p:spPr>
              <a:xfrm>
                <a:off x="1992240" y="2919240"/>
                <a:ext cx="16992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Rectangle 176"/>
              <p:cNvSpPr/>
              <p:nvPr/>
            </p:nvSpPr>
            <p:spPr>
              <a:xfrm>
                <a:off x="1992240" y="2919240"/>
                <a:ext cx="16992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77"/>
              <p:cNvSpPr/>
              <p:nvPr/>
            </p:nvSpPr>
            <p:spPr>
              <a:xfrm flipV="1">
                <a:off x="1701720" y="3001680"/>
                <a:ext cx="285840" cy="838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Line 178"/>
              <p:cNvSpPr/>
              <p:nvPr/>
            </p:nvSpPr>
            <p:spPr>
              <a:xfrm flipH="1">
                <a:off x="2027160" y="3105000"/>
                <a:ext cx="55440" cy="2127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Line 179"/>
              <p:cNvSpPr/>
              <p:nvPr/>
            </p:nvSpPr>
            <p:spPr>
              <a:xfrm>
                <a:off x="1682640" y="3208320"/>
                <a:ext cx="189000" cy="109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Line 180"/>
              <p:cNvSpPr/>
              <p:nvPr/>
            </p:nvSpPr>
            <p:spPr>
              <a:xfrm flipV="1">
                <a:off x="2131920" y="3320640"/>
                <a:ext cx="216000" cy="810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Rectangle 181"/>
              <p:cNvSpPr/>
              <p:nvPr/>
            </p:nvSpPr>
            <p:spPr>
              <a:xfrm>
                <a:off x="1492200" y="3036960"/>
                <a:ext cx="16488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8" name="Rectangle 182"/>
              <p:cNvSpPr/>
              <p:nvPr/>
            </p:nvSpPr>
            <p:spPr>
              <a:xfrm>
                <a:off x="1492200" y="3036960"/>
                <a:ext cx="16488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9" name="Line 183"/>
              <p:cNvSpPr/>
              <p:nvPr/>
            </p:nvSpPr>
            <p:spPr>
              <a:xfrm>
                <a:off x="1492200" y="3078000"/>
                <a:ext cx="16488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0" name="Line 184"/>
              <p:cNvSpPr/>
              <p:nvPr/>
            </p:nvSpPr>
            <p:spPr>
              <a:xfrm>
                <a:off x="1492200" y="3105000"/>
                <a:ext cx="16488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1" name="Rectangle 185"/>
              <p:cNvSpPr/>
              <p:nvPr/>
            </p:nvSpPr>
            <p:spPr>
              <a:xfrm>
                <a:off x="2373120" y="3257640"/>
                <a:ext cx="16992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Rectangle 186"/>
              <p:cNvSpPr/>
              <p:nvPr/>
            </p:nvSpPr>
            <p:spPr>
              <a:xfrm>
                <a:off x="2373120" y="325764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Line 187"/>
              <p:cNvSpPr/>
              <p:nvPr/>
            </p:nvSpPr>
            <p:spPr>
              <a:xfrm>
                <a:off x="2373120" y="3298680"/>
                <a:ext cx="1699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Line 188"/>
              <p:cNvSpPr/>
              <p:nvPr/>
            </p:nvSpPr>
            <p:spPr>
              <a:xfrm>
                <a:off x="2373120" y="3325680"/>
                <a:ext cx="1699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189"/>
              <p:cNvSpPr/>
              <p:nvPr/>
            </p:nvSpPr>
            <p:spPr>
              <a:xfrm>
                <a:off x="1901520" y="3336840"/>
                <a:ext cx="16524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Rectangle 190"/>
              <p:cNvSpPr/>
              <p:nvPr/>
            </p:nvSpPr>
            <p:spPr>
              <a:xfrm>
                <a:off x="1901520" y="3336840"/>
                <a:ext cx="16524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7" name="Line 191"/>
              <p:cNvSpPr/>
              <p:nvPr/>
            </p:nvSpPr>
            <p:spPr>
              <a:xfrm>
                <a:off x="1901520" y="337824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8" name="Line 192"/>
              <p:cNvSpPr/>
              <p:nvPr/>
            </p:nvSpPr>
            <p:spPr>
              <a:xfrm>
                <a:off x="1901520" y="3405240"/>
                <a:ext cx="1652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Rectangle 193"/>
              <p:cNvSpPr/>
              <p:nvPr/>
            </p:nvSpPr>
            <p:spPr>
              <a:xfrm>
                <a:off x="2022480" y="2944800"/>
                <a:ext cx="169560" cy="119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Rectangle 194"/>
              <p:cNvSpPr/>
              <p:nvPr/>
            </p:nvSpPr>
            <p:spPr>
              <a:xfrm>
                <a:off x="2022480" y="2944800"/>
                <a:ext cx="169560" cy="1191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95"/>
              <p:cNvSpPr/>
              <p:nvPr/>
            </p:nvSpPr>
            <p:spPr>
              <a:xfrm>
                <a:off x="2022480" y="298764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Line 196"/>
              <p:cNvSpPr/>
              <p:nvPr/>
            </p:nvSpPr>
            <p:spPr>
              <a:xfrm>
                <a:off x="2022480" y="301464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Line 197"/>
              <p:cNvSpPr/>
              <p:nvPr/>
            </p:nvSpPr>
            <p:spPr>
              <a:xfrm flipV="1">
                <a:off x="1671480" y="2979720"/>
                <a:ext cx="285840" cy="842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Line 198"/>
              <p:cNvSpPr/>
              <p:nvPr/>
            </p:nvSpPr>
            <p:spPr>
              <a:xfrm flipH="1">
                <a:off x="1996920" y="3083040"/>
                <a:ext cx="55440" cy="2124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Line 199"/>
              <p:cNvSpPr/>
              <p:nvPr/>
            </p:nvSpPr>
            <p:spPr>
              <a:xfrm>
                <a:off x="1652400" y="3184560"/>
                <a:ext cx="190440" cy="1108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Line 200"/>
              <p:cNvSpPr/>
              <p:nvPr/>
            </p:nvSpPr>
            <p:spPr>
              <a:xfrm flipV="1">
                <a:off x="2103480" y="3298680"/>
                <a:ext cx="214200" cy="763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Rectangle 201"/>
              <p:cNvSpPr/>
              <p:nvPr/>
            </p:nvSpPr>
            <p:spPr>
              <a:xfrm>
                <a:off x="1461960" y="3014640"/>
                <a:ext cx="16524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8" name="Rectangle 202"/>
              <p:cNvSpPr/>
              <p:nvPr/>
            </p:nvSpPr>
            <p:spPr>
              <a:xfrm>
                <a:off x="1461960" y="3014640"/>
                <a:ext cx="16524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Line 203"/>
              <p:cNvSpPr/>
              <p:nvPr/>
            </p:nvSpPr>
            <p:spPr>
              <a:xfrm>
                <a:off x="1461960" y="305604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Line 204"/>
              <p:cNvSpPr/>
              <p:nvPr/>
            </p:nvSpPr>
            <p:spPr>
              <a:xfrm>
                <a:off x="1461960" y="3083040"/>
                <a:ext cx="16524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Rectangle 205"/>
              <p:cNvSpPr/>
              <p:nvPr/>
            </p:nvSpPr>
            <p:spPr>
              <a:xfrm>
                <a:off x="2342880" y="3230640"/>
                <a:ext cx="1699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2" name="Rectangle 206"/>
              <p:cNvSpPr/>
              <p:nvPr/>
            </p:nvSpPr>
            <p:spPr>
              <a:xfrm>
                <a:off x="2342880" y="3230640"/>
                <a:ext cx="1699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Line 207"/>
              <p:cNvSpPr/>
              <p:nvPr/>
            </p:nvSpPr>
            <p:spPr>
              <a:xfrm>
                <a:off x="2342880" y="327672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Line 208"/>
              <p:cNvSpPr/>
              <p:nvPr/>
            </p:nvSpPr>
            <p:spPr>
              <a:xfrm>
                <a:off x="2342880" y="3298680"/>
                <a:ext cx="16992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Rectangle 209"/>
              <p:cNvSpPr/>
              <p:nvPr/>
            </p:nvSpPr>
            <p:spPr>
              <a:xfrm>
                <a:off x="1871640" y="3309840"/>
                <a:ext cx="16668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Rectangle 210"/>
              <p:cNvSpPr/>
              <p:nvPr/>
            </p:nvSpPr>
            <p:spPr>
              <a:xfrm>
                <a:off x="1871640" y="3309840"/>
                <a:ext cx="16668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Line 211"/>
              <p:cNvSpPr/>
              <p:nvPr/>
            </p:nvSpPr>
            <p:spPr>
              <a:xfrm>
                <a:off x="1871640" y="335124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Line 212"/>
              <p:cNvSpPr/>
              <p:nvPr/>
            </p:nvSpPr>
            <p:spPr>
              <a:xfrm>
                <a:off x="1871640" y="3378240"/>
                <a:ext cx="166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Line 213"/>
              <p:cNvSpPr/>
              <p:nvPr/>
            </p:nvSpPr>
            <p:spPr>
              <a:xfrm>
                <a:off x="1992240" y="2987640"/>
                <a:ext cx="1699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80" name="Rectangle 214"/>
            <p:cNvSpPr/>
            <p:nvPr/>
          </p:nvSpPr>
          <p:spPr>
            <a:xfrm>
              <a:off x="1461960" y="3651120"/>
              <a:ext cx="10188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1" name="Group 215"/>
          <p:cNvGrpSpPr/>
          <p:nvPr/>
        </p:nvGrpSpPr>
        <p:grpSpPr>
          <a:xfrm>
            <a:off x="7518240" y="5572080"/>
            <a:ext cx="1496160" cy="1053360"/>
            <a:chOff x="7518240" y="5572080"/>
            <a:chExt cx="1496160" cy="1053360"/>
          </a:xfrm>
        </p:grpSpPr>
        <p:grpSp>
          <p:nvGrpSpPr>
            <p:cNvPr id="682" name="Group 216"/>
            <p:cNvGrpSpPr/>
            <p:nvPr/>
          </p:nvGrpSpPr>
          <p:grpSpPr>
            <a:xfrm>
              <a:off x="7518240" y="5572080"/>
              <a:ext cx="830160" cy="668160"/>
              <a:chOff x="7518240" y="5572080"/>
              <a:chExt cx="830160" cy="668160"/>
            </a:xfrm>
          </p:grpSpPr>
          <p:sp>
            <p:nvSpPr>
              <p:cNvPr id="683" name="Freeform 217"/>
              <p:cNvSpPr/>
              <p:nvPr/>
            </p:nvSpPr>
            <p:spPr>
              <a:xfrm>
                <a:off x="7711920" y="5667480"/>
                <a:ext cx="160200" cy="156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Freeform 218"/>
              <p:cNvSpPr/>
              <p:nvPr/>
            </p:nvSpPr>
            <p:spPr>
              <a:xfrm>
                <a:off x="7711920" y="5667480"/>
                <a:ext cx="160200" cy="1569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Freeform 219"/>
              <p:cNvSpPr/>
              <p:nvPr/>
            </p:nvSpPr>
            <p:spPr>
              <a:xfrm>
                <a:off x="7635600" y="5675400"/>
                <a:ext cx="88920" cy="838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Freeform 220"/>
              <p:cNvSpPr/>
              <p:nvPr/>
            </p:nvSpPr>
            <p:spPr>
              <a:xfrm>
                <a:off x="7635600" y="5675400"/>
                <a:ext cx="88920" cy="8388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Freeform 221"/>
              <p:cNvSpPr/>
              <p:nvPr/>
            </p:nvSpPr>
            <p:spPr>
              <a:xfrm>
                <a:off x="7643520" y="5754600"/>
                <a:ext cx="92160" cy="88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Freeform 222"/>
              <p:cNvSpPr/>
              <p:nvPr/>
            </p:nvSpPr>
            <p:spPr>
              <a:xfrm>
                <a:off x="7643520" y="5754600"/>
                <a:ext cx="92160" cy="88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Freeform 223"/>
              <p:cNvSpPr/>
              <p:nvPr/>
            </p:nvSpPr>
            <p:spPr>
              <a:xfrm>
                <a:off x="7758000" y="5743440"/>
                <a:ext cx="3816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Freeform 224"/>
              <p:cNvSpPr/>
              <p:nvPr/>
            </p:nvSpPr>
            <p:spPr>
              <a:xfrm>
                <a:off x="7758000" y="5743440"/>
                <a:ext cx="38160" cy="54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Freeform 225"/>
              <p:cNvSpPr/>
              <p:nvPr/>
            </p:nvSpPr>
            <p:spPr>
              <a:xfrm>
                <a:off x="7769160" y="5754600"/>
                <a:ext cx="15840" cy="27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Freeform 226"/>
              <p:cNvSpPr/>
              <p:nvPr/>
            </p:nvSpPr>
            <p:spPr>
              <a:xfrm>
                <a:off x="7769160" y="5754600"/>
                <a:ext cx="15840" cy="27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Freeform 227"/>
              <p:cNvSpPr/>
              <p:nvPr/>
            </p:nvSpPr>
            <p:spPr>
              <a:xfrm>
                <a:off x="7804080" y="5732280"/>
                <a:ext cx="3816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Freeform 228"/>
              <p:cNvSpPr/>
              <p:nvPr/>
            </p:nvSpPr>
            <p:spPr>
              <a:xfrm>
                <a:off x="7804080" y="5732280"/>
                <a:ext cx="3816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Freeform 229"/>
              <p:cNvSpPr/>
              <p:nvPr/>
            </p:nvSpPr>
            <p:spPr>
              <a:xfrm>
                <a:off x="7758000" y="5694480"/>
                <a:ext cx="57240" cy="53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Freeform 230"/>
              <p:cNvSpPr/>
              <p:nvPr/>
            </p:nvSpPr>
            <p:spPr>
              <a:xfrm>
                <a:off x="7758000" y="5694480"/>
                <a:ext cx="57240" cy="536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Freeform 231"/>
              <p:cNvSpPr/>
              <p:nvPr/>
            </p:nvSpPr>
            <p:spPr>
              <a:xfrm>
                <a:off x="8157960" y="5594400"/>
                <a:ext cx="1800" cy="126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Freeform 232"/>
              <p:cNvSpPr/>
              <p:nvPr/>
            </p:nvSpPr>
            <p:spPr>
              <a:xfrm>
                <a:off x="8157960" y="5594400"/>
                <a:ext cx="1800" cy="126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Freeform 233"/>
              <p:cNvSpPr/>
              <p:nvPr/>
            </p:nvSpPr>
            <p:spPr>
              <a:xfrm>
                <a:off x="8157960" y="5607000"/>
                <a:ext cx="1800" cy="14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Line 234"/>
              <p:cNvSpPr/>
              <p:nvPr/>
            </p:nvSpPr>
            <p:spPr>
              <a:xfrm>
                <a:off x="8157960" y="5607000"/>
                <a:ext cx="180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1" name="Rectangle 235"/>
              <p:cNvSpPr/>
              <p:nvPr/>
            </p:nvSpPr>
            <p:spPr>
              <a:xfrm>
                <a:off x="8047080" y="5594400"/>
                <a:ext cx="141120" cy="1569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2" name="Rectangle 236"/>
              <p:cNvSpPr/>
              <p:nvPr/>
            </p:nvSpPr>
            <p:spPr>
              <a:xfrm>
                <a:off x="8047080" y="5594400"/>
                <a:ext cx="141120" cy="1569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3" name="Rectangle 237"/>
              <p:cNvSpPr/>
              <p:nvPr/>
            </p:nvSpPr>
            <p:spPr>
              <a:xfrm>
                <a:off x="8055000" y="5599080"/>
                <a:ext cx="125280" cy="149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4" name="Rectangle 238"/>
              <p:cNvSpPr/>
              <p:nvPr/>
            </p:nvSpPr>
            <p:spPr>
              <a:xfrm>
                <a:off x="8055000" y="5599080"/>
                <a:ext cx="125280" cy="14904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5" name="Freeform 239"/>
              <p:cNvSpPr/>
              <p:nvPr/>
            </p:nvSpPr>
            <p:spPr>
              <a:xfrm>
                <a:off x="8127720" y="5653080"/>
                <a:ext cx="4140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Freeform 240"/>
              <p:cNvSpPr/>
              <p:nvPr/>
            </p:nvSpPr>
            <p:spPr>
              <a:xfrm>
                <a:off x="8127720" y="5653080"/>
                <a:ext cx="41400" cy="792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Freeform 241"/>
              <p:cNvSpPr/>
              <p:nvPr/>
            </p:nvSpPr>
            <p:spPr>
              <a:xfrm>
                <a:off x="8070840" y="5607000"/>
                <a:ext cx="68040" cy="684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Freeform 242"/>
              <p:cNvSpPr/>
              <p:nvPr/>
            </p:nvSpPr>
            <p:spPr>
              <a:xfrm>
                <a:off x="8070840" y="5607000"/>
                <a:ext cx="68040" cy="684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Freeform 243"/>
              <p:cNvSpPr/>
              <p:nvPr/>
            </p:nvSpPr>
            <p:spPr>
              <a:xfrm>
                <a:off x="8073720" y="5672160"/>
                <a:ext cx="43200" cy="60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Freeform 244"/>
              <p:cNvSpPr/>
              <p:nvPr/>
            </p:nvSpPr>
            <p:spPr>
              <a:xfrm>
                <a:off x="8073720" y="5672160"/>
                <a:ext cx="43200" cy="601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Freeform 245"/>
              <p:cNvSpPr/>
              <p:nvPr/>
            </p:nvSpPr>
            <p:spPr>
              <a:xfrm>
                <a:off x="8084880" y="5683320"/>
                <a:ext cx="15840" cy="33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246"/>
              <p:cNvSpPr/>
              <p:nvPr/>
            </p:nvSpPr>
            <p:spPr>
              <a:xfrm>
                <a:off x="8084880" y="5683320"/>
                <a:ext cx="15840" cy="331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247"/>
              <p:cNvSpPr/>
              <p:nvPr/>
            </p:nvSpPr>
            <p:spPr>
              <a:xfrm>
                <a:off x="7940520" y="6060960"/>
                <a:ext cx="160200" cy="1605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Freeform 248"/>
              <p:cNvSpPr/>
              <p:nvPr/>
            </p:nvSpPr>
            <p:spPr>
              <a:xfrm>
                <a:off x="7940520" y="6060960"/>
                <a:ext cx="160200" cy="1605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Freeform 249"/>
              <p:cNvSpPr/>
              <p:nvPr/>
            </p:nvSpPr>
            <p:spPr>
              <a:xfrm>
                <a:off x="7864200" y="6072120"/>
                <a:ext cx="84240" cy="842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6" name="Freeform 250"/>
              <p:cNvSpPr/>
              <p:nvPr/>
            </p:nvSpPr>
            <p:spPr>
              <a:xfrm>
                <a:off x="7864200" y="6072120"/>
                <a:ext cx="84240" cy="842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7" name="Freeform 251"/>
              <p:cNvSpPr/>
              <p:nvPr/>
            </p:nvSpPr>
            <p:spPr>
              <a:xfrm>
                <a:off x="7872120" y="6148440"/>
                <a:ext cx="87480" cy="91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8" name="Freeform 252"/>
              <p:cNvSpPr/>
              <p:nvPr/>
            </p:nvSpPr>
            <p:spPr>
              <a:xfrm>
                <a:off x="7872120" y="6148440"/>
                <a:ext cx="87480" cy="918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9" name="Freeform 253"/>
              <p:cNvSpPr/>
              <p:nvPr/>
            </p:nvSpPr>
            <p:spPr>
              <a:xfrm>
                <a:off x="7986600" y="6140520"/>
                <a:ext cx="3816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Freeform 254"/>
              <p:cNvSpPr/>
              <p:nvPr/>
            </p:nvSpPr>
            <p:spPr>
              <a:xfrm>
                <a:off x="7986600" y="6140520"/>
                <a:ext cx="38160" cy="540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Freeform 255"/>
              <p:cNvSpPr/>
              <p:nvPr/>
            </p:nvSpPr>
            <p:spPr>
              <a:xfrm>
                <a:off x="7997760" y="6153120"/>
                <a:ext cx="15840" cy="25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Freeform 256"/>
              <p:cNvSpPr/>
              <p:nvPr/>
            </p:nvSpPr>
            <p:spPr>
              <a:xfrm>
                <a:off x="7997760" y="6153120"/>
                <a:ext cx="15840" cy="252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Freeform 257"/>
              <p:cNvSpPr/>
              <p:nvPr/>
            </p:nvSpPr>
            <p:spPr>
              <a:xfrm>
                <a:off x="8032680" y="6129360"/>
                <a:ext cx="3312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4" name="Freeform 258"/>
              <p:cNvSpPr/>
              <p:nvPr/>
            </p:nvSpPr>
            <p:spPr>
              <a:xfrm>
                <a:off x="8032680" y="6129360"/>
                <a:ext cx="3312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5" name="Freeform 259"/>
              <p:cNvSpPr/>
              <p:nvPr/>
            </p:nvSpPr>
            <p:spPr>
              <a:xfrm>
                <a:off x="7983360" y="6087960"/>
                <a:ext cx="60480" cy="572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6" name="Freeform 260"/>
              <p:cNvSpPr/>
              <p:nvPr/>
            </p:nvSpPr>
            <p:spPr>
              <a:xfrm>
                <a:off x="7983360" y="6087960"/>
                <a:ext cx="60480" cy="572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Freeform 261"/>
              <p:cNvSpPr/>
              <p:nvPr/>
            </p:nvSpPr>
            <p:spPr>
              <a:xfrm>
                <a:off x="7648560" y="5979960"/>
                <a:ext cx="1440" cy="7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8" name="Freeform 262"/>
              <p:cNvSpPr/>
              <p:nvPr/>
            </p:nvSpPr>
            <p:spPr>
              <a:xfrm>
                <a:off x="7648560" y="5979960"/>
                <a:ext cx="1440" cy="7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9" name="Freeform 263"/>
              <p:cNvSpPr/>
              <p:nvPr/>
            </p:nvSpPr>
            <p:spPr>
              <a:xfrm>
                <a:off x="7643520" y="5987880"/>
                <a:ext cx="5040" cy="180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0" name="Rectangle 264"/>
              <p:cNvSpPr/>
              <p:nvPr/>
            </p:nvSpPr>
            <p:spPr>
              <a:xfrm>
                <a:off x="7537320" y="5976720"/>
                <a:ext cx="136440" cy="157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1" name="Rectangle 265"/>
              <p:cNvSpPr/>
              <p:nvPr/>
            </p:nvSpPr>
            <p:spPr>
              <a:xfrm>
                <a:off x="7537320" y="5976720"/>
                <a:ext cx="136440" cy="1573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Rectangle 266"/>
              <p:cNvSpPr/>
              <p:nvPr/>
            </p:nvSpPr>
            <p:spPr>
              <a:xfrm>
                <a:off x="7545240" y="5979960"/>
                <a:ext cx="125280" cy="149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Rectangle 267"/>
              <p:cNvSpPr/>
              <p:nvPr/>
            </p:nvSpPr>
            <p:spPr>
              <a:xfrm>
                <a:off x="7545240" y="5979960"/>
                <a:ext cx="125280" cy="14940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Freeform 268"/>
              <p:cNvSpPr/>
              <p:nvPr/>
            </p:nvSpPr>
            <p:spPr>
              <a:xfrm>
                <a:off x="7613640" y="6037200"/>
                <a:ext cx="46080" cy="77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269"/>
              <p:cNvSpPr/>
              <p:nvPr/>
            </p:nvSpPr>
            <p:spPr>
              <a:xfrm>
                <a:off x="7613640" y="6037200"/>
                <a:ext cx="46080" cy="777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Freeform 270"/>
              <p:cNvSpPr/>
              <p:nvPr/>
            </p:nvSpPr>
            <p:spPr>
              <a:xfrm>
                <a:off x="7556400" y="5987880"/>
                <a:ext cx="73080" cy="698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Freeform 271"/>
              <p:cNvSpPr/>
              <p:nvPr/>
            </p:nvSpPr>
            <p:spPr>
              <a:xfrm>
                <a:off x="7556400" y="5987880"/>
                <a:ext cx="73080" cy="6984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Freeform 272"/>
              <p:cNvSpPr/>
              <p:nvPr/>
            </p:nvSpPr>
            <p:spPr>
              <a:xfrm>
                <a:off x="7559640" y="6053040"/>
                <a:ext cx="46080" cy="61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Freeform 273"/>
              <p:cNvSpPr/>
              <p:nvPr/>
            </p:nvSpPr>
            <p:spPr>
              <a:xfrm>
                <a:off x="7559640" y="6053040"/>
                <a:ext cx="46080" cy="61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Freeform 274"/>
              <p:cNvSpPr/>
              <p:nvPr/>
            </p:nvSpPr>
            <p:spPr>
              <a:xfrm>
                <a:off x="7572240" y="6064200"/>
                <a:ext cx="19080" cy="34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Freeform 275"/>
              <p:cNvSpPr/>
              <p:nvPr/>
            </p:nvSpPr>
            <p:spPr>
              <a:xfrm>
                <a:off x="7572240" y="6064200"/>
                <a:ext cx="19080" cy="34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2" name="Freeform 276"/>
              <p:cNvSpPr/>
              <p:nvPr/>
            </p:nvSpPr>
            <p:spPr>
              <a:xfrm>
                <a:off x="8318520" y="5824440"/>
                <a:ext cx="2880" cy="111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3" name="Freeform 277"/>
              <p:cNvSpPr/>
              <p:nvPr/>
            </p:nvSpPr>
            <p:spPr>
              <a:xfrm>
                <a:off x="8318520" y="5824440"/>
                <a:ext cx="2880" cy="111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Freeform 278"/>
              <p:cNvSpPr/>
              <p:nvPr/>
            </p:nvSpPr>
            <p:spPr>
              <a:xfrm>
                <a:off x="8318520" y="5835600"/>
                <a:ext cx="1440" cy="14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Line 279"/>
              <p:cNvSpPr/>
              <p:nvPr/>
            </p:nvSpPr>
            <p:spPr>
              <a:xfrm>
                <a:off x="8318520" y="5835600"/>
                <a:ext cx="144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Rectangle 280"/>
              <p:cNvSpPr/>
              <p:nvPr/>
            </p:nvSpPr>
            <p:spPr>
              <a:xfrm>
                <a:off x="8211960" y="5819760"/>
                <a:ext cx="136440" cy="1602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281"/>
              <p:cNvSpPr/>
              <p:nvPr/>
            </p:nvSpPr>
            <p:spPr>
              <a:xfrm>
                <a:off x="8211960" y="5819760"/>
                <a:ext cx="136440" cy="16020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8" name="Rectangle 282"/>
              <p:cNvSpPr/>
              <p:nvPr/>
            </p:nvSpPr>
            <p:spPr>
              <a:xfrm>
                <a:off x="8215200" y="5827680"/>
                <a:ext cx="130320" cy="146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9" name="Rectangle 283"/>
              <p:cNvSpPr/>
              <p:nvPr/>
            </p:nvSpPr>
            <p:spPr>
              <a:xfrm>
                <a:off x="8215200" y="5827680"/>
                <a:ext cx="130320" cy="1461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0" name="Freeform 284"/>
              <p:cNvSpPr/>
              <p:nvPr/>
            </p:nvSpPr>
            <p:spPr>
              <a:xfrm>
                <a:off x="8288280" y="5881680"/>
                <a:ext cx="44280" cy="763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Freeform 285"/>
              <p:cNvSpPr/>
              <p:nvPr/>
            </p:nvSpPr>
            <p:spPr>
              <a:xfrm>
                <a:off x="8288280" y="5881680"/>
                <a:ext cx="44280" cy="763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2" name="Freeform 286"/>
              <p:cNvSpPr/>
              <p:nvPr/>
            </p:nvSpPr>
            <p:spPr>
              <a:xfrm>
                <a:off x="8231040" y="5835600"/>
                <a:ext cx="71280" cy="651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3" name="Freeform 287"/>
              <p:cNvSpPr/>
              <p:nvPr/>
            </p:nvSpPr>
            <p:spPr>
              <a:xfrm>
                <a:off x="8231040" y="5835600"/>
                <a:ext cx="71280" cy="6516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Freeform 288"/>
              <p:cNvSpPr/>
              <p:nvPr/>
            </p:nvSpPr>
            <p:spPr>
              <a:xfrm>
                <a:off x="8234280" y="5900760"/>
                <a:ext cx="46080" cy="60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Freeform 289"/>
              <p:cNvSpPr/>
              <p:nvPr/>
            </p:nvSpPr>
            <p:spPr>
              <a:xfrm>
                <a:off x="8234280" y="5900760"/>
                <a:ext cx="46080" cy="601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Freeform 290"/>
              <p:cNvSpPr/>
              <p:nvPr/>
            </p:nvSpPr>
            <p:spPr>
              <a:xfrm>
                <a:off x="8245440" y="5911920"/>
                <a:ext cx="19080" cy="34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Freeform 291"/>
              <p:cNvSpPr/>
              <p:nvPr/>
            </p:nvSpPr>
            <p:spPr>
              <a:xfrm>
                <a:off x="8245440" y="5911920"/>
                <a:ext cx="19080" cy="34920"/>
              </a:xfrm>
              <a:prstGeom prst="pie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8" name="Line 292"/>
              <p:cNvSpPr/>
              <p:nvPr/>
            </p:nvSpPr>
            <p:spPr>
              <a:xfrm flipH="1" flipV="1">
                <a:off x="7686360" y="6076800"/>
                <a:ext cx="166680" cy="381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9" name="Line 293"/>
              <p:cNvSpPr/>
              <p:nvPr/>
            </p:nvSpPr>
            <p:spPr>
              <a:xfrm flipV="1">
                <a:off x="7654680" y="5813280"/>
                <a:ext cx="95400" cy="1526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Line 294"/>
              <p:cNvSpPr/>
              <p:nvPr/>
            </p:nvSpPr>
            <p:spPr>
              <a:xfrm>
                <a:off x="7826400" y="5832360"/>
                <a:ext cx="129960" cy="24768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1" name="Line 295"/>
              <p:cNvSpPr/>
              <p:nvPr/>
            </p:nvSpPr>
            <p:spPr>
              <a:xfrm flipV="1">
                <a:off x="7877160" y="5677920"/>
                <a:ext cx="163440" cy="3492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2" name="Line 296"/>
              <p:cNvSpPr/>
              <p:nvPr/>
            </p:nvSpPr>
            <p:spPr>
              <a:xfrm flipV="1">
                <a:off x="8073720" y="5965920"/>
                <a:ext cx="125640" cy="1029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3" name="Line 297"/>
              <p:cNvSpPr/>
              <p:nvPr/>
            </p:nvSpPr>
            <p:spPr>
              <a:xfrm>
                <a:off x="7869240" y="5786280"/>
                <a:ext cx="330120" cy="986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4" name="Freeform 298"/>
              <p:cNvSpPr/>
              <p:nvPr/>
            </p:nvSpPr>
            <p:spPr>
              <a:xfrm>
                <a:off x="7692840" y="5645160"/>
                <a:ext cx="160560" cy="1555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299"/>
              <p:cNvSpPr/>
              <p:nvPr/>
            </p:nvSpPr>
            <p:spPr>
              <a:xfrm>
                <a:off x="7692840" y="5645160"/>
                <a:ext cx="160560" cy="1555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300"/>
              <p:cNvSpPr/>
              <p:nvPr/>
            </p:nvSpPr>
            <p:spPr>
              <a:xfrm>
                <a:off x="7616520" y="5653080"/>
                <a:ext cx="88920" cy="8712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Freeform 301"/>
              <p:cNvSpPr/>
              <p:nvPr/>
            </p:nvSpPr>
            <p:spPr>
              <a:xfrm>
                <a:off x="7616520" y="5653080"/>
                <a:ext cx="88920" cy="871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302"/>
              <p:cNvSpPr/>
              <p:nvPr/>
            </p:nvSpPr>
            <p:spPr>
              <a:xfrm>
                <a:off x="7624800" y="5732280"/>
                <a:ext cx="87120" cy="9216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Freeform 303"/>
              <p:cNvSpPr/>
              <p:nvPr/>
            </p:nvSpPr>
            <p:spPr>
              <a:xfrm>
                <a:off x="7624800" y="5732280"/>
                <a:ext cx="87120" cy="92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Freeform 304"/>
              <p:cNvSpPr/>
              <p:nvPr/>
            </p:nvSpPr>
            <p:spPr>
              <a:xfrm>
                <a:off x="7738920" y="5724360"/>
                <a:ext cx="38160" cy="507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Freeform 305"/>
              <p:cNvSpPr/>
              <p:nvPr/>
            </p:nvSpPr>
            <p:spPr>
              <a:xfrm>
                <a:off x="7738920" y="5724360"/>
                <a:ext cx="38160" cy="507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Freeform 306"/>
              <p:cNvSpPr/>
              <p:nvPr/>
            </p:nvSpPr>
            <p:spPr>
              <a:xfrm>
                <a:off x="7750080" y="5732280"/>
                <a:ext cx="15840" cy="302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Freeform 307"/>
              <p:cNvSpPr/>
              <p:nvPr/>
            </p:nvSpPr>
            <p:spPr>
              <a:xfrm>
                <a:off x="7750080" y="5732280"/>
                <a:ext cx="15840" cy="302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Freeform 308"/>
              <p:cNvSpPr/>
              <p:nvPr/>
            </p:nvSpPr>
            <p:spPr>
              <a:xfrm>
                <a:off x="7785000" y="5710320"/>
                <a:ext cx="38160" cy="6480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Freeform 309"/>
              <p:cNvSpPr/>
              <p:nvPr/>
            </p:nvSpPr>
            <p:spPr>
              <a:xfrm>
                <a:off x="7785000" y="5710320"/>
                <a:ext cx="38160" cy="64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6" name="Freeform 310"/>
              <p:cNvSpPr/>
              <p:nvPr/>
            </p:nvSpPr>
            <p:spPr>
              <a:xfrm>
                <a:off x="7735680" y="5672160"/>
                <a:ext cx="60480" cy="5220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7" name="Freeform 311"/>
              <p:cNvSpPr/>
              <p:nvPr/>
            </p:nvSpPr>
            <p:spPr>
              <a:xfrm>
                <a:off x="7735680" y="5672160"/>
                <a:ext cx="60480" cy="522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8" name="Freeform 312"/>
              <p:cNvSpPr/>
              <p:nvPr/>
            </p:nvSpPr>
            <p:spPr>
              <a:xfrm>
                <a:off x="8138880" y="5575320"/>
                <a:ext cx="1800" cy="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9" name="Rectangle 313"/>
              <p:cNvSpPr/>
              <p:nvPr/>
            </p:nvSpPr>
            <p:spPr>
              <a:xfrm>
                <a:off x="8028000" y="5572080"/>
                <a:ext cx="141120" cy="1573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0" name="Rectangle 314"/>
              <p:cNvSpPr/>
              <p:nvPr/>
            </p:nvSpPr>
            <p:spPr>
              <a:xfrm>
                <a:off x="8028000" y="5572080"/>
                <a:ext cx="141120" cy="1573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Rectangle 315"/>
              <p:cNvSpPr/>
              <p:nvPr/>
            </p:nvSpPr>
            <p:spPr>
              <a:xfrm>
                <a:off x="8035920" y="5580000"/>
                <a:ext cx="125280" cy="14436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Rectangle 316"/>
              <p:cNvSpPr/>
              <p:nvPr/>
            </p:nvSpPr>
            <p:spPr>
              <a:xfrm>
                <a:off x="8035920" y="5580000"/>
                <a:ext cx="125280" cy="144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317"/>
              <p:cNvSpPr/>
              <p:nvPr/>
            </p:nvSpPr>
            <p:spPr>
              <a:xfrm>
                <a:off x="8109000" y="5634000"/>
                <a:ext cx="41040" cy="763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318"/>
              <p:cNvSpPr/>
              <p:nvPr/>
            </p:nvSpPr>
            <p:spPr>
              <a:xfrm>
                <a:off x="8109000" y="5634000"/>
                <a:ext cx="41040" cy="76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319"/>
              <p:cNvSpPr/>
              <p:nvPr/>
            </p:nvSpPr>
            <p:spPr>
              <a:xfrm>
                <a:off x="8051760" y="5583240"/>
                <a:ext cx="68040" cy="6984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6" name="Freeform 320"/>
              <p:cNvSpPr/>
              <p:nvPr/>
            </p:nvSpPr>
            <p:spPr>
              <a:xfrm>
                <a:off x="8051760" y="5583240"/>
                <a:ext cx="68040" cy="698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7" name="Freeform 321"/>
              <p:cNvSpPr/>
              <p:nvPr/>
            </p:nvSpPr>
            <p:spPr>
              <a:xfrm>
                <a:off x="8055000" y="5648400"/>
                <a:ext cx="42840" cy="6480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8" name="Freeform 322"/>
              <p:cNvSpPr/>
              <p:nvPr/>
            </p:nvSpPr>
            <p:spPr>
              <a:xfrm>
                <a:off x="8055000" y="5648400"/>
                <a:ext cx="42840" cy="648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9" name="Freeform 323"/>
              <p:cNvSpPr/>
              <p:nvPr/>
            </p:nvSpPr>
            <p:spPr>
              <a:xfrm>
                <a:off x="8065800" y="5659560"/>
                <a:ext cx="16200" cy="349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0" name="Freeform 324"/>
              <p:cNvSpPr/>
              <p:nvPr/>
            </p:nvSpPr>
            <p:spPr>
              <a:xfrm>
                <a:off x="8065800" y="5659560"/>
                <a:ext cx="16200" cy="34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1" name="Freeform 325"/>
              <p:cNvSpPr/>
              <p:nvPr/>
            </p:nvSpPr>
            <p:spPr>
              <a:xfrm>
                <a:off x="7921440" y="6041880"/>
                <a:ext cx="160560" cy="1573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2" name="Freeform 326"/>
              <p:cNvSpPr/>
              <p:nvPr/>
            </p:nvSpPr>
            <p:spPr>
              <a:xfrm>
                <a:off x="7921440" y="6041880"/>
                <a:ext cx="160560" cy="157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3" name="Freeform 327"/>
              <p:cNvSpPr/>
              <p:nvPr/>
            </p:nvSpPr>
            <p:spPr>
              <a:xfrm>
                <a:off x="7845120" y="6049800"/>
                <a:ext cx="84240" cy="87480"/>
              </a:xfrm>
              <a:prstGeom prst="pi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328"/>
              <p:cNvSpPr/>
              <p:nvPr/>
            </p:nvSpPr>
            <p:spPr>
              <a:xfrm>
                <a:off x="7845120" y="6049800"/>
                <a:ext cx="84240" cy="874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329"/>
              <p:cNvSpPr/>
              <p:nvPr/>
            </p:nvSpPr>
            <p:spPr>
              <a:xfrm>
                <a:off x="7853400" y="6129360"/>
                <a:ext cx="87120" cy="8892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330"/>
              <p:cNvSpPr/>
              <p:nvPr/>
            </p:nvSpPr>
            <p:spPr>
              <a:xfrm>
                <a:off x="7853400" y="6129360"/>
                <a:ext cx="87120" cy="88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331"/>
              <p:cNvSpPr/>
              <p:nvPr/>
            </p:nvSpPr>
            <p:spPr>
              <a:xfrm>
                <a:off x="7967520" y="6121440"/>
                <a:ext cx="38160" cy="507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332"/>
              <p:cNvSpPr/>
              <p:nvPr/>
            </p:nvSpPr>
            <p:spPr>
              <a:xfrm>
                <a:off x="7967520" y="6121440"/>
                <a:ext cx="38160" cy="507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9" name="Freeform 333"/>
              <p:cNvSpPr/>
              <p:nvPr/>
            </p:nvSpPr>
            <p:spPr>
              <a:xfrm>
                <a:off x="7978680" y="6129360"/>
                <a:ext cx="11160" cy="302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0" name="Freeform 334"/>
              <p:cNvSpPr/>
              <p:nvPr/>
            </p:nvSpPr>
            <p:spPr>
              <a:xfrm>
                <a:off x="7978680" y="6129360"/>
                <a:ext cx="11160" cy="3024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1" name="Freeform 335"/>
              <p:cNvSpPr/>
              <p:nvPr/>
            </p:nvSpPr>
            <p:spPr>
              <a:xfrm>
                <a:off x="8013600" y="6107040"/>
                <a:ext cx="33480" cy="651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2" name="Freeform 336"/>
              <p:cNvSpPr/>
              <p:nvPr/>
            </p:nvSpPr>
            <p:spPr>
              <a:xfrm>
                <a:off x="8013600" y="6107040"/>
                <a:ext cx="33480" cy="65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3" name="Freeform 337"/>
              <p:cNvSpPr/>
              <p:nvPr/>
            </p:nvSpPr>
            <p:spPr>
              <a:xfrm>
                <a:off x="7964280" y="6068880"/>
                <a:ext cx="60480" cy="5256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4" name="Freeform 338"/>
              <p:cNvSpPr/>
              <p:nvPr/>
            </p:nvSpPr>
            <p:spPr>
              <a:xfrm>
                <a:off x="7964280" y="6068880"/>
                <a:ext cx="60480" cy="525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339"/>
              <p:cNvSpPr/>
              <p:nvPr/>
            </p:nvSpPr>
            <p:spPr>
              <a:xfrm>
                <a:off x="7629480" y="5958000"/>
                <a:ext cx="144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340"/>
              <p:cNvSpPr/>
              <p:nvPr/>
            </p:nvSpPr>
            <p:spPr>
              <a:xfrm>
                <a:off x="7624800" y="596880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Rectangle 341"/>
              <p:cNvSpPr/>
              <p:nvPr/>
            </p:nvSpPr>
            <p:spPr>
              <a:xfrm>
                <a:off x="7518240" y="5954760"/>
                <a:ext cx="136440" cy="16020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Rectangle 342"/>
              <p:cNvSpPr/>
              <p:nvPr/>
            </p:nvSpPr>
            <p:spPr>
              <a:xfrm>
                <a:off x="7518240" y="5954760"/>
                <a:ext cx="136440" cy="16020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Rectangle 343"/>
              <p:cNvSpPr/>
              <p:nvPr/>
            </p:nvSpPr>
            <p:spPr>
              <a:xfrm>
                <a:off x="7526160" y="5960880"/>
                <a:ext cx="125640" cy="14616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0" name="Rectangle 344"/>
              <p:cNvSpPr/>
              <p:nvPr/>
            </p:nvSpPr>
            <p:spPr>
              <a:xfrm>
                <a:off x="7526160" y="5960880"/>
                <a:ext cx="125640" cy="1461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1" name="Freeform 345"/>
              <p:cNvSpPr/>
              <p:nvPr/>
            </p:nvSpPr>
            <p:spPr>
              <a:xfrm>
                <a:off x="7594560" y="6014880"/>
                <a:ext cx="46080" cy="763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2" name="Freeform 346"/>
              <p:cNvSpPr/>
              <p:nvPr/>
            </p:nvSpPr>
            <p:spPr>
              <a:xfrm>
                <a:off x="7594560" y="6014880"/>
                <a:ext cx="46080" cy="76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3" name="Freeform 347"/>
              <p:cNvSpPr/>
              <p:nvPr/>
            </p:nvSpPr>
            <p:spPr>
              <a:xfrm>
                <a:off x="7537320" y="5968800"/>
                <a:ext cx="73080" cy="6516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Freeform 348"/>
              <p:cNvSpPr/>
              <p:nvPr/>
            </p:nvSpPr>
            <p:spPr>
              <a:xfrm>
                <a:off x="7537320" y="5968800"/>
                <a:ext cx="73080" cy="65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Freeform 349"/>
              <p:cNvSpPr/>
              <p:nvPr/>
            </p:nvSpPr>
            <p:spPr>
              <a:xfrm>
                <a:off x="7540560" y="6030720"/>
                <a:ext cx="46080" cy="6516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Freeform 350"/>
              <p:cNvSpPr/>
              <p:nvPr/>
            </p:nvSpPr>
            <p:spPr>
              <a:xfrm>
                <a:off x="7540560" y="6030720"/>
                <a:ext cx="46080" cy="6516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Freeform 351"/>
              <p:cNvSpPr/>
              <p:nvPr/>
            </p:nvSpPr>
            <p:spPr>
              <a:xfrm>
                <a:off x="7553160" y="6041880"/>
                <a:ext cx="19080" cy="3492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352"/>
              <p:cNvSpPr/>
              <p:nvPr/>
            </p:nvSpPr>
            <p:spPr>
              <a:xfrm>
                <a:off x="7553160" y="6041880"/>
                <a:ext cx="19080" cy="34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353"/>
              <p:cNvSpPr/>
              <p:nvPr/>
            </p:nvSpPr>
            <p:spPr>
              <a:xfrm>
                <a:off x="8299440" y="5805360"/>
                <a:ext cx="2880" cy="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354"/>
              <p:cNvSpPr/>
              <p:nvPr/>
            </p:nvSpPr>
            <p:spPr>
              <a:xfrm>
                <a:off x="8299440" y="581328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Rectangle 355"/>
              <p:cNvSpPr/>
              <p:nvPr/>
            </p:nvSpPr>
            <p:spPr>
              <a:xfrm>
                <a:off x="8192880" y="5800680"/>
                <a:ext cx="136440" cy="1573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Rectangle 356"/>
              <p:cNvSpPr/>
              <p:nvPr/>
            </p:nvSpPr>
            <p:spPr>
              <a:xfrm>
                <a:off x="8192880" y="5800680"/>
                <a:ext cx="136440" cy="1573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Rectangle 357"/>
              <p:cNvSpPr/>
              <p:nvPr/>
            </p:nvSpPr>
            <p:spPr>
              <a:xfrm>
                <a:off x="8196120" y="5805360"/>
                <a:ext cx="125280" cy="1494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4" name="Rectangle 358"/>
              <p:cNvSpPr/>
              <p:nvPr/>
            </p:nvSpPr>
            <p:spPr>
              <a:xfrm>
                <a:off x="8196120" y="5805360"/>
                <a:ext cx="125280" cy="14940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5" name="Freeform 359"/>
              <p:cNvSpPr/>
              <p:nvPr/>
            </p:nvSpPr>
            <p:spPr>
              <a:xfrm>
                <a:off x="8269200" y="5862600"/>
                <a:ext cx="44280" cy="763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Freeform 360"/>
              <p:cNvSpPr/>
              <p:nvPr/>
            </p:nvSpPr>
            <p:spPr>
              <a:xfrm>
                <a:off x="8269200" y="5862600"/>
                <a:ext cx="44280" cy="763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Freeform 361"/>
              <p:cNvSpPr/>
              <p:nvPr/>
            </p:nvSpPr>
            <p:spPr>
              <a:xfrm>
                <a:off x="8211960" y="5813280"/>
                <a:ext cx="71640" cy="6840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8" name="Freeform 362"/>
              <p:cNvSpPr/>
              <p:nvPr/>
            </p:nvSpPr>
            <p:spPr>
              <a:xfrm>
                <a:off x="8211960" y="5813280"/>
                <a:ext cx="71640" cy="6840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363"/>
              <p:cNvSpPr/>
              <p:nvPr/>
            </p:nvSpPr>
            <p:spPr>
              <a:xfrm>
                <a:off x="8215200" y="5877000"/>
                <a:ext cx="41400" cy="61920"/>
              </a:xfrm>
              <a:prstGeom prst="pie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364"/>
              <p:cNvSpPr/>
              <p:nvPr/>
            </p:nvSpPr>
            <p:spPr>
              <a:xfrm>
                <a:off x="8215200" y="5877000"/>
                <a:ext cx="41400" cy="6192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365"/>
              <p:cNvSpPr/>
              <p:nvPr/>
            </p:nvSpPr>
            <p:spPr>
              <a:xfrm>
                <a:off x="8226360" y="5889600"/>
                <a:ext cx="19080" cy="3348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366"/>
              <p:cNvSpPr/>
              <p:nvPr/>
            </p:nvSpPr>
            <p:spPr>
              <a:xfrm>
                <a:off x="8226360" y="5889600"/>
                <a:ext cx="19080" cy="33480"/>
              </a:xfrm>
              <a:prstGeom prst="pie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Line 367"/>
              <p:cNvSpPr/>
              <p:nvPr/>
            </p:nvSpPr>
            <p:spPr>
              <a:xfrm flipH="1" flipV="1">
                <a:off x="7667280" y="6053040"/>
                <a:ext cx="166680" cy="381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4" name="Line 368"/>
              <p:cNvSpPr/>
              <p:nvPr/>
            </p:nvSpPr>
            <p:spPr>
              <a:xfrm flipV="1">
                <a:off x="7635600" y="5789160"/>
                <a:ext cx="92160" cy="1522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5" name="Line 369"/>
              <p:cNvSpPr/>
              <p:nvPr/>
            </p:nvSpPr>
            <p:spPr>
              <a:xfrm>
                <a:off x="7807320" y="5808600"/>
                <a:ext cx="126720" cy="2491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6" name="Line 370"/>
              <p:cNvSpPr/>
              <p:nvPr/>
            </p:nvSpPr>
            <p:spPr>
              <a:xfrm flipV="1">
                <a:off x="7858080" y="5659200"/>
                <a:ext cx="163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7" name="Line 371"/>
              <p:cNvSpPr/>
              <p:nvPr/>
            </p:nvSpPr>
            <p:spPr>
              <a:xfrm flipV="1">
                <a:off x="8055000" y="5946840"/>
                <a:ext cx="125280" cy="1029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8" name="Line 372"/>
              <p:cNvSpPr/>
              <p:nvPr/>
            </p:nvSpPr>
            <p:spPr>
              <a:xfrm>
                <a:off x="7850160" y="5767200"/>
                <a:ext cx="330120" cy="954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39" name="Rectangle 373"/>
            <p:cNvSpPr/>
            <p:nvPr/>
          </p:nvSpPr>
          <p:spPr>
            <a:xfrm>
              <a:off x="8244000" y="6119640"/>
              <a:ext cx="7704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Test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0" name="Group 374"/>
          <p:cNvGrpSpPr/>
          <p:nvPr/>
        </p:nvGrpSpPr>
        <p:grpSpPr>
          <a:xfrm>
            <a:off x="5864400" y="4902120"/>
            <a:ext cx="1895040" cy="1037520"/>
            <a:chOff x="5864400" y="4902120"/>
            <a:chExt cx="1895040" cy="1037520"/>
          </a:xfrm>
        </p:grpSpPr>
        <p:sp>
          <p:nvSpPr>
            <p:cNvPr id="841" name="Rectangle 375"/>
            <p:cNvSpPr/>
            <p:nvPr/>
          </p:nvSpPr>
          <p:spPr>
            <a:xfrm>
              <a:off x="6416280" y="5433840"/>
              <a:ext cx="13431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Deployment</a:t>
              </a:r>
              <a:br>
                <a:rPr sz="1600"/>
              </a:b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42" name="Group 376"/>
            <p:cNvGrpSpPr/>
            <p:nvPr/>
          </p:nvGrpSpPr>
          <p:grpSpPr>
            <a:xfrm>
              <a:off x="5864400" y="4902120"/>
              <a:ext cx="1080360" cy="534960"/>
              <a:chOff x="5864400" y="4902120"/>
              <a:chExt cx="1080360" cy="534960"/>
            </a:xfrm>
          </p:grpSpPr>
          <p:sp>
            <p:nvSpPr>
              <p:cNvPr id="843" name="Line 377"/>
              <p:cNvSpPr/>
              <p:nvPr/>
            </p:nvSpPr>
            <p:spPr>
              <a:xfrm flipV="1">
                <a:off x="6103800" y="4984560"/>
                <a:ext cx="285480" cy="842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Line 378"/>
              <p:cNvSpPr/>
              <p:nvPr/>
            </p:nvSpPr>
            <p:spPr>
              <a:xfrm flipH="1">
                <a:off x="6428880" y="5087880"/>
                <a:ext cx="55080" cy="21276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Line 379"/>
              <p:cNvSpPr/>
              <p:nvPr/>
            </p:nvSpPr>
            <p:spPr>
              <a:xfrm>
                <a:off x="6084720" y="5191200"/>
                <a:ext cx="188640" cy="109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Line 380"/>
              <p:cNvSpPr/>
              <p:nvPr/>
            </p:nvSpPr>
            <p:spPr>
              <a:xfrm flipV="1">
                <a:off x="6534000" y="5303520"/>
                <a:ext cx="215640" cy="810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7" name="Rectangle 381"/>
              <p:cNvSpPr/>
              <p:nvPr/>
            </p:nvSpPr>
            <p:spPr>
              <a:xfrm>
                <a:off x="5894280" y="5019480"/>
                <a:ext cx="164880" cy="117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Rectangle 382"/>
              <p:cNvSpPr/>
              <p:nvPr/>
            </p:nvSpPr>
            <p:spPr>
              <a:xfrm>
                <a:off x="5894280" y="5019480"/>
                <a:ext cx="164880" cy="1177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Line 383"/>
              <p:cNvSpPr/>
              <p:nvPr/>
            </p:nvSpPr>
            <p:spPr>
              <a:xfrm>
                <a:off x="5894280" y="506088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Line 384"/>
              <p:cNvSpPr/>
              <p:nvPr/>
            </p:nvSpPr>
            <p:spPr>
              <a:xfrm>
                <a:off x="5894280" y="5087880"/>
                <a:ext cx="16488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1" name="Rectangle 385"/>
              <p:cNvSpPr/>
              <p:nvPr/>
            </p:nvSpPr>
            <p:spPr>
              <a:xfrm>
                <a:off x="6775200" y="5240160"/>
                <a:ext cx="169560" cy="117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2" name="Rectangle 386"/>
              <p:cNvSpPr/>
              <p:nvPr/>
            </p:nvSpPr>
            <p:spPr>
              <a:xfrm>
                <a:off x="6775200" y="5240160"/>
                <a:ext cx="169560" cy="11772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Line 387"/>
              <p:cNvSpPr/>
              <p:nvPr/>
            </p:nvSpPr>
            <p:spPr>
              <a:xfrm>
                <a:off x="6775200" y="528156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Line 388"/>
              <p:cNvSpPr/>
              <p:nvPr/>
            </p:nvSpPr>
            <p:spPr>
              <a:xfrm>
                <a:off x="6775200" y="530856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Rectangle 389"/>
              <p:cNvSpPr/>
              <p:nvPr/>
            </p:nvSpPr>
            <p:spPr>
              <a:xfrm>
                <a:off x="6303960" y="5319720"/>
                <a:ext cx="164520" cy="117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Rectangle 390"/>
              <p:cNvSpPr/>
              <p:nvPr/>
            </p:nvSpPr>
            <p:spPr>
              <a:xfrm>
                <a:off x="6303960" y="5319720"/>
                <a:ext cx="164520" cy="11736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Line 391"/>
              <p:cNvSpPr/>
              <p:nvPr/>
            </p:nvSpPr>
            <p:spPr>
              <a:xfrm>
                <a:off x="6303960" y="5360760"/>
                <a:ext cx="1645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Line 392"/>
              <p:cNvSpPr/>
              <p:nvPr/>
            </p:nvSpPr>
            <p:spPr>
              <a:xfrm>
                <a:off x="6303960" y="5387760"/>
                <a:ext cx="164520" cy="180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Rectangle 393"/>
              <p:cNvSpPr/>
              <p:nvPr/>
            </p:nvSpPr>
            <p:spPr>
              <a:xfrm>
                <a:off x="6424560" y="4927680"/>
                <a:ext cx="169560" cy="1188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Rectangle 394"/>
              <p:cNvSpPr/>
              <p:nvPr/>
            </p:nvSpPr>
            <p:spPr>
              <a:xfrm>
                <a:off x="6424560" y="4927680"/>
                <a:ext cx="169560" cy="118800"/>
              </a:xfrm>
              <a:prstGeom prst="rect">
                <a:avLst/>
              </a:prstGeom>
              <a:noFill/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1" name="Line 395"/>
              <p:cNvSpPr/>
              <p:nvPr/>
            </p:nvSpPr>
            <p:spPr>
              <a:xfrm>
                <a:off x="6424560" y="497052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2" name="Line 396"/>
              <p:cNvSpPr/>
              <p:nvPr/>
            </p:nvSpPr>
            <p:spPr>
              <a:xfrm>
                <a:off x="6424560" y="4997520"/>
                <a:ext cx="169560" cy="1440"/>
              </a:xfrm>
              <a:prstGeom prst="line">
                <a:avLst/>
              </a:prstGeom>
              <a:ln cap="sq" w="0">
                <a:solidFill>
                  <a:srgbClr val="cccc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3" name="Line 397"/>
              <p:cNvSpPr/>
              <p:nvPr/>
            </p:nvSpPr>
            <p:spPr>
              <a:xfrm flipV="1">
                <a:off x="6073560" y="4962240"/>
                <a:ext cx="285480" cy="838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4" name="Line 398"/>
              <p:cNvSpPr/>
              <p:nvPr/>
            </p:nvSpPr>
            <p:spPr>
              <a:xfrm flipH="1">
                <a:off x="6399000" y="5065560"/>
                <a:ext cx="55440" cy="21276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5" name="Line 399"/>
              <p:cNvSpPr/>
              <p:nvPr/>
            </p:nvSpPr>
            <p:spPr>
              <a:xfrm>
                <a:off x="6054480" y="5167440"/>
                <a:ext cx="190080" cy="11088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6" name="Line 400"/>
              <p:cNvSpPr/>
              <p:nvPr/>
            </p:nvSpPr>
            <p:spPr>
              <a:xfrm flipV="1">
                <a:off x="6505560" y="5281560"/>
                <a:ext cx="213840" cy="763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7" name="Rectangle 401"/>
              <p:cNvSpPr/>
              <p:nvPr/>
            </p:nvSpPr>
            <p:spPr>
              <a:xfrm>
                <a:off x="5864400" y="4997520"/>
                <a:ext cx="16488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8" name="Rectangle 402"/>
              <p:cNvSpPr/>
              <p:nvPr/>
            </p:nvSpPr>
            <p:spPr>
              <a:xfrm>
                <a:off x="5864400" y="4997520"/>
                <a:ext cx="16488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Line 403"/>
              <p:cNvSpPr/>
              <p:nvPr/>
            </p:nvSpPr>
            <p:spPr>
              <a:xfrm>
                <a:off x="5864400" y="5038560"/>
                <a:ext cx="1648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Line 404"/>
              <p:cNvSpPr/>
              <p:nvPr/>
            </p:nvSpPr>
            <p:spPr>
              <a:xfrm>
                <a:off x="5881680" y="5052960"/>
                <a:ext cx="147240" cy="144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Rectangle 405"/>
              <p:cNvSpPr/>
              <p:nvPr/>
            </p:nvSpPr>
            <p:spPr>
              <a:xfrm>
                <a:off x="6745320" y="5213160"/>
                <a:ext cx="169200" cy="1177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Rectangle 406"/>
              <p:cNvSpPr/>
              <p:nvPr/>
            </p:nvSpPr>
            <p:spPr>
              <a:xfrm>
                <a:off x="6745320" y="5213160"/>
                <a:ext cx="169200" cy="11772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Line 407"/>
              <p:cNvSpPr/>
              <p:nvPr/>
            </p:nvSpPr>
            <p:spPr>
              <a:xfrm>
                <a:off x="6745320" y="5259240"/>
                <a:ext cx="16920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Line 408"/>
              <p:cNvSpPr/>
              <p:nvPr/>
            </p:nvSpPr>
            <p:spPr>
              <a:xfrm>
                <a:off x="6745320" y="5281560"/>
                <a:ext cx="16920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Rectangle 409"/>
              <p:cNvSpPr/>
              <p:nvPr/>
            </p:nvSpPr>
            <p:spPr>
              <a:xfrm>
                <a:off x="6273720" y="5292720"/>
                <a:ext cx="16632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6" name="Rectangle 410"/>
              <p:cNvSpPr/>
              <p:nvPr/>
            </p:nvSpPr>
            <p:spPr>
              <a:xfrm>
                <a:off x="6273720" y="5292720"/>
                <a:ext cx="16632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7" name="Line 411"/>
              <p:cNvSpPr/>
              <p:nvPr/>
            </p:nvSpPr>
            <p:spPr>
              <a:xfrm>
                <a:off x="6273720" y="5334120"/>
                <a:ext cx="16632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8" name="Line 412"/>
              <p:cNvSpPr/>
              <p:nvPr/>
            </p:nvSpPr>
            <p:spPr>
              <a:xfrm>
                <a:off x="6273720" y="5360760"/>
                <a:ext cx="16632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9" name="Rectangle 413"/>
              <p:cNvSpPr/>
              <p:nvPr/>
            </p:nvSpPr>
            <p:spPr>
              <a:xfrm>
                <a:off x="6394320" y="4902120"/>
                <a:ext cx="169560" cy="11736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0" name="Rectangle 414"/>
              <p:cNvSpPr/>
              <p:nvPr/>
            </p:nvSpPr>
            <p:spPr>
              <a:xfrm>
                <a:off x="6394320" y="4902120"/>
                <a:ext cx="169560" cy="1173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1" name="Line 415"/>
              <p:cNvSpPr/>
              <p:nvPr/>
            </p:nvSpPr>
            <p:spPr>
              <a:xfrm>
                <a:off x="6394320" y="4970520"/>
                <a:ext cx="16956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82" name="Group 416"/>
          <p:cNvGrpSpPr/>
          <p:nvPr/>
        </p:nvGrpSpPr>
        <p:grpSpPr>
          <a:xfrm>
            <a:off x="1386000" y="1776240"/>
            <a:ext cx="1600200" cy="1295640"/>
            <a:chOff x="1386000" y="1776240"/>
            <a:chExt cx="1600200" cy="1295640"/>
          </a:xfrm>
        </p:grpSpPr>
        <p:sp>
          <p:nvSpPr>
            <p:cNvPr id="883" name="Arc 417"/>
            <p:cNvSpPr/>
            <p:nvPr/>
          </p:nvSpPr>
          <p:spPr>
            <a:xfrm>
              <a:off x="1386000" y="1776240"/>
              <a:ext cx="990720" cy="129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Text Box 418"/>
            <p:cNvSpPr/>
            <p:nvPr/>
          </p:nvSpPr>
          <p:spPr>
            <a:xfrm>
              <a:off x="1462320" y="22780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Specified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5" name="Group 419"/>
          <p:cNvGrpSpPr/>
          <p:nvPr/>
        </p:nvGrpSpPr>
        <p:grpSpPr>
          <a:xfrm>
            <a:off x="1386000" y="1776240"/>
            <a:ext cx="2818800" cy="2210040"/>
            <a:chOff x="1386000" y="1776240"/>
            <a:chExt cx="2818800" cy="2210040"/>
          </a:xfrm>
        </p:grpSpPr>
        <p:sp>
          <p:nvSpPr>
            <p:cNvPr id="886" name="Arc 420"/>
            <p:cNvSpPr/>
            <p:nvPr/>
          </p:nvSpPr>
          <p:spPr>
            <a:xfrm>
              <a:off x="1386000" y="1776240"/>
              <a:ext cx="2590560" cy="2210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Text Box 421"/>
            <p:cNvSpPr/>
            <p:nvPr/>
          </p:nvSpPr>
          <p:spPr>
            <a:xfrm>
              <a:off x="2681280" y="265896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Realized 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8" name="Group 422"/>
          <p:cNvGrpSpPr/>
          <p:nvPr/>
        </p:nvGrpSpPr>
        <p:grpSpPr>
          <a:xfrm>
            <a:off x="1386000" y="1776240"/>
            <a:ext cx="4343400" cy="2514600"/>
            <a:chOff x="1386000" y="1776240"/>
            <a:chExt cx="4343400" cy="2514600"/>
          </a:xfrm>
        </p:grpSpPr>
        <p:sp>
          <p:nvSpPr>
            <p:cNvPr id="889" name="Arc 423"/>
            <p:cNvSpPr/>
            <p:nvPr/>
          </p:nvSpPr>
          <p:spPr>
            <a:xfrm>
              <a:off x="1386000" y="1776240"/>
              <a:ext cx="3886200" cy="25146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Text Box 424"/>
            <p:cNvSpPr/>
            <p:nvPr/>
          </p:nvSpPr>
          <p:spPr>
            <a:xfrm>
              <a:off x="3976920" y="311616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mplemented</a:t>
              </a:r>
              <a:r>
                <a:rPr b="1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1" name="Group 425"/>
          <p:cNvGrpSpPr/>
          <p:nvPr/>
        </p:nvGrpSpPr>
        <p:grpSpPr>
          <a:xfrm>
            <a:off x="1386000" y="1700280"/>
            <a:ext cx="5715000" cy="3276360"/>
            <a:chOff x="1386000" y="1700280"/>
            <a:chExt cx="5715000" cy="3276360"/>
          </a:xfrm>
        </p:grpSpPr>
        <p:sp>
          <p:nvSpPr>
            <p:cNvPr id="892" name="Arc 426"/>
            <p:cNvSpPr/>
            <p:nvPr/>
          </p:nvSpPr>
          <p:spPr>
            <a:xfrm>
              <a:off x="1386000" y="1700280"/>
              <a:ext cx="5486400" cy="3276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Text Box 427"/>
            <p:cNvSpPr/>
            <p:nvPr/>
          </p:nvSpPr>
          <p:spPr>
            <a:xfrm>
              <a:off x="5577120" y="38019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Distributed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4" name="Group 428"/>
          <p:cNvGrpSpPr/>
          <p:nvPr/>
        </p:nvGrpSpPr>
        <p:grpSpPr>
          <a:xfrm>
            <a:off x="1386000" y="1700280"/>
            <a:ext cx="7162200" cy="3733560"/>
            <a:chOff x="1386000" y="1700280"/>
            <a:chExt cx="7162200" cy="3733560"/>
          </a:xfrm>
        </p:grpSpPr>
        <p:sp>
          <p:nvSpPr>
            <p:cNvPr id="895" name="Arc 429"/>
            <p:cNvSpPr/>
            <p:nvPr/>
          </p:nvSpPr>
          <p:spPr>
            <a:xfrm>
              <a:off x="1386000" y="1700280"/>
              <a:ext cx="6705360" cy="3733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Text Box 430"/>
            <p:cNvSpPr/>
            <p:nvPr/>
          </p:nvSpPr>
          <p:spPr>
            <a:xfrm>
              <a:off x="7024680" y="441144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Verified b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7" name="Rectangle 431"/>
          <p:cNvSpPr/>
          <p:nvPr/>
        </p:nvSpPr>
        <p:spPr>
          <a:xfrm>
            <a:off x="4643280" y="155736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راهبري بر مبناي مو</a:t>
            </a: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ا</a:t>
            </a:r>
            <a:r>
              <a:rPr b="1" lang="ar-SA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رد كاربري يع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F204-DD9F-4EB9-89FE-33A0E1F6EA0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به ‌عنوان يک فرآيند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AutoShape 3"/>
          <p:cNvSpPr/>
          <p:nvPr/>
        </p:nvSpPr>
        <p:spPr>
          <a:xfrm>
            <a:off x="1281240" y="1698840"/>
            <a:ext cx="4298760" cy="914040"/>
          </a:xfrm>
          <a:prstGeom prst="roundRect">
            <a:avLst>
              <a:gd name="adj" fmla="val 16667"/>
            </a:avLst>
          </a:prstGeom>
          <a:solidFill>
            <a:srgbClr val="c481c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Software Development Process (USD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AutoShape 4"/>
          <p:cNvSpPr/>
          <p:nvPr/>
        </p:nvSpPr>
        <p:spPr>
          <a:xfrm>
            <a:off x="4443480" y="3576960"/>
            <a:ext cx="4089240" cy="914040"/>
          </a:xfrm>
          <a:prstGeom prst="roundRect">
            <a:avLst>
              <a:gd name="adj" fmla="val 16667"/>
            </a:avLst>
          </a:prstGeom>
          <a:solidFill>
            <a:srgbClr val="c4709a"/>
          </a:solidFill>
          <a:ln w="9360">
            <a:solidFill>
              <a:srgbClr val="315f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 Unified Process(R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Text Box 5"/>
          <p:cNvSpPr/>
          <p:nvPr/>
        </p:nvSpPr>
        <p:spPr>
          <a:xfrm>
            <a:off x="633240" y="2777760"/>
            <a:ext cx="25909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ustomiz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By Ratio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AutoShape 6"/>
          <p:cNvSpPr/>
          <p:nvPr/>
        </p:nvSpPr>
        <p:spPr>
          <a:xfrm flipV="1">
            <a:off x="3300480" y="4078440"/>
            <a:ext cx="1143000" cy="2133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AutoShape 7"/>
          <p:cNvSpPr/>
          <p:nvPr/>
        </p:nvSpPr>
        <p:spPr>
          <a:xfrm>
            <a:off x="4443480" y="5406480"/>
            <a:ext cx="4051080" cy="509400"/>
          </a:xfrm>
          <a:prstGeom prst="roundRect">
            <a:avLst>
              <a:gd name="adj" fmla="val 16667"/>
            </a:avLst>
          </a:prstGeom>
          <a:solidFill>
            <a:srgbClr val="c4709a"/>
          </a:solidFill>
          <a:ln w="9360">
            <a:solidFill>
              <a:srgbClr val="315f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Enterpris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Text Box 8"/>
          <p:cNvSpPr/>
          <p:nvPr/>
        </p:nvSpPr>
        <p:spPr>
          <a:xfrm>
            <a:off x="557280" y="4655520"/>
            <a:ext cx="28954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ustomiz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By My Enterpr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AutoShape 9"/>
          <p:cNvSpPr/>
          <p:nvPr/>
        </p:nvSpPr>
        <p:spPr>
          <a:xfrm flipV="1">
            <a:off x="3224160" y="2706120"/>
            <a:ext cx="1143000" cy="180180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36C-E53E-4D5F-A15A-38B2C9A9C8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بعنوان يك محصول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چون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ستند‌سازي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U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وسيله اسناد كاغذي ميسر نيست از اسناد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TML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ستفاده شده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200" y="2706480"/>
            <a:ext cx="1297080" cy="650880"/>
            <a:chOff x="6370200" y="2706480"/>
            <a:chExt cx="1297080" cy="650880"/>
          </a:xfrm>
        </p:grpSpPr>
        <p:sp>
          <p:nvSpPr>
            <p:cNvPr id="911" name="AutoShape 6"/>
            <p:cNvSpPr/>
            <p:nvPr/>
          </p:nvSpPr>
          <p:spPr>
            <a:xfrm rot="16176600">
              <a:off x="6291000" y="2788920"/>
              <a:ext cx="647640" cy="485640"/>
            </a:xfrm>
            <a:prstGeom prst="leftArrow">
              <a:avLst>
                <a:gd name="adj1" fmla="val 60787"/>
                <a:gd name="adj2" fmla="val 46305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Text Box 7"/>
            <p:cNvSpPr/>
            <p:nvPr/>
          </p:nvSpPr>
          <p:spPr>
            <a:xfrm>
              <a:off x="6829200" y="2815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cc3300"/>
                  </a:solidFill>
                  <a:latin typeface="Times New Roman"/>
                  <a:cs typeface="Homa"/>
                </a:rPr>
                <a:t>بوسيل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3" name="Rectangle 8"/>
          <p:cNvSpPr/>
          <p:nvPr/>
        </p:nvSpPr>
        <p:spPr>
          <a:xfrm>
            <a:off x="539640" y="3429000"/>
            <a:ext cx="7704360" cy="3024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  <a:cs typeface="Nazanin"/>
              </a:rPr>
              <a:t>راهنماهاي لازم براي بكارگيري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Nazanin"/>
              </a:rPr>
              <a:t>RUP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 به عنوان يك فرآيند توليد در مراحل مختلف توليد نرم‌افزار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  <a:cs typeface="Nazanin"/>
              </a:rPr>
              <a:t>راهنماهاي ابزار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 (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Nazanin"/>
              </a:rPr>
              <a:t>Tools Mentors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  <a:cs typeface="Nazanin"/>
              </a:rPr>
              <a:t>الگوها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 (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Nazanin"/>
              </a:rPr>
              <a:t>Templates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  <a:cs typeface="Nazanin"/>
              </a:rPr>
              <a:t>يك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Nazanin"/>
              </a:rPr>
              <a:t>Development Kit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 كه چگونگي تغيير، گسترش و تنظيم‌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  <a:cs typeface="Nazanin"/>
              </a:rPr>
              <a:t>ويژه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Nazanin"/>
              </a:rPr>
              <a:t>RUP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 را نشان م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  <a:cs typeface="Nazanin"/>
              </a:rPr>
              <a:t>دهد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105-06B4-4514-B6EF-7B296EB0DB8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 توليد نرم‌افزار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فرآيند توليد نرم‌افزا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چهار نقش اساس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ا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شخص نمودن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ترتيب فعاليت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ي كه بايد صورت گيرد تا نيازمند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كاربران به يك محصول واقعي تبديل شو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يان اينكه چ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فرآورده‌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ي بايد توليد شوند و در چ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زمان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عيين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روش ادار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وظايف توسع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هندگان منفرد و تيمي،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نقش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ي مورد نياز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در پروژ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و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انتساب اين نقش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به اعضاي تيم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-2286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راهم نمودن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عيارهاي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oftware Metrics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براي انداز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يري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كيفيت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حصولات پروژه و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روند پيشرفت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فعال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آن 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D4D1-230D-4A7C-9F6F-6B68268690A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بعنوان يك محصول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16" name="Picture 5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14DE-B371-4E94-9366-249EF17BE82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 نگاه‌هاي ذيل را به فرآيند داشت: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tr"/>
              </a:rPr>
              <a:t>)  جعبه سياه</a:t>
            </a:r>
            <a:r>
              <a:rPr b="1" lang="fa-IR" sz="2600" spc="-1" strike="noStrike">
                <a:solidFill>
                  <a:srgbClr val="000000"/>
                </a:solidFill>
                <a:latin typeface="Times New Roman"/>
                <a:ea typeface="Titr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tr"/>
              </a:rPr>
              <a:t>Black Box</a:t>
            </a:r>
            <a:r>
              <a:rPr b="1" lang="fa-IR" sz="2600" spc="-1" strike="noStrike">
                <a:solidFill>
                  <a:srgbClr val="000000"/>
                </a:solidFill>
                <a:latin typeface="Times New Roman"/>
                <a:ea typeface="Titr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Times New Roman"/>
                <a:ea typeface="Titr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tr"/>
              </a:rPr>
              <a:t>) با توجه به مدت كاركرد مفيد سيستم نرم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tr"/>
              </a:rPr>
              <a:t>افزار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20" name="Group 28"/>
          <p:cNvGrpSpPr/>
          <p:nvPr/>
        </p:nvGrpSpPr>
        <p:grpSpPr>
          <a:xfrm>
            <a:off x="755640" y="2924280"/>
            <a:ext cx="6985080" cy="939600"/>
            <a:chOff x="755640" y="2924280"/>
            <a:chExt cx="6985080" cy="939600"/>
          </a:xfrm>
        </p:grpSpPr>
        <p:sp>
          <p:nvSpPr>
            <p:cNvPr id="921" name="Rectangle 5"/>
            <p:cNvSpPr/>
            <p:nvPr/>
          </p:nvSpPr>
          <p:spPr>
            <a:xfrm>
              <a:off x="3348000" y="2924280"/>
              <a:ext cx="1944720" cy="936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ahoma"/>
                  <a:cs typeface="Nazanin"/>
                </a:rPr>
                <a:t>فرآيند توليد و توسعه نرم</a:t>
              </a:r>
              <a:r>
                <a:rPr b="1" lang="ar-SA" sz="2000" spc="-1" strike="noStrike">
                  <a:solidFill>
                    <a:srgbClr val="000000"/>
                  </a:solidFill>
                  <a:latin typeface="Tahoma"/>
                </a:rPr>
                <a:t>‌</a:t>
              </a:r>
              <a:r>
                <a:rPr b="1" lang="ar-SA" sz="2000" spc="-1" strike="noStrike">
                  <a:solidFill>
                    <a:srgbClr val="000000"/>
                  </a:solidFill>
                  <a:latin typeface="Tahoma"/>
                  <a:cs typeface="Nazanin"/>
                </a:rPr>
                <a:t>افزار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Text Box 8"/>
            <p:cNvSpPr/>
            <p:nvPr/>
          </p:nvSpPr>
          <p:spPr>
            <a:xfrm>
              <a:off x="755640" y="2995560"/>
              <a:ext cx="168912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4b4eb5"/>
                  </a:solidFill>
                  <a:latin typeface="Times New Roman (Arabic)"/>
                  <a:cs typeface="Nazanin"/>
                </a:rPr>
                <a:t>نيازمندي</a:t>
              </a:r>
              <a:r>
                <a:rPr b="1" lang="fa-IR" sz="2000" spc="-1" strike="noStrike">
                  <a:solidFill>
                    <a:srgbClr val="4b4eb5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2000" spc="-1" strike="noStrike">
                  <a:solidFill>
                    <a:srgbClr val="4b4eb5"/>
                  </a:solidFill>
                  <a:latin typeface="Times New Roman (Arabic)"/>
                  <a:cs typeface="Nazanin"/>
                </a:rPr>
                <a:t>هاي جديد يا تغيير يافته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Line 9"/>
            <p:cNvSpPr/>
            <p:nvPr/>
          </p:nvSpPr>
          <p:spPr>
            <a:xfrm>
              <a:off x="5292720" y="3392640"/>
              <a:ext cx="72072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Text Box 10"/>
            <p:cNvSpPr/>
            <p:nvPr/>
          </p:nvSpPr>
          <p:spPr>
            <a:xfrm>
              <a:off x="6156360" y="2997360"/>
              <a:ext cx="1584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4b4eb5"/>
                  </a:solidFill>
                  <a:latin typeface="Times New Roman (Arabic)"/>
                  <a:cs typeface="Nazanin"/>
                </a:rPr>
                <a:t>محصول جديد يا تغيير يافته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Line 11"/>
            <p:cNvSpPr/>
            <p:nvPr/>
          </p:nvSpPr>
          <p:spPr>
            <a:xfrm>
              <a:off x="2629080" y="3392640"/>
              <a:ext cx="72072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6" name="Group 29"/>
          <p:cNvGrpSpPr/>
          <p:nvPr/>
        </p:nvGrpSpPr>
        <p:grpSpPr>
          <a:xfrm>
            <a:off x="1042920" y="4925520"/>
            <a:ext cx="6553440" cy="1672200"/>
            <a:chOff x="1042920" y="4925520"/>
            <a:chExt cx="6553440" cy="1672200"/>
          </a:xfrm>
        </p:grpSpPr>
        <p:grpSp>
          <p:nvGrpSpPr>
            <p:cNvPr id="927" name="Group 13"/>
            <p:cNvGrpSpPr/>
            <p:nvPr/>
          </p:nvGrpSpPr>
          <p:grpSpPr>
            <a:xfrm>
              <a:off x="1697040" y="4925520"/>
              <a:ext cx="5757840" cy="414720"/>
              <a:chOff x="1697040" y="4925520"/>
              <a:chExt cx="5757840" cy="414720"/>
            </a:xfrm>
          </p:grpSpPr>
          <p:sp>
            <p:nvSpPr>
              <p:cNvPr id="928" name="Line 14"/>
              <p:cNvSpPr/>
              <p:nvPr/>
            </p:nvSpPr>
            <p:spPr>
              <a:xfrm>
                <a:off x="1697040" y="5340240"/>
                <a:ext cx="575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15"/>
              <p:cNvSpPr/>
              <p:nvPr/>
            </p:nvSpPr>
            <p:spPr>
              <a:xfrm>
                <a:off x="1866240" y="4925880"/>
                <a:ext cx="4911120" cy="41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Line 16"/>
              <p:cNvSpPr/>
              <p:nvPr/>
            </p:nvSpPr>
            <p:spPr>
              <a:xfrm flipV="1">
                <a:off x="2374200" y="4925520"/>
                <a:ext cx="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 flipV="1">
                <a:off x="2882160" y="4925520"/>
                <a:ext cx="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2" name="Line 18"/>
              <p:cNvSpPr/>
              <p:nvPr/>
            </p:nvSpPr>
            <p:spPr>
              <a:xfrm flipV="1">
                <a:off x="5761440" y="4925520"/>
                <a:ext cx="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6269400" y="4925520"/>
                <a:ext cx="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4" name="Text Box 20"/>
              <p:cNvSpPr/>
              <p:nvPr/>
            </p:nvSpPr>
            <p:spPr>
              <a:xfrm>
                <a:off x="3387600" y="4925880"/>
                <a:ext cx="20322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Nazani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5" name="Text Box 21"/>
            <p:cNvSpPr/>
            <p:nvPr/>
          </p:nvSpPr>
          <p:spPr>
            <a:xfrm>
              <a:off x="1044720" y="4941720"/>
              <a:ext cx="5745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993300"/>
                  </a:solidFill>
                  <a:latin typeface="Times New Roman (Arabic)"/>
                  <a:cs typeface="Nazanin"/>
                </a:rPr>
                <a:t>تولد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Text Box 22"/>
            <p:cNvSpPr/>
            <p:nvPr/>
          </p:nvSpPr>
          <p:spPr>
            <a:xfrm>
              <a:off x="6948360" y="4940280"/>
              <a:ext cx="6480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993300"/>
                  </a:solidFill>
                  <a:latin typeface="Times New Roman (Arabic)"/>
                  <a:cs typeface="Nazanin"/>
                </a:rPr>
                <a:t>مرگ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Line 23"/>
            <p:cNvSpPr/>
            <p:nvPr/>
          </p:nvSpPr>
          <p:spPr>
            <a:xfrm flipH="1" flipV="1">
              <a:off x="2374560" y="5346720"/>
              <a:ext cx="33804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Line 24"/>
            <p:cNvSpPr/>
            <p:nvPr/>
          </p:nvSpPr>
          <p:spPr>
            <a:xfrm flipV="1">
              <a:off x="2712960" y="5346720"/>
              <a:ext cx="16992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Line 25"/>
            <p:cNvSpPr/>
            <p:nvPr/>
          </p:nvSpPr>
          <p:spPr>
            <a:xfrm flipV="1">
              <a:off x="2712960" y="5346720"/>
              <a:ext cx="304812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26"/>
            <p:cNvSpPr/>
            <p:nvPr/>
          </p:nvSpPr>
          <p:spPr>
            <a:xfrm flipV="1">
              <a:off x="2712960" y="5346720"/>
              <a:ext cx="406404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Text Box 27"/>
            <p:cNvSpPr/>
            <p:nvPr/>
          </p:nvSpPr>
          <p:spPr>
            <a:xfrm>
              <a:off x="1042920" y="6237360"/>
              <a:ext cx="395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33"/>
                  </a:solidFill>
                  <a:latin typeface="Times New Roman (Arabic)"/>
                  <a:cs typeface="Nazanin"/>
                </a:rPr>
                <a:t>نسخه</a:t>
              </a:r>
              <a:r>
                <a:rPr b="1" lang="ar-SA" sz="2400" spc="-1" strike="noStrike">
                  <a:solidFill>
                    <a:srgbClr val="333333"/>
                  </a:solidFill>
                  <a:latin typeface="Times New Roman (Arabic)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333333"/>
                  </a:solidFill>
                  <a:latin typeface="Times New Roman (Arabic)"/>
                  <a:cs typeface="Nazanin"/>
                </a:rPr>
                <a:t>ها يا نشرها (</a:t>
              </a:r>
              <a:r>
                <a:rPr b="1" i="1" lang="en-US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Releases</a:t>
              </a:r>
              <a:r>
                <a:rPr b="1" lang="ar-SA" sz="2400" spc="-1" strike="noStrike">
                  <a:solidFill>
                    <a:srgbClr val="333333"/>
                  </a:solidFill>
                  <a:latin typeface="Times New Roman (Arabic)"/>
                  <a:ea typeface="Nazanin"/>
                </a:rPr>
                <a:t>) مختلف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42DA-5D21-4D95-8DDC-8AE0FAD51E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3" name="Picture 4" descr="CONSTRUC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395280" y="1494000"/>
            <a:ext cx="8072280" cy="495936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رم‌افزار يك محصول فيزيكي ك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يك با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توليد و مستهلك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 نيست، بلكه مانند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وجود زنده‌ا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ه در سازمان تولد و رشد كرده و در دوران حيات خود بايد با تغيير نيازهاي سازمان و اهداف و مامور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آن خود را تطبيق ده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9918-217F-437E-ABB8-5F4AF2AE268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ثال: زندگي انسان!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ولد و مرگ د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اراي دور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گوناگون: كودكي، نوجواني، جواني، و پيري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ر دوره داراي ويژگيها و نيازهاي مختص خو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ر ميان دور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 نيازهاي مشتركي زيادي وجود دار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ولي شيوه برآوردن آنها از يكديگر متفاوت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مچنين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ميزان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اكيد روي هركدام متفاوت اس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539640" y="2924280"/>
            <a:ext cx="8153640" cy="11509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algn="ctr" rtl="1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ي‌توان دوران حيات نرم‌افزار را به زندگي انسان تشبيه كرد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B312-65CC-4408-9BD7-6B4D11A8481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وران حيات يك سيستم نرم‌افزاري شامل دوره‌هاي گوناگوني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يان آنها فعاليت‌هاي مشتركي وجود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دا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هر دوره به اندازه معيني روي هر كدام از اين فعاليت‌ها تاكيد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ركدام از اين دور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مي‌توانند فعاليت‌هاي ويژه خود را داشته با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7B6A-B6DD-4072-BB72-4EA58A7A08D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11280" y="155736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  <a:cs typeface="Nazanin"/>
              </a:rPr>
              <a:t>در</a:t>
            </a:r>
            <a:r>
              <a:rPr b="1" lang="fa-IR" sz="3000" spc="-1" strike="noStrike">
                <a:solidFill>
                  <a:srgbClr val="000066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RUP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ea typeface="Nazanin"/>
              </a:rPr>
              <a:t> دوران حيات يك نرم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ea typeface="Lotus"/>
              </a:rPr>
              <a:t>‌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cs typeface="Nazanin"/>
              </a:rPr>
              <a:t>افزار به چهار مرحل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  <a:cs typeface="Nazanin"/>
              </a:rPr>
              <a:t>آغازين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cs typeface="Nazanin"/>
              </a:rPr>
              <a:t>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  <a:cs typeface="Nazanin"/>
              </a:rPr>
              <a:t>تشريح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cs typeface="Nazanin"/>
              </a:rPr>
              <a:t>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  <a:cs typeface="Nazanin"/>
              </a:rPr>
              <a:t>ساخت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ea typeface="Nazanin"/>
              </a:rPr>
              <a:t> و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  <a:cs typeface="Nazanin"/>
              </a:rPr>
              <a:t>انتقال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ea typeface="Nazanin"/>
              </a:rPr>
              <a:t> تقسيم مي</a:t>
            </a:r>
            <a:r>
              <a:rPr b="1" lang="fa-IR" sz="30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3000" spc="-1" strike="noStrike">
                <a:solidFill>
                  <a:srgbClr val="000066"/>
                </a:solidFill>
                <a:latin typeface="Times New Roman"/>
                <a:cs typeface="Nazanin"/>
              </a:rPr>
              <a:t>شود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302400" y="3284640"/>
            <a:ext cx="7935120" cy="2766960"/>
            <a:chOff x="302400" y="3284640"/>
            <a:chExt cx="7935120" cy="2766960"/>
          </a:xfrm>
        </p:grpSpPr>
        <p:grpSp>
          <p:nvGrpSpPr>
            <p:cNvPr id="957" name="Group 6"/>
            <p:cNvGrpSpPr/>
            <p:nvPr/>
          </p:nvGrpSpPr>
          <p:grpSpPr>
            <a:xfrm>
              <a:off x="1123920" y="3589560"/>
              <a:ext cx="6977160" cy="1079280"/>
              <a:chOff x="1123920" y="3589560"/>
              <a:chExt cx="6977160" cy="1079280"/>
            </a:xfrm>
          </p:grpSpPr>
          <p:sp>
            <p:nvSpPr>
              <p:cNvPr id="958" name="Rectangle 7"/>
              <p:cNvSpPr/>
              <p:nvPr/>
            </p:nvSpPr>
            <p:spPr>
              <a:xfrm>
                <a:off x="1123920" y="3589560"/>
                <a:ext cx="6977160" cy="1079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59" name="Group 8"/>
              <p:cNvGrpSpPr/>
              <p:nvPr/>
            </p:nvGrpSpPr>
            <p:grpSpPr>
              <a:xfrm>
                <a:off x="1487880" y="3665520"/>
                <a:ext cx="6163920" cy="305640"/>
                <a:chOff x="1487880" y="3665520"/>
                <a:chExt cx="6163920" cy="305640"/>
              </a:xfrm>
            </p:grpSpPr>
            <p:sp>
              <p:nvSpPr>
                <p:cNvPr id="960" name="Rectangle 9"/>
                <p:cNvSpPr/>
                <p:nvPr/>
              </p:nvSpPr>
              <p:spPr>
                <a:xfrm>
                  <a:off x="1487880" y="3665520"/>
                  <a:ext cx="9759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ce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1" name="Rectangle 10"/>
                <p:cNvSpPr/>
                <p:nvPr/>
              </p:nvSpPr>
              <p:spPr>
                <a:xfrm>
                  <a:off x="2808720" y="3665520"/>
                  <a:ext cx="11649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abor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2" name="Rectangle 11"/>
                <p:cNvSpPr/>
                <p:nvPr/>
              </p:nvSpPr>
              <p:spPr>
                <a:xfrm>
                  <a:off x="4620240" y="3665520"/>
                  <a:ext cx="1291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nstru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3" name="Rectangle 12"/>
                <p:cNvSpPr/>
                <p:nvPr/>
              </p:nvSpPr>
              <p:spPr>
                <a:xfrm>
                  <a:off x="6605640" y="3665520"/>
                  <a:ext cx="10461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ransi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64" name="Group 13"/>
              <p:cNvGrpSpPr/>
              <p:nvPr/>
            </p:nvGrpSpPr>
            <p:grpSpPr>
              <a:xfrm>
                <a:off x="1285920" y="3730320"/>
                <a:ext cx="6613560" cy="298800"/>
                <a:chOff x="1285920" y="3730320"/>
                <a:chExt cx="6613560" cy="298800"/>
              </a:xfrm>
            </p:grpSpPr>
            <p:sp>
              <p:nvSpPr>
                <p:cNvPr id="965" name="Line 14"/>
                <p:cNvSpPr/>
                <p:nvPr/>
              </p:nvSpPr>
              <p:spPr>
                <a:xfrm>
                  <a:off x="1285920" y="4024440"/>
                  <a:ext cx="6613560" cy="46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15"/>
                <p:cNvSpPr/>
                <p:nvPr/>
              </p:nvSpPr>
              <p:spPr>
                <a:xfrm flipV="1">
                  <a:off x="2654280" y="3735360"/>
                  <a:ext cx="0" cy="293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16"/>
                <p:cNvSpPr/>
                <p:nvPr/>
              </p:nvSpPr>
              <p:spPr>
                <a:xfrm flipV="1">
                  <a:off x="4143240" y="3735360"/>
                  <a:ext cx="0" cy="293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17"/>
                <p:cNvSpPr/>
                <p:nvPr/>
              </p:nvSpPr>
              <p:spPr>
                <a:xfrm flipV="1">
                  <a:off x="6415200" y="3730320"/>
                  <a:ext cx="0" cy="298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18"/>
                <p:cNvSpPr/>
                <p:nvPr/>
              </p:nvSpPr>
              <p:spPr>
                <a:xfrm flipV="1">
                  <a:off x="7896240" y="3735360"/>
                  <a:ext cx="0" cy="293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19"/>
                <p:cNvSpPr/>
                <p:nvPr/>
              </p:nvSpPr>
              <p:spPr>
                <a:xfrm flipV="1">
                  <a:off x="1285920" y="3735360"/>
                  <a:ext cx="0" cy="293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1" name="Rectangle 20"/>
              <p:cNvSpPr/>
              <p:nvPr/>
            </p:nvSpPr>
            <p:spPr>
              <a:xfrm>
                <a:off x="1576080" y="4023000"/>
                <a:ext cx="8024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eliminary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(s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2" name="Rectangle 21"/>
              <p:cNvSpPr/>
              <p:nvPr/>
            </p:nvSpPr>
            <p:spPr>
              <a:xfrm>
                <a:off x="2701800" y="4023000"/>
                <a:ext cx="633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#1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3" name="Rectangle 22"/>
              <p:cNvSpPr/>
              <p:nvPr/>
            </p:nvSpPr>
            <p:spPr>
              <a:xfrm>
                <a:off x="3448080" y="4023000"/>
                <a:ext cx="633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#2. . .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4" name="Rectangle 23"/>
              <p:cNvSpPr/>
              <p:nvPr/>
            </p:nvSpPr>
            <p:spPr>
              <a:xfrm>
                <a:off x="4145040" y="4023000"/>
                <a:ext cx="633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#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5" name="Rectangle 24"/>
              <p:cNvSpPr/>
              <p:nvPr/>
            </p:nvSpPr>
            <p:spPr>
              <a:xfrm>
                <a:off x="4924440" y="4023000"/>
                <a:ext cx="633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#n+1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6" name="Rectangle 25"/>
              <p:cNvSpPr/>
              <p:nvPr/>
            </p:nvSpPr>
            <p:spPr>
              <a:xfrm>
                <a:off x="5673240" y="4023000"/>
                <a:ext cx="6789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#n+2 . . .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7" name="Rectangle 26"/>
              <p:cNvSpPr/>
              <p:nvPr/>
            </p:nvSpPr>
            <p:spPr>
              <a:xfrm>
                <a:off x="6483240" y="4023000"/>
                <a:ext cx="633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#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8" name="Rectangle 27"/>
              <p:cNvSpPr/>
              <p:nvPr/>
            </p:nvSpPr>
            <p:spPr>
              <a:xfrm>
                <a:off x="7233840" y="4023000"/>
                <a:ext cx="6789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ts val="998"/>
                  </a:lnSpc>
                  <a:spcAft>
                    <a:spcPts val="2701"/>
                  </a:spcAft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ter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#n+1 . . .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9" name="Line 28"/>
              <p:cNvSpPr/>
              <p:nvPr/>
            </p:nvSpPr>
            <p:spPr>
              <a:xfrm>
                <a:off x="2646360" y="401328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0" name="Line 29"/>
              <p:cNvSpPr/>
              <p:nvPr/>
            </p:nvSpPr>
            <p:spPr>
              <a:xfrm>
                <a:off x="3405240" y="401328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1" name="Line 30"/>
              <p:cNvSpPr/>
              <p:nvPr/>
            </p:nvSpPr>
            <p:spPr>
              <a:xfrm>
                <a:off x="4127400" y="401328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2" name="Line 31"/>
              <p:cNvSpPr/>
              <p:nvPr/>
            </p:nvSpPr>
            <p:spPr>
              <a:xfrm>
                <a:off x="4876920" y="401328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3" name="Line 32"/>
              <p:cNvSpPr/>
              <p:nvPr/>
            </p:nvSpPr>
            <p:spPr>
              <a:xfrm>
                <a:off x="5641920" y="403560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4" name="Line 33"/>
              <p:cNvSpPr/>
              <p:nvPr/>
            </p:nvSpPr>
            <p:spPr>
              <a:xfrm>
                <a:off x="6407280" y="4023000"/>
                <a:ext cx="0" cy="37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5" name="Line 34"/>
              <p:cNvSpPr/>
              <p:nvPr/>
            </p:nvSpPr>
            <p:spPr>
              <a:xfrm>
                <a:off x="7142040" y="4023000"/>
                <a:ext cx="0" cy="37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6" name="Line 35"/>
              <p:cNvSpPr/>
              <p:nvPr/>
            </p:nvSpPr>
            <p:spPr>
              <a:xfrm>
                <a:off x="7893000" y="4023000"/>
                <a:ext cx="0" cy="37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87" name="Rectangle 36"/>
            <p:cNvSpPr/>
            <p:nvPr/>
          </p:nvSpPr>
          <p:spPr>
            <a:xfrm>
              <a:off x="302400" y="5194440"/>
              <a:ext cx="9576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ts val="1998"/>
                </a:lnSpc>
                <a:spcBef>
                  <a:spcPts val="901"/>
                </a:spcBef>
                <a:spcAft>
                  <a:spcPts val="2701"/>
                </a:spcAft>
                <a:tabLst>
                  <a:tab algn="l" pos="0"/>
                  <a:tab algn="l" pos="285840"/>
                  <a:tab algn="l" pos="571680"/>
                  <a:tab algn="l" pos="857160"/>
                  <a:tab algn="l" pos="1143000"/>
                  <a:tab algn="l" pos="1428840"/>
                  <a:tab algn="l" pos="1714680"/>
                  <a:tab algn="l" pos="20001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leas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Arc 37"/>
            <p:cNvSpPr/>
            <p:nvPr/>
          </p:nvSpPr>
          <p:spPr>
            <a:xfrm>
              <a:off x="1174680" y="4480200"/>
              <a:ext cx="1428840" cy="50472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Arc 38"/>
            <p:cNvSpPr/>
            <p:nvPr/>
          </p:nvSpPr>
          <p:spPr>
            <a:xfrm>
              <a:off x="1189080" y="4494240"/>
              <a:ext cx="2165400" cy="64296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Arc 39"/>
            <p:cNvSpPr/>
            <p:nvPr/>
          </p:nvSpPr>
          <p:spPr>
            <a:xfrm>
              <a:off x="1174680" y="4510080"/>
              <a:ext cx="2944800" cy="77976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Arc 40"/>
            <p:cNvSpPr/>
            <p:nvPr/>
          </p:nvSpPr>
          <p:spPr>
            <a:xfrm>
              <a:off x="1203480" y="4480200"/>
              <a:ext cx="3709800" cy="96192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Arc 41"/>
            <p:cNvSpPr/>
            <p:nvPr/>
          </p:nvSpPr>
          <p:spPr>
            <a:xfrm>
              <a:off x="1203480" y="4510080"/>
              <a:ext cx="4459320" cy="108432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Arc 42"/>
            <p:cNvSpPr/>
            <p:nvPr/>
          </p:nvSpPr>
          <p:spPr>
            <a:xfrm>
              <a:off x="1203480" y="4451400"/>
              <a:ext cx="5195880" cy="129564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Arc 43"/>
            <p:cNvSpPr/>
            <p:nvPr/>
          </p:nvSpPr>
          <p:spPr>
            <a:xfrm>
              <a:off x="1219320" y="4451400"/>
              <a:ext cx="5900760" cy="144792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Arc 44"/>
            <p:cNvSpPr/>
            <p:nvPr/>
          </p:nvSpPr>
          <p:spPr>
            <a:xfrm>
              <a:off x="1174680" y="4422960"/>
              <a:ext cx="6724800" cy="1628640"/>
            </a:xfrm>
            <a:prstGeom prst="pie">
              <a:avLst/>
            </a:prstGeom>
            <a:noFill/>
            <a:ln cap="rnd" w="12600">
              <a:solidFill>
                <a:srgbClr val="000066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45"/>
            <p:cNvSpPr/>
            <p:nvPr/>
          </p:nvSpPr>
          <p:spPr>
            <a:xfrm>
              <a:off x="1103400" y="3284640"/>
              <a:ext cx="713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Rectangle 46"/>
            <p:cNvSpPr/>
            <p:nvPr/>
          </p:nvSpPr>
          <p:spPr>
            <a:xfrm>
              <a:off x="7211520" y="3321360"/>
              <a:ext cx="522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8" name="Text Box 47"/>
          <p:cNvSpPr/>
          <p:nvPr/>
        </p:nvSpPr>
        <p:spPr>
          <a:xfrm>
            <a:off x="539640" y="2637000"/>
            <a:ext cx="8153640" cy="1655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سه مرحله اول شامل فعالي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توليد يا توسعه نر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بوده و مرحله چهارم دربردارنده انتقال نر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 به محيط واقعي و نگهداري آن اس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7185-0838-4F27-8C1F-9C1D787DD97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tr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tr"/>
              </a:rPr>
              <a:t>)  ديدگاه دو بعد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U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يك فرآيند توليد دو بعدي اس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بر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خلاف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فرآيندهاي توليد سنتي كه يك بعدي هستند)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ن ابعاد عبارتند از: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عد (محور) عمودي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: گردش كارهاي اصلي را نشان مي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دهد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عد (محور) افقي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ساختار چرخه توليد نرم‌افزار در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RUP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 در بستر زمان را نشان مي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ده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DAD-867A-419B-8296-CA8BFC2DE50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04" name="Picture 5" descr="RUP"/>
          <p:cNvPicPr/>
          <p:nvPr/>
        </p:nvPicPr>
        <p:blipFill>
          <a:blip r:embed="rId1"/>
          <a:stretch/>
        </p:blipFill>
        <p:spPr>
          <a:xfrm>
            <a:off x="2660760" y="2530440"/>
            <a:ext cx="4790880" cy="331308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6"/>
          <p:cNvSpPr/>
          <p:nvPr/>
        </p:nvSpPr>
        <p:spPr>
          <a:xfrm>
            <a:off x="4565520" y="3139920"/>
            <a:ext cx="381240" cy="1981440"/>
          </a:xfrm>
          <a:prstGeom prst="rect">
            <a:avLst/>
          </a:prstGeom>
          <a:solidFill>
            <a:srgbClr val="c481c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Line 7"/>
          <p:cNvSpPr/>
          <p:nvPr/>
        </p:nvSpPr>
        <p:spPr>
          <a:xfrm>
            <a:off x="3803760" y="595944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4794120" y="59594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زم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Line 9"/>
          <p:cNvSpPr/>
          <p:nvPr/>
        </p:nvSpPr>
        <p:spPr>
          <a:xfrm>
            <a:off x="3041640" y="2378160"/>
            <a:ext cx="1523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Text Box 10"/>
          <p:cNvSpPr/>
          <p:nvPr/>
        </p:nvSpPr>
        <p:spPr>
          <a:xfrm>
            <a:off x="984240" y="18446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در يك تكرار همه گردش كارها اجرا مي شو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Line 11"/>
          <p:cNvSpPr/>
          <p:nvPr/>
        </p:nvSpPr>
        <p:spPr>
          <a:xfrm flipV="1">
            <a:off x="2355840" y="32922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Text Box 12"/>
          <p:cNvSpPr/>
          <p:nvPr/>
        </p:nvSpPr>
        <p:spPr>
          <a:xfrm>
            <a:off x="679320" y="413064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فعالي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مشتر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Rectangle 13"/>
          <p:cNvSpPr/>
          <p:nvPr/>
        </p:nvSpPr>
        <p:spPr>
          <a:xfrm>
            <a:off x="5473440" y="1355760"/>
            <a:ext cx="31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فر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آ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يند دو بعد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75F-ECAB-4A85-BD20-9FCDCAF9C05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رفي ابعاد فرآيند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UP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16" name="Picture 4" descr="USDP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CC0F-4556-41E9-A87B-22BF75BB01B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0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9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9B1-B310-4B5F-B469-6794C74F746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 توليد نرم‌افزار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093080" y="3357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فرآيند توليد ك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079880" y="2590920"/>
            <a:ext cx="533520" cy="485640"/>
          </a:xfrm>
          <a:prstGeom prst="leftArrow">
            <a:avLst>
              <a:gd name="adj1" fmla="val 61435"/>
              <a:gd name="adj2" fmla="val 56237"/>
            </a:avLst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22280" y="3963960"/>
            <a:ext cx="3429000" cy="141048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موفقيت بستگي به تلاش طاقت فرساي اعضاي تيم دار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732720" y="2590920"/>
            <a:ext cx="242640" cy="2206440"/>
          </a:xfrm>
          <a:custGeom>
            <a:avLst/>
            <a:gdLst>
              <a:gd name="textAreaLeft" fmla="*/ 0 w 242640"/>
              <a:gd name="textAreaRight" fmla="*/ 87480 w 242640"/>
              <a:gd name="textAreaTop" fmla="*/ 57240 h 2206440"/>
              <a:gd name="textAreaBottom" fmla="*/ 2149200 h 22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42000" y="2514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به خوبي مستند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شده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689360" y="41194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به خوبي مستند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ن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شده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22280" y="2133720"/>
            <a:ext cx="3429000" cy="18493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نر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افزارهاي مورد نياز به صورت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منظم و قابل پيش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بين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قابل توليدن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4067280" y="4238640"/>
            <a:ext cx="533160" cy="485640"/>
          </a:xfrm>
          <a:prstGeom prst="leftArrow">
            <a:avLst>
              <a:gd name="adj1" fmla="val 61435"/>
              <a:gd name="adj2" fmla="val 56199"/>
            </a:avLst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BE01-24F9-4F26-9BC8-E522D56538F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 توليد نرم‌افزار خو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ي از مشخصات بارز يك فرآيند توليد خوب استفاده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جربيات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دست آمده از اجراي پروژ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نرم‌افزار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وفق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971640" y="3363840"/>
            <a:ext cx="6811920" cy="3404520"/>
            <a:chOff x="971640" y="3363840"/>
            <a:chExt cx="6811920" cy="3404520"/>
          </a:xfrm>
        </p:grpSpPr>
        <p:sp>
          <p:nvSpPr>
            <p:cNvPr id="126" name="Rectangle 5"/>
            <p:cNvSpPr/>
            <p:nvPr/>
          </p:nvSpPr>
          <p:spPr>
            <a:xfrm>
              <a:off x="977760" y="5734080"/>
              <a:ext cx="6805800" cy="79056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3057480" y="5937120"/>
              <a:ext cx="2676600" cy="83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كنترل تغييرات نرم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Lotus"/>
                </a:rPr>
                <a:t>‌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افزار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Nazani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" name="Group 7"/>
            <p:cNvGrpSpPr/>
            <p:nvPr/>
          </p:nvGrpSpPr>
          <p:grpSpPr>
            <a:xfrm>
              <a:off x="987480" y="3363840"/>
              <a:ext cx="6791400" cy="752400"/>
              <a:chOff x="987480" y="3363840"/>
              <a:chExt cx="6791400" cy="752400"/>
            </a:xfrm>
          </p:grpSpPr>
          <p:sp>
            <p:nvSpPr>
              <p:cNvPr id="129" name="Rectangle 8"/>
              <p:cNvSpPr/>
              <p:nvPr/>
            </p:nvSpPr>
            <p:spPr>
              <a:xfrm>
                <a:off x="987480" y="3363840"/>
                <a:ext cx="6791400" cy="752400"/>
              </a:xfrm>
              <a:prstGeom prst="rect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c481c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Text Box 9"/>
              <p:cNvSpPr/>
              <p:nvPr/>
            </p:nvSpPr>
            <p:spPr>
              <a:xfrm>
                <a:off x="3233880" y="3579480"/>
                <a:ext cx="2360520" cy="339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481c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200" spc="-1" strike="noStrike">
                    <a:solidFill>
                      <a:srgbClr val="000000"/>
                    </a:solidFill>
                    <a:latin typeface="Times New Roman"/>
                    <a:cs typeface="Nazanin"/>
                  </a:rPr>
                  <a:t>تكرار و توسعه تدريجي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1" name="Rectangle 10"/>
            <p:cNvSpPr/>
            <p:nvPr/>
          </p:nvSpPr>
          <p:spPr>
            <a:xfrm>
              <a:off x="2700360" y="4181400"/>
              <a:ext cx="1643040" cy="15098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2676600" y="4390920"/>
              <a:ext cx="1582560" cy="1568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استفاده از معماري مبتني بر مؤلفه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Lotus"/>
                </a:rPr>
                <a:t>‌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ها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Nazani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71640" y="4178160"/>
              <a:ext cx="1643040" cy="15098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076400" y="4467240"/>
              <a:ext cx="1515960" cy="119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مديريت نيازمندي</a:t>
              </a:r>
              <a:r>
                <a:rPr b="1" lang="fa-IR" sz="22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ها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Nazani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4413240" y="4178160"/>
              <a:ext cx="1643040" cy="15098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4657680" y="4467240"/>
              <a:ext cx="1143000" cy="8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مدل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Lotus"/>
                </a:rPr>
                <a:t>‌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ازي تصويري نرم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Lotus"/>
                </a:rPr>
                <a:t>‌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افزار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Nazani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6127560" y="4178160"/>
              <a:ext cx="1643040" cy="15098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6257880" y="4270320"/>
              <a:ext cx="1287360" cy="1568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481c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بررسي كيفيت نرم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Lotus"/>
                </a:rPr>
                <a:t>‌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افزار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Nazani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635-6E6D-40B9-A819-F538FF840F8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كرار و توسعه تدريج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301840"/>
            <a:ext cx="8640360" cy="3733920"/>
            <a:chOff x="179280" y="2301840"/>
            <a:chExt cx="8640360" cy="3733920"/>
          </a:xfrm>
        </p:grpSpPr>
        <p:sp>
          <p:nvSpPr>
            <p:cNvPr id="142" name="Rectangle 5"/>
            <p:cNvSpPr/>
            <p:nvPr/>
          </p:nvSpPr>
          <p:spPr>
            <a:xfrm>
              <a:off x="179280" y="2301840"/>
              <a:ext cx="1350000" cy="35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تحليل نيازمندي</a:t>
              </a:r>
              <a:r>
                <a:rPr b="1" lang="fa-IR" sz="1600" spc="-1" strike="noStrike">
                  <a:solidFill>
                    <a:srgbClr val="000000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ها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1876320" y="2691360"/>
              <a:ext cx="1353240" cy="35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تعيين مشخصات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3460320" y="3072960"/>
              <a:ext cx="874080" cy="35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طراح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4561200" y="3427920"/>
              <a:ext cx="1010520" cy="35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پياده</a:t>
              </a:r>
              <a:r>
                <a:rPr b="1" lang="fa-IR" sz="1600" spc="-1" strike="noStrike">
                  <a:solidFill>
                    <a:srgbClr val="000000"/>
                  </a:solidFill>
                  <a:latin typeface="Times New Roman (Arabic)"/>
                  <a:ea typeface="Nazanin"/>
                </a:rPr>
                <a:t>‌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ساز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5734080" y="3861000"/>
              <a:ext cx="874080" cy="35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آزمايش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6711120" y="4233960"/>
              <a:ext cx="874080" cy="35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نگهداري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7791120" y="4535640"/>
              <a:ext cx="1028520" cy="35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 (Arabic)"/>
                  <a:cs typeface="Nazanin"/>
                </a:rPr>
                <a:t>تكامل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1536840" y="2449080"/>
              <a:ext cx="740520" cy="228600"/>
            </a:xfrm>
            <a:prstGeom prst="pie">
              <a:avLst/>
            </a:prstGeom>
            <a:noFill/>
            <a:ln w="1908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4345200" y="3243240"/>
              <a:ext cx="617040" cy="167400"/>
            </a:xfrm>
            <a:prstGeom prst="pie">
              <a:avLst/>
            </a:prstGeom>
            <a:noFill/>
            <a:ln w="1908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5579640" y="3592800"/>
              <a:ext cx="576720" cy="271440"/>
            </a:xfrm>
            <a:prstGeom prst="pie">
              <a:avLst/>
            </a:prstGeom>
            <a:noFill/>
            <a:ln w="1908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608520" y="3973680"/>
              <a:ext cx="617040" cy="259920"/>
            </a:xfrm>
            <a:prstGeom prst="pie">
              <a:avLst/>
            </a:prstGeom>
            <a:noFill/>
            <a:ln w="1908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7585560" y="4325400"/>
              <a:ext cx="576720" cy="210600"/>
            </a:xfrm>
            <a:prstGeom prst="pie">
              <a:avLst/>
            </a:prstGeom>
            <a:noFill/>
            <a:ln w="1908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 flipV="1">
              <a:off x="8202600" y="4879800"/>
              <a:ext cx="0" cy="11433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 flipV="1">
              <a:off x="7174080" y="4571280"/>
              <a:ext cx="0" cy="1453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>
              <a:off x="6179040" y="4206960"/>
              <a:ext cx="0" cy="1821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5116680" y="3781080"/>
              <a:ext cx="0" cy="225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3882240" y="3445200"/>
              <a:ext cx="0" cy="25786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2611800" y="3031560"/>
              <a:ext cx="0" cy="3004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847800" y="2656800"/>
              <a:ext cx="0" cy="3376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 flipH="1">
              <a:off x="837360" y="6023520"/>
              <a:ext cx="73627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25"/>
            <p:cNvSpPr/>
            <p:nvPr/>
          </p:nvSpPr>
          <p:spPr>
            <a:xfrm>
              <a:off x="3234240" y="2830320"/>
              <a:ext cx="617040" cy="233640"/>
            </a:xfrm>
            <a:prstGeom prst="pie">
              <a:avLst/>
            </a:prstGeom>
            <a:noFill/>
            <a:ln w="1908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3612240" y="154152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فرآيند آبشاري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aterfall Process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27"/>
          <p:cNvGrpSpPr/>
          <p:nvPr/>
        </p:nvGrpSpPr>
        <p:grpSpPr>
          <a:xfrm>
            <a:off x="611280" y="2924280"/>
            <a:ext cx="7848360" cy="1012320"/>
            <a:chOff x="611280" y="2924280"/>
            <a:chExt cx="7848360" cy="1012320"/>
          </a:xfrm>
        </p:grpSpPr>
        <p:sp>
          <p:nvSpPr>
            <p:cNvPr id="165" name="Rectangle 28"/>
            <p:cNvSpPr/>
            <p:nvPr/>
          </p:nvSpPr>
          <p:spPr>
            <a:xfrm>
              <a:off x="611280" y="2924280"/>
              <a:ext cx="7848360" cy="9360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687240" y="3111120"/>
              <a:ext cx="769572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Nazanin"/>
                </a:rPr>
                <a:t>ريشه مشكلات اصلي اين روش نگرش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ترتيبي</a:t>
              </a: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ea typeface="Nazanin"/>
                </a:rPr>
                <a:t> به مراحل توليد نرم</a:t>
              </a: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Nazanin"/>
                </a:rPr>
                <a:t>افزار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Rectangle 30"/>
          <p:cNvSpPr/>
          <p:nvPr/>
        </p:nvSpPr>
        <p:spPr>
          <a:xfrm>
            <a:off x="4282560" y="6194520"/>
            <a:ext cx="7153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Nazanin"/>
              </a:rPr>
              <a:t>زما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31"/>
          <p:cNvSpPr/>
          <p:nvPr/>
        </p:nvSpPr>
        <p:spPr>
          <a:xfrm>
            <a:off x="717480" y="6188040"/>
            <a:ext cx="82202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80640" rIns="8064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58E8-A496-470D-BC93-1EB742AC085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fig1"/>
          <p:cNvPicPr/>
          <p:nvPr/>
        </p:nvPicPr>
        <p:blipFill>
          <a:blip r:embed="rId1"/>
          <a:srcRect l="12354" t="0" r="0" b="10357"/>
          <a:stretch/>
        </p:blipFill>
        <p:spPr>
          <a:xfrm>
            <a:off x="1908000" y="2276640"/>
            <a:ext cx="5543640" cy="36050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كرار و توسعه تدريج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356000" y="162864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هزينه ريسك در روش آبشاري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755640" y="3645000"/>
            <a:ext cx="9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هزين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140360" y="595008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3300"/>
                </a:solidFill>
                <a:latin typeface="Times New Roman"/>
                <a:cs typeface="Nazanin"/>
              </a:rPr>
              <a:t>زم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9002-F7D4-411C-84D4-8EBCF8E276B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كرار و توسعه تدريج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44600" y="5619600"/>
            <a:ext cx="828360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80640" rIns="8064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938400" y="5589720"/>
            <a:ext cx="129276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   I   M  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8280" y="3408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teration 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45520" y="3408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teration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383800" y="3408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teration 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4000" y="1484280"/>
            <a:ext cx="26668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BM: Business Model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  <a:ea typeface="Times New Roman"/>
              </a:rPr>
              <a:t>R: Requirements Analy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  <a:ea typeface="Times New Roman"/>
              </a:rPr>
              <a:t>A/D: Analysis &amp; Desig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  <a:ea typeface="Times New Roman"/>
              </a:rPr>
              <a:t>C: 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  <a:ea typeface="Times New Roman"/>
              </a:rPr>
              <a:t>T: 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  <a:ea typeface="Times New Roman"/>
              </a:rPr>
              <a:t>D: Deploy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671400" y="3925800"/>
            <a:ext cx="3187440" cy="1490760"/>
            <a:chOff x="671400" y="3925800"/>
            <a:chExt cx="3187440" cy="1490760"/>
          </a:xfrm>
        </p:grpSpPr>
        <p:sp>
          <p:nvSpPr>
            <p:cNvPr id="184" name="Rectangle 12"/>
            <p:cNvSpPr/>
            <p:nvPr/>
          </p:nvSpPr>
          <p:spPr>
            <a:xfrm>
              <a:off x="2270160" y="4708440"/>
              <a:ext cx="532440" cy="230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1736280" y="4437000"/>
              <a:ext cx="533880" cy="241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A/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1203840" y="4187880"/>
              <a:ext cx="532440" cy="222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71400" y="3925800"/>
              <a:ext cx="532440" cy="236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B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88" name="AutoShape 16"/>
            <p:cNvCxnSpPr>
              <a:stCxn id="187" idx="2"/>
              <a:endCxn id="186" idx="1"/>
            </p:cNvCxnSpPr>
            <p:nvPr/>
          </p:nvCxnSpPr>
          <p:spPr>
            <a:xfrm flipH="1" rot="16200000">
              <a:off x="1001520" y="4097520"/>
              <a:ext cx="137160" cy="2660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189" name="AutoShape 17"/>
            <p:cNvCxnSpPr/>
            <p:nvPr/>
          </p:nvCxnSpPr>
          <p:spPr>
            <a:xfrm flipH="1" rot="16200000">
              <a:off x="2073600" y="4600080"/>
              <a:ext cx="111960" cy="26712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190" name="AutoShape 18"/>
            <p:cNvCxnSpPr>
              <a:stCxn id="186" idx="2"/>
              <a:endCxn id="185" idx="1"/>
            </p:cNvCxnSpPr>
            <p:nvPr/>
          </p:nvCxnSpPr>
          <p:spPr>
            <a:xfrm flipH="1" rot="16200000">
              <a:off x="1528560" y="4350960"/>
              <a:ext cx="148320" cy="2660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sp>
          <p:nvSpPr>
            <p:cNvPr id="191" name="Rectangle 19"/>
            <p:cNvSpPr/>
            <p:nvPr/>
          </p:nvSpPr>
          <p:spPr>
            <a:xfrm>
              <a:off x="3326400" y="5186160"/>
              <a:ext cx="532440" cy="230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2796840" y="4957560"/>
              <a:ext cx="534240" cy="241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3" name="AutoShape 21"/>
            <p:cNvCxnSpPr/>
            <p:nvPr/>
          </p:nvCxnSpPr>
          <p:spPr>
            <a:xfrm flipH="1" rot="16200000">
              <a:off x="2590200" y="4866840"/>
              <a:ext cx="111960" cy="26712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194" name="AutoShape 22"/>
            <p:cNvCxnSpPr/>
            <p:nvPr/>
          </p:nvCxnSpPr>
          <p:spPr>
            <a:xfrm flipH="1" rot="16200000">
              <a:off x="3134520" y="5120640"/>
              <a:ext cx="111600" cy="2678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</p:grpSp>
      <p:grpSp>
        <p:nvGrpSpPr>
          <p:cNvPr id="195" name="Group 23"/>
          <p:cNvGrpSpPr/>
          <p:nvPr/>
        </p:nvGrpSpPr>
        <p:grpSpPr>
          <a:xfrm>
            <a:off x="3340080" y="3916440"/>
            <a:ext cx="3187440" cy="1490760"/>
            <a:chOff x="3340080" y="3916440"/>
            <a:chExt cx="3187440" cy="1490760"/>
          </a:xfrm>
        </p:grpSpPr>
        <p:sp>
          <p:nvSpPr>
            <p:cNvPr id="196" name="Rectangle 24"/>
            <p:cNvSpPr/>
            <p:nvPr/>
          </p:nvSpPr>
          <p:spPr>
            <a:xfrm>
              <a:off x="4938840" y="4699080"/>
              <a:ext cx="532440" cy="2300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4404960" y="4427640"/>
              <a:ext cx="533880" cy="241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A/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3872520" y="4178520"/>
              <a:ext cx="532440" cy="2221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3340080" y="3916440"/>
              <a:ext cx="532440" cy="2365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B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00" name="AutoShape 28"/>
            <p:cNvCxnSpPr>
              <a:stCxn id="199" idx="2"/>
              <a:endCxn id="198" idx="1"/>
            </p:cNvCxnSpPr>
            <p:nvPr/>
          </p:nvCxnSpPr>
          <p:spPr>
            <a:xfrm flipH="1" rot="16200000">
              <a:off x="3670200" y="4088160"/>
              <a:ext cx="137160" cy="2660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201" name="AutoShape 29"/>
            <p:cNvCxnSpPr/>
            <p:nvPr/>
          </p:nvCxnSpPr>
          <p:spPr>
            <a:xfrm flipH="1" rot="16200000">
              <a:off x="4742280" y="4590720"/>
              <a:ext cx="111960" cy="26712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202" name="AutoShape 30"/>
            <p:cNvCxnSpPr>
              <a:stCxn id="198" idx="2"/>
              <a:endCxn id="197" idx="1"/>
            </p:cNvCxnSpPr>
            <p:nvPr/>
          </p:nvCxnSpPr>
          <p:spPr>
            <a:xfrm flipH="1" rot="16200000">
              <a:off x="4197240" y="4341600"/>
              <a:ext cx="148320" cy="2660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sp>
          <p:nvSpPr>
            <p:cNvPr id="203" name="Rectangle 31"/>
            <p:cNvSpPr/>
            <p:nvPr/>
          </p:nvSpPr>
          <p:spPr>
            <a:xfrm>
              <a:off x="5995080" y="5176800"/>
              <a:ext cx="532440" cy="2304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5465520" y="4948200"/>
              <a:ext cx="534240" cy="24156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05" name="AutoShape 33"/>
            <p:cNvCxnSpPr/>
            <p:nvPr/>
          </p:nvCxnSpPr>
          <p:spPr>
            <a:xfrm flipH="1" rot="16200000">
              <a:off x="5258880" y="4857480"/>
              <a:ext cx="111960" cy="26712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206" name="AutoShape 34"/>
            <p:cNvCxnSpPr/>
            <p:nvPr/>
          </p:nvCxnSpPr>
          <p:spPr>
            <a:xfrm flipH="1" rot="16200000">
              <a:off x="5803200" y="5111280"/>
              <a:ext cx="111600" cy="2678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</p:grpSp>
      <p:grpSp>
        <p:nvGrpSpPr>
          <p:cNvPr id="207" name="Group 35"/>
          <p:cNvGrpSpPr/>
          <p:nvPr/>
        </p:nvGrpSpPr>
        <p:grpSpPr>
          <a:xfrm>
            <a:off x="5776920" y="3954600"/>
            <a:ext cx="3187440" cy="1490040"/>
            <a:chOff x="5776920" y="3954600"/>
            <a:chExt cx="3187440" cy="1490040"/>
          </a:xfrm>
        </p:grpSpPr>
        <p:sp>
          <p:nvSpPr>
            <p:cNvPr id="208" name="Rectangle 36"/>
            <p:cNvSpPr/>
            <p:nvPr/>
          </p:nvSpPr>
          <p:spPr>
            <a:xfrm>
              <a:off x="7375680" y="4736880"/>
              <a:ext cx="532440" cy="229680"/>
            </a:xfrm>
            <a:prstGeom prst="rect">
              <a:avLst/>
            </a:prstGeom>
            <a:solidFill>
              <a:srgbClr val="c481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6841800" y="4465440"/>
              <a:ext cx="533880" cy="240840"/>
            </a:xfrm>
            <a:prstGeom prst="rect">
              <a:avLst/>
            </a:prstGeom>
            <a:solidFill>
              <a:srgbClr val="c481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A/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6309360" y="4216320"/>
              <a:ext cx="532440" cy="221760"/>
            </a:xfrm>
            <a:prstGeom prst="rect">
              <a:avLst/>
            </a:prstGeom>
            <a:solidFill>
              <a:srgbClr val="c481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5776920" y="3954600"/>
              <a:ext cx="532440" cy="236160"/>
            </a:xfrm>
            <a:prstGeom prst="rect">
              <a:avLst/>
            </a:prstGeom>
            <a:solidFill>
              <a:srgbClr val="c481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B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12" name="AutoShape 40"/>
            <p:cNvCxnSpPr>
              <a:stCxn id="211" idx="2"/>
              <a:endCxn id="210" idx="1"/>
            </p:cNvCxnSpPr>
            <p:nvPr/>
          </p:nvCxnSpPr>
          <p:spPr>
            <a:xfrm flipH="1" rot="16200000">
              <a:off x="6107400" y="4125960"/>
              <a:ext cx="136800" cy="2660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213" name="AutoShape 41"/>
            <p:cNvCxnSpPr/>
            <p:nvPr/>
          </p:nvCxnSpPr>
          <p:spPr>
            <a:xfrm flipH="1" rot="16200000">
              <a:off x="7179480" y="4628520"/>
              <a:ext cx="111600" cy="26712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214" name="AutoShape 42"/>
            <p:cNvCxnSpPr>
              <a:stCxn id="210" idx="2"/>
              <a:endCxn id="209" idx="1"/>
            </p:cNvCxnSpPr>
            <p:nvPr/>
          </p:nvCxnSpPr>
          <p:spPr>
            <a:xfrm flipH="1" rot="16200000">
              <a:off x="6634080" y="4379040"/>
              <a:ext cx="147960" cy="2660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sp>
          <p:nvSpPr>
            <p:cNvPr id="215" name="Rectangle 43"/>
            <p:cNvSpPr/>
            <p:nvPr/>
          </p:nvSpPr>
          <p:spPr>
            <a:xfrm>
              <a:off x="8431920" y="5214600"/>
              <a:ext cx="532440" cy="230040"/>
            </a:xfrm>
            <a:prstGeom prst="rect">
              <a:avLst/>
            </a:prstGeom>
            <a:solidFill>
              <a:srgbClr val="c481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7902360" y="4986000"/>
              <a:ext cx="534240" cy="241200"/>
            </a:xfrm>
            <a:prstGeom prst="rect">
              <a:avLst/>
            </a:prstGeom>
            <a:solidFill>
              <a:srgbClr val="c481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17" name="AutoShape 45"/>
            <p:cNvCxnSpPr/>
            <p:nvPr/>
          </p:nvCxnSpPr>
          <p:spPr>
            <a:xfrm flipH="1" rot="16200000">
              <a:off x="7696080" y="4895280"/>
              <a:ext cx="111600" cy="26712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  <p:cxnSp>
          <p:nvCxnSpPr>
            <p:cNvPr id="218" name="AutoShape 46"/>
            <p:cNvCxnSpPr/>
            <p:nvPr/>
          </p:nvCxnSpPr>
          <p:spPr>
            <a:xfrm flipH="1" rot="16200000">
              <a:off x="8240040" y="5148720"/>
              <a:ext cx="111240" cy="267840"/>
            </a:xfrm>
            <a:prstGeom prst="bentConnector2">
              <a:avLst/>
            </a:prstGeom>
            <a:ln w="15840">
              <a:solidFill>
                <a:srgbClr val="000066"/>
              </a:solidFill>
              <a:miter/>
              <a:tailEnd len="lg" type="triangle" w="med"/>
            </a:ln>
          </p:spPr>
        </p:cxnSp>
      </p:grpSp>
      <p:sp>
        <p:nvSpPr>
          <p:cNvPr id="219" name="Rectangle 47"/>
          <p:cNvSpPr/>
          <p:nvPr/>
        </p:nvSpPr>
        <p:spPr>
          <a:xfrm>
            <a:off x="4159080" y="1541520"/>
            <a:ext cx="51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ff"/>
                </a:solidFill>
                <a:latin typeface="Times New Roman"/>
                <a:cs typeface="Nazanin"/>
              </a:rPr>
              <a:t>روش تکرار و توسعه تدريج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39Z</dcterms:modified>
  <cp:revision>1165</cp:revision>
  <dc:subject/>
  <dc:title>PowerPoint Presentation</dc:title>
</cp:coreProperties>
</file>