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24F6-8453-4A50-9802-FEB6AE837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A249-C484-43B6-860B-7FF70B1F7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99AF-C72C-4F3D-A00F-BEF8F66C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78E2-D95C-47A6-BD94-D39BF6D7C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F6283-F2A6-41CE-AA9E-D3C2059F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5A55A-0E68-4672-90E1-E9335F2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B944E-AC22-4092-923D-01022D5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B0C96-7870-4A8C-A221-D6F372D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53E33-FE7B-4F83-AFF2-6BD61E9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3B5D1-0CCB-4447-A299-58017E3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85007-5138-434F-9370-2B3AD30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0A6C-8C9E-4FB6-9FBA-D5DB0CEEB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BA4AC-EB6E-4A79-B9A6-AFA2D5F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9ACC0-7DD5-4CE4-8686-01A00EF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368DD-7F26-4F48-9F70-E76A1BBE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CFCE5-7545-412D-86E0-303F3663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A5730-4409-406E-B461-933EA9E1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70E7-3A24-486F-8508-A94BC300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448C-1185-44BE-91EF-2C48620C4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E231-27B2-4A0B-A5D8-E77D3A11F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395E-5D13-433D-B4C4-98996327D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02A7-C3FC-41C6-BD62-70FA646F1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7E9A-83F6-4E22-92AD-E2989AA6F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68A2-9C94-4C91-9BCC-4F4B2A4F8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1F4C-030A-4DE7-ADE1-1A1D671292C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CC3-E46D-415F-B351-48F654CB2927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بسته‌ها، مدلسازي مولفه‌ه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 و مدلسازي استقرا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20160" y="2205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ياز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E8B-B868-4CB3-9909-BB32AF77298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 بسيار ساده: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ياز به مدلسازي منطقي وجود ن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 واقعي: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قش مدلسازي منطقي بسيار كليدي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4000" y="3645000"/>
            <a:ext cx="8458200" cy="720720"/>
          </a:xfrm>
          <a:prstGeom prst="rect">
            <a:avLst/>
          </a:prstGeom>
          <a:solidFill>
            <a:srgbClr val="ffdd4f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Nazanin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cs typeface="Nazanin"/>
              </a:rPr>
              <a:t>موجوديت</a:t>
            </a:r>
            <a:r>
              <a:rPr b="1" lang="fa-IR" sz="2400" spc="-1" strike="noStrike">
                <a:solidFill>
                  <a:srgbClr val="a88800"/>
                </a:solidFill>
                <a:latin typeface="Comic Sans MS"/>
                <a:ea typeface="Nazanin"/>
              </a:rPr>
              <a:t>‌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cs typeface="Nazanin"/>
              </a:rPr>
              <a:t>هاي فيزيكي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سيستم بوسيله مفهوم 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cs typeface="Nazanin"/>
              </a:rPr>
              <a:t>مولفه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مدلسازي مي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Kamr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Nazanin"/>
              </a:rPr>
              <a:t>شو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4000" y="4581360"/>
            <a:ext cx="8458200" cy="673200"/>
          </a:xfrm>
          <a:prstGeom prst="rect">
            <a:avLst/>
          </a:prstGeom>
          <a:solidFill>
            <a:srgbClr val="ffdd4f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88800"/>
                </a:solidFill>
                <a:latin typeface="Times New Roman"/>
                <a:ea typeface="Nazanin"/>
              </a:rPr>
              <a:t>«چگونه مي</a:t>
            </a:r>
            <a:r>
              <a:rPr b="1" lang="ar-SA" sz="2400" spc="-1" strike="noStrike">
                <a:solidFill>
                  <a:srgbClr val="a88800"/>
                </a:solidFill>
                <a:latin typeface="Times New Roman"/>
                <a:ea typeface="Kamran"/>
              </a:rPr>
              <a:t>‌</a:t>
            </a:r>
            <a:r>
              <a:rPr b="1" lang="ar-SA" sz="2400" spc="-1" strike="noStrike">
                <a:solidFill>
                  <a:srgbClr val="a88800"/>
                </a:solidFill>
                <a:latin typeface="Times New Roman"/>
                <a:cs typeface="Nazanin"/>
              </a:rPr>
              <a:t>توان يك سيستم بزرگ را به سيستم</a:t>
            </a:r>
            <a:r>
              <a:rPr b="1" lang="fa-IR" sz="2400" spc="-1" strike="noStrike">
                <a:solidFill>
                  <a:srgbClr val="a888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a88800"/>
                </a:solidFill>
                <a:latin typeface="Times New Roman"/>
                <a:cs typeface="Nazanin"/>
              </a:rPr>
              <a:t>هاي كوچكتر تقسيم كرد؟»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048280" y="5373720"/>
            <a:ext cx="485640" cy="519120"/>
          </a:xfrm>
          <a:prstGeom prst="downArrow">
            <a:avLst>
              <a:gd name="adj1" fmla="val 50000"/>
              <a:gd name="adj2" fmla="val 26723"/>
            </a:avLst>
          </a:prstGeom>
          <a:solidFill>
            <a:srgbClr val="a88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619280" y="55389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تدولوژي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Nazanin"/>
              </a:rPr>
              <a:t>OO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طرح م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Nazanin"/>
              </a:rPr>
              <a:t>كنن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371760" y="5996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  <a:cs typeface="Nazanin"/>
              </a:rPr>
              <a:t>مفهوم كلا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597-4C8B-4E97-BB18-5D71E7B99D4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لي بنظر مي‌رسد ك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 سيستم‌هاي نر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فزاري بسيار بزرگ استفاده از مفهوم كلاس بعنوان واحد تجزيه ب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نهايي كافي نيست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ه يك ساختار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ل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م در سطح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نطق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هم در سطح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فيزيك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ياز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مچني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كانيز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استفاده مجدد كه در زب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برنام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ا مطرح است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حدو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ه برنام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خود زبان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492280"/>
            <a:ext cx="8458200" cy="19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بدين علت برنامه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نويسي ش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ي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گرا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OOP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)، تا حدودي، در مجسم كردن ايده مدارات مجتمع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IC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) نرم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افزاري 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  <a:cs typeface="Nazanin"/>
              </a:rPr>
              <a:t>ناموفق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 عمل كرده اس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1122-0C30-4A51-8EE9-F28EBA3A59B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هوم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ول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مولفه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Component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ك قطعه پيچيده، تقريب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ً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ستقل و جايگزي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 از 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ه دسترسي به آن تنها بوسيله يك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اسط خو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عري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مك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 است.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657600" y="4724280"/>
          <a:ext cx="20574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24280"/>
                    <a:ext cx="20574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5"/>
          <p:cNvSpPr/>
          <p:nvPr/>
        </p:nvSpPr>
        <p:spPr>
          <a:xfrm>
            <a:off x="2057400" y="3257640"/>
            <a:ext cx="5486400" cy="33526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Lotus"/>
              </a:rPr>
              <a:t>تكنولوژي‌هاي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J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cs typeface="Lotus"/>
              </a:rPr>
              <a:t>،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+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cs typeface="Lotus"/>
              </a:rPr>
              <a:t>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Lotus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NET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cs typeface="Lotus"/>
              </a:rPr>
              <a:t>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Lotus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Lotus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Lotus"/>
              </a:rPr>
              <a:t>و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RB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Lotus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Lotus"/>
              </a:rPr>
              <a:t> از مصاديق اين تعريف هست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F16-27C5-4C0F-A145-71CFA4EC0B2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رتباط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ول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با ساير عناص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رتبا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يان موارد كاربري، مو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 اشياء تشكي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نده يك برنامه كاربرد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1" name="Picture 8" descr="test"/>
          <p:cNvPicPr/>
          <p:nvPr/>
        </p:nvPicPr>
        <p:blipFill>
          <a:blip r:embed="rId1"/>
          <a:stretch/>
        </p:blipFill>
        <p:spPr>
          <a:xfrm>
            <a:off x="684360" y="2708280"/>
            <a:ext cx="76960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65B-0A82-4FC6-BF38-C2A8B3F0A4E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دف تكنولوژي مولف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سيدن به يك تركيب متعادل از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ستفاده مجد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Reuse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و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ستف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Us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5" name="Picture 4" descr="Use vs Reuse"/>
          <p:cNvPicPr/>
          <p:nvPr/>
        </p:nvPicPr>
        <p:blipFill>
          <a:blip r:embed="rId1"/>
          <a:stretch/>
        </p:blipFill>
        <p:spPr>
          <a:xfrm>
            <a:off x="611280" y="3386160"/>
            <a:ext cx="79930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7C1F-2FA8-4114-A050-6B63235EC9C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ويژگيهاي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مدلسازي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ختار پي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واسطه آن يك يا چند واسط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د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زير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(</a:t>
            </a:r>
            <a:r>
              <a:rPr b="1" i="1" lang="en-US" sz="1700" spc="-1" strike="noStrike">
                <a:solidFill>
                  <a:srgbClr val="000099"/>
                </a:solidFill>
                <a:latin typeface="Times New Roman"/>
              </a:rPr>
              <a:t>Subsystems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در طراحي به مول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در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تبديل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د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1042920" y="3859560"/>
            <a:ext cx="7134840" cy="2023200"/>
            <a:chOff x="1042920" y="3859560"/>
            <a:chExt cx="7134840" cy="2023200"/>
          </a:xfrm>
        </p:grpSpPr>
        <p:grpSp>
          <p:nvGrpSpPr>
            <p:cNvPr id="180" name="Group 5"/>
            <p:cNvGrpSpPr/>
            <p:nvPr/>
          </p:nvGrpSpPr>
          <p:grpSpPr>
            <a:xfrm>
              <a:off x="2057400" y="4517640"/>
              <a:ext cx="2057400" cy="990720"/>
              <a:chOff x="2057400" y="4517640"/>
              <a:chExt cx="2057400" cy="990720"/>
            </a:xfrm>
          </p:grpSpPr>
          <p:sp>
            <p:nvSpPr>
              <p:cNvPr id="181" name="Rectangle 6"/>
              <p:cNvSpPr/>
              <p:nvPr/>
            </p:nvSpPr>
            <p:spPr>
              <a:xfrm>
                <a:off x="2057400" y="4709880"/>
                <a:ext cx="2057400" cy="798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7"/>
              <p:cNvSpPr/>
              <p:nvPr/>
            </p:nvSpPr>
            <p:spPr>
              <a:xfrm>
                <a:off x="2057400" y="4517640"/>
                <a:ext cx="590760" cy="192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8"/>
              <p:cNvSpPr/>
              <p:nvPr/>
            </p:nvSpPr>
            <p:spPr>
              <a:xfrm>
                <a:off x="2211480" y="4822560"/>
                <a:ext cx="18507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lt;&lt;subsystem&gt;&gt;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onent Nam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9"/>
            <p:cNvGrpSpPr/>
            <p:nvPr/>
          </p:nvGrpSpPr>
          <p:grpSpPr>
            <a:xfrm>
              <a:off x="6159600" y="4690800"/>
              <a:ext cx="1915560" cy="772560"/>
              <a:chOff x="6159600" y="4690800"/>
              <a:chExt cx="1915560" cy="772560"/>
            </a:xfrm>
          </p:grpSpPr>
          <p:grpSp>
            <p:nvGrpSpPr>
              <p:cNvPr id="185" name="Group 10"/>
              <p:cNvGrpSpPr/>
              <p:nvPr/>
            </p:nvGrpSpPr>
            <p:grpSpPr>
              <a:xfrm>
                <a:off x="6159600" y="4690800"/>
                <a:ext cx="1915560" cy="772560"/>
                <a:chOff x="6159600" y="4690800"/>
                <a:chExt cx="1915560" cy="772560"/>
              </a:xfrm>
            </p:grpSpPr>
            <p:sp>
              <p:nvSpPr>
                <p:cNvPr id="186" name="Line 11"/>
                <p:cNvSpPr/>
                <p:nvPr/>
              </p:nvSpPr>
              <p:spPr>
                <a:xfrm>
                  <a:off x="8075160" y="4690800"/>
                  <a:ext cx="0" cy="77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12"/>
                <p:cNvSpPr/>
                <p:nvPr/>
              </p:nvSpPr>
              <p:spPr>
                <a:xfrm flipH="1">
                  <a:off x="6421680" y="4690800"/>
                  <a:ext cx="165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13"/>
                <p:cNvSpPr/>
                <p:nvPr/>
              </p:nvSpPr>
              <p:spPr>
                <a:xfrm flipH="1">
                  <a:off x="6421680" y="5463360"/>
                  <a:ext cx="165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14"/>
                <p:cNvSpPr/>
                <p:nvPr/>
              </p:nvSpPr>
              <p:spPr>
                <a:xfrm>
                  <a:off x="6422040" y="4690800"/>
                  <a:ext cx="0" cy="16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15"/>
                <p:cNvSpPr/>
                <p:nvPr/>
              </p:nvSpPr>
              <p:spPr>
                <a:xfrm flipV="1">
                  <a:off x="6422040" y="5297760"/>
                  <a:ext cx="0" cy="16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Rectangle 16"/>
                <p:cNvSpPr/>
                <p:nvPr/>
              </p:nvSpPr>
              <p:spPr>
                <a:xfrm>
                  <a:off x="6159600" y="4856040"/>
                  <a:ext cx="541440" cy="1656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17"/>
                <p:cNvSpPr/>
                <p:nvPr/>
              </p:nvSpPr>
              <p:spPr>
                <a:xfrm>
                  <a:off x="6159600" y="5132160"/>
                  <a:ext cx="541440" cy="1656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18"/>
                <p:cNvSpPr/>
                <p:nvPr/>
              </p:nvSpPr>
              <p:spPr>
                <a:xfrm flipV="1">
                  <a:off x="6422040" y="5021640"/>
                  <a:ext cx="0" cy="109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4" name="Text Box 19"/>
              <p:cNvSpPr/>
              <p:nvPr/>
            </p:nvSpPr>
            <p:spPr>
              <a:xfrm>
                <a:off x="6703560" y="4727160"/>
                <a:ext cx="135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onen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am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5" name="Text Box 20"/>
            <p:cNvSpPr/>
            <p:nvPr/>
          </p:nvSpPr>
          <p:spPr>
            <a:xfrm>
              <a:off x="2111760" y="385956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Design Model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21"/>
            <p:cNvSpPr/>
            <p:nvPr/>
          </p:nvSpPr>
          <p:spPr>
            <a:xfrm>
              <a:off x="5249160" y="3859560"/>
              <a:ext cx="292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Implementation Model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22"/>
            <p:cNvSpPr/>
            <p:nvPr/>
          </p:nvSpPr>
          <p:spPr>
            <a:xfrm rot="5400000">
              <a:off x="1063440" y="4802040"/>
              <a:ext cx="417600" cy="45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1501560" y="5073480"/>
              <a:ext cx="5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Oval 24"/>
            <p:cNvSpPr/>
            <p:nvPr/>
          </p:nvSpPr>
          <p:spPr>
            <a:xfrm rot="5400000">
              <a:off x="5430240" y="4689000"/>
              <a:ext cx="417600" cy="45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5869080" y="49608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4819680" y="5240160"/>
              <a:ext cx="14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onent Interf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1963-B912-4A28-A98C-21D0D2D008A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‌گرا و مولفه‌گر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OO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مقابل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CBD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OOP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ايجاد يك سيستم نرم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فزاري متشكل از اشياء مرتبط است،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حاليك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Component-based Development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ايجاد يك سيستم متشكل از تعدادي مولفه مرتبط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5" name="Picture 70" descr="ATTHETOP"/>
          <p:cNvPicPr/>
          <p:nvPr/>
        </p:nvPicPr>
        <p:blipFill>
          <a:blip r:embed="rId1"/>
          <a:stretch/>
        </p:blipFill>
        <p:spPr>
          <a:xfrm>
            <a:off x="109440" y="4105440"/>
            <a:ext cx="2374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464-4C6F-42C3-B879-2BAF66B42AD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‌گرا و مولف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رتباط اشياء با مو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هر مولفه در پايين‌ترين سطح، شامل مجموعه‌اي از اشياء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يژگيهاي مشت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ك كلاس و مولف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اراي اسم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ي‌توانند مجموعه‌اي از واسط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را پياد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سازي 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ي‌توانند در روابط وابستگي، تعميم پذيري و تجمعي شركت نماي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قابليت تو در تو بودن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توانند در تعامل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ت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شركت 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C9A1-9073-4B56-9B22-3C33A0AACC7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‌گرا و مولفه‌گر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فاو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ساختار منطقي سيستم را تشكيل داده در حاليكه مولفه‌ها ساختار فيزيكي سيستم را تشكيل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ولفه‌ها سطح تجريد بالاتري از كلاس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را نمايش مي‌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يك كلاس مي‌تواند دربردارنده صفات و اعمالي كه براي سرويس گيرندگان آن، به صورت مستقيم دسترس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پذيرند باشد، در حاليكه ساختار داخلي يك مولفه كاملاً كپسول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93CF-BEDF-4862-AD7F-CCF329A94C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13" descr="test"/>
          <p:cNvPicPr/>
          <p:nvPr/>
        </p:nvPicPr>
        <p:blipFill>
          <a:blip r:embed="rId1"/>
          <a:stretch/>
        </p:blipFill>
        <p:spPr>
          <a:xfrm>
            <a:off x="747720" y="3573360"/>
            <a:ext cx="7556400" cy="3121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واسط د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اسط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Interfac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بارتست از مجموعه‌اي از اعمال كه سروي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ارائه شده بوسيله يك كلاس يا يك مولفه را مشخص مي‌ك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6" name="Group 15"/>
          <p:cNvGrpSpPr/>
          <p:nvPr/>
        </p:nvGrpSpPr>
        <p:grpSpPr>
          <a:xfrm>
            <a:off x="4143240" y="3992400"/>
            <a:ext cx="2121120" cy="1884600"/>
            <a:chOff x="4143240" y="3992400"/>
            <a:chExt cx="2121120" cy="1884600"/>
          </a:xfrm>
        </p:grpSpPr>
        <p:sp>
          <p:nvSpPr>
            <p:cNvPr id="217" name="Freeform 5"/>
            <p:cNvSpPr/>
            <p:nvPr/>
          </p:nvSpPr>
          <p:spPr>
            <a:xfrm>
              <a:off x="5072040" y="3992400"/>
              <a:ext cx="147600" cy="66060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5270400" y="4797360"/>
              <a:ext cx="993960" cy="107964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4143240" y="4560840"/>
              <a:ext cx="12574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Realiz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250920" y="3198960"/>
            <a:ext cx="3665520" cy="2606400"/>
            <a:chOff x="250920" y="3198960"/>
            <a:chExt cx="3665520" cy="2606400"/>
          </a:xfrm>
        </p:grpSpPr>
        <p:sp>
          <p:nvSpPr>
            <p:cNvPr id="221" name="Freeform 9"/>
            <p:cNvSpPr/>
            <p:nvPr/>
          </p:nvSpPr>
          <p:spPr>
            <a:xfrm>
              <a:off x="1042920" y="3645000"/>
              <a:ext cx="1657440" cy="216036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50920" y="3284640"/>
              <a:ext cx="125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Dependenc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1420920" y="3198960"/>
              <a:ext cx="2495520" cy="680760"/>
            </a:xfrm>
            <a:prstGeom prst="pie">
              <a:avLst/>
            </a:pr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E452-342F-49AF-8797-2766BEC362C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سته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مفاهيم اساسي آن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فاهيم اساسي و روش ايجا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مولف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فاهيم اساسي و روش ايجا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استقر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C0F-2366-4491-BCEC-01D5C78260E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جايگزيني در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جايگزي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ذيري باين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Binary Replaceabilit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دف بيشتر ابزارهاي مبتني بر مولفه‌ها فراهم نمودن محيطي است كه در آن يك سيستم نر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فزاري بوسيله تجميع تعدادي از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قطعات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اينر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جايگزين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پذي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يجاد ‌گرد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A3C-36CE-4446-B9C2-04D03F5259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مولفه و سازماندهي آن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واع مولف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ولفه‌هاي استقرار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Deployment Components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ولفه‌هاي محصول كار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Work Product Components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ولفه‌هاي اجرائ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Execution Components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را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ي‌توان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بسته‌ها گرو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ندي نم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ر اين صورت،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ز روابط وابستگي، تعمي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ي و تجمعي ميان مولفه‌ها استفاده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EF7-298E-4936-BF0A-6E87FD59828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وش‌هاي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كنيك‌هاي مدلساز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فايل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هاي اجرائي و كتابخانه‌ا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جداول پايگاه داده‌ها، فايل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هاي داده‌اي و مستندات 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PI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ها استفاده شد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كد منبع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EC5-D173-4647-A65A-69CA0EFB1FA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وش‌هاي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سازي فاي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اجرائي و كتابخانه‌ا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نحوه تقسيم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بندي سيستم فيزيكي را با توجه به فاكتورهاي تكنيكي، مديريت پيكربندي و قابليت استفاده مجدد را مشخص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ر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فايل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اجرائي يا كتابخانه را به صورت يك مولفه مدلسازي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ر صورت لزوم واسط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كليدي سيستم را معين كن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روابط موجود بين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فايل‌ها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اجرائي، كتابخانه‌ها و واسط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را مدلسازي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BDD-70B8-4D13-9E35-5F7A134B48C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وش‌هاي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916360" y="1557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1116000" y="1916280"/>
          <a:ext cx="632448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632448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FFF-5738-4C29-A8DF-1E2051504A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وش‌هاي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مولف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957400" y="1574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1908000" y="2276640"/>
          <a:ext cx="541044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41044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F952-D0CF-4053-8208-1405F5A0818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استقر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گاشت مولفه‌هاي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 به مولفه‌هاي س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 و ارتباطات ميان مولفه‌هاي سخ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 در سيستم مورد نظر بوسي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استقر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مايش د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9" name="Picture 4" descr="REORG"/>
          <p:cNvPicPr/>
          <p:nvPr/>
        </p:nvPicPr>
        <p:blipFill>
          <a:blip r:embed="rId1"/>
          <a:stretch/>
        </p:blipFill>
        <p:spPr>
          <a:xfrm>
            <a:off x="611280" y="3789360"/>
            <a:ext cx="3384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6ABA-B578-4176-B9D7-A67E0E6B3E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استقر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Nod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نصر فيزيكي كه در زمان اجرا وجود داشته و يك منبع محاسباتي را نمايش داده و به صورت كلي داراي حافظه و قابليت پردازش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3059280" y="3789360"/>
          <a:ext cx="228600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789360"/>
                    <a:ext cx="22860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CA3-D105-45FE-ABC2-82C159E27D6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استقر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ماندهي گره‌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ي‌توان گره‌ها را در بسته‌ها گرو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ندي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ي‌توان از روابط وابستگي، تعمي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ي و تجمعي ميان آنها استفاده ك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ابط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ايجتري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ابطه ميان گره‌ها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ابطه انجمن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ست كه معمولاً نمايش دهنده يك ارتباط فيزيكي ميان گره‌ها مانند ارتباط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Ethernet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، گذرگاه مشترك يا حتي پيوند ماهواره‌اي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5D00-C737-4A1D-858D-F8C503029F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نيك‌هاي مدلسازي استقر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سازي پردازشگرها و دستگاه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ركدام از منابع محاسباتي سخ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فزاري كه ديد استقرار را تشكيل مي‌دهند به صورت يك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گر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دلسازي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گر اين منابع، پردازشگرها و يا دستگاه‌هايي مخصوصي باشند كه جزئي از واژگان سيستم مورد نظر را تشكيل مي‌دهند، از مكانيزم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قوله‌بند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راي بيان آنها استفاده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صفات و اعمال هر گره را مشخص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F385-A95F-4E51-828F-BC8E9A8111E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ست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نگام مدلسازي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 بزرگ به روش ش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، معمولاً با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ي كه حاوي تعداد بسيار زيادی از عناصر مدلسازي مانند كلاس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هستن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برو خواهيم 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ك و مديريت صحيح مد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مستلزم ساز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دهي عناصر اين مد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در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گروه‌هاي بزرگت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س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5364000" y="4005360"/>
            <a:ext cx="2376720" cy="1933920"/>
            <a:chOff x="5364000" y="4005360"/>
            <a:chExt cx="2376720" cy="1933920"/>
          </a:xfrm>
        </p:grpSpPr>
        <p:sp>
          <p:nvSpPr>
            <p:cNvPr id="110" name="Oval 5"/>
            <p:cNvSpPr/>
            <p:nvPr/>
          </p:nvSpPr>
          <p:spPr>
            <a:xfrm>
              <a:off x="5593680" y="4005360"/>
              <a:ext cx="1819080" cy="72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5364000" y="4870440"/>
              <a:ext cx="23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مفهوم بسته</a:t>
              </a:r>
              <a:r>
                <a:rPr b="1" lang="ar-SA" sz="3200" spc="-1" strike="noStrike">
                  <a:solidFill>
                    <a:srgbClr val="ff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32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12" name="Picture 9" descr="NEEDHELP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878-D3B7-4953-ADEC-BBE779D15E5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استقرا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نمون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3" name="Picture 4" descr="dist1"/>
          <p:cNvPicPr/>
          <p:nvPr/>
        </p:nvPicPr>
        <p:blipFill>
          <a:blip r:embed="rId1"/>
          <a:stretch/>
        </p:blipFill>
        <p:spPr>
          <a:xfrm>
            <a:off x="1332000" y="1484280"/>
            <a:ext cx="6626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ECDE-B267-403D-8C21-53C5E341EA4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D67C-16FE-4473-A130-CB0EEBC0E6D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بست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بسته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Package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كانيز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عمومي براي سازماندهي عناصر مدلسازي در گروه‌هاي بزرگت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6" name="Group 9"/>
          <p:cNvGrpSpPr/>
          <p:nvPr/>
        </p:nvGrpSpPr>
        <p:grpSpPr>
          <a:xfrm>
            <a:off x="1619280" y="2122560"/>
            <a:ext cx="2879640" cy="3088080"/>
            <a:chOff x="1619280" y="2122560"/>
            <a:chExt cx="2879640" cy="3088080"/>
          </a:xfrm>
        </p:grpSpPr>
        <p:sp>
          <p:nvSpPr>
            <p:cNvPr id="117" name="Oval 5"/>
            <p:cNvSpPr/>
            <p:nvPr/>
          </p:nvSpPr>
          <p:spPr>
            <a:xfrm>
              <a:off x="2099160" y="2122560"/>
              <a:ext cx="1845360" cy="6476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3059640" y="277488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1619280" y="3287880"/>
              <a:ext cx="2879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كلاس</a:t>
              </a:r>
              <a:r>
                <a:rPr b="1" lang="fa-IR" sz="2400" spc="-1" strike="noStrike">
                  <a:solidFill>
                    <a:srgbClr val="ff33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، واسط</a:t>
              </a:r>
              <a:r>
                <a:rPr b="1" lang="fa-IR" sz="2400" spc="-1" strike="noStrike">
                  <a:solidFill>
                    <a:srgbClr val="ff33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، مولفه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، گره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، تعامل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، موارد كاربري، نمودارها و بسته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هاي ديگ</a:t>
              </a:r>
              <a:r>
                <a:rPr b="1" lang="fa-IR" sz="2400" spc="-1" strike="noStrike">
                  <a:solidFill>
                    <a:srgbClr val="ff3300"/>
                  </a:solidFill>
                  <a:latin typeface="Times New Roman"/>
                  <a:cs typeface="Nazanin"/>
                </a:rPr>
                <a:t>ر</a:t>
              </a: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ea typeface="Nazani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20" name="Object 8"/>
          <p:cNvGraphicFramePr/>
          <p:nvPr/>
        </p:nvGraphicFramePr>
        <p:xfrm>
          <a:off x="4932360" y="3933720"/>
          <a:ext cx="236232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933720"/>
                    <a:ext cx="23623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8C2-FE94-4B23-BFC6-5261D84C831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بسته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قابليت ديد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(دستيابي)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Visibility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موم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ublic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حافظت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شده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rotected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خصوص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rivat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وارد كردن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8000"/>
                </a:solidFill>
                <a:latin typeface="Times New Roman"/>
              </a:rPr>
              <a:t>Importing</a:t>
            </a:r>
            <a:r>
              <a:rPr b="1" lang="fa-IR" sz="28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رض كنيد دو كلاس الف و ب در دو بسته جداگانه وجود داشته باشن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ركدام قابليت ديد «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عموم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» را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براينكه كلاس الف به كلاس ب دسترسي داشته باشد، بايد بسته حاوي كلاس ب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وسط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بسته حاوي كلاس الف «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وارد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» 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AE5-C9F3-4563-9658-1C1231C8A2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بسته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476360" y="1484280"/>
          <a:ext cx="617220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1722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5364000" y="1557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Nazanin"/>
              </a:rPr>
              <a:t>مثا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090440" y="5294160"/>
            <a:ext cx="60984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3224160" y="3389400"/>
            <a:ext cx="2057400" cy="1371600"/>
            <a:chOff x="3224160" y="3389400"/>
            <a:chExt cx="2057400" cy="1371600"/>
          </a:xfrm>
        </p:grpSpPr>
        <p:sp>
          <p:nvSpPr>
            <p:cNvPr id="132" name="Line 8"/>
            <p:cNvSpPr/>
            <p:nvPr/>
          </p:nvSpPr>
          <p:spPr>
            <a:xfrm>
              <a:off x="4595760" y="3542040"/>
              <a:ext cx="685800" cy="228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3300480" y="3389400"/>
              <a:ext cx="12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دستيابي عمومي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4519440" y="4227840"/>
              <a:ext cx="762120" cy="152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3224160" y="4151520"/>
              <a:ext cx="1257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دستيابي </a:t>
              </a:r>
              <a:r>
                <a:rPr b="1" lang="fa-IR" sz="20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خصوصي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12"/>
          <p:cNvSpPr/>
          <p:nvPr/>
        </p:nvSpPr>
        <p:spPr>
          <a:xfrm>
            <a:off x="252360" y="4684680"/>
            <a:ext cx="125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دستيابي </a:t>
            </a:r>
            <a:r>
              <a:rPr b="1" lang="fa-IR" sz="20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محافظت‌</a:t>
            </a:r>
            <a:r>
              <a:rPr b="1" lang="ar-SA" sz="20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شد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6472-CE75-4CAC-ABD7-CB21EB6C53B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بسته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ابطه عام/خاص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1187280" y="2205000"/>
          <a:ext cx="5943600" cy="33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594360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3C75-D5A1-471D-B8B5-97F3123D390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وارد استفاده از بست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) مدلسازي گروه‌هايي از عناصر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ايجترين استفاده از بسته‌ها در گرو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ندي عناصر مدلسازي منطقاً مرتبط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ست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صورتيكه بتوان با هر بسته بعنوان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يك واح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فتار ك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سته‌ها با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تفاوت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</a:rPr>
              <a:t>) مدلسازي ديدهاي معم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مايش عناصر موجود در ديد معما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60120" indent="-19188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انند نمايش لايه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مايش برخي ديدهاي معماري توسط بسته‌ها آسان‌تر خواهد 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60120" indent="-19188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انند ديد لايه‌بندي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9FF0-ADD0-4827-96E2-F75722D8A9B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وارد استفاده از بسته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539640" y="2276640"/>
          <a:ext cx="823140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82314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5796000" y="14842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Nazanin"/>
              </a:rPr>
              <a:t>مثال: تعميرگا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11Z</dcterms:modified>
  <cp:revision>1747</cp:revision>
  <dc:subject/>
  <dc:title>PowerPoint Presentation</dc:title>
</cp:coreProperties>
</file>