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A2C0-E70A-477E-BF34-13F877521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03DF-E1F6-4EF7-BC7B-DF2BA1CB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2633-2C72-4310-8742-61E6F54B5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B959-FD8A-42C9-922F-5A900B918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10349-869D-4F9B-81B8-F7687FF2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4E3D4-DFE9-4AA8-9FFA-E3E03A5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AFFB-BAD2-4649-93E5-CED1CF72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7F272-C8A7-4C3A-BD7B-5329460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42BF1-B997-4BB5-87F2-497B8BA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01149-D3F6-4239-A048-148B4D15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9B230-7CEC-4F00-B899-8602CEA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987D-EE6B-4A9E-9CD7-0486E8B2F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7167-28EB-40A8-B412-AA70CA0F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8E19B-E3B9-4E7B-9733-BC99606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2F4B7-753A-454C-BD2A-07CAF663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D438A-AA34-4C02-956A-5990A324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0A2AB-C592-475F-B794-0B191E6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233C-1633-4270-9CBC-2A14F5990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9833-3672-4450-A91D-E80D93385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F943-D583-471B-B8BE-087481383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7B91-CA8B-47F3-BB0C-F3B83A1D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1E22-4F06-4D1A-8E2D-F295582BD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81B5-FE75-4391-A4B8-7C5EF17AB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E3CC-DDD7-4346-8500-ACDAB5E25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0B5-F544-4B9B-8B9A-AABE9BA2DFF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8B3-FBD4-4929-9AF2-CFAF874B6C63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051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052"/>
          <p:cNvSpPr/>
          <p:nvPr/>
        </p:nvSpPr>
        <p:spPr>
          <a:xfrm>
            <a:off x="619200" y="2997360"/>
            <a:ext cx="7905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معرفي اصول شي گرائي براي مقابله با پيچيدگي نرم</a:t>
            </a:r>
            <a:r>
              <a:rPr b="0" lang="fa-IR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‌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افزار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2054"/>
          <p:cNvSpPr/>
          <p:nvPr/>
        </p:nvSpPr>
        <p:spPr>
          <a:xfrm>
            <a:off x="3640320" y="22050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دو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AD1-0213-4481-A769-E2A78AC0CF7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جريد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327640" cy="3833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5808240" y="6021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[Booch200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845000" y="145908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Nazanin"/>
              </a:rPr>
              <a:t>تمركز روي ويژگيها و رفتارهاي اصلي يك پدي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9AEB-3076-499B-92D2-863B4FB53D9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جريد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304920" y="2505240"/>
            <a:ext cx="7848000" cy="3873240"/>
            <a:chOff x="304920" y="2505240"/>
            <a:chExt cx="7848000" cy="3873240"/>
          </a:xfrm>
        </p:grpSpPr>
        <p:pic>
          <p:nvPicPr>
            <p:cNvPr id="257" name="Picture 6" descr="anatomyfront1_2"/>
            <p:cNvPicPr/>
            <p:nvPr/>
          </p:nvPicPr>
          <p:blipFill>
            <a:blip r:embed="rId1"/>
            <a:stretch/>
          </p:blipFill>
          <p:spPr>
            <a:xfrm>
              <a:off x="2361960" y="2505240"/>
              <a:ext cx="126792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7" descr="ANA-2"/>
            <p:cNvPicPr/>
            <p:nvPr/>
          </p:nvPicPr>
          <p:blipFill>
            <a:blip r:embed="rId2"/>
            <a:stretch/>
          </p:blipFill>
          <p:spPr>
            <a:xfrm>
              <a:off x="4038480" y="2581200"/>
              <a:ext cx="140292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8" descr="ANAT-3"/>
            <p:cNvPicPr/>
            <p:nvPr/>
          </p:nvPicPr>
          <p:blipFill>
            <a:blip r:embed="rId3"/>
            <a:stretch/>
          </p:blipFill>
          <p:spPr>
            <a:xfrm>
              <a:off x="6019560" y="2505240"/>
              <a:ext cx="153648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9"/>
            <p:cNvSpPr/>
            <p:nvPr/>
          </p:nvSpPr>
          <p:spPr>
            <a:xfrm>
              <a:off x="1752480" y="55530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Homa"/>
                </a:rPr>
                <a:t>عضلات بدن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3657240" y="5553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Homa"/>
                </a:rPr>
                <a:t>سيستم عصب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5714640" y="555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Homa"/>
                </a:rPr>
                <a:t>سيستم گردش خون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 flipH="1">
              <a:off x="1523880" y="3191040"/>
              <a:ext cx="144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 flipH="1" flipV="1">
              <a:off x="1523880" y="3571920"/>
              <a:ext cx="3428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 flipH="1">
              <a:off x="1523520" y="3571920"/>
              <a:ext cx="54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304920" y="2886120"/>
              <a:ext cx="1218960" cy="1295280"/>
            </a:xfrm>
            <a:prstGeom prst="rect">
              <a:avLst/>
            </a:prstGeom>
            <a:gradFill rotWithShape="0">
              <a:gsLst>
                <a:gs pos="0">
                  <a:srgbClr val="232454"/>
                </a:gs>
                <a:gs pos="50000">
                  <a:srgbClr val="4b4eb5"/>
                </a:gs>
                <a:gs pos="100000">
                  <a:srgbClr val="2324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ccff33"/>
                  </a:solidFill>
                  <a:latin typeface="Times New Roman"/>
                  <a:cs typeface="Homa"/>
                </a:rPr>
                <a:t>ديدهاي گوناگون از بدن انسان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7" name="Oval 16"/>
          <p:cNvSpPr/>
          <p:nvPr/>
        </p:nvSpPr>
        <p:spPr>
          <a:xfrm>
            <a:off x="8229600" y="2276640"/>
            <a:ext cx="304920" cy="304560"/>
          </a:xfrm>
          <a:prstGeom prst="ellipse">
            <a:avLst/>
          </a:prstGeom>
          <a:gradFill rotWithShape="0">
            <a:gsLst>
              <a:gs pos="0">
                <a:srgbClr val="4b4eb5"/>
              </a:gs>
              <a:gs pos="50000">
                <a:srgbClr val="ffffff"/>
              </a:gs>
              <a:gs pos="100000">
                <a:srgbClr val="4b4e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5189760" y="155736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ahoma"/>
                <a:cs typeface="Nazanin"/>
              </a:rPr>
              <a:t>مثال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ahoma"/>
                <a:cs typeface="Nazanin"/>
              </a:rPr>
              <a:t>هايي از تجر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FDAD-93F8-4570-B986-28B11152203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جريد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250920" y="1484280"/>
            <a:ext cx="7978680" cy="3034440"/>
            <a:chOff x="250920" y="1484280"/>
            <a:chExt cx="7978680" cy="3034440"/>
          </a:xfrm>
        </p:grpSpPr>
        <p:sp>
          <p:nvSpPr>
            <p:cNvPr id="272" name="Rectangle 6"/>
            <p:cNvSpPr/>
            <p:nvPr/>
          </p:nvSpPr>
          <p:spPr>
            <a:xfrm>
              <a:off x="250920" y="1484280"/>
              <a:ext cx="7978680" cy="30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Nazanin"/>
                </a:rPr>
                <a:t>	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Nazanin"/>
                </a:rPr>
                <a:t>بيان روابط ميان اجزاء يك سيستم مكانيكي توسط يك معادله رياض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 algn="r" rtl="1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Nazanin"/>
                </a:rPr>
                <a:t>	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Nazanin"/>
                </a:rPr>
                <a:t> استفاده از نماد      براي نمايش حضور موجوديت انسان در يك صحن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 algn="r" rtl="1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Nazanin"/>
                </a:rPr>
                <a:t>	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Nazanin"/>
                </a:rPr>
                <a:t>نمايش گرافيكي رفتار يك سيست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7"/>
            <p:cNvGrpSpPr/>
            <p:nvPr/>
          </p:nvGrpSpPr>
          <p:grpSpPr>
            <a:xfrm>
              <a:off x="5795640" y="2131920"/>
              <a:ext cx="304920" cy="685800"/>
              <a:chOff x="5795640" y="2131920"/>
              <a:chExt cx="304920" cy="685800"/>
            </a:xfrm>
          </p:grpSpPr>
          <p:sp>
            <p:nvSpPr>
              <p:cNvPr id="274" name="Oval 8"/>
              <p:cNvSpPr/>
              <p:nvPr/>
            </p:nvSpPr>
            <p:spPr>
              <a:xfrm>
                <a:off x="5871960" y="2131920"/>
                <a:ext cx="152640" cy="152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Line 9"/>
              <p:cNvSpPr/>
              <p:nvPr/>
            </p:nvSpPr>
            <p:spPr>
              <a:xfrm>
                <a:off x="5948280" y="2284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Line 10"/>
              <p:cNvSpPr/>
              <p:nvPr/>
            </p:nvSpPr>
            <p:spPr>
              <a:xfrm flipH="1">
                <a:off x="5795640" y="26650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Line 11"/>
              <p:cNvSpPr/>
              <p:nvPr/>
            </p:nvSpPr>
            <p:spPr>
              <a:xfrm>
                <a:off x="5948280" y="26650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12"/>
              <p:cNvSpPr/>
              <p:nvPr/>
            </p:nvSpPr>
            <p:spPr>
              <a:xfrm flipH="1">
                <a:off x="5796000" y="2436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9" name="Oval 13"/>
            <p:cNvSpPr/>
            <p:nvPr/>
          </p:nvSpPr>
          <p:spPr>
            <a:xfrm>
              <a:off x="7848720" y="16495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4b4eb5"/>
                </a:gs>
                <a:gs pos="50000">
                  <a:srgbClr val="ffffff"/>
                </a:gs>
                <a:gs pos="100000">
                  <a:srgbClr val="4b4e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Oval 14"/>
            <p:cNvSpPr/>
            <p:nvPr/>
          </p:nvSpPr>
          <p:spPr>
            <a:xfrm>
              <a:off x="7848720" y="234792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4b4eb5"/>
                </a:gs>
                <a:gs pos="50000">
                  <a:srgbClr val="ffffff"/>
                </a:gs>
                <a:gs pos="100000">
                  <a:srgbClr val="4b4e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15"/>
            <p:cNvSpPr/>
            <p:nvPr/>
          </p:nvSpPr>
          <p:spPr>
            <a:xfrm>
              <a:off x="7848720" y="30510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4b4eb5"/>
                </a:gs>
                <a:gs pos="50000">
                  <a:srgbClr val="ffffff"/>
                </a:gs>
                <a:gs pos="100000">
                  <a:srgbClr val="4b4e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Text Box 16"/>
          <p:cNvSpPr/>
          <p:nvPr/>
        </p:nvSpPr>
        <p:spPr>
          <a:xfrm>
            <a:off x="1403280" y="3789360"/>
            <a:ext cx="6750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نقش تجريد در كنترل پيچيدگ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يكي از ابزارهاي اصلي كنترل و تسلط بر پيچيد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Group 17"/>
          <p:cNvGrpSpPr/>
          <p:nvPr/>
        </p:nvGrpSpPr>
        <p:grpSpPr>
          <a:xfrm>
            <a:off x="826920" y="5302080"/>
            <a:ext cx="7772400" cy="1618560"/>
            <a:chOff x="826920" y="5302080"/>
            <a:chExt cx="7772400" cy="1618560"/>
          </a:xfrm>
        </p:grpSpPr>
        <p:sp>
          <p:nvSpPr>
            <p:cNvPr id="284" name="Text Box 18"/>
            <p:cNvSpPr/>
            <p:nvPr/>
          </p:nvSpPr>
          <p:spPr>
            <a:xfrm>
              <a:off x="4179600" y="5759280"/>
              <a:ext cx="441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جزئيات بي</a:t>
              </a:r>
              <a:r>
                <a:rPr b="1" lang="fa-IR" sz="20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0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شماري كه درباره يك پديده مطرح است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AutoShape 19"/>
            <p:cNvSpPr/>
            <p:nvPr/>
          </p:nvSpPr>
          <p:spPr>
            <a:xfrm>
              <a:off x="3036600" y="568296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3036600" y="53020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بوسيله تجري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Text Box 21"/>
            <p:cNvSpPr/>
            <p:nvPr/>
          </p:nvSpPr>
          <p:spPr>
            <a:xfrm>
              <a:off x="826920" y="5607000"/>
              <a:ext cx="2057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  <a:cs typeface="Nazanin"/>
                </a:rPr>
                <a:t>تنها ابعاد اساسي پديده مد نظر خواهد ش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6DA-9E2E-4EF0-B326-5593C85C5E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تجريد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84360" y="1484280"/>
            <a:ext cx="75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جريد موجودي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4700520" y="2522520"/>
          <a:ext cx="195444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00520" y="2522520"/>
                    <a:ext cx="19544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Picture 6" descr="thumb098[1]"/>
          <p:cNvPicPr/>
          <p:nvPr/>
        </p:nvPicPr>
        <p:blipFill>
          <a:blip r:embed="rId4"/>
          <a:stretch/>
        </p:blipFill>
        <p:spPr>
          <a:xfrm>
            <a:off x="1576440" y="3056040"/>
            <a:ext cx="1096920" cy="663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1042920" y="198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Object: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4395960" y="1989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: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176640" y="320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03ffbd"/>
              </a:gs>
              <a:gs pos="100000">
                <a:srgbClr val="c4709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5119560" y="47242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جريد رفت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16"/>
          <p:cNvGrpSpPr/>
          <p:nvPr/>
        </p:nvGrpSpPr>
        <p:grpSpPr>
          <a:xfrm>
            <a:off x="1258920" y="4890960"/>
            <a:ext cx="4800600" cy="1988640"/>
            <a:chOff x="1258920" y="4890960"/>
            <a:chExt cx="4800600" cy="1988640"/>
          </a:xfrm>
        </p:grpSpPr>
        <p:sp>
          <p:nvSpPr>
            <p:cNvPr id="299" name="Text Box 11"/>
            <p:cNvSpPr/>
            <p:nvPr/>
          </p:nvSpPr>
          <p:spPr>
            <a:xfrm>
              <a:off x="4383000" y="51703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Lotus"/>
                </a:rPr>
                <a:t>اضافه به ليس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 flipH="1">
              <a:off x="3468600" y="5398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AutoShape 13"/>
            <p:cNvSpPr/>
            <p:nvPr/>
          </p:nvSpPr>
          <p:spPr>
            <a:xfrm>
              <a:off x="3240000" y="4890960"/>
              <a:ext cx="152640" cy="1498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100"/>
                  </a:lnTo>
                  <a:cubicBezTo>
                    <a:pt x="10800" y="9000"/>
                    <a:pt x="16200" y="9900"/>
                    <a:pt x="21600" y="9900"/>
                  </a:cubicBezTo>
                  <a:cubicBezTo>
                    <a:pt x="16200" y="9900"/>
                    <a:pt x="10800" y="10800"/>
                    <a:pt x="10800" y="117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1258920" y="4941720"/>
              <a:ext cx="19051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Times New Roman"/>
                  <a:ea typeface="Lotus"/>
                </a:rPr>
                <a:t>  آراي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Times New Roman"/>
                  <a:ea typeface="Lotus"/>
                </a:rPr>
                <a:t>  ليست پيوند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Times New Roman"/>
                  <a:ea typeface="Lotus"/>
                </a:rPr>
                <a:t>  ..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3316320" y="494172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  <a:cs typeface="Homa"/>
                </a:rPr>
                <a:t>پياده سازي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356D-7BD0-4EE9-B763-CE4A4ECA57F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تجريد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029200" y="1341360"/>
            <a:ext cx="3124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جريد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مجاز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جريد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صادف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443400" y="232236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Lotus"/>
              </a:rPr>
              <a:t>پروتكل </a:t>
            </a: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Lotus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1332000" y="1366920"/>
            <a:ext cx="1828800" cy="2133000"/>
            <a:chOff x="1332000" y="1366920"/>
            <a:chExt cx="1828800" cy="2133000"/>
          </a:xfrm>
        </p:grpSpPr>
        <p:sp>
          <p:nvSpPr>
            <p:cNvPr id="309" name="Rectangle 12"/>
            <p:cNvSpPr/>
            <p:nvPr/>
          </p:nvSpPr>
          <p:spPr>
            <a:xfrm>
              <a:off x="1332000" y="1366920"/>
              <a:ext cx="1828800" cy="3808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5b3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1332000" y="1747800"/>
              <a:ext cx="1828800" cy="3805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5b3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1332000" y="2128680"/>
              <a:ext cx="1828800" cy="45684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5b3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1332000" y="2585880"/>
              <a:ext cx="1828800" cy="45684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5b3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16"/>
            <p:cNvSpPr/>
            <p:nvPr/>
          </p:nvSpPr>
          <p:spPr>
            <a:xfrm>
              <a:off x="1332000" y="3043080"/>
              <a:ext cx="1828800" cy="45684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5b3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Rectangle 17"/>
          <p:cNvSpPr/>
          <p:nvPr/>
        </p:nvSpPr>
        <p:spPr>
          <a:xfrm>
            <a:off x="1042920" y="4940280"/>
            <a:ext cx="6481800" cy="1655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 of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18"/>
          <p:cNvSpPr/>
          <p:nvPr/>
        </p:nvSpPr>
        <p:spPr>
          <a:xfrm>
            <a:off x="2556000" y="5227560"/>
            <a:ext cx="1728720" cy="1008000"/>
          </a:xfrm>
          <a:prstGeom prst="irregularSeal1">
            <a:avLst/>
          </a:pr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19"/>
          <p:cNvSpPr/>
          <p:nvPr/>
        </p:nvSpPr>
        <p:spPr>
          <a:xfrm>
            <a:off x="4284720" y="5156280"/>
            <a:ext cx="1439640" cy="1295280"/>
          </a:xfrm>
          <a:prstGeom prst="irregularSeal1">
            <a:avLst/>
          </a:pr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20"/>
          <p:cNvSpPr/>
          <p:nvPr/>
        </p:nvSpPr>
        <p:spPr>
          <a:xfrm>
            <a:off x="5722920" y="5083200"/>
            <a:ext cx="1657440" cy="1081080"/>
          </a:xfrm>
          <a:prstGeom prst="irregularSeal1">
            <a:avLst/>
          </a:pr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AutoShape 21"/>
          <p:cNvSpPr/>
          <p:nvPr/>
        </p:nvSpPr>
        <p:spPr>
          <a:xfrm>
            <a:off x="1332000" y="5516640"/>
            <a:ext cx="1224000" cy="1008000"/>
          </a:xfrm>
          <a:prstGeom prst="irregularSeal1">
            <a:avLst/>
          </a:pr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1547640" y="3860640"/>
            <a:ext cx="1081440" cy="648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2843280" y="3932280"/>
            <a:ext cx="108108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052720" y="450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3348000" y="4579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Oval 26"/>
          <p:cNvSpPr/>
          <p:nvPr/>
        </p:nvSpPr>
        <p:spPr>
          <a:xfrm>
            <a:off x="4067280" y="3716280"/>
            <a:ext cx="108108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4572000" y="43639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Oval 28"/>
          <p:cNvSpPr/>
          <p:nvPr/>
        </p:nvSpPr>
        <p:spPr>
          <a:xfrm>
            <a:off x="5435640" y="3932280"/>
            <a:ext cx="108108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5940360" y="4579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DDD-5A11-4657-A43B-88B451CEA37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ويژگي‌هاي تجريد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يك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جريدهاي گوناگون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جود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جريد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 خارج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يك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ر وكار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جري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طوحي دار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ميزان پرداختن به جزئيات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مه تجريدها داراي ويژگيها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كن و پوي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ئي مفهوم تجريد خود را در قالب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وع داده مجر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Abstract Data Typ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نشان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7E0-97B1-4975-A5AC-AC00A35C209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صورسازي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Encapsulation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بارت از عدم پذيرش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اثيرات ناخواست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Side Effect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و يا كنترل نشده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حدودكرد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طرق دسترسي ب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فاده از يك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Times New Roman"/>
              </a:rPr>
              <a:t>با توجه به اين اصل</a:t>
            </a:r>
            <a:r>
              <a:rPr b="1" lang="fa-IR" sz="2800" spc="-1" strike="noStrike">
                <a:solidFill>
                  <a:srgbClr val="333333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333333"/>
                </a:solidFill>
                <a:latin typeface="Times New Roman"/>
              </a:rPr>
              <a:t>هر شي از دو مولفه زير تشكيل مي</a:t>
            </a:r>
            <a:r>
              <a:rPr b="1" lang="fa-IR" sz="2800" spc="-1" strike="noStrike">
                <a:solidFill>
                  <a:srgbClr val="333333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333333"/>
                </a:solidFill>
                <a:latin typeface="Times New Roman"/>
              </a:rPr>
              <a:t>گر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- واسط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Interface</a:t>
            </a: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):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وصيفي از سروي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ي كه اين شي در اختيار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قرار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- ساختار داخلي: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دا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 + اعمال روي دا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250-AAA9-47C4-AA77-2788433F5A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صورساز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076720" y="1557360"/>
            <a:ext cx="2667240" cy="1905120"/>
            <a:chOff x="5076720" y="1557360"/>
            <a:chExt cx="2667240" cy="1905120"/>
          </a:xfrm>
        </p:grpSpPr>
        <p:sp>
          <p:nvSpPr>
            <p:cNvPr id="336" name="Rectangle 5"/>
            <p:cNvSpPr/>
            <p:nvPr/>
          </p:nvSpPr>
          <p:spPr>
            <a:xfrm>
              <a:off x="5076720" y="1557360"/>
              <a:ext cx="2667240" cy="190512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>
              <a:off x="5343480" y="1754280"/>
              <a:ext cx="2133360" cy="1510920"/>
            </a:xfrm>
            <a:prstGeom prst="roundRect">
              <a:avLst>
                <a:gd name="adj" fmla="val 16667"/>
              </a:avLst>
            </a:prstGeom>
            <a:solidFill>
              <a:srgbClr val="76b74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6143400" y="3330720"/>
              <a:ext cx="533160" cy="65520"/>
            </a:xfrm>
            <a:prstGeom prst="rect">
              <a:avLst/>
            </a:prstGeom>
            <a:solidFill>
              <a:srgbClr val="cc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9" name="Group 8"/>
          <p:cNvGrpSpPr/>
          <p:nvPr/>
        </p:nvGrpSpPr>
        <p:grpSpPr>
          <a:xfrm>
            <a:off x="2099520" y="3290760"/>
            <a:ext cx="3282120" cy="3153960"/>
            <a:chOff x="2099520" y="3290760"/>
            <a:chExt cx="3282120" cy="3153960"/>
          </a:xfrm>
        </p:grpSpPr>
        <p:grpSp>
          <p:nvGrpSpPr>
            <p:cNvPr id="340" name="Group 9"/>
            <p:cNvGrpSpPr/>
            <p:nvPr/>
          </p:nvGrpSpPr>
          <p:grpSpPr>
            <a:xfrm>
              <a:off x="2943000" y="3290760"/>
              <a:ext cx="2438640" cy="2514600"/>
              <a:chOff x="2943000" y="3290760"/>
              <a:chExt cx="2438640" cy="2514600"/>
            </a:xfrm>
          </p:grpSpPr>
          <p:sp>
            <p:nvSpPr>
              <p:cNvPr id="341" name="Arc 10"/>
              <p:cNvSpPr/>
              <p:nvPr/>
            </p:nvSpPr>
            <p:spPr>
              <a:xfrm>
                <a:off x="2943000" y="4433760"/>
                <a:ext cx="1371600" cy="1371600"/>
              </a:xfrm>
              <a:prstGeom prst="pie">
                <a:avLst/>
              </a:prstGeom>
              <a:noFill/>
              <a:ln w="57240">
                <a:solidFill>
                  <a:srgbClr val="c481c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Arc 11"/>
              <p:cNvSpPr/>
              <p:nvPr/>
            </p:nvSpPr>
            <p:spPr>
              <a:xfrm>
                <a:off x="3247920" y="4059360"/>
                <a:ext cx="1371600" cy="1371600"/>
              </a:xfrm>
              <a:prstGeom prst="pie">
                <a:avLst/>
              </a:prstGeom>
              <a:noFill/>
              <a:ln w="57240">
                <a:solidFill>
                  <a:srgbClr val="c481c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" name="Arc 12"/>
              <p:cNvSpPr/>
              <p:nvPr/>
            </p:nvSpPr>
            <p:spPr>
              <a:xfrm>
                <a:off x="3628800" y="3614760"/>
                <a:ext cx="1371600" cy="1371600"/>
              </a:xfrm>
              <a:prstGeom prst="pie">
                <a:avLst/>
              </a:prstGeom>
              <a:noFill/>
              <a:ln w="57240">
                <a:solidFill>
                  <a:srgbClr val="c481c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Arc 13"/>
              <p:cNvSpPr/>
              <p:nvPr/>
            </p:nvSpPr>
            <p:spPr>
              <a:xfrm>
                <a:off x="4010040" y="3290760"/>
                <a:ext cx="1371600" cy="1371600"/>
              </a:xfrm>
              <a:prstGeom prst="pie">
                <a:avLst/>
              </a:prstGeom>
              <a:noFill/>
              <a:ln w="57240">
                <a:solidFill>
                  <a:srgbClr val="c481c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5" name="Group 14"/>
            <p:cNvGrpSpPr/>
            <p:nvPr/>
          </p:nvGrpSpPr>
          <p:grpSpPr>
            <a:xfrm>
              <a:off x="2099520" y="4885920"/>
              <a:ext cx="1549080" cy="1558800"/>
              <a:chOff x="2099520" y="4885920"/>
              <a:chExt cx="1549080" cy="1558800"/>
            </a:xfrm>
          </p:grpSpPr>
          <p:sp>
            <p:nvSpPr>
              <p:cNvPr id="346" name="AutoShape 15"/>
              <p:cNvSpPr/>
              <p:nvPr/>
            </p:nvSpPr>
            <p:spPr>
              <a:xfrm rot="18871800">
                <a:off x="3290040" y="4897800"/>
                <a:ext cx="88200" cy="194760"/>
              </a:xfrm>
              <a:custGeom>
                <a:avLst/>
                <a:gdLst>
                  <a:gd name="textAreaLeft" fmla="*/ 0 w 88200"/>
                  <a:gd name="textAreaRight" fmla="*/ 61920 w 88200"/>
                  <a:gd name="textAreaTop" fmla="*/ 48600 h 194760"/>
                  <a:gd name="textAreaBottom" fmla="*/ 146160 h 19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solidFill>
                <a:srgbClr val="c481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AutoShape 16"/>
              <p:cNvSpPr/>
              <p:nvPr/>
            </p:nvSpPr>
            <p:spPr>
              <a:xfrm rot="18871800">
                <a:off x="2117880" y="5322240"/>
                <a:ext cx="151200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Rectangle 17"/>
              <p:cNvSpPr/>
              <p:nvPr/>
            </p:nvSpPr>
            <p:spPr>
              <a:xfrm rot="18871800">
                <a:off x="3033000" y="512496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Rectangle 18"/>
              <p:cNvSpPr/>
              <p:nvPr/>
            </p:nvSpPr>
            <p:spPr>
              <a:xfrm rot="18871800">
                <a:off x="3180240" y="526932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19"/>
              <p:cNvSpPr/>
              <p:nvPr/>
            </p:nvSpPr>
            <p:spPr>
              <a:xfrm rot="18871800">
                <a:off x="3331080" y="541800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20"/>
              <p:cNvSpPr/>
              <p:nvPr/>
            </p:nvSpPr>
            <p:spPr>
              <a:xfrm rot="18871800">
                <a:off x="2875680" y="5280480"/>
                <a:ext cx="9000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Rectangle 21"/>
              <p:cNvSpPr/>
              <p:nvPr/>
            </p:nvSpPr>
            <p:spPr>
              <a:xfrm rot="18871800">
                <a:off x="3023280" y="5425560"/>
                <a:ext cx="90000" cy="96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Rectangle 22"/>
              <p:cNvSpPr/>
              <p:nvPr/>
            </p:nvSpPr>
            <p:spPr>
              <a:xfrm rot="18871800">
                <a:off x="3173760" y="5573880"/>
                <a:ext cx="9000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23"/>
              <p:cNvSpPr/>
              <p:nvPr/>
            </p:nvSpPr>
            <p:spPr>
              <a:xfrm rot="18871800">
                <a:off x="2723400" y="543960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Rectangle 24"/>
              <p:cNvSpPr/>
              <p:nvPr/>
            </p:nvSpPr>
            <p:spPr>
              <a:xfrm rot="18871800">
                <a:off x="2870640" y="558396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Rectangle 25"/>
              <p:cNvSpPr/>
              <p:nvPr/>
            </p:nvSpPr>
            <p:spPr>
              <a:xfrm rot="18871800">
                <a:off x="3021840" y="573264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Rectangle 26"/>
              <p:cNvSpPr/>
              <p:nvPr/>
            </p:nvSpPr>
            <p:spPr>
              <a:xfrm rot="18871800">
                <a:off x="2567520" y="559440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Rectangle 27"/>
              <p:cNvSpPr/>
              <p:nvPr/>
            </p:nvSpPr>
            <p:spPr>
              <a:xfrm rot="18871800">
                <a:off x="2714400" y="5739840"/>
                <a:ext cx="89640" cy="96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Rectangle 28"/>
              <p:cNvSpPr/>
              <p:nvPr/>
            </p:nvSpPr>
            <p:spPr>
              <a:xfrm rot="18871800">
                <a:off x="2865240" y="5887440"/>
                <a:ext cx="89640" cy="9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60" name="Line 29"/>
          <p:cNvSpPr/>
          <p:nvPr/>
        </p:nvSpPr>
        <p:spPr>
          <a:xfrm flipH="1" flipV="1">
            <a:off x="6905160" y="3806640"/>
            <a:ext cx="228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6829560" y="4834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ش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31"/>
          <p:cNvSpPr/>
          <p:nvPr/>
        </p:nvSpPr>
        <p:spPr>
          <a:xfrm>
            <a:off x="1647720" y="28162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32"/>
          <p:cNvSpPr/>
          <p:nvPr/>
        </p:nvSpPr>
        <p:spPr>
          <a:xfrm>
            <a:off x="1038240" y="23194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واس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350D-9BE2-45A3-912A-D181CC779B7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محصورسازي در كنترل پيچيد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نترل و تسلط بر پيچيدگي بوسيله كنترل را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دسترسي به يك شي كه باعث جلوگيري از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خرابكار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احتمالي و محلي كردن گستره خطاها در خود 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ثبات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اسط،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مکان اعمال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غيير در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ا فراهم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فهوم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يك واسط، چند پيا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ساز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مكان استفاده مجدد را بال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611280" y="4869000"/>
            <a:ext cx="7924680" cy="1600200"/>
            <a:chOff x="611280" y="4869000"/>
            <a:chExt cx="7924680" cy="1600200"/>
          </a:xfrm>
        </p:grpSpPr>
        <p:grpSp>
          <p:nvGrpSpPr>
            <p:cNvPr id="368" name="Group 5"/>
            <p:cNvGrpSpPr/>
            <p:nvPr/>
          </p:nvGrpSpPr>
          <p:grpSpPr>
            <a:xfrm>
              <a:off x="2668680" y="4869000"/>
              <a:ext cx="4038480" cy="1447560"/>
              <a:chOff x="2668680" y="4869000"/>
              <a:chExt cx="4038480" cy="1447560"/>
            </a:xfrm>
          </p:grpSpPr>
          <p:sp>
            <p:nvSpPr>
              <p:cNvPr id="369" name="Rectangle 6"/>
              <p:cNvSpPr/>
              <p:nvPr/>
            </p:nvSpPr>
            <p:spPr>
              <a:xfrm>
                <a:off x="2820960" y="4869000"/>
                <a:ext cx="3886200" cy="1447560"/>
              </a:xfrm>
              <a:prstGeom prst="rect">
                <a:avLst/>
              </a:prstGeom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Oval 7"/>
              <p:cNvSpPr/>
              <p:nvPr/>
            </p:nvSpPr>
            <p:spPr>
              <a:xfrm>
                <a:off x="3430440" y="5097240"/>
                <a:ext cx="2819520" cy="914040"/>
              </a:xfrm>
              <a:prstGeom prst="ellipse">
                <a:avLst/>
              </a:prstGeom>
              <a:gradFill rotWithShape="0">
                <a:gsLst>
                  <a:gs pos="0">
                    <a:srgbClr val="232454"/>
                  </a:gs>
                  <a:gs pos="50000">
                    <a:srgbClr val="4b4eb5"/>
                  </a:gs>
                  <a:gs pos="100000">
                    <a:srgbClr val="2324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Text Box 8"/>
              <p:cNvSpPr/>
              <p:nvPr/>
            </p:nvSpPr>
            <p:spPr>
              <a:xfrm>
                <a:off x="2668680" y="4869000"/>
                <a:ext cx="83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ccff33"/>
                    </a:solidFill>
                    <a:latin typeface="Times New Roman"/>
                    <a:cs typeface="Nazanin"/>
                  </a:rPr>
                  <a:t>واسط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Text Box 9"/>
              <p:cNvSpPr/>
              <p:nvPr/>
            </p:nvSpPr>
            <p:spPr>
              <a:xfrm>
                <a:off x="4192560" y="532584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ccff33"/>
                    </a:solidFill>
                    <a:latin typeface="Times New Roman"/>
                    <a:cs typeface="Nazanin"/>
                  </a:rPr>
                  <a:t>پياده سازي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3" name="AutoShape 10"/>
            <p:cNvSpPr/>
            <p:nvPr/>
          </p:nvSpPr>
          <p:spPr>
            <a:xfrm>
              <a:off x="611280" y="4944960"/>
              <a:ext cx="10666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47"/>
                </a:gs>
                <a:gs pos="50000">
                  <a:srgbClr val="ffcc99"/>
                </a:gs>
                <a:gs pos="100000">
                  <a:srgbClr val="765e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كاربر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1677960" y="52498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AutoShape 12"/>
            <p:cNvSpPr/>
            <p:nvPr/>
          </p:nvSpPr>
          <p:spPr>
            <a:xfrm>
              <a:off x="7469280" y="4944960"/>
              <a:ext cx="10666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47"/>
                </a:gs>
                <a:gs pos="50000">
                  <a:srgbClr val="ffcc99"/>
                </a:gs>
                <a:gs pos="100000">
                  <a:srgbClr val="765e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كاربر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 flipH="1">
              <a:off x="6681240" y="524988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AutoShape 14"/>
            <p:cNvSpPr/>
            <p:nvPr/>
          </p:nvSpPr>
          <p:spPr>
            <a:xfrm>
              <a:off x="611280" y="5935680"/>
              <a:ext cx="10666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47"/>
                </a:gs>
                <a:gs pos="50000">
                  <a:srgbClr val="ffcc99"/>
                </a:gs>
                <a:gs pos="100000">
                  <a:srgbClr val="765e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كاربر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677960" y="57834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9541-4181-4C16-AFF5-38F30F8BE96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صورساز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قاعده باز و بست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80808"/>
                </a:solidFill>
                <a:latin typeface="Times New Roman"/>
              </a:rPr>
              <a:t>قاعده باز و بست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ر ماژولي براي تعريف كننده آن باز و براي استفاده كننده بست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ماژول باز: ماژولي كه براي اعمال تغييرات آماده باش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ماژول بسته: ماژولي كه امكان تغييرات در آن وجود ندارد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2" name="Group 21"/>
          <p:cNvGrpSpPr/>
          <p:nvPr/>
        </p:nvGrpSpPr>
        <p:grpSpPr>
          <a:xfrm>
            <a:off x="825480" y="4292640"/>
            <a:ext cx="7129080" cy="2305080"/>
            <a:chOff x="825480" y="4292640"/>
            <a:chExt cx="7129080" cy="2305080"/>
          </a:xfrm>
        </p:grpSpPr>
        <p:grpSp>
          <p:nvGrpSpPr>
            <p:cNvPr id="383" name="Group 14"/>
            <p:cNvGrpSpPr/>
            <p:nvPr/>
          </p:nvGrpSpPr>
          <p:grpSpPr>
            <a:xfrm>
              <a:off x="825480" y="4484520"/>
              <a:ext cx="1250640" cy="2113200"/>
              <a:chOff x="825480" y="4484520"/>
              <a:chExt cx="1250640" cy="2113200"/>
            </a:xfrm>
          </p:grpSpPr>
          <p:sp>
            <p:nvSpPr>
              <p:cNvPr id="384" name="Freeform 8"/>
              <p:cNvSpPr/>
              <p:nvPr/>
            </p:nvSpPr>
            <p:spPr>
              <a:xfrm>
                <a:off x="957240" y="5086440"/>
                <a:ext cx="423720" cy="76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9"/>
              <p:cNvSpPr/>
              <p:nvPr/>
            </p:nvSpPr>
            <p:spPr>
              <a:xfrm>
                <a:off x="825480" y="4635360"/>
                <a:ext cx="48096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0"/>
              <p:cNvSpPr/>
              <p:nvPr/>
            </p:nvSpPr>
            <p:spPr>
              <a:xfrm>
                <a:off x="1126800" y="4484520"/>
                <a:ext cx="949320" cy="71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1"/>
              <p:cNvSpPr/>
              <p:nvPr/>
            </p:nvSpPr>
            <p:spPr>
              <a:xfrm>
                <a:off x="1017360" y="5146560"/>
                <a:ext cx="943200" cy="75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"/>
              <p:cNvSpPr/>
              <p:nvPr/>
            </p:nvSpPr>
            <p:spPr>
              <a:xfrm>
                <a:off x="906480" y="5688000"/>
                <a:ext cx="266400" cy="90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3"/>
              <p:cNvSpPr/>
              <p:nvPr/>
            </p:nvSpPr>
            <p:spPr>
              <a:xfrm>
                <a:off x="1123920" y="5699160"/>
                <a:ext cx="446040" cy="79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0"/>
            <p:cNvGrpSpPr/>
            <p:nvPr/>
          </p:nvGrpSpPr>
          <p:grpSpPr>
            <a:xfrm>
              <a:off x="1815840" y="4292640"/>
              <a:ext cx="6138720" cy="1969920"/>
              <a:chOff x="1815840" y="4292640"/>
              <a:chExt cx="6138720" cy="1969920"/>
            </a:xfrm>
          </p:grpSpPr>
          <p:sp>
            <p:nvSpPr>
              <p:cNvPr id="391" name="Freeform 15"/>
              <p:cNvSpPr/>
              <p:nvPr/>
            </p:nvSpPr>
            <p:spPr>
              <a:xfrm>
                <a:off x="1870560" y="4313160"/>
                <a:ext cx="6020640" cy="1922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2" name="Group 19"/>
              <p:cNvGrpSpPr/>
              <p:nvPr/>
            </p:nvGrpSpPr>
            <p:grpSpPr>
              <a:xfrm>
                <a:off x="1815840" y="4292640"/>
                <a:ext cx="6138720" cy="1969920"/>
                <a:chOff x="1815840" y="4292640"/>
                <a:chExt cx="6138720" cy="1969920"/>
              </a:xfrm>
            </p:grpSpPr>
            <p:sp>
              <p:nvSpPr>
                <p:cNvPr id="393" name="Freeform 16"/>
                <p:cNvSpPr/>
                <p:nvPr/>
              </p:nvSpPr>
              <p:spPr>
                <a:xfrm>
                  <a:off x="1815840" y="5551560"/>
                  <a:ext cx="5866200" cy="711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7"/>
                <p:cNvSpPr/>
                <p:nvPr/>
              </p:nvSpPr>
              <p:spPr>
                <a:xfrm>
                  <a:off x="2089440" y="4292640"/>
                  <a:ext cx="5865120" cy="195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8"/>
                <p:cNvSpPr/>
                <p:nvPr/>
              </p:nvSpPr>
              <p:spPr>
                <a:xfrm>
                  <a:off x="2044080" y="4570560"/>
                  <a:ext cx="309960" cy="106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96" name="Rectangle 4"/>
          <p:cNvSpPr/>
          <p:nvPr/>
        </p:nvSpPr>
        <p:spPr>
          <a:xfrm>
            <a:off x="2195640" y="4724280"/>
            <a:ext cx="5111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Homa"/>
                <a:cs typeface="Nazanin"/>
              </a:rPr>
              <a:t>ما به ماژول</a:t>
            </a:r>
            <a:r>
              <a:rPr b="1" lang="fa-IR" sz="2800" spc="-1" strike="noStrike">
                <a:solidFill>
                  <a:srgbClr val="000066"/>
                </a:solidFill>
                <a:latin typeface="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Homa"/>
                <a:cs typeface="Nazanin"/>
              </a:rPr>
              <a:t>هايي نياز داريم ك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Homa"/>
                <a:cs typeface="Nazanin"/>
              </a:rPr>
              <a:t>همزمان باز و بسته</a:t>
            </a: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 باشن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C030-2383-4F60-8B35-933162F544D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صول ش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ي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گرائ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قش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صول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ئي 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نترل پيچيدگ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مزاياي مدل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كاربردهاي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1D1-9268-4461-92CE-D4EFA0C8B85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صورساز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تباط بين اشياء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نها از راه واسط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جري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كانيزم تعيين جزئياتي است كه بايد پنهان شود، اس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م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حصورس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فرآيند پنه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 جزئيات و كنترل دسترسي به آ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خ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اهد بود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حصورسازي يك مفهوم نسب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00" name="Picture 4" descr="NEEDHELP"/>
          <p:cNvPicPr/>
          <p:nvPr/>
        </p:nvPicPr>
        <p:blipFill>
          <a:blip r:embed="rId1"/>
          <a:stretch/>
        </p:blipFill>
        <p:spPr>
          <a:xfrm>
            <a:off x="611280" y="4005360"/>
            <a:ext cx="2519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C6C7-25C1-4E82-A67C-F1B72EE8F4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احدبندي (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odularity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يستم واحدبندي ش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مجموع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ي از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اژول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(واحدها) منسج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معن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ابستگ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بين آن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حداقل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ست تجزيه شد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اژو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جموعه‌اي از عناصر با ارتباطات و وابستگي بال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20000"/>
              </a:lnSpc>
              <a:spcBef>
                <a:spcPts val="4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فايل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ها در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++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20000"/>
              </a:lnSpc>
              <a:spcBef>
                <a:spcPts val="4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99"/>
                </a:solidFill>
                <a:latin typeface="Times New Roman"/>
              </a:rPr>
              <a:t>مدارات مجتمع در سخت</a:t>
            </a:r>
            <a:r>
              <a:rPr b="1" lang="fa-IR" sz="1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1800" spc="-1" strike="noStrike">
                <a:solidFill>
                  <a:srgbClr val="000099"/>
                </a:solidFill>
                <a:latin typeface="Times New Roman"/>
              </a:rPr>
              <a:t>افزار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20000"/>
              </a:lnSpc>
              <a:spcBef>
                <a:spcPts val="4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ولفه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mponents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) در استانداردهاي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M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Java Beans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NET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20000"/>
              </a:lnSpc>
              <a:spcBef>
                <a:spcPts val="4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99"/>
                </a:solidFill>
                <a:latin typeface="Times New Roman"/>
              </a:rPr>
              <a:t>سرويس‌هاي وب در اينترنت (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web Service</a:t>
            </a:r>
            <a:r>
              <a:rPr b="1" lang="fa-IR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32A-5770-4B2D-96B9-A5B5415AFC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احد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سجا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‌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جه ارتباط عملكردهاي عناصر داخلي يك ماژو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بستگي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جه ارتباط ماژو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گوناگون با يكديگ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07" name="Picture 4" descr="MEASPROG"/>
          <p:cNvPicPr/>
          <p:nvPr/>
        </p:nvPicPr>
        <p:blipFill>
          <a:blip r:embed="rId1"/>
          <a:stretch/>
        </p:blipFill>
        <p:spPr>
          <a:xfrm>
            <a:off x="2987640" y="4149720"/>
            <a:ext cx="29433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7BF3-8A3E-4C4A-A798-9F7E8D25AFD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احد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68360" y="3414600"/>
            <a:ext cx="3124080" cy="1447920"/>
            <a:chOff x="468360" y="3414600"/>
            <a:chExt cx="3124080" cy="1447920"/>
          </a:xfrm>
        </p:grpSpPr>
        <p:sp>
          <p:nvSpPr>
            <p:cNvPr id="411" name="Rectangle 5"/>
            <p:cNvSpPr/>
            <p:nvPr/>
          </p:nvSpPr>
          <p:spPr>
            <a:xfrm>
              <a:off x="696960" y="3414600"/>
              <a:ext cx="289548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468360" y="375768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der Processing System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7"/>
          <p:cNvGrpSpPr/>
          <p:nvPr/>
        </p:nvGrpSpPr>
        <p:grpSpPr>
          <a:xfrm>
            <a:off x="6505560" y="5319720"/>
            <a:ext cx="1671120" cy="1113840"/>
            <a:chOff x="6505560" y="5319720"/>
            <a:chExt cx="1671120" cy="1113840"/>
          </a:xfrm>
        </p:grpSpPr>
        <p:grpSp>
          <p:nvGrpSpPr>
            <p:cNvPr id="414" name="Group 8"/>
            <p:cNvGrpSpPr/>
            <p:nvPr/>
          </p:nvGrpSpPr>
          <p:grpSpPr>
            <a:xfrm>
              <a:off x="6505560" y="5319720"/>
              <a:ext cx="1671120" cy="1113840"/>
              <a:chOff x="6505560" y="5319720"/>
              <a:chExt cx="1671120" cy="1113840"/>
            </a:xfrm>
          </p:grpSpPr>
          <p:sp>
            <p:nvSpPr>
              <p:cNvPr id="415" name="Rectangle 9"/>
              <p:cNvSpPr/>
              <p:nvPr/>
            </p:nvSpPr>
            <p:spPr>
              <a:xfrm>
                <a:off x="6505560" y="5615280"/>
                <a:ext cx="1671120" cy="818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Rectangle 10"/>
              <p:cNvSpPr/>
              <p:nvPr/>
            </p:nvSpPr>
            <p:spPr>
              <a:xfrm>
                <a:off x="6505560" y="5319720"/>
                <a:ext cx="583920" cy="295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" name="Text Box 11"/>
            <p:cNvSpPr/>
            <p:nvPr/>
          </p:nvSpPr>
          <p:spPr>
            <a:xfrm>
              <a:off x="6946200" y="5649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llin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8" name="Group 12"/>
          <p:cNvGrpSpPr/>
          <p:nvPr/>
        </p:nvGrpSpPr>
        <p:grpSpPr>
          <a:xfrm>
            <a:off x="6505560" y="2300400"/>
            <a:ext cx="1671120" cy="1113840"/>
            <a:chOff x="6505560" y="2300400"/>
            <a:chExt cx="1671120" cy="1113840"/>
          </a:xfrm>
        </p:grpSpPr>
        <p:grpSp>
          <p:nvGrpSpPr>
            <p:cNvPr id="419" name="Group 13"/>
            <p:cNvGrpSpPr/>
            <p:nvPr/>
          </p:nvGrpSpPr>
          <p:grpSpPr>
            <a:xfrm>
              <a:off x="6505560" y="2300400"/>
              <a:ext cx="1671120" cy="1113840"/>
              <a:chOff x="6505560" y="2300400"/>
              <a:chExt cx="1671120" cy="1113840"/>
            </a:xfrm>
          </p:grpSpPr>
          <p:sp>
            <p:nvSpPr>
              <p:cNvPr id="420" name="Rectangle 14"/>
              <p:cNvSpPr/>
              <p:nvPr/>
            </p:nvSpPr>
            <p:spPr>
              <a:xfrm>
                <a:off x="6505560" y="2595960"/>
                <a:ext cx="1671120" cy="818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5"/>
              <p:cNvSpPr/>
              <p:nvPr/>
            </p:nvSpPr>
            <p:spPr>
              <a:xfrm>
                <a:off x="6505560" y="2300400"/>
                <a:ext cx="583920" cy="295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6958080" y="26305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5284800" y="3757680"/>
            <a:ext cx="1671120" cy="1113840"/>
            <a:chOff x="5284800" y="3757680"/>
            <a:chExt cx="1671120" cy="1113840"/>
          </a:xfrm>
        </p:grpSpPr>
        <p:grpSp>
          <p:nvGrpSpPr>
            <p:cNvPr id="424" name="Group 18"/>
            <p:cNvGrpSpPr/>
            <p:nvPr/>
          </p:nvGrpSpPr>
          <p:grpSpPr>
            <a:xfrm>
              <a:off x="5284800" y="3757680"/>
              <a:ext cx="1671120" cy="1113840"/>
              <a:chOff x="5284800" y="3757680"/>
              <a:chExt cx="1671120" cy="1113840"/>
            </a:xfrm>
          </p:grpSpPr>
          <p:sp>
            <p:nvSpPr>
              <p:cNvPr id="425" name="Rectangle 19"/>
              <p:cNvSpPr/>
              <p:nvPr/>
            </p:nvSpPr>
            <p:spPr>
              <a:xfrm>
                <a:off x="5284800" y="4053240"/>
                <a:ext cx="1671120" cy="818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0"/>
              <p:cNvSpPr/>
              <p:nvPr/>
            </p:nvSpPr>
            <p:spPr>
              <a:xfrm>
                <a:off x="5284800" y="3757680"/>
                <a:ext cx="583920" cy="295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7" name="Text Box 21"/>
            <p:cNvSpPr/>
            <p:nvPr/>
          </p:nvSpPr>
          <p:spPr>
            <a:xfrm>
              <a:off x="5509440" y="408780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AutoShape 22"/>
          <p:cNvSpPr/>
          <p:nvPr/>
        </p:nvSpPr>
        <p:spPr>
          <a:xfrm>
            <a:off x="3992400" y="3605040"/>
            <a:ext cx="990720" cy="914400"/>
          </a:xfrm>
          <a:prstGeom prst="rightArrow">
            <a:avLst>
              <a:gd name="adj1" fmla="val 50000"/>
              <a:gd name="adj2" fmla="val 4219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7529040" y="170028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Homa"/>
                <a:cs typeface="Homa"/>
              </a:rPr>
              <a:t>مثال</a:t>
            </a:r>
            <a:r>
              <a:rPr b="0" lang="ar-SA" sz="3200" spc="-1" strike="noStrike">
                <a:solidFill>
                  <a:srgbClr val="000066"/>
                </a:solidFill>
                <a:latin typeface="Homa"/>
                <a:ea typeface="Homa"/>
              </a:rPr>
              <a:t>‌</a:t>
            </a:r>
            <a:r>
              <a:rPr b="0" lang="ar-SA" sz="3200" spc="-1" strike="noStrike">
                <a:solidFill>
                  <a:srgbClr val="000066"/>
                </a:solidFill>
                <a:latin typeface="Homa"/>
                <a:ea typeface="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7F9-A234-42BB-A242-B761500C1AA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واحدبندي در كنترل پيچيد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كستن مساله به اجزائي كوچكتر يكي از را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كارا براي مقابله با پيچيد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گر مسئله </a:t>
            </a:r>
            <a:r>
              <a:rPr b="1" lang="en-US" sz="2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 را به زير مسئل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ي </a:t>
            </a:r>
            <a:r>
              <a:rPr b="1" lang="en-US" sz="2200" spc="-1" strike="noStrike">
                <a:solidFill>
                  <a:srgbClr val="0033cc"/>
                </a:solidFill>
                <a:latin typeface="Times New Roman"/>
              </a:rPr>
              <a:t>P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، </a:t>
            </a:r>
            <a:r>
              <a:rPr b="1" lang="en-US" sz="2200" spc="-1" strike="noStrike">
                <a:solidFill>
                  <a:srgbClr val="0033cc"/>
                </a:solidFill>
                <a:latin typeface="Times New Roman"/>
              </a:rPr>
              <a:t>P1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 و </a:t>
            </a:r>
            <a:r>
              <a:rPr b="1" lang="en-US" sz="2200" spc="-1" strike="noStrike">
                <a:solidFill>
                  <a:srgbClr val="0033cc"/>
                </a:solidFill>
                <a:latin typeface="Times New Roman"/>
              </a:rPr>
              <a:t>P3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 تقسيم نماييم آنگا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C(P) &gt; C(P1) + C(P2) + C(P3)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E(P) &gt; E(P1) + E(P2) + E(P3)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وجيه معادلات فوق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هنگام شكستن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 وابستگي بين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2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1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 و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3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 ناديده گرفته مي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5148360" y="3284640"/>
            <a:ext cx="2448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: Complex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: Solving Ener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58AC-92E0-4111-8F65-CC00955FADE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واحدبندي د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 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130560" y="162864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بنابر استدلال قبل مي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توان نوشت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28600" y="2743200"/>
            <a:ext cx="5448240" cy="1434960"/>
            <a:chOff x="228600" y="2743200"/>
            <a:chExt cx="5448240" cy="1434960"/>
          </a:xfrm>
        </p:grpSpPr>
        <mc:AlternateContent>
          <mc:Choice xmlns:a14="http://schemas.microsoft.com/office/drawing/2010/main" Requires="a14">
            <p:sp>
              <p:nvSpPr>
                <p:cNvPr id="438" name="Object 6"/>
                <p:cNvSpPr txBox="1"/>
                <p:nvPr/>
              </p:nvSpPr>
              <p:spPr>
                <a:xfrm>
                  <a:off x="3733920" y="2743200"/>
                  <a:ext cx="194292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Text Box 7"/>
            <p:cNvSpPr/>
            <p:nvPr/>
          </p:nvSpPr>
          <p:spPr>
            <a:xfrm>
              <a:off x="1981080" y="2743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AutoShape 8"/>
            <p:cNvSpPr/>
            <p:nvPr/>
          </p:nvSpPr>
          <p:spPr>
            <a:xfrm>
              <a:off x="2590920" y="28195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Text Box 9"/>
            <p:cNvSpPr/>
            <p:nvPr/>
          </p:nvSpPr>
          <p:spPr>
            <a:xfrm>
              <a:off x="2057400" y="3352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شكسته گردد ب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Text Box 10"/>
            <p:cNvSpPr/>
            <p:nvPr/>
          </p:nvSpPr>
          <p:spPr>
            <a:xfrm>
              <a:off x="228600" y="2819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گ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Group 11"/>
          <p:cNvGrpSpPr/>
          <p:nvPr/>
        </p:nvGrpSpPr>
        <p:grpSpPr>
          <a:xfrm>
            <a:off x="304920" y="4038480"/>
            <a:ext cx="7162560" cy="993240"/>
            <a:chOff x="304920" y="4038480"/>
            <a:chExt cx="7162560" cy="993240"/>
          </a:xfrm>
        </p:grpSpPr>
        <mc:AlternateContent>
          <mc:Choice xmlns:a14="http://schemas.microsoft.com/office/drawing/2010/main" Requires="a14">
            <p:sp>
              <p:nvSpPr>
                <p:cNvPr id="444" name="Object 12"/>
                <p:cNvSpPr txBox="1"/>
                <p:nvPr/>
              </p:nvSpPr>
              <p:spPr>
                <a:xfrm>
                  <a:off x="1201680" y="4191120"/>
                  <a:ext cx="12366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AutoShape 13"/>
            <p:cNvSpPr/>
            <p:nvPr/>
          </p:nvSpPr>
          <p:spPr>
            <a:xfrm>
              <a:off x="2590920" y="41148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14"/>
                <p:cNvSpPr txBox="1"/>
                <p:nvPr/>
              </p:nvSpPr>
              <p:spPr>
                <a:xfrm>
                  <a:off x="3733920" y="4038480"/>
                  <a:ext cx="190656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15"/>
                <p:cNvSpPr txBox="1"/>
                <p:nvPr/>
              </p:nvSpPr>
              <p:spPr>
                <a:xfrm>
                  <a:off x="6019920" y="4073400"/>
                  <a:ext cx="144756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Text Box 16"/>
            <p:cNvSpPr/>
            <p:nvPr/>
          </p:nvSpPr>
          <p:spPr>
            <a:xfrm>
              <a:off x="304920" y="4191120"/>
              <a:ext cx="76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 اگ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17"/>
            <p:cNvSpPr/>
            <p:nvPr/>
          </p:nvSpPr>
          <p:spPr>
            <a:xfrm>
              <a:off x="2438280" y="4572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آنگا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0" name="Group 18"/>
          <p:cNvGrpSpPr/>
          <p:nvPr/>
        </p:nvGrpSpPr>
        <p:grpSpPr>
          <a:xfrm>
            <a:off x="2514600" y="5410080"/>
            <a:ext cx="6438960" cy="993240"/>
            <a:chOff x="2514600" y="5410080"/>
            <a:chExt cx="6438960" cy="993240"/>
          </a:xfrm>
        </p:grpSpPr>
        <p:sp>
          <p:nvSpPr>
            <p:cNvPr id="451" name="AutoShape 19"/>
            <p:cNvSpPr/>
            <p:nvPr/>
          </p:nvSpPr>
          <p:spPr>
            <a:xfrm>
              <a:off x="2590920" y="54100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Object 20"/>
                <p:cNvSpPr txBox="1"/>
                <p:nvPr/>
              </p:nvSpPr>
              <p:spPr>
                <a:xfrm>
                  <a:off x="3657600" y="5410080"/>
                  <a:ext cx="529596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Text Box 21"/>
            <p:cNvSpPr/>
            <p:nvPr/>
          </p:nvSpPr>
          <p:spPr>
            <a:xfrm>
              <a:off x="2514600" y="5943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يعن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4" name="AutoShape 22"/>
          <p:cNvSpPr/>
          <p:nvPr/>
        </p:nvSpPr>
        <p:spPr>
          <a:xfrm>
            <a:off x="1979640" y="2276640"/>
            <a:ext cx="3962520" cy="3886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6C6-A1B0-4D69-91BE-E8656D8C924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واحدبندي د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 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95280" y="1511280"/>
            <a:ext cx="81374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در روابط قب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براي سادگي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، تلاش لازم براي يكپارچگي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Integration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) راه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حل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ها با يكديگر ناديده گرفته شده است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،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بنابراين بايد نوشت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8280" y="3473280"/>
                <a:ext cx="8020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6"/>
          <p:cNvSpPr/>
          <p:nvPr/>
        </p:nvSpPr>
        <p:spPr>
          <a:xfrm>
            <a:off x="3564000" y="4221000"/>
            <a:ext cx="47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I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: تلاش لازم براي يكپارچ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سازي را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حل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ها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611280" y="4724280"/>
            <a:ext cx="8151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Nazanin"/>
              </a:rPr>
              <a:t>توجي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نگام شكستن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Nazanin"/>
              </a:rPr>
              <a:t>P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، روابط موجود بين زير مسئل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 ناديده گرفته م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ش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 دو مرحله شدن را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حل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(شكستن سپس يكپارچگي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403-15DB-4943-8593-FC90F9FEC04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احد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ويژگي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30000"/>
              </a:lnSpc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گر شرايط بي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ده در تعريف واحدبندي رعايت گردد آنگاه ماژو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بدست آمد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قابلي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ستفاده مجدد بالاي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خوا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 داش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داد زيرمسال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نبايد زياد يا كم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يين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عيار شكست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ك مسال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همترين عامل براي موفقيت استفاده از اين ويژ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احد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ايد ويژگيهاي </a:t>
            </a:r>
            <a:r>
              <a:rPr b="1" i="1" lang="en-US" sz="2100" spc="-1" strike="noStrike">
                <a:solidFill>
                  <a:srgbClr val="cc3300"/>
                </a:solidFill>
                <a:latin typeface="Times New Roman"/>
              </a:rPr>
              <a:t>Building Block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داشته باش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ستقل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900" spc="-1" strike="noStrike">
                <a:solidFill>
                  <a:srgbClr val="000099"/>
                </a:solidFill>
                <a:latin typeface="Times New Roman"/>
              </a:rPr>
              <a:t>Independent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اسط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خو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عري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900" spc="-1" strike="noStrike">
                <a:solidFill>
                  <a:srgbClr val="000099"/>
                </a:solidFill>
                <a:latin typeface="Times New Roman"/>
              </a:rPr>
              <a:t>Well-defined Interfaces</a:t>
            </a:r>
            <a:r>
              <a:rPr b="1" lang="fa-IR" sz="19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BBAE-06E4-4761-955B-6E5DCEB509F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لسله مراتب (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Hierarchy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بارت از مرتب ساختن تجريدها در سطوح مختلف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واع سلسله مرات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ختار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S-A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ختار ش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ART-OF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1476360" y="3933720"/>
          <a:ext cx="106056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933720"/>
                    <a:ext cx="106056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9"/>
          <p:cNvGraphicFramePr/>
          <p:nvPr/>
        </p:nvGraphicFramePr>
        <p:xfrm>
          <a:off x="3851280" y="4005360"/>
          <a:ext cx="38862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38862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0"/>
          <p:cNvSpPr/>
          <p:nvPr/>
        </p:nvSpPr>
        <p:spPr>
          <a:xfrm>
            <a:off x="1117800" y="6237360"/>
            <a:ext cx="19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-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203640" y="6093000"/>
            <a:ext cx="4952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hicl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-A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gine is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-O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86D1-DD89-4B15-891C-2076E7F45C8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لسله مرات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راث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Inheritanc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يكي از معروفترين انواع رابطه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IS-A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1403280" y="2421000"/>
            <a:ext cx="6724080" cy="3808800"/>
            <a:chOff x="1403280" y="2421000"/>
            <a:chExt cx="6724080" cy="3808800"/>
          </a:xfrm>
        </p:grpSpPr>
        <p:pic>
          <p:nvPicPr>
            <p:cNvPr id="477" name="Picture 5" descr="Inheritance"/>
            <p:cNvPicPr/>
            <p:nvPr/>
          </p:nvPicPr>
          <p:blipFill>
            <a:blip r:embed="rId1"/>
            <a:stretch/>
          </p:blipFill>
          <p:spPr>
            <a:xfrm>
              <a:off x="1403280" y="2421000"/>
              <a:ext cx="4926960" cy="36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6"/>
            <p:cNvSpPr/>
            <p:nvPr/>
          </p:nvSpPr>
          <p:spPr>
            <a:xfrm>
              <a:off x="6256440" y="5770080"/>
              <a:ext cx="187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[Booch2007]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D37-956A-46A2-9052-88621EECCC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قدم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طراحي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جري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Abstrac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حصورسازي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Encapsula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احدب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Modularit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لسه مراتب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Hierarch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زاياي مدل شي و كاربردهاي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446-5962-4E7A-98DC-19AADA2DDAD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لسله مرات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81" name="Object 7"/>
          <p:cNvGraphicFramePr/>
          <p:nvPr/>
        </p:nvGraphicFramePr>
        <p:xfrm>
          <a:off x="2987640" y="1628640"/>
          <a:ext cx="310824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28640"/>
                    <a:ext cx="310824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29FB-B78F-4A5C-8C8E-C43E1C2D0CB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لسله مرات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طوح تجريد متفاوت در سطوح مختلف سلسه مراتب نمايان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د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566640" y="2133720"/>
            <a:ext cx="1641600" cy="4418280"/>
            <a:chOff x="566640" y="2133720"/>
            <a:chExt cx="1641600" cy="4418280"/>
          </a:xfrm>
        </p:grpSpPr>
        <p:sp>
          <p:nvSpPr>
            <p:cNvPr id="487" name="Rectangle 5"/>
            <p:cNvSpPr/>
            <p:nvPr/>
          </p:nvSpPr>
          <p:spPr>
            <a:xfrm>
              <a:off x="704880" y="6185160"/>
              <a:ext cx="137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Arial"/>
                  <a:cs typeface="Homa"/>
                </a:rPr>
                <a:t>كاهش تجريد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AutoShape 6"/>
            <p:cNvSpPr/>
            <p:nvPr/>
          </p:nvSpPr>
          <p:spPr>
            <a:xfrm>
              <a:off x="566640" y="2677680"/>
              <a:ext cx="1641600" cy="3354840"/>
            </a:xfrm>
            <a:prstGeom prst="upDownArrow">
              <a:avLst>
                <a:gd name="adj1" fmla="val 50000"/>
                <a:gd name="adj2" fmla="val 40684"/>
              </a:avLst>
            </a:prstGeom>
            <a:gradFill rotWithShape="0">
              <a:gsLst>
                <a:gs pos="0">
                  <a:srgbClr val="760076"/>
                </a:gs>
                <a:gs pos="5000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7"/>
            <p:cNvSpPr/>
            <p:nvPr/>
          </p:nvSpPr>
          <p:spPr>
            <a:xfrm>
              <a:off x="640800" y="2133720"/>
              <a:ext cx="150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Arial"/>
                  <a:cs typeface="Homa"/>
                </a:rPr>
                <a:t>افزايش تجريد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0" name="Group 8"/>
          <p:cNvGrpSpPr/>
          <p:nvPr/>
        </p:nvGrpSpPr>
        <p:grpSpPr>
          <a:xfrm>
            <a:off x="2471760" y="2436840"/>
            <a:ext cx="6060600" cy="3352320"/>
            <a:chOff x="2471760" y="2436840"/>
            <a:chExt cx="6060600" cy="3352320"/>
          </a:xfrm>
        </p:grpSpPr>
        <p:sp>
          <p:nvSpPr>
            <p:cNvPr id="491" name="Rectangle 9"/>
            <p:cNvSpPr/>
            <p:nvPr/>
          </p:nvSpPr>
          <p:spPr>
            <a:xfrm>
              <a:off x="5383080" y="2436840"/>
              <a:ext cx="910800" cy="51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600160" y="248616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s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11"/>
            <p:cNvSpPr/>
            <p:nvPr/>
          </p:nvSpPr>
          <p:spPr>
            <a:xfrm>
              <a:off x="5383080" y="2713320"/>
              <a:ext cx="90612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12"/>
            <p:cNvSpPr/>
            <p:nvPr/>
          </p:nvSpPr>
          <p:spPr>
            <a:xfrm>
              <a:off x="5383080" y="2816640"/>
              <a:ext cx="90612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7448400" y="3672000"/>
              <a:ext cx="1083960" cy="51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7530120" y="372132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lE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>
              <a:off x="7448400" y="3948480"/>
              <a:ext cx="107928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16"/>
            <p:cNvSpPr/>
            <p:nvPr/>
          </p:nvSpPr>
          <p:spPr>
            <a:xfrm>
              <a:off x="7448400" y="4052160"/>
              <a:ext cx="107928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71760" y="5275800"/>
              <a:ext cx="910800" cy="513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592360" y="532548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ving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19"/>
            <p:cNvSpPr/>
            <p:nvPr/>
          </p:nvSpPr>
          <p:spPr>
            <a:xfrm>
              <a:off x="2471760" y="555228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20"/>
            <p:cNvSpPr/>
            <p:nvPr/>
          </p:nvSpPr>
          <p:spPr>
            <a:xfrm>
              <a:off x="2471760" y="565596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3068280" y="3672000"/>
              <a:ext cx="1235520" cy="51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3139200" y="3721320"/>
              <a:ext cx="119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nkAccou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23"/>
            <p:cNvSpPr/>
            <p:nvPr/>
          </p:nvSpPr>
          <p:spPr>
            <a:xfrm>
              <a:off x="3068280" y="3948480"/>
              <a:ext cx="12308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24"/>
            <p:cNvSpPr/>
            <p:nvPr/>
          </p:nvSpPr>
          <p:spPr>
            <a:xfrm>
              <a:off x="3068280" y="4052160"/>
              <a:ext cx="12308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Rectangle 25"/>
            <p:cNvSpPr/>
            <p:nvPr/>
          </p:nvSpPr>
          <p:spPr>
            <a:xfrm>
              <a:off x="3716640" y="5275800"/>
              <a:ext cx="952200" cy="513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Rectangle 26"/>
            <p:cNvSpPr/>
            <p:nvPr/>
          </p:nvSpPr>
          <p:spPr>
            <a:xfrm>
              <a:off x="3800160" y="5325480"/>
              <a:ext cx="84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ecking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3716640" y="5552280"/>
              <a:ext cx="947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28"/>
            <p:cNvSpPr/>
            <p:nvPr/>
          </p:nvSpPr>
          <p:spPr>
            <a:xfrm>
              <a:off x="3716640" y="5655960"/>
              <a:ext cx="947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Rectangle 29"/>
            <p:cNvSpPr/>
            <p:nvPr/>
          </p:nvSpPr>
          <p:spPr>
            <a:xfrm>
              <a:off x="5383080" y="5275800"/>
              <a:ext cx="910800" cy="513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Rectangle 30"/>
            <p:cNvSpPr/>
            <p:nvPr/>
          </p:nvSpPr>
          <p:spPr>
            <a:xfrm>
              <a:off x="5601600" y="53254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oc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31"/>
            <p:cNvSpPr/>
            <p:nvPr/>
          </p:nvSpPr>
          <p:spPr>
            <a:xfrm>
              <a:off x="5383080" y="555228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32"/>
            <p:cNvSpPr/>
            <p:nvPr/>
          </p:nvSpPr>
          <p:spPr>
            <a:xfrm>
              <a:off x="5383080" y="565596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Rectangle 33"/>
            <p:cNvSpPr/>
            <p:nvPr/>
          </p:nvSpPr>
          <p:spPr>
            <a:xfrm>
              <a:off x="5383080" y="3672000"/>
              <a:ext cx="910800" cy="51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Rectangle 34"/>
            <p:cNvSpPr/>
            <p:nvPr/>
          </p:nvSpPr>
          <p:spPr>
            <a:xfrm>
              <a:off x="5499720" y="37213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35"/>
            <p:cNvSpPr/>
            <p:nvPr/>
          </p:nvSpPr>
          <p:spPr>
            <a:xfrm>
              <a:off x="5383080" y="3948480"/>
              <a:ext cx="90612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>
              <a:off x="5383080" y="4052160"/>
              <a:ext cx="90612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Rectangle 37"/>
            <p:cNvSpPr/>
            <p:nvPr/>
          </p:nvSpPr>
          <p:spPr>
            <a:xfrm>
              <a:off x="6775200" y="5275800"/>
              <a:ext cx="912240" cy="513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Rectangle 38"/>
            <p:cNvSpPr/>
            <p:nvPr/>
          </p:nvSpPr>
          <p:spPr>
            <a:xfrm>
              <a:off x="7007760" y="5325480"/>
              <a:ext cx="47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n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39"/>
            <p:cNvSpPr/>
            <p:nvPr/>
          </p:nvSpPr>
          <p:spPr>
            <a:xfrm>
              <a:off x="6775200" y="555228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40"/>
            <p:cNvSpPr/>
            <p:nvPr/>
          </p:nvSpPr>
          <p:spPr>
            <a:xfrm>
              <a:off x="6775200" y="5655960"/>
              <a:ext cx="9061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Freeform 41"/>
            <p:cNvSpPr/>
            <p:nvPr/>
          </p:nvSpPr>
          <p:spPr>
            <a:xfrm>
              <a:off x="5726520" y="4185360"/>
              <a:ext cx="223560" cy="296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42"/>
            <p:cNvSpPr/>
            <p:nvPr/>
          </p:nvSpPr>
          <p:spPr>
            <a:xfrm flipV="1">
              <a:off x="2945520" y="4453200"/>
              <a:ext cx="495000" cy="81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Freeform 43"/>
            <p:cNvSpPr/>
            <p:nvPr/>
          </p:nvSpPr>
          <p:spPr>
            <a:xfrm>
              <a:off x="3327120" y="4185360"/>
              <a:ext cx="226800" cy="310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44"/>
            <p:cNvSpPr/>
            <p:nvPr/>
          </p:nvSpPr>
          <p:spPr>
            <a:xfrm flipH="1" flipV="1">
              <a:off x="6520680" y="3102840"/>
              <a:ext cx="1019520" cy="56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Freeform 45"/>
            <p:cNvSpPr/>
            <p:nvPr/>
          </p:nvSpPr>
          <p:spPr>
            <a:xfrm>
              <a:off x="6284880" y="2949840"/>
              <a:ext cx="318960" cy="242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46"/>
            <p:cNvSpPr/>
            <p:nvPr/>
          </p:nvSpPr>
          <p:spPr>
            <a:xfrm flipV="1">
              <a:off x="5838480" y="3246120"/>
              <a:ext cx="1440" cy="4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Freeform 47"/>
            <p:cNvSpPr/>
            <p:nvPr/>
          </p:nvSpPr>
          <p:spPr>
            <a:xfrm>
              <a:off x="5726520" y="2949840"/>
              <a:ext cx="223560" cy="296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0" name="Group 48"/>
            <p:cNvGrpSpPr/>
            <p:nvPr/>
          </p:nvGrpSpPr>
          <p:grpSpPr>
            <a:xfrm>
              <a:off x="4106520" y="2949840"/>
              <a:ext cx="1255320" cy="715320"/>
              <a:chOff x="4106520" y="2949840"/>
              <a:chExt cx="1255320" cy="715320"/>
            </a:xfrm>
          </p:grpSpPr>
          <p:sp>
            <p:nvSpPr>
              <p:cNvPr id="531" name="Line 49"/>
              <p:cNvSpPr/>
              <p:nvPr/>
            </p:nvSpPr>
            <p:spPr>
              <a:xfrm flipV="1">
                <a:off x="4106520" y="3102480"/>
                <a:ext cx="1019520" cy="56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Freeform 50"/>
              <p:cNvSpPr/>
              <p:nvPr/>
            </p:nvSpPr>
            <p:spPr>
              <a:xfrm flipH="1">
                <a:off x="5042880" y="2949840"/>
                <a:ext cx="318600" cy="242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51"/>
            <p:cNvGrpSpPr/>
            <p:nvPr/>
          </p:nvGrpSpPr>
          <p:grpSpPr>
            <a:xfrm>
              <a:off x="3828600" y="4181040"/>
              <a:ext cx="608400" cy="1084320"/>
              <a:chOff x="3828600" y="4181040"/>
              <a:chExt cx="608400" cy="1084320"/>
            </a:xfrm>
          </p:grpSpPr>
          <p:sp>
            <p:nvSpPr>
              <p:cNvPr id="534" name="Line 52"/>
              <p:cNvSpPr/>
              <p:nvPr/>
            </p:nvSpPr>
            <p:spPr>
              <a:xfrm flipH="1" flipV="1">
                <a:off x="3941640" y="4448880"/>
                <a:ext cx="495360" cy="81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Freeform 53"/>
              <p:cNvSpPr/>
              <p:nvPr/>
            </p:nvSpPr>
            <p:spPr>
              <a:xfrm flipH="1">
                <a:off x="3828600" y="4181040"/>
                <a:ext cx="226800" cy="310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6" name="Group 54"/>
            <p:cNvGrpSpPr/>
            <p:nvPr/>
          </p:nvGrpSpPr>
          <p:grpSpPr>
            <a:xfrm>
              <a:off x="6183720" y="4181040"/>
              <a:ext cx="608400" cy="1084320"/>
              <a:chOff x="6183720" y="4181040"/>
              <a:chExt cx="608400" cy="1084320"/>
            </a:xfrm>
          </p:grpSpPr>
          <p:sp>
            <p:nvSpPr>
              <p:cNvPr id="537" name="Line 55"/>
              <p:cNvSpPr/>
              <p:nvPr/>
            </p:nvSpPr>
            <p:spPr>
              <a:xfrm flipH="1" flipV="1">
                <a:off x="6296760" y="4448880"/>
                <a:ext cx="495360" cy="81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Freeform 56"/>
              <p:cNvSpPr/>
              <p:nvPr/>
            </p:nvSpPr>
            <p:spPr>
              <a:xfrm flipH="1">
                <a:off x="6183720" y="4181040"/>
                <a:ext cx="226800" cy="310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9" name="Line 57"/>
            <p:cNvSpPr/>
            <p:nvPr/>
          </p:nvSpPr>
          <p:spPr>
            <a:xfrm>
              <a:off x="5815800" y="4481640"/>
              <a:ext cx="0" cy="78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681D-5C5C-4CA3-B1CB-7F6EB777CCC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لسله مرات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قش سلسله مراتب در كنترل پيچيد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ا سازماندهي تجريدها در سلسله مراتب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ART-OF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S-A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درك ما نسبت به سيستم افز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اب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هميت سلسله مراتب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ART-OF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روابط موجود بين اشياء و فعل و انفعالاتي كه رخ مي دهد را نمايان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هميت سلسله مراتب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IS-A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افزونگي موجود در سيستم را مديريت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ماي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conomy of Expression</a:t>
            </a:r>
            <a:r>
              <a:rPr b="1" lang="fa-IR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ستفاده از وراثت با محصورسازي تا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عارض دارد زيرا مستلزم دسترس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ستقي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لاس فرزند به بعضي از اعمال و د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ختصاص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لاس پدر اس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012-4FB4-447E-8EFD-56750BC6269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زاياي مدل 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دف نهائ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كنولوژي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O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نجام فرآيند توليد نرم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فزار به صورت مشابه فرآيند توليد سخ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فرآيند استاندارد و سيستماتيك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قابليت پشتيباني از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توزيع ش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اشياء يا مو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روي سا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گوناگون توزيع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ائه مدل قويتري كه پتانسي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ديريت پيچيدگ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كاربردهاي امروزي را دارا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FEF-A499-4D4B-88C8-67606248107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زاياي مدل 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اهش هزينه توليد و نگهداش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 بوسيله در نظر گرفتن اشياء بعنوان واحد مجتمع پذير تفكيك نشدن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فزايش مقياس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ذيري و قابليت توسعه سيستم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وسيله محصور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ستفاده مجد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وسيله تكنولوژي مو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COM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.NE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Java Bean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كه بر مفاهيم مدل شي مبتني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CB0-659F-44FF-94FB-3AD7C1152ED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A95-2628-46D6-8CC3-3B5B3DDBEAA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رم‌افزار در روزهاي اولي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زينه اساس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طراح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ربوط ب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خ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ق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رم‌افزار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قش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ثانوي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لقي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fterthought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يشتر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ها بوسي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ك نف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وليد و توسعه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د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راح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غالباً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ذهن برنام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ويس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نجام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زبان رايج: زبان ماشين سپس اسمبلي ابداع 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قابليت س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سيار محدو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رنام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وچك و ساد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ود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48600" indent="-1897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ستندسازي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نداني مورد نياز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نب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E1E-68DD-4DC0-9771-3DF3E1302FA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رم‌افزار در عصر حاض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640" y="1483920"/>
            <a:ext cx="691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زينه اساس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طراح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ربوط ب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رم‌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قش نرم‌افزار، نقش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بسيار اساس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يشتر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ها بوسي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يم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ي چند نفر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وليد و توسعه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راح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ه صور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صريح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در خارج از ذه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نام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ويس انجام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زب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رايج: زب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سطح بالا، سا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افته، و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5" name="Group 47"/>
          <p:cNvGrpSpPr/>
          <p:nvPr/>
        </p:nvGrpSpPr>
        <p:grpSpPr>
          <a:xfrm>
            <a:off x="193680" y="1355760"/>
            <a:ext cx="1262160" cy="5167440"/>
            <a:chOff x="193680" y="1355760"/>
            <a:chExt cx="1262160" cy="5167440"/>
          </a:xfrm>
        </p:grpSpPr>
        <p:sp>
          <p:nvSpPr>
            <p:cNvPr id="116" name="Freeform 9"/>
            <p:cNvSpPr/>
            <p:nvPr/>
          </p:nvSpPr>
          <p:spPr>
            <a:xfrm>
              <a:off x="752400" y="3294000"/>
              <a:ext cx="289080" cy="4255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758880" y="3778200"/>
              <a:ext cx="345960" cy="81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965160" y="3287880"/>
              <a:ext cx="490680" cy="6649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69720" y="3355920"/>
              <a:ext cx="527040" cy="6112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1000080" y="4441680"/>
              <a:ext cx="298440" cy="1116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488880" y="4371840"/>
              <a:ext cx="407880" cy="1074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790560" y="5079960"/>
              <a:ext cx="276120" cy="3524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565200" y="5432400"/>
              <a:ext cx="490320" cy="7016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998640" y="5526000"/>
              <a:ext cx="388800" cy="6224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255600" y="5437080"/>
              <a:ext cx="447840" cy="6732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01720" y="5983200"/>
              <a:ext cx="488880" cy="540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260280" y="6004080"/>
              <a:ext cx="447840" cy="495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846000" y="2784600"/>
              <a:ext cx="459000" cy="1062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457200" y="2763720"/>
              <a:ext cx="325440" cy="11239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689040" y="1781280"/>
              <a:ext cx="234720" cy="3823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193680" y="1355760"/>
              <a:ext cx="552600" cy="9986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909720" y="1527120"/>
              <a:ext cx="414360" cy="790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657360" y="2176560"/>
              <a:ext cx="336240" cy="734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752400" y="3294000"/>
              <a:ext cx="289080" cy="4255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758880" y="3778200"/>
              <a:ext cx="345960" cy="81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65160" y="3287880"/>
              <a:ext cx="490680" cy="6649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69720" y="3355920"/>
              <a:ext cx="527040" cy="6112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1000080" y="4441680"/>
              <a:ext cx="298440" cy="1116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488880" y="4371840"/>
              <a:ext cx="407880" cy="1074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1000080" y="4441680"/>
              <a:ext cx="298440" cy="1116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488880" y="4371840"/>
              <a:ext cx="407880" cy="1074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90560" y="5079960"/>
              <a:ext cx="276120" cy="3524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565200" y="5432400"/>
              <a:ext cx="490320" cy="7016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998640" y="5526000"/>
              <a:ext cx="388800" cy="6224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255600" y="5437080"/>
              <a:ext cx="447840" cy="6732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801720" y="5983200"/>
              <a:ext cx="488880" cy="540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260280" y="6004080"/>
              <a:ext cx="447840" cy="495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846000" y="2784600"/>
              <a:ext cx="459000" cy="10620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57200" y="2763720"/>
              <a:ext cx="325440" cy="11239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689040" y="1781280"/>
              <a:ext cx="234720" cy="3823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193680" y="1355760"/>
              <a:ext cx="552600" cy="99864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909720" y="1527120"/>
              <a:ext cx="414360" cy="790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657360" y="2176560"/>
              <a:ext cx="336240" cy="734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CE9F-1C2A-4AF2-8424-E35327CAB5B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رم‌افزار در عصر حاض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ريعتر، ارزانتر و قابل اطمينان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شد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قتصادي شدن فرآين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خودكار سازي بسياري از كاربردهاي صنعتي و تجا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تقاضا بر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اي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 نرم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افزارهاي پيچيده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تر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اهمي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ستندس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حساس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ياز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تحليل و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9E52-FCBB-4F06-8DAC-21C129B7DB5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وش‌ها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ي ساخت يافت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Structured Desig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ي مبتني بر د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Data-Driven Desig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ي 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ئ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Object-Oriented Desig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539640" y="4005360"/>
            <a:ext cx="4049640" cy="2673360"/>
            <a:chOff x="539640" y="4005360"/>
            <a:chExt cx="4049640" cy="2673360"/>
          </a:xfrm>
        </p:grpSpPr>
        <p:sp>
          <p:nvSpPr>
            <p:cNvPr id="161" name="AutoShape 5"/>
            <p:cNvSpPr/>
            <p:nvPr/>
          </p:nvSpPr>
          <p:spPr>
            <a:xfrm>
              <a:off x="539640" y="4005360"/>
              <a:ext cx="4049640" cy="26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3214800" y="5872320"/>
              <a:ext cx="237960" cy="334800"/>
              <a:chOff x="3214800" y="5872320"/>
              <a:chExt cx="237960" cy="334800"/>
            </a:xfrm>
          </p:grpSpPr>
          <p:sp>
            <p:nvSpPr>
              <p:cNvPr id="163" name="Freeform 7"/>
              <p:cNvSpPr/>
              <p:nvPr/>
            </p:nvSpPr>
            <p:spPr>
              <a:xfrm>
                <a:off x="3309840" y="5872320"/>
                <a:ext cx="142920" cy="32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Freeform 8"/>
              <p:cNvSpPr/>
              <p:nvPr/>
            </p:nvSpPr>
            <p:spPr>
              <a:xfrm>
                <a:off x="3214800" y="5884920"/>
                <a:ext cx="14112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" name="Group 9"/>
            <p:cNvGrpSpPr/>
            <p:nvPr/>
          </p:nvGrpSpPr>
          <p:grpSpPr>
            <a:xfrm>
              <a:off x="2787480" y="6008760"/>
              <a:ext cx="238320" cy="334800"/>
              <a:chOff x="2787480" y="6008760"/>
              <a:chExt cx="238320" cy="334800"/>
            </a:xfrm>
          </p:grpSpPr>
          <p:sp>
            <p:nvSpPr>
              <p:cNvPr id="166" name="Freeform 10"/>
              <p:cNvSpPr/>
              <p:nvPr/>
            </p:nvSpPr>
            <p:spPr>
              <a:xfrm>
                <a:off x="2884320" y="6008760"/>
                <a:ext cx="14148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Freeform 11"/>
              <p:cNvSpPr/>
              <p:nvPr/>
            </p:nvSpPr>
            <p:spPr>
              <a:xfrm>
                <a:off x="2787480" y="6021360"/>
                <a:ext cx="14292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" name="Group 12"/>
            <p:cNvGrpSpPr/>
            <p:nvPr/>
          </p:nvGrpSpPr>
          <p:grpSpPr>
            <a:xfrm>
              <a:off x="2260440" y="6045120"/>
              <a:ext cx="238320" cy="335160"/>
              <a:chOff x="2260440" y="6045120"/>
              <a:chExt cx="238320" cy="335160"/>
            </a:xfrm>
          </p:grpSpPr>
          <p:sp>
            <p:nvSpPr>
              <p:cNvPr id="169" name="Freeform 13"/>
              <p:cNvSpPr/>
              <p:nvPr/>
            </p:nvSpPr>
            <p:spPr>
              <a:xfrm>
                <a:off x="2359080" y="6045120"/>
                <a:ext cx="13968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Freeform 14"/>
              <p:cNvSpPr/>
              <p:nvPr/>
            </p:nvSpPr>
            <p:spPr>
              <a:xfrm>
                <a:off x="2260440" y="6056280"/>
                <a:ext cx="144720" cy="32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1" name="Group 15"/>
            <p:cNvGrpSpPr/>
            <p:nvPr/>
          </p:nvGrpSpPr>
          <p:grpSpPr>
            <a:xfrm>
              <a:off x="1843200" y="6110280"/>
              <a:ext cx="237960" cy="333360"/>
              <a:chOff x="1843200" y="6110280"/>
              <a:chExt cx="237960" cy="333360"/>
            </a:xfrm>
          </p:grpSpPr>
          <p:sp>
            <p:nvSpPr>
              <p:cNvPr id="172" name="Freeform 16"/>
              <p:cNvSpPr/>
              <p:nvPr/>
            </p:nvSpPr>
            <p:spPr>
              <a:xfrm>
                <a:off x="1940040" y="6110280"/>
                <a:ext cx="141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Freeform 17"/>
              <p:cNvSpPr/>
              <p:nvPr/>
            </p:nvSpPr>
            <p:spPr>
              <a:xfrm>
                <a:off x="1843200" y="6122880"/>
                <a:ext cx="141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4" name="Group 18"/>
            <p:cNvGrpSpPr/>
            <p:nvPr/>
          </p:nvGrpSpPr>
          <p:grpSpPr>
            <a:xfrm>
              <a:off x="3718080" y="5775480"/>
              <a:ext cx="237960" cy="334800"/>
              <a:chOff x="3718080" y="5775480"/>
              <a:chExt cx="237960" cy="334800"/>
            </a:xfrm>
          </p:grpSpPr>
          <p:sp>
            <p:nvSpPr>
              <p:cNvPr id="175" name="Freeform 19"/>
              <p:cNvSpPr/>
              <p:nvPr/>
            </p:nvSpPr>
            <p:spPr>
              <a:xfrm>
                <a:off x="3813120" y="5775480"/>
                <a:ext cx="14292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Freeform 20"/>
              <p:cNvSpPr/>
              <p:nvPr/>
            </p:nvSpPr>
            <p:spPr>
              <a:xfrm>
                <a:off x="3718080" y="5788080"/>
                <a:ext cx="141120" cy="32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21"/>
            <p:cNvGrpSpPr/>
            <p:nvPr/>
          </p:nvGrpSpPr>
          <p:grpSpPr>
            <a:xfrm>
              <a:off x="1828800" y="5767560"/>
              <a:ext cx="2757600" cy="907920"/>
              <a:chOff x="1828800" y="5767560"/>
              <a:chExt cx="2757600" cy="907920"/>
            </a:xfrm>
          </p:grpSpPr>
          <p:sp>
            <p:nvSpPr>
              <p:cNvPr id="178" name="Freeform 22"/>
              <p:cNvSpPr/>
              <p:nvPr/>
            </p:nvSpPr>
            <p:spPr>
              <a:xfrm>
                <a:off x="4227480" y="5896080"/>
                <a:ext cx="266760" cy="32040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23"/>
              <p:cNvSpPr/>
              <p:nvPr/>
            </p:nvSpPr>
            <p:spPr>
              <a:xfrm>
                <a:off x="1843200" y="5775480"/>
                <a:ext cx="2733480" cy="880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0" name="Group 24"/>
              <p:cNvGrpSpPr/>
              <p:nvPr/>
            </p:nvGrpSpPr>
            <p:grpSpPr>
              <a:xfrm>
                <a:off x="1828800" y="5767560"/>
                <a:ext cx="2757600" cy="907920"/>
                <a:chOff x="1828800" y="5767560"/>
                <a:chExt cx="2757600" cy="907920"/>
              </a:xfrm>
            </p:grpSpPr>
            <p:sp>
              <p:nvSpPr>
                <p:cNvPr id="181" name="Freeform 25"/>
                <p:cNvSpPr/>
                <p:nvPr/>
              </p:nvSpPr>
              <p:spPr>
                <a:xfrm>
                  <a:off x="1828800" y="5767560"/>
                  <a:ext cx="2757600" cy="90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26"/>
                <p:cNvSpPr/>
                <p:nvPr/>
              </p:nvSpPr>
              <p:spPr>
                <a:xfrm>
                  <a:off x="1828800" y="5767560"/>
                  <a:ext cx="2427120" cy="680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Freeform 27"/>
                <p:cNvSpPr/>
                <p:nvPr/>
              </p:nvSpPr>
              <p:spPr>
                <a:xfrm>
                  <a:off x="4214880" y="5940360"/>
                  <a:ext cx="195120" cy="24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4" name="Group 28"/>
            <p:cNvGrpSpPr/>
            <p:nvPr/>
          </p:nvGrpSpPr>
          <p:grpSpPr>
            <a:xfrm>
              <a:off x="3767040" y="5192640"/>
              <a:ext cx="623880" cy="776520"/>
              <a:chOff x="3767040" y="5192640"/>
              <a:chExt cx="623880" cy="776520"/>
            </a:xfrm>
          </p:grpSpPr>
          <p:sp>
            <p:nvSpPr>
              <p:cNvPr id="185" name="Freeform 29"/>
              <p:cNvSpPr/>
              <p:nvPr/>
            </p:nvSpPr>
            <p:spPr>
              <a:xfrm>
                <a:off x="3956040" y="5192640"/>
                <a:ext cx="244440" cy="26676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Freeform 30"/>
              <p:cNvSpPr/>
              <p:nvPr/>
            </p:nvSpPr>
            <p:spPr>
              <a:xfrm>
                <a:off x="4091040" y="5486400"/>
                <a:ext cx="299880" cy="3906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Freeform 31"/>
              <p:cNvSpPr/>
              <p:nvPr/>
            </p:nvSpPr>
            <p:spPr>
              <a:xfrm>
                <a:off x="3767040" y="5500800"/>
                <a:ext cx="322200" cy="46836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Freeform 32"/>
              <p:cNvSpPr/>
              <p:nvPr/>
            </p:nvSpPr>
            <p:spPr>
              <a:xfrm>
                <a:off x="3962520" y="5483160"/>
                <a:ext cx="242640" cy="42876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Freeform 33"/>
              <p:cNvSpPr/>
              <p:nvPr/>
            </p:nvSpPr>
            <p:spPr>
              <a:xfrm>
                <a:off x="3805200" y="5743440"/>
                <a:ext cx="285840" cy="16524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Freeform 34"/>
              <p:cNvSpPr/>
              <p:nvPr/>
            </p:nvSpPr>
            <p:spPr>
              <a:xfrm>
                <a:off x="3895560" y="5711760"/>
                <a:ext cx="285840" cy="16524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1" name="Group 35"/>
            <p:cNvGrpSpPr/>
            <p:nvPr/>
          </p:nvGrpSpPr>
          <p:grpSpPr>
            <a:xfrm>
              <a:off x="2836800" y="5353200"/>
              <a:ext cx="623880" cy="779400"/>
              <a:chOff x="2836800" y="5353200"/>
              <a:chExt cx="623880" cy="779400"/>
            </a:xfrm>
          </p:grpSpPr>
          <p:sp>
            <p:nvSpPr>
              <p:cNvPr id="192" name="Freeform 36"/>
              <p:cNvSpPr/>
              <p:nvPr/>
            </p:nvSpPr>
            <p:spPr>
              <a:xfrm>
                <a:off x="3025800" y="5353200"/>
                <a:ext cx="245880" cy="2664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Freeform 37"/>
              <p:cNvSpPr/>
              <p:nvPr/>
            </p:nvSpPr>
            <p:spPr>
              <a:xfrm>
                <a:off x="3162240" y="5646600"/>
                <a:ext cx="298440" cy="39384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Freeform 38"/>
              <p:cNvSpPr/>
              <p:nvPr/>
            </p:nvSpPr>
            <p:spPr>
              <a:xfrm>
                <a:off x="2836800" y="5661000"/>
                <a:ext cx="325440" cy="4716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39"/>
              <p:cNvSpPr/>
              <p:nvPr/>
            </p:nvSpPr>
            <p:spPr>
              <a:xfrm>
                <a:off x="3035160" y="5643720"/>
                <a:ext cx="241560" cy="4284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40"/>
              <p:cNvSpPr/>
              <p:nvPr/>
            </p:nvSpPr>
            <p:spPr>
              <a:xfrm>
                <a:off x="2874960" y="5904000"/>
                <a:ext cx="287280" cy="16488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41"/>
              <p:cNvSpPr/>
              <p:nvPr/>
            </p:nvSpPr>
            <p:spPr>
              <a:xfrm>
                <a:off x="2965320" y="5872320"/>
                <a:ext cx="285840" cy="1681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Freeform 42"/>
            <p:cNvSpPr/>
            <p:nvPr/>
          </p:nvSpPr>
          <p:spPr>
            <a:xfrm>
              <a:off x="2347920" y="5991120"/>
              <a:ext cx="28728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43"/>
            <p:cNvGrpSpPr/>
            <p:nvPr/>
          </p:nvGrpSpPr>
          <p:grpSpPr>
            <a:xfrm>
              <a:off x="3297240" y="5276880"/>
              <a:ext cx="463680" cy="719280"/>
              <a:chOff x="3297240" y="5276880"/>
              <a:chExt cx="463680" cy="719280"/>
            </a:xfrm>
          </p:grpSpPr>
          <p:sp>
            <p:nvSpPr>
              <p:cNvPr id="200" name="Freeform 44"/>
              <p:cNvSpPr/>
              <p:nvPr/>
            </p:nvSpPr>
            <p:spPr>
              <a:xfrm>
                <a:off x="3448080" y="5276880"/>
                <a:ext cx="245880" cy="2682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45"/>
              <p:cNvSpPr/>
              <p:nvPr/>
            </p:nvSpPr>
            <p:spPr>
              <a:xfrm>
                <a:off x="3457440" y="5568840"/>
                <a:ext cx="241560" cy="4273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46"/>
              <p:cNvSpPr/>
              <p:nvPr/>
            </p:nvSpPr>
            <p:spPr>
              <a:xfrm>
                <a:off x="3297240" y="5826240"/>
                <a:ext cx="287280" cy="1681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47"/>
              <p:cNvSpPr/>
              <p:nvPr/>
            </p:nvSpPr>
            <p:spPr>
              <a:xfrm>
                <a:off x="3387600" y="5797440"/>
                <a:ext cx="285840" cy="16524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48"/>
              <p:cNvSpPr/>
              <p:nvPr/>
            </p:nvSpPr>
            <p:spPr>
              <a:xfrm>
                <a:off x="3533760" y="5583240"/>
                <a:ext cx="227160" cy="33336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49"/>
              <p:cNvSpPr/>
              <p:nvPr/>
            </p:nvSpPr>
            <p:spPr>
              <a:xfrm>
                <a:off x="3373560" y="5586480"/>
                <a:ext cx="228600" cy="33480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50"/>
            <p:cNvGrpSpPr/>
            <p:nvPr/>
          </p:nvGrpSpPr>
          <p:grpSpPr>
            <a:xfrm>
              <a:off x="1942920" y="5440320"/>
              <a:ext cx="909720" cy="857160"/>
              <a:chOff x="1942920" y="5440320"/>
              <a:chExt cx="909720" cy="857160"/>
            </a:xfrm>
          </p:grpSpPr>
          <p:sp>
            <p:nvSpPr>
              <p:cNvPr id="207" name="Freeform 51"/>
              <p:cNvSpPr/>
              <p:nvPr/>
            </p:nvSpPr>
            <p:spPr>
              <a:xfrm>
                <a:off x="2090880" y="5505480"/>
                <a:ext cx="245880" cy="26676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52"/>
              <p:cNvSpPr/>
              <p:nvPr/>
            </p:nvSpPr>
            <p:spPr>
              <a:xfrm>
                <a:off x="2103480" y="5797440"/>
                <a:ext cx="239760" cy="4273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53"/>
              <p:cNvSpPr/>
              <p:nvPr/>
            </p:nvSpPr>
            <p:spPr>
              <a:xfrm>
                <a:off x="1942920" y="6056280"/>
                <a:ext cx="285840" cy="16524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54"/>
              <p:cNvSpPr/>
              <p:nvPr/>
            </p:nvSpPr>
            <p:spPr>
              <a:xfrm>
                <a:off x="2033640" y="6026040"/>
                <a:ext cx="285840" cy="16668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1" name="Group 55"/>
              <p:cNvGrpSpPr/>
              <p:nvPr/>
            </p:nvGrpSpPr>
            <p:grpSpPr>
              <a:xfrm>
                <a:off x="2227320" y="5440320"/>
                <a:ext cx="625320" cy="857160"/>
                <a:chOff x="2227320" y="5440320"/>
                <a:chExt cx="625320" cy="857160"/>
              </a:xfrm>
            </p:grpSpPr>
            <p:sp>
              <p:nvSpPr>
                <p:cNvPr id="212" name="Freeform 56"/>
                <p:cNvSpPr/>
                <p:nvPr/>
              </p:nvSpPr>
              <p:spPr>
                <a:xfrm>
                  <a:off x="2498760" y="5440320"/>
                  <a:ext cx="245880" cy="27000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57"/>
                <p:cNvSpPr/>
                <p:nvPr/>
              </p:nvSpPr>
              <p:spPr>
                <a:xfrm>
                  <a:off x="2494080" y="5753160"/>
                  <a:ext cx="196560" cy="54432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58"/>
                <p:cNvSpPr/>
                <p:nvPr/>
              </p:nvSpPr>
              <p:spPr>
                <a:xfrm>
                  <a:off x="2508120" y="5730840"/>
                  <a:ext cx="241560" cy="43020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59"/>
                <p:cNvSpPr/>
                <p:nvPr/>
              </p:nvSpPr>
              <p:spPr>
                <a:xfrm>
                  <a:off x="2438280" y="5962680"/>
                  <a:ext cx="285840" cy="16524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60"/>
                <p:cNvSpPr/>
                <p:nvPr/>
              </p:nvSpPr>
              <p:spPr>
                <a:xfrm>
                  <a:off x="2227320" y="5799240"/>
                  <a:ext cx="298440" cy="39348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61"/>
                <p:cNvSpPr/>
                <p:nvPr/>
              </p:nvSpPr>
              <p:spPr>
                <a:xfrm>
                  <a:off x="2625840" y="5748480"/>
                  <a:ext cx="226800" cy="333360"/>
                </a:xfrm>
                <a:prstGeom prst="pie">
                  <a:avLst/>
                </a:prstGeom>
                <a:solidFill>
                  <a:srgbClr val="c47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8" name="Freeform 62"/>
              <p:cNvSpPr/>
              <p:nvPr/>
            </p:nvSpPr>
            <p:spPr>
              <a:xfrm>
                <a:off x="2006640" y="5824440"/>
                <a:ext cx="228600" cy="3319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9" name="Group 63"/>
            <p:cNvGrpSpPr/>
            <p:nvPr/>
          </p:nvGrpSpPr>
          <p:grpSpPr>
            <a:xfrm>
              <a:off x="1525680" y="4005360"/>
              <a:ext cx="1834920" cy="1361880"/>
              <a:chOff x="1525680" y="4005360"/>
              <a:chExt cx="1834920" cy="1361880"/>
            </a:xfrm>
          </p:grpSpPr>
          <p:sp>
            <p:nvSpPr>
              <p:cNvPr id="220" name="Freeform 64"/>
              <p:cNvSpPr/>
              <p:nvPr/>
            </p:nvSpPr>
            <p:spPr>
              <a:xfrm>
                <a:off x="1538280" y="4029120"/>
                <a:ext cx="1809720" cy="13064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Freeform 65"/>
              <p:cNvSpPr/>
              <p:nvPr/>
            </p:nvSpPr>
            <p:spPr>
              <a:xfrm>
                <a:off x="1525680" y="4005360"/>
                <a:ext cx="1834920" cy="1361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Freeform 66"/>
              <p:cNvSpPr/>
              <p:nvPr/>
            </p:nvSpPr>
            <p:spPr>
              <a:xfrm>
                <a:off x="2678040" y="4160880"/>
                <a:ext cx="209520" cy="23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Freeform 67"/>
              <p:cNvSpPr/>
              <p:nvPr/>
            </p:nvSpPr>
            <p:spPr>
              <a:xfrm>
                <a:off x="1946160" y="4422600"/>
                <a:ext cx="731880" cy="78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1860480" y="4879800"/>
                <a:ext cx="216000" cy="23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Freeform 69"/>
              <p:cNvSpPr/>
              <p:nvPr/>
            </p:nvSpPr>
            <p:spPr>
              <a:xfrm>
                <a:off x="2244600" y="4303800"/>
                <a:ext cx="208080" cy="23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Freeform 70"/>
              <p:cNvSpPr/>
              <p:nvPr/>
            </p:nvSpPr>
            <p:spPr>
              <a:xfrm>
                <a:off x="2579760" y="4665600"/>
                <a:ext cx="152280" cy="15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Freeform 71"/>
              <p:cNvSpPr/>
              <p:nvPr/>
            </p:nvSpPr>
            <p:spPr>
              <a:xfrm>
                <a:off x="2236680" y="4867200"/>
                <a:ext cx="184320" cy="19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Freeform 72"/>
              <p:cNvSpPr/>
              <p:nvPr/>
            </p:nvSpPr>
            <p:spPr>
              <a:xfrm>
                <a:off x="1792440" y="4483080"/>
                <a:ext cx="209520" cy="23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2879640" y="4740120"/>
                <a:ext cx="15408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Freeform 74"/>
              <p:cNvSpPr/>
              <p:nvPr/>
            </p:nvSpPr>
            <p:spPr>
              <a:xfrm>
                <a:off x="1906560" y="4235400"/>
                <a:ext cx="293760" cy="22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Group 75"/>
            <p:cNvGrpSpPr/>
            <p:nvPr/>
          </p:nvGrpSpPr>
          <p:grpSpPr>
            <a:xfrm>
              <a:off x="539640" y="4637160"/>
              <a:ext cx="1338480" cy="1477800"/>
              <a:chOff x="539640" y="4637160"/>
              <a:chExt cx="1338480" cy="1477800"/>
            </a:xfrm>
          </p:grpSpPr>
          <p:sp>
            <p:nvSpPr>
              <p:cNvPr id="232" name="Freeform 76"/>
              <p:cNvSpPr/>
              <p:nvPr/>
            </p:nvSpPr>
            <p:spPr>
              <a:xfrm>
                <a:off x="1044720" y="5008680"/>
                <a:ext cx="334800" cy="54288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1192320" y="4762440"/>
                <a:ext cx="682560" cy="36036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78"/>
              <p:cNvSpPr/>
              <p:nvPr/>
            </p:nvSpPr>
            <p:spPr>
              <a:xfrm>
                <a:off x="1774800" y="4721400"/>
                <a:ext cx="103320" cy="101520"/>
              </a:xfrm>
              <a:prstGeom prst="pie">
                <a:avLst/>
              </a:prstGeom>
              <a:solidFill>
                <a:srgbClr val="c47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539640" y="4921200"/>
                <a:ext cx="636840" cy="40500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Freeform 80"/>
              <p:cNvSpPr/>
              <p:nvPr/>
            </p:nvSpPr>
            <p:spPr>
              <a:xfrm>
                <a:off x="1089000" y="4637160"/>
                <a:ext cx="355680" cy="34596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1278000" y="5440320"/>
                <a:ext cx="339480" cy="67464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82"/>
              <p:cNvSpPr/>
              <p:nvPr/>
            </p:nvSpPr>
            <p:spPr>
              <a:xfrm>
                <a:off x="1039680" y="5418000"/>
                <a:ext cx="279360" cy="68760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4780-3F52-4891-A980-1C0E68AE4B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صول شي‌گراي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187280" y="1628640"/>
            <a:ext cx="65152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b4eb5"/>
                </a:solidFill>
                <a:latin typeface="Arial Narrow"/>
                <a:cs typeface="Homa"/>
              </a:rPr>
              <a:t>شي گرائ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 rot="16200000">
            <a:off x="2368440" y="3914640"/>
            <a:ext cx="2705040" cy="140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Arial Narrow"/>
                <a:cs typeface="Homa"/>
              </a:rPr>
              <a:t>محصورساز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6"/>
          <p:cNvSpPr/>
          <p:nvPr/>
        </p:nvSpPr>
        <p:spPr>
          <a:xfrm rot="16200000">
            <a:off x="539640" y="3914640"/>
            <a:ext cx="2705040" cy="140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Arial Narrow"/>
                <a:cs typeface="Homa"/>
              </a:rPr>
              <a:t>تجر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 rot="16200000">
            <a:off x="5835600" y="3914640"/>
            <a:ext cx="2705040" cy="140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Arial Narrow"/>
                <a:cs typeface="Homa"/>
              </a:rPr>
              <a:t>سلسله مرات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 rot="16200000">
            <a:off x="4121280" y="3914640"/>
            <a:ext cx="2705040" cy="140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Arial Narrow"/>
                <a:cs typeface="Homa"/>
              </a:rPr>
              <a:t>واحد بن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2D4-ED26-4097-9AAF-72083C9A31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جريد (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bstraction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مركز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ي ويژگيها و رفتارهاي اصلي يك پديده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اديده گرفت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يژگيهاي موقت و غيرمهم آن پديده، از يك زاويه ديد مشخص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0:26Z</dcterms:modified>
  <cp:revision>466</cp:revision>
  <dc:subject/>
  <dc:title>PowerPoint Presentation</dc:title>
</cp:coreProperties>
</file>