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3588-BC42-4B86-9F1F-4F60DB157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3070-B7ED-4F96-926B-28A54CC9A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002C-18F6-432E-AB24-C9F9D9098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F7BB-E5FB-43B2-9764-A62EC4EEC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9CA31-E832-40B8-BC57-DD40714A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1DD25-2AA5-4213-8E22-E7687A5E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1D690-E559-43B6-AACE-BED39DBD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16421-7602-4D51-91DB-7DA33E01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79F81-6C18-4201-BF97-3FA0CE0B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0D18B-671D-41E8-BCF1-93923FE8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A9712-CA33-4F4E-BABF-B4EAEC5D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513E-3ACA-40BA-A0C0-8958692DE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19437-2BD3-423B-BD14-346134DA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3B5B0-C8F2-42A3-9A6E-E16CF959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1C274-FFC0-4BDB-9F9B-77D7F485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C3DB6-45F7-4636-9EF8-50BD3D07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2156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47840" y="148392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492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2156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47840" y="4079880"/>
            <a:ext cx="25963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A385F-AF64-49CC-94AD-FD7B6268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614F-7084-4D56-A740-854C69D21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199B1-0793-49F2-9C66-F8561B1AC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D87A-D76D-4457-AE4F-B9F1E4819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488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4899-2E25-402C-BFFD-D9E6CD6891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F4B8-9B44-4F91-B9FD-70662804F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27360" y="407988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3BED-8815-4581-A612-89190311A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7360" y="1483920"/>
            <a:ext cx="3935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4079880"/>
            <a:ext cx="80643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CD7B-AAE1-4282-B7E8-526F63DD9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514440" y="504720"/>
            <a:ext cx="8521200" cy="1052280"/>
            <a:chOff x="514440" y="504720"/>
            <a:chExt cx="8521200" cy="1052280"/>
          </a:xfrm>
        </p:grpSpPr>
        <p:grpSp>
          <p:nvGrpSpPr>
            <p:cNvPr id="1" name="Group 16"/>
            <p:cNvGrpSpPr/>
            <p:nvPr/>
          </p:nvGrpSpPr>
          <p:grpSpPr>
            <a:xfrm>
              <a:off x="7883280" y="504720"/>
              <a:ext cx="1152360" cy="1052280"/>
              <a:chOff x="7883280" y="504720"/>
              <a:chExt cx="1152360" cy="105228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556480" y="6127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8297640" y="1035000"/>
                <a:ext cx="42228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" name="Group 15"/>
              <p:cNvGrpSpPr/>
              <p:nvPr/>
            </p:nvGrpSpPr>
            <p:grpSpPr>
              <a:xfrm>
                <a:off x="7883280" y="612720"/>
                <a:ext cx="1152360" cy="896760"/>
                <a:chOff x="7883280" y="612720"/>
                <a:chExt cx="1152360" cy="896760"/>
              </a:xfrm>
            </p:grpSpPr>
            <p:sp>
              <p:nvSpPr>
                <p:cNvPr id="5" name="Rectangle 2"/>
                <p:cNvSpPr/>
                <p:nvPr/>
              </p:nvSpPr>
              <p:spPr>
                <a:xfrm>
                  <a:off x="8173800" y="612720"/>
                  <a:ext cx="438120" cy="474480"/>
                </a:xfrm>
                <a:prstGeom prst="rect">
                  <a:avLst/>
                </a:prstGeom>
                <a:solidFill>
                  <a:srgbClr val="4b4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" name="Rectangle 5"/>
                <p:cNvSpPr/>
                <p:nvPr/>
              </p:nvSpPr>
              <p:spPr>
                <a:xfrm>
                  <a:off x="8667360" y="1035000"/>
                  <a:ext cx="368280" cy="47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b749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" name="Rectangle 6"/>
                <p:cNvSpPr/>
                <p:nvPr/>
              </p:nvSpPr>
              <p:spPr>
                <a:xfrm>
                  <a:off x="7883280" y="961920"/>
                  <a:ext cx="560160" cy="42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481c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" name="Rectangle 7"/>
              <p:cNvSpPr/>
              <p:nvPr/>
            </p:nvSpPr>
            <p:spPr>
              <a:xfrm>
                <a:off x="8518320" y="504720"/>
                <a:ext cx="31680" cy="1052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" name="Rectangle 8"/>
            <p:cNvSpPr/>
            <p:nvPr/>
          </p:nvSpPr>
          <p:spPr>
            <a:xfrm flipH="1">
              <a:off x="514440" y="1204920"/>
              <a:ext cx="822600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5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51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51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25056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itr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8ADA-1841-4FA5-854E-ED6F34F4BA1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7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5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51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51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925F-7664-421E-9185-E9B522F6B4C0}" type="slidenum">
              <a:rPr b="0" lang="ar-SA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dcff"/>
            </a:gs>
            <a:gs pos="100000">
              <a:srgbClr val="3739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051"/>
          <p:cNvSpPr/>
          <p:nvPr/>
        </p:nvSpPr>
        <p:spPr>
          <a:xfrm>
            <a:off x="3435480" y="3333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بسمه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Lotus"/>
              </a:rPr>
              <a:t>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Lotus"/>
              </a:rPr>
              <a:t>تعال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2052"/>
          <p:cNvSpPr/>
          <p:nvPr/>
        </p:nvSpPr>
        <p:spPr>
          <a:xfrm>
            <a:off x="619200" y="2997360"/>
            <a:ext cx="79056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tr"/>
              </a:rPr>
              <a:t>آشنائي با مفاهيم اوليه ش</a:t>
            </a:r>
            <a:r>
              <a:rPr b="0" lang="fa-IR" sz="3600" spc="-1" strike="noStrike">
                <a:solidFill>
                  <a:srgbClr val="000000"/>
                </a:solidFill>
                <a:latin typeface="Times New Roman"/>
                <a:cs typeface="Titr"/>
              </a:rPr>
              <a:t>ي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tr"/>
              </a:rPr>
              <a:t> گرائ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2054"/>
          <p:cNvSpPr/>
          <p:nvPr/>
        </p:nvSpPr>
        <p:spPr>
          <a:xfrm>
            <a:off x="3578400" y="2205000"/>
            <a:ext cx="17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فصل سو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2364-722F-47B2-A9AC-DB992116795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كلاس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ass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جموع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ي از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اشياء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كه داراي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ساختار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و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رفتار مشترك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rcRect l="0" t="0" r="817" b="0"/>
          <a:stretch/>
        </p:blipFill>
        <p:spPr>
          <a:xfrm>
            <a:off x="1763640" y="2565360"/>
            <a:ext cx="571500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2FDE-8BBF-4D3E-8FF3-F6F3406EBD1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كلاس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ويژگيهاي کلاس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کلاس به صورت 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قالب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که برحسب نياز 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نمونه‌ها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Instances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 از آن برداشت مي‌نمائيم، عمل مي‌نماي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گروه‌بندي اشياء در کلاس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cc3300"/>
                </a:solidFill>
                <a:latin typeface="Times New Roman"/>
              </a:rPr>
              <a:t>مديريت بهتر + قابليت استفاده مجدد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 algn="r" rtl="1">
              <a:lnSpc>
                <a:spcPct val="130000"/>
              </a:lnSpc>
              <a:spcBef>
                <a:spcPts val="550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99"/>
                </a:solidFill>
                <a:latin typeface="Times New Roman"/>
              </a:rPr>
              <a:t>ابزار اصلي تجريد در شي‌گرا</a:t>
            </a:r>
            <a:endParaRPr b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18B9-2BD9-47FB-BE4E-7B082AF5E5A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كلاس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2954160" y="2854440"/>
            <a:ext cx="2438640" cy="2666880"/>
            <a:chOff x="2954160" y="2854440"/>
            <a:chExt cx="2438640" cy="2666880"/>
          </a:xfrm>
        </p:grpSpPr>
        <p:sp>
          <p:nvSpPr>
            <p:cNvPr id="165" name="Rectangle 5"/>
            <p:cNvSpPr/>
            <p:nvPr/>
          </p:nvSpPr>
          <p:spPr>
            <a:xfrm>
              <a:off x="2954160" y="2854440"/>
              <a:ext cx="2438640" cy="2666880"/>
            </a:xfrm>
            <a:prstGeom prst="rect">
              <a:avLst/>
            </a:prstGeom>
            <a:solidFill>
              <a:srgbClr val="cc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Line 6"/>
            <p:cNvSpPr/>
            <p:nvPr/>
          </p:nvSpPr>
          <p:spPr>
            <a:xfrm>
              <a:off x="2954160" y="3387600"/>
              <a:ext cx="243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Line 7"/>
            <p:cNvSpPr/>
            <p:nvPr/>
          </p:nvSpPr>
          <p:spPr>
            <a:xfrm>
              <a:off x="2954160" y="4439520"/>
              <a:ext cx="243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3066480" y="3520800"/>
              <a:ext cx="2063520" cy="88884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tribute 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tribute 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Text Box 9"/>
            <p:cNvSpPr/>
            <p:nvPr/>
          </p:nvSpPr>
          <p:spPr>
            <a:xfrm>
              <a:off x="3041280" y="4498560"/>
              <a:ext cx="2063520" cy="88884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ration 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ration 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2979000" y="2928240"/>
              <a:ext cx="2251080" cy="44460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Nam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1" name="Line 11"/>
          <p:cNvSpPr/>
          <p:nvPr/>
        </p:nvSpPr>
        <p:spPr>
          <a:xfrm flipH="1">
            <a:off x="4935240" y="3006720"/>
            <a:ext cx="16002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6443640" y="2565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نام كلاس: شناسه منحصر به ف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Line 13"/>
          <p:cNvSpPr/>
          <p:nvPr/>
        </p:nvSpPr>
        <p:spPr>
          <a:xfrm flipH="1">
            <a:off x="4706640" y="3844800"/>
            <a:ext cx="160020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6307200" y="36162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صفات كلا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15"/>
          <p:cNvSpPr/>
          <p:nvPr/>
        </p:nvSpPr>
        <p:spPr>
          <a:xfrm flipH="1">
            <a:off x="4858920" y="4987800"/>
            <a:ext cx="160020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6459480" y="47592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عمليات كلا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5028480" y="1628640"/>
            <a:ext cx="38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Nazanin"/>
              </a:rPr>
              <a:t>نمايش كلاس در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Nazanin"/>
              </a:rPr>
              <a:t>U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439560" y="3387600"/>
            <a:ext cx="1676520" cy="22165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ff33"/>
                </a:solidFill>
                <a:latin typeface="Times New Roman"/>
                <a:cs typeface="Nazanin"/>
              </a:rPr>
              <a:t>نوع دستياب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  <a:ea typeface="Nazani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  <a:ea typeface="Nazanin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  <a:ea typeface="Nazanin"/>
              </a:rPr>
              <a:t>Prot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19"/>
          <p:cNvSpPr/>
          <p:nvPr/>
        </p:nvSpPr>
        <p:spPr>
          <a:xfrm flipV="1">
            <a:off x="2192400" y="3921120"/>
            <a:ext cx="11430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 flipV="1">
            <a:off x="2192040" y="3997080"/>
            <a:ext cx="990360" cy="99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4B8E-43C5-4981-B799-0104EE7A9D1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كلاس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7308720" y="1773360"/>
            <a:ext cx="123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مثال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  <a:ea typeface="Nazani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387360" y="4527720"/>
            <a:ext cx="8457840" cy="1942920"/>
            <a:chOff x="387360" y="4527720"/>
            <a:chExt cx="8457840" cy="1942920"/>
          </a:xfrm>
        </p:grpSpPr>
        <p:sp>
          <p:nvSpPr>
            <p:cNvPr id="185" name="Rectangle 6"/>
            <p:cNvSpPr/>
            <p:nvPr/>
          </p:nvSpPr>
          <p:spPr>
            <a:xfrm>
              <a:off x="3230640" y="4527720"/>
              <a:ext cx="5614560" cy="19429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6" name="Group 7"/>
            <p:cNvGrpSpPr/>
            <p:nvPr/>
          </p:nvGrpSpPr>
          <p:grpSpPr>
            <a:xfrm>
              <a:off x="5977440" y="4656960"/>
              <a:ext cx="2793240" cy="388080"/>
              <a:chOff x="5977440" y="4656960"/>
              <a:chExt cx="2793240" cy="388080"/>
            </a:xfrm>
          </p:grpSpPr>
          <p:sp>
            <p:nvSpPr>
              <p:cNvPr id="187" name="Rectangle 8"/>
              <p:cNvSpPr/>
              <p:nvPr/>
            </p:nvSpPr>
            <p:spPr>
              <a:xfrm>
                <a:off x="5977440" y="4656960"/>
                <a:ext cx="2793240" cy="388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8" name="Text Box 9"/>
              <p:cNvSpPr/>
              <p:nvPr/>
            </p:nvSpPr>
            <p:spPr>
              <a:xfrm>
                <a:off x="6185880" y="4742640"/>
                <a:ext cx="23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Nazanin"/>
                  </a:rPr>
                  <a:t>Operating Systems (101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9" name="Group 10"/>
            <p:cNvGrpSpPr/>
            <p:nvPr/>
          </p:nvGrpSpPr>
          <p:grpSpPr>
            <a:xfrm>
              <a:off x="6027480" y="5239800"/>
              <a:ext cx="2719800" cy="388080"/>
              <a:chOff x="6027480" y="5239800"/>
              <a:chExt cx="2719800" cy="388080"/>
            </a:xfrm>
          </p:grpSpPr>
          <p:sp>
            <p:nvSpPr>
              <p:cNvPr id="190" name="Rectangle 11"/>
              <p:cNvSpPr/>
              <p:nvPr/>
            </p:nvSpPr>
            <p:spPr>
              <a:xfrm>
                <a:off x="6027480" y="5239800"/>
                <a:ext cx="2719800" cy="388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Text Box 12"/>
              <p:cNvSpPr/>
              <p:nvPr/>
            </p:nvSpPr>
            <p:spPr>
              <a:xfrm>
                <a:off x="6108480" y="5325480"/>
                <a:ext cx="2554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Nazanin"/>
                  </a:rPr>
                  <a:t>Software Engineering(110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2" name="Group 13"/>
            <p:cNvGrpSpPr/>
            <p:nvPr/>
          </p:nvGrpSpPr>
          <p:grpSpPr>
            <a:xfrm>
              <a:off x="6003000" y="5887800"/>
              <a:ext cx="2768760" cy="571320"/>
              <a:chOff x="6003000" y="5887800"/>
              <a:chExt cx="2768760" cy="571320"/>
            </a:xfrm>
          </p:grpSpPr>
          <p:sp>
            <p:nvSpPr>
              <p:cNvPr id="193" name="Rectangle 14"/>
              <p:cNvSpPr/>
              <p:nvPr/>
            </p:nvSpPr>
            <p:spPr>
              <a:xfrm>
                <a:off x="6003000" y="5887800"/>
                <a:ext cx="2768760" cy="388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" name="Text Box 15"/>
              <p:cNvSpPr/>
              <p:nvPr/>
            </p:nvSpPr>
            <p:spPr>
              <a:xfrm>
                <a:off x="6112080" y="5972040"/>
                <a:ext cx="25549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Nazanin"/>
                  </a:rPr>
                  <a:t>Software Engineering(110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5" name="Group 16"/>
            <p:cNvGrpSpPr/>
            <p:nvPr/>
          </p:nvGrpSpPr>
          <p:grpSpPr>
            <a:xfrm>
              <a:off x="3376800" y="5239800"/>
              <a:ext cx="2332440" cy="388080"/>
              <a:chOff x="3376800" y="5239800"/>
              <a:chExt cx="2332440" cy="388080"/>
            </a:xfrm>
          </p:grpSpPr>
          <p:sp>
            <p:nvSpPr>
              <p:cNvPr id="196" name="Rectangle 17"/>
              <p:cNvSpPr/>
              <p:nvPr/>
            </p:nvSpPr>
            <p:spPr>
              <a:xfrm>
                <a:off x="3376800" y="5239800"/>
                <a:ext cx="2332440" cy="388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Text Box 18"/>
              <p:cNvSpPr/>
              <p:nvPr/>
            </p:nvSpPr>
            <p:spPr>
              <a:xfrm>
                <a:off x="3553200" y="5362560"/>
                <a:ext cx="1981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Nazanin"/>
                  </a:rPr>
                  <a:t>Data Structures</a:t>
                </a:r>
                <a:r>
                  <a:rPr b="1" lang="ar-SA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Nazanin"/>
                  </a:rPr>
                  <a:t>)</a:t>
                </a: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Nazanin"/>
                  </a:rPr>
                  <a:t>200</a:t>
                </a:r>
                <a:r>
                  <a:rPr b="1" lang="ar-SA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Nazanin"/>
                  </a:rPr>
                  <a:t>(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8" name="Group 19"/>
            <p:cNvGrpSpPr/>
            <p:nvPr/>
          </p:nvGrpSpPr>
          <p:grpSpPr>
            <a:xfrm>
              <a:off x="3378240" y="5887800"/>
              <a:ext cx="2329920" cy="388080"/>
              <a:chOff x="3378240" y="5887800"/>
              <a:chExt cx="2329920" cy="388080"/>
            </a:xfrm>
          </p:grpSpPr>
          <p:sp>
            <p:nvSpPr>
              <p:cNvPr id="199" name="Rectangle 20"/>
              <p:cNvSpPr/>
              <p:nvPr/>
            </p:nvSpPr>
            <p:spPr>
              <a:xfrm>
                <a:off x="3378240" y="5887800"/>
                <a:ext cx="2329920" cy="388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Text Box 21"/>
              <p:cNvSpPr/>
              <p:nvPr/>
            </p:nvSpPr>
            <p:spPr>
              <a:xfrm>
                <a:off x="3462480" y="6010560"/>
                <a:ext cx="2161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Nazanin"/>
                  </a:rPr>
                  <a:t>Database Design </a:t>
                </a:r>
                <a:r>
                  <a:rPr b="1" lang="ar-SA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Nazanin"/>
                  </a:rPr>
                  <a:t>)</a:t>
                </a: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Nazanin"/>
                  </a:rPr>
                  <a:t>110</a:t>
                </a:r>
                <a:r>
                  <a:rPr b="1" lang="ar-SA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Nazanin"/>
                  </a:rPr>
                  <a:t>(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1" name="Group 22"/>
            <p:cNvGrpSpPr/>
            <p:nvPr/>
          </p:nvGrpSpPr>
          <p:grpSpPr>
            <a:xfrm>
              <a:off x="3376800" y="4656960"/>
              <a:ext cx="2332440" cy="388080"/>
              <a:chOff x="3376800" y="4656960"/>
              <a:chExt cx="2332440" cy="388080"/>
            </a:xfrm>
          </p:grpSpPr>
          <p:sp>
            <p:nvSpPr>
              <p:cNvPr id="202" name="Rectangle 23"/>
              <p:cNvSpPr/>
              <p:nvPr/>
            </p:nvSpPr>
            <p:spPr>
              <a:xfrm>
                <a:off x="3376800" y="4656960"/>
                <a:ext cx="2332440" cy="388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Text Box 24"/>
              <p:cNvSpPr/>
              <p:nvPr/>
            </p:nvSpPr>
            <p:spPr>
              <a:xfrm>
                <a:off x="3746880" y="4781520"/>
                <a:ext cx="1596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Nazanin"/>
                  </a:rPr>
                  <a:t>Intro to OO </a:t>
                </a:r>
                <a:r>
                  <a:rPr b="1" lang="ar-SA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Nazanin"/>
                  </a:rPr>
                  <a:t>)</a:t>
                </a: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Nazanin"/>
                  </a:rPr>
                  <a:t>180</a:t>
                </a:r>
                <a:r>
                  <a:rPr b="1" lang="ar-SA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Nazanin"/>
                  </a:rPr>
                  <a:t>(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4" name="Group 25"/>
            <p:cNvGrpSpPr/>
            <p:nvPr/>
          </p:nvGrpSpPr>
          <p:grpSpPr>
            <a:xfrm>
              <a:off x="387360" y="5175000"/>
              <a:ext cx="1968120" cy="388080"/>
              <a:chOff x="387360" y="5175000"/>
              <a:chExt cx="1968120" cy="388080"/>
            </a:xfrm>
          </p:grpSpPr>
          <p:sp>
            <p:nvSpPr>
              <p:cNvPr id="205" name="Rectangle 26"/>
              <p:cNvSpPr/>
              <p:nvPr/>
            </p:nvSpPr>
            <p:spPr>
              <a:xfrm>
                <a:off x="387360" y="5175000"/>
                <a:ext cx="1968120" cy="388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Text Box 27"/>
              <p:cNvSpPr/>
              <p:nvPr/>
            </p:nvSpPr>
            <p:spPr>
              <a:xfrm>
                <a:off x="519480" y="5260680"/>
                <a:ext cx="171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Nazanin"/>
                  </a:rPr>
                  <a:t>Computer Course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7" name="AutoShape 28"/>
            <p:cNvSpPr/>
            <p:nvPr/>
          </p:nvSpPr>
          <p:spPr>
            <a:xfrm>
              <a:off x="2442600" y="5175000"/>
              <a:ext cx="715320" cy="412920"/>
            </a:xfrm>
            <a:prstGeom prst="rightArrow">
              <a:avLst>
                <a:gd name="adj1" fmla="val 50000"/>
                <a:gd name="adj2" fmla="val 43309"/>
              </a:avLst>
            </a:prstGeom>
            <a:solidFill>
              <a:srgbClr val="c470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8" name="Group 29"/>
          <p:cNvGrpSpPr/>
          <p:nvPr/>
        </p:nvGrpSpPr>
        <p:grpSpPr>
          <a:xfrm>
            <a:off x="3740040" y="1544760"/>
            <a:ext cx="2286000" cy="2819160"/>
            <a:chOff x="3740040" y="1544760"/>
            <a:chExt cx="2286000" cy="2819160"/>
          </a:xfrm>
        </p:grpSpPr>
        <p:sp>
          <p:nvSpPr>
            <p:cNvPr id="209" name="Rectangle 30"/>
            <p:cNvSpPr/>
            <p:nvPr/>
          </p:nvSpPr>
          <p:spPr>
            <a:xfrm>
              <a:off x="3740040" y="1544760"/>
              <a:ext cx="2286000" cy="2819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Line 31"/>
            <p:cNvSpPr/>
            <p:nvPr/>
          </p:nvSpPr>
          <p:spPr>
            <a:xfrm>
              <a:off x="3740040" y="206496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32"/>
            <p:cNvSpPr/>
            <p:nvPr/>
          </p:nvSpPr>
          <p:spPr>
            <a:xfrm>
              <a:off x="3740040" y="309132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Text Box 33"/>
            <p:cNvSpPr/>
            <p:nvPr/>
          </p:nvSpPr>
          <p:spPr>
            <a:xfrm>
              <a:off x="3845160" y="2194920"/>
              <a:ext cx="1933920" cy="8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rtTim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dTim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Text Box 34"/>
            <p:cNvSpPr/>
            <p:nvPr/>
          </p:nvSpPr>
          <p:spPr>
            <a:xfrm>
              <a:off x="3822480" y="3134880"/>
              <a:ext cx="193392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Student(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leteStudent(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tStartTime(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tEndTime(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Text Box 35"/>
            <p:cNvSpPr/>
            <p:nvPr/>
          </p:nvSpPr>
          <p:spPr>
            <a:xfrm>
              <a:off x="3762720" y="1620360"/>
              <a:ext cx="21106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puterCour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" name="AutoShape 36"/>
          <p:cNvSpPr/>
          <p:nvPr/>
        </p:nvSpPr>
        <p:spPr>
          <a:xfrm rot="4003800">
            <a:off x="2175480" y="3337560"/>
            <a:ext cx="485640" cy="1928880"/>
          </a:xfrm>
          <a:prstGeom prst="upDownArrow">
            <a:avLst>
              <a:gd name="adj1" fmla="val 37824"/>
              <a:gd name="adj2" fmla="val 77506"/>
            </a:avLst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6" name="Group 37"/>
          <p:cNvGrpSpPr/>
          <p:nvPr/>
        </p:nvGrpSpPr>
        <p:grpSpPr>
          <a:xfrm>
            <a:off x="5568840" y="3144960"/>
            <a:ext cx="2590920" cy="1600200"/>
            <a:chOff x="5568840" y="3144960"/>
            <a:chExt cx="2590920" cy="1600200"/>
          </a:xfrm>
        </p:grpSpPr>
        <p:sp>
          <p:nvSpPr>
            <p:cNvPr id="217" name="Line 38"/>
            <p:cNvSpPr/>
            <p:nvPr/>
          </p:nvSpPr>
          <p:spPr>
            <a:xfrm flipH="1">
              <a:off x="5568840" y="3754440"/>
              <a:ext cx="1447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Line 39"/>
            <p:cNvSpPr/>
            <p:nvPr/>
          </p:nvSpPr>
          <p:spPr>
            <a:xfrm>
              <a:off x="7016760" y="3754440"/>
              <a:ext cx="380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Text Box 40"/>
            <p:cNvSpPr/>
            <p:nvPr/>
          </p:nvSpPr>
          <p:spPr>
            <a:xfrm>
              <a:off x="6102360" y="314496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66"/>
                  </a:solidFill>
                  <a:latin typeface="Times New Roman"/>
                  <a:cs typeface="Nazanin"/>
                </a:rPr>
                <a:t>نمونه</a:t>
              </a:r>
              <a:r>
                <a:rPr b="1" lang="fa-IR" sz="2400" spc="-1" strike="noStrike">
                  <a:solidFill>
                    <a:srgbClr val="000066"/>
                  </a:solidFill>
                  <a:latin typeface="Times New Roman"/>
                  <a:ea typeface="Nazanin"/>
                </a:rPr>
                <a:t>‌</a:t>
              </a:r>
              <a:r>
                <a:rPr b="1" lang="ar-SA" sz="2400" spc="-1" strike="noStrike">
                  <a:solidFill>
                    <a:srgbClr val="000066"/>
                  </a:solidFill>
                  <a:latin typeface="Times New Roman"/>
                  <a:cs typeface="Nazanin"/>
                </a:rPr>
                <a:t>ها</a:t>
              </a:r>
              <a:r>
                <a:rPr b="1" lang="fa-IR" sz="2400" spc="-1" strike="noStrike">
                  <a:solidFill>
                    <a:srgbClr val="000066"/>
                  </a:solidFill>
                  <a:latin typeface="Times New Roman"/>
                  <a:ea typeface="Nazanin"/>
                </a:rPr>
                <a:t> </a:t>
              </a:r>
              <a:r>
                <a:rPr b="1" lang="ar-SA" sz="2400" spc="-1" strike="noStrike">
                  <a:solidFill>
                    <a:srgbClr val="000066"/>
                  </a:solidFill>
                  <a:latin typeface="Times New Roman"/>
                  <a:ea typeface="Nazanin"/>
                </a:rPr>
                <a:t>(اشياء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FCF5-EA74-4648-8494-AC23A9D5E7A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كلاس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755640" y="155736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مثال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: كلاس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Nazanin"/>
              </a:rPr>
              <a:t>پي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م الكترونيك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MailMess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)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UML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3" name="Object 6"/>
          <p:cNvGraphicFramePr/>
          <p:nvPr/>
        </p:nvGraphicFramePr>
        <p:xfrm>
          <a:off x="3492360" y="2492280"/>
          <a:ext cx="2503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492280"/>
                    <a:ext cx="2503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ED0C-4073-4960-9EF4-1E761A09035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كلاس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7" name="Group 4"/>
          <p:cNvGrpSpPr/>
          <p:nvPr/>
        </p:nvGrpSpPr>
        <p:grpSpPr>
          <a:xfrm>
            <a:off x="471600" y="2489040"/>
            <a:ext cx="8457840" cy="3803400"/>
            <a:chOff x="471600" y="2489040"/>
            <a:chExt cx="8457840" cy="3803400"/>
          </a:xfrm>
        </p:grpSpPr>
        <p:sp>
          <p:nvSpPr>
            <p:cNvPr id="228" name="AutoShape 5"/>
            <p:cNvSpPr/>
            <p:nvPr/>
          </p:nvSpPr>
          <p:spPr>
            <a:xfrm>
              <a:off x="4446360" y="4493880"/>
              <a:ext cx="639360" cy="600840"/>
            </a:xfrm>
            <a:prstGeom prst="rightArrow">
              <a:avLst>
                <a:gd name="adj1" fmla="val 43333"/>
                <a:gd name="adj2" fmla="val 54930"/>
              </a:avLst>
            </a:prstGeom>
            <a:solidFill>
              <a:srgbClr val="cc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29" name="Group 6"/>
            <p:cNvGrpSpPr/>
            <p:nvPr/>
          </p:nvGrpSpPr>
          <p:grpSpPr>
            <a:xfrm>
              <a:off x="5866920" y="3472200"/>
              <a:ext cx="2759760" cy="1343160"/>
              <a:chOff x="5866920" y="3472200"/>
              <a:chExt cx="2759760" cy="1343160"/>
            </a:xfrm>
          </p:grpSpPr>
          <p:sp>
            <p:nvSpPr>
              <p:cNvPr id="230" name="Rectangle 7"/>
              <p:cNvSpPr/>
              <p:nvPr/>
            </p:nvSpPr>
            <p:spPr>
              <a:xfrm>
                <a:off x="5868720" y="3472200"/>
                <a:ext cx="2757960" cy="13431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Text Box 8"/>
              <p:cNvSpPr/>
              <p:nvPr/>
            </p:nvSpPr>
            <p:spPr>
              <a:xfrm>
                <a:off x="6240600" y="3584160"/>
                <a:ext cx="201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Nazanin"/>
                  </a:rPr>
                  <a:t>:ComputerCourse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Line 9"/>
              <p:cNvSpPr/>
              <p:nvPr/>
            </p:nvSpPr>
            <p:spPr>
              <a:xfrm>
                <a:off x="5868720" y="3942360"/>
                <a:ext cx="2757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Text Box 10"/>
              <p:cNvSpPr/>
              <p:nvPr/>
            </p:nvSpPr>
            <p:spPr>
              <a:xfrm>
                <a:off x="5866920" y="3942360"/>
                <a:ext cx="27597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Nazanin"/>
                  </a:rPr>
                  <a:t>number = 101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Nazanin"/>
                  </a:rPr>
                  <a:t>startTime = 90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Nazanin"/>
                  </a:rPr>
                  <a:t>endTime = 110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4" name="Group 11"/>
            <p:cNvGrpSpPr/>
            <p:nvPr/>
          </p:nvGrpSpPr>
          <p:grpSpPr>
            <a:xfrm>
              <a:off x="5860800" y="4957920"/>
              <a:ext cx="2745360" cy="1334520"/>
              <a:chOff x="5860800" y="4957920"/>
              <a:chExt cx="2745360" cy="1334520"/>
            </a:xfrm>
          </p:grpSpPr>
          <p:sp>
            <p:nvSpPr>
              <p:cNvPr id="235" name="Rectangle 12"/>
              <p:cNvSpPr/>
              <p:nvPr/>
            </p:nvSpPr>
            <p:spPr>
              <a:xfrm>
                <a:off x="5862600" y="4957920"/>
                <a:ext cx="2743560" cy="13345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Text Box 13"/>
              <p:cNvSpPr/>
              <p:nvPr/>
            </p:nvSpPr>
            <p:spPr>
              <a:xfrm>
                <a:off x="6222240" y="5078880"/>
                <a:ext cx="201240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Nazanin"/>
                  </a:rPr>
                  <a:t>:ComputerCourse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Line 14"/>
              <p:cNvSpPr/>
              <p:nvPr/>
            </p:nvSpPr>
            <p:spPr>
              <a:xfrm>
                <a:off x="5862600" y="5424840"/>
                <a:ext cx="2743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Text Box 15"/>
              <p:cNvSpPr/>
              <p:nvPr/>
            </p:nvSpPr>
            <p:spPr>
              <a:xfrm>
                <a:off x="5860800" y="5422320"/>
                <a:ext cx="27453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Nazanin"/>
                  </a:rPr>
                  <a:t>Name = 104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Nazanin"/>
                  </a:rPr>
                  <a:t>startTime = 130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Nazanin"/>
                  </a:rPr>
                  <a:t>endTime = 150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9" name="Group 16"/>
            <p:cNvGrpSpPr/>
            <p:nvPr/>
          </p:nvGrpSpPr>
          <p:grpSpPr>
            <a:xfrm>
              <a:off x="990720" y="4193640"/>
              <a:ext cx="2576160" cy="1398960"/>
              <a:chOff x="990720" y="4193640"/>
              <a:chExt cx="2576160" cy="1398960"/>
            </a:xfrm>
          </p:grpSpPr>
          <p:grpSp>
            <p:nvGrpSpPr>
              <p:cNvPr id="240" name="Group 17"/>
              <p:cNvGrpSpPr/>
              <p:nvPr/>
            </p:nvGrpSpPr>
            <p:grpSpPr>
              <a:xfrm>
                <a:off x="990720" y="4193640"/>
                <a:ext cx="2576160" cy="1271880"/>
                <a:chOff x="990720" y="4193640"/>
                <a:chExt cx="2576160" cy="1271880"/>
              </a:xfrm>
            </p:grpSpPr>
            <p:sp>
              <p:nvSpPr>
                <p:cNvPr id="241" name="Rectangle 18"/>
                <p:cNvSpPr/>
                <p:nvPr/>
              </p:nvSpPr>
              <p:spPr>
                <a:xfrm>
                  <a:off x="992160" y="4193640"/>
                  <a:ext cx="2574360" cy="12718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Text Box 19"/>
                <p:cNvSpPr/>
                <p:nvPr/>
              </p:nvSpPr>
              <p:spPr>
                <a:xfrm>
                  <a:off x="1279440" y="4304520"/>
                  <a:ext cx="20124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Nazanin"/>
                    </a:rPr>
                    <a:t>Computer Cour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20"/>
                <p:cNvSpPr/>
                <p:nvPr/>
              </p:nvSpPr>
              <p:spPr>
                <a:xfrm>
                  <a:off x="992160" y="4638600"/>
                  <a:ext cx="2574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Text Box 21"/>
                <p:cNvSpPr/>
                <p:nvPr/>
              </p:nvSpPr>
              <p:spPr>
                <a:xfrm>
                  <a:off x="990720" y="4636080"/>
                  <a:ext cx="257616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Nazanin"/>
                    </a:rPr>
                    <a:t>numb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Nazanin"/>
                    </a:rPr>
                    <a:t>startTim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Nazanin"/>
                    </a:rPr>
                    <a:t>endTime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45" name="Rectangle 22"/>
              <p:cNvSpPr/>
              <p:nvPr/>
            </p:nvSpPr>
            <p:spPr>
              <a:xfrm>
                <a:off x="991800" y="5465520"/>
                <a:ext cx="2574720" cy="127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6" name="Text Box 23"/>
            <p:cNvSpPr/>
            <p:nvPr/>
          </p:nvSpPr>
          <p:spPr>
            <a:xfrm>
              <a:off x="1145160" y="2489040"/>
              <a:ext cx="119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Arial"/>
                  <a:ea typeface="Nazanin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Line 24"/>
            <p:cNvSpPr/>
            <p:nvPr/>
          </p:nvSpPr>
          <p:spPr>
            <a:xfrm>
              <a:off x="1954080" y="2989800"/>
              <a:ext cx="837360" cy="1191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Text Box 25"/>
            <p:cNvSpPr/>
            <p:nvPr/>
          </p:nvSpPr>
          <p:spPr>
            <a:xfrm>
              <a:off x="471600" y="3123720"/>
              <a:ext cx="143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Arial"/>
                  <a:ea typeface="Nazanin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Line 26"/>
            <p:cNvSpPr/>
            <p:nvPr/>
          </p:nvSpPr>
          <p:spPr>
            <a:xfrm>
              <a:off x="1219680" y="3547080"/>
              <a:ext cx="417960" cy="1165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Text Box 27"/>
            <p:cNvSpPr/>
            <p:nvPr/>
          </p:nvSpPr>
          <p:spPr>
            <a:xfrm>
              <a:off x="5148000" y="2629800"/>
              <a:ext cx="198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Arial"/>
                  <a:ea typeface="Nazanin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Line 28"/>
            <p:cNvSpPr/>
            <p:nvPr/>
          </p:nvSpPr>
          <p:spPr>
            <a:xfrm>
              <a:off x="6044760" y="2931120"/>
              <a:ext cx="447480" cy="54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Text Box 29"/>
            <p:cNvSpPr/>
            <p:nvPr/>
          </p:nvSpPr>
          <p:spPr>
            <a:xfrm>
              <a:off x="6684120" y="2559240"/>
              <a:ext cx="224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Arial"/>
                  <a:ea typeface="Nazanin"/>
                </a:rPr>
                <a:t>Attribute Valu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Line 30"/>
            <p:cNvSpPr/>
            <p:nvPr/>
          </p:nvSpPr>
          <p:spPr>
            <a:xfrm flipH="1">
              <a:off x="7432200" y="2982600"/>
              <a:ext cx="448920" cy="1269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4" name="Text Box 31"/>
          <p:cNvSpPr/>
          <p:nvPr/>
        </p:nvSpPr>
        <p:spPr>
          <a:xfrm>
            <a:off x="289080" y="1576440"/>
            <a:ext cx="8170560" cy="8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46800" anchor="t">
            <a:spAutoFit/>
          </a:bodyPr>
          <a:p>
            <a:pPr algn="r"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  <a:cs typeface="Nazanin"/>
              </a:rPr>
              <a:t>صفات</a:t>
            </a:r>
            <a:r>
              <a:rPr b="1" lang="fa-IR" sz="2800" spc="-1" strike="noStrike">
                <a:solidFill>
                  <a:srgbClr val="000000"/>
                </a:solidFill>
                <a:latin typeface="Comic Sans MS"/>
                <a:ea typeface="Nazani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Nazani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s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Nazanin"/>
              </a:rPr>
              <a:t>):</a:t>
            </a:r>
            <a:r>
              <a:rPr b="1" lang="ar-SA" sz="2800" spc="-1" strike="noStrike">
                <a:solidFill>
                  <a:srgbClr val="4b4eb5"/>
                </a:solidFill>
                <a:latin typeface="Comic Sans MS"/>
                <a:ea typeface="Nazanin"/>
              </a:rPr>
              <a:t> </a:t>
            </a:r>
            <a:r>
              <a:rPr b="1" lang="ar-SA" sz="2600" spc="-1" strike="noStrike">
                <a:solidFill>
                  <a:srgbClr val="000066"/>
                </a:solidFill>
                <a:latin typeface="Comic Sans MS"/>
                <a:cs typeface="Nazanin"/>
              </a:rPr>
              <a:t>ويژگيهايي از كلاس كه نگهداري آن براي مهم است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B842-FF77-43C7-9968-4D12FACC202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كلاس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468360" y="162864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عمليا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Operation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)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Nazanin"/>
              </a:rPr>
              <a:t>رفتار كلاس در مقابل كلاس</a:t>
            </a:r>
            <a:r>
              <a:rPr b="1" lang="fa-IR" sz="2800" spc="-1" strike="noStrike">
                <a:solidFill>
                  <a:srgbClr val="000066"/>
                </a:solidFill>
                <a:latin typeface="Times New Roman"/>
                <a:ea typeface="Nazanin"/>
              </a:rPr>
              <a:t>‌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Nazanin"/>
              </a:rPr>
              <a:t>هاي ديگ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8" name="Group 5"/>
          <p:cNvGrpSpPr/>
          <p:nvPr/>
        </p:nvGrpSpPr>
        <p:grpSpPr>
          <a:xfrm>
            <a:off x="1676520" y="3352680"/>
            <a:ext cx="4800600" cy="2151360"/>
            <a:chOff x="1676520" y="3352680"/>
            <a:chExt cx="4800600" cy="2151360"/>
          </a:xfrm>
        </p:grpSpPr>
        <p:grpSp>
          <p:nvGrpSpPr>
            <p:cNvPr id="259" name="Group 6"/>
            <p:cNvGrpSpPr/>
            <p:nvPr/>
          </p:nvGrpSpPr>
          <p:grpSpPr>
            <a:xfrm>
              <a:off x="3733920" y="3352680"/>
              <a:ext cx="2743200" cy="2151360"/>
              <a:chOff x="3733920" y="3352680"/>
              <a:chExt cx="2743200" cy="2151360"/>
            </a:xfrm>
          </p:grpSpPr>
          <p:sp>
            <p:nvSpPr>
              <p:cNvPr id="260" name="Rectangle 7"/>
              <p:cNvSpPr/>
              <p:nvPr/>
            </p:nvSpPr>
            <p:spPr>
              <a:xfrm>
                <a:off x="3733920" y="3352680"/>
                <a:ext cx="2743200" cy="1905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Text Box 8"/>
              <p:cNvSpPr/>
              <p:nvPr/>
            </p:nvSpPr>
            <p:spPr>
              <a:xfrm>
                <a:off x="3862440" y="3429000"/>
                <a:ext cx="2487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mputerCourse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Line 9"/>
              <p:cNvSpPr/>
              <p:nvPr/>
            </p:nvSpPr>
            <p:spPr>
              <a:xfrm>
                <a:off x="3733920" y="3886200"/>
                <a:ext cx="274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Line 10"/>
              <p:cNvSpPr/>
              <p:nvPr/>
            </p:nvSpPr>
            <p:spPr>
              <a:xfrm>
                <a:off x="3733920" y="4038480"/>
                <a:ext cx="274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Text Box 11"/>
              <p:cNvSpPr/>
              <p:nvPr/>
            </p:nvSpPr>
            <p:spPr>
              <a:xfrm>
                <a:off x="3733920" y="4038480"/>
                <a:ext cx="26668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ddStudent()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leteStudent()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etStartTime()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etEndTime()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5" name="Text Box 12"/>
            <p:cNvSpPr/>
            <p:nvPr/>
          </p:nvSpPr>
          <p:spPr>
            <a:xfrm>
              <a:off x="1676520" y="37339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Line 13"/>
            <p:cNvSpPr/>
            <p:nvPr/>
          </p:nvSpPr>
          <p:spPr>
            <a:xfrm flipV="1">
              <a:off x="2666880" y="3505320"/>
              <a:ext cx="106704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Text Box 14"/>
            <p:cNvSpPr/>
            <p:nvPr/>
          </p:nvSpPr>
          <p:spPr>
            <a:xfrm>
              <a:off x="1676520" y="4800600"/>
              <a:ext cx="236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Operation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Line 15"/>
            <p:cNvSpPr/>
            <p:nvPr/>
          </p:nvSpPr>
          <p:spPr>
            <a:xfrm flipV="1">
              <a:off x="3200400" y="4266720"/>
              <a:ext cx="68580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76A1-2E90-4986-9608-73FF78D6C99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كانيزم ارتباط بين اشياء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رتباط بين اشياء و بهرمندي از سرويس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(عمليات) آنها از طريق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كانيزم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تبادل پيام</a:t>
            </a:r>
            <a:r>
              <a:rPr b="1" lang="fa-IR" sz="3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Message Passing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)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صورت 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گير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685800" y="3124080"/>
            <a:ext cx="6324480" cy="1555920"/>
            <a:chOff x="685800" y="3124080"/>
            <a:chExt cx="6324480" cy="1555920"/>
          </a:xfrm>
        </p:grpSpPr>
        <p:graphicFrame>
          <p:nvGraphicFramePr>
            <p:cNvPr id="273" name="Object 5"/>
            <p:cNvGraphicFramePr/>
            <p:nvPr/>
          </p:nvGraphicFramePr>
          <p:xfrm>
            <a:off x="2209680" y="3352680"/>
            <a:ext cx="4800600" cy="1327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09680" y="3352680"/>
                      <a:ext cx="4800600" cy="132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5" name="Line 6"/>
            <p:cNvSpPr/>
            <p:nvPr/>
          </p:nvSpPr>
          <p:spPr>
            <a:xfrm>
              <a:off x="2590920" y="3352680"/>
              <a:ext cx="1371600" cy="763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Text Box 7"/>
            <p:cNvSpPr/>
            <p:nvPr/>
          </p:nvSpPr>
          <p:spPr>
            <a:xfrm>
              <a:off x="685800" y="312408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ارتباط يك طرفه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7" name="Group 8"/>
          <p:cNvGrpSpPr/>
          <p:nvPr/>
        </p:nvGrpSpPr>
        <p:grpSpPr>
          <a:xfrm>
            <a:off x="826920" y="5084640"/>
            <a:ext cx="7315200" cy="1457640"/>
            <a:chOff x="826920" y="5084640"/>
            <a:chExt cx="7315200" cy="1457640"/>
          </a:xfrm>
        </p:grpSpPr>
        <p:sp>
          <p:nvSpPr>
            <p:cNvPr id="278" name="Text Box 9"/>
            <p:cNvSpPr/>
            <p:nvPr/>
          </p:nvSpPr>
          <p:spPr>
            <a:xfrm>
              <a:off x="5018040" y="5389200"/>
              <a:ext cx="31240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نحوه اعلام پاسخ به </a:t>
              </a:r>
              <a:r>
                <a:rPr b="1" i="1" lang="en-US" sz="2000" spc="-1" strike="noStrike">
                  <a:solidFill>
                    <a:srgbClr val="4b4eb5"/>
                  </a:solidFill>
                  <a:latin typeface="Times New Roman"/>
                  <a:ea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AutoShape 10"/>
            <p:cNvSpPr/>
            <p:nvPr/>
          </p:nvSpPr>
          <p:spPr>
            <a:xfrm>
              <a:off x="4713120" y="5084640"/>
              <a:ext cx="304920" cy="12189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4b4e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Text Box 11"/>
            <p:cNvSpPr/>
            <p:nvPr/>
          </p:nvSpPr>
          <p:spPr>
            <a:xfrm>
              <a:off x="826920" y="5160600"/>
              <a:ext cx="3886200" cy="1381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cff33"/>
                  </a:solidFill>
                  <a:latin typeface="Times New Roman"/>
                  <a:cs typeface="Nazanin"/>
                </a:rPr>
                <a:t>مقدار برگشتي</a:t>
              </a:r>
              <a:r>
                <a:rPr b="1" lang="fa-IR" sz="2400" spc="-1" strike="noStrike">
                  <a:solidFill>
                    <a:srgbClr val="ccff33"/>
                  </a:solidFill>
                  <a:latin typeface="Times New Roman"/>
                  <a:ea typeface="Nazanin"/>
                </a:rPr>
                <a:t> </a:t>
              </a:r>
              <a:r>
                <a:rPr b="1" lang="ar-SA" sz="2400" spc="-1" strike="noStrike">
                  <a:solidFill>
                    <a:srgbClr val="ccff33"/>
                  </a:solidFill>
                  <a:latin typeface="Times New Roman"/>
                  <a:ea typeface="Nazanin"/>
                </a:rPr>
                <a:t>(</a:t>
              </a:r>
              <a:r>
                <a:rPr b="1" i="1" lang="en-US" sz="2000" spc="-1" strike="noStrike">
                  <a:solidFill>
                    <a:srgbClr val="ccff33"/>
                  </a:solidFill>
                  <a:latin typeface="Times New Roman"/>
                  <a:ea typeface="Times New Roman"/>
                </a:rPr>
                <a:t>Return value</a:t>
              </a:r>
              <a:r>
                <a:rPr b="1" lang="ar-SA" sz="2400" spc="-1" strike="noStrike">
                  <a:solidFill>
                    <a:srgbClr val="ccff33"/>
                  </a:solidFill>
                  <a:latin typeface="Times New Roman"/>
                  <a:ea typeface="Nazani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cff33"/>
                  </a:solidFill>
                  <a:latin typeface="Times New Roman"/>
                  <a:cs typeface="Nazanin"/>
                </a:rPr>
                <a:t>تغير پارامترهاي دريافتي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5B3D-DAD5-4C1B-84A9-9395E19E310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مكانيزم ارتباط بين اشياء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ر پيام عبارت از يك درخواست از طرف سرويس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گيرنده به سرويس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دهنده براي اجراي يك عمل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Method Call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است.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C045-E8CB-4903-B51C-DC7AC449365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رابطه بين كلاس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ها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روابط اساسي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رابطه انجمني 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Association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رابطه تجمعي 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Aggregation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رابطه عام/خاص 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Generalization/Specialization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0FED-7370-4631-9F39-244530D83FC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اهداف جلسه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Times New Roman"/>
              </a:rPr>
              <a:t>آشنائي با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مفاهيم اساسي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</a:rPr>
              <a:t> شئ گرائي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Times New Roman"/>
              </a:rPr>
              <a:t>  آشنائي با انواع روابط بين كلاسها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5D70-6293-49A6-A4E8-1C5917B5382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رابطه انجمن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نوعي وابستگي معنايي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Semantic Relationship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بين نمون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ه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يي از كلاس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 متفاوت است كه با حذف اين وابستگي عملاً هيچ ارتباط ديگري بين دو كلاس وجود نخواهد داش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1447920" y="5833800"/>
            <a:ext cx="2666880" cy="1283040"/>
            <a:chOff x="1447920" y="5833800"/>
            <a:chExt cx="2666880" cy="1283040"/>
          </a:xfrm>
        </p:grpSpPr>
        <p:sp>
          <p:nvSpPr>
            <p:cNvPr id="291" name="Line 5"/>
            <p:cNvSpPr/>
            <p:nvPr/>
          </p:nvSpPr>
          <p:spPr>
            <a:xfrm flipV="1">
              <a:off x="3124080" y="5833800"/>
              <a:ext cx="9907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Text Box 6"/>
            <p:cNvSpPr/>
            <p:nvPr/>
          </p:nvSpPr>
          <p:spPr>
            <a:xfrm>
              <a:off x="1447920" y="629136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Times New Roman"/>
                  <a:cs typeface="Nazanin"/>
                </a:rPr>
                <a:t>مفهوم رابطه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3" name="Group 7"/>
          <p:cNvGrpSpPr/>
          <p:nvPr/>
        </p:nvGrpSpPr>
        <p:grpSpPr>
          <a:xfrm>
            <a:off x="3276720" y="4005360"/>
            <a:ext cx="1981080" cy="1066320"/>
            <a:chOff x="3276720" y="4005360"/>
            <a:chExt cx="1981080" cy="1066320"/>
          </a:xfrm>
        </p:grpSpPr>
        <p:sp>
          <p:nvSpPr>
            <p:cNvPr id="294" name="Line 8"/>
            <p:cNvSpPr/>
            <p:nvPr/>
          </p:nvSpPr>
          <p:spPr>
            <a:xfrm>
              <a:off x="4495680" y="4538520"/>
              <a:ext cx="45720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 flipH="1">
              <a:off x="3352320" y="4538520"/>
              <a:ext cx="114300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Text Box 10"/>
            <p:cNvSpPr/>
            <p:nvPr/>
          </p:nvSpPr>
          <p:spPr>
            <a:xfrm>
              <a:off x="3276720" y="400536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Times New Roman"/>
                  <a:cs typeface="Nazanin"/>
                </a:rPr>
                <a:t>درجه وابستگي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7" name="Group 11"/>
          <p:cNvGrpSpPr/>
          <p:nvPr/>
        </p:nvGrpSpPr>
        <p:grpSpPr>
          <a:xfrm>
            <a:off x="1143000" y="4979880"/>
            <a:ext cx="6222960" cy="932760"/>
            <a:chOff x="1143000" y="4979880"/>
            <a:chExt cx="6222960" cy="932760"/>
          </a:xfrm>
        </p:grpSpPr>
        <p:sp>
          <p:nvSpPr>
            <p:cNvPr id="298" name="Text Box 12"/>
            <p:cNvSpPr/>
            <p:nvPr/>
          </p:nvSpPr>
          <p:spPr>
            <a:xfrm>
              <a:off x="1367640" y="5249880"/>
              <a:ext cx="1387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5715360" y="5224320"/>
              <a:ext cx="1439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mploye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Text Box 14"/>
            <p:cNvSpPr/>
            <p:nvPr/>
          </p:nvSpPr>
          <p:spPr>
            <a:xfrm>
              <a:off x="3352680" y="5452920"/>
              <a:ext cx="189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mploy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Text Box 15"/>
            <p:cNvSpPr/>
            <p:nvPr/>
          </p:nvSpPr>
          <p:spPr>
            <a:xfrm>
              <a:off x="3122640" y="4979880"/>
              <a:ext cx="3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Text Box 16"/>
            <p:cNvSpPr/>
            <p:nvPr/>
          </p:nvSpPr>
          <p:spPr>
            <a:xfrm>
              <a:off x="4782960" y="4979880"/>
              <a:ext cx="71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.*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Rectangle 17"/>
            <p:cNvSpPr/>
            <p:nvPr/>
          </p:nvSpPr>
          <p:spPr>
            <a:xfrm>
              <a:off x="1143000" y="5072040"/>
              <a:ext cx="1828800" cy="761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18"/>
            <p:cNvSpPr/>
            <p:nvPr/>
          </p:nvSpPr>
          <p:spPr>
            <a:xfrm>
              <a:off x="5537160" y="5021280"/>
              <a:ext cx="1828800" cy="761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19"/>
            <p:cNvSpPr/>
            <p:nvPr/>
          </p:nvSpPr>
          <p:spPr>
            <a:xfrm>
              <a:off x="2971800" y="545292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6" name="Rectangle 20"/>
          <p:cNvSpPr/>
          <p:nvPr/>
        </p:nvSpPr>
        <p:spPr>
          <a:xfrm>
            <a:off x="7061400" y="404028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Homa"/>
              </a:rPr>
              <a:t>مثال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5609-BA60-4DBF-BC2D-ECCA7A5CE3C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رابطه انجمني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826920" y="3830760"/>
            <a:ext cx="165744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2484360" y="3830760"/>
            <a:ext cx="165744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4141800" y="3830760"/>
            <a:ext cx="165744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5799240" y="3830760"/>
            <a:ext cx="165708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3" name="Group 8"/>
          <p:cNvGrpSpPr/>
          <p:nvPr/>
        </p:nvGrpSpPr>
        <p:grpSpPr>
          <a:xfrm>
            <a:off x="1074600" y="2687760"/>
            <a:ext cx="6648480" cy="2286000"/>
            <a:chOff x="1074600" y="2687760"/>
            <a:chExt cx="6648480" cy="2286000"/>
          </a:xfrm>
        </p:grpSpPr>
        <p:graphicFrame>
          <p:nvGraphicFramePr>
            <p:cNvPr id="314" name="Object 9"/>
            <p:cNvGraphicFramePr/>
            <p:nvPr/>
          </p:nvGraphicFramePr>
          <p:xfrm>
            <a:off x="1150560" y="4211640"/>
            <a:ext cx="1532160" cy="57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5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50560" y="4211640"/>
                      <a:ext cx="153216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Object 10"/>
            <p:cNvGraphicFramePr/>
            <p:nvPr/>
          </p:nvGraphicFramePr>
          <p:xfrm>
            <a:off x="2827080" y="4251240"/>
            <a:ext cx="1531800" cy="573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7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27080" y="4251240"/>
                      <a:ext cx="153180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8" name="Object 11"/>
            <p:cNvGraphicFramePr/>
            <p:nvPr/>
          </p:nvGraphicFramePr>
          <p:xfrm>
            <a:off x="4427280" y="4251240"/>
            <a:ext cx="1531800" cy="573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9" name="Object 1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27280" y="4251240"/>
                      <a:ext cx="153180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0" name="Object 12"/>
            <p:cNvGraphicFramePr/>
            <p:nvPr/>
          </p:nvGraphicFramePr>
          <p:xfrm>
            <a:off x="6103800" y="4251240"/>
            <a:ext cx="1531800" cy="573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1" name="Object 1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03800" y="4251240"/>
                      <a:ext cx="153180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2" name="Group 13"/>
            <p:cNvGrpSpPr/>
            <p:nvPr/>
          </p:nvGrpSpPr>
          <p:grpSpPr>
            <a:xfrm>
              <a:off x="1074600" y="2687760"/>
              <a:ext cx="6648480" cy="2286000"/>
              <a:chOff x="1074600" y="2687760"/>
              <a:chExt cx="6648480" cy="2286000"/>
            </a:xfrm>
          </p:grpSpPr>
          <p:sp>
            <p:nvSpPr>
              <p:cNvPr id="323" name="Rectangle 14"/>
              <p:cNvSpPr/>
              <p:nvPr/>
            </p:nvSpPr>
            <p:spPr>
              <a:xfrm>
                <a:off x="6046560" y="2712960"/>
                <a:ext cx="1657440" cy="20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700" spc="-1" strike="noStrike">
                    <a:solidFill>
                      <a:srgbClr val="000099"/>
                    </a:solidFill>
                    <a:latin typeface="Times New Roman"/>
                    <a:cs typeface="Nazanin"/>
                  </a:rPr>
                  <a:t>يك نمونه از</a:t>
                </a:r>
                <a:r>
                  <a:rPr b="1" lang="en-US" sz="1700" spc="-1" strike="noStrike">
                    <a:solidFill>
                      <a:srgbClr val="000099"/>
                    </a:solidFill>
                    <a:latin typeface="Times New Roman"/>
                    <a:ea typeface="Nazanin"/>
                  </a:rPr>
                  <a:t> </a:t>
                </a:r>
                <a:r>
                  <a:rPr b="1" lang="en-US" sz="1700" spc="-1" strike="noStrike">
                    <a:solidFill>
                      <a:srgbClr val="000099"/>
                    </a:solidFill>
                    <a:latin typeface="Times New Roman"/>
                    <a:ea typeface="Nazanin"/>
                  </a:rPr>
                  <a:t>A</a:t>
                </a:r>
                <a:r>
                  <a:rPr b="1" lang="ar-SA" sz="1700" spc="-1" strike="noStrike">
                    <a:solidFill>
                      <a:srgbClr val="000099"/>
                    </a:solidFill>
                    <a:latin typeface="Times New Roman"/>
                    <a:ea typeface="Nazanin"/>
                  </a:rPr>
                  <a:t> هميشه با يك نمونه از </a:t>
                </a:r>
                <a:r>
                  <a:rPr b="1" lang="en-US" sz="1700" spc="-1" strike="noStrike">
                    <a:solidFill>
                      <a:srgbClr val="000099"/>
                    </a:solidFill>
                    <a:latin typeface="Times New Roman"/>
                    <a:ea typeface="Nazanin"/>
                  </a:rPr>
                  <a:t>B</a:t>
                </a:r>
                <a:r>
                  <a:rPr b="1" lang="ar-SA" sz="1700" spc="-1" strike="noStrike">
                    <a:solidFill>
                      <a:srgbClr val="000099"/>
                    </a:solidFill>
                    <a:latin typeface="Times New Roman"/>
                    <a:ea typeface="Nazanin"/>
                  </a:rPr>
                  <a:t> ارتباط دارد.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 rtl="1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5"/>
              <p:cNvSpPr/>
              <p:nvPr/>
            </p:nvSpPr>
            <p:spPr>
              <a:xfrm>
                <a:off x="4389120" y="2712960"/>
                <a:ext cx="1657440" cy="20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700" spc="-1" strike="noStrike">
                    <a:solidFill>
                      <a:srgbClr val="000099"/>
                    </a:solidFill>
                    <a:latin typeface="Times New Roman"/>
                    <a:cs typeface="Nazanin"/>
                  </a:rPr>
                  <a:t>يك نمونه از</a:t>
                </a:r>
                <a:r>
                  <a:rPr b="1" lang="en-US" sz="1700" spc="-1" strike="noStrike">
                    <a:solidFill>
                      <a:srgbClr val="000099"/>
                    </a:solidFill>
                    <a:latin typeface="Times New Roman"/>
                    <a:ea typeface="Nazanin"/>
                  </a:rPr>
                  <a:t> </a:t>
                </a:r>
                <a:r>
                  <a:rPr b="1" lang="en-US" sz="1700" spc="-1" strike="noStrike">
                    <a:solidFill>
                      <a:srgbClr val="000099"/>
                    </a:solidFill>
                    <a:latin typeface="Times New Roman"/>
                    <a:ea typeface="Nazanin"/>
                  </a:rPr>
                  <a:t>A</a:t>
                </a:r>
                <a:r>
                  <a:rPr b="1" lang="ar-SA" sz="1700" spc="-1" strike="noStrike">
                    <a:solidFill>
                      <a:srgbClr val="000099"/>
                    </a:solidFill>
                    <a:latin typeface="Times New Roman"/>
                    <a:ea typeface="Nazanin"/>
                  </a:rPr>
                  <a:t> هميشه با يك نمونه يا بيشتر از </a:t>
                </a:r>
                <a:r>
                  <a:rPr b="1" lang="en-US" sz="1700" spc="-1" strike="noStrike">
                    <a:solidFill>
                      <a:srgbClr val="000099"/>
                    </a:solidFill>
                    <a:latin typeface="Times New Roman"/>
                    <a:ea typeface="Nazanin"/>
                  </a:rPr>
                  <a:t>B</a:t>
                </a:r>
                <a:r>
                  <a:rPr b="1" lang="ar-SA" sz="1700" spc="-1" strike="noStrike">
                    <a:solidFill>
                      <a:srgbClr val="000099"/>
                    </a:solidFill>
                    <a:latin typeface="Times New Roman"/>
                    <a:ea typeface="Nazanin"/>
                  </a:rPr>
                  <a:t> ارتباط دارد.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 rtl="1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6"/>
              <p:cNvSpPr/>
              <p:nvPr/>
            </p:nvSpPr>
            <p:spPr>
              <a:xfrm>
                <a:off x="2732040" y="2712960"/>
                <a:ext cx="1657080" cy="20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700" spc="-1" strike="noStrike">
                    <a:solidFill>
                      <a:srgbClr val="000099"/>
                    </a:solidFill>
                    <a:latin typeface="Times New Roman"/>
                    <a:cs typeface="Nazanin"/>
                  </a:rPr>
                  <a:t>يك نمونه از</a:t>
                </a:r>
                <a:r>
                  <a:rPr b="1" lang="en-US" sz="1700" spc="-1" strike="noStrike">
                    <a:solidFill>
                      <a:srgbClr val="000099"/>
                    </a:solidFill>
                    <a:latin typeface="Times New Roman"/>
                    <a:ea typeface="Nazanin"/>
                  </a:rPr>
                  <a:t> </a:t>
                </a:r>
                <a:r>
                  <a:rPr b="1" lang="en-US" sz="1700" spc="-1" strike="noStrike">
                    <a:solidFill>
                      <a:srgbClr val="000099"/>
                    </a:solidFill>
                    <a:latin typeface="Times New Roman"/>
                    <a:ea typeface="Nazanin"/>
                  </a:rPr>
                  <a:t>A</a:t>
                </a:r>
                <a:r>
                  <a:rPr b="1" lang="ar-SA" sz="1700" spc="-1" strike="noStrike">
                    <a:solidFill>
                      <a:srgbClr val="000099"/>
                    </a:solidFill>
                    <a:latin typeface="Times New Roman"/>
                    <a:ea typeface="Nazanin"/>
                  </a:rPr>
                  <a:t> هميشه با هيچ يا فقط يك نمونه از </a:t>
                </a:r>
                <a:r>
                  <a:rPr b="1" lang="en-US" sz="1700" spc="-1" strike="noStrike">
                    <a:solidFill>
                      <a:srgbClr val="000099"/>
                    </a:solidFill>
                    <a:latin typeface="Times New Roman"/>
                    <a:ea typeface="Nazanin"/>
                  </a:rPr>
                  <a:t>B</a:t>
                </a:r>
                <a:r>
                  <a:rPr b="1" lang="ar-SA" sz="1700" spc="-1" strike="noStrike">
                    <a:solidFill>
                      <a:srgbClr val="000099"/>
                    </a:solidFill>
                    <a:latin typeface="Times New Roman"/>
                    <a:ea typeface="Nazanin"/>
                  </a:rPr>
                  <a:t> ارتباط دارد.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 rtl="1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7"/>
              <p:cNvSpPr/>
              <p:nvPr/>
            </p:nvSpPr>
            <p:spPr>
              <a:xfrm>
                <a:off x="1074600" y="2712960"/>
                <a:ext cx="1657440" cy="20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700" spc="-1" strike="noStrike">
                    <a:solidFill>
                      <a:srgbClr val="000099"/>
                    </a:solidFill>
                    <a:latin typeface="Times New Roman"/>
                    <a:cs typeface="Nazanin"/>
                  </a:rPr>
                  <a:t>يك نمونه از</a:t>
                </a:r>
                <a:r>
                  <a:rPr b="1" lang="en-US" sz="1700" spc="-1" strike="noStrike">
                    <a:solidFill>
                      <a:srgbClr val="000099"/>
                    </a:solidFill>
                    <a:latin typeface="Times New Roman"/>
                    <a:ea typeface="Nazanin"/>
                  </a:rPr>
                  <a:t> </a:t>
                </a:r>
                <a:r>
                  <a:rPr b="1" lang="en-US" sz="1700" spc="-1" strike="noStrike">
                    <a:solidFill>
                      <a:srgbClr val="000099"/>
                    </a:solidFill>
                    <a:latin typeface="Times New Roman"/>
                    <a:ea typeface="Nazanin"/>
                  </a:rPr>
                  <a:t>A</a:t>
                </a:r>
                <a:r>
                  <a:rPr b="1" lang="ar-SA" sz="1700" spc="-1" strike="noStrike">
                    <a:solidFill>
                      <a:srgbClr val="000099"/>
                    </a:solidFill>
                    <a:latin typeface="Times New Roman"/>
                    <a:ea typeface="Nazanin"/>
                  </a:rPr>
                  <a:t> هميشه با هيچ، يك نمونه، يا بيشتر از </a:t>
                </a:r>
                <a:r>
                  <a:rPr b="1" lang="en-US" sz="1700" spc="-1" strike="noStrike">
                    <a:solidFill>
                      <a:srgbClr val="000099"/>
                    </a:solidFill>
                    <a:latin typeface="Times New Roman"/>
                    <a:ea typeface="Nazanin"/>
                  </a:rPr>
                  <a:t>B</a:t>
                </a:r>
                <a:r>
                  <a:rPr b="1" lang="ar-SA" sz="1700" spc="-1" strike="noStrike">
                    <a:solidFill>
                      <a:srgbClr val="000099"/>
                    </a:solidFill>
                    <a:latin typeface="Times New Roman"/>
                    <a:ea typeface="Nazanin"/>
                  </a:rPr>
                  <a:t> ارتباط دارد.</a:t>
                </a: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 rtl="1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Line 18"/>
              <p:cNvSpPr/>
              <p:nvPr/>
            </p:nvSpPr>
            <p:spPr>
              <a:xfrm>
                <a:off x="1093680" y="3983040"/>
                <a:ext cx="6629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28" name="Group 19"/>
              <p:cNvGrpSpPr/>
              <p:nvPr/>
            </p:nvGrpSpPr>
            <p:grpSpPr>
              <a:xfrm>
                <a:off x="1074600" y="2687760"/>
                <a:ext cx="6629400" cy="2286000"/>
                <a:chOff x="1074600" y="2687760"/>
                <a:chExt cx="6629400" cy="2286000"/>
              </a:xfrm>
            </p:grpSpPr>
            <p:sp>
              <p:nvSpPr>
                <p:cNvPr id="329" name="Line 20"/>
                <p:cNvSpPr/>
                <p:nvPr/>
              </p:nvSpPr>
              <p:spPr>
                <a:xfrm>
                  <a:off x="1074600" y="2701800"/>
                  <a:ext cx="66294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21"/>
                <p:cNvSpPr/>
                <p:nvPr/>
              </p:nvSpPr>
              <p:spPr>
                <a:xfrm>
                  <a:off x="1074600" y="4973760"/>
                  <a:ext cx="66294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22"/>
                <p:cNvSpPr/>
                <p:nvPr/>
              </p:nvSpPr>
              <p:spPr>
                <a:xfrm>
                  <a:off x="1074600" y="2701800"/>
                  <a:ext cx="0" cy="22719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23"/>
                <p:cNvSpPr/>
                <p:nvPr/>
              </p:nvSpPr>
              <p:spPr>
                <a:xfrm>
                  <a:off x="2732040" y="2687760"/>
                  <a:ext cx="0" cy="227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24"/>
                <p:cNvSpPr/>
                <p:nvPr/>
              </p:nvSpPr>
              <p:spPr>
                <a:xfrm>
                  <a:off x="4389120" y="2687760"/>
                  <a:ext cx="0" cy="227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25"/>
                <p:cNvSpPr/>
                <p:nvPr/>
              </p:nvSpPr>
              <p:spPr>
                <a:xfrm>
                  <a:off x="6046560" y="2687760"/>
                  <a:ext cx="0" cy="227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5" name="Line 26"/>
                <p:cNvSpPr/>
                <p:nvPr/>
              </p:nvSpPr>
              <p:spPr>
                <a:xfrm>
                  <a:off x="7704000" y="2701800"/>
                  <a:ext cx="0" cy="22719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36" name="Rectangle 27"/>
          <p:cNvSpPr/>
          <p:nvPr/>
        </p:nvSpPr>
        <p:spPr>
          <a:xfrm>
            <a:off x="6014880" y="1641600"/>
            <a:ext cx="27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جه وابستگ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F3E9-872B-432B-8DA9-8155ADDD732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رابطه تجمعي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468360" y="1773360"/>
            <a:ext cx="79246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ea typeface="Nazanin"/>
              </a:rPr>
              <a:t>” 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Nazanin"/>
              </a:rPr>
              <a:t>زماني كه يك كلاس از تلفيق تعدادي كلاس ديگر تشكيل گردد، اين رابطه را تجمعي گويند </a:t>
            </a:r>
            <a:r>
              <a:rPr b="0" lang="ar-SA" sz="2800" spc="-1" strike="noStrike">
                <a:solidFill>
                  <a:srgbClr val="000066"/>
                </a:solidFill>
                <a:latin typeface="Times New Roman"/>
                <a:ea typeface="Nazanin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990720" y="3505320"/>
            <a:ext cx="69912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Nazanin"/>
              </a:rPr>
              <a:t>PART-OF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پايين به بال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Nazanin"/>
              </a:rPr>
              <a:t>HAS-A</a:t>
            </a:r>
            <a:r>
              <a:rPr b="1" lang="fa-IR" sz="2800" spc="-1" strike="noStrike">
                <a:solidFill>
                  <a:srgbClr val="ff0000"/>
                </a:solidFill>
                <a:latin typeface="Times New Roman"/>
                <a:ea typeface="Nazani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بالا به پايي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براي مثال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4eb5"/>
                </a:solidFill>
                <a:latin typeface="Times New Roman"/>
                <a:ea typeface="Nazanin"/>
              </a:rPr>
              <a:t>A P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Nazanin"/>
              </a:rPr>
              <a:t>HAS-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en-US" sz="2400" spc="-1" strike="noStrike">
                <a:solidFill>
                  <a:srgbClr val="4b4eb5"/>
                </a:solidFill>
                <a:latin typeface="Times New Roman"/>
                <a:ea typeface="Nazanin"/>
              </a:rPr>
              <a:t>Key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4eb5"/>
                </a:solidFill>
                <a:latin typeface="Times New Roman"/>
                <a:ea typeface="Nazanin"/>
              </a:rPr>
              <a:t>A Monitor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Nazanin"/>
              </a:rPr>
              <a:t>PART-O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en-US" sz="2400" spc="-1" strike="noStrike">
                <a:solidFill>
                  <a:srgbClr val="4b4eb5"/>
                </a:solidFill>
                <a:latin typeface="Times New Roman"/>
                <a:ea typeface="Nazanin"/>
              </a:rPr>
              <a:t>a 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E0FC-9428-4C83-9CF5-57E4F2288CF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رابطه تجمعي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43" name="Object 6"/>
          <p:cNvGraphicFramePr/>
          <p:nvPr/>
        </p:nvGraphicFramePr>
        <p:xfrm>
          <a:off x="539640" y="2133720"/>
          <a:ext cx="8077320" cy="37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33720"/>
                    <a:ext cx="8077320" cy="37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832B-A4FB-4663-88C0-4C0F1EE75D0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رابطه عام/خاص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يك رابطه طبق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بندي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Taxonomic Relationship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بين يك عنصر عمو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ر و يك عنصر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خاص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ر به طوريكه عنصر خاص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ر ساختار و/يا رفتار عنصر عمومي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ر را به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ارث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برده و علاوه بر آن از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ويژگيها و/يا رفتارهاي اضافي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برخوردار اس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609480" y="4076640"/>
            <a:ext cx="807732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Nazanin"/>
              </a:rPr>
              <a:t>IS-A / Generalized-to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Nazani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پايين به بال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Nazanin"/>
              </a:rPr>
              <a:t>Specialized-to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Nazani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بالا به پايي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براي مثا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4eb5"/>
                </a:solidFill>
                <a:latin typeface="Times New Roman"/>
                <a:ea typeface="Nazanin"/>
              </a:rPr>
              <a:t>The Hourly Employ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Nazanin"/>
              </a:rPr>
              <a:t>IS-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en-US" sz="2400" spc="-1" strike="noStrike">
                <a:solidFill>
                  <a:srgbClr val="4b4eb5"/>
                </a:solidFill>
                <a:latin typeface="Times New Roman"/>
                <a:ea typeface="Nazani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4eb5"/>
                </a:solidFill>
                <a:latin typeface="Times New Roman"/>
                <a:ea typeface="Nazanin"/>
              </a:rPr>
              <a:t>A Full-Time Employee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Nazanin"/>
              </a:rPr>
              <a:t>Specialized-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en-US" sz="2400" spc="-1" strike="noStrike">
                <a:solidFill>
                  <a:srgbClr val="4b4eb5"/>
                </a:solidFill>
                <a:latin typeface="Times New Roman"/>
                <a:ea typeface="Nazani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5"/>
          <p:cNvSpPr/>
          <p:nvPr/>
        </p:nvSpPr>
        <p:spPr>
          <a:xfrm flipV="1">
            <a:off x="5508720" y="427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4729320" y="4713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DB30-D8DE-42AA-AABF-C8792914E94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رابطه عام/خاص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در وراث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كلاس فرزند يك تخصيص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pecialization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از كلاس پدر را نمايش داده، و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همزمان كلاس پدر يك تعميم (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Generalization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) از كلاس فرزند به حساب 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آي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انواع وراثت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وراثت يگانه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Single Inheritance</a:t>
            </a: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براي هر زير كلاس فقط يك كلاس پدر وجود دار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وراثت چندگانه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Multiple Inheritance</a:t>
            </a: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يك زير كلاس از دو كلاس يا بيشتر ارث مي</a:t>
            </a:r>
            <a:r>
              <a:rPr b="1" lang="fa-IR" sz="26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بر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CC2A-BD2C-416F-AA0A-616A1064779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رابطه عام/خاص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3260520" y="155736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مثال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: انواع كارمند </a:t>
            </a:r>
            <a:r>
              <a:rPr b="1" lang="ar-SA" sz="2800" spc="-1" strike="noStrike">
                <a:solidFill>
                  <a:srgbClr val="4b4eb5"/>
                </a:solidFill>
                <a:latin typeface="Times New Roman"/>
                <a:ea typeface="Nazanin"/>
              </a:rPr>
              <a:t>(وراثت يگانه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7" name="Object 5"/>
          <p:cNvGraphicFramePr/>
          <p:nvPr/>
        </p:nvGraphicFramePr>
        <p:xfrm>
          <a:off x="539640" y="2390760"/>
          <a:ext cx="774720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390760"/>
                    <a:ext cx="77472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Line 6"/>
          <p:cNvSpPr/>
          <p:nvPr/>
        </p:nvSpPr>
        <p:spPr>
          <a:xfrm>
            <a:off x="2673360" y="2314440"/>
            <a:ext cx="1676520" cy="30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768240" y="20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Arial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8"/>
          <p:cNvSpPr/>
          <p:nvPr/>
        </p:nvSpPr>
        <p:spPr>
          <a:xfrm flipV="1">
            <a:off x="3816360" y="5590800"/>
            <a:ext cx="1295280" cy="30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1911240" y="57434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Arial"/>
              </a:rPr>
              <a:t>Sub-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D255-C4B3-4956-9C51-61E342A4D9B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رابطه عام/خاص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2882880" y="1557360"/>
            <a:ext cx="66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مثال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: انواع كارمند </a:t>
            </a:r>
            <a:r>
              <a:rPr b="1" lang="ar-SA" sz="2800" spc="-1" strike="noStrike">
                <a:solidFill>
                  <a:srgbClr val="4b4eb5"/>
                </a:solidFill>
                <a:latin typeface="Times New Roman"/>
                <a:ea typeface="Nazanin"/>
              </a:rPr>
              <a:t>(وراثت چندگانه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6" name="Object 5"/>
          <p:cNvGraphicFramePr/>
          <p:nvPr/>
        </p:nvGraphicFramePr>
        <p:xfrm>
          <a:off x="646200" y="2349360"/>
          <a:ext cx="7238880" cy="434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2349360"/>
                    <a:ext cx="7238880" cy="43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90BE-C180-4711-9ABF-85A1C68A10E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رابطه عام/خاص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70" name="Object 4"/>
          <p:cNvGraphicFramePr/>
          <p:nvPr/>
        </p:nvGraphicFramePr>
        <p:xfrm>
          <a:off x="660240" y="1916280"/>
          <a:ext cx="45579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1916280"/>
                    <a:ext cx="4557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Rectangle 5"/>
          <p:cNvSpPr/>
          <p:nvPr/>
        </p:nvSpPr>
        <p:spPr>
          <a:xfrm>
            <a:off x="2869560" y="1569960"/>
            <a:ext cx="66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مثال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: انواع كارمند </a:t>
            </a:r>
            <a:r>
              <a:rPr b="1" lang="ar-SA" sz="2800" spc="-1" strike="noStrike">
                <a:solidFill>
                  <a:srgbClr val="4b4eb5"/>
                </a:solidFill>
                <a:latin typeface="Times New Roman"/>
                <a:ea typeface="Nazanin"/>
              </a:rPr>
              <a:t>(وراثت چندگانه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65B1-1ADA-464C-B75C-8D7BADBF1CD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 rtl="1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000" spc="-1" strike="noStrike">
                <a:solidFill>
                  <a:srgbClr val="000099"/>
                </a:solidFill>
                <a:latin typeface="Times New Roman"/>
              </a:rPr>
              <a:t>پرسش و پاسخ</a:t>
            </a:r>
            <a:endParaRPr b="1" lang="en-US" sz="9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1FB9-E2EB-4AC9-B0E9-32AADC76F1D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فهرست مطالب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شئ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تعريف كلاس 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كانيزم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ارتباط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بين اشياء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رابطه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بين كلاس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910E-95AA-44F3-A36A-6E43ADB5331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شئ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Object</a:t>
            </a: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يك مفهوم كلي است بگونه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اي كه داراي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هويت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بوده و قادر به بروز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رفتار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و ثبت </a:t>
            </a:r>
            <a:r>
              <a:rPr b="1" lang="ar-SA" sz="3000" spc="-1" strike="noStrike">
                <a:solidFill>
                  <a:srgbClr val="cc3300"/>
                </a:solidFill>
                <a:latin typeface="Times New Roman"/>
              </a:rPr>
              <a:t>حالات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 (وضعيت) خود باشد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979640" y="2852640"/>
            <a:ext cx="4876920" cy="4254480"/>
            <a:chOff x="1979640" y="2852640"/>
            <a:chExt cx="4876920" cy="4254480"/>
          </a:xfrm>
        </p:grpSpPr>
        <p:pic>
          <p:nvPicPr>
            <p:cNvPr id="113" name="Picture 5" descr=""/>
            <p:cNvPicPr/>
            <p:nvPr/>
          </p:nvPicPr>
          <p:blipFill>
            <a:blip r:embed="rId1"/>
            <a:stretch/>
          </p:blipFill>
          <p:spPr>
            <a:xfrm>
              <a:off x="1979640" y="2852640"/>
              <a:ext cx="48769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6"/>
            <p:cNvSpPr/>
            <p:nvPr/>
          </p:nvSpPr>
          <p:spPr>
            <a:xfrm>
              <a:off x="5180040" y="6281640"/>
              <a:ext cx="990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هويت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2284560" y="6281640"/>
              <a:ext cx="762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حالت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3427560" y="628164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4b4eb5"/>
                  </a:solidFill>
                  <a:latin typeface="Times New Roman"/>
                  <a:cs typeface="Nazanin"/>
                </a:rPr>
                <a:t>رفتار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B9C2-174B-45CB-9A66-89E215B297B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ش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ويت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Identity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آن ويژگي از يك شئ است كه آنرا از بقيه اشياء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متمايز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مي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ساز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حالت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te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حالت يك شئ دربردارنده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تمام خواص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آن شئ و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مقادير جار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آنها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است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 algn="r" rtl="1">
              <a:lnSpc>
                <a:spcPct val="12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رفتار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Behavior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) 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 algn="r" rtl="1">
              <a:lnSpc>
                <a:spcPct val="12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چگونگي 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عمل و عكس</a:t>
            </a:r>
            <a:r>
              <a:rPr b="1" lang="fa-IR" sz="2600" spc="-1" strike="noStrike">
                <a:solidFill>
                  <a:srgbClr val="cc3300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cc3300"/>
                </a:solidFill>
                <a:latin typeface="Times New Roman"/>
              </a:rPr>
              <a:t>العمل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يك ش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در مقابل دريافت و يا ارسال پيام</a:t>
            </a:r>
            <a:r>
              <a:rPr b="1" lang="fa-IR" sz="2600" spc="-1" strike="noStrike">
                <a:solidFill>
                  <a:srgbClr val="000099"/>
                </a:solidFill>
                <a:latin typeface="Times New Roman"/>
              </a:rPr>
              <a:t> دارد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3B65-D02A-4B5F-9015-E0B5D9791A2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ش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ثال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ي از اشياء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639000" indent="-24552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موجوديت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هاي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خارج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سيستم</a:t>
            </a:r>
            <a:r>
              <a:rPr b="1" lang="fa-IR" sz="26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هاي بروني، دستگاه</a:t>
            </a:r>
            <a:r>
              <a:rPr b="1" lang="fa-IR" sz="26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ها و مردم توليدكننده يا مصرف كننده اطلاعات، ...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39000" indent="-24552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موجوديت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هاي اطلاعات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انواع فايل</a:t>
            </a:r>
            <a:r>
              <a:rPr b="1" lang="fa-IR" sz="26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ها، مستندات، ...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39000" indent="-24552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مفاهيم منطق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دانشگاه، كلاس درس، دوره آموزشي، ...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39000" indent="-24552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نقش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هاي انسان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مشتري، تحليلگر، معمار نرم</a:t>
            </a:r>
            <a:r>
              <a:rPr b="1" lang="fa-IR" sz="2600" spc="-1" strike="noStrike">
                <a:solidFill>
                  <a:srgbClr val="0033cc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افزار، ...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639000" indent="0" algn="r" rtl="1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7E67-50AF-42CE-944B-6792D5DB692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ش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ثال</a:t>
            </a:r>
            <a:r>
              <a:rPr b="1" lang="fa-IR" sz="3000" spc="-1" strike="noStrike">
                <a:solidFill>
                  <a:srgbClr val="000099"/>
                </a:solidFill>
                <a:latin typeface="Times New Roman"/>
              </a:rPr>
              <a:t>‌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هايي از اشياء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واحدهاي سازمان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اداره </a:t>
            </a:r>
            <a:r>
              <a:rPr b="1" lang="fa-IR" sz="2600" spc="-1" strike="noStrike">
                <a:solidFill>
                  <a:srgbClr val="0033cc"/>
                </a:solidFill>
                <a:latin typeface="Times New Roman"/>
              </a:rPr>
              <a:t>آ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موزش، امور مالي، ...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مكان</a:t>
            </a:r>
            <a:r>
              <a:rPr b="1" lang="fa-IR" sz="2600" spc="-1" strike="noStrike">
                <a:solidFill>
                  <a:srgbClr val="000066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هاي فيزيكي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لابراتور زبان، آزمايشگاه شيمي، ...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ابزارآلات و اسباب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ar-SA" sz="2600" spc="-1" strike="noStrike">
                <a:solidFill>
                  <a:srgbClr val="0033cc"/>
                </a:solidFill>
                <a:latin typeface="Times New Roman"/>
              </a:rPr>
              <a:t>موتورسيكلت، انبردست، صندلي، ...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26920" y="4797360"/>
            <a:ext cx="7543800" cy="1629720"/>
          </a:xfrm>
          <a:prstGeom prst="rect">
            <a:avLst/>
          </a:prstGeom>
          <a:solidFill>
            <a:srgbClr val="ccff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براساس تعريف قبل مفاهيمي مانند 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Nazanin"/>
              </a:rPr>
              <a:t>عمل، صفت و زمان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 نمونه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هايي از موجوديت</a:t>
            </a:r>
            <a:r>
              <a:rPr b="1" lang="fa-IR" sz="2400" spc="-1" strike="noStrike">
                <a:solidFill>
                  <a:srgbClr val="0033cc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0033cc"/>
                </a:solidFill>
                <a:latin typeface="Times New Roman"/>
                <a:cs typeface="Nazanin"/>
              </a:rPr>
              <a:t>هايي هستند كه </a:t>
            </a:r>
            <a:r>
              <a:rPr b="1" lang="ar-SA" sz="2400" spc="-1" strike="noStrike">
                <a:solidFill>
                  <a:srgbClr val="4b4eb5"/>
                </a:solidFill>
                <a:latin typeface="Times New Roman"/>
                <a:cs typeface="Nazanin"/>
              </a:rPr>
              <a:t>يك شئ محسوب نمي</a:t>
            </a:r>
            <a:r>
              <a:rPr b="1" lang="fa-IR" sz="2400" spc="-1" strike="noStrike">
                <a:solidFill>
                  <a:srgbClr val="4b4eb5"/>
                </a:solidFill>
                <a:latin typeface="Times New Roman"/>
                <a:ea typeface="Nazanin"/>
              </a:rPr>
              <a:t>‌</a:t>
            </a:r>
            <a:r>
              <a:rPr b="1" lang="ar-SA" sz="2400" spc="-1" strike="noStrike">
                <a:solidFill>
                  <a:srgbClr val="4b4eb5"/>
                </a:solidFill>
                <a:latin typeface="Times New Roman"/>
                <a:cs typeface="Nazanin"/>
              </a:rPr>
              <a:t>شون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9969-A1E7-4EFE-A5F6-34C1D1F5F99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ش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مثال 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ar-SA" sz="3000" spc="-1" strike="noStrike">
                <a:solidFill>
                  <a:srgbClr val="000099"/>
                </a:solidFill>
                <a:latin typeface="Times New Roman"/>
              </a:rPr>
              <a:t>: كتاب الف</a:t>
            </a:r>
            <a:endParaRPr b="1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هويت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كتاب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حالت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اطلاعات فهرست</a:t>
            </a:r>
            <a:r>
              <a:rPr b="1" lang="fa-IR" sz="2600" spc="-1" strike="noStrike">
                <a:solidFill>
                  <a:srgbClr val="4b4eb5"/>
                </a:solidFill>
                <a:latin typeface="Times New Roman"/>
              </a:rPr>
              <a:t>‌</a:t>
            </a: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نويسي، مكان نگهداري فيزيكي، وضعيت فعلي</a:t>
            </a:r>
            <a:r>
              <a:rPr b="1" lang="fa-IR" sz="2600" spc="-1" strike="noStrike">
                <a:solidFill>
                  <a:srgbClr val="4b4eb5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(امانت/رزرو/آزاد)، ...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4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Times New Roman"/>
              </a:rPr>
              <a:t>رفتار</a:t>
            </a:r>
            <a:r>
              <a:rPr b="1" lang="ar-SA" sz="26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ar-SA" sz="2600" spc="-1" strike="noStrike">
                <a:solidFill>
                  <a:srgbClr val="4b4eb5"/>
                </a:solidFill>
                <a:latin typeface="Times New Roman"/>
              </a:rPr>
              <a:t>ثبت اطلاعات كتاب، جستجو، سفارش دادن براي خريد، ...</a:t>
            </a: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990720" y="4714920"/>
            <a:ext cx="7086600" cy="1691280"/>
            <a:chOff x="990720" y="4714920"/>
            <a:chExt cx="7086600" cy="1691280"/>
          </a:xfrm>
        </p:grpSpPr>
        <p:sp>
          <p:nvSpPr>
            <p:cNvPr id="131" name="Rectangle 5"/>
            <p:cNvSpPr/>
            <p:nvPr/>
          </p:nvSpPr>
          <p:spPr>
            <a:xfrm>
              <a:off x="1371600" y="4714920"/>
              <a:ext cx="6324480" cy="13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>
              <a:off x="990720" y="5214960"/>
              <a:ext cx="7086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ff00"/>
                  </a:solidFill>
                  <a:latin typeface="Times New Roman"/>
                  <a:cs typeface="Homa"/>
                </a:rPr>
                <a:t>الگوريتم ها + ساختمان داده</a:t>
              </a:r>
              <a:r>
                <a:rPr b="0" lang="fa-IR" sz="3600" spc="-1" strike="noStrike">
                  <a:solidFill>
                    <a:srgbClr val="ffff00"/>
                  </a:solidFill>
                  <a:latin typeface="Times New Roman"/>
                  <a:ea typeface="Homa"/>
                </a:rPr>
                <a:t>‌</a:t>
              </a:r>
              <a:r>
                <a:rPr b="0" lang="ar-SA" sz="3600" spc="-1" strike="noStrike">
                  <a:solidFill>
                    <a:srgbClr val="ffff00"/>
                  </a:solidFill>
                  <a:latin typeface="Times New Roman"/>
                  <a:cs typeface="Homa"/>
                </a:rPr>
                <a:t>ها = شئ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250920" y="64008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C864-3975-4BF1-8A00-D878FE20461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88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</a:rPr>
              <a:t>شي </a:t>
            </a: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(ادامه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1663560" y="3492360"/>
            <a:ext cx="6400440" cy="1980720"/>
            <a:chOff x="1663560" y="3492360"/>
            <a:chExt cx="6400440" cy="1980720"/>
          </a:xfrm>
        </p:grpSpPr>
        <p:grpSp>
          <p:nvGrpSpPr>
            <p:cNvPr id="136" name="Group 5"/>
            <p:cNvGrpSpPr/>
            <p:nvPr/>
          </p:nvGrpSpPr>
          <p:grpSpPr>
            <a:xfrm>
              <a:off x="5092560" y="3492360"/>
              <a:ext cx="2918880" cy="456840"/>
              <a:chOff x="5092560" y="3492360"/>
              <a:chExt cx="2918880" cy="456840"/>
            </a:xfrm>
          </p:grpSpPr>
          <p:sp>
            <p:nvSpPr>
              <p:cNvPr id="137" name="Rectangle 6"/>
              <p:cNvSpPr/>
              <p:nvPr/>
            </p:nvSpPr>
            <p:spPr>
              <a:xfrm>
                <a:off x="5092560" y="3492360"/>
                <a:ext cx="2918880" cy="456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Text Box 7"/>
              <p:cNvSpPr/>
              <p:nvPr/>
            </p:nvSpPr>
            <p:spPr>
              <a:xfrm>
                <a:off x="5286600" y="3562560"/>
                <a:ext cx="2538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Operating Systems (101)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9" name="Group 8"/>
            <p:cNvGrpSpPr/>
            <p:nvPr/>
          </p:nvGrpSpPr>
          <p:grpSpPr>
            <a:xfrm>
              <a:off x="5163840" y="4178160"/>
              <a:ext cx="2846160" cy="456840"/>
              <a:chOff x="5163840" y="4178160"/>
              <a:chExt cx="2846160" cy="456840"/>
            </a:xfrm>
          </p:grpSpPr>
          <p:sp>
            <p:nvSpPr>
              <p:cNvPr id="140" name="Rectangle 9"/>
              <p:cNvSpPr/>
              <p:nvPr/>
            </p:nvSpPr>
            <p:spPr>
              <a:xfrm>
                <a:off x="5163840" y="4178160"/>
                <a:ext cx="2846160" cy="456840"/>
              </a:xfrm>
              <a:prstGeom prst="rect">
                <a:avLst/>
              </a:prstGeom>
              <a:solidFill>
                <a:srgbClr val="ccff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Text Box 10"/>
              <p:cNvSpPr/>
              <p:nvPr/>
            </p:nvSpPr>
            <p:spPr>
              <a:xfrm>
                <a:off x="5230800" y="4248360"/>
                <a:ext cx="2711880" cy="274680"/>
              </a:xfrm>
              <a:prstGeom prst="rect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Software Engineering(110)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2" name="Group 11"/>
            <p:cNvGrpSpPr/>
            <p:nvPr/>
          </p:nvGrpSpPr>
          <p:grpSpPr>
            <a:xfrm>
              <a:off x="5168520" y="4939920"/>
              <a:ext cx="2895480" cy="456840"/>
              <a:chOff x="5168520" y="4939920"/>
              <a:chExt cx="2895480" cy="456840"/>
            </a:xfrm>
          </p:grpSpPr>
          <p:sp>
            <p:nvSpPr>
              <p:cNvPr id="143" name="Rectangle 12"/>
              <p:cNvSpPr/>
              <p:nvPr/>
            </p:nvSpPr>
            <p:spPr>
              <a:xfrm>
                <a:off x="5168520" y="4939920"/>
                <a:ext cx="2895480" cy="456840"/>
              </a:xfrm>
              <a:prstGeom prst="rect">
                <a:avLst/>
              </a:prstGeom>
              <a:solidFill>
                <a:srgbClr val="ccff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Text Box 13"/>
              <p:cNvSpPr/>
              <p:nvPr/>
            </p:nvSpPr>
            <p:spPr>
              <a:xfrm>
                <a:off x="5259960" y="5010120"/>
                <a:ext cx="2711880" cy="274680"/>
              </a:xfrm>
              <a:prstGeom prst="rect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Software Engineering(110)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5" name="Group 14"/>
            <p:cNvGrpSpPr/>
            <p:nvPr/>
          </p:nvGrpSpPr>
          <p:grpSpPr>
            <a:xfrm>
              <a:off x="1739520" y="4254120"/>
              <a:ext cx="2438280" cy="456840"/>
              <a:chOff x="1739520" y="4254120"/>
              <a:chExt cx="2438280" cy="456840"/>
            </a:xfrm>
          </p:grpSpPr>
          <p:sp>
            <p:nvSpPr>
              <p:cNvPr id="146" name="Rectangle 15"/>
              <p:cNvSpPr/>
              <p:nvPr/>
            </p:nvSpPr>
            <p:spPr>
              <a:xfrm>
                <a:off x="1739520" y="4254120"/>
                <a:ext cx="2438280" cy="456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Text Box 16"/>
              <p:cNvSpPr/>
              <p:nvPr/>
            </p:nvSpPr>
            <p:spPr>
              <a:xfrm>
                <a:off x="1899000" y="4324320"/>
                <a:ext cx="2119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Data Structures</a:t>
                </a:r>
                <a:r>
                  <a:rPr b="0" lang="ar-SA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)</a:t>
                </a: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200</a:t>
                </a:r>
                <a:r>
                  <a:rPr b="0" lang="ar-SA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8" name="Group 17"/>
            <p:cNvGrpSpPr/>
            <p:nvPr/>
          </p:nvGrpSpPr>
          <p:grpSpPr>
            <a:xfrm>
              <a:off x="1663560" y="5016240"/>
              <a:ext cx="2514240" cy="456840"/>
              <a:chOff x="1663560" y="5016240"/>
              <a:chExt cx="2514240" cy="456840"/>
            </a:xfrm>
          </p:grpSpPr>
          <p:sp>
            <p:nvSpPr>
              <p:cNvPr id="149" name="Rectangle 18"/>
              <p:cNvSpPr/>
              <p:nvPr/>
            </p:nvSpPr>
            <p:spPr>
              <a:xfrm>
                <a:off x="1663560" y="5016240"/>
                <a:ext cx="2514240" cy="456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Text Box 19"/>
              <p:cNvSpPr/>
              <p:nvPr/>
            </p:nvSpPr>
            <p:spPr>
              <a:xfrm>
                <a:off x="1749240" y="5086440"/>
                <a:ext cx="2344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Database Design </a:t>
                </a:r>
                <a:r>
                  <a:rPr b="0" lang="ar-SA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)</a:t>
                </a: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110</a:t>
                </a:r>
                <a:r>
                  <a:rPr b="0" lang="ar-SA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1" name="Group 20"/>
            <p:cNvGrpSpPr/>
            <p:nvPr/>
          </p:nvGrpSpPr>
          <p:grpSpPr>
            <a:xfrm>
              <a:off x="1739520" y="3492360"/>
              <a:ext cx="2438280" cy="456840"/>
              <a:chOff x="1739520" y="3492360"/>
              <a:chExt cx="2438280" cy="456840"/>
            </a:xfrm>
          </p:grpSpPr>
          <p:sp>
            <p:nvSpPr>
              <p:cNvPr id="152" name="Rectangle 21"/>
              <p:cNvSpPr/>
              <p:nvPr/>
            </p:nvSpPr>
            <p:spPr>
              <a:xfrm>
                <a:off x="1739520" y="3492360"/>
                <a:ext cx="2438280" cy="456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Text Box 22"/>
              <p:cNvSpPr/>
              <p:nvPr/>
            </p:nvSpPr>
            <p:spPr>
              <a:xfrm>
                <a:off x="2093760" y="3562560"/>
                <a:ext cx="1729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Intro to OO </a:t>
                </a:r>
                <a:r>
                  <a:rPr b="0" lang="ar-SA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)</a:t>
                </a: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180</a:t>
                </a:r>
                <a:r>
                  <a:rPr b="0" lang="ar-SA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4" name="Text Box 23"/>
          <p:cNvSpPr/>
          <p:nvPr/>
        </p:nvSpPr>
        <p:spPr>
          <a:xfrm>
            <a:off x="1332000" y="1628640"/>
            <a:ext cx="69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Nazanin"/>
              </a:rPr>
              <a:t>مثال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Nazanin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Nazanin"/>
              </a:rPr>
              <a:t>: </a:t>
            </a:r>
            <a:r>
              <a:rPr b="1" lang="ar-SA" sz="3200" spc="-1" strike="noStrike">
                <a:solidFill>
                  <a:srgbClr val="4b4eb5"/>
                </a:solidFill>
                <a:latin typeface="Times New Roman"/>
                <a:cs typeface="Nazanin"/>
              </a:rPr>
              <a:t>درس</a:t>
            </a:r>
            <a:r>
              <a:rPr b="1" lang="fa-IR" sz="3200" spc="-1" strike="noStrike">
                <a:solidFill>
                  <a:srgbClr val="4b4eb5"/>
                </a:solidFill>
                <a:latin typeface="Times New Roman"/>
                <a:ea typeface="Nazanin"/>
              </a:rPr>
              <a:t>‌</a:t>
            </a:r>
            <a:r>
              <a:rPr b="1" lang="ar-SA" sz="3200" spc="-1" strike="noStrike">
                <a:solidFill>
                  <a:srgbClr val="4b4eb5"/>
                </a:solidFill>
                <a:latin typeface="Times New Roman"/>
                <a:cs typeface="Nazanin"/>
              </a:rPr>
              <a:t>هاي رشته كامپيوت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4:13:32Z</dcterms:created>
  <dc:creator>Fereidoon Shams</dc:creator>
  <dc:description/>
  <dc:language>en-US</dc:language>
  <cp:lastModifiedBy>Administrator</cp:lastModifiedBy>
  <dcterms:modified xsi:type="dcterms:W3CDTF">2011-10-06T09:21:48Z</dcterms:modified>
  <cp:revision>591</cp:revision>
  <dc:subject/>
  <dc:title>PowerPoint Presentation</dc:title>
</cp:coreProperties>
</file>