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CD4D-8F55-40AE-84E6-BA4176720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E0B9-AD05-4F73-929D-1349FA1FA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8545-043D-4C9F-B7C5-D6A75EA81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2538-524F-443D-886F-36418C82A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D3A26-2AD7-4142-9B6C-8C7EAEEF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6A73E-472B-4712-93E3-6ED3A58C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60AB7-4A7F-4E12-ADA3-8B49FC43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D8E12-01B2-4ACB-94E8-6C7019C9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38C57-29FF-4A93-AB32-EB7C6971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928FD-49DD-4725-A51C-11C89E6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2F4CC-B0FF-45E1-BFCD-C8AC4E1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6B85-9AA1-4BD9-9750-750AF8BE2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E725-A13C-4E40-9A5B-95FE1335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D5703-F53E-45E4-B37B-2CA752C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DEAA1-6BFA-4B0D-94D0-8E807368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B203D-3DB2-4ED0-929D-CAF135BF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152F1-19BA-45E0-A31D-10AEF41C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E1FC-631E-4D15-888D-1305BD2AB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5CF0-A813-4BF0-ACE3-CA10E5681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DB7B-6703-46E8-A7CE-FB6EBB535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E901-DF19-49FF-A876-B0563ADED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995B-C5D6-4BFA-A1B6-046CBF436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2F88-BAB7-41C4-BA43-754F7FCE3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6A54-8E0F-40F2-893D-6BDD05199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316B-07AE-4CE1-92F1-6C842EDDA63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046-BC0B-4A7E-9EF1-6D425E47595C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مهندسي و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502800" y="2205000"/>
            <a:ext cx="22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سيز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345A-226D-43A1-87E3-BCCF5051558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بقه‌بندي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Informational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اطلاعات آنها توسط کاربران خوانده مي‌شود و قابليت حرکت بر روي صفحات خود را دارا مي‌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Download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کاربر مي‌تواند اطلاعات و يا فايل‌ها را از سرويس‌دهنده اختصاص داده شده، 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Download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 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ustomizable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کاربر مي‌تواند زمينه وب سايت را براي خود سفارشي 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3609-B351-4306-BCE3-569A25163AD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بقه‌بندي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SimSun"/>
              </a:rPr>
              <a:t>Interaction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بين مجموعه‌اي از کاربران از طريق 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Chartroom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، 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bulletin board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 و 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instant messaging</a:t>
            </a:r>
            <a:r>
              <a:rPr b="1" lang="ar-SA" sz="2400" spc="-1" strike="noStrike">
                <a:solidFill>
                  <a:srgbClr val="336600"/>
                </a:solidFill>
                <a:latin typeface="Times New Roman"/>
              </a:rPr>
              <a:t> تعامل وجود دارد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User input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برپايه فرم بوده و اطلاعات کاربران را جمع‌آوري و به سرويس‌دهنده ارسال مي‌نما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Transaction-oriented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کاربر درخواستي به نرم‌افزار مبتني بر وب ارائه مي‌دهد و نرم‌افزار به آن پاسخ مي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92E9-393B-47AE-944C-2F92972E7D4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بقه‌بندي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SimSun"/>
              </a:rPr>
              <a:t>Service-oriented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نرم‌افزار خدماتي را براي کاربران فراهم مي‌آورد، به عنوان نمونه: کمک به کاربر در انتخاب مسير پرواز مناسب، ارائه خدمات خبري و اطلاع‌رساني، ويرايش متن به‌صورت آنلاين توسط کاربران مختلف و نظاير آ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Portal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نرم‌افزار مي‌تواند کاربران را به مطالب مناسب و خدماتي که خارج وب‌سايت قرار دارند، هدايت 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092E-0824-4946-A91F-2089768C497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بقه‌بندي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SimSun"/>
              </a:rPr>
              <a:t>Database access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کاربر مي‌تواند پرس‌و جوهايي را روي پايگاه‌داده‌ها انجام مي‌دهد و اطلاعات مورد نياز خود را از آن استخراج مي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ata warehousing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کاربر مي‌تواند اطلاعات مورد نياز خود را از بين مجموعه وسيعي از پايگاه‌هاي داده‌اي استخراج 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FC0C-6B82-47A7-B3CE-C26F6A3B1CA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فرآيند توسعه نرم‌افزارهاي مبتني بر وب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رآيند توسعه بايد شام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00"/>
                </a:solidFill>
                <a:latin typeface="Times New Roman"/>
              </a:rPr>
              <a:t>تحول افزايشي (</a:t>
            </a:r>
            <a:r>
              <a:rPr b="1" i="1" lang="en-US" sz="1800" spc="-1" strike="noStrike">
                <a:solidFill>
                  <a:srgbClr val="333300"/>
                </a:solidFill>
                <a:latin typeface="Times New Roman"/>
                <a:ea typeface="SimSun"/>
              </a:rPr>
              <a:t>Incremental delivery</a:t>
            </a:r>
            <a:r>
              <a:rPr b="1" lang="fa-IR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00"/>
                </a:solidFill>
                <a:latin typeface="Times New Roman"/>
              </a:rPr>
              <a:t>تغييرات تکراري (</a:t>
            </a:r>
            <a:r>
              <a:rPr b="1" i="1" lang="en-US" sz="2200" spc="-1" strike="noStrike">
                <a:solidFill>
                  <a:srgbClr val="333300"/>
                </a:solidFill>
                <a:latin typeface="Times New Roman"/>
                <a:ea typeface="SimSun"/>
              </a:rPr>
              <a:t>Frequent changes</a:t>
            </a:r>
            <a:r>
              <a:rPr b="1" lang="fa-IR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00"/>
                </a:solidFill>
                <a:latin typeface="Times New Roman"/>
              </a:rPr>
              <a:t>بازه زماني کوتاه (</a:t>
            </a:r>
            <a:r>
              <a:rPr b="1" i="1" lang="en-US" sz="1800" spc="-1" strike="noStrike">
                <a:solidFill>
                  <a:srgbClr val="333300"/>
                </a:solidFill>
                <a:latin typeface="Times New Roman"/>
                <a:ea typeface="SimSun"/>
              </a:rPr>
              <a:t>Short timeline</a:t>
            </a:r>
            <a:r>
              <a:rPr b="1" lang="fa-IR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نابرا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فرآيند توسعه بايد افزايشي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فرآيند توسعه بايد چابک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BB8-C2D8-4148-B3C0-7B5E7BE42A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فرآيند توسعه نرم‌افزارهاي مبتني بر وب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>
            <a:lum bright="-54000"/>
          </a:blip>
          <a:stretch/>
        </p:blipFill>
        <p:spPr>
          <a:xfrm>
            <a:off x="1547640" y="1700280"/>
            <a:ext cx="60487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6832-44AC-4B3E-9636-CAE54297A1B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فرآيند توسعه نرم‌افزارهاي مبتني بر وب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طراحي معماري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Architectural Desig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طراحي صفحات و ساختار صفحات موجود در نرم‌افز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طراحي پيمايش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Navigation Desig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عيين نحوة حرکت کاربر در صفح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طراحي رابط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Interface Desig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عيين روش‌هاي موثر برقراري ارتباط و تعامل با کارب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طراحي محتوا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Content Desig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فزودن محتوا به صفح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0D78-1CE4-4D80-A787-908EBC73329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برخي سبک‌هاي نرم‌افزارها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224160" cy="2384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175120" cy="27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4572000" y="4221000"/>
            <a:ext cx="3191040" cy="23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4"/>
          <a:stretch/>
        </p:blipFill>
        <p:spPr>
          <a:xfrm>
            <a:off x="1403280" y="3933720"/>
            <a:ext cx="21621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2E8-4401-4B4F-88FF-4BC823518A5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حليل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محتو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معمولاً طيف وسيعي از انواع مطالب در يک نرم‌افزار مبتني بر وب يافت مي‌شو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مي‌توان براي تحليل اين محتويات از مدلسازي داده استفاده نمود. هر يک از عناصر مدل داده‌اي، يکي از موضوعات داده‌اي موجود در نرم‌افزار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تعام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روشي که نرم‌افزار با کاربر تعامل دارد بايد به صورت دقيقي بيان شود. مي‌توان از مدل موارد کاربري و نمودار تعامل براي بيان تعامل استفاده نم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2064-CC87-4838-BFBB-31BCA6605DD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حليل نرم‌افزارهاي مبتني بر وب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کارکر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موارد کاربري مي‌توانند کارکردهاي مورد انتظار نرم‌افزارهاي مبتني بر وب را نمايش 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تمام عمليات مي‌توانند به صورت دقيق بيان و توصيف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پيکربن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محيط و زيرساختي که نرم‌افزار در آن قرار دارد بايد به صورت دقيق توصيف شود 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6179-1901-48DB-86FF-E62DED184A1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رس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ويژگي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های مبتنی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ناخت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عوامل ايجاد کيفي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مبتنی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يی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فرآين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هندسی وب و نحوه مدي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EA01-66EC-4AC2-9CCF-CA623595E19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آزمايش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حتواي نرم‌افز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بتني بر وب براي نداشتن خطا بازبيني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ا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پيماي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رم‌افزار، خطاهاي پيمايش يافت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ه صورت انتخابي برخي از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ولفه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صفحا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زمايش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ست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جتمع‌ساز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ر روي نرم‌افزار انجام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صفحات رو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سکوه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ختلف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زمايش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صفحات توسط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جموعه‌اي از کاربر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زمايش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56C6-19D6-4129-B02B-FC5C9B20107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بهترين تجربيا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درک حر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يازه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کاربران زمان بگذار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حوة تعام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کاربران با صفحات را با استفاده از سناريوها تشريح نمائ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برنامه زمانب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پروژه مختصري تهيه نمائ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دلسازي و توصيف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نچه مي‌خواهيد وقت کافي اختصاص ده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دل‌ها را براي داشتن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کيفيت و سازگا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ازبيني کن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2D46-6FB3-4404-AFC8-55009877886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بهترين تجربيا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ز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بزارها و فناوري‌هاي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ستفاده نمائيد که به شما امکان ساخت مولفه‌هاي با قابليت استفاده مجدد بالا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ه خطاهايي که کاربران پيدا مي‌کنند، بسنده نکنيد 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آزمايشات گسترده‌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را روي نرم‌افزار برنامه‌ريزي و اجرا کن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36F-ED42-4B65-8047-B30E3A12BFC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E45-9DB3-406B-A85E-A9F12C488EE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ويژگي‌هاي نرم‌افزارهاي مبتني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خصوصيات کيفي نرم‌افزارهاي مبتني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طبقه‌بندي نرم‌افزارهاي مبتني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رآيند توسعه نرم‌افزارهاي مبتني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نرم‌افزارهاي مبتني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آزمايش توسعه نرم‌افزارهاي مبتني بر و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8BCF-8655-4CEB-B0B9-0A235DF0659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رم‌افزاري مبتني بر وب؛ يکي از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پرکاربردتري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رم‌افزار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رم‌افزار مبتني بر وب شامل: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ب سايت‌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مانند وب‌سايت‌هاي اطلاعاتي ساده، سايت‌هاي خريد و فروش اينترنتي، وب‌سايت‌هاي خدماتي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رم‌افزارهايي که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خدما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خود را از طريق شبکه ارائه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عمليات خاص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ر يک صفحه وب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55B2-0CE3-46A7-B4CB-A484FA857D7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ويژگي‌هاي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که طلب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Network intensiv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اهيت نرم‌افزارهاي مبتني بر شبکه است و خدمات خود تحت شبكه به سرويس‌گيرندگان ارائه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حتوا- محور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ontent-Drive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در بيشتر موارد، وظيفه اصلي نرم‌افزار مبتني بر وب استفاده از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Hypermedia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 براي نمايش متن، گرافيک، صدا و تصوير به کاربران نهايي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51E4-D599-4642-9BD9-6E2D1118577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ويژگي‌هاي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کامل مداوم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ontinuous evolutio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برخلاف نرم‌افزارهاي متداول که براساس يک طرح و به صورت نشر، تکامل مي‌يابند، نرم‌افزارهاي مبتني بر وب همواره در حال تکامل هست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مزمان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oncurrenc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تعداد زيادي از کاربران بطور همزمان به نرم‌افزارهاي مبتني بر وب دسترسي دارند و از آن استفاده مي‌ک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F4E8-EEA4-4E0B-BE29-91525EF6147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نرم‌افزارهاي مبتني بر 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فوريت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Immediacy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زمان ارائه به بازار آنها در حد يک روز يا يک هفت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منيت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Security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حفاظت از داده‌ها و انتقال امن آنها نيازمند بکارگيري الگوريتم‌هاي قوي و زيرساخت‌هاي امن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زيبايي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Aesthetics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خش جدانشدني از نرم‌افزارهاي مبتني بر وب، قيافه و ظاهرشان است كه بايد افراد را جذب نما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AE9-2071-4FA0-A73B-742EA15F4A6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خصوصيات کيفي نرم‌افزارهاي مبتني بر وب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557360"/>
          <a:ext cx="8064360" cy="4680000"/>
        </p:xfrm>
        <a:graphic>
          <a:graphicData uri="http://schemas.openxmlformats.org/drawingml/2006/table">
            <a:tbl>
              <a:tblPr/>
              <a:tblGrid>
                <a:gridCol w="6048360"/>
                <a:gridCol w="20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تمام سايت براحتي قابل فهم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Times New Roman"/>
                          <a:cs typeface="Nazanin"/>
                        </a:rPr>
                        <a:t>قابليت استفاد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بازخورد </a:t>
                      </a: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On-line</a:t>
                      </a: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 و راهنماي مناسب داشته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ظاهر آن زيبا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از ويژگي‌هاي جانبي استفاده نماي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قابليت جستجو و بازيابي اطلاعات داشته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Times New Roman"/>
                          <a:cs typeface="Nazanin"/>
                        </a:rPr>
                        <a:t>کارکر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توانايي </a:t>
                      </a: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Browse</a:t>
                      </a: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 و </a:t>
                      </a: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Navigation</a:t>
                      </a: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 بالايي داشته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از ويژگي‌هاي کارکردي حوزه خود حمايت نماي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F515-99F5-416C-8F0F-CA824ACD6B1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خصوصيات کيفي نرم‌افزارهاي مبتني بر وب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484280"/>
          <a:ext cx="8064360" cy="4957920"/>
        </p:xfrm>
        <a:graphic>
          <a:graphicData uri="http://schemas.openxmlformats.org/drawingml/2006/table">
            <a:tbl>
              <a:tblPr/>
              <a:tblGrid>
                <a:gridCol w="6264360"/>
                <a:gridCol w="1800000"/>
              </a:tblGrid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پردازش پيوندها را بدرستي انجام ده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قابليت اعتم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قابليت بازيابي در هنگام خطا را داشته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توانايي بررسي و اعتبارسنجي ورودي‌ها را داشته باشد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زمان پاسخ مناسبي داشته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کاراي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سرعت توليد صفحات آن بالا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گرافيک را در با سرعت بالا نمايش ده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براحتي قابل اصلاح و ويرايش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قابليت نگهدار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قابليت تطبيق‌پذيري با سکوهاي مختلف را داشته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قابليت توسعه بالاي داشته باش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0:32Z</dcterms:modified>
  <cp:revision>1860</cp:revision>
  <dc:subject/>
  <dc:title>PowerPoint Presentation</dc:title>
</cp:coreProperties>
</file>