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7.jpeg" ContentType="image/jpeg"/>
  <Override PartName="/ppt/media/image27.png" ContentType="image/png"/>
  <Override PartName="/ppt/media/image26.png" ContentType="image/png"/>
  <Override PartName="/ppt/media/image25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1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33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30.png" ContentType="image/png"/>
  <Override PartName="/ppt/media/image32.png" ContentType="image/png"/>
  <Override PartName="/ppt/media/image34.png" ContentType="image/png"/>
  <Override PartName="/ppt/media/image9.png" ContentType="image/png"/>
  <Override PartName="/ppt/media/image37.wmf" ContentType="image/x-wmf"/>
  <Override PartName="/ppt/media/image17.png" ContentType="image/png"/>
  <Override PartName="/ppt/media/image38.wmf" ContentType="image/x-wmf"/>
  <Override PartName="/ppt/media/image18.png" ContentType="image/png"/>
  <Override PartName="/ppt/media/image20.png" ContentType="image/png"/>
  <Override PartName="/ppt/media/image39.wmf" ContentType="image/x-wmf"/>
  <Override PartName="/ppt/media/image19.png" ContentType="image/png"/>
  <Override PartName="/ppt/media/image35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1CC4-4651-43B1-9477-820B68EFC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E6BF-4D88-4841-BACC-493B2A875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EE48-7A7D-4677-BF04-5983C17EF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E467-CDBD-4564-A595-4A7BFC647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ADAEF-D5FB-46C0-8290-8D9ECB4B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4D0A3-CBFC-476B-8A3A-473E3686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F025D-DC47-487A-A3FC-0D22B9EB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F7E95-F307-4982-9BFC-923F8ADF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A5D72-59FD-4C0F-8F5B-3E6E3960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2654C-C451-4962-BE74-5A8A7FCE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7E463-2B11-4C3B-B77D-ADE82CCF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1BC0-43CC-4849-BF7F-15662C669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A760D-2355-4EDF-B64D-1CB15865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2A86C-654D-415D-AEF5-84DFC92D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6F7C1-CCE2-49DB-8A00-2870D6FA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324BB-B545-4AFE-ADBB-9DA69C5D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5C74D-02F0-439A-8642-0B3681D8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C3EA-52D7-4DB0-804D-C70738B44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9B5F-F8F7-4FD2-9ADF-3F77149C0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79E5-3EA9-4001-8178-AD32DF278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970E-8784-4F26-918D-184E515CF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FABD-3917-4A28-916F-A46BF984C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67BF-203E-4D41-8583-8C590A52D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71EA-7573-462D-A6A5-E316D5F80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D0B9-56D5-44D9-A108-09E9C68B6F6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071B-3863-4F6D-A987-42B5D1CEDD23}" type="slidenum">
              <a:rPr b="0" lang="ar-SA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075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539640" y="3068640"/>
            <a:ext cx="8064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tr"/>
              </a:rPr>
              <a:t>الگوهاي طراح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078"/>
          <p:cNvSpPr/>
          <p:nvPr/>
        </p:nvSpPr>
        <p:spPr>
          <a:xfrm>
            <a:off x="3558240" y="2205000"/>
            <a:ext cx="22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سيزده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1F71-A2A8-4CE3-8F58-C78EC295B47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اريخچه الگوهاي طراحي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 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1995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Erich Gamma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Richard Helm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Ralph Johnso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John Vlissides</a:t>
            </a:r>
            <a:r>
              <a:rPr b="1" i="1" lang="fa-IR" sz="22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طراحي نرم‌افزا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رائه کتاب الگوهاي طراح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7" name="Picture 4" descr="Gamma Book Cover S1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2349360"/>
            <a:ext cx="285768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CD32-27DE-4DF3-B16F-08968042BEF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الگوي طراح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0" name="Picture 4" descr="obs-3"/>
          <p:cNvPicPr/>
          <p:nvPr/>
        </p:nvPicPr>
        <p:blipFill>
          <a:blip r:embed="rId1"/>
          <a:stretch/>
        </p:blipFill>
        <p:spPr>
          <a:xfrm>
            <a:off x="4259160" y="2286000"/>
            <a:ext cx="2797200" cy="3046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obs-1"/>
          <p:cNvPicPr/>
          <p:nvPr/>
        </p:nvPicPr>
        <p:blipFill>
          <a:blip r:embed="rId2"/>
          <a:stretch/>
        </p:blipFill>
        <p:spPr>
          <a:xfrm>
            <a:off x="1523880" y="2286000"/>
            <a:ext cx="364824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6"/>
          <p:cNvGrpSpPr/>
          <p:nvPr/>
        </p:nvGrpSpPr>
        <p:grpSpPr>
          <a:xfrm>
            <a:off x="2141640" y="1943280"/>
            <a:ext cx="6030720" cy="3982680"/>
            <a:chOff x="2141640" y="1943280"/>
            <a:chExt cx="6030720" cy="3982680"/>
          </a:xfrm>
        </p:grpSpPr>
        <p:pic>
          <p:nvPicPr>
            <p:cNvPr id="143" name="Picture 7" descr="obs-2b"/>
            <p:cNvPicPr/>
            <p:nvPr/>
          </p:nvPicPr>
          <p:blipFill>
            <a:blip r:embed="rId3"/>
            <a:stretch/>
          </p:blipFill>
          <p:spPr>
            <a:xfrm>
              <a:off x="2141640" y="3759120"/>
              <a:ext cx="2698560" cy="21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8" descr="obs-2a"/>
            <p:cNvPicPr/>
            <p:nvPr/>
          </p:nvPicPr>
          <p:blipFill>
            <a:blip r:embed="rId4"/>
            <a:stretch/>
          </p:blipFill>
          <p:spPr>
            <a:xfrm>
              <a:off x="3757680" y="1943280"/>
              <a:ext cx="90324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9" descr="obs-2c"/>
            <p:cNvPicPr/>
            <p:nvPr/>
          </p:nvPicPr>
          <p:blipFill>
            <a:blip r:embed="rId5"/>
            <a:stretch/>
          </p:blipFill>
          <p:spPr>
            <a:xfrm>
              <a:off x="5530680" y="5405400"/>
              <a:ext cx="2641680" cy="50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3535-1493-4EE6-A992-812CFCAD660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ساختار الگوي طراح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اختارهاي متعددي براي بيان الگوهاي طراحي پيشنهاد شده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چهار بخش اصلي هر الگوي طراح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نام الگو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مسئله (شامل اجبارهاي مسئله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راه‌حل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نتايج و کاربرد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44C2-9416-4BAB-9CFE-B9E51659EA3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ساختار الگوي طراح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اختار پيشنهادي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Alexande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نام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زمين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مسئله (اجبارها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راه‌حل (پيکربندي و چگونگي راه‌حل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بيان ارتباط بين زمينه، مسئله و راه‌حل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52" name="Picture 4" descr="A Pattern Lang Cov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1700280"/>
            <a:ext cx="28843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B0F3-A0DD-4218-AEF7-4803020BD9C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ساختار الگوي طراح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اختار پيشنهادي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Polti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نام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عناص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توصيف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نمونه‌ها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موارد استفاده‌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جزئيا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56" name="Picture 4" descr="Polti Cover Slide 11"/>
          <p:cNvPicPr/>
          <p:nvPr/>
        </p:nvPicPr>
        <p:blipFill>
          <a:blip r:embed="rId1"/>
          <a:stretch/>
        </p:blipFill>
        <p:spPr>
          <a:xfrm>
            <a:off x="539640" y="1700280"/>
            <a:ext cx="28479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7653-EC9F-462E-87EA-C2C05FE7E2C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ساختار الگوي طراح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اختار پيشنهادي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GoF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نام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طبقه‌بند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منظو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اسامي مشاب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انگيزه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کارب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ساختا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60" name="Picture 4" descr="Gamma Book Cover S1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989000"/>
            <a:ext cx="2714760" cy="3672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3059280" y="2708280"/>
            <a:ext cx="33843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  <a:cs typeface="Nazanin"/>
              </a:rPr>
              <a:t>شرکا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  <a:cs typeface="Nazanin"/>
              </a:rPr>
              <a:t>همکار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  <a:cs typeface="Nazanin"/>
              </a:rPr>
              <a:t>نتاي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  <a:cs typeface="Nazanin"/>
              </a:rPr>
              <a:t>پياده‌سازي/نمونه ک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  <a:cs typeface="Nazanin"/>
              </a:rPr>
              <a:t>موارد استف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  <a:cs typeface="Nazanin"/>
              </a:rPr>
              <a:t>الگوهاي مرتب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D2D9-2343-429F-A688-0E5FEBBC784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ساختار الگوي طراح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ام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Name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طور خلاصه و موجز کاربرد الگو را نشان مي‌ده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طبقه‌بندي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Classificatio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طبقه‌بندي براساس کاري که الگو انجام مي‌ده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97280" indent="-21924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Creational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: بر روي فرآيند ايجاد اشيا و کلاس‌ها تمرکز دار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097280" indent="-21924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Structural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: بر روي ترکيب کلاس‌ها و اشيا تمرکز دار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097280" indent="-21924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Behavioral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: بر روي رفتار کلاس‌ها و اشيا و توزيع وظيفه تمرکز دار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حوزه کاربرد الگوها شامل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اشياء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کلاس‌ه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1705-5568-473D-9A93-E93FB262708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ساختار الگوي طراح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9640" y="1628640"/>
          <a:ext cx="7848720" cy="4608720"/>
        </p:xfrm>
        <a:graphic>
          <a:graphicData uri="http://schemas.openxmlformats.org/drawingml/2006/table">
            <a:tbl>
              <a:tblPr/>
              <a:tblGrid>
                <a:gridCol w="936720"/>
                <a:gridCol w="1008000"/>
                <a:gridCol w="1800360"/>
                <a:gridCol w="1584360"/>
                <a:gridCol w="2519280"/>
              </a:tblGrid>
              <a:tr h="3682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atterns 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rp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c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havi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tory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p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ret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late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83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tract Fa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ild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ton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pt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d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orato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ad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xy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in of Responsibilit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rato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to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ento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yweigh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1439-F04F-461D-9EF0-AC685BA5094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ساختار الگوي طراح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نظو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جمله کوتاهي که جواب به سوالات زير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الگو چه کاري انجام مي‌دهد؟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علت وجودي الگو چيست؟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چه مشکل يا مسئله خاصي را حل مي‌کند؟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نام‌هاي مشاب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در صورتي‌که الگو داراي اسامي شناخته شده ديگري است، قيد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33A4-018F-4D86-8C0B-C987601A63D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ساختار الگوي طراح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انگيزه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Motivation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سناريويي که مشکل طراحي و اينکه چگونه کلاس‌ها و اشياي موجود در الگو مشکل را حل مي‌کنند را نشان مي‌ده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سناريو کمک مي‌کند تا درک بهتري از توصيفاتي مربوط به الگو داشته باش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کاربردپذيري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Applicability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وضعيتي که الگو مي‌تواند به کار برده شود و نحوة شناسايي اين وضعي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C654-5156-49C7-A6A2-CD059715FAF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رسی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مفاهيم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لگوهاي طراح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ناخت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کاربردهاي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لگوهاي طراح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يی ب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چند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الگوي طراح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آشنايي با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 ضدالگوها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AntiPattern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عرفي ضدالگوهاي متداو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10F9-A565-40A3-84ED-1D87DB9D6F9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ساختار الگوي طراح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ساختار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Structure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مايشي گرافيکي از کلاس‌ها در الگو با استفاده از نمادگذاري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MT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Object Modeling Technique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راي نمايش تعاملات مي‌توانيد از نمودار ترتيبي يا نمودار همکاري استفاده نمائ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شرکاء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Participants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کلاس‌ها و/يا اشيايي که در الگوي طراحي و انجام وظايفش مشارکت مي‌کن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D277-A214-4A5D-913C-91D3805980A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ساختار الگوي طراح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همکاري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Collaborations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حوة همکاري شرکاء در انجام وظايف الگوي طراح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نتايج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Consequences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در اين بخش به سوالات ذيل پاسخ گفته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51560" indent="-21024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چگونه الگو، اهداف مورد نظر خود را برآورده مي‌سازد؟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051560" indent="-21024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چه توازن‌ها و نتايجي با به کار بردن الگو بدست مي‌آيد؟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051560" indent="-21024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چه جنبه‌هايي از ساختار سيستم مي‌توانند متفاوت باشند؟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F8EE-F59C-4960-A3E2-C514D399327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ساختار الگوي طراح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پياده‌ساز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کات فني، نقاط ضعف و ديگر نکاتي که بايد در استفاده از الگو مد نظر قرار دا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نمونه ک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خش‌هاي از کد الگو به زبان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++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يا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Smalltalk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استفاده‌هاي شناخته شد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مونه‌هاي از الگو در سيستم‌هاي واقع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الگوهاي مرتبط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لگوهاي که ارتباط نزديکي با الگوي طراحي مورد نظر دارن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524A-3086-4B35-99C3-E8F072D024D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Abstract Factory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منظو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رابطي براي ايجاد خانواده‌اي از اشياي مرتبط يا وابسته بدون مشخص‌کردن کلاس‌هاي آنها فراهم مي‌ک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کاربردپذير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وقتي نمي‌توان ساختار ارتباطي بين گروهي از کلاس‌هاي مرتبط را پيش‌بيني نم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E106-07CF-49BC-8E32-DF26BE297A8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Abstract Factory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ساخت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89" name="Picture 4" descr="abs-omt-2"/>
          <p:cNvPicPr/>
          <p:nvPr/>
        </p:nvPicPr>
        <p:blipFill>
          <a:blip r:embed="rId1"/>
          <a:stretch/>
        </p:blipFill>
        <p:spPr>
          <a:xfrm>
            <a:off x="853920" y="3024360"/>
            <a:ext cx="6348600" cy="2400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abs-omt-3"/>
          <p:cNvPicPr/>
          <p:nvPr/>
        </p:nvPicPr>
        <p:blipFill>
          <a:blip r:embed="rId2"/>
          <a:stretch/>
        </p:blipFill>
        <p:spPr>
          <a:xfrm>
            <a:off x="1504800" y="3306600"/>
            <a:ext cx="4724640" cy="186084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6"/>
          <p:cNvGrpSpPr/>
          <p:nvPr/>
        </p:nvGrpSpPr>
        <p:grpSpPr>
          <a:xfrm>
            <a:off x="324000" y="2133720"/>
            <a:ext cx="7806960" cy="2499840"/>
            <a:chOff x="324000" y="2133720"/>
            <a:chExt cx="7806960" cy="2499840"/>
          </a:xfrm>
        </p:grpSpPr>
        <p:sp>
          <p:nvSpPr>
            <p:cNvPr id="192" name="Rectangle 7"/>
            <p:cNvSpPr/>
            <p:nvPr/>
          </p:nvSpPr>
          <p:spPr>
            <a:xfrm>
              <a:off x="324000" y="2133720"/>
              <a:ext cx="1634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93" name="Picture 8" descr="abs-omt-1"/>
            <p:cNvPicPr/>
            <p:nvPr/>
          </p:nvPicPr>
          <p:blipFill>
            <a:blip r:embed="rId3"/>
            <a:stretch/>
          </p:blipFill>
          <p:spPr>
            <a:xfrm>
              <a:off x="1729080" y="2590560"/>
              <a:ext cx="6401880" cy="20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0EFB-79E6-4941-870B-89C075233B9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Abstract Factory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6" name="Picture 4" descr="corbaopt0"/>
          <p:cNvPicPr/>
          <p:nvPr/>
        </p:nvPicPr>
        <p:blipFill>
          <a:blip r:embed="rId1"/>
          <a:stretch/>
        </p:blipFill>
        <p:spPr>
          <a:xfrm>
            <a:off x="5076720" y="2349360"/>
            <a:ext cx="3794400" cy="3368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corba16"/>
          <p:cNvPicPr/>
          <p:nvPr/>
        </p:nvPicPr>
        <p:blipFill>
          <a:blip r:embed="rId2"/>
          <a:stretch/>
        </p:blipFill>
        <p:spPr>
          <a:xfrm>
            <a:off x="200160" y="2565360"/>
            <a:ext cx="4398840" cy="27781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16"/>
          <p:cNvSpPr/>
          <p:nvPr/>
        </p:nvSpPr>
        <p:spPr>
          <a:xfrm>
            <a:off x="4230720" y="4417920"/>
            <a:ext cx="700200" cy="385920"/>
          </a:xfrm>
          <a:prstGeom prst="rightArrow">
            <a:avLst>
              <a:gd name="adj1" fmla="val 50000"/>
              <a:gd name="adj2" fmla="val 45359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DE3D-4624-4409-A24E-2F15F0B1503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Abstract Factory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نتايج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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انعطاف‌پذير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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تجر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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توسعه آن دشوار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پياده‌ساز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استفاده از پارامترها راهي براي کنترل اندازه رابط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اين الگو در واقع مجموعه‌اي از الگوي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Factory Method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14FA-F23A-456C-B02B-0B30CC4223D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Bridg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منظو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براي جداسازي رابط مجرد(منطقي) از پياده‌سازي‌اش (فيزيکي) مورد استفاده قرار مي‌گي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کاربردپذير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وقتي رابط و پياده‌سازي‌اش بايد با يکديگر متفاوت باش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وقتي نياز به يک رابط واحد براي تعامل با ديگر کلاس‌ها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6745-C7E2-4C2A-8447-631234FBCB1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Bridg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ساخت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324000" y="2565360"/>
            <a:ext cx="8234280" cy="2895480"/>
            <a:chOff x="324000" y="2565360"/>
            <a:chExt cx="8234280" cy="2895480"/>
          </a:xfrm>
        </p:grpSpPr>
        <p:sp>
          <p:nvSpPr>
            <p:cNvPr id="209" name="Rectangle 5"/>
            <p:cNvSpPr/>
            <p:nvPr/>
          </p:nvSpPr>
          <p:spPr>
            <a:xfrm>
              <a:off x="628560" y="2565360"/>
              <a:ext cx="77724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ructur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10" name="Picture 6" descr="bridge-omt"/>
            <p:cNvPicPr/>
            <p:nvPr/>
          </p:nvPicPr>
          <p:blipFill>
            <a:blip r:embed="rId1"/>
            <a:stretch/>
          </p:blipFill>
          <p:spPr>
            <a:xfrm>
              <a:off x="324000" y="3098880"/>
              <a:ext cx="8234280" cy="185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EBD0-3175-436F-9F61-3B8CFFF3EAC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Bridg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نتايج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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رابط مجرد و پياده‌سازي از يکديگر مجزا مي‌شون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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پياده‌سازي مي‌تواند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مجزا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و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متغير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باش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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رابط بايد به‌گونه‌اي عمومي باشد که همه رابط‌هايي که پياده‌سازي مي‌شوند را حمايت ک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پياده‌ساز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تنها يک پياده‌ساز بايد وجود داشته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ايجاد پياده‌ساز صحيح دشوار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اشتراک پياده‌سازها بايد مد نظر قرار گي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3A54-9C4B-48DF-A492-3B4392CFDCC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فهرست مطال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عوامل ايجاد الگوي طراح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اختارهاي طراحي تکرارشوند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فهوم الگوي طراح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اريخچه الگوهاي طراح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ساختار الگوي طراح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عرفي چند الگو طراح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ضدالگو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F377-FDA7-4A70-A6A2-0755961BF9A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Composit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منظو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ترکيب اشيا در ساختاري درختي براي نمايش سلسله مراتب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art-Whole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کاربردپذير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وقتي اشيا نياز به ترکيب به‌صورت بازگشتي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Recursive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) دا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تفاوتي بين اشياي ترکيبي و ساده وجود ندا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اشيا در ساختار مي‌توانند واحد در نظر گرفته شون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3A5B-26CB-4832-9289-3187FA3DD88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Composit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ساخت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20" name="Picture 13" descr="compo072"/>
          <p:cNvPicPr/>
          <p:nvPr/>
        </p:nvPicPr>
        <p:blipFill>
          <a:blip r:embed="rId1"/>
          <a:stretch/>
        </p:blipFill>
        <p:spPr>
          <a:xfrm>
            <a:off x="684360" y="2133720"/>
            <a:ext cx="761508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DA7A-F07E-4853-A74C-F2B75324955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Composit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Picture 5" descr="compo075"/>
          <p:cNvPicPr/>
          <p:nvPr/>
        </p:nvPicPr>
        <p:blipFill>
          <a:blip r:embed="rId1"/>
          <a:stretch/>
        </p:blipFill>
        <p:spPr>
          <a:xfrm>
            <a:off x="1042920" y="3068640"/>
            <a:ext cx="6697800" cy="3006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کلاس </a:t>
            </a:r>
            <a:r>
              <a:rPr b="1" i="1" lang="en-US" sz="2200" spc="-1" strike="noStrike">
                <a:solidFill>
                  <a:srgbClr val="336600"/>
                </a:solidFill>
                <a:latin typeface="Times New Roman"/>
              </a:rPr>
              <a:t>Graphic</a:t>
            </a: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 شامل مجموعه‌اي از کلاس‌هاي ديگر است که تفاوتي با کلاس اصلي ندار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8B14-19F4-4971-868D-27818BF6EC3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Composit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725400" y="2060640"/>
            <a:ext cx="7967880" cy="28162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5"/>
          <p:cNvSpPr/>
          <p:nvPr/>
        </p:nvSpPr>
        <p:spPr>
          <a:xfrm>
            <a:off x="520560" y="5153040"/>
            <a:ext cx="1530360" cy="693720"/>
          </a:xfrm>
          <a:prstGeom prst="wedgeRoundRectCallout">
            <a:avLst>
              <a:gd name="adj1" fmla="val 61101"/>
              <a:gd name="adj2" fmla="val -240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ahoma"/>
                <a:cs typeface="Nazanin"/>
              </a:rPr>
              <a:t>گره ترکيب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7394400" y="4984920"/>
            <a:ext cx="1530360" cy="395280"/>
          </a:xfrm>
          <a:prstGeom prst="wedgeRoundRectCallout">
            <a:avLst>
              <a:gd name="adj1" fmla="val -100208"/>
              <a:gd name="adj2" fmla="val -13393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ahoma"/>
                <a:cs typeface="Nazanin"/>
              </a:rPr>
              <a:t>گره بر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116160" y="573408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Naming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E55A-C33D-43E6-8C8F-730D2A1FEEB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Composit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نتايج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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همساني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: بدون در نظر گرفتن پيچيدگي همه اشيا يکسانن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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قابليت توسعه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: مولفه‌هاي جديد براحتي مي‌توانند افزوده 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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سربار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: سربار تعداد اشياي جديد را کاهش مي‌ده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77560" indent="-27756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پياده‌ساز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-23148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روشي براي شناسايي والدين و فرزندان بايد استفاده 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-23148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براي والدين و فرزندان از يک رابط استفاده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-23148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حذف يک فرزند مسئوليت دارد! (اين فرزند مي‌تواند فرزنداني داشته باشد و سبب ايجاد اشياي يتيم (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Orphan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) شود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33EF-FDAD-4A9C-AE0D-6FEC98EFA70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Decorato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منظو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افزودن وظيفه جديد به يک شي به صورت پوي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کاربردپذير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وقتي نياز به افزودن وظيفه جديد به يک شي به صورت پويا، شفاف و بدون تاثير بر ديگر اشيا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حذف وظيفه خاصي از يک شي به‌صورت پوي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وقتي توسعه کلاس به زيرکلاس‌ها غيرممکن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2933-5545-4450-B8D8-1E320528FFE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Decorato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ساخت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40" name="Picture 4" descr="deco-2"/>
          <p:cNvPicPr/>
          <p:nvPr/>
        </p:nvPicPr>
        <p:blipFill>
          <a:blip r:embed="rId1"/>
          <a:stretch/>
        </p:blipFill>
        <p:spPr>
          <a:xfrm>
            <a:off x="2268360" y="2637000"/>
            <a:ext cx="5643720" cy="1415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deco-3"/>
          <p:cNvPicPr/>
          <p:nvPr/>
        </p:nvPicPr>
        <p:blipFill>
          <a:blip r:embed="rId2"/>
          <a:stretch/>
        </p:blipFill>
        <p:spPr>
          <a:xfrm>
            <a:off x="2409840" y="4019400"/>
            <a:ext cx="5491080" cy="123984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6"/>
          <p:cNvGrpSpPr/>
          <p:nvPr/>
        </p:nvGrpSpPr>
        <p:grpSpPr>
          <a:xfrm>
            <a:off x="858960" y="2214720"/>
            <a:ext cx="3012480" cy="1806480"/>
            <a:chOff x="858960" y="2214720"/>
            <a:chExt cx="3012480" cy="1806480"/>
          </a:xfrm>
        </p:grpSpPr>
        <p:sp>
          <p:nvSpPr>
            <p:cNvPr id="243" name="Rectangle 7"/>
            <p:cNvSpPr/>
            <p:nvPr/>
          </p:nvSpPr>
          <p:spPr>
            <a:xfrm>
              <a:off x="858960" y="2214720"/>
              <a:ext cx="1553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44" name="Picture 8" descr="deco-1"/>
            <p:cNvPicPr/>
            <p:nvPr/>
          </p:nvPicPr>
          <p:blipFill>
            <a:blip r:embed="rId3"/>
            <a:stretch/>
          </p:blipFill>
          <p:spPr>
            <a:xfrm>
              <a:off x="1631880" y="2552760"/>
              <a:ext cx="2239560" cy="146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246A-33ED-44F5-BD79-4C737021947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Decorato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نتايج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0" algn="r" rtl="1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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وظايف مي‌توانند در زمان اجرا افزوده/حذف شون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0" algn="r" rtl="1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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موجب کاهش رشد ساختار سلسله‌مراتبي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0" algn="r" rtl="1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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سبب انسداد رابط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0" algn="r" rtl="1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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ترکيب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decorator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ها بسيار دشوار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پياده‌ساز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مطابقت رابط‌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decorator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ها بايد در نظر گرفته 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براي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decorator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از کلاسي سبک و مجرد استفاده نمائ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در صورتي‌که نياز به افزودن يک وظيفه داريد، نياز به تعريف کلاس براي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decorator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ندار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6DB2-05F4-429C-ADD8-59DCDEEEE91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Mediato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منظو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تعريف شيي که چگونگي تعامل بين اشياء ديگر را پنهان ساز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کاربردپذير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وقتي تعدادي شي با يکديگر به‌صورت خوش‌تعريف تعامل دارند اما تعامل آنها پيچيده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وقتي استفاده مجدد يک شي به‌خاطر تعامل زياد آن با ديگر اشيا دشوار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وقتي رفتاري بين چند کلاس توزيع شده است و بايد بدون استفاده از زيرکلاس‌ها سفارشي 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EFFA-D584-478A-A227-EAE4B569795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Mediato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ساخت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54" name="Picture 8" descr="mediator"/>
          <p:cNvPicPr/>
          <p:nvPr/>
        </p:nvPicPr>
        <p:blipFill>
          <a:blip r:embed="rId1"/>
          <a:stretch/>
        </p:blipFill>
        <p:spPr>
          <a:xfrm>
            <a:off x="1600200" y="2286000"/>
            <a:ext cx="61992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4642-67F4-4938-B949-A640520BEBC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عوامل ايجاد الگوهاي طراح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روش‌هاي تحليل و طراحي شي‌گرا تاکيد بسياري بر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استفاده از نماده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در طراحي دا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 algn="r" rtl="1">
              <a:lnSpc>
                <a:spcPct val="13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براي مستندسازي و ذکر خصوصيات مناسب هست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ما تحليل و طراحي شي‌گرا تنها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رسم نمودار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ني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 algn="r" rtl="1">
              <a:lnSpc>
                <a:spcPct val="13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نقاشي خوب دليل بر طراحي خوبي نيست!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طراحي شي‌گراي خوب نياز به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سال‌ها تجرب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د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 algn="r" rtl="1">
              <a:lnSpc>
                <a:spcPct val="13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طراحي به اندازه دانستن گرامر زبان اهميت دار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يشترين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استفاده مجدد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در هنگام طراحي اتفاق مي‌افت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 algn="r" rtl="1">
              <a:lnSpc>
                <a:spcPct val="13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مشکلات با تجربه طراحي رفع مي‌شو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520E-1E76-4AF5-B701-1BBB20AECF9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Mediato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7" name="Picture 5" descr="fontc047"/>
          <p:cNvPicPr/>
          <p:nvPr/>
        </p:nvPicPr>
        <p:blipFill>
          <a:blip r:embed="rId1"/>
          <a:stretch/>
        </p:blipFill>
        <p:spPr>
          <a:xfrm>
            <a:off x="395280" y="1484280"/>
            <a:ext cx="3238560" cy="3745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media033"/>
          <p:cNvPicPr/>
          <p:nvPr/>
        </p:nvPicPr>
        <p:blipFill>
          <a:blip r:embed="rId2"/>
          <a:stretch/>
        </p:blipFill>
        <p:spPr>
          <a:xfrm>
            <a:off x="3924360" y="1268280"/>
            <a:ext cx="4343400" cy="2934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media031"/>
          <p:cNvPicPr/>
          <p:nvPr/>
        </p:nvPicPr>
        <p:blipFill>
          <a:blip r:embed="rId3"/>
          <a:stretch/>
        </p:blipFill>
        <p:spPr>
          <a:xfrm>
            <a:off x="3924360" y="4076640"/>
            <a:ext cx="4657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40FC-B7F9-4F7F-800E-DAC819582B9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Mediato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نتايج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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تعداد زيرکلاس‌ها را کاهش مي‌ده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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اتصال سست بين کلاس‌هاي مجاور را افزايش مي‌ده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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ارتباط چند به چند را به ارتباط يک به يک تبديل مي‌ک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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يک کنترل‌کننده مرکزي ايجاد مي‌ک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08520" indent="-3085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پياده‌ساز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نيازي به تعريف کلاس مجرد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Mediator</a:t>
            </a:r>
            <a:r>
              <a:rPr b="1" lang="ar-SA" sz="2400" spc="-1" strike="noStrike">
                <a:solidFill>
                  <a:srgbClr val="0000cc"/>
                </a:solidFill>
                <a:latin typeface="Times New Roman"/>
              </a:rPr>
              <a:t> نيست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زيرا کلاس‌هاي همکار مي‌توانند با يک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Mediator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کار کن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FE4D-90C6-4958-9ADC-C14E86E5532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Observe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منظو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تعريف يک رابطه يک به چند بين اشياء بصورتي‌که وقتي يک شي حالتش را تغيير مي‌دهد، بقيه اشيا مطلع شده و بروز 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کاربردپذير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وقتي تجريدي داراي دو جنبه بوده و يکي به ديگري وابسته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وقتي تغيير در يک شي سبب تغيير ديگر اشيا مي‌شود و نمي‌دانيد چه تعداد شي ديگر نياز به تغيير دا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وقتي يک شي نياز به مطلع ساختن شي ديگر دارد و در مورد چگونگي آن شي اطلاعي ند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5A2F-9384-4E84-8007-99F2EADC012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Observe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ساخت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822240" y="2208240"/>
            <a:ext cx="2022120" cy="1350720"/>
            <a:chOff x="822240" y="2208240"/>
            <a:chExt cx="2022120" cy="1350720"/>
          </a:xfrm>
        </p:grpSpPr>
        <p:sp>
          <p:nvSpPr>
            <p:cNvPr id="270" name="Rectangle 5"/>
            <p:cNvSpPr/>
            <p:nvPr/>
          </p:nvSpPr>
          <p:spPr>
            <a:xfrm>
              <a:off x="822240" y="2208240"/>
              <a:ext cx="170208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71" name="Picture 6" descr="obs-omt-1"/>
            <p:cNvPicPr/>
            <p:nvPr/>
          </p:nvPicPr>
          <p:blipFill>
            <a:blip r:embed="rId1"/>
            <a:stretch/>
          </p:blipFill>
          <p:spPr>
            <a:xfrm>
              <a:off x="1552680" y="2655720"/>
              <a:ext cx="1291680" cy="90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2" name="Picture 7" descr="obs-omt-3"/>
          <p:cNvPicPr/>
          <p:nvPr/>
        </p:nvPicPr>
        <p:blipFill>
          <a:blip r:embed="rId2"/>
          <a:stretch/>
        </p:blipFill>
        <p:spPr>
          <a:xfrm>
            <a:off x="1684440" y="3265560"/>
            <a:ext cx="6383160" cy="15890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obs-omt-2"/>
          <p:cNvPicPr/>
          <p:nvPr/>
        </p:nvPicPr>
        <p:blipFill>
          <a:blip r:embed="rId3"/>
          <a:stretch/>
        </p:blipFill>
        <p:spPr>
          <a:xfrm>
            <a:off x="2268360" y="2708280"/>
            <a:ext cx="378468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32BD-B679-4C81-8F65-3468951F5A4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Observe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مثا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77" name="Picture 4" descr="obs-3"/>
          <p:cNvPicPr/>
          <p:nvPr/>
        </p:nvPicPr>
        <p:blipFill>
          <a:blip r:embed="rId1"/>
          <a:stretch/>
        </p:blipFill>
        <p:spPr>
          <a:xfrm>
            <a:off x="4259160" y="2286000"/>
            <a:ext cx="2797200" cy="3046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obs-1"/>
          <p:cNvPicPr/>
          <p:nvPr/>
        </p:nvPicPr>
        <p:blipFill>
          <a:blip r:embed="rId2"/>
          <a:stretch/>
        </p:blipFill>
        <p:spPr>
          <a:xfrm>
            <a:off x="1523880" y="2286000"/>
            <a:ext cx="3648240" cy="144792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6"/>
          <p:cNvGrpSpPr/>
          <p:nvPr/>
        </p:nvGrpSpPr>
        <p:grpSpPr>
          <a:xfrm>
            <a:off x="2141640" y="1943280"/>
            <a:ext cx="6030720" cy="3982680"/>
            <a:chOff x="2141640" y="1943280"/>
            <a:chExt cx="6030720" cy="3982680"/>
          </a:xfrm>
        </p:grpSpPr>
        <p:pic>
          <p:nvPicPr>
            <p:cNvPr id="280" name="Picture 7" descr="obs-2b"/>
            <p:cNvPicPr/>
            <p:nvPr/>
          </p:nvPicPr>
          <p:blipFill>
            <a:blip r:embed="rId3"/>
            <a:stretch/>
          </p:blipFill>
          <p:spPr>
            <a:xfrm>
              <a:off x="2141640" y="3759120"/>
              <a:ext cx="2698560" cy="21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8" descr="obs-2a"/>
            <p:cNvPicPr/>
            <p:nvPr/>
          </p:nvPicPr>
          <p:blipFill>
            <a:blip r:embed="rId4"/>
            <a:stretch/>
          </p:blipFill>
          <p:spPr>
            <a:xfrm>
              <a:off x="3757680" y="1943280"/>
              <a:ext cx="90324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9" descr="obs-2c"/>
            <p:cNvPicPr/>
            <p:nvPr/>
          </p:nvPicPr>
          <p:blipFill>
            <a:blip r:embed="rId5"/>
            <a:stretch/>
          </p:blipFill>
          <p:spPr>
            <a:xfrm>
              <a:off x="5530680" y="5405400"/>
              <a:ext cx="2641680" cy="50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447B-4DA9-45FB-86D4-B3904A55507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Observe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نتايج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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احدبندي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: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Subject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و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Observer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ها مي‌توانند مستقل باش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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قابليت توسعه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: مي‌توان هر تعداد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Observer</a:t>
            </a:r>
            <a:r>
              <a:rPr b="1" i="1" lang="fa-IR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تعريف نم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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قابليت سفارشي شدن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: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Observer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هاي متفاوت، ديدهاي مختلف را نمايش مي‌ده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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بروزرساني غيرمنتظره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: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Observer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ها اطلاعي از يکديگر ندا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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سربار بروزرساني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: بروزرساني سربار زيادي ايجاد مي‌نما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8448-9DEF-4C2F-B09A-B345A25B15D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هاي طراحي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Observe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6600"/>
                </a:solidFill>
                <a:latin typeface="Times New Roman"/>
              </a:rPr>
              <a:t>پياده‌ساز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نگاشت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Subject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ها </a:t>
            </a:r>
            <a:r>
              <a:rPr b="1" lang="ar-SA" sz="2400" spc="-1" strike="noStrike">
                <a:solidFill>
                  <a:srgbClr val="0000cc"/>
                </a:solidFill>
                <a:latin typeface="Times New Roman"/>
              </a:rPr>
              <a:t>ب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ه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Observer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هاي متناظرشان راهي ساده‌ براي در جريان بودن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Subject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 از بروزرساني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Observer</a:t>
            </a:r>
            <a:r>
              <a:rPr b="1" i="1" lang="fa-IR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ارجاع معلق به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Subject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هاي حذف شده بايد مورد توجه قرار گي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از پروتکل‌هاي بروزرساني ويژه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Observer</a:t>
            </a:r>
            <a:r>
              <a:rPr b="1" i="1" lang="fa-IR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(مدل‌هاي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push and pull</a:t>
            </a:r>
            <a:r>
              <a:rPr b="1" lang="fa-IR" sz="2400" spc="-1" strike="noStrike">
                <a:solidFill>
                  <a:srgbClr val="0000cc"/>
                </a:solidFill>
                <a:latin typeface="Times New Roman"/>
              </a:rPr>
              <a:t>) اجتناب نمائ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F3E8-D159-441A-927B-63E798E874A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ضدالگوها (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AntiPatterns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يده ضدالگوها از آنجا ناشي شده است که اغلب کارهاي منتشر در مهندسي نرم‌افزار به راه‌حل‌هاي </a:t>
            </a:r>
            <a:r>
              <a:rPr b="1" lang="fa-IR" sz="2800" spc="-1" strike="noStrike">
                <a:solidFill>
                  <a:srgbClr val="cc6600"/>
                </a:solidFill>
                <a:latin typeface="Times New Roman"/>
              </a:rPr>
              <a:t>سازنده و موث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تمرکز دار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4840" indent="-29484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6600"/>
                </a:solidFill>
                <a:latin typeface="Times New Roman"/>
              </a:rPr>
              <a:t>ضدالگو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ر راه‌حل‌هاي </a:t>
            </a:r>
            <a:r>
              <a:rPr b="1" lang="fa-IR" sz="2800" spc="-1" strike="noStrike">
                <a:solidFill>
                  <a:srgbClr val="cc6600"/>
                </a:solidFill>
                <a:latin typeface="Times New Roman"/>
              </a:rPr>
              <a:t>منف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fa-IR" sz="2800" spc="-1" strike="noStrike">
                <a:solidFill>
                  <a:srgbClr val="cc6600"/>
                </a:solidFill>
                <a:latin typeface="Times New Roman"/>
              </a:rPr>
              <a:t>ناموفق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تمرکز دار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4840" indent="-29484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ضدالگو مجموعه‌اي از راه‌حل‌هاي متداول که براي حل يک مسئله اتفاق مي‌افتند و </a:t>
            </a:r>
            <a:r>
              <a:rPr b="1" lang="fa-IR" sz="2800" spc="-1" strike="noStrike">
                <a:solidFill>
                  <a:srgbClr val="cc6600"/>
                </a:solidFill>
                <a:latin typeface="Times New Roman"/>
              </a:rPr>
              <a:t>بطورقطع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نتايج منفي يا ناموفق توليد نموده‌اند را توصيف مي‌نما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AF56-081B-4981-BC1C-76304676A8B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ضدالگوه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همانطور که نياز به دانستن الگوها در زمينه خاص وجود دارد، دانستن وجود يا عدم وجود ضدالگو مي‌تواند به توسعه بهتر نرم‌افزار کمک ک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سياري از مهندسان نرم‌افزار مي‌خواهند بدانند «آيا راهي که مي‌روند به شکست منجر مي‌شود»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95" name="Picture 4" descr="ARROWSGN"/>
          <p:cNvPicPr/>
          <p:nvPr/>
        </p:nvPicPr>
        <p:blipFill>
          <a:blip r:embed="rId1"/>
          <a:stretch/>
        </p:blipFill>
        <p:spPr>
          <a:xfrm>
            <a:off x="755640" y="3860640"/>
            <a:ext cx="1511280" cy="2735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AROLER2"/>
          <p:cNvPicPr/>
          <p:nvPr/>
        </p:nvPicPr>
        <p:blipFill>
          <a:blip r:embed="rId2"/>
          <a:stretch/>
        </p:blipFill>
        <p:spPr>
          <a:xfrm>
            <a:off x="2916360" y="4941720"/>
            <a:ext cx="59364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AD98-C329-4A1A-97B3-DF7D6B68D09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ثالي از ضدالگو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در سطح مديريت پروژ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پنج پروژه از شش پروژه به شکست منجر شده‌اند!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يک سوم پروژه‌هاي نرم‌افزاري رها شده‌اند!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ودجه و زمان واقعي انجام پروژه بيش از دو برابر از آنچه تخمين زده مي‌شود، است!!!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0" name="Picture 4" descr="AMADJUST"/>
          <p:cNvPicPr/>
          <p:nvPr/>
        </p:nvPicPr>
        <p:blipFill>
          <a:blip r:embed="rId1"/>
          <a:stretch/>
        </p:blipFill>
        <p:spPr>
          <a:xfrm>
            <a:off x="2843280" y="4411800"/>
            <a:ext cx="24480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E0ED-901B-4326-A821-F97EB982167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ساختارهاي طراحي تکرار شوند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ساختارهاي تکرارشون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سيستم‌هاي شي‌گرا سبب ارتقا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جريد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bstraction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نعطاف‌پذيري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Flexibility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واحدبندي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Modularity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ظرافت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Elegance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که حاوي اطلاعات ارزشمند طراحي هست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611280" y="2349360"/>
            <a:ext cx="7777080" cy="2016360"/>
          </a:xfrm>
          <a:prstGeom prst="roundRect">
            <a:avLst>
              <a:gd name="adj" fmla="val 7463"/>
            </a:avLst>
          </a:prstGeom>
          <a:solidFill>
            <a:srgbClr val="ffff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3300"/>
                </a:solidFill>
                <a:latin typeface="Tahoma"/>
                <a:cs typeface="Nazanin"/>
              </a:rPr>
              <a:t>اما نمي</a:t>
            </a:r>
            <a:r>
              <a:rPr b="1" lang="fa-IR" sz="2800" spc="-1" strike="noStrike">
                <a:solidFill>
                  <a:srgbClr val="333300"/>
                </a:solidFill>
                <a:latin typeface="Tahoma"/>
              </a:rPr>
              <a:t>‌</a:t>
            </a:r>
            <a:r>
              <a:rPr b="1" lang="fa-IR" sz="2800" spc="-1" strike="noStrike">
                <a:solidFill>
                  <a:srgbClr val="333300"/>
                </a:solidFill>
                <a:latin typeface="Tahoma"/>
                <a:cs typeface="Nazanin"/>
              </a:rPr>
              <a:t>توان از اين ساختارها به صورت مستقيم استفاده نم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3300"/>
                </a:solidFill>
                <a:latin typeface="Tahoma"/>
                <a:ea typeface="Nazanin"/>
              </a:rPr>
              <a:t> مسئله اصلي: 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cs typeface="Nazanin"/>
              </a:rPr>
              <a:t>شنـاسايي</a:t>
            </a:r>
            <a:r>
              <a:rPr b="1" lang="fa-IR" sz="2800" spc="-1" strike="noStrike">
                <a:solidFill>
                  <a:srgbClr val="333300"/>
                </a:solidFill>
                <a:latin typeface="Tahoma"/>
                <a:cs typeface="Nazanin"/>
              </a:rPr>
              <a:t>، 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cs typeface="Nazanin"/>
              </a:rPr>
              <a:t>دسته‌بندي</a:t>
            </a:r>
            <a:r>
              <a:rPr b="1" lang="fa-IR" sz="2800" spc="-1" strike="noStrike">
                <a:solidFill>
                  <a:srgbClr val="333300"/>
                </a:solidFill>
                <a:latin typeface="Tahoma"/>
                <a:ea typeface="Nazanin"/>
              </a:rPr>
              <a:t> و 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cs typeface="Nazanin"/>
              </a:rPr>
              <a:t>استفـاده</a:t>
            </a:r>
            <a:r>
              <a:rPr b="1" lang="fa-IR" sz="2800" spc="-1" strike="noStrike">
                <a:solidFill>
                  <a:srgbClr val="333300"/>
                </a:solidFill>
                <a:latin typeface="Tahoma"/>
                <a:ea typeface="Nazanin"/>
              </a:rPr>
              <a:t> از آنهاس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D094-274F-4323-B025-1DFC06D9C2D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ثالي از ضدالگوه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95280" y="1773360"/>
            <a:ext cx="395748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  <a:cs typeface="Nazanin"/>
              </a:rPr>
              <a:t>بحث امرو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فناوري مولفه‌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اشيا توزيع‌ش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معماري سرويس‌گر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استفاده مجدد از نرم‌افزا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عامل‌هاي نرم‌افزار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Agents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رابط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572000" y="1773360"/>
            <a:ext cx="388620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  <a:cs typeface="Nazanin"/>
              </a:rPr>
              <a:t>کار ديرو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برنامه‌نويسي ساختاريافت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طراحي بالا به پائي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معماري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Client/Server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توليد کد از مد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6296-975A-45CD-A6BF-31AB2A8A131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رابطه بين الگو و ضدالگو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غلب الگوهاي طراحي منجر به ضدالگو مي‌شو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رنامه‌نويسي رويه‌اي در دهه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60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70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يک الگوي طراحي بود، اما در حال حاضر ضدالگو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شي‌گرايي در حال حاضر يک الگو است، اما در حال تبديل به ضدالگو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8" name="Picture 4" descr="HOUSE6"/>
          <p:cNvPicPr/>
          <p:nvPr/>
        </p:nvPicPr>
        <p:blipFill>
          <a:blip r:embed="rId1"/>
          <a:stretch/>
        </p:blipFill>
        <p:spPr>
          <a:xfrm>
            <a:off x="5435640" y="5300640"/>
            <a:ext cx="1511280" cy="987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HOUSE1"/>
          <p:cNvPicPr/>
          <p:nvPr/>
        </p:nvPicPr>
        <p:blipFill>
          <a:blip r:embed="rId2"/>
          <a:stretch/>
        </p:blipFill>
        <p:spPr>
          <a:xfrm>
            <a:off x="2916360" y="5084640"/>
            <a:ext cx="1726920" cy="136044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116"/>
          <p:cNvGrpSpPr/>
          <p:nvPr/>
        </p:nvGrpSpPr>
        <p:grpSpPr>
          <a:xfrm>
            <a:off x="395280" y="3789360"/>
            <a:ext cx="1800000" cy="2588760"/>
            <a:chOff x="395280" y="3789360"/>
            <a:chExt cx="1800000" cy="2588760"/>
          </a:xfrm>
        </p:grpSpPr>
        <p:sp>
          <p:nvSpPr>
            <p:cNvPr id="311" name="AutoShape 8"/>
            <p:cNvSpPr/>
            <p:nvPr/>
          </p:nvSpPr>
          <p:spPr>
            <a:xfrm>
              <a:off x="395280" y="3789360"/>
              <a:ext cx="1800000" cy="25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12" name="Group 115"/>
            <p:cNvGrpSpPr/>
            <p:nvPr/>
          </p:nvGrpSpPr>
          <p:grpSpPr>
            <a:xfrm>
              <a:off x="405720" y="3791880"/>
              <a:ext cx="1777680" cy="2572200"/>
              <a:chOff x="405720" y="3791880"/>
              <a:chExt cx="1777680" cy="2572200"/>
            </a:xfrm>
          </p:grpSpPr>
          <p:grpSp>
            <p:nvGrpSpPr>
              <p:cNvPr id="313" name="Group 107"/>
              <p:cNvGrpSpPr/>
              <p:nvPr/>
            </p:nvGrpSpPr>
            <p:grpSpPr>
              <a:xfrm>
                <a:off x="512640" y="3791880"/>
                <a:ext cx="1572840" cy="2551680"/>
                <a:chOff x="512640" y="3791880"/>
                <a:chExt cx="1572840" cy="2551680"/>
              </a:xfrm>
            </p:grpSpPr>
            <p:grpSp>
              <p:nvGrpSpPr>
                <p:cNvPr id="314" name="Group 65"/>
                <p:cNvGrpSpPr/>
                <p:nvPr/>
              </p:nvGrpSpPr>
              <p:grpSpPr>
                <a:xfrm>
                  <a:off x="1204200" y="3791880"/>
                  <a:ext cx="881280" cy="2551680"/>
                  <a:chOff x="1204200" y="3791880"/>
                  <a:chExt cx="881280" cy="2551680"/>
                </a:xfrm>
              </p:grpSpPr>
              <p:grpSp>
                <p:nvGrpSpPr>
                  <p:cNvPr id="315" name="Group 19"/>
                  <p:cNvGrpSpPr/>
                  <p:nvPr/>
                </p:nvGrpSpPr>
                <p:grpSpPr>
                  <a:xfrm>
                    <a:off x="1204200" y="3791880"/>
                    <a:ext cx="881280" cy="2551680"/>
                    <a:chOff x="1204200" y="3791880"/>
                    <a:chExt cx="881280" cy="2551680"/>
                  </a:xfrm>
                </p:grpSpPr>
                <p:grpSp>
                  <p:nvGrpSpPr>
                    <p:cNvPr id="316" name="Group 14"/>
                    <p:cNvGrpSpPr/>
                    <p:nvPr/>
                  </p:nvGrpSpPr>
                  <p:grpSpPr>
                    <a:xfrm>
                      <a:off x="1454760" y="3791880"/>
                      <a:ext cx="349200" cy="143640"/>
                      <a:chOff x="1454760" y="3791880"/>
                      <a:chExt cx="349200" cy="143640"/>
                    </a:xfrm>
                  </p:grpSpPr>
                  <p:sp>
                    <p:nvSpPr>
                      <p:cNvPr id="317" name="Freeform 11"/>
                      <p:cNvSpPr/>
                      <p:nvPr/>
                    </p:nvSpPr>
                    <p:spPr>
                      <a:xfrm>
                        <a:off x="1543320" y="3791880"/>
                        <a:ext cx="260640" cy="130680"/>
                      </a:xfrm>
                      <a:prstGeom prst="pie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8" name="Freeform 12"/>
                      <p:cNvSpPr/>
                      <p:nvPr/>
                    </p:nvSpPr>
                    <p:spPr>
                      <a:xfrm>
                        <a:off x="1454760" y="3791880"/>
                        <a:ext cx="88560" cy="143640"/>
                      </a:xfrm>
                      <a:prstGeom prst="pi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9" name="Freeform 13"/>
                      <p:cNvSpPr/>
                      <p:nvPr/>
                    </p:nvSpPr>
                    <p:spPr>
                      <a:xfrm>
                        <a:off x="1467720" y="3813480"/>
                        <a:ext cx="62640" cy="99360"/>
                      </a:xfrm>
                      <a:prstGeom prst="pie">
                        <a:avLst/>
                      </a:pr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20" name="Group 18"/>
                    <p:cNvGrpSpPr/>
                    <p:nvPr/>
                  </p:nvGrpSpPr>
                  <p:grpSpPr>
                    <a:xfrm>
                      <a:off x="1204200" y="3841200"/>
                      <a:ext cx="881280" cy="2502360"/>
                      <a:chOff x="1204200" y="3841200"/>
                      <a:chExt cx="881280" cy="2502360"/>
                    </a:xfrm>
                  </p:grpSpPr>
                  <p:sp>
                    <p:nvSpPr>
                      <p:cNvPr id="321" name="Freeform 15"/>
                      <p:cNvSpPr/>
                      <p:nvPr/>
                    </p:nvSpPr>
                    <p:spPr>
                      <a:xfrm>
                        <a:off x="1204200" y="3846240"/>
                        <a:ext cx="341640" cy="2497320"/>
                      </a:xfrm>
                      <a:prstGeom prst="pie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22" name="Freeform 16"/>
                      <p:cNvSpPr/>
                      <p:nvPr/>
                    </p:nvSpPr>
                    <p:spPr>
                      <a:xfrm>
                        <a:off x="1545840" y="3841200"/>
                        <a:ext cx="539640" cy="249732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23" name="Freeform 17"/>
                      <p:cNvSpPr/>
                      <p:nvPr/>
                    </p:nvSpPr>
                    <p:spPr>
                      <a:xfrm>
                        <a:off x="1545840" y="3846240"/>
                        <a:ext cx="539640" cy="2497320"/>
                      </a:xfrm>
                      <a:prstGeom prst="pie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grpSp>
                <p:nvGrpSpPr>
                  <p:cNvPr id="324" name="Group 64"/>
                  <p:cNvGrpSpPr/>
                  <p:nvPr/>
                </p:nvGrpSpPr>
                <p:grpSpPr>
                  <a:xfrm>
                    <a:off x="1206720" y="3851280"/>
                    <a:ext cx="782640" cy="2457360"/>
                    <a:chOff x="1206720" y="3851280"/>
                    <a:chExt cx="782640" cy="2457360"/>
                  </a:xfrm>
                </p:grpSpPr>
                <p:grpSp>
                  <p:nvGrpSpPr>
                    <p:cNvPr id="325" name="Group 37"/>
                    <p:cNvGrpSpPr/>
                    <p:nvPr/>
                  </p:nvGrpSpPr>
                  <p:grpSpPr>
                    <a:xfrm>
                      <a:off x="1543680" y="3851280"/>
                      <a:ext cx="445680" cy="2407680"/>
                      <a:chOff x="1543680" y="3851280"/>
                      <a:chExt cx="445680" cy="2407680"/>
                    </a:xfrm>
                  </p:grpSpPr>
                  <p:sp>
                    <p:nvSpPr>
                      <p:cNvPr id="326" name="Freeform 20"/>
                      <p:cNvSpPr/>
                      <p:nvPr/>
                    </p:nvSpPr>
                    <p:spPr>
                      <a:xfrm>
                        <a:off x="1545840" y="5720040"/>
                        <a:ext cx="443160" cy="1162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27" name="Rectangle 21"/>
                      <p:cNvSpPr/>
                      <p:nvPr/>
                    </p:nvSpPr>
                    <p:spPr>
                      <a:xfrm>
                        <a:off x="1545840" y="6159960"/>
                        <a:ext cx="443160" cy="990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28" name="Rectangle 22"/>
                      <p:cNvSpPr/>
                      <p:nvPr/>
                    </p:nvSpPr>
                    <p:spPr>
                      <a:xfrm>
                        <a:off x="1545840" y="6015600"/>
                        <a:ext cx="443160" cy="964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29" name="Rectangle 23"/>
                      <p:cNvSpPr/>
                      <p:nvPr/>
                    </p:nvSpPr>
                    <p:spPr>
                      <a:xfrm>
                        <a:off x="1545840" y="5871600"/>
                        <a:ext cx="443160" cy="990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30" name="Freeform 24"/>
                      <p:cNvSpPr/>
                      <p:nvPr/>
                    </p:nvSpPr>
                    <p:spPr>
                      <a:xfrm>
                        <a:off x="1545840" y="5576040"/>
                        <a:ext cx="440280" cy="11196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31" name="Freeform 25"/>
                      <p:cNvSpPr/>
                      <p:nvPr/>
                    </p:nvSpPr>
                    <p:spPr>
                      <a:xfrm>
                        <a:off x="1543680" y="5432400"/>
                        <a:ext cx="442800" cy="12384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32" name="Freeform 26"/>
                      <p:cNvSpPr/>
                      <p:nvPr/>
                    </p:nvSpPr>
                    <p:spPr>
                      <a:xfrm>
                        <a:off x="1543680" y="5283360"/>
                        <a:ext cx="445680" cy="13680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33" name="Freeform 27"/>
                      <p:cNvSpPr/>
                      <p:nvPr/>
                    </p:nvSpPr>
                    <p:spPr>
                      <a:xfrm>
                        <a:off x="1543680" y="5136840"/>
                        <a:ext cx="445680" cy="15336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34" name="Freeform 28"/>
                      <p:cNvSpPr/>
                      <p:nvPr/>
                    </p:nvSpPr>
                    <p:spPr>
                      <a:xfrm>
                        <a:off x="1543680" y="4995000"/>
                        <a:ext cx="445680" cy="15624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35" name="Freeform 29"/>
                      <p:cNvSpPr/>
                      <p:nvPr/>
                    </p:nvSpPr>
                    <p:spPr>
                      <a:xfrm>
                        <a:off x="1543680" y="4846320"/>
                        <a:ext cx="445680" cy="17100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36" name="Freeform 30"/>
                      <p:cNvSpPr/>
                      <p:nvPr/>
                    </p:nvSpPr>
                    <p:spPr>
                      <a:xfrm>
                        <a:off x="1543680" y="4700160"/>
                        <a:ext cx="445680" cy="1810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37" name="Freeform 31"/>
                      <p:cNvSpPr/>
                      <p:nvPr/>
                    </p:nvSpPr>
                    <p:spPr>
                      <a:xfrm>
                        <a:off x="1548720" y="4558320"/>
                        <a:ext cx="440280" cy="1738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38" name="Freeform 32"/>
                      <p:cNvSpPr/>
                      <p:nvPr/>
                    </p:nvSpPr>
                    <p:spPr>
                      <a:xfrm>
                        <a:off x="1545840" y="4404600"/>
                        <a:ext cx="443160" cy="19332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39" name="Freeform 33"/>
                      <p:cNvSpPr/>
                      <p:nvPr/>
                    </p:nvSpPr>
                    <p:spPr>
                      <a:xfrm>
                        <a:off x="1543680" y="4242960"/>
                        <a:ext cx="445680" cy="20880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0" name="Freeform 34"/>
                      <p:cNvSpPr/>
                      <p:nvPr/>
                    </p:nvSpPr>
                    <p:spPr>
                      <a:xfrm>
                        <a:off x="1543680" y="4116240"/>
                        <a:ext cx="445680" cy="1738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1" name="Freeform 35"/>
                      <p:cNvSpPr/>
                      <p:nvPr/>
                    </p:nvSpPr>
                    <p:spPr>
                      <a:xfrm>
                        <a:off x="1543680" y="3975120"/>
                        <a:ext cx="445680" cy="18324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2" name="Freeform 36"/>
                      <p:cNvSpPr/>
                      <p:nvPr/>
                    </p:nvSpPr>
                    <p:spPr>
                      <a:xfrm>
                        <a:off x="1543680" y="3851280"/>
                        <a:ext cx="445680" cy="17316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43" name="Group 46"/>
                    <p:cNvGrpSpPr/>
                    <p:nvPr/>
                  </p:nvGrpSpPr>
                  <p:grpSpPr>
                    <a:xfrm>
                      <a:off x="1595520" y="3858480"/>
                      <a:ext cx="345960" cy="2450160"/>
                      <a:chOff x="1595520" y="3858480"/>
                      <a:chExt cx="345960" cy="2450160"/>
                    </a:xfrm>
                  </p:grpSpPr>
                  <p:sp>
                    <p:nvSpPr>
                      <p:cNvPr id="344" name="Line 38"/>
                      <p:cNvSpPr/>
                      <p:nvPr/>
                    </p:nvSpPr>
                    <p:spPr>
                      <a:xfrm>
                        <a:off x="1939320" y="3920400"/>
                        <a:ext cx="2160" cy="2356200"/>
                      </a:xfrm>
                      <a:prstGeom prst="line">
                        <a:avLst/>
                      </a:prstGeom>
                      <a:ln w="468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5" name="Line 39"/>
                      <p:cNvSpPr/>
                      <p:nvPr/>
                    </p:nvSpPr>
                    <p:spPr>
                      <a:xfrm>
                        <a:off x="1889640" y="3912840"/>
                        <a:ext cx="2880" cy="2373480"/>
                      </a:xfrm>
                      <a:prstGeom prst="line">
                        <a:avLst/>
                      </a:prstGeom>
                      <a:ln w="468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6" name="Line 40"/>
                      <p:cNvSpPr/>
                      <p:nvPr/>
                    </p:nvSpPr>
                    <p:spPr>
                      <a:xfrm>
                        <a:off x="1837800" y="3900600"/>
                        <a:ext cx="2160" cy="2388240"/>
                      </a:xfrm>
                      <a:prstGeom prst="line">
                        <a:avLst/>
                      </a:prstGeom>
                      <a:ln w="468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7" name="Line 41"/>
                      <p:cNvSpPr/>
                      <p:nvPr/>
                    </p:nvSpPr>
                    <p:spPr>
                      <a:xfrm>
                        <a:off x="1791000" y="3893040"/>
                        <a:ext cx="2160" cy="2408040"/>
                      </a:xfrm>
                      <a:prstGeom prst="line">
                        <a:avLst/>
                      </a:prstGeom>
                      <a:ln w="468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8" name="Line 42"/>
                      <p:cNvSpPr/>
                      <p:nvPr/>
                    </p:nvSpPr>
                    <p:spPr>
                      <a:xfrm>
                        <a:off x="1738440" y="3880080"/>
                        <a:ext cx="2880" cy="2423160"/>
                      </a:xfrm>
                      <a:prstGeom prst="line">
                        <a:avLst/>
                      </a:prstGeom>
                      <a:ln w="468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9" name="Line 43"/>
                      <p:cNvSpPr/>
                      <p:nvPr/>
                    </p:nvSpPr>
                    <p:spPr>
                      <a:xfrm>
                        <a:off x="1691640" y="3872880"/>
                        <a:ext cx="2880" cy="2398320"/>
                      </a:xfrm>
                      <a:prstGeom prst="line">
                        <a:avLst/>
                      </a:prstGeom>
                      <a:ln w="468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0" name="Line 44"/>
                      <p:cNvSpPr/>
                      <p:nvPr/>
                    </p:nvSpPr>
                    <p:spPr>
                      <a:xfrm>
                        <a:off x="1641960" y="3872880"/>
                        <a:ext cx="2880" cy="2405520"/>
                      </a:xfrm>
                      <a:prstGeom prst="line">
                        <a:avLst/>
                      </a:prstGeom>
                      <a:ln w="468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1" name="Line 45"/>
                      <p:cNvSpPr/>
                      <p:nvPr/>
                    </p:nvSpPr>
                    <p:spPr>
                      <a:xfrm>
                        <a:off x="1595520" y="3858480"/>
                        <a:ext cx="2160" cy="2450160"/>
                      </a:xfrm>
                      <a:prstGeom prst="line">
                        <a:avLst/>
                      </a:prstGeom>
                      <a:ln w="468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52" name="Group 63"/>
                    <p:cNvGrpSpPr/>
                    <p:nvPr/>
                  </p:nvGrpSpPr>
                  <p:grpSpPr>
                    <a:xfrm>
                      <a:off x="1206720" y="3975120"/>
                      <a:ext cx="333360" cy="2187000"/>
                      <a:chOff x="1206720" y="3975120"/>
                      <a:chExt cx="333360" cy="2187000"/>
                    </a:xfrm>
                  </p:grpSpPr>
                  <p:sp>
                    <p:nvSpPr>
                      <p:cNvPr id="353" name="Line 47"/>
                      <p:cNvSpPr/>
                      <p:nvPr/>
                    </p:nvSpPr>
                    <p:spPr>
                      <a:xfrm flipH="1">
                        <a:off x="1209240" y="3975120"/>
                        <a:ext cx="330480" cy="23076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4" name="Line 48"/>
                      <p:cNvSpPr/>
                      <p:nvPr/>
                    </p:nvSpPr>
                    <p:spPr>
                      <a:xfrm flipH="1">
                        <a:off x="1214640" y="4119120"/>
                        <a:ext cx="325440" cy="20808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5" name="Freeform 49"/>
                      <p:cNvSpPr/>
                      <p:nvPr/>
                    </p:nvSpPr>
                    <p:spPr>
                      <a:xfrm>
                        <a:off x="1209240" y="4242960"/>
                        <a:ext cx="330480" cy="216000"/>
                      </a:xfrm>
                      <a:prstGeom prst="pie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6" name="Line 50"/>
                      <p:cNvSpPr/>
                      <p:nvPr/>
                    </p:nvSpPr>
                    <p:spPr>
                      <a:xfrm flipH="1">
                        <a:off x="1209240" y="4404600"/>
                        <a:ext cx="330480" cy="19332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7" name="Line 51"/>
                      <p:cNvSpPr/>
                      <p:nvPr/>
                    </p:nvSpPr>
                    <p:spPr>
                      <a:xfrm flipH="1">
                        <a:off x="1209240" y="4558320"/>
                        <a:ext cx="330480" cy="16884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8" name="Line 52"/>
                      <p:cNvSpPr/>
                      <p:nvPr/>
                    </p:nvSpPr>
                    <p:spPr>
                      <a:xfrm flipH="1">
                        <a:off x="1209240" y="4702320"/>
                        <a:ext cx="330480" cy="15624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9" name="Line 53"/>
                      <p:cNvSpPr/>
                      <p:nvPr/>
                    </p:nvSpPr>
                    <p:spPr>
                      <a:xfrm flipH="1">
                        <a:off x="1209240" y="4848840"/>
                        <a:ext cx="330480" cy="14184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0" name="Line 54"/>
                      <p:cNvSpPr/>
                      <p:nvPr/>
                    </p:nvSpPr>
                    <p:spPr>
                      <a:xfrm flipH="1">
                        <a:off x="1209240" y="4997880"/>
                        <a:ext cx="330480" cy="12888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1" name="Line 55"/>
                      <p:cNvSpPr/>
                      <p:nvPr/>
                    </p:nvSpPr>
                    <p:spPr>
                      <a:xfrm flipH="1">
                        <a:off x="1209240" y="5139000"/>
                        <a:ext cx="330480" cy="10908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2" name="Line 56"/>
                      <p:cNvSpPr/>
                      <p:nvPr/>
                    </p:nvSpPr>
                    <p:spPr>
                      <a:xfrm flipH="1">
                        <a:off x="1206720" y="5285520"/>
                        <a:ext cx="333000" cy="10440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3" name="Line 57"/>
                      <p:cNvSpPr/>
                      <p:nvPr/>
                    </p:nvSpPr>
                    <p:spPr>
                      <a:xfrm flipH="1">
                        <a:off x="1206720" y="5434560"/>
                        <a:ext cx="333000" cy="8208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4" name="Line 58"/>
                      <p:cNvSpPr/>
                      <p:nvPr/>
                    </p:nvSpPr>
                    <p:spPr>
                      <a:xfrm flipH="1">
                        <a:off x="1209240" y="5576040"/>
                        <a:ext cx="330480" cy="7452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5" name="Line 59"/>
                      <p:cNvSpPr/>
                      <p:nvPr/>
                    </p:nvSpPr>
                    <p:spPr>
                      <a:xfrm flipH="1">
                        <a:off x="1206720" y="5722920"/>
                        <a:ext cx="333000" cy="5652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6" name="Line 60"/>
                      <p:cNvSpPr/>
                      <p:nvPr/>
                    </p:nvSpPr>
                    <p:spPr>
                      <a:xfrm flipH="1">
                        <a:off x="1225080" y="5871600"/>
                        <a:ext cx="314640" cy="3456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7" name="Line 61"/>
                      <p:cNvSpPr/>
                      <p:nvPr/>
                    </p:nvSpPr>
                    <p:spPr>
                      <a:xfrm flipH="1">
                        <a:off x="1222200" y="6015600"/>
                        <a:ext cx="31752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8" name="Line 62"/>
                      <p:cNvSpPr/>
                      <p:nvPr/>
                    </p:nvSpPr>
                    <p:spPr>
                      <a:xfrm flipH="1">
                        <a:off x="1219680" y="6159960"/>
                        <a:ext cx="320040" cy="216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69" name="Group 106"/>
                <p:cNvGrpSpPr/>
                <p:nvPr/>
              </p:nvGrpSpPr>
              <p:grpSpPr>
                <a:xfrm>
                  <a:off x="512640" y="4352760"/>
                  <a:ext cx="607680" cy="1985760"/>
                  <a:chOff x="512640" y="4352760"/>
                  <a:chExt cx="607680" cy="1985760"/>
                </a:xfrm>
              </p:grpSpPr>
              <p:sp>
                <p:nvSpPr>
                  <p:cNvPr id="370" name="Freeform 66"/>
                  <p:cNvSpPr/>
                  <p:nvPr/>
                </p:nvSpPr>
                <p:spPr>
                  <a:xfrm>
                    <a:off x="731520" y="4357800"/>
                    <a:ext cx="388800" cy="197640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1" name="Freeform 67"/>
                  <p:cNvSpPr/>
                  <p:nvPr/>
                </p:nvSpPr>
                <p:spPr>
                  <a:xfrm>
                    <a:off x="731520" y="4352760"/>
                    <a:ext cx="386280" cy="1981440"/>
                  </a:xfrm>
                  <a:prstGeom prst="pie">
                    <a:avLst/>
                  </a:pr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72" name="Group 105"/>
                  <p:cNvGrpSpPr/>
                  <p:nvPr/>
                </p:nvGrpSpPr>
                <p:grpSpPr>
                  <a:xfrm>
                    <a:off x="512640" y="4352760"/>
                    <a:ext cx="590760" cy="1985760"/>
                    <a:chOff x="512640" y="4352760"/>
                    <a:chExt cx="590760" cy="1985760"/>
                  </a:xfrm>
                </p:grpSpPr>
                <p:grpSp>
                  <p:nvGrpSpPr>
                    <p:cNvPr id="373" name="Group 73"/>
                    <p:cNvGrpSpPr/>
                    <p:nvPr/>
                  </p:nvGrpSpPr>
                  <p:grpSpPr>
                    <a:xfrm>
                      <a:off x="512640" y="4352760"/>
                      <a:ext cx="218160" cy="1985760"/>
                      <a:chOff x="512640" y="4352760"/>
                      <a:chExt cx="218160" cy="1985760"/>
                    </a:xfrm>
                  </p:grpSpPr>
                  <p:sp>
                    <p:nvSpPr>
                      <p:cNvPr id="374" name="Freeform 68"/>
                      <p:cNvSpPr/>
                      <p:nvPr/>
                    </p:nvSpPr>
                    <p:spPr>
                      <a:xfrm>
                        <a:off x="512640" y="4352760"/>
                        <a:ext cx="218160" cy="1985760"/>
                      </a:xfrm>
                      <a:prstGeom prst="pie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75" name="Line 69"/>
                      <p:cNvSpPr/>
                      <p:nvPr/>
                    </p:nvSpPr>
                    <p:spPr>
                      <a:xfrm flipH="1">
                        <a:off x="663480" y="4402800"/>
                        <a:ext cx="2160" cy="189108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76" name="Line 70"/>
                      <p:cNvSpPr/>
                      <p:nvPr/>
                    </p:nvSpPr>
                    <p:spPr>
                      <a:xfrm>
                        <a:off x="593280" y="4454640"/>
                        <a:ext cx="2160" cy="184680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77" name="Rectangle 71"/>
                      <p:cNvSpPr/>
                      <p:nvPr/>
                    </p:nvSpPr>
                    <p:spPr>
                      <a:xfrm>
                        <a:off x="650520" y="6209640"/>
                        <a:ext cx="35640" cy="111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78" name="Rectangle 72"/>
                      <p:cNvSpPr/>
                      <p:nvPr/>
                    </p:nvSpPr>
                    <p:spPr>
                      <a:xfrm>
                        <a:off x="574920" y="6209640"/>
                        <a:ext cx="35640" cy="111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79" name="Group 104"/>
                    <p:cNvGrpSpPr/>
                    <p:nvPr/>
                  </p:nvGrpSpPr>
                  <p:grpSpPr>
                    <a:xfrm>
                      <a:off x="749520" y="4486320"/>
                      <a:ext cx="353880" cy="1833840"/>
                      <a:chOff x="749520" y="4486320"/>
                      <a:chExt cx="353880" cy="1833840"/>
                    </a:xfrm>
                  </p:grpSpPr>
                  <p:grpSp>
                    <p:nvGrpSpPr>
                      <p:cNvPr id="380" name="Group 78"/>
                      <p:cNvGrpSpPr/>
                      <p:nvPr/>
                    </p:nvGrpSpPr>
                    <p:grpSpPr>
                      <a:xfrm>
                        <a:off x="791280" y="6186960"/>
                        <a:ext cx="272880" cy="133200"/>
                        <a:chOff x="791280" y="6186960"/>
                        <a:chExt cx="272880" cy="133200"/>
                      </a:xfrm>
                    </p:grpSpPr>
                    <p:sp>
                      <p:nvSpPr>
                        <p:cNvPr id="381" name="Rectangle 74"/>
                        <p:cNvSpPr/>
                        <p:nvPr/>
                      </p:nvSpPr>
                      <p:spPr>
                        <a:xfrm>
                          <a:off x="962640" y="6189480"/>
                          <a:ext cx="38880" cy="130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2" name="Rectangle 75"/>
                        <p:cNvSpPr/>
                        <p:nvPr/>
                      </p:nvSpPr>
                      <p:spPr>
                        <a:xfrm>
                          <a:off x="1025280" y="6189480"/>
                          <a:ext cx="38880" cy="1285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3" name="Rectangle 76"/>
                        <p:cNvSpPr/>
                        <p:nvPr/>
                      </p:nvSpPr>
                      <p:spPr>
                        <a:xfrm>
                          <a:off x="791280" y="6186960"/>
                          <a:ext cx="38880" cy="1314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4" name="Rectangle 77"/>
                        <p:cNvSpPr/>
                        <p:nvPr/>
                      </p:nvSpPr>
                      <p:spPr>
                        <a:xfrm>
                          <a:off x="858240" y="6186960"/>
                          <a:ext cx="39240" cy="1314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85" name="Group 96"/>
                      <p:cNvGrpSpPr/>
                      <p:nvPr/>
                    </p:nvGrpSpPr>
                    <p:grpSpPr>
                      <a:xfrm>
                        <a:off x="749520" y="4509000"/>
                        <a:ext cx="353880" cy="1598040"/>
                        <a:chOff x="749520" y="4509000"/>
                        <a:chExt cx="353880" cy="1598040"/>
                      </a:xfrm>
                    </p:grpSpPr>
                    <p:sp>
                      <p:nvSpPr>
                        <p:cNvPr id="386" name="Freeform 79"/>
                        <p:cNvSpPr/>
                        <p:nvPr/>
                      </p:nvSpPr>
                      <p:spPr>
                        <a:xfrm>
                          <a:off x="754560" y="4509000"/>
                          <a:ext cx="348480" cy="10908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7" name="Freeform 80"/>
                        <p:cNvSpPr/>
                        <p:nvPr/>
                      </p:nvSpPr>
                      <p:spPr>
                        <a:xfrm>
                          <a:off x="754560" y="4598280"/>
                          <a:ext cx="348480" cy="11124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8" name="Freeform 81"/>
                        <p:cNvSpPr/>
                        <p:nvPr/>
                      </p:nvSpPr>
                      <p:spPr>
                        <a:xfrm>
                          <a:off x="754560" y="4695120"/>
                          <a:ext cx="348480" cy="10908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9" name="Freeform 82"/>
                        <p:cNvSpPr/>
                        <p:nvPr/>
                      </p:nvSpPr>
                      <p:spPr>
                        <a:xfrm>
                          <a:off x="754560" y="4784400"/>
                          <a:ext cx="348480" cy="11124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0" name="Freeform 83"/>
                        <p:cNvSpPr/>
                        <p:nvPr/>
                      </p:nvSpPr>
                      <p:spPr>
                        <a:xfrm>
                          <a:off x="754560" y="4878720"/>
                          <a:ext cx="348480" cy="10404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1" name="Freeform 84"/>
                        <p:cNvSpPr/>
                        <p:nvPr/>
                      </p:nvSpPr>
                      <p:spPr>
                        <a:xfrm>
                          <a:off x="754560" y="4965840"/>
                          <a:ext cx="348480" cy="10404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2" name="Freeform 85"/>
                        <p:cNvSpPr/>
                        <p:nvPr/>
                      </p:nvSpPr>
                      <p:spPr>
                        <a:xfrm>
                          <a:off x="754560" y="5054760"/>
                          <a:ext cx="348480" cy="10440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3" name="Freeform 86"/>
                        <p:cNvSpPr/>
                        <p:nvPr/>
                      </p:nvSpPr>
                      <p:spPr>
                        <a:xfrm>
                          <a:off x="754560" y="5149080"/>
                          <a:ext cx="348480" cy="9648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4" name="Freeform 87"/>
                        <p:cNvSpPr/>
                        <p:nvPr/>
                      </p:nvSpPr>
                      <p:spPr>
                        <a:xfrm>
                          <a:off x="754560" y="5238720"/>
                          <a:ext cx="348480" cy="9648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5" name="Freeform 88"/>
                        <p:cNvSpPr/>
                        <p:nvPr/>
                      </p:nvSpPr>
                      <p:spPr>
                        <a:xfrm>
                          <a:off x="754560" y="5330520"/>
                          <a:ext cx="348480" cy="9144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6" name="Freeform 89"/>
                        <p:cNvSpPr/>
                        <p:nvPr/>
                      </p:nvSpPr>
                      <p:spPr>
                        <a:xfrm>
                          <a:off x="754560" y="5427360"/>
                          <a:ext cx="348480" cy="9396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7" name="Freeform 90"/>
                        <p:cNvSpPr/>
                        <p:nvPr/>
                      </p:nvSpPr>
                      <p:spPr>
                        <a:xfrm>
                          <a:off x="754560" y="5526360"/>
                          <a:ext cx="348480" cy="9144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8" name="Freeform 91"/>
                        <p:cNvSpPr/>
                        <p:nvPr/>
                      </p:nvSpPr>
                      <p:spPr>
                        <a:xfrm>
                          <a:off x="754560" y="5630400"/>
                          <a:ext cx="348480" cy="8712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680" bIns="406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9" name="Freeform 92"/>
                        <p:cNvSpPr/>
                        <p:nvPr/>
                      </p:nvSpPr>
                      <p:spPr>
                        <a:xfrm>
                          <a:off x="752400" y="5730120"/>
                          <a:ext cx="347760" cy="8640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960" bIns="399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00" name="Freeform 93"/>
                        <p:cNvSpPr/>
                        <p:nvPr/>
                      </p:nvSpPr>
                      <p:spPr>
                        <a:xfrm>
                          <a:off x="749520" y="5832000"/>
                          <a:ext cx="353880" cy="8136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920" bIns="3492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01" name="Freeform 94"/>
                        <p:cNvSpPr/>
                        <p:nvPr/>
                      </p:nvSpPr>
                      <p:spPr>
                        <a:xfrm>
                          <a:off x="749520" y="5936040"/>
                          <a:ext cx="353880" cy="7632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880" bIns="298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02" name="Freeform 95"/>
                        <p:cNvSpPr/>
                        <p:nvPr/>
                      </p:nvSpPr>
                      <p:spPr>
                        <a:xfrm>
                          <a:off x="749520" y="6037920"/>
                          <a:ext cx="353880" cy="6912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680" bIns="226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403" name="Group 103"/>
                      <p:cNvGrpSpPr/>
                      <p:nvPr/>
                    </p:nvGrpSpPr>
                    <p:grpSpPr>
                      <a:xfrm>
                        <a:off x="830160" y="4486320"/>
                        <a:ext cx="194400" cy="1704600"/>
                        <a:chOff x="830160" y="4486320"/>
                        <a:chExt cx="194400" cy="1704600"/>
                      </a:xfrm>
                    </p:grpSpPr>
                    <p:grpSp>
                      <p:nvGrpSpPr>
                        <p:cNvPr id="404" name="Group 99"/>
                        <p:cNvGrpSpPr/>
                        <p:nvPr/>
                      </p:nvGrpSpPr>
                      <p:grpSpPr>
                        <a:xfrm>
                          <a:off x="830160" y="4486320"/>
                          <a:ext cx="43560" cy="1704600"/>
                          <a:chOff x="830160" y="4486320"/>
                          <a:chExt cx="43560" cy="1704600"/>
                        </a:xfrm>
                      </p:grpSpPr>
                      <p:sp>
                        <p:nvSpPr>
                          <p:cNvPr id="405" name="Line 97"/>
                          <p:cNvSpPr/>
                          <p:nvPr/>
                        </p:nvSpPr>
                        <p:spPr>
                          <a:xfrm flipV="1">
                            <a:off x="830160" y="4486320"/>
                            <a:ext cx="2160" cy="170460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06" name="Line 98"/>
                          <p:cNvSpPr/>
                          <p:nvPr/>
                        </p:nvSpPr>
                        <p:spPr>
                          <a:xfrm flipV="1">
                            <a:off x="870840" y="4488840"/>
                            <a:ext cx="2880" cy="17017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7" name="Group 102"/>
                        <p:cNvGrpSpPr/>
                        <p:nvPr/>
                      </p:nvGrpSpPr>
                      <p:grpSpPr>
                        <a:xfrm>
                          <a:off x="985680" y="4509000"/>
                          <a:ext cx="38880" cy="1681920"/>
                          <a:chOff x="985680" y="4509000"/>
                          <a:chExt cx="38880" cy="1681920"/>
                        </a:xfrm>
                      </p:grpSpPr>
                      <p:sp>
                        <p:nvSpPr>
                          <p:cNvPr id="408" name="Line 100"/>
                          <p:cNvSpPr/>
                          <p:nvPr/>
                        </p:nvSpPr>
                        <p:spPr>
                          <a:xfrm flipV="1">
                            <a:off x="985680" y="4509000"/>
                            <a:ext cx="2880" cy="16819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09" name="Line 101"/>
                          <p:cNvSpPr/>
                          <p:nvPr/>
                        </p:nvSpPr>
                        <p:spPr>
                          <a:xfrm flipV="1">
                            <a:off x="1021680" y="4514040"/>
                            <a:ext cx="2880" cy="167688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410" name="Group 114"/>
              <p:cNvGrpSpPr/>
              <p:nvPr/>
            </p:nvGrpSpPr>
            <p:grpSpPr>
              <a:xfrm>
                <a:off x="405720" y="5828760"/>
                <a:ext cx="1777680" cy="535320"/>
                <a:chOff x="405720" y="5828760"/>
                <a:chExt cx="1777680" cy="535320"/>
              </a:xfrm>
            </p:grpSpPr>
            <p:sp>
              <p:nvSpPr>
                <p:cNvPr id="411" name="Freeform 108"/>
                <p:cNvSpPr/>
                <p:nvPr/>
              </p:nvSpPr>
              <p:spPr>
                <a:xfrm>
                  <a:off x="1533600" y="6190920"/>
                  <a:ext cx="276840" cy="173160"/>
                </a:xfrm>
                <a:prstGeom prst="pie">
                  <a:avLst/>
                </a:prstGeom>
                <a:solidFill>
                  <a:srgbClr val="008000"/>
                </a:solidFill>
                <a:ln w="46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2" name="Freeform 109"/>
                <p:cNvSpPr/>
                <p:nvPr/>
              </p:nvSpPr>
              <p:spPr>
                <a:xfrm>
                  <a:off x="2016720" y="6185880"/>
                  <a:ext cx="166680" cy="171000"/>
                </a:xfrm>
                <a:prstGeom prst="pie">
                  <a:avLst/>
                </a:prstGeom>
                <a:solidFill>
                  <a:srgbClr val="008000"/>
                </a:solidFill>
                <a:ln w="46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3" name="Freeform 110"/>
                <p:cNvSpPr/>
                <p:nvPr/>
              </p:nvSpPr>
              <p:spPr>
                <a:xfrm>
                  <a:off x="1100160" y="5828760"/>
                  <a:ext cx="146160" cy="493560"/>
                </a:xfrm>
                <a:prstGeom prst="pie">
                  <a:avLst/>
                </a:prstGeom>
                <a:solidFill>
                  <a:srgbClr val="3f5f00"/>
                </a:solidFill>
                <a:ln w="4680">
                  <a:solidFill>
                    <a:srgbClr val="3f5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4" name="Freeform 111"/>
                <p:cNvSpPr/>
                <p:nvPr/>
              </p:nvSpPr>
              <p:spPr>
                <a:xfrm>
                  <a:off x="1371960" y="6220440"/>
                  <a:ext cx="129960" cy="136440"/>
                </a:xfrm>
                <a:prstGeom prst="pie">
                  <a:avLst/>
                </a:prstGeom>
                <a:solidFill>
                  <a:srgbClr val="3f5f00"/>
                </a:solidFill>
                <a:ln w="4680">
                  <a:solidFill>
                    <a:srgbClr val="3f5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5" name="Freeform 112"/>
                <p:cNvSpPr/>
                <p:nvPr/>
              </p:nvSpPr>
              <p:spPr>
                <a:xfrm>
                  <a:off x="1225800" y="6220440"/>
                  <a:ext cx="129960" cy="136440"/>
                </a:xfrm>
                <a:prstGeom prst="pie">
                  <a:avLst/>
                </a:prstGeom>
                <a:solidFill>
                  <a:srgbClr val="3f5f00"/>
                </a:solidFill>
                <a:ln w="4680">
                  <a:solidFill>
                    <a:srgbClr val="3f5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6" name="Freeform 113"/>
                <p:cNvSpPr/>
                <p:nvPr/>
              </p:nvSpPr>
              <p:spPr>
                <a:xfrm>
                  <a:off x="405720" y="6170760"/>
                  <a:ext cx="166680" cy="171360"/>
                </a:xfrm>
                <a:prstGeom prst="pie">
                  <a:avLst/>
                </a:prstGeom>
                <a:solidFill>
                  <a:srgbClr val="3f5f00"/>
                </a:solidFill>
                <a:ln w="4680">
                  <a:solidFill>
                    <a:srgbClr val="3f5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1576-5108-4939-8016-06894C90AC4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رابطه بين الگو و ضدالگو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9" name="Group 117"/>
          <p:cNvGrpSpPr/>
          <p:nvPr/>
        </p:nvGrpSpPr>
        <p:grpSpPr>
          <a:xfrm>
            <a:off x="250920" y="1557360"/>
            <a:ext cx="2958840" cy="4663080"/>
            <a:chOff x="250920" y="1557360"/>
            <a:chExt cx="2958840" cy="4663080"/>
          </a:xfrm>
        </p:grpSpPr>
        <p:sp>
          <p:nvSpPr>
            <p:cNvPr id="420" name="Oval 49"/>
            <p:cNvSpPr/>
            <p:nvPr/>
          </p:nvSpPr>
          <p:spPr>
            <a:xfrm>
              <a:off x="466560" y="2624040"/>
              <a:ext cx="2743200" cy="990720"/>
            </a:xfrm>
            <a:prstGeom prst="ellipse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Arial"/>
                  <a:cs typeface="Titr"/>
                </a:rPr>
                <a:t>زمينه و اجبارها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Rectangle 50"/>
            <p:cNvSpPr/>
            <p:nvPr/>
          </p:nvSpPr>
          <p:spPr>
            <a:xfrm>
              <a:off x="923760" y="1557360"/>
              <a:ext cx="1828800" cy="6858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Arial"/>
                  <a:cs typeface="Titr"/>
                </a:rPr>
                <a:t>مشکل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51"/>
            <p:cNvSpPr/>
            <p:nvPr/>
          </p:nvSpPr>
          <p:spPr>
            <a:xfrm>
              <a:off x="900000" y="3995640"/>
              <a:ext cx="1866960" cy="68580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Arial"/>
                  <a:cs typeface="Titr"/>
                </a:rPr>
                <a:t>راه</a:t>
              </a:r>
              <a:r>
                <a:rPr b="1" lang="fa-IR" sz="2400" spc="-1" strike="noStrike">
                  <a:solidFill>
                    <a:srgbClr val="000000"/>
                  </a:solidFill>
                  <a:latin typeface="Arial"/>
                </a:rPr>
                <a:t>‌</a:t>
              </a:r>
              <a:r>
                <a:rPr b="1" lang="fa-IR" sz="2400" spc="-1" strike="noStrike">
                  <a:solidFill>
                    <a:srgbClr val="000000"/>
                  </a:solidFill>
                  <a:latin typeface="Arial"/>
                  <a:cs typeface="Titr"/>
                </a:rPr>
                <a:t>حل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Text Box 53"/>
            <p:cNvSpPr/>
            <p:nvPr/>
          </p:nvSpPr>
          <p:spPr>
            <a:xfrm>
              <a:off x="2163240" y="558972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99"/>
                  </a:solidFill>
                  <a:latin typeface="Arial"/>
                  <a:cs typeface="Titr"/>
                </a:rPr>
                <a:t>مزايا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Text Box 54"/>
            <p:cNvSpPr/>
            <p:nvPr/>
          </p:nvSpPr>
          <p:spPr>
            <a:xfrm>
              <a:off x="250920" y="5516640"/>
              <a:ext cx="119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99"/>
                  </a:solidFill>
                  <a:latin typeface="Arial"/>
                  <a:cs typeface="Titr"/>
                </a:rPr>
                <a:t>راه</a:t>
              </a:r>
              <a:r>
                <a:rPr b="0" lang="fa-IR" sz="2000" spc="-1" strike="noStrike">
                  <a:solidFill>
                    <a:srgbClr val="000099"/>
                  </a:solidFill>
                  <a:latin typeface="Arial"/>
                </a:rPr>
                <a:t>‌</a:t>
              </a:r>
              <a:r>
                <a:rPr b="0" lang="fa-IR" sz="2000" spc="-1" strike="noStrike">
                  <a:solidFill>
                    <a:srgbClr val="000099"/>
                  </a:solidFill>
                  <a:latin typeface="Arial"/>
                  <a:cs typeface="Titr"/>
                </a:rPr>
                <a:t>حل</a:t>
              </a:r>
              <a:r>
                <a:rPr b="0" lang="fa-IR" sz="2000" spc="-1" strike="noStrike">
                  <a:solidFill>
                    <a:srgbClr val="000099"/>
                  </a:solidFill>
                  <a:latin typeface="Arial"/>
                </a:rPr>
                <a:t>‌</a:t>
              </a:r>
              <a:r>
                <a:rPr b="0" lang="fa-IR" sz="2000" spc="-1" strike="noStrike">
                  <a:solidFill>
                    <a:srgbClr val="000099"/>
                  </a:solidFill>
                  <a:latin typeface="Arial"/>
                  <a:cs typeface="Titr"/>
                </a:rPr>
                <a:t>هاي مرتبط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Text Box 55"/>
            <p:cNvSpPr/>
            <p:nvPr/>
          </p:nvSpPr>
          <p:spPr>
            <a:xfrm>
              <a:off x="1468080" y="558972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99"/>
                  </a:solidFill>
                  <a:latin typeface="Arial"/>
                  <a:cs typeface="Titr"/>
                </a:rPr>
                <a:t>نتايج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56"/>
            <p:cNvSpPr/>
            <p:nvPr/>
          </p:nvSpPr>
          <p:spPr>
            <a:xfrm flipH="1">
              <a:off x="969480" y="4724280"/>
              <a:ext cx="793800" cy="649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57"/>
            <p:cNvSpPr/>
            <p:nvPr/>
          </p:nvSpPr>
          <p:spPr>
            <a:xfrm>
              <a:off x="1871640" y="4724280"/>
              <a:ext cx="539640" cy="72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Line 58"/>
            <p:cNvSpPr/>
            <p:nvPr/>
          </p:nvSpPr>
          <p:spPr>
            <a:xfrm>
              <a:off x="1809720" y="4724280"/>
              <a:ext cx="0" cy="762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9" name="Group 59"/>
            <p:cNvGrpSpPr/>
            <p:nvPr/>
          </p:nvGrpSpPr>
          <p:grpSpPr>
            <a:xfrm>
              <a:off x="1380960" y="3614760"/>
              <a:ext cx="914400" cy="380880"/>
              <a:chOff x="1380960" y="3614760"/>
              <a:chExt cx="914400" cy="380880"/>
            </a:xfrm>
          </p:grpSpPr>
          <p:sp>
            <p:nvSpPr>
              <p:cNvPr id="430" name="Line 60"/>
              <p:cNvSpPr/>
              <p:nvPr/>
            </p:nvSpPr>
            <p:spPr>
              <a:xfrm>
                <a:off x="1838160" y="3614760"/>
                <a:ext cx="0" cy="3808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1" name="Line 61"/>
              <p:cNvSpPr/>
              <p:nvPr/>
            </p:nvSpPr>
            <p:spPr>
              <a:xfrm>
                <a:off x="2295360" y="3614760"/>
                <a:ext cx="0" cy="3808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2" name="Line 62"/>
              <p:cNvSpPr/>
              <p:nvPr/>
            </p:nvSpPr>
            <p:spPr>
              <a:xfrm>
                <a:off x="1380960" y="3614760"/>
                <a:ext cx="0" cy="3808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3" name="Group 63"/>
            <p:cNvGrpSpPr/>
            <p:nvPr/>
          </p:nvGrpSpPr>
          <p:grpSpPr>
            <a:xfrm>
              <a:off x="1380960" y="2243160"/>
              <a:ext cx="914400" cy="380880"/>
              <a:chOff x="1380960" y="2243160"/>
              <a:chExt cx="914400" cy="380880"/>
            </a:xfrm>
          </p:grpSpPr>
          <p:sp>
            <p:nvSpPr>
              <p:cNvPr id="434" name="Line 64"/>
              <p:cNvSpPr/>
              <p:nvPr/>
            </p:nvSpPr>
            <p:spPr>
              <a:xfrm>
                <a:off x="1838160" y="2243160"/>
                <a:ext cx="0" cy="3808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" name="Line 65"/>
              <p:cNvSpPr/>
              <p:nvPr/>
            </p:nvSpPr>
            <p:spPr>
              <a:xfrm>
                <a:off x="2295360" y="2243160"/>
                <a:ext cx="0" cy="3808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Line 66"/>
              <p:cNvSpPr/>
              <p:nvPr/>
            </p:nvSpPr>
            <p:spPr>
              <a:xfrm>
                <a:off x="1380960" y="2243160"/>
                <a:ext cx="0" cy="3808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37" name="WordArt 84"/>
          <p:cNvSpPr txBox="1"/>
          <p:nvPr/>
        </p:nvSpPr>
        <p:spPr>
          <a:xfrm>
            <a:off x="2916360" y="2421000"/>
            <a:ext cx="30985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latin typeface="Titr"/>
              </a:rPr>
              <a:t>زمينه در زمان تغيير مي‌کند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tr"/>
              <a:ea typeface="Titr"/>
            </a:endParaRPr>
          </a:p>
        </p:txBody>
      </p:sp>
      <p:grpSp>
        <p:nvGrpSpPr>
          <p:cNvPr id="438" name="Group 118"/>
          <p:cNvGrpSpPr/>
          <p:nvPr/>
        </p:nvGrpSpPr>
        <p:grpSpPr>
          <a:xfrm>
            <a:off x="4459320" y="1374840"/>
            <a:ext cx="3925800" cy="5637600"/>
            <a:chOff x="4459320" y="1374840"/>
            <a:chExt cx="3925800" cy="5637600"/>
          </a:xfrm>
        </p:grpSpPr>
        <p:sp>
          <p:nvSpPr>
            <p:cNvPr id="439" name="Oval 93"/>
            <p:cNvSpPr/>
            <p:nvPr/>
          </p:nvSpPr>
          <p:spPr>
            <a:xfrm>
              <a:off x="5641920" y="3819600"/>
              <a:ext cx="2743200" cy="990360"/>
            </a:xfrm>
            <a:prstGeom prst="ellipse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Arial"/>
                  <a:cs typeface="Titr"/>
                </a:rPr>
                <a:t>نشانه‌ها و نتايج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94"/>
            <p:cNvSpPr/>
            <p:nvPr/>
          </p:nvSpPr>
          <p:spPr>
            <a:xfrm>
              <a:off x="6099120" y="2752560"/>
              <a:ext cx="1828800" cy="6858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Arial"/>
                  <a:cs typeface="Titr"/>
                </a:rPr>
                <a:t>راه‌حل ضدالگو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Rectangle 95"/>
            <p:cNvSpPr/>
            <p:nvPr/>
          </p:nvSpPr>
          <p:spPr>
            <a:xfrm>
              <a:off x="5724360" y="5191200"/>
              <a:ext cx="2519640" cy="68580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Arial"/>
                  <a:cs typeface="Titr"/>
                </a:rPr>
                <a:t>راه</a:t>
              </a:r>
              <a:r>
                <a:rPr b="1" lang="fa-IR" sz="2400" spc="-1" strike="noStrike">
                  <a:solidFill>
                    <a:srgbClr val="000000"/>
                  </a:solidFill>
                  <a:latin typeface="Arial"/>
                </a:rPr>
                <a:t>‌</a:t>
              </a:r>
              <a:r>
                <a:rPr b="1" lang="fa-IR" sz="2400" spc="-1" strike="noStrike">
                  <a:solidFill>
                    <a:srgbClr val="000000"/>
                  </a:solidFill>
                  <a:latin typeface="Arial"/>
                  <a:cs typeface="Titr"/>
                </a:rPr>
                <a:t>حل جمع‌بندي شده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42" name="Group 96"/>
            <p:cNvGrpSpPr/>
            <p:nvPr/>
          </p:nvGrpSpPr>
          <p:grpSpPr>
            <a:xfrm>
              <a:off x="6556320" y="4809960"/>
              <a:ext cx="914400" cy="380880"/>
              <a:chOff x="6556320" y="4809960"/>
              <a:chExt cx="914400" cy="380880"/>
            </a:xfrm>
          </p:grpSpPr>
          <p:sp>
            <p:nvSpPr>
              <p:cNvPr id="443" name="Line 97"/>
              <p:cNvSpPr/>
              <p:nvPr/>
            </p:nvSpPr>
            <p:spPr>
              <a:xfrm>
                <a:off x="7013520" y="4809960"/>
                <a:ext cx="0" cy="3808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4" name="Line 98"/>
              <p:cNvSpPr/>
              <p:nvPr/>
            </p:nvSpPr>
            <p:spPr>
              <a:xfrm>
                <a:off x="7470720" y="4809960"/>
                <a:ext cx="0" cy="3808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5" name="Line 99"/>
              <p:cNvSpPr/>
              <p:nvPr/>
            </p:nvSpPr>
            <p:spPr>
              <a:xfrm>
                <a:off x="6556320" y="4809960"/>
                <a:ext cx="0" cy="3808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46" name="Group 100"/>
            <p:cNvGrpSpPr/>
            <p:nvPr/>
          </p:nvGrpSpPr>
          <p:grpSpPr>
            <a:xfrm>
              <a:off x="6556320" y="3438360"/>
              <a:ext cx="914400" cy="380880"/>
              <a:chOff x="6556320" y="3438360"/>
              <a:chExt cx="914400" cy="380880"/>
            </a:xfrm>
          </p:grpSpPr>
          <p:sp>
            <p:nvSpPr>
              <p:cNvPr id="447" name="Line 101"/>
              <p:cNvSpPr/>
              <p:nvPr/>
            </p:nvSpPr>
            <p:spPr>
              <a:xfrm>
                <a:off x="7013520" y="3438360"/>
                <a:ext cx="0" cy="3808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8" name="Line 102"/>
              <p:cNvSpPr/>
              <p:nvPr/>
            </p:nvSpPr>
            <p:spPr>
              <a:xfrm>
                <a:off x="7470720" y="3438360"/>
                <a:ext cx="0" cy="3808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Line 103"/>
              <p:cNvSpPr/>
              <p:nvPr/>
            </p:nvSpPr>
            <p:spPr>
              <a:xfrm>
                <a:off x="6556320" y="3438360"/>
                <a:ext cx="0" cy="3808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" name="Oval 104"/>
            <p:cNvSpPr/>
            <p:nvPr/>
          </p:nvSpPr>
          <p:spPr>
            <a:xfrm>
              <a:off x="5641920" y="1374840"/>
              <a:ext cx="2743200" cy="9903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Arial"/>
                  <a:cs typeface="Titr"/>
                </a:rPr>
                <a:t>زمينه و علل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" name="Group 105"/>
            <p:cNvGrpSpPr/>
            <p:nvPr/>
          </p:nvGrpSpPr>
          <p:grpSpPr>
            <a:xfrm>
              <a:off x="6556320" y="2365200"/>
              <a:ext cx="914400" cy="380880"/>
              <a:chOff x="6556320" y="2365200"/>
              <a:chExt cx="914400" cy="380880"/>
            </a:xfrm>
          </p:grpSpPr>
          <p:sp>
            <p:nvSpPr>
              <p:cNvPr id="452" name="Line 106"/>
              <p:cNvSpPr/>
              <p:nvPr/>
            </p:nvSpPr>
            <p:spPr>
              <a:xfrm>
                <a:off x="7013520" y="2365200"/>
                <a:ext cx="0" cy="3808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Line 107"/>
              <p:cNvSpPr/>
              <p:nvPr/>
            </p:nvSpPr>
            <p:spPr>
              <a:xfrm>
                <a:off x="7470720" y="2365200"/>
                <a:ext cx="0" cy="3808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" name="Line 108"/>
              <p:cNvSpPr/>
              <p:nvPr/>
            </p:nvSpPr>
            <p:spPr>
              <a:xfrm>
                <a:off x="6556320" y="2365200"/>
                <a:ext cx="0" cy="3808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5" name="Text Box 111"/>
            <p:cNvSpPr/>
            <p:nvPr/>
          </p:nvSpPr>
          <p:spPr>
            <a:xfrm>
              <a:off x="7314480" y="630864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99"/>
                  </a:solidFill>
                  <a:latin typeface="Arial"/>
                  <a:cs typeface="Titr"/>
                </a:rPr>
                <a:t>مزايا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112"/>
            <p:cNvSpPr/>
            <p:nvPr/>
          </p:nvSpPr>
          <p:spPr>
            <a:xfrm>
              <a:off x="4459320" y="6308640"/>
              <a:ext cx="1984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99"/>
                  </a:solidFill>
                  <a:latin typeface="Arial"/>
                  <a:cs typeface="Titr"/>
                </a:rPr>
                <a:t>راه</a:t>
              </a:r>
              <a:r>
                <a:rPr b="0" lang="fa-IR" sz="2000" spc="-1" strike="noStrike">
                  <a:solidFill>
                    <a:srgbClr val="000099"/>
                  </a:solidFill>
                  <a:latin typeface="Arial"/>
                </a:rPr>
                <a:t>‌</a:t>
              </a:r>
              <a:r>
                <a:rPr b="0" lang="fa-IR" sz="2000" spc="-1" strike="noStrike">
                  <a:solidFill>
                    <a:srgbClr val="000099"/>
                  </a:solidFill>
                  <a:latin typeface="Arial"/>
                  <a:cs typeface="Titr"/>
                </a:rPr>
                <a:t>حل</a:t>
              </a:r>
              <a:r>
                <a:rPr b="0" lang="fa-IR" sz="2000" spc="-1" strike="noStrike">
                  <a:solidFill>
                    <a:srgbClr val="000099"/>
                  </a:solidFill>
                  <a:latin typeface="Arial"/>
                </a:rPr>
                <a:t>‌</a:t>
              </a:r>
              <a:r>
                <a:rPr b="0" lang="fa-IR" sz="2000" spc="-1" strike="noStrike">
                  <a:solidFill>
                    <a:srgbClr val="000099"/>
                  </a:solidFill>
                  <a:latin typeface="Arial"/>
                  <a:cs typeface="Titr"/>
                </a:rPr>
                <a:t>هاي مرتبط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Text Box 113"/>
            <p:cNvSpPr/>
            <p:nvPr/>
          </p:nvSpPr>
          <p:spPr>
            <a:xfrm>
              <a:off x="6460560" y="630864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99"/>
                  </a:solidFill>
                  <a:latin typeface="Arial"/>
                  <a:cs typeface="Titr"/>
                </a:rPr>
                <a:t>نتايج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Line 114"/>
            <p:cNvSpPr/>
            <p:nvPr/>
          </p:nvSpPr>
          <p:spPr>
            <a:xfrm flipH="1">
              <a:off x="6084720" y="5877000"/>
              <a:ext cx="433440" cy="360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Line 115"/>
            <p:cNvSpPr/>
            <p:nvPr/>
          </p:nvSpPr>
          <p:spPr>
            <a:xfrm>
              <a:off x="7164360" y="5877000"/>
              <a:ext cx="360360" cy="360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Line 116"/>
            <p:cNvSpPr/>
            <p:nvPr/>
          </p:nvSpPr>
          <p:spPr>
            <a:xfrm>
              <a:off x="6732720" y="5877000"/>
              <a:ext cx="0" cy="431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4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9A32-070A-4F8B-A610-3A91E437D5E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ضدالگو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AutoShape 5"/>
          <p:cNvSpPr/>
          <p:nvPr/>
        </p:nvSpPr>
        <p:spPr>
          <a:xfrm>
            <a:off x="395280" y="1701720"/>
            <a:ext cx="3672000" cy="3959280"/>
          </a:xfrm>
          <a:custGeom>
            <a:avLst/>
            <a:gdLst>
              <a:gd name="textAreaLeft" fmla="*/ 47160 w 3672000"/>
              <a:gd name="textAreaRight" fmla="*/ 3624840 w 3672000"/>
              <a:gd name="textAreaTop" fmla="*/ 47160 h 3959280"/>
              <a:gd name="textAreaBottom" fmla="*/ 3912120 h 3959280"/>
            </a:gdLst>
            <a:ahLst/>
            <a:rect l="textAreaLeft" t="textAreaTop" r="textAreaRight" b="textAreaBottom"/>
            <a:pathLst>
              <a:path w="21600" h="23290">
                <a:moveTo>
                  <a:pt x="953" y="0"/>
                </a:moveTo>
                <a:arcTo wR="953" hR="953" stAng="16200000" swAng="-5400000"/>
                <a:lnTo>
                  <a:pt x="0" y="22337"/>
                </a:lnTo>
                <a:arcTo wR="953" hR="953" stAng="10800000" swAng="-5400000"/>
                <a:lnTo>
                  <a:pt x="20647" y="23290"/>
                </a:lnTo>
                <a:arcTo wR="953" hR="953" stAng="5400000" swAng="-5400000"/>
                <a:lnTo>
                  <a:pt x="21600" y="953"/>
                </a:lnTo>
                <a:arcTo wR="953" hR="953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The Blo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Continuous obsolesc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Lava F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Ambiguous view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Functional decom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Polterge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Boat Anch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AutoShape 6"/>
          <p:cNvSpPr/>
          <p:nvPr/>
        </p:nvSpPr>
        <p:spPr>
          <a:xfrm>
            <a:off x="4427640" y="1701720"/>
            <a:ext cx="3889440" cy="3959280"/>
          </a:xfrm>
          <a:custGeom>
            <a:avLst/>
            <a:gdLst>
              <a:gd name="textAreaLeft" fmla="*/ 50040 w 3889440"/>
              <a:gd name="textAreaRight" fmla="*/ 3839400 w 3889440"/>
              <a:gd name="textAreaTop" fmla="*/ 50040 h 3959280"/>
              <a:gd name="textAreaBottom" fmla="*/ 3909240 h 3959280"/>
            </a:gdLst>
            <a:ahLst/>
            <a:rect l="textAreaLeft" t="textAreaTop" r="textAreaRight" b="textAreaBottom"/>
            <a:pathLst>
              <a:path w="21600" h="21988">
                <a:moveTo>
                  <a:pt x="953" y="0"/>
                </a:moveTo>
                <a:arcTo wR="953" hR="953" stAng="16200000" swAng="-5400000"/>
                <a:lnTo>
                  <a:pt x="0" y="21035"/>
                </a:lnTo>
                <a:arcTo wR="953" hR="953" stAng="10800000" swAng="-5400000"/>
                <a:lnTo>
                  <a:pt x="20647" y="21988"/>
                </a:lnTo>
                <a:arcTo wR="953" hR="953" stAng="5400000" swAng="-5400000"/>
                <a:lnTo>
                  <a:pt x="21600" y="953"/>
                </a:lnTo>
                <a:arcTo wR="953" hR="953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Golden Ham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Dead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Spaghetti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Input Klu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Walking through a Mine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Cut-and-Paste Program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Mushroom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AB95-9D0F-42BB-9218-EA4F2BE8EC3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طبقه‌‌بندي ضدالگو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ضدالگوهاي توسع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ضدالگوهاي معما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ضدالگوهاي مديريت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9F0C-927C-45CC-B343-F963CAA39C1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ضدالگوهاي توسعه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Lava Flow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مشک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استفاده از کد قديمي و اطلاعات طراحي فراموش‌شده در طراحي دايم‌التغيي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نمون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طراح ارشد استعفا نموده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طراح جديد روش بهتري ارائه نموده است، اما بدليل عدم آشنايي با کد نمي‌تواند آنها را حذف نما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8DF5-1C3C-4FAD-A918-A4AE6DD218F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ضدالگوهاي توسعه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Lava Flow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عل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توزيع کنترل‌نشده کدهاي اتمام نشده يا اصلاح نشد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قسمت‌ها و مسيرهايي که براي تست در کد قرار داده شده بودند، حذف نشد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شکاف در معماري بخاطر استفاده از فناوري قديم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74240" indent="-21456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cc"/>
                </a:solidFill>
                <a:latin typeface="Times New Roman"/>
              </a:rPr>
              <a:t>شکاف در معماري وقتي بوجود مي‌آيد که معماري اوليه پس از شروع توسعه دچار تغييرات شگرف شو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فقدان معمار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فقدان مديريت پيکربند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49B1-ABB8-49E2-89A7-2B15694BC53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ضدالگوهاي توسعه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Lava Flow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راه‌ح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استفاده از سيستم مديريت پيکربندي سبب مي‌شود که کدهاي کهنه شناسايي و حذف 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تکميل‌نمودن طراحي (قديمي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استفاده از يک معماري سالم براي پيش‌بردن مراحل توسعه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استفاده از رابط در سطح سيستم که خوش-تعريف، پايا و بدرستي مستند شده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A543-54EF-4B72-A6B0-40450C9E764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ضدالگوهاي توسعه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Blob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مشک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استفاده از سبک طراحي رويه‌اي منجر به ايجاد كلاسي با مسئوليت بسيار زياد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بقيه كلاس‌ها تنها داده نگهداري مي‌نماي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اين کلاس همان کلاسي است که قلب معماري خواهد ب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اين کلاس پردازش و ديگر داده‌ها را انحصاري مي‌نما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E35C-C0D7-4308-9E68-B4B73946EC8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ضدالگوهاي توسعه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Blob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عل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فقدان ديدگاه معماري شي‌گرايي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عدم وجود التزام به معمار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طراح رويه‌اي معمار ارشد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عدم تمايل توسعه‌دهندگان در طراحي کلاس‌هاي جديد و كارآم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33cc"/>
                </a:solidFill>
                <a:latin typeface="Times New Roman"/>
              </a:rPr>
              <a:t>در پروژه‌هاي تکراري افراد سعي مي‌کنند کار خود را افزايش ندهند و ترجيح مي‌دهند از کلاس‌هاي قديمي‌تر استفاده نمايند، بدون اينکه نياز به نوآوري داشته باش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282F-ACA2-419F-A5E5-9606F746B09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ي طراح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جريدي از ساختار طراحي تکرارشونده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امل کلاس و/يا اشياء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وابستگي‌ها (</a:t>
            </a:r>
            <a:r>
              <a:rPr b="1" i="1" lang="en-US" sz="1800" spc="-1" strike="noStrike">
                <a:solidFill>
                  <a:srgbClr val="993300"/>
                </a:solidFill>
                <a:latin typeface="Times New Roman"/>
              </a:rPr>
              <a:t>Dependencies</a:t>
            </a: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ساختارها (</a:t>
            </a:r>
            <a:r>
              <a:rPr b="1" i="1" lang="en-US" sz="1800" spc="-1" strike="noStrike">
                <a:solidFill>
                  <a:srgbClr val="993300"/>
                </a:solidFill>
                <a:latin typeface="Times New Roman"/>
              </a:rPr>
              <a:t>Structures</a:t>
            </a: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تعاملات (</a:t>
            </a:r>
            <a:r>
              <a:rPr b="1" i="1" lang="en-US" sz="1800" spc="-1" strike="noStrike">
                <a:solidFill>
                  <a:srgbClr val="993300"/>
                </a:solidFill>
                <a:latin typeface="Times New Roman"/>
              </a:rPr>
              <a:t>Interactions</a:t>
            </a: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قراردادها (</a:t>
            </a:r>
            <a:r>
              <a:rPr b="1" i="1" lang="en-US" sz="1800" spc="-1" strike="noStrike">
                <a:solidFill>
                  <a:srgbClr val="993300"/>
                </a:solidFill>
                <a:latin typeface="Times New Roman"/>
              </a:rPr>
              <a:t>Conventions</a:t>
            </a:r>
            <a:r>
              <a:rPr b="1" lang="fa-IR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ام‌‌ها و ساختار طراحي را به‌صورت صريح تعيين مي‌ک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چکيده‌اي از تجربيات طراحي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0C80-BDB4-4C16-836D-7804D23369C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ضدالگوهاي توسعه -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Blob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3300"/>
                </a:solidFill>
                <a:latin typeface="Times New Roman"/>
              </a:rPr>
              <a:t>راه‌ح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توزيع مجدد وظيفه‌مندي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جداسازي اثر تغييرا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تعيين يا طبقه‌بندي خصوصيات و عمليا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حذف «ارتباطات بسيار دور»، زائد يا غيرمستقيم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حذف تمام ارتباطات موق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F15B-E2ED-465D-B511-E30956023AA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4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8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74C9-C84A-4344-B37F-15C8D1F491D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لگوي طراح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جموعه‌اي از بهترين تجربيات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راه‌حلي نمونه براي مسئله‌اي در زمينه خاص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راهي براي تسهيل ارتباطات بين ذينفعا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لگوها پيدا شده‌اند و ابداع نشده‌ا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EB07-E930-4D61-8B2F-3B480F1E92E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اريخچه الگوهاي طراح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6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1964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Christopher Alexander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کتاب معماري و طراحي شهر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يان نکاتي در مورد ترکيب شکل‌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زبان الگو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راهي براي ساختن سريع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547640" y="4581360"/>
            <a:ext cx="540072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ABE5-CCCC-4CC2-9D89-17A2F322136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اريخچه الگوهاي طراحي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 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6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1987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Ward Cunningham &amp; Kent Beck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صميم به استفاده از ايده‌هاي الکساند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وسعه پنج الگو براي برنامه‌نويسان مبتدي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Smalltalk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رائه مقاله‌اي در اين زمينه در کنفرانس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OOPSLA'87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9" name="Picture 4" descr="TREES2"/>
          <p:cNvPicPr/>
          <p:nvPr/>
        </p:nvPicPr>
        <p:blipFill>
          <a:blip r:embed="rId1"/>
          <a:stretch/>
        </p:blipFill>
        <p:spPr>
          <a:xfrm>
            <a:off x="1989000" y="4005360"/>
            <a:ext cx="1862280" cy="170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TREE3"/>
          <p:cNvPicPr/>
          <p:nvPr/>
        </p:nvPicPr>
        <p:blipFill>
          <a:blip r:embed="rId2"/>
          <a:stretch/>
        </p:blipFill>
        <p:spPr>
          <a:xfrm>
            <a:off x="5292720" y="4149720"/>
            <a:ext cx="2089080" cy="1758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TREE5"/>
          <p:cNvPicPr/>
          <p:nvPr/>
        </p:nvPicPr>
        <p:blipFill>
          <a:blip r:embed="rId3"/>
          <a:stretch/>
        </p:blipFill>
        <p:spPr>
          <a:xfrm>
            <a:off x="216000" y="4746600"/>
            <a:ext cx="1834920" cy="1573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REE6"/>
          <p:cNvPicPr/>
          <p:nvPr/>
        </p:nvPicPr>
        <p:blipFill>
          <a:blip r:embed="rId4"/>
          <a:stretch/>
        </p:blipFill>
        <p:spPr>
          <a:xfrm>
            <a:off x="7164360" y="4941720"/>
            <a:ext cx="1655640" cy="158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TREES"/>
          <p:cNvPicPr/>
          <p:nvPr/>
        </p:nvPicPr>
        <p:blipFill>
          <a:blip r:embed="rId5"/>
          <a:stretch/>
        </p:blipFill>
        <p:spPr>
          <a:xfrm>
            <a:off x="3838680" y="4653000"/>
            <a:ext cx="145404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Administrator</cp:lastModifiedBy>
  <dcterms:modified xsi:type="dcterms:W3CDTF">2011-10-06T09:21:01Z</dcterms:modified>
  <cp:revision>2183</cp:revision>
  <dc:subject/>
  <dc:title>PowerPoint Presentation</dc:title>
</cp:coreProperties>
</file>