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9CAE-DCFB-4B7A-B2F8-3D3F192D9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D245-15B4-40F9-B108-2CFCFFEB6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59EB-6E20-4B58-8709-565C2A574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12DE-B820-419C-8FA1-D02BFDD57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EE8D3-31CB-46B4-8524-DB17D38B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5FD83-FD80-4584-AFF8-E6EC3001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AE5EF-C00A-45A3-896B-EFA20656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9A3C5-ABEF-48A8-B4DE-F54978F1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E59CE-D2EF-4935-9670-3AD74E36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B43A3-3F45-4227-9DDD-DACDDC45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6EA3A-01A8-48E1-A4C2-52BC8E48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F667-A448-4112-8201-6E59F1874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3E133-84B5-44A0-B7A5-8C4DA812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FB7F5-721F-4EE7-8F45-BA2FE0A5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8EAC2-AC3C-4FC7-B7CC-89159A51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58C05-042B-4D95-B86C-D8207AB1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E5088-EDCC-49D2-B7D1-E921EF26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2E4C-0F68-4F3A-A5D6-06E51E6D6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4CF5-D941-4A5C-BA51-BF58843FC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2AF2-2E43-4021-A10D-E51BFC4E0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9A4C-7150-444A-81F0-9FEA2846E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4846-55A6-4F4E-99EB-A816602C5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CFF6-1366-4264-A575-BD5FDF816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0049-49D7-4A8F-9BA5-DA4F78648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5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51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51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DE9D-0724-41D8-B229-D13423F611A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5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51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51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FA12-02C9-4610-A357-244DC5CF153D}" type="slidenum">
              <a:rPr b="0" lang="ar-SA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075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619200" y="2997360"/>
            <a:ext cx="79056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tr"/>
              </a:rPr>
              <a:t>روش‌هاي شناسائي و يافتن كلاس‌ه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078"/>
          <p:cNvSpPr/>
          <p:nvPr/>
        </p:nvSpPr>
        <p:spPr>
          <a:xfrm>
            <a:off x="3616200" y="220500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چهار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EC5A-FC89-447C-9D1A-16DF5F47A83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يافتن كلاس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رهياف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 روش‌هاي مبتني بر داد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Data Driven Approach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 روش‌هاي مبتني بر رفتار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Responsibility Driven Approach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219320" y="407664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" name="Group 5"/>
          <p:cNvGrpSpPr/>
          <p:nvPr/>
        </p:nvGrpSpPr>
        <p:grpSpPr>
          <a:xfrm>
            <a:off x="685800" y="4152960"/>
            <a:ext cx="7238880" cy="609480"/>
            <a:chOff x="685800" y="4152960"/>
            <a:chExt cx="7238880" cy="609480"/>
          </a:xfrm>
        </p:grpSpPr>
        <p:sp>
          <p:nvSpPr>
            <p:cNvPr id="205" name="AutoShape 6"/>
            <p:cNvSpPr/>
            <p:nvPr/>
          </p:nvSpPr>
          <p:spPr>
            <a:xfrm>
              <a:off x="3886200" y="4152960"/>
              <a:ext cx="1219320" cy="609480"/>
            </a:xfrm>
            <a:prstGeom prst="leftArrow">
              <a:avLst>
                <a:gd name="adj1" fmla="val 50000"/>
                <a:gd name="adj2" fmla="val 50015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AutoShape 7"/>
            <p:cNvSpPr/>
            <p:nvPr/>
          </p:nvSpPr>
          <p:spPr>
            <a:xfrm>
              <a:off x="5105520" y="4152960"/>
              <a:ext cx="1295280" cy="609480"/>
            </a:xfrm>
            <a:prstGeom prst="rightArrow">
              <a:avLst>
                <a:gd name="adj1" fmla="val 50000"/>
                <a:gd name="adj2" fmla="val 531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tr Mazar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685800" y="41529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  <a:ea typeface="Titr Mazar"/>
                </a:rPr>
                <a:t>Responsibiliti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6324480" y="41529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  <a:ea typeface="Titr Mazar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" name="Text Box 10"/>
          <p:cNvSpPr/>
          <p:nvPr/>
        </p:nvSpPr>
        <p:spPr>
          <a:xfrm>
            <a:off x="6095880" y="4838760"/>
            <a:ext cx="2210040" cy="825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اولويت با داده‌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990720" y="4838760"/>
            <a:ext cx="2209680" cy="825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اولويت با وظاي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7A04-4951-446E-928B-C380D2A8C66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وش‌هاي مبتني بر داد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اين روش‌ها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بنا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شناسائي كلاس‌هاي مناسب سيستم، شناسائ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اختار داد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‌هاي مورد نياز هر كلاس است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260640" indent="-26064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فرآيند تعيين كلاس‌ها با پرسيدن دو سوال صورت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ير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56448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-   ساختار هر كلاس چيست؟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56448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-   چه عملياتي بوسيله هر كلاس انجام مي گيرد؟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260640" indent="-26064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زيت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564480" indent="-21708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سهولت يادگيري مخصوصا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ً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براي كساني كه پيش زمين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ي در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روش‌هاي ساخت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يافته و طراحي مبتني بر داده‌ها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را دارن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F344-CD58-4FE7-8F1F-C92BAECB463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وش‌هاي مبتني بر داد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403280" y="1989000"/>
            <a:ext cx="6264360" cy="2808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5187960" y="3203640"/>
            <a:ext cx="2133720" cy="1557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گام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1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: داده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هاي مورد نياز را تعيين كن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835280" y="3203640"/>
            <a:ext cx="3200400" cy="19227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گام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2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: عمليات مورد نياز بر اساس ساختار داد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ه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هاي پيشنهادي را معين كن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1835280" y="2441520"/>
            <a:ext cx="548640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روش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ي مبتني بر د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5315040" y="5199120"/>
            <a:ext cx="3504960" cy="1191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سرويس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هاي كلاس به ساختار داخلي آن وابسته خواهند بو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528480" y="5199120"/>
            <a:ext cx="3948120" cy="1191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سرويس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گيرندگان به ساختار داخلي كلاس وابسته خواهند ش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10"/>
          <p:cNvSpPr/>
          <p:nvPr/>
        </p:nvSpPr>
        <p:spPr>
          <a:xfrm rot="5392800">
            <a:off x="7661160" y="3392280"/>
            <a:ext cx="936360" cy="866880"/>
          </a:xfrm>
          <a:prstGeom prst="pie">
            <a:avLst/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4552920" y="5351400"/>
            <a:ext cx="685800" cy="486000"/>
          </a:xfrm>
          <a:prstGeom prst="leftArrow">
            <a:avLst>
              <a:gd name="adj1" fmla="val 60130"/>
              <a:gd name="adj2" fmla="val 48344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1042920" y="2637000"/>
            <a:ext cx="7086600" cy="1600200"/>
            <a:chOff x="1042920" y="2637000"/>
            <a:chExt cx="7086600" cy="1600200"/>
          </a:xfrm>
        </p:grpSpPr>
        <p:sp>
          <p:nvSpPr>
            <p:cNvPr id="225" name="Rectangle 13"/>
            <p:cNvSpPr/>
            <p:nvPr/>
          </p:nvSpPr>
          <p:spPr>
            <a:xfrm>
              <a:off x="1042920" y="2637000"/>
              <a:ext cx="7086600" cy="1600200"/>
            </a:xfrm>
            <a:prstGeom prst="rect">
              <a:avLst/>
            </a:prstGeom>
            <a:solidFill>
              <a:srgbClr val="ff99cc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0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    </a:t>
              </a:r>
              <a:r>
                <a:rPr b="1" lang="ar-SA" sz="30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 </a:t>
              </a:r>
              <a:r>
                <a:rPr b="1" lang="fa-IR" sz="30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1" lang="ar-SA" sz="30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نقض اصل محصورسازي و هدف از واسط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AutoShape 14"/>
            <p:cNvSpPr/>
            <p:nvPr/>
          </p:nvSpPr>
          <p:spPr>
            <a:xfrm>
              <a:off x="6681600" y="2789280"/>
              <a:ext cx="1219320" cy="1143000"/>
            </a:xfrm>
            <a:prstGeom prst="pi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999A-567A-499E-BFA6-8AF7A599FC4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وش‌هاي مبتني بر وظيف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اين روش‌ها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بنا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شناسائي كلاس‌هاي مناسب سيستم، شناسائ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سئوليت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ا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مورد نياز هر كلاس است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فرآيند تعيين كلاس‌ها با پرسيدن دو سوال صورت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ير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-  هر كلاس چه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مسئوليت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دارد؟ (چه عملياتي بوسيله اين كلاس انجام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گيرد؟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-  اين ش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، چه اطلاعاتي با بقيه اشياء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به اشتراك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گذارد؟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3D8A-C302-4C40-A08A-27D67C435CA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وش‌هاي مبتني بر وظيف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1619280" y="1557360"/>
            <a:ext cx="5951160" cy="3492000"/>
            <a:chOff x="1619280" y="1557360"/>
            <a:chExt cx="5951160" cy="3492000"/>
          </a:xfrm>
        </p:grpSpPr>
        <p:sp>
          <p:nvSpPr>
            <p:cNvPr id="233" name="Rectangle 5"/>
            <p:cNvSpPr/>
            <p:nvPr/>
          </p:nvSpPr>
          <p:spPr>
            <a:xfrm>
              <a:off x="1619280" y="1557360"/>
              <a:ext cx="5951160" cy="3492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Text Box 6"/>
            <p:cNvSpPr/>
            <p:nvPr/>
          </p:nvSpPr>
          <p:spPr>
            <a:xfrm>
              <a:off x="5007960" y="2775240"/>
              <a:ext cx="2314440" cy="15570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  <a:cs typeface="Nazanin"/>
                </a:rPr>
                <a:t>گام </a:t>
              </a: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  <a:ea typeface="Nazanin"/>
                </a:rPr>
                <a:t>1</a:t>
              </a: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  <a:ea typeface="Nazanin"/>
                </a:rPr>
                <a:t>: عمليات مورد نياز را تعيين كنيد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Text Box 7"/>
            <p:cNvSpPr/>
            <p:nvPr/>
          </p:nvSpPr>
          <p:spPr>
            <a:xfrm>
              <a:off x="2032200" y="2775240"/>
              <a:ext cx="2810520" cy="1191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  <a:cs typeface="Nazanin"/>
                </a:rPr>
                <a:t>گام </a:t>
              </a: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  <a:ea typeface="Nazanin"/>
                </a:rPr>
                <a:t>2</a:t>
              </a: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  <a:ea typeface="Nazanin"/>
                </a:rPr>
                <a:t>: ساختار داده</a:t>
              </a:r>
              <a:r>
                <a:rPr b="1" lang="fa-IR" sz="2400" spc="-1" strike="noStrike">
                  <a:solidFill>
                    <a:srgbClr val="000099"/>
                  </a:solidFill>
                  <a:latin typeface="Times New Roman"/>
                  <a:ea typeface="Nazanin"/>
                </a:rPr>
                <a:t>‌</a:t>
              </a: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  <a:cs typeface="Nazanin"/>
                </a:rPr>
                <a:t>اي مورد نياز را </a:t>
              </a:r>
              <a:r>
                <a:rPr b="1" lang="fa-IR" sz="2400" spc="-1" strike="noStrike">
                  <a:solidFill>
                    <a:srgbClr val="000099"/>
                  </a:solidFill>
                  <a:latin typeface="Times New Roman"/>
                  <a:cs typeface="Nazanin"/>
                </a:rPr>
                <a:t>ت</a:t>
              </a: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  <a:cs typeface="Nazanin"/>
                </a:rPr>
                <a:t>ع</a:t>
              </a:r>
              <a:r>
                <a:rPr b="1" lang="fa-IR" sz="2400" spc="-1" strike="noStrike">
                  <a:solidFill>
                    <a:srgbClr val="000099"/>
                  </a:solidFill>
                  <a:latin typeface="Times New Roman"/>
                  <a:cs typeface="Nazanin"/>
                </a:rPr>
                <a:t>يي</a:t>
              </a: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  <a:cs typeface="Nazanin"/>
                </a:rPr>
                <a:t>ن كنيد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2032200" y="1882080"/>
              <a:ext cx="5290200" cy="459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روش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Homa"/>
                </a:rPr>
                <a:t>‌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هاي مبتني بر وظيفه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2032200" y="4318560"/>
              <a:ext cx="5290200" cy="459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الگوي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/Serve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8" name="Text Box 10"/>
          <p:cNvSpPr/>
          <p:nvPr/>
        </p:nvSpPr>
        <p:spPr>
          <a:xfrm>
            <a:off x="5353200" y="5354640"/>
            <a:ext cx="350496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سرويس</a:t>
            </a:r>
            <a:r>
              <a:rPr b="1" lang="fa-IR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هاي كلاس به ساختار داخلي آن وابسته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نخواهند بود</a:t>
            </a:r>
            <a:r>
              <a:rPr b="0" lang="ar-SA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24000" y="5354640"/>
            <a:ext cx="419076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سرويس گيرندگان،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مستقل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 از ساختار داخلي كلاس خواهند شد</a:t>
            </a:r>
            <a:r>
              <a:rPr b="0" lang="ar-SA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AutoShape 12"/>
          <p:cNvSpPr/>
          <p:nvPr/>
        </p:nvSpPr>
        <p:spPr>
          <a:xfrm rot="5392800">
            <a:off x="7693560" y="3423240"/>
            <a:ext cx="814680" cy="866880"/>
          </a:xfrm>
          <a:prstGeom prst="pie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4514760" y="5506920"/>
            <a:ext cx="685800" cy="486000"/>
          </a:xfrm>
          <a:prstGeom prst="leftArrow">
            <a:avLst>
              <a:gd name="adj1" fmla="val 60130"/>
              <a:gd name="adj2" fmla="val 48344"/>
            </a:avLst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D5C5-A202-4856-8461-DC3FE453FB7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وش‌هاي مبتني بر وظيف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نگاه اصلي اين روش به هر كلاس عبارت از موجوديتي است كه در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ر آن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واند نقش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رويس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دهند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يا نقش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رويس گيرند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را ايفا نماي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274320" indent="-27432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ر كلاس در نقش سرويس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هنده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واند فراه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كننده خدمات براي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نوع سرويس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يرنده باش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59436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-  سرويس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گيرندگان خارج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External Clients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59436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-  سرويس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گيرندگان مشتق شد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Derived Clients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59436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-  خود كلاس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elf Client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090D-563F-4FFF-B64C-635117F38C6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وش‌هاي مبتني بر وظيف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زي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زرگترين مزيت اين روش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به حداكثر رساندن محصورساز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در سطح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طراح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است كه باعث افزايش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قابليت نگهدار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انعطاف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پذير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سيستم نسبت به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تغييرات آت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خواهد گردي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3FD8-97A8-488F-85CF-7EF11C75335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وش‌هاي شناسائي كلاس‌هاي اولي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 طبقه‌بند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پيشنهاد شده بوسيله متدولوژ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O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تحليل دامن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Domain Analysis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تحليل موارد كاربر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se Case Analysis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 تحليل لغوي صورت مسال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Problem Statement Analysis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 استفاده از الگوها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Patterns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6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 كارت‌هاي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RC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6290-DA12-4DBC-ADC7-945B577E81F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طبقه‌بند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ي پيشنهاد شده...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نابع بالقوه زير براي شناسائي كلاس‌ها پيشنهاد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ون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دستگاه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ها(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Devices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دستگا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ي كه برنامه با آنها تعامل دار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نقش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ها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نقش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گوناگون كه كاربر در تعامل با سيستم ايفا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نماي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محل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هاي فيزيك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(مانند دفاتر، سايت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،...)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كه براي سيستم مهم هستن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سازمان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ها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مجموع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سازماندهي شد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(مردم، منابع، ابزار، ...) كه داراي ماموريت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مشخصن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6852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5493-1538-4516-865C-72836FFBA4E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طبقه‌بند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ي پيشنهاد شده...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r" rtl="1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مفاهيم منطق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اصول و ايد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منطقي كه در منطق كاري سازمان بكار گرفته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شون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6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 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ساختار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همان روابط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S-A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ART-OF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 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ديگر سيستم‌ها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سيستم‌هاي خارجي كه برنامه با آنها تعامل دار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3806-098F-4680-BEC0-7F6AF3F0F59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ك اهميت طبقه‌بندي در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OAD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شنائي با روش‌ها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يافتن كلاس‌ه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ك تفاوت بين روش‌ها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بتني بر داده و مبتني بر وظيفه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شنائي با مدلسازي بوسيل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كارت‌هاي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RC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شنائي با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لايه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بند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و نقش آن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آشنائي با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قوله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بند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و نقش آن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كارت‌هاي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RC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و مقول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ند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6EE5-F889-43E5-8492-BE7731FD9FC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حليل دامنه (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omain Analysis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عبارتست از شناسائي كلاس‌ها و اشياء مشترك در هم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برنامه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اي كاربردي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متعلق به يك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دامنه مشخص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مانند كامپايلرها، سيستم‌هاي اطلاعاتي جغرافيايي، ...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اين روش، با ديدن سيستم‌هاي مرتبط و اسناد آنها و با صحبت با كارشناسان خبره در زمينه سيستم مورد نظر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وان كلاس‌هاي كليدي يك سيستم را حدس ز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B3AE-8053-420A-AEB0-42EF41EA67F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حليل موارد كاربر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نبال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ي از عمليات است كه يك سيستم انجام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هد تا يك نتيجه قابل مشاهده و ارزشمند براي كاربر فراهم نماي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5334120" y="3886200"/>
            <a:ext cx="2057400" cy="825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موارد كاربر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4114800" y="3886200"/>
            <a:ext cx="914400" cy="485640"/>
          </a:xfrm>
          <a:prstGeom prst="leftArrow">
            <a:avLst>
              <a:gd name="adj1" fmla="val 60787"/>
              <a:gd name="adj2" fmla="val 65377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886200" y="44197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تجزيه و تحلي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828800" y="3886200"/>
            <a:ext cx="2057400" cy="825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كلاس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هاي كلي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E970-9085-45BB-B157-BF67FDBAEC8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حليل لغوي صورت مسال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ا تحليل صورت مكتوب مساله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وان كلاس‌هاي اوليه را بدست آور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572000" y="3209760"/>
            <a:ext cx="2087640" cy="1155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گام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1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: تعيين نا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ها و فع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هاي موج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835280" y="3209760"/>
            <a:ext cx="2355840" cy="1155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گام 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2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: حذف نام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ها و فعل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هاي غيرضرور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AutoShape 6"/>
          <p:cNvSpPr/>
          <p:nvPr/>
        </p:nvSpPr>
        <p:spPr>
          <a:xfrm rot="16228200">
            <a:off x="5310000" y="4604760"/>
            <a:ext cx="685800" cy="486000"/>
          </a:xfrm>
          <a:prstGeom prst="leftArrow">
            <a:avLst>
              <a:gd name="adj1" fmla="val 56083"/>
              <a:gd name="adj2" fmla="val 59443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508720" y="5343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نام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ها: كلاس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هاي كانديد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3429000" y="5343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فعل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ها: عمليات كانديد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8A2D-1C8E-4840-9A5C-F012725F507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ستفاده از الگو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يك الگو، يك مساله طراحي كه در يك زمينه مشخص مرتباً تكرار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ردد را توصيف كرده و سپس يك راه‌حل كلي و تكرارپذير براي آن ارائه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كن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5394240" y="4005360"/>
            <a:ext cx="2057400" cy="1519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كاتالوگي از الگوهاي استان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4049640" y="4211640"/>
            <a:ext cx="914400" cy="485640"/>
          </a:xfrm>
          <a:prstGeom prst="leftArrow">
            <a:avLst>
              <a:gd name="adj1" fmla="val 60787"/>
              <a:gd name="adj2" fmla="val 65377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3821040" y="47451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گزين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763640" y="4267080"/>
            <a:ext cx="2057400" cy="825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كلاس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هاي كلي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80C2-78A8-4D54-A23D-D91FB0995C6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كارت‌ها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RC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روشي غيررسمي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Informal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برا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شناسائي و توصيف كلاس‌ها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رفتار و مسئولي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آنها و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مكاران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كلاس‌هاي ديگر) كه به كمك آنها وظايف خود را انجام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ن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457200" y="3716280"/>
            <a:ext cx="8305920" cy="2837160"/>
            <a:chOff x="457200" y="3716280"/>
            <a:chExt cx="8305920" cy="2837160"/>
          </a:xfrm>
        </p:grpSpPr>
        <p:sp>
          <p:nvSpPr>
            <p:cNvPr id="286" name="Text Box 5"/>
            <p:cNvSpPr/>
            <p:nvPr/>
          </p:nvSpPr>
          <p:spPr>
            <a:xfrm>
              <a:off x="5791320" y="3716280"/>
              <a:ext cx="2971800" cy="1904040"/>
            </a:xfrm>
            <a:prstGeom prst="rect">
              <a:avLst/>
            </a:prstGeom>
            <a:gradFill rotWithShape="0">
              <a:gsLst>
                <a:gs pos="0">
                  <a:srgbClr val="95629d"/>
                </a:gs>
                <a:gs pos="50000">
                  <a:srgbClr val="c481cf"/>
                </a:gs>
                <a:gs pos="100000">
                  <a:srgbClr val="9562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4b4eb5"/>
                  </a:solidFill>
                  <a:latin typeface="Times New Roman"/>
                  <a:cs typeface="Titr"/>
                </a:rPr>
                <a:t>كل</a:t>
              </a:r>
              <a:r>
                <a:rPr b="1" lang="ar-SA" sz="3600" spc="-1" strike="noStrike">
                  <a:solidFill>
                    <a:srgbClr val="00ff00"/>
                  </a:solidFill>
                  <a:latin typeface="Times New Roman"/>
                  <a:cs typeface="Titr"/>
                </a:rPr>
                <a:t>ا</a:t>
              </a:r>
              <a:r>
                <a:rPr b="1" lang="ar-SA" sz="3600" spc="-1" strike="noStrike">
                  <a:solidFill>
                    <a:srgbClr val="000066"/>
                  </a:solidFill>
                  <a:latin typeface="Times New Roman"/>
                  <a:cs typeface="Titr"/>
                </a:rPr>
                <a:t>س(رده)</a:t>
              </a:r>
              <a:r>
                <a:rPr b="1" lang="ar-SA" sz="3600" spc="-1" strike="noStrike">
                  <a:solidFill>
                    <a:srgbClr val="00ff00"/>
                  </a:solidFill>
                  <a:latin typeface="Times New Roman"/>
                  <a:ea typeface="Titr"/>
                </a:rPr>
                <a:t> </a:t>
              </a:r>
              <a:r>
                <a:rPr b="1" lang="ar-SA" sz="3600" spc="-1" strike="noStrike">
                  <a:solidFill>
                    <a:srgbClr val="4b4eb5"/>
                  </a:solidFill>
                  <a:latin typeface="Times New Roman"/>
                  <a:cs typeface="Titr"/>
                </a:rPr>
                <a:t>م</a:t>
              </a:r>
              <a:r>
                <a:rPr b="1" lang="ar-SA" sz="3600" spc="-1" strike="noStrike">
                  <a:solidFill>
                    <a:srgbClr val="000066"/>
                  </a:solidFill>
                  <a:latin typeface="Times New Roman"/>
                  <a:cs typeface="Titr"/>
                </a:rPr>
                <a:t>سئوليت</a:t>
              </a:r>
              <a:r>
                <a:rPr b="1" lang="fa-IR" sz="3600" spc="-1" strike="noStrike">
                  <a:solidFill>
                    <a:srgbClr val="000066"/>
                  </a:solidFill>
                  <a:latin typeface="Times New Roman"/>
                  <a:ea typeface="Titr"/>
                </a:rPr>
                <a:t>‌</a:t>
              </a:r>
              <a:r>
                <a:rPr b="1" lang="ar-SA" sz="3600" spc="-1" strike="noStrike">
                  <a:solidFill>
                    <a:srgbClr val="000066"/>
                  </a:solidFill>
                  <a:latin typeface="Times New Roman"/>
                  <a:cs typeface="Titr"/>
                </a:rPr>
                <a:t>ها </a:t>
              </a:r>
              <a:r>
                <a:rPr b="1" lang="ar-SA" sz="3600" spc="-1" strike="noStrike">
                  <a:solidFill>
                    <a:srgbClr val="4b4eb5"/>
                  </a:solidFill>
                  <a:latin typeface="Times New Roman"/>
                  <a:cs typeface="Titr"/>
                </a:rPr>
                <a:t>ه</a:t>
              </a:r>
              <a:r>
                <a:rPr b="1" lang="ar-SA" sz="3600" spc="-1" strike="noStrike">
                  <a:solidFill>
                    <a:srgbClr val="000066"/>
                  </a:solidFill>
                  <a:latin typeface="Times New Roman"/>
                  <a:cs typeface="Titr"/>
                </a:rPr>
                <a:t>مكاران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Text Box 6"/>
            <p:cNvSpPr/>
            <p:nvPr/>
          </p:nvSpPr>
          <p:spPr>
            <a:xfrm>
              <a:off x="5562720" y="5773680"/>
              <a:ext cx="3047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4b4eb5"/>
                  </a:solidFill>
                  <a:latin typeface="Times New Roman"/>
                  <a:cs typeface="Titr"/>
                </a:rPr>
                <a:t>كلمه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457200" y="3716280"/>
              <a:ext cx="4191120" cy="1905120"/>
            </a:xfrm>
            <a:prstGeom prst="rect">
              <a:avLst/>
            </a:prstGeom>
            <a:gradFill rotWithShape="0">
              <a:gsLst>
                <a:gs pos="0">
                  <a:srgbClr val="b34e4e"/>
                </a:gs>
                <a:gs pos="50000">
                  <a:srgbClr val="ff6f6f"/>
                </a:gs>
                <a:gs pos="100000">
                  <a:srgbClr val="b34e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685800" y="3792600"/>
              <a:ext cx="358128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33"/>
                  </a:solidFill>
                  <a:latin typeface="Arial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ass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33"/>
                  </a:solidFill>
                  <a:latin typeface="Arial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sponsibilities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33"/>
                  </a:solidFill>
                  <a:latin typeface="Arial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llaborators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Text Box 9"/>
            <p:cNvSpPr/>
            <p:nvPr/>
          </p:nvSpPr>
          <p:spPr>
            <a:xfrm>
              <a:off x="1295280" y="5850000"/>
              <a:ext cx="304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Times New Roman"/>
                  <a:ea typeface="Titr Mazar"/>
                </a:rPr>
                <a:t>CR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C0DA-F5C7-4A61-A369-26A46C94D55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كارت‌ها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RC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5334120" y="1557360"/>
            <a:ext cx="3200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كار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Homa"/>
              </a:rPr>
              <a:t>‌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ي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Nazanin"/>
              </a:rPr>
              <a:t>“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  <a:ea typeface="Nazanin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  <a:ea typeface="Nazanin"/>
              </a:rPr>
              <a:t>×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  <a:ea typeface="Nazani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Nazani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04920" y="2205000"/>
            <a:ext cx="829944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اسم كلاس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مسئوليت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ها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همكاران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 algn="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دارا بودن مجموعه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اي از اطلاعات لازم و كافي (به صورت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  <a:ea typeface="Nazanin"/>
              </a:rPr>
              <a:t>Abstract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) از هر عنصر در يك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سيست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 rtl="1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Nazanin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Nazanin"/>
              </a:rPr>
              <a:t>در چه رده</a:t>
            </a:r>
            <a:r>
              <a:rPr b="1" lang="fa-IR" sz="2000" spc="-1" strike="noStrike">
                <a:solidFill>
                  <a:srgbClr val="000066"/>
                </a:solidFill>
                <a:latin typeface="Times New Roman"/>
                <a:ea typeface="Nazanin"/>
              </a:rPr>
              <a:t>‌</a:t>
            </a: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Nazanin"/>
              </a:rPr>
              <a:t>اي ؟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Nazani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Nazanin"/>
              </a:rPr>
              <a:t>Clas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Nazanin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Nazani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 rtl="1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Nazanin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Nazanin"/>
              </a:rPr>
              <a:t>با چه وظايفي؟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Nazani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Nazanin"/>
              </a:rPr>
              <a:t>Responsibiliti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Nazanin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 rtl="1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Nazanin"/>
              </a:rPr>
              <a:t>  </a:t>
            </a: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Nazanin"/>
              </a:rPr>
              <a:t>با چه همكاراني ؟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Nazani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Nazanin"/>
              </a:rPr>
              <a:t>Collaborator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Nazanin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838080" y="1557360"/>
            <a:ext cx="3733560" cy="2133360"/>
            <a:chOff x="838080" y="1557360"/>
            <a:chExt cx="3733560" cy="2133360"/>
          </a:xfrm>
        </p:grpSpPr>
        <p:sp>
          <p:nvSpPr>
            <p:cNvPr id="296" name="Rectangle 7"/>
            <p:cNvSpPr/>
            <p:nvPr/>
          </p:nvSpPr>
          <p:spPr>
            <a:xfrm>
              <a:off x="838080" y="1557360"/>
              <a:ext cx="3733560" cy="21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Line 8"/>
            <p:cNvSpPr/>
            <p:nvPr/>
          </p:nvSpPr>
          <p:spPr>
            <a:xfrm>
              <a:off x="2895480" y="1633320"/>
              <a:ext cx="0" cy="198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9"/>
            <p:cNvSpPr/>
            <p:nvPr/>
          </p:nvSpPr>
          <p:spPr>
            <a:xfrm>
              <a:off x="914040" y="209052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Text Box 10"/>
            <p:cNvSpPr/>
            <p:nvPr/>
          </p:nvSpPr>
          <p:spPr>
            <a:xfrm>
              <a:off x="914040" y="170964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 Nam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Text Box 11"/>
            <p:cNvSpPr/>
            <p:nvPr/>
          </p:nvSpPr>
          <p:spPr>
            <a:xfrm>
              <a:off x="2895480" y="163332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llaborator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Text Box 12"/>
            <p:cNvSpPr/>
            <p:nvPr/>
          </p:nvSpPr>
          <p:spPr>
            <a:xfrm>
              <a:off x="914040" y="224316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ponsibiliti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514F-BE74-4F64-994A-5ADD4E93755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كارت‌ها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RC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هدف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فراهم نمودن روشي براي آموزش مفاهيم ش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ي‌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گرا (كمك به پياده نمودن شيوه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اي كه در آن اشياء محور مي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باشند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حل مشكل شناسايي اشياء براي مسائلي كه آشنايي زيادي در مورد آن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ها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 نداريم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865F-9865-474E-A59E-1552B1F7C5D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كارت‌ها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RC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- ويژگي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ادگي روش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: بر اساس يك بازي ساده با كارت‌ه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طبيعي بودن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روند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كار و نمايش سناريوهاي واقع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فرايندگراي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راساس كار گروه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8" name="Picture 8" descr="pn3_cards0219_t"/>
          <p:cNvPicPr/>
          <p:nvPr/>
        </p:nvPicPr>
        <p:blipFill>
          <a:blip r:embed="rId1"/>
          <a:stretch/>
        </p:blipFill>
        <p:spPr>
          <a:xfrm>
            <a:off x="1979640" y="2060640"/>
            <a:ext cx="4444920" cy="1447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9"/>
          <p:cNvSpPr/>
          <p:nvPr/>
        </p:nvSpPr>
        <p:spPr>
          <a:xfrm>
            <a:off x="3851280" y="4508640"/>
            <a:ext cx="1905120" cy="459720"/>
          </a:xfrm>
          <a:prstGeom prst="rect">
            <a:avLst/>
          </a:prstGeom>
          <a:gradFill rotWithShape="0">
            <a:gsLst>
              <a:gs pos="0">
                <a:srgbClr val="00a0c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0" name="Picture 10" descr="teamwork"/>
          <p:cNvPicPr/>
          <p:nvPr/>
        </p:nvPicPr>
        <p:blipFill>
          <a:blip r:embed="rId2"/>
          <a:stretch/>
        </p:blipFill>
        <p:spPr>
          <a:xfrm>
            <a:off x="1359000" y="5373720"/>
            <a:ext cx="213336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65FE-9C46-438D-9392-D8FE294C140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فرآيند مدلسازي بوسيله كارت‌ها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RC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-  موارد كاربري كليدي سيستم را مرور كني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- در صورت نياز يك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يا تركيبي) از تكنيك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يافتن كلاس‌هاي اوليه را براي شناسائي مجموع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ي از كلاس‌هاي كانديدا بكار ببري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- به ازاي هر مورد كاربري گا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زير را انجام دهي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لف) از كلاس‌هاي موجود، كلاس‌هايي كه مناسب اين مورد كاربري است را مشخص نمايي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)  اگر كلاس مناسبي وجود نداشته باشد پس كلاس جديدي را ايجاد نمايي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F191-A2D4-45CB-BB59-3FA668C76F4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يند مدلسازي بوسيله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r" rtl="1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ج) مسئوليت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كلاس را تشخيص دهيد: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5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اين كلاس بايد چه وظيفه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اي را انجام دهد؟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5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اگر وظيفه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اي را در اختيار داريد، اين وظيفه متعلق به كدام كلاس است؟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5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بعضي از مسئوليت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ها بوسيله همكاري كلاس با ديگر كلاس‌ها انجام 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مي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پذيرند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بنابراين عجله نكنيد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17" name="Group 7"/>
          <p:cNvGrpSpPr/>
          <p:nvPr/>
        </p:nvGrpSpPr>
        <p:grpSpPr>
          <a:xfrm>
            <a:off x="468360" y="4221000"/>
            <a:ext cx="1979640" cy="2204640"/>
            <a:chOff x="468360" y="4221000"/>
            <a:chExt cx="1979640" cy="2204640"/>
          </a:xfrm>
        </p:grpSpPr>
        <p:sp>
          <p:nvSpPr>
            <p:cNvPr id="318" name="AutoShape 6"/>
            <p:cNvSpPr/>
            <p:nvPr/>
          </p:nvSpPr>
          <p:spPr>
            <a:xfrm>
              <a:off x="468360" y="4221000"/>
              <a:ext cx="1979640" cy="22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19" name="Group 13"/>
            <p:cNvGrpSpPr/>
            <p:nvPr/>
          </p:nvGrpSpPr>
          <p:grpSpPr>
            <a:xfrm>
              <a:off x="471600" y="4227120"/>
              <a:ext cx="977760" cy="2162160"/>
              <a:chOff x="471600" y="4227120"/>
              <a:chExt cx="977760" cy="2162160"/>
            </a:xfrm>
          </p:grpSpPr>
          <p:sp>
            <p:nvSpPr>
              <p:cNvPr id="320" name="Freeform 8"/>
              <p:cNvSpPr/>
              <p:nvPr/>
            </p:nvSpPr>
            <p:spPr>
              <a:xfrm>
                <a:off x="577800" y="4448880"/>
                <a:ext cx="792360" cy="176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Freeform 9"/>
              <p:cNvSpPr/>
              <p:nvPr/>
            </p:nvSpPr>
            <p:spPr>
              <a:xfrm>
                <a:off x="639720" y="4791600"/>
                <a:ext cx="635040" cy="141984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557280" y="4425120"/>
                <a:ext cx="833400" cy="180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Freeform 11"/>
              <p:cNvSpPr/>
              <p:nvPr/>
            </p:nvSpPr>
            <p:spPr>
              <a:xfrm>
                <a:off x="480960" y="4227120"/>
                <a:ext cx="968400" cy="248760"/>
              </a:xfrm>
              <a:prstGeom prst="pie">
                <a:avLst/>
              </a:prstGeom>
              <a:solidFill>
                <a:srgbClr val="996633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AutoShape 12"/>
              <p:cNvSpPr/>
              <p:nvPr/>
            </p:nvSpPr>
            <p:spPr>
              <a:xfrm>
                <a:off x="471600" y="6178320"/>
                <a:ext cx="973080" cy="210960"/>
              </a:xfrm>
              <a:prstGeom prst="roundRect">
                <a:avLst>
                  <a:gd name="adj" fmla="val 49176"/>
                </a:avLst>
              </a:prstGeom>
              <a:solidFill>
                <a:srgbClr val="996633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5" name="Group 20"/>
            <p:cNvGrpSpPr/>
            <p:nvPr/>
          </p:nvGrpSpPr>
          <p:grpSpPr>
            <a:xfrm>
              <a:off x="1062000" y="4517640"/>
              <a:ext cx="1384200" cy="1908000"/>
              <a:chOff x="1062000" y="4517640"/>
              <a:chExt cx="1384200" cy="1908000"/>
            </a:xfrm>
          </p:grpSpPr>
          <p:sp>
            <p:nvSpPr>
              <p:cNvPr id="326" name="Freeform 14"/>
              <p:cNvSpPr/>
              <p:nvPr/>
            </p:nvSpPr>
            <p:spPr>
              <a:xfrm>
                <a:off x="1403280" y="4517640"/>
                <a:ext cx="469800" cy="4266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Freeform 15"/>
              <p:cNvSpPr/>
              <p:nvPr/>
            </p:nvSpPr>
            <p:spPr>
              <a:xfrm>
                <a:off x="1768320" y="4950720"/>
                <a:ext cx="363600" cy="7963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6"/>
              <p:cNvSpPr/>
              <p:nvPr/>
            </p:nvSpPr>
            <p:spPr>
              <a:xfrm>
                <a:off x="1208160" y="5558040"/>
                <a:ext cx="739800" cy="5374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7"/>
              <p:cNvSpPr/>
              <p:nvPr/>
            </p:nvSpPr>
            <p:spPr>
              <a:xfrm>
                <a:off x="1895400" y="4958640"/>
                <a:ext cx="550800" cy="3474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8"/>
              <p:cNvSpPr/>
              <p:nvPr/>
            </p:nvSpPr>
            <p:spPr>
              <a:xfrm>
                <a:off x="1774800" y="5527800"/>
                <a:ext cx="365040" cy="8978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9"/>
              <p:cNvSpPr/>
              <p:nvPr/>
            </p:nvSpPr>
            <p:spPr>
              <a:xfrm>
                <a:off x="1062000" y="4672800"/>
                <a:ext cx="781200" cy="5342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32" name="Group 23"/>
            <p:cNvGrpSpPr/>
            <p:nvPr/>
          </p:nvGrpSpPr>
          <p:grpSpPr>
            <a:xfrm>
              <a:off x="1614600" y="5978520"/>
              <a:ext cx="166680" cy="297720"/>
              <a:chOff x="1614600" y="5978520"/>
              <a:chExt cx="166680" cy="297720"/>
            </a:xfrm>
          </p:grpSpPr>
          <p:sp>
            <p:nvSpPr>
              <p:cNvPr id="333" name="Freeform 21"/>
              <p:cNvSpPr/>
              <p:nvPr/>
            </p:nvSpPr>
            <p:spPr>
              <a:xfrm>
                <a:off x="1614600" y="5978520"/>
                <a:ext cx="66600" cy="24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22"/>
              <p:cNvSpPr/>
              <p:nvPr/>
            </p:nvSpPr>
            <p:spPr>
              <a:xfrm>
                <a:off x="1692360" y="6065640"/>
                <a:ext cx="88920" cy="21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6EE9-730F-4B13-B132-43334FCF192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هرست مطال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طبق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ندي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assification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روش‌هاي مبتني بر داد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Data-Driven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روش‌هاي مبتني بر وظيفه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y-Driven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روش‌هاي شناسائي كلاس‌هاي اوليه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روش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RC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لاي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ندي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Layering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قول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ندي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ereotyping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4E9F-6ADA-4F9C-9015-490F8FCB463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يند مدلسازي بوسيله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د) همكاران كلاس را تشخيص دهيد: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سناريوي 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What if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…?”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 را اجرا كني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همكاري هنگامي رخ مي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دهد كه يك كلاس نيازمند </a:t>
            </a: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اطلاعاتي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 باشد كه در اختيار ندار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همكاري هنگامي رخ مي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دهد كه يك كلاس نيازمند </a:t>
            </a: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به روزرساني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 اطلاعاتي باشد كه در اختيار ندار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در هر همكاري، حداقل يك كلاس </a:t>
            </a: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آغازكننده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 بايد وجود داشته باشد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38" name="Picture 4" descr="AMCOMMUN"/>
          <p:cNvPicPr/>
          <p:nvPr/>
        </p:nvPicPr>
        <p:blipFill>
          <a:blip r:embed="rId1"/>
          <a:stretch/>
        </p:blipFill>
        <p:spPr>
          <a:xfrm>
            <a:off x="2916360" y="5040360"/>
            <a:ext cx="2519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9CC0-58A5-4DAF-B7EC-E5DA3CCAA86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رآيند مدلسازي بوسيله 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ـ) كارت‌هاي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RC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را دور ميز چرخش دهيد: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028520" indent="-20556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كارت‌هاي كلاس‌هايي كه با يكديگر همكاري دارند نزديك هم قرار دهي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28520" indent="-20556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هرچه همكاري قويتر باشد نزديكي دو كلاس به يكديگر مي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بايست بيشتر باش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28520" indent="-20556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كارت‌هاي پر(شلوغ) را در وسط ميز قرار دهي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28520" indent="-20556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كارت‌ها را دور ميز بچرخاني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28520" indent="-20556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از كساني كه در جلسه شركت دارند بخواهيد كه به كارت‌هاي در حال چرخش توجه نماين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28520" indent="-20556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حاضرين در جلسه ارتباطات جديدي بين كلاس‌ها تشخيص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خواهند دا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028520" indent="-205560" algn="r" rtl="1">
              <a:lnSpc>
                <a:spcPct val="12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سناريوي 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«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چه مي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شود اگر...؟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»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 را اجرا نمايي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79B7-C4ED-4D39-802D-18CC50CF93B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ثال: مسئله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Producer/Consume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4" name="Picture 4" descr="fig3"/>
          <p:cNvPicPr/>
          <p:nvPr/>
        </p:nvPicPr>
        <p:blipFill>
          <a:blip r:embed="rId1">
            <a:lum bright="-10000"/>
          </a:blip>
          <a:srcRect l="0" t="0" r="0" b="4508"/>
          <a:stretch/>
        </p:blipFill>
        <p:spPr>
          <a:xfrm>
            <a:off x="611280" y="1413000"/>
            <a:ext cx="74167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55B6-A8E5-4A9D-986D-345DBCAE810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نمونه نرم‌افزار کارت‌ها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RC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7" name="Picture 5" descr="fig4"/>
          <p:cNvPicPr/>
          <p:nvPr/>
        </p:nvPicPr>
        <p:blipFill>
          <a:blip r:embed="rId1"/>
          <a:stretch/>
        </p:blipFill>
        <p:spPr>
          <a:xfrm>
            <a:off x="684360" y="1484280"/>
            <a:ext cx="685800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05FC-C69E-419A-A310-679CFA69865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کارت‌ها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RC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- مزاي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نقطه مناسبي براي شروع تحليل (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جرقه ذهن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قابليت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شبيه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از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رفتار سيستم (مرور سناريو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ا نمودار كلاس‌ها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ازگار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امکان کارگروه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CE5C-9193-420A-BC8D-893077E3E6C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کارت‌ها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RC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مزايا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4920" y="149976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نداشتن مشكل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يم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بند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Wire Syndrome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قوله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بند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ereotyping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رضايت كاربران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حليل بوسيل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خبرگان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1C77-B6FE-40B6-81D0-235EE850923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کارت‌ها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RC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– معاي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شكل برقرا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ر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ي ارتباط با كاربران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كارت‌هاي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RC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تنها بخشي از نيازمند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يك سيستم 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ي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را را تشكيل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هن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8F4E-BFCB-49E3-BDB6-48DD4C0E6FF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لاي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 و مقول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يك سيستم پيچيد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بعاد گوناگون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دارد لذا بايد از زوايا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تفاوت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ه آن نگريس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مثال: ساختمان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يك ساختمان معمولاً از ديد مشتري داراي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يك بعد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اشد. اما معمار، ساختمان را از يك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يا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چند زاويه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مختلف براي مشتري تصوير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كن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60" name="Picture 4" descr="!HIGHRIS"/>
          <p:cNvPicPr/>
          <p:nvPr/>
        </p:nvPicPr>
        <p:blipFill>
          <a:blip r:embed="rId1"/>
          <a:stretch/>
        </p:blipFill>
        <p:spPr>
          <a:xfrm>
            <a:off x="2843280" y="4508640"/>
            <a:ext cx="28954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12B7-D54A-4162-8FD8-E61B9411724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لاي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 و مقول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يك سيستم نر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فزاري نيز همانند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يك ساختمان يك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وجوديت واحد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ست، اما برا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توليد و توسع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آن،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توصيف كامل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ز سيستم نياز است كه آن را از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زواياي گوناگون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ورد بررسي قرار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ه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324000" y="42670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هركدام از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Nazanin"/>
              </a:rPr>
              <a:t>سهامدارا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به سيستم از يك زاويه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Nazanin"/>
              </a:rPr>
              <a:t>ديد معي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مي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نگرن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2987640" y="5589720"/>
            <a:ext cx="4392720" cy="1410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كاربر نهائي، مشتري، مدير پروژه،  تحليلگر، طراح، معمار، برن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نويس،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AutoShape 8"/>
          <p:cNvSpPr/>
          <p:nvPr/>
        </p:nvSpPr>
        <p:spPr>
          <a:xfrm rot="16228200">
            <a:off x="5857560" y="4896720"/>
            <a:ext cx="685800" cy="485640"/>
          </a:xfrm>
          <a:prstGeom prst="leftArrow">
            <a:avLst>
              <a:gd name="adj1" fmla="val 56083"/>
              <a:gd name="adj2" fmla="val 59487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68CF-BF1E-4A40-B34B-53D68901C0B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لاي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 و مقول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توصيف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يك سيستم نر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فزار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دو اصل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وجود دارد: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از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ديد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چه كسي اين سيستم توصيف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گردد؟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ميزان پرداختن به جزئيات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چه قدر است؟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282600" y="3141720"/>
            <a:ext cx="1447920" cy="8254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Nazanin"/>
              </a:rPr>
              <a:t>مقوله</a:t>
            </a:r>
            <a:r>
              <a:rPr b="1" lang="fa-IR" sz="2400" spc="-1" strike="noStrike">
                <a:solidFill>
                  <a:srgbClr val="ffff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Nazanin"/>
              </a:rPr>
              <a:t>بن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282600" y="2421000"/>
            <a:ext cx="14479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Nazanin"/>
              </a:rPr>
              <a:t>لايه</a:t>
            </a:r>
            <a:r>
              <a:rPr b="1" lang="fa-IR" sz="2400" spc="-1" strike="noStrike">
                <a:solidFill>
                  <a:srgbClr val="ffff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Nazanin"/>
              </a:rPr>
              <a:t>بن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908000" y="2421000"/>
            <a:ext cx="457200" cy="485640"/>
          </a:xfrm>
          <a:prstGeom prst="leftArrow">
            <a:avLst>
              <a:gd name="adj1" fmla="val 66009"/>
              <a:gd name="adj2" fmla="val 54514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1908000" y="3141720"/>
            <a:ext cx="457200" cy="485640"/>
          </a:xfrm>
          <a:prstGeom prst="leftArrow">
            <a:avLst>
              <a:gd name="adj1" fmla="val 66009"/>
              <a:gd name="adj2" fmla="val 54514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4100-3C02-40E6-A2E6-A3122CB99C5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طبقه‌بندي (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lassification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طبقه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بند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بزاري است كه بوسيله آن دانش خود را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رتب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نماييم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سئله طبقه‌بندي در همه رشت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علوم محض، كاربردي و مهندس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طرح است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762120" y="4437000"/>
            <a:ext cx="7619760" cy="1747440"/>
            <a:chOff x="762120" y="4437000"/>
            <a:chExt cx="7619760" cy="1747440"/>
          </a:xfrm>
        </p:grpSpPr>
        <p:sp>
          <p:nvSpPr>
            <p:cNvPr id="113" name="Text Box 5"/>
            <p:cNvSpPr/>
            <p:nvPr/>
          </p:nvSpPr>
          <p:spPr>
            <a:xfrm>
              <a:off x="5638680" y="458928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كلاس‌هاي مطرح براي مدلسازي يك سيست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AutoShape 6"/>
            <p:cNvSpPr/>
            <p:nvPr/>
          </p:nvSpPr>
          <p:spPr>
            <a:xfrm>
              <a:off x="4572000" y="474156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3962520" y="52750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c3300"/>
                  </a:solidFill>
                  <a:latin typeface="Times New Roman"/>
                  <a:cs typeface="Nazanin"/>
                </a:rPr>
                <a:t>بوسيله طبقه</a:t>
              </a:r>
              <a:r>
                <a:rPr b="1" lang="ar-SA" sz="2400" spc="-1" strike="noStrike">
                  <a:solidFill>
                    <a:srgbClr val="cc3300"/>
                  </a:solidFill>
                  <a:latin typeface="Times New Roman"/>
                  <a:ea typeface="Homa"/>
                </a:rPr>
                <a:t>‌</a:t>
              </a:r>
              <a:r>
                <a:rPr b="1" lang="ar-SA" sz="2400" spc="-1" strike="noStrike">
                  <a:solidFill>
                    <a:srgbClr val="cc3300"/>
                  </a:solidFill>
                  <a:latin typeface="Times New Roman"/>
                  <a:cs typeface="Nazanin"/>
                </a:rPr>
                <a:t>بندي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762120" y="4437000"/>
              <a:ext cx="3276360" cy="17474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1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)  كلاس‌هاي مناسب يا كليدي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)  غير مناسب يا كم اهميت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9E48-6F2A-4BB0-AD66-384B5D47298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لاي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 و مقول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6" name="Group 4"/>
          <p:cNvGrpSpPr/>
          <p:nvPr/>
        </p:nvGrpSpPr>
        <p:grpSpPr>
          <a:xfrm>
            <a:off x="2184480" y="3513240"/>
            <a:ext cx="360360" cy="2666520"/>
            <a:chOff x="2184480" y="3513240"/>
            <a:chExt cx="360360" cy="2666520"/>
          </a:xfrm>
        </p:grpSpPr>
        <p:sp>
          <p:nvSpPr>
            <p:cNvPr id="377" name="Freeform 5"/>
            <p:cNvSpPr/>
            <p:nvPr/>
          </p:nvSpPr>
          <p:spPr>
            <a:xfrm>
              <a:off x="2184480" y="3527280"/>
              <a:ext cx="360360" cy="2652480"/>
            </a:xfrm>
            <a:prstGeom prst="pie">
              <a:avLst/>
            </a:pr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Freeform 6"/>
            <p:cNvSpPr/>
            <p:nvPr/>
          </p:nvSpPr>
          <p:spPr>
            <a:xfrm>
              <a:off x="2184480" y="3513240"/>
              <a:ext cx="360360" cy="2652480"/>
            </a:xfrm>
            <a:prstGeom prst="pie">
              <a:avLst/>
            </a:pr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9" name="Group 7"/>
          <p:cNvGrpSpPr/>
          <p:nvPr/>
        </p:nvGrpSpPr>
        <p:grpSpPr>
          <a:xfrm>
            <a:off x="2421000" y="3894120"/>
            <a:ext cx="3220920" cy="528480"/>
            <a:chOff x="2421000" y="3894120"/>
            <a:chExt cx="3220920" cy="528480"/>
          </a:xfrm>
        </p:grpSpPr>
        <p:sp>
          <p:nvSpPr>
            <p:cNvPr id="380" name="Freeform 8"/>
            <p:cNvSpPr/>
            <p:nvPr/>
          </p:nvSpPr>
          <p:spPr>
            <a:xfrm>
              <a:off x="2435760" y="3894120"/>
              <a:ext cx="3206160" cy="527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Freeform 9"/>
            <p:cNvSpPr/>
            <p:nvPr/>
          </p:nvSpPr>
          <p:spPr>
            <a:xfrm>
              <a:off x="2421000" y="3894840"/>
              <a:ext cx="3206160" cy="527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2" name="Rectangle 10"/>
          <p:cNvSpPr/>
          <p:nvPr/>
        </p:nvSpPr>
        <p:spPr>
          <a:xfrm>
            <a:off x="5624640" y="522612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2381400" y="4538520"/>
            <a:ext cx="3220920" cy="528480"/>
            <a:chOff x="2381400" y="4538520"/>
            <a:chExt cx="3220920" cy="528480"/>
          </a:xfrm>
        </p:grpSpPr>
        <p:sp>
          <p:nvSpPr>
            <p:cNvPr id="384" name="Freeform 12"/>
            <p:cNvSpPr/>
            <p:nvPr/>
          </p:nvSpPr>
          <p:spPr>
            <a:xfrm>
              <a:off x="2396160" y="4538520"/>
              <a:ext cx="3206160" cy="528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Freeform 13"/>
            <p:cNvSpPr/>
            <p:nvPr/>
          </p:nvSpPr>
          <p:spPr>
            <a:xfrm>
              <a:off x="2381400" y="4539240"/>
              <a:ext cx="3205800" cy="527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6" name="Rectangle 14"/>
          <p:cNvSpPr/>
          <p:nvPr/>
        </p:nvSpPr>
        <p:spPr>
          <a:xfrm>
            <a:off x="5607360" y="467208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5353200" y="397044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8" name="Group 16"/>
          <p:cNvGrpSpPr/>
          <p:nvPr/>
        </p:nvGrpSpPr>
        <p:grpSpPr>
          <a:xfrm>
            <a:off x="2990880" y="4656240"/>
            <a:ext cx="2347560" cy="318960"/>
            <a:chOff x="2990880" y="4656240"/>
            <a:chExt cx="2347560" cy="318960"/>
          </a:xfrm>
        </p:grpSpPr>
        <p:sp>
          <p:nvSpPr>
            <p:cNvPr id="389" name="Oval 17"/>
            <p:cNvSpPr/>
            <p:nvPr/>
          </p:nvSpPr>
          <p:spPr>
            <a:xfrm>
              <a:off x="4156920" y="4881240"/>
              <a:ext cx="134280" cy="6696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>
              <a:off x="3073680" y="4713120"/>
              <a:ext cx="158040" cy="10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Line 19"/>
            <p:cNvSpPr/>
            <p:nvPr/>
          </p:nvSpPr>
          <p:spPr>
            <a:xfrm>
              <a:off x="3326760" y="4874400"/>
              <a:ext cx="16596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Line 20"/>
            <p:cNvSpPr/>
            <p:nvPr/>
          </p:nvSpPr>
          <p:spPr>
            <a:xfrm flipV="1">
              <a:off x="3334320" y="4719600"/>
              <a:ext cx="213480" cy="10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Line 21"/>
            <p:cNvSpPr/>
            <p:nvPr/>
          </p:nvSpPr>
          <p:spPr>
            <a:xfrm flipV="1">
              <a:off x="3603600" y="4874400"/>
              <a:ext cx="1656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Line 22"/>
            <p:cNvSpPr/>
            <p:nvPr/>
          </p:nvSpPr>
          <p:spPr>
            <a:xfrm flipV="1">
              <a:off x="3856320" y="4753080"/>
              <a:ext cx="102600" cy="7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Line 23"/>
            <p:cNvSpPr/>
            <p:nvPr/>
          </p:nvSpPr>
          <p:spPr>
            <a:xfrm>
              <a:off x="3642840" y="4686120"/>
              <a:ext cx="28440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Line 24"/>
            <p:cNvSpPr/>
            <p:nvPr/>
          </p:nvSpPr>
          <p:spPr>
            <a:xfrm>
              <a:off x="4046040" y="4740120"/>
              <a:ext cx="505800" cy="10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>
              <a:off x="4038120" y="4699800"/>
              <a:ext cx="18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Line 26"/>
            <p:cNvSpPr/>
            <p:nvPr/>
          </p:nvSpPr>
          <p:spPr>
            <a:xfrm>
              <a:off x="3872160" y="4861080"/>
              <a:ext cx="29232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27"/>
            <p:cNvSpPr/>
            <p:nvPr/>
          </p:nvSpPr>
          <p:spPr>
            <a:xfrm flipH="1">
              <a:off x="4283280" y="4881240"/>
              <a:ext cx="2606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Line 28"/>
            <p:cNvSpPr/>
            <p:nvPr/>
          </p:nvSpPr>
          <p:spPr>
            <a:xfrm flipV="1">
              <a:off x="4655160" y="4746600"/>
              <a:ext cx="12636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29"/>
            <p:cNvSpPr/>
            <p:nvPr/>
          </p:nvSpPr>
          <p:spPr>
            <a:xfrm>
              <a:off x="4662720" y="4867560"/>
              <a:ext cx="26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Line 30"/>
            <p:cNvSpPr/>
            <p:nvPr/>
          </p:nvSpPr>
          <p:spPr>
            <a:xfrm>
              <a:off x="5073840" y="4881240"/>
              <a:ext cx="14220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Oval 31"/>
            <p:cNvSpPr/>
            <p:nvPr/>
          </p:nvSpPr>
          <p:spPr>
            <a:xfrm>
              <a:off x="4532400" y="4820760"/>
              <a:ext cx="133920" cy="6696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Oval 32"/>
            <p:cNvSpPr/>
            <p:nvPr/>
          </p:nvSpPr>
          <p:spPr>
            <a:xfrm>
              <a:off x="4931640" y="4834080"/>
              <a:ext cx="134280" cy="6696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Oval 33"/>
            <p:cNvSpPr/>
            <p:nvPr/>
          </p:nvSpPr>
          <p:spPr>
            <a:xfrm>
              <a:off x="5204160" y="4908240"/>
              <a:ext cx="134280" cy="6696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Oval 34"/>
            <p:cNvSpPr/>
            <p:nvPr/>
          </p:nvSpPr>
          <p:spPr>
            <a:xfrm>
              <a:off x="4765320" y="4689720"/>
              <a:ext cx="134280" cy="6696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Oval 35"/>
            <p:cNvSpPr/>
            <p:nvPr/>
          </p:nvSpPr>
          <p:spPr>
            <a:xfrm>
              <a:off x="4223880" y="4666320"/>
              <a:ext cx="134280" cy="6696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Oval 36"/>
            <p:cNvSpPr/>
            <p:nvPr/>
          </p:nvSpPr>
          <p:spPr>
            <a:xfrm>
              <a:off x="3915720" y="4686120"/>
              <a:ext cx="134280" cy="6696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Oval 37"/>
            <p:cNvSpPr/>
            <p:nvPr/>
          </p:nvSpPr>
          <p:spPr>
            <a:xfrm>
              <a:off x="3753720" y="4813920"/>
              <a:ext cx="134280" cy="6696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Oval 38"/>
            <p:cNvSpPr/>
            <p:nvPr/>
          </p:nvSpPr>
          <p:spPr>
            <a:xfrm>
              <a:off x="3528000" y="4662720"/>
              <a:ext cx="134280" cy="6696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Oval 39"/>
            <p:cNvSpPr/>
            <p:nvPr/>
          </p:nvSpPr>
          <p:spPr>
            <a:xfrm>
              <a:off x="3207960" y="4807080"/>
              <a:ext cx="133920" cy="6696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Oval 40"/>
            <p:cNvSpPr/>
            <p:nvPr/>
          </p:nvSpPr>
          <p:spPr>
            <a:xfrm>
              <a:off x="3476880" y="4891320"/>
              <a:ext cx="134280" cy="6696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Oval 41"/>
            <p:cNvSpPr/>
            <p:nvPr/>
          </p:nvSpPr>
          <p:spPr>
            <a:xfrm>
              <a:off x="2990880" y="4656240"/>
              <a:ext cx="133920" cy="6696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4" name="Group 42"/>
          <p:cNvGrpSpPr/>
          <p:nvPr/>
        </p:nvGrpSpPr>
        <p:grpSpPr>
          <a:xfrm>
            <a:off x="2914560" y="4046400"/>
            <a:ext cx="2347560" cy="318960"/>
            <a:chOff x="2914560" y="4046400"/>
            <a:chExt cx="2347560" cy="318960"/>
          </a:xfrm>
        </p:grpSpPr>
        <p:sp>
          <p:nvSpPr>
            <p:cNvPr id="415" name="Oval 43"/>
            <p:cNvSpPr/>
            <p:nvPr/>
          </p:nvSpPr>
          <p:spPr>
            <a:xfrm>
              <a:off x="4080600" y="4271400"/>
              <a:ext cx="134280" cy="67320"/>
            </a:xfrm>
            <a:prstGeom prst="ellipse">
              <a:avLst/>
            </a:prstGeom>
            <a:solidFill>
              <a:srgbClr val="4b4eb5"/>
            </a:solidFill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Line 44"/>
            <p:cNvSpPr/>
            <p:nvPr/>
          </p:nvSpPr>
          <p:spPr>
            <a:xfrm>
              <a:off x="2997360" y="4103280"/>
              <a:ext cx="158040" cy="100800"/>
            </a:xfrm>
            <a:prstGeom prst="line">
              <a:avLst/>
            </a:prstGeom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45"/>
            <p:cNvSpPr/>
            <p:nvPr/>
          </p:nvSpPr>
          <p:spPr>
            <a:xfrm>
              <a:off x="3250440" y="4264920"/>
              <a:ext cx="165960" cy="46800"/>
            </a:xfrm>
            <a:prstGeom prst="line">
              <a:avLst/>
            </a:prstGeom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Line 46"/>
            <p:cNvSpPr/>
            <p:nvPr/>
          </p:nvSpPr>
          <p:spPr>
            <a:xfrm flipV="1">
              <a:off x="3258000" y="4110120"/>
              <a:ext cx="213480" cy="100800"/>
            </a:xfrm>
            <a:prstGeom prst="line">
              <a:avLst/>
            </a:prstGeom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Line 47"/>
            <p:cNvSpPr/>
            <p:nvPr/>
          </p:nvSpPr>
          <p:spPr>
            <a:xfrm flipV="1">
              <a:off x="3527280" y="4264920"/>
              <a:ext cx="165600" cy="60480"/>
            </a:xfrm>
            <a:prstGeom prst="line">
              <a:avLst/>
            </a:prstGeom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48"/>
            <p:cNvSpPr/>
            <p:nvPr/>
          </p:nvSpPr>
          <p:spPr>
            <a:xfrm flipV="1">
              <a:off x="3780000" y="4143240"/>
              <a:ext cx="102600" cy="73800"/>
            </a:xfrm>
            <a:prstGeom prst="line">
              <a:avLst/>
            </a:prstGeom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49"/>
            <p:cNvSpPr/>
            <p:nvPr/>
          </p:nvSpPr>
          <p:spPr>
            <a:xfrm>
              <a:off x="3566520" y="4076280"/>
              <a:ext cx="284400" cy="26640"/>
            </a:xfrm>
            <a:prstGeom prst="line">
              <a:avLst/>
            </a:prstGeom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Line 50"/>
            <p:cNvSpPr/>
            <p:nvPr/>
          </p:nvSpPr>
          <p:spPr>
            <a:xfrm>
              <a:off x="3969720" y="4130280"/>
              <a:ext cx="505800" cy="107280"/>
            </a:xfrm>
            <a:prstGeom prst="line">
              <a:avLst/>
            </a:prstGeom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Line 51"/>
            <p:cNvSpPr/>
            <p:nvPr/>
          </p:nvSpPr>
          <p:spPr>
            <a:xfrm>
              <a:off x="3961800" y="4089960"/>
              <a:ext cx="181440" cy="0"/>
            </a:xfrm>
            <a:prstGeom prst="line">
              <a:avLst/>
            </a:prstGeom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52"/>
            <p:cNvSpPr/>
            <p:nvPr/>
          </p:nvSpPr>
          <p:spPr>
            <a:xfrm>
              <a:off x="3795840" y="4251600"/>
              <a:ext cx="292320" cy="46800"/>
            </a:xfrm>
            <a:prstGeom prst="line">
              <a:avLst/>
            </a:prstGeom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Line 53"/>
            <p:cNvSpPr/>
            <p:nvPr/>
          </p:nvSpPr>
          <p:spPr>
            <a:xfrm flipH="1">
              <a:off x="4206960" y="4271400"/>
              <a:ext cx="260640" cy="27000"/>
            </a:xfrm>
            <a:prstGeom prst="line">
              <a:avLst/>
            </a:prstGeom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54"/>
            <p:cNvSpPr/>
            <p:nvPr/>
          </p:nvSpPr>
          <p:spPr>
            <a:xfrm flipV="1">
              <a:off x="4578840" y="4137120"/>
              <a:ext cx="126360" cy="87120"/>
            </a:xfrm>
            <a:prstGeom prst="line">
              <a:avLst/>
            </a:prstGeom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55"/>
            <p:cNvSpPr/>
            <p:nvPr/>
          </p:nvSpPr>
          <p:spPr>
            <a:xfrm>
              <a:off x="4586400" y="4258080"/>
              <a:ext cx="260640" cy="0"/>
            </a:xfrm>
            <a:prstGeom prst="line">
              <a:avLst/>
            </a:prstGeom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Line 56"/>
            <p:cNvSpPr/>
            <p:nvPr/>
          </p:nvSpPr>
          <p:spPr>
            <a:xfrm>
              <a:off x="4997520" y="4271400"/>
              <a:ext cx="142200" cy="46800"/>
            </a:xfrm>
            <a:prstGeom prst="line">
              <a:avLst/>
            </a:prstGeom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Oval 57"/>
            <p:cNvSpPr/>
            <p:nvPr/>
          </p:nvSpPr>
          <p:spPr>
            <a:xfrm>
              <a:off x="4456080" y="4210920"/>
              <a:ext cx="133920" cy="67320"/>
            </a:xfrm>
            <a:prstGeom prst="ellipse">
              <a:avLst/>
            </a:prstGeom>
            <a:solidFill>
              <a:srgbClr val="4b4eb5"/>
            </a:solidFill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Oval 58"/>
            <p:cNvSpPr/>
            <p:nvPr/>
          </p:nvSpPr>
          <p:spPr>
            <a:xfrm>
              <a:off x="4855320" y="4224240"/>
              <a:ext cx="134280" cy="67320"/>
            </a:xfrm>
            <a:prstGeom prst="ellipse">
              <a:avLst/>
            </a:prstGeom>
            <a:solidFill>
              <a:srgbClr val="4b4eb5"/>
            </a:solidFill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Oval 59"/>
            <p:cNvSpPr/>
            <p:nvPr/>
          </p:nvSpPr>
          <p:spPr>
            <a:xfrm>
              <a:off x="5127840" y="4298400"/>
              <a:ext cx="134280" cy="66960"/>
            </a:xfrm>
            <a:prstGeom prst="ellipse">
              <a:avLst/>
            </a:prstGeom>
            <a:solidFill>
              <a:srgbClr val="4b4eb5"/>
            </a:solidFill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Oval 60"/>
            <p:cNvSpPr/>
            <p:nvPr/>
          </p:nvSpPr>
          <p:spPr>
            <a:xfrm>
              <a:off x="4689000" y="4079880"/>
              <a:ext cx="134280" cy="67320"/>
            </a:xfrm>
            <a:prstGeom prst="ellipse">
              <a:avLst/>
            </a:prstGeom>
            <a:solidFill>
              <a:srgbClr val="4b4eb5"/>
            </a:solidFill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Oval 61"/>
            <p:cNvSpPr/>
            <p:nvPr/>
          </p:nvSpPr>
          <p:spPr>
            <a:xfrm>
              <a:off x="4147560" y="4056480"/>
              <a:ext cx="134280" cy="66960"/>
            </a:xfrm>
            <a:prstGeom prst="ellipse">
              <a:avLst/>
            </a:prstGeom>
            <a:solidFill>
              <a:srgbClr val="4b4eb5"/>
            </a:solidFill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Oval 62"/>
            <p:cNvSpPr/>
            <p:nvPr/>
          </p:nvSpPr>
          <p:spPr>
            <a:xfrm>
              <a:off x="3839400" y="4076280"/>
              <a:ext cx="134280" cy="67320"/>
            </a:xfrm>
            <a:prstGeom prst="ellipse">
              <a:avLst/>
            </a:prstGeom>
            <a:solidFill>
              <a:srgbClr val="4b4eb5"/>
            </a:solidFill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Oval 63"/>
            <p:cNvSpPr/>
            <p:nvPr/>
          </p:nvSpPr>
          <p:spPr>
            <a:xfrm>
              <a:off x="3677400" y="4204440"/>
              <a:ext cx="134280" cy="66960"/>
            </a:xfrm>
            <a:prstGeom prst="ellipse">
              <a:avLst/>
            </a:prstGeom>
            <a:solidFill>
              <a:srgbClr val="4b4eb5"/>
            </a:solidFill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Oval 64"/>
            <p:cNvSpPr/>
            <p:nvPr/>
          </p:nvSpPr>
          <p:spPr>
            <a:xfrm>
              <a:off x="3451680" y="4052880"/>
              <a:ext cx="134280" cy="67320"/>
            </a:xfrm>
            <a:prstGeom prst="ellipse">
              <a:avLst/>
            </a:prstGeom>
            <a:solidFill>
              <a:srgbClr val="4b4eb5"/>
            </a:solidFill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Oval 65"/>
            <p:cNvSpPr/>
            <p:nvPr/>
          </p:nvSpPr>
          <p:spPr>
            <a:xfrm>
              <a:off x="3131640" y="4197600"/>
              <a:ext cx="133920" cy="67320"/>
            </a:xfrm>
            <a:prstGeom prst="ellipse">
              <a:avLst/>
            </a:prstGeom>
            <a:solidFill>
              <a:srgbClr val="4b4eb5"/>
            </a:solidFill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Oval 66"/>
            <p:cNvSpPr/>
            <p:nvPr/>
          </p:nvSpPr>
          <p:spPr>
            <a:xfrm>
              <a:off x="3400560" y="4281480"/>
              <a:ext cx="134280" cy="67320"/>
            </a:xfrm>
            <a:prstGeom prst="ellipse">
              <a:avLst/>
            </a:prstGeom>
            <a:solidFill>
              <a:srgbClr val="4b4eb5"/>
            </a:solidFill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Oval 67"/>
            <p:cNvSpPr/>
            <p:nvPr/>
          </p:nvSpPr>
          <p:spPr>
            <a:xfrm>
              <a:off x="2914560" y="4046400"/>
              <a:ext cx="133920" cy="66960"/>
            </a:xfrm>
            <a:prstGeom prst="ellipse">
              <a:avLst/>
            </a:prstGeom>
            <a:solidFill>
              <a:srgbClr val="4b4eb5"/>
            </a:solidFill>
            <a:ln w="1260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0" name="Group 68"/>
          <p:cNvGrpSpPr/>
          <p:nvPr/>
        </p:nvGrpSpPr>
        <p:grpSpPr>
          <a:xfrm>
            <a:off x="2457360" y="5113440"/>
            <a:ext cx="3221280" cy="528120"/>
            <a:chOff x="2457360" y="5113440"/>
            <a:chExt cx="3221280" cy="528120"/>
          </a:xfrm>
        </p:grpSpPr>
        <p:sp>
          <p:nvSpPr>
            <p:cNvPr id="441" name="Freeform 69"/>
            <p:cNvSpPr/>
            <p:nvPr/>
          </p:nvSpPr>
          <p:spPr>
            <a:xfrm>
              <a:off x="2472120" y="5113440"/>
              <a:ext cx="3206520" cy="527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Freeform 70"/>
            <p:cNvSpPr/>
            <p:nvPr/>
          </p:nvSpPr>
          <p:spPr>
            <a:xfrm>
              <a:off x="2457360" y="5114160"/>
              <a:ext cx="3206160" cy="5274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3" name="Group 71"/>
          <p:cNvGrpSpPr/>
          <p:nvPr/>
        </p:nvGrpSpPr>
        <p:grpSpPr>
          <a:xfrm>
            <a:off x="3067200" y="5230800"/>
            <a:ext cx="2347560" cy="318960"/>
            <a:chOff x="3067200" y="5230800"/>
            <a:chExt cx="2347560" cy="318960"/>
          </a:xfrm>
        </p:grpSpPr>
        <p:sp>
          <p:nvSpPr>
            <p:cNvPr id="444" name="Oval 72"/>
            <p:cNvSpPr/>
            <p:nvPr/>
          </p:nvSpPr>
          <p:spPr>
            <a:xfrm>
              <a:off x="4233240" y="5455800"/>
              <a:ext cx="134280" cy="6696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Line 73"/>
            <p:cNvSpPr/>
            <p:nvPr/>
          </p:nvSpPr>
          <p:spPr>
            <a:xfrm>
              <a:off x="3150000" y="5287680"/>
              <a:ext cx="158040" cy="10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74"/>
            <p:cNvSpPr/>
            <p:nvPr/>
          </p:nvSpPr>
          <p:spPr>
            <a:xfrm>
              <a:off x="3403080" y="5448960"/>
              <a:ext cx="16596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75"/>
            <p:cNvSpPr/>
            <p:nvPr/>
          </p:nvSpPr>
          <p:spPr>
            <a:xfrm flipV="1">
              <a:off x="3410640" y="5294160"/>
              <a:ext cx="213480" cy="10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76"/>
            <p:cNvSpPr/>
            <p:nvPr/>
          </p:nvSpPr>
          <p:spPr>
            <a:xfrm flipV="1">
              <a:off x="3679920" y="5448960"/>
              <a:ext cx="1656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77"/>
            <p:cNvSpPr/>
            <p:nvPr/>
          </p:nvSpPr>
          <p:spPr>
            <a:xfrm flipV="1">
              <a:off x="3932640" y="5327640"/>
              <a:ext cx="102600" cy="7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78"/>
            <p:cNvSpPr/>
            <p:nvPr/>
          </p:nvSpPr>
          <p:spPr>
            <a:xfrm>
              <a:off x="3719160" y="5260680"/>
              <a:ext cx="28440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Line 79"/>
            <p:cNvSpPr/>
            <p:nvPr/>
          </p:nvSpPr>
          <p:spPr>
            <a:xfrm>
              <a:off x="4122360" y="5314680"/>
              <a:ext cx="505800" cy="10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Line 80"/>
            <p:cNvSpPr/>
            <p:nvPr/>
          </p:nvSpPr>
          <p:spPr>
            <a:xfrm>
              <a:off x="4114440" y="5274360"/>
              <a:ext cx="18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Line 81"/>
            <p:cNvSpPr/>
            <p:nvPr/>
          </p:nvSpPr>
          <p:spPr>
            <a:xfrm>
              <a:off x="3948480" y="5435640"/>
              <a:ext cx="29232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Line 82"/>
            <p:cNvSpPr/>
            <p:nvPr/>
          </p:nvSpPr>
          <p:spPr>
            <a:xfrm flipH="1">
              <a:off x="4359600" y="5455800"/>
              <a:ext cx="2606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83"/>
            <p:cNvSpPr/>
            <p:nvPr/>
          </p:nvSpPr>
          <p:spPr>
            <a:xfrm flipV="1">
              <a:off x="4731480" y="5321160"/>
              <a:ext cx="12636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Line 84"/>
            <p:cNvSpPr/>
            <p:nvPr/>
          </p:nvSpPr>
          <p:spPr>
            <a:xfrm>
              <a:off x="4739040" y="5442120"/>
              <a:ext cx="26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85"/>
            <p:cNvSpPr/>
            <p:nvPr/>
          </p:nvSpPr>
          <p:spPr>
            <a:xfrm>
              <a:off x="5150160" y="5455800"/>
              <a:ext cx="14220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Oval 86"/>
            <p:cNvSpPr/>
            <p:nvPr/>
          </p:nvSpPr>
          <p:spPr>
            <a:xfrm>
              <a:off x="4608720" y="5395320"/>
              <a:ext cx="133920" cy="6696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Oval 87"/>
            <p:cNvSpPr/>
            <p:nvPr/>
          </p:nvSpPr>
          <p:spPr>
            <a:xfrm>
              <a:off x="5007960" y="5408640"/>
              <a:ext cx="134280" cy="6696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Oval 88"/>
            <p:cNvSpPr/>
            <p:nvPr/>
          </p:nvSpPr>
          <p:spPr>
            <a:xfrm>
              <a:off x="5280480" y="5482800"/>
              <a:ext cx="134280" cy="6696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Oval 89"/>
            <p:cNvSpPr/>
            <p:nvPr/>
          </p:nvSpPr>
          <p:spPr>
            <a:xfrm>
              <a:off x="4841640" y="5264280"/>
              <a:ext cx="134280" cy="6696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Oval 90"/>
            <p:cNvSpPr/>
            <p:nvPr/>
          </p:nvSpPr>
          <p:spPr>
            <a:xfrm>
              <a:off x="4300200" y="5240880"/>
              <a:ext cx="134280" cy="6696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Oval 91"/>
            <p:cNvSpPr/>
            <p:nvPr/>
          </p:nvSpPr>
          <p:spPr>
            <a:xfrm>
              <a:off x="3992040" y="5260680"/>
              <a:ext cx="134280" cy="6696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Oval 92"/>
            <p:cNvSpPr/>
            <p:nvPr/>
          </p:nvSpPr>
          <p:spPr>
            <a:xfrm>
              <a:off x="3830040" y="5388480"/>
              <a:ext cx="134280" cy="6696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Oval 93"/>
            <p:cNvSpPr/>
            <p:nvPr/>
          </p:nvSpPr>
          <p:spPr>
            <a:xfrm>
              <a:off x="3604320" y="5237280"/>
              <a:ext cx="134280" cy="6696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Oval 94"/>
            <p:cNvSpPr/>
            <p:nvPr/>
          </p:nvSpPr>
          <p:spPr>
            <a:xfrm>
              <a:off x="3284280" y="5381640"/>
              <a:ext cx="133920" cy="6696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Oval 95"/>
            <p:cNvSpPr/>
            <p:nvPr/>
          </p:nvSpPr>
          <p:spPr>
            <a:xfrm>
              <a:off x="3553200" y="5465880"/>
              <a:ext cx="134280" cy="6696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Oval 96"/>
            <p:cNvSpPr/>
            <p:nvPr/>
          </p:nvSpPr>
          <p:spPr>
            <a:xfrm>
              <a:off x="3067200" y="5230800"/>
              <a:ext cx="133920" cy="6696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9" name="Line 97"/>
          <p:cNvSpPr/>
          <p:nvPr/>
        </p:nvSpPr>
        <p:spPr>
          <a:xfrm>
            <a:off x="1390680" y="343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Text Box 98"/>
          <p:cNvSpPr/>
          <p:nvPr/>
        </p:nvSpPr>
        <p:spPr>
          <a:xfrm>
            <a:off x="324000" y="31320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سيست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AutoShape 99"/>
          <p:cNvSpPr/>
          <p:nvPr/>
        </p:nvSpPr>
        <p:spPr>
          <a:xfrm>
            <a:off x="3600360" y="2997360"/>
            <a:ext cx="486000" cy="1110960"/>
          </a:xfrm>
          <a:prstGeom prst="downArrow">
            <a:avLst>
              <a:gd name="adj1" fmla="val 50000"/>
              <a:gd name="adj2" fmla="val 57148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Text Box 100"/>
          <p:cNvSpPr/>
          <p:nvPr/>
        </p:nvSpPr>
        <p:spPr>
          <a:xfrm>
            <a:off x="1763640" y="1893960"/>
            <a:ext cx="4484880" cy="95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لايه چه گروه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يي از كلاس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ها را م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توان يافت؟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101"/>
          <p:cNvSpPr/>
          <p:nvPr/>
        </p:nvSpPr>
        <p:spPr>
          <a:xfrm>
            <a:off x="6443640" y="2109960"/>
            <a:ext cx="595440" cy="485640"/>
          </a:xfrm>
          <a:prstGeom prst="rightArrow">
            <a:avLst>
              <a:gd name="adj1" fmla="val 54898"/>
              <a:gd name="adj2" fmla="val 62451"/>
            </a:avLst>
          </a:prstGeom>
          <a:gradFill rotWithShape="0">
            <a:gsLst>
              <a:gs pos="0">
                <a:srgbClr val="5b3c60"/>
              </a:gs>
              <a:gs pos="100000">
                <a:srgbClr val="c481c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Text Box 102"/>
          <p:cNvSpPr/>
          <p:nvPr/>
        </p:nvSpPr>
        <p:spPr>
          <a:xfrm>
            <a:off x="7182000" y="2109960"/>
            <a:ext cx="1447560" cy="82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مقول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بن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103"/>
          <p:cNvSpPr/>
          <p:nvPr/>
        </p:nvSpPr>
        <p:spPr>
          <a:xfrm>
            <a:off x="7308720" y="4508640"/>
            <a:ext cx="144792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لاي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Nazanin"/>
              </a:rPr>
              <a:t>بن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AutoShape 104"/>
          <p:cNvSpPr/>
          <p:nvPr/>
        </p:nvSpPr>
        <p:spPr>
          <a:xfrm>
            <a:off x="6572160" y="4503600"/>
            <a:ext cx="595440" cy="486000"/>
          </a:xfrm>
          <a:prstGeom prst="rightArrow">
            <a:avLst>
              <a:gd name="adj1" fmla="val 54898"/>
              <a:gd name="adj2" fmla="val 62405"/>
            </a:avLst>
          </a:prstGeom>
          <a:gradFill rotWithShape="0">
            <a:gsLst>
              <a:gs pos="0">
                <a:srgbClr val="5b3c60"/>
              </a:gs>
              <a:gs pos="100000">
                <a:srgbClr val="c481c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DABF-30D6-4A2E-A040-09D9B994DC3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لاي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 (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ayering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لاي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ندي يك سيستم نر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فزاري به صورت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تعدادي از لايه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ا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تقسي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ندي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رد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لاي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ند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وابستگي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ا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را كاهش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هد بطوريكه لاي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پايين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ر از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جزئيات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و واسط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لاي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بالاتر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طلاعي ندارند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80" name="Picture 4" descr="AMORGAN2"/>
          <p:cNvPicPr/>
          <p:nvPr/>
        </p:nvPicPr>
        <p:blipFill>
          <a:blip r:embed="rId1"/>
          <a:stretch/>
        </p:blipFill>
        <p:spPr>
          <a:xfrm>
            <a:off x="2843280" y="4292640"/>
            <a:ext cx="2663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E657-06DB-4696-AF73-15132310D23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لاي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يك برنامه كاربردي از نظر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نطق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ه لايه كل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تقسيم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و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واسط كاربر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ser Interface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منطق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حرفه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Business Logic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سرويس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داد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Data Services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EA69-579B-4D99-9CCC-0AF7E297452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لاي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ا توجه به تقسي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ندي قبل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س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عماري وجود دارد: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معماري متمركز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معماري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lient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معماري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Tier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B4A6-1FF7-402D-A280-07E4353C6C1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ماري متمركز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اين معماري بخ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س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انه برنام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شديدا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ً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ا يكديگر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آميخته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ند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. در واقع، تنها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يك لاي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وجود دارد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مزاي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)  سادگي در طراحي و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پياده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سازي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Times New Roman"/>
              </a:rPr>
              <a:t>معايب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)  عدم قابليت استفاده مجد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) عدم انعطاف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پذيري و قابليت تغيير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پائين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) قابليت توسعه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پذيري و مقياس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پذيري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پائين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684360" y="2565360"/>
            <a:ext cx="7704000" cy="180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00"/>
                </a:solidFill>
                <a:latin typeface="Tahoma"/>
                <a:cs typeface="Nazanin"/>
              </a:rPr>
              <a:t>در صورت نياز به قدرت محاسباتي بيشتر </a:t>
            </a:r>
            <a:r>
              <a:rPr b="1" lang="ar-SA" sz="2800" spc="-1" strike="noStrike">
                <a:solidFill>
                  <a:srgbClr val="990000"/>
                </a:solidFill>
                <a:latin typeface="Times New Roman"/>
                <a:cs typeface="Nazanin"/>
              </a:rPr>
              <a:t>پديده جزاير برنامه</a:t>
            </a:r>
            <a:r>
              <a:rPr b="1" lang="fa-IR" sz="2800" spc="-1" strike="noStrike">
                <a:solidFill>
                  <a:srgbClr val="990000"/>
                </a:solidFill>
                <a:latin typeface="Times New Roman"/>
                <a:ea typeface="Nazanin"/>
              </a:rPr>
              <a:t>‌</a:t>
            </a:r>
            <a:r>
              <a:rPr b="1" lang="ar-SA" sz="2800" spc="-1" strike="noStrike">
                <a:solidFill>
                  <a:srgbClr val="990000"/>
                </a:solidFill>
                <a:latin typeface="Times New Roman"/>
                <a:cs typeface="Nazanin"/>
              </a:rPr>
              <a:t>هاي كاربردي</a:t>
            </a:r>
            <a:r>
              <a:rPr b="1" lang="fa-IR" sz="2800" spc="-1" strike="noStrike">
                <a:solidFill>
                  <a:srgbClr val="990000"/>
                </a:solidFill>
                <a:latin typeface="Times New Roman"/>
                <a:ea typeface="Nazanin"/>
              </a:rPr>
              <a:t> </a:t>
            </a:r>
            <a:r>
              <a:rPr b="1" lang="ar-SA" sz="2800" spc="-1" strike="noStrike">
                <a:solidFill>
                  <a:srgbClr val="990000"/>
                </a:solidFill>
                <a:latin typeface="Comic Sans MS"/>
                <a:ea typeface="Nazanin"/>
              </a:rPr>
              <a:t>(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pplications Islands</a:t>
            </a:r>
            <a:r>
              <a:rPr b="1" lang="ar-SA" sz="2800" spc="-1" strike="noStrike">
                <a:solidFill>
                  <a:srgbClr val="990000"/>
                </a:solidFill>
                <a:latin typeface="Comic Sans MS"/>
                <a:ea typeface="Nazanin"/>
              </a:rPr>
              <a:t>)</a:t>
            </a:r>
            <a:r>
              <a:rPr b="1" lang="fa-IR" sz="2800" spc="-1" strike="noStrike">
                <a:solidFill>
                  <a:srgbClr val="990000"/>
                </a:solidFill>
                <a:latin typeface="Comic Sans MS"/>
                <a:ea typeface="Nazanin"/>
              </a:rPr>
              <a:t> به وجود مي‌آي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5,7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49,-127,-6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5,7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49,-127,-6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7BFA-74CA-4435-B5CB-7D6A4CDD25A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12"/>
          <p:cNvSpPr/>
          <p:nvPr/>
        </p:nvSpPr>
        <p:spPr>
          <a:xfrm>
            <a:off x="2268360" y="1484280"/>
            <a:ext cx="5543640" cy="23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ماري متمركز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94" name="Object 11"/>
          <p:cNvGraphicFramePr/>
          <p:nvPr/>
        </p:nvGraphicFramePr>
        <p:xfrm>
          <a:off x="2124000" y="1555920"/>
          <a:ext cx="324972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5920"/>
                    <a:ext cx="3249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14"/>
          <p:cNvSpPr/>
          <p:nvPr/>
        </p:nvSpPr>
        <p:spPr>
          <a:xfrm>
            <a:off x="5364000" y="2021040"/>
            <a:ext cx="194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r Interface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usiness Logic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1979640" y="62499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18"/>
          <p:cNvSpPr/>
          <p:nvPr/>
        </p:nvSpPr>
        <p:spPr>
          <a:xfrm>
            <a:off x="3205080" y="62499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19"/>
          <p:cNvSpPr/>
          <p:nvPr/>
        </p:nvSpPr>
        <p:spPr>
          <a:xfrm>
            <a:off x="4573440" y="62499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2698920" y="3357720"/>
            <a:ext cx="100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fr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7E46-9C34-41CF-AD68-B71C8B782C1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مار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ent/Serve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اين معماري بخ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س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انه برنامه در دو لايه اصلي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قرار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ير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لاي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 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سرويس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گيرنده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واسط كاربر + بخشي از منطق 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حرفه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سرويس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دهنده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سرويس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هاي داده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اي + قسمت اعظم منطق 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حرفه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52B8-E387-4CC4-BB3E-6CE6491CFDD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ectangle 66"/>
          <p:cNvSpPr/>
          <p:nvPr/>
        </p:nvSpPr>
        <p:spPr>
          <a:xfrm>
            <a:off x="1763640" y="4581360"/>
            <a:ext cx="6048360" cy="2089440"/>
          </a:xfrm>
          <a:prstGeom prst="rect">
            <a:avLst/>
          </a:prstGeom>
          <a:solidFill>
            <a:srgbClr val="ffff66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r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59"/>
          <p:cNvSpPr/>
          <p:nvPr/>
        </p:nvSpPr>
        <p:spPr>
          <a:xfrm>
            <a:off x="1763640" y="1484280"/>
            <a:ext cx="6048360" cy="23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r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7" name="Object 68"/>
          <p:cNvGraphicFramePr/>
          <p:nvPr/>
        </p:nvGraphicFramePr>
        <p:xfrm>
          <a:off x="2050920" y="1557360"/>
          <a:ext cx="31989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557360"/>
                    <a:ext cx="31989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Text Box 67"/>
          <p:cNvSpPr/>
          <p:nvPr/>
        </p:nvSpPr>
        <p:spPr>
          <a:xfrm>
            <a:off x="5651640" y="490212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r Interface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usiness Logic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مار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ent/Server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61"/>
          <p:cNvSpPr/>
          <p:nvPr/>
        </p:nvSpPr>
        <p:spPr>
          <a:xfrm>
            <a:off x="5364000" y="202104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usiness Logic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62"/>
          <p:cNvSpPr/>
          <p:nvPr/>
        </p:nvSpPr>
        <p:spPr>
          <a:xfrm>
            <a:off x="1979640" y="62499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 Box 63"/>
          <p:cNvSpPr/>
          <p:nvPr/>
        </p:nvSpPr>
        <p:spPr>
          <a:xfrm>
            <a:off x="3205080" y="62499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64"/>
          <p:cNvSpPr/>
          <p:nvPr/>
        </p:nvSpPr>
        <p:spPr>
          <a:xfrm>
            <a:off x="4573440" y="62499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 Box 65"/>
          <p:cNvSpPr/>
          <p:nvPr/>
        </p:nvSpPr>
        <p:spPr>
          <a:xfrm>
            <a:off x="2698920" y="3357720"/>
            <a:ext cx="100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8E08-2839-44F0-A001-D89063684B0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مار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ent/Server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زاي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واسط كاربر قابل استفاده مجدد است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وجود محيط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برنام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سازي يكپارچه و قوي مانند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elphi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،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isual Studio .NET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، و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...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كه امكان دسترسي به داد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قديمي و جديد سازمان به صورت يكپار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چ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 را فراهم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كنن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مكان استفاده مجدد جزئي از منطق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حرفه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در قسمت سرويس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دهنده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6CB2-5E8B-4FE1-BFEA-C940BA01C0C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مار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ent/Server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عايب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حل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منطق 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حرفه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مشخص نيست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تنها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بخشي از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منطق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حرفه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قابل استفاده مجدد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است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نطق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حرفه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قابل استفاده مجدد، معمولا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ً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، به صورت روال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ذخيره شده كه متعلق ب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يك پايگاه داده معيني است، وجود دارد. به علت اين وابستگي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منطق 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حرفه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 قابليت استفاده مجدد را در سطح تمام سازمان نخواهد داشت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BC04-73AC-4E02-81D6-80EAC46C6DF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طبقه‌بندي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يژگيها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 هر طبقه‌بندي با توجه ب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عياري(معيارهايي)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نجام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ير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83280" indent="-26280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معيارهاي متفاوت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منجر به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طبقه‌بندي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هاي مختلف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خواهد ش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 طبقه‌بند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يده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آل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يعني بهترين طبقه‌بندي بدون توجه به شرايط موجود) وجود ندارد!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 فرآيند طبقه‌بندي يك فرآيند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فزايشي و تكرار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2296-FADD-4720-949D-E3457796AD3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مار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Tie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اين معماري بخش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س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انه برنامه در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ه لاي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صلي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قرار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ير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نطق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حرف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ر روي سرويس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هنده مستقلي كه ب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رويس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دهنده كاربرد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Application Server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معروف است، قرار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ير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E8FB-57BD-4625-A5B1-3FB129CDAD1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مار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Tier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زاي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معماري 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-لايه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اي از تقسيم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بندي منطقي برنامه تبعيت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كن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جداسازي منطق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حرفه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از بقيه قسمت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اي برنامه باعث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به حداكثر رساندن قابليت استفاده مجدد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آن است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عايب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پيچيدگي در طراحي و پياده سازي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2143-F252-4E5C-B68F-EAD518BDFEB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Rectangle 13"/>
          <p:cNvSpPr/>
          <p:nvPr/>
        </p:nvSpPr>
        <p:spPr>
          <a:xfrm>
            <a:off x="1619280" y="3860640"/>
            <a:ext cx="6119640" cy="863640"/>
          </a:xfrm>
          <a:prstGeom prst="rect">
            <a:avLst/>
          </a:prstGeom>
          <a:solidFill>
            <a:srgbClr val="ffff66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r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1620720" y="4941720"/>
            <a:ext cx="6120000" cy="165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r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565164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عمار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Tier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1619280" y="1484280"/>
            <a:ext cx="6119640" cy="2160720"/>
          </a:xfrm>
          <a:prstGeom prst="rect">
            <a:avLst/>
          </a:prstGeom>
          <a:solidFill>
            <a:srgbClr val="ffff66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r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4" name="Object 5"/>
          <p:cNvGraphicFramePr/>
          <p:nvPr/>
        </p:nvGraphicFramePr>
        <p:xfrm>
          <a:off x="2124000" y="1557360"/>
          <a:ext cx="324972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3249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Text Box 6"/>
          <p:cNvSpPr/>
          <p:nvPr/>
        </p:nvSpPr>
        <p:spPr>
          <a:xfrm>
            <a:off x="5651640" y="2021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1979640" y="62499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3205080" y="62499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 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4573440" y="62499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2698920" y="3357720"/>
            <a:ext cx="100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5651640" y="407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usiness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8D23-B073-43E5-951C-BAD870D1846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قايسه معماري 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/S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و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Tie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700360" y="5876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itial Development Effort</a:t>
            </a:r>
            <a:r>
              <a:rPr b="0" lang="ar-SA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6588000" y="3139920"/>
            <a:ext cx="2087640" cy="285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usiness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1116000" y="4292640"/>
            <a:ext cx="2016000" cy="863640"/>
          </a:xfrm>
          <a:prstGeom prst="rect">
            <a:avLst/>
          </a:prstGeom>
          <a:solidFill>
            <a:srgbClr val="cc66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1116000" y="3500280"/>
            <a:ext cx="2016000" cy="79236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13"/>
          <p:cNvSpPr/>
          <p:nvPr/>
        </p:nvSpPr>
        <p:spPr>
          <a:xfrm>
            <a:off x="1116000" y="2708280"/>
            <a:ext cx="2016000" cy="7920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Rectangle 14"/>
          <p:cNvSpPr/>
          <p:nvPr/>
        </p:nvSpPr>
        <p:spPr>
          <a:xfrm>
            <a:off x="4140360" y="4292640"/>
            <a:ext cx="2016000" cy="863640"/>
          </a:xfrm>
          <a:prstGeom prst="rect">
            <a:avLst/>
          </a:prstGeom>
          <a:solidFill>
            <a:srgbClr val="cc66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Rectangle 15"/>
          <p:cNvSpPr/>
          <p:nvPr/>
        </p:nvSpPr>
        <p:spPr>
          <a:xfrm>
            <a:off x="4140360" y="2563920"/>
            <a:ext cx="2016000" cy="17287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4140360" y="1700280"/>
            <a:ext cx="2016000" cy="863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4715640" y="5299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-Ti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Rectangle 18"/>
          <p:cNvSpPr/>
          <p:nvPr/>
        </p:nvSpPr>
        <p:spPr>
          <a:xfrm>
            <a:off x="1259280" y="529992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lient/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19"/>
          <p:cNvSpPr/>
          <p:nvPr/>
        </p:nvSpPr>
        <p:spPr>
          <a:xfrm>
            <a:off x="611280" y="5156280"/>
            <a:ext cx="604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 Box 20"/>
          <p:cNvSpPr/>
          <p:nvPr/>
        </p:nvSpPr>
        <p:spPr>
          <a:xfrm>
            <a:off x="6588000" y="2708280"/>
            <a:ext cx="2087640" cy="285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 Box 21"/>
          <p:cNvSpPr/>
          <p:nvPr/>
        </p:nvSpPr>
        <p:spPr>
          <a:xfrm>
            <a:off x="6588000" y="3571920"/>
            <a:ext cx="2087640" cy="2858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8447-2DAA-4B2C-8020-E9D0C272599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قايسه معماري 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/S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و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Tie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2701800" y="58762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ubsequent Development Efforts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6588000" y="3139920"/>
            <a:ext cx="2087640" cy="285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usiness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1116000" y="3789360"/>
            <a:ext cx="2016000" cy="1366920"/>
          </a:xfrm>
          <a:prstGeom prst="rect">
            <a:avLst/>
          </a:prstGeom>
          <a:solidFill>
            <a:srgbClr val="cc66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Rectangle 12"/>
          <p:cNvSpPr/>
          <p:nvPr/>
        </p:nvSpPr>
        <p:spPr>
          <a:xfrm>
            <a:off x="1116000" y="2421000"/>
            <a:ext cx="2016000" cy="136836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Rectangle 13"/>
          <p:cNvSpPr/>
          <p:nvPr/>
        </p:nvSpPr>
        <p:spPr>
          <a:xfrm>
            <a:off x="1116000" y="2060640"/>
            <a:ext cx="2016000" cy="3603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14"/>
          <p:cNvSpPr/>
          <p:nvPr/>
        </p:nvSpPr>
        <p:spPr>
          <a:xfrm>
            <a:off x="4140360" y="3789360"/>
            <a:ext cx="2016000" cy="1366920"/>
          </a:xfrm>
          <a:prstGeom prst="rect">
            <a:avLst/>
          </a:prstGeom>
          <a:solidFill>
            <a:srgbClr val="cc66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ectangle 15"/>
          <p:cNvSpPr/>
          <p:nvPr/>
        </p:nvSpPr>
        <p:spPr>
          <a:xfrm>
            <a:off x="4140360" y="3355920"/>
            <a:ext cx="2016000" cy="43344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Rectangle 16"/>
          <p:cNvSpPr/>
          <p:nvPr/>
        </p:nvSpPr>
        <p:spPr>
          <a:xfrm>
            <a:off x="4140360" y="2997360"/>
            <a:ext cx="2016000" cy="358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4715640" y="5299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-Ti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18"/>
          <p:cNvSpPr/>
          <p:nvPr/>
        </p:nvSpPr>
        <p:spPr>
          <a:xfrm>
            <a:off x="1259280" y="529992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lient/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19"/>
          <p:cNvSpPr/>
          <p:nvPr/>
        </p:nvSpPr>
        <p:spPr>
          <a:xfrm>
            <a:off x="611280" y="5156280"/>
            <a:ext cx="604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6588000" y="2708280"/>
            <a:ext cx="2087640" cy="285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Text Box 21"/>
          <p:cNvSpPr/>
          <p:nvPr/>
        </p:nvSpPr>
        <p:spPr>
          <a:xfrm>
            <a:off x="6588000" y="3571920"/>
            <a:ext cx="2087640" cy="2858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418A-E2EE-416B-B7B1-61CDCB85AD9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قايسه معماري 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/S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و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Tier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Rectangle 9"/>
          <p:cNvSpPr/>
          <p:nvPr/>
        </p:nvSpPr>
        <p:spPr>
          <a:xfrm>
            <a:off x="2698560" y="587628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lient Tool Migration  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588000" y="3139920"/>
            <a:ext cx="2087640" cy="285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usiness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11"/>
          <p:cNvSpPr/>
          <p:nvPr/>
        </p:nvSpPr>
        <p:spPr>
          <a:xfrm>
            <a:off x="1116000" y="3789360"/>
            <a:ext cx="2016000" cy="1366920"/>
          </a:xfrm>
          <a:prstGeom prst="rect">
            <a:avLst/>
          </a:prstGeom>
          <a:solidFill>
            <a:srgbClr val="cc66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12"/>
          <p:cNvSpPr/>
          <p:nvPr/>
        </p:nvSpPr>
        <p:spPr>
          <a:xfrm>
            <a:off x="1116000" y="1844640"/>
            <a:ext cx="2016000" cy="19447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14"/>
          <p:cNvSpPr/>
          <p:nvPr/>
        </p:nvSpPr>
        <p:spPr>
          <a:xfrm>
            <a:off x="4140360" y="3789360"/>
            <a:ext cx="2016000" cy="1366920"/>
          </a:xfrm>
          <a:prstGeom prst="rect">
            <a:avLst/>
          </a:prstGeom>
          <a:solidFill>
            <a:srgbClr val="cc66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Rectangle 15"/>
          <p:cNvSpPr/>
          <p:nvPr/>
        </p:nvSpPr>
        <p:spPr>
          <a:xfrm>
            <a:off x="4140360" y="3645000"/>
            <a:ext cx="2016000" cy="14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Rectangle 17"/>
          <p:cNvSpPr/>
          <p:nvPr/>
        </p:nvSpPr>
        <p:spPr>
          <a:xfrm>
            <a:off x="4715640" y="5299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-Ti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Rectangle 18"/>
          <p:cNvSpPr/>
          <p:nvPr/>
        </p:nvSpPr>
        <p:spPr>
          <a:xfrm>
            <a:off x="1259280" y="529992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lient/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Line 19"/>
          <p:cNvSpPr/>
          <p:nvPr/>
        </p:nvSpPr>
        <p:spPr>
          <a:xfrm>
            <a:off x="611280" y="5156280"/>
            <a:ext cx="604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Text Box 20"/>
          <p:cNvSpPr/>
          <p:nvPr/>
        </p:nvSpPr>
        <p:spPr>
          <a:xfrm>
            <a:off x="6588000" y="2708280"/>
            <a:ext cx="2087640" cy="285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Text Box 21"/>
          <p:cNvSpPr/>
          <p:nvPr/>
        </p:nvSpPr>
        <p:spPr>
          <a:xfrm>
            <a:off x="6588000" y="3571920"/>
            <a:ext cx="2087640" cy="2858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D014-A983-41A7-B27D-06FE4FB9088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قول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 (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Stereotyping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قوله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بند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شياء كمك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كند ك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طوح تجريد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در يك سيستم نرم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فزاري را 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شناخته شد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و بدين صورت تمام افراد تيم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وانند در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طح واحدي از تجريد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فعاليت نماي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539640" y="2997360"/>
            <a:ext cx="7615440" cy="1800000"/>
          </a:xfrm>
          <a:prstGeom prst="rect">
            <a:avLst/>
          </a:prstGeom>
          <a:solidFill>
            <a:srgbClr val="ffcc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Nazanin"/>
              </a:rPr>
              <a:t>مقوله</a:t>
            </a:r>
            <a:r>
              <a:rPr b="1" lang="fa-IR" sz="3200" spc="-1" strike="noStrike">
                <a:solidFill>
                  <a:srgbClr val="000066"/>
                </a:solidFill>
                <a:latin typeface="Times New Roman"/>
                <a:ea typeface="Nazanin"/>
              </a:rPr>
              <a:t>‌</a:t>
            </a: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Nazanin"/>
              </a:rPr>
              <a:t>بندي روشي براي </a:t>
            </a:r>
            <a:r>
              <a:rPr b="1" lang="fa-IR" sz="3200" spc="-1" strike="noStrike">
                <a:solidFill>
                  <a:srgbClr val="000066"/>
                </a:solidFill>
                <a:latin typeface="Times New Roman"/>
                <a:cs typeface="Nazanin"/>
              </a:rPr>
              <a:t>تنظيم</a:t>
            </a:r>
            <a:r>
              <a:rPr b="1" lang="ar-SA" sz="3200" spc="-1" strike="noStrike">
                <a:solidFill>
                  <a:srgbClr val="000066"/>
                </a:solidFill>
                <a:latin typeface="Times New Roman"/>
                <a:ea typeface="Nazanin"/>
              </a:rPr>
              <a:t> سطح تجريد است 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bstraction Level Tuner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F682-15A4-494D-8962-E033BCEBF61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قول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ثال: مقول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ندي در متدولوژ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Unified Software Development Process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(USDP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Select Perspective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Responsibility Driven Design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745F-C8EA-451B-8F12-CFE961F35FD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قول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 در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USDP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SDP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كلاس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 به سه گروه زير تقسيم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و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كلاس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هاي مرزي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Boundary Classes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062720" indent="-21240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مثال: واسط كاربر، پروتكل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هاي ارتباطي، واسط چاپگر، 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حسگرها و ...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كلاس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هاي كنترلي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Control Classes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90840" indent="-26568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كلاس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هاي موجوديتي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Entity Classes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062720" indent="-212400" algn="r" rtl="1">
              <a:lnSpc>
                <a:spcPct val="14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كلاس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هاي موجوديتي مفاهيم كليدي در سيستم در حال توسعه را نمايش مي</a:t>
            </a: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200" spc="-1" strike="noStrike">
                <a:solidFill>
                  <a:srgbClr val="000099"/>
                </a:solidFill>
                <a:latin typeface="Times New Roman"/>
              </a:rPr>
              <a:t>دهند 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8B5C-683C-4421-A466-B2188010F16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قول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 در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Perspectiv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ff"/>
                </a:solidFill>
                <a:latin typeface="Times New Roman"/>
              </a:rPr>
              <a:t>كلاس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ff"/>
                </a:solidFill>
                <a:latin typeface="Times New Roman"/>
              </a:rPr>
              <a:t>هاي واسط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nterface Classes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در سيستم هتل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دار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اپراتوري كه با سيستم كار مي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كند با فرم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هايي(همان اشياء واسط) ارتباط دارد مانند: فرم رز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رو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 اتاق، فرم حساب شخص، گزارشي از تعداد افراد و …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4716360" y="4437000"/>
            <a:ext cx="136836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heck out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2627280" y="4437000"/>
            <a:ext cx="136836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heck in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2627280" y="5516640"/>
            <a:ext cx="136836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ooking Re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Rectangle 10"/>
          <p:cNvSpPr/>
          <p:nvPr/>
        </p:nvSpPr>
        <p:spPr>
          <a:xfrm>
            <a:off x="4716360" y="5516640"/>
            <a:ext cx="136836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eservation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BCBF-743A-4D87-8B5B-4F4B551D9A4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ويژگيهاي طبقه‌بندي در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OOAD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 كلاس‌هايي بايد انتخاب شوند كه با توجه ب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عيارها و محدوديت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اي موجود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اقتصادي، تكنولوژ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و ...) سازگار باش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 نبايد دنبال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راه‌حل طلائ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لكه بايد بدنبال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راه‌حل مناسبتر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اشيم!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99D6-651A-469B-8A9E-60CAFC35628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قول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ب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دي در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Perspective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ff"/>
                </a:solidFill>
                <a:latin typeface="Times New Roman"/>
              </a:rPr>
              <a:t>كلاس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ff"/>
                </a:solidFill>
                <a:latin typeface="Times New Roman"/>
              </a:rPr>
              <a:t>هاي 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حرفه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usiness Classes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در سيستم هتل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داري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اشيائي 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مانند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 رزرو كردن و درخواست مشتري، فاكتور، حساب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و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… مشاهده مي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شوند كه سرويس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هاي مورد انتظار از سيستم را فراهم مي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نمايند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4716360" y="4437000"/>
            <a:ext cx="136836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2627280" y="4437000"/>
            <a:ext cx="136836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ustomer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2627280" y="5516640"/>
            <a:ext cx="136836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nvo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4716360" y="5516640"/>
            <a:ext cx="136836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eserv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DBB7-8ABF-4854-9946-5F400C8EA3C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قول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ب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ندي در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Perspective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ff"/>
                </a:solidFill>
                <a:latin typeface="Times New Roman"/>
              </a:rPr>
              <a:t>كلاس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ff"/>
                </a:solidFill>
                <a:latin typeface="Times New Roman"/>
              </a:rPr>
              <a:t>هاي داده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ff"/>
                </a:solidFill>
                <a:latin typeface="Times New Roman"/>
              </a:rPr>
              <a:t>اي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ata Classes</a:t>
            </a:r>
            <a:r>
              <a:rPr b="1" lang="fa-IR" sz="3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در سيستم هتل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دا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ر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اشيائي مانند مدير داده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هاي حساب، تبديل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كننده داده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هاي حساب، دستيابي به داده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هاي حساب و… مشاهده مي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شوند كه سرويس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هاي داده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اي مورد انتظار اشياء ديگر را فراهم مي</a:t>
            </a:r>
            <a:r>
              <a:rPr b="1" lang="fa-IR" sz="2600" spc="-1" strike="noStrike">
                <a:solidFill>
                  <a:srgbClr val="9900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990000"/>
                </a:solidFill>
                <a:latin typeface="Times New Roman"/>
              </a:rPr>
              <a:t>نمايند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3780000" y="5013360"/>
            <a:ext cx="165564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ccount Data Manag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1476360" y="5013360"/>
            <a:ext cx="172728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ccount Data Conver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10"/>
          <p:cNvSpPr/>
          <p:nvPr/>
        </p:nvSpPr>
        <p:spPr>
          <a:xfrm>
            <a:off x="6012000" y="5013360"/>
            <a:ext cx="151272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ccount Data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DE00-C1B5-4FA0-AF08-23672B8DF7B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قول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 در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DD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ر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DD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كلاس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 به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6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گروه زير تقسيم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ون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كلاس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هاي كنترل كننده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Controller Classes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كلاس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هاي هماهنگ كننده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Coordinator Classes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كلاس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هاي واسط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Interface Classes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كلاس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هاي فراهم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كننده سرويس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Service Provider Classes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كلاس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هاي نگهدارنده اطلاعات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Information Holder Classes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كلاس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هاي ساختاري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Structure Classes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8685-495F-4DE6-9F16-89C6DF61E51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كار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RC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و مقول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ز كار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CRC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وان براي تشخيص </a:t>
            </a:r>
            <a:r>
              <a:rPr b="1" lang="ar-SA" sz="3000" spc="-1" strike="noStrike">
                <a:solidFill>
                  <a:srgbClr val="cc6600"/>
                </a:solidFill>
                <a:latin typeface="Times New Roman"/>
              </a:rPr>
              <a:t>طبقه</a:t>
            </a:r>
            <a:r>
              <a:rPr b="1" lang="fa-IR" sz="3000" spc="-1" strike="noStrike">
                <a:solidFill>
                  <a:srgbClr val="cc66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6600"/>
                </a:solidFill>
                <a:latin typeface="Times New Roman"/>
              </a:rPr>
              <a:t>بندي</a:t>
            </a:r>
            <a:r>
              <a:rPr b="1" lang="fa-IR" sz="3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cc6600"/>
                </a:solidFill>
                <a:latin typeface="Times New Roman"/>
              </a:rPr>
              <a:t>(مقوله</a:t>
            </a:r>
            <a:r>
              <a:rPr b="1" lang="fa-IR" sz="3000" spc="-1" strike="noStrike">
                <a:solidFill>
                  <a:srgbClr val="cc6600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cc6600"/>
                </a:solidFill>
                <a:latin typeface="Times New Roman"/>
              </a:rPr>
              <a:t>بندي)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اشياء استفاده نمود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مثال: در يك سيستم بانكي مشتري مي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خواهد مبلغي از حساب خود برداشت نمايد. اين كار بوسيله ماشين پرداخت پول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utomatic Teller Machine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) انجام مي</a:t>
            </a:r>
            <a:r>
              <a:rPr b="1" lang="fa-IR" sz="2600" spc="-1" strike="noStrike">
                <a:solidFill>
                  <a:srgbClr val="0000ff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ff"/>
                </a:solidFill>
                <a:latin typeface="Times New Roman"/>
              </a:rPr>
              <a:t>گيرد.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DBCD-6CCA-47DC-87AA-2C07A1EC66D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كار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RC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و مقول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1332000" y="1773360"/>
            <a:ext cx="6305400" cy="530280"/>
          </a:xfrm>
          <a:prstGeom prst="rect">
            <a:avLst/>
          </a:prstGeom>
          <a:solidFill>
            <a:srgbClr val="9b9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Rectangle 10"/>
          <p:cNvSpPr/>
          <p:nvPr/>
        </p:nvSpPr>
        <p:spPr>
          <a:xfrm>
            <a:off x="1332000" y="1773360"/>
            <a:ext cx="6305400" cy="530280"/>
          </a:xfrm>
          <a:prstGeom prst="rect">
            <a:avLst/>
          </a:prstGeom>
          <a:solidFill>
            <a:srgbClr val="ffcc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Rectangle 11"/>
          <p:cNvSpPr/>
          <p:nvPr/>
        </p:nvSpPr>
        <p:spPr>
          <a:xfrm>
            <a:off x="3116880" y="1855800"/>
            <a:ext cx="1379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drawa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Rectangle 12"/>
          <p:cNvSpPr/>
          <p:nvPr/>
        </p:nvSpPr>
        <p:spPr>
          <a:xfrm>
            <a:off x="4714920" y="1855800"/>
            <a:ext cx="1381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Rectangle 13"/>
          <p:cNvSpPr/>
          <p:nvPr/>
        </p:nvSpPr>
        <p:spPr>
          <a:xfrm>
            <a:off x="1332000" y="2832120"/>
            <a:ext cx="3678120" cy="530280"/>
          </a:xfrm>
          <a:prstGeom prst="rect">
            <a:avLst/>
          </a:prstGeom>
          <a:solidFill>
            <a:srgbClr val="9b9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1332000" y="2832120"/>
            <a:ext cx="3678120" cy="530280"/>
          </a:xfrm>
          <a:prstGeom prst="rect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Rectangle 15"/>
          <p:cNvSpPr/>
          <p:nvPr/>
        </p:nvSpPr>
        <p:spPr>
          <a:xfrm>
            <a:off x="2475000" y="2914560"/>
            <a:ext cx="178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ibiliti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Rectangle 16"/>
          <p:cNvSpPr/>
          <p:nvPr/>
        </p:nvSpPr>
        <p:spPr>
          <a:xfrm>
            <a:off x="5010120" y="2832120"/>
            <a:ext cx="2627280" cy="530280"/>
          </a:xfrm>
          <a:prstGeom prst="rect">
            <a:avLst/>
          </a:prstGeom>
          <a:solidFill>
            <a:srgbClr val="9b9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Rectangle 17"/>
          <p:cNvSpPr/>
          <p:nvPr/>
        </p:nvSpPr>
        <p:spPr>
          <a:xfrm>
            <a:off x="5010120" y="2832120"/>
            <a:ext cx="2627280" cy="530280"/>
          </a:xfrm>
          <a:prstGeom prst="rect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Rectangle 18"/>
          <p:cNvSpPr/>
          <p:nvPr/>
        </p:nvSpPr>
        <p:spPr>
          <a:xfrm>
            <a:off x="5689080" y="2914560"/>
            <a:ext cx="159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or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Rectangle 19"/>
          <p:cNvSpPr/>
          <p:nvPr/>
        </p:nvSpPr>
        <p:spPr>
          <a:xfrm>
            <a:off x="1332000" y="3362400"/>
            <a:ext cx="3678120" cy="23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Rectangle 20"/>
          <p:cNvSpPr/>
          <p:nvPr/>
        </p:nvSpPr>
        <p:spPr>
          <a:xfrm>
            <a:off x="1332000" y="3362400"/>
            <a:ext cx="3678120" cy="2384280"/>
          </a:xfrm>
          <a:prstGeom prst="rect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Rectangle 21"/>
          <p:cNvSpPr/>
          <p:nvPr/>
        </p:nvSpPr>
        <p:spPr>
          <a:xfrm>
            <a:off x="1651320" y="3487680"/>
            <a:ext cx="1742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s accoun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Rectangle 23"/>
          <p:cNvSpPr/>
          <p:nvPr/>
        </p:nvSpPr>
        <p:spPr>
          <a:xfrm>
            <a:off x="1650960" y="3841920"/>
            <a:ext cx="1727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s amoun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Rectangle 25"/>
          <p:cNvSpPr/>
          <p:nvPr/>
        </p:nvSpPr>
        <p:spPr>
          <a:xfrm>
            <a:off x="1683720" y="4194000"/>
            <a:ext cx="230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s Withdraw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Rectangle 27"/>
          <p:cNvSpPr/>
          <p:nvPr/>
        </p:nvSpPr>
        <p:spPr>
          <a:xfrm>
            <a:off x="1644480" y="454824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s Transac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Rectangle 29"/>
          <p:cNvSpPr/>
          <p:nvPr/>
        </p:nvSpPr>
        <p:spPr>
          <a:xfrm>
            <a:off x="1632600" y="4900680"/>
            <a:ext cx="2818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s Dispensing cas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Rectangle 32"/>
          <p:cNvSpPr/>
          <p:nvPr/>
        </p:nvSpPr>
        <p:spPr>
          <a:xfrm>
            <a:off x="5010120" y="3362400"/>
            <a:ext cx="2627280" cy="23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33"/>
          <p:cNvSpPr/>
          <p:nvPr/>
        </p:nvSpPr>
        <p:spPr>
          <a:xfrm>
            <a:off x="5010120" y="3362400"/>
            <a:ext cx="2627280" cy="2384280"/>
          </a:xfrm>
          <a:prstGeom prst="rect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Rectangle 34"/>
          <p:cNvSpPr/>
          <p:nvPr/>
        </p:nvSpPr>
        <p:spPr>
          <a:xfrm>
            <a:off x="5362560" y="4149720"/>
            <a:ext cx="177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h Dispens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37"/>
          <p:cNvSpPr/>
          <p:nvPr/>
        </p:nvSpPr>
        <p:spPr>
          <a:xfrm>
            <a:off x="1332000" y="2303640"/>
            <a:ext cx="6305400" cy="528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38"/>
          <p:cNvSpPr/>
          <p:nvPr/>
        </p:nvSpPr>
        <p:spPr>
          <a:xfrm>
            <a:off x="1332000" y="2303640"/>
            <a:ext cx="6305400" cy="528480"/>
          </a:xfrm>
          <a:prstGeom prst="rect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Rectangle 39"/>
          <p:cNvSpPr/>
          <p:nvPr/>
        </p:nvSpPr>
        <p:spPr>
          <a:xfrm>
            <a:off x="2642760" y="2384280"/>
            <a:ext cx="395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percalss: Financial Transaction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657C-7BC2-4C21-AD0B-FCEC13CF536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كارت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ي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RC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و مقوله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بندي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(ادامه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395280" y="58514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پشت كارت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Nazanin"/>
              </a:rPr>
              <a:t>Withdrawal Transaction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 كه در آن طبق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بندي كلاس ديده مي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شو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9" name="Group 7"/>
          <p:cNvGrpSpPr/>
          <p:nvPr/>
        </p:nvGrpSpPr>
        <p:grpSpPr>
          <a:xfrm>
            <a:off x="1258920" y="1628640"/>
            <a:ext cx="6324480" cy="3988080"/>
            <a:chOff x="1258920" y="1628640"/>
            <a:chExt cx="6324480" cy="3988080"/>
          </a:xfrm>
        </p:grpSpPr>
        <p:sp>
          <p:nvSpPr>
            <p:cNvPr id="650" name="AutoShape 6"/>
            <p:cNvSpPr/>
            <p:nvPr/>
          </p:nvSpPr>
          <p:spPr>
            <a:xfrm>
              <a:off x="1258920" y="1628640"/>
              <a:ext cx="6324480" cy="39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1330200" y="1700280"/>
              <a:ext cx="6177240" cy="501480"/>
            </a:xfrm>
            <a:prstGeom prst="rect">
              <a:avLst/>
            </a:prstGeom>
            <a:solidFill>
              <a:srgbClr val="808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3228840" y="1785960"/>
              <a:ext cx="2957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thdrawal Transaction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3132000" y="2201760"/>
              <a:ext cx="4375440" cy="153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3572640" y="2322360"/>
              <a:ext cx="2955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thdraws cash from an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3548160" y="2664000"/>
              <a:ext cx="2771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count and dispense it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1330200" y="2201760"/>
              <a:ext cx="1801800" cy="1536840"/>
            </a:xfrm>
            <a:prstGeom prst="rect">
              <a:avLst/>
            </a:prstGeom>
            <a:solidFill>
              <a:srgbClr val="808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Rectangle 14"/>
            <p:cNvSpPr/>
            <p:nvPr/>
          </p:nvSpPr>
          <p:spPr>
            <a:xfrm>
              <a:off x="1892160" y="2803680"/>
              <a:ext cx="977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rpose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Rectangle 15"/>
            <p:cNvSpPr/>
            <p:nvPr/>
          </p:nvSpPr>
          <p:spPr>
            <a:xfrm>
              <a:off x="3132000" y="3738600"/>
              <a:ext cx="4375440" cy="1806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Rectangle 16"/>
            <p:cNvSpPr/>
            <p:nvPr/>
          </p:nvSpPr>
          <p:spPr>
            <a:xfrm>
              <a:off x="3594600" y="3859200"/>
              <a:ext cx="3693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ice Provider, Coordinator,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Rectangle 17"/>
            <p:cNvSpPr/>
            <p:nvPr/>
          </p:nvSpPr>
          <p:spPr>
            <a:xfrm>
              <a:off x="3496680" y="4200480"/>
              <a:ext cx="1898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siness Object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Rectangle 18"/>
            <p:cNvSpPr/>
            <p:nvPr/>
          </p:nvSpPr>
          <p:spPr>
            <a:xfrm>
              <a:off x="1330200" y="3738600"/>
              <a:ext cx="1801800" cy="1806480"/>
            </a:xfrm>
            <a:prstGeom prst="rect">
              <a:avLst/>
            </a:prstGeom>
            <a:solidFill>
              <a:srgbClr val="808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Rectangle 19"/>
            <p:cNvSpPr/>
            <p:nvPr/>
          </p:nvSpPr>
          <p:spPr>
            <a:xfrm>
              <a:off x="1684800" y="4473720"/>
              <a:ext cx="137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ereotypes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EACA-D393-4511-85A0-6E1028CAC82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0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9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4971-A1EC-45BF-84D5-4405C672B51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ويژگيهاي طبقه‌بندي در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OOAD</a:t>
            </a:r>
            <a:r>
              <a:rPr b="1" lang="fa-IR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طبيعت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فزايشي و تكرار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فرآيند طبقه‌بندي به صورت زير خود را نشان مي دهد: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9280" y="2781360"/>
            <a:ext cx="8915400" cy="3733920"/>
            <a:chOff x="179280" y="2781360"/>
            <a:chExt cx="8915400" cy="3733920"/>
          </a:xfrm>
        </p:grpSpPr>
        <p:sp>
          <p:nvSpPr>
            <p:cNvPr id="127" name="Text Box 5"/>
            <p:cNvSpPr/>
            <p:nvPr/>
          </p:nvSpPr>
          <p:spPr>
            <a:xfrm>
              <a:off x="7418160" y="2781360"/>
              <a:ext cx="1676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99"/>
                  </a:solidFill>
                  <a:latin typeface="Times New Roman"/>
                  <a:cs typeface="Nazanin"/>
                </a:rPr>
                <a:t>تعدادي كلاس كانديدا (اوليه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6"/>
            <p:cNvSpPr/>
            <p:nvPr/>
          </p:nvSpPr>
          <p:spPr>
            <a:xfrm>
              <a:off x="5742000" y="3543480"/>
              <a:ext cx="17524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c3300"/>
                  </a:solidFill>
                  <a:latin typeface="Times New Roman"/>
                  <a:cs typeface="Nazanin"/>
                </a:rPr>
                <a:t>افزايش درك مسئله+ </a:t>
              </a:r>
              <a:r>
                <a:rPr b="1" lang="ar-SA" sz="2000" spc="-1" strike="noStrike">
                  <a:solidFill>
                    <a:srgbClr val="000099"/>
                  </a:solidFill>
                  <a:latin typeface="Times New Roman"/>
                  <a:cs typeface="Nazanin"/>
                </a:rPr>
                <a:t>تلاش براي تشريح ساختار و رفتار كلاس</a:t>
              </a:r>
              <a:r>
                <a:rPr b="1" lang="ar-SA" sz="2000" spc="-1" strike="noStrike">
                  <a:solidFill>
                    <a:srgbClr val="000099"/>
                  </a:solidFill>
                  <a:latin typeface="Times New Roman"/>
                  <a:ea typeface="Homa"/>
                </a:rPr>
                <a:t>‌</a:t>
              </a:r>
              <a:r>
                <a:rPr b="1" lang="ar-SA" sz="2000" spc="-1" strike="noStrike">
                  <a:solidFill>
                    <a:srgbClr val="000099"/>
                  </a:solidFill>
                  <a:latin typeface="Times New Roman"/>
                  <a:cs typeface="Nazanin"/>
                </a:rPr>
                <a:t>ها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6122880" y="2934000"/>
              <a:ext cx="1204920" cy="485640"/>
            </a:xfrm>
            <a:prstGeom prst="leftArrow">
              <a:avLst>
                <a:gd name="adj1" fmla="val 50000"/>
                <a:gd name="adj2" fmla="val 6202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4522680" y="293400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شناسائي كلاس</a:t>
              </a:r>
              <a:r>
                <a:rPr b="1" lang="ar-SA" sz="1800" spc="-1" strike="noStrike">
                  <a:solidFill>
                    <a:srgbClr val="4b4eb5"/>
                  </a:solidFill>
                  <a:latin typeface="Times New Roman"/>
                  <a:ea typeface="Homa"/>
                </a:rPr>
                <a:t>‌</a:t>
              </a:r>
              <a:r>
                <a:rPr b="1" lang="ar-SA" sz="18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هاي ديگر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2465280" y="285768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بهبود كلاس</a:t>
              </a:r>
              <a:r>
                <a:rPr b="1" lang="ar-SA" sz="1800" spc="-1" strike="noStrike">
                  <a:solidFill>
                    <a:srgbClr val="4b4eb5"/>
                  </a:solidFill>
                  <a:latin typeface="Times New Roman"/>
                  <a:ea typeface="Homa"/>
                </a:rPr>
                <a:t>‌</a:t>
              </a:r>
              <a:r>
                <a:rPr b="1" lang="ar-SA" sz="18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هاي اوليه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AutoShape 10"/>
            <p:cNvSpPr/>
            <p:nvPr/>
          </p:nvSpPr>
          <p:spPr>
            <a:xfrm>
              <a:off x="4141800" y="2934000"/>
              <a:ext cx="533160" cy="533160"/>
            </a:xfrm>
            <a:prstGeom prst="plus">
              <a:avLst>
                <a:gd name="adj" fmla="val 42856"/>
              </a:avLst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11"/>
            <p:cNvSpPr/>
            <p:nvPr/>
          </p:nvSpPr>
          <p:spPr>
            <a:xfrm>
              <a:off x="4446360" y="4534200"/>
              <a:ext cx="1676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تقسيم يك كلاس بزرگتر به تعدادي كلاس كوچكتر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AutoShape 12"/>
            <p:cNvSpPr/>
            <p:nvPr/>
          </p:nvSpPr>
          <p:spPr>
            <a:xfrm>
              <a:off x="1550880" y="2934000"/>
              <a:ext cx="533520" cy="533160"/>
            </a:xfrm>
            <a:prstGeom prst="plus">
              <a:avLst>
                <a:gd name="adj" fmla="val 42856"/>
              </a:avLst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2084400" y="4608720"/>
              <a:ext cx="1981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تركيب تعدادي كلاس كوچكتر براي تشكيل دادن يك كلاس بزرگتر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Text Box 14"/>
            <p:cNvSpPr/>
            <p:nvPr/>
          </p:nvSpPr>
          <p:spPr>
            <a:xfrm>
              <a:off x="179280" y="453420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ايجاد زيركلاس</a:t>
              </a:r>
              <a:r>
                <a:rPr b="1" lang="fa-IR" sz="1800" spc="-1" strike="noStrike">
                  <a:solidFill>
                    <a:srgbClr val="4b4eb5"/>
                  </a:solidFill>
                  <a:latin typeface="Times New Roman"/>
                  <a:ea typeface="Nazanin"/>
                </a:rPr>
                <a:t>‌</a:t>
              </a:r>
              <a:r>
                <a:rPr b="1" lang="ar-SA" sz="18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هاي جديد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AutoShape 15"/>
            <p:cNvSpPr/>
            <p:nvPr/>
          </p:nvSpPr>
          <p:spPr>
            <a:xfrm>
              <a:off x="4141800" y="4915080"/>
              <a:ext cx="533160" cy="533520"/>
            </a:xfrm>
            <a:prstGeom prst="plus">
              <a:avLst>
                <a:gd name="adj" fmla="val 42856"/>
              </a:avLst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AutoShape 16"/>
            <p:cNvSpPr/>
            <p:nvPr/>
          </p:nvSpPr>
          <p:spPr>
            <a:xfrm>
              <a:off x="1550880" y="4915080"/>
              <a:ext cx="533520" cy="533520"/>
            </a:xfrm>
            <a:prstGeom prst="plus">
              <a:avLst>
                <a:gd name="adj" fmla="val 42856"/>
              </a:avLst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39" name="Object 17"/>
            <p:cNvGraphicFramePr/>
            <p:nvPr/>
          </p:nvGraphicFramePr>
          <p:xfrm>
            <a:off x="4751280" y="5524560"/>
            <a:ext cx="1247760" cy="73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Object 1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51280" y="5524560"/>
                      <a:ext cx="124776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Object 18"/>
            <p:cNvGraphicFramePr/>
            <p:nvPr/>
          </p:nvGraphicFramePr>
          <p:xfrm>
            <a:off x="2541600" y="5600880"/>
            <a:ext cx="1189080" cy="73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41600" y="5600880"/>
                      <a:ext cx="118908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Object 19"/>
            <p:cNvGraphicFramePr/>
            <p:nvPr/>
          </p:nvGraphicFramePr>
          <p:xfrm>
            <a:off x="484200" y="5504040"/>
            <a:ext cx="976320" cy="1011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4200" y="5504040"/>
                      <a:ext cx="976320" cy="101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1D98-5FE6-4883-9817-7A4DC745021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منابع تشخيص کلاس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و منبع اصلي براي تشخيص كلاس‌ه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فضاي مسئله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Problem Space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فضاي راه‌حل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olution Space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633760" y="4330800"/>
            <a:ext cx="70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Nazanin"/>
              </a:rPr>
              <a:t>مدل تحليل 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ea typeface="Nazanin"/>
              </a:rPr>
              <a:t>	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ea typeface="Nazanin"/>
              </a:rPr>
              <a:t>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  <a:ea typeface="Nazanin"/>
              </a:rPr>
              <a:t>   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Nazanin"/>
              </a:rPr>
              <a:t>توصيف فضاي مسئل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6372360" y="4322880"/>
            <a:ext cx="685800" cy="485640"/>
          </a:xfrm>
          <a:prstGeom prst="leftArrow">
            <a:avLst>
              <a:gd name="adj1" fmla="val 60787"/>
              <a:gd name="adj2" fmla="val 49033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1447920" y="3789360"/>
            <a:ext cx="1617120" cy="1139400"/>
            <a:chOff x="1447920" y="3789360"/>
            <a:chExt cx="1617120" cy="1139400"/>
          </a:xfrm>
        </p:grpSpPr>
        <p:grpSp>
          <p:nvGrpSpPr>
            <p:cNvPr id="151" name="Group 7"/>
            <p:cNvGrpSpPr/>
            <p:nvPr/>
          </p:nvGrpSpPr>
          <p:grpSpPr>
            <a:xfrm>
              <a:off x="2346120" y="3789360"/>
              <a:ext cx="345960" cy="419040"/>
              <a:chOff x="2346120" y="3789360"/>
              <a:chExt cx="345960" cy="419040"/>
            </a:xfrm>
          </p:grpSpPr>
          <p:sp>
            <p:nvSpPr>
              <p:cNvPr id="152" name="Line 8"/>
              <p:cNvSpPr/>
              <p:nvPr/>
            </p:nvSpPr>
            <p:spPr>
              <a:xfrm flipV="1">
                <a:off x="2453040" y="3789360"/>
                <a:ext cx="96120" cy="8856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 flipH="1" flipV="1">
                <a:off x="2456640" y="3873960"/>
                <a:ext cx="90720" cy="8316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Oval 10"/>
              <p:cNvSpPr/>
              <p:nvPr/>
            </p:nvSpPr>
            <p:spPr>
              <a:xfrm>
                <a:off x="2346120" y="3862080"/>
                <a:ext cx="345960" cy="346320"/>
              </a:xfrm>
              <a:prstGeom prst="ellipse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5" name="Group 11"/>
            <p:cNvGrpSpPr/>
            <p:nvPr/>
          </p:nvGrpSpPr>
          <p:grpSpPr>
            <a:xfrm>
              <a:off x="1992240" y="4582800"/>
              <a:ext cx="363240" cy="345960"/>
              <a:chOff x="1992240" y="4582800"/>
              <a:chExt cx="363240" cy="345960"/>
            </a:xfrm>
          </p:grpSpPr>
          <p:sp>
            <p:nvSpPr>
              <p:cNvPr id="156" name="Oval 12"/>
              <p:cNvSpPr/>
              <p:nvPr/>
            </p:nvSpPr>
            <p:spPr>
              <a:xfrm>
                <a:off x="1997640" y="4582800"/>
                <a:ext cx="346320" cy="345960"/>
              </a:xfrm>
              <a:prstGeom prst="ellipse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1992240" y="4928760"/>
                <a:ext cx="36324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4"/>
            <p:cNvGrpSpPr/>
            <p:nvPr/>
          </p:nvGrpSpPr>
          <p:grpSpPr>
            <a:xfrm>
              <a:off x="1447920" y="4035240"/>
              <a:ext cx="482040" cy="345600"/>
              <a:chOff x="1447920" y="4035240"/>
              <a:chExt cx="482040" cy="345600"/>
            </a:xfrm>
          </p:grpSpPr>
          <p:sp>
            <p:nvSpPr>
              <p:cNvPr id="159" name="Oval 15"/>
              <p:cNvSpPr/>
              <p:nvPr/>
            </p:nvSpPr>
            <p:spPr>
              <a:xfrm>
                <a:off x="1584000" y="4035240"/>
                <a:ext cx="345960" cy="345600"/>
              </a:xfrm>
              <a:prstGeom prst="ellipse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1447920" y="4095720"/>
                <a:ext cx="0" cy="22464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 flipH="1">
                <a:off x="1447920" y="4208040"/>
                <a:ext cx="13608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2" name="Group 18"/>
            <p:cNvGrpSpPr/>
            <p:nvPr/>
          </p:nvGrpSpPr>
          <p:grpSpPr>
            <a:xfrm>
              <a:off x="2701800" y="4406760"/>
              <a:ext cx="363240" cy="345600"/>
              <a:chOff x="2701800" y="4406760"/>
              <a:chExt cx="363240" cy="345600"/>
            </a:xfrm>
          </p:grpSpPr>
          <p:sp>
            <p:nvSpPr>
              <p:cNvPr id="163" name="Oval 19"/>
              <p:cNvSpPr/>
              <p:nvPr/>
            </p:nvSpPr>
            <p:spPr>
              <a:xfrm>
                <a:off x="2707200" y="4406760"/>
                <a:ext cx="346320" cy="345600"/>
              </a:xfrm>
              <a:prstGeom prst="ellipse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2701800" y="4752360"/>
                <a:ext cx="36324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5" name="Line 21"/>
            <p:cNvSpPr/>
            <p:nvPr/>
          </p:nvSpPr>
          <p:spPr>
            <a:xfrm>
              <a:off x="1859040" y="4330440"/>
              <a:ext cx="299520" cy="25200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Line 22"/>
            <p:cNvSpPr/>
            <p:nvPr/>
          </p:nvSpPr>
          <p:spPr>
            <a:xfrm flipV="1">
              <a:off x="1930320" y="4095000"/>
              <a:ext cx="415440" cy="11268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 flipV="1">
              <a:off x="2158920" y="4208040"/>
              <a:ext cx="293400" cy="37404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Line 24"/>
            <p:cNvSpPr/>
            <p:nvPr/>
          </p:nvSpPr>
          <p:spPr>
            <a:xfrm flipV="1">
              <a:off x="2344680" y="4582440"/>
              <a:ext cx="356760" cy="16956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25"/>
          <p:cNvSpPr/>
          <p:nvPr/>
        </p:nvSpPr>
        <p:spPr>
          <a:xfrm>
            <a:off x="1373760" y="5329080"/>
            <a:ext cx="87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Nazanin"/>
              </a:rPr>
              <a:t>مدل طراحي مفصل        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  <a:ea typeface="Nazanin"/>
              </a:rPr>
              <a:t>   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Nazanin"/>
              </a:rPr>
              <a:t>توصيف فضاي راه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ea typeface="Lotus"/>
              </a:rPr>
              <a:t>‌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Nazanin"/>
              </a:rPr>
              <a:t>ح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26"/>
          <p:cNvSpPr/>
          <p:nvPr/>
        </p:nvSpPr>
        <p:spPr>
          <a:xfrm>
            <a:off x="5535720" y="5300640"/>
            <a:ext cx="685800" cy="485640"/>
          </a:xfrm>
          <a:prstGeom prst="leftArrow">
            <a:avLst>
              <a:gd name="adj1" fmla="val 60787"/>
              <a:gd name="adj2" fmla="val 49033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" name="Group 27"/>
          <p:cNvGrpSpPr/>
          <p:nvPr/>
        </p:nvGrpSpPr>
        <p:grpSpPr>
          <a:xfrm>
            <a:off x="685800" y="5084640"/>
            <a:ext cx="1447920" cy="990360"/>
            <a:chOff x="685800" y="5084640"/>
            <a:chExt cx="1447920" cy="990360"/>
          </a:xfrm>
        </p:grpSpPr>
        <p:grpSp>
          <p:nvGrpSpPr>
            <p:cNvPr id="172" name="Group 28"/>
            <p:cNvGrpSpPr/>
            <p:nvPr/>
          </p:nvGrpSpPr>
          <p:grpSpPr>
            <a:xfrm>
              <a:off x="685800" y="5290200"/>
              <a:ext cx="351000" cy="226080"/>
              <a:chOff x="685800" y="5290200"/>
              <a:chExt cx="351000" cy="226080"/>
            </a:xfrm>
          </p:grpSpPr>
          <p:sp>
            <p:nvSpPr>
              <p:cNvPr id="173" name="Rectangle 29"/>
              <p:cNvSpPr/>
              <p:nvPr/>
            </p:nvSpPr>
            <p:spPr>
              <a:xfrm>
                <a:off x="685800" y="5290200"/>
                <a:ext cx="351000" cy="226080"/>
              </a:xfrm>
              <a:prstGeom prst="rect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685800" y="5454360"/>
                <a:ext cx="35100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685800" y="5396400"/>
                <a:ext cx="35100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6" name="Group 32"/>
            <p:cNvGrpSpPr/>
            <p:nvPr/>
          </p:nvGrpSpPr>
          <p:grpSpPr>
            <a:xfrm>
              <a:off x="1431360" y="5084640"/>
              <a:ext cx="351000" cy="226080"/>
              <a:chOff x="1431360" y="5084640"/>
              <a:chExt cx="351000" cy="226080"/>
            </a:xfrm>
          </p:grpSpPr>
          <p:sp>
            <p:nvSpPr>
              <p:cNvPr id="177" name="Rectangle 33"/>
              <p:cNvSpPr/>
              <p:nvPr/>
            </p:nvSpPr>
            <p:spPr>
              <a:xfrm>
                <a:off x="1431360" y="5084640"/>
                <a:ext cx="351000" cy="226080"/>
              </a:xfrm>
              <a:prstGeom prst="rect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1431360" y="5248800"/>
                <a:ext cx="35100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1431360" y="5190840"/>
                <a:ext cx="35100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0" name="Group 36"/>
            <p:cNvGrpSpPr/>
            <p:nvPr/>
          </p:nvGrpSpPr>
          <p:grpSpPr>
            <a:xfrm>
              <a:off x="1080000" y="5848920"/>
              <a:ext cx="351000" cy="226080"/>
              <a:chOff x="1080000" y="5848920"/>
              <a:chExt cx="351000" cy="226080"/>
            </a:xfrm>
          </p:grpSpPr>
          <p:sp>
            <p:nvSpPr>
              <p:cNvPr id="181" name="Rectangle 37"/>
              <p:cNvSpPr/>
              <p:nvPr/>
            </p:nvSpPr>
            <p:spPr>
              <a:xfrm>
                <a:off x="1080000" y="5848920"/>
                <a:ext cx="351000" cy="226080"/>
              </a:xfrm>
              <a:prstGeom prst="rect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1080000" y="6013080"/>
                <a:ext cx="35100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1080000" y="5955120"/>
                <a:ext cx="35100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4" name="Group 40"/>
            <p:cNvGrpSpPr/>
            <p:nvPr/>
          </p:nvGrpSpPr>
          <p:grpSpPr>
            <a:xfrm>
              <a:off x="1782720" y="5743080"/>
              <a:ext cx="351000" cy="226080"/>
              <a:chOff x="1782720" y="5743080"/>
              <a:chExt cx="351000" cy="226080"/>
            </a:xfrm>
          </p:grpSpPr>
          <p:sp>
            <p:nvSpPr>
              <p:cNvPr id="185" name="Rectangle 41"/>
              <p:cNvSpPr/>
              <p:nvPr/>
            </p:nvSpPr>
            <p:spPr>
              <a:xfrm>
                <a:off x="1782720" y="5743080"/>
                <a:ext cx="351000" cy="226080"/>
              </a:xfrm>
              <a:prstGeom prst="rect">
                <a:avLst/>
              </a:prstGeom>
              <a:noFill/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1782720" y="5907240"/>
                <a:ext cx="35100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1782720" y="5849280"/>
                <a:ext cx="351000" cy="0"/>
              </a:xfrm>
              <a:prstGeom prst="line">
                <a:avLst/>
              </a:prstGeom>
              <a:ln w="28440">
                <a:solidFill>
                  <a:srgbClr val="4b4e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8" name="Line 44"/>
            <p:cNvSpPr/>
            <p:nvPr/>
          </p:nvSpPr>
          <p:spPr>
            <a:xfrm flipH="1" flipV="1">
              <a:off x="864720" y="5516280"/>
              <a:ext cx="362880" cy="33228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Line 45"/>
            <p:cNvSpPr/>
            <p:nvPr/>
          </p:nvSpPr>
          <p:spPr>
            <a:xfrm flipV="1">
              <a:off x="1036800" y="5198040"/>
              <a:ext cx="394200" cy="19764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Line 46"/>
            <p:cNvSpPr/>
            <p:nvPr/>
          </p:nvSpPr>
          <p:spPr>
            <a:xfrm flipV="1">
              <a:off x="1431360" y="5848920"/>
              <a:ext cx="351000" cy="10584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Line 47"/>
            <p:cNvSpPr/>
            <p:nvPr/>
          </p:nvSpPr>
          <p:spPr>
            <a:xfrm flipV="1">
              <a:off x="1227600" y="5310720"/>
              <a:ext cx="382680" cy="537840"/>
            </a:xfrm>
            <a:prstGeom prst="line">
              <a:avLst/>
            </a:prstGeom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0766-03BC-48AA-AE1F-FA5ABD63D91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فرآيند شناسايي کلاس‌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5800" y="1628640"/>
            <a:ext cx="7772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Nazanin"/>
              </a:rPr>
              <a:t>فرآيند شناسائي كلاس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Lotus"/>
              </a:rPr>
              <a:t>‌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Nazanin"/>
              </a:rPr>
              <a:t>ها شامل دو فعالي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4eb5"/>
                </a:solidFill>
                <a:latin typeface="Times New Roman"/>
                <a:ea typeface="Nazani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Nazanin"/>
              </a:rPr>
              <a:t>اكتشاف</a:t>
            </a:r>
            <a:r>
              <a:rPr b="1" lang="fa-IR" sz="2800" spc="-1" strike="noStrike">
                <a:solidFill>
                  <a:srgbClr val="cc3300"/>
                </a:solidFill>
                <a:latin typeface="Times New Roman"/>
                <a:ea typeface="Nazanin"/>
              </a:rPr>
              <a:t> 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ea typeface="Nazani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Discovery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ea typeface="Nazanin"/>
              </a:rPr>
              <a:t>) 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Nazanin"/>
              </a:rPr>
              <a:t>و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ea typeface="Nazanin"/>
              </a:rPr>
              <a:t> ابداع 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Invention</a:t>
            </a:r>
            <a:r>
              <a:rPr b="1" lang="ar-SA" sz="2800" spc="-1" strike="noStrike">
                <a:solidFill>
                  <a:srgbClr val="cc3300"/>
                </a:solidFill>
                <a:latin typeface="Times New Roman"/>
                <a:ea typeface="Nazanin"/>
              </a:rPr>
              <a:t>) 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Nazanin"/>
              </a:rPr>
              <a:t>اس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181480" y="3759120"/>
            <a:ext cx="2210040" cy="1191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اكتشاف كلاس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هاي موج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600200" y="3774960"/>
            <a:ext cx="3124080" cy="1191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ابداع كلاس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هايي براي پياده</a:t>
            </a:r>
            <a:r>
              <a:rPr b="1" lang="fa-IR" sz="2400" spc="-1" strike="noStrike">
                <a:solidFill>
                  <a:srgbClr val="000099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سازي كلاس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ea typeface="Homa"/>
              </a:rPr>
              <a:t>‌</a:t>
            </a:r>
            <a:r>
              <a:rPr b="1" lang="ar-SA" sz="2400" spc="-1" strike="noStrike">
                <a:solidFill>
                  <a:srgbClr val="000099"/>
                </a:solidFill>
                <a:latin typeface="Times New Roman"/>
                <a:cs typeface="Nazanin"/>
              </a:rPr>
              <a:t>هاي موج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6019920" y="2997360"/>
            <a:ext cx="485640" cy="671400"/>
          </a:xfrm>
          <a:prstGeom prst="downArrow">
            <a:avLst>
              <a:gd name="adj1" fmla="val 49676"/>
              <a:gd name="adj2" fmla="val 45757"/>
            </a:avLst>
          </a:prstGeom>
          <a:gradFill rotWithShape="0">
            <a:gsLst>
              <a:gs pos="0">
                <a:srgbClr val="c4709a"/>
              </a:gs>
              <a:gs pos="100000">
                <a:srgbClr val="5b34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2895480" y="2997360"/>
            <a:ext cx="486000" cy="671400"/>
          </a:xfrm>
          <a:prstGeom prst="downArrow">
            <a:avLst>
              <a:gd name="adj1" fmla="val 49676"/>
              <a:gd name="adj2" fmla="val 45723"/>
            </a:avLst>
          </a:prstGeom>
          <a:gradFill rotWithShape="0">
            <a:gsLst>
              <a:gs pos="0">
                <a:srgbClr val="c4709a"/>
              </a:gs>
              <a:gs pos="100000">
                <a:srgbClr val="5b34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600200" y="4673520"/>
            <a:ext cx="312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مثال: ساختمان داده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ها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(ليست، 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آ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رايه، درخت،...)، ارتباط با پايگاه داده</a:t>
            </a:r>
            <a:r>
              <a:rPr b="1" lang="fa-IR" sz="2400" spc="-1" strike="noStrike">
                <a:solidFill>
                  <a:srgbClr val="cc3300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ها، كلاس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ea typeface="Lotus"/>
              </a:rPr>
              <a:t>‌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هاي كنترلي و هماهنگ كننده،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Administrator</cp:lastModifiedBy>
  <dcterms:modified xsi:type="dcterms:W3CDTF">2011-10-06T09:21:44Z</dcterms:modified>
  <cp:revision>968</cp:revision>
  <dc:subject/>
  <dc:title>PowerPoint Presentation</dc:title>
</cp:coreProperties>
</file>