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2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8.jpeg" ContentType="image/jpeg"/>
  <Override PartName="/ppt/media/image19.jpeg" ContentType="image/jpeg"/>
  <Override PartName="/ppt/media/image6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1957-027C-43D6-B753-30177555B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A19F-83CF-4CEE-B867-773A3C599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3B18-3C5A-4338-9677-4D5D534D5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29B0-7C94-4AAD-A67E-403887225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57BB8-28C3-4B40-AF37-EB36A8C7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3DFFD-9496-4EE2-BBA5-B6BBE37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526F8-FACC-42E6-A43C-36FB473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A788-10DF-4368-B50E-A105F2E1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63A3-C1BF-4E95-BDCB-1A2C264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20B60-4234-4C63-92B5-300FAD1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37E4E-53D2-4374-89F2-76C849D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AFAD-06BD-46DE-BB41-844B8339C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06019-1914-45A4-8F81-D2740314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51966-4F50-4C25-8121-660B284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5A3C6-4AB9-41FE-91DC-03C41613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0975D-376E-437C-984A-077F202E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E6E1-2E30-40A1-B984-09B2C043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9390-F90F-4838-B6D5-89FD8C755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8F60-932E-4AC5-B132-B9F01441B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694E-CBFB-4B23-BD2E-F1DBEC48A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D9FF-A917-44B9-9C28-9D7733573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4776-5309-49C4-87B7-7CAF33E8C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76A2-629A-46F1-8F1C-35C0137B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9641-D1F9-4325-86AE-E939B5734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C72-2F6E-4AEB-84D6-B80D7681EAA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7395-8FAA-49CC-9B02-B06197D79D21}" type="slidenum">
              <a:rPr b="0" lang="ar-SA" sz="1400" spc="-1" strike="noStrike">
                <a:solidFill>
                  <a:srgbClr val="333333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توسعه مبتني بر جنبه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tr"/>
              </a:rPr>
              <a:t>Aspect-oriented 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496680" y="220500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شان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4AB8-6F2F-4E92-B652-1AD08E7957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شکلات روش‌هاي شي‌گرا از آنجا ناشي مي‌شود ک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گاشت بين مولفه‌ها اغلب </a:t>
            </a:r>
            <a:r>
              <a:rPr b="1" lang="fa-IR" sz="2400" spc="-1" strike="noStrike">
                <a:solidFill>
                  <a:srgbClr val="cc6600"/>
                </a:solidFill>
                <a:latin typeface="Times New Roman"/>
              </a:rPr>
              <a:t>يک به يک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60120" indent="-1918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غيير نيازمندي‌ها مي‌تواند سبب تغيير يک يا چند مولفه 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محلي نمودن دغدغه‌ه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ncern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عمومي دشوار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60120" indent="-1918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برخي اوقات اين کار امکان‌پذير ني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مرکز شي‌گرايي بر رو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بهبود برنامه‌نويس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کدها است، در حاليکه نياز است تا تمرکز بر رو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نيازمندي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60120" indent="-1918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الش اصلي توسعه نرم‌افزار، برآورده‌سازي نيازمندي‌ها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900000" y="2349360"/>
            <a:ext cx="6912000" cy="1873440"/>
          </a:xfrm>
          <a:prstGeom prst="roundRect">
            <a:avLst>
              <a:gd name="adj" fmla="val 6083"/>
            </a:avLst>
          </a:prstGeom>
          <a:solidFill>
            <a:srgbClr val="ffcc00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توسعه مبتني بر جنبه‌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pect-oriented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) با نگاهي بر نيازمندي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Arial"/>
              </a:rPr>
              <a:t>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ها و پوشش بهينه آنها ارائه شده اس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053-B08F-4D04-841F-65DAAFA1DD5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دغدغه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oncer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يازمندي سيستم که براي ذينفعان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ولو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ار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جموعه خاصي از رفتارهاي مورد نياز براي يک برنام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ماژول‌هاي مختل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رم‌افزار تاثير مي‌گذ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توانند وظيفه‌مندي يا غيروظيفه‌مندي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Business logic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Logging and Debugging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توانند سطح بالا يا سطح پائين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40000"/>
              </a:lnSpc>
              <a:spcBef>
                <a:spcPts val="4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Security, QoS</a:t>
            </a:r>
            <a:r>
              <a:rPr b="1" i="1" lang="fa-IR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fa-IR" sz="1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aching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55F-7A1F-4C67-A19C-5AECC97A549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داسازي دغدغه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Separation of concern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روشي براي توجه به آنها به صورت مجزاست که اجازه رهگيري شفاف نيازمندي‌ها به پياده‌سازي را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جداسازي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سنت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طريق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واحدبندي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و كپسوله‌س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فراهم مي‌گر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زب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رويه‌اي دغدغه‌ها را به رويه‌ها تبديل مي‌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زب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ش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ا دغدغه‌ها را اشياء تبديل مي‌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طراحي‌هاي سرويس‌گرا دغدغه‌ها را به سرويس تبديل مي‌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CB71-BAB9-4CB1-8820-9A599F8C981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670800" cy="37209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971640" y="1484280"/>
            <a:ext cx="2197080" cy="1905120"/>
          </a:xfrm>
          <a:prstGeom prst="rect">
            <a:avLst/>
          </a:prstGeom>
          <a:solidFill>
            <a:srgbClr val="ff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conc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716360" y="1484280"/>
            <a:ext cx="2951280" cy="1873440"/>
          </a:xfrm>
          <a:prstGeom prst="rect">
            <a:avLst/>
          </a:prstGeom>
          <a:solidFill>
            <a:srgbClr val="ff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conc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826920" y="4113360"/>
            <a:ext cx="2341800" cy="2006280"/>
          </a:xfrm>
          <a:prstGeom prst="rect">
            <a:avLst/>
          </a:prstGeom>
          <a:solidFill>
            <a:srgbClr val="ff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conc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508720" y="4005360"/>
            <a:ext cx="2052720" cy="1974600"/>
          </a:xfrm>
          <a:prstGeom prst="rect">
            <a:avLst/>
          </a:prstGeom>
          <a:solidFill>
            <a:srgbClr val="ffcc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conc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700360" y="6165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Separation of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05E-7D0D-4F65-8AA6-F2078B3E3BD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ore concerns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غدغه‌هايي هستند که به اهداف اصلي سيستم مرتبط هستند و معمولاً در يک رويه، ماژول يا شي قرار مي‌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rosscutting Concerns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طور معمول در چندين رويه، ماژول يا شي قرار مي‌گير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هنگام تغيير به دو صورت مشکل ايجاد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71280" indent="-1940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Tangling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: يک مولفه بيش از يک نيازمندي را پياده‌سازي مي‌ک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971280" indent="-1940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cattering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: پياده‌سازي يک نيازمندي توسط چند مولفه انجام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BEC-2CB1-4013-B4C4-ECE7E4FB7C5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355680" y="1701720"/>
            <a:ext cx="4584600" cy="3429000"/>
            <a:chOff x="355680" y="1701720"/>
            <a:chExt cx="4584600" cy="3429000"/>
          </a:xfrm>
        </p:grpSpPr>
        <p:sp>
          <p:nvSpPr>
            <p:cNvPr id="242" name="AutoShape 5"/>
            <p:cNvSpPr/>
            <p:nvPr/>
          </p:nvSpPr>
          <p:spPr>
            <a:xfrm>
              <a:off x="355680" y="1701720"/>
              <a:ext cx="4584600" cy="3429000"/>
            </a:xfrm>
            <a:prstGeom prst="roundRect">
              <a:avLst>
                <a:gd name="adj" fmla="val 5556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1562040" y="2070000"/>
              <a:ext cx="1320840" cy="660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7"/>
            <p:cNvSpPr/>
            <p:nvPr/>
          </p:nvSpPr>
          <p:spPr>
            <a:xfrm flipV="1">
              <a:off x="1256760" y="2730240"/>
              <a:ext cx="118116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 flipV="1">
              <a:off x="2641320" y="2730600"/>
              <a:ext cx="1003320" cy="34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482760" y="3441600"/>
              <a:ext cx="1320840" cy="78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2184480" y="4228920"/>
              <a:ext cx="1320840" cy="711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3429000" y="3085920"/>
              <a:ext cx="1320840" cy="660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 flipV="1">
              <a:off x="2933640" y="3733560"/>
              <a:ext cx="6732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 flipV="1">
              <a:off x="1752840" y="3352320"/>
              <a:ext cx="167616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 flipH="1" flipV="1">
              <a:off x="2578320" y="2743200"/>
              <a:ext cx="101520" cy="15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5283360" y="2060640"/>
          <a:ext cx="3392280" cy="2763720"/>
        </p:xfrm>
        <a:graphic>
          <a:graphicData uri="http://schemas.openxmlformats.org/drawingml/2006/table">
            <a:tbl>
              <a:tblPr/>
              <a:tblGrid>
                <a:gridCol w="1396800"/>
                <a:gridCol w="1995480"/>
              </a:tblGrid>
              <a:tr h="4795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Conc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Object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39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Object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1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Object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39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Object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0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Nazani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26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Nazanin"/>
                        </a:rPr>
                        <a:t>Object 1,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253" name="Group 60"/>
          <p:cNvGrpSpPr/>
          <p:nvPr/>
        </p:nvGrpSpPr>
        <p:grpSpPr>
          <a:xfrm>
            <a:off x="494640" y="2603520"/>
            <a:ext cx="2997360" cy="2323800"/>
            <a:chOff x="494640" y="2603520"/>
            <a:chExt cx="2997360" cy="2323800"/>
          </a:xfrm>
        </p:grpSpPr>
        <p:sp>
          <p:nvSpPr>
            <p:cNvPr id="254" name="Rectangle 61"/>
            <p:cNvSpPr/>
            <p:nvPr/>
          </p:nvSpPr>
          <p:spPr>
            <a:xfrm flipH="1" rot="10800000">
              <a:off x="1573560" y="2603520"/>
              <a:ext cx="1294920" cy="114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62"/>
            <p:cNvSpPr/>
            <p:nvPr/>
          </p:nvSpPr>
          <p:spPr>
            <a:xfrm flipH="1" rot="10800000">
              <a:off x="494280" y="4089600"/>
              <a:ext cx="1294920" cy="139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63"/>
            <p:cNvSpPr/>
            <p:nvPr/>
          </p:nvSpPr>
          <p:spPr>
            <a:xfrm flipH="1" rot="10800000">
              <a:off x="2196720" y="4775040"/>
              <a:ext cx="1295280" cy="152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7" name="Rectangle 70"/>
          <p:cNvSpPr/>
          <p:nvPr/>
        </p:nvSpPr>
        <p:spPr>
          <a:xfrm>
            <a:off x="2771640" y="566100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Crosscutting Conc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A87-AFD7-4EB4-8F52-2DE57EBABA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توجه به جنب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24000" y="1746360"/>
            <a:ext cx="8208720" cy="36986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1600200" y="5651640"/>
            <a:ext cx="5931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Times New Roman"/>
              </a:rPr>
              <a:t>Good modularization</a:t>
            </a:r>
            <a:r>
              <a:rPr b="1" i="1" lang="en-US" sz="21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100"/>
            </a:br>
            <a:r>
              <a:rPr b="1" i="1" lang="en-US" sz="2100" spc="-1" strike="noStrike">
                <a:solidFill>
                  <a:srgbClr val="cc3300"/>
                </a:solidFill>
                <a:latin typeface="Times New Roman"/>
              </a:rPr>
              <a:t>XML parsing</a:t>
            </a:r>
            <a:r>
              <a:rPr b="1" i="1" lang="en-US" sz="2100" spc="-1" strike="noStrike">
                <a:solidFill>
                  <a:srgbClr val="008000"/>
                </a:solidFill>
                <a:latin typeface="Times New Roman"/>
              </a:rPr>
              <a:t> is implemented in its own modu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377-320A-448F-B0E2-C057389F740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توجه به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15200" cy="3701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1371600" y="5651640"/>
            <a:ext cx="63882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Times New Roman"/>
              </a:rPr>
              <a:t>Good modulariz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3300"/>
                </a:solidFill>
                <a:latin typeface="Times New Roman"/>
              </a:rPr>
              <a:t>URL pattern matching</a:t>
            </a:r>
            <a:r>
              <a:rPr b="1" i="1" lang="en-US" sz="2100" spc="-1" strike="noStrike">
                <a:solidFill>
                  <a:srgbClr val="008000"/>
                </a:solidFill>
                <a:latin typeface="Times New Roman"/>
              </a:rPr>
              <a:t> is implemented in 2 modu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3AC-557B-4088-9E15-A1534C42D1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توجه به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354880" cy="37702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1403280" y="5661000"/>
            <a:ext cx="675792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Bad modularization</a:t>
            </a:r>
            <a:br>
              <a:rPr sz="2000"/>
            </a:b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Logging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is implemented in a lot of different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93E6-7334-4D42-BE66-031DA2D724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119"/>
          <p:cNvSpPr/>
          <p:nvPr/>
        </p:nvSpPr>
        <p:spPr>
          <a:xfrm>
            <a:off x="611280" y="5157720"/>
            <a:ext cx="7345440" cy="287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118"/>
          <p:cNvSpPr/>
          <p:nvPr/>
        </p:nvSpPr>
        <p:spPr>
          <a:xfrm>
            <a:off x="611280" y="3068640"/>
            <a:ext cx="734544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16"/>
          <p:cNvSpPr/>
          <p:nvPr/>
        </p:nvSpPr>
        <p:spPr>
          <a:xfrm>
            <a:off x="468360" y="2421000"/>
            <a:ext cx="72007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ed void put (SensorRecoed rec) throws Interrupted 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(numberOfEntries == bufsiz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it 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ore [back] = new SensorRecord (rec.sensorId, rec.sensoral) 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= back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(back == bufsiz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=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mberOfEntries = numberOfEntries +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 // pu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17"/>
          <p:cNvSpPr/>
          <p:nvPr/>
        </p:nvSpPr>
        <p:spPr>
          <a:xfrm>
            <a:off x="2260440" y="1557360"/>
            <a:ext cx="44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درهم پيچيدگي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  <a:ea typeface="Nazanin"/>
              </a:rPr>
              <a:t> (</a:t>
            </a:r>
            <a:r>
              <a:rPr b="1" i="1" lang="en-GB" sz="2400" spc="-1" strike="noStrike">
                <a:solidFill>
                  <a:srgbClr val="cc3300"/>
                </a:solidFill>
                <a:latin typeface="Times New Roman"/>
              </a:rPr>
              <a:t>Tangling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24E7-B27E-43E6-B102-A3A0DD005E1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ذاتي بودن پيچيدگي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نرم‌افزار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وسعه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نرم‌افزار مبتني بر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فاهيم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توسعه مبتني بر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نواع جنبه‌ها و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دسته‌بندي ‌آن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وسعه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نرم‌افزار مبتني بر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E28-298C-4F6E-9F03-499C49CF3D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900000" y="4646520"/>
            <a:ext cx="7267680" cy="654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9" name="Group 57"/>
          <p:cNvGrpSpPr/>
          <p:nvPr/>
        </p:nvGrpSpPr>
        <p:grpSpPr>
          <a:xfrm>
            <a:off x="3490920" y="2598840"/>
            <a:ext cx="1776240" cy="2714400"/>
            <a:chOff x="3490920" y="2598840"/>
            <a:chExt cx="1776240" cy="2714400"/>
          </a:xfrm>
        </p:grpSpPr>
        <p:sp>
          <p:nvSpPr>
            <p:cNvPr id="280" name="Freeform 50"/>
            <p:cNvSpPr/>
            <p:nvPr/>
          </p:nvSpPr>
          <p:spPr>
            <a:xfrm>
              <a:off x="3492360" y="2598840"/>
              <a:ext cx="1765440" cy="385560"/>
            </a:xfrm>
            <a:prstGeom prst="pie">
              <a:avLst/>
            </a:prstGeom>
            <a:solidFill>
              <a:srgbClr val="8fd8f6"/>
            </a:solidFill>
            <a:ln w="2376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23"/>
            <p:cNvSpPr/>
            <p:nvPr/>
          </p:nvSpPr>
          <p:spPr>
            <a:xfrm>
              <a:off x="3502080" y="2600280"/>
              <a:ext cx="1754280" cy="2712960"/>
            </a:xfrm>
            <a:prstGeom prst="rect">
              <a:avLst/>
            </a:prstGeom>
            <a:noFill/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4176720" y="268128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>
              <a:off x="3490920" y="3382920"/>
              <a:ext cx="1776240" cy="1800"/>
            </a:xfrm>
            <a:prstGeom prst="line">
              <a:avLst/>
            </a:prstGeom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3703320" y="3079800"/>
              <a:ext cx="1213920" cy="2147040"/>
              <a:chOff x="3703320" y="3079800"/>
              <a:chExt cx="1213920" cy="2147040"/>
            </a:xfrm>
          </p:grpSpPr>
          <p:sp>
            <p:nvSpPr>
              <p:cNvPr id="285" name="Rectangle 25"/>
              <p:cNvSpPr/>
              <p:nvPr/>
            </p:nvSpPr>
            <p:spPr>
              <a:xfrm>
                <a:off x="3703680" y="3476520"/>
                <a:ext cx="1041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tModality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26"/>
              <p:cNvSpPr/>
              <p:nvPr/>
            </p:nvSpPr>
            <p:spPr>
              <a:xfrm>
                <a:off x="3705840" y="3710160"/>
                <a:ext cx="69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chiv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27"/>
              <p:cNvSpPr/>
              <p:nvPr/>
            </p:nvSpPr>
            <p:spPr>
              <a:xfrm>
                <a:off x="3706560" y="3944880"/>
                <a:ext cx="72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tDat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28"/>
              <p:cNvSpPr/>
              <p:nvPr/>
            </p:nvSpPr>
            <p:spPr>
              <a:xfrm>
                <a:off x="3705840" y="4178160"/>
                <a:ext cx="770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ditDat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29"/>
              <p:cNvSpPr/>
              <p:nvPr/>
            </p:nvSpPr>
            <p:spPr>
              <a:xfrm>
                <a:off x="3708360" y="441180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30"/>
              <p:cNvSpPr/>
              <p:nvPr/>
            </p:nvSpPr>
            <p:spPr>
              <a:xfrm>
                <a:off x="3704400" y="4645080"/>
                <a:ext cx="1200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veDiagnosis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31"/>
              <p:cNvSpPr/>
              <p:nvPr/>
            </p:nvSpPr>
            <p:spPr>
              <a:xfrm>
                <a:off x="3705840" y="4879800"/>
                <a:ext cx="849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veTyp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33"/>
              <p:cNvSpPr/>
              <p:nvPr/>
            </p:nvSpPr>
            <p:spPr>
              <a:xfrm>
                <a:off x="3718080" y="501336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35"/>
              <p:cNvSpPr/>
              <p:nvPr/>
            </p:nvSpPr>
            <p:spPr>
              <a:xfrm>
                <a:off x="3703320" y="3079800"/>
                <a:ext cx="1213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&lt;attribute decls&gt;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94" name="Group 56"/>
          <p:cNvGrpSpPr/>
          <p:nvPr/>
        </p:nvGrpSpPr>
        <p:grpSpPr>
          <a:xfrm>
            <a:off x="5894280" y="2600280"/>
            <a:ext cx="1798920" cy="2712960"/>
            <a:chOff x="5894280" y="2600280"/>
            <a:chExt cx="1798920" cy="2712960"/>
          </a:xfrm>
        </p:grpSpPr>
        <p:sp>
          <p:nvSpPr>
            <p:cNvPr id="295" name="Freeform 49"/>
            <p:cNvSpPr/>
            <p:nvPr/>
          </p:nvSpPr>
          <p:spPr>
            <a:xfrm>
              <a:off x="5918040" y="2611440"/>
              <a:ext cx="1765440" cy="385920"/>
            </a:xfrm>
            <a:prstGeom prst="pie">
              <a:avLst/>
            </a:prstGeom>
            <a:solidFill>
              <a:srgbClr val="8fd8f6"/>
            </a:solidFill>
            <a:ln w="2376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7"/>
            <p:cNvSpPr/>
            <p:nvPr/>
          </p:nvSpPr>
          <p:spPr>
            <a:xfrm>
              <a:off x="5910120" y="2600280"/>
              <a:ext cx="1776600" cy="2712960"/>
            </a:xfrm>
            <a:prstGeom prst="rect">
              <a:avLst/>
            </a:prstGeom>
            <a:noFill/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8"/>
            <p:cNvSpPr/>
            <p:nvPr/>
          </p:nvSpPr>
          <p:spPr>
            <a:xfrm>
              <a:off x="6274080" y="268128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ult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47"/>
            <p:cNvSpPr/>
            <p:nvPr/>
          </p:nvSpPr>
          <p:spPr>
            <a:xfrm>
              <a:off x="5894280" y="3382920"/>
              <a:ext cx="1798920" cy="1800"/>
            </a:xfrm>
            <a:prstGeom prst="line">
              <a:avLst/>
            </a:prstGeom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9" name="Group 55"/>
            <p:cNvGrpSpPr/>
            <p:nvPr/>
          </p:nvGrpSpPr>
          <p:grpSpPr>
            <a:xfrm>
              <a:off x="6152760" y="3079800"/>
              <a:ext cx="1213920" cy="2218320"/>
              <a:chOff x="6152760" y="3079800"/>
              <a:chExt cx="1213920" cy="2218320"/>
            </a:xfrm>
          </p:grpSpPr>
          <p:sp>
            <p:nvSpPr>
              <p:cNvPr id="300" name="Rectangle 39"/>
              <p:cNvSpPr/>
              <p:nvPr/>
            </p:nvSpPr>
            <p:spPr>
              <a:xfrm>
                <a:off x="6153480" y="3476520"/>
                <a:ext cx="1139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keAppoint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40"/>
              <p:cNvSpPr/>
              <p:nvPr/>
            </p:nvSpPr>
            <p:spPr>
              <a:xfrm>
                <a:off x="6153480" y="3710160"/>
                <a:ext cx="1209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celAppoint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41"/>
              <p:cNvSpPr/>
              <p:nvPr/>
            </p:nvSpPr>
            <p:spPr>
              <a:xfrm>
                <a:off x="6154560" y="3944880"/>
                <a:ext cx="1040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ignNurs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42"/>
              <p:cNvSpPr/>
              <p:nvPr/>
            </p:nvSpPr>
            <p:spPr>
              <a:xfrm>
                <a:off x="6152760" y="4178160"/>
                <a:ext cx="95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okEquip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43"/>
              <p:cNvSpPr/>
              <p:nvPr/>
            </p:nvSpPr>
            <p:spPr>
              <a:xfrm>
                <a:off x="6157800" y="441180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44"/>
              <p:cNvSpPr/>
              <p:nvPr/>
            </p:nvSpPr>
            <p:spPr>
              <a:xfrm>
                <a:off x="6154200" y="464508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nonymis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45"/>
              <p:cNvSpPr/>
              <p:nvPr/>
            </p:nvSpPr>
            <p:spPr>
              <a:xfrm>
                <a:off x="6153840" y="4879800"/>
                <a:ext cx="1041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veConsult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46"/>
              <p:cNvSpPr/>
              <p:nvPr/>
            </p:nvSpPr>
            <p:spPr>
              <a:xfrm>
                <a:off x="6157800" y="508464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48"/>
              <p:cNvSpPr/>
              <p:nvPr/>
            </p:nvSpPr>
            <p:spPr>
              <a:xfrm>
                <a:off x="6152760" y="3079800"/>
                <a:ext cx="1213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&lt;attribute decls&gt;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09" name="Group 58"/>
          <p:cNvGrpSpPr/>
          <p:nvPr/>
        </p:nvGrpSpPr>
        <p:grpSpPr>
          <a:xfrm>
            <a:off x="1201680" y="2585880"/>
            <a:ext cx="1798560" cy="2727360"/>
            <a:chOff x="1201680" y="2585880"/>
            <a:chExt cx="1798560" cy="2727360"/>
          </a:xfrm>
        </p:grpSpPr>
        <p:sp>
          <p:nvSpPr>
            <p:cNvPr id="310" name="Freeform 51"/>
            <p:cNvSpPr/>
            <p:nvPr/>
          </p:nvSpPr>
          <p:spPr>
            <a:xfrm>
              <a:off x="1225440" y="2585880"/>
              <a:ext cx="1765440" cy="385920"/>
            </a:xfrm>
            <a:prstGeom prst="pie">
              <a:avLst/>
            </a:prstGeom>
            <a:solidFill>
              <a:srgbClr val="8fd8f6"/>
            </a:solidFill>
            <a:ln w="2376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1661040" y="268128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ti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20"/>
            <p:cNvSpPr/>
            <p:nvPr/>
          </p:nvSpPr>
          <p:spPr>
            <a:xfrm>
              <a:off x="1201680" y="3382920"/>
              <a:ext cx="1798560" cy="1800"/>
            </a:xfrm>
            <a:prstGeom prst="line">
              <a:avLst/>
            </a:prstGeom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3" name="Group 52"/>
            <p:cNvGrpSpPr/>
            <p:nvPr/>
          </p:nvGrpSpPr>
          <p:grpSpPr>
            <a:xfrm>
              <a:off x="1412280" y="3079800"/>
              <a:ext cx="1213920" cy="2013480"/>
              <a:chOff x="1412280" y="3079800"/>
              <a:chExt cx="1213920" cy="2013480"/>
            </a:xfrm>
          </p:grpSpPr>
          <p:sp>
            <p:nvSpPr>
              <p:cNvPr id="314" name="Rectangle 13"/>
              <p:cNvSpPr/>
              <p:nvPr/>
            </p:nvSpPr>
            <p:spPr>
              <a:xfrm>
                <a:off x="1415880" y="347652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tNam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4"/>
              <p:cNvSpPr/>
              <p:nvPr/>
            </p:nvSpPr>
            <p:spPr>
              <a:xfrm>
                <a:off x="1415520" y="3710160"/>
                <a:ext cx="85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ditNam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5"/>
              <p:cNvSpPr/>
              <p:nvPr/>
            </p:nvSpPr>
            <p:spPr>
              <a:xfrm>
                <a:off x="1414800" y="3944880"/>
                <a:ext cx="96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tAddress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6"/>
              <p:cNvSpPr/>
              <p:nvPr/>
            </p:nvSpPr>
            <p:spPr>
              <a:xfrm>
                <a:off x="1414080" y="4178160"/>
                <a:ext cx="1020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ditAddress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7"/>
              <p:cNvSpPr/>
              <p:nvPr/>
            </p:nvSpPr>
            <p:spPr>
              <a:xfrm>
                <a:off x="1417680" y="441180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8"/>
              <p:cNvSpPr/>
              <p:nvPr/>
            </p:nvSpPr>
            <p:spPr>
              <a:xfrm>
                <a:off x="1414080" y="464508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nonymise (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9"/>
              <p:cNvSpPr/>
              <p:nvPr/>
            </p:nvSpPr>
            <p:spPr>
              <a:xfrm>
                <a:off x="1417680" y="4879800"/>
                <a:ext cx="13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21"/>
              <p:cNvSpPr/>
              <p:nvPr/>
            </p:nvSpPr>
            <p:spPr>
              <a:xfrm>
                <a:off x="1412280" y="3079800"/>
                <a:ext cx="1213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&lt;attribute decls&gt;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2" name="Rectangle 10"/>
            <p:cNvSpPr/>
            <p:nvPr/>
          </p:nvSpPr>
          <p:spPr>
            <a:xfrm>
              <a:off x="1212840" y="2600280"/>
              <a:ext cx="1776600" cy="2712960"/>
            </a:xfrm>
            <a:prstGeom prst="rect">
              <a:avLst/>
            </a:prstGeom>
            <a:noFill/>
            <a:ln w="237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Rectangle 59"/>
          <p:cNvSpPr/>
          <p:nvPr/>
        </p:nvSpPr>
        <p:spPr>
          <a:xfrm>
            <a:off x="2820240" y="1700280"/>
            <a:ext cx="365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پراكندگي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  <a:ea typeface="Nazanin"/>
              </a:rPr>
              <a:t>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Scattering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9CED-789F-4391-9D58-92142BBBC0A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امدهاي درهم پيچيدگي و پراكند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تغيير در يك دغدغه موجب تغيير در دغدغه‌هاي ديگر مي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عدم كشف نيازمندي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ها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 هر دغدغه از طريق كد منبع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از بين بردن 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واحدبندي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 سيستم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ضعف در درك و فه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7" name="Diagram 7" descr=""/>
          <p:cNvPicPr/>
          <p:nvPr/>
        </p:nvPicPr>
        <p:blipFill>
          <a:blip r:embed="rId1"/>
          <a:stretch/>
        </p:blipFill>
        <p:spPr>
          <a:xfrm>
            <a:off x="2584440" y="4280040"/>
            <a:ext cx="4468680" cy="224316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9"/>
          <p:cNvCxnSpPr>
            <a:stCxn id="329" idx="3"/>
          </p:cNvCxnSpPr>
          <p:nvPr/>
        </p:nvCxnSpPr>
        <p:spPr>
          <a:xfrm>
            <a:off x="2563560" y="4467240"/>
            <a:ext cx="586440" cy="867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TextBox 11"/>
          <p:cNvSpPr/>
          <p:nvPr/>
        </p:nvSpPr>
        <p:spPr>
          <a:xfrm>
            <a:off x="-92880" y="42688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cc3300"/>
                </a:solidFill>
                <a:latin typeface="Perpetua"/>
                <a:cs typeface="Nazanin"/>
              </a:rPr>
              <a:t>براي سيستم هاي بزر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3080-A2C8-47B6-B722-6A99D8445E4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-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انواع دغدغه‌ها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کارکردي (</a:t>
            </a:r>
            <a:r>
              <a:rPr b="1" i="1" lang="en-US" sz="1900" spc="-1" strike="noStrike">
                <a:solidFill>
                  <a:srgbClr val="008000"/>
                </a:solidFill>
                <a:latin typeface="Times New Roman"/>
              </a:rPr>
              <a:t>Functional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با وظيفه‌مندي خاصي از سيستم مرتبط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کيفيت سرويس (</a:t>
            </a:r>
            <a:r>
              <a:rPr b="1" i="1" lang="en-US" sz="1900" spc="-1" strike="noStrike">
                <a:solidFill>
                  <a:srgbClr val="008000"/>
                </a:solidFill>
                <a:latin typeface="Times New Roman"/>
              </a:rPr>
              <a:t>Quality of Service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رفتار غيروظيفه‌مندي سيستم مرتبط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سياست (</a:t>
            </a:r>
            <a:r>
              <a:rPr b="1" i="1" lang="en-US" sz="1900" spc="-1" strike="noStrike">
                <a:solidFill>
                  <a:srgbClr val="008000"/>
                </a:solidFill>
                <a:latin typeface="Times New Roman"/>
              </a:rPr>
              <a:t>Policy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سياست‌هايي که بر استفاده از سيستم حاکم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سيستم 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i="1" lang="en-US" sz="1900" spc="-1" strike="noStrike">
                <a:solidFill>
                  <a:srgbClr val="008000"/>
                </a:solidFill>
                <a:latin typeface="Times New Roman"/>
              </a:rPr>
              <a:t>System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به خصوصيات سيستم به‌عنوان يک کل مانند قابليت نگهداري و پيکربنديش مرتبط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سازماني (</a:t>
            </a:r>
            <a:r>
              <a:rPr b="1" i="1" lang="en-US" sz="1900" spc="-1" strike="noStrike">
                <a:solidFill>
                  <a:srgbClr val="008000"/>
                </a:solidFill>
                <a:latin typeface="Times New Roman"/>
              </a:rPr>
              <a:t>Organisational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به اهداف سازماني و اولويت‌هاي آن مرتبط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50C-BF41-4C80-8C6F-52AD04833D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جنبه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Aspect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جريدي است که کد مرتبط با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دغدغه‌هاي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cross-cutting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را کپسوله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هر جنبه اطلاعاتي در مورد اينکه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چه وق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يد به کد برنامه اضافه شود، وجود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ك جنبه متشكل از دو بخش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Pointcut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Advice Code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جايي در برنامه که جنبه مي‌تواند در آنجا افزوده شود،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نقطه اتصال (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Joint Point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ام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ه مجموعه‌اي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نقاط اتص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ر برنامه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ointcu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گو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194-AAEC-4443-9739-ECE75E55CD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dvice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پياده‌ساز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کد يک دغدغ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Waving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لفيق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کد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dvic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ر برنامه با استفاده از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spect Weaver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Joint Point Model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جموعه‌اي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رويداد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که مي‌توانند در يک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ointcu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مورد اشاره قرار 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0BB9-BC2E-4F72-83B8-BEB306DE0F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توسعه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واع مح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قرارگيري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JP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Titr"/>
              </a:rPr>
              <a:t>متد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فراخواني و اجراي متد دو تا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J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حسوب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Titr"/>
              </a:rPr>
              <a:t>سازنده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Titr"/>
              </a:rPr>
              <a:t>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فراخواني و اجراي يك سازنده، نوعي از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J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ا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Titr"/>
              </a:rPr>
              <a:t>استثناء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رخ دادن استثناء و اج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فتار مورد انتظ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و نقطه اصلي در اجراي يك برنامه كاربر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وعي از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J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ا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Titr"/>
              </a:rPr>
              <a:t>فيلد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عمليات خواندن و نوشتن بر روي فيلدها مي‌توانند به عنوان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J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نظر گرفته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AFB-0A90-43A1-9971-B4C22D32E39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003640" y="2060640"/>
            <a:ext cx="208764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spec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5" name="Object 7"/>
          <p:cNvGraphicFramePr/>
          <p:nvPr/>
        </p:nvGraphicFramePr>
        <p:xfrm>
          <a:off x="250920" y="1628640"/>
          <a:ext cx="8610480" cy="43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1048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465-B313-4299-BA5F-2FBB237197B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pect weavin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spect Weaver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د منبع را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رداز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موده و جنبه‌ها را در برنامه و در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Pointcu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خاصي قرار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ه روش براي قرار دادن جنب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Source Code pre-processing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Link-time weaving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Dynamic, Execution-time weaving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E929-3AE9-429F-A712-DB80698D6B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Aspect weaving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2" name="Picture 4" descr="Fig"/>
          <p:cNvPicPr/>
          <p:nvPr/>
        </p:nvPicPr>
        <p:blipFill>
          <a:blip r:embed="rId1"/>
          <a:stretch/>
        </p:blipFill>
        <p:spPr>
          <a:xfrm>
            <a:off x="971640" y="2276640"/>
            <a:ext cx="70866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7406-E717-4A49-9376-F84FBB1110A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ستفاده از جنب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يستم مديريت هت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952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E03-272A-4E2B-9944-DFD0898722F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يچيدگي ذات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عه نرم‌افزارهاي مدرن و مشکلا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فاهيم توسعه مبتني بر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‌هاي توجه به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فاوت شي با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عه نرم‌افزار مبتني بر 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374-FF46-4D65-AED4-5C0BF72894F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ستفاده از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قق بخشيدن به دغدغه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0" name="Picture 17" descr="J:\M.Sc\Ultra Large Scale systems\Aspect-Oriented\Figure\1-2.jpg"/>
          <p:cNvPicPr/>
          <p:nvPr/>
        </p:nvPicPr>
        <p:blipFill>
          <a:blip r:embed="rId1"/>
          <a:stretch/>
        </p:blipFill>
        <p:spPr>
          <a:xfrm>
            <a:off x="1835280" y="2492280"/>
            <a:ext cx="5113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CD2-F908-43D7-8670-B265180DDF8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ستفاده از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قق بخشيدن به دغدغ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4" name="Picture 8" descr="J:\M.Sc\Ultra Large Scale systems\Aspect-Oriented\Figure\1-3.jpg"/>
          <p:cNvPicPr/>
          <p:nvPr/>
        </p:nvPicPr>
        <p:blipFill>
          <a:blip r:embed="rId1"/>
          <a:stretch/>
        </p:blipFill>
        <p:spPr>
          <a:xfrm>
            <a:off x="1116000" y="2637000"/>
            <a:ext cx="609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5BA-7CEC-4EDE-A025-A2265922776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ستفاده از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قق بخشيدن به دغدغ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8" name="Picture 9" descr="Figure 5.jpg"/>
          <p:cNvPicPr/>
          <p:nvPr/>
        </p:nvPicPr>
        <p:blipFill>
          <a:blip r:embed="rId1"/>
          <a:stretch/>
        </p:blipFill>
        <p:spPr>
          <a:xfrm>
            <a:off x="1258920" y="2276640"/>
            <a:ext cx="6629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8320-7719-4062-83A8-7AE2BC053E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ستفاده از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د پياده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1460520" y="2349360"/>
            <a:ext cx="588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spect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heckInCustome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blic void Room.assignCustomer 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// code to check in custo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blic void Reservation.consum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// code to consume reserv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blic void Payment.createBil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// code to generate an initial outstanding bi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14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AEB-121F-4BF7-805F-7D282974B64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و جنب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اه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هر دو داراي نوع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مي‌توانند به کلاس‌هاي ديگر يا جنبه‌هاي ديگر توسعه داده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مي‌توانند به‌صورت تجريد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مي‌توانند داراي فيلد، متدها و نوع داده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فاو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جنبه‌ها مي‌توانند به صفات ديگر اعضا دسترسي داشته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63F5-1BE1-45F2-B6D9-3AF7C714117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مبتني بر جنب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عه مبتني بر جنبه به استفاده 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جنب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د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وليد و توس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رم‌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شاره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انند متدولوژي‌هاي ديگر، متدولوژي‌هاي مبتني بر جنبه نيز فازهاي مشابه خود را دارند، اما خود را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بتني بر جنب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ي‌دان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D21-1F59-4CA8-AC33-8E045FDADB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مبتني بر جنب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24000" y="3500280"/>
            <a:ext cx="2868480" cy="505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Aspect-oriented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4429080" y="1989000"/>
            <a:ext cx="3959280" cy="468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Requirements Engineer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4429080" y="3252960"/>
            <a:ext cx="3959280" cy="46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Desig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4429080" y="2631960"/>
            <a:ext cx="3959280" cy="468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Architectu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4429080" y="3922560"/>
            <a:ext cx="3959280" cy="468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Programming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9080" y="5229360"/>
            <a:ext cx="3959280" cy="46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Middlewa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429080" y="4573440"/>
            <a:ext cx="3959280" cy="468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... Verification techniqu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1"/>
          <p:cNvSpPr/>
          <p:nvPr/>
        </p:nvSpPr>
        <p:spPr>
          <a:xfrm flipV="1">
            <a:off x="3203640" y="2204640"/>
            <a:ext cx="1224000" cy="1368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2"/>
          <p:cNvSpPr/>
          <p:nvPr/>
        </p:nvSpPr>
        <p:spPr>
          <a:xfrm flipV="1">
            <a:off x="3203640" y="2852280"/>
            <a:ext cx="1224000" cy="792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3"/>
          <p:cNvSpPr/>
          <p:nvPr/>
        </p:nvSpPr>
        <p:spPr>
          <a:xfrm flipV="1">
            <a:off x="3203640" y="3500280"/>
            <a:ext cx="122400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3203640" y="3789360"/>
            <a:ext cx="1224000" cy="36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3203640" y="3860640"/>
            <a:ext cx="1224000" cy="936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16"/>
          <p:cNvSpPr/>
          <p:nvPr/>
        </p:nvSpPr>
        <p:spPr>
          <a:xfrm>
            <a:off x="3203640" y="3933720"/>
            <a:ext cx="1224000" cy="1511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A5F-7C39-4A28-9D06-9F25B72A485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شي به‌منظور تمرکز بر رو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دغدغه‌هاي مشت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ه با توسعه جنبه‌گرا سازگا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ايه اين روش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Viewpoint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فاده از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Viewpoi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ا برا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جداساز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غدغه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فاده از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Viewpoi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ا براي نمايش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نيازمندي‌ه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گروه‌ه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مرتبط ذينفع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ross-cutting concern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غدغه‌هايي که توسط تمام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Viewpoi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ا مشخص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3D0-B61B-42F9-9D72-2DC4DD4F2B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2195640" y="5589720"/>
            <a:ext cx="489744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0" name="Picture 4" descr="Fig"/>
          <p:cNvPicPr/>
          <p:nvPr/>
        </p:nvPicPr>
        <p:blipFill>
          <a:blip r:embed="rId1"/>
          <a:stretch/>
        </p:blipFill>
        <p:spPr>
          <a:xfrm>
            <a:off x="1332000" y="1731960"/>
            <a:ext cx="6480000" cy="43387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7343640" y="5589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ross-cutting conc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87280" y="2205000"/>
            <a:ext cx="5042160" cy="50328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187280" y="2708280"/>
            <a:ext cx="5042160" cy="649440"/>
          </a:xfrm>
          <a:prstGeom prst="rect">
            <a:avLst/>
          </a:prstGeom>
          <a:solidFill>
            <a:srgbClr val="ff99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187280" y="3357720"/>
            <a:ext cx="5042160" cy="57600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1187280" y="3933720"/>
            <a:ext cx="5042160" cy="576360"/>
          </a:xfrm>
          <a:prstGeom prst="rect">
            <a:avLst/>
          </a:prstGeom>
          <a:solidFill>
            <a:srgbClr val="ff99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187280" y="4508640"/>
            <a:ext cx="5042160" cy="79200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3419640" y="1989000"/>
            <a:ext cx="215640" cy="3745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4500720" y="1989000"/>
            <a:ext cx="215640" cy="3745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5651640" y="1989000"/>
            <a:ext cx="215640" cy="3745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B785-14B2-4F3D-9ADE-1926589CAA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b4eb5"/>
                </a:solidFill>
                <a:latin typeface="Times New Roman"/>
              </a:rPr>
              <a:t>نيازمندي‌هاي اصلي (</a:t>
            </a:r>
            <a:r>
              <a:rPr b="1" i="1" lang="en-US" sz="2200" spc="-1" strike="noStrike">
                <a:solidFill>
                  <a:srgbClr val="4b4eb5"/>
                </a:solidFill>
                <a:latin typeface="Times New Roman"/>
              </a:rPr>
              <a:t>Core Requirements</a:t>
            </a:r>
            <a:r>
              <a:rPr b="1" lang="fa-IR" sz="2800" spc="-1" strike="noStrike">
                <a:solidFill>
                  <a:srgbClr val="4b4eb5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مان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دغدغه‌هاي اصل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re Concern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دف از توسعه سيستم دستيابي به نيازمندي‌هاي اصلي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b4eb5"/>
                </a:solidFill>
                <a:latin typeface="Times New Roman"/>
              </a:rPr>
              <a:t>نيازمندي‌هاي توسعه‌اي (</a:t>
            </a:r>
            <a:r>
              <a:rPr b="1" i="1" lang="en-US" sz="2200" spc="-1" strike="noStrike">
                <a:solidFill>
                  <a:srgbClr val="4b4eb5"/>
                </a:solidFill>
                <a:latin typeface="Times New Roman"/>
              </a:rPr>
              <a:t>Extension Requirements</a:t>
            </a:r>
            <a:r>
              <a:rPr b="1" lang="fa-IR" sz="2800" spc="-1" strike="noStrike">
                <a:solidFill>
                  <a:srgbClr val="4b4eb5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جموعه‌اي از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ross-cutting Concerns</a:t>
            </a:r>
            <a:r>
              <a:rPr b="1" i="1" lang="fa-IR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AE64-1DAE-4B16-A98C-B6B206F7EF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5084640"/>
            <a:ext cx="7416720" cy="1224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0" algn="ct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وسعه نرم‌افزار از حالت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ثابت، محاسباتي و داده‌گ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0" algn="ct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ه حالت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ويا، بسته به نياز و مولفه‌‌گ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تبديل ش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AutoShape 33"/>
          <p:cNvSpPr/>
          <p:nvPr/>
        </p:nvSpPr>
        <p:spPr>
          <a:xfrm>
            <a:off x="2195640" y="2276640"/>
            <a:ext cx="914400" cy="1131840"/>
          </a:xfrm>
          <a:prstGeom prst="rightArrow">
            <a:avLst>
              <a:gd name="adj1" fmla="val 50074"/>
              <a:gd name="adj2" fmla="val 3281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4709a">
                  <a:alpha val="8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34"/>
          <p:cNvSpPr/>
          <p:nvPr/>
        </p:nvSpPr>
        <p:spPr>
          <a:xfrm>
            <a:off x="5148360" y="2205000"/>
            <a:ext cx="914400" cy="1131840"/>
          </a:xfrm>
          <a:prstGeom prst="rightArrow">
            <a:avLst>
              <a:gd name="adj1" fmla="val 50074"/>
              <a:gd name="adj2" fmla="val 3281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4709a">
                  <a:alpha val="8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31"/>
          <p:cNvGrpSpPr/>
          <p:nvPr/>
        </p:nvGrpSpPr>
        <p:grpSpPr>
          <a:xfrm>
            <a:off x="3125880" y="1628280"/>
            <a:ext cx="2316240" cy="3306960"/>
            <a:chOff x="3125880" y="1628280"/>
            <a:chExt cx="2316240" cy="3306960"/>
          </a:xfrm>
        </p:grpSpPr>
        <p:grpSp>
          <p:nvGrpSpPr>
            <p:cNvPr id="115" name="Group 23"/>
            <p:cNvGrpSpPr/>
            <p:nvPr/>
          </p:nvGrpSpPr>
          <p:grpSpPr>
            <a:xfrm>
              <a:off x="3125880" y="1628280"/>
              <a:ext cx="2316240" cy="2471760"/>
              <a:chOff x="3125880" y="1628280"/>
              <a:chExt cx="2316240" cy="2471760"/>
            </a:xfrm>
          </p:grpSpPr>
          <p:pic>
            <p:nvPicPr>
              <p:cNvPr id="116" name="Picture 7" descr="Molecules"/>
              <p:cNvPicPr/>
              <p:nvPr/>
            </p:nvPicPr>
            <p:blipFill>
              <a:blip r:embed="rId1">
                <a:lum contrast="64000"/>
              </a:blip>
              <a:srcRect l="32810" t="6044" r="35652" b="11417"/>
              <a:stretch/>
            </p:blipFill>
            <p:spPr>
              <a:xfrm>
                <a:off x="3137040" y="1639440"/>
                <a:ext cx="2298600" cy="24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AutoShape 11"/>
              <p:cNvSpPr/>
              <p:nvPr/>
            </p:nvSpPr>
            <p:spPr>
              <a:xfrm flipV="1">
                <a:off x="3125880" y="1627920"/>
                <a:ext cx="14436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 flipH="1" flipV="1">
                <a:off x="5297400" y="1627920"/>
                <a:ext cx="14472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 flipH="1">
                <a:off x="5297400" y="3955680"/>
                <a:ext cx="14472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3125880" y="3954240"/>
                <a:ext cx="14436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>
                <a:off x="3137040" y="1639440"/>
                <a:ext cx="2305080" cy="2448000"/>
              </a:xfrm>
              <a:custGeom>
                <a:avLst/>
                <a:gdLst>
                  <a:gd name="textAreaLeft" fmla="*/ 63000 w 2305080"/>
                  <a:gd name="textAreaRight" fmla="*/ 2242080 w 2305080"/>
                  <a:gd name="textAreaTop" fmla="*/ 63000 h 2448000"/>
                  <a:gd name="textAreaBottom" fmla="*/ 2385000 h 2448000"/>
                </a:gdLst>
                <a:ahLst/>
                <a:rect l="textAreaLeft" t="textAreaTop" r="textAreaRight" b="textAreaBottom"/>
                <a:pathLst>
                  <a:path w="21600" h="22939">
                    <a:moveTo>
                      <a:pt x="2023" y="0"/>
                    </a:moveTo>
                    <a:arcTo wR="2023" hR="2023" stAng="16200000" swAng="-5400000"/>
                    <a:lnTo>
                      <a:pt x="0" y="20916"/>
                    </a:lnTo>
                    <a:arcTo wR="2023" hR="2023" stAng="10800000" swAng="-5400000"/>
                    <a:lnTo>
                      <a:pt x="19577" y="22939"/>
                    </a:lnTo>
                    <a:arcTo wR="2023" hR="2023" stAng="5400000" swAng="-5400000"/>
                    <a:lnTo>
                      <a:pt x="21600" y="2023"/>
                    </a:lnTo>
                    <a:arcTo wR="2023" hR="2023" stAng="0" swAng="-5400000"/>
                    <a:close/>
                  </a:path>
                </a:pathLst>
              </a:cu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2" name="Text Box 28"/>
            <p:cNvSpPr/>
            <p:nvPr/>
          </p:nvSpPr>
          <p:spPr>
            <a:xfrm>
              <a:off x="3270240" y="429264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3300"/>
                  </a:solidFill>
                  <a:latin typeface="Tahoma"/>
                  <a:cs typeface="Nazanin"/>
                </a:rPr>
                <a:t>نرم‌افزارهاي موجود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32"/>
          <p:cNvGrpSpPr/>
          <p:nvPr/>
        </p:nvGrpSpPr>
        <p:grpSpPr>
          <a:xfrm>
            <a:off x="395280" y="1628640"/>
            <a:ext cx="2089080" cy="3306600"/>
            <a:chOff x="395280" y="1628640"/>
            <a:chExt cx="2089080" cy="3306600"/>
          </a:xfrm>
        </p:grpSpPr>
        <p:pic>
          <p:nvPicPr>
            <p:cNvPr id="124" name="Picture 5" descr="Molecules"/>
            <p:cNvPicPr/>
            <p:nvPr/>
          </p:nvPicPr>
          <p:blipFill>
            <a:blip r:embed="rId2">
              <a:lum contrast="68000"/>
            </a:blip>
            <a:srcRect l="3358" t="14103" r="74664" b="16118"/>
            <a:stretch/>
          </p:blipFill>
          <p:spPr>
            <a:xfrm>
              <a:off x="395280" y="1628640"/>
              <a:ext cx="2044800" cy="2424240"/>
            </a:xfrm>
            <a:prstGeom prst="rect">
              <a:avLst/>
            </a:prstGeom>
            <a:ln w="38160">
              <a:solidFill>
                <a:srgbClr val="3399ff"/>
              </a:solidFill>
              <a:miter/>
            </a:ln>
          </p:spPr>
        </p:pic>
        <p:sp>
          <p:nvSpPr>
            <p:cNvPr id="125" name="Text Box 27"/>
            <p:cNvSpPr/>
            <p:nvPr/>
          </p:nvSpPr>
          <p:spPr>
            <a:xfrm>
              <a:off x="468360" y="429264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3300"/>
                  </a:solidFill>
                  <a:latin typeface="Tahoma"/>
                  <a:cs typeface="Nazanin"/>
                </a:rPr>
                <a:t>نرم</a:t>
              </a:r>
              <a:r>
                <a:rPr b="1" lang="fa-IR" sz="1800" spc="-1" strike="noStrike">
                  <a:solidFill>
                    <a:srgbClr val="993300"/>
                  </a:solidFill>
                  <a:latin typeface="Tahoma"/>
                  <a:ea typeface="Arial"/>
                </a:rPr>
                <a:t>‌</a:t>
              </a:r>
              <a:r>
                <a:rPr b="1" lang="fa-IR" sz="1800" spc="-1" strike="noStrike">
                  <a:solidFill>
                    <a:srgbClr val="993300"/>
                  </a:solidFill>
                  <a:latin typeface="Tahoma"/>
                  <a:cs typeface="Nazanin"/>
                </a:rPr>
                <a:t>افزارهاي قديم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6084720" y="1628280"/>
            <a:ext cx="2316240" cy="3306960"/>
            <a:chOff x="6084720" y="1628280"/>
            <a:chExt cx="2316240" cy="3306960"/>
          </a:xfrm>
        </p:grpSpPr>
        <p:grpSp>
          <p:nvGrpSpPr>
            <p:cNvPr id="127" name="Group 26"/>
            <p:cNvGrpSpPr/>
            <p:nvPr/>
          </p:nvGrpSpPr>
          <p:grpSpPr>
            <a:xfrm>
              <a:off x="6084720" y="1628280"/>
              <a:ext cx="2316240" cy="2470320"/>
              <a:chOff x="6084720" y="1628280"/>
              <a:chExt cx="2316240" cy="2470320"/>
            </a:xfrm>
          </p:grpSpPr>
          <p:pic>
            <p:nvPicPr>
              <p:cNvPr id="128" name="Picture 8" descr="Molecules"/>
              <p:cNvPicPr/>
              <p:nvPr/>
            </p:nvPicPr>
            <p:blipFill>
              <a:blip r:embed="rId3">
                <a:lum contrast="4000"/>
              </a:blip>
              <a:srcRect l="67172" t="4701" r="1550" b="4701"/>
              <a:stretch/>
            </p:blipFill>
            <p:spPr>
              <a:xfrm>
                <a:off x="6095880" y="1639440"/>
                <a:ext cx="2303640" cy="24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AutoShape 18"/>
              <p:cNvSpPr/>
              <p:nvPr/>
            </p:nvSpPr>
            <p:spPr>
              <a:xfrm flipV="1">
                <a:off x="6084720" y="1632600"/>
                <a:ext cx="14472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AutoShape 19"/>
              <p:cNvSpPr/>
              <p:nvPr/>
            </p:nvSpPr>
            <p:spPr>
              <a:xfrm flipH="1" flipV="1">
                <a:off x="8255880" y="1627920"/>
                <a:ext cx="14436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AutoShape 20"/>
              <p:cNvSpPr/>
              <p:nvPr/>
            </p:nvSpPr>
            <p:spPr>
              <a:xfrm flipH="1">
                <a:off x="8255880" y="3949560"/>
                <a:ext cx="14436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AutoShape 21"/>
              <p:cNvSpPr/>
              <p:nvPr/>
            </p:nvSpPr>
            <p:spPr>
              <a:xfrm>
                <a:off x="6084720" y="3954240"/>
                <a:ext cx="144720" cy="14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AutoShape 16"/>
              <p:cNvSpPr/>
              <p:nvPr/>
            </p:nvSpPr>
            <p:spPr>
              <a:xfrm>
                <a:off x="6095880" y="1639440"/>
                <a:ext cx="2305080" cy="2448000"/>
              </a:xfrm>
              <a:custGeom>
                <a:avLst/>
                <a:gdLst>
                  <a:gd name="textAreaLeft" fmla="*/ 63000 w 2305080"/>
                  <a:gd name="textAreaRight" fmla="*/ 2242080 w 2305080"/>
                  <a:gd name="textAreaTop" fmla="*/ 63000 h 2448000"/>
                  <a:gd name="textAreaBottom" fmla="*/ 2385000 h 2448000"/>
                </a:gdLst>
                <a:ahLst/>
                <a:rect l="textAreaLeft" t="textAreaTop" r="textAreaRight" b="textAreaBottom"/>
                <a:pathLst>
                  <a:path w="21600" h="22939">
                    <a:moveTo>
                      <a:pt x="2023" y="0"/>
                    </a:moveTo>
                    <a:arcTo wR="2023" hR="2023" stAng="16200000" swAng="-5400000"/>
                    <a:lnTo>
                      <a:pt x="0" y="20916"/>
                    </a:lnTo>
                    <a:arcTo wR="2023" hR="2023" stAng="10800000" swAng="-5400000"/>
                    <a:lnTo>
                      <a:pt x="19577" y="22939"/>
                    </a:lnTo>
                    <a:arcTo wR="2023" hR="2023" stAng="5400000" swAng="-5400000"/>
                    <a:lnTo>
                      <a:pt x="21600" y="2023"/>
                    </a:lnTo>
                    <a:arcTo wR="2023" hR="2023" stAng="0" swAng="-5400000"/>
                    <a:close/>
                  </a:path>
                </a:pathLst>
              </a:cu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4" name="Text Box 29"/>
            <p:cNvSpPr/>
            <p:nvPr/>
          </p:nvSpPr>
          <p:spPr>
            <a:xfrm>
              <a:off x="6229440" y="429264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3300"/>
                  </a:solidFill>
                  <a:latin typeface="Tahoma"/>
                  <a:cs typeface="Nazanin"/>
                </a:rPr>
                <a:t>نرم‌افزارهاي آيند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B8C5-8F62-4A7A-BB7D-837DB31245B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مجموعه‌اي از فروشگاه‌ها که خدمات خود را به صورت اينترنتي ارائه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کاربران با مشاهده کالاها، درخواست خريد خود را ارائه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کالا براي کاربر بوسيله پست ارسال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اين فروشگاه‌ها داراي يک انبار مرکزي هستند که کالاهاي خود را از آنجا تهيه و در صورت خرابي به آنجا ارسال مي‌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در صورت خرابي يا نقص در کالا، کاربر مي‌تواند </a:t>
            </a: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48</a:t>
            </a:r>
            <a:r>
              <a:rPr b="1" lang="fa-IR" sz="2400" spc="-1" strike="noStrike">
                <a:solidFill>
                  <a:srgbClr val="0066cc"/>
                </a:solidFill>
                <a:latin typeface="Times New Roman"/>
              </a:rPr>
              <a:t> ساعت پس از خريد آن را عودت 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A6E7-769A-40CF-99AA-8A9987E8BB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ديدگا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ديد کاربر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جستجوي کالاه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مشاهده موجودي هر کال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مشاهده موجودي کالا در فروشگاه‌هاي خاص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پيدا کردن نزديکترين فروشگاه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درخواست خريد کال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گزارش عدم دريافت کال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گزارش خرابي کالاي خريداري شده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C28-E535-4E03-9FE7-0B74C8128D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ديدگا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ديد فروشند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تقاضاي کالا از انبار مرکز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جستجوي کالاه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مشاهده موجودي کالاه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مشاهده، بررسي و تائيد درخواست خريد کال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مشاهده، بررسي و تائيد گزارش خرابي کال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ارسال کالاي داراي نقص به انبار مرکز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9EE-3EA8-4D63-BC1D-109C65D6D6C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ديدگا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ديد انبارد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ارسال کالا به فروشگاه متقاض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جستجوي کالاها در انبار مرکز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بررسي و تعويض کالاي داراي نقص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بارکدگذاري کالاهاي انبار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بروز نگهداري اطلاعات موجودي انبار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787-E0F6-446E-8C81-FE54DDD368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ديدگا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</a:rPr>
              <a:t>نيازمندي‌هاي اصل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کاربران مي‌توانند کالاها را جستجو و مشاهده نماي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کاربران مجاز (شناسايي شده) مي‌توانند اطلاعات کامل کالا را مشاهده و درخواست خريد کن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فروشندگان مي‌توانند موجودي کالاي خود را مشاهده و تغيير ده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انباردار مي‌بايست برنامه زمانبندي تعويض کالا را ايجاد نم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AD1F-445C-4883-9897-042B116A1DA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يازمندي‌ها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ديدگاه: فروشگاه زنجيره‌اي آنلا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يازمندي‌هاي توسعه‌ا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کاربر و فروشنده مي‌توانند برنامه زماني تعويض کالا را مشاهده نمايد (ديد کاربر + ديد فروشنده + ديد انباردار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کاربر و انباردار مي‌توانند گزارش خرابي کالاي تائيد شده توسط فروشنده را مشاهده نمايند (ديد کاربر + ديد فروشنده + ديد انباردار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اطلاعات کاربران، فروشندگان و انبارداران به صورت رمزشده ذخيره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95280" y="2852640"/>
            <a:ext cx="7416720" cy="18716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95280" y="4869000"/>
            <a:ext cx="7416720" cy="431640"/>
          </a:xfrm>
          <a:prstGeom prst="rect">
            <a:avLst/>
          </a:prstGeom>
          <a:solidFill>
            <a:srgbClr val="99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 rot="5400000">
            <a:off x="7457040" y="35510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cc3300"/>
                </a:solidFill>
                <a:latin typeface="Tahoma"/>
                <a:cs typeface="Titr"/>
              </a:rPr>
              <a:t>وظيفه</a:t>
            </a:r>
            <a:r>
              <a:rPr b="0" lang="fa-IR" sz="2000" spc="-1" strike="noStrike">
                <a:solidFill>
                  <a:srgbClr val="cc3300"/>
                </a:solidFill>
                <a:latin typeface="Tahoma"/>
              </a:rPr>
              <a:t>‌</a:t>
            </a:r>
            <a:r>
              <a:rPr b="0" lang="fa-IR" sz="2000" spc="-1" strike="noStrike">
                <a:solidFill>
                  <a:srgbClr val="cc3300"/>
                </a:solidFill>
                <a:latin typeface="Tahoma"/>
                <a:cs typeface="Titr"/>
              </a:rPr>
              <a:t>مند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9"/>
          <p:cNvSpPr/>
          <p:nvPr/>
        </p:nvSpPr>
        <p:spPr>
          <a:xfrm rot="5400000">
            <a:off x="7282440" y="4997160"/>
            <a:ext cx="17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cc3300"/>
                </a:solidFill>
                <a:latin typeface="Tahoma"/>
                <a:cs typeface="Titr"/>
              </a:rPr>
              <a:t>غيروظيفه</a:t>
            </a:r>
            <a:r>
              <a:rPr b="0" lang="fa-IR" sz="2000" spc="-1" strike="noStrike">
                <a:solidFill>
                  <a:srgbClr val="cc3300"/>
                </a:solidFill>
                <a:latin typeface="Tahoma"/>
              </a:rPr>
              <a:t>‌</a:t>
            </a:r>
            <a:r>
              <a:rPr b="0" lang="fa-IR" sz="2000" spc="-1" strike="noStrike">
                <a:solidFill>
                  <a:srgbClr val="cc3300"/>
                </a:solidFill>
                <a:latin typeface="Tahoma"/>
                <a:cs typeface="Titr"/>
              </a:rPr>
              <a:t>مند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926D-91C8-479C-B3B4-300443ECED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763640" y="4005360"/>
            <a:ext cx="3240000" cy="1584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عماري جنبه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67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000099"/>
                </a:solidFill>
                <a:latin typeface="Times New Roman"/>
              </a:rPr>
              <a:t>معماري سيستم جنبه‌گرا برپاية معماري سيستم‌هاي اصل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re Systems</a:t>
            </a:r>
            <a:r>
              <a:rPr b="1" lang="fa-IR" sz="2700" spc="-1" strike="noStrike">
                <a:solidFill>
                  <a:srgbClr val="000099"/>
                </a:solidFill>
                <a:latin typeface="Times New Roman"/>
              </a:rPr>
              <a:t>) و توسعه‌ه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Extensions</a:t>
            </a:r>
            <a:r>
              <a:rPr b="1" lang="fa-IR" sz="2700" spc="-1" strike="noStrike">
                <a:solidFill>
                  <a:srgbClr val="000099"/>
                </a:solidFill>
                <a:latin typeface="Times New Roman"/>
              </a:rPr>
              <a:t>) است</a:t>
            </a:r>
            <a:endParaRPr b="1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804000" y="4365720"/>
            <a:ext cx="196704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ahoma"/>
                <a:cs typeface="Nazanin"/>
              </a:rPr>
              <a:t>نيازمندي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</a:rPr>
              <a:t>‌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  <a:cs typeface="Nazanin"/>
              </a:rPr>
              <a:t>هاي اص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436440" y="4869000"/>
            <a:ext cx="26924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ahoma"/>
                <a:cs typeface="Nazanin"/>
              </a:rPr>
              <a:t>نيازمندي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</a:rPr>
              <a:t>‌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  <a:cs typeface="Nazanin"/>
              </a:rPr>
              <a:t>هاي توسعه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</a:rPr>
              <a:t>‌</a:t>
            </a:r>
            <a:r>
              <a:rPr b="1" lang="fa-IR" sz="1800" spc="-1" strike="noStrike">
                <a:solidFill>
                  <a:srgbClr val="000000"/>
                </a:solidFill>
                <a:latin typeface="Tahoma"/>
                <a:cs typeface="Nazanin"/>
              </a:rPr>
              <a:t>ا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" name="Group 134"/>
          <p:cNvGrpSpPr/>
          <p:nvPr/>
        </p:nvGrpSpPr>
        <p:grpSpPr>
          <a:xfrm>
            <a:off x="179280" y="2781360"/>
            <a:ext cx="6553440" cy="3887640"/>
            <a:chOff x="179280" y="2781360"/>
            <a:chExt cx="6553440" cy="3887640"/>
          </a:xfrm>
        </p:grpSpPr>
        <p:sp>
          <p:nvSpPr>
            <p:cNvPr id="442" name="Rectangle 111"/>
            <p:cNvSpPr/>
            <p:nvPr/>
          </p:nvSpPr>
          <p:spPr>
            <a:xfrm>
              <a:off x="5076720" y="5705640"/>
              <a:ext cx="1511280" cy="963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07"/>
            <p:cNvSpPr/>
            <p:nvPr/>
          </p:nvSpPr>
          <p:spPr>
            <a:xfrm>
              <a:off x="3059280" y="2781360"/>
              <a:ext cx="151128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08"/>
            <p:cNvSpPr/>
            <p:nvPr/>
          </p:nvSpPr>
          <p:spPr>
            <a:xfrm>
              <a:off x="179280" y="3141720"/>
              <a:ext cx="151128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09"/>
            <p:cNvSpPr/>
            <p:nvPr/>
          </p:nvSpPr>
          <p:spPr>
            <a:xfrm>
              <a:off x="179280" y="5445000"/>
              <a:ext cx="1511280" cy="100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10"/>
            <p:cNvSpPr/>
            <p:nvPr/>
          </p:nvSpPr>
          <p:spPr>
            <a:xfrm>
              <a:off x="3132000" y="5705640"/>
              <a:ext cx="1511280" cy="963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06"/>
            <p:cNvSpPr/>
            <p:nvPr/>
          </p:nvSpPr>
          <p:spPr>
            <a:xfrm>
              <a:off x="5221440" y="3070080"/>
              <a:ext cx="1511280" cy="115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47"/>
            <p:cNvSpPr/>
            <p:nvPr/>
          </p:nvSpPr>
          <p:spPr>
            <a:xfrm>
              <a:off x="324000" y="3284640"/>
              <a:ext cx="6121080" cy="31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9" name="Group 133"/>
          <p:cNvGrpSpPr/>
          <p:nvPr/>
        </p:nvGrpSpPr>
        <p:grpSpPr>
          <a:xfrm>
            <a:off x="279360" y="2924280"/>
            <a:ext cx="6278400" cy="3632040"/>
            <a:chOff x="279360" y="2924280"/>
            <a:chExt cx="6278400" cy="3632040"/>
          </a:xfrm>
        </p:grpSpPr>
        <p:grpSp>
          <p:nvGrpSpPr>
            <p:cNvPr id="450" name="Group 82"/>
            <p:cNvGrpSpPr/>
            <p:nvPr/>
          </p:nvGrpSpPr>
          <p:grpSpPr>
            <a:xfrm>
              <a:off x="2168640" y="4246560"/>
              <a:ext cx="2354040" cy="1060560"/>
              <a:chOff x="2168640" y="4246560"/>
              <a:chExt cx="2354040" cy="1060560"/>
            </a:xfrm>
          </p:grpSpPr>
          <p:sp>
            <p:nvSpPr>
              <p:cNvPr id="451" name="Rectangle 55"/>
              <p:cNvSpPr/>
              <p:nvPr/>
            </p:nvSpPr>
            <p:spPr>
              <a:xfrm>
                <a:off x="2168640" y="4246560"/>
                <a:ext cx="1127160" cy="2872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Rectangle 48"/>
              <p:cNvSpPr/>
              <p:nvPr/>
            </p:nvSpPr>
            <p:spPr>
              <a:xfrm>
                <a:off x="2179800" y="4522680"/>
                <a:ext cx="2342880" cy="77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Rectangle 49"/>
              <p:cNvSpPr/>
              <p:nvPr/>
            </p:nvSpPr>
            <p:spPr>
              <a:xfrm>
                <a:off x="2176560" y="4533840"/>
                <a:ext cx="2342880" cy="773280"/>
              </a:xfrm>
              <a:prstGeom prst="rect">
                <a:avLst/>
              </a:prstGeom>
              <a:noFill/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Rectangle 50"/>
              <p:cNvSpPr/>
              <p:nvPr/>
            </p:nvSpPr>
            <p:spPr>
              <a:xfrm>
                <a:off x="2329920" y="4257720"/>
                <a:ext cx="890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re system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" name="Line 54"/>
            <p:cNvSpPr/>
            <p:nvPr/>
          </p:nvSpPr>
          <p:spPr>
            <a:xfrm>
              <a:off x="3635280" y="3573360"/>
              <a:ext cx="4680" cy="949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60"/>
            <p:cNvSpPr/>
            <p:nvPr/>
          </p:nvSpPr>
          <p:spPr>
            <a:xfrm>
              <a:off x="965160" y="3970440"/>
              <a:ext cx="1230480" cy="898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65"/>
            <p:cNvSpPr/>
            <p:nvPr/>
          </p:nvSpPr>
          <p:spPr>
            <a:xfrm flipH="1">
              <a:off x="4522320" y="3970440"/>
              <a:ext cx="1281240" cy="949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70"/>
            <p:cNvSpPr/>
            <p:nvPr/>
          </p:nvSpPr>
          <p:spPr>
            <a:xfrm flipV="1">
              <a:off x="1476360" y="5318280"/>
              <a:ext cx="1168560" cy="847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75"/>
            <p:cNvSpPr/>
            <p:nvPr/>
          </p:nvSpPr>
          <p:spPr>
            <a:xfrm flipV="1">
              <a:off x="3616200" y="5318280"/>
              <a:ext cx="1800" cy="59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80"/>
            <p:cNvSpPr/>
            <p:nvPr/>
          </p:nvSpPr>
          <p:spPr>
            <a:xfrm flipH="1" flipV="1">
              <a:off x="4212720" y="5295600"/>
              <a:ext cx="993960" cy="839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1" name="Group 112"/>
            <p:cNvGrpSpPr/>
            <p:nvPr/>
          </p:nvGrpSpPr>
          <p:grpSpPr>
            <a:xfrm>
              <a:off x="5219640" y="5877000"/>
              <a:ext cx="1193760" cy="635040"/>
              <a:chOff x="5219640" y="5877000"/>
              <a:chExt cx="1193760" cy="635040"/>
            </a:xfrm>
          </p:grpSpPr>
          <p:sp>
            <p:nvSpPr>
              <p:cNvPr id="462" name="Rectangle 81"/>
              <p:cNvSpPr/>
              <p:nvPr/>
            </p:nvSpPr>
            <p:spPr>
              <a:xfrm>
                <a:off x="5219640" y="587700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78"/>
              <p:cNvSpPr/>
              <p:nvPr/>
            </p:nvSpPr>
            <p:spPr>
              <a:xfrm>
                <a:off x="5219640" y="609300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79"/>
              <p:cNvSpPr/>
              <p:nvPr/>
            </p:nvSpPr>
            <p:spPr>
              <a:xfrm>
                <a:off x="5291280" y="587700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6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5" name="Group 113"/>
            <p:cNvGrpSpPr/>
            <p:nvPr/>
          </p:nvGrpSpPr>
          <p:grpSpPr>
            <a:xfrm>
              <a:off x="5364000" y="3327480"/>
              <a:ext cx="1193760" cy="635040"/>
              <a:chOff x="5364000" y="3327480"/>
              <a:chExt cx="1193760" cy="635040"/>
            </a:xfrm>
          </p:grpSpPr>
          <p:sp>
            <p:nvSpPr>
              <p:cNvPr id="466" name="Rectangle 114"/>
              <p:cNvSpPr/>
              <p:nvPr/>
            </p:nvSpPr>
            <p:spPr>
              <a:xfrm>
                <a:off x="5364000" y="332748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Rectangle 115"/>
              <p:cNvSpPr/>
              <p:nvPr/>
            </p:nvSpPr>
            <p:spPr>
              <a:xfrm>
                <a:off x="5364000" y="354348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Rectangle 116"/>
              <p:cNvSpPr/>
              <p:nvPr/>
            </p:nvSpPr>
            <p:spPr>
              <a:xfrm>
                <a:off x="5435640" y="33274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3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9" name="Group 117"/>
            <p:cNvGrpSpPr/>
            <p:nvPr/>
          </p:nvGrpSpPr>
          <p:grpSpPr>
            <a:xfrm>
              <a:off x="3203640" y="2924280"/>
              <a:ext cx="1193760" cy="635040"/>
              <a:chOff x="3203640" y="2924280"/>
              <a:chExt cx="1193760" cy="635040"/>
            </a:xfrm>
          </p:grpSpPr>
          <p:sp>
            <p:nvSpPr>
              <p:cNvPr id="470" name="Rectangle 118"/>
              <p:cNvSpPr/>
              <p:nvPr/>
            </p:nvSpPr>
            <p:spPr>
              <a:xfrm>
                <a:off x="3203640" y="292428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119"/>
              <p:cNvSpPr/>
              <p:nvPr/>
            </p:nvSpPr>
            <p:spPr>
              <a:xfrm>
                <a:off x="3203640" y="314028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120"/>
              <p:cNvSpPr/>
              <p:nvPr/>
            </p:nvSpPr>
            <p:spPr>
              <a:xfrm>
                <a:off x="3275280" y="29242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121"/>
            <p:cNvGrpSpPr/>
            <p:nvPr/>
          </p:nvGrpSpPr>
          <p:grpSpPr>
            <a:xfrm>
              <a:off x="324000" y="3327480"/>
              <a:ext cx="1193760" cy="635040"/>
              <a:chOff x="324000" y="3327480"/>
              <a:chExt cx="1193760" cy="635040"/>
            </a:xfrm>
          </p:grpSpPr>
          <p:sp>
            <p:nvSpPr>
              <p:cNvPr id="474" name="Rectangle 122"/>
              <p:cNvSpPr/>
              <p:nvPr/>
            </p:nvSpPr>
            <p:spPr>
              <a:xfrm>
                <a:off x="324000" y="332748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123"/>
              <p:cNvSpPr/>
              <p:nvPr/>
            </p:nvSpPr>
            <p:spPr>
              <a:xfrm>
                <a:off x="324000" y="354348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124"/>
              <p:cNvSpPr/>
              <p:nvPr/>
            </p:nvSpPr>
            <p:spPr>
              <a:xfrm>
                <a:off x="395640" y="33274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1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7" name="Group 125"/>
            <p:cNvGrpSpPr/>
            <p:nvPr/>
          </p:nvGrpSpPr>
          <p:grpSpPr>
            <a:xfrm>
              <a:off x="279360" y="5661000"/>
              <a:ext cx="1193760" cy="635040"/>
              <a:chOff x="279360" y="5661000"/>
              <a:chExt cx="1193760" cy="635040"/>
            </a:xfrm>
          </p:grpSpPr>
          <p:sp>
            <p:nvSpPr>
              <p:cNvPr id="478" name="Rectangle 126"/>
              <p:cNvSpPr/>
              <p:nvPr/>
            </p:nvSpPr>
            <p:spPr>
              <a:xfrm>
                <a:off x="279360" y="566100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127"/>
              <p:cNvSpPr/>
              <p:nvPr/>
            </p:nvSpPr>
            <p:spPr>
              <a:xfrm>
                <a:off x="279360" y="587700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128"/>
              <p:cNvSpPr/>
              <p:nvPr/>
            </p:nvSpPr>
            <p:spPr>
              <a:xfrm>
                <a:off x="351000" y="566100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4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1" name="Group 129"/>
            <p:cNvGrpSpPr/>
            <p:nvPr/>
          </p:nvGrpSpPr>
          <p:grpSpPr>
            <a:xfrm>
              <a:off x="3333600" y="5921280"/>
              <a:ext cx="1193760" cy="635040"/>
              <a:chOff x="3333600" y="5921280"/>
              <a:chExt cx="1193760" cy="635040"/>
            </a:xfrm>
          </p:grpSpPr>
          <p:sp>
            <p:nvSpPr>
              <p:cNvPr id="482" name="Rectangle 130"/>
              <p:cNvSpPr/>
              <p:nvPr/>
            </p:nvSpPr>
            <p:spPr>
              <a:xfrm>
                <a:off x="3333600" y="5921280"/>
                <a:ext cx="487440" cy="22068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Rectangle 131"/>
              <p:cNvSpPr/>
              <p:nvPr/>
            </p:nvSpPr>
            <p:spPr>
              <a:xfrm>
                <a:off x="3333600" y="6137280"/>
                <a:ext cx="1193760" cy="41904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8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Rectangle 132"/>
              <p:cNvSpPr/>
              <p:nvPr/>
            </p:nvSpPr>
            <p:spPr>
              <a:xfrm>
                <a:off x="3405240" y="59212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 5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2652-CB9F-494B-A1F3-47E95301CFE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عمار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واع توسع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وسعه‌هاي کارکردي ثانوي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قابليت‌هايي کارکردي اضافه‌اي را به سيستم اصلي مي‌افز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وسعه‌هاي سياستي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Policy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قابليت‌هاي کارکردي را براي حمايت از سياست‌هاي سازماني (مانند امنيت) مي‌افز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وسعه‌هاي کيفيت سرويس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QoS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قابليت‌هاي کارکردي را براي کمک به نگهداري کيفيت سرويس مي‌افز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وسعه‌هاي زيرساختي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Infrastructure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قابليت‌هاي کارکردي را براي حمايت از پياده‌سازي سيستم روي سکوهاي مختلف مي‌افز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6F4-98CB-4D5C-B1D8-D7007F98C38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رآيند طراحي سيستمي از جنبه‌ها براي پياده‌سازي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ross-cutting concern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ديگر نيازمندي‌هايي که در طول فرآيند مهندسي نيازمندي‌ها شناسايي شده‌اند، استفاده مي‌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راحي جنبه‌گرا بايد به‌گونه‌اي انجام شود که دو مشکل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Scattering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Tangling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ه کمترين حد خود برس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FC14-1DF6-416D-AE1C-9908527A9E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Rectangle 34"/>
          <p:cNvSpPr/>
          <p:nvPr/>
        </p:nvSpPr>
        <p:spPr>
          <a:xfrm>
            <a:off x="896760" y="5589720"/>
            <a:ext cx="2956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b4eb5"/>
                </a:solidFill>
                <a:latin typeface="Times New Roman"/>
              </a:rPr>
              <a:t>Implicit invoc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" name="Group 35"/>
          <p:cNvGrpSpPr/>
          <p:nvPr/>
        </p:nvGrpSpPr>
        <p:grpSpPr>
          <a:xfrm>
            <a:off x="324000" y="1916280"/>
            <a:ext cx="3719520" cy="3375000"/>
            <a:chOff x="324000" y="1916280"/>
            <a:chExt cx="3719520" cy="3375000"/>
          </a:xfrm>
        </p:grpSpPr>
        <p:sp>
          <p:nvSpPr>
            <p:cNvPr id="495" name="AutoShape 36"/>
            <p:cNvSpPr/>
            <p:nvPr/>
          </p:nvSpPr>
          <p:spPr>
            <a:xfrm>
              <a:off x="324000" y="1916280"/>
              <a:ext cx="3719520" cy="3375000"/>
            </a:xfrm>
            <a:prstGeom prst="roundRect">
              <a:avLst>
                <a:gd name="adj" fmla="val 5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37"/>
            <p:cNvSpPr/>
            <p:nvPr/>
          </p:nvSpPr>
          <p:spPr>
            <a:xfrm>
              <a:off x="1391400" y="2278440"/>
              <a:ext cx="1168560" cy="6501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V="1">
              <a:off x="1121040" y="2928240"/>
              <a:ext cx="1045080" cy="6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 flipH="1" flipV="1">
              <a:off x="2346480" y="2928240"/>
              <a:ext cx="887760" cy="33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40"/>
            <p:cNvSpPr/>
            <p:nvPr/>
          </p:nvSpPr>
          <p:spPr>
            <a:xfrm>
              <a:off x="436320" y="3628440"/>
              <a:ext cx="1168560" cy="7747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Rectangle 41"/>
            <p:cNvSpPr/>
            <p:nvPr/>
          </p:nvSpPr>
          <p:spPr>
            <a:xfrm>
              <a:off x="1941840" y="4403520"/>
              <a:ext cx="1168560" cy="6998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Rectangle 42"/>
            <p:cNvSpPr/>
            <p:nvPr/>
          </p:nvSpPr>
          <p:spPr>
            <a:xfrm>
              <a:off x="2751120" y="3278520"/>
              <a:ext cx="1168560" cy="6501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 flipV="1">
              <a:off x="2604960" y="3916080"/>
              <a:ext cx="595440" cy="52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 flipV="1">
              <a:off x="1559520" y="3640680"/>
              <a:ext cx="1168200" cy="29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 flipH="1" flipV="1">
              <a:off x="2289960" y="2940840"/>
              <a:ext cx="89640" cy="148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5" name="Group 46"/>
            <p:cNvGrpSpPr/>
            <p:nvPr/>
          </p:nvGrpSpPr>
          <p:grpSpPr>
            <a:xfrm>
              <a:off x="446760" y="2803680"/>
              <a:ext cx="2652480" cy="2287080"/>
              <a:chOff x="446760" y="2803680"/>
              <a:chExt cx="2652480" cy="2287080"/>
            </a:xfrm>
          </p:grpSpPr>
          <p:sp>
            <p:nvSpPr>
              <p:cNvPr id="506" name="Rectangle 47"/>
              <p:cNvSpPr/>
              <p:nvPr/>
            </p:nvSpPr>
            <p:spPr>
              <a:xfrm flipH="1" rot="10800000">
                <a:off x="1401480" y="2803680"/>
                <a:ext cx="1145880" cy="112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Rectangle 48"/>
              <p:cNvSpPr/>
              <p:nvPr/>
            </p:nvSpPr>
            <p:spPr>
              <a:xfrm flipH="1" rot="10800000">
                <a:off x="446400" y="4265640"/>
                <a:ext cx="1145880" cy="137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 flipH="1" rot="10800000">
                <a:off x="1953000" y="4941000"/>
                <a:ext cx="1146240" cy="149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09" name="Group 50"/>
          <p:cNvGrpSpPr/>
          <p:nvPr/>
        </p:nvGrpSpPr>
        <p:grpSpPr>
          <a:xfrm>
            <a:off x="4211640" y="1628640"/>
            <a:ext cx="4133520" cy="4475160"/>
            <a:chOff x="4211640" y="1628640"/>
            <a:chExt cx="4133520" cy="4475160"/>
          </a:xfrm>
        </p:grpSpPr>
        <p:sp>
          <p:nvSpPr>
            <p:cNvPr id="510" name="AutoShape 51"/>
            <p:cNvSpPr/>
            <p:nvPr/>
          </p:nvSpPr>
          <p:spPr>
            <a:xfrm>
              <a:off x="4211640" y="2691000"/>
              <a:ext cx="651240" cy="1249560"/>
            </a:xfrm>
            <a:prstGeom prst="rightArrow">
              <a:avLst>
                <a:gd name="adj1" fmla="val 32000"/>
                <a:gd name="adj2" fmla="val 44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1" name="Group 52"/>
            <p:cNvGrpSpPr/>
            <p:nvPr/>
          </p:nvGrpSpPr>
          <p:grpSpPr>
            <a:xfrm>
              <a:off x="4874040" y="1628640"/>
              <a:ext cx="3471120" cy="4475160"/>
              <a:chOff x="4874040" y="1628640"/>
              <a:chExt cx="3471120" cy="4475160"/>
            </a:xfrm>
          </p:grpSpPr>
          <p:sp>
            <p:nvSpPr>
              <p:cNvPr id="512" name="AutoShape 53"/>
              <p:cNvSpPr/>
              <p:nvPr/>
            </p:nvSpPr>
            <p:spPr>
              <a:xfrm>
                <a:off x="4874040" y="1628640"/>
                <a:ext cx="3471120" cy="4475160"/>
              </a:xfrm>
              <a:custGeom>
                <a:avLst/>
                <a:gdLst>
                  <a:gd name="textAreaLeft" fmla="*/ 49320 w 3471120"/>
                  <a:gd name="textAreaRight" fmla="*/ 3421800 w 3471120"/>
                  <a:gd name="textAreaTop" fmla="*/ 49320 h 4475160"/>
                  <a:gd name="textAreaBottom" fmla="*/ 4425840 h 4475160"/>
                </a:gdLst>
                <a:ahLst/>
                <a:rect l="textAreaLeft" t="textAreaTop" r="textAreaRight" b="textAreaBottom"/>
                <a:pathLst>
                  <a:path w="21600" h="27847">
                    <a:moveTo>
                      <a:pt x="1048" y="0"/>
                    </a:moveTo>
                    <a:arcTo wR="1048" hR="1048" stAng="16200000" swAng="-5400000"/>
                    <a:lnTo>
                      <a:pt x="0" y="26799"/>
                    </a:lnTo>
                    <a:arcTo wR="1048" hR="1048" stAng="10800000" swAng="-5400000"/>
                    <a:lnTo>
                      <a:pt x="20552" y="27847"/>
                    </a:lnTo>
                    <a:arcTo wR="1048" hR="1048" stAng="5400000" swAng="-5400000"/>
                    <a:lnTo>
                      <a:pt x="21600" y="1048"/>
                    </a:lnTo>
                    <a:arcTo wR="1048" hR="104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gram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Rectangle 54"/>
              <p:cNvSpPr/>
              <p:nvPr/>
            </p:nvSpPr>
            <p:spPr>
              <a:xfrm>
                <a:off x="5941080" y="1990800"/>
                <a:ext cx="1168200" cy="65016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Line 55"/>
              <p:cNvSpPr/>
              <p:nvPr/>
            </p:nvSpPr>
            <p:spPr>
              <a:xfrm flipV="1">
                <a:off x="5671440" y="2640960"/>
                <a:ext cx="1044720" cy="67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Line 56"/>
              <p:cNvSpPr/>
              <p:nvPr/>
            </p:nvSpPr>
            <p:spPr>
              <a:xfrm flipH="1" flipV="1">
                <a:off x="6895440" y="2640960"/>
                <a:ext cx="887400" cy="33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Rectangle 57"/>
              <p:cNvSpPr/>
              <p:nvPr/>
            </p:nvSpPr>
            <p:spPr>
              <a:xfrm>
                <a:off x="4986360" y="3341160"/>
                <a:ext cx="1168200" cy="77472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2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Rectangle 58"/>
              <p:cNvSpPr/>
              <p:nvPr/>
            </p:nvSpPr>
            <p:spPr>
              <a:xfrm>
                <a:off x="6491520" y="4115880"/>
                <a:ext cx="1168200" cy="70020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3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Rectangle 59"/>
              <p:cNvSpPr/>
              <p:nvPr/>
            </p:nvSpPr>
            <p:spPr>
              <a:xfrm>
                <a:off x="7131960" y="2990880"/>
                <a:ext cx="1168200" cy="65016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96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Line 60"/>
              <p:cNvSpPr/>
              <p:nvPr/>
            </p:nvSpPr>
            <p:spPr>
              <a:xfrm flipV="1">
                <a:off x="7154280" y="3628440"/>
                <a:ext cx="595440" cy="524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Line 61"/>
              <p:cNvSpPr/>
              <p:nvPr/>
            </p:nvSpPr>
            <p:spPr>
              <a:xfrm flipV="1">
                <a:off x="6109560" y="3390840"/>
                <a:ext cx="1033200" cy="26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Line 62"/>
              <p:cNvSpPr/>
              <p:nvPr/>
            </p:nvSpPr>
            <p:spPr>
              <a:xfrm flipH="1" flipV="1">
                <a:off x="6839640" y="2653560"/>
                <a:ext cx="89640" cy="148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Rectangle 63"/>
              <p:cNvSpPr/>
              <p:nvPr/>
            </p:nvSpPr>
            <p:spPr>
              <a:xfrm flipH="1" rot="10800000">
                <a:off x="5164920" y="5078520"/>
                <a:ext cx="1145880" cy="662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spec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64"/>
              <p:cNvSpPr/>
              <p:nvPr/>
            </p:nvSpPr>
            <p:spPr>
              <a:xfrm flipV="1">
                <a:off x="5705280" y="2577960"/>
                <a:ext cx="582480" cy="2500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65"/>
              <p:cNvSpPr/>
              <p:nvPr/>
            </p:nvSpPr>
            <p:spPr>
              <a:xfrm flipV="1">
                <a:off x="5929920" y="4716000"/>
                <a:ext cx="786240" cy="337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Line 66"/>
              <p:cNvSpPr/>
              <p:nvPr/>
            </p:nvSpPr>
            <p:spPr>
              <a:xfrm flipH="1" flipV="1">
                <a:off x="5300640" y="4003560"/>
                <a:ext cx="291960" cy="1074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9E1-280D-4895-AE5F-EED6A853919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978280" y="4527720"/>
            <a:ext cx="2673360" cy="414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Structured Programm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24360" y="3860640"/>
            <a:ext cx="2444760" cy="3985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Modular Programm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643280" y="3102120"/>
            <a:ext cx="1873440" cy="366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Data Abstr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952880" y="2343240"/>
            <a:ext cx="3219480" cy="43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Object Oriented Programm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114560" y="5300640"/>
            <a:ext cx="3778200" cy="4334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Compiled Programming Langu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55640" y="1700280"/>
            <a:ext cx="0" cy="432108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755640" y="6021360"/>
            <a:ext cx="784872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2"/>
          <p:cNvSpPr/>
          <p:nvPr/>
        </p:nvSpPr>
        <p:spPr>
          <a:xfrm rot="16200000">
            <a:off x="-262080" y="33670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4eb5"/>
                </a:solidFill>
                <a:latin typeface="Times New Roman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7164360" y="616572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4eb5"/>
                </a:solidFill>
                <a:latin typeface="Times New Roman"/>
              </a:rPr>
              <a:t>Modular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1763640" y="1484280"/>
            <a:ext cx="2449440" cy="1440000"/>
          </a:xfrm>
          <a:prstGeom prst="cloudCallout">
            <a:avLst>
              <a:gd name="adj1" fmla="val 46824"/>
              <a:gd name="adj2" fmla="val 9097"/>
            </a:avLst>
          </a:prstGeom>
          <a:solidFill>
            <a:srgbClr val="ffccff"/>
          </a:solidFill>
          <a:ln w="9360">
            <a:solidFill>
              <a:srgbClr val="4b4e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4eb5"/>
                </a:solidFill>
                <a:latin typeface="Tahoma"/>
                <a:ea typeface="Nazanin"/>
              </a:rPr>
              <a:t>  </a:t>
            </a:r>
            <a:r>
              <a:rPr b="1" lang="fa-IR" sz="1800" spc="-1" strike="noStrike">
                <a:solidFill>
                  <a:srgbClr val="4b4eb5"/>
                </a:solidFill>
                <a:latin typeface="Tahoma"/>
                <a:cs typeface="Nazanin"/>
              </a:rPr>
              <a:t>واحدبندي روشي براي مهار پيچيدگي اس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3BB-E1C1-4997-8A36-B0CAF84B3D0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ورد کارب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ي‌تواند به عنوان جنبه در نظر گرفته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ده استفاده از مورد کاربري براي جنبه توسط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Jacobse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 بـا استفـاده از مفـاهيم جـديـدي چـون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use-case slice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use-case module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رائه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ورد کاربري توسعه‌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اي نمايش مدل معماري جنبه‌گراي اصلي + توسعه‌ها بکار مي‌ر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EDE-4FF3-4160-8AA4-5AF11DA1758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ورد کاربري توسعه‌ا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2" name="Group 49"/>
          <p:cNvGrpSpPr/>
          <p:nvPr/>
        </p:nvGrpSpPr>
        <p:grpSpPr>
          <a:xfrm>
            <a:off x="1436760" y="2598840"/>
            <a:ext cx="6042240" cy="2559600"/>
            <a:chOff x="1436760" y="2598840"/>
            <a:chExt cx="6042240" cy="2559600"/>
          </a:xfrm>
        </p:grpSpPr>
        <p:sp>
          <p:nvSpPr>
            <p:cNvPr id="533" name="Rectangle 31"/>
            <p:cNvSpPr/>
            <p:nvPr/>
          </p:nvSpPr>
          <p:spPr>
            <a:xfrm>
              <a:off x="3993840" y="485316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ew ite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Oval 32"/>
            <p:cNvSpPr/>
            <p:nvPr/>
          </p:nvSpPr>
          <p:spPr>
            <a:xfrm>
              <a:off x="3749760" y="4043520"/>
              <a:ext cx="1446120" cy="6238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1698480" y="3895560"/>
              <a:ext cx="1800" cy="655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34"/>
            <p:cNvSpPr/>
            <p:nvPr/>
          </p:nvSpPr>
          <p:spPr>
            <a:xfrm>
              <a:off x="1582560" y="3878280"/>
              <a:ext cx="231840" cy="2635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35"/>
            <p:cNvSpPr/>
            <p:nvPr/>
          </p:nvSpPr>
          <p:spPr>
            <a:xfrm>
              <a:off x="1436760" y="4255920"/>
              <a:ext cx="4586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36"/>
            <p:cNvSpPr/>
            <p:nvPr/>
          </p:nvSpPr>
          <p:spPr>
            <a:xfrm flipH="1">
              <a:off x="1501920" y="4551480"/>
              <a:ext cx="196560" cy="164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37"/>
            <p:cNvSpPr/>
            <p:nvPr/>
          </p:nvSpPr>
          <p:spPr>
            <a:xfrm>
              <a:off x="1698480" y="4551480"/>
              <a:ext cx="165240" cy="196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Line 38"/>
            <p:cNvSpPr/>
            <p:nvPr/>
          </p:nvSpPr>
          <p:spPr>
            <a:xfrm>
              <a:off x="2268360" y="4349880"/>
              <a:ext cx="1511640" cy="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5556240" y="2598840"/>
              <a:ext cx="1444680" cy="623880"/>
            </a:xfrm>
            <a:prstGeom prst="ellipse">
              <a:avLst/>
            </a:prstGeom>
            <a:solidFill>
              <a:srgbClr val="ffcc00"/>
            </a:solidFill>
            <a:ln w="33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41"/>
            <p:cNvSpPr/>
            <p:nvPr/>
          </p:nvSpPr>
          <p:spPr>
            <a:xfrm>
              <a:off x="5576400" y="3413160"/>
              <a:ext cx="190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ew maintena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43"/>
            <p:cNvSpPr/>
            <p:nvPr/>
          </p:nvSpPr>
          <p:spPr>
            <a:xfrm flipH="1">
              <a:off x="4522320" y="2981160"/>
              <a:ext cx="1057320" cy="979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Freeform 44"/>
            <p:cNvSpPr/>
            <p:nvPr/>
          </p:nvSpPr>
          <p:spPr>
            <a:xfrm>
              <a:off x="4522680" y="3862440"/>
              <a:ext cx="98640" cy="98280"/>
            </a:xfrm>
            <a:prstGeom prst="pie">
              <a:avLst/>
            </a:pr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Rectangle 46"/>
            <p:cNvSpPr/>
            <p:nvPr/>
          </p:nvSpPr>
          <p:spPr>
            <a:xfrm>
              <a:off x="4065480" y="3052800"/>
              <a:ext cx="107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ĒextendČ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Rectangle 48"/>
            <p:cNvSpPr/>
            <p:nvPr/>
          </p:nvSpPr>
          <p:spPr>
            <a:xfrm>
              <a:off x="1484640" y="4853160"/>
              <a:ext cx="48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E42C-98ED-4BD2-8754-EAB4087B6B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رآيند انجام طراحي جنبه‌گر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اي بررس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عدم همپوشاني جنبه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يد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عارض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ين جنبه‌ها شناسايي و رفع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50" name="Picture 4" descr="Fig"/>
          <p:cNvPicPr/>
          <p:nvPr/>
        </p:nvPicPr>
        <p:blipFill>
          <a:blip r:embed="rId1"/>
          <a:stretch/>
        </p:blipFill>
        <p:spPr>
          <a:xfrm>
            <a:off x="611280" y="3573360"/>
            <a:ext cx="806436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C4E-4A0C-4919-9D4A-1C364DB17A6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راحي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تفاده از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اي جنب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دلي نه چندان کامل از تعريف جنب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4" name="Group 30"/>
          <p:cNvGrpSpPr/>
          <p:nvPr/>
        </p:nvGrpSpPr>
        <p:grpSpPr>
          <a:xfrm>
            <a:off x="2050920" y="2781360"/>
            <a:ext cx="4851360" cy="3657600"/>
            <a:chOff x="2050920" y="2781360"/>
            <a:chExt cx="4851360" cy="3657600"/>
          </a:xfrm>
        </p:grpSpPr>
        <p:sp>
          <p:nvSpPr>
            <p:cNvPr id="555" name="Rectangle 9"/>
            <p:cNvSpPr/>
            <p:nvPr/>
          </p:nvSpPr>
          <p:spPr>
            <a:xfrm>
              <a:off x="2050920" y="2781360"/>
              <a:ext cx="4851360" cy="3657600"/>
            </a:xfrm>
            <a:prstGeom prst="rect">
              <a:avLst/>
            </a:prstGeom>
            <a:noFill/>
            <a:ln w="255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812040" y="2816280"/>
              <a:ext cx="76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Ē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pect</a:t>
              </a: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Č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3682800" y="3022560"/>
              <a:ext cx="104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14"/>
            <p:cNvSpPr/>
            <p:nvPr/>
          </p:nvSpPr>
          <p:spPr>
            <a:xfrm>
              <a:off x="2063880" y="3327480"/>
              <a:ext cx="4800600" cy="1440"/>
            </a:xfrm>
            <a:prstGeom prst="line">
              <a:avLst/>
            </a:prstGeom>
            <a:ln w="255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Rectangle 15"/>
            <p:cNvSpPr/>
            <p:nvPr/>
          </p:nvSpPr>
          <p:spPr>
            <a:xfrm>
              <a:off x="2201400" y="33274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intcu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Rectangle 16"/>
            <p:cNvSpPr/>
            <p:nvPr/>
          </p:nvSpPr>
          <p:spPr>
            <a:xfrm>
              <a:off x="2327400" y="3606840"/>
              <a:ext cx="26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ewMain = call getItemInfo (..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Rectangle 17"/>
            <p:cNvSpPr/>
            <p:nvPr/>
          </p:nvSpPr>
          <p:spPr>
            <a:xfrm>
              <a:off x="2378880" y="3861000"/>
              <a:ext cx="241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co = call removeItem (..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Rectangle 18"/>
            <p:cNvSpPr/>
            <p:nvPr/>
          </p:nvSpPr>
          <p:spPr>
            <a:xfrm>
              <a:off x="2333520" y="4114800"/>
              <a:ext cx="21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 ci = call addItem (..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>
              <a:off x="2063880" y="4444920"/>
              <a:ext cx="4825800" cy="1800"/>
            </a:xfrm>
            <a:prstGeom prst="line">
              <a:avLst/>
            </a:prstGeom>
            <a:ln w="255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Rectangle 20"/>
            <p:cNvSpPr/>
            <p:nvPr/>
          </p:nvSpPr>
          <p:spPr>
            <a:xfrm>
              <a:off x="2313000" y="4521240"/>
              <a:ext cx="134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 extension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Rectangle 21"/>
            <p:cNvSpPr/>
            <p:nvPr/>
          </p:nvSpPr>
          <p:spPr>
            <a:xfrm>
              <a:off x="2203560" y="4991040"/>
              <a:ext cx="4622760" cy="939960"/>
            </a:xfrm>
            <a:prstGeom prst="rect">
              <a:avLst/>
            </a:prstGeom>
            <a:noFill/>
            <a:ln w="255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Rectangle 23"/>
            <p:cNvSpPr/>
            <p:nvPr/>
          </p:nvSpPr>
          <p:spPr>
            <a:xfrm>
              <a:off x="3207960" y="5029200"/>
              <a:ext cx="209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ewMaintenanceHistor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2190600" y="5359320"/>
              <a:ext cx="4622760" cy="1800"/>
            </a:xfrm>
            <a:prstGeom prst="line">
              <a:avLst/>
            </a:prstGeom>
            <a:ln w="255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Rectangle 25"/>
            <p:cNvSpPr/>
            <p:nvPr/>
          </p:nvSpPr>
          <p:spPr>
            <a:xfrm>
              <a:off x="2570400" y="5511960"/>
              <a:ext cx="114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viewItem&gt; {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Rectangle 26"/>
            <p:cNvSpPr/>
            <p:nvPr/>
          </p:nvSpPr>
          <p:spPr>
            <a:xfrm>
              <a:off x="3812760" y="552312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Rectangle 27"/>
            <p:cNvSpPr/>
            <p:nvPr/>
          </p:nvSpPr>
          <p:spPr>
            <a:xfrm>
              <a:off x="4252680" y="5511960"/>
              <a:ext cx="25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&lt;viewMain&gt;)displayHistory}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Rectangle 28"/>
            <p:cNvSpPr/>
            <p:nvPr/>
          </p:nvSpPr>
          <p:spPr>
            <a:xfrm>
              <a:off x="3613320" y="607068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ore extensions he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48C-9B0B-447D-8893-3BF6863BEB8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رنامه‌نويسي جنبه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قلاب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شيوه فكر كردن در زمينه مهندس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اولين بار توسط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Gregor Kiczale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سال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1997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عرفي 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كانيزم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داسازي پيشرفته دغدغه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يز اطلاق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زب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پشتيبان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ند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جن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AspectJ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يك بسته كه امكانات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O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ا به زبان برنامه نويسي جاوا اضافه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speckwerkz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Jboss-AOP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yperJ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1E55-E40D-41F1-928C-9DC79AF2EF2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زمايش جنبه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انند ساير سيستم‌ها، سيستم‌هاي جنبه‌گرا مي‌توانند به‌صورت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جعبه سيا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ورد آزمايش قرار گي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74320" indent="-2743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زمايش 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جعبه سفي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نها پيچيده و وابسته به کد برنام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74320" indent="-2743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شکلات آزمايش جنب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رابط جنبه چگونه مي‌تواند آزمايش شو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چگونه جنبه‌ها مي‌توانند مستقل از سيستم اصلي آزمايش شون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چگونه مي‌توان آزمايشي طراحي نمود که همه نقاط اتصال اجرا شده و جنبه‌هاي مناسب مورد آزمايش قرار گيرن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B07C-2CF4-4155-8BD2-BE29779D297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زمايش جنب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ليد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گراف جريان برنام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اي جنبه‌ها غيرممکن است، به همين دليل طراحي آزمايشاتي که تضمين دهند همه ترکيبات جنبه‌ها و کد اصلي اجرا شوند، دشوا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وشش آزما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est coverag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معناي خاصي ن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کد هر جنبه يکبار اجرا شو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کد هر جنبه در هر نقطه اتصالي که جنبه قرار داده شده است يکبار اجرا شو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D44B-013A-442F-8B0D-D286D13764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ACB-66B1-4791-809C-255BAB398FC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1484280"/>
            <a:ext cx="341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برنامه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نويسي ساختاريافته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Group 15"/>
          <p:cNvGrpSpPr/>
          <p:nvPr/>
        </p:nvGrpSpPr>
        <p:grpSpPr>
          <a:xfrm>
            <a:off x="755640" y="5589720"/>
            <a:ext cx="7552800" cy="0"/>
            <a:chOff x="755640" y="5589720"/>
            <a:chExt cx="7552800" cy="0"/>
          </a:xfrm>
        </p:grpSpPr>
        <p:sp>
          <p:nvSpPr>
            <p:cNvPr id="151" name="Line 6"/>
            <p:cNvSpPr/>
            <p:nvPr/>
          </p:nvSpPr>
          <p:spPr>
            <a:xfrm>
              <a:off x="755640" y="5589720"/>
              <a:ext cx="696564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H="1">
              <a:off x="7828920" y="558972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 flipH="1">
              <a:off x="8127360" y="558972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2340000" y="3603600"/>
            <a:ext cx="3138480" cy="14097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5508720" y="2205000"/>
            <a:ext cx="292392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راحتي خواندن و نوشت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توسعه پائي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نگهداري پائي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استفاده مجدد پائي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فاقد واحدبند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2786040" y="2162160"/>
            <a:ext cx="2235240" cy="1282680"/>
            <a:chOff x="2786040" y="2162160"/>
            <a:chExt cx="2235240" cy="1282680"/>
          </a:xfrm>
        </p:grpSpPr>
        <p:sp>
          <p:nvSpPr>
            <p:cNvPr id="157" name="AutoShape 13"/>
            <p:cNvSpPr/>
            <p:nvPr/>
          </p:nvSpPr>
          <p:spPr>
            <a:xfrm>
              <a:off x="2786040" y="2162160"/>
              <a:ext cx="2235240" cy="1282680"/>
            </a:xfrm>
            <a:prstGeom prst="roundRect">
              <a:avLst>
                <a:gd name="adj" fmla="val 14847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2951280" y="2644920"/>
              <a:ext cx="1917720" cy="72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 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53F7-28D6-42E7-9C3C-9D97646F9E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908000" y="1484280"/>
            <a:ext cx="341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برنامه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نويسي رويه‌اي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755640" y="5589720"/>
            <a:ext cx="7552800" cy="0"/>
            <a:chOff x="755640" y="5589720"/>
            <a:chExt cx="7552800" cy="0"/>
          </a:xfrm>
        </p:grpSpPr>
        <p:sp>
          <p:nvSpPr>
            <p:cNvPr id="163" name="Line 6"/>
            <p:cNvSpPr/>
            <p:nvPr/>
          </p:nvSpPr>
          <p:spPr>
            <a:xfrm>
              <a:off x="755640" y="5589720"/>
              <a:ext cx="696564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7828920" y="558972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8127360" y="558972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Rectangle 10"/>
          <p:cNvSpPr/>
          <p:nvPr/>
        </p:nvSpPr>
        <p:spPr>
          <a:xfrm>
            <a:off x="5580000" y="2133720"/>
            <a:ext cx="292428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راحتي خواندن و نوشت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توسعه بهبوديافت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نگهداري </a:t>
            </a:r>
            <a:r>
              <a:rPr b="1" lang="fa-IR" sz="1800" spc="-1" strike="noStrike">
                <a:solidFill>
                  <a:srgbClr val="000066"/>
                </a:solidFill>
                <a:latin typeface="Tahoma"/>
                <a:cs typeface="Nazanin"/>
              </a:rPr>
              <a:t>بهبوديافت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استفاده‌مجدد </a:t>
            </a:r>
            <a:r>
              <a:rPr b="1" lang="fa-IR" sz="1800" spc="-1" strike="noStrike">
                <a:solidFill>
                  <a:srgbClr val="000066"/>
                </a:solidFill>
                <a:latin typeface="Tahoma"/>
                <a:cs typeface="Nazanin"/>
              </a:rPr>
              <a:t>بهبوديافت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واحدبندي بهبوديافت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1908000" y="2133720"/>
            <a:ext cx="3479760" cy="2869920"/>
            <a:chOff x="1908000" y="2133720"/>
            <a:chExt cx="3479760" cy="2869920"/>
          </a:xfrm>
        </p:grpSpPr>
        <p:sp>
          <p:nvSpPr>
            <p:cNvPr id="168" name="AutoShape 15"/>
            <p:cNvSpPr/>
            <p:nvPr/>
          </p:nvSpPr>
          <p:spPr>
            <a:xfrm>
              <a:off x="1908000" y="2133720"/>
              <a:ext cx="3479760" cy="2869920"/>
            </a:xfrm>
            <a:prstGeom prst="roundRect">
              <a:avLst>
                <a:gd name="adj" fmla="val 6634"/>
              </a:avLst>
            </a:prstGeom>
            <a:solidFill>
              <a:srgbClr val="cc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2746080" y="2501640"/>
              <a:ext cx="1816200" cy="6728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 progra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17"/>
            <p:cNvSpPr/>
            <p:nvPr/>
          </p:nvSpPr>
          <p:spPr>
            <a:xfrm>
              <a:off x="1946160" y="3581280"/>
              <a:ext cx="1270080" cy="647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4041720" y="3581280"/>
              <a:ext cx="1269720" cy="647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19"/>
            <p:cNvSpPr/>
            <p:nvPr/>
          </p:nvSpPr>
          <p:spPr>
            <a:xfrm>
              <a:off x="3012840" y="4279680"/>
              <a:ext cx="1270080" cy="647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V="1">
              <a:off x="2567520" y="3174840"/>
              <a:ext cx="100332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 flipV="1">
              <a:off x="3647880" y="3161880"/>
              <a:ext cx="0" cy="107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 flipH="1" flipV="1">
              <a:off x="3736440" y="3173040"/>
              <a:ext cx="100332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BA4-AEAB-47F1-B1BD-972A4CEB20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908000" y="1484280"/>
            <a:ext cx="341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برنامه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  <a:cs typeface="Titr"/>
              </a:rPr>
              <a:t>نويسي شي‌گرا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755640" y="6021360"/>
            <a:ext cx="7552800" cy="0"/>
            <a:chOff x="755640" y="6021360"/>
            <a:chExt cx="7552800" cy="0"/>
          </a:xfrm>
        </p:grpSpPr>
        <p:sp>
          <p:nvSpPr>
            <p:cNvPr id="180" name="Line 6"/>
            <p:cNvSpPr/>
            <p:nvPr/>
          </p:nvSpPr>
          <p:spPr>
            <a:xfrm>
              <a:off x="755640" y="6021360"/>
              <a:ext cx="696564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 flipH="1">
              <a:off x="7828920" y="602136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 flipH="1">
              <a:off x="8127360" y="6021360"/>
              <a:ext cx="181080" cy="0"/>
            </a:xfrm>
            <a:prstGeom prst="line">
              <a:avLst/>
            </a:prstGeom>
            <a:ln w="31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Rectangle 9"/>
          <p:cNvSpPr/>
          <p:nvPr/>
        </p:nvSpPr>
        <p:spPr>
          <a:xfrm>
            <a:off x="5508720" y="2060640"/>
            <a:ext cx="292392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راحتي خواندن و نوشت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توسعه خو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نگهداري </a:t>
            </a:r>
            <a:r>
              <a:rPr b="1" lang="fa-IR" sz="1800" spc="-1" strike="noStrike">
                <a:solidFill>
                  <a:srgbClr val="000066"/>
                </a:solidFill>
                <a:latin typeface="Tahoma"/>
                <a:cs typeface="Nazanin"/>
              </a:rPr>
              <a:t>خو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7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قابليت استفاده‌مجدد </a:t>
            </a:r>
            <a:r>
              <a:rPr b="1" lang="fa-IR" sz="1800" spc="-1" strike="noStrike">
                <a:solidFill>
                  <a:srgbClr val="000066"/>
                </a:solidFill>
                <a:latin typeface="Tahoma"/>
                <a:cs typeface="Nazanin"/>
              </a:rPr>
              <a:t>خو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r" rtl="1">
              <a:lnSpc>
                <a:spcPct val="150000"/>
              </a:lnSpc>
              <a:buClr>
                <a:srgbClr val="00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66"/>
                </a:solidFill>
                <a:latin typeface="Arial"/>
                <a:cs typeface="Nazanin"/>
              </a:rPr>
              <a:t>واحدبندي خو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Group 19"/>
          <p:cNvGrpSpPr/>
          <p:nvPr/>
        </p:nvGrpSpPr>
        <p:grpSpPr>
          <a:xfrm>
            <a:off x="971640" y="1989000"/>
            <a:ext cx="4584600" cy="3429000"/>
            <a:chOff x="971640" y="1989000"/>
            <a:chExt cx="4584600" cy="3429000"/>
          </a:xfrm>
        </p:grpSpPr>
        <p:sp>
          <p:nvSpPr>
            <p:cNvPr id="185" name="AutoShape 20"/>
            <p:cNvSpPr/>
            <p:nvPr/>
          </p:nvSpPr>
          <p:spPr>
            <a:xfrm>
              <a:off x="971640" y="1989000"/>
              <a:ext cx="4584600" cy="3429000"/>
            </a:xfrm>
            <a:prstGeom prst="roundRect">
              <a:avLst>
                <a:gd name="adj" fmla="val 555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2178000" y="2357280"/>
              <a:ext cx="1320840" cy="660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 flipV="1">
              <a:off x="1872720" y="3017520"/>
              <a:ext cx="118116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 flipH="1" flipV="1">
              <a:off x="3257280" y="3017880"/>
              <a:ext cx="1003320" cy="34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>
              <a:off x="1098720" y="3728880"/>
              <a:ext cx="1320840" cy="660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>
              <a:off x="2800440" y="4516200"/>
              <a:ext cx="1320840" cy="660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>
              <a:off x="4044960" y="3373200"/>
              <a:ext cx="1320840" cy="660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 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9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 flipV="1">
              <a:off x="3549600" y="4020840"/>
              <a:ext cx="6732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28"/>
            <p:cNvSpPr/>
            <p:nvPr/>
          </p:nvSpPr>
          <p:spPr>
            <a:xfrm flipV="1">
              <a:off x="2368800" y="3639600"/>
              <a:ext cx="167616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 flipH="1" flipV="1">
              <a:off x="3194280" y="3030480"/>
              <a:ext cx="101520" cy="15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318-0C3C-431D-9CEE-402F01EB6C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وسعه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6372360" y="1844640"/>
            <a:ext cx="2232000" cy="2158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4446360" y="1844640"/>
            <a:ext cx="213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نيازهاي وظيف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مند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678680" y="3573360"/>
            <a:ext cx="3269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Titr"/>
              </a:rPr>
              <a:t>نيازمندي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Titr"/>
              </a:rPr>
              <a:t>هاي توسعه نرم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Titr"/>
              </a:rPr>
              <a:t>افزار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3084840" y="2708280"/>
            <a:ext cx="2604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Titr"/>
              </a:rPr>
              <a:t>نيازهاي غيروظيفه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Titr"/>
              </a:rPr>
              <a:t>مندي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43520" y="2060640"/>
            <a:ext cx="459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5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078440" y="2924280"/>
            <a:ext cx="459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5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363960" y="4149720"/>
            <a:ext cx="127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  <a:cs typeface="Titr"/>
              </a:rPr>
              <a:t>پيچيد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21"/>
          <p:cNvSpPr/>
          <p:nvPr/>
        </p:nvSpPr>
        <p:spPr>
          <a:xfrm flipH="1">
            <a:off x="1763640" y="4221000"/>
            <a:ext cx="503280" cy="360360"/>
          </a:xfrm>
          <a:prstGeom prst="rightArrow">
            <a:avLst>
              <a:gd name="adj1" fmla="val 49778"/>
              <a:gd name="adj2" fmla="val 52431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22" descr="AMDISAST"/>
          <p:cNvPicPr/>
          <p:nvPr/>
        </p:nvPicPr>
        <p:blipFill>
          <a:blip r:embed="rId2"/>
          <a:stretch/>
        </p:blipFill>
        <p:spPr>
          <a:xfrm flipH="1">
            <a:off x="1332000" y="5616720"/>
            <a:ext cx="1295280" cy="98712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41"/>
          <p:cNvGrpSpPr/>
          <p:nvPr/>
        </p:nvGrpSpPr>
        <p:grpSpPr>
          <a:xfrm>
            <a:off x="324000" y="5797440"/>
            <a:ext cx="740880" cy="627120"/>
            <a:chOff x="324000" y="5797440"/>
            <a:chExt cx="740880" cy="627120"/>
          </a:xfrm>
        </p:grpSpPr>
        <p:sp>
          <p:nvSpPr>
            <p:cNvPr id="207" name="Freeform 26"/>
            <p:cNvSpPr/>
            <p:nvPr/>
          </p:nvSpPr>
          <p:spPr>
            <a:xfrm flipH="1">
              <a:off x="582480" y="5997600"/>
              <a:ext cx="17892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7"/>
            <p:cNvSpPr/>
            <p:nvPr/>
          </p:nvSpPr>
          <p:spPr>
            <a:xfrm flipH="1">
              <a:off x="641160" y="5973480"/>
              <a:ext cx="23940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8"/>
            <p:cNvSpPr/>
            <p:nvPr/>
          </p:nvSpPr>
          <p:spPr>
            <a:xfrm flipH="1">
              <a:off x="377640" y="6030720"/>
              <a:ext cx="2394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9"/>
            <p:cNvSpPr/>
            <p:nvPr/>
          </p:nvSpPr>
          <p:spPr>
            <a:xfrm flipH="1">
              <a:off x="324000" y="6210000"/>
              <a:ext cx="412560" cy="21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30"/>
            <p:cNvSpPr/>
            <p:nvPr/>
          </p:nvSpPr>
          <p:spPr>
            <a:xfrm flipH="1">
              <a:off x="690480" y="6153120"/>
              <a:ext cx="37440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Freeform 31"/>
            <p:cNvSpPr/>
            <p:nvPr/>
          </p:nvSpPr>
          <p:spPr>
            <a:xfrm flipH="1">
              <a:off x="495360" y="5797440"/>
              <a:ext cx="20304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3" name="Picture 42" descr="AMDOUBT"/>
          <p:cNvPicPr/>
          <p:nvPr/>
        </p:nvPicPr>
        <p:blipFill>
          <a:blip r:embed="rId3"/>
          <a:stretch/>
        </p:blipFill>
        <p:spPr>
          <a:xfrm>
            <a:off x="4643280" y="5619600"/>
            <a:ext cx="405000" cy="981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5" descr="AMCONCER"/>
          <p:cNvPicPr/>
          <p:nvPr/>
        </p:nvPicPr>
        <p:blipFill>
          <a:blip r:embed="rId4"/>
          <a:stretch/>
        </p:blipFill>
        <p:spPr>
          <a:xfrm>
            <a:off x="5580000" y="5621400"/>
            <a:ext cx="798480" cy="979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6" descr="AMPLAN2"/>
          <p:cNvPicPr/>
          <p:nvPr/>
        </p:nvPicPr>
        <p:blipFill>
          <a:blip r:embed="rId5"/>
          <a:stretch/>
        </p:blipFill>
        <p:spPr>
          <a:xfrm flipH="1">
            <a:off x="8027640" y="5619600"/>
            <a:ext cx="685800" cy="981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7" descr="FRUSTRAT"/>
          <p:cNvPicPr/>
          <p:nvPr/>
        </p:nvPicPr>
        <p:blipFill>
          <a:blip r:embed="rId6"/>
          <a:stretch/>
        </p:blipFill>
        <p:spPr>
          <a:xfrm>
            <a:off x="3059280" y="5681520"/>
            <a:ext cx="1079280" cy="85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8" descr="NEWPLAN"/>
          <p:cNvPicPr/>
          <p:nvPr/>
        </p:nvPicPr>
        <p:blipFill>
          <a:blip r:embed="rId7"/>
          <a:stretch/>
        </p:blipFill>
        <p:spPr>
          <a:xfrm>
            <a:off x="6732720" y="5553000"/>
            <a:ext cx="938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0:38Z</dcterms:modified>
  <cp:revision>2909</cp:revision>
  <dc:subject/>
  <dc:title>PowerPoint Presentation</dc:title>
</cp:coreProperties>
</file>