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.wmf" ContentType="image/x-wmf"/>
  <Override PartName="/ppt/media/image2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176B-9564-4E88-9929-613A222AC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6F41-0989-4D9C-A175-F3710D431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8B34-5710-443F-8576-3EE76C682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6F46-D6BD-43E8-B3AF-DCDABA4E9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14082-1106-4D15-8E9C-E7FF1777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35C4A-E0B6-4A99-A85D-817129B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EBEDC-7603-4705-9BD5-141384F7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B7AFD-198B-473F-BAD5-49672A91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10CE6-ECDA-4A75-A98B-971D27D0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D2A8C-80A7-42FA-A338-425AB305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C6743-5392-4615-8D02-3C0A5D7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3F87-A6E1-4EE6-919F-4ABBEF2C1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1F98A-375B-4211-9C40-C9DC797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05276-B078-43F8-A2F2-37CB752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C544C-DF0B-44F6-B6E7-5CA609AA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7201F-C920-4F91-9805-686DB1F3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402B8-77D5-40F9-91FB-34E8DA11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E013-0C9B-4666-B97A-7C0878B81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2BAF-78C0-4E76-97DB-4E1E139EB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87CA-AB72-4C31-B35F-C7A72BE0A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9F51-6226-4EE1-82BE-22300AA58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67F0-944F-45C2-9BE3-E8E2A44DD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46FC-0ADA-4EDB-A95B-37EF13580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CBFD-FA5B-42BA-A841-7DAF5DB99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1EEA-E98C-477D-8C79-C241BD2C0F3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B05B-0602-4C35-8953-D1E77855B62A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tr"/>
              </a:rPr>
              <a:t>نظم‌ها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tr"/>
              </a:rPr>
              <a:t>R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593520" y="2205000"/>
            <a:ext cx="17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هفت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F79A-4EF7-4188-A8B6-3D6621D89E3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حليلگر فرآيند حرف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Process Analys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: تعريف معماري حرفه، موارد کاربري و عوامل حرفه و تعيين چگونگي تعامل آن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ايجاد مدل مورد کاربري حرفه و مدل تحليل حرف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طراح حر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Designer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تشريح جريان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ي موارد كاربري حرفه،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تعيين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کارگرها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و موجوديت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ي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67E-569A-4949-85B4-2BEB7130449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هامداران (ذينفعان)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keholder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فراهم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نمودن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اطلاعات ورودي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مورد نياز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و بازنگري طرح‌هاي توسع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دهندگا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منظور از سهامداران در اينجا مشتري و کاربر نهايي است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ازبين‌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فني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echnical Review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بازنگري فرآورد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0" name="Picture 4" descr="ANALYZE"/>
          <p:cNvPicPr/>
          <p:nvPr/>
        </p:nvPicPr>
        <p:blipFill>
          <a:blip r:embed="rId1"/>
          <a:stretch/>
        </p:blipFill>
        <p:spPr>
          <a:xfrm>
            <a:off x="888840" y="4437000"/>
            <a:ext cx="1963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BACD-7AC4-4755-806C-567317E8035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دل مورد كاربري حرف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siness Use-Case Model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مايش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حدوده و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عملكرد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دل 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تحليل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 حرف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siness Analysis Model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عينيت بخشيدن به موارد كاربري حرف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ز نوع مدل شي حرفه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Business Object Model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4840" indent="-2948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شخصات تكميلي حرف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Supplementary Business Specifications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يا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همه تعاريف مه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حر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كه در دو مدل فوق ذكر نشده‌ان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يا اجبارها و محدوديت‌ها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اثيرگذار بر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و مدل فو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FE07-F7D9-460B-B353-39E08E76E10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فرآورده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دورنمای حرف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siness Vision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يان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هدا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مقاص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دلسازي حرف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ستند معماري حرف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siness Architecture Document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يا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نگاه جامع بر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جنبه‌هاي مهم حر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ز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ظر معماري با توجه به ديدگاه‌هاي مختلف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فرهنگ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 لغات حرف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siness Glossary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يا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صطلاحات مهم (همراه تعاريف آنها) كه در اين نظم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ورد نياز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DEFA-3761-412D-A28A-B06BAAE663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حليلگر فرآيندهاي حر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فرآيندهاي اصل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حرفه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ذينفعان مشترك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را شناسايي و به صورت مدل موارد كاربري حرفه توصيف مي‌نما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حليل‌گر حرفه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فاهيم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هم را شناسائي و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عري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ن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وظيفه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طراح حرفه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شريح تفصيل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وارد كاربري شناسائي شده،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شناسائي نقش‌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سئوليت‌هاي مورد نياز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ر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عيين خروجي فرآيندهاي حر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ذينفعان در نقش بازبي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فني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جامعيت و درستي مد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ها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حرفه را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عيي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ن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2F76-151F-4591-9C59-8574CD49BDA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گاشت مدل حرفه به مدل‌هاي نرم‌افز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كاركنان حر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همان عوامل سيستم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رفتار كاركنان حر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نشان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ي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هد كه خودكارساز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ي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شامل چه فرآيندهايي باش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اين ويژگي در يافتن موارد كاربري سيستم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نيز 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كمك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مي‌ک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وجوديت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حر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وانند اش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ي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ز سيستم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شند که بايد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گهدار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مدل حرفه در شناسايي كلاس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هاي موجوديت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Entity Classes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) (در مدل تحليل) كمك م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كن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E135-D6D1-471E-A238-7F55682B0AA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پ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يباني اب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os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مدلسازي تصويري با استفاده از نمادها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ML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quisite Pro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گهداري بخش‌هاي متني مد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توليد شده بوسيله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os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oDA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خودكارسازي فرآيند توليد مستندا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066-1EC4-45D5-BF43-49A90D25663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نيازم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يازم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شرايط/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قابليتي كه سيستم بايد داراي آن باش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ياز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ندي‌ها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ظيفه‌مندي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ياز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ندي‌ها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غيروظيفه‌مند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غيير نيازمندي‌هاي کاربرا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کاربران در ابتدا درخواست‌هاي خود را غيرشفاف بيان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ي‌کنن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پيشرفت پروژه، شناخت بيشتري از نيازمندي‌ها پيدا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9120" indent="-2343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ين سبب تغييراتي در نيازمندي‌هاي اوليه پروژه خواهد 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7A90-0934-47AC-AF0C-B702F660906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نواع نيازمندي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عملكرد 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Functionality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يژگيها، قابل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قابليت استفاده 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Usability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زيبايي واسط كاربر، سهولت استفاده، يكنواختي واسط كارب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 ..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قابليت اعتماد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Reliability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فركانس بروز خطا، برگش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ذي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Recoverability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 و ..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ارايي 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Performance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رعت، قابليت دسترسي، زمان پاسخ، حافظه مورد نياز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و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..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قابليت پشتيباني 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Supportability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قابليت آزمايش، نگهداري، انعطا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ذيري در مقابل تغييرات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948B-9675-45B7-B239-BE8D05068EB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نواع نيازمندي‌ها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 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ز ديدگاه عملي تقسي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ندي قب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نچن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حائز اهميت ني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16680" indent="-2372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 واقع ارزش طبق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ندي قبل، فراهم كردن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يك الگو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راي شناسايي نيازمند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و اطمينان از جامع بودن آن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ا داشتن درک درست نيازمندي‌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که با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انستن «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چرا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» و «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چگونه‌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»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حاصل مي‌شود،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ي‌توان به درك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ست و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عميقي از سيستم دست ياف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 اين نظم مفهوم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ذينفع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ي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فهوم اساس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A2FF-53C2-469A-A6AA-57E54454AF6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نظم‌هاي نه گانه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شنائي با نقش‌ها، فرآورده‌ها،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گردش‌كار ساده شد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پشتيباني ابزار در هر كدا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ز نظم‌ها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D543-5639-406D-94CA-4509A3A0ED4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نظم نيازمندي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برقرار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نگهداري موارد توافق با مشتر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ساير ذينفعان در مورد کارهايي که سيستم بايد انجام 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رائ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شناخت بهت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ز نيازمندي‌هاي سيستم برا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ستفاده توسعه‌دهندگ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يستم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عريف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حدود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يستم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هي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ساس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جهت تخمين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زين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زمان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سعه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يستم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عريف يک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ابط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کاربر براي سيستم با تمرکز بر روي نيازها و اهداف کاربران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865-2995-4977-BE30-8079C1AD4B8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رآيند شناسايي نيازمندي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يند شناسائي و استفاده از نيازم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451640" y="2725560"/>
            <a:ext cx="1079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نيازها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 ذينفع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6364440" y="2987640"/>
            <a:ext cx="761760" cy="485640"/>
          </a:xfrm>
          <a:prstGeom prst="leftArrow">
            <a:avLst>
              <a:gd name="adj1" fmla="val 60787"/>
              <a:gd name="adj2" fmla="val 60455"/>
            </a:avLst>
          </a:prstGeom>
          <a:gradFill rotWithShape="0">
            <a:gsLst>
              <a:gs pos="0">
                <a:srgbClr val="be9a00"/>
              </a:gs>
              <a:gs pos="100000">
                <a:srgbClr val="5847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908000" y="2870280"/>
            <a:ext cx="2548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4b4eb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 مدل موارد كاربر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4b4eb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 مشخصات تكميل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4459320" y="2987640"/>
            <a:ext cx="762120" cy="485640"/>
          </a:xfrm>
          <a:prstGeom prst="leftArrow">
            <a:avLst>
              <a:gd name="adj1" fmla="val 60787"/>
              <a:gd name="adj2" fmla="val 60484"/>
            </a:avLst>
          </a:prstGeom>
          <a:gradFill rotWithShape="0">
            <a:gsLst>
              <a:gs pos="0">
                <a:srgbClr val="be9a00"/>
              </a:gs>
              <a:gs pos="100000">
                <a:srgbClr val="5847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64000" y="275904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مستند د</a:t>
            </a:r>
            <a:r>
              <a:rPr b="1" lang="fa-IR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ورنم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59520" y="35211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cc3300"/>
                </a:solidFill>
                <a:latin typeface="Times New Roman"/>
                <a:ea typeface="Nazanin"/>
              </a:rPr>
              <a:t>  </a:t>
            </a:r>
            <a:r>
              <a:rPr b="1" lang="ar-SA" sz="1800" spc="-1" strike="noStrike">
                <a:solidFill>
                  <a:srgbClr val="cc3300"/>
                </a:solidFill>
                <a:latin typeface="Times New Roman"/>
                <a:cs typeface="Nazanin"/>
              </a:rPr>
              <a:t>منجر به ايجا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154400" y="352116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"/>
                <a:cs typeface="Nazanin"/>
              </a:rPr>
              <a:t>به صورت تفصيلي بيان مي</a:t>
            </a:r>
            <a:r>
              <a:rPr b="1" lang="fa-IR" sz="18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1800" spc="-1" strike="noStrike">
                <a:solidFill>
                  <a:srgbClr val="cc3300"/>
                </a:solidFill>
                <a:latin typeface="Times New Roman"/>
                <a:cs typeface="Nazanin"/>
              </a:rPr>
              <a:t>شود د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900000" y="3357720"/>
            <a:ext cx="733680" cy="1676160"/>
          </a:xfrm>
          <a:custGeom>
            <a:avLst/>
            <a:gdLst>
              <a:gd name="textAreaLeft" fmla="*/ 98280 w 733680"/>
              <a:gd name="textAreaRight" fmla="*/ 635400 w 733680"/>
              <a:gd name="textAreaTop" fmla="*/ 293040 h 1676160"/>
              <a:gd name="textAreaBottom" fmla="*/ 12153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be9a00"/>
              </a:gs>
              <a:gs pos="100000">
                <a:srgbClr val="58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11280" y="2637000"/>
            <a:ext cx="13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c3300"/>
                </a:solidFill>
                <a:latin typeface="Times New Roman"/>
                <a:cs typeface="Nazanin"/>
              </a:rPr>
              <a:t>به آنها عينيت مي</a:t>
            </a:r>
            <a:r>
              <a:rPr b="1" lang="fa-IR" sz="18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1800" spc="-1" strike="noStrike">
                <a:solidFill>
                  <a:srgbClr val="cc3300"/>
                </a:solidFill>
                <a:latin typeface="Times New Roman"/>
                <a:cs typeface="Nazanin"/>
              </a:rPr>
              <a:t>بخشيم د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187280" y="4797360"/>
            <a:ext cx="2624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  <a:ea typeface="Nazanin"/>
              </a:rPr>
              <a:t> مدل طراح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  <a:cs typeface="Nazanin"/>
              </a:rPr>
              <a:t>مستندات كاربر نهائ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7E3-4EE9-4C01-85B9-4E1F46223FF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رآيند شناسايي نيازمندي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مون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totyp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عبارتست از نمايش اجرائي از امكانات و توان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سيست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اربر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اهش مخاطرات و ابهامات درباره موضوعات زير است: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امكان موفقيت محصول از نظر تجاري و اقتصادي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كارايي و پايداري تكنولوژ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هاي كليدي كه در محصول استفاده خواهند ش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قابليت استفاده محصول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درك نيازمند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ها 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B58D-D26F-4808-BB90-66C031C2D81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رآيند شناسايي نيازمندي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واع نمون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ز نظر هدف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رفتا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Behavioral Prototype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ختا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uctural Prototype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واع نمون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ز نظر نتيج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مونه تکامل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Evolutionary Prototype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ورانداختن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Exploratory/Throw-away  Prototype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39640" y="2565360"/>
            <a:ext cx="7417080" cy="20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UP</a:t>
            </a:r>
            <a:r>
              <a:rPr b="1" lang="ar-SA" sz="2800" spc="-1" strike="noStrike">
                <a:solidFill>
                  <a:srgbClr val="000099"/>
                </a:solidFill>
                <a:latin typeface="Tahoma"/>
                <a:ea typeface="Nazanin"/>
              </a:rPr>
              <a:t> از </a:t>
            </a:r>
            <a:r>
              <a:rPr b="1" lang="fa-IR" sz="2800" spc="-1" strike="noStrike">
                <a:solidFill>
                  <a:srgbClr val="000099"/>
                </a:solidFill>
                <a:latin typeface="Tahoma"/>
                <a:cs typeface="Nazanin"/>
              </a:rPr>
              <a:t>ت</a:t>
            </a:r>
            <a:r>
              <a:rPr b="1" lang="ar-SA" sz="2800" spc="-1" strike="noStrike">
                <a:solidFill>
                  <a:srgbClr val="000099"/>
                </a:solidFill>
                <a:latin typeface="Tahoma"/>
                <a:cs typeface="Nazanin"/>
              </a:rPr>
              <a:t>وسعه نمونه</a:t>
            </a:r>
            <a:r>
              <a:rPr b="1" lang="fa-IR" sz="2800" spc="-1" strike="noStrike">
                <a:solidFill>
                  <a:srgbClr val="000099"/>
                </a:solidFill>
                <a:latin typeface="Tahoma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ahoma"/>
                <a:cs typeface="Nazanin"/>
              </a:rPr>
              <a:t>هاي ساختاري در فاز تشريح با ضميمه چند نمونه رفتاري حمايت مي</a:t>
            </a:r>
            <a:r>
              <a:rPr b="1" lang="ar-SA" sz="2800" spc="-1" strike="noStrike">
                <a:solidFill>
                  <a:srgbClr val="000099"/>
                </a:solidFill>
                <a:latin typeface="Tahoma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ahoma"/>
                <a:cs typeface="Nazanin"/>
              </a:rPr>
              <a:t>نماي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8FAE-C6A8-4346-A576-F2AF1828C7C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تحليل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گر سيستم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ystem Analyst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راهبري فرآيند جمع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آوري نيازمند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و تهيه مدل موارد كارب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تعيين‌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كنند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ة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نيازمندي‌ها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equirements Specifi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تشريح تفصيل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وظايف سيستم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وسط تشريح نيازمندي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عمار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نرم‌افزار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ftware Architect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سئول معماري نرم‌افزار و اجبارها و شرايط فني تاثيرگذار بر طراحي و پياده‌سازي سيست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5332-4ECB-470D-8AA7-FF884ACD920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بازبين فني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echnical Review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زبيني محصولات و فرآورده‌هاي توليد شده در اين نظم و ارائه بازخورد مناسب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94" name="Picture 4" descr="ANALYZE"/>
          <p:cNvPicPr/>
          <p:nvPr/>
        </p:nvPicPr>
        <p:blipFill>
          <a:blip r:embed="rId1"/>
          <a:stretch/>
        </p:blipFill>
        <p:spPr>
          <a:xfrm>
            <a:off x="611280" y="3860640"/>
            <a:ext cx="240984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689-7694-4747-93A8-FD1EA1BE013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ورده‌هاي سطح بال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High Level Artifact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درخواست‌هاي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ذينفعا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ستند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دورنما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ion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طرح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مديريت نيازمند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رآورده‌هاي تفصيل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Detailed Artifact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دل موارد كارب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شخصات تكميل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پرده‌داستان مورد كاربري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Use-Case Storyboard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فرهنگ لغا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مخزن خصوصيات نيازمندي‌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A3C-B524-4F5E-A71F-8C5C252B248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95280" y="1557360"/>
            <a:ext cx="8137440" cy="316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حليلگر سيستم به كمك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ذينفع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، سعي مي‌كند آنچه سيستم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بايد/نبايد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جام دهد را مشخص نما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حليلگر، همچنين نيازهاي غيروظيفه‌مندي را شناسايي مي‌نما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268360" y="2349360"/>
            <a:ext cx="762120" cy="486000"/>
          </a:xfrm>
          <a:prstGeom prst="leftArrow">
            <a:avLst>
              <a:gd name="adj1" fmla="val 60787"/>
              <a:gd name="adj2" fmla="val 60439"/>
            </a:avLst>
          </a:prstGeom>
          <a:gradFill rotWithShape="0">
            <a:gsLst>
              <a:gs pos="0">
                <a:srgbClr val="be9a00"/>
              </a:gs>
              <a:gs pos="100000">
                <a:srgbClr val="5847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353960" y="22734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3300"/>
                </a:solidFill>
                <a:latin typeface="Times New Roman"/>
                <a:cs typeface="Homa"/>
              </a:rPr>
              <a:t>محدوده سيست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2666880" y="4800600"/>
            <a:ext cx="3048120" cy="1556640"/>
            <a:chOff x="2666880" y="4800600"/>
            <a:chExt cx="3048120" cy="1556640"/>
          </a:xfrm>
        </p:grpSpPr>
        <p:grpSp>
          <p:nvGrpSpPr>
            <p:cNvPr id="205" name="Group 7"/>
            <p:cNvGrpSpPr/>
            <p:nvPr/>
          </p:nvGrpSpPr>
          <p:grpSpPr>
            <a:xfrm>
              <a:off x="3429000" y="4800600"/>
              <a:ext cx="2286000" cy="1556640"/>
              <a:chOff x="3429000" y="4800600"/>
              <a:chExt cx="2286000" cy="1556640"/>
            </a:xfrm>
          </p:grpSpPr>
          <p:sp>
            <p:nvSpPr>
              <p:cNvPr id="206" name="AutoShape 8"/>
              <p:cNvSpPr/>
              <p:nvPr/>
            </p:nvSpPr>
            <p:spPr>
              <a:xfrm>
                <a:off x="4267080" y="4800600"/>
                <a:ext cx="486000" cy="671400"/>
              </a:xfrm>
              <a:prstGeom prst="downArrow">
                <a:avLst>
                  <a:gd name="adj1" fmla="val 49676"/>
                  <a:gd name="adj2" fmla="val 53232"/>
                </a:avLst>
              </a:prstGeom>
              <a:gradFill rotWithShape="0">
                <a:gsLst>
                  <a:gs pos="0">
                    <a:srgbClr val="4e3f00"/>
                  </a:gs>
                  <a:gs pos="100000">
                    <a:srgbClr val="a88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9"/>
              <p:cNvSpPr/>
              <p:nvPr/>
            </p:nvSpPr>
            <p:spPr>
              <a:xfrm>
                <a:off x="3429000" y="5410080"/>
                <a:ext cx="2286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4b4eb5"/>
                    </a:solidFill>
                    <a:latin typeface="Times New Roman"/>
                    <a:cs typeface="Nazanin"/>
                  </a:rPr>
                  <a:t>مستند د</a:t>
                </a:r>
                <a:r>
                  <a:rPr b="1" lang="fa-IR" sz="2800" spc="-1" strike="noStrike">
                    <a:solidFill>
                      <a:srgbClr val="4b4eb5"/>
                    </a:solidFill>
                    <a:latin typeface="Times New Roman"/>
                    <a:cs typeface="Nazanin"/>
                  </a:rPr>
                  <a:t>ورنما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8" name="Text Box 10"/>
            <p:cNvSpPr/>
            <p:nvPr/>
          </p:nvSpPr>
          <p:spPr>
            <a:xfrm>
              <a:off x="2666880" y="480060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آمادگي براي ايجاد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C63D-98B6-453A-AE4C-AAD7AA209B3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ه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تعيين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نند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ة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نيازمندي‌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جموع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ي از موارد كاربري و مشخصات تكميلي كه بايد جزئيات آن بيان گردد و سازگاري آن با ساير فرآورده‌ها احراز شود، انتساب پيدا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طراح واسط كارب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ه صورت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واز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ا تعيين‌كنندة نيازمندي‌ها شروع به كار مي‌نما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 اغلب پروژ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بين اين دو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قش،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ماهنگي نزديكي وجود دار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7848-8528-4BC5-86E5-BBA225E4197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يشتر كا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عمار سيستم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تكرارهاي اوليه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س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كه با همكار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حليلگر سيستم و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عيين‌كنندة نيازمندي‌ها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يكپارچگي و درستي موارد كاربر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هم از ديدگاه معمار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ور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رسي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قرار مي‌گير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قش بازبين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فن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توسط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همه كسان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ذينفعان)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ه وظيفه آنها بررسي جامعيت و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صح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يازم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و اطمين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ز درك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درست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نها است، ايفا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35E8-D1CC-402C-9939-B2265AE7596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مدلسازي حر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Modeling Disciplin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نيازم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quirement Disciplin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تحليل و طراح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nalysis &amp; Design Disciplin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پيا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mplementation Disciplin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زماي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est Discipline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استقرار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eploymen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006E-B0C5-4616-B6E0-053A407E097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پ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يباني ابزار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os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مدلسازي تصويري فرآور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اين نظ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مانند موارد كاربري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quisitePro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استخراج، ثبت و كنترل تغييرات نيازم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كمك نموده و آنها را در يك پايگاه داده نگهداري مي‌نما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oDA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خودكارسازي فرآيند توليد مستندا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B4B2-AB5A-4626-B719-9C3BD26A62C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تحليل و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</a:rPr>
              <a:t>هدف تحليل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بديل نيازمندي‌ها به صورتي مناسب براي طراحي (كلاس‌هاي تفصيلي و زيرسيستم‌ها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40040" indent="-20772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تحليل توسط 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موارد كاربري 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و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نياز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مندي‌هاي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غير وظيفه‌مندي</a:t>
            </a:r>
            <a:r>
              <a:rPr b="1" lang="fa-IR" sz="2000" spc="-1" strike="noStrike">
                <a:solidFill>
                  <a:srgbClr val="000099"/>
                </a:solidFill>
                <a:latin typeface="Times New Roman"/>
              </a:rPr>
              <a:t> راهبري مي‌ش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دل تحليل يك مدل ايده‌آل از سيستم بوده كه در آن نياز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ندي‌ها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غيروظيفه‌مندي و محدوديت‌هاي پياده‌سازي ناديده گرفت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imes New Roman"/>
              </a:rPr>
              <a:t>تحليل و مقوله‌بند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40040" indent="-207720" algn="r" rtl="1">
              <a:lnSpc>
                <a:spcPct val="13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در تحليل با استفاده از مفهوم مقوله‌بندي كلاس‌ها را در سه دسته </a:t>
            </a:r>
            <a:r>
              <a:rPr b="1" lang="ar-SA" sz="2000" spc="-1" strike="noStrike">
                <a:solidFill>
                  <a:srgbClr val="993300"/>
                </a:solidFill>
                <a:latin typeface="Times New Roman"/>
              </a:rPr>
              <a:t>مرزي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000" spc="-1" strike="noStrike">
                <a:solidFill>
                  <a:srgbClr val="993300"/>
                </a:solidFill>
                <a:latin typeface="Times New Roman"/>
              </a:rPr>
              <a:t>كنترلي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000" spc="-1" strike="noStrike">
                <a:solidFill>
                  <a:srgbClr val="993300"/>
                </a:solidFill>
                <a:latin typeface="Times New Roman"/>
              </a:rPr>
              <a:t>موجوديت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شناسائي‌ مي‌نماييم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730-BBD2-4142-BA54-DF78527788F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تحليل و طراح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(ادامه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</a:rPr>
              <a:t>هدف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نتقال مدل تحليل از </a:t>
            </a:r>
            <a:r>
              <a:rPr b="1" lang="ar-SA" sz="2400" spc="-1" strike="noStrike">
                <a:solidFill>
                  <a:srgbClr val="993300"/>
                </a:solidFill>
                <a:latin typeface="Times New Roman"/>
              </a:rPr>
              <a:t>ايده‌آل بود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ه </a:t>
            </a:r>
            <a:r>
              <a:rPr b="1" lang="ar-SA" sz="2400" spc="-1" strike="noStrike">
                <a:solidFill>
                  <a:srgbClr val="993300"/>
                </a:solidFill>
                <a:latin typeface="Times New Roman"/>
              </a:rPr>
              <a:t>واقعيت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عمال محدود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و نياز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ندي‌ها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غير وظيفه‌مند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24" name="Picture 4" descr="graphic_project"/>
          <p:cNvPicPr/>
          <p:nvPr/>
        </p:nvPicPr>
        <p:blipFill>
          <a:blip r:embed="rId1"/>
          <a:stretch/>
        </p:blipFill>
        <p:spPr>
          <a:xfrm>
            <a:off x="539640" y="328464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9306-F254-4046-8006-7BD14653F1C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هدف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تحليل و طراح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بديل نيازم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ب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شخصات تفصيل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 كه نحو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ة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پياده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ز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سيستم براي برنام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ويسان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ا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اندازه كاف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يان نماي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28" name="Picture 4" descr="AMRESULT"/>
          <p:cNvPicPr/>
          <p:nvPr/>
        </p:nvPicPr>
        <p:blipFill>
          <a:blip r:embed="rId1"/>
          <a:stretch/>
        </p:blipFill>
        <p:spPr>
          <a:xfrm>
            <a:off x="395280" y="371628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29A-FC9F-465B-B55A-BE7F7205219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عمار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نرم‌افزار (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Architect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هماهنگي فعال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فن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توليد فرآورده‌ها در طول پروژه +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دست آوردن ساختار كلي هر ديد معماري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rchitectural View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طراح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Design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تشخيص م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ئو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ل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Responsibilities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، اعمال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صفا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 روابط حاكم بين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+ انجام تغييرات لازم برا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ا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كه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مناسب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4AC3-0E79-4299-86E2-7A48AF24562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(ادامه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طراح پايگا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داد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Database Design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طراحي پايگاه‌هاي داده‌اي مورد نياز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طراح 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رابط کاربر (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User-Interface Design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طراح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رابط کارب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ورد نياز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طراح آزمايش (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Test Design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عريف روش آزمايش مورد نياز براي آزمايش نرم‌افز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0E4-13EC-4195-B336-5BB24EFD739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دل تحليل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alysis Model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عينيت بخشيدن به موارد كاربري به صورت تجريدي از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طراح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دل طراحي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sign Model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طرح كلي سيستم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ystem Blueprin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=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روابط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دل داده‌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ata Model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توصيف ساختار منطقي و فيزيكي داده‌هاي پايا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Persistent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0DC3-25CB-4F34-89DF-0B72653CBC0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فرآورده‌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دل استقرار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Deployment Model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مايش نگاشت اشياء و مولفه‌ها به سخ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فزار مورد استفاده (گر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شبكه، پرداز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ده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مورد استفاده در 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چند پرداز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د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مستند معماري نرم‌افزار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ftware Architecture Document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شامل ديدهاي گوناگون معمار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 algn="r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1900" spc="-1" strike="noStrike">
                <a:solidFill>
                  <a:srgbClr val="000099"/>
                </a:solidFill>
                <a:latin typeface="Times New Roman"/>
              </a:rPr>
              <a:t>Use-Case View + Logical View + Implementation View + Process View + Deployment View + Data View</a:t>
            </a:r>
            <a:endParaRPr b="1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5404-824C-4258-ACE1-C4772509BE4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 ايجاد معماري سيستم (طراحي سطح بالا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 تحليل معما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چگونگي سازمان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ده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عماري مشخص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معمار در بالاترين سطح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لگوهاي اساسي معمار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كانيزم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 كليد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راهنمائ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دلسازي سيستم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(لاي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سيستم، روش سازماندهي زيرسيستم‌ها و استراتژ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ستفاده مجدد) را مشخص مي‌نما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س از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نجام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حليل موارد كاربري به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انداز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كافي،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كلاس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حاصل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راي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شروع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طراحي معمار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کار گرفته مي‌شون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9B45-4754-45B0-A4F7-C602E2A2827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 ايجاد معماري سيستم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(ادامه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طراحي معمار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اصلي شناسائي شده و در بسته‌ها و زير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گرو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ندي شده و بالاخره زير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در لايه‌ها سازم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هي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ا استفاده از ديدهاي ديگر معماري (البته در صورت لزوم) طراحي معماري ادامه مي‌ياب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6A12-1115-4730-B879-B95AF6C8EF1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(ادامه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مديريت پروژ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ject Managemen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مديريت پيكربند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figuration Managemen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محيط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vironmen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CE07-8ACB-48E4-AFD2-A7480999BDB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طراحي جزئيا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ا استفاده از نتايج تحليل موارد كاربري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كه در آن عينيت بخشيدن به موارد كاربري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Use-Case Realization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انجام شده است، و با استفاده از معماري، طراح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مشخصات كلاس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 و روابط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وجود بين آنها را شناسائي مي‌نمايد و بدين صورت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كام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ر خواهند 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46200" indent="-24840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گام دوم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شخيص و پالايش واسط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 زيرسيستم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كه بوسيله آنها رفتار زير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نمايان مي‌گرد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94320" indent="-198720" algn="r" rtl="1">
              <a:lnSpc>
                <a:spcPct val="15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بدينصورت مي‌توان موارد كاربري را به صورت كامل طراحي نمود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E5FD-11ED-4F50-B7AA-FA87A5B2102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 ساده ش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عينيت بخشيدن موارد كاربري بوسيله معين نمودن اعمال روي كلاس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يا زيرسيست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به صورت كامل مشخص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زمانيكه سيستم مورد نظر به پايگاه د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نياز داشته باشد وظيفه طراح پايگاه،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نگاشت كلاس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ي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پاي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ersistent Classes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به جداول پايگاه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F84-19C6-41AE-8BB7-D1FEDDDAAE6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 تحليل موارد کارب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8421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5E54-506E-4AA9-84E0-ED5B29460D8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 طراحي موارد کاربري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73236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503-4BDF-44B5-95B1-5BC4683F48E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حليل معماری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9119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9159-1A96-40EA-B311-FCE94F147FE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ثبيت معماری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408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57F6-D25C-4150-B3BB-E518E476891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شناسايی عناصر طراحی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59770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24DE-5973-4C1E-92C9-DA3D085C475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طراحی زير سيستم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0" name="Object 5"/>
          <p:cNvGraphicFramePr/>
          <p:nvPr/>
        </p:nvGraphicFramePr>
        <p:xfrm>
          <a:off x="1332000" y="1557360"/>
          <a:ext cx="640872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557360"/>
                    <a:ext cx="640872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0B04-F034-428F-A0C0-E59C4697821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طراحی کلاس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971640" y="1557360"/>
          <a:ext cx="665964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665964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2E0-6A52-4D15-9DE9-6AB921D4781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پ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يباني اب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Ros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تحليل و طراحي با استفاده از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UML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Ros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ز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Round-Trip Engineering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پشتيباني م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Round-Trip Engineering</a:t>
            </a:r>
            <a:r>
              <a:rPr b="1" lang="ar-SA" sz="2400" spc="-1" strike="noStrike">
                <a:solidFill>
                  <a:srgbClr val="333333"/>
                </a:solidFill>
                <a:latin typeface="Times New Roman"/>
              </a:rPr>
              <a:t>: به معني حفظ هماهنگي بين كد توليد شده و مدل نمايش دهنده اين كد (با تغيير كد، مدل به‌روزرساني مي‌گردد و بالعكس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بزارهاي راهنما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ool Mentor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 براي توضيح استفاده از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UML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Ros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در فازهاي مختلف پروژه را ارائه مي‌نماي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565B-6363-4383-8244-2CB7AE2ABD6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دلسازي حرف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چه موقع از مدلسازي حرفه استفاده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ي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نيم؟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روژه‌ها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كه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كاربران زياد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دا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و/يا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حجم زيادي از داده‌ها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/فرآيندها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ايد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پرداز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/تحليل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گر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زاياي استفاده از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روش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مشترك در مهندس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رم‌افزار و مدلسازي حرفه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سهيل درك ارتباط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ين اين دو فعالي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نگاشت فرآورده‌ها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دلسازي حرفه به فرآورده‌هاي مدلسازي نرم‌افزار مشكل نخواهد ب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A7B2-AF76-4281-A92E-8FFCC27C8DB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پياده‌ساز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ساخته‌ها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Builds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سخ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ي كامل يا جزئي از سيستم كه قابل استفاده و اجرا بو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كد اجرائي) و زيرمجموعه‌اي از تواناي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محصول نهائي را به معرض نمايش مي‌گذ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يكپارچه‌سازي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Integration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فعاليتي كه در آن مؤل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جداگانة نرم‌افزار با هم تركيب مي‌شوند و كل سيستم به عنوان يك واحد را بوجود مي‌آو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67BE-5B63-4B3E-9232-136BF78C3CB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نظم پياده‌ساز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عيين ساختار كد به صورت زير 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ي كه در تعدادي از لاي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سازم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هي ش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ند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يا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ي كلاس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و اشياء به صورت مؤل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آزمايش مؤل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توليد شده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كپارچ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ي مؤلف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 و كد توليد شده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0912-2AB7-446C-B9A9-92989136FF0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پياده‌ساز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mplement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توليد، توسعه و آزمايش مؤل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يكپارچه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ساز 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ntegrato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برنامه‌ريزي و انجام يکپارچه‌سازي براي ايجاد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ساخته‌ها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 معمار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نرم‌افزار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rchitect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تبيين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معماري نرم‌افزار که شامل تعيين و مستندسازي تصميمات فني کليدي در مورد نيازمندي‌ها، طراحي،‌ پياده‌سازي و استقرار سيستم با استفاده از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ديدها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مختلف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C04-FD0C-4989-BAA1-FEE412A5BD7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ف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آ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مدل پياده‌سازي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mplementation Model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جموعه‌اي از مؤلفه‌ها و زير سيستم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ي حاوي آنهاست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زيرسيستم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هاي پياده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ساز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جموع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اي از مؤلف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و زيرسيستم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كه در سازمان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دهي مدل پياد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سازي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با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تقسيم آن به قطعات كوچكتر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مورد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استفاده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قرار مي‌گير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60F1-A691-40D3-83DD-74094453703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ف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آ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رده‌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(ادامه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مؤلفه‌ها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omponents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قطع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اي از كد نرم‌افزار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Source Code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، دود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و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يي يا اجرائي) كه دسترسي به سرويس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ي آن تنها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از طريق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يك واسط خوش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تعريف انجام م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طرح يكپارچ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از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ntegration Build Pla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ترتيب پياد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سازي مؤلف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و زيرسيستم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 را مشخص مي‌نما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A0E5-4F80-44C0-9949-A5EA1A64555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پش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ت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يباني ابزار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os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وليد كد به زبان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متفاوت از جمله: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+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Java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isual Basic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QL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urify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ي كشف خطاهاي زمان اجرا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un-Time Error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Quantify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ي تشخيص كارائي و سرعت بخ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متفاوت برنامه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earQuest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مديريت تغييرات در نرم‌افزار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14B6-9D33-4A9E-B42F-75A7B14B186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آزمايش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حور اصلي اين نظم بررس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كيفي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1930320" y="2133720"/>
            <a:ext cx="3504960" cy="2266920"/>
            <a:chOff x="1930320" y="2133720"/>
            <a:chExt cx="3504960" cy="2266920"/>
          </a:xfrm>
        </p:grpSpPr>
        <p:sp>
          <p:nvSpPr>
            <p:cNvPr id="301" name="Text Box 5"/>
            <p:cNvSpPr/>
            <p:nvPr/>
          </p:nvSpPr>
          <p:spPr>
            <a:xfrm>
              <a:off x="1930320" y="2804760"/>
              <a:ext cx="35049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كيفيت محصول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كيفيت فرآيند توليد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AutoShape 6"/>
            <p:cNvSpPr/>
            <p:nvPr/>
          </p:nvSpPr>
          <p:spPr>
            <a:xfrm>
              <a:off x="3835080" y="2133720"/>
              <a:ext cx="486000" cy="671040"/>
            </a:xfrm>
            <a:prstGeom prst="downArrow">
              <a:avLst>
                <a:gd name="adj1" fmla="val 49676"/>
                <a:gd name="adj2" fmla="val 53203"/>
              </a:avLst>
            </a:prstGeom>
            <a:gradFill rotWithShape="0">
              <a:gsLst>
                <a:gs pos="0">
                  <a:srgbClr val="4e3f00"/>
                </a:gs>
                <a:gs pos="100000">
                  <a:srgbClr val="a88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2387520" y="21952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a88800"/>
                  </a:solidFill>
                  <a:latin typeface="Times New Roman"/>
                  <a:cs typeface="Nazanin"/>
                </a:rPr>
                <a:t>از دو ديدگاه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" name="AutoShape 9"/>
          <p:cNvSpPr/>
          <p:nvPr/>
        </p:nvSpPr>
        <p:spPr>
          <a:xfrm>
            <a:off x="971640" y="2492280"/>
            <a:ext cx="720072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33"/>
              </a:gs>
              <a:gs pos="50000">
                <a:srgbClr val="ffff99"/>
              </a:gs>
              <a:gs pos="100000">
                <a:srgbClr val="ccff33"/>
              </a:gs>
            </a:gsLst>
            <a:lin ang="0"/>
          </a:gra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ahoma"/>
                <a:cs typeface="Nazanin"/>
              </a:rPr>
              <a:t>براي كيفيت نقش بخصوصي مانند مهندس كيفيت در نظر گرفته نشده است زيرا از ديد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UP</a:t>
            </a:r>
            <a:r>
              <a:rPr b="1" lang="ar-SA" sz="2800" spc="-1" strike="noStrike">
                <a:solidFill>
                  <a:srgbClr val="000099"/>
                </a:solidFill>
                <a:latin typeface="Tahoma"/>
                <a:ea typeface="Nazanin"/>
              </a:rPr>
              <a:t> كيفيت، مسئوليت يكايك توسعه دهندگان اس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2120-CE40-4F20-BBB6-59AD5993908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حورهاي انجام آزمايش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يفيت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قابليت اعتماد ، عملكرد، كارايي برنامه، كارايي سيست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راحل آزمايش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آزمايش واحدها، آزمايش يكپارچگي، آزمايش سيستم و آزمايش پذيرش سيستم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وع آزمايش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Benchmark Test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، آزمايش پيكربندي، آزمايش نصب، ...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4E69-84C2-41BA-A320-D6686242C18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طراح آزمايش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Test Designer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برنام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ريزي، طراحي،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 ارزيابي آزماي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آزمايش‌كننده سيستم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System Tester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مسئوليت اجراي آزماي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سيستم 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را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به عهده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1" name="Picture 4" descr="SCORE_HI"/>
          <p:cNvPicPr/>
          <p:nvPr/>
        </p:nvPicPr>
        <p:blipFill>
          <a:blip r:embed="rId1"/>
          <a:stretch/>
        </p:blipFill>
        <p:spPr>
          <a:xfrm>
            <a:off x="2556000" y="4653000"/>
            <a:ext cx="31683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B973-7920-4273-AF5A-3E5281B7A24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همترين فر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آ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نامه آزماي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est Pla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شامل اطلاعاتي درباره اهداف آزمايش، استراتژي آزمايش كردن و منابع مورد نياز براي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و اجراي آزماي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مي‌باش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دل آزمايش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: شامل موارد آزمايش، روا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آزمايش و دستورالعم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آزمايش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Test Scripts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A59-AE35-4DE4-8D29-90FF9CFD7F6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نظم مدلسازي حرف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رك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رفتار سازم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 نحوه عملكرد آن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طمينان از اينكه مشتريان، كاربران نها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 و توسع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هندگان دارا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ديدگاه واحد و مشترك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ز سازمان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هستن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كمك در بدست آوردن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يازمندي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هاي سيستم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ورد نظر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04000" y="4797360"/>
            <a:ext cx="20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Nazanin"/>
              </a:rPr>
              <a:t>براي رسيدن به اهداف فو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5902200" y="4970520"/>
            <a:ext cx="738360" cy="446040"/>
          </a:xfrm>
          <a:prstGeom prst="leftArrow">
            <a:avLst>
              <a:gd name="adj1" fmla="val 60787"/>
              <a:gd name="adj2" fmla="val 63800"/>
            </a:avLst>
          </a:prstGeom>
          <a:gradFill rotWithShape="0">
            <a:gsLst>
              <a:gs pos="0">
                <a:srgbClr val="be9a00"/>
              </a:gs>
              <a:gs pos="100000">
                <a:srgbClr val="5847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95280" y="4844880"/>
            <a:ext cx="2952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 مدل مورد كاربر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حرف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 مدل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تحليل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حرف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722920" y="53895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ايج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490920" y="4987800"/>
            <a:ext cx="736560" cy="446040"/>
          </a:xfrm>
          <a:prstGeom prst="leftArrow">
            <a:avLst>
              <a:gd name="adj1" fmla="val 60787"/>
              <a:gd name="adj2" fmla="val 63645"/>
            </a:avLst>
          </a:prstGeom>
          <a:gradFill rotWithShape="0">
            <a:gsLst>
              <a:gs pos="0">
                <a:srgbClr val="be9a00"/>
              </a:gs>
              <a:gs pos="100000">
                <a:srgbClr val="5847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356000" y="4906800"/>
            <a:ext cx="14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مدل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  <a:ea typeface="Nazanin"/>
              </a:rPr>
              <a:t> حرف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348000" y="5492880"/>
            <a:ext cx="11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شام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6A19-53C4-4E2B-B390-B032C6244EA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 ک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برنامه</a:t>
            </a:r>
            <a:r>
              <a:rPr b="1" lang="fa-IR" sz="2800" spc="-1" strike="noStrike">
                <a:solidFill>
                  <a:srgbClr val="0066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ريز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طراح آزمايش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نيازمند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، منابع مورد نياز و استراتژ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يك آزمايش را شناسائي نموده و در مستند برنام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ريزي، آنها را مستند مي‌نماي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0" algn="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طراح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طراح آزمايش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هدف آزمايش را تحليل نموده و مدل آزمايش را ايجاد مي‌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0" algn="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پياده</a:t>
            </a:r>
            <a:r>
              <a:rPr b="1" lang="fa-IR" sz="2800" spc="-1" strike="noStrike">
                <a:solidFill>
                  <a:srgbClr val="006600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ساز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طراح آزمايش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روا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آزمايش را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ي مي‌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نتيجه اين فعاليت ايجاد دستورالعم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آزمايش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Test Scripts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F4AB-7351-44CE-A3EE-9E46191B89A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 ک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اجرا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آزمايش كنند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آزماي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را روي هدف اجرا مي‌نمايد و با بازبيني نتايج از صحت اجراي آزماي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مطمئن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گردد و هرگونه كاستي را مستند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ساز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) ارزياب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طراح آزمايش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نتايج آزمايش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 را ارزيابي نموده و كيفيت كد توليد شده را بررسي مي‌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40F7-C428-4CC7-BBEB-8B0A7687329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پشتيباني ابزار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est Manag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مکان مديريت و کنترل تمام فعاليت‌هاي آزمايش را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ational TestFactory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مکان ايجاد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ستورالعم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آزمايش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est Scripts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را 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ational Robo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مکان ايجاد، اصلاح و اجراي آزمايش‌هاي تابعي خودکار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utomated functional test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4C43-77B7-41E3-8B42-EE6D86A32DE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استقر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نظم استقرار، دربردارنده فعالي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لازم براي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عملياتي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و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آماد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نمود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رم‌افز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كار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در محيط كاربران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نهايي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ين نظم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سه حال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از استقرار محصول را توصيف مي‌کن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نصب سفارشي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ustom Install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پيشنهاد استفاده از محصول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hrink Wrap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دستيابي به نرم‌‌افزار از طريق اينترن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D63-B02F-4633-8970-3F05FFDEC6E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مدير استقرار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ployment Manag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برنامه‌ريزي انتقال محصول به محيط کاربران و تضمين اينکه برنامه بدرستي انجام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پياده‌ساز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mplement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توسعه و آزمايش مولفه‌ها با استفاده از استانداردهاي پذيرفته شده در پروژ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توسعه‌دهنده دروس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urse Develop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توسعه مواد آموزشي مورد نياز کاربران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57F6-A465-42FA-88AE-D2445CE1DCB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مدير پيکربندي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nfiguration Manag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فراهم نمودن زيرساخت و محيط مديريت پيکربندي براي تيم توسع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نويسنده فني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echnical Writ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مسئول توليد مواد مورد نياز همانند راهنماي کاربران براي کاربران نهايي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33" name="Picture 4" descr="AMBUSY"/>
          <p:cNvPicPr/>
          <p:nvPr/>
        </p:nvPicPr>
        <p:blipFill>
          <a:blip r:embed="rId1"/>
          <a:stretch/>
        </p:blipFill>
        <p:spPr>
          <a:xfrm>
            <a:off x="395280" y="4581360"/>
            <a:ext cx="1633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7566-99C4-4FAA-B81D-65413E73C35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طرح استقرار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eployment Pla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: توصيف مجموعه فعاليت‌هاي لازم براي نصب و آزمايش محصول تا براحتي به محيط کاربران منتقل 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حصول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duc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محصول قابل عرضه به بازار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واد آموزشي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ining Material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: کمک به کاربران براي يادگيري بهتر و سريعتر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91D-7380-405C-8B1B-A036AAC3620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 ک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9" name="Picture 3" descr="Deployment_Workflow"/>
          <p:cNvPicPr/>
          <p:nvPr/>
        </p:nvPicPr>
        <p:blipFill>
          <a:blip r:embed="rId1"/>
          <a:stretch/>
        </p:blipFill>
        <p:spPr>
          <a:xfrm>
            <a:off x="2340000" y="1341360"/>
            <a:ext cx="39481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165-9D13-43A3-B912-CD9587E6C36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utoShape 2"/>
          <p:cNvSpPr/>
          <p:nvPr/>
        </p:nvSpPr>
        <p:spPr>
          <a:xfrm>
            <a:off x="250920" y="2133720"/>
            <a:ext cx="7848360" cy="2520720"/>
          </a:xfrm>
          <a:prstGeom prst="roundRect">
            <a:avLst>
              <a:gd name="adj" fmla="val 7870"/>
            </a:avLst>
          </a:prstGeom>
          <a:solidFill>
            <a:srgbClr val="ccff33"/>
          </a:solidFill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ديريت پروژه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ديريت پروژه‌هاي نرم‌افز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نر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وازنه بين اهداف گوناگو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 گاهي متضاد)، مديريت خطر، و چيره‌شدن بر محدود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 موجو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اقتصادي، تكنيكي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...)، براي ايجاد محصولي كه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رضايت مشتري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پشتيباني‌كننده‌هاي مالي) و كاربران را همزمان احراز 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43CA-B3AF-4148-A36B-93A3682D74C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ديريت پروژ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فراهم كردن چارچوبي براي مديريت پروژه‌هاي نرم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فزاري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رائه راهنماهاي عملي در زمينه مديريت نيروي انساني، برنامه‌ريزي، اجرا و مراقبت از پروژه‌هاي نرم‌افزار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فراهم كردن چارچوبي براي مديريت خطر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Risk Management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95280" y="2421000"/>
            <a:ext cx="8064360" cy="2089080"/>
          </a:xfrm>
          <a:prstGeom prst="rect">
            <a:avLst/>
          </a:prstGeom>
          <a:solidFill>
            <a:srgbClr val="ffdd4f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نظم مديريت پروژه د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RUP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 تلاش نم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Kamran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كند همه جنب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Kamran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مديريت پروژه را پوشش دهد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7A1-3DB3-48F2-B27E-4CDA234F6E8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نظم مدلسازي حرف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حرفه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سيستمي كه نرم‌افزار مورد نظر بخشي از آن به‌شمار مي‌ر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ورد كاربري ح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ه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Use-Case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ترتيبي از كنش‌هاي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ctions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كه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انجام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مي‌دهد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و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منجر به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«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نتيجه ارزشمند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»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 و قابل مشاهد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براي عامل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خاص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دربردارنده تمام جريان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اي اصلي و فرعي است كه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منجر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به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ايجاد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نتيجه ارزشمند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و قابل مشاهد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A689-69E1-4FC2-A2C8-C6A201C8E45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جنبه‌هاي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ديريت پروژ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ين نظم جنبه‌هاي ذيل را پوشش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مي‌دهد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جنبه‌هاي كاريابي، آموزش و... در مديريت نيروي انساني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ديريت بودجه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ديريت قراردادها ب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مشتريان و توسع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دهندگان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ين نظم جنبه‌هاي ذيل را پوشش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ي‌ده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ديريت خطر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ات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برنامه‌ريزي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«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پروژ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 تکراري»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Iterative Project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راقبت از روند پيشرفت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«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پروژه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 تکراري»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و تعيين معيارهاي لازم براي اين كار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DBD7-5E65-4B07-BAE3-2116E14C040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دير پروژه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ject Manag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برنامه‌ريزي، مديريت و تخصيص منابع؛ شکل‌دهي به اولويت‌ها؛ هماهنگي تعاملات بين مشتريان و کاربران و در جريان بودن از روند پروژ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بازبيني‌کننده مديريتي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Management Review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مسئول ارزيابي پروژه و فرآورده‌هاي مديريت پروژ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4" name="Picture 4" descr="AMFRUST"/>
          <p:cNvPicPr/>
          <p:nvPr/>
        </p:nvPicPr>
        <p:blipFill>
          <a:blip r:embed="rId1"/>
          <a:stretch/>
        </p:blipFill>
        <p:spPr>
          <a:xfrm>
            <a:off x="3348000" y="5157720"/>
            <a:ext cx="1505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355F-EE39-4C8C-9E94-E98A57BE3E4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طرح مديريت خطر 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Risk Management Plan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بيان چگونگي مديريت خطرات مربوط به پروژ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طرح پذيرش محصول 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Product Acceptance Plan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بيان اينکه چگونه مشتري محصولات پروژه را ارزيابي مي‌کند؛ چه ملاک‌ها و معيارهايي را در نظر مي‌گيرد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طرح توسعه نرم‌افزار 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oftware Development Plan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مجموعه‌اي يکپارچه و کامل از تمام اطلاعات مربوط به مديريت پروژ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3364-4D6D-466D-BA85-ED83D144796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0" name="Picture 3" descr="PM_Workflow"/>
          <p:cNvPicPr/>
          <p:nvPr/>
        </p:nvPicPr>
        <p:blipFill>
          <a:blip r:embed="rId1"/>
          <a:stretch/>
        </p:blipFill>
        <p:spPr>
          <a:xfrm>
            <a:off x="1979640" y="1341360"/>
            <a:ext cx="52927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906A-FE56-48DC-BC02-32B7D5491D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ديريت پيكربند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دف اصل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كنترل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تغييرات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حفظ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يكپارچگي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سازگاري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بين فر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آ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ورده‌هاي يك پروژه نرم‌افزاري است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سيست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مديريت پيکربند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به مجموعه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فرآيندها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،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رو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ابزارهايي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كه براي مديريت پيكربندي و مديريت درخواست تغيير 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hange Request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استفاده م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شوند، سيستم مديريت پيكربند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onfiguration Management (CM) System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گفته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0A07-ABE4-40D0-8154-9419D27D193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ديريت پيكربند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يك سيستم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ديريت پيکربندي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ايد با مشكل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ات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ذيل روبرو شود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به‌روز‌رساني همزمان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imultaneous Update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اطلاع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رساني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محدو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Limited Notification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) نسخه‌هاي متعد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Multiple Versions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7" name="Picture 4" descr="AMPRODUC"/>
          <p:cNvPicPr/>
          <p:nvPr/>
        </p:nvPicPr>
        <p:blipFill>
          <a:blip r:embed="rId1"/>
          <a:stretch/>
        </p:blipFill>
        <p:spPr>
          <a:xfrm>
            <a:off x="468360" y="4076640"/>
            <a:ext cx="23763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5E2-EE73-4342-A2D0-5789A58E540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ديريت پيكربند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0" name="Picture 3" descr="co_cm"/>
          <p:cNvPicPr/>
          <p:nvPr/>
        </p:nvPicPr>
        <p:blipFill>
          <a:blip r:embed="rId1"/>
          <a:stretch/>
        </p:blipFill>
        <p:spPr>
          <a:xfrm>
            <a:off x="1679400" y="1557360"/>
            <a:ext cx="6205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FF93-F3D5-4BE3-829C-CF70BB48E91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مدير پيکربندي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nfiguration Manag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مسئوليت تهيه زيرساخت و محيط مديريت پيکربندي براي تيم توسعه محصول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مدير کنترل تغييرات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hange Control Manager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مسئوليت کنترل فرآيند تغييرات 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74" name="Picture 4" descr="MARKDOWN"/>
          <p:cNvPicPr/>
          <p:nvPr/>
        </p:nvPicPr>
        <p:blipFill>
          <a:blip r:embed="rId1"/>
          <a:stretch/>
        </p:blipFill>
        <p:spPr>
          <a:xfrm>
            <a:off x="2987640" y="4869000"/>
            <a:ext cx="19447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88C-CD29-4EE9-B544-245B8756B23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طرح مديريت تغييرات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figuration Management Plan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توصيف تمام فعاليت‌هاي مديريت کنترل تغييرات و پيکربندي که در طول توسعه محصول انجام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78" name="Picture 4" descr="AMPRODUC"/>
          <p:cNvPicPr/>
          <p:nvPr/>
        </p:nvPicPr>
        <p:blipFill>
          <a:blip r:embed="rId1"/>
          <a:stretch/>
        </p:blipFill>
        <p:spPr>
          <a:xfrm>
            <a:off x="3203640" y="3860640"/>
            <a:ext cx="237636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D526-8C4B-4F4C-8A72-D2AC3963F20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‌ک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81" name="Picture 3" descr="CM_Workflow"/>
          <p:cNvPicPr/>
          <p:nvPr/>
        </p:nvPicPr>
        <p:blipFill>
          <a:blip r:embed="rId1"/>
          <a:stretch/>
        </p:blipFill>
        <p:spPr>
          <a:xfrm>
            <a:off x="1476360" y="1484280"/>
            <a:ext cx="59436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B86-0317-4FF8-B72F-55942C45C4E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نظم مدلسازي حرف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عامل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حرفه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Actor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شخص يا سيستمي بيرون از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كه با آن تعامل دار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کارگ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ح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فه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Worker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تجريدي از نيروي انساني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 يا سيستم نرم‌افزاري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است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كه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نقشي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در داخل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 ايفا مي‌ک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هر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 کارگر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با كار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گران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ديگر تعامل داشته و يك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يا بيشتر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موجوديت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را پردازش مي‌نماي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FBC0-C431-4A73-B48D-3ACBEE012D8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پشتيباني اب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learQues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براي مديريت پيكربندي در نرم‌افزار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learCase LT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راي مديريت پيكربندي در نرم‌افزار براي تيم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هاي كوچك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A753-44E9-42AD-B03E-032B7F93B9C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حيط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هدف اصل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اين نظم دربردارنده فعالي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هايي است كه براي پيكربند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(اصلاح يا تنظيم ويژه)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براي يك پروژه ضروري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اهداف </a:t>
            </a:r>
            <a:r>
              <a:rPr b="1" lang="fa-IR" sz="2800" spc="-1" strike="noStrike">
                <a:solidFill>
                  <a:srgbClr val="0000ff"/>
                </a:solidFill>
                <a:latin typeface="Times New Roman"/>
              </a:rPr>
              <a:t> فرعي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نظيم‌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يژه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UP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تهيه راهنمائي‌هاي لازم براي توليد بيشتر فر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آ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رده‌هاي پروژه (استانداردهاي سازمان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A389-C558-4BA1-86C5-7675FCB8679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 محيط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پيكربندي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هميت ويژه‌اي دارد. چه‌بسا پروژه‌هايي بعل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توليد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حصولات غيرضروري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ي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محصولات نادرست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عمل پيكربندي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به صورت صحيحي انجام نشده است)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وفقيت آميز نبوده يا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نتيج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</a:rPr>
              <a:t>ة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</a:rPr>
              <a:t> مورد انتظار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ز آن بدست نيامده است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33B3-7506-4464-BCC3-EBD87503613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نقش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هندس فرآيند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Process Engineer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تجهيز تيم پروژه با استفاده از يک فرآيند کارآمد؛ تضمين اينکه افراد مي‌توانند براحتي کار خود را انجام ده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متخصص ابزار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Tool Specialist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وظيف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حمايت از ابزارهاي مورد استفاده در پروژ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94" name="Picture 4" descr="FRUSTRAT"/>
          <p:cNvPicPr/>
          <p:nvPr/>
        </p:nvPicPr>
        <p:blipFill>
          <a:blip r:embed="rId1"/>
          <a:stretch/>
        </p:blipFill>
        <p:spPr>
          <a:xfrm>
            <a:off x="2916360" y="4986360"/>
            <a:ext cx="2016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675D-E2D9-4ABA-BEAA-1737D3ADF52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همترين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فرآيند توسعه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Development Proces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پيکربندي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 براي حمايت از نيازهاي پروژ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راهنماي خاص پروژه (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Project Specific Guidelines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3300"/>
                </a:solidFill>
                <a:latin typeface="Times New Roman"/>
              </a:rPr>
              <a:t>هدف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: راهنمايي براي انجام مجموعه فعاليت‌هاي پروژه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98" name="Picture 4" descr="AMBUSY"/>
          <p:cNvPicPr/>
          <p:nvPr/>
        </p:nvPicPr>
        <p:blipFill>
          <a:blip r:embed="rId1"/>
          <a:stretch/>
        </p:blipFill>
        <p:spPr>
          <a:xfrm>
            <a:off x="900000" y="4221000"/>
            <a:ext cx="19274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5863-899A-4FC1-B7B5-325AB308702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گردش ک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1" name="Picture 3" descr="Env_Workflow"/>
          <p:cNvPicPr/>
          <p:nvPr/>
        </p:nvPicPr>
        <p:blipFill>
          <a:blip r:embed="rId1"/>
          <a:stretch/>
        </p:blipFill>
        <p:spPr>
          <a:xfrm>
            <a:off x="2627280" y="1557360"/>
            <a:ext cx="32338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3193-B356-426D-941C-7D49715BA62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پشتيباني اب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Process Workbench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وظيفه اين ابزار تسهيل كار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هندس فرآيند در پيكربندي 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است 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027-0B34-4AC8-A0BA-565BF900F1E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4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8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B24-833C-4327-AD20-AB55C10E0B0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فاهيم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نظم مدلسازي حرف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موجوديت 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</a:rPr>
              <a:t>حرفه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Entity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اوي قسمت مهم و پاياي اطلاعات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كه هنگام اجراي مورد كاربري حرفه بوسيله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کارگران/عاملان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استفاده يا پردازش مي‌شو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6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اسناد كاغذي و فرم‌هاي در گردش نمونه‌هايي از موجوديت‌هاي 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 هستند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31Z</dcterms:modified>
  <cp:revision>1598</cp:revision>
  <dc:subject/>
  <dc:title>PowerPoint Presentation</dc:title>
</cp:coreProperties>
</file>