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DAC6-4D03-49D0-A170-764C64DCA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6232-4D37-4A3B-9A08-B0AF8711A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63CBA-96FD-4D78-AA66-38AC3F3F5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B53C-3061-4F17-957E-1CB56E42C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1B4BA-61C1-40D3-95C0-E059122A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A2DE4-9EF7-492A-B383-FC823E34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D7462-DD3C-4303-95B9-152B9E89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69BDC-0B2E-4982-90FD-4707707E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BE401-1670-4951-B19A-13757C6E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A82D1-8E54-430F-8683-A0362CFE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184B3-8C98-46FF-86A5-07A79643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68059-F2E4-4AB6-A700-7C951028F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26650-0D00-4C08-AEE3-6CDFDBF1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32128-8F7A-47DA-85A9-56C419AF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3DF61-CC68-4540-B090-DB3B2E25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3EAC2-F1DD-421A-803E-17BF87B6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1C8E4-AC63-4ECC-84BD-1B75DB6C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455C-4BEF-4C47-99AC-47A0BF7BC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62C9-2137-417B-9A43-5335032DC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4ECA-9F35-45F4-B8C6-232C51CD7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D9A1B-70FE-4053-963F-FF35A0DFA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AAF1-6AE5-429C-8E84-4BD3FC387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DB58-F617-4EE8-B591-E318B4E28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DA78-D2BC-477F-8078-955ABE182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514440" y="504720"/>
            <a:ext cx="8521200" cy="1052280"/>
            <a:chOff x="514440" y="504720"/>
            <a:chExt cx="8521200" cy="1052280"/>
          </a:xfrm>
        </p:grpSpPr>
        <p:grpSp>
          <p:nvGrpSpPr>
            <p:cNvPr id="1" name="Group 16"/>
            <p:cNvGrpSpPr/>
            <p:nvPr/>
          </p:nvGrpSpPr>
          <p:grpSpPr>
            <a:xfrm>
              <a:off x="7883280" y="504720"/>
              <a:ext cx="1152360" cy="1052280"/>
              <a:chOff x="7883280" y="504720"/>
              <a:chExt cx="1152360" cy="105228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556480" y="61272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8297640" y="1035000"/>
                <a:ext cx="42228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" name="Group 15"/>
              <p:cNvGrpSpPr/>
              <p:nvPr/>
            </p:nvGrpSpPr>
            <p:grpSpPr>
              <a:xfrm>
                <a:off x="7883280" y="612720"/>
                <a:ext cx="1152360" cy="896760"/>
                <a:chOff x="7883280" y="612720"/>
                <a:chExt cx="1152360" cy="896760"/>
              </a:xfrm>
            </p:grpSpPr>
            <p:sp>
              <p:nvSpPr>
                <p:cNvPr id="5" name="Rectangle 2"/>
                <p:cNvSpPr/>
                <p:nvPr/>
              </p:nvSpPr>
              <p:spPr>
                <a:xfrm>
                  <a:off x="8173800" y="612720"/>
                  <a:ext cx="438120" cy="474480"/>
                </a:xfrm>
                <a:prstGeom prst="rect">
                  <a:avLst/>
                </a:prstGeom>
                <a:solidFill>
                  <a:srgbClr val="4b4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" name="Rectangle 5"/>
                <p:cNvSpPr/>
                <p:nvPr/>
              </p:nvSpPr>
              <p:spPr>
                <a:xfrm>
                  <a:off x="8667360" y="1035000"/>
                  <a:ext cx="368280" cy="474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b749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" name="Rectangle 6"/>
                <p:cNvSpPr/>
                <p:nvPr/>
              </p:nvSpPr>
              <p:spPr>
                <a:xfrm>
                  <a:off x="7883280" y="961920"/>
                  <a:ext cx="560160" cy="42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481c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" name="Rectangle 7"/>
              <p:cNvSpPr/>
              <p:nvPr/>
            </p:nvSpPr>
            <p:spPr>
              <a:xfrm>
                <a:off x="8518320" y="504720"/>
                <a:ext cx="31680" cy="1052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" name="Rectangle 8"/>
            <p:cNvSpPr/>
            <p:nvPr/>
          </p:nvSpPr>
          <p:spPr>
            <a:xfrm flipH="1">
              <a:off x="514440" y="1204920"/>
              <a:ext cx="822600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25056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itr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46E1-E845-4A84-800C-FE195045129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FB25-0656-4F2D-9C4F-94B6D4D34D32}" type="slidenum">
              <a:rPr b="0" lang="ar-SA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dcff"/>
            </a:gs>
            <a:gs pos="100000">
              <a:srgbClr val="3739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075"/>
          <p:cNvSpPr/>
          <p:nvPr/>
        </p:nvSpPr>
        <p:spPr>
          <a:xfrm>
            <a:off x="3435480" y="33336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بسمه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تعال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3076"/>
          <p:cNvSpPr/>
          <p:nvPr/>
        </p:nvSpPr>
        <p:spPr>
          <a:xfrm>
            <a:off x="539640" y="3068640"/>
            <a:ext cx="8064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tr"/>
              </a:rPr>
              <a:t>مدلسازي 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Titr"/>
              </a:rPr>
              <a:t>کلاس‌ه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078"/>
          <p:cNvSpPr/>
          <p:nvPr/>
        </p:nvSpPr>
        <p:spPr>
          <a:xfrm>
            <a:off x="3614400" y="2205000"/>
            <a:ext cx="15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mes New Roman"/>
                <a:cs typeface="Titr"/>
              </a:rPr>
              <a:t>فصل نه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6EF4-D53D-42F9-8C6E-1E9ED6FD9B9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لسازي كلاس‌ها  در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UP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5105520" y="1557360"/>
            <a:ext cx="342900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Nazanin"/>
              </a:rPr>
              <a:t>تحلي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r" rtl="1">
              <a:lnSpc>
                <a:spcPct val="100000"/>
              </a:lnSpc>
              <a:spcBef>
                <a:spcPts val="1500"/>
              </a:spcBef>
              <a:buClr>
                <a:srgbClr val="4b4eb5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b4eb5"/>
                </a:solidFill>
                <a:latin typeface="Times New Roman"/>
                <a:ea typeface="Nazanin"/>
              </a:rPr>
              <a:t> 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Nazanin"/>
              </a:rPr>
              <a:t>رفتا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r" rtl="1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Nazanin"/>
              </a:rPr>
              <a:t>  ساختار سيست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r" rtl="1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Nazanin"/>
              </a:rPr>
              <a:t>  نيازهاي وظيفه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Homa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Nazanin"/>
              </a:rPr>
              <a:t>مند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r" rtl="1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Nazanin"/>
              </a:rPr>
              <a:t>  يك مدل كوچ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533520" y="1557360"/>
            <a:ext cx="441936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Nazanin"/>
              </a:rPr>
              <a:t>طراح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r" rtl="1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Nazanin"/>
              </a:rPr>
              <a:t>  عمليات و صفات كلا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r" rtl="1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Nazanin"/>
              </a:rPr>
              <a:t>  كارا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  <a:cs typeface="Nazanin"/>
              </a:rPr>
              <a:t>ي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Nazanin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r" rtl="1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Nazanin"/>
              </a:rPr>
              <a:t> سطح جزئيات نزديك به كد واقع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r" rtl="1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Nazanin"/>
              </a:rPr>
              <a:t>  نيازهاي غير وظيفه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Homa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Nazanin"/>
              </a:rPr>
              <a:t>مند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r" rtl="1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Nazanin"/>
              </a:rPr>
              <a:t>  يك مدل بزر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2" name="Group 6"/>
          <p:cNvGrpSpPr/>
          <p:nvPr/>
        </p:nvGrpSpPr>
        <p:grpSpPr>
          <a:xfrm>
            <a:off x="6102360" y="4941360"/>
            <a:ext cx="1713960" cy="1580040"/>
            <a:chOff x="6102360" y="4941360"/>
            <a:chExt cx="1713960" cy="1580040"/>
          </a:xfrm>
        </p:grpSpPr>
        <p:grpSp>
          <p:nvGrpSpPr>
            <p:cNvPr id="333" name="Group 7"/>
            <p:cNvGrpSpPr/>
            <p:nvPr/>
          </p:nvGrpSpPr>
          <p:grpSpPr>
            <a:xfrm>
              <a:off x="6151680" y="4941360"/>
              <a:ext cx="1617120" cy="1140480"/>
              <a:chOff x="6151680" y="4941360"/>
              <a:chExt cx="1617120" cy="1140480"/>
            </a:xfrm>
          </p:grpSpPr>
          <p:grpSp>
            <p:nvGrpSpPr>
              <p:cNvPr id="334" name="Group 8"/>
              <p:cNvGrpSpPr/>
              <p:nvPr/>
            </p:nvGrpSpPr>
            <p:grpSpPr>
              <a:xfrm>
                <a:off x="7049880" y="4941360"/>
                <a:ext cx="345960" cy="419760"/>
                <a:chOff x="7049880" y="4941360"/>
                <a:chExt cx="345960" cy="419760"/>
              </a:xfrm>
            </p:grpSpPr>
            <p:sp>
              <p:nvSpPr>
                <p:cNvPr id="335" name="Line 9"/>
                <p:cNvSpPr/>
                <p:nvPr/>
              </p:nvSpPr>
              <p:spPr>
                <a:xfrm flipV="1">
                  <a:off x="7156800" y="4941360"/>
                  <a:ext cx="96120" cy="8892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6" name="Line 10"/>
                <p:cNvSpPr/>
                <p:nvPr/>
              </p:nvSpPr>
              <p:spPr>
                <a:xfrm flipH="1" flipV="1">
                  <a:off x="7160400" y="5026320"/>
                  <a:ext cx="90720" cy="8316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7" name="Oval 11"/>
                <p:cNvSpPr/>
                <p:nvPr/>
              </p:nvSpPr>
              <p:spPr>
                <a:xfrm>
                  <a:off x="7049880" y="5014440"/>
                  <a:ext cx="345960" cy="346680"/>
                </a:xfrm>
                <a:prstGeom prst="ellipse">
                  <a:avLst/>
                </a:prstGeom>
                <a:noFill/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8" name="Group 12"/>
              <p:cNvGrpSpPr/>
              <p:nvPr/>
            </p:nvGrpSpPr>
            <p:grpSpPr>
              <a:xfrm>
                <a:off x="6696000" y="5735520"/>
                <a:ext cx="363240" cy="346320"/>
                <a:chOff x="6696000" y="5735520"/>
                <a:chExt cx="363240" cy="346320"/>
              </a:xfrm>
            </p:grpSpPr>
            <p:sp>
              <p:nvSpPr>
                <p:cNvPr id="339" name="Oval 13"/>
                <p:cNvSpPr/>
                <p:nvPr/>
              </p:nvSpPr>
              <p:spPr>
                <a:xfrm>
                  <a:off x="6701400" y="5735520"/>
                  <a:ext cx="346320" cy="346320"/>
                </a:xfrm>
                <a:prstGeom prst="ellipse">
                  <a:avLst/>
                </a:prstGeom>
                <a:noFill/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0" name="Line 14"/>
                <p:cNvSpPr/>
                <p:nvPr/>
              </p:nvSpPr>
              <p:spPr>
                <a:xfrm>
                  <a:off x="6696000" y="6081840"/>
                  <a:ext cx="363240" cy="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41" name="Group 15"/>
              <p:cNvGrpSpPr/>
              <p:nvPr/>
            </p:nvGrpSpPr>
            <p:grpSpPr>
              <a:xfrm>
                <a:off x="6151680" y="5187960"/>
                <a:ext cx="482040" cy="345960"/>
                <a:chOff x="6151680" y="5187960"/>
                <a:chExt cx="482040" cy="345960"/>
              </a:xfrm>
            </p:grpSpPr>
            <p:sp>
              <p:nvSpPr>
                <p:cNvPr id="342" name="Oval 16"/>
                <p:cNvSpPr/>
                <p:nvPr/>
              </p:nvSpPr>
              <p:spPr>
                <a:xfrm>
                  <a:off x="6287760" y="5187960"/>
                  <a:ext cx="345960" cy="345960"/>
                </a:xfrm>
                <a:prstGeom prst="ellipse">
                  <a:avLst/>
                </a:prstGeom>
                <a:noFill/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3" name="Line 17"/>
                <p:cNvSpPr/>
                <p:nvPr/>
              </p:nvSpPr>
              <p:spPr>
                <a:xfrm>
                  <a:off x="6151680" y="5248440"/>
                  <a:ext cx="0" cy="22464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4" name="Line 18"/>
                <p:cNvSpPr/>
                <p:nvPr/>
              </p:nvSpPr>
              <p:spPr>
                <a:xfrm flipH="1">
                  <a:off x="6151680" y="5360760"/>
                  <a:ext cx="136080" cy="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45" name="Group 19"/>
              <p:cNvGrpSpPr/>
              <p:nvPr/>
            </p:nvGrpSpPr>
            <p:grpSpPr>
              <a:xfrm>
                <a:off x="7405560" y="5559480"/>
                <a:ext cx="363240" cy="345960"/>
                <a:chOff x="7405560" y="5559480"/>
                <a:chExt cx="363240" cy="345960"/>
              </a:xfrm>
            </p:grpSpPr>
            <p:sp>
              <p:nvSpPr>
                <p:cNvPr id="346" name="Oval 20"/>
                <p:cNvSpPr/>
                <p:nvPr/>
              </p:nvSpPr>
              <p:spPr>
                <a:xfrm>
                  <a:off x="7410960" y="5559480"/>
                  <a:ext cx="346320" cy="345960"/>
                </a:xfrm>
                <a:prstGeom prst="ellipse">
                  <a:avLst/>
                </a:prstGeom>
                <a:noFill/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7" name="Line 21"/>
                <p:cNvSpPr/>
                <p:nvPr/>
              </p:nvSpPr>
              <p:spPr>
                <a:xfrm>
                  <a:off x="7405560" y="5905440"/>
                  <a:ext cx="363240" cy="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8" name="Line 22"/>
              <p:cNvSpPr/>
              <p:nvPr/>
            </p:nvSpPr>
            <p:spPr>
              <a:xfrm>
                <a:off x="6562800" y="5483160"/>
                <a:ext cx="299520" cy="25236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Line 23"/>
              <p:cNvSpPr/>
              <p:nvPr/>
            </p:nvSpPr>
            <p:spPr>
              <a:xfrm flipV="1">
                <a:off x="6634080" y="5248080"/>
                <a:ext cx="415440" cy="11304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Line 24"/>
              <p:cNvSpPr/>
              <p:nvPr/>
            </p:nvSpPr>
            <p:spPr>
              <a:xfrm flipV="1">
                <a:off x="6862680" y="5361120"/>
                <a:ext cx="293400" cy="37440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Line 25"/>
              <p:cNvSpPr/>
              <p:nvPr/>
            </p:nvSpPr>
            <p:spPr>
              <a:xfrm flipV="1">
                <a:off x="7048440" y="5735520"/>
                <a:ext cx="356760" cy="16992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2" name="Text Box 26"/>
            <p:cNvSpPr/>
            <p:nvPr/>
          </p:nvSpPr>
          <p:spPr>
            <a:xfrm>
              <a:off x="6102360" y="6153120"/>
              <a:ext cx="1713960" cy="368280"/>
            </a:xfrm>
            <a:prstGeom prst="rect">
              <a:avLst/>
            </a:prstGeom>
            <a:noFill/>
            <a:ln w="2844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ysis Mode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3" name="Group 27"/>
          <p:cNvGrpSpPr/>
          <p:nvPr/>
        </p:nvGrpSpPr>
        <p:grpSpPr>
          <a:xfrm>
            <a:off x="1963800" y="4952880"/>
            <a:ext cx="1671120" cy="1689120"/>
            <a:chOff x="1963800" y="4952880"/>
            <a:chExt cx="1671120" cy="1689120"/>
          </a:xfrm>
        </p:grpSpPr>
        <p:grpSp>
          <p:nvGrpSpPr>
            <p:cNvPr id="354" name="Group 28"/>
            <p:cNvGrpSpPr/>
            <p:nvPr/>
          </p:nvGrpSpPr>
          <p:grpSpPr>
            <a:xfrm>
              <a:off x="1963800" y="4952880"/>
              <a:ext cx="1671120" cy="1182960"/>
              <a:chOff x="1963800" y="4952880"/>
              <a:chExt cx="1671120" cy="1182960"/>
            </a:xfrm>
          </p:grpSpPr>
          <p:grpSp>
            <p:nvGrpSpPr>
              <p:cNvPr id="355" name="Group 29"/>
              <p:cNvGrpSpPr/>
              <p:nvPr/>
            </p:nvGrpSpPr>
            <p:grpSpPr>
              <a:xfrm>
                <a:off x="1963800" y="5198400"/>
                <a:ext cx="405360" cy="270360"/>
                <a:chOff x="1963800" y="5198400"/>
                <a:chExt cx="405360" cy="270360"/>
              </a:xfrm>
            </p:grpSpPr>
            <p:sp>
              <p:nvSpPr>
                <p:cNvPr id="356" name="Rectangle 30"/>
                <p:cNvSpPr/>
                <p:nvPr/>
              </p:nvSpPr>
              <p:spPr>
                <a:xfrm>
                  <a:off x="1963800" y="5198400"/>
                  <a:ext cx="405360" cy="270360"/>
                </a:xfrm>
                <a:prstGeom prst="rect">
                  <a:avLst/>
                </a:prstGeom>
                <a:noFill/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7" name="Line 31"/>
                <p:cNvSpPr/>
                <p:nvPr/>
              </p:nvSpPr>
              <p:spPr>
                <a:xfrm>
                  <a:off x="1963800" y="5394600"/>
                  <a:ext cx="405360" cy="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8" name="Line 32"/>
                <p:cNvSpPr/>
                <p:nvPr/>
              </p:nvSpPr>
              <p:spPr>
                <a:xfrm>
                  <a:off x="1963800" y="5325480"/>
                  <a:ext cx="405360" cy="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59" name="Group 33"/>
              <p:cNvGrpSpPr/>
              <p:nvPr/>
            </p:nvGrpSpPr>
            <p:grpSpPr>
              <a:xfrm>
                <a:off x="2824200" y="4952880"/>
                <a:ext cx="405360" cy="270360"/>
                <a:chOff x="2824200" y="4952880"/>
                <a:chExt cx="405360" cy="270360"/>
              </a:xfrm>
            </p:grpSpPr>
            <p:sp>
              <p:nvSpPr>
                <p:cNvPr id="360" name="Rectangle 34"/>
                <p:cNvSpPr/>
                <p:nvPr/>
              </p:nvSpPr>
              <p:spPr>
                <a:xfrm>
                  <a:off x="2824200" y="4952880"/>
                  <a:ext cx="405360" cy="270360"/>
                </a:xfrm>
                <a:prstGeom prst="rect">
                  <a:avLst/>
                </a:prstGeom>
                <a:noFill/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1" name="Line 35"/>
                <p:cNvSpPr/>
                <p:nvPr/>
              </p:nvSpPr>
              <p:spPr>
                <a:xfrm>
                  <a:off x="2824200" y="5149080"/>
                  <a:ext cx="405360" cy="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2" name="Line 36"/>
                <p:cNvSpPr/>
                <p:nvPr/>
              </p:nvSpPr>
              <p:spPr>
                <a:xfrm>
                  <a:off x="2824200" y="5079960"/>
                  <a:ext cx="405360" cy="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63" name="Group 37"/>
              <p:cNvGrpSpPr/>
              <p:nvPr/>
            </p:nvGrpSpPr>
            <p:grpSpPr>
              <a:xfrm>
                <a:off x="2418840" y="5865480"/>
                <a:ext cx="405360" cy="270360"/>
                <a:chOff x="2418840" y="5865480"/>
                <a:chExt cx="405360" cy="270360"/>
              </a:xfrm>
            </p:grpSpPr>
            <p:sp>
              <p:nvSpPr>
                <p:cNvPr id="364" name="Rectangle 38"/>
                <p:cNvSpPr/>
                <p:nvPr/>
              </p:nvSpPr>
              <p:spPr>
                <a:xfrm>
                  <a:off x="2418840" y="5865480"/>
                  <a:ext cx="405360" cy="270360"/>
                </a:xfrm>
                <a:prstGeom prst="rect">
                  <a:avLst/>
                </a:prstGeom>
                <a:noFill/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" name="Line 39"/>
                <p:cNvSpPr/>
                <p:nvPr/>
              </p:nvSpPr>
              <p:spPr>
                <a:xfrm>
                  <a:off x="2418840" y="6061680"/>
                  <a:ext cx="405360" cy="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6" name="Line 40"/>
                <p:cNvSpPr/>
                <p:nvPr/>
              </p:nvSpPr>
              <p:spPr>
                <a:xfrm>
                  <a:off x="2418840" y="5992560"/>
                  <a:ext cx="405360" cy="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67" name="Group 41"/>
              <p:cNvGrpSpPr/>
              <p:nvPr/>
            </p:nvGrpSpPr>
            <p:grpSpPr>
              <a:xfrm>
                <a:off x="3229920" y="5739120"/>
                <a:ext cx="405000" cy="270000"/>
                <a:chOff x="3229920" y="5739120"/>
                <a:chExt cx="405000" cy="270000"/>
              </a:xfrm>
            </p:grpSpPr>
            <p:sp>
              <p:nvSpPr>
                <p:cNvPr id="368" name="Rectangle 42"/>
                <p:cNvSpPr/>
                <p:nvPr/>
              </p:nvSpPr>
              <p:spPr>
                <a:xfrm>
                  <a:off x="3229920" y="5739120"/>
                  <a:ext cx="405000" cy="270000"/>
                </a:xfrm>
                <a:prstGeom prst="rect">
                  <a:avLst/>
                </a:prstGeom>
                <a:noFill/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9" name="Line 43"/>
                <p:cNvSpPr/>
                <p:nvPr/>
              </p:nvSpPr>
              <p:spPr>
                <a:xfrm>
                  <a:off x="3229920" y="5934960"/>
                  <a:ext cx="405000" cy="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0" name="Line 44"/>
                <p:cNvSpPr/>
                <p:nvPr/>
              </p:nvSpPr>
              <p:spPr>
                <a:xfrm>
                  <a:off x="3229920" y="5866200"/>
                  <a:ext cx="405000" cy="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1" name="Line 45"/>
              <p:cNvSpPr/>
              <p:nvPr/>
            </p:nvSpPr>
            <p:spPr>
              <a:xfrm flipH="1" flipV="1">
                <a:off x="2170080" y="5468760"/>
                <a:ext cx="418680" cy="39672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" name="Line 46"/>
              <p:cNvSpPr/>
              <p:nvPr/>
            </p:nvSpPr>
            <p:spPr>
              <a:xfrm flipV="1">
                <a:off x="2369160" y="5088600"/>
                <a:ext cx="455040" cy="23616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" name="Line 47"/>
              <p:cNvSpPr/>
              <p:nvPr/>
            </p:nvSpPr>
            <p:spPr>
              <a:xfrm flipV="1">
                <a:off x="2824200" y="5865480"/>
                <a:ext cx="405360" cy="12672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" name="Line 48"/>
              <p:cNvSpPr/>
              <p:nvPr/>
            </p:nvSpPr>
            <p:spPr>
              <a:xfrm flipV="1">
                <a:off x="2589480" y="5223240"/>
                <a:ext cx="441720" cy="64224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75" name="Text Box 49"/>
            <p:cNvSpPr/>
            <p:nvPr/>
          </p:nvSpPr>
          <p:spPr>
            <a:xfrm>
              <a:off x="2013840" y="6273720"/>
              <a:ext cx="1573560" cy="368280"/>
            </a:xfrm>
            <a:prstGeom prst="rect">
              <a:avLst/>
            </a:prstGeom>
            <a:noFill/>
            <a:ln w="2844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sign Mode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453B-560D-4319-AD02-ADAFA2B45FD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Rectangle 28"/>
          <p:cNvSpPr/>
          <p:nvPr/>
        </p:nvSpPr>
        <p:spPr>
          <a:xfrm>
            <a:off x="324000" y="2708280"/>
            <a:ext cx="7777080" cy="1657440"/>
          </a:xfrm>
          <a:prstGeom prst="rect">
            <a:avLst/>
          </a:prstGeom>
          <a:solidFill>
            <a:srgbClr val="ccff33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ل تحليل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يكي از مشكلات اصلي توليد سيست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نر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فزاري انتقال از مرحله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جمع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آوري نيازمندي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ها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ه مرحله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طراح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«چگونه مي‌توان موارد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كاربري را بعنوان نمايش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دهنده نيازهاي وظيفه‌مندي به كلاس‌ها بعنوان پياد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كننده رفتار اين موارد كاربري، تبديل كرد؟»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80" name="Group 4"/>
          <p:cNvGrpSpPr/>
          <p:nvPr/>
        </p:nvGrpSpPr>
        <p:grpSpPr>
          <a:xfrm>
            <a:off x="3059280" y="4381560"/>
            <a:ext cx="2482560" cy="2189160"/>
            <a:chOff x="3059280" y="4381560"/>
            <a:chExt cx="2482560" cy="2189160"/>
          </a:xfrm>
        </p:grpSpPr>
        <p:sp>
          <p:nvSpPr>
            <p:cNvPr id="381" name="AutoShape 5"/>
            <p:cNvSpPr/>
            <p:nvPr/>
          </p:nvSpPr>
          <p:spPr>
            <a:xfrm>
              <a:off x="4430520" y="4381560"/>
              <a:ext cx="485280" cy="671400"/>
            </a:xfrm>
            <a:prstGeom prst="downArrow">
              <a:avLst>
                <a:gd name="adj1" fmla="val 50000"/>
                <a:gd name="adj2" fmla="val 34588"/>
              </a:avLst>
            </a:prstGeom>
            <a:solidFill>
              <a:srgbClr val="a88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Text Box 6"/>
            <p:cNvSpPr/>
            <p:nvPr/>
          </p:nvSpPr>
          <p:spPr>
            <a:xfrm>
              <a:off x="3059280" y="4381560"/>
              <a:ext cx="167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اين انتقال بوسيله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3" name="Group 7"/>
            <p:cNvGrpSpPr/>
            <p:nvPr/>
          </p:nvGrpSpPr>
          <p:grpSpPr>
            <a:xfrm>
              <a:off x="3696840" y="4990680"/>
              <a:ext cx="1845000" cy="1580040"/>
              <a:chOff x="3696840" y="4990680"/>
              <a:chExt cx="1845000" cy="1580040"/>
            </a:xfrm>
          </p:grpSpPr>
          <p:grpSp>
            <p:nvGrpSpPr>
              <p:cNvPr id="384" name="Group 8"/>
              <p:cNvGrpSpPr/>
              <p:nvPr/>
            </p:nvGrpSpPr>
            <p:grpSpPr>
              <a:xfrm>
                <a:off x="3811320" y="4990680"/>
                <a:ext cx="1616760" cy="1140480"/>
                <a:chOff x="3811320" y="4990680"/>
                <a:chExt cx="1616760" cy="1140480"/>
              </a:xfrm>
            </p:grpSpPr>
            <p:grpSp>
              <p:nvGrpSpPr>
                <p:cNvPr id="385" name="Group 9"/>
                <p:cNvGrpSpPr/>
                <p:nvPr/>
              </p:nvGrpSpPr>
              <p:grpSpPr>
                <a:xfrm>
                  <a:off x="4709160" y="4990680"/>
                  <a:ext cx="345960" cy="419760"/>
                  <a:chOff x="4709160" y="4990680"/>
                  <a:chExt cx="345960" cy="419760"/>
                </a:xfrm>
              </p:grpSpPr>
              <p:sp>
                <p:nvSpPr>
                  <p:cNvPr id="386" name="Line 10"/>
                  <p:cNvSpPr/>
                  <p:nvPr/>
                </p:nvSpPr>
                <p:spPr>
                  <a:xfrm flipV="1">
                    <a:off x="4816080" y="4990680"/>
                    <a:ext cx="96120" cy="88920"/>
                  </a:xfrm>
                  <a:prstGeom prst="line">
                    <a:avLst/>
                  </a:prstGeom>
                  <a:ln w="28440">
                    <a:solidFill>
                      <a:srgbClr val="4b4eb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7" name="Line 11"/>
                  <p:cNvSpPr/>
                  <p:nvPr/>
                </p:nvSpPr>
                <p:spPr>
                  <a:xfrm flipH="1" flipV="1">
                    <a:off x="4819680" y="5075640"/>
                    <a:ext cx="90720" cy="83160"/>
                  </a:xfrm>
                  <a:prstGeom prst="line">
                    <a:avLst/>
                  </a:prstGeom>
                  <a:ln w="28440">
                    <a:solidFill>
                      <a:srgbClr val="4b4eb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8" name="Oval 12"/>
                  <p:cNvSpPr/>
                  <p:nvPr/>
                </p:nvSpPr>
                <p:spPr>
                  <a:xfrm>
                    <a:off x="4709160" y="5063760"/>
                    <a:ext cx="345960" cy="3466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4b4eb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89" name="Group 13"/>
                <p:cNvGrpSpPr/>
                <p:nvPr/>
              </p:nvGrpSpPr>
              <p:grpSpPr>
                <a:xfrm>
                  <a:off x="4355640" y="5784840"/>
                  <a:ext cx="363240" cy="346320"/>
                  <a:chOff x="4355640" y="5784840"/>
                  <a:chExt cx="363240" cy="346320"/>
                </a:xfrm>
              </p:grpSpPr>
              <p:sp>
                <p:nvSpPr>
                  <p:cNvPr id="390" name="Oval 14"/>
                  <p:cNvSpPr/>
                  <p:nvPr/>
                </p:nvSpPr>
                <p:spPr>
                  <a:xfrm>
                    <a:off x="4361040" y="5784840"/>
                    <a:ext cx="346320" cy="346320"/>
                  </a:xfrm>
                  <a:prstGeom prst="ellipse">
                    <a:avLst/>
                  </a:prstGeom>
                  <a:noFill/>
                  <a:ln w="28440">
                    <a:solidFill>
                      <a:srgbClr val="4b4eb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1" name="Line 15"/>
                  <p:cNvSpPr/>
                  <p:nvPr/>
                </p:nvSpPr>
                <p:spPr>
                  <a:xfrm>
                    <a:off x="4355640" y="6131160"/>
                    <a:ext cx="363240" cy="0"/>
                  </a:xfrm>
                  <a:prstGeom prst="line">
                    <a:avLst/>
                  </a:prstGeom>
                  <a:ln w="28440">
                    <a:solidFill>
                      <a:srgbClr val="4b4eb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2" name="Group 16"/>
                <p:cNvGrpSpPr/>
                <p:nvPr/>
              </p:nvGrpSpPr>
              <p:grpSpPr>
                <a:xfrm>
                  <a:off x="3811320" y="5237280"/>
                  <a:ext cx="482040" cy="345960"/>
                  <a:chOff x="3811320" y="5237280"/>
                  <a:chExt cx="482040" cy="345960"/>
                </a:xfrm>
              </p:grpSpPr>
              <p:sp>
                <p:nvSpPr>
                  <p:cNvPr id="393" name="Oval 17"/>
                  <p:cNvSpPr/>
                  <p:nvPr/>
                </p:nvSpPr>
                <p:spPr>
                  <a:xfrm>
                    <a:off x="3947400" y="5237280"/>
                    <a:ext cx="345960" cy="3459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4b4eb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4" name="Line 18"/>
                  <p:cNvSpPr/>
                  <p:nvPr/>
                </p:nvSpPr>
                <p:spPr>
                  <a:xfrm>
                    <a:off x="3811320" y="5297760"/>
                    <a:ext cx="0" cy="224640"/>
                  </a:xfrm>
                  <a:prstGeom prst="line">
                    <a:avLst/>
                  </a:prstGeom>
                  <a:ln w="28440">
                    <a:solidFill>
                      <a:srgbClr val="4b4eb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5" name="Line 19"/>
                  <p:cNvSpPr/>
                  <p:nvPr/>
                </p:nvSpPr>
                <p:spPr>
                  <a:xfrm flipH="1">
                    <a:off x="3811320" y="5410080"/>
                    <a:ext cx="136080" cy="0"/>
                  </a:xfrm>
                  <a:prstGeom prst="line">
                    <a:avLst/>
                  </a:prstGeom>
                  <a:ln w="28440">
                    <a:solidFill>
                      <a:srgbClr val="4b4eb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6" name="Group 20"/>
                <p:cNvGrpSpPr/>
                <p:nvPr/>
              </p:nvGrpSpPr>
              <p:grpSpPr>
                <a:xfrm>
                  <a:off x="5064840" y="5608800"/>
                  <a:ext cx="363240" cy="345960"/>
                  <a:chOff x="5064840" y="5608800"/>
                  <a:chExt cx="363240" cy="345960"/>
                </a:xfrm>
              </p:grpSpPr>
              <p:sp>
                <p:nvSpPr>
                  <p:cNvPr id="397" name="Oval 21"/>
                  <p:cNvSpPr/>
                  <p:nvPr/>
                </p:nvSpPr>
                <p:spPr>
                  <a:xfrm>
                    <a:off x="5070240" y="5608800"/>
                    <a:ext cx="346320" cy="3459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4b4eb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8" name="Line 22"/>
                  <p:cNvSpPr/>
                  <p:nvPr/>
                </p:nvSpPr>
                <p:spPr>
                  <a:xfrm>
                    <a:off x="5064840" y="5954760"/>
                    <a:ext cx="363240" cy="0"/>
                  </a:xfrm>
                  <a:prstGeom prst="line">
                    <a:avLst/>
                  </a:prstGeom>
                  <a:ln w="28440">
                    <a:solidFill>
                      <a:srgbClr val="4b4eb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99" name="Line 23"/>
                <p:cNvSpPr/>
                <p:nvPr/>
              </p:nvSpPr>
              <p:spPr>
                <a:xfrm>
                  <a:off x="4222440" y="5532480"/>
                  <a:ext cx="299520" cy="25236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0" name="Line 24"/>
                <p:cNvSpPr/>
                <p:nvPr/>
              </p:nvSpPr>
              <p:spPr>
                <a:xfrm flipV="1">
                  <a:off x="4293720" y="5297400"/>
                  <a:ext cx="415440" cy="11304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1" name="Line 25"/>
                <p:cNvSpPr/>
                <p:nvPr/>
              </p:nvSpPr>
              <p:spPr>
                <a:xfrm flipV="1">
                  <a:off x="4522320" y="5410440"/>
                  <a:ext cx="293400" cy="37440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2" name="Line 26"/>
                <p:cNvSpPr/>
                <p:nvPr/>
              </p:nvSpPr>
              <p:spPr>
                <a:xfrm flipV="1">
                  <a:off x="4707720" y="5784840"/>
                  <a:ext cx="356760" cy="16992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03" name="Text Box 27"/>
              <p:cNvSpPr/>
              <p:nvPr/>
            </p:nvSpPr>
            <p:spPr>
              <a:xfrm>
                <a:off x="3696840" y="6202440"/>
                <a:ext cx="1845000" cy="368280"/>
              </a:xfrm>
              <a:prstGeom prst="rect">
                <a:avLst/>
              </a:prstGeom>
              <a:noFill/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Nazanin"/>
                  </a:rPr>
                  <a:t>Analysis Model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E536-C158-4700-9BAB-4740BCB67A8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نواع كلاس‌هاي تحليل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كلاس‌هاي تحليل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9900"/>
                </a:solidFill>
                <a:latin typeface="Times New Roman"/>
              </a:rPr>
              <a:t>كلاس‌هاي مرزي</a:t>
            </a:r>
            <a:r>
              <a:rPr b="1" lang="fa-IR" sz="2400" spc="-1" strike="noStrike">
                <a:solidFill>
                  <a:srgbClr val="009900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9900"/>
                </a:solidFill>
                <a:latin typeface="Times New Roman"/>
              </a:rPr>
              <a:t>Boundary Classes</a:t>
            </a:r>
            <a:r>
              <a:rPr b="1" lang="fa-IR" sz="24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5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b4eb5"/>
                </a:solidFill>
                <a:latin typeface="Times New Roman"/>
              </a:rPr>
              <a:t>مثال: واسط كاربر، پروتكل</a:t>
            </a: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‌</a:t>
            </a:r>
            <a:r>
              <a:rPr b="1" lang="ar-SA" sz="2000" spc="-1" strike="noStrike">
                <a:solidFill>
                  <a:srgbClr val="4b4eb5"/>
                </a:solidFill>
                <a:latin typeface="Times New Roman"/>
              </a:rPr>
              <a:t>هاي ارتباطي(مانند </a:t>
            </a:r>
            <a:r>
              <a:rPr b="1" lang="en-US" sz="1600" spc="-1" strike="noStrike">
                <a:solidFill>
                  <a:srgbClr val="4b4eb5"/>
                </a:solidFill>
                <a:latin typeface="Times New Roman"/>
              </a:rPr>
              <a:t>TCP/IP</a:t>
            </a:r>
            <a:r>
              <a:rPr b="1" lang="ar-SA" sz="2000" spc="-1" strike="noStrike">
                <a:solidFill>
                  <a:srgbClr val="4b4eb5"/>
                </a:solidFill>
                <a:latin typeface="Times New Roman"/>
              </a:rPr>
              <a:t>)، واسط چاپگر، </a:t>
            </a: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حسگرها</a:t>
            </a:r>
            <a:r>
              <a:rPr b="1" lang="ar-SA" sz="2000" spc="-1" strike="noStrike">
                <a:solidFill>
                  <a:srgbClr val="4b4eb5"/>
                </a:solidFill>
                <a:latin typeface="Times New Roman"/>
              </a:rPr>
              <a:t> (</a:t>
            </a:r>
            <a:r>
              <a:rPr b="1" i="1" lang="en-US" sz="1600" spc="-1" strike="noStrike">
                <a:solidFill>
                  <a:srgbClr val="4b4eb5"/>
                </a:solidFill>
                <a:latin typeface="Times New Roman"/>
              </a:rPr>
              <a:t>Sensors</a:t>
            </a:r>
            <a:r>
              <a:rPr b="1" lang="ar-SA" sz="2000" spc="-1" strike="noStrike">
                <a:solidFill>
                  <a:srgbClr val="4b4eb5"/>
                </a:solidFill>
                <a:latin typeface="Times New Roman"/>
              </a:rPr>
              <a:t>) و ترمينال</a:t>
            </a: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‌</a:t>
            </a:r>
            <a:r>
              <a:rPr b="1" lang="ar-SA" sz="2000" spc="-1" strike="noStrike">
                <a:solidFill>
                  <a:srgbClr val="4b4eb5"/>
                </a:solidFill>
                <a:latin typeface="Times New Roman"/>
              </a:rPr>
              <a:t>ه</a:t>
            </a:r>
            <a:r>
              <a:rPr b="1" lang="fa-IR" sz="2000" spc="-1" strike="noStrike">
                <a:solidFill>
                  <a:srgbClr val="4b4eb5"/>
                </a:solidFill>
                <a:latin typeface="Times New Roman"/>
              </a:rPr>
              <a:t>ا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9900"/>
                </a:solidFill>
                <a:latin typeface="Times New Roman"/>
              </a:rPr>
              <a:t>كلاس‌هاي كنترلي</a:t>
            </a:r>
            <a:r>
              <a:rPr b="1" lang="fa-IR" sz="2400" spc="-1" strike="noStrike">
                <a:solidFill>
                  <a:srgbClr val="009900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9900"/>
                </a:solidFill>
                <a:latin typeface="Times New Roman"/>
              </a:rPr>
              <a:t>Control Classes</a:t>
            </a:r>
            <a:r>
              <a:rPr b="1" lang="fa-IR" sz="24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9900"/>
                </a:solidFill>
                <a:latin typeface="Times New Roman"/>
              </a:rPr>
              <a:t>كلاس‌هاي موجوديتي</a:t>
            </a:r>
            <a:r>
              <a:rPr b="1" lang="fa-IR" sz="2400" spc="-1" strike="noStrike">
                <a:solidFill>
                  <a:srgbClr val="009900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9900"/>
                </a:solidFill>
                <a:latin typeface="Times New Roman"/>
              </a:rPr>
              <a:t>Entity Classes</a:t>
            </a:r>
            <a:r>
              <a:rPr b="1" lang="fa-IR" sz="24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2662200" y="3951360"/>
            <a:ext cx="685800" cy="485640"/>
          </a:xfrm>
          <a:prstGeom prst="leftArrow">
            <a:avLst>
              <a:gd name="adj1" fmla="val 60787"/>
              <a:gd name="adj2" fmla="val 49033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755640" y="3933720"/>
            <a:ext cx="179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منطق كار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AutoShape 6"/>
          <p:cNvSpPr/>
          <p:nvPr/>
        </p:nvSpPr>
        <p:spPr>
          <a:xfrm>
            <a:off x="2662200" y="4572000"/>
            <a:ext cx="685800" cy="485640"/>
          </a:xfrm>
          <a:prstGeom prst="leftArrow">
            <a:avLst>
              <a:gd name="adj1" fmla="val 60787"/>
              <a:gd name="adj2" fmla="val 49033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108000" y="455436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اطلاعات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  <a:ea typeface="Nazani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پردازش شد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14A8-8171-47F7-873D-2F520EB03B5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عينيت بخشيدن به موارد كاربر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971640" y="5267160"/>
            <a:ext cx="218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e Case Realization Documen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4" name="Group 5"/>
          <p:cNvGrpSpPr/>
          <p:nvPr/>
        </p:nvGrpSpPr>
        <p:grpSpPr>
          <a:xfrm>
            <a:off x="1236600" y="1557360"/>
            <a:ext cx="6973920" cy="4658760"/>
            <a:chOff x="1236600" y="1557360"/>
            <a:chExt cx="6973920" cy="4658760"/>
          </a:xfrm>
        </p:grpSpPr>
        <p:grpSp>
          <p:nvGrpSpPr>
            <p:cNvPr id="415" name="Group 6"/>
            <p:cNvGrpSpPr/>
            <p:nvPr/>
          </p:nvGrpSpPr>
          <p:grpSpPr>
            <a:xfrm>
              <a:off x="1454040" y="1990800"/>
              <a:ext cx="1093680" cy="760680"/>
              <a:chOff x="1454040" y="1990800"/>
              <a:chExt cx="1093680" cy="760680"/>
            </a:xfrm>
          </p:grpSpPr>
          <p:sp>
            <p:nvSpPr>
              <p:cNvPr id="416" name="Oval 7"/>
              <p:cNvSpPr/>
              <p:nvPr/>
            </p:nvSpPr>
            <p:spPr>
              <a:xfrm>
                <a:off x="1571040" y="1990800"/>
                <a:ext cx="859320" cy="3704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Text Box 8"/>
              <p:cNvSpPr/>
              <p:nvPr/>
            </p:nvSpPr>
            <p:spPr>
              <a:xfrm>
                <a:off x="1454040" y="2414160"/>
                <a:ext cx="10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se Case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18" name="Group 9"/>
            <p:cNvGrpSpPr/>
            <p:nvPr/>
          </p:nvGrpSpPr>
          <p:grpSpPr>
            <a:xfrm>
              <a:off x="5014440" y="1990800"/>
              <a:ext cx="2696760" cy="758880"/>
              <a:chOff x="5014440" y="1990800"/>
              <a:chExt cx="2696760" cy="758880"/>
            </a:xfrm>
          </p:grpSpPr>
          <p:sp>
            <p:nvSpPr>
              <p:cNvPr id="419" name="Oval 10"/>
              <p:cNvSpPr/>
              <p:nvPr/>
            </p:nvSpPr>
            <p:spPr>
              <a:xfrm>
                <a:off x="5930640" y="1990800"/>
                <a:ext cx="859320" cy="370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" name="Text Box 11"/>
              <p:cNvSpPr/>
              <p:nvPr/>
            </p:nvSpPr>
            <p:spPr>
              <a:xfrm>
                <a:off x="5014440" y="2427480"/>
                <a:ext cx="26967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se Case Realization (UCR)</a:t>
                </a:r>
                <a:endParaRPr b="0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" name="Line 12"/>
            <p:cNvSpPr/>
            <p:nvPr/>
          </p:nvSpPr>
          <p:spPr>
            <a:xfrm flipH="1">
              <a:off x="2430360" y="2176560"/>
              <a:ext cx="3500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3492360" y="186696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&lt;&lt;realizes&gt;&gt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3" name="Group 14"/>
            <p:cNvGrpSpPr/>
            <p:nvPr/>
          </p:nvGrpSpPr>
          <p:grpSpPr>
            <a:xfrm>
              <a:off x="4362480" y="4751280"/>
              <a:ext cx="1717200" cy="1464840"/>
              <a:chOff x="4362480" y="4751280"/>
              <a:chExt cx="1717200" cy="1464840"/>
            </a:xfrm>
          </p:grpSpPr>
          <p:grpSp>
            <p:nvGrpSpPr>
              <p:cNvPr id="424" name="Group 15"/>
              <p:cNvGrpSpPr/>
              <p:nvPr/>
            </p:nvGrpSpPr>
            <p:grpSpPr>
              <a:xfrm>
                <a:off x="4362480" y="4751280"/>
                <a:ext cx="1717200" cy="986400"/>
                <a:chOff x="4362480" y="4751280"/>
                <a:chExt cx="1717200" cy="986400"/>
              </a:xfrm>
            </p:grpSpPr>
            <p:grpSp>
              <p:nvGrpSpPr>
                <p:cNvPr id="425" name="Group 16"/>
                <p:cNvGrpSpPr/>
                <p:nvPr/>
              </p:nvGrpSpPr>
              <p:grpSpPr>
                <a:xfrm>
                  <a:off x="4362480" y="4955760"/>
                  <a:ext cx="416520" cy="225360"/>
                  <a:chOff x="4362480" y="4955760"/>
                  <a:chExt cx="416520" cy="225360"/>
                </a:xfrm>
              </p:grpSpPr>
              <p:sp>
                <p:nvSpPr>
                  <p:cNvPr id="426" name="Rectangle 17"/>
                  <p:cNvSpPr/>
                  <p:nvPr/>
                </p:nvSpPr>
                <p:spPr>
                  <a:xfrm>
                    <a:off x="4362480" y="4955760"/>
                    <a:ext cx="416520" cy="22536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7" name="Line 18"/>
                  <p:cNvSpPr/>
                  <p:nvPr/>
                </p:nvSpPr>
                <p:spPr>
                  <a:xfrm>
                    <a:off x="4362480" y="5119200"/>
                    <a:ext cx="416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8" name="Line 19"/>
                  <p:cNvSpPr/>
                  <p:nvPr/>
                </p:nvSpPr>
                <p:spPr>
                  <a:xfrm>
                    <a:off x="4362480" y="5061600"/>
                    <a:ext cx="416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29" name="Group 20"/>
                <p:cNvGrpSpPr/>
                <p:nvPr/>
              </p:nvGrpSpPr>
              <p:grpSpPr>
                <a:xfrm>
                  <a:off x="5246640" y="4751280"/>
                  <a:ext cx="416520" cy="225360"/>
                  <a:chOff x="5246640" y="4751280"/>
                  <a:chExt cx="416520" cy="225360"/>
                </a:xfrm>
              </p:grpSpPr>
              <p:sp>
                <p:nvSpPr>
                  <p:cNvPr id="430" name="Rectangle 21"/>
                  <p:cNvSpPr/>
                  <p:nvPr/>
                </p:nvSpPr>
                <p:spPr>
                  <a:xfrm>
                    <a:off x="5246640" y="4751280"/>
                    <a:ext cx="416520" cy="22536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1" name="Line 22"/>
                  <p:cNvSpPr/>
                  <p:nvPr/>
                </p:nvSpPr>
                <p:spPr>
                  <a:xfrm>
                    <a:off x="5246640" y="4914720"/>
                    <a:ext cx="416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2" name="Line 23"/>
                  <p:cNvSpPr/>
                  <p:nvPr/>
                </p:nvSpPr>
                <p:spPr>
                  <a:xfrm>
                    <a:off x="5246640" y="4857120"/>
                    <a:ext cx="416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33" name="Group 24"/>
                <p:cNvGrpSpPr/>
                <p:nvPr/>
              </p:nvGrpSpPr>
              <p:grpSpPr>
                <a:xfrm>
                  <a:off x="4830120" y="5512320"/>
                  <a:ext cx="416520" cy="225360"/>
                  <a:chOff x="4830120" y="5512320"/>
                  <a:chExt cx="416520" cy="225360"/>
                </a:xfrm>
              </p:grpSpPr>
              <p:sp>
                <p:nvSpPr>
                  <p:cNvPr id="434" name="Rectangle 25"/>
                  <p:cNvSpPr/>
                  <p:nvPr/>
                </p:nvSpPr>
                <p:spPr>
                  <a:xfrm>
                    <a:off x="4830120" y="5512320"/>
                    <a:ext cx="416520" cy="22536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5" name="Line 26"/>
                  <p:cNvSpPr/>
                  <p:nvPr/>
                </p:nvSpPr>
                <p:spPr>
                  <a:xfrm>
                    <a:off x="4830120" y="5675760"/>
                    <a:ext cx="416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6" name="Line 27"/>
                  <p:cNvSpPr/>
                  <p:nvPr/>
                </p:nvSpPr>
                <p:spPr>
                  <a:xfrm>
                    <a:off x="4830120" y="5618160"/>
                    <a:ext cx="416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37" name="Group 28"/>
                <p:cNvGrpSpPr/>
                <p:nvPr/>
              </p:nvGrpSpPr>
              <p:grpSpPr>
                <a:xfrm>
                  <a:off x="5663520" y="5406840"/>
                  <a:ext cx="416160" cy="225000"/>
                  <a:chOff x="5663520" y="5406840"/>
                  <a:chExt cx="416160" cy="225000"/>
                </a:xfrm>
              </p:grpSpPr>
              <p:sp>
                <p:nvSpPr>
                  <p:cNvPr id="438" name="Rectangle 29"/>
                  <p:cNvSpPr/>
                  <p:nvPr/>
                </p:nvSpPr>
                <p:spPr>
                  <a:xfrm>
                    <a:off x="5663520" y="5406840"/>
                    <a:ext cx="416160" cy="22500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9" name="Line 30"/>
                  <p:cNvSpPr/>
                  <p:nvPr/>
                </p:nvSpPr>
                <p:spPr>
                  <a:xfrm>
                    <a:off x="5663520" y="5570280"/>
                    <a:ext cx="416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0" name="Line 31"/>
                  <p:cNvSpPr/>
                  <p:nvPr/>
                </p:nvSpPr>
                <p:spPr>
                  <a:xfrm>
                    <a:off x="5663520" y="5512680"/>
                    <a:ext cx="416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441" name="Line 32"/>
                <p:cNvSpPr/>
                <p:nvPr/>
              </p:nvSpPr>
              <p:spPr>
                <a:xfrm flipH="1" flipV="1">
                  <a:off x="4574520" y="5181120"/>
                  <a:ext cx="430200" cy="330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2" name="Line 33"/>
                <p:cNvSpPr/>
                <p:nvPr/>
              </p:nvSpPr>
              <p:spPr>
                <a:xfrm flipV="1">
                  <a:off x="4779000" y="4863960"/>
                  <a:ext cx="467640" cy="196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Line 34"/>
                <p:cNvSpPr/>
                <p:nvPr/>
              </p:nvSpPr>
              <p:spPr>
                <a:xfrm flipV="1">
                  <a:off x="5246640" y="5511960"/>
                  <a:ext cx="41652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4" name="Line 35"/>
                <p:cNvSpPr/>
                <p:nvPr/>
              </p:nvSpPr>
              <p:spPr>
                <a:xfrm flipV="1">
                  <a:off x="5005080" y="4976640"/>
                  <a:ext cx="453960" cy="53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45" name="Text Box 36"/>
              <p:cNvSpPr/>
              <p:nvPr/>
            </p:nvSpPr>
            <p:spPr>
              <a:xfrm>
                <a:off x="4372560" y="5878800"/>
                <a:ext cx="170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lass Diagram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46" name="Group 37"/>
            <p:cNvGrpSpPr/>
            <p:nvPr/>
          </p:nvGrpSpPr>
          <p:grpSpPr>
            <a:xfrm>
              <a:off x="3233880" y="2948040"/>
              <a:ext cx="2334600" cy="1670040"/>
              <a:chOff x="3233880" y="2948040"/>
              <a:chExt cx="2334600" cy="1670040"/>
            </a:xfrm>
          </p:grpSpPr>
          <p:grpSp>
            <p:nvGrpSpPr>
              <p:cNvPr id="447" name="Group 38"/>
              <p:cNvGrpSpPr/>
              <p:nvPr/>
            </p:nvGrpSpPr>
            <p:grpSpPr>
              <a:xfrm>
                <a:off x="3233880" y="2948040"/>
                <a:ext cx="2334600" cy="1180800"/>
                <a:chOff x="3233880" y="2948040"/>
                <a:chExt cx="2334600" cy="1180800"/>
              </a:xfrm>
            </p:grpSpPr>
            <p:grpSp>
              <p:nvGrpSpPr>
                <p:cNvPr id="448" name="Group 39"/>
                <p:cNvGrpSpPr/>
                <p:nvPr/>
              </p:nvGrpSpPr>
              <p:grpSpPr>
                <a:xfrm>
                  <a:off x="3233880" y="2948040"/>
                  <a:ext cx="212760" cy="644040"/>
                  <a:chOff x="3233880" y="2948040"/>
                  <a:chExt cx="212760" cy="644040"/>
                </a:xfrm>
              </p:grpSpPr>
              <p:grpSp>
                <p:nvGrpSpPr>
                  <p:cNvPr id="449" name="Group 40"/>
                  <p:cNvGrpSpPr/>
                  <p:nvPr/>
                </p:nvGrpSpPr>
                <p:grpSpPr>
                  <a:xfrm>
                    <a:off x="3233880" y="2948040"/>
                    <a:ext cx="212760" cy="261360"/>
                    <a:chOff x="3233880" y="2948040"/>
                    <a:chExt cx="212760" cy="261360"/>
                  </a:xfrm>
                </p:grpSpPr>
                <p:sp>
                  <p:nvSpPr>
                    <p:cNvPr id="450" name="Oval 41"/>
                    <p:cNvSpPr/>
                    <p:nvPr/>
                  </p:nvSpPr>
                  <p:spPr>
                    <a:xfrm>
                      <a:off x="3291840" y="2948040"/>
                      <a:ext cx="97200" cy="8568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1" name="Line 42"/>
                    <p:cNvSpPr/>
                    <p:nvPr/>
                  </p:nvSpPr>
                  <p:spPr>
                    <a:xfrm>
                      <a:off x="3340440" y="3034440"/>
                      <a:ext cx="0" cy="80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2" name="Line 43"/>
                    <p:cNvSpPr/>
                    <p:nvPr/>
                  </p:nvSpPr>
                  <p:spPr>
                    <a:xfrm>
                      <a:off x="3263400" y="3057120"/>
                      <a:ext cx="15408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3" name="Freeform 44"/>
                    <p:cNvSpPr/>
                    <p:nvPr/>
                  </p:nvSpPr>
                  <p:spPr>
                    <a:xfrm>
                      <a:off x="3233880" y="3115080"/>
                      <a:ext cx="212760" cy="94320"/>
                    </a:xfrm>
                    <a:prstGeom prst="pie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454" name="Text Box 45"/>
                  <p:cNvSpPr/>
                  <p:nvPr/>
                </p:nvSpPr>
                <p:spPr>
                  <a:xfrm>
                    <a:off x="3245040" y="325548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55" name="Group 46"/>
                <p:cNvGrpSpPr/>
                <p:nvPr/>
              </p:nvGrpSpPr>
              <p:grpSpPr>
                <a:xfrm>
                  <a:off x="3684240" y="3053520"/>
                  <a:ext cx="454680" cy="297360"/>
                  <a:chOff x="3684240" y="3053520"/>
                  <a:chExt cx="454680" cy="297360"/>
                </a:xfrm>
              </p:grpSpPr>
              <p:sp>
                <p:nvSpPr>
                  <p:cNvPr id="456" name="Rectangle 47"/>
                  <p:cNvSpPr/>
                  <p:nvPr/>
                </p:nvSpPr>
                <p:spPr>
                  <a:xfrm>
                    <a:off x="3684240" y="3053520"/>
                    <a:ext cx="454680" cy="19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7" name="Text Box 48"/>
                  <p:cNvSpPr/>
                  <p:nvPr/>
                </p:nvSpPr>
                <p:spPr>
                  <a:xfrm>
                    <a:off x="3913200" y="3107160"/>
                    <a:ext cx="36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58" name="Group 49"/>
                <p:cNvGrpSpPr/>
                <p:nvPr/>
              </p:nvGrpSpPr>
              <p:grpSpPr>
                <a:xfrm>
                  <a:off x="4204080" y="3053520"/>
                  <a:ext cx="324720" cy="297360"/>
                  <a:chOff x="4204080" y="3053520"/>
                  <a:chExt cx="324720" cy="297360"/>
                </a:xfrm>
              </p:grpSpPr>
              <p:sp>
                <p:nvSpPr>
                  <p:cNvPr id="459" name="Rectangle 50"/>
                  <p:cNvSpPr/>
                  <p:nvPr/>
                </p:nvSpPr>
                <p:spPr>
                  <a:xfrm>
                    <a:off x="4204080" y="3053520"/>
                    <a:ext cx="324720" cy="20016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0" name="Text Box 51"/>
                  <p:cNvSpPr/>
                  <p:nvPr/>
                </p:nvSpPr>
                <p:spPr>
                  <a:xfrm>
                    <a:off x="4367160" y="3106800"/>
                    <a:ext cx="360" cy="244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61" name="Group 52"/>
                <p:cNvGrpSpPr/>
                <p:nvPr/>
              </p:nvGrpSpPr>
              <p:grpSpPr>
                <a:xfrm>
                  <a:off x="4593960" y="3053520"/>
                  <a:ext cx="454680" cy="297360"/>
                  <a:chOff x="4593960" y="3053520"/>
                  <a:chExt cx="454680" cy="297360"/>
                </a:xfrm>
              </p:grpSpPr>
              <p:sp>
                <p:nvSpPr>
                  <p:cNvPr id="462" name="Rectangle 53"/>
                  <p:cNvSpPr/>
                  <p:nvPr/>
                </p:nvSpPr>
                <p:spPr>
                  <a:xfrm>
                    <a:off x="4593960" y="3053520"/>
                    <a:ext cx="454680" cy="20016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3" name="Text Box 54"/>
                  <p:cNvSpPr/>
                  <p:nvPr/>
                </p:nvSpPr>
                <p:spPr>
                  <a:xfrm>
                    <a:off x="4822920" y="3106800"/>
                    <a:ext cx="360" cy="244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464" name="Line 55"/>
                <p:cNvSpPr/>
                <p:nvPr/>
              </p:nvSpPr>
              <p:spPr>
                <a:xfrm>
                  <a:off x="3363840" y="3348720"/>
                  <a:ext cx="0" cy="78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5" name="Line 56"/>
                <p:cNvSpPr/>
                <p:nvPr/>
              </p:nvSpPr>
              <p:spPr>
                <a:xfrm>
                  <a:off x="3900960" y="3348720"/>
                  <a:ext cx="0" cy="78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6" name="Line 57"/>
                <p:cNvSpPr/>
                <p:nvPr/>
              </p:nvSpPr>
              <p:spPr>
                <a:xfrm>
                  <a:off x="4420800" y="3348720"/>
                  <a:ext cx="0" cy="78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7" name="Line 58"/>
                <p:cNvSpPr/>
                <p:nvPr/>
              </p:nvSpPr>
              <p:spPr>
                <a:xfrm>
                  <a:off x="4810680" y="3348720"/>
                  <a:ext cx="0" cy="78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8" name="Line 59"/>
                <p:cNvSpPr/>
                <p:nvPr/>
              </p:nvSpPr>
              <p:spPr>
                <a:xfrm>
                  <a:off x="3359160" y="3432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9" name="Line 60"/>
                <p:cNvSpPr/>
                <p:nvPr/>
              </p:nvSpPr>
              <p:spPr>
                <a:xfrm>
                  <a:off x="3900960" y="3706920"/>
                  <a:ext cx="519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0" name="Line 61"/>
                <p:cNvSpPr/>
                <p:nvPr/>
              </p:nvSpPr>
              <p:spPr>
                <a:xfrm>
                  <a:off x="4420800" y="3875760"/>
                  <a:ext cx="389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1" name="Line 62"/>
                <p:cNvSpPr/>
                <p:nvPr/>
              </p:nvSpPr>
              <p:spPr>
                <a:xfrm>
                  <a:off x="4420800" y="4044600"/>
                  <a:ext cx="888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2" name="Line 63"/>
                <p:cNvSpPr/>
                <p:nvPr/>
              </p:nvSpPr>
              <p:spPr>
                <a:xfrm>
                  <a:off x="3359160" y="3559680"/>
                  <a:ext cx="541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473" name="Group 64"/>
                <p:cNvGrpSpPr/>
                <p:nvPr/>
              </p:nvGrpSpPr>
              <p:grpSpPr>
                <a:xfrm>
                  <a:off x="5113800" y="3053520"/>
                  <a:ext cx="454680" cy="297360"/>
                  <a:chOff x="5113800" y="3053520"/>
                  <a:chExt cx="454680" cy="297360"/>
                </a:xfrm>
              </p:grpSpPr>
              <p:sp>
                <p:nvSpPr>
                  <p:cNvPr id="474" name="Rectangle 65"/>
                  <p:cNvSpPr/>
                  <p:nvPr/>
                </p:nvSpPr>
                <p:spPr>
                  <a:xfrm>
                    <a:off x="5113800" y="3053520"/>
                    <a:ext cx="454680" cy="20016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5" name="Text Box 66"/>
                  <p:cNvSpPr/>
                  <p:nvPr/>
                </p:nvSpPr>
                <p:spPr>
                  <a:xfrm>
                    <a:off x="5342040" y="3106800"/>
                    <a:ext cx="360" cy="244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476" name="Line 67"/>
                <p:cNvSpPr/>
                <p:nvPr/>
              </p:nvSpPr>
              <p:spPr>
                <a:xfrm>
                  <a:off x="5308920" y="3348720"/>
                  <a:ext cx="0" cy="78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77" name="Text Box 68"/>
              <p:cNvSpPr/>
              <p:nvPr/>
            </p:nvSpPr>
            <p:spPr>
              <a:xfrm>
                <a:off x="3264120" y="4280760"/>
                <a:ext cx="227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equence Diagram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78" name="Group 69"/>
            <p:cNvGrpSpPr/>
            <p:nvPr/>
          </p:nvGrpSpPr>
          <p:grpSpPr>
            <a:xfrm>
              <a:off x="5932440" y="2838600"/>
              <a:ext cx="2278080" cy="2023920"/>
              <a:chOff x="5932440" y="2838600"/>
              <a:chExt cx="2278080" cy="2023920"/>
            </a:xfrm>
          </p:grpSpPr>
          <p:grpSp>
            <p:nvGrpSpPr>
              <p:cNvPr id="479" name="Group 70"/>
              <p:cNvGrpSpPr/>
              <p:nvPr/>
            </p:nvGrpSpPr>
            <p:grpSpPr>
              <a:xfrm>
                <a:off x="5946120" y="2838600"/>
                <a:ext cx="2250360" cy="1441800"/>
                <a:chOff x="5946120" y="2838600"/>
                <a:chExt cx="2250360" cy="1441800"/>
              </a:xfrm>
            </p:grpSpPr>
            <p:grpSp>
              <p:nvGrpSpPr>
                <p:cNvPr id="480" name="Group 71"/>
                <p:cNvGrpSpPr/>
                <p:nvPr/>
              </p:nvGrpSpPr>
              <p:grpSpPr>
                <a:xfrm>
                  <a:off x="5946120" y="2997000"/>
                  <a:ext cx="215280" cy="280440"/>
                  <a:chOff x="5946120" y="2997000"/>
                  <a:chExt cx="215280" cy="280440"/>
                </a:xfrm>
              </p:grpSpPr>
              <p:sp>
                <p:nvSpPr>
                  <p:cNvPr id="481" name="Oval 72"/>
                  <p:cNvSpPr/>
                  <p:nvPr/>
                </p:nvSpPr>
                <p:spPr>
                  <a:xfrm>
                    <a:off x="6004800" y="2997000"/>
                    <a:ext cx="98280" cy="921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2" name="Line 73"/>
                  <p:cNvSpPr/>
                  <p:nvPr/>
                </p:nvSpPr>
                <p:spPr>
                  <a:xfrm>
                    <a:off x="6053760" y="3089880"/>
                    <a:ext cx="0" cy="86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3" name="Line 74"/>
                  <p:cNvSpPr/>
                  <p:nvPr/>
                </p:nvSpPr>
                <p:spPr>
                  <a:xfrm>
                    <a:off x="5976000" y="3114360"/>
                    <a:ext cx="1558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4" name="Freeform 75"/>
                  <p:cNvSpPr/>
                  <p:nvPr/>
                </p:nvSpPr>
                <p:spPr>
                  <a:xfrm>
                    <a:off x="5946120" y="3176280"/>
                    <a:ext cx="215280" cy="10116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5" name="Group 76"/>
                <p:cNvGrpSpPr/>
                <p:nvPr/>
              </p:nvGrpSpPr>
              <p:grpSpPr>
                <a:xfrm>
                  <a:off x="6846480" y="3019680"/>
                  <a:ext cx="232560" cy="172800"/>
                  <a:chOff x="6846480" y="3019680"/>
                  <a:chExt cx="232560" cy="172800"/>
                </a:xfrm>
              </p:grpSpPr>
              <p:sp>
                <p:nvSpPr>
                  <p:cNvPr id="486" name="Oval 77"/>
                  <p:cNvSpPr/>
                  <p:nvPr/>
                </p:nvSpPr>
                <p:spPr>
                  <a:xfrm>
                    <a:off x="6912000" y="3019680"/>
                    <a:ext cx="167040" cy="1728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7" name="Line 78"/>
                  <p:cNvSpPr/>
                  <p:nvPr/>
                </p:nvSpPr>
                <p:spPr>
                  <a:xfrm>
                    <a:off x="6846480" y="3049920"/>
                    <a:ext cx="0" cy="1123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8" name="Line 79"/>
                  <p:cNvSpPr/>
                  <p:nvPr/>
                </p:nvSpPr>
                <p:spPr>
                  <a:xfrm flipH="1">
                    <a:off x="6846480" y="3106080"/>
                    <a:ext cx="65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9" name="Group 80"/>
                <p:cNvGrpSpPr/>
                <p:nvPr/>
              </p:nvGrpSpPr>
              <p:grpSpPr>
                <a:xfrm>
                  <a:off x="6457680" y="3835800"/>
                  <a:ext cx="232560" cy="172800"/>
                  <a:chOff x="6457680" y="3835800"/>
                  <a:chExt cx="232560" cy="172800"/>
                </a:xfrm>
              </p:grpSpPr>
              <p:sp>
                <p:nvSpPr>
                  <p:cNvPr id="490" name="Oval 81"/>
                  <p:cNvSpPr/>
                  <p:nvPr/>
                </p:nvSpPr>
                <p:spPr>
                  <a:xfrm>
                    <a:off x="6523200" y="3835800"/>
                    <a:ext cx="167040" cy="1728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1" name="Line 82"/>
                  <p:cNvSpPr/>
                  <p:nvPr/>
                </p:nvSpPr>
                <p:spPr>
                  <a:xfrm>
                    <a:off x="6457680" y="3866040"/>
                    <a:ext cx="0" cy="1123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2" name="Line 83"/>
                  <p:cNvSpPr/>
                  <p:nvPr/>
                </p:nvSpPr>
                <p:spPr>
                  <a:xfrm flipH="1">
                    <a:off x="6457680" y="3922200"/>
                    <a:ext cx="65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93" name="Group 84"/>
                <p:cNvGrpSpPr/>
                <p:nvPr/>
              </p:nvGrpSpPr>
              <p:grpSpPr>
                <a:xfrm>
                  <a:off x="7787880" y="4107600"/>
                  <a:ext cx="174960" cy="172800"/>
                  <a:chOff x="7787880" y="4107600"/>
                  <a:chExt cx="174960" cy="172800"/>
                </a:xfrm>
              </p:grpSpPr>
              <p:sp>
                <p:nvSpPr>
                  <p:cNvPr id="494" name="Oval 85"/>
                  <p:cNvSpPr/>
                  <p:nvPr/>
                </p:nvSpPr>
                <p:spPr>
                  <a:xfrm>
                    <a:off x="7790400" y="4107600"/>
                    <a:ext cx="167040" cy="1728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5" name="Line 86"/>
                  <p:cNvSpPr/>
                  <p:nvPr/>
                </p:nvSpPr>
                <p:spPr>
                  <a:xfrm>
                    <a:off x="7787880" y="4280400"/>
                    <a:ext cx="1749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96" name="Group 87"/>
                <p:cNvGrpSpPr/>
                <p:nvPr/>
              </p:nvGrpSpPr>
              <p:grpSpPr>
                <a:xfrm>
                  <a:off x="8021520" y="2838600"/>
                  <a:ext cx="174960" cy="172800"/>
                  <a:chOff x="8021520" y="2838600"/>
                  <a:chExt cx="174960" cy="172800"/>
                </a:xfrm>
              </p:grpSpPr>
              <p:sp>
                <p:nvSpPr>
                  <p:cNvPr id="497" name="Oval 88"/>
                  <p:cNvSpPr/>
                  <p:nvPr/>
                </p:nvSpPr>
                <p:spPr>
                  <a:xfrm>
                    <a:off x="8024040" y="2838600"/>
                    <a:ext cx="167040" cy="1728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8" name="Line 89"/>
                  <p:cNvSpPr/>
                  <p:nvPr/>
                </p:nvSpPr>
                <p:spPr>
                  <a:xfrm>
                    <a:off x="8021520" y="3011400"/>
                    <a:ext cx="1749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99" name="Group 90"/>
                <p:cNvGrpSpPr/>
                <p:nvPr/>
              </p:nvGrpSpPr>
              <p:grpSpPr>
                <a:xfrm>
                  <a:off x="7742880" y="3517920"/>
                  <a:ext cx="166680" cy="208800"/>
                  <a:chOff x="7742880" y="3517920"/>
                  <a:chExt cx="166680" cy="208800"/>
                </a:xfrm>
              </p:grpSpPr>
              <p:sp>
                <p:nvSpPr>
                  <p:cNvPr id="500" name="Line 91"/>
                  <p:cNvSpPr/>
                  <p:nvPr/>
                </p:nvSpPr>
                <p:spPr>
                  <a:xfrm flipV="1">
                    <a:off x="7794360" y="3517920"/>
                    <a:ext cx="46440" cy="44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1" name="Line 92"/>
                  <p:cNvSpPr/>
                  <p:nvPr/>
                </p:nvSpPr>
                <p:spPr>
                  <a:xfrm flipH="1" flipV="1">
                    <a:off x="7795800" y="3560400"/>
                    <a:ext cx="43560" cy="41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2" name="Oval 93"/>
                  <p:cNvSpPr/>
                  <p:nvPr/>
                </p:nvSpPr>
                <p:spPr>
                  <a:xfrm>
                    <a:off x="7742880" y="3554280"/>
                    <a:ext cx="166680" cy="1724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503" name="Line 94"/>
                <p:cNvSpPr/>
                <p:nvPr/>
              </p:nvSpPr>
              <p:spPr>
                <a:xfrm>
                  <a:off x="6186960" y="3450240"/>
                  <a:ext cx="372240" cy="33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04" name="Line 95"/>
                <p:cNvSpPr/>
                <p:nvPr/>
              </p:nvSpPr>
              <p:spPr>
                <a:xfrm flipV="1">
                  <a:off x="6186960" y="3110400"/>
                  <a:ext cx="613080" cy="67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05" name="Line 96"/>
                <p:cNvSpPr/>
                <p:nvPr/>
              </p:nvSpPr>
              <p:spPr>
                <a:xfrm>
                  <a:off x="6734520" y="3948840"/>
                  <a:ext cx="1029240" cy="203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06" name="Line 97"/>
                <p:cNvSpPr/>
                <p:nvPr/>
              </p:nvSpPr>
              <p:spPr>
                <a:xfrm flipV="1">
                  <a:off x="6734520" y="3631320"/>
                  <a:ext cx="963720" cy="27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07" name="Line 98"/>
                <p:cNvSpPr/>
                <p:nvPr/>
              </p:nvSpPr>
              <p:spPr>
                <a:xfrm flipV="1">
                  <a:off x="7873560" y="3133080"/>
                  <a:ext cx="174960" cy="38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08" name="Line 99"/>
                <p:cNvSpPr/>
                <p:nvPr/>
              </p:nvSpPr>
              <p:spPr>
                <a:xfrm flipH="1">
                  <a:off x="6668280" y="3336840"/>
                  <a:ext cx="284760" cy="47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09" name="Line 100"/>
                <p:cNvSpPr/>
                <p:nvPr/>
              </p:nvSpPr>
              <p:spPr>
                <a:xfrm>
                  <a:off x="6208920" y="3540960"/>
                  <a:ext cx="153000" cy="135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0" name="Line 101"/>
                <p:cNvSpPr/>
                <p:nvPr/>
              </p:nvSpPr>
              <p:spPr>
                <a:xfrm flipH="1">
                  <a:off x="6756480" y="3404880"/>
                  <a:ext cx="109440" cy="18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1" name="Line 102"/>
                <p:cNvSpPr/>
                <p:nvPr/>
              </p:nvSpPr>
              <p:spPr>
                <a:xfrm flipV="1">
                  <a:off x="6953400" y="3722400"/>
                  <a:ext cx="218880" cy="67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2" name="Line 103"/>
                <p:cNvSpPr/>
                <p:nvPr/>
              </p:nvSpPr>
              <p:spPr>
                <a:xfrm>
                  <a:off x="7084800" y="4084920"/>
                  <a:ext cx="218880" cy="4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3" name="Line 104"/>
                <p:cNvSpPr/>
                <p:nvPr/>
              </p:nvSpPr>
              <p:spPr>
                <a:xfrm flipV="1">
                  <a:off x="7873560" y="3223440"/>
                  <a:ext cx="87480" cy="18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4" name="Line 105"/>
                <p:cNvSpPr/>
                <p:nvPr/>
              </p:nvSpPr>
              <p:spPr>
                <a:xfrm flipV="1">
                  <a:off x="6340320" y="3087360"/>
                  <a:ext cx="196920" cy="22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15" name="Text Box 106"/>
              <p:cNvSpPr/>
              <p:nvPr/>
            </p:nvSpPr>
            <p:spPr>
              <a:xfrm>
                <a:off x="5932440" y="4281840"/>
                <a:ext cx="2278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llaboration Diagram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6" name="Group 107"/>
            <p:cNvGrpSpPr/>
            <p:nvPr/>
          </p:nvGrpSpPr>
          <p:grpSpPr>
            <a:xfrm>
              <a:off x="1236600" y="3844800"/>
              <a:ext cx="1039320" cy="1298520"/>
              <a:chOff x="1236600" y="3844800"/>
              <a:chExt cx="1039320" cy="1298520"/>
            </a:xfrm>
          </p:grpSpPr>
          <p:sp>
            <p:nvSpPr>
              <p:cNvPr id="517" name="Oval 108"/>
              <p:cNvSpPr/>
              <p:nvPr/>
            </p:nvSpPr>
            <p:spPr>
              <a:xfrm>
                <a:off x="1236600" y="3844800"/>
                <a:ext cx="860400" cy="370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" name="Rectangle 109"/>
              <p:cNvSpPr/>
              <p:nvPr/>
            </p:nvSpPr>
            <p:spPr>
              <a:xfrm>
                <a:off x="1680120" y="4215600"/>
                <a:ext cx="595800" cy="927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" name="Line 110"/>
              <p:cNvSpPr/>
              <p:nvPr/>
            </p:nvSpPr>
            <p:spPr>
              <a:xfrm>
                <a:off x="2077560" y="4215600"/>
                <a:ext cx="198360" cy="18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0" name="Line 111"/>
              <p:cNvSpPr/>
              <p:nvPr/>
            </p:nvSpPr>
            <p:spPr>
              <a:xfrm>
                <a:off x="2077560" y="4215600"/>
                <a:ext cx="0" cy="18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1" name="Line 112"/>
              <p:cNvSpPr/>
              <p:nvPr/>
            </p:nvSpPr>
            <p:spPr>
              <a:xfrm flipH="1">
                <a:off x="2077200" y="4401360"/>
                <a:ext cx="19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" name="Line 113"/>
              <p:cNvSpPr/>
              <p:nvPr/>
            </p:nvSpPr>
            <p:spPr>
              <a:xfrm>
                <a:off x="1746720" y="4524840"/>
                <a:ext cx="463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114"/>
              <p:cNvSpPr/>
              <p:nvPr/>
            </p:nvSpPr>
            <p:spPr>
              <a:xfrm>
                <a:off x="1746720" y="4586760"/>
                <a:ext cx="463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15"/>
              <p:cNvSpPr/>
              <p:nvPr/>
            </p:nvSpPr>
            <p:spPr>
              <a:xfrm>
                <a:off x="1746720" y="4648680"/>
                <a:ext cx="463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Line 116"/>
              <p:cNvSpPr/>
              <p:nvPr/>
            </p:nvSpPr>
            <p:spPr>
              <a:xfrm>
                <a:off x="1746720" y="4772520"/>
                <a:ext cx="463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Line 117"/>
              <p:cNvSpPr/>
              <p:nvPr/>
            </p:nvSpPr>
            <p:spPr>
              <a:xfrm>
                <a:off x="1746720" y="4710600"/>
                <a:ext cx="463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Line 118"/>
              <p:cNvSpPr/>
              <p:nvPr/>
            </p:nvSpPr>
            <p:spPr>
              <a:xfrm>
                <a:off x="1746720" y="4834080"/>
                <a:ext cx="463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19"/>
              <p:cNvSpPr/>
              <p:nvPr/>
            </p:nvSpPr>
            <p:spPr>
              <a:xfrm>
                <a:off x="1746720" y="4896000"/>
                <a:ext cx="463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9" name="Line 120"/>
              <p:cNvSpPr/>
              <p:nvPr/>
            </p:nvSpPr>
            <p:spPr>
              <a:xfrm>
                <a:off x="1746720" y="4957920"/>
                <a:ext cx="463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0" name="Line 121"/>
              <p:cNvSpPr/>
              <p:nvPr/>
            </p:nvSpPr>
            <p:spPr>
              <a:xfrm>
                <a:off x="1746720" y="5019840"/>
                <a:ext cx="463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1" name="Line 122"/>
              <p:cNvSpPr/>
              <p:nvPr/>
            </p:nvSpPr>
            <p:spPr>
              <a:xfrm>
                <a:off x="1746720" y="5081760"/>
                <a:ext cx="463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" name="Line 123"/>
              <p:cNvSpPr/>
              <p:nvPr/>
            </p:nvSpPr>
            <p:spPr>
              <a:xfrm>
                <a:off x="1746720" y="4462920"/>
                <a:ext cx="463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" name="Line 124"/>
              <p:cNvSpPr/>
              <p:nvPr/>
            </p:nvSpPr>
            <p:spPr>
              <a:xfrm>
                <a:off x="1746720" y="4339440"/>
                <a:ext cx="28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4" name="Line 125"/>
              <p:cNvSpPr/>
              <p:nvPr/>
            </p:nvSpPr>
            <p:spPr>
              <a:xfrm>
                <a:off x="1746720" y="4277520"/>
                <a:ext cx="28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5" name="Line 126"/>
              <p:cNvSpPr/>
              <p:nvPr/>
            </p:nvSpPr>
            <p:spPr>
              <a:xfrm>
                <a:off x="1746720" y="4401360"/>
                <a:ext cx="28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36" name="AutoShape 127"/>
            <p:cNvSpPr/>
            <p:nvPr/>
          </p:nvSpPr>
          <p:spPr>
            <a:xfrm>
              <a:off x="2517840" y="4373640"/>
              <a:ext cx="468360" cy="431640"/>
            </a:xfrm>
            <a:prstGeom prst="rightArrow">
              <a:avLst>
                <a:gd name="adj1" fmla="val 50000"/>
                <a:gd name="adj2" fmla="val 27127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Text Box 128"/>
            <p:cNvSpPr/>
            <p:nvPr/>
          </p:nvSpPr>
          <p:spPr>
            <a:xfrm>
              <a:off x="1236600" y="1557360"/>
              <a:ext cx="225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Use Case Mode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Text Box 129"/>
            <p:cNvSpPr/>
            <p:nvPr/>
          </p:nvSpPr>
          <p:spPr>
            <a:xfrm>
              <a:off x="5540400" y="1557360"/>
              <a:ext cx="225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Design Mode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FFBB-4DB5-438B-A533-E8676616105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حوة ايجاد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ل تحليل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064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ايجاد فراورده عينيت بخشيدن به موارد كاربري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 (</a:t>
            </a:r>
            <a:r>
              <a:rPr b="1" i="1" lang="en-US" sz="1900" spc="-1" strike="noStrike">
                <a:solidFill>
                  <a:srgbClr val="0033cc"/>
                </a:solidFill>
                <a:latin typeface="Times New Roman"/>
              </a:rPr>
              <a:t>Realization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9160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) تكميل تشريح موارد كاربري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91600" indent="-291600" algn="r" rtl="1">
              <a:lnSpc>
                <a:spcPct val="15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به ازاي هر </a:t>
            </a:r>
            <a:r>
              <a:rPr b="1" lang="en-US" sz="1900" spc="-1" strike="noStrike">
                <a:solidFill>
                  <a:srgbClr val="000099"/>
                </a:solidFill>
                <a:latin typeface="Times New Roman"/>
              </a:rPr>
              <a:t>UCR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يجاد شده، گام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ذيل را انجام دهي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31440" indent="0" algn="r" rtl="1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ar-SA" sz="2000" spc="-1" strike="noStrike">
                <a:solidFill>
                  <a:srgbClr val="0033cc"/>
                </a:solidFill>
                <a:latin typeface="Times New Roman"/>
              </a:rPr>
              <a:t>) كلاس‌هاي تحليلي را شناسائي نماييد 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631440" indent="0" algn="r" rtl="1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ar-SA" sz="2000" spc="-1" strike="noStrike">
                <a:solidFill>
                  <a:srgbClr val="0033cc"/>
                </a:solidFill>
                <a:latin typeface="Times New Roman"/>
              </a:rPr>
              <a:t>) رفتار مورد كاربري را روي كلاس‌هاي تحليلي بدست آمده توزيع كني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91600" indent="-291600" algn="r" rtl="1">
              <a:lnSpc>
                <a:spcPct val="15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به ازاي هر كلاس تحليلي شناسائي شده، گام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ذيل را انجام ده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31440" indent="0" algn="r" rtl="1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ar-SA" sz="2000" spc="-1" strike="noStrike">
                <a:solidFill>
                  <a:srgbClr val="0033cc"/>
                </a:solidFill>
                <a:latin typeface="Times New Roman"/>
              </a:rPr>
              <a:t>) وظايف يك كلاس تحليلي را تشريح نمايي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631440" indent="0" algn="r" rtl="1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ar-SA" sz="2000" spc="-1" strike="noStrike">
                <a:solidFill>
                  <a:srgbClr val="0033cc"/>
                </a:solidFill>
                <a:latin typeface="Times New Roman"/>
              </a:rPr>
              <a:t>) صفات يك كلاس و روابط آن با بقيه كلاس‌ها را شناسائي و تشريح نمايي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539640" y="2421000"/>
            <a:ext cx="7993080" cy="180000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Nazanin"/>
              </a:rPr>
              <a:t>  براي اطلاع از جزئيات بيشتر در رابطه با ايجاد مدل تحليل، به بخش «</a:t>
            </a:r>
            <a:r>
              <a:rPr b="0" lang="en-US" sz="2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ctivity: Use Case Analysis</a:t>
            </a:r>
            <a:r>
              <a:rPr b="1" lang="ar-SA" sz="2800" spc="-1" strike="noStrike">
                <a:solidFill>
                  <a:srgbClr val="a88800"/>
                </a:solidFill>
                <a:latin typeface="Comic Sans MS"/>
                <a:ea typeface="Nazanin"/>
              </a:rPr>
              <a:t>»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Nazanin"/>
              </a:rPr>
              <a:t> در </a:t>
            </a:r>
            <a:r>
              <a:rPr b="1" lang="ar-SA" sz="2800" spc="-1" strike="noStrike">
                <a:solidFill>
                  <a:srgbClr val="a88800"/>
                </a:solidFill>
                <a:latin typeface="Comic Sans MS"/>
                <a:cs typeface="Nazanin"/>
              </a:rPr>
              <a:t>محصول</a:t>
            </a:r>
            <a:r>
              <a:rPr b="1" lang="fa-IR" sz="2800" spc="-1" strike="noStrike">
                <a:solidFill>
                  <a:srgbClr val="a88800"/>
                </a:solidFill>
                <a:latin typeface="Comic Sans MS"/>
                <a:ea typeface="Nazanin"/>
              </a:rPr>
              <a:t> </a:t>
            </a:r>
            <a:r>
              <a:rPr b="0" lang="en-US" sz="2000" spc="-1" strike="noStrike">
                <a:solidFill>
                  <a:srgbClr val="a88800"/>
                </a:solidFill>
                <a:latin typeface="Times New Roman"/>
                <a:ea typeface="Times New Roman"/>
              </a:rPr>
              <a:t>RUP</a:t>
            </a:r>
            <a:r>
              <a:rPr b="0" lang="ar-SA" sz="2200" spc="-1" strike="noStrike">
                <a:solidFill>
                  <a:srgbClr val="a88800"/>
                </a:solidFill>
                <a:latin typeface="Comic Sans MS"/>
                <a:ea typeface="Nazani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  <a:cs typeface="Nazanin"/>
              </a:rPr>
              <a:t>رجوع نمايي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0DF3-614B-4085-8E8C-FE460CEEE92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ل طراح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دل طراح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ز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روي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دل تحليل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وسيله اعمال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وارد زير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دست مي‌آ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ويژگيهاي لازم براي پياد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سازي رفتار مطلوب سيستم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(مانند ماندگاري اشياء، همزماني، رسيدگي به خطاها، مديريت تراكنش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ا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محدوديت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پياد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سازي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(استفاده از يك زبان برنامه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نويسي مشخص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نيازهاي غير وظيف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مندي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(مانند قابليت اعتماد، زمان پاسخ، كارايي، سرعت سيستم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0680-D956-4A81-88D7-4A013671C9F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ل طراحي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Times New Roman"/>
              </a:rPr>
              <a:t>نحوه ايجاد مدل طراح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)  كلاس‌هاي طراحي اوليه را ايجاد كنيد: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3300"/>
                </a:solidFill>
                <a:latin typeface="Times New Roman"/>
              </a:rPr>
              <a:t>طراحي كلاس‌هاي مرزي 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3300"/>
                </a:solidFill>
                <a:latin typeface="Times New Roman"/>
              </a:rPr>
              <a:t>طراحي كلاس‌هاي موجوديتي 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3300"/>
                </a:solidFill>
                <a:latin typeface="Times New Roman"/>
              </a:rPr>
              <a:t>طراحي كلاس‌هاي كنترلي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) كلاس‌هاي ماندگار را شناسائي نمايي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)  مكانيزم دستيابي به هر كلاس را تعيين نمايي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) عمليات هر كلاس را مشخص نمايي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3AAE-8D93-426E-BA64-36AAF679960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ل طراحي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Times New Roman"/>
              </a:rPr>
              <a:t>نحوه ايجاد مدل طراحي</a:t>
            </a:r>
            <a:r>
              <a:rPr b="1" lang="fa-IR" sz="2800" spc="-1" strike="noStrike">
                <a:solidFill>
                  <a:srgbClr val="0033cc"/>
                </a:solidFill>
                <a:latin typeface="Times New Roman"/>
              </a:rPr>
              <a:t> (ادامه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) حالت كلاس را مشخص نماي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6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) وابستگي‌ها را مشخص نماي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) روابط انجمني و تجمعي را مشخص نمايي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8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) رابطه عام/خاص را بدست آوري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) تداخل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احتمالي بين موارد كاربري را برطرف كني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) نيازهاي غير وظيفه‌مندي را اعمال كني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11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) نتايج بدست آمده را ارزيابي نمايي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4950-17CD-49DA-BFF7-ECF9A3F149D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ل داده‌ا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دف مدل داده‌اي توصيف ساختار منطقي و فيزيكي داده‌هاي ماندگار است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نگامي به اين مدل نياز است كه نتوان ساختار داده‌اي ماندگار (ساختار داد‌ه‌اي لازم براي ذخيره كلاس ماندگار) را از ساختار كلاس ماندگار به صورت خودکار يا اتوماتيك تعيين نم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468360" y="4941720"/>
            <a:ext cx="8136000" cy="1191240"/>
          </a:xfrm>
          <a:prstGeom prst="rect">
            <a:avLst/>
          </a:prstGeom>
          <a:gradFill rotWithShape="0">
            <a:gsLst>
              <a:gs pos="0">
                <a:srgbClr val="a88800"/>
              </a:gs>
              <a:gs pos="50000">
                <a:srgbClr val="ffffff"/>
              </a:gs>
              <a:gs pos="100000">
                <a:srgbClr val="a888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Nazanin"/>
              </a:rPr>
              <a:t>  براي اطلاع از جزئيات بيشتر در رابطه با ايجاد مدل داده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Kamran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cs typeface="Nazanin"/>
              </a:rPr>
              <a:t>اي، به بخش «</a:t>
            </a:r>
            <a:r>
              <a:rPr b="1" lang="en-US" sz="1600" spc="-1" strike="noStrike">
                <a:solidFill>
                  <a:srgbClr val="a88800"/>
                </a:solidFill>
                <a:latin typeface="Times New Roman"/>
                <a:ea typeface="Times New Roman"/>
              </a:rPr>
              <a:t>Activity: Database Design</a:t>
            </a:r>
            <a:r>
              <a:rPr b="1" lang="ar-SA" sz="2400" spc="-1" strike="noStrike">
                <a:solidFill>
                  <a:srgbClr val="a88800"/>
                </a:solidFill>
                <a:latin typeface="Comic Sans MS"/>
                <a:ea typeface="Nazanin"/>
              </a:rPr>
              <a:t>»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Nazanin"/>
              </a:rPr>
              <a:t> و «</a:t>
            </a:r>
            <a:r>
              <a:rPr b="1" lang="en-US" sz="1600" spc="-1" strike="noStrike">
                <a:solidFill>
                  <a:srgbClr val="a88800"/>
                </a:solidFill>
                <a:latin typeface="Times New Roman"/>
                <a:ea typeface="Times New Roman"/>
              </a:rPr>
              <a:t>Guidelines: Data Model</a:t>
            </a:r>
            <a:r>
              <a:rPr b="1" lang="ar-SA" sz="2400" spc="-1" strike="noStrike">
                <a:solidFill>
                  <a:srgbClr val="a88800"/>
                </a:solidFill>
                <a:latin typeface="Comic Sans MS"/>
                <a:ea typeface="Nazanin"/>
              </a:rPr>
              <a:t>»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Nazanin"/>
              </a:rPr>
              <a:t> در </a:t>
            </a:r>
            <a:r>
              <a:rPr b="1" lang="ar-SA" sz="2400" spc="-1" strike="noStrike">
                <a:solidFill>
                  <a:srgbClr val="a88800"/>
                </a:solidFill>
                <a:latin typeface="Comic Sans MS"/>
                <a:cs typeface="Nazanin"/>
              </a:rPr>
              <a:t>محصول</a:t>
            </a:r>
            <a:r>
              <a:rPr b="1" lang="fa-IR" sz="2400" spc="-1" strike="noStrike">
                <a:solidFill>
                  <a:srgbClr val="a88800"/>
                </a:solidFill>
                <a:latin typeface="Comic Sans MS"/>
                <a:ea typeface="Nazanin"/>
              </a:rPr>
              <a:t> </a:t>
            </a:r>
            <a:r>
              <a:rPr b="1" lang="en-US" sz="1600" spc="-1" strike="noStrike">
                <a:solidFill>
                  <a:srgbClr val="a88800"/>
                </a:solidFill>
                <a:latin typeface="Times New Roman"/>
                <a:ea typeface="Times New Roman"/>
              </a:rPr>
              <a:t>RUP</a:t>
            </a:r>
            <a:r>
              <a:rPr b="0" lang="ar-SA" sz="2000" spc="-1" strike="noStrike">
                <a:solidFill>
                  <a:srgbClr val="a88800"/>
                </a:solidFill>
                <a:latin typeface="Comic Sans MS"/>
                <a:ea typeface="Nazani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cs typeface="Nazanin"/>
              </a:rPr>
              <a:t>رجوع نماي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72C5-6794-47D9-8835-9777529298D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ثال: تعميرگا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 rtl="1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ar-SA" sz="2800" spc="-1" strike="noStrike">
                <a:solidFill>
                  <a:srgbClr val="006600"/>
                </a:solidFill>
                <a:latin typeface="Times New Roman"/>
              </a:rPr>
              <a:t>)  شناسائي كلاس‌ها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شناسائي نام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051560" indent="-21024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مشتري، خودرو، سرويس، تعمير، كار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051560" indent="-21024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نام و آدرس از صفات مشتري محسوب مي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شو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051560" indent="-21024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شماره ماشين و مدل آن از صفات ماشين محسوب مي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گرد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051560" indent="-21024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نوع سرويس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(معمولي يا بااولويت) صفت سرويس محسوب مي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شو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051560" indent="-210240" algn="r" rtl="1">
              <a:lnSpc>
                <a:spcPct val="14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ماشين يك مالك دارد و آن مشتري است. 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«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كار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»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 در رابطه با ماشين انجام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مي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گيرد. يك كار شامل سرويس، تعمير يا هر دو مي‌باش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A91D-5D9F-4157-9DC1-D710FA77094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هداف جلس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آشنائي با مفاهيم اساسي مدلسازي كلاس‌ها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آشنائي با مراحل كلي تهيه نمودار كلاس‌ها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دلسازي كلاس‌ها  از ديدگاه 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RUP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آشنائي با مدل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اصلي كه در نظم تحليل وطراحي ايجاد مي‌شو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9999-A145-4DC3-A829-F0819A4067B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ثال: تعميرگاه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fa-IR" sz="2800" spc="-1" strike="noStrike">
                <a:solidFill>
                  <a:srgbClr val="006600"/>
                </a:solidFill>
                <a:latin typeface="Times New Roman"/>
              </a:rPr>
              <a:t>) </a:t>
            </a:r>
            <a:r>
              <a:rPr b="1" lang="ar-SA" sz="2800" spc="-1" strike="noStrike">
                <a:solidFill>
                  <a:srgbClr val="006600"/>
                </a:solidFill>
                <a:latin typeface="Times New Roman"/>
              </a:rPr>
              <a:t>شناسائي كلاس‌ها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شناسائي فعل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62" name="Group 4"/>
          <p:cNvGrpSpPr/>
          <p:nvPr/>
        </p:nvGrpSpPr>
        <p:grpSpPr>
          <a:xfrm>
            <a:off x="2124000" y="2970360"/>
            <a:ext cx="4876560" cy="3267000"/>
            <a:chOff x="2124000" y="2970360"/>
            <a:chExt cx="4876560" cy="3267000"/>
          </a:xfrm>
        </p:grpSpPr>
        <p:grpSp>
          <p:nvGrpSpPr>
            <p:cNvPr id="563" name="Group 5"/>
            <p:cNvGrpSpPr/>
            <p:nvPr/>
          </p:nvGrpSpPr>
          <p:grpSpPr>
            <a:xfrm>
              <a:off x="2130480" y="2973960"/>
              <a:ext cx="4862160" cy="3258720"/>
              <a:chOff x="2130480" y="2973960"/>
              <a:chExt cx="4862160" cy="3258720"/>
            </a:xfrm>
          </p:grpSpPr>
          <p:grpSp>
            <p:nvGrpSpPr>
              <p:cNvPr id="564" name="Group 6"/>
              <p:cNvGrpSpPr/>
              <p:nvPr/>
            </p:nvGrpSpPr>
            <p:grpSpPr>
              <a:xfrm>
                <a:off x="2130480" y="2973960"/>
                <a:ext cx="2407680" cy="543240"/>
                <a:chOff x="2130480" y="2973960"/>
                <a:chExt cx="2407680" cy="543240"/>
              </a:xfrm>
            </p:grpSpPr>
            <p:sp>
              <p:nvSpPr>
                <p:cNvPr id="565" name="Rectangle 7"/>
                <p:cNvSpPr/>
                <p:nvPr/>
              </p:nvSpPr>
              <p:spPr>
                <a:xfrm>
                  <a:off x="2130480" y="2973960"/>
                  <a:ext cx="2407680" cy="5432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566" name="Group 8"/>
                <p:cNvGrpSpPr/>
                <p:nvPr/>
              </p:nvGrpSpPr>
              <p:grpSpPr>
                <a:xfrm>
                  <a:off x="2130480" y="2973960"/>
                  <a:ext cx="2407320" cy="542880"/>
                  <a:chOff x="2130480" y="2973960"/>
                  <a:chExt cx="2407320" cy="542880"/>
                </a:xfrm>
              </p:grpSpPr>
              <p:sp>
                <p:nvSpPr>
                  <p:cNvPr id="567" name="Rectangle 9"/>
                  <p:cNvSpPr/>
                  <p:nvPr/>
                </p:nvSpPr>
                <p:spPr>
                  <a:xfrm>
                    <a:off x="2229120" y="2973960"/>
                    <a:ext cx="2212200" cy="54036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Nazanin"/>
                      </a:rPr>
                      <a:t>كلاس(هاي) كانديدا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8" name="Rectangle 10"/>
                  <p:cNvSpPr/>
                  <p:nvPr/>
                </p:nvSpPr>
                <p:spPr>
                  <a:xfrm>
                    <a:off x="2130480" y="2976480"/>
                    <a:ext cx="2407320" cy="540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569" name="Group 11"/>
              <p:cNvGrpSpPr/>
              <p:nvPr/>
            </p:nvGrpSpPr>
            <p:grpSpPr>
              <a:xfrm>
                <a:off x="4538520" y="2973960"/>
                <a:ext cx="2454120" cy="543240"/>
                <a:chOff x="4538520" y="2973960"/>
                <a:chExt cx="2454120" cy="543240"/>
              </a:xfrm>
            </p:grpSpPr>
            <p:sp>
              <p:nvSpPr>
                <p:cNvPr id="570" name="Rectangle 12"/>
                <p:cNvSpPr/>
                <p:nvPr/>
              </p:nvSpPr>
              <p:spPr>
                <a:xfrm>
                  <a:off x="4538520" y="2973960"/>
                  <a:ext cx="2454120" cy="5432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571" name="Group 13"/>
                <p:cNvGrpSpPr/>
                <p:nvPr/>
              </p:nvGrpSpPr>
              <p:grpSpPr>
                <a:xfrm>
                  <a:off x="4538520" y="2973960"/>
                  <a:ext cx="2453760" cy="542880"/>
                  <a:chOff x="4538520" y="2973960"/>
                  <a:chExt cx="2453760" cy="542880"/>
                </a:xfrm>
              </p:grpSpPr>
              <p:sp>
                <p:nvSpPr>
                  <p:cNvPr id="572" name="Rectangle 14"/>
                  <p:cNvSpPr/>
                  <p:nvPr/>
                </p:nvSpPr>
                <p:spPr>
                  <a:xfrm>
                    <a:off x="4637160" y="2973960"/>
                    <a:ext cx="2256120" cy="54036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Nazanin"/>
                      </a:rPr>
                      <a:t>عمل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3" name="Rectangle 15"/>
                  <p:cNvSpPr/>
                  <p:nvPr/>
                </p:nvSpPr>
                <p:spPr>
                  <a:xfrm>
                    <a:off x="4538520" y="2976480"/>
                    <a:ext cx="2453760" cy="540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574" name="Group 16"/>
              <p:cNvGrpSpPr/>
              <p:nvPr/>
            </p:nvGrpSpPr>
            <p:grpSpPr>
              <a:xfrm>
                <a:off x="2130480" y="3517200"/>
                <a:ext cx="2407680" cy="543240"/>
                <a:chOff x="2130480" y="3517200"/>
                <a:chExt cx="2407680" cy="543240"/>
              </a:xfrm>
            </p:grpSpPr>
            <p:sp>
              <p:nvSpPr>
                <p:cNvPr id="575" name="Rectangle 17"/>
                <p:cNvSpPr/>
                <p:nvPr/>
              </p:nvSpPr>
              <p:spPr>
                <a:xfrm>
                  <a:off x="2229120" y="3517200"/>
                  <a:ext cx="2212560" cy="5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0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مشتري، خودرو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6" name="Rectangle 18"/>
                <p:cNvSpPr/>
                <p:nvPr/>
              </p:nvSpPr>
              <p:spPr>
                <a:xfrm>
                  <a:off x="2130480" y="3519720"/>
                  <a:ext cx="240768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77" name="Group 19"/>
              <p:cNvGrpSpPr/>
              <p:nvPr/>
            </p:nvGrpSpPr>
            <p:grpSpPr>
              <a:xfrm>
                <a:off x="4538520" y="3517200"/>
                <a:ext cx="2454120" cy="543240"/>
                <a:chOff x="4538520" y="3517200"/>
                <a:chExt cx="2454120" cy="543240"/>
              </a:xfrm>
            </p:grpSpPr>
            <p:sp>
              <p:nvSpPr>
                <p:cNvPr id="578" name="Rectangle 20"/>
                <p:cNvSpPr/>
                <p:nvPr/>
              </p:nvSpPr>
              <p:spPr>
                <a:xfrm>
                  <a:off x="4637160" y="3517200"/>
                  <a:ext cx="2256480" cy="5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0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پيدا كردن مشتري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9" name="Rectangle 21"/>
                <p:cNvSpPr/>
                <p:nvPr/>
              </p:nvSpPr>
              <p:spPr>
                <a:xfrm>
                  <a:off x="4538520" y="3519720"/>
                  <a:ext cx="245412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0" name="Group 22"/>
              <p:cNvGrpSpPr/>
              <p:nvPr/>
            </p:nvGrpSpPr>
            <p:grpSpPr>
              <a:xfrm>
                <a:off x="2130480" y="4060440"/>
                <a:ext cx="2407680" cy="543240"/>
                <a:chOff x="2130480" y="4060440"/>
                <a:chExt cx="2407680" cy="543240"/>
              </a:xfrm>
            </p:grpSpPr>
            <p:sp>
              <p:nvSpPr>
                <p:cNvPr id="581" name="Rectangle 23"/>
                <p:cNvSpPr/>
                <p:nvPr/>
              </p:nvSpPr>
              <p:spPr>
                <a:xfrm>
                  <a:off x="2229120" y="4060440"/>
                  <a:ext cx="2212560" cy="5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0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مشتري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2" name="Rectangle 24"/>
                <p:cNvSpPr/>
                <p:nvPr/>
              </p:nvSpPr>
              <p:spPr>
                <a:xfrm>
                  <a:off x="2130480" y="4060440"/>
                  <a:ext cx="2407680" cy="5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3" name="Group 25"/>
              <p:cNvGrpSpPr/>
              <p:nvPr/>
            </p:nvGrpSpPr>
            <p:grpSpPr>
              <a:xfrm>
                <a:off x="4538520" y="4060440"/>
                <a:ext cx="2454120" cy="543240"/>
                <a:chOff x="4538520" y="4060440"/>
                <a:chExt cx="2454120" cy="543240"/>
              </a:xfrm>
            </p:grpSpPr>
            <p:sp>
              <p:nvSpPr>
                <p:cNvPr id="584" name="Rectangle 26"/>
                <p:cNvSpPr/>
                <p:nvPr/>
              </p:nvSpPr>
              <p:spPr>
                <a:xfrm>
                  <a:off x="4637160" y="4060440"/>
                  <a:ext cx="2256480" cy="5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0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اضافه مشتري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5" name="Rectangle 27"/>
                <p:cNvSpPr/>
                <p:nvPr/>
              </p:nvSpPr>
              <p:spPr>
                <a:xfrm>
                  <a:off x="4538520" y="4060440"/>
                  <a:ext cx="2454120" cy="5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6" name="Group 28"/>
              <p:cNvGrpSpPr/>
              <p:nvPr/>
            </p:nvGrpSpPr>
            <p:grpSpPr>
              <a:xfrm>
                <a:off x="2130480" y="4603680"/>
                <a:ext cx="2407680" cy="543240"/>
                <a:chOff x="2130480" y="4603680"/>
                <a:chExt cx="2407680" cy="543240"/>
              </a:xfrm>
            </p:grpSpPr>
            <p:sp>
              <p:nvSpPr>
                <p:cNvPr id="587" name="Rectangle 29"/>
                <p:cNvSpPr/>
                <p:nvPr/>
              </p:nvSpPr>
              <p:spPr>
                <a:xfrm>
                  <a:off x="2229120" y="4603680"/>
                  <a:ext cx="2212560" cy="5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0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سرويس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8" name="Rectangle 30"/>
                <p:cNvSpPr/>
                <p:nvPr/>
              </p:nvSpPr>
              <p:spPr>
                <a:xfrm>
                  <a:off x="2130480" y="4603680"/>
                  <a:ext cx="2407680" cy="5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9" name="Group 31"/>
              <p:cNvGrpSpPr/>
              <p:nvPr/>
            </p:nvGrpSpPr>
            <p:grpSpPr>
              <a:xfrm>
                <a:off x="4538520" y="4603680"/>
                <a:ext cx="2454120" cy="543240"/>
                <a:chOff x="4538520" y="4603680"/>
                <a:chExt cx="2454120" cy="543240"/>
              </a:xfrm>
            </p:grpSpPr>
            <p:sp>
              <p:nvSpPr>
                <p:cNvPr id="590" name="Rectangle 32"/>
                <p:cNvSpPr/>
                <p:nvPr/>
              </p:nvSpPr>
              <p:spPr>
                <a:xfrm>
                  <a:off x="4637160" y="4603680"/>
                  <a:ext cx="2256480" cy="5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0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پيدا كردن سرويس</a:t>
                  </a:r>
                  <a:r>
                    <a:rPr b="1" lang="fa-IR" sz="20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‌</a:t>
                  </a:r>
                  <a:r>
                    <a:rPr b="1" lang="ar-SA" sz="20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ها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1" name="Rectangle 33"/>
                <p:cNvSpPr/>
                <p:nvPr/>
              </p:nvSpPr>
              <p:spPr>
                <a:xfrm>
                  <a:off x="4538520" y="4603680"/>
                  <a:ext cx="2454120" cy="5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92" name="Group 34"/>
              <p:cNvGrpSpPr/>
              <p:nvPr/>
            </p:nvGrpSpPr>
            <p:grpSpPr>
              <a:xfrm>
                <a:off x="2130480" y="5146920"/>
                <a:ext cx="2407680" cy="543240"/>
                <a:chOff x="2130480" y="5146920"/>
                <a:chExt cx="2407680" cy="543240"/>
              </a:xfrm>
            </p:grpSpPr>
            <p:sp>
              <p:nvSpPr>
                <p:cNvPr id="593" name="Rectangle 35"/>
                <p:cNvSpPr/>
                <p:nvPr/>
              </p:nvSpPr>
              <p:spPr>
                <a:xfrm>
                  <a:off x="2229120" y="5146920"/>
                  <a:ext cx="2212560" cy="5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0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تعمير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4" name="Rectangle 36"/>
                <p:cNvSpPr/>
                <p:nvPr/>
              </p:nvSpPr>
              <p:spPr>
                <a:xfrm>
                  <a:off x="2130480" y="5146920"/>
                  <a:ext cx="24076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95" name="Group 37"/>
              <p:cNvGrpSpPr/>
              <p:nvPr/>
            </p:nvGrpSpPr>
            <p:grpSpPr>
              <a:xfrm>
                <a:off x="4538520" y="5146920"/>
                <a:ext cx="2454120" cy="543240"/>
                <a:chOff x="4538520" y="5146920"/>
                <a:chExt cx="2454120" cy="543240"/>
              </a:xfrm>
            </p:grpSpPr>
            <p:sp>
              <p:nvSpPr>
                <p:cNvPr id="596" name="Rectangle 38"/>
                <p:cNvSpPr/>
                <p:nvPr/>
              </p:nvSpPr>
              <p:spPr>
                <a:xfrm>
                  <a:off x="4637160" y="5146920"/>
                  <a:ext cx="2256480" cy="5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0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پيد</a:t>
                  </a:r>
                  <a:r>
                    <a:rPr b="1" lang="fa-IR" sz="20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ا</a:t>
                  </a:r>
                  <a:r>
                    <a:rPr b="1" lang="ar-SA" sz="20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 كردن تعميرها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" name="Rectangle 39"/>
                <p:cNvSpPr/>
                <p:nvPr/>
              </p:nvSpPr>
              <p:spPr>
                <a:xfrm>
                  <a:off x="4538520" y="5146920"/>
                  <a:ext cx="245412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98" name="Group 40"/>
              <p:cNvGrpSpPr/>
              <p:nvPr/>
            </p:nvGrpSpPr>
            <p:grpSpPr>
              <a:xfrm>
                <a:off x="2130480" y="5690160"/>
                <a:ext cx="2407680" cy="542520"/>
                <a:chOff x="2130480" y="5690160"/>
                <a:chExt cx="2407680" cy="542520"/>
              </a:xfrm>
            </p:grpSpPr>
            <p:sp>
              <p:nvSpPr>
                <p:cNvPr id="599" name="Rectangle 41"/>
                <p:cNvSpPr/>
                <p:nvPr/>
              </p:nvSpPr>
              <p:spPr>
                <a:xfrm>
                  <a:off x="2229120" y="5692320"/>
                  <a:ext cx="221256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0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كار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0" name="Rectangle 42"/>
                <p:cNvSpPr/>
                <p:nvPr/>
              </p:nvSpPr>
              <p:spPr>
                <a:xfrm>
                  <a:off x="2130480" y="5690160"/>
                  <a:ext cx="240768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1" name="Group 43"/>
              <p:cNvGrpSpPr/>
              <p:nvPr/>
            </p:nvGrpSpPr>
            <p:grpSpPr>
              <a:xfrm>
                <a:off x="4538520" y="5690160"/>
                <a:ext cx="2454120" cy="542520"/>
                <a:chOff x="4538520" y="5690160"/>
                <a:chExt cx="2454120" cy="542520"/>
              </a:xfrm>
            </p:grpSpPr>
            <p:sp>
              <p:nvSpPr>
                <p:cNvPr id="602" name="Rectangle 44"/>
                <p:cNvSpPr/>
                <p:nvPr/>
              </p:nvSpPr>
              <p:spPr>
                <a:xfrm>
                  <a:off x="4637160" y="5692320"/>
                  <a:ext cx="225648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0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رزرو كار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3" name="Rectangle 45"/>
                <p:cNvSpPr/>
                <p:nvPr/>
              </p:nvSpPr>
              <p:spPr>
                <a:xfrm>
                  <a:off x="4538520" y="5690160"/>
                  <a:ext cx="245412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04" name="Rectangle 46"/>
            <p:cNvSpPr/>
            <p:nvPr/>
          </p:nvSpPr>
          <p:spPr>
            <a:xfrm>
              <a:off x="2124000" y="2970360"/>
              <a:ext cx="4876560" cy="3267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9D8A-D9AD-4ADE-BF5E-973CA89FE97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ثال: تعميرگاه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ar-SA" sz="2800" spc="-1" strike="noStrike">
                <a:solidFill>
                  <a:srgbClr val="006600"/>
                </a:solidFill>
                <a:latin typeface="Times New Roman"/>
              </a:rPr>
              <a:t>) ترسيم برداشت اوليه از نمودار كلاس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ar-SA" sz="2800" spc="-1" strike="noStrike">
                <a:solidFill>
                  <a:srgbClr val="006600"/>
                </a:solidFill>
                <a:latin typeface="Times New Roman"/>
              </a:rPr>
              <a:t>) تكميل نمودار و </a:t>
            </a:r>
            <a:r>
              <a:rPr b="1" lang="fa-IR" sz="2800" spc="-1" strike="noStrike">
                <a:solidFill>
                  <a:srgbClr val="006600"/>
                </a:solidFill>
                <a:latin typeface="Times New Roman"/>
              </a:rPr>
              <a:t>افزودن</a:t>
            </a:r>
            <a:r>
              <a:rPr b="1" lang="ar-SA" sz="2800" spc="-1" strike="noStrike">
                <a:solidFill>
                  <a:srgbClr val="006600"/>
                </a:solidFill>
                <a:latin typeface="Times New Roman"/>
              </a:rPr>
              <a:t> صفات و عمليات مهم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08" name="Picture 4" descr="class-2"/>
          <p:cNvPicPr/>
          <p:nvPr/>
        </p:nvPicPr>
        <p:blipFill>
          <a:blip r:embed="rId1">
            <a:grayscl/>
          </a:blip>
          <a:stretch/>
        </p:blipFill>
        <p:spPr>
          <a:xfrm>
            <a:off x="2195640" y="2879640"/>
            <a:ext cx="45370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C23B-9A7F-4489-B549-FEE481A061F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ثال: تعميرگاه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Times New Roman"/>
              </a:rPr>
              <a:t>4</a:t>
            </a:r>
            <a:r>
              <a:rPr b="1" lang="ar-SA" sz="2800" spc="-1" strike="noStrike">
                <a:solidFill>
                  <a:srgbClr val="006600"/>
                </a:solidFill>
                <a:latin typeface="Times New Roman"/>
              </a:rPr>
              <a:t>) اعمال مفاهيم روابط تجمعي، وراثت و وابستگ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12" name="Picture 4" descr="class-3"/>
          <p:cNvPicPr/>
          <p:nvPr/>
        </p:nvPicPr>
        <p:blipFill>
          <a:blip r:embed="rId1">
            <a:grayscl/>
          </a:blip>
          <a:stretch/>
        </p:blipFill>
        <p:spPr>
          <a:xfrm>
            <a:off x="826920" y="2637000"/>
            <a:ext cx="753120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432D-1E1D-4E85-9B81-91A150A7D42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ثال: تعميرگاه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15" name="Picture 4" descr="class-4"/>
          <p:cNvPicPr/>
          <p:nvPr/>
        </p:nvPicPr>
        <p:blipFill>
          <a:blip r:embed="rId1">
            <a:grayscl/>
          </a:blip>
          <a:stretch/>
        </p:blipFill>
        <p:spPr>
          <a:xfrm>
            <a:off x="1763640" y="2708280"/>
            <a:ext cx="6248520" cy="23684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5"/>
          <p:cNvSpPr/>
          <p:nvPr/>
        </p:nvSpPr>
        <p:spPr>
          <a:xfrm>
            <a:off x="3203640" y="1484280"/>
            <a:ext cx="51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Times New Roman"/>
                <a:cs typeface="Nazanin"/>
              </a:rPr>
              <a:t>اعمال رابطه تجمعي به نمودار كلاس</a:t>
            </a:r>
            <a:r>
              <a:rPr b="1" lang="ar-SA" sz="2800" spc="-1" strike="noStrike">
                <a:solidFill>
                  <a:srgbClr val="006600"/>
                </a:solidFill>
                <a:latin typeface="Times New Roman"/>
                <a:ea typeface="Homa"/>
              </a:rPr>
              <a:t>‌</a:t>
            </a:r>
            <a:r>
              <a:rPr b="1" lang="ar-SA" sz="2800" spc="-1" strike="noStrike">
                <a:solidFill>
                  <a:srgbClr val="006600"/>
                </a:solidFill>
                <a:latin typeface="Times New Roman"/>
                <a:cs typeface="Nazanin"/>
              </a:rPr>
              <a:t>ها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72B1-32AF-41E4-BF1A-9B6D8CF9ABE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 rtl="1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400" spc="-1" strike="noStrike">
                <a:solidFill>
                  <a:srgbClr val="000099"/>
                </a:solidFill>
                <a:latin typeface="Times New Roman"/>
              </a:rPr>
              <a:t>پرسش و پاسخ</a:t>
            </a:r>
            <a:endParaRPr b="1" lang="en-US" sz="8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22CA-3D76-4A8F-B848-1BFC37E45BA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هرست مطال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فاهيم اساس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راحل تهيه نمودار كلاس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دلسازي كلاس‌ها  در 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RUP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دل تحليل و نحوه ايجاد آ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دل طراحي و نحوه ايجاد آ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دل داده‌ا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ثال تشريح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EA1D-A5E0-4B63-97C0-149AA93B680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قدم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كلاس‌ها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ز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همترين ع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صر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زيربنائ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در يك سيستم ش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گرا محسوب م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و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رايج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رين نوع استفاده از كلاس‌ها، مدلسازي از طريق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واژگان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Vocabulary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) سيستم مورد نظر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2" name="Picture 4" descr="Schoolwork"/>
          <p:cNvPicPr/>
          <p:nvPr/>
        </p:nvPicPr>
        <p:blipFill>
          <a:blip r:embed="rId1"/>
          <a:stretch/>
        </p:blipFill>
        <p:spPr>
          <a:xfrm>
            <a:off x="755640" y="4149720"/>
            <a:ext cx="22287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FB74-E7EA-432E-A9C4-FA4E3DC08C2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ن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ع اصلي تشخيص كلاس‌ها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و منبع اصلي براي تشخيص كلاس‌ها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r>
              <a:rPr b="1" lang="ar-SA" sz="2400" spc="-1" strike="noStrike">
                <a:solidFill>
                  <a:srgbClr val="009900"/>
                </a:solidFill>
                <a:latin typeface="Times New Roman"/>
              </a:rPr>
              <a:t>)  دامنه مسئله</a:t>
            </a:r>
            <a:r>
              <a:rPr b="1" lang="fa-IR" sz="2400" spc="-1" strike="noStrike">
                <a:solidFill>
                  <a:srgbClr val="009900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9900"/>
                </a:solidFill>
                <a:latin typeface="Times New Roman"/>
              </a:rPr>
              <a:t>Problem Domain</a:t>
            </a:r>
            <a:r>
              <a:rPr b="1" lang="fa-IR" sz="24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009900"/>
                </a:solidFill>
                <a:latin typeface="Times New Roman"/>
              </a:rPr>
              <a:t>)  دامنه راه</a:t>
            </a:r>
            <a:r>
              <a:rPr b="1" lang="fa-IR" sz="2400" spc="-1" strike="noStrike">
                <a:solidFill>
                  <a:srgbClr val="0099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9900"/>
                </a:solidFill>
                <a:latin typeface="Times New Roman"/>
              </a:rPr>
              <a:t>حل</a:t>
            </a:r>
            <a:r>
              <a:rPr b="1" lang="fa-IR" sz="2400" spc="-1" strike="noStrike">
                <a:solidFill>
                  <a:srgbClr val="009900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9900"/>
                </a:solidFill>
                <a:latin typeface="Times New Roman"/>
              </a:rPr>
              <a:t>Solution Domain</a:t>
            </a:r>
            <a:r>
              <a:rPr b="1" lang="fa-IR" sz="24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771640" y="4062240"/>
            <a:ext cx="55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cs typeface="Nazanin"/>
              </a:rPr>
              <a:t>توصيف فضاي مسئله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  <a:ea typeface="Nazanin"/>
              </a:rPr>
              <a:t>                 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Nazanin"/>
              </a:rPr>
              <a:t>مدل تحلي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665600" y="4019400"/>
            <a:ext cx="685800" cy="486000"/>
          </a:xfrm>
          <a:prstGeom prst="leftArrow">
            <a:avLst>
              <a:gd name="adj1" fmla="val 60787"/>
              <a:gd name="adj2" fmla="val 48997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" name="Group 6"/>
          <p:cNvGrpSpPr/>
          <p:nvPr/>
        </p:nvGrpSpPr>
        <p:grpSpPr>
          <a:xfrm>
            <a:off x="900000" y="3645000"/>
            <a:ext cx="1617840" cy="1139400"/>
            <a:chOff x="900000" y="3645000"/>
            <a:chExt cx="1617840" cy="1139400"/>
          </a:xfrm>
        </p:grpSpPr>
        <p:grpSp>
          <p:nvGrpSpPr>
            <p:cNvPr id="119" name="Group 7"/>
            <p:cNvGrpSpPr/>
            <p:nvPr/>
          </p:nvGrpSpPr>
          <p:grpSpPr>
            <a:xfrm>
              <a:off x="1798560" y="3645000"/>
              <a:ext cx="346320" cy="419040"/>
              <a:chOff x="1798560" y="3645000"/>
              <a:chExt cx="346320" cy="419040"/>
            </a:xfrm>
          </p:grpSpPr>
          <p:sp>
            <p:nvSpPr>
              <p:cNvPr id="120" name="Line 8"/>
              <p:cNvSpPr/>
              <p:nvPr/>
            </p:nvSpPr>
            <p:spPr>
              <a:xfrm flipV="1">
                <a:off x="1905480" y="3645000"/>
                <a:ext cx="96120" cy="8856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9"/>
              <p:cNvSpPr/>
              <p:nvPr/>
            </p:nvSpPr>
            <p:spPr>
              <a:xfrm flipH="1" flipV="1">
                <a:off x="1909080" y="3729600"/>
                <a:ext cx="90720" cy="8316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Oval 10"/>
              <p:cNvSpPr/>
              <p:nvPr/>
            </p:nvSpPr>
            <p:spPr>
              <a:xfrm>
                <a:off x="1798560" y="3717720"/>
                <a:ext cx="346320" cy="346320"/>
              </a:xfrm>
              <a:prstGeom prst="ellipse">
                <a:avLst/>
              </a:prstGeom>
              <a:noFill/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3" name="Group 11"/>
            <p:cNvGrpSpPr/>
            <p:nvPr/>
          </p:nvGrpSpPr>
          <p:grpSpPr>
            <a:xfrm>
              <a:off x="1444680" y="4438440"/>
              <a:ext cx="363600" cy="345960"/>
              <a:chOff x="1444680" y="4438440"/>
              <a:chExt cx="363600" cy="345960"/>
            </a:xfrm>
          </p:grpSpPr>
          <p:sp>
            <p:nvSpPr>
              <p:cNvPr id="124" name="Oval 12"/>
              <p:cNvSpPr/>
              <p:nvPr/>
            </p:nvSpPr>
            <p:spPr>
              <a:xfrm>
                <a:off x="1450080" y="4438440"/>
                <a:ext cx="346680" cy="345960"/>
              </a:xfrm>
              <a:prstGeom prst="ellipse">
                <a:avLst/>
              </a:prstGeom>
              <a:noFill/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Line 13"/>
              <p:cNvSpPr/>
              <p:nvPr/>
            </p:nvSpPr>
            <p:spPr>
              <a:xfrm>
                <a:off x="1444680" y="4784400"/>
                <a:ext cx="363600" cy="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6" name="Group 14"/>
            <p:cNvGrpSpPr/>
            <p:nvPr/>
          </p:nvGrpSpPr>
          <p:grpSpPr>
            <a:xfrm>
              <a:off x="900000" y="3890880"/>
              <a:ext cx="482400" cy="345600"/>
              <a:chOff x="900000" y="3890880"/>
              <a:chExt cx="482400" cy="345600"/>
            </a:xfrm>
          </p:grpSpPr>
          <p:sp>
            <p:nvSpPr>
              <p:cNvPr id="127" name="Oval 15"/>
              <p:cNvSpPr/>
              <p:nvPr/>
            </p:nvSpPr>
            <p:spPr>
              <a:xfrm>
                <a:off x="1036080" y="3890880"/>
                <a:ext cx="346320" cy="345600"/>
              </a:xfrm>
              <a:prstGeom prst="ellipse">
                <a:avLst/>
              </a:prstGeom>
              <a:noFill/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Line 16"/>
              <p:cNvSpPr/>
              <p:nvPr/>
            </p:nvSpPr>
            <p:spPr>
              <a:xfrm>
                <a:off x="900000" y="3951360"/>
                <a:ext cx="0" cy="22464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Line 17"/>
              <p:cNvSpPr/>
              <p:nvPr/>
            </p:nvSpPr>
            <p:spPr>
              <a:xfrm flipH="1">
                <a:off x="900000" y="4063680"/>
                <a:ext cx="136080" cy="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0" name="Group 18"/>
            <p:cNvGrpSpPr/>
            <p:nvPr/>
          </p:nvGrpSpPr>
          <p:grpSpPr>
            <a:xfrm>
              <a:off x="2154240" y="4262400"/>
              <a:ext cx="363600" cy="345600"/>
              <a:chOff x="2154240" y="4262400"/>
              <a:chExt cx="363600" cy="345600"/>
            </a:xfrm>
          </p:grpSpPr>
          <p:sp>
            <p:nvSpPr>
              <p:cNvPr id="131" name="Oval 19"/>
              <p:cNvSpPr/>
              <p:nvPr/>
            </p:nvSpPr>
            <p:spPr>
              <a:xfrm>
                <a:off x="2159640" y="4262400"/>
                <a:ext cx="346680" cy="345600"/>
              </a:xfrm>
              <a:prstGeom prst="ellipse">
                <a:avLst/>
              </a:prstGeom>
              <a:noFill/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Line 20"/>
              <p:cNvSpPr/>
              <p:nvPr/>
            </p:nvSpPr>
            <p:spPr>
              <a:xfrm>
                <a:off x="2154240" y="4608000"/>
                <a:ext cx="363600" cy="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3" name="Line 21"/>
            <p:cNvSpPr/>
            <p:nvPr/>
          </p:nvSpPr>
          <p:spPr>
            <a:xfrm>
              <a:off x="1311480" y="4186080"/>
              <a:ext cx="299880" cy="252000"/>
            </a:xfrm>
            <a:prstGeom prst="line">
              <a:avLst/>
            </a:prstGeom>
            <a:ln w="2844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Line 22"/>
            <p:cNvSpPr/>
            <p:nvPr/>
          </p:nvSpPr>
          <p:spPr>
            <a:xfrm flipV="1">
              <a:off x="1382760" y="3950640"/>
              <a:ext cx="415800" cy="112680"/>
            </a:xfrm>
            <a:prstGeom prst="line">
              <a:avLst/>
            </a:prstGeom>
            <a:ln w="2844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 flipV="1">
              <a:off x="1611360" y="4063680"/>
              <a:ext cx="293760" cy="374040"/>
            </a:xfrm>
            <a:prstGeom prst="line">
              <a:avLst/>
            </a:prstGeom>
            <a:ln w="2844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 flipV="1">
              <a:off x="1797120" y="4438080"/>
              <a:ext cx="357120" cy="169560"/>
            </a:xfrm>
            <a:prstGeom prst="line">
              <a:avLst/>
            </a:prstGeom>
            <a:ln w="2844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" name="AutoShape 26"/>
          <p:cNvSpPr/>
          <p:nvPr/>
        </p:nvSpPr>
        <p:spPr>
          <a:xfrm>
            <a:off x="4665600" y="5327640"/>
            <a:ext cx="685800" cy="485640"/>
          </a:xfrm>
          <a:prstGeom prst="leftArrow">
            <a:avLst>
              <a:gd name="adj1" fmla="val 60787"/>
              <a:gd name="adj2" fmla="val 49033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8" name="Group 27"/>
          <p:cNvGrpSpPr/>
          <p:nvPr/>
        </p:nvGrpSpPr>
        <p:grpSpPr>
          <a:xfrm>
            <a:off x="971640" y="5084640"/>
            <a:ext cx="1447200" cy="990360"/>
            <a:chOff x="971640" y="5084640"/>
            <a:chExt cx="1447200" cy="990360"/>
          </a:xfrm>
        </p:grpSpPr>
        <p:grpSp>
          <p:nvGrpSpPr>
            <p:cNvPr id="139" name="Group 28"/>
            <p:cNvGrpSpPr/>
            <p:nvPr/>
          </p:nvGrpSpPr>
          <p:grpSpPr>
            <a:xfrm>
              <a:off x="971640" y="5290200"/>
              <a:ext cx="351000" cy="226080"/>
              <a:chOff x="971640" y="5290200"/>
              <a:chExt cx="351000" cy="226080"/>
            </a:xfrm>
          </p:grpSpPr>
          <p:sp>
            <p:nvSpPr>
              <p:cNvPr id="140" name="Rectangle 29"/>
              <p:cNvSpPr/>
              <p:nvPr/>
            </p:nvSpPr>
            <p:spPr>
              <a:xfrm>
                <a:off x="971640" y="5290200"/>
                <a:ext cx="351000" cy="226080"/>
              </a:xfrm>
              <a:prstGeom prst="rect">
                <a:avLst/>
              </a:prstGeom>
              <a:noFill/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Line 30"/>
              <p:cNvSpPr/>
              <p:nvPr/>
            </p:nvSpPr>
            <p:spPr>
              <a:xfrm>
                <a:off x="971640" y="5454360"/>
                <a:ext cx="351000" cy="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Line 31"/>
              <p:cNvSpPr/>
              <p:nvPr/>
            </p:nvSpPr>
            <p:spPr>
              <a:xfrm>
                <a:off x="971640" y="5396400"/>
                <a:ext cx="351000" cy="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3" name="Group 32"/>
            <p:cNvGrpSpPr/>
            <p:nvPr/>
          </p:nvGrpSpPr>
          <p:grpSpPr>
            <a:xfrm>
              <a:off x="1716840" y="5084640"/>
              <a:ext cx="351000" cy="226080"/>
              <a:chOff x="1716840" y="5084640"/>
              <a:chExt cx="351000" cy="226080"/>
            </a:xfrm>
          </p:grpSpPr>
          <p:sp>
            <p:nvSpPr>
              <p:cNvPr id="144" name="Rectangle 33"/>
              <p:cNvSpPr/>
              <p:nvPr/>
            </p:nvSpPr>
            <p:spPr>
              <a:xfrm>
                <a:off x="1716840" y="5084640"/>
                <a:ext cx="351000" cy="226080"/>
              </a:xfrm>
              <a:prstGeom prst="rect">
                <a:avLst/>
              </a:prstGeom>
              <a:noFill/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Line 34"/>
              <p:cNvSpPr/>
              <p:nvPr/>
            </p:nvSpPr>
            <p:spPr>
              <a:xfrm>
                <a:off x="1716840" y="5248800"/>
                <a:ext cx="351000" cy="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Line 35"/>
              <p:cNvSpPr/>
              <p:nvPr/>
            </p:nvSpPr>
            <p:spPr>
              <a:xfrm>
                <a:off x="1716840" y="5190840"/>
                <a:ext cx="351000" cy="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7" name="Group 36"/>
            <p:cNvGrpSpPr/>
            <p:nvPr/>
          </p:nvGrpSpPr>
          <p:grpSpPr>
            <a:xfrm>
              <a:off x="1365840" y="5848920"/>
              <a:ext cx="351000" cy="226080"/>
              <a:chOff x="1365840" y="5848920"/>
              <a:chExt cx="351000" cy="226080"/>
            </a:xfrm>
          </p:grpSpPr>
          <p:sp>
            <p:nvSpPr>
              <p:cNvPr id="148" name="Rectangle 37"/>
              <p:cNvSpPr/>
              <p:nvPr/>
            </p:nvSpPr>
            <p:spPr>
              <a:xfrm>
                <a:off x="1365840" y="5848920"/>
                <a:ext cx="351000" cy="226080"/>
              </a:xfrm>
              <a:prstGeom prst="rect">
                <a:avLst/>
              </a:prstGeom>
              <a:noFill/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Line 38"/>
              <p:cNvSpPr/>
              <p:nvPr/>
            </p:nvSpPr>
            <p:spPr>
              <a:xfrm>
                <a:off x="1365840" y="6013080"/>
                <a:ext cx="351000" cy="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39"/>
              <p:cNvSpPr/>
              <p:nvPr/>
            </p:nvSpPr>
            <p:spPr>
              <a:xfrm>
                <a:off x="1365840" y="5955120"/>
                <a:ext cx="351000" cy="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1" name="Group 40"/>
            <p:cNvGrpSpPr/>
            <p:nvPr/>
          </p:nvGrpSpPr>
          <p:grpSpPr>
            <a:xfrm>
              <a:off x="2068200" y="5743080"/>
              <a:ext cx="350640" cy="226080"/>
              <a:chOff x="2068200" y="5743080"/>
              <a:chExt cx="350640" cy="226080"/>
            </a:xfrm>
          </p:grpSpPr>
          <p:sp>
            <p:nvSpPr>
              <p:cNvPr id="152" name="Rectangle 41"/>
              <p:cNvSpPr/>
              <p:nvPr/>
            </p:nvSpPr>
            <p:spPr>
              <a:xfrm>
                <a:off x="2068200" y="5743080"/>
                <a:ext cx="350640" cy="226080"/>
              </a:xfrm>
              <a:prstGeom prst="rect">
                <a:avLst/>
              </a:prstGeom>
              <a:noFill/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Line 42"/>
              <p:cNvSpPr/>
              <p:nvPr/>
            </p:nvSpPr>
            <p:spPr>
              <a:xfrm>
                <a:off x="2068200" y="5907240"/>
                <a:ext cx="350640" cy="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Line 43"/>
              <p:cNvSpPr/>
              <p:nvPr/>
            </p:nvSpPr>
            <p:spPr>
              <a:xfrm>
                <a:off x="2068200" y="5849280"/>
                <a:ext cx="350640" cy="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5" name="Line 44"/>
            <p:cNvSpPr/>
            <p:nvPr/>
          </p:nvSpPr>
          <p:spPr>
            <a:xfrm flipH="1" flipV="1">
              <a:off x="1150200" y="5516280"/>
              <a:ext cx="362520" cy="332280"/>
            </a:xfrm>
            <a:prstGeom prst="line">
              <a:avLst/>
            </a:prstGeom>
            <a:ln w="2844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45"/>
            <p:cNvSpPr/>
            <p:nvPr/>
          </p:nvSpPr>
          <p:spPr>
            <a:xfrm flipV="1">
              <a:off x="1322640" y="5198040"/>
              <a:ext cx="394200" cy="197640"/>
            </a:xfrm>
            <a:prstGeom prst="line">
              <a:avLst/>
            </a:prstGeom>
            <a:ln w="2844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46"/>
            <p:cNvSpPr/>
            <p:nvPr/>
          </p:nvSpPr>
          <p:spPr>
            <a:xfrm flipV="1">
              <a:off x="1716840" y="5848920"/>
              <a:ext cx="351000" cy="105840"/>
            </a:xfrm>
            <a:prstGeom prst="line">
              <a:avLst/>
            </a:prstGeom>
            <a:ln w="2844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Line 47"/>
            <p:cNvSpPr/>
            <p:nvPr/>
          </p:nvSpPr>
          <p:spPr>
            <a:xfrm flipV="1">
              <a:off x="1513440" y="5310720"/>
              <a:ext cx="382320" cy="537840"/>
            </a:xfrm>
            <a:prstGeom prst="line">
              <a:avLst/>
            </a:prstGeom>
            <a:ln w="2844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9" name="Rectangle 49"/>
          <p:cNvSpPr/>
          <p:nvPr/>
        </p:nvSpPr>
        <p:spPr>
          <a:xfrm>
            <a:off x="2844720" y="531972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cs typeface="Nazanin"/>
              </a:rPr>
              <a:t>توصيف فضاي 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  <a:cs typeface="Nazanin"/>
              </a:rPr>
              <a:t>راه‌حل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  <a:ea typeface="Nazanin"/>
              </a:rPr>
              <a:t>                 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Nazanin"/>
              </a:rPr>
              <a:t>مدل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  <a:cs typeface="Nazanin"/>
              </a:rPr>
              <a:t>طراح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73B8-2A91-4851-82C6-37716348150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فاهيم اساس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كلاس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فاهيم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كلاس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شئ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صفات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عمليات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روابط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بين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كلاس‌ها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جزو مفاهيم اساسي كه در فصل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ه آن پرداخته شده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Times New Roman"/>
              </a:rPr>
              <a:t>رابطه وابستگ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نشان مي‌دهد كه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تغيير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در مشخصات يك كلاس مي‌تواند روي كلاس ديگري كه از اين كلاس استفاده مي‌كند، اثر گذا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097280" indent="-219240" algn="r" rtl="1">
              <a:lnSpc>
                <a:spcPct val="15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البته عكس اين مطلب ضرورتاً درست نيست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822D-E8B9-4CA6-819B-4D9699E3FED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فاهيم اساس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كلاس‌ها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ثال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1979640" y="1628640"/>
          <a:ext cx="45640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628640"/>
                    <a:ext cx="45640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E41F-6BEF-41EF-8D61-3754BE49951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راحل تهيه نمودار كلاس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ناسائي كلاس‌ها 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رسيم برداشت اوليه از نمودار كلاس‌ها  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كميل جزئيات كلاس‌ها 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كميل نمودار كلاس‌ها 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46F7-9A1A-4414-8215-475AA0B9E45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لسازي كلاس‌ها  در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UP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1673280" y="3832200"/>
            <a:ext cx="1713960" cy="1718280"/>
            <a:chOff x="1673280" y="3832200"/>
            <a:chExt cx="1713960" cy="1718280"/>
          </a:xfrm>
        </p:grpSpPr>
        <p:grpSp>
          <p:nvGrpSpPr>
            <p:cNvPr id="174" name="Group 5"/>
            <p:cNvGrpSpPr/>
            <p:nvPr/>
          </p:nvGrpSpPr>
          <p:grpSpPr>
            <a:xfrm>
              <a:off x="2202480" y="3832200"/>
              <a:ext cx="655560" cy="1006920"/>
              <a:chOff x="2202480" y="3832200"/>
              <a:chExt cx="655560" cy="1006920"/>
            </a:xfrm>
          </p:grpSpPr>
          <p:sp>
            <p:nvSpPr>
              <p:cNvPr id="175" name="Rectangle 6"/>
              <p:cNvSpPr/>
              <p:nvPr/>
            </p:nvSpPr>
            <p:spPr>
              <a:xfrm>
                <a:off x="2202480" y="3832200"/>
                <a:ext cx="655560" cy="1006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Line 7"/>
              <p:cNvSpPr/>
              <p:nvPr/>
            </p:nvSpPr>
            <p:spPr>
              <a:xfrm>
                <a:off x="2639520" y="3832200"/>
                <a:ext cx="218520" cy="20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Line 8"/>
              <p:cNvSpPr/>
              <p:nvPr/>
            </p:nvSpPr>
            <p:spPr>
              <a:xfrm>
                <a:off x="2639520" y="3832200"/>
                <a:ext cx="0" cy="20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" name="Line 9"/>
              <p:cNvSpPr/>
              <p:nvPr/>
            </p:nvSpPr>
            <p:spPr>
              <a:xfrm flipH="1">
                <a:off x="2639160" y="4033440"/>
                <a:ext cx="21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" name="Line 10"/>
              <p:cNvSpPr/>
              <p:nvPr/>
            </p:nvSpPr>
            <p:spPr>
              <a:xfrm>
                <a:off x="2274840" y="4167720"/>
                <a:ext cx="50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Line 11"/>
              <p:cNvSpPr/>
              <p:nvPr/>
            </p:nvSpPr>
            <p:spPr>
              <a:xfrm>
                <a:off x="2274840" y="4234680"/>
                <a:ext cx="50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Line 12"/>
              <p:cNvSpPr/>
              <p:nvPr/>
            </p:nvSpPr>
            <p:spPr>
              <a:xfrm>
                <a:off x="2274840" y="4301640"/>
                <a:ext cx="50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" name="Line 13"/>
              <p:cNvSpPr/>
              <p:nvPr/>
            </p:nvSpPr>
            <p:spPr>
              <a:xfrm>
                <a:off x="2274840" y="4436280"/>
                <a:ext cx="50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" name="Line 14"/>
              <p:cNvSpPr/>
              <p:nvPr/>
            </p:nvSpPr>
            <p:spPr>
              <a:xfrm>
                <a:off x="2274840" y="4368960"/>
                <a:ext cx="50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" name="Line 15"/>
              <p:cNvSpPr/>
              <p:nvPr/>
            </p:nvSpPr>
            <p:spPr>
              <a:xfrm>
                <a:off x="2274840" y="4503240"/>
                <a:ext cx="50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" name="Line 16"/>
              <p:cNvSpPr/>
              <p:nvPr/>
            </p:nvSpPr>
            <p:spPr>
              <a:xfrm>
                <a:off x="2274840" y="4570200"/>
                <a:ext cx="50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Line 17"/>
              <p:cNvSpPr/>
              <p:nvPr/>
            </p:nvSpPr>
            <p:spPr>
              <a:xfrm>
                <a:off x="2274840" y="4637520"/>
                <a:ext cx="50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" name="Line 18"/>
              <p:cNvSpPr/>
              <p:nvPr/>
            </p:nvSpPr>
            <p:spPr>
              <a:xfrm>
                <a:off x="2274840" y="4704480"/>
                <a:ext cx="50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8" name="Line 19"/>
              <p:cNvSpPr/>
              <p:nvPr/>
            </p:nvSpPr>
            <p:spPr>
              <a:xfrm>
                <a:off x="2274840" y="4771800"/>
                <a:ext cx="50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9" name="Line 20"/>
              <p:cNvSpPr/>
              <p:nvPr/>
            </p:nvSpPr>
            <p:spPr>
              <a:xfrm>
                <a:off x="2274840" y="4100400"/>
                <a:ext cx="50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0" name="Line 21"/>
              <p:cNvSpPr/>
              <p:nvPr/>
            </p:nvSpPr>
            <p:spPr>
              <a:xfrm>
                <a:off x="2274840" y="3966120"/>
                <a:ext cx="31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Line 22"/>
              <p:cNvSpPr/>
              <p:nvPr/>
            </p:nvSpPr>
            <p:spPr>
              <a:xfrm>
                <a:off x="2274840" y="3898800"/>
                <a:ext cx="31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Line 23"/>
              <p:cNvSpPr/>
              <p:nvPr/>
            </p:nvSpPr>
            <p:spPr>
              <a:xfrm>
                <a:off x="2274840" y="4033440"/>
                <a:ext cx="31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3" name="Text Box 24"/>
            <p:cNvSpPr/>
            <p:nvPr/>
          </p:nvSpPr>
          <p:spPr>
            <a:xfrm>
              <a:off x="1673280" y="4907880"/>
              <a:ext cx="171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pplementar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4" name="Group 25"/>
          <p:cNvGrpSpPr/>
          <p:nvPr/>
        </p:nvGrpSpPr>
        <p:grpSpPr>
          <a:xfrm>
            <a:off x="324000" y="1712880"/>
            <a:ext cx="2410920" cy="1406520"/>
            <a:chOff x="324000" y="1712880"/>
            <a:chExt cx="2410920" cy="1406520"/>
          </a:xfrm>
        </p:grpSpPr>
        <p:grpSp>
          <p:nvGrpSpPr>
            <p:cNvPr id="195" name="Group 26"/>
            <p:cNvGrpSpPr/>
            <p:nvPr/>
          </p:nvGrpSpPr>
          <p:grpSpPr>
            <a:xfrm>
              <a:off x="324000" y="1712880"/>
              <a:ext cx="2410920" cy="952560"/>
              <a:chOff x="324000" y="1712880"/>
              <a:chExt cx="2410920" cy="952560"/>
            </a:xfrm>
          </p:grpSpPr>
          <p:grpSp>
            <p:nvGrpSpPr>
              <p:cNvPr id="196" name="Group 27"/>
              <p:cNvGrpSpPr/>
              <p:nvPr/>
            </p:nvGrpSpPr>
            <p:grpSpPr>
              <a:xfrm>
                <a:off x="324000" y="1712880"/>
                <a:ext cx="485280" cy="563760"/>
                <a:chOff x="324000" y="1712880"/>
                <a:chExt cx="485280" cy="563760"/>
              </a:xfrm>
            </p:grpSpPr>
            <p:sp>
              <p:nvSpPr>
                <p:cNvPr id="197" name="Oval 28"/>
                <p:cNvSpPr/>
                <p:nvPr/>
              </p:nvSpPr>
              <p:spPr>
                <a:xfrm>
                  <a:off x="456120" y="1712880"/>
                  <a:ext cx="221400" cy="1850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Line 29"/>
                <p:cNvSpPr/>
                <p:nvPr/>
              </p:nvSpPr>
              <p:spPr>
                <a:xfrm>
                  <a:off x="566640" y="1899720"/>
                  <a:ext cx="720" cy="173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" name="Line 30"/>
                <p:cNvSpPr/>
                <p:nvPr/>
              </p:nvSpPr>
              <p:spPr>
                <a:xfrm>
                  <a:off x="391320" y="1948320"/>
                  <a:ext cx="351000" cy="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Freeform 31"/>
                <p:cNvSpPr/>
                <p:nvPr/>
              </p:nvSpPr>
              <p:spPr>
                <a:xfrm>
                  <a:off x="324000" y="2073240"/>
                  <a:ext cx="485280" cy="2034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1" name="Oval 32"/>
              <p:cNvSpPr/>
              <p:nvPr/>
            </p:nvSpPr>
            <p:spPr>
              <a:xfrm>
                <a:off x="1437840" y="1833120"/>
                <a:ext cx="756720" cy="321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Oval 33"/>
              <p:cNvSpPr/>
              <p:nvPr/>
            </p:nvSpPr>
            <p:spPr>
              <a:xfrm>
                <a:off x="962640" y="2343960"/>
                <a:ext cx="757080" cy="3214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Oval 34"/>
              <p:cNvSpPr/>
              <p:nvPr/>
            </p:nvSpPr>
            <p:spPr>
              <a:xfrm>
                <a:off x="1977840" y="2343960"/>
                <a:ext cx="757080" cy="3214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Line 35"/>
              <p:cNvSpPr/>
              <p:nvPr/>
            </p:nvSpPr>
            <p:spPr>
              <a:xfrm>
                <a:off x="725760" y="1994040"/>
                <a:ext cx="711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Line 36"/>
              <p:cNvSpPr/>
              <p:nvPr/>
            </p:nvSpPr>
            <p:spPr>
              <a:xfrm flipV="1">
                <a:off x="1501560" y="2154960"/>
                <a:ext cx="218520" cy="18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Line 37"/>
              <p:cNvSpPr/>
              <p:nvPr/>
            </p:nvSpPr>
            <p:spPr>
              <a:xfrm flipH="1" flipV="1">
                <a:off x="1977480" y="2154960"/>
                <a:ext cx="217080" cy="18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7" name="Text Box 38"/>
            <p:cNvSpPr/>
            <p:nvPr/>
          </p:nvSpPr>
          <p:spPr>
            <a:xfrm>
              <a:off x="591480" y="2751120"/>
              <a:ext cx="187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se-Case Mode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8" name="Group 39"/>
          <p:cNvGrpSpPr/>
          <p:nvPr/>
        </p:nvGrpSpPr>
        <p:grpSpPr>
          <a:xfrm>
            <a:off x="7261200" y="3105000"/>
            <a:ext cx="1584360" cy="1333800"/>
            <a:chOff x="7261200" y="3105000"/>
            <a:chExt cx="1584360" cy="1333800"/>
          </a:xfrm>
        </p:grpSpPr>
        <p:grpSp>
          <p:nvGrpSpPr>
            <p:cNvPr id="209" name="Group 40"/>
            <p:cNvGrpSpPr/>
            <p:nvPr/>
          </p:nvGrpSpPr>
          <p:grpSpPr>
            <a:xfrm>
              <a:off x="7261200" y="3105000"/>
              <a:ext cx="1584360" cy="863640"/>
              <a:chOff x="7261200" y="3105000"/>
              <a:chExt cx="1584360" cy="863640"/>
            </a:xfrm>
          </p:grpSpPr>
          <p:grpSp>
            <p:nvGrpSpPr>
              <p:cNvPr id="210" name="Group 41"/>
              <p:cNvGrpSpPr/>
              <p:nvPr/>
            </p:nvGrpSpPr>
            <p:grpSpPr>
              <a:xfrm>
                <a:off x="7261200" y="3284280"/>
                <a:ext cx="384120" cy="197280"/>
                <a:chOff x="7261200" y="3284280"/>
                <a:chExt cx="384120" cy="197280"/>
              </a:xfrm>
            </p:grpSpPr>
            <p:sp>
              <p:nvSpPr>
                <p:cNvPr id="211" name="Rectangle 42"/>
                <p:cNvSpPr/>
                <p:nvPr/>
              </p:nvSpPr>
              <p:spPr>
                <a:xfrm>
                  <a:off x="7261200" y="3284280"/>
                  <a:ext cx="384120" cy="1972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43"/>
                <p:cNvSpPr/>
                <p:nvPr/>
              </p:nvSpPr>
              <p:spPr>
                <a:xfrm>
                  <a:off x="7261200" y="3427560"/>
                  <a:ext cx="384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44"/>
                <p:cNvSpPr/>
                <p:nvPr/>
              </p:nvSpPr>
              <p:spPr>
                <a:xfrm>
                  <a:off x="7261200" y="3377160"/>
                  <a:ext cx="384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4" name="Group 45"/>
              <p:cNvGrpSpPr/>
              <p:nvPr/>
            </p:nvGrpSpPr>
            <p:grpSpPr>
              <a:xfrm>
                <a:off x="8076960" y="3105000"/>
                <a:ext cx="384120" cy="197280"/>
                <a:chOff x="8076960" y="3105000"/>
                <a:chExt cx="384120" cy="197280"/>
              </a:xfrm>
            </p:grpSpPr>
            <p:sp>
              <p:nvSpPr>
                <p:cNvPr id="215" name="Rectangle 46"/>
                <p:cNvSpPr/>
                <p:nvPr/>
              </p:nvSpPr>
              <p:spPr>
                <a:xfrm>
                  <a:off x="8076960" y="3105000"/>
                  <a:ext cx="384120" cy="1972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47"/>
                <p:cNvSpPr/>
                <p:nvPr/>
              </p:nvSpPr>
              <p:spPr>
                <a:xfrm>
                  <a:off x="8076960" y="3248280"/>
                  <a:ext cx="384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48"/>
                <p:cNvSpPr/>
                <p:nvPr/>
              </p:nvSpPr>
              <p:spPr>
                <a:xfrm>
                  <a:off x="8076960" y="3197880"/>
                  <a:ext cx="384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8" name="Group 49"/>
              <p:cNvGrpSpPr/>
              <p:nvPr/>
            </p:nvGrpSpPr>
            <p:grpSpPr>
              <a:xfrm>
                <a:off x="7692480" y="3771360"/>
                <a:ext cx="384120" cy="197280"/>
                <a:chOff x="7692480" y="3771360"/>
                <a:chExt cx="384120" cy="197280"/>
              </a:xfrm>
            </p:grpSpPr>
            <p:sp>
              <p:nvSpPr>
                <p:cNvPr id="219" name="Rectangle 50"/>
                <p:cNvSpPr/>
                <p:nvPr/>
              </p:nvSpPr>
              <p:spPr>
                <a:xfrm>
                  <a:off x="7692480" y="3771360"/>
                  <a:ext cx="384120" cy="1972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51"/>
                <p:cNvSpPr/>
                <p:nvPr/>
              </p:nvSpPr>
              <p:spPr>
                <a:xfrm>
                  <a:off x="7692480" y="3914640"/>
                  <a:ext cx="384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52"/>
                <p:cNvSpPr/>
                <p:nvPr/>
              </p:nvSpPr>
              <p:spPr>
                <a:xfrm>
                  <a:off x="7692480" y="3864240"/>
                  <a:ext cx="384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2" name="Group 53"/>
              <p:cNvGrpSpPr/>
              <p:nvPr/>
            </p:nvGrpSpPr>
            <p:grpSpPr>
              <a:xfrm>
                <a:off x="8461440" y="3679200"/>
                <a:ext cx="384120" cy="196920"/>
                <a:chOff x="8461440" y="3679200"/>
                <a:chExt cx="384120" cy="196920"/>
              </a:xfrm>
            </p:grpSpPr>
            <p:sp>
              <p:nvSpPr>
                <p:cNvPr id="223" name="Rectangle 54"/>
                <p:cNvSpPr/>
                <p:nvPr/>
              </p:nvSpPr>
              <p:spPr>
                <a:xfrm>
                  <a:off x="8461440" y="3679200"/>
                  <a:ext cx="384120" cy="196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55"/>
                <p:cNvSpPr/>
                <p:nvPr/>
              </p:nvSpPr>
              <p:spPr>
                <a:xfrm>
                  <a:off x="8461440" y="3822120"/>
                  <a:ext cx="384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56"/>
                <p:cNvSpPr/>
                <p:nvPr/>
              </p:nvSpPr>
              <p:spPr>
                <a:xfrm>
                  <a:off x="8461440" y="3771720"/>
                  <a:ext cx="384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6" name="Line 57"/>
              <p:cNvSpPr/>
              <p:nvPr/>
            </p:nvSpPr>
            <p:spPr>
              <a:xfrm flipH="1" flipV="1">
                <a:off x="7456680" y="3481200"/>
                <a:ext cx="397080" cy="28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Line 58"/>
              <p:cNvSpPr/>
              <p:nvPr/>
            </p:nvSpPr>
            <p:spPr>
              <a:xfrm flipV="1">
                <a:off x="7645320" y="3203640"/>
                <a:ext cx="431280" cy="17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Line 59"/>
              <p:cNvSpPr/>
              <p:nvPr/>
            </p:nvSpPr>
            <p:spPr>
              <a:xfrm flipV="1">
                <a:off x="8076960" y="3771000"/>
                <a:ext cx="384120" cy="9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Line 60"/>
              <p:cNvSpPr/>
              <p:nvPr/>
            </p:nvSpPr>
            <p:spPr>
              <a:xfrm flipV="1">
                <a:off x="7854120" y="3301920"/>
                <a:ext cx="418680" cy="46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0" name="Text Box 61"/>
            <p:cNvSpPr/>
            <p:nvPr/>
          </p:nvSpPr>
          <p:spPr>
            <a:xfrm>
              <a:off x="7267680" y="407052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sign Mode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1" name="Group 62"/>
          <p:cNvGrpSpPr/>
          <p:nvPr/>
        </p:nvGrpSpPr>
        <p:grpSpPr>
          <a:xfrm>
            <a:off x="6651720" y="4653000"/>
            <a:ext cx="1584000" cy="1279080"/>
            <a:chOff x="6651720" y="4653000"/>
            <a:chExt cx="1584000" cy="1279080"/>
          </a:xfrm>
        </p:grpSpPr>
        <p:sp>
          <p:nvSpPr>
            <p:cNvPr id="232" name="Line 63"/>
            <p:cNvSpPr/>
            <p:nvPr/>
          </p:nvSpPr>
          <p:spPr>
            <a:xfrm flipH="1" flipV="1">
              <a:off x="6847920" y="5008680"/>
              <a:ext cx="396720" cy="27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Line 64"/>
            <p:cNvSpPr/>
            <p:nvPr/>
          </p:nvSpPr>
          <p:spPr>
            <a:xfrm flipV="1">
              <a:off x="7035840" y="4746240"/>
              <a:ext cx="431280" cy="16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Line 65"/>
            <p:cNvSpPr/>
            <p:nvPr/>
          </p:nvSpPr>
          <p:spPr>
            <a:xfrm flipV="1">
              <a:off x="7467120" y="5283000"/>
              <a:ext cx="384120" cy="8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Line 66"/>
            <p:cNvSpPr/>
            <p:nvPr/>
          </p:nvSpPr>
          <p:spPr>
            <a:xfrm flipV="1">
              <a:off x="7244640" y="4839480"/>
              <a:ext cx="418680" cy="44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Text Box 67"/>
            <p:cNvSpPr/>
            <p:nvPr/>
          </p:nvSpPr>
          <p:spPr>
            <a:xfrm>
              <a:off x="6770160" y="5563800"/>
              <a:ext cx="134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a Mode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7" name="Group 68"/>
            <p:cNvGrpSpPr/>
            <p:nvPr/>
          </p:nvGrpSpPr>
          <p:grpSpPr>
            <a:xfrm>
              <a:off x="6651720" y="4820400"/>
              <a:ext cx="384120" cy="188280"/>
              <a:chOff x="6651720" y="4820400"/>
              <a:chExt cx="384120" cy="188280"/>
            </a:xfrm>
          </p:grpSpPr>
          <p:sp>
            <p:nvSpPr>
              <p:cNvPr id="238" name="Rectangle 69"/>
              <p:cNvSpPr/>
              <p:nvPr/>
            </p:nvSpPr>
            <p:spPr>
              <a:xfrm>
                <a:off x="6651720" y="4822200"/>
                <a:ext cx="384120" cy="186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Line 70"/>
              <p:cNvSpPr/>
              <p:nvPr/>
            </p:nvSpPr>
            <p:spPr>
              <a:xfrm>
                <a:off x="6651720" y="4909680"/>
                <a:ext cx="384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Line 71"/>
              <p:cNvSpPr/>
              <p:nvPr/>
            </p:nvSpPr>
            <p:spPr>
              <a:xfrm>
                <a:off x="6903720" y="4820400"/>
                <a:ext cx="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Line 72"/>
              <p:cNvSpPr/>
              <p:nvPr/>
            </p:nvSpPr>
            <p:spPr>
              <a:xfrm>
                <a:off x="6767640" y="4824360"/>
                <a:ext cx="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2" name="Group 73"/>
            <p:cNvGrpSpPr/>
            <p:nvPr/>
          </p:nvGrpSpPr>
          <p:grpSpPr>
            <a:xfrm>
              <a:off x="7467120" y="4653000"/>
              <a:ext cx="384120" cy="188280"/>
              <a:chOff x="7467120" y="4653000"/>
              <a:chExt cx="384120" cy="188280"/>
            </a:xfrm>
          </p:grpSpPr>
          <p:sp>
            <p:nvSpPr>
              <p:cNvPr id="243" name="Rectangle 74"/>
              <p:cNvSpPr/>
              <p:nvPr/>
            </p:nvSpPr>
            <p:spPr>
              <a:xfrm>
                <a:off x="7467120" y="4654800"/>
                <a:ext cx="384120" cy="186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Line 75"/>
              <p:cNvSpPr/>
              <p:nvPr/>
            </p:nvSpPr>
            <p:spPr>
              <a:xfrm>
                <a:off x="7467120" y="4742280"/>
                <a:ext cx="384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Line 76"/>
              <p:cNvSpPr/>
              <p:nvPr/>
            </p:nvSpPr>
            <p:spPr>
              <a:xfrm>
                <a:off x="7719120" y="4653000"/>
                <a:ext cx="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Line 77"/>
              <p:cNvSpPr/>
              <p:nvPr/>
            </p:nvSpPr>
            <p:spPr>
              <a:xfrm>
                <a:off x="7583040" y="4656960"/>
                <a:ext cx="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7" name="Group 78"/>
            <p:cNvGrpSpPr/>
            <p:nvPr/>
          </p:nvGrpSpPr>
          <p:grpSpPr>
            <a:xfrm>
              <a:off x="7083000" y="5283360"/>
              <a:ext cx="384120" cy="188280"/>
              <a:chOff x="7083000" y="5283360"/>
              <a:chExt cx="384120" cy="188280"/>
            </a:xfrm>
          </p:grpSpPr>
          <p:sp>
            <p:nvSpPr>
              <p:cNvPr id="248" name="Rectangle 79"/>
              <p:cNvSpPr/>
              <p:nvPr/>
            </p:nvSpPr>
            <p:spPr>
              <a:xfrm>
                <a:off x="7083000" y="5285160"/>
                <a:ext cx="384120" cy="186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Line 80"/>
              <p:cNvSpPr/>
              <p:nvPr/>
            </p:nvSpPr>
            <p:spPr>
              <a:xfrm>
                <a:off x="7083000" y="5372640"/>
                <a:ext cx="384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Line 81"/>
              <p:cNvSpPr/>
              <p:nvPr/>
            </p:nvSpPr>
            <p:spPr>
              <a:xfrm>
                <a:off x="7335000" y="5283360"/>
                <a:ext cx="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Line 82"/>
              <p:cNvSpPr/>
              <p:nvPr/>
            </p:nvSpPr>
            <p:spPr>
              <a:xfrm>
                <a:off x="7198920" y="5287320"/>
                <a:ext cx="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52" name="Group 83"/>
            <p:cNvGrpSpPr/>
            <p:nvPr/>
          </p:nvGrpSpPr>
          <p:grpSpPr>
            <a:xfrm>
              <a:off x="7851600" y="5192640"/>
              <a:ext cx="384120" cy="188280"/>
              <a:chOff x="7851600" y="5192640"/>
              <a:chExt cx="384120" cy="188280"/>
            </a:xfrm>
          </p:grpSpPr>
          <p:sp>
            <p:nvSpPr>
              <p:cNvPr id="253" name="Rectangle 84"/>
              <p:cNvSpPr/>
              <p:nvPr/>
            </p:nvSpPr>
            <p:spPr>
              <a:xfrm>
                <a:off x="7851600" y="5194440"/>
                <a:ext cx="384120" cy="186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Line 85"/>
              <p:cNvSpPr/>
              <p:nvPr/>
            </p:nvSpPr>
            <p:spPr>
              <a:xfrm>
                <a:off x="7851600" y="5281920"/>
                <a:ext cx="384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Line 86"/>
              <p:cNvSpPr/>
              <p:nvPr/>
            </p:nvSpPr>
            <p:spPr>
              <a:xfrm>
                <a:off x="8103600" y="5192640"/>
                <a:ext cx="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Line 87"/>
              <p:cNvSpPr/>
              <p:nvPr/>
            </p:nvSpPr>
            <p:spPr>
              <a:xfrm>
                <a:off x="7967520" y="5196600"/>
                <a:ext cx="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57" name="Group 88"/>
          <p:cNvGrpSpPr/>
          <p:nvPr/>
        </p:nvGrpSpPr>
        <p:grpSpPr>
          <a:xfrm>
            <a:off x="5103000" y="4533840"/>
            <a:ext cx="1398240" cy="1718280"/>
            <a:chOff x="5103000" y="4533840"/>
            <a:chExt cx="1398240" cy="1718280"/>
          </a:xfrm>
        </p:grpSpPr>
        <p:grpSp>
          <p:nvGrpSpPr>
            <p:cNvPr id="258" name="Group 89"/>
            <p:cNvGrpSpPr/>
            <p:nvPr/>
          </p:nvGrpSpPr>
          <p:grpSpPr>
            <a:xfrm>
              <a:off x="5473800" y="4533840"/>
              <a:ext cx="655200" cy="1006920"/>
              <a:chOff x="5473800" y="4533840"/>
              <a:chExt cx="655200" cy="1006920"/>
            </a:xfrm>
          </p:grpSpPr>
          <p:sp>
            <p:nvSpPr>
              <p:cNvPr id="259" name="Rectangle 90"/>
              <p:cNvSpPr/>
              <p:nvPr/>
            </p:nvSpPr>
            <p:spPr>
              <a:xfrm>
                <a:off x="5473800" y="4533840"/>
                <a:ext cx="655200" cy="1006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Line 91"/>
              <p:cNvSpPr/>
              <p:nvPr/>
            </p:nvSpPr>
            <p:spPr>
              <a:xfrm>
                <a:off x="5910480" y="4533840"/>
                <a:ext cx="218160" cy="20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Line 92"/>
              <p:cNvSpPr/>
              <p:nvPr/>
            </p:nvSpPr>
            <p:spPr>
              <a:xfrm>
                <a:off x="5910480" y="4533840"/>
                <a:ext cx="0" cy="20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Line 93"/>
              <p:cNvSpPr/>
              <p:nvPr/>
            </p:nvSpPr>
            <p:spPr>
              <a:xfrm flipH="1">
                <a:off x="5910480" y="4735080"/>
                <a:ext cx="218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Line 94"/>
              <p:cNvSpPr/>
              <p:nvPr/>
            </p:nvSpPr>
            <p:spPr>
              <a:xfrm>
                <a:off x="5546160" y="486936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Line 95"/>
              <p:cNvSpPr/>
              <p:nvPr/>
            </p:nvSpPr>
            <p:spPr>
              <a:xfrm>
                <a:off x="5546160" y="493632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Line 96"/>
              <p:cNvSpPr/>
              <p:nvPr/>
            </p:nvSpPr>
            <p:spPr>
              <a:xfrm>
                <a:off x="5546160" y="500328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Line 97"/>
              <p:cNvSpPr/>
              <p:nvPr/>
            </p:nvSpPr>
            <p:spPr>
              <a:xfrm>
                <a:off x="5546160" y="513792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Line 98"/>
              <p:cNvSpPr/>
              <p:nvPr/>
            </p:nvSpPr>
            <p:spPr>
              <a:xfrm>
                <a:off x="5546160" y="507060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Line 99"/>
              <p:cNvSpPr/>
              <p:nvPr/>
            </p:nvSpPr>
            <p:spPr>
              <a:xfrm>
                <a:off x="5546160" y="520488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Line 100"/>
              <p:cNvSpPr/>
              <p:nvPr/>
            </p:nvSpPr>
            <p:spPr>
              <a:xfrm>
                <a:off x="5546160" y="527184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Line 101"/>
              <p:cNvSpPr/>
              <p:nvPr/>
            </p:nvSpPr>
            <p:spPr>
              <a:xfrm>
                <a:off x="5546160" y="533916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Line 102"/>
              <p:cNvSpPr/>
              <p:nvPr/>
            </p:nvSpPr>
            <p:spPr>
              <a:xfrm>
                <a:off x="5546160" y="540612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Line 103"/>
              <p:cNvSpPr/>
              <p:nvPr/>
            </p:nvSpPr>
            <p:spPr>
              <a:xfrm>
                <a:off x="5546160" y="547344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Line 104"/>
              <p:cNvSpPr/>
              <p:nvPr/>
            </p:nvSpPr>
            <p:spPr>
              <a:xfrm>
                <a:off x="5546160" y="480204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Line 105"/>
              <p:cNvSpPr/>
              <p:nvPr/>
            </p:nvSpPr>
            <p:spPr>
              <a:xfrm>
                <a:off x="5546160" y="4667760"/>
                <a:ext cx="316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Line 106"/>
              <p:cNvSpPr/>
              <p:nvPr/>
            </p:nvSpPr>
            <p:spPr>
              <a:xfrm>
                <a:off x="5546160" y="4600440"/>
                <a:ext cx="316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Line 107"/>
              <p:cNvSpPr/>
              <p:nvPr/>
            </p:nvSpPr>
            <p:spPr>
              <a:xfrm>
                <a:off x="5546160" y="4735080"/>
                <a:ext cx="316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7" name="Text Box 108"/>
            <p:cNvSpPr/>
            <p:nvPr/>
          </p:nvSpPr>
          <p:spPr>
            <a:xfrm>
              <a:off x="5103000" y="5609520"/>
              <a:ext cx="139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rchitectur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cu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8" name="Group 109"/>
          <p:cNvGrpSpPr/>
          <p:nvPr/>
        </p:nvGrpSpPr>
        <p:grpSpPr>
          <a:xfrm>
            <a:off x="3236760" y="2451240"/>
            <a:ext cx="2259000" cy="1342800"/>
            <a:chOff x="3236760" y="2451240"/>
            <a:chExt cx="2259000" cy="1342800"/>
          </a:xfrm>
        </p:grpSpPr>
        <p:sp>
          <p:nvSpPr>
            <p:cNvPr id="279" name="Rectangle 110"/>
            <p:cNvSpPr/>
            <p:nvPr/>
          </p:nvSpPr>
          <p:spPr>
            <a:xfrm>
              <a:off x="3236760" y="2451240"/>
              <a:ext cx="2259000" cy="13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Text Box 111"/>
            <p:cNvSpPr/>
            <p:nvPr/>
          </p:nvSpPr>
          <p:spPr>
            <a:xfrm>
              <a:off x="3457080" y="2760480"/>
              <a:ext cx="1819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Analysis and Desig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1" name="Group 112"/>
          <p:cNvGrpSpPr/>
          <p:nvPr/>
        </p:nvGrpSpPr>
        <p:grpSpPr>
          <a:xfrm>
            <a:off x="250920" y="3429000"/>
            <a:ext cx="1457280" cy="2118240"/>
            <a:chOff x="250920" y="3429000"/>
            <a:chExt cx="1457280" cy="2118240"/>
          </a:xfrm>
        </p:grpSpPr>
        <p:grpSp>
          <p:nvGrpSpPr>
            <p:cNvPr id="282" name="Group 113"/>
            <p:cNvGrpSpPr/>
            <p:nvPr/>
          </p:nvGrpSpPr>
          <p:grpSpPr>
            <a:xfrm>
              <a:off x="323280" y="3429000"/>
              <a:ext cx="1144080" cy="1409760"/>
              <a:chOff x="323280" y="3429000"/>
              <a:chExt cx="1144080" cy="1409760"/>
            </a:xfrm>
          </p:grpSpPr>
          <p:sp>
            <p:nvSpPr>
              <p:cNvPr id="283" name="Oval 114"/>
              <p:cNvSpPr/>
              <p:nvPr/>
            </p:nvSpPr>
            <p:spPr>
              <a:xfrm>
                <a:off x="323280" y="3429000"/>
                <a:ext cx="947160" cy="402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115"/>
              <p:cNvSpPr/>
              <p:nvPr/>
            </p:nvSpPr>
            <p:spPr>
              <a:xfrm>
                <a:off x="811800" y="3831840"/>
                <a:ext cx="655560" cy="1006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Line 116"/>
              <p:cNvSpPr/>
              <p:nvPr/>
            </p:nvSpPr>
            <p:spPr>
              <a:xfrm>
                <a:off x="1248840" y="3831840"/>
                <a:ext cx="218520" cy="20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Line 117"/>
              <p:cNvSpPr/>
              <p:nvPr/>
            </p:nvSpPr>
            <p:spPr>
              <a:xfrm>
                <a:off x="1248840" y="3831840"/>
                <a:ext cx="0" cy="20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Line 118"/>
              <p:cNvSpPr/>
              <p:nvPr/>
            </p:nvSpPr>
            <p:spPr>
              <a:xfrm flipH="1">
                <a:off x="1248480" y="4033080"/>
                <a:ext cx="21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Line 119"/>
              <p:cNvSpPr/>
              <p:nvPr/>
            </p:nvSpPr>
            <p:spPr>
              <a:xfrm>
                <a:off x="884520" y="4167360"/>
                <a:ext cx="510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Line 120"/>
              <p:cNvSpPr/>
              <p:nvPr/>
            </p:nvSpPr>
            <p:spPr>
              <a:xfrm>
                <a:off x="884520" y="4234680"/>
                <a:ext cx="510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Line 121"/>
              <p:cNvSpPr/>
              <p:nvPr/>
            </p:nvSpPr>
            <p:spPr>
              <a:xfrm>
                <a:off x="884520" y="4301640"/>
                <a:ext cx="510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Line 122"/>
              <p:cNvSpPr/>
              <p:nvPr/>
            </p:nvSpPr>
            <p:spPr>
              <a:xfrm>
                <a:off x="884520" y="4435920"/>
                <a:ext cx="510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Line 123"/>
              <p:cNvSpPr/>
              <p:nvPr/>
            </p:nvSpPr>
            <p:spPr>
              <a:xfrm>
                <a:off x="884520" y="4368960"/>
                <a:ext cx="510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Line 124"/>
              <p:cNvSpPr/>
              <p:nvPr/>
            </p:nvSpPr>
            <p:spPr>
              <a:xfrm>
                <a:off x="884520" y="4502880"/>
                <a:ext cx="510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Line 125"/>
              <p:cNvSpPr/>
              <p:nvPr/>
            </p:nvSpPr>
            <p:spPr>
              <a:xfrm>
                <a:off x="884520" y="4570200"/>
                <a:ext cx="510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Line 126"/>
              <p:cNvSpPr/>
              <p:nvPr/>
            </p:nvSpPr>
            <p:spPr>
              <a:xfrm>
                <a:off x="884520" y="4637520"/>
                <a:ext cx="510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Line 127"/>
              <p:cNvSpPr/>
              <p:nvPr/>
            </p:nvSpPr>
            <p:spPr>
              <a:xfrm>
                <a:off x="884520" y="4704480"/>
                <a:ext cx="510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Line 128"/>
              <p:cNvSpPr/>
              <p:nvPr/>
            </p:nvSpPr>
            <p:spPr>
              <a:xfrm>
                <a:off x="884520" y="4771800"/>
                <a:ext cx="510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Line 129"/>
              <p:cNvSpPr/>
              <p:nvPr/>
            </p:nvSpPr>
            <p:spPr>
              <a:xfrm>
                <a:off x="884520" y="4100040"/>
                <a:ext cx="510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Line 130"/>
              <p:cNvSpPr/>
              <p:nvPr/>
            </p:nvSpPr>
            <p:spPr>
              <a:xfrm>
                <a:off x="884520" y="3965760"/>
                <a:ext cx="31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Line 131"/>
              <p:cNvSpPr/>
              <p:nvPr/>
            </p:nvSpPr>
            <p:spPr>
              <a:xfrm>
                <a:off x="884520" y="3898800"/>
                <a:ext cx="31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Line 132"/>
              <p:cNvSpPr/>
              <p:nvPr/>
            </p:nvSpPr>
            <p:spPr>
              <a:xfrm>
                <a:off x="884520" y="4033080"/>
                <a:ext cx="31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2" name="Text Box 133"/>
            <p:cNvSpPr/>
            <p:nvPr/>
          </p:nvSpPr>
          <p:spPr>
            <a:xfrm>
              <a:off x="250920" y="4904640"/>
              <a:ext cx="14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se Cas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scription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3" name="AutoShape 134"/>
          <p:cNvSpPr/>
          <p:nvPr/>
        </p:nvSpPr>
        <p:spPr>
          <a:xfrm>
            <a:off x="2843280" y="2887560"/>
            <a:ext cx="582480" cy="470160"/>
          </a:xfrm>
          <a:prstGeom prst="rightArrow">
            <a:avLst>
              <a:gd name="adj1" fmla="val 50000"/>
              <a:gd name="adj2" fmla="val 30972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AutoShape 135"/>
          <p:cNvSpPr/>
          <p:nvPr/>
        </p:nvSpPr>
        <p:spPr>
          <a:xfrm rot="19306800">
            <a:off x="5091120" y="2549160"/>
            <a:ext cx="582480" cy="469800"/>
          </a:xfrm>
          <a:prstGeom prst="rightArrow">
            <a:avLst>
              <a:gd name="adj1" fmla="val 50000"/>
              <a:gd name="adj2" fmla="val 30996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AutoShape 136"/>
          <p:cNvSpPr/>
          <p:nvPr/>
        </p:nvSpPr>
        <p:spPr>
          <a:xfrm rot="2528400">
            <a:off x="7184520" y="2671920"/>
            <a:ext cx="582840" cy="469800"/>
          </a:xfrm>
          <a:prstGeom prst="rightArrow">
            <a:avLst>
              <a:gd name="adj1" fmla="val 50000"/>
              <a:gd name="adj2" fmla="val 31015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6" name="Group 137"/>
          <p:cNvGrpSpPr/>
          <p:nvPr/>
        </p:nvGrpSpPr>
        <p:grpSpPr>
          <a:xfrm>
            <a:off x="5391000" y="1341360"/>
            <a:ext cx="2133720" cy="1359000"/>
            <a:chOff x="5391000" y="1341360"/>
            <a:chExt cx="2133720" cy="1359000"/>
          </a:xfrm>
        </p:grpSpPr>
        <p:grpSp>
          <p:nvGrpSpPr>
            <p:cNvPr id="307" name="Group 138"/>
            <p:cNvGrpSpPr/>
            <p:nvPr/>
          </p:nvGrpSpPr>
          <p:grpSpPr>
            <a:xfrm>
              <a:off x="5619600" y="1341360"/>
              <a:ext cx="1447560" cy="1063440"/>
              <a:chOff x="5619600" y="1341360"/>
              <a:chExt cx="1447560" cy="1063440"/>
            </a:xfrm>
          </p:grpSpPr>
          <p:grpSp>
            <p:nvGrpSpPr>
              <p:cNvPr id="308" name="Group 139"/>
              <p:cNvGrpSpPr/>
              <p:nvPr/>
            </p:nvGrpSpPr>
            <p:grpSpPr>
              <a:xfrm>
                <a:off x="6423480" y="1341360"/>
                <a:ext cx="309600" cy="390960"/>
                <a:chOff x="6423480" y="1341360"/>
                <a:chExt cx="309600" cy="390960"/>
              </a:xfrm>
            </p:grpSpPr>
            <p:sp>
              <p:nvSpPr>
                <p:cNvPr id="309" name="Line 140"/>
                <p:cNvSpPr/>
                <p:nvPr/>
              </p:nvSpPr>
              <p:spPr>
                <a:xfrm flipV="1">
                  <a:off x="6519240" y="1341360"/>
                  <a:ext cx="86040" cy="8280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" name="Line 141"/>
                <p:cNvSpPr/>
                <p:nvPr/>
              </p:nvSpPr>
              <p:spPr>
                <a:xfrm flipH="1" flipV="1">
                  <a:off x="6522480" y="1420920"/>
                  <a:ext cx="81360" cy="7776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1" name="Oval 142"/>
                <p:cNvSpPr/>
                <p:nvPr/>
              </p:nvSpPr>
              <p:spPr>
                <a:xfrm>
                  <a:off x="6423480" y="1409040"/>
                  <a:ext cx="309600" cy="323280"/>
                </a:xfrm>
                <a:prstGeom prst="ellipse">
                  <a:avLst/>
                </a:prstGeom>
                <a:noFill/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2" name="Group 143"/>
              <p:cNvGrpSpPr/>
              <p:nvPr/>
            </p:nvGrpSpPr>
            <p:grpSpPr>
              <a:xfrm>
                <a:off x="6107040" y="2081880"/>
                <a:ext cx="325080" cy="322920"/>
                <a:chOff x="6107040" y="2081880"/>
                <a:chExt cx="325080" cy="322920"/>
              </a:xfrm>
            </p:grpSpPr>
            <p:sp>
              <p:nvSpPr>
                <p:cNvPr id="313" name="Oval 144"/>
                <p:cNvSpPr/>
                <p:nvPr/>
              </p:nvSpPr>
              <p:spPr>
                <a:xfrm>
                  <a:off x="6111720" y="2081880"/>
                  <a:ext cx="309960" cy="322920"/>
                </a:xfrm>
                <a:prstGeom prst="ellipse">
                  <a:avLst/>
                </a:prstGeom>
                <a:noFill/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145"/>
                <p:cNvSpPr/>
                <p:nvPr/>
              </p:nvSpPr>
              <p:spPr>
                <a:xfrm>
                  <a:off x="6107040" y="2404800"/>
                  <a:ext cx="325080" cy="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5" name="Group 146"/>
              <p:cNvGrpSpPr/>
              <p:nvPr/>
            </p:nvGrpSpPr>
            <p:grpSpPr>
              <a:xfrm>
                <a:off x="5619600" y="1571040"/>
                <a:ext cx="431640" cy="322560"/>
                <a:chOff x="5619600" y="1571040"/>
                <a:chExt cx="431640" cy="322560"/>
              </a:xfrm>
            </p:grpSpPr>
            <p:sp>
              <p:nvSpPr>
                <p:cNvPr id="316" name="Oval 147"/>
                <p:cNvSpPr/>
                <p:nvPr/>
              </p:nvSpPr>
              <p:spPr>
                <a:xfrm>
                  <a:off x="5741280" y="1571040"/>
                  <a:ext cx="309960" cy="322560"/>
                </a:xfrm>
                <a:prstGeom prst="ellipse">
                  <a:avLst/>
                </a:prstGeom>
                <a:noFill/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148"/>
                <p:cNvSpPr/>
                <p:nvPr/>
              </p:nvSpPr>
              <p:spPr>
                <a:xfrm>
                  <a:off x="5619600" y="1627560"/>
                  <a:ext cx="0" cy="20952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149"/>
                <p:cNvSpPr/>
                <p:nvPr/>
              </p:nvSpPr>
              <p:spPr>
                <a:xfrm flipH="1">
                  <a:off x="5619600" y="1732320"/>
                  <a:ext cx="121680" cy="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9" name="Group 150"/>
              <p:cNvGrpSpPr/>
              <p:nvPr/>
            </p:nvGrpSpPr>
            <p:grpSpPr>
              <a:xfrm>
                <a:off x="6742080" y="1917720"/>
                <a:ext cx="325080" cy="322560"/>
                <a:chOff x="6742080" y="1917720"/>
                <a:chExt cx="325080" cy="322560"/>
              </a:xfrm>
            </p:grpSpPr>
            <p:sp>
              <p:nvSpPr>
                <p:cNvPr id="320" name="Oval 151"/>
                <p:cNvSpPr/>
                <p:nvPr/>
              </p:nvSpPr>
              <p:spPr>
                <a:xfrm>
                  <a:off x="6746760" y="1917720"/>
                  <a:ext cx="309960" cy="322560"/>
                </a:xfrm>
                <a:prstGeom prst="ellipse">
                  <a:avLst/>
                </a:prstGeom>
                <a:noFill/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152"/>
                <p:cNvSpPr/>
                <p:nvPr/>
              </p:nvSpPr>
              <p:spPr>
                <a:xfrm>
                  <a:off x="6742080" y="2240280"/>
                  <a:ext cx="325080" cy="0"/>
                </a:xfrm>
                <a:prstGeom prst="line">
                  <a:avLst/>
                </a:prstGeom>
                <a:ln w="28440">
                  <a:solidFill>
                    <a:srgbClr val="4b4e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22" name="Line 153"/>
              <p:cNvSpPr/>
              <p:nvPr/>
            </p:nvSpPr>
            <p:spPr>
              <a:xfrm>
                <a:off x="5987520" y="1846440"/>
                <a:ext cx="268200" cy="23544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Line 154"/>
              <p:cNvSpPr/>
              <p:nvPr/>
            </p:nvSpPr>
            <p:spPr>
              <a:xfrm flipV="1">
                <a:off x="6051600" y="1627200"/>
                <a:ext cx="371880" cy="10512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Line 155"/>
              <p:cNvSpPr/>
              <p:nvPr/>
            </p:nvSpPr>
            <p:spPr>
              <a:xfrm flipV="1">
                <a:off x="6256080" y="1732680"/>
                <a:ext cx="262800" cy="34920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Line 156"/>
              <p:cNvSpPr/>
              <p:nvPr/>
            </p:nvSpPr>
            <p:spPr>
              <a:xfrm flipV="1">
                <a:off x="6422400" y="2081880"/>
                <a:ext cx="319320" cy="15840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26" name="Text Box 157"/>
            <p:cNvSpPr/>
            <p:nvPr/>
          </p:nvSpPr>
          <p:spPr>
            <a:xfrm>
              <a:off x="5391000" y="233208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b4eb5"/>
                  </a:solidFill>
                  <a:latin typeface="Arial"/>
                </a:rPr>
                <a:t>Analysis Mode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" name="AutoShape 158"/>
          <p:cNvSpPr/>
          <p:nvPr/>
        </p:nvSpPr>
        <p:spPr>
          <a:xfrm rot="2011800">
            <a:off x="4932000" y="3645000"/>
            <a:ext cx="582480" cy="469800"/>
          </a:xfrm>
          <a:prstGeom prst="rightArrow">
            <a:avLst>
              <a:gd name="adj1" fmla="val 50000"/>
              <a:gd name="adj2" fmla="val 30996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4:13:32Z</dcterms:created>
  <dc:creator>Fereidoon Shams</dc:creator>
  <dc:description/>
  <dc:language>en-US</dc:language>
  <cp:lastModifiedBy>Administrator</cp:lastModifiedBy>
  <dcterms:modified xsi:type="dcterms:W3CDTF">2011-10-06T09:21:22Z</dcterms:modified>
  <cp:revision>1640</cp:revision>
  <dc:subject/>
  <dc:title>PowerPoint Presentation</dc:title>
</cp:coreProperties>
</file>