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carbrake.wav" ContentType="audio/x-wav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7B36-A049-4EFE-ACFE-2FBA3FF74FA6}" type="slidenum">
              <a:rPr b="0" lang="fa-I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Z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1150-8F98-4CCE-8E8B-E99152FB2AC0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938D-E17A-4DA6-803D-B3B5866E504D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09CC-AA90-4333-B300-B1D7B2380083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9EC7-7E96-439B-B534-9D51A8D09602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6E69-3539-4F39-86DD-625D4783E5FB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1E8E-E2CD-4356-AC57-7A5CA14357EE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D90A-BF46-43A8-9C04-EB927A0DE88D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C244-13B5-4A0D-A363-67DB28F8EACB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45FD-8F48-41F9-BABE-3E9BA04610A7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10B0-4419-48B5-B6AC-F93BA3F2FAF8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76DD-28CE-48D8-BA1A-B1DB77DECEB8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ECC7-5B56-4068-B51F-C4365CCE58B7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02D8-8C17-41F6-9E8E-7FE2F6EE4150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B940-6AD3-4CEB-9A35-EEB28625D037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54DB-A114-4377-9586-A165EA7C4A1D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5C29-F231-47BD-BCAF-807671DB48A7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EBD7-C542-4841-9166-B53D590FDB62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E4F5-76D6-4DC6-AC2A-03F1AE50BBCA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DC13-8DF7-4CB0-98D8-1A1CDECABF4A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8E0E-8159-4497-B18C-7DACAB7B7698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DD3B-64B7-483D-9033-4CA62461CA1C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D538-E0A8-4224-A20F-AE796B7BC350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56D3-24C7-460B-9D93-D68FCFCABB4E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8F2B-EC06-4207-B219-2D59C1FEE290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BD3A-FE35-4613-93D8-6CC0FEB62C03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119C-5D4A-44AE-8C8B-1E3BE181C4AC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CE75-9B75-44E9-9C5D-E2744E6CC9DD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E04C-CD9E-45C9-839F-D39A386F4302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F086-3B6A-4A83-BB98-B93EBE9F7CDF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0EE6-476F-4533-954A-2646BE9771BB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24B5-5B42-44C5-9EBF-93076AD0F5EB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4D70-3A47-4DB8-8118-73EC14B580EA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ED44-3FBC-4473-8B23-0BE20355E79A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CAAA-2964-4AC9-93C9-9DE4869842C2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12F8-A8CD-4EBC-B4B7-28784830F31A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2D31-6E56-4CB3-A8D1-D995ABE71438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C4AE-08E6-41F5-A55D-2A24302C0B6E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5C2E-0405-4D58-91B3-C3135CF9E411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AEA8-D109-4A3A-8FCC-165AC4D90560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E054-91F6-4E83-A7EB-FA133EEEEF15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21E2-8DB5-4767-ADA2-7911A94B21D3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A1F5-04D7-4E85-9B9C-4DF6332E8E98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DFEF-5042-4543-95A6-5301F01887B4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C525-FDCF-43ED-A09D-2ED78A94FA6F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03EA-9F87-485B-A964-4AE03DB2C478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83BC-7951-461F-A9D4-65E3514D98BA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2F4E-40BD-43B6-BFD9-86CDA241FB6A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99BF-5BE8-45F2-94E4-62D4CF27B203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92EA-1E7C-4352-9962-A20C1D1E339E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F48B-3A84-463B-BE26-1A0140C8F023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BBF0-3AA4-4458-BC81-CC18FF3CF475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D75A-2992-48D2-AF29-7F30D0269343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0E47-1AA2-4113-8D7E-2248C0936C80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8AA7-A69E-45E6-B0E2-7B3F1E975FAA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DECC-B0D9-4E17-BE0D-FBB3A9A5336F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5DC7-32FE-4661-963E-B3E9A64F3F15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08B6-C18D-4CDC-8B59-813B31B43D75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E7CF-D712-435A-9063-9608DFE095C3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A06-0472-4583-AA29-F9D22408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F26C-41B3-4EB8-9831-C6EC8FF0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45D0-65C4-478B-9D41-2694D29A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3D0-4557-46BD-877D-93A4EFF9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DF6-F007-47F6-BB6C-CAC41E08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2C5-0A11-4880-91C9-33C8693E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BB0-4861-4A98-B541-4B8298C9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3054-C7BA-4D59-BAA5-34351EE6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28C8-8DDB-42F6-A0B6-971F48E0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AD2-6554-4FFE-A489-04C50277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3A1D-3BC4-4916-95D2-0CA6153F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A7D-506E-4547-AD16-C1CA47A2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9784-C3C5-43CA-BE60-64C6BFE0A76C}" type="datetime5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Z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2957-0451-4BD2-A05C-7155AE362681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Zr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759cc3"/>
              </a:gs>
            </a:gsLst>
            <a:lin ang="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" name="AutoShape 10"/>
          <p:cNvSpPr/>
          <p:nvPr/>
        </p:nvSpPr>
        <p:spPr>
          <a:xfrm>
            <a:off x="4114800" y="533520"/>
            <a:ext cx="47242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3b4b4"/>
              </a:gs>
              <a:gs pos="100000">
                <a:srgbClr val="009999">
                  <a:alpha val="91372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D749-E30C-4B5D-A9F6-798B92CE7DBD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7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Tahoma"/>
                <a:cs typeface="Zar"/>
              </a:rPr>
              <a:t>بسمه تعالي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057400" y="2895480"/>
            <a:ext cx="510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Zr"/>
              </a:rPr>
              <a:t>درس</a:t>
            </a:r>
            <a:r>
              <a:rPr b="1" lang="fa-IR" sz="3600" spc="-1" strike="noStrike">
                <a:solidFill>
                  <a:srgbClr val="ffffff"/>
                </a:solidFill>
                <a:latin typeface="Zr"/>
              </a:rPr>
              <a:t></a:t>
            </a:r>
            <a:r>
              <a:rPr b="1" lang="ar-SA" sz="3600" spc="-1" strike="noStrike">
                <a:solidFill>
                  <a:srgbClr val="ffffff"/>
                </a:solidFill>
                <a:latin typeface="Zr"/>
              </a:rPr>
              <a:t>مباني</a:t>
            </a:r>
            <a:r>
              <a:rPr b="1" lang="ar-SA" sz="3600" spc="-1" strike="noStrike">
                <a:solidFill>
                  <a:srgbClr val="ffffff"/>
                </a:solidFill>
                <a:latin typeface="Zr"/>
              </a:rPr>
              <a:t></a:t>
            </a:r>
            <a:r>
              <a:rPr b="1" lang="ar-SA" sz="3600" spc="-1" strike="noStrike">
                <a:solidFill>
                  <a:srgbClr val="ffffff"/>
                </a:solidFill>
                <a:latin typeface="Zr"/>
              </a:rPr>
              <a:t>فن</a:t>
            </a:r>
            <a:r>
              <a:rPr b="1" lang="fa-IR" sz="3600" spc="-1" strike="noStrike">
                <a:solidFill>
                  <a:srgbClr val="ffffff"/>
                </a:solidFill>
                <a:latin typeface="Zr"/>
              </a:rPr>
              <a:t>ّ</a:t>
            </a:r>
            <a:r>
              <a:rPr b="1" lang="ar-SA" sz="3600" spc="-1" strike="noStrike">
                <a:solidFill>
                  <a:srgbClr val="ffffff"/>
                </a:solidFill>
                <a:latin typeface="Zr"/>
              </a:rPr>
              <a:t>اوري</a:t>
            </a:r>
            <a:r>
              <a:rPr b="1" lang="ar-SA" sz="3600" spc="-1" strike="noStrike">
                <a:solidFill>
                  <a:srgbClr val="ffffff"/>
                </a:solidFill>
                <a:latin typeface="Zr"/>
              </a:rPr>
              <a:t></a:t>
            </a:r>
            <a:r>
              <a:rPr b="1" lang="ar-SA" sz="3600" spc="-1" strike="noStrike">
                <a:solidFill>
                  <a:srgbClr val="ffffff"/>
                </a:solidFill>
                <a:latin typeface="Zr"/>
              </a:rPr>
              <a:t>اطلاعات</a:t>
            </a:r>
            <a:endParaRPr b="0" lang="en-US" sz="3600" spc="-1" strike="noStrike">
              <a:solidFill>
                <a:srgbClr val="ffffff"/>
              </a:solidFill>
              <a:latin typeface="Z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Z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Zr"/>
              </a:rPr>
              <a:t>مدرس</a:t>
            </a:r>
            <a:r>
              <a:rPr b="1" lang="fa-IR" sz="3600" spc="-1" strike="noStrike">
                <a:solidFill>
                  <a:srgbClr val="ffffff"/>
                </a:solidFill>
                <a:latin typeface="Zr"/>
              </a:rPr>
              <a:t></a:t>
            </a:r>
            <a:r>
              <a:rPr b="1" lang="fa-IR" sz="3600" spc="-1" strike="noStrike">
                <a:solidFill>
                  <a:srgbClr val="ffffff"/>
                </a:solidFill>
                <a:latin typeface="Zr"/>
              </a:rPr>
              <a:t>مهندس</a:t>
            </a:r>
            <a:r>
              <a:rPr b="1" lang="fa-IR" sz="3600" spc="-1" strike="noStrike">
                <a:solidFill>
                  <a:srgbClr val="ffffff"/>
                </a:solidFill>
                <a:latin typeface="Zr"/>
              </a:rPr>
              <a:t></a:t>
            </a:r>
            <a:r>
              <a:rPr b="1" lang="fa-IR" sz="3600" spc="-1" strike="noStrike">
                <a:solidFill>
                  <a:srgbClr val="ffffff"/>
                </a:solidFill>
                <a:latin typeface="Zr"/>
              </a:rPr>
              <a:t>مرتضی</a:t>
            </a:r>
            <a:r>
              <a:rPr b="1" lang="fa-IR" sz="3600" spc="-1" strike="noStrike">
                <a:solidFill>
                  <a:srgbClr val="ffffff"/>
                </a:solidFill>
                <a:latin typeface="Zr"/>
              </a:rPr>
              <a:t></a:t>
            </a:r>
            <a:r>
              <a:rPr b="1" lang="fa-IR" sz="3600" spc="-1" strike="noStrike">
                <a:solidFill>
                  <a:srgbClr val="ffffff"/>
                </a:solidFill>
                <a:latin typeface="Zr"/>
              </a:rPr>
              <a:t>پاک</a:t>
            </a:r>
            <a:r>
              <a:rPr b="1" lang="fa-IR" sz="3600" spc="-1" strike="noStrike">
                <a:solidFill>
                  <a:srgbClr val="ffffff"/>
                </a:solidFill>
                <a:latin typeface="Zr"/>
              </a:rPr>
              <a:t></a:t>
            </a:r>
            <a:r>
              <a:rPr b="1" lang="fa-IR" sz="3600" spc="-1" strike="noStrike">
                <a:solidFill>
                  <a:srgbClr val="ffffff"/>
                </a:solidFill>
                <a:latin typeface="Zr"/>
              </a:rPr>
              <a:t>نیت</a:t>
            </a:r>
            <a:r>
              <a:rPr b="1" lang="fa-IR" sz="3600" spc="-1" strike="noStrike">
                <a:solidFill>
                  <a:srgbClr val="ffffff"/>
                </a:solidFill>
                <a:latin typeface="Zr"/>
              </a:rPr>
              <a:t></a:t>
            </a:r>
            <a:endParaRPr b="0" lang="en-US" sz="36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905120" y="4191120"/>
            <a:ext cx="51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Zr"/>
              </a:rPr>
              <a:t>بهمن</a:t>
            </a:r>
            <a:r>
              <a:rPr b="0" lang="fa-IR" sz="3200" spc="-1" strike="noStrike">
                <a:solidFill>
                  <a:srgbClr val="ffffff"/>
                </a:solidFill>
                <a:latin typeface="Zr"/>
              </a:rPr>
              <a:t></a:t>
            </a:r>
            <a:r>
              <a:rPr b="0" lang="fa-IR" sz="3200" spc="-1" strike="noStrike">
                <a:solidFill>
                  <a:srgbClr val="ffffff"/>
                </a:solidFill>
                <a:latin typeface="Zr"/>
              </a:rPr>
              <a:t>ماه</a:t>
            </a:r>
            <a:r>
              <a:rPr b="0" lang="fa-IR" sz="3200" spc="-1" strike="noStrike">
                <a:solidFill>
                  <a:srgbClr val="ffffff"/>
                </a:solidFill>
                <a:latin typeface="Zr"/>
              </a:rPr>
              <a:t>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EF99-A9DA-4EB8-8A53-D2374E255D37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SA" sz="3200" spc="-1" strike="noStrike">
                <a:solidFill>
                  <a:srgbClr val="e5ffff"/>
                </a:solidFill>
                <a:latin typeface="Tahoma"/>
                <a:cs typeface="Zar"/>
              </a:rPr>
              <a:t>زمينه هاي مرتبط با فناوري اطلاعات</a:t>
            </a:r>
            <a:br>
              <a:rPr sz="40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روشهاي خبره و هوشمن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مهندسي اينترن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شناسايي الگ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افزارهاي چند رسانه ا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اقعيت مجاز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دولت الكترونيكي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توسعه محيطهاي مجازي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5919-2EEF-42DB-B187-FB2A0B3926B6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SA" sz="3200" spc="-1" strike="noStrike">
                <a:solidFill>
                  <a:srgbClr val="e5ffff"/>
                </a:solidFill>
                <a:latin typeface="Tahoma"/>
                <a:cs typeface="Zar"/>
              </a:rPr>
              <a:t>زمينه هاي مرتبط با فناوري اطلاعات</a:t>
            </a:r>
            <a:br>
              <a:rPr sz="40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buClr>
                <a:srgbClr val="ff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دورا توليد(دورا ساخت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buClr>
                <a:srgbClr val="ff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دورا رب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buClr>
                <a:srgbClr val="ff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ديريت دان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buClr>
                <a:srgbClr val="ff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ديريت الكترونيك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buClr>
                <a:srgbClr val="ff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سازمانهاي مجاز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buClr>
                <a:srgbClr val="ff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دورا پزشك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buClr>
                <a:srgbClr val="ff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دورا جراح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buClr>
                <a:srgbClr val="ff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نتقال ح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62AA-3D19-4D6D-A299-A2113909925E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4876920" y="1600200"/>
            <a:ext cx="2743200" cy="53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Yagut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دورا كنترل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نشر الكترونيكي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كلاسهاي مجازي 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آزمايشگاه مجازي 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دانشگاه مجازي 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قتصاد ديجيتالي 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حاسبات كوانتومي 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256920" y="609480"/>
            <a:ext cx="661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زمينه هاي مرتبط با فناوري اطلاعات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371600" y="1752480"/>
            <a:ext cx="274320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Yagut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فكر خلاق 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كتابخانه ديجيتال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نظريه اطلاعات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منيت اطلاعات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تمدن اطلاعاتي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فرهنگ اطلاعات 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CCDE-EBDA-4391-BC4B-72A162EA7A13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SA" sz="3200" spc="-1" strike="noStrike">
                <a:solidFill>
                  <a:srgbClr val="e5ffff"/>
                </a:solidFill>
                <a:latin typeface="Tahoma"/>
                <a:cs typeface="Zar"/>
              </a:rPr>
              <a:t>زمينه هاي مرتبط با فناوري اطلاعات</a:t>
            </a:r>
            <a:br>
              <a:rPr sz="40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نجمن فنّاوري اطلاعات امريكا: زمينه‌هاي كاري در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را در محدودة مطالعه، طراحي، توسعه، پياده‌سازي، مديريت وپشتيباني ازسيستمهــــاي مبتني بر كامپيوتر تعريف مي‌كند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D6B9-376E-451E-8C82-39E0E6A5C175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0" y="1752480"/>
            <a:ext cx="86868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ف ـ فناوري   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ology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ب ـ اطلاعات</a:t>
            </a:r>
            <a:r>
              <a:rPr b="1" lang="en-US" sz="3200" spc="-1" strike="noStrike">
                <a:solidFill>
                  <a:srgbClr val="ccff99"/>
                </a:solidFill>
                <a:latin typeface="Times New Roman"/>
                <a:ea typeface="Yagut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tio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Yagut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024440" y="677880"/>
            <a:ext cx="500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مؤلفه</a:t>
            </a:r>
            <a:r>
              <a:rPr b="0" lang="fa-IR" sz="3200" spc="-1" strike="noStrike">
                <a:solidFill>
                  <a:srgbClr val="e5ffff"/>
                </a:solidFill>
                <a:latin typeface="Tahoma"/>
              </a:rPr>
              <a:t> هاي</a:t>
            </a: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 فناوري اطلاعات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4493-1623-4129-AACE-C2C11D6A397A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04920" y="685800"/>
            <a:ext cx="8534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5ffff"/>
                </a:solidFill>
                <a:latin typeface="Tahoma"/>
              </a:rPr>
              <a:t>تعريف </a:t>
            </a: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فن</a:t>
            </a:r>
            <a:r>
              <a:rPr b="0" lang="fa-IR" sz="3200" spc="-1" strike="noStrike">
                <a:solidFill>
                  <a:srgbClr val="e5ffff"/>
                </a:solidFill>
                <a:latin typeface="Tahoma"/>
              </a:rPr>
              <a:t>ّ</a:t>
            </a: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اوري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57200" y="2133720"/>
            <a:ext cx="8305920" cy="35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فنّاوري عبارت است ازمجموعه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  <a:ea typeface="Yagut"/>
              </a:rPr>
              <a:t>‌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ي ازفرايندهـــا، روشها، فنون، ابزار، تجهيزات، ماشين آلات و مهارتهايي كه توسط آنها كالايي ساخته مي شود يا خدمتي ارائه مي گردد 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فنّاوري عبارت است ازكاربرد علوم درصنايع با استفاده از رويه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  <a:ea typeface="Yagut"/>
              </a:rPr>
              <a:t>‌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ا ومطالعات منظم وجهت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  <a:ea typeface="Yagut"/>
              </a:rPr>
              <a:t>‌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دار. 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82A0-26FD-4469-A5D3-F52F16EA40CA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fa-IR" sz="3200" spc="-1" strike="noStrike">
                <a:solidFill>
                  <a:srgbClr val="e5ffff"/>
                </a:solidFill>
                <a:latin typeface="Tahoma"/>
                <a:cs typeface="Zar"/>
              </a:rPr>
              <a:t>تعريف </a:t>
            </a:r>
            <a:r>
              <a:rPr b="0" lang="ar-SA" sz="3200" spc="-1" strike="noStrike">
                <a:solidFill>
                  <a:srgbClr val="e5ffff"/>
                </a:solidFill>
                <a:latin typeface="Tahoma"/>
                <a:cs typeface="Zar"/>
              </a:rPr>
              <a:t>فن</a:t>
            </a:r>
            <a:r>
              <a:rPr b="0" lang="fa-IR" sz="3200" spc="-1" strike="noStrike">
                <a:solidFill>
                  <a:srgbClr val="e5ffff"/>
                </a:solidFill>
                <a:latin typeface="Tahoma"/>
                <a:cs typeface="Zar"/>
              </a:rPr>
              <a:t>ّ</a:t>
            </a:r>
            <a:r>
              <a:rPr b="0" lang="ar-SA" sz="3200" spc="-1" strike="noStrike">
                <a:solidFill>
                  <a:srgbClr val="e5ffff"/>
                </a:solidFill>
                <a:latin typeface="Tahoma"/>
                <a:cs typeface="Zar"/>
              </a:rPr>
              <a:t>اوري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علم با مطالعه طبيعت به بررسي رفتارهاي طبيعي و فيزيكي مي‌پردازد و بدنبال كشف پديده‌هـــا است در حاليكه فنّاوري، با بكار گيري ايده‌هـــا و دستاوردهاي علمي خدمات و كالاي مورد نياز بشر را ارائه مي كند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فناوري عامل تبديل منابع طبيعي، سرمايه و نيروي انساني به كالا و خدمات است كه عناصرمتشكله يا اركان آن عبارت است از: سخت‌افزار، انسان افزار يا نيروي انساني متخصص، فناوري متبلور در اسناد و مدارك يا اطلاعات، سازمانها يا نهاد افزا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9111-163D-4ECE-89AA-0CF5D26C16C5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04920" y="6858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5ffff"/>
                </a:solidFill>
                <a:latin typeface="Tahoma"/>
              </a:rPr>
              <a:t>تعريف </a:t>
            </a: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اطلاعات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0" y="1752480"/>
            <a:ext cx="914400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عاريف متعددي از اطلاعات وجود دارد (تعاريف مبتني بر معنا (معنا شناختي) و تعاريف مبتني بر كميت)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ف ـ تعريف واژه نامه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طلاعات عبارت است از تمام ايـده ها، واقعيتها و كارهـــاي خلاقانه ذهن كه به صورت رسمي يا غير رسمي و به هر حالتي ثبت، منتشر و ياتوزيع گرديده است.كه ممكن است بصــورت مستند يا غيرمستند باشد. براســاس استاندارد مارك اطلاعات مستند به يكي از صور ذيل است:          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ب-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كتاب ها: مواد متني كه به صورت تك نگاشت مي باشند.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22DD-11DE-4F16-B8BE-00C15CA1F61E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5ffff"/>
                </a:solidFill>
                <a:latin typeface="Tahoma"/>
                <a:cs typeface="Zar"/>
              </a:rPr>
              <a:t>تعريف </a:t>
            </a:r>
            <a:r>
              <a:rPr b="0" lang="ar-SA" sz="3200" spc="-1" strike="noStrike">
                <a:solidFill>
                  <a:srgbClr val="e5ffff"/>
                </a:solidFill>
                <a:latin typeface="Tahoma"/>
                <a:cs typeface="Zar"/>
              </a:rPr>
              <a:t>اطلاعات</a:t>
            </a:r>
            <a:r>
              <a:rPr b="0" lang="ar-SA" sz="40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ب- پيايندها: مواد متني كه بصورت منظم تكرار مي شود مانند نشريات ادوار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ج- نقشه ها: موارد جغرافيايي شبيه نقشه هاي مسطح يا كره ه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 د- فايلهاي كامپيوتري: كه در كامپيوترها ونرم افزارهاي مختلف استفاده مي شود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ه ـ موارد شنيداري وديداري: شامل اطلاعات صوتي، نوارهاي كاست،تصــاويرو...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ـ حالات تركيبي: كه بصورت تركيبي از موارد فوق مي باشد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7683-6447-44DB-808A-8F71BA593F3C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228600" y="1523880"/>
            <a:ext cx="86868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ب ـ تعريف مبتني بر نظرية اطلاعا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طلاعات كميتي است كه با بيت ها اندازه گيري و بر حسب احتمالات پديدار شدن نماد ها تعريف مي شود.( اين تعريف به بار معنايي توجه ندارد)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ج ـ در فرهنگ انفورماتيك اطلاعات عبارت است از  هر مجموعه اي از عناصر ديجيتال ، حروفي يا نمادي  كه داراي مفهوم  آشكار  و مشخص بوده و مي تواند در معرض پردازش اتوماتيك قرار گيرد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3352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5ffff"/>
                </a:solidFill>
                <a:latin typeface="Tahoma"/>
              </a:rPr>
              <a:t>تعريف </a:t>
            </a: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اطلاعات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D4A9-F881-4B30-8603-3905E5AF02B0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71840" y="60912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5ffff"/>
                </a:solidFill>
                <a:latin typeface="Tahoma"/>
                <a:cs typeface="Zar"/>
              </a:rPr>
              <a:t>اهداف درس 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آشنايي با مفاهيم اوليه فناوري اطلاعات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آشنايي با جامعه اطلاعاتي و تاثير فناوري اطلاعات بر وجوه مختلف آ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طالعه سواد اطلاعاتي، توسعه اطلاعاتي و الگوهاي مختل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آشنايي با معماري كامپيوتر و سيستم عامل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آشنايي با شبكه هاي كامپيوتري، پروتكلها ، سرويسها و 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C036-F59B-431A-B1CA-228CE40DEC44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228600" y="2209680"/>
            <a:ext cx="8610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فنّاوري اطلاعات شاخــه اي ازفنّاوري است كه با استفاده ازسخت افزار، نرم افزارو  شبـــــكه  افـــزار،مطالعـه وكاربـرد داده وپردازش آن را درزمينـــه هاي : ذخيره سازي ، دستكاري، انتقــال ، مديريت ،   كنترل، و داده آمايي خودكار امكانپذير مي سازد.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53352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تعريف جامع فناوري اطلاعات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380880" y="4267080"/>
            <a:ext cx="858708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1AC3-6EF2-4793-A0F3-C4AF0C4DD393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80880" y="2133720"/>
            <a:ext cx="84582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بارت فنّاوري اطلاعات بكرّات در زمينه هاي نو و جديد در معاني مختلف به كار مي رود و شايد بتوان گفت تنها توافقي كه بر معناي آن وجود دارد آن است كه فنّاوري اطلاعات موضوعي داغ است!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3352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ويژگي فنّاوري اطلاعا</a:t>
            </a:r>
            <a:r>
              <a:rPr b="0" lang="fa-IR" sz="3200" spc="-1" strike="noStrike">
                <a:solidFill>
                  <a:srgbClr val="e5ffff"/>
                </a:solidFill>
                <a:latin typeface="Tahoma"/>
              </a:rPr>
              <a:t>ت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785D-8DF5-4632-BD50-1598243118DB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0" y="609480"/>
            <a:ext cx="8686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فناوري اطلاعات و ارتباطات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فناوري اطلاعات و ارتباطات شامل سه مؤلفه است: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ف ـ فناوري   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y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ب ـ اطلاعات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ج ـ ارتباطات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EFB8-D79C-45A1-90AB-E039D6E0FD1D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380880" y="685800"/>
            <a:ext cx="8458200" cy="55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تعريف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رتباطات 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رتباطات فرايندي است كه ارگانيسمها را به يكديگر پيوند مي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Yagut"/>
              </a:rPr>
              <a:t>‌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دهد.” اين ارگانيسم ممكن است به دو دوست كه با هم صحبت مي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Yagut"/>
              </a:rPr>
              <a:t>‌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نند، روزنامه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Yagut"/>
              </a:rPr>
              <a:t>‌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ها و خوانندگان آنها، كشور و خدمات پستي و سيستم تلفن آن اشاره داشته باشد. 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در هر ارتباط چهار جزء اصلي وجود دارد كه عبارتند از: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الف- فرستنده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D06A-C9DB-4817-8590-E6BBBE8E61D1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Zar"/>
              </a:rPr>
              <a:t>تعريف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ارتباطات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ب- گيرند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 ج- پيا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 د- محيط ارتباط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دف از برقراري ارتباط انتقال پيام(نماد) از طريق محيط ارتباطي بين فرستنده و گيرنده است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A088-1BA2-49DD-9512-35C8AF0FCA4A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0" y="685800"/>
            <a:ext cx="876312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فنّاوري اطلاعات وارتباطات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دو واژة «فنّاوري اطلاعات» و«فنّاوري اطلاعات وارتباطات» ازيك مفهوم برخورداربوده و معمولاً به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Yagut"/>
              </a:rPr>
              <a:t>‌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جاي يكديگر نيزاستفاده مي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Yagut"/>
              </a:rPr>
              <a:t>‌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شوند اگرچه درمنابع اطلاعاتي متعلــــق به كشور آمريكا معمولاً ازفنّاوري اطلاعات و درمنابع اروپايي ازفنّاوري اطلاعات و ارتباطات استفاده مي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Yagut"/>
              </a:rPr>
              <a:t>‌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شود.  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D8FB-4B41-4523-AF9C-295CA6D4D704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فنّاوري اطلاعات وارتباطات</a:t>
            </a:r>
            <a:br>
              <a:rPr sz="40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گاهي فنّاوري ارتباطات را به‌شكل: هرگونه روشي براي تبادل اطلاعات بين دو يا چند نقطـه تعريف مي‌كنند دراين صورت مشخص است كه مفهوم فنّاوري اطلاعات وارتباطات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CT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) ذيل مفهوم فنّاوري اطلاعات قرارمي‌گيرد وفنّاوري اطلاعات بار معنايي كاملتري را دربر خواهد داشت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F9E0-4CBD-429B-87ED-93C0F28CF46C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grpSp>
        <p:nvGrpSpPr>
          <p:cNvPr id="132" name="Group 2"/>
          <p:cNvGrpSpPr/>
          <p:nvPr/>
        </p:nvGrpSpPr>
        <p:grpSpPr>
          <a:xfrm>
            <a:off x="685800" y="1828800"/>
            <a:ext cx="7162560" cy="3886200"/>
            <a:chOff x="685800" y="1828800"/>
            <a:chExt cx="7162560" cy="3886200"/>
          </a:xfrm>
        </p:grpSpPr>
        <p:grpSp>
          <p:nvGrpSpPr>
            <p:cNvPr id="133" name="Group 3"/>
            <p:cNvGrpSpPr/>
            <p:nvPr/>
          </p:nvGrpSpPr>
          <p:grpSpPr>
            <a:xfrm>
              <a:off x="4800600" y="1828800"/>
              <a:ext cx="3047760" cy="1905120"/>
              <a:chOff x="4800600" y="1828800"/>
              <a:chExt cx="3047760" cy="1905120"/>
            </a:xfrm>
          </p:grpSpPr>
          <p:sp>
            <p:nvSpPr>
              <p:cNvPr id="134" name="Rectangle 4"/>
              <p:cNvSpPr/>
              <p:nvPr/>
            </p:nvSpPr>
            <p:spPr>
              <a:xfrm>
                <a:off x="5227920" y="2111400"/>
                <a:ext cx="222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200" spc="-1" strike="noStrike">
                    <a:solidFill>
                      <a:srgbClr val="ffff00"/>
                    </a:solidFill>
                    <a:latin typeface="Tahoma"/>
                  </a:rPr>
                  <a:t>فناوري</a:t>
                </a:r>
                <a:r>
                  <a:rPr b="1" lang="ar-SA" sz="2800" spc="-1" strike="noStrike">
                    <a:solidFill>
                      <a:srgbClr val="ffff00"/>
                    </a:solidFill>
                    <a:latin typeface="Arial"/>
                    <a:ea typeface="Yagut"/>
                  </a:rPr>
                  <a:t> </a:t>
                </a:r>
                <a:r>
                  <a:rPr b="0" lang="ar-SA" sz="3200" spc="-1" strike="noStrike">
                    <a:solidFill>
                      <a:srgbClr val="ffff00"/>
                    </a:solidFill>
                    <a:latin typeface="Tahoma"/>
                  </a:rPr>
                  <a:t>مولد</a:t>
                </a:r>
                <a:endParaRPr b="0" lang="en-US" sz="3200" spc="-1" strike="noStrike">
                  <a:solidFill>
                    <a:srgbClr val="ffffff"/>
                  </a:solidFill>
                  <a:latin typeface="Zr"/>
                </a:endParaRPr>
              </a:p>
            </p:txBody>
          </p:sp>
          <p:sp>
            <p:nvSpPr>
              <p:cNvPr id="135" name="Rectangle 5"/>
              <p:cNvSpPr/>
              <p:nvPr/>
            </p:nvSpPr>
            <p:spPr>
              <a:xfrm>
                <a:off x="5207400" y="2949480"/>
                <a:ext cx="2521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200" spc="-1" strike="noStrike">
                    <a:solidFill>
                      <a:srgbClr val="ffffff"/>
                    </a:solidFill>
                    <a:latin typeface="Tahoma"/>
                  </a:rPr>
                  <a:t>جامعه صنعتي</a:t>
                </a:r>
                <a:endParaRPr b="0" lang="en-US" sz="3200" spc="-1" strike="noStrike">
                  <a:solidFill>
                    <a:srgbClr val="ffffff"/>
                  </a:solidFill>
                  <a:latin typeface="Zr"/>
                </a:endParaRPr>
              </a:p>
            </p:txBody>
          </p:sp>
          <p:sp>
            <p:nvSpPr>
              <p:cNvPr id="136" name="Oval 6"/>
              <p:cNvSpPr/>
              <p:nvPr/>
            </p:nvSpPr>
            <p:spPr>
              <a:xfrm>
                <a:off x="4800600" y="1828800"/>
                <a:ext cx="3047760" cy="19051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Zr"/>
                </a:endParaRPr>
              </a:p>
            </p:txBody>
          </p:sp>
        </p:grpSp>
        <p:grpSp>
          <p:nvGrpSpPr>
            <p:cNvPr id="137" name="Group 7"/>
            <p:cNvGrpSpPr/>
            <p:nvPr/>
          </p:nvGrpSpPr>
          <p:grpSpPr>
            <a:xfrm>
              <a:off x="685800" y="3733920"/>
              <a:ext cx="3581280" cy="1981080"/>
              <a:chOff x="685800" y="3733920"/>
              <a:chExt cx="3581280" cy="1981080"/>
            </a:xfrm>
          </p:grpSpPr>
          <p:sp>
            <p:nvSpPr>
              <p:cNvPr id="138" name="Rectangle 8"/>
              <p:cNvSpPr/>
              <p:nvPr/>
            </p:nvSpPr>
            <p:spPr>
              <a:xfrm>
                <a:off x="935280" y="4016520"/>
                <a:ext cx="2966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200" spc="-1" strike="noStrike">
                    <a:solidFill>
                      <a:srgbClr val="ffff00"/>
                    </a:solidFill>
                    <a:latin typeface="Tahoma"/>
                  </a:rPr>
                  <a:t>فناوري اطلاعات</a:t>
                </a:r>
                <a:endParaRPr b="0" lang="en-US" sz="3200" spc="-1" strike="noStrike">
                  <a:solidFill>
                    <a:srgbClr val="ffffff"/>
                  </a:solidFill>
                  <a:latin typeface="Zr"/>
                </a:endParaRPr>
              </a:p>
            </p:txBody>
          </p:sp>
          <p:sp>
            <p:nvSpPr>
              <p:cNvPr id="139" name="Rectangle 9"/>
              <p:cNvSpPr/>
              <p:nvPr/>
            </p:nvSpPr>
            <p:spPr>
              <a:xfrm>
                <a:off x="929520" y="4876920"/>
                <a:ext cx="2890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200" spc="-1" strike="noStrike">
                    <a:solidFill>
                      <a:srgbClr val="ffffff"/>
                    </a:solidFill>
                    <a:latin typeface="Tahoma"/>
                  </a:rPr>
                  <a:t>جامعه اطلاعاتي</a:t>
                </a:r>
                <a:endParaRPr b="0" lang="en-US" sz="3200" spc="-1" strike="noStrike">
                  <a:solidFill>
                    <a:srgbClr val="ffffff"/>
                  </a:solidFill>
                  <a:latin typeface="Zr"/>
                </a:endParaRPr>
              </a:p>
            </p:txBody>
          </p:sp>
          <p:sp>
            <p:nvSpPr>
              <p:cNvPr id="140" name="Oval 10"/>
              <p:cNvSpPr/>
              <p:nvPr/>
            </p:nvSpPr>
            <p:spPr>
              <a:xfrm>
                <a:off x="685800" y="3733920"/>
                <a:ext cx="3581280" cy="19810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Zr"/>
                </a:endParaRPr>
              </a:p>
            </p:txBody>
          </p:sp>
        </p:grpSp>
        <p:sp>
          <p:nvSpPr>
            <p:cNvPr id="141" name="Line 11"/>
            <p:cNvSpPr/>
            <p:nvPr/>
          </p:nvSpPr>
          <p:spPr>
            <a:xfrm flipH="1">
              <a:off x="3657600" y="3200400"/>
              <a:ext cx="129528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Zr"/>
              </a:endParaRPr>
            </a:p>
          </p:txBody>
        </p:sp>
      </p:grpSp>
      <p:sp>
        <p:nvSpPr>
          <p:cNvPr id="142" name="Rectangle 12"/>
          <p:cNvSpPr/>
          <p:nvPr/>
        </p:nvSpPr>
        <p:spPr>
          <a:xfrm>
            <a:off x="2945520" y="685800"/>
            <a:ext cx="71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قايسه فناوري مولد و فناوري اطلاعات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121C-1865-4716-BFA2-CE73AC3D4325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685800"/>
            <a:ext cx="8305920" cy="60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يژگيهاي فناوري مولد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جامعه صنعتي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زمواد خام طبيعي استفاده مي كند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وتور محرّك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ه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آ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ن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اشينهاي منبعث ازموتور بخار است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حصولهاي نهايي آن محصولي تجس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م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 است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حدود به موقعيت مكاني است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آثار زيست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محيطي آن حيات كره زمين را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هديد مي كند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Yagu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C0D2-41E8-4DD5-95D6-25559A045F96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0" y="609480"/>
            <a:ext cx="8991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Tahoma"/>
              </a:rPr>
              <a:t>ويژگيهاي فنّاوري اطلاعات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fa-IR" sz="2700" spc="-1" strike="noStrike">
                <a:solidFill>
                  <a:srgbClr val="ffffff"/>
                </a:solidFill>
                <a:latin typeface="Tahoma"/>
              </a:rPr>
              <a:t> جامعه اطلاعاتي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(</a:t>
            </a:r>
            <a:endParaRPr b="0" lang="en-US" sz="27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53"/>
                </a:solidFill>
                <a:latin typeface="Arial"/>
                <a:ea typeface="Yagut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ادّ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ه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ولي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ه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آن اطلاعات (مادّ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ه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خام ذهني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ست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وتور محرّك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ه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آن كامپيوتر است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حدود به موقعيت مكاني نيست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أثير مخرّب زيست محيطي ندارد.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حصولهاي نهايي آن محصولي تجريدي (غير قابل تجسم) است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B1C5-5371-43EC-B281-706429D97B3A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8200" y="66636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5ffff"/>
                </a:solidFill>
                <a:latin typeface="Tahoma"/>
                <a:cs typeface="Zar"/>
              </a:rPr>
              <a:t>سيلابس درس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9840" y="1676160"/>
            <a:ext cx="7010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فاهيم  اوليه فناوري اطلاعات شامل تعاريف ، مزايا ، معايب ، محدوديتها ، مقايسه فناوري مولد و فناوري اطلاعات و .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جامعه اطلاعاتي و مفاهيم مرتب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تاثير فناوري اطلاعات بر وجوه مختلف جامعه از جمله اقتصاد، تجارت، آموزش،  حكومت، كسب وكار  توليد ، سازمان ، و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عماري اطلاعات و سيستمهاي اطلاعات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78D0-BD5E-4D57-927A-68CCAF74E1DA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1371600" y="762120"/>
            <a:ext cx="731664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عوامل مؤثر برتوسعة فنّاوري اطلاعات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buClr>
                <a:srgbClr val="c5ff6f"/>
              </a:buClr>
              <a:buFont typeface="Siavash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رشد فنّاوري ريزپردازنده ها وكوچك شدن ابعاد آنها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كاهش بهاي رايانه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ها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گسترش  استفاده از كامپيوتر و كاربرد آنها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وسعه شبكه هاي ارتباطي( زير ساخت )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1604-176B-47E0-8BEE-615BF464FE9D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2666880" y="3808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عوامل مؤثر برتوسعة فنّاوري اطلاعات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53352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رشد فنّاوري ريزپردازنده ها وكوچك شدن ابعاد آنها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  <p:pic>
        <p:nvPicPr>
          <p:cNvPr id="152" name="Picture 4" descr="untitled"/>
          <p:cNvPicPr/>
          <p:nvPr/>
        </p:nvPicPr>
        <p:blipFill>
          <a:blip r:embed="rId1"/>
          <a:stretch/>
        </p:blipFill>
        <p:spPr>
          <a:xfrm>
            <a:off x="304920" y="2514600"/>
            <a:ext cx="8458200" cy="3429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066680" y="5257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I, MSI,LSI,VLSI,USI</a:t>
            </a:r>
            <a:endParaRPr b="0" lang="en-US" sz="2400" spc="-1" strike="noStrike">
              <a:solidFill>
                <a:srgbClr val="ffffff"/>
              </a:solidFill>
              <a:latin typeface="Zr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072F-E774-4A50-A0AD-8E1AB39C7FA6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362320" y="3808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عوامل مؤثر برتوسعة فنّاوري اطلاعات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53352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اهش بهاي رايانه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ها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  <p:pic>
        <p:nvPicPr>
          <p:cNvPr id="157" name="Picture 4" descr="price reduction"/>
          <p:cNvPicPr/>
          <p:nvPr/>
        </p:nvPicPr>
        <p:blipFill>
          <a:blip r:embed="rId1"/>
          <a:stretch/>
        </p:blipFill>
        <p:spPr>
          <a:xfrm>
            <a:off x="1071720" y="2328840"/>
            <a:ext cx="6999120" cy="3919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D82F-4EC8-4242-A0BC-B2993F2C82DC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23623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عوامل مؤثر برتوسعة فنّاوري اطلاعات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07960" y="153504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گسترش استفاده از كامپيوتر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  <p:pic>
        <p:nvPicPr>
          <p:cNvPr id="161" name="Picture 4" descr="computer per 100"/>
          <p:cNvPicPr/>
          <p:nvPr/>
        </p:nvPicPr>
        <p:blipFill>
          <a:blip r:embed="rId1"/>
          <a:stretch/>
        </p:blipFill>
        <p:spPr>
          <a:xfrm>
            <a:off x="838080" y="2133720"/>
            <a:ext cx="7467840" cy="4371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754A-7436-41A1-8FE7-B88B0B11FD25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243828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عوامل مؤثر برتوسعة فنّاوري اطلاعات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53352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وسعه شبكه هاي ارتباطي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  <p:pic>
        <p:nvPicPr>
          <p:cNvPr id="165" name="Picture 4" descr="traffic volume"/>
          <p:cNvPicPr/>
          <p:nvPr/>
        </p:nvPicPr>
        <p:blipFill>
          <a:blip r:embed="rId1"/>
          <a:stretch/>
        </p:blipFill>
        <p:spPr>
          <a:xfrm>
            <a:off x="685800" y="2209680"/>
            <a:ext cx="7577280" cy="4154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B96A-B214-4014-9400-F8EFCDA51A84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به دليل خصايل ممتاز محيط اينترنت، ضريب نفوذ آ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بيش از همه رسانه ها بوده است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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لفن در طي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74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سال به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يليون كاربر دست ياف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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راديو در طي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38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سال به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يليون كاربر دست ياف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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لويزيون درطي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سال به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يليون كاربر دست ياف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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شبكه كابلي درطي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سال به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يليون كاربر دست ياف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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ينترنت در طي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سال به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يليون كاربردست يافت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5592600" y="743040"/>
            <a:ext cx="32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Zr"/>
              </a:rPr>
              <a:t>سرعت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</a:rPr>
              <a:t>رشد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</a:rPr>
              <a:t>اينترنت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3D22-17B2-4FC4-B8FA-13845D94FC5A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990720" y="6858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Zr"/>
                <a:cs typeface="Zr"/>
              </a:rPr>
              <a:t>به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cs typeface="Zr"/>
              </a:rPr>
              <a:t>نام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cs typeface="Zr"/>
              </a:rPr>
              <a:t>آنكه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cs typeface="Zr"/>
              </a:rPr>
              <a:t>جان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cs typeface="Zr"/>
              </a:rPr>
              <a:t>را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cs typeface="Zr"/>
              </a:rPr>
              <a:t>فكرت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cs typeface="Zr"/>
              </a:rPr>
              <a:t>آموخت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523880" y="3352680"/>
            <a:ext cx="60199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avash"/>
                <a:cs typeface="Siavash"/>
              </a:rPr>
              <a:t>جامعه</a:t>
            </a:r>
            <a:r>
              <a:rPr b="0" lang="ar-SA" sz="28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Siavash"/>
                <a:cs typeface="Siavash"/>
              </a:rPr>
              <a:t>اطلاعاتي</a:t>
            </a:r>
            <a:r>
              <a:rPr b="0" lang="ar-SA" sz="28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Siavash"/>
                <a:cs typeface="Siavash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Siavash"/>
                <a:cs typeface="Siavash"/>
              </a:rPr>
              <a:t>ويژگيهاي</a:t>
            </a:r>
            <a:r>
              <a:rPr b="0" lang="ar-SA" sz="28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Siavash"/>
                <a:cs typeface="Siavash"/>
              </a:rPr>
              <a:t>آن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666880" y="2590920"/>
            <a:ext cx="39625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Siavash"/>
                <a:cs typeface="Siavash"/>
              </a:rPr>
              <a:t>جلسه</a:t>
            </a:r>
            <a:r>
              <a:rPr b="0" lang="fa-IR" sz="28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fa-IR" sz="2800" spc="-1" strike="noStrike">
                <a:solidFill>
                  <a:srgbClr val="ffffff"/>
                </a:solidFill>
                <a:latin typeface="Siavash"/>
                <a:cs typeface="Siavash"/>
              </a:rPr>
              <a:t>دوم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EDB0-022A-4A1E-98B2-6D551797C69F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4724280" y="685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Zr"/>
              </a:rPr>
              <a:t>جامعه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</a:rPr>
              <a:t>چيست؟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380880" y="1371600"/>
            <a:ext cx="853452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جامعه شناسان تعاريف متعددي را از جامعه ارائه مي دهند. بعنوان مثال: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«ويلفردوپارتوجامعه شناس ايتاليايي »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جامعه جمعي از ذرات انساني است كه در يك رابطة متقابل يا پيچيده قرار دارند. صورت واقعي اين هيأت اجتماعي متنوع و متعدد است و عوامل  گوناگوني موجب تشكيل آن مي شوند.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0256-3DB1-46CA-BCB7-9DB37600179D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Zr"/>
                <a:cs typeface="Zr"/>
              </a:rPr>
              <a:t>جامعه</a:t>
            </a:r>
            <a:r>
              <a:rPr b="0" lang="ar-SA" sz="32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Zr"/>
                <a:cs typeface="Zr"/>
              </a:rPr>
              <a:t>چيست؟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«هنري گيدينگزجامعه شناس آمريكايي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«جامعه دسته اي از مردم است كه براي نيل به هدف عام المنفعه در حال همكاري هستند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« ژرژ گورويچ جامعه شناس فرانسوي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جامعه واقعيتي كلي و كثيرالاجزا و جامع جميع جهات است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ar-SA" sz="2800" spc="-1" strike="noStrike">
                <a:solidFill>
                  <a:srgbClr val="ccff99"/>
                </a:solidFill>
                <a:latin typeface="Tahoma"/>
              </a:rPr>
              <a:t>اميل دوركيم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جامعه را مجموعه اي از افراد ميداند كه گردهم آمده اند و مناسبات و روابطي در ميان آنها حاكم است اين روابط بوسيله مقررات، مؤسسات يا نهادهاي اجتماعي مستحكم شده و براي اجرا و حفظ آنها مكافات يا ضمانت اجرايي وجود دار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5AEA-EFC3-48FA-AB89-58B39400357C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457200" y="152280"/>
            <a:ext cx="8458200" cy="48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r"/>
                <a:ea typeface="Zr"/>
              </a:rPr>
              <a:t>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دگرگوني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هاي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اجتماعي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دگرگوني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هاي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اجتماعي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معمولا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در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سه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بعد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بروز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مي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كند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</a:t>
            </a:r>
            <a:endParaRPr b="0" lang="en-US" sz="24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الف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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دگرگوني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شكل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و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ريخت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جامعه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نظير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كوچك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شدن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روستاها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در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اثر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مهاجرت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روستائيان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به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شهرها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و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بزرگ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شدن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شهرها</a:t>
            </a:r>
            <a:endParaRPr b="0" lang="en-US" sz="24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ب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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دگرگوني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در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نهادهاي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اجتماعي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شامل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</a:t>
            </a:r>
            <a:endParaRPr b="0" lang="en-US" sz="24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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دگرگوني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در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نهاد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خانواده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نظير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پدر‌سالاري،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زن‌سالاري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cs typeface="Siavash"/>
              </a:rPr>
              <a:t>و</a:t>
            </a: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</a:t>
            </a:r>
            <a:endParaRPr b="0" lang="en-US" sz="24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Siavash"/>
                <a:ea typeface="Siavash"/>
              </a:rPr>
              <a:t></a:t>
            </a:r>
            <a:endParaRPr b="0" lang="en-US" sz="2400" spc="-1" strike="noStrike">
              <a:solidFill>
                <a:srgbClr val="ffffff"/>
              </a:solidFill>
              <a:latin typeface="Zr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2BB5-42C3-4EE2-9D04-B657C3C7FD9F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fa-IR" sz="3200" spc="-1" strike="noStrike">
                <a:solidFill>
                  <a:srgbClr val="e5ffff"/>
                </a:solidFill>
                <a:latin typeface="Tahoma"/>
                <a:cs typeface="Zar"/>
              </a:rPr>
              <a:t>سيلابس درس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وسعه اطلاعاتي ،سواد اطلاعاتي و استانداردهاي موجود (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D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،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C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.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قدمه اي بر معماري كامپيوتر ( الگوها و اجزا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روري بر سيستم عامل و ويژگيهاي آ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فاهيم اوليه شبكه هاي كامپيوتري ( شامل تعاريف ، كاربردها ، مزايا، و 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انواع شبكه هاي كامپيوتري  و 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ک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ربرد هر ي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C83D-A407-4D8E-948C-82263778EBD6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دگرگوني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هاي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اجتماعي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دگرگوني در نهاد اقتصاد نظير اقتصاد شباني، كشاورزي،صنعتي و اطلاعات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   دگرگوني در نهادهاي آموزش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   دگرگوني در نهاد حقوق (قانون‌گذاري، قضاء و دادرسي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   دگرگوني در نهاد حكوم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ج)دگرگوني در كم و كيف ارتباط و پيوند متقابل نهاده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F1C3-E5C1-40B4-9AF6-48E4EE3AC668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685800"/>
            <a:ext cx="883908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r"/>
                <a:ea typeface="Zr"/>
              </a:rPr>
              <a:t></a:t>
            </a:r>
            <a:r>
              <a:rPr b="0" lang="fa-IR" sz="2800" spc="-1" strike="noStrike">
                <a:solidFill>
                  <a:srgbClr val="ffffff"/>
                </a:solidFill>
                <a:latin typeface="Zr"/>
                <a:ea typeface="Zr"/>
              </a:rPr>
              <a:t>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منشا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تغييرات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در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جامعه</a:t>
            </a:r>
            <a:r>
              <a:rPr b="0" lang="fa-IR" sz="2800" spc="-1" strike="noStrike">
                <a:solidFill>
                  <a:srgbClr val="ffffff"/>
                </a:solidFill>
                <a:latin typeface="Zr"/>
                <a:ea typeface="Zr"/>
              </a:rPr>
              <a:t>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نشا تغييرات دو دسته است : عوامل غير ارادي و عوامل ارادي  شبيه :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65000"/>
              <a:buFont typeface="Zr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جنگ 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65000"/>
              <a:buFont typeface="Zr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رشد علوم و فنون 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65000"/>
              <a:buFont typeface="Zr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عوامل جمعيتي 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65000"/>
              <a:buFont typeface="Zr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وقايع طبيعي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65000"/>
              <a:buFont typeface="Zr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فراد برجسته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65000"/>
              <a:buFont typeface="Zr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تغيير در دانش و فرهنگ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</p:spTree>
  </p:cSld>
  <p:transition spd="med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F108-4FCB-41B2-B016-056185A2EF11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4572000" y="53352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دسته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بندي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جوامع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بشري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0" y="1523880"/>
            <a:ext cx="8915400" cy="58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ف ـ جامعه اوليه  مبتني بر جمع آوري آذوقه و انجام شكار ـ انسانهاي نخستين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ب ـ جامعه ايليات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b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جوامع قبيله اي همراه با اهلي كردن حيوانات  و اقتصاد شباني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دـ جامعه روستاي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بتني بر كشاورزي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ج ـ جامعه شهري همراه با افزايش جمعيت و ايجاد قانون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ـ ـ جامعه صنعت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i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بتني بر صنعت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ـ جامعه اطلاعات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بتني بر اطلاعات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</p:spTree>
  </p:cSld>
  <p:transition spd="med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9941-3577-4CA9-A2A3-3594F06056E1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0" y="685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Zr"/>
                <a:ea typeface="Zr"/>
              </a:rPr>
              <a:t>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مقايسة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جامعة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شهري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روستايي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523880" y="1752480"/>
            <a:ext cx="6705360" cy="4391280"/>
            <a:chOff x="1523880" y="1752480"/>
            <a:chExt cx="6705360" cy="4391280"/>
          </a:xfrm>
        </p:grpSpPr>
        <p:grpSp>
          <p:nvGrpSpPr>
            <p:cNvPr id="192" name="Group 4"/>
            <p:cNvGrpSpPr/>
            <p:nvPr/>
          </p:nvGrpSpPr>
          <p:grpSpPr>
            <a:xfrm>
              <a:off x="1532160" y="1755720"/>
              <a:ext cx="6687360" cy="4384080"/>
              <a:chOff x="1532160" y="1755720"/>
              <a:chExt cx="6687360" cy="4384080"/>
            </a:xfrm>
          </p:grpSpPr>
          <p:grpSp>
            <p:nvGrpSpPr>
              <p:cNvPr id="193" name="Group 5"/>
              <p:cNvGrpSpPr/>
              <p:nvPr/>
            </p:nvGrpSpPr>
            <p:grpSpPr>
              <a:xfrm>
                <a:off x="1532160" y="1755720"/>
                <a:ext cx="1852560" cy="547560"/>
                <a:chOff x="1532160" y="1755720"/>
                <a:chExt cx="1852560" cy="547560"/>
              </a:xfrm>
            </p:grpSpPr>
            <p:sp>
              <p:nvSpPr>
                <p:cNvPr id="194" name="Rectangle 6"/>
                <p:cNvSpPr/>
                <p:nvPr/>
              </p:nvSpPr>
              <p:spPr>
                <a:xfrm>
                  <a:off x="1654200" y="1755720"/>
                  <a:ext cx="1608120" cy="54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جامعه روستائي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195" name="Rectangle 7"/>
                <p:cNvSpPr/>
                <p:nvPr/>
              </p:nvSpPr>
              <p:spPr>
                <a:xfrm>
                  <a:off x="1532160" y="1755720"/>
                  <a:ext cx="1852560" cy="54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196" name="Group 8"/>
              <p:cNvGrpSpPr/>
              <p:nvPr/>
            </p:nvGrpSpPr>
            <p:grpSpPr>
              <a:xfrm>
                <a:off x="3385080" y="1755720"/>
                <a:ext cx="2257920" cy="547560"/>
                <a:chOff x="3385080" y="1755720"/>
                <a:chExt cx="2257920" cy="547560"/>
              </a:xfrm>
            </p:grpSpPr>
            <p:sp>
              <p:nvSpPr>
                <p:cNvPr id="197" name="Rectangle 9"/>
                <p:cNvSpPr/>
                <p:nvPr/>
              </p:nvSpPr>
              <p:spPr>
                <a:xfrm>
                  <a:off x="3506400" y="1755720"/>
                  <a:ext cx="2013840" cy="54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جامعه شهري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198" name="Rectangle 10"/>
                <p:cNvSpPr/>
                <p:nvPr/>
              </p:nvSpPr>
              <p:spPr>
                <a:xfrm>
                  <a:off x="3385080" y="1755720"/>
                  <a:ext cx="2257920" cy="54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199" name="Group 11"/>
              <p:cNvGrpSpPr/>
              <p:nvPr/>
            </p:nvGrpSpPr>
            <p:grpSpPr>
              <a:xfrm>
                <a:off x="5643720" y="1755720"/>
                <a:ext cx="2575800" cy="547560"/>
                <a:chOff x="5643720" y="1755720"/>
                <a:chExt cx="2575800" cy="547560"/>
              </a:xfrm>
            </p:grpSpPr>
            <p:sp>
              <p:nvSpPr>
                <p:cNvPr id="200" name="Rectangle 12"/>
                <p:cNvSpPr/>
                <p:nvPr/>
              </p:nvSpPr>
              <p:spPr>
                <a:xfrm>
                  <a:off x="5765040" y="1755720"/>
                  <a:ext cx="2331720" cy="54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موضوع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01" name="Rectangle 13"/>
                <p:cNvSpPr/>
                <p:nvPr/>
              </p:nvSpPr>
              <p:spPr>
                <a:xfrm>
                  <a:off x="5643720" y="1755720"/>
                  <a:ext cx="2575800" cy="54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02" name="Group 14"/>
              <p:cNvGrpSpPr/>
              <p:nvPr/>
            </p:nvGrpSpPr>
            <p:grpSpPr>
              <a:xfrm>
                <a:off x="1532160" y="2303280"/>
                <a:ext cx="1852560" cy="410760"/>
                <a:chOff x="1532160" y="2303280"/>
                <a:chExt cx="1852560" cy="410760"/>
              </a:xfrm>
            </p:grpSpPr>
            <p:sp>
              <p:nvSpPr>
                <p:cNvPr id="203" name="Rectangle 15"/>
                <p:cNvSpPr/>
                <p:nvPr/>
              </p:nvSpPr>
              <p:spPr>
                <a:xfrm>
                  <a:off x="1654200" y="2303280"/>
                  <a:ext cx="1608120" cy="41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گذشته گرا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04" name="Rectangle 16"/>
                <p:cNvSpPr/>
                <p:nvPr/>
              </p:nvSpPr>
              <p:spPr>
                <a:xfrm>
                  <a:off x="1532160" y="2303280"/>
                  <a:ext cx="1852560" cy="41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05" name="Group 17"/>
              <p:cNvGrpSpPr/>
              <p:nvPr/>
            </p:nvGrpSpPr>
            <p:grpSpPr>
              <a:xfrm>
                <a:off x="3385080" y="2303280"/>
                <a:ext cx="2257920" cy="410760"/>
                <a:chOff x="3385080" y="2303280"/>
                <a:chExt cx="2257920" cy="410760"/>
              </a:xfrm>
            </p:grpSpPr>
            <p:sp>
              <p:nvSpPr>
                <p:cNvPr id="206" name="Rectangle 18"/>
                <p:cNvSpPr/>
                <p:nvPr/>
              </p:nvSpPr>
              <p:spPr>
                <a:xfrm>
                  <a:off x="3506400" y="2303280"/>
                  <a:ext cx="2013840" cy="41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آينده گرا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07" name="Rectangle 19"/>
                <p:cNvSpPr/>
                <p:nvPr/>
              </p:nvSpPr>
              <p:spPr>
                <a:xfrm>
                  <a:off x="3385080" y="2303280"/>
                  <a:ext cx="2257920" cy="41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08" name="Group 20"/>
              <p:cNvGrpSpPr/>
              <p:nvPr/>
            </p:nvGrpSpPr>
            <p:grpSpPr>
              <a:xfrm>
                <a:off x="5643720" y="2303280"/>
                <a:ext cx="2575800" cy="410760"/>
                <a:chOff x="5643720" y="2303280"/>
                <a:chExt cx="2575800" cy="410760"/>
              </a:xfrm>
            </p:grpSpPr>
            <p:sp>
              <p:nvSpPr>
                <p:cNvPr id="209" name="Rectangle 21"/>
                <p:cNvSpPr/>
                <p:nvPr/>
              </p:nvSpPr>
              <p:spPr>
                <a:xfrm>
                  <a:off x="5765040" y="2303280"/>
                  <a:ext cx="2331720" cy="41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شيوه نگرش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10" name="Rectangle 22"/>
                <p:cNvSpPr/>
                <p:nvPr/>
              </p:nvSpPr>
              <p:spPr>
                <a:xfrm>
                  <a:off x="5643720" y="2303280"/>
                  <a:ext cx="2575800" cy="41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11" name="Group 23"/>
              <p:cNvGrpSpPr/>
              <p:nvPr/>
            </p:nvGrpSpPr>
            <p:grpSpPr>
              <a:xfrm>
                <a:off x="1532160" y="2714040"/>
                <a:ext cx="1852560" cy="411120"/>
                <a:chOff x="1532160" y="2714040"/>
                <a:chExt cx="1852560" cy="411120"/>
              </a:xfrm>
            </p:grpSpPr>
            <p:sp>
              <p:nvSpPr>
                <p:cNvPr id="212" name="Rectangle 24"/>
                <p:cNvSpPr/>
                <p:nvPr/>
              </p:nvSpPr>
              <p:spPr>
                <a:xfrm>
                  <a:off x="1654200" y="2714040"/>
                  <a:ext cx="160812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آداب و رسوم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13" name="Rectangle 25"/>
                <p:cNvSpPr/>
                <p:nvPr/>
              </p:nvSpPr>
              <p:spPr>
                <a:xfrm>
                  <a:off x="1532160" y="2714040"/>
                  <a:ext cx="185256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14" name="Group 26"/>
              <p:cNvGrpSpPr/>
              <p:nvPr/>
            </p:nvGrpSpPr>
            <p:grpSpPr>
              <a:xfrm>
                <a:off x="3385080" y="2714040"/>
                <a:ext cx="2257920" cy="411120"/>
                <a:chOff x="3385080" y="2714040"/>
                <a:chExt cx="2257920" cy="411120"/>
              </a:xfrm>
            </p:grpSpPr>
            <p:sp>
              <p:nvSpPr>
                <p:cNvPr id="215" name="Rectangle 27"/>
                <p:cNvSpPr/>
                <p:nvPr/>
              </p:nvSpPr>
              <p:spPr>
                <a:xfrm>
                  <a:off x="3506400" y="2714040"/>
                  <a:ext cx="201384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قانون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16" name="Rectangle 28"/>
                <p:cNvSpPr/>
                <p:nvPr/>
              </p:nvSpPr>
              <p:spPr>
                <a:xfrm>
                  <a:off x="3385080" y="2714040"/>
                  <a:ext cx="225792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17" name="Group 29"/>
              <p:cNvGrpSpPr/>
              <p:nvPr/>
            </p:nvGrpSpPr>
            <p:grpSpPr>
              <a:xfrm>
                <a:off x="5643720" y="2714040"/>
                <a:ext cx="2575800" cy="411120"/>
                <a:chOff x="5643720" y="2714040"/>
                <a:chExt cx="2575800" cy="411120"/>
              </a:xfrm>
            </p:grpSpPr>
            <p:sp>
              <p:nvSpPr>
                <p:cNvPr id="218" name="Rectangle 30"/>
                <p:cNvSpPr/>
                <p:nvPr/>
              </p:nvSpPr>
              <p:spPr>
                <a:xfrm>
                  <a:off x="5765040" y="2714040"/>
                  <a:ext cx="233172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عامل نظارت اجتماعي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19" name="Rectangle 31"/>
                <p:cNvSpPr/>
                <p:nvPr/>
              </p:nvSpPr>
              <p:spPr>
                <a:xfrm>
                  <a:off x="5643720" y="2714040"/>
                  <a:ext cx="257580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20" name="Group 32"/>
              <p:cNvGrpSpPr/>
              <p:nvPr/>
            </p:nvGrpSpPr>
            <p:grpSpPr>
              <a:xfrm>
                <a:off x="1532160" y="3125160"/>
                <a:ext cx="1852560" cy="547560"/>
                <a:chOff x="1532160" y="3125160"/>
                <a:chExt cx="1852560" cy="547560"/>
              </a:xfrm>
            </p:grpSpPr>
            <p:sp>
              <p:nvSpPr>
                <p:cNvPr id="221" name="Rectangle 33"/>
                <p:cNvSpPr/>
                <p:nvPr/>
              </p:nvSpPr>
              <p:spPr>
                <a:xfrm>
                  <a:off x="1654200" y="3125160"/>
                  <a:ext cx="1608120" cy="54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</a:rPr>
                    <a:t>عاطفي و دوستانه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22" name="Rectangle 34"/>
                <p:cNvSpPr/>
                <p:nvPr/>
              </p:nvSpPr>
              <p:spPr>
                <a:xfrm>
                  <a:off x="1532160" y="3125160"/>
                  <a:ext cx="1852560" cy="54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23" name="Group 35"/>
              <p:cNvGrpSpPr/>
              <p:nvPr/>
            </p:nvGrpSpPr>
            <p:grpSpPr>
              <a:xfrm>
                <a:off x="3385080" y="3125160"/>
                <a:ext cx="2257920" cy="547560"/>
                <a:chOff x="3385080" y="3125160"/>
                <a:chExt cx="2257920" cy="547560"/>
              </a:xfrm>
            </p:grpSpPr>
            <p:sp>
              <p:nvSpPr>
                <p:cNvPr id="224" name="Rectangle 36"/>
                <p:cNvSpPr/>
                <p:nvPr/>
              </p:nvSpPr>
              <p:spPr>
                <a:xfrm>
                  <a:off x="3506400" y="3125160"/>
                  <a:ext cx="2013840" cy="54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رسمي و قراردادي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25" name="Rectangle 37"/>
                <p:cNvSpPr/>
                <p:nvPr/>
              </p:nvSpPr>
              <p:spPr>
                <a:xfrm>
                  <a:off x="3385080" y="3125160"/>
                  <a:ext cx="2257920" cy="54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26" name="Group 38"/>
              <p:cNvGrpSpPr/>
              <p:nvPr/>
            </p:nvGrpSpPr>
            <p:grpSpPr>
              <a:xfrm>
                <a:off x="5643720" y="3125160"/>
                <a:ext cx="2575800" cy="547560"/>
                <a:chOff x="5643720" y="3125160"/>
                <a:chExt cx="2575800" cy="547560"/>
              </a:xfrm>
            </p:grpSpPr>
            <p:sp>
              <p:nvSpPr>
                <p:cNvPr id="227" name="Rectangle 39"/>
                <p:cNvSpPr/>
                <p:nvPr/>
              </p:nvSpPr>
              <p:spPr>
                <a:xfrm>
                  <a:off x="5765040" y="3125160"/>
                  <a:ext cx="2331720" cy="54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رابطه افراد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28" name="Rectangle 40"/>
                <p:cNvSpPr/>
                <p:nvPr/>
              </p:nvSpPr>
              <p:spPr>
                <a:xfrm>
                  <a:off x="5643720" y="3125160"/>
                  <a:ext cx="2575800" cy="54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29" name="Group 41"/>
              <p:cNvGrpSpPr/>
              <p:nvPr/>
            </p:nvGrpSpPr>
            <p:grpSpPr>
              <a:xfrm>
                <a:off x="1532160" y="3673080"/>
                <a:ext cx="1852560" cy="411120"/>
                <a:chOff x="1532160" y="3673080"/>
                <a:chExt cx="1852560" cy="411120"/>
              </a:xfrm>
            </p:grpSpPr>
            <p:sp>
              <p:nvSpPr>
                <p:cNvPr id="230" name="Rectangle 42"/>
                <p:cNvSpPr/>
                <p:nvPr/>
              </p:nvSpPr>
              <p:spPr>
                <a:xfrm>
                  <a:off x="1654200" y="3673080"/>
                  <a:ext cx="160812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ساده و محدود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31" name="Rectangle 43"/>
                <p:cNvSpPr/>
                <p:nvPr/>
              </p:nvSpPr>
              <p:spPr>
                <a:xfrm>
                  <a:off x="1532160" y="3673080"/>
                  <a:ext cx="185256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32" name="Group 44"/>
              <p:cNvGrpSpPr/>
              <p:nvPr/>
            </p:nvGrpSpPr>
            <p:grpSpPr>
              <a:xfrm>
                <a:off x="3385080" y="3673080"/>
                <a:ext cx="2257920" cy="411120"/>
                <a:chOff x="3385080" y="3673080"/>
                <a:chExt cx="2257920" cy="411120"/>
              </a:xfrm>
            </p:grpSpPr>
            <p:sp>
              <p:nvSpPr>
                <p:cNvPr id="233" name="Rectangle 45"/>
                <p:cNvSpPr/>
                <p:nvPr/>
              </p:nvSpPr>
              <p:spPr>
                <a:xfrm>
                  <a:off x="3506400" y="3673080"/>
                  <a:ext cx="201384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پيچيده و گسترده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34" name="Rectangle 46"/>
                <p:cNvSpPr/>
                <p:nvPr/>
              </p:nvSpPr>
              <p:spPr>
                <a:xfrm>
                  <a:off x="3385080" y="3673080"/>
                  <a:ext cx="225792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35" name="Group 47"/>
              <p:cNvGrpSpPr/>
              <p:nvPr/>
            </p:nvGrpSpPr>
            <p:grpSpPr>
              <a:xfrm>
                <a:off x="5643720" y="3673080"/>
                <a:ext cx="2575800" cy="411120"/>
                <a:chOff x="5643720" y="3673080"/>
                <a:chExt cx="2575800" cy="411120"/>
              </a:xfrm>
            </p:grpSpPr>
            <p:sp>
              <p:nvSpPr>
                <p:cNvPr id="236" name="Rectangle 48"/>
                <p:cNvSpPr/>
                <p:nvPr/>
              </p:nvSpPr>
              <p:spPr>
                <a:xfrm>
                  <a:off x="5765040" y="3673080"/>
                  <a:ext cx="233172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تقسيم كار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37" name="Rectangle 49"/>
                <p:cNvSpPr/>
                <p:nvPr/>
              </p:nvSpPr>
              <p:spPr>
                <a:xfrm>
                  <a:off x="5643720" y="3673080"/>
                  <a:ext cx="257580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38" name="Group 50"/>
              <p:cNvGrpSpPr/>
              <p:nvPr/>
            </p:nvGrpSpPr>
            <p:grpSpPr>
              <a:xfrm>
                <a:off x="1532160" y="4084200"/>
                <a:ext cx="1852560" cy="411120"/>
                <a:chOff x="1532160" y="4084200"/>
                <a:chExt cx="1852560" cy="411120"/>
              </a:xfrm>
            </p:grpSpPr>
            <p:sp>
              <p:nvSpPr>
                <p:cNvPr id="239" name="Rectangle 51"/>
                <p:cNvSpPr/>
                <p:nvPr/>
              </p:nvSpPr>
              <p:spPr>
                <a:xfrm>
                  <a:off x="1654200" y="4084200"/>
                  <a:ext cx="160812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محدود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40" name="Rectangle 52"/>
                <p:cNvSpPr/>
                <p:nvPr/>
              </p:nvSpPr>
              <p:spPr>
                <a:xfrm>
                  <a:off x="1532160" y="4084200"/>
                  <a:ext cx="185256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41" name="Group 53"/>
              <p:cNvGrpSpPr/>
              <p:nvPr/>
            </p:nvGrpSpPr>
            <p:grpSpPr>
              <a:xfrm>
                <a:off x="3385080" y="4084200"/>
                <a:ext cx="2257920" cy="411120"/>
                <a:chOff x="3385080" y="4084200"/>
                <a:chExt cx="2257920" cy="411120"/>
              </a:xfrm>
            </p:grpSpPr>
            <p:sp>
              <p:nvSpPr>
                <p:cNvPr id="242" name="Rectangle 54"/>
                <p:cNvSpPr/>
                <p:nvPr/>
              </p:nvSpPr>
              <p:spPr>
                <a:xfrm>
                  <a:off x="3506400" y="4084200"/>
                  <a:ext cx="201384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زياد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43" name="Rectangle 55"/>
                <p:cNvSpPr/>
                <p:nvPr/>
              </p:nvSpPr>
              <p:spPr>
                <a:xfrm>
                  <a:off x="3385080" y="4084200"/>
                  <a:ext cx="225792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44" name="Group 56"/>
              <p:cNvGrpSpPr/>
              <p:nvPr/>
            </p:nvGrpSpPr>
            <p:grpSpPr>
              <a:xfrm>
                <a:off x="5643720" y="4084200"/>
                <a:ext cx="2575800" cy="411120"/>
                <a:chOff x="5643720" y="4084200"/>
                <a:chExt cx="2575800" cy="411120"/>
              </a:xfrm>
            </p:grpSpPr>
            <p:sp>
              <p:nvSpPr>
                <p:cNvPr id="245" name="Rectangle 57"/>
                <p:cNvSpPr/>
                <p:nvPr/>
              </p:nvSpPr>
              <p:spPr>
                <a:xfrm>
                  <a:off x="5765040" y="4084200"/>
                  <a:ext cx="233172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فاصله طبقاتي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46" name="Rectangle 58"/>
                <p:cNvSpPr/>
                <p:nvPr/>
              </p:nvSpPr>
              <p:spPr>
                <a:xfrm>
                  <a:off x="5643720" y="4084200"/>
                  <a:ext cx="257580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47" name="Group 59"/>
              <p:cNvGrpSpPr/>
              <p:nvPr/>
            </p:nvGrpSpPr>
            <p:grpSpPr>
              <a:xfrm>
                <a:off x="1532160" y="4495320"/>
                <a:ext cx="1852560" cy="410760"/>
                <a:chOff x="1532160" y="4495320"/>
                <a:chExt cx="1852560" cy="410760"/>
              </a:xfrm>
            </p:grpSpPr>
            <p:sp>
              <p:nvSpPr>
                <p:cNvPr id="248" name="Rectangle 60"/>
                <p:cNvSpPr/>
                <p:nvPr/>
              </p:nvSpPr>
              <p:spPr>
                <a:xfrm>
                  <a:off x="1654200" y="4495320"/>
                  <a:ext cx="1608120" cy="41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متكي به خود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49" name="Rectangle 61"/>
                <p:cNvSpPr/>
                <p:nvPr/>
              </p:nvSpPr>
              <p:spPr>
                <a:xfrm>
                  <a:off x="1532160" y="4495320"/>
                  <a:ext cx="1852560" cy="41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50" name="Group 62"/>
              <p:cNvGrpSpPr/>
              <p:nvPr/>
            </p:nvGrpSpPr>
            <p:grpSpPr>
              <a:xfrm>
                <a:off x="3385080" y="4495320"/>
                <a:ext cx="2257920" cy="410760"/>
                <a:chOff x="3385080" y="4495320"/>
                <a:chExt cx="2257920" cy="410760"/>
              </a:xfrm>
            </p:grpSpPr>
            <p:sp>
              <p:nvSpPr>
                <p:cNvPr id="251" name="Rectangle 63"/>
                <p:cNvSpPr/>
                <p:nvPr/>
              </p:nvSpPr>
              <p:spPr>
                <a:xfrm>
                  <a:off x="3506400" y="4495320"/>
                  <a:ext cx="2013840" cy="41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پيچيده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52" name="Rectangle 64"/>
                <p:cNvSpPr/>
                <p:nvPr/>
              </p:nvSpPr>
              <p:spPr>
                <a:xfrm>
                  <a:off x="3385080" y="4495320"/>
                  <a:ext cx="2257920" cy="41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53" name="Group 65"/>
              <p:cNvGrpSpPr/>
              <p:nvPr/>
            </p:nvGrpSpPr>
            <p:grpSpPr>
              <a:xfrm>
                <a:off x="5643720" y="4495320"/>
                <a:ext cx="2575800" cy="410760"/>
                <a:chOff x="5643720" y="4495320"/>
                <a:chExt cx="2575800" cy="410760"/>
              </a:xfrm>
            </p:grpSpPr>
            <p:sp>
              <p:nvSpPr>
                <p:cNvPr id="254" name="Rectangle 66"/>
                <p:cNvSpPr/>
                <p:nvPr/>
              </p:nvSpPr>
              <p:spPr>
                <a:xfrm>
                  <a:off x="5765040" y="4495320"/>
                  <a:ext cx="2331720" cy="41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از نظر اقتصادي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55" name="Rectangle 67"/>
                <p:cNvSpPr/>
                <p:nvPr/>
              </p:nvSpPr>
              <p:spPr>
                <a:xfrm>
                  <a:off x="5643720" y="4495320"/>
                  <a:ext cx="2575800" cy="41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56" name="Group 68"/>
              <p:cNvGrpSpPr/>
              <p:nvPr/>
            </p:nvGrpSpPr>
            <p:grpSpPr>
              <a:xfrm>
                <a:off x="1532160" y="4906080"/>
                <a:ext cx="1852560" cy="411120"/>
                <a:chOff x="1532160" y="4906080"/>
                <a:chExt cx="1852560" cy="411120"/>
              </a:xfrm>
            </p:grpSpPr>
            <p:sp>
              <p:nvSpPr>
                <p:cNvPr id="257" name="Rectangle 69"/>
                <p:cNvSpPr/>
                <p:nvPr/>
              </p:nvSpPr>
              <p:spPr>
                <a:xfrm>
                  <a:off x="1654200" y="4906080"/>
                  <a:ext cx="160812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محدود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58" name="Rectangle 70"/>
                <p:cNvSpPr/>
                <p:nvPr/>
              </p:nvSpPr>
              <p:spPr>
                <a:xfrm>
                  <a:off x="1532160" y="4906080"/>
                  <a:ext cx="185256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59" name="Group 71"/>
              <p:cNvGrpSpPr/>
              <p:nvPr/>
            </p:nvGrpSpPr>
            <p:grpSpPr>
              <a:xfrm>
                <a:off x="3385080" y="4906080"/>
                <a:ext cx="2257920" cy="411120"/>
                <a:chOff x="3385080" y="4906080"/>
                <a:chExt cx="2257920" cy="411120"/>
              </a:xfrm>
            </p:grpSpPr>
            <p:sp>
              <p:nvSpPr>
                <p:cNvPr id="260" name="Rectangle 72"/>
                <p:cNvSpPr/>
                <p:nvPr/>
              </p:nvSpPr>
              <p:spPr>
                <a:xfrm>
                  <a:off x="3506400" y="4906080"/>
                  <a:ext cx="201384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گسترده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61" name="Rectangle 73"/>
                <p:cNvSpPr/>
                <p:nvPr/>
              </p:nvSpPr>
              <p:spPr>
                <a:xfrm>
                  <a:off x="3385080" y="4906080"/>
                  <a:ext cx="225792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62" name="Group 74"/>
              <p:cNvGrpSpPr/>
              <p:nvPr/>
            </p:nvGrpSpPr>
            <p:grpSpPr>
              <a:xfrm>
                <a:off x="5643720" y="4906080"/>
                <a:ext cx="2575800" cy="411120"/>
                <a:chOff x="5643720" y="4906080"/>
                <a:chExt cx="2575800" cy="411120"/>
              </a:xfrm>
            </p:grpSpPr>
            <p:sp>
              <p:nvSpPr>
                <p:cNvPr id="263" name="Rectangle 75"/>
                <p:cNvSpPr/>
                <p:nvPr/>
              </p:nvSpPr>
              <p:spPr>
                <a:xfrm>
                  <a:off x="5765040" y="4906080"/>
                  <a:ext cx="233172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امكانات تفريحي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64" name="Rectangle 76"/>
                <p:cNvSpPr/>
                <p:nvPr/>
              </p:nvSpPr>
              <p:spPr>
                <a:xfrm>
                  <a:off x="5643720" y="4906080"/>
                  <a:ext cx="257580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65" name="Group 77"/>
              <p:cNvGrpSpPr/>
              <p:nvPr/>
            </p:nvGrpSpPr>
            <p:grpSpPr>
              <a:xfrm>
                <a:off x="1532160" y="5317560"/>
                <a:ext cx="1852560" cy="411120"/>
                <a:chOff x="1532160" y="5317560"/>
                <a:chExt cx="1852560" cy="411120"/>
              </a:xfrm>
            </p:grpSpPr>
            <p:sp>
              <p:nvSpPr>
                <p:cNvPr id="266" name="Rectangle 78"/>
                <p:cNvSpPr/>
                <p:nvPr/>
              </p:nvSpPr>
              <p:spPr>
                <a:xfrm>
                  <a:off x="1654200" y="5317560"/>
                  <a:ext cx="160812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زياد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67" name="Rectangle 79"/>
                <p:cNvSpPr/>
                <p:nvPr/>
              </p:nvSpPr>
              <p:spPr>
                <a:xfrm>
                  <a:off x="1532160" y="5317560"/>
                  <a:ext cx="185256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68" name="Group 80"/>
              <p:cNvGrpSpPr/>
              <p:nvPr/>
            </p:nvGrpSpPr>
            <p:grpSpPr>
              <a:xfrm>
                <a:off x="3385080" y="5317560"/>
                <a:ext cx="2257920" cy="411120"/>
                <a:chOff x="3385080" y="5317560"/>
                <a:chExt cx="2257920" cy="411120"/>
              </a:xfrm>
            </p:grpSpPr>
            <p:sp>
              <p:nvSpPr>
                <p:cNvPr id="269" name="Rectangle 81"/>
                <p:cNvSpPr/>
                <p:nvPr/>
              </p:nvSpPr>
              <p:spPr>
                <a:xfrm>
                  <a:off x="3506400" y="5317560"/>
                  <a:ext cx="201384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محدود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70" name="Rectangle 82"/>
                <p:cNvSpPr/>
                <p:nvPr/>
              </p:nvSpPr>
              <p:spPr>
                <a:xfrm>
                  <a:off x="3385080" y="5317560"/>
                  <a:ext cx="225792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71" name="Group 83"/>
              <p:cNvGrpSpPr/>
              <p:nvPr/>
            </p:nvGrpSpPr>
            <p:grpSpPr>
              <a:xfrm>
                <a:off x="5643720" y="5317560"/>
                <a:ext cx="2575800" cy="411120"/>
                <a:chOff x="5643720" y="5317560"/>
                <a:chExt cx="2575800" cy="411120"/>
              </a:xfrm>
            </p:grpSpPr>
            <p:sp>
              <p:nvSpPr>
                <p:cNvPr id="272" name="Rectangle 84"/>
                <p:cNvSpPr/>
                <p:nvPr/>
              </p:nvSpPr>
              <p:spPr>
                <a:xfrm>
                  <a:off x="5765040" y="5317560"/>
                  <a:ext cx="233172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وابستگي به خانواده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73" name="Rectangle 85"/>
                <p:cNvSpPr/>
                <p:nvPr/>
              </p:nvSpPr>
              <p:spPr>
                <a:xfrm>
                  <a:off x="5643720" y="5317560"/>
                  <a:ext cx="257580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74" name="Group 86"/>
              <p:cNvGrpSpPr/>
              <p:nvPr/>
            </p:nvGrpSpPr>
            <p:grpSpPr>
              <a:xfrm>
                <a:off x="1532160" y="5728680"/>
                <a:ext cx="1852560" cy="411120"/>
                <a:chOff x="1532160" y="5728680"/>
                <a:chExt cx="1852560" cy="411120"/>
              </a:xfrm>
            </p:grpSpPr>
            <p:sp>
              <p:nvSpPr>
                <p:cNvPr id="275" name="Rectangle 87"/>
                <p:cNvSpPr/>
                <p:nvPr/>
              </p:nvSpPr>
              <p:spPr>
                <a:xfrm>
                  <a:off x="1654200" y="5728680"/>
                  <a:ext cx="160812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غير رسمي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76" name="Rectangle 88"/>
                <p:cNvSpPr/>
                <p:nvPr/>
              </p:nvSpPr>
              <p:spPr>
                <a:xfrm>
                  <a:off x="1532160" y="5728680"/>
                  <a:ext cx="185256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77" name="Group 89"/>
              <p:cNvGrpSpPr/>
              <p:nvPr/>
            </p:nvGrpSpPr>
            <p:grpSpPr>
              <a:xfrm>
                <a:off x="3385080" y="5728680"/>
                <a:ext cx="2257920" cy="411120"/>
                <a:chOff x="3385080" y="5728680"/>
                <a:chExt cx="2257920" cy="411120"/>
              </a:xfrm>
            </p:grpSpPr>
            <p:sp>
              <p:nvSpPr>
                <p:cNvPr id="278" name="Rectangle 90"/>
                <p:cNvSpPr/>
                <p:nvPr/>
              </p:nvSpPr>
              <p:spPr>
                <a:xfrm>
                  <a:off x="3506400" y="5728680"/>
                  <a:ext cx="201384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رسمي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79" name="Rectangle 91"/>
                <p:cNvSpPr/>
                <p:nvPr/>
              </p:nvSpPr>
              <p:spPr>
                <a:xfrm>
                  <a:off x="3385080" y="5728680"/>
                  <a:ext cx="225792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80" name="Group 92"/>
              <p:cNvGrpSpPr/>
              <p:nvPr/>
            </p:nvGrpSpPr>
            <p:grpSpPr>
              <a:xfrm>
                <a:off x="5643720" y="5728680"/>
                <a:ext cx="2575800" cy="411120"/>
                <a:chOff x="5643720" y="5728680"/>
                <a:chExt cx="2575800" cy="411120"/>
              </a:xfrm>
            </p:grpSpPr>
            <p:sp>
              <p:nvSpPr>
                <p:cNvPr id="281" name="Rectangle 93"/>
                <p:cNvSpPr/>
                <p:nvPr/>
              </p:nvSpPr>
              <p:spPr>
                <a:xfrm>
                  <a:off x="5765040" y="5728680"/>
                  <a:ext cx="233172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Nazanin"/>
                      <a:cs typeface="Yagut"/>
                    </a:rPr>
                    <a:t>از نظر آموزشي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82" name="Rectangle 94"/>
                <p:cNvSpPr/>
                <p:nvPr/>
              </p:nvSpPr>
              <p:spPr>
                <a:xfrm>
                  <a:off x="5643720" y="5728680"/>
                  <a:ext cx="257580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</p:grpSp>
        <p:sp>
          <p:nvSpPr>
            <p:cNvPr id="283" name="Rectangle 95"/>
            <p:cNvSpPr/>
            <p:nvPr/>
          </p:nvSpPr>
          <p:spPr>
            <a:xfrm>
              <a:off x="1523880" y="1752480"/>
              <a:ext cx="6705360" cy="4391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Zr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610A-BF5B-4738-BAF6-49BC1AC25F75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533520" y="1752480"/>
            <a:ext cx="7924320" cy="4648320"/>
            <a:chOff x="533520" y="1752480"/>
            <a:chExt cx="7924320" cy="4648320"/>
          </a:xfrm>
        </p:grpSpPr>
        <p:grpSp>
          <p:nvGrpSpPr>
            <p:cNvPr id="286" name="Group 4"/>
            <p:cNvGrpSpPr/>
            <p:nvPr/>
          </p:nvGrpSpPr>
          <p:grpSpPr>
            <a:xfrm>
              <a:off x="541440" y="1756800"/>
              <a:ext cx="7906680" cy="4638960"/>
              <a:chOff x="541440" y="1756800"/>
              <a:chExt cx="7906680" cy="4638960"/>
            </a:xfrm>
          </p:grpSpPr>
          <p:grpSp>
            <p:nvGrpSpPr>
              <p:cNvPr id="287" name="Group 5"/>
              <p:cNvGrpSpPr/>
              <p:nvPr/>
            </p:nvGrpSpPr>
            <p:grpSpPr>
              <a:xfrm>
                <a:off x="541440" y="1756800"/>
                <a:ext cx="2984040" cy="515520"/>
                <a:chOff x="541440" y="1756800"/>
                <a:chExt cx="2984040" cy="515520"/>
              </a:xfrm>
            </p:grpSpPr>
            <p:sp>
              <p:nvSpPr>
                <p:cNvPr id="288" name="Rectangle 6"/>
                <p:cNvSpPr/>
                <p:nvPr/>
              </p:nvSpPr>
              <p:spPr>
                <a:xfrm>
                  <a:off x="660960" y="1756800"/>
                  <a:ext cx="274428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شهر</a:t>
                  </a:r>
                  <a:r>
                    <a:rPr b="1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1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صنعتي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89" name="Rectangle 7"/>
                <p:cNvSpPr/>
                <p:nvPr/>
              </p:nvSpPr>
              <p:spPr>
                <a:xfrm>
                  <a:off x="541440" y="1756800"/>
                  <a:ext cx="2984040" cy="51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90" name="Group 8"/>
              <p:cNvGrpSpPr/>
              <p:nvPr/>
            </p:nvGrpSpPr>
            <p:grpSpPr>
              <a:xfrm>
                <a:off x="3525840" y="1756800"/>
                <a:ext cx="3078000" cy="515520"/>
                <a:chOff x="3525840" y="1756800"/>
                <a:chExt cx="3078000" cy="515520"/>
              </a:xfrm>
            </p:grpSpPr>
            <p:sp>
              <p:nvSpPr>
                <p:cNvPr id="291" name="Rectangle 9"/>
                <p:cNvSpPr/>
                <p:nvPr/>
              </p:nvSpPr>
              <p:spPr>
                <a:xfrm>
                  <a:off x="3645000" y="1756800"/>
                  <a:ext cx="283968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شهر</a:t>
                  </a:r>
                  <a:r>
                    <a:rPr b="1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1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ماقبل</a:t>
                  </a:r>
                  <a:r>
                    <a:rPr b="1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1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صنعتي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92" name="Rectangle 10"/>
                <p:cNvSpPr/>
                <p:nvPr/>
              </p:nvSpPr>
              <p:spPr>
                <a:xfrm>
                  <a:off x="3525840" y="1756800"/>
                  <a:ext cx="3078000" cy="51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93" name="Group 11"/>
              <p:cNvGrpSpPr/>
              <p:nvPr/>
            </p:nvGrpSpPr>
            <p:grpSpPr>
              <a:xfrm>
                <a:off x="6604560" y="1756800"/>
                <a:ext cx="1843560" cy="515520"/>
                <a:chOff x="6604560" y="1756800"/>
                <a:chExt cx="1843560" cy="515520"/>
              </a:xfrm>
            </p:grpSpPr>
            <p:sp>
              <p:nvSpPr>
                <p:cNvPr id="294" name="Rectangle 12"/>
                <p:cNvSpPr/>
                <p:nvPr/>
              </p:nvSpPr>
              <p:spPr>
                <a:xfrm>
                  <a:off x="6724080" y="1756800"/>
                  <a:ext cx="160380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موضوع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95" name="Rectangle 13"/>
                <p:cNvSpPr/>
                <p:nvPr/>
              </p:nvSpPr>
              <p:spPr>
                <a:xfrm>
                  <a:off x="6604560" y="1756800"/>
                  <a:ext cx="1843560" cy="51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96" name="Group 14"/>
              <p:cNvGrpSpPr/>
              <p:nvPr/>
            </p:nvGrpSpPr>
            <p:grpSpPr>
              <a:xfrm>
                <a:off x="541440" y="2272320"/>
                <a:ext cx="2984040" cy="515160"/>
                <a:chOff x="541440" y="2272320"/>
                <a:chExt cx="2984040" cy="515160"/>
              </a:xfrm>
            </p:grpSpPr>
            <p:sp>
              <p:nvSpPr>
                <p:cNvPr id="297" name="Rectangle 15"/>
                <p:cNvSpPr/>
                <p:nvPr/>
              </p:nvSpPr>
              <p:spPr>
                <a:xfrm>
                  <a:off x="660960" y="2272320"/>
                  <a:ext cx="2744280" cy="51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بزرگ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298" name="Rectangle 16"/>
                <p:cNvSpPr/>
                <p:nvPr/>
              </p:nvSpPr>
              <p:spPr>
                <a:xfrm>
                  <a:off x="541440" y="2272320"/>
                  <a:ext cx="2984040" cy="51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299" name="Group 17"/>
              <p:cNvGrpSpPr/>
              <p:nvPr/>
            </p:nvGrpSpPr>
            <p:grpSpPr>
              <a:xfrm>
                <a:off x="3525840" y="2272320"/>
                <a:ext cx="3078000" cy="515160"/>
                <a:chOff x="3525840" y="2272320"/>
                <a:chExt cx="3078000" cy="515160"/>
              </a:xfrm>
            </p:grpSpPr>
            <p:sp>
              <p:nvSpPr>
                <p:cNvPr id="300" name="Rectangle 18"/>
                <p:cNvSpPr/>
                <p:nvPr/>
              </p:nvSpPr>
              <p:spPr>
                <a:xfrm>
                  <a:off x="3645000" y="2272320"/>
                  <a:ext cx="2839680" cy="51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كوچك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301" name="Rectangle 19"/>
                <p:cNvSpPr/>
                <p:nvPr/>
              </p:nvSpPr>
              <p:spPr>
                <a:xfrm>
                  <a:off x="3525840" y="2272320"/>
                  <a:ext cx="3078000" cy="51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302" name="Group 20"/>
              <p:cNvGrpSpPr/>
              <p:nvPr/>
            </p:nvGrpSpPr>
            <p:grpSpPr>
              <a:xfrm>
                <a:off x="6604560" y="2272320"/>
                <a:ext cx="1843560" cy="515160"/>
                <a:chOff x="6604560" y="2272320"/>
                <a:chExt cx="1843560" cy="515160"/>
              </a:xfrm>
            </p:grpSpPr>
            <p:sp>
              <p:nvSpPr>
                <p:cNvPr id="303" name="Rectangle 21"/>
                <p:cNvSpPr/>
                <p:nvPr/>
              </p:nvSpPr>
              <p:spPr>
                <a:xfrm>
                  <a:off x="6724080" y="2272320"/>
                  <a:ext cx="1603800" cy="51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اندازه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304" name="Rectangle 22"/>
                <p:cNvSpPr/>
                <p:nvPr/>
              </p:nvSpPr>
              <p:spPr>
                <a:xfrm>
                  <a:off x="6604560" y="2272320"/>
                  <a:ext cx="1843560" cy="51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305" name="Group 23"/>
              <p:cNvGrpSpPr/>
              <p:nvPr/>
            </p:nvGrpSpPr>
            <p:grpSpPr>
              <a:xfrm>
                <a:off x="541440" y="2787840"/>
                <a:ext cx="2984040" cy="515520"/>
                <a:chOff x="541440" y="2787840"/>
                <a:chExt cx="2984040" cy="515520"/>
              </a:xfrm>
            </p:grpSpPr>
            <p:sp>
              <p:nvSpPr>
                <p:cNvPr id="306" name="Rectangle 24"/>
                <p:cNvSpPr/>
                <p:nvPr/>
              </p:nvSpPr>
              <p:spPr>
                <a:xfrm>
                  <a:off x="660960" y="2787840"/>
                  <a:ext cx="274428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تابع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كشور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307" name="Rectangle 25"/>
                <p:cNvSpPr/>
                <p:nvPr/>
              </p:nvSpPr>
              <p:spPr>
                <a:xfrm>
                  <a:off x="541440" y="2787840"/>
                  <a:ext cx="2984040" cy="51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308" name="Group 26"/>
              <p:cNvGrpSpPr/>
              <p:nvPr/>
            </p:nvGrpSpPr>
            <p:grpSpPr>
              <a:xfrm>
                <a:off x="3525840" y="2787840"/>
                <a:ext cx="3078000" cy="515520"/>
                <a:chOff x="3525840" y="2787840"/>
                <a:chExt cx="3078000" cy="515520"/>
              </a:xfrm>
            </p:grpSpPr>
            <p:sp>
              <p:nvSpPr>
                <p:cNvPr id="309" name="Rectangle 27"/>
                <p:cNvSpPr/>
                <p:nvPr/>
              </p:nvSpPr>
              <p:spPr>
                <a:xfrm>
                  <a:off x="3645000" y="2787840"/>
                  <a:ext cx="283968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مستقل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از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نظر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سياسي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310" name="Rectangle 28"/>
                <p:cNvSpPr/>
                <p:nvPr/>
              </p:nvSpPr>
              <p:spPr>
                <a:xfrm>
                  <a:off x="3525840" y="2787840"/>
                  <a:ext cx="3078000" cy="51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311" name="Group 29"/>
              <p:cNvGrpSpPr/>
              <p:nvPr/>
            </p:nvGrpSpPr>
            <p:grpSpPr>
              <a:xfrm>
                <a:off x="6604560" y="2787840"/>
                <a:ext cx="1843560" cy="515520"/>
                <a:chOff x="6604560" y="2787840"/>
                <a:chExt cx="1843560" cy="515520"/>
              </a:xfrm>
            </p:grpSpPr>
            <p:sp>
              <p:nvSpPr>
                <p:cNvPr id="312" name="Rectangle 30"/>
                <p:cNvSpPr/>
                <p:nvPr/>
              </p:nvSpPr>
              <p:spPr>
                <a:xfrm>
                  <a:off x="6724080" y="2787840"/>
                  <a:ext cx="160380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حكومت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313" name="Rectangle 31"/>
                <p:cNvSpPr/>
                <p:nvPr/>
              </p:nvSpPr>
              <p:spPr>
                <a:xfrm>
                  <a:off x="6604560" y="2787840"/>
                  <a:ext cx="1843560" cy="51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314" name="Group 32"/>
              <p:cNvGrpSpPr/>
              <p:nvPr/>
            </p:nvGrpSpPr>
            <p:grpSpPr>
              <a:xfrm>
                <a:off x="541440" y="3303360"/>
                <a:ext cx="2984040" cy="515520"/>
                <a:chOff x="541440" y="3303360"/>
                <a:chExt cx="2984040" cy="515520"/>
              </a:xfrm>
            </p:grpSpPr>
            <p:sp>
              <p:nvSpPr>
                <p:cNvPr id="315" name="Rectangle 33"/>
                <p:cNvSpPr/>
                <p:nvPr/>
              </p:nvSpPr>
              <p:spPr>
                <a:xfrm>
                  <a:off x="660960" y="3303360"/>
                  <a:ext cx="274428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هسته‌اي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316" name="Rectangle 34"/>
                <p:cNvSpPr/>
                <p:nvPr/>
              </p:nvSpPr>
              <p:spPr>
                <a:xfrm>
                  <a:off x="541440" y="3303360"/>
                  <a:ext cx="2984040" cy="51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317" name="Group 35"/>
              <p:cNvGrpSpPr/>
              <p:nvPr/>
            </p:nvGrpSpPr>
            <p:grpSpPr>
              <a:xfrm>
                <a:off x="3525840" y="3303360"/>
                <a:ext cx="3078000" cy="515520"/>
                <a:chOff x="3525840" y="3303360"/>
                <a:chExt cx="3078000" cy="515520"/>
              </a:xfrm>
            </p:grpSpPr>
            <p:sp>
              <p:nvSpPr>
                <p:cNvPr id="318" name="Rectangle 36"/>
                <p:cNvSpPr/>
                <p:nvPr/>
              </p:nvSpPr>
              <p:spPr>
                <a:xfrm>
                  <a:off x="3645000" y="3303360"/>
                  <a:ext cx="283968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گسترده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319" name="Rectangle 37"/>
                <p:cNvSpPr/>
                <p:nvPr/>
              </p:nvSpPr>
              <p:spPr>
                <a:xfrm>
                  <a:off x="3525840" y="3303360"/>
                  <a:ext cx="3078000" cy="51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320" name="Group 38"/>
              <p:cNvGrpSpPr/>
              <p:nvPr/>
            </p:nvGrpSpPr>
            <p:grpSpPr>
              <a:xfrm>
                <a:off x="6604560" y="3303360"/>
                <a:ext cx="1843560" cy="515520"/>
                <a:chOff x="6604560" y="3303360"/>
                <a:chExt cx="1843560" cy="515520"/>
              </a:xfrm>
            </p:grpSpPr>
            <p:sp>
              <p:nvSpPr>
                <p:cNvPr id="321" name="Rectangle 39"/>
                <p:cNvSpPr/>
                <p:nvPr/>
              </p:nvSpPr>
              <p:spPr>
                <a:xfrm>
                  <a:off x="6724080" y="3303360"/>
                  <a:ext cx="160380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خانواده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322" name="Rectangle 40"/>
                <p:cNvSpPr/>
                <p:nvPr/>
              </p:nvSpPr>
              <p:spPr>
                <a:xfrm>
                  <a:off x="6604560" y="3303360"/>
                  <a:ext cx="1843560" cy="51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323" name="Group 41"/>
              <p:cNvGrpSpPr/>
              <p:nvPr/>
            </p:nvGrpSpPr>
            <p:grpSpPr>
              <a:xfrm>
                <a:off x="541440" y="3819240"/>
                <a:ext cx="2984040" cy="686880"/>
                <a:chOff x="541440" y="3819240"/>
                <a:chExt cx="2984040" cy="686880"/>
              </a:xfrm>
            </p:grpSpPr>
            <p:sp>
              <p:nvSpPr>
                <p:cNvPr id="324" name="Rectangle 42"/>
                <p:cNvSpPr/>
                <p:nvPr/>
              </p:nvSpPr>
              <p:spPr>
                <a:xfrm>
                  <a:off x="660960" y="3819240"/>
                  <a:ext cx="274428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همگاني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325" name="Rectangle 43"/>
                <p:cNvSpPr/>
                <p:nvPr/>
              </p:nvSpPr>
              <p:spPr>
                <a:xfrm>
                  <a:off x="541440" y="3819240"/>
                  <a:ext cx="298404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326" name="Group 44"/>
              <p:cNvGrpSpPr/>
              <p:nvPr/>
            </p:nvGrpSpPr>
            <p:grpSpPr>
              <a:xfrm>
                <a:off x="3525840" y="3819240"/>
                <a:ext cx="3078000" cy="686880"/>
                <a:chOff x="3525840" y="3819240"/>
                <a:chExt cx="3078000" cy="686880"/>
              </a:xfrm>
            </p:grpSpPr>
            <p:sp>
              <p:nvSpPr>
                <p:cNvPr id="327" name="Rectangle 45"/>
                <p:cNvSpPr/>
                <p:nvPr/>
              </p:nvSpPr>
              <p:spPr>
                <a:xfrm>
                  <a:off x="3645000" y="3819240"/>
                  <a:ext cx="283968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خاص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طبقات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مرفه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328" name="Rectangle 46"/>
                <p:cNvSpPr/>
                <p:nvPr/>
              </p:nvSpPr>
              <p:spPr>
                <a:xfrm>
                  <a:off x="3525840" y="3819240"/>
                  <a:ext cx="307800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329" name="Group 47"/>
              <p:cNvGrpSpPr/>
              <p:nvPr/>
            </p:nvGrpSpPr>
            <p:grpSpPr>
              <a:xfrm>
                <a:off x="6604560" y="3819240"/>
                <a:ext cx="1843560" cy="686880"/>
                <a:chOff x="6604560" y="3819240"/>
                <a:chExt cx="1843560" cy="686880"/>
              </a:xfrm>
            </p:grpSpPr>
            <p:sp>
              <p:nvSpPr>
                <p:cNvPr id="330" name="Rectangle 48"/>
                <p:cNvSpPr/>
                <p:nvPr/>
              </p:nvSpPr>
              <p:spPr>
                <a:xfrm>
                  <a:off x="6724080" y="3819240"/>
                  <a:ext cx="160380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9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آموزش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و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پرورش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331" name="Rectangle 49"/>
                <p:cNvSpPr/>
                <p:nvPr/>
              </p:nvSpPr>
              <p:spPr>
                <a:xfrm>
                  <a:off x="6604560" y="3819240"/>
                  <a:ext cx="184356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332" name="Group 50"/>
              <p:cNvGrpSpPr/>
              <p:nvPr/>
            </p:nvGrpSpPr>
            <p:grpSpPr>
              <a:xfrm>
                <a:off x="541440" y="4506480"/>
                <a:ext cx="2984040" cy="515160"/>
                <a:chOff x="541440" y="4506480"/>
                <a:chExt cx="2984040" cy="515160"/>
              </a:xfrm>
            </p:grpSpPr>
            <p:sp>
              <p:nvSpPr>
                <p:cNvPr id="333" name="Rectangle 51"/>
                <p:cNvSpPr/>
                <p:nvPr/>
              </p:nvSpPr>
              <p:spPr>
                <a:xfrm>
                  <a:off x="660960" y="4506480"/>
                  <a:ext cx="2744280" cy="51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تنوع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مذهبي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334" name="Rectangle 52"/>
                <p:cNvSpPr/>
                <p:nvPr/>
              </p:nvSpPr>
              <p:spPr>
                <a:xfrm>
                  <a:off x="541440" y="4506480"/>
                  <a:ext cx="2984040" cy="51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335" name="Group 53"/>
              <p:cNvGrpSpPr/>
              <p:nvPr/>
            </p:nvGrpSpPr>
            <p:grpSpPr>
              <a:xfrm>
                <a:off x="3525840" y="4506480"/>
                <a:ext cx="3078000" cy="515160"/>
                <a:chOff x="3525840" y="4506480"/>
                <a:chExt cx="3078000" cy="515160"/>
              </a:xfrm>
            </p:grpSpPr>
            <p:sp>
              <p:nvSpPr>
                <p:cNvPr id="336" name="Rectangle 54"/>
                <p:cNvSpPr/>
                <p:nvPr/>
              </p:nvSpPr>
              <p:spPr>
                <a:xfrm>
                  <a:off x="3645000" y="4506480"/>
                  <a:ext cx="2839680" cy="51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وحدت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مذهبي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337" name="Rectangle 55"/>
                <p:cNvSpPr/>
                <p:nvPr/>
              </p:nvSpPr>
              <p:spPr>
                <a:xfrm>
                  <a:off x="3525840" y="4506480"/>
                  <a:ext cx="3078000" cy="51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338" name="Group 56"/>
              <p:cNvGrpSpPr/>
              <p:nvPr/>
            </p:nvGrpSpPr>
            <p:grpSpPr>
              <a:xfrm>
                <a:off x="6604560" y="4506480"/>
                <a:ext cx="1843560" cy="515160"/>
                <a:chOff x="6604560" y="4506480"/>
                <a:chExt cx="1843560" cy="515160"/>
              </a:xfrm>
            </p:grpSpPr>
            <p:sp>
              <p:nvSpPr>
                <p:cNvPr id="339" name="Rectangle 57"/>
                <p:cNvSpPr/>
                <p:nvPr/>
              </p:nvSpPr>
              <p:spPr>
                <a:xfrm>
                  <a:off x="6724080" y="4506480"/>
                  <a:ext cx="1603800" cy="51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مذهب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340" name="Rectangle 58"/>
                <p:cNvSpPr/>
                <p:nvPr/>
              </p:nvSpPr>
              <p:spPr>
                <a:xfrm>
                  <a:off x="6604560" y="4506480"/>
                  <a:ext cx="1843560" cy="51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341" name="Group 59"/>
              <p:cNvGrpSpPr/>
              <p:nvPr/>
            </p:nvGrpSpPr>
            <p:grpSpPr>
              <a:xfrm>
                <a:off x="541440" y="5021640"/>
                <a:ext cx="2984040" cy="686880"/>
                <a:chOff x="541440" y="5021640"/>
                <a:chExt cx="2984040" cy="686880"/>
              </a:xfrm>
            </p:grpSpPr>
            <p:sp>
              <p:nvSpPr>
                <p:cNvPr id="342" name="Rectangle 60"/>
                <p:cNvSpPr/>
                <p:nvPr/>
              </p:nvSpPr>
              <p:spPr>
                <a:xfrm>
                  <a:off x="660960" y="5021640"/>
                  <a:ext cx="274428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9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گستردگي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ابعاد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شهر،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حومه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فراوان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343" name="Rectangle 61"/>
                <p:cNvSpPr/>
                <p:nvPr/>
              </p:nvSpPr>
              <p:spPr>
                <a:xfrm>
                  <a:off x="541440" y="5021640"/>
                  <a:ext cx="298404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344" name="Group 62"/>
              <p:cNvGrpSpPr/>
              <p:nvPr/>
            </p:nvGrpSpPr>
            <p:grpSpPr>
              <a:xfrm>
                <a:off x="3525840" y="5021640"/>
                <a:ext cx="3078000" cy="686880"/>
                <a:chOff x="3525840" y="5021640"/>
                <a:chExt cx="3078000" cy="686880"/>
              </a:xfrm>
            </p:grpSpPr>
            <p:sp>
              <p:nvSpPr>
                <p:cNvPr id="345" name="Rectangle 63"/>
                <p:cNvSpPr/>
                <p:nvPr/>
              </p:nvSpPr>
              <p:spPr>
                <a:xfrm>
                  <a:off x="3645000" y="5021640"/>
                  <a:ext cx="283968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9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وجود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دروازه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در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اطراف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شهر،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محدوديت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حومه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346" name="Rectangle 64"/>
                <p:cNvSpPr/>
                <p:nvPr/>
              </p:nvSpPr>
              <p:spPr>
                <a:xfrm>
                  <a:off x="3525840" y="5021640"/>
                  <a:ext cx="307800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347" name="Group 65"/>
              <p:cNvGrpSpPr/>
              <p:nvPr/>
            </p:nvGrpSpPr>
            <p:grpSpPr>
              <a:xfrm>
                <a:off x="6604560" y="5021640"/>
                <a:ext cx="1843560" cy="686880"/>
                <a:chOff x="6604560" y="5021640"/>
                <a:chExt cx="1843560" cy="686880"/>
              </a:xfrm>
            </p:grpSpPr>
            <p:sp>
              <p:nvSpPr>
                <p:cNvPr id="348" name="Rectangle 66"/>
                <p:cNvSpPr/>
                <p:nvPr/>
              </p:nvSpPr>
              <p:spPr>
                <a:xfrm>
                  <a:off x="6724080" y="5021640"/>
                  <a:ext cx="160380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حومه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349" name="Rectangle 67"/>
                <p:cNvSpPr/>
                <p:nvPr/>
              </p:nvSpPr>
              <p:spPr>
                <a:xfrm>
                  <a:off x="6604560" y="5021640"/>
                  <a:ext cx="184356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350" name="Group 68"/>
              <p:cNvGrpSpPr/>
              <p:nvPr/>
            </p:nvGrpSpPr>
            <p:grpSpPr>
              <a:xfrm>
                <a:off x="541440" y="5708880"/>
                <a:ext cx="2984040" cy="686880"/>
                <a:chOff x="541440" y="5708880"/>
                <a:chExt cx="2984040" cy="686880"/>
              </a:xfrm>
            </p:grpSpPr>
            <p:sp>
              <p:nvSpPr>
                <p:cNvPr id="351" name="Rectangle 69"/>
                <p:cNvSpPr/>
                <p:nvPr/>
              </p:nvSpPr>
              <p:spPr>
                <a:xfrm>
                  <a:off x="660960" y="5708880"/>
                  <a:ext cx="274428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9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دفع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مواد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زائد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صنعتي،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آلودگي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هوا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352" name="Rectangle 70"/>
                <p:cNvSpPr/>
                <p:nvPr/>
              </p:nvSpPr>
              <p:spPr>
                <a:xfrm>
                  <a:off x="541440" y="5708880"/>
                  <a:ext cx="298404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353" name="Group 71"/>
              <p:cNvGrpSpPr/>
              <p:nvPr/>
            </p:nvGrpSpPr>
            <p:grpSpPr>
              <a:xfrm>
                <a:off x="3525840" y="5708880"/>
                <a:ext cx="3078000" cy="686880"/>
                <a:chOff x="3525840" y="5708880"/>
                <a:chExt cx="3078000" cy="686880"/>
              </a:xfrm>
            </p:grpSpPr>
            <p:sp>
              <p:nvSpPr>
                <p:cNvPr id="354" name="Rectangle 72"/>
                <p:cNvSpPr/>
                <p:nvPr/>
              </p:nvSpPr>
              <p:spPr>
                <a:xfrm>
                  <a:off x="3645000" y="5708880"/>
                  <a:ext cx="283968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9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دفع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مواد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زائد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انسان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و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حيوان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355" name="Rectangle 73"/>
                <p:cNvSpPr/>
                <p:nvPr/>
              </p:nvSpPr>
              <p:spPr>
                <a:xfrm>
                  <a:off x="3525840" y="5708880"/>
                  <a:ext cx="307800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  <p:grpSp>
            <p:nvGrpSpPr>
              <p:cNvPr id="356" name="Group 74"/>
              <p:cNvGrpSpPr/>
              <p:nvPr/>
            </p:nvGrpSpPr>
            <p:grpSpPr>
              <a:xfrm>
                <a:off x="6604560" y="5708880"/>
                <a:ext cx="1843560" cy="686880"/>
                <a:chOff x="6604560" y="5708880"/>
                <a:chExt cx="1843560" cy="686880"/>
              </a:xfrm>
            </p:grpSpPr>
            <p:sp>
              <p:nvSpPr>
                <p:cNvPr id="357" name="Rectangle 75"/>
                <p:cNvSpPr/>
                <p:nvPr/>
              </p:nvSpPr>
              <p:spPr>
                <a:xfrm>
                  <a:off x="6724080" y="5708880"/>
                  <a:ext cx="160380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9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مسائل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ea typeface="Siavash"/>
                    </a:rPr>
                    <a:t></a:t>
                  </a:r>
                  <a:r>
                    <a:rPr b="0" lang="ar-SA" sz="2000" spc="-1" strike="noStrike">
                      <a:solidFill>
                        <a:srgbClr val="ffffff"/>
                      </a:solidFill>
                      <a:latin typeface="Siavash"/>
                      <a:cs typeface="Siavash"/>
                    </a:rPr>
                    <a:t>بهداشتي</a:t>
                  </a: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  <p:sp>
              <p:nvSpPr>
                <p:cNvPr id="358" name="Rectangle 76"/>
                <p:cNvSpPr/>
                <p:nvPr/>
              </p:nvSpPr>
              <p:spPr>
                <a:xfrm>
                  <a:off x="6604560" y="5708880"/>
                  <a:ext cx="184356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Zr"/>
                  </a:endParaRPr>
                </a:p>
              </p:txBody>
            </p:sp>
          </p:grpSp>
        </p:grpSp>
        <p:sp>
          <p:nvSpPr>
            <p:cNvPr id="359" name="Rectangle 77"/>
            <p:cNvSpPr/>
            <p:nvPr/>
          </p:nvSpPr>
          <p:spPr>
            <a:xfrm>
              <a:off x="533520" y="1752480"/>
              <a:ext cx="7924320" cy="4648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Zr"/>
              </a:endParaRPr>
            </a:p>
          </p:txBody>
        </p:sp>
      </p:grpSp>
      <p:sp>
        <p:nvSpPr>
          <p:cNvPr id="360" name="Rectangle 78"/>
          <p:cNvSpPr/>
          <p:nvPr/>
        </p:nvSpPr>
        <p:spPr>
          <a:xfrm>
            <a:off x="3295800" y="639720"/>
            <a:ext cx="65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مقايسة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ويژگي‌هاي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جامعه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شهري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صنعتي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E8DF-C234-469D-B4FD-A221B8C85647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3962520" y="0"/>
            <a:ext cx="487656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Zr"/>
            </a:endParaRPr>
          </a:p>
          <a:p>
            <a:pPr algn="ctr" rtl="1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تاثير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فناوري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اطلاعات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بر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وجوه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مختلف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جامعه</a:t>
            </a:r>
            <a:endParaRPr b="0" lang="en-US" sz="27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0" y="1981080"/>
            <a:ext cx="914400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4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Yagut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ز س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1970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طرح شده است و به ويژه در نيمه دوم دهه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1990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ورد توجه واقع شد. 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عريف جامعه اطلاعاتي( جامعه فراصنعتي) :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40000"/>
              </a:lnSpc>
              <a:buClr>
                <a:srgbClr val="ffffff"/>
              </a:buClr>
              <a:buSzPct val="65000"/>
              <a:buFont typeface="Zr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تعاريف از زواياي مختلف : تكنولوژيك، اقتصادي، شغلي، مكاني و فرهنگي 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40000"/>
              </a:lnSpc>
              <a:buClr>
                <a:srgbClr val="ffffff"/>
              </a:buClr>
              <a:buSzPct val="65000"/>
              <a:buFont typeface="Zr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جامعة اطلاعاتي مبتني بر نوآوري هاي چشم گير فناوري در پردازش، نگهداري و انتقال اطلاعات  و تأثير آن  در وجوه مختلف حيات اجتماعي است. 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</p:spTree>
  </p:cSld>
  <p:transition spd="med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FE30-53A1-477E-9C30-798448685287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تاثير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فناوري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اطلاعات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بر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وجوه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مختلف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جامعه</a:t>
            </a:r>
            <a:br>
              <a:rPr sz="4000"/>
            </a:br>
            <a:endParaRPr b="0" lang="en-US" sz="27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جامعه اطلاعاتي بر پايه اقتصاد مبتني بر اطلاعات ( در مقابل اقتصاد مبتني بر كالا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جامعه اطلاعاتي بر پايه تغييرات شغلي و ايجاد مشاغل مبتني بر اطلاع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جامعه اطلاعاتي مبتني بر شبكه هاي اطلاعاتي كه مكانهاي مختلف را به هم وصل ميكند و تاثير بر زمان و مكان را مي رساند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جامعه اطلاعاتي مبتني بر تغيير و تحولات فرهنگ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CC63-C447-4EFD-B106-FB586E6DA962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0" y="1600200"/>
            <a:ext cx="899172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جامعه اطلاعاتي ارائه كننده  مدلي نوين از جامعه است كه در آن :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40000"/>
              </a:lnSpc>
              <a:buClr>
                <a:srgbClr val="ffffff"/>
              </a:buClr>
              <a:buSzPct val="65000"/>
              <a:buFont typeface="Zr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مفاهيم سنتي  آموزش ، كسب و كار ، اقتصاد و تجارت متحول ميگردد.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40000"/>
              </a:lnSpc>
              <a:buClr>
                <a:srgbClr val="ffffff"/>
              </a:buClr>
              <a:buSzPct val="65000"/>
              <a:buFont typeface="Zr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ارزشهاي اطلاعاتي جايگزين ارزشهاي مادي  ميشود.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40000"/>
              </a:lnSpc>
              <a:buClr>
                <a:srgbClr val="ffffff"/>
              </a:buClr>
              <a:buSzPct val="65000"/>
              <a:buFont typeface="Zr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طلاعات بسرعت  توليد و در اختيار همه قرار ميگيرد.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40000"/>
              </a:lnSpc>
              <a:buClr>
                <a:srgbClr val="ffffff"/>
              </a:buClr>
              <a:buSzPct val="65000"/>
              <a:buFont typeface="Zr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فعاليتهاي  كاري بيشتر در پردازش اطلاعات است تا در توليد صنعتي يا كشاورزي.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40000"/>
              </a:lnSpc>
              <a:buClr>
                <a:srgbClr val="ffffff"/>
              </a:buClr>
              <a:buSzPct val="65000"/>
              <a:buFont typeface="Zr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0" y="685800"/>
            <a:ext cx="8458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ويژگيهاي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جامعه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اطلاعاتي</a:t>
            </a:r>
            <a:endParaRPr b="0" lang="en-US" sz="2700" spc="-1" strike="noStrike">
              <a:solidFill>
                <a:srgbClr val="ffffff"/>
              </a:solidFill>
              <a:latin typeface="Zr"/>
            </a:endParaRPr>
          </a:p>
        </p:txBody>
      </p:sp>
    </p:spTree>
  </p:cSld>
  <p:transition spd="med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F11F-4434-43EB-AB9D-69D5FD17A95C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ويژگيهاي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جامعه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اطلاعاتي</a:t>
            </a:r>
            <a:br>
              <a:rPr sz="2700"/>
            </a:br>
            <a:br>
              <a:rPr sz="2700"/>
            </a:br>
            <a:br>
              <a:rPr sz="4000"/>
            </a:br>
            <a:endParaRPr b="0" lang="en-US" sz="27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پردازشها بصورت  الكترونيكي  انجام ميشود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نقش زمان و مكان فيزيكي كم رنگتر و امكان حضور مجازي ايجاد مي شود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هارتها و مشاغل جديد در عرصه  فناوري ارتباطات و اطلاعات  ايجاد ميگردد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نحوه ارتباط و تعامل انسانها تغيير مي كند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شاخصهاي سياسي، اقتصادي، اجتماعي  و روشهاي مديريت و سازماندهي متحول ميگردد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1C2B-1CC6-44D2-9172-9B174A21CE4E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2057400" y="609480"/>
            <a:ext cx="9144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9640" tIns="4680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زير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ساخت‌هاي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فنّي</a:t>
            </a:r>
            <a:r>
              <a:rPr b="0" lang="en-US" sz="2700" spc="-1" strike="noStrike">
                <a:solidFill>
                  <a:srgbClr val="ffffff"/>
                </a:solidFill>
                <a:latin typeface="Zr"/>
                <a:ea typeface="Zr"/>
              </a:rPr>
              <a:t>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اجتماعي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جامعة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اطلاعاتي</a:t>
            </a:r>
            <a:endParaRPr b="0" lang="en-US" sz="27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0" y="189216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 Nazanin"/>
              </a:rPr>
              <a:t>محققان براي استقرار جامعة اطلاعاتي عوامل بسياري را بيان مي</a:t>
            </a:r>
            <a:r>
              <a:rPr b="0" lang="ar-SA" sz="2800" spc="-1" strike="noStrike">
                <a:solidFill>
                  <a:srgbClr val="ffffff"/>
                </a:solidFill>
                <a:latin typeface="B Nazanin"/>
                <a:ea typeface="Yagut"/>
              </a:rPr>
              <a:t>‌</a:t>
            </a:r>
            <a:r>
              <a:rPr b="0" lang="ar-SA" sz="2800" spc="-1" strike="noStrike">
                <a:solidFill>
                  <a:srgbClr val="ffffff"/>
                </a:solidFill>
                <a:latin typeface="B Nazanin"/>
              </a:rPr>
              <a:t>كنند كه مهمترين آنها به شرح ذيل است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 Nazanin"/>
              </a:rPr>
              <a:t>   </a:t>
            </a:r>
            <a:r>
              <a:rPr b="1" lang="en-US" sz="2800" spc="-1" strike="noStrike">
                <a:solidFill>
                  <a:srgbClr val="ccff99"/>
                </a:solidFill>
                <a:latin typeface="Wingdings 2"/>
                <a:ea typeface="Wingdings 2"/>
              </a:rPr>
              <a:t></a:t>
            </a:r>
            <a:r>
              <a:rPr b="1" lang="ar-SA" sz="2800" spc="-1" strike="noStrike">
                <a:solidFill>
                  <a:srgbClr val="ccff99"/>
                </a:solidFill>
                <a:latin typeface="B Nazanin"/>
              </a:rPr>
              <a:t> زيرساخت</a:t>
            </a:r>
            <a:r>
              <a:rPr b="1" lang="ar-SA" sz="2800" spc="-1" strike="noStrike">
                <a:solidFill>
                  <a:srgbClr val="ccff99"/>
                </a:solidFill>
                <a:latin typeface="B Nazanin"/>
                <a:ea typeface="Yagut"/>
              </a:rPr>
              <a:t>‌</a:t>
            </a:r>
            <a:r>
              <a:rPr b="1" lang="ar-SA" sz="2800" spc="-1" strike="noStrike">
                <a:solidFill>
                  <a:srgbClr val="ccff99"/>
                </a:solidFill>
                <a:latin typeface="B Nazanin"/>
              </a:rPr>
              <a:t>هاي ارتباطات از راه دور؛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”زيرساخت ارتباطي“ بيان كنندة شبكه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Yagut"/>
              </a:rPr>
              <a:t>‌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هايي است كه به طور فيزيكي انتقال و ارتباط را تأمين مي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Yagut"/>
              </a:rPr>
              <a:t>‌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كنند و بيشتر ناظر به وجه سخت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Yagut"/>
              </a:rPr>
              <a:t>‌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فزاري تحقق جامعة اطلاعاتي است جامعة كشاورزي با راه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Yagut"/>
              </a:rPr>
              <a:t>‌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هاي شوسة آسفالت شناخته مي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Yagut"/>
              </a:rPr>
              <a:t>‌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شدند و جامعة صنعتي با لوله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Yagut"/>
              </a:rPr>
              <a:t>‌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كشي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Yagut"/>
              </a:rPr>
              <a:t>‌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هاي نفت و گاز، بايد جامعة اطلاعاتي را با زيرساخت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Yagut"/>
              </a:rPr>
              <a:t>‌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هاي فيبر نوري و مخابراتي معرفي كرد.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7C79-4FE4-4D07-8451-6A62BAF48F60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fa-IR" sz="3200" spc="-1" strike="noStrike">
                <a:solidFill>
                  <a:srgbClr val="e5ffff"/>
                </a:solidFill>
                <a:latin typeface="Tahoma"/>
                <a:cs typeface="Zar"/>
              </a:rPr>
              <a:t>سيلابس درس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،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،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،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net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e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،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انواع توپولوژيهاي شبكه  و ويژگيهاي هر ي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عرفي  تجهيزات فيزيكي شبكه و ويژگيهاي هر يك ( شامل : سرور، روتر، گيت وي، مودم ، مسير انتقال و....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ستم هاي عامل شبكه و مقايسة آنه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DAA0-7290-4657-8F21-00DA2919FEFA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زير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ساخت‌هاي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فنّي</a:t>
            </a:r>
            <a:r>
              <a:rPr b="0" lang="en-US" sz="2700" spc="-1" strike="noStrike">
                <a:solidFill>
                  <a:srgbClr val="ffffff"/>
                </a:solidFill>
                <a:latin typeface="Zr"/>
                <a:ea typeface="Zr"/>
              </a:rPr>
              <a:t>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جامعة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اطلاعاتي</a:t>
            </a:r>
            <a:br>
              <a:rPr sz="4000"/>
            </a:br>
            <a:endParaRPr b="0" lang="en-US" sz="27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99"/>
                </a:solidFill>
                <a:latin typeface="Wingdings 2"/>
                <a:ea typeface="Wingdings 2"/>
              </a:rPr>
              <a:t></a:t>
            </a:r>
            <a:r>
              <a:rPr b="1" lang="ar-SA" sz="2800" spc="-1" strike="noStrike">
                <a:solidFill>
                  <a:srgbClr val="ccff99"/>
                </a:solidFill>
                <a:latin typeface="Tahoma"/>
              </a:rPr>
              <a:t> زيرساخت‌هاي مرتبط با دانش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بيشتر ناظر به انديشة خلاق و خبرگي متخصصان، انديشمندان و فنّاوراني است كه بازيابي، پردازش و فراورش دانش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را به عهده دارند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ff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ccff99"/>
                </a:solidFill>
                <a:latin typeface="Wingdings 2"/>
                <a:ea typeface="Wingdings 2"/>
              </a:rPr>
              <a:t></a:t>
            </a:r>
            <a:r>
              <a:rPr b="1" lang="ar-SA" sz="2800" spc="-1" strike="noStrike">
                <a:solidFill>
                  <a:srgbClr val="ccff99"/>
                </a:solidFill>
                <a:latin typeface="Tahoma"/>
              </a:rPr>
              <a:t> زيرساخت‌هاي فنّاوري رابط اطلاعات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بيشتر ناظر به محيط حقوقي و پيمان‌هاي مناسبي است كه نحوة ارتباط و همزيستي داده‌هاي مختلف و كاربري آنها را مهيا مي‌سازد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54CE-C9C4-4DFF-A47A-F1E84C5E21F0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1447920" y="685800"/>
            <a:ext cx="9296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مدل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توسعه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فناوري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اطلاعات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Yagut"/>
              </a:rPr>
              <a:t>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Yagut"/>
              </a:rPr>
              <a:t>UND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Yagut"/>
              </a:rPr>
              <a:t>)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Nazani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0" y="167652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ين مدل با همكاري چند مؤسسه ب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  <a:ea typeface="Yagut"/>
              </a:rPr>
              <a:t>‌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مللي معتبر براي توسعة فناوري اطلاعات در كشورهاي درحال توسعه فراهم شده است. اين مدل شامل پنج مؤلفه است: 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  <p:pic>
        <p:nvPicPr>
          <p:cNvPr id="382" name="Picture 4" descr="Undp"/>
          <p:cNvPicPr/>
          <p:nvPr/>
        </p:nvPicPr>
        <p:blipFill>
          <a:blip r:embed="rId1"/>
          <a:stretch/>
        </p:blipFill>
        <p:spPr>
          <a:xfrm>
            <a:off x="1752480" y="2666880"/>
            <a:ext cx="5867640" cy="31244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5"/>
          <p:cNvSpPr/>
          <p:nvPr/>
        </p:nvSpPr>
        <p:spPr>
          <a:xfrm>
            <a:off x="0" y="5867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Yagut"/>
              </a:rPr>
              <a:t>مدل توسعه فناوري اطلاعات</a:t>
            </a:r>
            <a:endParaRPr b="0" lang="en-US" sz="2000" spc="-1" strike="noStrike">
              <a:solidFill>
                <a:srgbClr val="ffffff"/>
              </a:solidFill>
              <a:latin typeface="Zr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B5C9-1BBA-4D11-8195-02CB18191597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990720" y="1447920"/>
            <a:ext cx="7696080" cy="43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ff99"/>
                </a:solidFill>
                <a:latin typeface="Arial"/>
              </a:rPr>
              <a:t>توسعة زيرساخت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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ايجاد شبكة ارتباطي مناسب 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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توسعه دسترسي همگاني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ff99"/>
                </a:solidFill>
                <a:latin typeface="Arial"/>
              </a:rPr>
              <a:t>توسعة منابع انساني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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آموزش و تربيت متخصصان 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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افزايش مهارتهاي فني دركاربران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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افزايش قابليت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Yagut"/>
              </a:rPr>
              <a:t>‌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اي كارآفريني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4267080" y="762120"/>
            <a:ext cx="4660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مدل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توسعه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فناوري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اطلاعات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Yagut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Yagut"/>
              </a:rPr>
              <a:t>UND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Yagut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Zr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B83B-9D59-4FE5-B4AB-5A187C5596C5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ff99"/>
                </a:solidFill>
                <a:latin typeface="Tahoma"/>
              </a:rPr>
              <a:t>توسعة سياست‌ها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(محيط حقوقي، قوانين نظارتي و خط مشي‌هاي اجرايي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تدوين سياستهاي شفاف و جامع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ت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سعة چهارچوب قانوني و نظارت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حقوق مالكيت معنو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نظام مالياتي عادلان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4267080" y="762120"/>
            <a:ext cx="4660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مدل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توسعه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فناوري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اطلاعات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Yagut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Yagut"/>
              </a:rPr>
              <a:t>UND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Yagut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Z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99A0-48FC-44FA-8B0E-D4EDF6448037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447920" y="1752480"/>
            <a:ext cx="7696080" cy="53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ff99"/>
                </a:solidFill>
                <a:latin typeface="Arial"/>
                <a:ea typeface="Nazanin"/>
              </a:rPr>
              <a:t> </a:t>
            </a:r>
            <a:r>
              <a:rPr b="1" lang="ar-SA" sz="2400" spc="-1" strike="noStrike">
                <a:solidFill>
                  <a:srgbClr val="ccff99"/>
                </a:solidFill>
                <a:latin typeface="Times New Roman"/>
                <a:cs typeface="Yagut"/>
              </a:rPr>
              <a:t>توسعة محتوا وكاربرد</a:t>
            </a:r>
            <a:endParaRPr b="0" lang="en-US" sz="24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65000"/>
              <a:buFont typeface="Wingdings 2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وسعة كاربردهاي بخشي و فرابخشي در زمينه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  <a:ea typeface="Yagut"/>
              </a:rPr>
              <a:t>‌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اي بهداشت و درمان الكترونيك، تجارت الكترونيك، آموزش الكترونيك، دولت الكترونيك و غيره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65000"/>
              <a:buFont typeface="Wingdings 2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بومي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  <a:ea typeface="Yagut"/>
              </a:rPr>
              <a:t>‌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سازي كاربردها (از لحاظ زبان مورد استفاده و غيره)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65000"/>
              <a:buFont typeface="Wingdings 2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توسعه دسترسي همگاني به كاربردها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Zr"/>
            </a:endParaRPr>
          </a:p>
          <a:p>
            <a:pPr algn="just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4267080" y="762120"/>
            <a:ext cx="4660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مدل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توسعه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فناوري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اطلاعات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Yagut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Yagut"/>
              </a:rPr>
              <a:t>UND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Yagut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Zr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17C1-C622-4CE2-8434-2F1D249D408A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ff99"/>
                </a:solidFill>
                <a:latin typeface="Tahoma"/>
              </a:rPr>
              <a:t>توسعة نهاده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يجاد و توسعه شركتهاي كوچك و متوسط(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all Medium Enterpr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يجاد و توسعه انكوباتورها ( مراكز رشد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ub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تأمين مالي و اعتبار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حمايت از افزايش كارايي و اثربخشي نهاده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يجاد دسترسي به بازارهاي محلي و بين‌المللي براي بخش خصوص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4267080" y="762120"/>
            <a:ext cx="4660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مدل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توسعه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فناوري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اطلاعات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Yagut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Yagut"/>
              </a:rPr>
              <a:t>UND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Yagut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Z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4FB9-3422-40EC-ACB8-9BD4A0784B8E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1142640" y="16765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26f"/>
                </a:solidFill>
                <a:latin typeface="Wingdings 2"/>
                <a:ea typeface="Wingdings 2"/>
              </a:rPr>
              <a:t></a:t>
            </a:r>
            <a:r>
              <a:rPr b="1" lang="ar-SA" sz="2800" spc="-1" strike="noStrike">
                <a:solidFill>
                  <a:srgbClr val="ffff39"/>
                </a:solidFill>
                <a:latin typeface="Tahoma"/>
              </a:rPr>
              <a:t> پيشتارا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: شامل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درص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زكشورهاي جهان مانند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5ff6f"/>
                </a:solidFill>
                <a:latin typeface="Tahoma"/>
              </a:rPr>
              <a:t>                  </a:t>
            </a:r>
            <a:r>
              <a:rPr b="1" lang="fa-IR" sz="2800" spc="-1" strike="noStrike">
                <a:solidFill>
                  <a:srgbClr val="c5ff6f"/>
                </a:solidFill>
                <a:latin typeface="Tahoma"/>
              </a:rPr>
              <a:t>   </a:t>
            </a:r>
            <a:r>
              <a:rPr b="1" lang="ar-SA" sz="2800" spc="-1" strike="noStrike">
                <a:solidFill>
                  <a:srgbClr val="c5ff6f"/>
                </a:solidFill>
                <a:latin typeface="Tahoma"/>
              </a:rPr>
              <a:t>امريكا، سنگاپور و</a:t>
            </a:r>
            <a:r>
              <a:rPr b="1" lang="fa-IR" sz="2800" spc="-1" strike="noStrike">
                <a:solidFill>
                  <a:srgbClr val="c5ff6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c5ff6f"/>
                </a:solidFill>
                <a:latin typeface="Tahoma"/>
              </a:rPr>
              <a:t>آلما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26f"/>
                </a:solidFill>
                <a:latin typeface="Wingdings 2"/>
                <a:ea typeface="Wingdings 2"/>
              </a:rPr>
              <a:t></a:t>
            </a:r>
            <a:r>
              <a:rPr b="1" lang="ar-SA" sz="2800" spc="-1" strike="noStrike">
                <a:solidFill>
                  <a:srgbClr val="ffff39"/>
                </a:solidFill>
                <a:latin typeface="Tahoma"/>
              </a:rPr>
              <a:t> تندروندگان: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شامل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درصد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زكشورهاي جهان مانند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8ff6f"/>
                </a:solidFill>
                <a:latin typeface="Tahoma"/>
              </a:rPr>
              <a:t>              </a:t>
            </a:r>
            <a:r>
              <a:rPr b="1" lang="fa-IR" sz="2800" spc="-1" strike="noStrike">
                <a:solidFill>
                  <a:srgbClr val="f8ff6f"/>
                </a:solidFill>
                <a:latin typeface="Tahoma"/>
              </a:rPr>
              <a:t>      </a:t>
            </a:r>
            <a:r>
              <a:rPr b="1" lang="ar-SA" sz="2800" spc="-1" strike="noStrike">
                <a:solidFill>
                  <a:srgbClr val="f8ff6f"/>
                </a:solidFill>
                <a:latin typeface="Tahoma"/>
              </a:rPr>
              <a:t> ايتاليا، مجارستان وكوي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26f"/>
                </a:solidFill>
                <a:latin typeface="Wingdings 2"/>
                <a:ea typeface="Wingdings 2"/>
              </a:rPr>
              <a:t></a:t>
            </a:r>
            <a:r>
              <a:rPr b="1" lang="ar-SA" sz="2800" spc="-1" strike="noStrike">
                <a:solidFill>
                  <a:srgbClr val="ffff39"/>
                </a:solidFill>
                <a:latin typeface="Tahoma"/>
              </a:rPr>
              <a:t> آيندگان: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شامل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درص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زكشورهاي جهان مانند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d66f"/>
                </a:solidFill>
                <a:latin typeface="Tahoma"/>
              </a:rPr>
              <a:t>  </a:t>
            </a:r>
            <a:r>
              <a:rPr b="1" lang="ar-SA" sz="2800" spc="-1" strike="noStrike">
                <a:solidFill>
                  <a:srgbClr val="ffd66f"/>
                </a:solidFill>
                <a:latin typeface="Tahoma"/>
              </a:rPr>
              <a:t>                  </a:t>
            </a:r>
            <a:r>
              <a:rPr b="1" lang="fa-IR" sz="2800" spc="-1" strike="noStrike">
                <a:solidFill>
                  <a:srgbClr val="ffd66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d66f"/>
                </a:solidFill>
                <a:latin typeface="Tahoma"/>
              </a:rPr>
              <a:t>افريقاي جنوبي،</a:t>
            </a:r>
            <a:r>
              <a:rPr b="1" lang="fa-IR" sz="2800" spc="-1" strike="noStrike">
                <a:solidFill>
                  <a:srgbClr val="ffd66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d66f"/>
                </a:solidFill>
                <a:latin typeface="Tahoma"/>
              </a:rPr>
              <a:t>شيلي وروس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26f"/>
                </a:solidFill>
                <a:latin typeface="Wingdings 2"/>
                <a:ea typeface="Wingdings 2"/>
              </a:rPr>
              <a:t></a:t>
            </a:r>
            <a:r>
              <a:rPr b="1" lang="ar-SA" sz="2800" spc="-1" strike="noStrike">
                <a:solidFill>
                  <a:srgbClr val="ffff39"/>
                </a:solidFill>
                <a:latin typeface="Tahoma"/>
              </a:rPr>
              <a:t> آغاز گران: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شامل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درص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زكشورهاي جهان مانند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d66f"/>
                </a:solidFill>
                <a:latin typeface="Tahoma"/>
              </a:rPr>
              <a:t>  </a:t>
            </a:r>
            <a:r>
              <a:rPr b="1" lang="ar-SA" sz="2800" spc="-1" strike="noStrike">
                <a:solidFill>
                  <a:srgbClr val="ffd66f"/>
                </a:solidFill>
                <a:latin typeface="Tahoma"/>
              </a:rPr>
              <a:t>                   چين، مصر</a:t>
            </a:r>
            <a:r>
              <a:rPr b="1" lang="fa-IR" sz="2800" spc="-1" strike="noStrike">
                <a:solidFill>
                  <a:srgbClr val="ffd66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d66f"/>
                </a:solidFill>
                <a:latin typeface="Tahoma"/>
              </a:rPr>
              <a:t>و</a:t>
            </a:r>
            <a:r>
              <a:rPr b="1" lang="fa-IR" sz="2800" spc="-1" strike="noStrike">
                <a:solidFill>
                  <a:srgbClr val="ffd66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d66f"/>
                </a:solidFill>
                <a:latin typeface="Tahoma"/>
              </a:rPr>
              <a:t>فيليپي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26f"/>
                </a:solidFill>
                <a:latin typeface="Wingdings 2"/>
                <a:ea typeface="Wingdings 2"/>
              </a:rPr>
              <a:t></a:t>
            </a:r>
            <a:r>
              <a:rPr b="1" lang="ar-SA" sz="2800" spc="-1" strike="noStrike">
                <a:solidFill>
                  <a:srgbClr val="ffff39"/>
                </a:solidFill>
                <a:latin typeface="Tahoma"/>
              </a:rPr>
              <a:t> </a:t>
            </a:r>
            <a:r>
              <a:rPr b="1" lang="fa-IR" sz="2800" spc="-1" strike="noStrike">
                <a:solidFill>
                  <a:srgbClr val="ffff39"/>
                </a:solidFill>
                <a:latin typeface="Tahoma"/>
              </a:rPr>
              <a:t>باز</a:t>
            </a:r>
            <a:r>
              <a:rPr b="1" lang="ar-SA" sz="2800" spc="-1" strike="noStrike">
                <a:solidFill>
                  <a:srgbClr val="ffff39"/>
                </a:solidFill>
                <a:latin typeface="Tahoma"/>
              </a:rPr>
              <a:t>ماندگان :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شامل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درص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زكشورهاي جهان مانند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d66f"/>
                </a:solidFill>
                <a:latin typeface="Tahoma"/>
              </a:rPr>
              <a:t>  </a:t>
            </a:r>
            <a:r>
              <a:rPr b="1" lang="ar-SA" sz="2800" spc="-1" strike="noStrike">
                <a:solidFill>
                  <a:srgbClr val="ffd66f"/>
                </a:solidFill>
                <a:latin typeface="Tahoma"/>
              </a:rPr>
              <a:t>                   كنيا ، عراق  و</a:t>
            </a:r>
            <a:r>
              <a:rPr b="1" lang="fa-IR" sz="2800" spc="-1" strike="noStrike">
                <a:solidFill>
                  <a:srgbClr val="ffd66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d66f"/>
                </a:solidFill>
                <a:latin typeface="Tahoma"/>
              </a:rPr>
              <a:t>ويتنا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3154680" y="762120"/>
            <a:ext cx="66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تقسيم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بندي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جهان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از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ديدگاه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توسعة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  <a:cs typeface="Zr"/>
              </a:rPr>
              <a:t>اطلاعات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</p:spTree>
  </p:cSld>
  <p:transition>
    <p:zoom dir="in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" dur="5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" dur="5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" dur="500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3EF6-FD8B-48F6-BE34-CF138652401C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2057400" y="304920"/>
            <a:ext cx="8893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Zr"/>
              </a:rPr>
              <a:t>سهم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</a:rPr>
              <a:t>كشورها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</a:rPr>
              <a:t>از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</a:rPr>
              <a:t>ايستگاههاي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</a:rPr>
              <a:t>اطلاعاتي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</a:rPr>
              <a:t>اينترنتي</a:t>
            </a:r>
            <a:r>
              <a:rPr b="1" lang="en-US" sz="2700" spc="-1" strike="noStrike">
                <a:solidFill>
                  <a:srgbClr val="ffff66"/>
                </a:solidFill>
                <a:latin typeface="Siavash"/>
                <a:ea typeface="Siavash"/>
              </a:rPr>
              <a:t></a:t>
            </a:r>
            <a:endParaRPr b="0" lang="en-US" sz="2700" spc="-1" strike="noStrike">
              <a:solidFill>
                <a:srgbClr val="ffffff"/>
              </a:solidFill>
              <a:latin typeface="Zr"/>
            </a:endParaRPr>
          </a:p>
        </p:txBody>
      </p:sp>
      <p:grpSp>
        <p:nvGrpSpPr>
          <p:cNvPr id="401" name="Group 3"/>
          <p:cNvGrpSpPr/>
          <p:nvPr/>
        </p:nvGrpSpPr>
        <p:grpSpPr>
          <a:xfrm>
            <a:off x="228600" y="1219320"/>
            <a:ext cx="8667720" cy="5064120"/>
            <a:chOff x="228600" y="1219320"/>
            <a:chExt cx="8667720" cy="5064120"/>
          </a:xfrm>
        </p:grpSpPr>
        <p:pic>
          <p:nvPicPr>
            <p:cNvPr id="402" name="Picture 4" descr="site for contries"/>
            <p:cNvPicPr/>
            <p:nvPr/>
          </p:nvPicPr>
          <p:blipFill>
            <a:blip r:embed="rId1"/>
            <a:stretch/>
          </p:blipFill>
          <p:spPr>
            <a:xfrm>
              <a:off x="228600" y="1219320"/>
              <a:ext cx="8667720" cy="506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Rectangle 5"/>
            <p:cNvSpPr/>
            <p:nvPr/>
          </p:nvSpPr>
          <p:spPr>
            <a:xfrm>
              <a:off x="1696680" y="1296360"/>
              <a:ext cx="5903640" cy="48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Zr"/>
              </a:endParaRPr>
            </a:p>
          </p:txBody>
        </p:sp>
      </p:grpSp>
    </p:spTree>
  </p:cSld>
  <p:transition>
    <p:zoom dir="in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2841-9D16-48CB-B420-F0C8191141D8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394920" y="2133720"/>
            <a:ext cx="851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b06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b06f"/>
                </a:solidFill>
                <a:latin typeface="Wingdings 2"/>
                <a:ea typeface="Wingdings 2"/>
              </a:rPr>
              <a:t></a:t>
            </a:r>
            <a:r>
              <a:rPr b="0" lang="ar-SA" sz="2400" spc="-1" strike="noStrike">
                <a:solidFill>
                  <a:srgbClr val="ffff53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در</a:t>
            </a:r>
            <a:r>
              <a:rPr b="1" lang="ar-SA" sz="2400" spc="-1" strike="noStrike">
                <a:solidFill>
                  <a:srgbClr val="ffd66f"/>
                </a:solidFill>
                <a:latin typeface="Tahoma"/>
              </a:rPr>
              <a:t>كشورهاي شم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به ازاي </a:t>
            </a:r>
            <a:r>
              <a:rPr b="0" lang="ar-SA" sz="2800" spc="-1" strike="noStrike">
                <a:solidFill>
                  <a:srgbClr val="ccff99"/>
                </a:solidFill>
                <a:latin typeface="Tahoma"/>
              </a:rPr>
              <a:t>هرهفت نفريك كامپيوتر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جود دارد.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b06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b06f"/>
                </a:solidFill>
                <a:latin typeface="Wingdings 2"/>
                <a:ea typeface="Wingdings 2"/>
              </a:rPr>
              <a:t></a:t>
            </a:r>
            <a:r>
              <a:rPr b="0" lang="ar-SA" sz="2400" spc="-1" strike="noStrike">
                <a:solidFill>
                  <a:srgbClr val="ffff53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در</a:t>
            </a:r>
            <a:r>
              <a:rPr b="1" lang="ar-SA" sz="2400" spc="-1" strike="noStrike">
                <a:solidFill>
                  <a:srgbClr val="ffd66f"/>
                </a:solidFill>
                <a:latin typeface="Tahoma"/>
              </a:rPr>
              <a:t>كشورهاي شرق آسي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به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‌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زاي </a:t>
            </a:r>
            <a:r>
              <a:rPr b="0" lang="ar-SA" sz="2800" spc="-1" strike="noStrike">
                <a:solidFill>
                  <a:srgbClr val="ccff99"/>
                </a:solidFill>
                <a:latin typeface="Tahoma"/>
              </a:rPr>
              <a:t>هرهشت</a:t>
            </a:r>
            <a:r>
              <a:rPr b="0" lang="fa-IR" sz="2800" spc="-1" strike="noStrike">
                <a:solidFill>
                  <a:srgbClr val="ccff99"/>
                </a:solidFill>
                <a:latin typeface="Tahoma"/>
              </a:rPr>
              <a:t>ــ</a:t>
            </a:r>
            <a:r>
              <a:rPr b="0" lang="ar-SA" sz="2800" spc="-1" strike="noStrike">
                <a:solidFill>
                  <a:srgbClr val="ccff99"/>
                </a:solidFill>
                <a:latin typeface="Tahoma"/>
              </a:rPr>
              <a:t>اد نفريك</a:t>
            </a:r>
            <a:r>
              <a:rPr b="0" lang="fa-IR" sz="2800" spc="-1" strike="noStrike">
                <a:solidFill>
                  <a:srgbClr val="ccff99"/>
                </a:solidFill>
                <a:latin typeface="Tahoma"/>
              </a:rPr>
              <a:t>‌</a:t>
            </a:r>
            <a:r>
              <a:rPr b="0" lang="ar-SA" sz="2800" spc="-1" strike="noStrike">
                <a:solidFill>
                  <a:srgbClr val="ccff99"/>
                </a:solidFill>
                <a:latin typeface="Tahoma"/>
              </a:rPr>
              <a:t>كامپيوتر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جود دارد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b06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b06f"/>
                </a:solidFill>
                <a:latin typeface="Wingdings 2"/>
                <a:ea typeface="Wingdings 2"/>
              </a:rPr>
              <a:t></a:t>
            </a:r>
            <a:r>
              <a:rPr b="0" lang="ar-SA" sz="28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cff99"/>
                </a:solidFill>
                <a:latin typeface="Tahoma"/>
              </a:rPr>
              <a:t>70</a:t>
            </a:r>
            <a:r>
              <a:rPr b="0" lang="ar-SA" sz="2800" spc="-1" strike="noStrike">
                <a:solidFill>
                  <a:srgbClr val="ccff99"/>
                </a:solidFill>
                <a:latin typeface="Tahoma"/>
              </a:rPr>
              <a:t>درص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زكاربران اينت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ـ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رنت مربوط به</a:t>
            </a:r>
            <a:r>
              <a:rPr b="1" lang="ar-SA" sz="2400" spc="-1" strike="noStrike">
                <a:solidFill>
                  <a:srgbClr val="ffd66f"/>
                </a:solidFill>
                <a:latin typeface="Tahoma"/>
              </a:rPr>
              <a:t>كشوره</a:t>
            </a:r>
            <a:r>
              <a:rPr b="1" lang="fa-IR" sz="2400" spc="-1" strike="noStrike">
                <a:solidFill>
                  <a:srgbClr val="ffd66f"/>
                </a:solidFill>
                <a:latin typeface="Tahoma"/>
              </a:rPr>
              <a:t>ـ</a:t>
            </a:r>
            <a:r>
              <a:rPr b="1" lang="ar-SA" sz="2400" spc="-1" strike="noStrike">
                <a:solidFill>
                  <a:srgbClr val="ffd66f"/>
                </a:solidFill>
                <a:latin typeface="Tahoma"/>
              </a:rPr>
              <a:t>اي</a:t>
            </a:r>
            <a:r>
              <a:rPr b="1" lang="fa-IR" sz="2400" spc="-1" strike="noStrike">
                <a:solidFill>
                  <a:srgbClr val="ffd66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d66f"/>
                </a:solidFill>
                <a:latin typeface="Tahoma"/>
              </a:rPr>
              <a:t>شم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ar-SA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آمريكا :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cff99"/>
                </a:solidFill>
                <a:latin typeface="Tahoma"/>
              </a:rPr>
              <a:t>45</a:t>
            </a:r>
            <a:r>
              <a:rPr b="0" lang="ar-SA" sz="2800" spc="-1" strike="noStrike">
                <a:solidFill>
                  <a:srgbClr val="ccff99"/>
                </a:solidFill>
                <a:latin typeface="Tahoma"/>
              </a:rPr>
              <a:t>درصد</a:t>
            </a:r>
            <a:r>
              <a:rPr b="0" lang="ar-SA" sz="28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اروپا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ar-SA" sz="28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cff99"/>
                </a:solidFill>
                <a:latin typeface="Tahoma"/>
              </a:rPr>
              <a:t>25</a:t>
            </a:r>
            <a:r>
              <a:rPr b="0" lang="ar-SA" sz="2800" spc="-1" strike="noStrike">
                <a:solidFill>
                  <a:srgbClr val="ccff99"/>
                </a:solidFill>
                <a:latin typeface="Tahoma"/>
              </a:rPr>
              <a:t>درصد</a:t>
            </a:r>
            <a:r>
              <a:rPr b="0" lang="ar-SA" sz="28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ست .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b06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b06f"/>
                </a:solidFill>
                <a:latin typeface="Wingdings 2"/>
                <a:ea typeface="Wingdings 2"/>
              </a:rPr>
              <a:t></a:t>
            </a:r>
            <a:r>
              <a:rPr b="0" lang="ar-SA" sz="2400" spc="-1" strike="noStrike">
                <a:solidFill>
                  <a:srgbClr val="ffff53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ccff99"/>
                </a:solidFill>
                <a:latin typeface="Tahoma"/>
              </a:rPr>
              <a:t>1</a:t>
            </a:r>
            <a:r>
              <a:rPr b="0" lang="ar-SA" sz="2800" spc="-1" strike="noStrike">
                <a:solidFill>
                  <a:srgbClr val="ccff99"/>
                </a:solidFill>
                <a:latin typeface="Tahoma"/>
              </a:rPr>
              <a:t>درصد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اربران اينترنت مربوط به </a:t>
            </a:r>
            <a:r>
              <a:rPr b="1" lang="ar-SA" sz="2400" spc="-1" strike="noStrike">
                <a:solidFill>
                  <a:srgbClr val="ffd66f"/>
                </a:solidFill>
                <a:latin typeface="Tahoma"/>
              </a:rPr>
              <a:t>كشورهاي</a:t>
            </a:r>
            <a:r>
              <a:rPr b="1" lang="fa-IR" sz="2400" spc="-1" strike="noStrike">
                <a:solidFill>
                  <a:srgbClr val="ffd66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d66f"/>
                </a:solidFill>
                <a:latin typeface="Tahoma"/>
              </a:rPr>
              <a:t>آفريقايي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ست.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b06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b06f"/>
                </a:solidFill>
                <a:latin typeface="Wingdings 2"/>
                <a:ea typeface="Wingdings 2"/>
              </a:rPr>
              <a:t></a:t>
            </a:r>
            <a:r>
              <a:rPr b="0" lang="ar-SA" sz="2400" spc="-1" strike="noStrike">
                <a:solidFill>
                  <a:srgbClr val="ffff53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ccff99"/>
                </a:solidFill>
                <a:latin typeface="Tahoma"/>
              </a:rPr>
              <a:t>5/0</a:t>
            </a:r>
            <a:r>
              <a:rPr b="0" lang="ar-SA" sz="2800" spc="-1" strike="noStrike">
                <a:solidFill>
                  <a:srgbClr val="ccff99"/>
                </a:solidFill>
                <a:latin typeface="Tahoma"/>
              </a:rPr>
              <a:t>درصد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اربران اينترنت مربوط به </a:t>
            </a:r>
            <a:r>
              <a:rPr b="1" lang="ar-SA" sz="2400" spc="-1" strike="noStrike">
                <a:solidFill>
                  <a:srgbClr val="ffd66f"/>
                </a:solidFill>
                <a:latin typeface="Tahoma"/>
              </a:rPr>
              <a:t>كشورهاي خاورميانه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ست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2438280" y="457200"/>
            <a:ext cx="81169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بروز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شكاف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ديجيتالي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ميان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كشورهاي</a:t>
            </a:r>
            <a:endParaRPr b="0" lang="en-US" sz="2700" spc="-1" strike="noStrike">
              <a:solidFill>
                <a:srgbClr val="ffffff"/>
              </a:solidFill>
              <a:latin typeface="Zr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شمال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ar-SA" sz="2700" spc="-1" strike="noStrike">
                <a:solidFill>
                  <a:srgbClr val="ffffff"/>
                </a:solidFill>
                <a:latin typeface="Zr"/>
                <a:cs typeface="Zr"/>
              </a:rPr>
              <a:t>وجنوب</a:t>
            </a:r>
            <a:r>
              <a:rPr b="0" lang="en-US" sz="2700" spc="-1" strike="noStrike">
                <a:solidFill>
                  <a:srgbClr val="ffffff"/>
                </a:solidFill>
                <a:latin typeface="Zr"/>
                <a:ea typeface="Zr"/>
              </a:rPr>
              <a:t>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igital  Divide)</a:t>
            </a:r>
            <a:r>
              <a:rPr b="0" lang="en-US" sz="2700" spc="-1" strike="noStrike">
                <a:solidFill>
                  <a:srgbClr val="ffffff"/>
                </a:solidFill>
                <a:latin typeface="Zr"/>
                <a:ea typeface="Zr"/>
              </a:rPr>
              <a:t></a:t>
            </a:r>
            <a:endParaRPr b="0" lang="en-US" sz="2700" spc="-1" strike="noStrike">
              <a:solidFill>
                <a:srgbClr val="ffffff"/>
              </a:solidFill>
              <a:latin typeface="Zr"/>
            </a:endParaRPr>
          </a:p>
        </p:txBody>
      </p:sp>
    </p:spTree>
  </p:cSld>
  <p:transition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9879-AA88-49D0-B997-89B7C1FEAFFE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fa-IR" sz="3200" spc="-1" strike="noStrike">
                <a:solidFill>
                  <a:srgbClr val="e5ffff"/>
                </a:solidFill>
                <a:latin typeface="Tahoma"/>
                <a:cs typeface="Zar"/>
              </a:rPr>
              <a:t>سيلابس درس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فاهيم پروتكلهاي  شبكه، پروتكل استاندارد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SI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 و لايه هاي آن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پروتكل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cp/Ip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كاربرد آن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پروتكل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cp/IP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سرويسهاي عمومي در اينترنت ( شبيه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HC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،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، 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x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،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،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، 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روري بر امنيت شبكه ، تهديدات و روشهاي مقابله با آنها (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ewal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،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xy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و ..)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C63E-B64F-45C2-B788-C5A1B1C5EA9A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826800" y="685800"/>
            <a:ext cx="50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Zr"/>
                <a:cs typeface="Zr"/>
              </a:rPr>
              <a:t>به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cs typeface="Zr"/>
              </a:rPr>
              <a:t>نام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cs typeface="Zr"/>
              </a:rPr>
              <a:t>آنكه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cs typeface="Zr"/>
              </a:rPr>
              <a:t>جان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cs typeface="Zr"/>
              </a:rPr>
              <a:t>را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cs typeface="Zr"/>
              </a:rPr>
              <a:t>فكرت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ea typeface="Zr"/>
              </a:rPr>
              <a:t></a:t>
            </a:r>
            <a:r>
              <a:rPr b="0" lang="ar-SA" sz="2800" spc="-1" strike="noStrike">
                <a:solidFill>
                  <a:srgbClr val="ffff66"/>
                </a:solidFill>
                <a:latin typeface="Zr"/>
                <a:cs typeface="Zr"/>
              </a:rPr>
              <a:t>آموخت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600200" y="3429000"/>
            <a:ext cx="60199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avash"/>
                <a:cs typeface="Siavash"/>
              </a:rPr>
              <a:t>مفاهيم</a:t>
            </a:r>
            <a:r>
              <a:rPr b="0" lang="ar-SA" sz="28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Siavash"/>
                <a:cs typeface="Siavash"/>
              </a:rPr>
              <a:t>پاية</a:t>
            </a:r>
            <a:r>
              <a:rPr b="0" lang="ar-SA" sz="28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Siavash"/>
                <a:cs typeface="Siavash"/>
              </a:rPr>
              <a:t>فناوري</a:t>
            </a:r>
            <a:r>
              <a:rPr b="0" lang="ar-SA" sz="28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Siavash"/>
                <a:cs typeface="Siavash"/>
              </a:rPr>
              <a:t>اطلاعات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666880" y="2590920"/>
            <a:ext cx="39625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Siavash"/>
                <a:cs typeface="Siavash"/>
              </a:rPr>
              <a:t>جلسه</a:t>
            </a:r>
            <a:r>
              <a:rPr b="0" lang="fa-IR" sz="2800" spc="-1" strike="noStrike">
                <a:solidFill>
                  <a:srgbClr val="ffffff"/>
                </a:solidFill>
                <a:latin typeface="Siavash"/>
                <a:ea typeface="Siavash"/>
              </a:rPr>
              <a:t></a:t>
            </a:r>
            <a:r>
              <a:rPr b="0" lang="fa-IR" sz="2800" spc="-1" strike="noStrike">
                <a:solidFill>
                  <a:srgbClr val="ffffff"/>
                </a:solidFill>
                <a:latin typeface="Siavash"/>
                <a:cs typeface="Siavash"/>
              </a:rPr>
              <a:t>اول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FCC8-83D4-45A6-A998-47508BF66DBD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304920" y="2057400"/>
            <a:ext cx="86868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Yagut"/>
              </a:rPr>
              <a:t>فناوري اطلاعات چيست؟ و شامل چه زمينه هايي  مي‌شود؟ 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3F82-6F5D-4D5C-B25A-981D783B3F98}" type="slidenum">
              <a:rPr b="0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256920" y="609480"/>
            <a:ext cx="661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زمينه هاي مرتبط با فناوري اطلاعات</a:t>
            </a:r>
            <a:endParaRPr b="0" lang="en-US" sz="32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74516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8732880" y="47149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80880" y="15238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فناوري اطلاعات زمينه هاورشته هاي متعددي را دربر مي گيرد كه برخي از آنها كاملا نو است از جمله: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181480" y="2819520"/>
            <a:ext cx="35053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پايگاههاي داده 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سيستم هاي مبتني بر وب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سيستم هاي عامل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دلسازي و شبيه سازي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0" y="289548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Zr"/>
              </a:rPr>
              <a:t>تجارت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</a:rPr>
              <a:t>الكترونيكي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</a:rPr>
              <a:t>پول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</a:rPr>
              <a:t>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</a:rPr>
              <a:t>الكترونيكي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  <a:p>
            <a:pPr algn="r" rtl="1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</a:rPr>
              <a:t>دورا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</a:rPr>
              <a:t>عمليات</a:t>
            </a:r>
            <a:r>
              <a:rPr b="0" lang="ar-SA" sz="2800" spc="-1" strike="noStrike">
                <a:solidFill>
                  <a:srgbClr val="ffffff"/>
                </a:solidFill>
                <a:latin typeface="Zr"/>
              </a:rPr>
              <a:t></a:t>
            </a:r>
            <a:endParaRPr b="0" lang="en-US" sz="2800" spc="-1" strike="noStrike">
              <a:solidFill>
                <a:srgbClr val="ffffff"/>
              </a:solidFill>
              <a:latin typeface="Zr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7:52:52Z</dcterms:created>
  <dc:creator>Your User Name</dc:creator>
  <dc:description/>
  <dc:language>en-US</dc:language>
  <cp:lastModifiedBy>NIKAN</cp:lastModifiedBy>
  <dcterms:modified xsi:type="dcterms:W3CDTF">2016-02-17T06:56:09Z</dcterms:modified>
  <cp:revision>187</cp:revision>
  <dc:subject/>
  <dc:title>Slide 1</dc:title>
</cp:coreProperties>
</file>