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CE0-9AC8-4489-ADA6-512B281F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D1A-0266-4536-B288-0EAF6B6C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B98-8389-4DD4-85C0-984CA7CA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ED4-10FD-42DB-AA90-5A3C1EF6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C44-4A12-42CA-89A2-56AB467D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BD5-F40F-497D-83FB-81EDAA19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89E-9C24-4236-A89C-97580E24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BE7-5A6C-4C08-AFCA-2127D16E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8FE-36D5-48A7-B528-5B14F8EC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24B-409B-4D4A-ABA1-428D5AF8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7BB-BC31-4CAF-8211-44942530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184-61B2-430B-8EA3-088BAFA9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A018-1A56-499F-A383-F55107CCF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Encryption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:  Stallings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and Computer Communications, 7th E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Pearson/P-H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xColumns()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xColumns( ) transformation manipulates each column of the state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can be described as a matrix multiplication of a polynomial and the state ar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cess does not depend on the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oundKey( )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dRoundKey( ) transformation uses the key schedule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cess is a bitwise XOR of the columns of the state array, with the key schedule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S Decry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S decryption is accomplished using inverses of the transformations, in the appropriat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dRoundKey( ) is its own inverse when (since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 = 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S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7  --National Institute of Standards and Technology (NIST) issues a call for propos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--AES issues as a federal information processing standards (FIPS 1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S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Strength Equal to or Better than 3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ly More Efficient than 3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metric Block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Length = 12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Key Lengths of 128, 192, and 256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Criteria for AES Propo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and Software Sui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. 21.2 shows the AES algorithm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is a 128 bit block (16 bytes) that is placed i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 (Fig. 21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is entered in a block and divided in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ds of 4 bytes/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schedule is an expansion of the key—eg, a 128 bit key is expanded into 44 key schedule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quare matrix of bytes is used by the standard to describe the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nds and Transformation St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cryption process execute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und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Nr times, with the number of rounds (Nr) being dependent on key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und function consists of  fo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Byte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Row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Colum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oundKe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nds and Transformation Stages (p.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ipher begins with an AddRoundKey(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rounds then execute each of the transformations except  the last 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xColumns( ) transformation is not executed in the final 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128 bit key, there are 10 r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and 14 rounds are used with keys of 192 and 25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Bytes ( )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stitute transformation is an S-Box process, that is independent of the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f the bytes of the State is replaced by a different byte, according to a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fixed and derived from two transformations defined in the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able is an 8 x 8 array, indexed with the State by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iftRows( ) 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ftRows() transformation is a permutation that is performed row by row on the State array, independently of the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row is not shif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w is circularly shifted left 1 by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w is circularly shifted left 2 by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w is circularly shifted left 3 by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4:50:38Z</dcterms:created>
  <dc:creator>Donna Collins</dc:creator>
  <dc:description/>
  <dc:language>en-US</dc:language>
  <cp:lastModifiedBy>Collins</cp:lastModifiedBy>
  <dcterms:modified xsi:type="dcterms:W3CDTF">2003-11-11T19:28:14Z</dcterms:modified>
  <cp:revision>27</cp:revision>
  <dc:subject/>
  <dc:title>Advanced Encryption Standard</dc:title>
</cp:coreProperties>
</file>