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ED57-6536-4780-AF1E-6791727F4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712B-D05E-470B-9157-40C2A87D8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A03E-8FB8-4F57-951A-F291C2574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ptool -&gt; Indiv. Procedure -&gt; visualization of algorith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79BA-6A7C-48C6-B0D2-EBEE14E62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ptool -&gt; Indiv. Procedure -&gt; visualization of algorith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CAF-71D5-4721-819A-10749800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C55-94A9-44E3-B78D-3FB52C51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C04-3C16-4A16-8273-F65B2F08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E93-5183-4B27-A4DC-4B84A3D3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46A8-5A1F-4BDD-84D7-27E94922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7925-3A58-45BD-B238-049538AC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F3C3-9705-4D21-A923-0F3003F8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A66B-8029-4E01-9FD9-7CC6C31A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79BA-0AD7-4630-985D-10F025F1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BD50-F170-42CA-B27D-1E23DB21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79D7-8D39-4A3C-8269-922E1B16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F41-2C0C-4C5E-9BF6-6995546E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F98E-C26E-4CB1-B719-B28BB77A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096E-8922-4899-B192-A33B765E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3240-60E1-4C2B-A16B-ACDB2C0F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29F5-BF9C-406B-A77C-B9E19245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9616-AD46-40D2-B562-CE058BA3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B4D-C596-44E9-B0D7-C2F77EAC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30A6-69DE-41CA-AEF6-971C56F7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C88-A22B-4892-9FB7-2C1D1862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C1A-5AEC-4C88-8877-A125D155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CB7-410E-45EA-AE31-3E3E0DB8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282-4E98-496F-A027-C0331CC3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898-3766-4745-BBD7-B6956009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DA21-3A7B-46C3-AB4E-C5226F9E1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E657-39EB-42F4-B2BA-819DEB32D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3.bp.blogspot.com/_Zfbv3mHcYrc/SreoBBfhLJI/AAAAAAAABj8/bg2juCimsl0/s1600-h/aes_act_1_scene_09_des_ruled_1100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www.algoanim.info/Animal2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4.bp.blogspot.com/_Zfbv3mHcYrc/SreoJQaJCmI/AAAAAAAABkM/g3HmEDLRJws/s1600-h/aes_act_1_scene_10_des_defeated_1100.png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1.bp.blogspot.com/_Zfbv3mHcYrc/SreojET_QBI/AAAAAAAABkc/knYwS6AsM04/s1600-h/aes_act_1_scene_11_triple_des_1100.pn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4.bp.blogspot.com/_Zfbv3mHcYrc/Sreqlu0gkOI/AAAAAAAABks/TFPgQMW2KJI/s1600-h/aes_act_1_scene_12_nist_decree_1100.pn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2.bp.blogspot.com/_Zfbv3mHcYrc/SreqryYxgTI/AAAAAAAABk8/gkd3ibNVQyc/s1600-h/aes_act_1_scene_13_rallied_1100.png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3.bp.blogspot.com/_Zfbv3mHcYrc/SrezP7Vek8I/AAAAAAAABlM/vY8BCz_xZ_M/s1600-h/aes_act_1_scene_14_rijndael_1100.pn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1.bp.blogspot.com/_Zfbv3mHcYrc/SrezVYrKN3I/AAAAAAAABlc/QV7SKeqbjYw/s1600-h/aes_act_1_scene_15_vote_1100.pn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2.bp.blogspot.com/_Zfbv3mHcYrc/SrezjnfyXnI/AAAAAAAABls/cq-87oH48Tg/s1600-h/aes_act_1_scene_16_won_1100.pn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.bp.blogspot.com/_Zfbv3mHcYrc/SrebavzxZHI/AAAAAAAABi8/KJhKmQTtqi4/s1600-h/aes_act_1_scene_05_judge_1100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2.bp.blogspot.com/_Zfbv3mHcYrc/Sreh0fsDjRI/AAAAAAAABjM/bNXFrxuBY8Y/s1600-h/aes_act_1_scene_06_nbs_decree_1100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4.bp.blogspot.com/_Zfbv3mHcYrc/SrektFJi7oI/AAAAAAAABjc/wp0BKrW50h0/s1600-h/aes_act_1_scene_07_lucifer_1100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3.bp.blogspot.com/_Zfbv3mHcYrc/SremXGo1_9I/AAAAAAAABjs/iaUL3R8V0AQ/s1600-h/aes_act_1_scene_08_anoint_des_1100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302: Information Security and Trus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ek 3: From DES to A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19D6-FE14-4295-95A5-202F59A0D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aes act 1 scene 09 des rul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26880"/>
            <a:ext cx="784872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C9A0-BBAC-4B02-9AF0-2C84A1E17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27"/>
          <p:cNvSpPr/>
          <p:nvPr/>
        </p:nvSpPr>
        <p:spPr>
          <a:xfrm rot="21122400">
            <a:off x="5256360" y="3127320"/>
            <a:ext cx="3276360" cy="1752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Round in 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85800" y="1447920"/>
            <a:ext cx="3809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-bits ke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6 48-bits sub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-bits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half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ft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 half mixed with encrypted right half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ight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648320" y="1447920"/>
            <a:ext cx="3809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 round of encoding a block in DES (repeat 16 ti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724280" y="2590920"/>
            <a:ext cx="144792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ft half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6629400" y="2590920"/>
            <a:ext cx="160020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ght half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800600" y="5410080"/>
            <a:ext cx="1447920" cy="580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left half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705720" y="5394240"/>
            <a:ext cx="1600200" cy="580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right half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5715000" y="3470400"/>
            <a:ext cx="144792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5715000" y="4308480"/>
            <a:ext cx="1447920" cy="457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7467480" y="3514680"/>
            <a:ext cx="99072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7162920" y="369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7467480" y="293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6477120" y="316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6477120" y="392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8"/>
          <p:cNvSpPr/>
          <p:nvPr/>
        </p:nvSpPr>
        <p:spPr>
          <a:xfrm>
            <a:off x="6400800" y="4994280"/>
            <a:ext cx="228600" cy="228600"/>
          </a:xfrm>
          <a:prstGeom prst="flowChartOr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6477120" y="476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0"/>
          <p:cNvSpPr/>
          <p:nvPr/>
        </p:nvSpPr>
        <p:spPr>
          <a:xfrm flipH="1">
            <a:off x="5486040" y="3165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1"/>
          <p:cNvSpPr/>
          <p:nvPr/>
        </p:nvSpPr>
        <p:spPr>
          <a:xfrm>
            <a:off x="5486400" y="316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2"/>
          <p:cNvSpPr/>
          <p:nvPr/>
        </p:nvSpPr>
        <p:spPr>
          <a:xfrm>
            <a:off x="5181480" y="293688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3"/>
          <p:cNvSpPr/>
          <p:nvPr/>
        </p:nvSpPr>
        <p:spPr>
          <a:xfrm>
            <a:off x="5181480" y="51465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4"/>
          <p:cNvSpPr/>
          <p:nvPr/>
        </p:nvSpPr>
        <p:spPr>
          <a:xfrm>
            <a:off x="6629400" y="51465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5"/>
          <p:cNvSpPr/>
          <p:nvPr/>
        </p:nvSpPr>
        <p:spPr>
          <a:xfrm>
            <a:off x="7543800" y="514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7543800" y="4114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D959-A523-4C62-88EE-00E62BD67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all Diagr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fip46-1"/>
          <p:cNvPicPr/>
          <p:nvPr/>
        </p:nvPicPr>
        <p:blipFill>
          <a:blip r:embed="rId1"/>
          <a:stretch/>
        </p:blipFill>
        <p:spPr>
          <a:xfrm>
            <a:off x="228600" y="1523880"/>
            <a:ext cx="4419720" cy="5181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DES-f"/>
          <p:cNvPicPr/>
          <p:nvPr/>
        </p:nvPicPr>
        <p:blipFill>
          <a:blip r:embed="rId2"/>
          <a:stretch/>
        </p:blipFill>
        <p:spPr>
          <a:xfrm>
            <a:off x="5029200" y="1981080"/>
            <a:ext cx="3429000" cy="3581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5714640" y="58672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09480" y="9144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http://en.wikipedia.org/wiki/Data_Encryption_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04D2-B78D-49B5-B4CB-DC79F4D0B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procedure visu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. procedur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isualization of algorith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need Java runtime environment at least version 1.6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1"/>
              </a:rPr>
              <a:t>http://java.sun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lso need to download and install the current version of ANIMAL animation software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  <a:hlinkClick r:id="rId2"/>
              </a:rPr>
              <a:t>http://www.algoanim.info/Animal2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4E35-C629-4C09-B9C7-044FA66A9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ple D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wo-Key 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key size is 56x2=112 bits; but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effective key 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is only 57 bits on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iple DES (3D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is a secure solution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effective key 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of 112 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819520" y="2286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6765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978280" y="2209680"/>
            <a:ext cx="36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23623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677600" y="19810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2362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738800" y="2327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4807080" y="2209680"/>
            <a:ext cx="36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3352680" y="2286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41911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3736080" y="2362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5181480" y="2438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602172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2895480" y="449568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3054600" y="4419720"/>
            <a:ext cx="36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5"/>
          <p:cNvSpPr/>
          <p:nvPr/>
        </p:nvSpPr>
        <p:spPr>
          <a:xfrm>
            <a:off x="2438280" y="4495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1753560" y="41911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2438280" y="4800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1815120" y="4537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4883760" y="4419720"/>
            <a:ext cx="400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30"/>
          <p:cNvSpPr/>
          <p:nvPr/>
        </p:nvSpPr>
        <p:spPr>
          <a:xfrm>
            <a:off x="3429000" y="4495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1"/>
          <p:cNvSpPr/>
          <p:nvPr/>
        </p:nvSpPr>
        <p:spPr>
          <a:xfrm>
            <a:off x="4267080" y="4800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3812040" y="4572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3"/>
          <p:cNvSpPr/>
          <p:nvPr/>
        </p:nvSpPr>
        <p:spPr>
          <a:xfrm>
            <a:off x="5257800" y="4495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785052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5"/>
          <p:cNvSpPr/>
          <p:nvPr/>
        </p:nvSpPr>
        <p:spPr>
          <a:xfrm>
            <a:off x="6788160" y="4419720"/>
            <a:ext cx="36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6"/>
          <p:cNvSpPr/>
          <p:nvPr/>
        </p:nvSpPr>
        <p:spPr>
          <a:xfrm>
            <a:off x="64008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7"/>
          <p:cNvSpPr/>
          <p:nvPr/>
        </p:nvSpPr>
        <p:spPr>
          <a:xfrm>
            <a:off x="5945760" y="4572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8"/>
          <p:cNvSpPr/>
          <p:nvPr/>
        </p:nvSpPr>
        <p:spPr>
          <a:xfrm>
            <a:off x="7162920" y="4648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C8AE-450F-4DF6-A0B9-94A7194E7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encryption 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ol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/decrypt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metric (moder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 (CB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DES (CB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C166-E10F-4EDB-8F94-29D6D69D0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Conc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6 bit key is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oo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broken on average in 2^5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3.6*10^16 t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ore’s law: speed of processor doubles per 1.5 y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7: 3500 machines broke DES in about 4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8: 1M dollar machine broke DES in about 4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5643-C963-48AC-A575-8AE1E7093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" descr="aes act 1 scene 10 des defeat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26880"/>
            <a:ext cx="784872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2147-E48C-4FD7-896B-88C9B2EED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" descr="aes act 1 scene 11 triple 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66760"/>
            <a:ext cx="792468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9647-C167-4154-81D3-3C1243B6D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5" descr="aes act 1 scene 12 nist decre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26880"/>
            <a:ext cx="80010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0358-9A65-4FA5-BB9D-1B06CEAD0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s to cryp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esar, Vigenere, Zimmerman, Vernam cip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usion and dif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98CD-8707-42E8-853B-5C905E9F3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5" descr="aes act 1 scene 13 ralli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06280"/>
            <a:ext cx="800100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CB9C-9B92-4749-8DBC-924120B70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5" descr="aes act 1 scene 14 rijnda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3336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F1DC-477D-4124-ABA8-3330A3135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aes act 1 scene 15 vo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26880"/>
            <a:ext cx="80010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5392-C202-4FEE-9052-36878D159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5" descr="aes act 1 scene 16 w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66760"/>
            <a:ext cx="807696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35F0-3DCF-4C32-8434-A3ADA0F33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5" descr="aes act 1 scene 17 intel"/>
          <p:cNvPicPr/>
          <p:nvPr/>
        </p:nvPicPr>
        <p:blipFill>
          <a:blip r:embed="rId1"/>
          <a:stretch/>
        </p:blipFill>
        <p:spPr>
          <a:xfrm>
            <a:off x="457200" y="206280"/>
            <a:ext cx="830592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E35C-A528-450C-BA31-0DC551956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7 NIST ca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f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jndael(Joan Daemen and Vincent Rijmen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pent(Ross Anderson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fish(Bruce Schneier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6(Don Rivest, Lisa Yin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 (Don Coppersmith, IBM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 Rijndael w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 Rijndael became A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1E7A-4D01-4538-9B13-ED99837E1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S vs 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1447920"/>
          <a:ext cx="7772400" cy="46432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ock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Key 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28, 192, 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rou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11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ryption primi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titution, permu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titution, shift, bit mix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ryptographic primi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fusion, diffu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fusion, diffu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g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Design ration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Clos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Ope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ction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t, but accept open public 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our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BM, enhanced by 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dependent cryptograp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Advanced_Encryption_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0DF4-B442-4E78-8630-B2ED1F288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-Level Cipher Algorithm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xpansion (one 128/192/256-biy key to 10/12/14 128-bit sub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 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oundKey (cipher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s in each of 9/11/13 rounds (state: 4*4=16-array of bytes = 128 bit-b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Bytes — a non-linear substitution step where each byte is replaced with another according to a lookup 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Rows — a transposition step where each row of the state is shifted cyclically a certain number of step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Columns — a mixing operation which operates on the columns of the state, combining the four bytes in each c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oundKey — each byte of the state is combined with the round key; each round key is derived from the cipher key using a key schedu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Round (no MixColum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ftRo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oundKe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many rounds in total? How many round key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62EC-6149-4CA0-B132-CE83E3C68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C22A-1A7D-413A-BDE7-56A34EAD3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15B0-5F72-4B76-85C3-A8D6DC6C8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rn Symmetric Cip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41EF-FCF3-47B7-BC8E-894300FF5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FEA0-D607-410D-9982-1BCAC9507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C2BE-76E2-4200-80D2-B2279885C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low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ol: AES proced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id. Procedur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isualization of algorith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version: http://www.ccna-security.net/wp-content/uploads/2008/10/rijndael_ingles2004.sw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S-128-CBC 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/decryp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mmetric (modern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FD30-9A45-4D88-9854-0FCEAE3AE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Modes of Block Cip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multiple blocks proces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B: Electronic Code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C: Cipher Block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FB: Cipher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FB: Output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0901-46F2-46A2-9EFD-E2F04BEAF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nic codebook (ECB)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2286000" y="2214720"/>
            <a:ext cx="114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3886200" y="2214720"/>
            <a:ext cx="114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5486400" y="2209680"/>
            <a:ext cx="114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Curved Connector 11"/>
          <p:cNvCxnSpPr>
            <a:stCxn id="267" idx="3"/>
            <a:endCxn id="264" idx="0"/>
          </p:cNvCxnSpPr>
          <p:nvPr/>
        </p:nvCxnSpPr>
        <p:spPr>
          <a:xfrm>
            <a:off x="1905120" y="1753920"/>
            <a:ext cx="953280" cy="461160"/>
          </a:xfrm>
          <a:prstGeom prst="curved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69" name="Curved Connector 11"/>
          <p:cNvCxnSpPr>
            <a:stCxn id="267" idx="3"/>
            <a:endCxn id="265" idx="0"/>
          </p:cNvCxnSpPr>
          <p:nvPr/>
        </p:nvCxnSpPr>
        <p:spPr>
          <a:xfrm>
            <a:off x="1904760" y="1753920"/>
            <a:ext cx="2553120" cy="461160"/>
          </a:xfrm>
          <a:prstGeom prst="curved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70" name="Curved Connector 11"/>
          <p:cNvCxnSpPr>
            <a:endCxn id="266" idx="0"/>
          </p:cNvCxnSpPr>
          <p:nvPr/>
        </p:nvCxnSpPr>
        <p:spPr>
          <a:xfrm>
            <a:off x="1980720" y="1752480"/>
            <a:ext cx="4077720" cy="457920"/>
          </a:xfrm>
          <a:prstGeom prst="curved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71" name="Straight Arrow Connector 19"/>
          <p:cNvCxnSpPr>
            <a:stCxn id="264" idx="2"/>
          </p:cNvCxnSpPr>
          <p:nvPr/>
        </p:nvCxnSpPr>
        <p:spPr>
          <a:xfrm>
            <a:off x="2857320" y="2676600"/>
            <a:ext cx="38520" cy="2955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72" name="Straight Arrow Connector 21"/>
          <p:cNvCxnSpPr>
            <a:stCxn id="265" idx="2"/>
          </p:cNvCxnSpPr>
          <p:nvPr/>
        </p:nvCxnSpPr>
        <p:spPr>
          <a:xfrm>
            <a:off x="4457520" y="2676600"/>
            <a:ext cx="38520" cy="2955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73" name="Straight Arrow Connector 22"/>
          <p:cNvCxnSpPr/>
          <p:nvPr/>
        </p:nvCxnSpPr>
        <p:spPr>
          <a:xfrm>
            <a:off x="6057720" y="2666520"/>
            <a:ext cx="38520" cy="2962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274" name="TextBox 23"/>
          <p:cNvSpPr/>
          <p:nvPr/>
        </p:nvSpPr>
        <p:spPr>
          <a:xfrm>
            <a:off x="266688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4"/>
          <p:cNvSpPr/>
          <p:nvPr/>
        </p:nvSpPr>
        <p:spPr>
          <a:xfrm>
            <a:off x="426708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5"/>
          <p:cNvSpPr/>
          <p:nvPr/>
        </p:nvSpPr>
        <p:spPr>
          <a:xfrm>
            <a:off x="5867280" y="2967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26"/>
          <p:cNvSpPr/>
          <p:nvPr/>
        </p:nvSpPr>
        <p:spPr>
          <a:xfrm>
            <a:off x="2133720" y="1371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27"/>
          <p:cNvSpPr/>
          <p:nvPr/>
        </p:nvSpPr>
        <p:spPr>
          <a:xfrm>
            <a:off x="2286000" y="4424400"/>
            <a:ext cx="114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28"/>
          <p:cNvSpPr/>
          <p:nvPr/>
        </p:nvSpPr>
        <p:spPr>
          <a:xfrm>
            <a:off x="3886200" y="4424400"/>
            <a:ext cx="114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29"/>
          <p:cNvSpPr/>
          <p:nvPr/>
        </p:nvSpPr>
        <p:spPr>
          <a:xfrm>
            <a:off x="5486400" y="4419720"/>
            <a:ext cx="114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0"/>
          <p:cNvSpPr/>
          <p:nvPr/>
        </p:nvSpPr>
        <p:spPr>
          <a:xfrm>
            <a:off x="11430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Curved Connector 11"/>
          <p:cNvCxnSpPr>
            <a:stCxn id="281" idx="3"/>
            <a:endCxn id="278" idx="0"/>
          </p:cNvCxnSpPr>
          <p:nvPr/>
        </p:nvCxnSpPr>
        <p:spPr>
          <a:xfrm>
            <a:off x="1905120" y="3963600"/>
            <a:ext cx="953280" cy="461160"/>
          </a:xfrm>
          <a:prstGeom prst="curved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83" name="Curved Connector 11"/>
          <p:cNvCxnSpPr>
            <a:stCxn id="281" idx="3"/>
            <a:endCxn id="279" idx="0"/>
          </p:cNvCxnSpPr>
          <p:nvPr/>
        </p:nvCxnSpPr>
        <p:spPr>
          <a:xfrm>
            <a:off x="1904760" y="3963600"/>
            <a:ext cx="2553120" cy="461160"/>
          </a:xfrm>
          <a:prstGeom prst="curved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84" name="Curved Connector 11"/>
          <p:cNvCxnSpPr>
            <a:endCxn id="280" idx="0"/>
          </p:cNvCxnSpPr>
          <p:nvPr/>
        </p:nvCxnSpPr>
        <p:spPr>
          <a:xfrm>
            <a:off x="1980720" y="3962520"/>
            <a:ext cx="4077720" cy="457920"/>
          </a:xfrm>
          <a:prstGeom prst="curved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85" name="Straight Arrow Connector 34"/>
          <p:cNvCxnSpPr>
            <a:stCxn id="278" idx="2"/>
          </p:cNvCxnSpPr>
          <p:nvPr/>
        </p:nvCxnSpPr>
        <p:spPr>
          <a:xfrm>
            <a:off x="2857320" y="4886280"/>
            <a:ext cx="38520" cy="2955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86" name="Straight Arrow Connector 35"/>
          <p:cNvCxnSpPr>
            <a:stCxn id="279" idx="2"/>
          </p:cNvCxnSpPr>
          <p:nvPr/>
        </p:nvCxnSpPr>
        <p:spPr>
          <a:xfrm>
            <a:off x="4457520" y="4886280"/>
            <a:ext cx="38520" cy="2955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87" name="Straight Arrow Connector 36"/>
          <p:cNvCxnSpPr/>
          <p:nvPr/>
        </p:nvCxnSpPr>
        <p:spPr>
          <a:xfrm>
            <a:off x="6057720" y="4876920"/>
            <a:ext cx="38520" cy="2955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288" name="TextBox 37"/>
          <p:cNvSpPr/>
          <p:nvPr/>
        </p:nvSpPr>
        <p:spPr>
          <a:xfrm>
            <a:off x="266688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38"/>
          <p:cNvSpPr/>
          <p:nvPr/>
        </p:nvSpPr>
        <p:spPr>
          <a:xfrm>
            <a:off x="426708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39"/>
          <p:cNvSpPr/>
          <p:nvPr/>
        </p:nvSpPr>
        <p:spPr>
          <a:xfrm>
            <a:off x="5867280" y="5176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40"/>
          <p:cNvSpPr/>
          <p:nvPr/>
        </p:nvSpPr>
        <p:spPr>
          <a:xfrm>
            <a:off x="2133720" y="3581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ipher-block Chaining (CBC) M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7"/>
          <p:cNvSpPr/>
          <p:nvPr/>
        </p:nvSpPr>
        <p:spPr>
          <a:xfrm>
            <a:off x="2286000" y="2214720"/>
            <a:ext cx="114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3886200" y="2214720"/>
            <a:ext cx="114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5486400" y="2209680"/>
            <a:ext cx="114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10"/>
          <p:cNvSpPr/>
          <p:nvPr/>
        </p:nvSpPr>
        <p:spPr>
          <a:xfrm>
            <a:off x="1143000" y="1523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Curved Connector 11"/>
          <p:cNvCxnSpPr>
            <a:stCxn id="297" idx="3"/>
            <a:endCxn id="294" idx="0"/>
          </p:cNvCxnSpPr>
          <p:nvPr/>
        </p:nvCxnSpPr>
        <p:spPr>
          <a:xfrm>
            <a:off x="1905120" y="1753920"/>
            <a:ext cx="953280" cy="461160"/>
          </a:xfrm>
          <a:prstGeom prst="curved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299" name="Curved Connector 11"/>
          <p:cNvCxnSpPr>
            <a:stCxn id="297" idx="3"/>
            <a:endCxn id="295" idx="0"/>
          </p:cNvCxnSpPr>
          <p:nvPr/>
        </p:nvCxnSpPr>
        <p:spPr>
          <a:xfrm>
            <a:off x="1904760" y="1753920"/>
            <a:ext cx="2553120" cy="461160"/>
          </a:xfrm>
          <a:prstGeom prst="curved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00" name="Curved Connector 11"/>
          <p:cNvCxnSpPr>
            <a:endCxn id="296" idx="0"/>
          </p:cNvCxnSpPr>
          <p:nvPr/>
        </p:nvCxnSpPr>
        <p:spPr>
          <a:xfrm>
            <a:off x="1980720" y="1752480"/>
            <a:ext cx="4077720" cy="457920"/>
          </a:xfrm>
          <a:prstGeom prst="curved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01" name="Straight Arrow Connector 14"/>
          <p:cNvCxnSpPr>
            <a:stCxn id="294" idx="2"/>
          </p:cNvCxnSpPr>
          <p:nvPr/>
        </p:nvCxnSpPr>
        <p:spPr>
          <a:xfrm>
            <a:off x="2857320" y="2676600"/>
            <a:ext cx="38520" cy="2955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02" name="Straight Arrow Connector 15"/>
          <p:cNvCxnSpPr>
            <a:stCxn id="295" idx="2"/>
          </p:cNvCxnSpPr>
          <p:nvPr/>
        </p:nvCxnSpPr>
        <p:spPr>
          <a:xfrm>
            <a:off x="4457520" y="2676600"/>
            <a:ext cx="38520" cy="2955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03" name="Straight Arrow Connector 16"/>
          <p:cNvCxnSpPr/>
          <p:nvPr/>
        </p:nvCxnSpPr>
        <p:spPr>
          <a:xfrm>
            <a:off x="6057720" y="2666520"/>
            <a:ext cx="38520" cy="2962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304" name="TextBox 17"/>
          <p:cNvSpPr/>
          <p:nvPr/>
        </p:nvSpPr>
        <p:spPr>
          <a:xfrm>
            <a:off x="266688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18"/>
          <p:cNvSpPr/>
          <p:nvPr/>
        </p:nvSpPr>
        <p:spPr>
          <a:xfrm>
            <a:off x="426708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19"/>
          <p:cNvSpPr/>
          <p:nvPr/>
        </p:nvSpPr>
        <p:spPr>
          <a:xfrm>
            <a:off x="5867280" y="2967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20"/>
          <p:cNvSpPr/>
          <p:nvPr/>
        </p:nvSpPr>
        <p:spPr>
          <a:xfrm>
            <a:off x="2133720" y="1371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2743200" y="2362320"/>
            <a:ext cx="152280" cy="152280"/>
          </a:xfrm>
          <a:prstGeom prst="flowChartOr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4343400" y="2362320"/>
            <a:ext cx="152280" cy="152280"/>
          </a:xfrm>
          <a:prstGeom prst="flowChartOr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943600" y="2362320"/>
            <a:ext cx="152280" cy="152280"/>
          </a:xfrm>
          <a:prstGeom prst="flowChartOr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63"/>
          <p:cNvSpPr/>
          <p:nvPr/>
        </p:nvSpPr>
        <p:spPr>
          <a:xfrm>
            <a:off x="2286000" y="4424400"/>
            <a:ext cx="114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64"/>
          <p:cNvSpPr/>
          <p:nvPr/>
        </p:nvSpPr>
        <p:spPr>
          <a:xfrm>
            <a:off x="3886200" y="4424400"/>
            <a:ext cx="114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65"/>
          <p:cNvSpPr/>
          <p:nvPr/>
        </p:nvSpPr>
        <p:spPr>
          <a:xfrm>
            <a:off x="5486400" y="4419720"/>
            <a:ext cx="114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66"/>
          <p:cNvSpPr/>
          <p:nvPr/>
        </p:nvSpPr>
        <p:spPr>
          <a:xfrm>
            <a:off x="11430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Curved Connector 11"/>
          <p:cNvCxnSpPr>
            <a:stCxn id="314" idx="3"/>
            <a:endCxn id="311" idx="0"/>
          </p:cNvCxnSpPr>
          <p:nvPr/>
        </p:nvCxnSpPr>
        <p:spPr>
          <a:xfrm>
            <a:off x="1905120" y="3963600"/>
            <a:ext cx="953280" cy="461160"/>
          </a:xfrm>
          <a:prstGeom prst="curved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16" name="Curved Connector 11"/>
          <p:cNvCxnSpPr>
            <a:stCxn id="314" idx="3"/>
            <a:endCxn id="312" idx="0"/>
          </p:cNvCxnSpPr>
          <p:nvPr/>
        </p:nvCxnSpPr>
        <p:spPr>
          <a:xfrm>
            <a:off x="1904760" y="3963600"/>
            <a:ext cx="2553120" cy="461160"/>
          </a:xfrm>
          <a:prstGeom prst="curved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17" name="Curved Connector 11"/>
          <p:cNvCxnSpPr>
            <a:endCxn id="313" idx="0"/>
          </p:cNvCxnSpPr>
          <p:nvPr/>
        </p:nvCxnSpPr>
        <p:spPr>
          <a:xfrm>
            <a:off x="1980720" y="3962520"/>
            <a:ext cx="4077720" cy="457920"/>
          </a:xfrm>
          <a:prstGeom prst="curvedConnector2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18" name="Straight Arrow Connector 70"/>
          <p:cNvCxnSpPr>
            <a:stCxn id="311" idx="2"/>
          </p:cNvCxnSpPr>
          <p:nvPr/>
        </p:nvCxnSpPr>
        <p:spPr>
          <a:xfrm>
            <a:off x="2857320" y="4886280"/>
            <a:ext cx="38520" cy="2955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19" name="Straight Arrow Connector 71"/>
          <p:cNvCxnSpPr>
            <a:stCxn id="312" idx="2"/>
          </p:cNvCxnSpPr>
          <p:nvPr/>
        </p:nvCxnSpPr>
        <p:spPr>
          <a:xfrm>
            <a:off x="4457520" y="4886280"/>
            <a:ext cx="38520" cy="2955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20" name="Straight Arrow Connector 72"/>
          <p:cNvCxnSpPr/>
          <p:nvPr/>
        </p:nvCxnSpPr>
        <p:spPr>
          <a:xfrm>
            <a:off x="6057720" y="4876920"/>
            <a:ext cx="38520" cy="2955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321" name="TextBox 73"/>
          <p:cNvSpPr/>
          <p:nvPr/>
        </p:nvSpPr>
        <p:spPr>
          <a:xfrm>
            <a:off x="2286000" y="51814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74"/>
          <p:cNvSpPr/>
          <p:nvPr/>
        </p:nvSpPr>
        <p:spPr>
          <a:xfrm>
            <a:off x="3962520" y="5181480"/>
            <a:ext cx="121896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75"/>
          <p:cNvSpPr/>
          <p:nvPr/>
        </p:nvSpPr>
        <p:spPr>
          <a:xfrm>
            <a:off x="5562720" y="5176800"/>
            <a:ext cx="121896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76"/>
          <p:cNvSpPr/>
          <p:nvPr/>
        </p:nvSpPr>
        <p:spPr>
          <a:xfrm>
            <a:off x="2133720" y="3581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2819520" y="5334120"/>
            <a:ext cx="152280" cy="152280"/>
          </a:xfrm>
          <a:prstGeom prst="flowChartOr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7"/>
          <p:cNvSpPr/>
          <p:nvPr/>
        </p:nvSpPr>
        <p:spPr>
          <a:xfrm>
            <a:off x="4419720" y="5334120"/>
            <a:ext cx="152280" cy="152280"/>
          </a:xfrm>
          <a:prstGeom prst="flowChartOr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6019920" y="5334120"/>
            <a:ext cx="152280" cy="152280"/>
          </a:xfrm>
          <a:prstGeom prst="flowChartOr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Straight Arrow Connector 80"/>
          <p:cNvCxnSpPr/>
          <p:nvPr/>
        </p:nvCxnSpPr>
        <p:spPr>
          <a:xfrm>
            <a:off x="2933640" y="5648040"/>
            <a:ext cx="38880" cy="524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29" name="Straight Arrow Connector 81"/>
          <p:cNvCxnSpPr/>
          <p:nvPr/>
        </p:nvCxnSpPr>
        <p:spPr>
          <a:xfrm>
            <a:off x="4533840" y="5648040"/>
            <a:ext cx="38880" cy="524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330" name="Straight Arrow Connector 82"/>
          <p:cNvCxnSpPr/>
          <p:nvPr/>
        </p:nvCxnSpPr>
        <p:spPr>
          <a:xfrm>
            <a:off x="6134040" y="5648040"/>
            <a:ext cx="38880" cy="524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331" name="TextBox 83"/>
          <p:cNvSpPr/>
          <p:nvPr/>
        </p:nvSpPr>
        <p:spPr>
          <a:xfrm>
            <a:off x="2743200" y="6091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84"/>
          <p:cNvSpPr/>
          <p:nvPr/>
        </p:nvSpPr>
        <p:spPr>
          <a:xfrm>
            <a:off x="4343400" y="6091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85"/>
          <p:cNvSpPr/>
          <p:nvPr/>
        </p:nvSpPr>
        <p:spPr>
          <a:xfrm>
            <a:off x="5943600" y="608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971800" y="5791320"/>
            <a:ext cx="152280" cy="152280"/>
          </a:xfrm>
          <a:prstGeom prst="flowChartOr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4572000" y="5791320"/>
            <a:ext cx="152280" cy="152280"/>
          </a:xfrm>
          <a:prstGeom prst="flowChartOr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6172200" y="5791320"/>
            <a:ext cx="152280" cy="152280"/>
          </a:xfrm>
          <a:prstGeom prst="flowChartOr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92"/>
          <p:cNvSpPr/>
          <p:nvPr/>
        </p:nvSpPr>
        <p:spPr>
          <a:xfrm>
            <a:off x="30481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93"/>
          <p:cNvSpPr/>
          <p:nvPr/>
        </p:nvSpPr>
        <p:spPr>
          <a:xfrm>
            <a:off x="4724280" y="5638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Box 94"/>
          <p:cNvSpPr/>
          <p:nvPr/>
        </p:nvSpPr>
        <p:spPr>
          <a:xfrm>
            <a:off x="624852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9837-8EEF-4E81-9EF6-6DF4101ED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685800" y="4572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B vs C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mode would you choo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ne is semantically sec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5" descr="Image:Tux.jpg"/>
          <p:cNvPicPr/>
          <p:nvPr/>
        </p:nvPicPr>
        <p:blipFill>
          <a:blip r:embed="rId1"/>
          <a:stretch/>
        </p:blipFill>
        <p:spPr>
          <a:xfrm>
            <a:off x="685800" y="2514600"/>
            <a:ext cx="1866960" cy="2057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Image:Tux_ecb.jpg"/>
          <p:cNvPicPr/>
          <p:nvPr/>
        </p:nvPicPr>
        <p:blipFill>
          <a:blip r:embed="rId2"/>
          <a:stretch/>
        </p:blipFill>
        <p:spPr>
          <a:xfrm>
            <a:off x="3486240" y="2400480"/>
            <a:ext cx="1866960" cy="2057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Image:Tux_secure.jpg"/>
          <p:cNvPicPr/>
          <p:nvPr/>
        </p:nvPicPr>
        <p:blipFill>
          <a:blip r:embed="rId3"/>
          <a:stretch/>
        </p:blipFill>
        <p:spPr>
          <a:xfrm>
            <a:off x="6591240" y="2400480"/>
            <a:ext cx="1866960" cy="20574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1"/>
          <p:cNvSpPr/>
          <p:nvPr/>
        </p:nvSpPr>
        <p:spPr>
          <a:xfrm>
            <a:off x="3352680" y="45720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ed with EC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6324480" y="45720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ed with C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B110-8E04-4D57-9760-2F6567A8D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s-On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S Encryption and De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Lab.doc and follow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9F37-8235-4D59-A3F0-9DEB33244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:Javax.crypto.Cip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lass provides the functionality of a cryptographic cipher for encryption and de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Instance(String algorithm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s a Cipher object that implements the specified algorith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(int opmode, Key key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ipher is initialized with a key for either encryption or decry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Final(byte[] inpu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or decrypts data depending on how this cipher was initializ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1066680" y="58672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422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rther detail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java.sun.com/j2se/1.4.2/docs/api/javax/crypto/Cipher.htm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java.sun.com/j2se/1.5.0/docs/api/javax/crypto/Cipher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838080" y="5791320"/>
            <a:ext cx="71629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208B-168D-4D19-8463-39A9132A4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AES Encryp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llowing sample encrypts a file “clear.txt”and save the output as a file named “encryptedfil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 Create a cipher object with algorithm “AE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ipher cipher = Cipher.getInstance("AES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t the Cipher object to ENCRYPT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Initialise it with the encryption key “mykey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Previous example demostrated how to retrieve this key from a keys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ipher.init(Cipher.ENCRYPT_MODE, my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Create an input stream to read the f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le clr=new File(“clear.txt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leInputStream fi = new FileInputStream(cl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Get the size of the f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ng length = clr.length();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..cont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1B34-327B-4B69-A6F9-B8DD12FA4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 Ciphers vs Stream Cip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 and A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block, perform multiple rounds of confusion and diffusion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nam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by bi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7FBD-7513-4AB8-918A-730AF6CEA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AES Encryption cont’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Create a byte array with the size of the f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yte[] plaintext = new byte[(int) length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Read data into the byt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.read(plaintex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Close f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 Now encrypt the text and store it in the byte array 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yte[] ciphertext = cipher.doFinal(plaintex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Write encrypted text into the output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le enc=new File(“encryptedfil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leOutputStream fo = new FileOutputStream(en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o.write(ciphertex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o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C064-D3C0-4469-9D33-444B77C5B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AES Decryp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llowing sample decrypts a file “encryptedfile”and save the output as a file named “decryptedfil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 Create a cipher object with algorithm “A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ipher cipher = Cipher.getInstance("AES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t the Cipher object to DECRYPT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Initialise it with the decryption key “mykey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Previous example demostrated how to retrieve this key from a keys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ipher.init(Cipher.DECRYPT_MODE, my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Create an input stream to read the f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le enc=new File(“encryptedfile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leInputStream fi = new FileInputStream(en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Get the size of the f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ng length = enc.length();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..cont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81AF-25D4-48F4-8AA2-8C50E9CC4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AES Decryption cont’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Create a byte array with the size of the f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yte[] ciphertext = new byte[(int) length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Read data into the byt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.read(ciphertex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Close f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 Now decrypt the text and store it in the byte array 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yte[] plaintext = cipher.doFinal(ciphertex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//Write encrypted text into the output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le dec=new File(“decryptedfil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ileOutputStream fo = new FileOutputStream(de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o.write(plaintexttex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o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FA6D-4C75-4D7B-B111-61A85B5B1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of the following is stream 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     2) AES    3) Vern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effective key size for 4-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2 bits    2) 113 bits   3) 16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key size from 56 bits to 128 bits, how many times more effort an attacker needs to spend in brute force attac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     2) 2^72    3) 2^1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D6DD-B8EF-46B8-B1BD-934199992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vidual Assignment 1 (5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in week 4 (please submit hardcopy during week 4 cl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book 1.11 Exercises 3, 12, 15 (pages 32-33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ition, pages 34-36 in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book 2.13 Exercises 1, 13, 17, 19 (pages 91-93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ition, pages 94-97 in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16EC-1BB9-411E-B24B-BB1AA5643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2-1974 NBS call for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’s D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orst Feistel’s Lucifer cip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6 US Federal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 design is optim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any change to DES weaken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26, 2002, DES was superseded by A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te force attack can easily break 56-bit DES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8 3D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id till 20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ly used in banking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7079-60F3-4264-A540-91E8462C5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aes act 1 scene 05 ju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85920"/>
            <a:ext cx="7848720" cy="5608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2590920" y="597204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eff Moser: http://www.moserware.com/2009/09/stick-figure-guide-to-advanced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EAF8-F17F-494E-8870-8BB8B7023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aes act 1 scene 06 nbs decre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85920"/>
            <a:ext cx="79246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2268-FD34-4E89-ADDD-6E7583E46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aes act 1 scene 07 lucif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85920"/>
            <a:ext cx="7924680" cy="57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© Yingjiu Li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83BD-B8E6-4D9A-9CAA-B1D00C30D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aes act 1 scene 08 anoint 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26880"/>
            <a:ext cx="792504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 Yingjiu</cp:lastModifiedBy>
  <dcterms:modified xsi:type="dcterms:W3CDTF">2012-01-26T06:04:27Z</dcterms:modified>
  <cp:revision>336</cp:revision>
  <dc:subject/>
  <dc:title>PowerPoint Presentation</dc:title>
</cp:coreProperties>
</file>