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F2A-5658-42F9-A41C-1AF780BC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61D-DB60-4641-98A7-4FC56E96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5BC-50E2-433E-89BD-2B642944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D0F-3CAB-45E8-A546-911B8CFE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103A-F4CC-4E9D-8522-FF78EF3A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807A-C907-4730-AFCD-3DEA0B7F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0D0C-F532-4AF4-B9FD-27322DB0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82E3-2E48-4582-A07F-4591F0F2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6392-87B2-4EBF-982E-26BFD814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EB28-84DE-4A21-8C56-2064B78A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1AC8-7471-4BC8-A6B9-F87DE45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259-AE49-4CA8-BF86-BE92C9AA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DF0-8426-4ADC-819D-4D327F7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4FD1-EED5-4A49-9990-9626DDC1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4F1-EE06-4AF3-93D3-6AFC7AA4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4DB2-A1A6-4BCE-A5B4-8B4974E0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A533-1E7A-451E-8DFE-2BBE599D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953-CF44-43CE-8B49-461B2EBC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EA2-B19F-4EBE-903F-93E09386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15F-3F40-4695-A168-F07A07A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8F8-C8DC-4709-BEB3-301215C9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22F-89A0-4B29-B2F5-0F83B28C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74B-5D0E-488C-A2C2-0D03E09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EBB-8007-41EE-A6CC-97BCF04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52280"/>
            <a:ext cx="8458200" cy="304920"/>
          </a:xfrm>
          <a:prstGeom prst="rect">
            <a:avLst/>
          </a:prstGeom>
          <a:solidFill>
            <a:srgbClr val="d8d8ec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9F3B-A71E-4800-AAF7-08E785556B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91840" y="160200"/>
            <a:ext cx="469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330066"/>
                </a:solidFill>
                <a:latin typeface="Arial"/>
                <a:cs typeface="Lotus"/>
              </a:rPr>
              <a:t>فصل 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  <a:ea typeface="Lotus"/>
              </a:rPr>
              <a:t>10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  <a:ea typeface="Lotus"/>
              </a:rPr>
              <a:t> : نقطه بازرسی و بازیافت عقب گ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7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يراي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52760" y="83664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ي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486400" y="83664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</a:t>
              </a:r>
              <a:r>
                <a:rPr b="1" lang="fa-IR" sz="1400" spc="-1" strike="noStrike">
                  <a:solidFill>
                    <a:srgbClr val="330066"/>
                  </a:solidFill>
                  <a:latin typeface="Times New Roman"/>
                  <a:cs typeface="Nazanin"/>
                </a:rPr>
                <a:t>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52760" y="53352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ي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86400" y="53352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8640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3EF2-4503-429F-B847-BD8BCA7794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63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يراي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2760" y="83664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ي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83664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52760" y="53352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ي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53352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00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248520" y="1447920"/>
            <a:ext cx="16002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7720" y="3428640"/>
            <a:ext cx="541044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Lotus"/>
              </a:rPr>
              <a:t>نقطه بازرسی و بازیافت عقب گ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744640"/>
            <a:ext cx="502920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66"/>
                </a:solidFill>
                <a:latin typeface="Arial"/>
                <a:cs typeface="Lotus"/>
              </a:rPr>
              <a:t>درس ده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95880" y="2438280"/>
            <a:ext cx="2286000" cy="533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48520" y="3352680"/>
            <a:ext cx="2133360" cy="45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30481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77120" y="2209680"/>
            <a:ext cx="1337760" cy="2189160"/>
            <a:chOff x="6477120" y="2209680"/>
            <a:chExt cx="1337760" cy="2189160"/>
          </a:xfrm>
        </p:grpSpPr>
        <p:sp>
          <p:nvSpPr>
            <p:cNvPr id="123" name=""/>
            <p:cNvSpPr/>
            <p:nvPr/>
          </p:nvSpPr>
          <p:spPr>
            <a:xfrm>
              <a:off x="647712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116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4520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116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520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9240" y="249408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116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520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2924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3640" y="277812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7120" y="306072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6116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520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9240" y="30607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520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2924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3640" y="334476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36291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6116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520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9240" y="362916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116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520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2924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116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924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40080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48720" y="1676520"/>
            <a:ext cx="60948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188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DF56-8BE7-4159-BB29-C4E873098C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6858000" cy="7268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79000"/>
          </a:bodyPr>
          <a:p>
            <a:pPr lvl="1" marL="54684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اگر زمان اجرای برنام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otus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otus"/>
              </a:rPr>
              <a:t>)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Lotus"/>
              </a:rPr>
              <a:t> زیاد باشد و (یا) نرخ خرابی زیاد باشد، سربار ناشی از بروز خرابی بسیار زیاد خواهد بود. راه حل چیست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26319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775280" y="1600200"/>
            <a:ext cx="45396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772400" y="286056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34920" y="2565360"/>
            <a:ext cx="6858000" cy="11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راه حل: در هر بار بروز خرابی نیاز به اجرای از ابتدای برنامه ن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11A-4A9B-4E64-9CAC-08BF8200D5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81680" y="16002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67080" y="1858680"/>
            <a:ext cx="236232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330066"/>
                </a:solidFill>
                <a:latin typeface="Arial"/>
              </a:rPr>
              <a:t> مقدمه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67057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هدف از اين درس، آموزش مفاهیم نقطه بازرسی و بازیافت عقب گرد می 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0408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129440" y="1752480"/>
            <a:ext cx="642600" cy="838440"/>
            <a:chOff x="7129440" y="1752480"/>
            <a:chExt cx="642600" cy="838440"/>
          </a:xfrm>
        </p:grpSpPr>
        <p:sp>
          <p:nvSpPr>
            <p:cNvPr id="162" name=""/>
            <p:cNvSpPr/>
            <p:nvPr/>
          </p:nvSpPr>
          <p:spPr>
            <a:xfrm>
              <a:off x="712944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6552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0196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2944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6552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0196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38400" y="186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2944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6552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0196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3840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74840" y="196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9440" y="207864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6552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0196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38400" y="207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2944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6552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0196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3840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74840" y="218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29440" y="22960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6552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0196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38400" y="229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2944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6552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0196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3840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6552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3840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V="1">
            <a:off x="7848720" y="1828800"/>
            <a:ext cx="457200" cy="380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629400" y="1371240"/>
            <a:ext cx="1600200" cy="609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772400" y="3123720"/>
            <a:ext cx="380880" cy="381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28195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2C6-2B2E-4B33-A755-3CDCA91287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0" y="1371600"/>
            <a:ext cx="1066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4120" y="1676160"/>
            <a:ext cx="13716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a-IR" sz="1800" spc="-1" strike="noStrike">
                <a:solidFill>
                  <a:srgbClr val="330066"/>
                </a:solidFill>
                <a:latin typeface="Arial"/>
              </a:rPr>
              <a:t>10-1</a:t>
            </a:r>
            <a:r>
              <a:rPr b="1" lang="fa-IR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330066"/>
                </a:solidFill>
                <a:latin typeface="Arial"/>
              </a:rPr>
              <a:t>مقدمه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2960640"/>
            <a:ext cx="7086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72000"/>
          </a:bodyPr>
          <a:p>
            <a:pPr lvl="1" marL="498240" indent="0" algn="just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Lotus"/>
              </a:rPr>
              <a:t>کاربردهای فراوانی هستند که اجرای آنها زمان زیادی را نیاز دارد.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Lotus"/>
              </a:rPr>
              <a:t>ب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Lotus"/>
              </a:rPr>
              <a:t>ه مثالهای زیر توجه کنید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Lot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147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053120" y="1554120"/>
            <a:ext cx="642600" cy="838080"/>
            <a:chOff x="7053120" y="1554120"/>
            <a:chExt cx="642600" cy="838080"/>
          </a:xfrm>
        </p:grpSpPr>
        <p:sp>
          <p:nvSpPr>
            <p:cNvPr id="204" name=""/>
            <p:cNvSpPr/>
            <p:nvPr/>
          </p:nvSpPr>
          <p:spPr>
            <a:xfrm>
              <a:off x="7053120" y="15541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9200" y="15541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25640" y="15541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53120" y="166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9200" y="166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5640" y="166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62080" y="16624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53120" y="177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9200" y="177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25640" y="177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2080" y="177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98520" y="17712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53120" y="187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89200" y="187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25640" y="187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62080" y="187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53120" y="198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9200" y="198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25640" y="198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2080" y="198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8520" y="198864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53120" y="209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89200" y="209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25640" y="209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62080" y="209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53120" y="220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9200" y="220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5640" y="220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62080" y="220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9200" y="231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62080" y="231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924680" y="1904760"/>
            <a:ext cx="30492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705720" y="1294920"/>
            <a:ext cx="1523880" cy="685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2438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68580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lvl="1" marL="519120" indent="-260640" algn="just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کامپیوترها هر روز سریعتر می شوند، اما کاربردها نیز پیچیده تر می شو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29600" y="31240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924320" y="2743200"/>
            <a:ext cx="304920" cy="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7924320" y="3352680"/>
            <a:ext cx="304920" cy="76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429000"/>
            <a:ext cx="7086600" cy="16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664560" indent="-333720" algn="just" rtl="1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بروز رسانی پایگاه داده بزر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 algn="just" rtl="1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شبیه سازی های علمی برای مدلسازی تغییرات آب و هو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 algn="just" rtl="1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بهینه سازی مسایل صنعت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 algn="just" rtl="1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مدلسازی و شبیه سازی کائنات و ستاره شناس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 algn="just" rtl="1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مطالعات بیوشیمی و بررسی پروتئین 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29600" y="3809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924320" y="4114800"/>
            <a:ext cx="38124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913160" y="5218200"/>
            <a:ext cx="304920" cy="2570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5157720"/>
            <a:ext cx="7086600" cy="658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574560" indent="-288360" algn="just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وقتی زمان اجرای برنامه بسیار زیاد شود، احتمال خرابی در هنگام اجرا و همچنین هزینه این خرابی ها بسیار قابل ملاحظه خواهد بو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18440" y="49417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C77-FB0D-459C-8F6A-4C8F9294FE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69228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هزینه خرابی در اجرای برنام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2920" y="3352680"/>
            <a:ext cx="436680" cy="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72360" y="30402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916280"/>
            <a:ext cx="685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574560" indent="-28836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می خواهیم هزینه بروز خرابی در هنگام اجرای یک برنامه را بررسی کن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2349360"/>
            <a:ext cx="6858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664560" indent="-33372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فرض کنی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2781360"/>
            <a:ext cx="6858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 marL="581400" indent="-2919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- برنامه برای اجرا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ساعت نیاز 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29600" y="1125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42120" y="3681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775280" y="1447920"/>
            <a:ext cx="453960" cy="217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775280" y="1743120"/>
            <a:ext cx="987840" cy="533520"/>
            <a:chOff x="7775280" y="1743120"/>
            <a:chExt cx="987840" cy="533520"/>
          </a:xfrm>
        </p:grpSpPr>
        <p:sp>
          <p:nvSpPr>
            <p:cNvPr id="260" name=""/>
            <p:cNvSpPr/>
            <p:nvPr/>
          </p:nvSpPr>
          <p:spPr>
            <a:xfrm>
              <a:off x="8229600" y="1743120"/>
              <a:ext cx="533520" cy="5335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a-I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775280" y="2060640"/>
              <a:ext cx="453960" cy="0"/>
            </a:xfrm>
            <a:prstGeom prst="line">
              <a:avLst/>
            </a:prstGeom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 flipV="1">
            <a:off x="7772400" y="3733920"/>
            <a:ext cx="380880" cy="2347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4365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772400" y="4343040"/>
            <a:ext cx="380880" cy="237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4149720"/>
            <a:ext cx="685800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lvl="1" marL="567360" indent="-285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مطلوب است بدست آوردن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ot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1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otus"/>
              </a:rPr>
              <a:t>E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: میانگین کل زمان اجرای برنامه (از لحظه شروع تا اتمام برنامه با لحاظ کردن زمانهای از سرگیری مجدد اجرای برنامه به خاطر خرابی گذرا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53280" y="51274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7772400" y="5181120"/>
            <a:ext cx="457200" cy="227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3141720"/>
            <a:ext cx="6858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574560" indent="-2883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- سیستم با نرخ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خرابی در ساعت دچار خرابی گذرا می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34920" y="3500280"/>
            <a:ext cx="6858000" cy="6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43680" indent="-3232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- خرابی لحظه ای است اما بر اثر آن تمام کارهای انجام شده تا آن زمان از دست خواهد رفت (مث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otus"/>
              </a:rPr>
              <a:t>Restart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شدن کامپیوتر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7640" y="5192640"/>
            <a:ext cx="685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539640" indent="-271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تذکر: اگر در حین اجرای برنامه خرابی گذرا اتفاق افتد، تمام محاسبات انجام شده از بین خواهد رفت و به عبارت دیگر برنامه باید باز از ابتدا اجرا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775280" y="2211480"/>
            <a:ext cx="987840" cy="533160"/>
            <a:chOff x="7775280" y="2211480"/>
            <a:chExt cx="987840" cy="533160"/>
          </a:xfrm>
        </p:grpSpPr>
        <p:sp>
          <p:nvSpPr>
            <p:cNvPr id="272" name=""/>
            <p:cNvSpPr/>
            <p:nvPr/>
          </p:nvSpPr>
          <p:spPr>
            <a:xfrm>
              <a:off x="8229600" y="2211480"/>
              <a:ext cx="533520" cy="5331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a-I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775280" y="2528640"/>
              <a:ext cx="453960" cy="0"/>
            </a:xfrm>
            <a:prstGeom prst="line">
              <a:avLst/>
            </a:prstGeom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760880" y="2571840"/>
            <a:ext cx="987840" cy="533160"/>
            <a:chOff x="7760880" y="2571840"/>
            <a:chExt cx="987840" cy="533160"/>
          </a:xfrm>
        </p:grpSpPr>
        <p:sp>
          <p:nvSpPr>
            <p:cNvPr id="275" name=""/>
            <p:cNvSpPr/>
            <p:nvPr/>
          </p:nvSpPr>
          <p:spPr>
            <a:xfrm>
              <a:off x="8215200" y="2571840"/>
              <a:ext cx="533520" cy="5331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a-I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760880" y="2889000"/>
              <a:ext cx="453960" cy="0"/>
            </a:xfrm>
            <a:prstGeom prst="line">
              <a:avLst/>
            </a:prstGeom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8CF-DD66-4A45-88A9-84FC51CE0D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69228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در هنگام اجرای برنامه دو حالت می تواند اتفاق افت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873080"/>
            <a:ext cx="6858000" cy="3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حالت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: هیچ خرابی در هنگام اجرای برنامه اتفاق نیافت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2276640"/>
            <a:ext cx="685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02280" indent="-30240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حالت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: در هنگام اجرای برنامه خرابی اتفاق افتد و در نتیجه اجرا مجددا از ابتدای برنامه از س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2960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775280" y="1600200"/>
            <a:ext cx="45396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7775280" y="2060640"/>
            <a:ext cx="453960" cy="3016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29600" y="2781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7772400" y="2590560"/>
            <a:ext cx="457200" cy="507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2CF-A74D-4803-9E8B-7848AE6071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69228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بررسی حالت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772400" y="217440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168640"/>
            <a:ext cx="685800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560520" indent="-2815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سوال: اگر هیچ خرابی در زمان اجرای برنامه اتفاق نیافتد، کل زمان اجرای برنامه چقدر است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2960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53280" y="26319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775280" y="1600200"/>
            <a:ext cx="45396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772400" y="286056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53280" y="32418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792560" y="3470400"/>
            <a:ext cx="360360" cy="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153280" y="45086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772400" y="4753080"/>
            <a:ext cx="380880" cy="152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34920" y="2779560"/>
            <a:ext cx="685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671400" indent="-3373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جواب: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ساع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34920" y="3213000"/>
            <a:ext cx="6858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512280" indent="-2570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سوال: احتمال اینکه هیچ خرابی در زمان اجرای برنامه اتفاق نیافتد، چیست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34920" y="3645000"/>
            <a:ext cx="6858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جواب: این زمان معادل قابلیت اطمینان سیستم در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ساعت است که برابر است با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34920" y="4402080"/>
            <a:ext cx="6858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پس هزینه اجرای برنامه در حالت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برابر خواهد بود با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84360" y="3860640"/>
                <a:ext cx="695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δ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295280" y="4579920"/>
                <a:ext cx="1389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δ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5280" y="3832200"/>
            <a:ext cx="987840" cy="533520"/>
            <a:chOff x="7775280" y="3832200"/>
            <a:chExt cx="987840" cy="533520"/>
          </a:xfrm>
        </p:grpSpPr>
        <p:sp>
          <p:nvSpPr>
            <p:cNvPr id="311" name=""/>
            <p:cNvSpPr/>
            <p:nvPr/>
          </p:nvSpPr>
          <p:spPr>
            <a:xfrm>
              <a:off x="8229600" y="3832200"/>
              <a:ext cx="533520" cy="5335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a-I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75280" y="4149720"/>
              <a:ext cx="453960" cy="0"/>
            </a:xfrm>
            <a:prstGeom prst="line">
              <a:avLst/>
            </a:prstGeom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262-5475-4CE9-B362-38EA90ABCA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lvl="1" marL="657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بررسی حالت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Lotus"/>
              </a:rPr>
              <a:t>2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Lotu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772400" y="217440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952640"/>
            <a:ext cx="685800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560520" indent="-28152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سوال: احتمال اینکه یک خرابی درست در زمان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ساعت پس از اجرای برنامه اتفاق افتد، چیست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2960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153280" y="26319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775280" y="1600200"/>
            <a:ext cx="45396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772400" y="286056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34920" y="2565360"/>
            <a:ext cx="685800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جواب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749600" y="4029120"/>
                <a:ext cx="555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τ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1224000" y="3033720"/>
            <a:ext cx="367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4000" y="29606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2000" y="29606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11640" y="29606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2016000" y="2385360"/>
            <a:ext cx="323640" cy="1835280"/>
          </a:xfrm>
          <a:custGeom>
            <a:avLst/>
            <a:gdLst>
              <a:gd name="textAreaLeft" fmla="*/ 207000 w 323640"/>
              <a:gd name="textAreaRight" fmla="*/ 324000 w 323640"/>
              <a:gd name="textAreaTop" fmla="*/ 47520 h 1835280"/>
              <a:gd name="textAreaBottom" fmla="*/ 1787760 h 18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2649600"/>
            <a:ext cx="577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marL="692280" indent="-3477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otu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25840" y="2649600"/>
            <a:ext cx="577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marL="692280" indent="-34776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360" y="2649600"/>
            <a:ext cx="973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marL="692280" indent="-34776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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50920" y="3500280"/>
            <a:ext cx="2341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 rtl="1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Lotus"/>
              </a:rPr>
              <a:t>احتمال اینکه تا زمان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Lotus"/>
              </a:rPr>
              <a:t> خطایی رخ نده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92360" y="3500280"/>
            <a:ext cx="2268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 rtl="1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Lotus"/>
              </a:rPr>
              <a:t>احتمال اینکه در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Lotus"/>
              </a:rPr>
              <a:t> یک خرابی رخ ده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3238200" y="3465000"/>
            <a:ext cx="97308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077280" y="3230640"/>
            <a:ext cx="323640" cy="144720"/>
          </a:xfrm>
          <a:custGeom>
            <a:avLst/>
            <a:gdLst>
              <a:gd name="textAreaLeft" fmla="*/ 207000 w 323640"/>
              <a:gd name="textAreaRight" fmla="*/ 324000 w 323640"/>
              <a:gd name="textAreaTop" fmla="*/ 3600 h 144720"/>
              <a:gd name="textAreaBottom" fmla="*/ 141120 h 1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95640" y="3632040"/>
            <a:ext cx="792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 rtl="1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cc0000"/>
                </a:solidFill>
                <a:latin typeface="Arial"/>
                <a:cs typeface="Lotus"/>
              </a:rPr>
              <a:t>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044960" y="4127400"/>
                <a:ext cx="5857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076720" y="2781360"/>
                <a:ext cx="2568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τ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τ</m:t>
                        </m:r>
                      </m:sup>
                    </m:sSup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698-0610-410D-82FE-374F793F28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lvl="1" marL="657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با در نظر گرفتن هر دو حالت داری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772400" y="217440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1905120"/>
            <a:ext cx="685800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2960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153280" y="26319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775280" y="1600200"/>
            <a:ext cx="45396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772400" y="286056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34920" y="2565360"/>
            <a:ext cx="6858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رابطه فوق را حل می کنی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34920" y="5265720"/>
            <a:ext cx="6858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اگر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Lotus"/>
              </a:rPr>
              <a:t>E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باشد (یعنی هیچ وقت خرابی در خلال اجرای برنامه اتفاق نیافتد)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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است و هر چه احتمال خرابی بیشتر باشد،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Lotus"/>
              </a:rPr>
              <a:t>E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بزرگتر از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می شود و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بزرگتر خواهد 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17640" y="4294080"/>
            <a:ext cx="6858000" cy="8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معیار زیر را به عنوان معیاری برای سربار ناشی از خرابی تعریف می کنی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258920" y="1844640"/>
                <a:ext cx="57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δ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δ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λ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λ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δ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λδ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006560" y="2600280"/>
                <a:ext cx="2449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λδ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λδ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008000" y="3182760"/>
                <a:ext cx="29894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λδ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λδ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δ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λδ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960800" y="3413160"/>
                <a:ext cx="1087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λδ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263600" y="4581360"/>
                <a:ext cx="93204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8229600" y="43005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7775280" y="4529160"/>
            <a:ext cx="45396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251920" y="54165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797600" y="5645160"/>
            <a:ext cx="45396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645-39A5-402A-8A02-1530B4DA59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6858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lvl="1" marL="657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Lotus"/>
              </a:rPr>
              <a:t>معیار سربار به صورت زیر بدست می آید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772400" y="217440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1905120"/>
            <a:ext cx="685800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2960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153280" y="26319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7775280" y="1600200"/>
            <a:ext cx="45396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772400" y="2860560"/>
            <a:ext cx="380880" cy="1526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34920" y="2565360"/>
            <a:ext cx="6858000" cy="11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15960" indent="-30924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رابطه فوق نشان می دهد سربار به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بستگی دارد که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میانگین تعداد خرابی در زمان اجرای عادی برنامه است. نمودار زیر تاثیر سربار نسبت به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را نشان می دهد. همانطور که مشخص است سربار به صورت نمایی با افزایش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رشد می ک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17640" y="3968640"/>
            <a:ext cx="6858000" cy="16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	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Lotus"/>
              </a:rPr>
              <a:t>شکل سربار اجرای برنامه نسبت به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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Lotus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94000" y="1854360"/>
                <a:ext cx="1714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λδ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/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λδ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29600" y="43005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775280" y="4529160"/>
            <a:ext cx="45396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556000" y="4340160"/>
            <a:ext cx="3744720" cy="247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FAD-9225-41AD-8885-5B22CF6294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4:37:50Z</dcterms:created>
  <dc:creator>mm</dc:creator>
  <dc:description/>
  <dc:language>en-US</dc:language>
  <cp:lastModifiedBy>Mehdi Dehghan</cp:lastModifiedBy>
  <dcterms:modified xsi:type="dcterms:W3CDTF">2006-05-18T11:10:47Z</dcterms:modified>
  <cp:revision>789</cp:revision>
  <dc:subject/>
  <dc:title>درس دو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