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458-D0D5-439A-993E-CB6F45BB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6E1-3674-4CA2-96C3-20937206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658-0B86-4C39-B3CA-0C65734A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F55-B325-4482-9E28-2742B7B9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5F4C-007B-4799-B9FD-723C61B4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AF20-C9A0-4216-B902-7CF84146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D50-4DEE-472B-9707-5E4CF1FC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4875-AAE6-4F10-8A8B-D6E57919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B5F-B722-480B-8928-2936BB4C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8881-EF74-45CB-9A2A-1D07C2CA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D1F7-C11B-426A-A7F0-EB1B77A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F0C-F5C1-4FCB-AF00-B8506119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7CC5-1BC3-4A11-BC60-8EA3195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49D4-9FAA-405C-92F2-E7B03AC1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A6B9-B09C-43B0-8075-D0F8EB27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B60A-8322-404C-A26F-D14AE4DA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8C40-99B3-4E44-941D-45A9AF59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A23-4236-48C1-AC40-B4E52029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511-E610-4060-B749-86344A81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0F3-37D6-43DF-9C03-B8A569C1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9DA-1124-4CE9-A978-4A74809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81C-92E2-44A1-9345-EC0FBD76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4F4-08B1-4DC6-AB3E-AB97201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0C4-1191-4727-8E0D-1D1C33AA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52280"/>
            <a:ext cx="8458200" cy="304920"/>
          </a:xfrm>
          <a:prstGeom prst="rect">
            <a:avLst/>
          </a:prstGeom>
          <a:solidFill>
            <a:srgbClr val="d8d8ec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5BF4-0CC3-44AF-BEBA-452CDA23CD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71840" y="160200"/>
            <a:ext cx="189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فصل </a:t>
            </a:r>
            <a:r>
              <a:rPr b="1" lang="ar-SA" sz="16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 : افزونگ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7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52760" y="83664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486400" y="83664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</a:t>
              </a:r>
              <a:r>
                <a:rPr b="1" lang="fa-IR" sz="1400" spc="-1" strike="noStrike">
                  <a:solidFill>
                    <a:srgbClr val="330066"/>
                  </a:solidFill>
                  <a:latin typeface="Times New Roman"/>
                  <a:cs typeface="Nazanin"/>
                </a:rPr>
                <a:t>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52760" y="53352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86400" y="53352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8640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712-A1B6-4512-BE05-2741DB663F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63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2760" y="83664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83664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52760" y="53352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53352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00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248520" y="1447920"/>
            <a:ext cx="16002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7720" y="3428640"/>
            <a:ext cx="541044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افزونگ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 انواع آ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744640"/>
            <a:ext cx="502920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66"/>
                </a:solidFill>
                <a:latin typeface="Arial"/>
              </a:rPr>
              <a:t>درس سو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95880" y="2438280"/>
            <a:ext cx="2286000" cy="533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48520" y="3352680"/>
            <a:ext cx="2133360" cy="45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30481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77120" y="2209680"/>
            <a:ext cx="1337760" cy="2189160"/>
            <a:chOff x="6477120" y="2209680"/>
            <a:chExt cx="1337760" cy="2189160"/>
          </a:xfrm>
        </p:grpSpPr>
        <p:sp>
          <p:nvSpPr>
            <p:cNvPr id="123" name=""/>
            <p:cNvSpPr/>
            <p:nvPr/>
          </p:nvSpPr>
          <p:spPr>
            <a:xfrm>
              <a:off x="647712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116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4520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116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520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9240" y="249408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116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520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2924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3640" y="277812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7120" y="306072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6116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520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9240" y="30607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520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2924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3640" y="334476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36291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6116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520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9240" y="362916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116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520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2924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116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924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40080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48720" y="1676520"/>
            <a:ext cx="60948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188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ED79-FE59-4F70-A996-BBEAEB1504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3-2-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افزونگی سخت افزاری غیرفعال (ایست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00000" y="2600280"/>
            <a:ext cx="6858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گذارید با یك مثال این روش را توضیح ده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3084480"/>
            <a:ext cx="68580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رض كنید در یك سیستم به جای آنكه یك پردازنده داش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یم، سه پردازنده بگذاریم كه همه آنها یك كار را انجام می دهن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3860640"/>
            <a:ext cx="685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نتیجه این سه پردازنده را به یك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ای دهند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ده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ای دهند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تیجه هر سه را ن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 می كند و راى اكثریت را به عنوان خروجى تولید می ك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4976640"/>
            <a:ext cx="6858000" cy="7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 نتیج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یكی از این سه پردازنده خراب شده باشد، نتیجه آن در خروجى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یست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اثیری نمی گذار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775640" y="2828880"/>
            <a:ext cx="509400" cy="60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09080" y="2600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751880" y="3441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209080" y="3213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751880" y="416196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09080" y="39337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751880" y="52048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209080" y="49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764-15E1-4D62-B4F5-D7319826EF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00000" y="2600280"/>
            <a:ext cx="6858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واقع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وش غیرفعال (ایستا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دلی است كه در آن تمامی ماژول ها از ابتدا استفاده می شود و در حین كا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 یا بروز خراب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یچ نوع تغییری در تركیب بندی آنها ایجاد نمی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0000" y="3753000"/>
            <a:ext cx="6858000" cy="11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روش جلوى خراب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یستم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صورت بیدرن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گرفته م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 زیرا نیاز به پیکربندی مجدد پس از بروز خرابی (که موجب تاخیر در کارکرد سیستم می شود) ند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6F7-C644-4140-A0C2-E2AA89AA7B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00000" y="2708280"/>
            <a:ext cx="6858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طور كل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فزونگی غیرفعال گونه ها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زیادی ندار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00000" y="3192480"/>
            <a:ext cx="6858000" cy="27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صلی تری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ونه این افزونگ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Modular Redundancy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در آن از یك 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ا کپ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یکس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جود دارد 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ه همه پردازش یکسانی را روی ورودی سیستم انجام می دهند و نتای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آنها به یك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ای دهنده اکثری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ر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گ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حداق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ا از آنها در حال كا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س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ش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 رای دهند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تیجه درست را تولید خواهد كرد.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معمول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براب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/2+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نتخاب می شود، اما برای بالا بردن درجه اعتماد به خروجی رای دهنده می توان مقدا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ا بیشتر نیز در نظر گرف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775640" y="2895120"/>
            <a:ext cx="530280" cy="101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751880" y="3765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D77-0AA7-4380-9E30-15E3889DA0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00000" y="2708280"/>
            <a:ext cx="685800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ی از حالت های خا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بسیار زیاد استفاده می 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 Modular Redundancy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0000" y="3516480"/>
            <a:ext cx="6858000" cy="8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حالت بای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حداق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اژول از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اژول موجود در حال كا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درست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ش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تا سیستم درست کار کن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00000" y="4654440"/>
            <a:ext cx="6858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ال بالا كه در آن سه پردازنده وجود 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ت ی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72360" y="2673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15160" y="290196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09080" y="33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751880" y="35496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09080" y="455148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775640" y="4809960"/>
            <a:ext cx="396720" cy="24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9DF-9EEF-407C-9DB4-E52EF6CB7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900000" y="1808280"/>
            <a:ext cx="68547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 راحتی می توان قابلیت اطمینان یک سیست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ا محاسبه کرد. اگر قابلیت اطمینان هر ماژول ر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فرض کنیم، یک سیست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R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زمانی درست کار می کند که یا هر سه ماژول درست کار کنند و یا فقط یکی از ماژولها نادرست کار کند و دو ماژول دیگر درست کار کن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حتمال حالت اول برابر است با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RxR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حتمال حالت دوم برابر است با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RxRx(1-R)=3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R)</a:t>
            </a:r>
            <a:r>
              <a:rPr b="0" lang="fa-I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ابلیت اطمینان سیستم جمع احتمال دو حالت فوق اس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M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R)=3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172360" y="2852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715160" y="308124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0E5-A42B-4887-83AD-7C6BCBF6EA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3-2-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فزونگی سخت افزار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ی فعال (پوی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740720" y="1600200"/>
            <a:ext cx="48888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00000" y="2816280"/>
            <a:ext cx="685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روش غیر از 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صلی كه در حال كا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عدادی ماژول هم وجود دارند كه اصطلاحا به آنه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شتیب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گفت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00000" y="3933720"/>
            <a:ext cx="685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ماژول ها نقش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ید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بازی می كن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03240" y="4400640"/>
            <a:ext cx="685800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 اگر یكی از ماژول های اصلی خراب شود، یك 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شتیبا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جای آن را می گی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3240" y="5192640"/>
            <a:ext cx="685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ژول ه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شتیب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حالت عاد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عاری از خرابی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كار سیستم تاثیری ندار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44000" y="2997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754400" y="3225960"/>
            <a:ext cx="48924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44000" y="3789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7754400" y="4017960"/>
            <a:ext cx="48924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44000" y="44737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754400" y="4702320"/>
            <a:ext cx="48924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09080" y="5192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719480" y="5421240"/>
            <a:ext cx="48924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08D-1C85-4B76-A65E-230CB2EE86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2779560"/>
            <a:ext cx="6858000" cy="7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 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شتیب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تواند به یكی از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س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الت زیر وجود داش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606840"/>
            <a:ext cx="6858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.داغ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در این حالت ماژول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پشتیب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بطور دائمی در حال كار است (همیشه روشن است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00000" y="4329000"/>
            <a:ext cx="68580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.گرم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در این حالت ماژول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پشتیبا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ر از چند گاهی اطلاعات خود را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از طریق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اژول اصل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برو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ی كن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00000" y="5048280"/>
            <a:ext cx="6858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.سرد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در این حالت ماژول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پشتیبان (در حالت عاری از خرابی سیستم)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مواره خاموش است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زمانى كه نیاز باشد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(بروز خرابی در ماژول اصلی)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وشن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می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شو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09080" y="288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719480" y="3117960"/>
            <a:ext cx="489240" cy="172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1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719480" y="3836880"/>
            <a:ext cx="48924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209080" y="4329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7719480" y="4557600"/>
            <a:ext cx="48924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09080" y="49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719480" y="5205240"/>
            <a:ext cx="48924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BA2-9297-458A-B98D-DBFF39F585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00000" y="2600280"/>
            <a:ext cx="685800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عمولا در روش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فعا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لی شامل یك قسمت اضافی به نا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شف کننده اشتبا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D.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rror Detector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كه تشخیص میدهد آیا ماژول اصلی خراب شده است یا نه و در صورتی ك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خرابی را تشخیص دهد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كی از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شتیبان 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جانشین آن خواهد ش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00000" y="4363920"/>
            <a:ext cx="6858000" cy="14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قسم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جود نداشته باشد. معمولا خروجی دو تا از ماژول ها با هم مقایسه می شود و ا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نتایج آنه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تفاوت باشد، یا ی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شتیب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جایگزین یكی از آنها می شود یا اینكه هر دو از مدار خارج می شوند و یك پیا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Diagn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آنها وارد می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09080" y="31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754760" y="3405240"/>
            <a:ext cx="454320" cy="208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09080" y="4724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754760" y="4952880"/>
            <a:ext cx="454320" cy="208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C44-D7EF-4F56-A264-034A676154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00000" y="2995560"/>
            <a:ext cx="6858000" cy="7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 ببینیم چگونه می توان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در این سیستم محاسبه ك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44000" y="30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754400" y="3297240"/>
            <a:ext cx="48924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762-5507-48F2-AE10-F34C10229A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00000" y="2887560"/>
            <a:ext cx="6858000" cy="7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ال : یك سیستم را در نظر بگیرید كه شامل یك ماژول اصل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یك 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شتیبا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 ن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ر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‌با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00000" y="3681360"/>
            <a:ext cx="6858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ژول اصلی داراى سیست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شف اشتباه (پوشش اشتباه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‌باشد كه در صورت بروز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خراب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اژول اصلی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آن را تشخیص داده و ماژو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شتیبا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فعال می كن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00000" y="4795920"/>
            <a:ext cx="685800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احتمال وجود دارد ك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وشش اشتبا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درستى عمل نك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حتمال تشخیص درست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 پوشش اشتبا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ب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شان می ده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44000" y="292428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718400" y="3152880"/>
            <a:ext cx="52560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280360" y="3897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754760" y="4125960"/>
            <a:ext cx="52560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244000" y="486900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718400" y="5097600"/>
            <a:ext cx="52560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E1D-6960-42F8-9B30-BB8A297BA6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81680" y="16002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67080" y="1858680"/>
            <a:ext cx="236232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a-IR" sz="2300" spc="-1" strike="noStrike">
                <a:solidFill>
                  <a:srgbClr val="330066"/>
                </a:solidFill>
                <a:latin typeface="Arial"/>
                <a:ea typeface="Arial"/>
              </a:rPr>
              <a:t>3-1</a:t>
            </a:r>
            <a:r>
              <a:rPr b="1" lang="fa-IR" sz="2300" spc="-1" strike="noStrike">
                <a:solidFill>
                  <a:srgbClr val="330066"/>
                </a:solidFill>
                <a:latin typeface="Arial"/>
              </a:rPr>
              <a:t>مقدمه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0408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129440" y="1752480"/>
            <a:ext cx="642600" cy="838440"/>
            <a:chOff x="7129440" y="1752480"/>
            <a:chExt cx="642600" cy="838440"/>
          </a:xfrm>
        </p:grpSpPr>
        <p:sp>
          <p:nvSpPr>
            <p:cNvPr id="161" name=""/>
            <p:cNvSpPr/>
            <p:nvPr/>
          </p:nvSpPr>
          <p:spPr>
            <a:xfrm>
              <a:off x="712944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6552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0196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944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6552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0196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38400" y="186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944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6552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196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3840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4840" y="196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29440" y="207864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6552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196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38400" y="207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2944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6552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0196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840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74840" y="218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29440" y="22960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6552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0196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8400" y="229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944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6552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196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3840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6552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840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7848720" y="1828800"/>
            <a:ext cx="457200" cy="380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629400" y="1371240"/>
            <a:ext cx="1600200" cy="609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772400" y="3123720"/>
            <a:ext cx="380880" cy="381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53280" y="28195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105000"/>
            <a:ext cx="685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فزونگ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ی از مهمتری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بزاره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تحمل پذی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خط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یستمه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‌باش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79640" y="4041720"/>
            <a:ext cx="6858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فزونگ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اضافه كردن چند ماژول به جای یك ماژول و استفاده كردن از همه آنها سعی می كند احتمال درست كاركردن سیستم را بالا ببر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935840" y="4202280"/>
            <a:ext cx="381240" cy="380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3897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BDC-2CC4-470B-8B1C-BFBFEEAD2F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844640"/>
            <a:ext cx="6858000" cy="24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 دو حالت سیستم درست کار خواهد کرد. یا ماجول اصلی درست کار کند و یا اگر ماجول اصلی خراب شود، پوشش اشتباه به درستی انجام شود و ماژول پشتیبان هم درست باش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نابرای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سیستم برابر است با احتمال درست كاركردن ماژول اصل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اضاف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ست كاركردن ماژو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شتیبان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ه شرطی كه ماژول 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ل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خراب شده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-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تشخیص هم داده شده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00000" y="4400640"/>
            <a:ext cx="68580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نتیج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ابطه قابلیت اطمینان برابر است ب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00000" y="494172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1-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C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244000" y="3176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7754400" y="3405240"/>
            <a:ext cx="48924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209080" y="42577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719480" y="4486320"/>
            <a:ext cx="48924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44000" y="490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754400" y="5133960"/>
            <a:ext cx="48924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8B5-911C-4495-9285-7673313143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00000" y="2779560"/>
            <a:ext cx="6858000" cy="7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 آنجایی كه معمولا ماژول اصلی 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شتیب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سان هستن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آنها هم یكسان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00000" y="3606840"/>
            <a:ext cx="685800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پس دار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00000" y="4076640"/>
            <a:ext cx="685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 + C(1-R)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209080" y="2816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754760" y="3044880"/>
            <a:ext cx="45432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209080" y="3573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7754760" y="3801960"/>
            <a:ext cx="45432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72360" y="4292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7740360" y="4329000"/>
            <a:ext cx="431640" cy="192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475-AA63-4E5E-99B0-B608622C4A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00000" y="2779560"/>
            <a:ext cx="6858000" cy="7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وشش اشتباه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ابر یک می شود 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ار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3606840"/>
            <a:ext cx="685800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 + (1-R)R = 1 - (1-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44000" y="288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754400" y="3117960"/>
            <a:ext cx="48924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20908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719480" y="3765600"/>
            <a:ext cx="489240" cy="136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BDB-F05B-4C84-8D59-A11D663602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00000" y="2779560"/>
            <a:ext cx="6858000" cy="7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ابط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ب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میتوان به سیستمی كه شامل یك 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صل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ژ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شتیب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یز بس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ط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ا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00000" y="3606840"/>
            <a:ext cx="685800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- (1-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00000" y="4113360"/>
            <a:ext cx="685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حت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ابط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لا را بررسی كنی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244000" y="292428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754400" y="3152880"/>
            <a:ext cx="489240" cy="100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4400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7754400" y="3765600"/>
            <a:ext cx="489240" cy="100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44000" y="41497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754400" y="4378320"/>
            <a:ext cx="489240" cy="100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9E3-0865-4FCD-BBF1-5C4235A3FE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00000" y="2779560"/>
            <a:ext cx="685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حالت قبل (یعنی وقتی كه سیست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ژول داش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ورتیکه پوشش اشتباه را هم در نظر بگیریم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ابطه قابلیت اطمینان سیست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صورت زیر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3560"/>
            <a:ext cx="685800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 + C(1-R)R 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51640" y="4618080"/>
            <a:ext cx="210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نتیجه دار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00000" y="4508640"/>
            <a:ext cx="4680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baseline="68000">
                <a:solidFill>
                  <a:srgbClr val="000000"/>
                </a:solidFill>
                <a:latin typeface="Arial"/>
              </a:rPr>
              <a:t>K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44000" y="2960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7754400" y="3189240"/>
            <a:ext cx="489240" cy="208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209080" y="3789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719480" y="4017960"/>
            <a:ext cx="489240" cy="208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44000" y="4400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7754400" y="4629240"/>
            <a:ext cx="489240" cy="2077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8720" y="59500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5616720" y="5516280"/>
            <a:ext cx="792000" cy="6620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01B-8FE0-4C88-9684-C428961FB2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3-2-3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فزونگی سخت افزار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ی ترکیب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7704000" y="1600200"/>
            <a:ext cx="52560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00000" y="2779560"/>
            <a:ext cx="6858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وش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ترکیب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واقع تركیبى از دو روش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ب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0000" y="3249720"/>
            <a:ext cx="685800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روش هم از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فزونگی غیرفعا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هم از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فزونگی فعا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فاده می ش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4076640"/>
            <a:ext cx="6858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روش كامل تر از دو روش قبلى است و تحلیل آن پیچیده تر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244000" y="2781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718400" y="3009960"/>
            <a:ext cx="525600" cy="172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244000" y="35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7718400" y="3765600"/>
            <a:ext cx="52560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44000" y="4292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718400" y="4521240"/>
            <a:ext cx="52560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0AC-2540-4C40-8EC8-428B1807B5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900000" y="2276640"/>
            <a:ext cx="6858000" cy="79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روش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ركیبى ا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ستفاده از پشتیب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خواهیم 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3176640"/>
            <a:ext cx="68580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این شكل ك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ا از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اژول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 به ی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ای دهند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روند، و اگر نتیجه یكی از آنها خطا داش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شتیب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جایگزین آ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اژو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راب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290840"/>
            <a:ext cx="6858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حاسب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قابلیت اطمین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یستم ه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ترکیب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نسبت پیچیده است و با روشهای معمول به سادگی انجام نمی پذیر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00000" y="5048280"/>
            <a:ext cx="6858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ترین روش برای این كار استفاده از مدل ماركف است. مدل ماركف در فصل هفت توضیح داده خواهد ش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09080" y="2060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7754760" y="2289240"/>
            <a:ext cx="454320" cy="172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209080" y="3500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7754760" y="3728880"/>
            <a:ext cx="45432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209080" y="4437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7754760" y="4665600"/>
            <a:ext cx="454320" cy="173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209080" y="5121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7754760" y="5349960"/>
            <a:ext cx="454320" cy="172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B4E-0282-4F9C-913A-6D590ACDB4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0" y="1371600"/>
            <a:ext cx="1066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4120" y="1676160"/>
            <a:ext cx="13716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330066"/>
                </a:solidFill>
                <a:latin typeface="Arial"/>
              </a:rPr>
              <a:t>مقدمه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7086600" cy="669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اگر یكی از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ز كار بی افتد سیستم می تواند به طور خود ك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پردازند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وم را جایگزین ك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147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053120" y="1554120"/>
            <a:ext cx="642600" cy="838080"/>
            <a:chOff x="7053120" y="1554120"/>
            <a:chExt cx="642600" cy="838080"/>
          </a:xfrm>
        </p:grpSpPr>
        <p:sp>
          <p:nvSpPr>
            <p:cNvPr id="207" name=""/>
            <p:cNvSpPr/>
            <p:nvPr/>
          </p:nvSpPr>
          <p:spPr>
            <a:xfrm>
              <a:off x="7053120" y="15541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9200" y="15541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5640" y="15541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53120" y="166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89200" y="166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25640" y="166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62080" y="16624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53120" y="177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89200" y="177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25640" y="177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62080" y="177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8520" y="17712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3120" y="187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89200" y="187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5640" y="187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080" y="187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3120" y="198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89200" y="198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25640" y="198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62080" y="198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98520" y="198864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53120" y="209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89200" y="209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25640" y="209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62080" y="209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53120" y="220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9200" y="220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25640" y="220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62080" y="220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89200" y="231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2080" y="231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924680" y="1904760"/>
            <a:ext cx="30492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05720" y="1294920"/>
            <a:ext cx="1523880" cy="685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44000" y="28479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49240" y="2657520"/>
            <a:ext cx="707076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لا فرض كنید كه یك سیستم به جای آنكه یك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ردازند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اشته باشد، شامل د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پردازند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ش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44000" y="35337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938720" y="3152880"/>
            <a:ext cx="304920" cy="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938720" y="3762360"/>
            <a:ext cx="304920" cy="76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1320" y="4083120"/>
            <a:ext cx="708660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مكن است این سوال پیش بیاید كه چگونه سیستم می تواند این كار را انجام 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44000" y="42195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934400" y="4414680"/>
            <a:ext cx="396720" cy="108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4761000"/>
            <a:ext cx="70866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لی ما در اینجا تنها می خواهیم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بار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تد ها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فزونگ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انواع آن صحبت كنیم و نحوه پیاده سازی آن مثلا در یك سیستم سخت افزاری خارج از بحث این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فص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‌باش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44000" y="490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939080" y="5210280"/>
            <a:ext cx="38088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C67-9341-4B6B-9002-66557607A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نواع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 افزونگ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759800" y="2722680"/>
            <a:ext cx="565200" cy="64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48680" y="24940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2097000"/>
            <a:ext cx="685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طور كلی چهار ن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فزونگ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جود دار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681280"/>
            <a:ext cx="68580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685080" indent="-344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 افزونگی سخت افزار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3141720"/>
            <a:ext cx="685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 افزونگی نرم افزار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48680" y="18842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72360" y="31798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791480" y="2189160"/>
            <a:ext cx="457200" cy="76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759800" y="3255840"/>
            <a:ext cx="41256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3622680"/>
            <a:ext cx="6858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 افزونگی اطلاعات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72360" y="3789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7740360" y="3897000"/>
            <a:ext cx="43164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4098960"/>
            <a:ext cx="685800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 افزونگی زمان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7640" y="4705200"/>
            <a:ext cx="6858000" cy="9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 algn="just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ما در اینجا بطور مختصر هر كدام را توضیح می دهیم و بحث كامل تر را به بعد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واگذار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می كنیم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72360" y="43671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7759800" y="4443120"/>
            <a:ext cx="41256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72360" y="4976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7740360" y="5084280"/>
            <a:ext cx="43164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61A-59B5-452E-92FF-F3CE4E3D94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فزونگی سخت افزار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Redund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96760" y="2276640"/>
            <a:ext cx="6858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نوع از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فزونگ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اضافه كردن سخت افزارهای جدید سعی می كنیم كه جلوى از كار افتادن سیستم را بگیر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03240" y="3429000"/>
            <a:ext cx="685800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سخت افزارهای اضافه شده همانند یك دیگر هستند و هیچ عملیات اضافه ترى را انجام نمی ده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4235400"/>
            <a:ext cx="685800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افزونگی سخت افزار روش های مختلفی وجود دارد كه جلوتر دربا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آن صحبت خواهیم كر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51880" y="369360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09080" y="346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751880" y="44128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09080" y="4184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24E-B4F3-4CBF-A47D-724C8D30AA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7772400" y="28951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فزونگی نرم افز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Redund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96760" y="2276640"/>
            <a:ext cx="6858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588240" indent="-2955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گونه افزونگ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چند کپی از یك نرم افزار یا چندین نرم افزار كه همگی یك كار را انجام می دهند در كنار هم قرار خواهند گرفت. تا سیستم از نتیجه كل آنه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ستفاده ک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92080" y="3429000"/>
            <a:ext cx="6858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09120" indent="-306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كار بیشتر باهدف جلوگیرى از خطاهای طراحی انجام می گیرد. مثلا یك نرم افزار توسط سه تیم مختلف نوش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شود و نتیجه آنها باهم مقایسه می 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715160" y="38365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3608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AEB-74B4-4BBC-941F-0C21307A0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751880" y="26125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09080" y="2384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فزونگ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طلاع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Redund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96760" y="2276640"/>
            <a:ext cx="6858000" cy="8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نوع افزونگی معمولا در سیستمهای ذخیره ساز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یا انتق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طلاعات به كار می ر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3240" y="3141720"/>
            <a:ext cx="685800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705600" indent="-2714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ه در آن چندین کپی از یك اطلاعات نگهداری می شو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 ک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 صورت بروز مشكل برای یكی از آنه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کپی های دیگری هم از آن وجود داشت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ش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0000" y="4235400"/>
            <a:ext cx="6858000" cy="11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صلی ترین موضوع مورد بحث دراین با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 کدگذار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كه در فص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ورد بررسی قرار خواهد گرف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751880" y="35128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09080" y="3284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751880" y="4449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09080" y="42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4DD-0BD4-4DB9-B356-566576CB01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0000" y="1521000"/>
            <a:ext cx="68580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فزونگ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زم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dund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96760" y="2276640"/>
            <a:ext cx="6858000" cy="8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افزونگی زمانى به كار می رود كه خطاهای گذر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سیستم زیاد پیش می آی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3240" y="3141720"/>
            <a:ext cx="6858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705600" indent="-2714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وش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ك عمل چندین 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 در زمان های مختلف تكرار می شود و در نهایت نتیجه دفعات مختلف باهم مقایسه می شوند تا نتیجه نهایی معلوم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4307040"/>
            <a:ext cx="6858000" cy="7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این كار اگر یك خطای 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وی یكی از نتایج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یک اجرا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اثیر بگذار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تیجه كل اشتباه نمی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751880" y="26125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09080" y="2384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751880" y="35128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09080" y="3284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751880" y="4449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9080" y="42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2D1-04A8-47E1-9B36-5BA4857175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7751880" y="2433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09080" y="2205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3-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فزونگی سخت افزار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6760" y="2241720"/>
            <a:ext cx="6858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 marL="581400" indent="-2919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كه با انواع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فزونگ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آشنا شدیم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جازه دهید ت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فزونگی سخت افزا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بطور دقیق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ر بررسی كنیم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8040" y="3284640"/>
            <a:ext cx="686268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ه نوع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افزونگی سخت افزار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جود دارد كه در اینجا آنها را بررسی خواهیم كر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8040" y="4076640"/>
            <a:ext cx="685800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 غیرفعال (ایستا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(Sta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63640" y="4616280"/>
            <a:ext cx="685800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 فعال (پویا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(Dyna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3640" y="5157720"/>
            <a:ext cx="685800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. ترکیب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751880" y="32968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09080" y="30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715160" y="40888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172360" y="3860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715160" y="46652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172360" y="4437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715160" y="524160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72360" y="5013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24A-C006-497B-B478-FCFD98BA04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4:37:50Z</dcterms:created>
  <dc:creator>مهدی دهقان</dc:creator>
  <dc:description/>
  <dc:language>en-US</dc:language>
  <cp:lastModifiedBy>Mehdi Dehghan</cp:lastModifiedBy>
  <dcterms:modified xsi:type="dcterms:W3CDTF">2005-04-29T14:17:14Z</dcterms:modified>
  <cp:revision>850</cp:revision>
  <dc:subject/>
  <dc:title>درس سو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