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E0915-27FA-4F3C-A1B2-97D6B8BA2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42E48-A1C7-4D18-9556-85CC194E9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2015C-8D64-485D-96FE-FD324E3CF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80E44-9E0F-4464-8A2B-776E912CA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5B0B8-AF7E-4128-9DBE-8DF26E6D6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91EBE-A981-4BAC-A6CA-C45CC3B6D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164C0-C56E-4326-9EAB-E22849A53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8C89D-BB41-4FBE-A498-AA5ADD023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8C582-5661-49A8-9D12-9BC163418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C8C06-F671-46CE-9A83-BC240F113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F7D86-67A7-42E1-B1F9-66B0F2783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40356-89EC-4D82-904C-488C65B63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5AAEC-7AA1-4A4C-8E4E-BD3C8F575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FF2F1-2105-409E-B4A3-10CC2AD0A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03EC2-8C2A-49E6-9EBC-9DCAB20D7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90898-115F-4BD1-9F47-EBA0FF35D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03E6B-21E8-4EF1-8DAD-1C7203170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8273B-3626-4BB4-97B2-8A355621D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7EFC3-7E1D-40D5-921C-C260DF899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A1785-3296-4E95-8CFE-7C40E19E6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0253F-3BDC-4A3D-80C7-9B63B966E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6EF60-2EDE-47B2-AF0D-5CB821CCF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979C5-9BBD-41A5-BC6D-0F4EC0CDB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6B6C7-1850-4888-BF13-D9BDCDEB9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57200" y="152280"/>
            <a:ext cx="8458200" cy="304920"/>
          </a:xfrm>
          <a:prstGeom prst="rect">
            <a:avLst/>
          </a:prstGeom>
          <a:solidFill>
            <a:srgbClr val="d8d8ec"/>
          </a:solidFill>
          <a:ln w="9360">
            <a:solidFill>
              <a:srgbClr val="d8d8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C0893-027A-4971-AA88-BBDF4354B0C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016760" y="160200"/>
            <a:ext cx="219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330066"/>
                </a:solidFill>
                <a:latin typeface="Arial"/>
              </a:rPr>
              <a:t>فصل </a:t>
            </a:r>
            <a:r>
              <a:rPr b="1" lang="ar-SA" sz="1600" spc="-1" strike="noStrike">
                <a:solidFill>
                  <a:srgbClr val="330066"/>
                </a:solidFill>
                <a:latin typeface="Arial"/>
              </a:rPr>
              <a:t>3</a:t>
            </a:r>
            <a:r>
              <a:rPr b="1" lang="fa-IR" sz="1600" spc="-1" strike="noStrike">
                <a:solidFill>
                  <a:srgbClr val="330066"/>
                </a:solidFill>
                <a:latin typeface="Arial"/>
              </a:rPr>
              <a:t> : مدل مارک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rcRect l="15408" t="20229" r="7734" b="2609"/>
          <a:stretch/>
        </p:blipFill>
        <p:spPr>
          <a:xfrm>
            <a:off x="657360" y="1219320"/>
            <a:ext cx="7495920" cy="4686120"/>
          </a:xfrm>
          <a:prstGeom prst="rect">
            <a:avLst/>
          </a:prstGeom>
          <a:ln w="0">
            <a:noFill/>
          </a:ln>
        </p:spPr>
      </p:pic>
      <p:grpSp>
        <p:nvGrpSpPr>
          <p:cNvPr id="6" name=""/>
          <p:cNvGrpSpPr/>
          <p:nvPr/>
        </p:nvGrpSpPr>
        <p:grpSpPr>
          <a:xfrm>
            <a:off x="609480" y="533520"/>
            <a:ext cx="7510680" cy="606240"/>
            <a:chOff x="609480" y="533520"/>
            <a:chExt cx="7510680" cy="606240"/>
          </a:xfrm>
        </p:grpSpPr>
        <p:sp>
          <p:nvSpPr>
            <p:cNvPr id="7" name=""/>
            <p:cNvSpPr/>
            <p:nvPr/>
          </p:nvSpPr>
          <p:spPr>
            <a:xfrm>
              <a:off x="609480" y="836640"/>
              <a:ext cx="2843280" cy="30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2000"/>
            </a:bodyPr>
            <a:p>
              <a:pPr algn="just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400" spc="-1" strike="noStrike">
                  <a:solidFill>
                    <a:srgbClr val="000000"/>
                  </a:solidFill>
                  <a:latin typeface="Times New Roman"/>
                  <a:cs typeface="Nazanin"/>
                </a:rPr>
                <a:t>ویرایش : اول</a:t>
              </a:r>
              <a:r>
                <a:rPr b="1" lang="fa-IR" sz="1400" spc="-1" strike="noStrike">
                  <a:solidFill>
                    <a:srgbClr val="000000"/>
                  </a:solidFill>
                  <a:latin typeface="Times New Roman"/>
                  <a:ea typeface="Nazanin"/>
                </a:rPr>
                <a:t>  </a:t>
              </a:r>
              <a:r>
                <a:rPr b="0" lang="en-US" sz="12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</a:t>
              </a:r>
              <a:r>
                <a:rPr b="1" lang="fa-IR" sz="1400" spc="-1" strike="noStrike">
                  <a:solidFill>
                    <a:srgbClr val="000000"/>
                  </a:solidFill>
                  <a:latin typeface="Times New Roman"/>
                  <a:ea typeface="Nazanin"/>
                </a:rPr>
                <a:t>  </a:t>
              </a:r>
              <a:r>
                <a:rPr b="1" lang="ar-SA" sz="1400" spc="-1" strike="noStrike">
                  <a:solidFill>
                    <a:srgbClr val="000000"/>
                  </a:solidFill>
                  <a:latin typeface="Times New Roman"/>
                  <a:cs typeface="Nazanin"/>
                </a:rPr>
                <a:t>دوم</a:t>
              </a:r>
              <a:r>
                <a:rPr b="1" lang="fa-IR" sz="1400" spc="-1" strike="noStrike">
                  <a:solidFill>
                    <a:srgbClr val="000000"/>
                  </a:solidFill>
                  <a:latin typeface="Times New Roman"/>
                  <a:ea typeface="Nazanin"/>
                </a:rPr>
                <a:t>   </a:t>
              </a:r>
              <a:r>
                <a:rPr b="0" lang="en-US" sz="12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</a:t>
              </a:r>
              <a:r>
                <a:rPr b="1" lang="fa-IR" sz="1400" spc="-1" strike="noStrike">
                  <a:solidFill>
                    <a:srgbClr val="000000"/>
                  </a:solidFill>
                  <a:latin typeface="Times New Roman"/>
                  <a:ea typeface="Nazanin"/>
                </a:rPr>
                <a:t>     </a:t>
              </a:r>
              <a:r>
                <a:rPr b="1" lang="ar-SA" sz="1400" spc="-1" strike="noStrike">
                  <a:solidFill>
                    <a:srgbClr val="000000"/>
                  </a:solidFill>
                  <a:latin typeface="Times New Roman"/>
                  <a:cs typeface="Nazanin"/>
                </a:rPr>
                <a:t>سوم </a:t>
              </a:r>
              <a:r>
                <a:rPr b="0" lang="en-US" sz="12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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452760" y="836640"/>
              <a:ext cx="2033640" cy="30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8000"/>
            </a:bodyPr>
            <a:p>
              <a:pPr algn="just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400" spc="-1" strike="noStrike">
                  <a:solidFill>
                    <a:srgbClr val="000000"/>
                  </a:solidFill>
                  <a:latin typeface="Times New Roman"/>
                  <a:cs typeface="Nazanin"/>
                </a:rPr>
                <a:t>پیوند به صفحات :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5486400" y="836640"/>
              <a:ext cx="2633760" cy="30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8000"/>
            </a:bodyPr>
            <a:p>
              <a:pPr algn="just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400" spc="-1" strike="noStrike">
                  <a:solidFill>
                    <a:srgbClr val="000000"/>
                  </a:solidFill>
                  <a:latin typeface="Times New Roman"/>
                  <a:cs typeface="Nazanin"/>
                </a:rPr>
                <a:t>نام مولف</a:t>
              </a:r>
              <a:r>
                <a:rPr b="1" lang="fa-IR" sz="1400" spc="-1" strike="noStrike">
                  <a:solidFill>
                    <a:srgbClr val="000000"/>
                  </a:solidFill>
                  <a:latin typeface="Times New Roman"/>
                  <a:ea typeface="Nazanin"/>
                </a:rPr>
                <a:t>  : </a:t>
              </a:r>
              <a:r>
                <a:rPr b="1" lang="fa-IR" sz="1400" spc="-1" strike="noStrike">
                  <a:solidFill>
                    <a:srgbClr val="330066"/>
                  </a:solidFill>
                  <a:latin typeface="Times New Roman"/>
                  <a:cs typeface="Nazanin"/>
                </a:rPr>
                <a:t>مهدی دهقان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09480" y="533520"/>
              <a:ext cx="2843280" cy="30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8000"/>
            </a:bodyPr>
            <a:p>
              <a:pPr algn="just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400" spc="-1" strike="noStrike">
                  <a:solidFill>
                    <a:srgbClr val="000000"/>
                  </a:solidFill>
                  <a:latin typeface="Times New Roman"/>
                  <a:cs typeface="Nazanin"/>
                </a:rPr>
                <a:t>صفحه ......... از ....... صفحه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452760" y="533520"/>
              <a:ext cx="2033640" cy="30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8000"/>
            </a:bodyPr>
            <a:p>
              <a:pPr algn="just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400" spc="-1" strike="noStrike">
                  <a:solidFill>
                    <a:srgbClr val="000000"/>
                  </a:solidFill>
                  <a:latin typeface="Times New Roman"/>
                  <a:cs typeface="Nazanin"/>
                </a:rPr>
                <a:t>پیوند از صفحات :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486400" y="533520"/>
              <a:ext cx="2633760" cy="30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61000"/>
            </a:bodyPr>
            <a:p>
              <a:pPr algn="just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400" spc="-1" strike="noStrike">
                  <a:solidFill>
                    <a:srgbClr val="000000"/>
                  </a:solidFill>
                  <a:latin typeface="Times New Roman"/>
                  <a:cs typeface="Nazanin"/>
                </a:rPr>
                <a:t>عنوان پروژه :</a:t>
              </a:r>
              <a:r>
                <a:rPr b="1" lang="fa-IR" sz="1400" spc="-1" strike="noStrike">
                  <a:solidFill>
                    <a:srgbClr val="000000"/>
                  </a:solidFill>
                  <a:latin typeface="Times New Roman"/>
                  <a:cs typeface="Nazanin"/>
                </a:rPr>
                <a:t>طراحی سیستمهای مطمئن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609480" y="533520"/>
              <a:ext cx="751068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609480" y="1139760"/>
              <a:ext cx="751068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120160" y="533520"/>
              <a:ext cx="0" cy="60624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480" y="533520"/>
              <a:ext cx="0" cy="60624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09480" y="836640"/>
              <a:ext cx="751068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86400" y="533520"/>
              <a:ext cx="0" cy="60624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452760" y="533520"/>
              <a:ext cx="0" cy="60624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2"/>
          <a:srcRect l="15408" t="20229" r="7734" b="2609"/>
          <a:stretch/>
        </p:blipFill>
        <p:spPr>
          <a:xfrm>
            <a:off x="657360" y="1219320"/>
            <a:ext cx="7495920" cy="468612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75F63-D87E-46BA-8714-DD5C4D1ACA8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609480" y="533520"/>
            <a:ext cx="7510680" cy="606240"/>
            <a:chOff x="609480" y="533520"/>
            <a:chExt cx="7510680" cy="606240"/>
          </a:xfrm>
        </p:grpSpPr>
        <p:sp>
          <p:nvSpPr>
            <p:cNvPr id="63" name=""/>
            <p:cNvSpPr/>
            <p:nvPr/>
          </p:nvSpPr>
          <p:spPr>
            <a:xfrm>
              <a:off x="609480" y="836640"/>
              <a:ext cx="2843280" cy="30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2000"/>
            </a:bodyPr>
            <a:p>
              <a:pPr algn="just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400" spc="-1" strike="noStrike">
                  <a:solidFill>
                    <a:srgbClr val="000000"/>
                  </a:solidFill>
                  <a:latin typeface="Times New Roman"/>
                  <a:cs typeface="Nazanin"/>
                </a:rPr>
                <a:t>ویرایش : اول</a:t>
              </a:r>
              <a:r>
                <a:rPr b="1" lang="fa-IR" sz="1400" spc="-1" strike="noStrike">
                  <a:solidFill>
                    <a:srgbClr val="000000"/>
                  </a:solidFill>
                  <a:latin typeface="Times New Roman"/>
                  <a:ea typeface="Nazanin"/>
                </a:rPr>
                <a:t>  </a:t>
              </a:r>
              <a:r>
                <a:rPr b="0" lang="en-US" sz="12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</a:t>
              </a:r>
              <a:r>
                <a:rPr b="1" lang="fa-IR" sz="1400" spc="-1" strike="noStrike">
                  <a:solidFill>
                    <a:srgbClr val="000000"/>
                  </a:solidFill>
                  <a:latin typeface="Times New Roman"/>
                  <a:ea typeface="Nazanin"/>
                </a:rPr>
                <a:t>  </a:t>
              </a:r>
              <a:r>
                <a:rPr b="1" lang="ar-SA" sz="1400" spc="-1" strike="noStrike">
                  <a:solidFill>
                    <a:srgbClr val="000000"/>
                  </a:solidFill>
                  <a:latin typeface="Times New Roman"/>
                  <a:cs typeface="Nazanin"/>
                </a:rPr>
                <a:t>دوم</a:t>
              </a:r>
              <a:r>
                <a:rPr b="1" lang="fa-IR" sz="1400" spc="-1" strike="noStrike">
                  <a:solidFill>
                    <a:srgbClr val="000000"/>
                  </a:solidFill>
                  <a:latin typeface="Times New Roman"/>
                  <a:ea typeface="Nazanin"/>
                </a:rPr>
                <a:t>   </a:t>
              </a:r>
              <a:r>
                <a:rPr b="0" lang="en-US" sz="12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</a:t>
              </a:r>
              <a:r>
                <a:rPr b="1" lang="fa-IR" sz="1400" spc="-1" strike="noStrike">
                  <a:solidFill>
                    <a:srgbClr val="000000"/>
                  </a:solidFill>
                  <a:latin typeface="Times New Roman"/>
                  <a:ea typeface="Nazanin"/>
                </a:rPr>
                <a:t>     </a:t>
              </a:r>
              <a:r>
                <a:rPr b="1" lang="ar-SA" sz="1400" spc="-1" strike="noStrike">
                  <a:solidFill>
                    <a:srgbClr val="000000"/>
                  </a:solidFill>
                  <a:latin typeface="Times New Roman"/>
                  <a:cs typeface="Nazanin"/>
                </a:rPr>
                <a:t>سوم </a:t>
              </a:r>
              <a:r>
                <a:rPr b="0" lang="en-US" sz="12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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452760" y="836640"/>
              <a:ext cx="1957320" cy="30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8000"/>
            </a:bodyPr>
            <a:p>
              <a:pPr algn="just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400" spc="-1" strike="noStrike">
                  <a:solidFill>
                    <a:srgbClr val="000000"/>
                  </a:solidFill>
                  <a:latin typeface="Times New Roman"/>
                  <a:cs typeface="Nazanin"/>
                </a:rPr>
                <a:t>پیوند به صفحات :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410080" y="836640"/>
              <a:ext cx="2710080" cy="30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8000"/>
            </a:bodyPr>
            <a:p>
              <a:pPr algn="just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400" spc="-1" strike="noStrike">
                  <a:solidFill>
                    <a:srgbClr val="000000"/>
                  </a:solidFill>
                  <a:latin typeface="Times New Roman"/>
                  <a:cs typeface="Nazanin"/>
                </a:rPr>
                <a:t>نام مولف</a:t>
              </a:r>
              <a:r>
                <a:rPr b="1" lang="fa-IR" sz="1400" spc="-1" strike="noStrike">
                  <a:solidFill>
                    <a:srgbClr val="000000"/>
                  </a:solidFill>
                  <a:latin typeface="Times New Roman"/>
                  <a:ea typeface="Nazanin"/>
                </a:rPr>
                <a:t>  : مهدی دهقان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09480" y="533520"/>
              <a:ext cx="2843280" cy="30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8000"/>
            </a:bodyPr>
            <a:p>
              <a:pPr algn="just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400" spc="-1" strike="noStrike">
                  <a:solidFill>
                    <a:srgbClr val="000000"/>
                  </a:solidFill>
                  <a:latin typeface="Times New Roman"/>
                  <a:cs typeface="Nazanin"/>
                </a:rPr>
                <a:t>صفحه ......... از ....... صفحه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452760" y="533520"/>
              <a:ext cx="1957320" cy="30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8000"/>
            </a:bodyPr>
            <a:p>
              <a:pPr algn="just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400" spc="-1" strike="noStrike">
                  <a:solidFill>
                    <a:srgbClr val="000000"/>
                  </a:solidFill>
                  <a:latin typeface="Times New Roman"/>
                  <a:cs typeface="Nazanin"/>
                </a:rPr>
                <a:t>پیوند از صفحات :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410080" y="533520"/>
              <a:ext cx="2710080" cy="30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61000"/>
            </a:bodyPr>
            <a:p>
              <a:pPr algn="just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400" spc="-1" strike="noStrike">
                  <a:solidFill>
                    <a:srgbClr val="000000"/>
                  </a:solidFill>
                  <a:latin typeface="Times New Roman"/>
                  <a:cs typeface="Nazanin"/>
                </a:rPr>
                <a:t>عنوان پروژه :</a:t>
              </a:r>
              <a:r>
                <a:rPr b="1" lang="fa-IR" sz="1400" spc="-1" strike="noStrike">
                  <a:solidFill>
                    <a:srgbClr val="000000"/>
                  </a:solidFill>
                  <a:latin typeface="Times New Roman"/>
                  <a:ea typeface="Nazanin"/>
                </a:rPr>
                <a:t> طراحی سیستمهای مطمئن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09480" y="533520"/>
              <a:ext cx="751068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609480" y="1139760"/>
              <a:ext cx="751068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0160" y="533520"/>
              <a:ext cx="0" cy="60624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609480" y="533520"/>
              <a:ext cx="0" cy="60624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609480" y="836640"/>
              <a:ext cx="751068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410080" y="533520"/>
              <a:ext cx="0" cy="60624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452760" y="533520"/>
              <a:ext cx="0" cy="60624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just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6248520" y="1447920"/>
            <a:ext cx="1600200" cy="380988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837720" y="3428640"/>
            <a:ext cx="5410440" cy="608040"/>
          </a:xfrm>
          <a:prstGeom prst="rect">
            <a:avLst/>
          </a:prstGeom>
          <a:noFill/>
          <a:ln w="9360">
            <a:solidFill>
              <a:srgbClr val="cccc0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ctr" rtl="1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گراف قابلیت اطمینا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liability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3246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066680" y="2744640"/>
            <a:ext cx="5029200" cy="608040"/>
          </a:xfrm>
          <a:prstGeom prst="rect">
            <a:avLst/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330066"/>
                </a:solidFill>
                <a:latin typeface="Arial"/>
              </a:rPr>
              <a:t>درس هشت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95880" y="2438280"/>
            <a:ext cx="2286000" cy="53352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8381880" y="2057400"/>
            <a:ext cx="533520" cy="5335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80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6248520" y="3352680"/>
            <a:ext cx="2133360" cy="45720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1880" y="3048120"/>
            <a:ext cx="533520" cy="53316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80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6477120" y="2209680"/>
            <a:ext cx="1337760" cy="2189160"/>
            <a:chOff x="6477120" y="2209680"/>
            <a:chExt cx="1337760" cy="2189160"/>
          </a:xfrm>
        </p:grpSpPr>
        <p:sp>
          <p:nvSpPr>
            <p:cNvPr id="123" name=""/>
            <p:cNvSpPr/>
            <p:nvPr/>
          </p:nvSpPr>
          <p:spPr>
            <a:xfrm>
              <a:off x="6477120" y="220968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761160" y="220968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045200" y="220968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477120" y="249408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61160" y="249408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045200" y="249408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29240" y="249408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477120" y="27781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761160" y="27781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045200" y="27781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329240" y="27781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613640" y="277812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477120" y="306072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761160" y="306072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045200" y="306072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29240" y="306072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477120" y="334476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761160" y="334476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045200" y="334476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329240" y="334476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613640" y="334476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477120" y="36291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761160" y="36291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045200" y="36291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29240" y="362916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477120" y="39132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761160" y="39132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045200" y="39132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329240" y="39132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761160" y="41972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329240" y="41972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6400800" y="1523880"/>
            <a:ext cx="0" cy="358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7848720" y="1676520"/>
            <a:ext cx="609480" cy="30456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8381880" y="1371600"/>
            <a:ext cx="533520" cy="5335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80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C7540-00D2-4FC9-BB1C-FFCB24B1D4F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/>
          <p:nvPr/>
        </p:nvSpPr>
        <p:spPr>
          <a:xfrm>
            <a:off x="7775640" y="2708280"/>
            <a:ext cx="533160" cy="18108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8229600" y="2666880"/>
            <a:ext cx="533520" cy="5335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900000" y="1465200"/>
            <a:ext cx="6858000" cy="48744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marL="294840" indent="-294840" algn="ctr" rtl="1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liability Grap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863640" y="2527200"/>
            <a:ext cx="7056360" cy="219708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 algn="just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مثال: سیستمی را در نظر بگیرید كه شامل دو پردازنده است. هر كدام از پردازنده ها یك ماژول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 حافظه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برای خود دارد. همچنین یك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 ماژول حافظه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وجود دارد كه بین دو پردازنده مشترك است. اگر لااقل یك پردازنده سالم باشد و 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حافظه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اختصاصی آن یا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 حافظه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مشترك هم در حال كار باشد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،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آنگاه كل سیستم در حال كار است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8229600" y="1371600"/>
            <a:ext cx="533520" cy="5335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 flipH="1">
            <a:off x="7772400" y="1600200"/>
            <a:ext cx="457200" cy="30492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25DA9-0F23-44B2-AAA1-9952D4FB40C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/>
          <p:nvPr/>
        </p:nvSpPr>
        <p:spPr>
          <a:xfrm>
            <a:off x="7740720" y="2498760"/>
            <a:ext cx="565200" cy="4284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8229600" y="2313000"/>
            <a:ext cx="533520" cy="5335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900000" y="1465200"/>
            <a:ext cx="6858000" cy="52380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 rtl="1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liability Grap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863640" y="2276640"/>
            <a:ext cx="7056360" cy="7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 algn="just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گراف قابلیت اطمینان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 این سیستم را رسم کنید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 algn="just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(راهنمایی: مدل درخت خطا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این سیستم در زیر كشیده شده است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8229600" y="1371600"/>
            <a:ext cx="533520" cy="5335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 flipH="1">
            <a:off x="7772400" y="1600200"/>
            <a:ext cx="457200" cy="30492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 flipV="1">
            <a:off x="5400720" y="3303720"/>
            <a:ext cx="3035160" cy="91728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8359920" y="3075120"/>
            <a:ext cx="533160" cy="53316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1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" descr=""/>
          <p:cNvPicPr/>
          <p:nvPr/>
        </p:nvPicPr>
        <p:blipFill>
          <a:blip r:embed="rId1"/>
          <a:stretch/>
        </p:blipFill>
        <p:spPr>
          <a:xfrm>
            <a:off x="3348000" y="3068640"/>
            <a:ext cx="2143080" cy="2700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769D7-2997-4B03-AD16-7DE0491FFA6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/>
          <p:nvPr/>
        </p:nvSpPr>
        <p:spPr>
          <a:xfrm>
            <a:off x="7740720" y="2498760"/>
            <a:ext cx="565200" cy="4284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8229600" y="2313000"/>
            <a:ext cx="533520" cy="5335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900000" y="1465200"/>
            <a:ext cx="6858000" cy="48744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marL="294840" indent="-294840" algn="ctr" rtl="1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liability Grap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863640" y="2276640"/>
            <a:ext cx="7056360" cy="79200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 algn="just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همان طور كه می بینیم به دلیل اینكه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بین هر دو پردازنده مشترك است، مدل كردن سیستم كمى پیچیده شده است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8229600" y="1371600"/>
            <a:ext cx="533520" cy="5335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7772400" y="1600200"/>
            <a:ext cx="457200" cy="30492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7885080" y="3429000"/>
            <a:ext cx="399960" cy="26496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8209080" y="3465360"/>
            <a:ext cx="533160" cy="5335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1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878040" y="3176640"/>
            <a:ext cx="705636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شكل زیر مد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برای سیستم بالا را نشان میدهد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1" name="" descr=""/>
          <p:cNvPicPr/>
          <p:nvPr/>
        </p:nvPicPr>
        <p:blipFill>
          <a:blip r:embed="rId1"/>
          <a:stretch/>
        </p:blipFill>
        <p:spPr>
          <a:xfrm>
            <a:off x="2808360" y="3608280"/>
            <a:ext cx="3058920" cy="2160720"/>
          </a:xfrm>
          <a:prstGeom prst="rect">
            <a:avLst/>
          </a:prstGeom>
          <a:ln w="0">
            <a:noFill/>
          </a:ln>
        </p:spPr>
      </p:pic>
      <p:sp>
        <p:nvSpPr>
          <p:cNvPr id="342" name=""/>
          <p:cNvSpPr/>
          <p:nvPr/>
        </p:nvSpPr>
        <p:spPr>
          <a:xfrm flipV="1">
            <a:off x="5867280" y="4492800"/>
            <a:ext cx="2417760" cy="19656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8209080" y="4264200"/>
            <a:ext cx="533160" cy="53316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1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8DC65-F1EF-4CCB-AAE8-010EDA8AA5B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/>
          <p:nvPr/>
        </p:nvSpPr>
        <p:spPr>
          <a:xfrm>
            <a:off x="7848720" y="2319480"/>
            <a:ext cx="457200" cy="15084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8229600" y="2241720"/>
            <a:ext cx="533520" cy="53316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900000" y="1465200"/>
            <a:ext cx="6858000" cy="48744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marL="294840" indent="-294840" algn="ctr" rtl="1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liability Grap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896760" y="2276640"/>
            <a:ext cx="6988320" cy="7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همانطور كه می بینیم 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گره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a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برای این منظور ایجاد شده كه مشترك بودن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را حل كند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8229600" y="1371600"/>
            <a:ext cx="533520" cy="5335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 flipH="1">
            <a:off x="7772400" y="1600200"/>
            <a:ext cx="457200" cy="30492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892080" y="3176640"/>
            <a:ext cx="6993000" cy="72072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و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در واقع معادل هیچ 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مولفه فیزیکی و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واقعى در سیستم نیستند و صرفا برای برقراری ارتباط استفاده شده اند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 flipV="1">
            <a:off x="7885080" y="3411000"/>
            <a:ext cx="363600" cy="9684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8172360" y="3182760"/>
            <a:ext cx="533520" cy="5335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1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888840" y="4005360"/>
            <a:ext cx="6996240" cy="43344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در واقع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و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همواره در حالت سالم هستند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 flipV="1">
            <a:off x="7885080" y="4233600"/>
            <a:ext cx="363600" cy="9684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8172360" y="4005360"/>
            <a:ext cx="533520" cy="53316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7A46C-5FE3-4CF7-81D7-C7817B7F7B1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7848720" y="3008160"/>
            <a:ext cx="457200" cy="18756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8229600" y="2967120"/>
            <a:ext cx="533520" cy="53316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900000" y="1465200"/>
            <a:ext cx="6858000" cy="48744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marL="294840" indent="-294840" algn="ctr" rtl="1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liability Grap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896760" y="3573360"/>
            <a:ext cx="6988320" cy="75240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 marL="277560" indent="-277560" algn="just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در حالی كه اگر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 درخت خطا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ult Tre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شامل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 مولفه های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وابسته نباشد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،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معادل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 دیاگرام بلوکی قابلیت اطمینان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B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خواهد بود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8229600" y="1371600"/>
            <a:ext cx="533520" cy="5335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7740720" y="1600200"/>
            <a:ext cx="488880" cy="24444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891560" y="4048200"/>
            <a:ext cx="399960" cy="12060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8215200" y="3940200"/>
            <a:ext cx="533520" cy="5335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719280" y="2708280"/>
            <a:ext cx="7165800" cy="75420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گراف قابلیت اطمینان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عملا معادل 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درخت خطا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ult Tre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است كه داراى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 مولفه های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وابسته باشد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10BEF-ACD5-46E0-8CD0-0949DA29E0D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6781680" y="1600200"/>
            <a:ext cx="106704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267080" y="1858680"/>
            <a:ext cx="2362320" cy="65556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300" spc="-1" strike="noStrike">
                <a:solidFill>
                  <a:srgbClr val="330066"/>
                </a:solidFill>
                <a:latin typeface="Arial"/>
              </a:rPr>
              <a:t> مقدمه</a:t>
            </a:r>
            <a:endParaRPr b="1" lang="en-US" sz="23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904080" y="16765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7129440" y="1752480"/>
            <a:ext cx="642600" cy="838440"/>
            <a:chOff x="7129440" y="1752480"/>
            <a:chExt cx="642600" cy="838440"/>
          </a:xfrm>
        </p:grpSpPr>
        <p:sp>
          <p:nvSpPr>
            <p:cNvPr id="161" name=""/>
            <p:cNvSpPr/>
            <p:nvPr/>
          </p:nvSpPr>
          <p:spPr>
            <a:xfrm>
              <a:off x="7129440" y="1752480"/>
              <a:ext cx="97200" cy="774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265520" y="1752480"/>
              <a:ext cx="97200" cy="774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7401960" y="1752480"/>
              <a:ext cx="97200" cy="774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129440" y="1861200"/>
              <a:ext cx="97200" cy="774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265520" y="1861200"/>
              <a:ext cx="97200" cy="774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401960" y="1861200"/>
              <a:ext cx="97200" cy="774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538400" y="1861200"/>
              <a:ext cx="97200" cy="77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129440" y="1969920"/>
              <a:ext cx="97200" cy="774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265520" y="1969920"/>
              <a:ext cx="97200" cy="774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401960" y="1969920"/>
              <a:ext cx="97200" cy="77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538400" y="1969920"/>
              <a:ext cx="97200" cy="77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7674840" y="1969920"/>
              <a:ext cx="97200" cy="77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29440" y="2078640"/>
              <a:ext cx="97200" cy="774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265520" y="2078640"/>
              <a:ext cx="97200" cy="77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7401960" y="2078640"/>
              <a:ext cx="97200" cy="77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538400" y="2078640"/>
              <a:ext cx="97200" cy="77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7129440" y="2187360"/>
              <a:ext cx="97200" cy="77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7265520" y="2187360"/>
              <a:ext cx="97200" cy="77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401960" y="2187360"/>
              <a:ext cx="97200" cy="77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7538400" y="2187360"/>
              <a:ext cx="97200" cy="77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7674840" y="2187360"/>
              <a:ext cx="97200" cy="77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7129440" y="2296080"/>
              <a:ext cx="97200" cy="77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7265520" y="2296080"/>
              <a:ext cx="97200" cy="77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401960" y="2296080"/>
              <a:ext cx="97200" cy="77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538400" y="2296080"/>
              <a:ext cx="97200" cy="77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29440" y="2404800"/>
              <a:ext cx="97200" cy="77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265520" y="2404800"/>
              <a:ext cx="97200" cy="77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401960" y="2404800"/>
              <a:ext cx="97200" cy="77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538400" y="2404800"/>
              <a:ext cx="97200" cy="77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265520" y="2513520"/>
              <a:ext cx="97200" cy="77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538400" y="2513520"/>
              <a:ext cx="97200" cy="77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"/>
          <p:cNvSpPr/>
          <p:nvPr/>
        </p:nvSpPr>
        <p:spPr>
          <a:xfrm flipV="1">
            <a:off x="7848720" y="1828800"/>
            <a:ext cx="457200" cy="38088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8229600" y="990720"/>
            <a:ext cx="533520" cy="53316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8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6629400" y="1371240"/>
            <a:ext cx="1600200" cy="60948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8229600" y="1600200"/>
            <a:ext cx="533520" cy="5335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8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7772400" y="3123720"/>
            <a:ext cx="380880" cy="38124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8153280" y="2819520"/>
            <a:ext cx="533520" cy="53316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8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858960" y="2816280"/>
            <a:ext cx="7061040" cy="79200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marL="270720" indent="-270720" algn="just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یكی از راه هاى مدل كردن سیستم ها برای محاسبه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 قابلیت اطمینان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استفاده از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 گراف قابلیت اطمینان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iability Graph (RG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می‌باشد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858960" y="3681360"/>
            <a:ext cx="7061040" cy="68436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ا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ین نوع مدل بخصوص زمانى بسیار كاربرد دارد كه در سیستم متغیر های 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(مولفه های)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وابسته داشته باشیم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858960" y="4473720"/>
            <a:ext cx="706104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 algn="just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ما این موضوع را با بیان مثال هایی بررسی خواهیم 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کرد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849240" y="4941720"/>
            <a:ext cx="7061400" cy="68292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قبل از هر چیز ببینیم كه چگونه می توانیم یك سیستم را به صورت 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گراف قابلیت اطمینان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مدل كنیم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7920000" y="3840120"/>
            <a:ext cx="380880" cy="38088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300880" y="3535200"/>
            <a:ext cx="533520" cy="5335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8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V="1">
            <a:off x="7920000" y="4524120"/>
            <a:ext cx="412920" cy="12852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8332920" y="4219560"/>
            <a:ext cx="533160" cy="5335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7920000" y="5389200"/>
            <a:ext cx="412920" cy="1908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8332920" y="5084640"/>
            <a:ext cx="533160" cy="5335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8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C4E4C-EAC9-41FD-A68C-8DF283131B4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900000" y="1449000"/>
            <a:ext cx="6858000" cy="46836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liability Grap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flipV="1">
            <a:off x="7920000" y="3117960"/>
            <a:ext cx="565200" cy="6480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408880" y="2889360"/>
            <a:ext cx="533520" cy="53316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8248680" y="1198440"/>
            <a:ext cx="533520" cy="5335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7759800" y="1427040"/>
            <a:ext cx="488880" cy="13680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352000" y="3681360"/>
            <a:ext cx="533160" cy="5335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7920000" y="3789000"/>
            <a:ext cx="432000" cy="12060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52480" y="3681360"/>
            <a:ext cx="7086600" cy="64764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just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مدل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G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شامل تعدادی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 گره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d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است كه با كمك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 کمانها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به هم متصل شده اند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863640" y="2168640"/>
            <a:ext cx="7070760" cy="129672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just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مدل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 گراف قابلیت اطمینان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شبیه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 دیاگرام بلوکی ابلیت اطمینان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B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است با این تفاوت كه در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G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كمانها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c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) نشان دهنده 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مولفه ها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هستند، در حالی كه در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BD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ب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لوک ها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x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) نشان دهنده 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مولفه ها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بودند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38EBB-5AE9-43B6-A9C9-8A96F933DB2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900000" y="1449000"/>
            <a:ext cx="6858000" cy="46836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liability Grap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7920000" y="2511000"/>
            <a:ext cx="565200" cy="6516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8408880" y="2282760"/>
            <a:ext cx="533520" cy="5335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8248680" y="1198440"/>
            <a:ext cx="533520" cy="5335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H="1">
            <a:off x="7759800" y="1427040"/>
            <a:ext cx="488880" cy="13680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8352000" y="2889360"/>
            <a:ext cx="533160" cy="53316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H="1">
            <a:off x="7919640" y="3176640"/>
            <a:ext cx="576360" cy="612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852480" y="3968640"/>
            <a:ext cx="7086600" cy="3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 algn="just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گره مقصد گره ای است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كه هیچ كمانی از آن خارج نمی شود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863640" y="3463920"/>
            <a:ext cx="7070760" cy="39672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2000"/>
          </a:bodyPr>
          <a:p>
            <a:pPr marL="281160" indent="-281160" algn="just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همچنین یكی از 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گره ها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اصطلاحا 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گره مقصد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نامیده می شود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841320" y="4471920"/>
            <a:ext cx="7086600" cy="64764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just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گره های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میانی صرفاّ برای ایجاد ارتباط هستند و به خودی خود مفهوم 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فیزیکی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ندارند 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8352000" y="3500280"/>
            <a:ext cx="533160" cy="5335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 flipH="1" flipV="1">
            <a:off x="7920000" y="3789000"/>
            <a:ext cx="612720" cy="3492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8359920" y="4113360"/>
            <a:ext cx="533160" cy="53316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 flipH="1" flipV="1">
            <a:off x="7927920" y="4221000"/>
            <a:ext cx="432000" cy="12096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863640" y="2492280"/>
            <a:ext cx="7086600" cy="39708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just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یكی از 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گره ها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اصطلاحا 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گره مبدا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ur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نامیده می شود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863640" y="2997360"/>
            <a:ext cx="7086600" cy="35856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 algn="just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گره مبدا گره ای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است كه هیچ كمانی به آن وارد نمی شود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8352000" y="4767120"/>
            <a:ext cx="533160" cy="5335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 flipH="1" flipV="1">
            <a:off x="7920000" y="4874760"/>
            <a:ext cx="432000" cy="12060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2DF7E-7A73-47F1-B953-099B297A466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900000" y="1449000"/>
            <a:ext cx="6858000" cy="46836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liability Grap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7920000" y="2548080"/>
            <a:ext cx="565200" cy="6480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8408880" y="2319480"/>
            <a:ext cx="533520" cy="53316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8248680" y="1198440"/>
            <a:ext cx="533520" cy="5335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H="1">
            <a:off x="7759800" y="1427040"/>
            <a:ext cx="488880" cy="13680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8352000" y="3111480"/>
            <a:ext cx="533160" cy="5335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 flipV="1">
            <a:off x="7920000" y="3219120"/>
            <a:ext cx="432000" cy="12060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852480" y="2852640"/>
            <a:ext cx="7086600" cy="64764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 algn="just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هر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 کمان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صرفاّ معادل یك 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مولفه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در سیستم است ولی هر 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مولفه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در سیستم می تواند در چندین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 کمان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استفاده شود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863640" y="2347920"/>
            <a:ext cx="70707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 algn="just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همان طور كه گفتیم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 کمانها م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عادل 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مولفه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های سیستم هستند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41320" y="3608280"/>
            <a:ext cx="7086600" cy="82872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3000"/>
          </a:bodyPr>
          <a:p>
            <a:pPr marL="284400" indent="-284400" algn="just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حال اگر یك ارتباط بین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 گره مبدا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ur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و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 گره مقصد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در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 گراف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سیستم وجود داشته باشد، یعنی هنوز سیستم در حال كار است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8352000" y="3897360"/>
            <a:ext cx="533160" cy="5335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H="1" flipV="1">
            <a:off x="7920000" y="4005000"/>
            <a:ext cx="432000" cy="12060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849240" y="4761000"/>
            <a:ext cx="7086600" cy="68400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2000"/>
          </a:bodyPr>
          <a:p>
            <a:pPr marL="281160" indent="-281160" algn="just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ولی اگر هیچ ارتباطی بین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 گره مبدا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ur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و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 مقصد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وجود نداشته باشد، بدین معنی است كه سیستم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 خراب شد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ه است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8359920" y="4695840"/>
            <a:ext cx="533160" cy="5335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flipH="1" flipV="1">
            <a:off x="7927920" y="4803480"/>
            <a:ext cx="432000" cy="12060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E64CE-9EF8-47D5-B9AA-C2533FEDB8E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/>
          </p:nvPr>
        </p:nvSpPr>
        <p:spPr>
          <a:xfrm>
            <a:off x="900000" y="1449000"/>
            <a:ext cx="6858000" cy="46836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liability Grap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 flipV="1">
            <a:off x="7759800" y="2722680"/>
            <a:ext cx="565200" cy="6480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8248680" y="2494080"/>
            <a:ext cx="533520" cy="53316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8248680" y="1198440"/>
            <a:ext cx="533520" cy="5335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7759800" y="1427040"/>
            <a:ext cx="488880" cy="13680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8172360" y="3789360"/>
            <a:ext cx="533520" cy="5335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 flipH="1" flipV="1">
            <a:off x="7740360" y="3897000"/>
            <a:ext cx="431640" cy="12060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841320" y="2421000"/>
            <a:ext cx="7086600" cy="12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 marL="277560" indent="-277560" algn="just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دلیل این موضوع این است كه 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مولفه هایی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كه از نظر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 قابلیت اطمینان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موازی هستند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،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به صورت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 کمانهای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موازی كشیده می شوند و 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مولفه های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سری به صورت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 کمانهای س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ری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 بیان می شوند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. بدین ترتیب نیاز به وجود مسیر بین ورودی و خروجى شبیه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BD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است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841320" y="3789360"/>
            <a:ext cx="7086600" cy="64764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just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اما یكی از مزایای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G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نسبت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به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B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این است كه مدل كردن 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مولفه های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وابسته بسیار ساده تر است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841320" y="4545000"/>
            <a:ext cx="7086600" cy="64620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just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در عین حال به دلیل آنكه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 کمانها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جهت دار هستند، می توان حالت های خاص را ساده تر ایجاد كرد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8352000" y="4767120"/>
            <a:ext cx="533160" cy="5335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 flipH="1" flipV="1">
            <a:off x="7920000" y="4874760"/>
            <a:ext cx="432000" cy="12060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09068-9BE1-40B5-B7E3-BF0A9548C6D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/>
          </p:nvPr>
        </p:nvSpPr>
        <p:spPr>
          <a:xfrm>
            <a:off x="900000" y="1449000"/>
            <a:ext cx="6858000" cy="46836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liability Grap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920000" y="2349360"/>
            <a:ext cx="441360" cy="1296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8285040" y="2133720"/>
            <a:ext cx="533520" cy="53316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8248680" y="1198440"/>
            <a:ext cx="533520" cy="5335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8209080" y="2819520"/>
            <a:ext cx="533160" cy="53316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 flipH="1">
            <a:off x="7759800" y="1427040"/>
            <a:ext cx="488880" cy="13680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 flipH="1" flipV="1">
            <a:off x="7919640" y="2960280"/>
            <a:ext cx="289080" cy="8748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8323200" y="3789360"/>
            <a:ext cx="533520" cy="5335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H="1">
            <a:off x="7380000" y="3946680"/>
            <a:ext cx="979560" cy="66960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841320" y="2205000"/>
            <a:ext cx="7086600" cy="46836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 algn="just" rtl="1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000" spc="-1" strike="noStrike">
                <a:solidFill>
                  <a:srgbClr val="000000"/>
                </a:solidFill>
                <a:latin typeface="Arial"/>
              </a:rPr>
              <a:t>اجازه دهید</a:t>
            </a:r>
            <a:r>
              <a:rPr b="0" lang="ar-SA" sz="3000" spc="-1" strike="noStrike">
                <a:solidFill>
                  <a:srgbClr val="000000"/>
                </a:solidFill>
                <a:latin typeface="Arial"/>
              </a:rPr>
              <a:t> با ذكر مثالهایی مسئله را دنبال كنیم.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838080" y="2781360"/>
            <a:ext cx="7086600" cy="79200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 algn="just" rtl="1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00"/>
                </a:solidFill>
                <a:latin typeface="Arial"/>
              </a:rPr>
              <a:t>مثال: شكل زیر یك</a:t>
            </a:r>
            <a:r>
              <a:rPr b="0" lang="fa-IR" sz="3000" spc="-1" strike="noStrike">
                <a:solidFill>
                  <a:srgbClr val="000000"/>
                </a:solidFill>
                <a:latin typeface="Arial"/>
              </a:rPr>
              <a:t> گراف قابلیت اطمینان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G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fa-IR" sz="3000" spc="-1" strike="noStrike">
                <a:solidFill>
                  <a:srgbClr val="000000"/>
                </a:solidFill>
                <a:latin typeface="Arial"/>
              </a:rPr>
              <a:t> را نشان می دهد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1079640" y="4292640"/>
            <a:ext cx="539640" cy="576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692280" indent="-347760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519280" y="4292640"/>
            <a:ext cx="540000" cy="576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692280" indent="-347760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924360" y="4292640"/>
            <a:ext cx="539640" cy="576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692280" indent="-347760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5400720" y="4292640"/>
            <a:ext cx="539640" cy="576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692280" indent="-347760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6840360" y="4292640"/>
            <a:ext cx="540000" cy="576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692280" indent="-347760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19280" y="4581360"/>
            <a:ext cx="900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3059280" y="4581360"/>
            <a:ext cx="865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464000" y="4581360"/>
            <a:ext cx="936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940360" y="4581360"/>
            <a:ext cx="900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2" name=""/>
          <p:cNvCxnSpPr>
            <a:stCxn id="274" idx="7"/>
            <a:endCxn id="276" idx="1"/>
          </p:cNvCxnSpPr>
          <p:nvPr/>
        </p:nvCxnSpPr>
        <p:spPr>
          <a:xfrm flipH="1" rot="16200000">
            <a:off x="4228560" y="3116880"/>
            <a:ext cx="2520" cy="2500920"/>
          </a:xfrm>
          <a:prstGeom prst="curvedConnector5">
            <a:avLst>
              <a:gd name="adj1" fmla="val -19100000"/>
              <a:gd name="adj2" fmla="val 50000"/>
              <a:gd name="adj3" fmla="val -19100000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283" name=""/>
          <p:cNvCxnSpPr>
            <a:stCxn id="273" idx="5"/>
            <a:endCxn id="275" idx="3"/>
          </p:cNvCxnSpPr>
          <p:nvPr/>
        </p:nvCxnSpPr>
        <p:spPr>
          <a:xfrm flipH="1" rot="16200000">
            <a:off x="2770560" y="3562560"/>
            <a:ext cx="2520" cy="2464560"/>
          </a:xfrm>
          <a:prstGeom prst="curvedConnector5">
            <a:avLst>
              <a:gd name="adj1" fmla="val 19100000"/>
              <a:gd name="adj2" fmla="val 49992"/>
              <a:gd name="adj3" fmla="val 19100000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284" name=""/>
          <p:cNvSpPr/>
          <p:nvPr/>
        </p:nvSpPr>
        <p:spPr>
          <a:xfrm>
            <a:off x="1454400" y="4227480"/>
            <a:ext cx="145692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92280" indent="-347760" algn="just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894400" y="4229280"/>
            <a:ext cx="145692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92280" indent="-347760" algn="just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4277520" y="4221000"/>
            <a:ext cx="147672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92280" indent="-347760" algn="just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5790240" y="4221000"/>
            <a:ext cx="147672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92280" indent="-347760" algn="just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223360" y="5064120"/>
            <a:ext cx="143712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92280" indent="-347760" algn="just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677040" y="3701880"/>
            <a:ext cx="145692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92280" indent="-347760" algn="just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5DAFD-8B50-486B-962C-64FEC490F2A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/>
          </p:nvPr>
        </p:nvSpPr>
        <p:spPr>
          <a:xfrm>
            <a:off x="900000" y="1449000"/>
            <a:ext cx="6858000" cy="46836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liability Grap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4896000" y="2722320"/>
            <a:ext cx="3429000" cy="12996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8248680" y="1198440"/>
            <a:ext cx="533520" cy="5335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8317080" y="2492280"/>
            <a:ext cx="533160" cy="5335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 flipH="1">
            <a:off x="7759800" y="1427040"/>
            <a:ext cx="488880" cy="13680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 flipH="1" flipV="1">
            <a:off x="7884720" y="3284280"/>
            <a:ext cx="474840" cy="12060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863640" y="3049560"/>
            <a:ext cx="7075440" cy="3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) A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863640" y="2529000"/>
            <a:ext cx="7070760" cy="41112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 algn="just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این سیستم در حالتهای زیر می تواند به كار خود ادامه دهد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8323200" y="3176640"/>
            <a:ext cx="533520" cy="5335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863640" y="3552840"/>
            <a:ext cx="7056360" cy="3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) A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863640" y="4057560"/>
            <a:ext cx="7056360" cy="39708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) F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20000" y="3753000"/>
            <a:ext cx="432000" cy="34272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315280" y="3867120"/>
            <a:ext cx="533520" cy="5335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7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 flipH="1" flipV="1">
            <a:off x="7919640" y="4329000"/>
            <a:ext cx="397080" cy="41616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280360" y="4516560"/>
            <a:ext cx="533520" cy="53316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7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 flipH="1" flipV="1">
            <a:off x="7920000" y="5013000"/>
            <a:ext cx="403200" cy="41580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8286840" y="5200560"/>
            <a:ext cx="533160" cy="5335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7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849240" y="4581360"/>
            <a:ext cx="7070760" cy="68436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 algn="just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توجه داشته باشید كه منظور از حالتهای بالا این است كه 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حداقل مولفه هایی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كه در مجموعه هستند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،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در حال كار باشند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D56AE-8FF0-43E1-854C-27CAE8BA903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/>
          </p:nvPr>
        </p:nvSpPr>
        <p:spPr>
          <a:xfrm>
            <a:off x="900000" y="1449000"/>
            <a:ext cx="6858000" cy="46836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txBody>
          <a:bodyPr lIns="90000" rIns="90000" tIns="46800" bIns="46800" anchor="t">
            <a:normAutofit fontScale="82000"/>
          </a:bodyPr>
          <a:p>
            <a:pPr marL="281160" indent="0" algn="ctr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liability Grap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V="1">
            <a:off x="7920000" y="2722680"/>
            <a:ext cx="405000" cy="20160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8248680" y="1198440"/>
            <a:ext cx="533520" cy="5335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8317080" y="2492280"/>
            <a:ext cx="533160" cy="5335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 flipH="1">
            <a:off x="7759800" y="1427040"/>
            <a:ext cx="488880" cy="13680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 flipH="1" flipV="1">
            <a:off x="7920000" y="3644640"/>
            <a:ext cx="432000" cy="12060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863640" y="2781360"/>
            <a:ext cx="7070760" cy="68400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just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همان طور كه در مثال دیدیم وجود یك مسیر از ورودی به خروجى نشان دهنده در حال كار بودن سیستم است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8315280" y="3537000"/>
            <a:ext cx="533520" cy="5335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863640" y="3573360"/>
            <a:ext cx="7056360" cy="3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حال حالتی را بررسی می كنیم كه متغیر وابسته دارد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3E7BF-0B42-4D73-9392-127236CE614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04T14:37:50Z</dcterms:created>
  <dc:creator>mm</dc:creator>
  <dc:description/>
  <dc:language>en-US</dc:language>
  <cp:lastModifiedBy>Mehdi Dehghan</cp:lastModifiedBy>
  <dcterms:modified xsi:type="dcterms:W3CDTF">2005-06-19T13:43:52Z</dcterms:modified>
  <cp:revision>979</cp:revision>
  <dc:subject/>
  <dc:title>درس دوم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3</vt:r8>
  </property>
</Properties>
</file>