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859-55EF-412D-973D-E120DDFA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67080" y="361368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AFA-3B53-4949-AE62-BF08FDE1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1456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FFE-3569-4DBE-B3DF-CB3ADBB5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502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334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670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7502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334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4EC-FEBC-403A-8570-53BC892F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E968-F9C4-4B04-A2A5-70976734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D329-69A4-44C8-9E5E-5798139D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7E5B-A374-4523-B89C-0A56CFE8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1091-0BAF-4408-9192-C03F17AF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2897-B4BC-4CEF-B145-401B8F4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4498-3E0B-4E9B-862A-3F04A01C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007B-6132-49EF-A285-0B3E2FA7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2B6-06BF-4CE4-82D4-8A43089A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1456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E43-A1FC-460D-9C8A-4C2AFB1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FD1-5DEA-485D-9C7F-1743C39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67080" y="361368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DB9F-4683-42E8-8669-F1D99B41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1456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B120-4010-4A28-BB1A-C4B142AC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502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2334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670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7502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2334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AC36-7C4A-4537-93F9-7AB8BFB4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323-FE2E-4F54-942B-8317C6FE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F15-ADB3-4D80-8F15-B8D0BB9F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B9C-B345-422E-8EF8-A5A2C8CC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73D-215B-457E-B006-AFB82B00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4A0-7D10-4D80-BE95-7DEA984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1456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6FC-2664-4F4A-9F61-FE33AF6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BF7-0321-41F3-BFAD-814F211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5104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F30B-5592-4634-9F36-D0CF56AE4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144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172200"/>
            <a:ext cx="807732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9F97-57F4-4215-BB77-98885B4EF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172200"/>
            <a:ext cx="807732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348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برنا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har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بر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Nazanin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Nazanin"/>
              </a:rPr>
              <a:t> آنكه بتواند اجرا شود، حتما بايد در آدر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:\Sharpe-Gu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کپ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Nazanin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Nazanin"/>
              </a:rPr>
              <a:t> شود. براي اين كار كافيست ك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Z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فايل حا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Nazanin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Nazanin"/>
              </a:rPr>
              <a:t> برنامه را 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\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باز كني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سپس بای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nterface SHAR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را از دایرکتور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:\Sharpe-Gu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اجرا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A10-4DEE-45EA-BB89-6CA1524CC1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160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واع گیت هایی كه م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اند استفاده ش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Ko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KofN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1BC-CCA8-4C75-9958-CB75A84B49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1609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67080" y="26668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صورتی ك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of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ofN Iden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ای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قدا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نیز در همی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یین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A79-FDFB-4325-BD37-8FD832E273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076400"/>
            <a:ext cx="7315200" cy="5019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3733920"/>
            <a:ext cx="6553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پس از آنكه گیت جدید اضافه ش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ی توانیم بر رو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ایی كه در زیر آن قرار دارد کلیك كنیم (در صورتی كه در حال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dd G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شیم) و گیتهای جدیدی را اضافه 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7A1-BE60-425F-8889-03A91AC396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5019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3733920"/>
            <a:ext cx="6553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مچنین می توانیم ب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굴림"/>
              </a:rPr>
              <a:t>کلیک سمت راس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روی گیت ه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آنها را 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بدیل كن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یا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 انتخا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odif. G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ز پنجره اصلی مشخصات گیت ها را تغییر ده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CD0-A26F-46FE-A36F-759F7AE445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96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جه كنید كه هر نوع تغییری به سادگی انجام نمی گیرد. پس سعی كنید تا حد امكان از اول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طرح کنی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یاز به تغییرات زیادی نداشته باشی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B55-0FAC-444A-847E-96C9DB1D28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586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تمامی گیتهای مورد نیاز به مجموع اضافه شد. باید پارامتر های مربوط ب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 را مشخ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ین كار روی ه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 كه می خواه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 کلیک سمت راس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كنیم و گزین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D06-273A-4E2D-804C-462026782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299" t="0" r="11050" b="0"/>
          <a:stretch/>
        </p:blipFill>
        <p:spPr>
          <a:xfrm>
            <a:off x="0" y="106668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3760" y="10663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ز شده می توانیم بر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رد نظر اطلاعات مربوطه 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کمی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نی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این اطلاعات شامل</a:t>
            </a:r>
            <a:r>
              <a:rPr b="0" lang="fa-IR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ض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یح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ا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صف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103-AB7D-428C-9193-2360601A19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299" t="0" r="11050" b="0"/>
          <a:stretch/>
        </p:blipFill>
        <p:spPr>
          <a:xfrm>
            <a:off x="0" y="106668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05520" y="9140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قسمت صفت می توانید نوع صفت مث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ساس نوع صفتی كه انتخاب كردیم در قسمت پایین باید مقادیر آن را وارد كنیم. مثلا بر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ید وارد 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678-F7A1-48C2-B78E-8CB171A329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1299" t="0" r="11050" b="0"/>
          <a:stretch/>
        </p:blipFill>
        <p:spPr>
          <a:xfrm>
            <a:off x="0" y="106668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وارد كردن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اد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 كمك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li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را ثبت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توجه داشت باشید كه اگ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Validat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را کلیك نكنید اطلاعات ثبت نخواهد ش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FF4-6BB1-46CF-BD11-B495A0E53E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299" t="0" r="11050" b="43939"/>
          <a:stretch/>
        </p:blipFill>
        <p:spPr>
          <a:xfrm>
            <a:off x="0" y="1066680"/>
            <a:ext cx="5257800" cy="2819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05520" y="10666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گر بخواهیم یك سری صفت مشترك را برای چندین ایونت به كار ببریم می توانیم از گزین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p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فاده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038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733920"/>
            <a:ext cx="9144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عنی پس از آنكه نا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صفت را ثبت كردیم. گزین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p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 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li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کلیك میكنیم. از ای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هر ایونت دیگری كه اسم هما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ستفاده كند خود به خود تمامی صفت های آ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ش کپ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819520"/>
            <a:ext cx="121896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949-5D13-43EF-B5A4-2643E35675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54390" b="-4482"/>
          <a:stretch/>
        </p:blipFill>
        <p:spPr>
          <a:xfrm>
            <a:off x="228600" y="10666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اجرای برنامه، پیش از انجام هر كاری نیاز است تا یك پروژه جدید ایجاد 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نجام این عمل گزین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ایل را انتخاب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2EE-E684-4609-AC82-55BA8B4E3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اضافه کردن مدلهای جدید به پروژ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348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پروژه می تواند شامل چندین مدل از نوع های مختلف باش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صورتی كه بخواهیم مدل های بیشتری را به پروژه اضافه كنیم. می توانیم از من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del Edi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مدل جدید ایجاد كنی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ا با انتخ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ew 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مد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ید به پروژه اضافه میش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754-1AFE-4C8F-B58D-7460B26BA5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3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طراحی کامل شد می توانیم آن را آنالیز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ین كار ابتدا من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nalysis Editor -&gt;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624-9A27-443D-A77A-F47C2071CE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3128" b="0"/>
          <a:stretch/>
        </p:blipFill>
        <p:spPr>
          <a:xfrm>
            <a:off x="0" y="1523880"/>
            <a:ext cx="472428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040" y="9907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شبیه زیر باز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تب او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ب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ور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پیش فرض انتخاب شده است می توان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وع آنالیز را انتخاب كن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ثلا محاسب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li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ean Time To Failure (MT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228600" y="1600200"/>
            <a:ext cx="12193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38B-226E-4621-AF06-38C3D92767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87692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نجام این كار ابتدا در قسمت بالا نام مدلی كه می خواهیم آنالیز كنیم را انتخاب میكنی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مولا این نا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صورت پی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رض درست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3809880"/>
            <a:ext cx="4419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پس آنالیزی كه می خواهیم را انتخاب كرد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ا زدن دكم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 را به لیست سمت راست اضافه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971-426E-4FE9-91DC-139CF688CB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17187" b="0"/>
          <a:stretch/>
        </p:blipFill>
        <p:spPr>
          <a:xfrm>
            <a:off x="0" y="152388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ضی از آنالیز ها نیاز به پارامترهایی هم دارند مثلا بر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liabilit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ید زمان را وارد كنی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057400"/>
            <a:ext cx="525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زمان هم می تواند یك عدد ثابت باشد هم می تواند یك رنج عددی ب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ثابت باشد. برای وارد كردن یك رنج عددی كافیست عدد شروع (مث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عدد پایان (مث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و عد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tep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مث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را ب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m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،)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ا كرده و به ترتیب بنویسیم (مث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،10،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AED-AA3E-405E-A844-3EF15FE5EF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96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صورتی كه در قسمت پارامتر خ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 بجای وارد كردن یك عدد یك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riable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گذاشته باشیم، باید در هنگام اضافه كردن آنالیز مقدار آ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هم وارد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بطورهمزمان چندین آنالیز را به لیست اضافه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112-F94F-483B-BD30-D3D90D3F18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876920" cy="4572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7432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انتخاب تمامی آنالیزهای لازم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میز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029200"/>
            <a:ext cx="12193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D79-3A44-4988-89D5-72DAE768F8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4224" b="0"/>
          <a:stretch/>
        </p:blipFill>
        <p:spPr>
          <a:xfrm>
            <a:off x="0" y="1066680"/>
            <a:ext cx="5181480" cy="5023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ود به خود انتخاب میشود و نتیج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اسبات در آن نوشت شده اس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از نتایج، کپی یا پرینت بگیر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064-DAA4-4951-9E30-FB6695B98D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اوه بر مشاهده نتایج بصورت متنی می توان آن را به صورت گرافیکال هم مشاهده كر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 كار را ب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ab 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انجام ده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3A9-99BF-496E-8BBC-8041916D65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2880" y="10666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قسمت بالا نام مورد نظرمان برای گراف را وارد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سمت راست می توانی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ام برای محور ه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تخاب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كلیه این نام ها صرفا جنب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نمایشی دارن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E85-C7A5-4F8A-9227-5B0395E4C8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047600"/>
            <a:ext cx="4834080" cy="4972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24280" y="1066320"/>
            <a:ext cx="4005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پس ی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ialog-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ز میشود كه می توانیم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وارد زی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را مشخ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كنیم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ام پروژ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اریخ ایجاد پروژ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یجاد كننده پروژ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w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وع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دلسازی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ه می خواهیم انجام ده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ام مد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همچنین می توانیم یك توضیح برای پروژه بنویس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36E-3456-4490-B032-B5CA666448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81120" y="10666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قسم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utput/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وع آنالیز را معلوم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ید توجه داش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شیم كه همه آنالیز های مختلف را نمی توان به صورت گرافیکال مشاهده كر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E39-A6D0-46E2-BF9A-E3E9B8BABA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81120" y="10666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 باید متغییر مورد استفاده برای محو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همان ورودی 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ی‌باشد و پلات بر حسب آن انجا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شود و همچنین مقدار شروع، پایان 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آن را مشخس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699-4EA8-46D2-9124-5AA1FD9C14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81120" y="10666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انجام این كار با زدن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نتیجه را به صورت گرافیکی مشاهده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23C-77DA-45BB-88DB-AB68BF90AC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2353" t="0" r="1176" b="0"/>
          <a:stretch/>
        </p:blipFill>
        <p:spPr>
          <a:xfrm>
            <a:off x="0" y="1066680"/>
            <a:ext cx="6248520" cy="5077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آنالی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24480" y="1218960"/>
            <a:ext cx="2819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تیجه پالت 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ی توانید پرینت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ا با یك فایل دیگر تركی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b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C03-C3DE-47B2-AE78-4684FB7609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یجاد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با ایجاد یك پروژه جدید و انتخ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مد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جاد كنیم و ی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كه از طریق من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del Edi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گزین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ew Markov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كنیم و یك مد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ه پروژه موجود اضاف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2F3-588D-44D4-9664-951429EB84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924680" cy="5050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3733920"/>
            <a:ext cx="6900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مدل را ایجاد كردیم یك صفحه خالی همان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ای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صفحه ظاهر میش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6C9-3934-4595-B979-D4392473D1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01000" cy="5104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90560" y="2514240"/>
            <a:ext cx="5562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ای اضافه كردن ی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قسمت بالا بر روی دكم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کلیك میكنیم و پس از آن در هر جای صفحه كه کلی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یم ی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دید ایجاد میشو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ُدها بصورت خود كار شماره گزاری خواهند ش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EA7-89B8-4EA3-B378-843314C45B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3772080" cy="28101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چنین می توانیم نام نُد را به دلخواه تغییر دهیم. برای این كار بر روی نُ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ight Cli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كنیم و گزین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hange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. 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ز شده نام جدید را وارد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ام نُد می تواند متنی یا عددی باش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C28-F7CF-44F4-9E49-59915C167E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924680" cy="50659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38095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لا بای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ای ارتباطی را بین نُد ها رسم كنیم. برای این كار بر روی كلی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کلیك میكنیم و سپس بر روی نُ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بدا كه می خواه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ز آن شروع شود کلیك را نگه میداریم و موس را حركت داده و روی نُد مقصد آن را ره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یكنی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F9E-9994-4004-9FBF-5F772816CC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48720" cy="5027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41911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بدین ترتیب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ین مبدا و مقصد كشیده خواهد ش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8D9-1115-4CE4-9989-F6CF3E1E26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 كمك نرم افزا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HAP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می توان از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ل ها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زیر استفاده کر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liability Block Diagrams (R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liability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9F5-8884-4FDB-B43D-E43DF6A0EB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77320" cy="5112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411480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مرحله بعدی باید یك مقدار به ه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 As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ای این كار باید رو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ight Click , 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رده و گزین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انتخاب 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469-DF08-4B81-A31D-3A4EBCA15C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229600" cy="5034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پس 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ز شده مقدار مربوط را وارد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356-7CA4-4BDA-B3A1-4D1D04D651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0" t="0" r="0" b="2042"/>
          <a:stretch/>
        </p:blipFill>
        <p:spPr>
          <a:xfrm>
            <a:off x="838080" y="1066680"/>
            <a:ext cx="73152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7920" y="403848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جای حرف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ی توانیم بنویس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جای حرف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ویسی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ambda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C8D-ACDB-456F-9EB5-16D12D6102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0929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240" y="4114800"/>
            <a:ext cx="6629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ای آنكه نُد ها را جابجا كنیم باید روی گزین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ov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کلیك كر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سپ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ورد نظر را انتخاب كنیم (با ی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 کلیك) در این حالت نُد انتخاب شده به رنگ زرد در می آید حالا می توانیم به صور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rag And Dr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آن را جابج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EEA-4D9E-47BE-B9EC-6733870946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47920" y="42667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چنین اگر بخواهیم كه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تغییر شكل دهیم می توانیم با کلیك بر روی دكم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dif. A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 كار را انجام ده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F6B-CA20-4880-986D-601A5EBEFB2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520" y="251424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پس از آنك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odif. 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تخ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شد می توانیم دكمه مو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را رو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و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ظر نگه داریم و به سمتی كه می خواهیم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رك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ی دهیم. این كار باعث شكست شد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ز نقطه کلی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شده میشود می توانیم این كار را چندین بر تكرار كنیم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ه شكل مورد دلخواه درآی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ADD-E1F7-4223-9AC7-C7231F7E03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02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گر بخواهیم مقدارهای چندی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هم زمان تغییر دهیم. می توانیم ا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ate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فاده كنیم. پس از انتخ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ate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 ای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شكل باز میشود كه در آن یك جدول مقدارهای روی هر لینك را نشان میدهد. ردیف ه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شان دهنده نُد مبدا و ستون ها نشان دهنده نُد مقصد می باشن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017-E916-4F5E-99B5-638F95A0CF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022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این صفحه می توانیم به راحتی از طریق ماتریس بالا ی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dit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ایین اطلاعات جدید وارد كنیم، آنها را تغییر دهیم یا حذف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نی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0EB-02E8-466E-A661-82A44A1C16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348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ر دیگر پس از انجام این مراحل یعنی كشیدن مد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آن را آنالیز كنیم برای این كار همان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 قسمت من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nalysis Editor -&gt;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الیز رو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ل بسیار شبیه آنالیز رو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 به همین خاطر ما در اینجا تنها نكاتی كه متفاوت اس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ذكر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7EB-24DC-4292-A184-73EB395FA05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3000" t="14038" r="6000" b="8773"/>
          <a:stretch/>
        </p:blipFill>
        <p:spPr>
          <a:xfrm>
            <a:off x="0" y="1066680"/>
            <a:ext cx="5334120" cy="5019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57440" y="114264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تی آنالیز را انتخاب میكنیم، صفحه ای همانند صفحه آنالی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ظاهر میشود. حالا باید آنالیز مور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رمان را وارد انتخاب كنیم. مث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li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تی آن را انتخاب میكنیم صفحه ر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بر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ز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A20-28E0-48A0-BEE9-67DAD7FCEED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348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این مرحله، بس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ه اینكه كدام یك از مدل ها انتخاب شده باش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نجره مربوط ب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 مدل ظاهر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در اینجا نحوه مدل سازی مدل های معروف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در درس "تحمل پذیری خطا" كاربرد دار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ررس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ک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A13-3E86-4888-96C8-47E9A6A9EC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rcRect l="3000" t="14038" r="6000" b="8773"/>
          <a:stretch/>
        </p:blipFill>
        <p:spPr>
          <a:xfrm>
            <a:off x="0" y="1066680"/>
            <a:ext cx="5334120" cy="50198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181120" y="11426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این صفحه باید مقادیر اولیه احتمال حضور در ه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nitial Proba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مشخس كنیم. برای این كار از قسم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ame Of The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شمار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ربوطه را انتخاب میكنیم و سپس در قسم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nitial 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حتما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ولیه حضور در آ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وارد میكنیم، و دكم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میز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286-829B-4DC4-8BF5-A5EA490789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3000" t="17551" r="6000" b="7672"/>
          <a:stretch/>
        </p:blipFill>
        <p:spPr>
          <a:xfrm>
            <a:off x="0" y="1066680"/>
            <a:ext cx="5181480" cy="5059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این مقادیر وارد شد برای ای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nfigu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نام انتخاب كرده و آن را 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dit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ایین صفحه وار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كنیم و دكم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lidate Configu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کلیك میكنیم. با این كار نام انتخابی ما در لیست سمت چپ اضافه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57B-3361-45CA-972B-7A19B0173D5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الا می توانیم با زدن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l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 این صفحه خارج شده و به صفح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و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نون همانن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ید مقادیر متغیر ها را وارد كنیم. كه مقادیری همچو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 (Time), Lamb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ستند. سپس با زدن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الیز مورد نظر به لیست سمت راس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utput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ضافه میشود، و با زد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الیز انجام خواهد ش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E94-FFFA-40EF-AD93-D9DC5F9CE01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rk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9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انن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 رسم كنیم. از آنجایی كه نحوه رسم عینا مانن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‌باشد در اینجا از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ضیح مجدد آن خود داری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22B-992E-4D6F-A1CE-720CA28D4F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7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یجاد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B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انند سایر مدل ها عمل میكنیم. یعنی یا ا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ew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فاده میكنیم یا از من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del Edi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هردوی آنها را قبلا مرور كردئی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23F-5BB8-4A60-B273-189735B2099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0324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09680" y="228600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B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ید ایجاد كردیم یك صفحه كه در آن تنها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ود دارد ایجاد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این صفحه ایجاد شد، می توا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بوطه را بست دهیم تا دیاگرام مورد نظر ایجاد 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793-6B17-40C5-97C9-114E597E064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13929" t="0" r="15040" b="0"/>
          <a:stretch/>
        </p:blipFill>
        <p:spPr>
          <a:xfrm>
            <a:off x="0" y="990720"/>
            <a:ext cx="4800600" cy="51465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صورتی كه بخواهیم بلاك مورد نظر به چند بلاك سری تبدیل شود، روی كلی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e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کلیك میكنیم و سپس روی بلا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ورد نظر را هم کلیك می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ی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ه صورت زیر باز میشود كه در آن می توانیم تعداد بلاك های مورد نظر را وارد كنیم. مثلا اگر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ی خواهیم بلاك مربوطه تبدیل ب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لاك شود 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را وارد می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A76-4C92-4E0A-A929-FB6F539B423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2514240"/>
            <a:ext cx="415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ا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لاك داریم كه به صورت خود كار شماره گزاری شده اند. می توانیم در صورت تمایل هر كدام از آنها ر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جددا بست ده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51F-CA32-4B6F-8150-30B8830E084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rcRect l="13224" t="2595" r="6610" b="0"/>
          <a:stretch/>
        </p:blipFill>
        <p:spPr>
          <a:xfrm>
            <a:off x="0" y="106668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ا اگر بخواهیم یكی از بلاك ها را به شک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arall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بیاوریم، گزین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arall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 و تعداد بلاك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مورد نیاز را وارد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CD0-FE6A-40CE-A497-48D654A9823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57240" y="990720"/>
            <a:ext cx="9201240" cy="51861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267080" y="2666880"/>
            <a:ext cx="4648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در نتیجه آن بلاك انتخاب شده تبدیل ب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لاك موازی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6EF-BDC2-4077-A010-2505B6719AC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16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32004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صورتی كه مد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تخاب شود صفحه ای همانند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ی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فحه ظاهر میش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 صفحه تنها شامل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‌باشد به نا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ilu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كه به عنوا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یشه در درخ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فاده میش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4ED-C695-4E77-A07C-DE713066D9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864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4800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فاده ا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Kof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م بسیار شبیه گزینه های دیگر است با این تفاوت كه د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ز شده باید عددها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وار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2B1-F022-4B8B-8F28-72AFC2AB8DB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760" y="487692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لاك ایجاد میشود كه به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o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رون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28F-B1AC-48A6-93E4-C60C339E244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2880" y="10663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نجام این كار باید پارامتر های مربوط به بلاك ها را وارد كنیم. برای این كار بر روی كلی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d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کلیك میكنیم ت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وبر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ز 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1074" t="0" r="27959" b="0"/>
          <a:stretch/>
        </p:blipFill>
        <p:spPr>
          <a:xfrm>
            <a:off x="0" y="1066680"/>
            <a:ext cx="5029200" cy="50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1AA-34AC-43B2-BC85-8F4AF434EC3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52880" y="91440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لا می توانیم هر بلاكی كه می خواهیم را انتخاب كرده و سپس اطلاعات آن را وارد كنیم. برای این منظور بلاك مربوط را از كادر سمت راست انتخاب میكنیم 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ربوطه كه می خواهیم تنظیم كنیم را از سمت چپ انتخاب میكنی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ل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سپس پارامتر های آن را وارد میكنیم در مور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ید مقدا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وارد 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1074" t="0" r="27959" b="0"/>
          <a:stretch/>
        </p:blipFill>
        <p:spPr>
          <a:xfrm>
            <a:off x="0" y="1066680"/>
            <a:ext cx="5029200" cy="50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2E9-490F-4CF2-B0CF-0B2335C5C4B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2880" y="91440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لا می توانیم هر بلاكی كه می خواهیم را انتخاب كرده و سپس اطلاعات آن را وارد كنیم. برای این منظور بلاك مربوط را از كادر سمت راست انتخاب میكنیم 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ربوطه كه می خواهیم تنظیم كنیم را از سمت چپ انتخاب میكنی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ل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سپس پارامتر های آن را وارد میكنیم در مور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ید مقدا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وارد 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1074" t="0" r="27959" b="0"/>
          <a:stretch/>
        </p:blipFill>
        <p:spPr>
          <a:xfrm>
            <a:off x="0" y="1066680"/>
            <a:ext cx="5029200" cy="50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CEC-419B-4B0B-B76E-0AF048EE6D5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2880" y="91440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چنین لازم است تا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تخاب كنیم. انتخاب نام بر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یاری است ولی بهتر است كه یك نام مرتبط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 سیستمی كه مربوط به آن بلاك است انتخاب شود. و سپس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li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میزنیم تا اطلاعات برای آن بلاك ثب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1074" t="0" r="27959" b="0"/>
          <a:stretch/>
        </p:blipFill>
        <p:spPr>
          <a:xfrm>
            <a:off x="0" y="1066680"/>
            <a:ext cx="5029200" cy="50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96C-BD5F-4FF4-A871-D91B647AC54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76560" y="10663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گر بخواهیم یك بلاك دیگر را هم با همین سیستم مرتبط كنیم كافیست نا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 را با این بلاك یكی بگیریم. بدی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تیب كلی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آن کپی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1063" t="0" r="28724" b="0"/>
          <a:stretch/>
        </p:blipFill>
        <p:spPr>
          <a:xfrm>
            <a:off x="0" y="1066680"/>
            <a:ext cx="5029200" cy="50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1F0-7C80-45F0-947A-70A8FC798B5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aliablilty Block Diagram (RB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3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آنالیز كرد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B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افیست تا دقیقا موارد ذكر شده برای آنالی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عینا تكرار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BB1-3E2B-4CD9-AC86-EBBB34777DB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168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32000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آنكه بتوانیم گیت های جدید به درخت اضافه كنیم، در ابتدا بر روی كلی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 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پنجره اصلی (بالایی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har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کلیك می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پس در پنجره پایینی كه مربوط ب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‌باشد بر رو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ox Fail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کلیك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888-9662-43D8-98FE-EAEB0A94BE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160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67080" y="3047760"/>
            <a:ext cx="3810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ید باز میشود كه در آن می توانیم اطلاعات مربوط به گیت ر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عیی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C1C-2F85-466F-83CB-3D2AAD1D25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160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67080" y="26668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 اطلاعات شام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موارد زی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باش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ام گی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وع گی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عداد ورو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ضیح اضاف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040-9C46-4A96-AA05-4C6AB1B3F7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1:29:18Z</dcterms:created>
  <dc:creator>X</dc:creator>
  <dc:description/>
  <dc:language>en-US</dc:language>
  <cp:lastModifiedBy>Mehdi Dehghan</cp:lastModifiedBy>
  <dcterms:modified xsi:type="dcterms:W3CDTF">2005-01-09T09:09:19Z</dcterms:modified>
  <cp:revision>72</cp:revision>
  <dc:subject/>
  <dc:title>Slide 1</dc:title>
</cp:coreProperties>
</file>