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650-03D5-4504-830B-E632D7AB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FE9-CCDD-4EF5-AF57-9606C6A6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09F-84ED-4C79-89F1-40F76574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FD1-B760-473B-A6FE-2D8F529D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DC90-52FE-4185-9FFE-AE96F2F1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134A-9A21-4F98-80BA-516FE2BD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0BAF-5DDB-40BB-B732-3914ACDC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21A2-570B-461A-A629-CACD6FD0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5A19-06F3-4B0F-9B9E-3C036A6C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16CA-4ACC-4EEB-BD9B-119DCF2C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6C35-2571-449C-8FD8-86773159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A1E-AEDB-4426-9C6E-85896FF9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0C09-F4A3-42BE-B1A0-97726AF2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FDF2-D021-4359-BD40-DD29C513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6057-A719-4067-A2A7-6ED9BD91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3570-5928-4BE2-80B6-BB9BFE4E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98B9-1C54-4EF4-B6C8-F5082EC7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FE2-6FA7-4926-854F-B1991AC2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68E-19A2-45BC-A43F-89DB5C75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FBB-8790-45F1-A3A8-EEFD2C81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741F-BA19-4EE8-A8E1-5141CAB2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E4B-B747-4EC4-AB2A-F89D27D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58C-8A54-4C81-BC61-14CE5CC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C6A-48D2-4A37-B06E-7E3EF36B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52280"/>
            <a:ext cx="8458200" cy="304920"/>
          </a:xfrm>
          <a:prstGeom prst="rect">
            <a:avLst/>
          </a:prstGeom>
          <a:solidFill>
            <a:srgbClr val="d8d8ec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6F2C-10A6-4F8B-B7DB-A8D2A6077D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607080" y="160200"/>
            <a:ext cx="25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فصل </a:t>
            </a: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5</a:t>
            </a: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 : کدهای چرخش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7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52760" y="83664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486400" y="83664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</a:t>
              </a:r>
              <a:r>
                <a:rPr b="1" lang="fa-IR" sz="1400" spc="-1" strike="noStrike">
                  <a:solidFill>
                    <a:srgbClr val="330066"/>
                  </a:solidFill>
                  <a:latin typeface="Times New Roman"/>
                  <a:cs typeface="Nazanin"/>
                </a:rPr>
                <a:t>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452760" y="53352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86400" y="53352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8640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1D47-FA70-45E7-B1C0-7BFF4D0FA8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63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52760" y="83664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83664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52760" y="53352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53352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00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248520" y="1447920"/>
            <a:ext cx="16002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7720" y="3428640"/>
            <a:ext cx="541044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کد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های چرخش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744640"/>
            <a:ext cx="502920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66"/>
                </a:solidFill>
                <a:latin typeface="Arial"/>
              </a:rPr>
              <a:t>درس پنج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95880" y="2438280"/>
            <a:ext cx="2286000" cy="533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248520" y="3352680"/>
            <a:ext cx="2133360" cy="457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30481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77120" y="2209680"/>
            <a:ext cx="1337760" cy="2189160"/>
            <a:chOff x="6477120" y="2209680"/>
            <a:chExt cx="1337760" cy="2189160"/>
          </a:xfrm>
        </p:grpSpPr>
        <p:sp>
          <p:nvSpPr>
            <p:cNvPr id="123" name=""/>
            <p:cNvSpPr/>
            <p:nvPr/>
          </p:nvSpPr>
          <p:spPr>
            <a:xfrm>
              <a:off x="647712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116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4520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6116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4520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9240" y="249408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7712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116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520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2924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13640" y="277812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77120" y="306072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6116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520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9240" y="30607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712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116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4520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2924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13640" y="334476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7120" y="36291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6116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520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29240" y="362916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712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116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520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2924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116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924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400800" y="15238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848720" y="1676520"/>
            <a:ext cx="60948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188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E2E3-5CA6-41BC-BAD9-BABE22BB4A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66920" y="2852640"/>
            <a:ext cx="47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عمل در مورد مثال ما در شكل روبرو مشخص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66920" y="3716280"/>
            <a:ext cx="4753080" cy="14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شكل عدد ورود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10010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نظر گرفته شده است. در مدار ما عمل جمع یك بیت به صور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o-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 كه با كمك ی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قابل انجام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863640" y="2529000"/>
            <a:ext cx="2200320" cy="32050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flipV="1">
            <a:off x="395280" y="44002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329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BE0-99A3-4B08-A3F7-07CFE089CC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flipV="1">
            <a:off x="7881840" y="20062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39040" y="17780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359920" y="11606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7902720" y="138924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920000" y="2673360"/>
            <a:ext cx="515880" cy="11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59920" y="24559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20000" y="3141720"/>
            <a:ext cx="515880" cy="155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9920" y="30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63640" y="2529000"/>
            <a:ext cx="705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مدار عمل ضرب و جمع تواما انجام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63640" y="2982960"/>
            <a:ext cx="70563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این شكل كه رشته ورودی به صورت بیت به بیت وارد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63640" y="3862440"/>
            <a:ext cx="705636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یت اول به طور هم زمان به سه قسمت مدار وارد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63640" y="4367160"/>
            <a:ext cx="705636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سمت راست بیت ورودی مستقیما وار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نتیجه بدون هیچ تغییر یا تاخیر در خروجى تاثیر می ك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63640" y="3422520"/>
            <a:ext cx="705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لحظه اول تما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p-Flip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ست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920000" y="3760920"/>
            <a:ext cx="515880" cy="155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59920" y="36878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920000" y="4076640"/>
            <a:ext cx="515880" cy="480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9920" y="432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920000" y="5056200"/>
            <a:ext cx="515880" cy="155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59920" y="49831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4E1-19F0-42B2-AAF5-FFE8C57879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63640" y="2529000"/>
            <a:ext cx="7056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ما در قسمت وسط بیت وارد شده به انداز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س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یرتر به خروجى می رس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زیرا در سر راه آ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ip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قرار دا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63640" y="3430440"/>
            <a:ext cx="7056360" cy="7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س عملا در زمانى كه بیت چهارم وارد سیستم می 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ازه بیت اول از این مسیر به خروجى می رس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63640" y="4192560"/>
            <a:ext cx="7056360" cy="7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نبال بیت اول سایر بیت ها هم ب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س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اخیر به خروجى می رس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63640" y="4935600"/>
            <a:ext cx="7056360" cy="7538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بارتی می توان گفت همه آنها به انداز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شیفت پیدا كرده ا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عنی همان چیزی كه ما می خواست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920000" y="448596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377200" y="42577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931160" y="53557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51274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83D-8E37-4AA9-8FC7-E60B2C220A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63640" y="3429000"/>
            <a:ext cx="7056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س عملا ورود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 د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جای مختلف ب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ر تاخیر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ر تاخیر 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ر تاخیر به خروجى می روند و باهم جمع می شوند كه معاد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‌باش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63640" y="4616280"/>
            <a:ext cx="70563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كل زیر مراحل این عمل را نشان میده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63640" y="2637000"/>
            <a:ext cx="7056360" cy="7538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سمت چپ نیز بیت ورودی با یك تاخیر اضافه نسبت به حالت قبل ب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چها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اخیر روی خروجى تاثیر می گذا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931160" y="459396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88360" y="4365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EBF-0616-4163-A5C8-4B12CF299F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35640" y="1952640"/>
            <a:ext cx="3384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16360" y="2889360"/>
            <a:ext cx="3203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كل زیر مراحل این عمل را نشان میده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635280" y="4545000"/>
            <a:ext cx="4314960" cy="12384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464000" y="4508640"/>
            <a:ext cx="360360" cy="32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3781440" cy="29635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63640" y="4941720"/>
            <a:ext cx="2700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عنوان ورو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58920" y="32126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176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885080" y="49604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42280" y="4732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24000" y="51922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512136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35B-3A01-4978-907F-D6C32A07EA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884720" y="1600200"/>
            <a:ext cx="34452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63640" y="360828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تیجه این کد برای مثال ما به صورت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10001110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 كه خود نشان 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مین واقعیت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63640" y="2637000"/>
            <a:ext cx="705636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نوع ک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چرخش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صورت جدا ناپذی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Sepa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898-4852-4E41-AD08-27A2EAE3CD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 گشای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od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758000" y="35128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215200" y="328464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63640" y="2529000"/>
            <a:ext cx="705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اینكه عم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انجام ده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ید رشته ورودی را به چند جمله ای مولد تقسیم كن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63640" y="3357720"/>
            <a:ext cx="705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سئله مهم در اینجا اینست كه سیستم بتواند خطاها را تشخیص ده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63640" y="3789360"/>
            <a:ext cx="705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یك خطای تك بیت داشته باش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املا مشخص است كه باقیمانده تقسی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خواهد ب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885080" y="4168800"/>
            <a:ext cx="388800" cy="231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197920" y="39402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6B1-72FD-461F-841C-396F026C1C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63640" y="3321000"/>
            <a:ext cx="7056360" cy="2468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63640" y="134136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63640" y="186696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 گشای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od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63640" y="2428920"/>
            <a:ext cx="7056360" cy="96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در شكل زیر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 (سمت چپ)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این محاسبات انجام شده است و همان طور كه می بینیم نتیجه آن با ورودی اولیه یكی است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ولی در سمت راست یک بیت خطا دارد و باقیمانده صفر نیس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935-5A43-4737-824E-F29E3FB7A7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 گشای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od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7902720" y="358596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359920" y="3357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63640" y="269388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حال فرض كنید خطا در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بیت باشد، در این صورت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حالت وجود دارد: یكی اینكه هر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بیت كنار هم باشند 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jacent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) و دیگر اینكه از هم جدا باشند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63640" y="3522600"/>
            <a:ext cx="705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در مثال زیر این دو حالت نشان داده شده است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63640" y="3989520"/>
            <a:ext cx="705636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همان طور كه می بینیم وقتی 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</a:rPr>
              <a:t>سه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بیت 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</a:rPr>
              <a:t>خطا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كنار هم نیستند این احتمال وجود دارد كه خطا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</a:rPr>
              <a:t> کش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tec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نشود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3640" y="4726080"/>
            <a:ext cx="7056360" cy="13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ولی وقتی 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</a:rPr>
              <a:t>سه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بیت 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</a:rPr>
              <a:t>خطا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كنار هم هستند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خطا حتما تشخیص داده می شود. در اینجا فرقی نمی كند كه خطا تبدیل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یا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یا حتی تركیبى از هردوی آنها باشد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می توانید به عنوان تمرین این موضوع را خودتان بررسی كنید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7885080" y="42764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42280" y="40482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7866000" y="51400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23200" y="491184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ADC-DF16-4CFF-AA31-ECA489F3F9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63640" y="1916280"/>
            <a:ext cx="7056360" cy="46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پیاده سازى مدار تقسیم كنند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63640" y="3176640"/>
            <a:ext cx="7056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رای مثال فرض كنید چند جمله ای دریافت شده را ب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(X)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نشان دهیم و چند جمله ای مولد را ب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X)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و چند جمله ای اصلی (د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اده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اصلی) را ب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(X)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نشان دهیم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63640" y="4365720"/>
            <a:ext cx="7056360" cy="9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در این حالت اگر هیچ نوع خطایی وجود نداشته باشد (باقیمانده صفر باشد) ب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ع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د از آنكه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(X)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را دریافت كردیم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آن را به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X)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تقسیم می كنیم ت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(X)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به دست آید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92720" y="5373720"/>
            <a:ext cx="17272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عنی داری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64000" y="5372280"/>
            <a:ext cx="259236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(X) = E(X)/G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63640" y="2421000"/>
            <a:ext cx="705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رای آنكه مدار تقسیم كننده را بسازیم می توانیم ا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در مدار ضرب كننده استفاده كنیم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7931160" y="47797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88360" y="45514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20000" y="5553000"/>
            <a:ext cx="544680" cy="92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388360" y="54165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79640" y="5624640"/>
            <a:ext cx="1541520" cy="6127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16120" y="600876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5C5-32E6-4FDB-BA74-F9E01636FF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781680" y="16002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67080" y="1858680"/>
            <a:ext cx="236232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330066"/>
                </a:solidFill>
                <a:latin typeface="Arial"/>
              </a:rPr>
              <a:t> مقدمه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0408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129440" y="1752480"/>
            <a:ext cx="642600" cy="838440"/>
            <a:chOff x="7129440" y="1752480"/>
            <a:chExt cx="642600" cy="838440"/>
          </a:xfrm>
        </p:grpSpPr>
        <p:sp>
          <p:nvSpPr>
            <p:cNvPr id="161" name=""/>
            <p:cNvSpPr/>
            <p:nvPr/>
          </p:nvSpPr>
          <p:spPr>
            <a:xfrm>
              <a:off x="712944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6552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0196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2944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6552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0196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38400" y="186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2944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6552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196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3840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74840" y="196992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29440" y="207864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6552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196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38400" y="207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2944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6552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0196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840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74840" y="218736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29440" y="229608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6552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0196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8400" y="229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944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6552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196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3840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6552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3840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7848720" y="1828800"/>
            <a:ext cx="457200" cy="380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29600" y="990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629400" y="1371240"/>
            <a:ext cx="1600200" cy="609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772400" y="3123720"/>
            <a:ext cx="380880" cy="381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53280" y="28195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58960" y="2889360"/>
            <a:ext cx="7061040" cy="27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همانطور كه می دانیم این احتمال وجود دارد كه داده ها در هنگام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انتقال با خطا (به ویژه خطا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st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) مواجه شوند. در این فصل کدهای چرخشی را که یکی از رایج ترین روش های کدگذاری برای این موارد است را بررسی می کنیم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8B8-94A7-40B7-9F6E-D1EB5151E9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پیاده سازى مدار تقسیم كنند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920000" y="2708280"/>
            <a:ext cx="385920" cy="187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848720" y="3429000"/>
            <a:ext cx="4428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15200" y="3321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63640" y="2529000"/>
            <a:ext cx="705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فرض كنی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(X) = 1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63640" y="2997360"/>
            <a:ext cx="7056360" cy="8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س دار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X) = D(X)G(X) = D(X)(1+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D(X) + D(X)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63640" y="3862440"/>
            <a:ext cx="705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در نتیج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63640" y="4292640"/>
            <a:ext cx="705636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X) = E(X) - D(X)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E(X) + D(X)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63640" y="4761000"/>
            <a:ext cx="705636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رابطه بالا علامت تفریق را با علامت جمع عوض كرد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علت این كار اینست كه تفریق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یمان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o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جمع آن معادل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920000" y="4076640"/>
            <a:ext cx="4428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86840" y="39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920000" y="4695840"/>
            <a:ext cx="4428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86840" y="45878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885080" y="5445000"/>
            <a:ext cx="4428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51920" y="53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DA6-EC45-4774-AED4-534A657D08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پیاده سازى مدار تقسیم كنند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920000" y="2637000"/>
            <a:ext cx="385920" cy="258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920000" y="3284640"/>
            <a:ext cx="407880" cy="264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251920" y="33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63640" y="2529000"/>
            <a:ext cx="705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بر همین اساس مدار را طراحی می كن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63640" y="2997360"/>
            <a:ext cx="7056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دار ما باید ورودی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(X)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 را ب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(X)(X3 + X4)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جمع كند و دوباره كل آن را به عنوان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(X)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ه مدار بر گرداند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 Back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826920" y="3897360"/>
            <a:ext cx="7093080" cy="18954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7885080" y="4659480"/>
            <a:ext cx="407880" cy="264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17000" y="46958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26C-C642-4662-AD77-708299EECB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پیاده سازى مدار تقسیم كنند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0000" y="2852640"/>
            <a:ext cx="385920" cy="42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63640" y="2600280"/>
            <a:ext cx="705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مدار بالا تمام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ا در ابتدای كار مقدا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دار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63640" y="3105000"/>
            <a:ext cx="7056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قتی اطلاعات وارد مدار می 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خروجى آن به صورت بیت به بیت تولید می شود ك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اول آن داده های اصلی هستند 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بعدی آن باقیمانده است كه بای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63640" y="4402080"/>
            <a:ext cx="7056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باقی ماند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ب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شان دهنده این است كه یك خطا روى داده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63640" y="5281560"/>
            <a:ext cx="705636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كل و جدول زیر اطلاعات را در هر مرحله نشان میده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885080" y="45572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342280" y="4329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931160" y="53924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388360" y="51642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51D-696F-4FBB-BCAD-2A6517205C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پیاده سازى مدار تقسیم كنند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920000" y="2781360"/>
            <a:ext cx="385920" cy="114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63640" y="2529000"/>
            <a:ext cx="7056360" cy="452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كل و جدول زیر اطلاعات را در هر مرحله نشان میده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863640" y="3213000"/>
            <a:ext cx="7021440" cy="2517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971640" y="3249720"/>
            <a:ext cx="2376360" cy="122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08000" y="3500280"/>
            <a:ext cx="3276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3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ورود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 O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ست كه براب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4+O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ی‌باش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31640" y="3681360"/>
            <a:ext cx="570240" cy="142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213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90F-A152-4EF5-9964-0C19FAE4F0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7920000" y="1557000"/>
            <a:ext cx="309600" cy="42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63640" y="278136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کدها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چرخش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عداد بیت ها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فزون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به تعداد بیت هاى داده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وابسته نی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63640" y="3645000"/>
            <a:ext cx="7056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د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تواند بزرگ شود بدون آنك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K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جه چند جمله ای مولد) افزایش یابد یا آنكه پیچیدگی مد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یشتر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14C-0323-4AF1-9619-61F2ED44B7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تشخیص خطا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2529000"/>
            <a:ext cx="7056360" cy="8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ط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خطایی است كه بصورت پشت سر هم یك مجموعه از بیت ها را از بین می ب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63640" y="3416400"/>
            <a:ext cx="70563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 طور كه گفتیم یكی از مزیت های کد ها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چرخش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ین است كه می توانند این نوع خطا ها را تشخیص ده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63640" y="4943520"/>
            <a:ext cx="705636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روش تنها خطاهائ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ه طول آنها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متر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ضمین می كند كه بتواند تشخیص ده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63640" y="4178160"/>
            <a:ext cx="7056360" cy="7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بزرگ شد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طول داده اصلی) قابلیت کد برای تشخیص خطاه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م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920000" y="44924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377200" y="42642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931160" y="53924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388360" y="51642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8DE-8192-424F-874A-08255DCCE9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تشخیص خطا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63640" y="2529000"/>
            <a:ext cx="705636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بسیاری از كاربردها لازم است كه تضمینی وجود داشته باشد كه تمامی خطاهائی كه طول آنها براب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یا كمتر ا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قابل تشخیص باش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63640" y="3681360"/>
            <a:ext cx="70563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حالت از کد چرخش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16,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فاده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E1D-929B-4A3C-8D51-807BAA1EAB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63640" y="3827520"/>
            <a:ext cx="705636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(X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63640" y="2673360"/>
            <a:ext cx="705636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ركاربرد ترین این کدها اصطلاح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C-16 (16-Bit Cyclic Redundancy Cod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گفته می شود كه چند جمله ای مولد آن به صورت زیر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63640" y="5303880"/>
            <a:ext cx="705636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(X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63640" y="451152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چنی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C-CCIT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ه چند جمله ای مولد آن به صورت زیر ا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كی از کدهای معروف می‌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7920000" y="47080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377200" y="44798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7931160" y="54208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388360" y="5192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860-C242-443E-9E03-36DD6BD914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885080" y="431136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42280" y="40831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63640" y="2600280"/>
            <a:ext cx="705636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چرخش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ك دسته مهم و پر كاربرد از کد ها هستند. از این نوع کدها بصورت گسترده در سیستمهای ذخیره سازی داده ه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ag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و انتقال داده ها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mmunicati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استفاده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3640" y="4221000"/>
            <a:ext cx="7056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کدها معمولا بصور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جدا ناپذی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epa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ستند ولی با این حال کدها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چرخش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جدا پذیر هم وجود دا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ECF-F93E-4A9B-9E78-F18A4A8CE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85080" y="3753000"/>
            <a:ext cx="399960" cy="12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63640" y="393372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م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 تقسیم داده کد شده به همان عدد ثابت بدست می آ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63640" y="2635200"/>
            <a:ext cx="7056360" cy="7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صول كلی این کدها ساده است. عمل کد گذاری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به وسیله ضرب كردن 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د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یك عدد ثابت انجام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63640" y="3429000"/>
            <a:ext cx="70563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مل ضرب از نوع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یمان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o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‌باش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63640" y="472428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باقیمانده تقسیم صف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شان دهنده آن است كه یك خطا وجود دار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63640" y="6129360"/>
            <a:ext cx="705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رض كنیم كه هر كلمه از داده ها داراى طو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85080" y="4406760"/>
            <a:ext cx="399960" cy="12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09080" y="41911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20000" y="5091120"/>
            <a:ext cx="399960" cy="12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244000" y="48751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E61-E3DA-4CE0-AE67-A36E65A049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flipV="1">
            <a:off x="7902720" y="200160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59920" y="1773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59920" y="1125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902720" y="135396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885080" y="2612520"/>
            <a:ext cx="585720" cy="95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94840" y="2384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48720" y="3213000"/>
            <a:ext cx="604800" cy="12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77200" y="299736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3387600"/>
            <a:ext cx="705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طول نهائی عدد کد شده است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3640" y="2529000"/>
            <a:ext cx="705636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حال بیایید نگاه دقیق ترى به این روش بیندازیم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63640" y="2948040"/>
            <a:ext cx="70563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رض كنید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تعداد بیت هاى داده ای باشد كه می خواهیم آن را کد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كنیم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63640" y="3805200"/>
            <a:ext cx="705636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ین عدد کد شده از ضر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بیت اولیه در یك عدد ثابت كه طول آن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K+1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است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به دست می آید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63640" y="4503600"/>
            <a:ext cx="7056360" cy="12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ین عدد ثابت را می توانیم به صورت یك چند جمله ای نشان دهیم كه اصطلاحا به آن چند جمله ای مولد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or Polynomial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 می گویند كه در آن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ها و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های عدد ثابت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K+1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بیتی به عنوان ضرایب چند جمله ای با درجه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K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می‌باشد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20000" y="3608280"/>
            <a:ext cx="550800" cy="265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94840" y="364500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85080" y="4292640"/>
            <a:ext cx="676440" cy="156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59920" y="43005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66000" y="5199120"/>
            <a:ext cx="604800" cy="12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94840" y="49831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29C-899C-476C-9689-F309D1DB9A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920000" y="1600200"/>
            <a:ext cx="309600" cy="100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920000" y="2816280"/>
            <a:ext cx="385920" cy="79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85080" y="3537000"/>
            <a:ext cx="442800" cy="19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51920" y="332748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3640" y="3825720"/>
            <a:ext cx="705636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(X) = 1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63640" y="2600280"/>
            <a:ext cx="705636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روشن تر شدن موضوع به  مثال زیر توجه كنید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3640" y="3033720"/>
            <a:ext cx="705636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رض كنید عدد ثابت مورد نظ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100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نتیجه چند جمله ای مولد برابر است ب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85080" y="4221000"/>
            <a:ext cx="442800" cy="19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51920" y="40114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91F-5D23-45B5-A05A-8133152882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5080" y="2781360"/>
            <a:ext cx="420840" cy="114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3392640"/>
            <a:ext cx="442800" cy="163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15200" y="33274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63640" y="3860640"/>
            <a:ext cx="705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 ک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تواند هر نوع خطای تك بیتی را تشخیص ده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63640" y="2600280"/>
            <a:ext cx="705636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کد چرخش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63640" y="3033720"/>
            <a:ext cx="705636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کد چرخش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ز یك چند جمله ای مولد از درج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k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فاده می كند و طول داده کد شده آ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خواهد ب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63640" y="4365720"/>
            <a:ext cx="705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چنین می تواند هر نوع خطا 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مجاور را تشخیص ده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63640" y="486900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سن این سیستم این است كه می تواند خطاه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تشخیص ده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885080" y="4033800"/>
            <a:ext cx="442800" cy="163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51920" y="39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85080" y="4653000"/>
            <a:ext cx="442800" cy="163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51920" y="45878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85080" y="5300640"/>
            <a:ext cx="442800" cy="163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51920" y="52354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CF3-630C-4A7B-82FF-46D3DB9449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20000" y="2744640"/>
            <a:ext cx="385920" cy="150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956720" y="3357720"/>
            <a:ext cx="328320" cy="407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63640" y="2529000"/>
            <a:ext cx="705636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یاده سازى سخت افزار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3640" y="2948040"/>
            <a:ext cx="70563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آنكه سخت افزار تولید كننده این کد را بسازیم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رای سخت ضرب كننده استفاده می كن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3640" y="3710160"/>
            <a:ext cx="7056360" cy="10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مثال فرض كنید كه می خواهیم چند جمله 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پیاده سازی كنیم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100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. مدا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کد گذاری) به صورت زیر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63640" y="4473720"/>
            <a:ext cx="4788000" cy="1260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7885080" y="4545000"/>
            <a:ext cx="442800" cy="163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51920" y="44798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43640" y="5300640"/>
            <a:ext cx="2711520" cy="4096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78840" y="5481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D61-2B6F-464D-A650-E135918617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clic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چرخش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63640" y="2529000"/>
            <a:ext cx="705636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ناصر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ه ب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شان داده شده اند در واقع همان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ای نو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ستند كه اطلاعات را در ه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خود نگه می دارند به این ب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 ه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ناص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اخیر هم می گوی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63640" y="3811680"/>
            <a:ext cx="705636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ببینیم این مدار چگونه كار می ك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63640" y="4257720"/>
            <a:ext cx="7056360" cy="1409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طور كه می دانیم عمل ضرب چه در سیستمهای دهدهی و چه در سیستم دود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 به این شكل است كه هر رقم عدد دوم در عدد اول ضرب می شود و نتیجه هر بار یك رقم جابجا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igh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شود و در نهایت كل آنها با هم جمع می شو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920000" y="49240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77200" y="46958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51B-53A3-4069-B11D-1D8984422F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4:37:50Z</dcterms:created>
  <dc:creator>mm</dc:creator>
  <dc:description/>
  <dc:language>en-US</dc:language>
  <cp:lastModifiedBy>Mehdi Dehghan</cp:lastModifiedBy>
  <dcterms:modified xsi:type="dcterms:W3CDTF">2005-10-29T07:45:39Z</dcterms:modified>
  <cp:revision>929</cp:revision>
  <dc:subject/>
  <dc:title>درس دو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