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99F3-DC2C-4046-A82B-28F9267C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4386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67080" y="3613680"/>
            <a:ext cx="4386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30AC-2042-49A3-83B3-13403942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514560" y="106632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67080" y="361368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14560" y="361368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DE97-2679-42E3-BB3C-1097B9FC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141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50280" y="1066320"/>
            <a:ext cx="141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233480" y="1066320"/>
            <a:ext cx="141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267080" y="3613680"/>
            <a:ext cx="141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750280" y="3613680"/>
            <a:ext cx="141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233480" y="3613680"/>
            <a:ext cx="141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9EE8-2151-4AB0-84D8-698AD186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1772-8185-4331-B6A6-047273E2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267080" y="1066320"/>
            <a:ext cx="4386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59C6-ECA3-4ECA-9EBE-69BA7905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4386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A205-6DAA-4AED-9097-B8A6C422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2140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514560" y="1066320"/>
            <a:ext cx="2140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AD32-75A7-49DF-838F-661E838F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F788-9E73-4260-838E-0086F063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FF89-4673-4F97-AFE3-41510FFE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514560" y="1066320"/>
            <a:ext cx="2140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67080" y="361368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FD46-9673-42DA-A501-396D6E6D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267080" y="1066320"/>
            <a:ext cx="4386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244A-9802-4041-8CB1-6A4D6AFE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2140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14560" y="106632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14560" y="361368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8F51-0E56-481B-A352-1E639068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14560" y="106632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267080" y="3613680"/>
            <a:ext cx="4386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5674-ACFA-48AF-A7DF-180EB0A3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4386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67080" y="3613680"/>
            <a:ext cx="4386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896B-8D90-415F-993C-0DBFA9AF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14560" y="106632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67080" y="361368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514560" y="361368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14AF-67D0-4351-8B54-10C63C13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141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750280" y="1066320"/>
            <a:ext cx="141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233480" y="1066320"/>
            <a:ext cx="141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267080" y="3613680"/>
            <a:ext cx="141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5750280" y="3613680"/>
            <a:ext cx="141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233480" y="3613680"/>
            <a:ext cx="141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FF98-9F5F-4FE5-916B-01FE0702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4386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57DC-EC50-4B01-B518-27860000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2140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514560" y="1066320"/>
            <a:ext cx="2140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BF64-00AE-4E0C-8DA7-0B7666E8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DCEA-3067-42FB-8D6F-8424ADD7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9691-E69B-489A-A0F4-B20EF728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514560" y="1066320"/>
            <a:ext cx="2140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67080" y="361368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C6A3-0AFF-437A-AD00-444317F5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2140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14560" y="106632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14560" y="361368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8B58-3B5E-432B-B3B6-577A439A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67080" y="106632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14560" y="1066320"/>
            <a:ext cx="2140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67080" y="3613680"/>
            <a:ext cx="4386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BDED-2B37-4156-83FC-98E431A8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5104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9BFA-BC83-47AF-89D1-804906AEB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1440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267080" y="1066320"/>
            <a:ext cx="4386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172200"/>
            <a:ext cx="8077320" cy="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fa-IR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03F2-92CB-4C4D-8DD3-460E65CC2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172200"/>
            <a:ext cx="8077320" cy="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348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Nazanin"/>
              </a:rPr>
              <a:t>برنام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Shar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Nazanin"/>
              </a:rPr>
              <a:t>برا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Nazanin"/>
              </a:rPr>
              <a:t>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Nazanin"/>
              </a:rPr>
              <a:t> آنكه بتواند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Nazanin"/>
              </a:rPr>
              <a:t>(بدون تغییر در فایل های پیکربندی)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Nazanin"/>
              </a:rPr>
              <a:t>اجرا شود، حتما بايد در آدر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:\Sharpe-Gu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Nazanin"/>
              </a:rPr>
              <a:t>کپ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Nazanin"/>
              </a:rPr>
              <a:t>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Nazanin"/>
              </a:rPr>
              <a:t> شود. براي اين كار كافيست كه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Nazani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Nazanin"/>
              </a:rPr>
              <a:t>فايل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Nazanin"/>
              </a:rPr>
              <a:t>فشرده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Nazanin"/>
              </a:rPr>
              <a:t>حاو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Nazanin"/>
              </a:rPr>
              <a:t>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Nazanin"/>
              </a:rPr>
              <a:t> برنامه را د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:\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Nazanin"/>
              </a:rPr>
              <a:t>باز كني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Nazanin"/>
              </a:rPr>
              <a:t>سپس بای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Interface SHAR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"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Nazanin"/>
              </a:rPr>
              <a:t>را از دایرکتور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:\Sharpe-Gu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Nazanin"/>
              </a:rPr>
              <a:t>اجرا 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9-1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آماده سازی برای اجر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89A8-3464-4D26-A16D-FD1BAF41AE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001000" cy="51609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1640" y="266688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واع گیت هایی كه می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اند استفاده شو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Kof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KofN Iden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2FCD-EB0E-4E32-AEE7-EE082DD083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001000" cy="5160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267080" y="2666880"/>
            <a:ext cx="38102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 صورتی ك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of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ی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ofN Ident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انتخاب كنیم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باید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قدا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نیز در همی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B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یین كنیم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A4C-60B4-4389-A4CC-0130DC325B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1076400"/>
            <a:ext cx="7315200" cy="50194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560" y="3733920"/>
            <a:ext cx="6553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پس از آنكه گیت جدید اضافه شد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ی توانیم بر رو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ایی كه در زیر آن قرار دارد کلیك كنیم (در صورتی كه در حال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Add G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اشیم) و گیتهای جدیدی را اضافه كنی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AF57-46DA-4109-8B32-FB15914183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315200" cy="50198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240" y="3733920"/>
            <a:ext cx="6553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مچنین می توانیم ب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굴림"/>
              </a:rPr>
              <a:t>کلیک سمت راس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روی گیت ها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آنها را ب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بدیل كنی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یا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ا انتخا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Modif. G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ز پنجره اصلی مشخصات گیت ها را تغییر دهی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D70-C90C-4D5C-BBE4-F1AAC4B7A4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96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جه كنید كه هر نوع تغییری به سادگی انجام نمی گیرد. پس سعی كنید تا حد امكان از اول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طرح کنید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ا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یاز به تغییرات زیادی نداشته باشی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9572-0053-42E3-B35C-FDEA6014D6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586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س از آنكه تمامی گیتهای مورد نیاز به مجموع اضافه شد. باید پارامتر های مربوط ب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ا را مشخ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ی این كار روی ه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ی كه می خواهیم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، کلیک سمت راست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كنیم و گزینه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Param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انتخاب می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9CC5-C796-4E9B-8108-372875EA2B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1299" t="0" r="11050" b="0"/>
          <a:stretch/>
        </p:blipFill>
        <p:spPr>
          <a:xfrm>
            <a:off x="0" y="1066680"/>
            <a:ext cx="5257800" cy="5029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3760" y="10663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Dialog B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از شده می توانیم برا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ورد نظر اطلاعات مربوطه ر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تکمی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كنی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این اطلاعات شامل</a:t>
            </a:r>
            <a:r>
              <a:rPr b="0" lang="fa-IR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و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ض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یح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نا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صف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Attrib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9CFB-1DFD-4F97-BD51-EB436EE0F0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1299" t="0" r="11050" b="0"/>
          <a:stretch/>
        </p:blipFill>
        <p:spPr>
          <a:xfrm>
            <a:off x="0" y="1066680"/>
            <a:ext cx="5257800" cy="5029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05520" y="91404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 قسمت صفت می توانید نوع صفت مثل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ilure 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"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انتخاب كنیم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ساس نوع صفتی كه انتخاب كردیم در قسمت پایین باید مقادیر آن را وارد كنیم. مثلا برا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ilure 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"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د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굴림"/>
              </a:rPr>
              <a:t>نرخ خراب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اید وارد شو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D9BC-94AE-4C01-A10C-E316CE9C3A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1299" t="0" r="11050" b="0"/>
          <a:stretch/>
        </p:blipFill>
        <p:spPr>
          <a:xfrm>
            <a:off x="0" y="1066680"/>
            <a:ext cx="5257800" cy="50292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05520" y="106632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س از وارد كردن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داد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vent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ا كمك دكم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Vali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آنرا ثبت می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توجه داشت باشید كه اگر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Validat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را کلیك نكنید</a:t>
            </a: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 اطلاعات ثبت نخواهد شد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3C55-75E2-448C-9180-6ED24AB813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1299" t="0" r="11050" b="43939"/>
          <a:stretch/>
        </p:blipFill>
        <p:spPr>
          <a:xfrm>
            <a:off x="0" y="1066680"/>
            <a:ext cx="525780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05520" y="10666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گر بخواهیم یك سری صفت مشترك را برای چندی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ه كار ببریم می توانیم از گزین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ep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ستفاده 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403848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733920"/>
            <a:ext cx="91440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یعنی پس از آنكه نا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ompon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 صفت را ثبت كردیم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گزین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ep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انتخاب میكنیم 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Vali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کلیك میكنیم. از این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س ه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یگری كه اسم هما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ompon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استفاده كن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خود به خود تمامی صفت های آ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یش کپی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شو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2819520"/>
            <a:ext cx="121896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4097-8EF1-43EA-8FE7-5602203EC4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0" r="54390" b="-4482"/>
          <a:stretch/>
        </p:blipFill>
        <p:spPr>
          <a:xfrm>
            <a:off x="228600" y="1066680"/>
            <a:ext cx="3962520" cy="5029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Verdana"/>
              </a:rPr>
              <a:t>آماده سازی برای اجر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67080" y="1142640"/>
            <a:ext cx="4386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س از اجرای برنامه، پیش از انجام هر كاری نیاز است تا یك پروژه جدید ایجاد شو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ی انجام این عمل گزین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Men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فایل را انتخاب می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FF39-B99A-459A-9079-4B1352D68C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اضافه کردن مدلهای جدید به پروژ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348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یك پروژه می تواند شامل چندین مدل از نوع های مختلف باش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 صورتی كه بخواهیم مدل های بیشتری را به پروژه اضافه كنیم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ی توانیم از منو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Model Edi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یك مدل جدید ایجاد كنیم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ثلا با انتخا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New Fault T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"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یك مد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جدید به پروژه اضافه میشو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8391-D68D-4DA7-BFCE-EFB7BB7138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9-3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 تحلیل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348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س از آنكه طراحی کامل شد می توانیم آن را آنالیز 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ی این كار ابتدا منو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nalysis Editor -&gt;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انتخاب می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A9A8-A79F-40B3-BF90-763A9985AC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0" t="0" r="3128" b="0"/>
          <a:stretch/>
        </p:blipFill>
        <p:spPr>
          <a:xfrm>
            <a:off x="0" y="1523880"/>
            <a:ext cx="4724280" cy="4572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تحلیل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57040" y="9907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ی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DialogB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شبیه زیر باز میشو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و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ه به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صورت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پیش فرض انتخاب شده است می توانی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نوع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تحلی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انتخاب كنی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ثلا محاسب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eli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ی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Mean Time To Failure (MTTF)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228600" y="1600200"/>
            <a:ext cx="12193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0215-A462-42B9-B1F8-70083643DA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876920" cy="4572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تحلیل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ی انجام این كار ابتدا در قسمت بالا نام مدلی كه می خواهیم آنالیز كنیم را انتخاب میكنی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عمولا این نام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صورت پی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فرض درست اس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3809880"/>
            <a:ext cx="4419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سپس آنالیزی كه می خواهیم را انتخاب كرده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 با زدن دكمه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آن را به لیست سمت راست اضافه می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9EBE-7232-497D-B93C-450D9FA639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0" t="0" r="17187" b="0"/>
          <a:stretch/>
        </p:blipFill>
        <p:spPr>
          <a:xfrm>
            <a:off x="0" y="1523880"/>
            <a:ext cx="4038480" cy="4572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تحلیل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ضی از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تحلی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ها نیاز به پارامترهایی هم دارن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ثلا برای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قابلیت اطمینا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اید زمان را وارد كنیم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2057400"/>
            <a:ext cx="5257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زمان هم می تواند یك عدد ثابت باش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هم می تواند یك رنج عددی ب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굴림"/>
              </a:rPr>
              <a:t>گامهای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ثابت باشد. برای وارد كردن یك رنج عددی كافیست عدد شروع (مثل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، عدد پایان (مثل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، و عد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گا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مثل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را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ویرگو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،)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جدا كرده و به ترتیب بنویسیم (مثل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،10،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(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6643-F342-4157-8FA6-908B9324FC3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تحلیل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96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 صورتی كه در قسمت پارامتر خو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v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굴림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جای وارد كردن یك عدد یك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Variable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گذاشته باشیم، باید در هنگام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تحلی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قدار آ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هم وارد 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 توانیم بطورهمزمان چندین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تحلی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به لیست اضافه 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ACF1-7F4A-4528-8B29-A1222A866F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876920" cy="4572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تحلیل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274320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س از انتخاب تمامی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تحلی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ای لازم دكم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فشار می دهیم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6200" y="5029200"/>
            <a:ext cx="12193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0234-951F-4A48-A4CB-6D88CA663C5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0" t="0" r="4224" b="0"/>
          <a:stretch/>
        </p:blipFill>
        <p:spPr>
          <a:xfrm>
            <a:off x="0" y="1066680"/>
            <a:ext cx="5181480" cy="50230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تحلیل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76560" y="144792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قسم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Output ta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ود به خود انتخاب میشود و نتیجه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حاسبات در آن نوشت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شده اس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 توانیم از نتایج کپی یا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چاپ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گیر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BFA9-13CF-48EC-ABD6-1A708777309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1389" t="0" r="2778" b="0"/>
          <a:stretch/>
        </p:blipFill>
        <p:spPr>
          <a:xfrm>
            <a:off x="0" y="990720"/>
            <a:ext cx="5257800" cy="514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تحلیل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800240" y="106632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لاوه بر مشاهده نتایج بصورت متنی می توان آن را به صورت گرافیک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هم مشاهده كر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ین كار را ب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Tab Gra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 توان انجام 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ا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3F18-CC49-46C9-98D5-C23A086538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1389" t="0" r="2778" b="0"/>
          <a:stretch/>
        </p:blipFill>
        <p:spPr>
          <a:xfrm>
            <a:off x="0" y="990720"/>
            <a:ext cx="5257800" cy="514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تحلیل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2880" y="106668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 قسمت بالا نام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انتخابی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ی گراف را وارد می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 سمت راست می توانی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نام برای محورها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تخاب 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كلیه این نام ها صرفا جنب</a:t>
            </a: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ه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 نمایشی دارند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96C-0A0A-401D-8C57-C9D972D9DFF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047600"/>
            <a:ext cx="4834080" cy="49723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Verdana"/>
              </a:rPr>
              <a:t>آماده سازی برای اجر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724280" y="1066320"/>
            <a:ext cx="4005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سپس ی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BoxDialo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از می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شود كه می توانیم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موارد زی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را مشخ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ص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كنیم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نام پروژ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تاریخ ایجاد پروژ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یجاد كننده پروژ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Ow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نوع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مدلسازی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ه می خواهیم انجام دهی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نام مد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همچنین می توانیم یك توضیح برای پروژه بنویسی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6C05-1361-410D-A57B-BB6C4947F1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1389" t="0" r="2778" b="0"/>
          <a:stretch/>
        </p:blipFill>
        <p:spPr>
          <a:xfrm>
            <a:off x="0" y="990720"/>
            <a:ext cx="5257800" cy="514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تحلیل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81120" y="1066680"/>
            <a:ext cx="3962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 قسم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Output/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وع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تحلی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معلوم می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اید توجه داشت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اشیم كه همه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تحلی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ای مختلف را نمی توان به صورت گرافیک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شاهده كر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8198-9F11-469B-BF3A-82067B7D80E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rcRect l="1389" t="0" r="2778" b="0"/>
          <a:stretch/>
        </p:blipFill>
        <p:spPr>
          <a:xfrm>
            <a:off x="0" y="990720"/>
            <a:ext cx="5257800" cy="514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تحلیل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181120" y="1066680"/>
            <a:ext cx="3962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س از آن باید متغیر مورد استفاده برای محو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ه همان ورودی ت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ع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ی‌باشد و پلات بر حسب آن انجام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شود و همچنین مقدار شروع، پایان و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گا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ای آن را مشخ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ص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D7F1-0F6D-4BCC-ACF9-2009F7C34FE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1389" t="0" r="2778" b="0"/>
          <a:stretch/>
        </p:blipFill>
        <p:spPr>
          <a:xfrm>
            <a:off x="0" y="990720"/>
            <a:ext cx="5257800" cy="514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تحلیل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81120" y="1066680"/>
            <a:ext cx="3962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س از انجام این كار با زدن دكم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Pl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 توانیم نتیجه را به صورت گرافیکی مشاهده 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E5B3-F7F8-47A9-A439-C937E3B88A8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2353" t="0" r="1176" b="0"/>
          <a:stretch/>
        </p:blipFill>
        <p:spPr>
          <a:xfrm>
            <a:off x="0" y="1066680"/>
            <a:ext cx="6248520" cy="50770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تحلیل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324480" y="1218960"/>
            <a:ext cx="2819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تیجه پالت ر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ی توان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چاپ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굴림"/>
              </a:rPr>
              <a:t>ذخیره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یا با یك فایل دیگر تركی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omb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ر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6385-91FF-4FEA-8F5B-EACFB4953CA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9-4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굴림"/>
              </a:rPr>
              <a:t>مارک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ی ایجاد یك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مدل مارکف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 توانیم با ایجاد یك پروژه جدید و انتخا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Markov Ch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یك مدل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مارک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یجاد كنیم و یا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ینكه از طریق منو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Model Edi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گزین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New Markov Ch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انتخاب كنیم و یك مدل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مارکف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ه پروژه موجود اضافه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1E23-C7CE-4C9C-8BAC-0F58685F96A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924680" cy="50500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굴림"/>
              </a:rPr>
              <a:t>مارک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18960" y="3733920"/>
            <a:ext cx="69008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س از آنكه مدل را ایجاد كردیم یك صفحه خالی همانن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این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صفحه ظاهر میشو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45A-E033-434C-86B5-CE64E9AA44C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001000" cy="51040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굴림"/>
              </a:rPr>
              <a:t>مارک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90560" y="2514240"/>
            <a:ext cx="5562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رای اضافه كردن یك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굴림"/>
              </a:rPr>
              <a:t> گره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در قسمت بالا بر روی دكم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N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کلیك میكنیم و پس از آن در هر جای صفحه كه کلیك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نیم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یك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گره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جدید ایجاد میشو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گره ه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 بصورت خود كار شماره گ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ذ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ری خواهند ش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892E-01D7-4CEE-A824-EAD1BB37941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3772080" cy="28101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굴림"/>
              </a:rPr>
              <a:t>مارک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مچنین می توانیم نام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گر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ا به دلخواه تغییر دهیم. برای این كار بر روی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گر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ight Cli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كنیم و گزینه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hange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انتخاب میكنیم. د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Dialog B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از شده نام جدید را وارد می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ام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گر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ی تواند متنی یا عددی باش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9ABB-3A35-44B4-B10C-A2F901F0D72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924680" cy="5065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굴림"/>
              </a:rPr>
              <a:t>مارک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95280" y="380952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حالا باید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پیکان ها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Ar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رتباطی را بین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گره ه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 رسم كنیم. برای این كار بر روی كلی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Ar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کلیك میكنیم و سپس بر روی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گره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بدا كه می خواهی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Ar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ز آن شروع شود کلیك را نگه میداریم و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را حركت داده و روی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گره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قصد آن را رها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یكنی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32C1-C746-43FF-87EE-02F364CDA29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848720" cy="50277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굴림"/>
              </a:rPr>
              <a:t>مارک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94920" y="419112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بدین ترتیب ی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r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ین مبدا و مقصد كشیده خواهد ش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8C68-A92F-41F9-BB01-DFB59B0DFD9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Verdana"/>
              </a:rPr>
              <a:t>آماده سازی برای اجر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ا كمك نرم افزا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SHAP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굴림"/>
              </a:rPr>
              <a:t>می توان از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ل های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زیر استفاده کر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굴림"/>
              </a:rPr>
              <a:t> درخت خطا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굴림"/>
              </a:rPr>
              <a:t>دیاگرام بلوکی قابلیت اطمینا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D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굴림"/>
              </a:rPr>
              <a:t>مدل مارک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Markov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굴림"/>
              </a:rPr>
              <a:t>گراف قابلیت اطمینا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eliability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4622-A180-4B36-9A5B-639868F408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077320" cy="5112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굴림"/>
              </a:rPr>
              <a:t>مارک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19320" y="4114800"/>
            <a:ext cx="7162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در مرحله بعدی باید یك مقدار به ه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Ar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굴림"/>
              </a:rPr>
              <a:t>انتساب دهی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رای این كار باید روی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굴림"/>
              </a:rPr>
              <a:t>کلیک سمت راست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رده و گزین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را انتخاب كنی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B815-C101-45C2-93E7-A2F85DA3EA8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229600" cy="50342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굴림"/>
              </a:rPr>
              <a:t>مارک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19320" y="2514600"/>
            <a:ext cx="7162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سپس د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Dialog B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از شده مقدار مربوط را وارد می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3DF4-79B2-4151-B70E-D81E9FDAF05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rcRect l="0" t="0" r="0" b="2042"/>
          <a:stretch/>
        </p:blipFill>
        <p:spPr>
          <a:xfrm>
            <a:off x="838080" y="1066680"/>
            <a:ext cx="7315200" cy="51055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굴림"/>
              </a:rPr>
              <a:t>مارک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47920" y="4038480"/>
            <a:ext cx="6324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جای حرف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کلم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M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 بجای حرف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굴림"/>
              </a:rPr>
              <a:t>کلمه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Lambda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می نویسی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6DB3-1D34-43F7-A2AF-5A85853F25E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15200" cy="50929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굴림"/>
              </a:rPr>
              <a:t>مارک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240" y="4114800"/>
            <a:ext cx="6629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رای آنكه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گره ها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را جابجا كنیم باید روی گزین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Move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کلیك كرد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 سپس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گره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ورد نظر را انتخاب كنیم (با یك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ك کلیك)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در این حالت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گره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نتخاب شده به رنگ زرد در می آید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حالا می توانیم به صور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Drag And Dr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"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آن را جابجا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نی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0F0-E7FD-424B-BEB0-8E290009C02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620120" cy="51055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굴림"/>
              </a:rPr>
              <a:t>مارک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47920" y="4266720"/>
            <a:ext cx="6781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مچنین اگر بخواهیم كه ی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r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تغییر شكل دهیم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ی توانیم با کلیك بر روی دكمه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Modif. Ar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ین كار را انجام ده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A58-69A6-433F-A69A-830BDFA7F4C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620120" cy="51055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굴림"/>
              </a:rPr>
              <a:t>مارک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23520" y="2514240"/>
            <a:ext cx="6705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پس از آنك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odif. Ar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نتخا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ش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ی توانیم دكمه مو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را روی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r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ور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نظر نگه داریم و به سمتی كه می خواهیم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رك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هیم. این كار باعث شكست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شدن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r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ز نقطه کلی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شده میشو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ی توانیم این كار را چندین ب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 تكرار كنیم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ه شكل مورد دلخواه درآی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87FB-CBE4-4485-BF6A-8F978E0D5E9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1022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굴림"/>
              </a:rPr>
              <a:t>مارک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گر بخواهیم مق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ادی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چندی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r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هم زمان تغییر دهیم. می توانیم ا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ate Matri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ستفاده كنیم. پس از انتخا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ate Matri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ی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Dialog B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ه این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شكل باز میشود كه در آن یك جدول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ق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ادی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وی ه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نشان میدهد. ردیف ها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شان دهنده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گر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بدا و ستون ها نشان دهنده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گر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قصد می باشن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8F6-6660-4E73-83BA-615CEB534DF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102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굴림"/>
              </a:rPr>
              <a:t>مارک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 این صفحه می توانیم به راحتی از طریق ماتریس بالا ی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dit B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ایین اطلاعات جدید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ر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ارد كنیم، آنها را تغییر دهیم یا حذف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نیم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B4E6-2CE1-4B09-8E0C-01C9A21B42A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굴림"/>
              </a:rPr>
              <a:t>مارک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348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ار دیگر پس از انجام این مراحل یعنی كشیدن مدل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مارک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 توانیم آن را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تحلی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كنیم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رای این كار همانن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ز قسمت منو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nalysis Editor -&gt;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انتخاب می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تحلی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وی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مدل مارکف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سیار شبیه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تحلی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و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ست به همین خاطر ما در اینجا تنها نكاتی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ر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ه متفاوت است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ذكر می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F8F2-823D-42C4-941B-BF1C97BBB20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rcRect l="3000" t="14038" r="6000" b="8773"/>
          <a:stretch/>
        </p:blipFill>
        <p:spPr>
          <a:xfrm>
            <a:off x="0" y="1066680"/>
            <a:ext cx="5334120" cy="50198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굴림"/>
              </a:rPr>
              <a:t>مارک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257440" y="1142640"/>
            <a:ext cx="3886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قتی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تحلی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انتخاب میكنیم، صفحه ای همانند صفحه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تحلی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ظاهر میشود. حالا باید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تحلی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ور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ظرمان را وارد انتخاب كنیم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ثل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eli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굴림"/>
              </a:rPr>
              <a:t>).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قتی آن را انتخاب میكنیم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صفحه ر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وبرو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از میشو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7211-4418-437B-A744-298C33E019A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Verdana"/>
              </a:rPr>
              <a:t>آماده سازی برای اجر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348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س از این مرحله، بست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ه اینكه كدام یك از مدل ها انتخاب شده باشن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د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پنجره مربوط به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آن مدل ظاهر میشو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در اینجا نحوه مدل سازی مدل های معروف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ر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ه در درس "تحمل پذیری خطا" كاربرد دارن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ررسی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ی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ک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C7E4-DCE4-4244-B809-7E9F0215AB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rcRect l="3000" t="14038" r="6000" b="8773"/>
          <a:stretch/>
        </p:blipFill>
        <p:spPr>
          <a:xfrm>
            <a:off x="0" y="1066680"/>
            <a:ext cx="5334120" cy="50198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굴림"/>
              </a:rPr>
              <a:t>مارک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181120" y="114264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در این صفحه باید مقادیر اولیه احتمال حضور در ه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Initial Proba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را مشخ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ص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كنیم. برای این كار از قسم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Name Of The 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شمار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ربوطه را انتخاب میكنیم و سپس در قسم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Initial Prob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حتمال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ولیه حضور در آ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را وارد میكنیم، و دكم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Vali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را میزنی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13E4-F2EA-46EE-B520-E7157B9B4FE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rcRect l="3000" t="17551" r="6000" b="7672"/>
          <a:stretch/>
        </p:blipFill>
        <p:spPr>
          <a:xfrm>
            <a:off x="0" y="1066680"/>
            <a:ext cx="5181480" cy="50594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굴림"/>
              </a:rPr>
              <a:t>مارک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105520" y="106632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س از آنكه این مقادیر وارد ش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رای این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پیکربندی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یك نام انتخاب كرده و آن را د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dit B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ایین صفحه وار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كنیم و دكم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Validate Configu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کلیك میكنیم. با این كار نام انتخابی ما در لیست سمت چپ اضافه میشو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3DD1-EF4C-49E7-A58E-881040F7B61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굴림"/>
              </a:rPr>
              <a:t>مارک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حالا می توانیم با زدن دكم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l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ز این صفحه خارج شده و به صفح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و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كنون همانن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اید مقادیر متغیرها را وارد كنیم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که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قادیری همچون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T (Time), Lamb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M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ستند. سپس با زدن دكم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굴림"/>
              </a:rPr>
              <a:t>تحلی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ورد نظر به لیست سمت راس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Output Sel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ضافه میشود، و با زدن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كم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굴림"/>
              </a:rPr>
              <a:t> تحلی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جام خواهد ش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30D0-C990-402A-A2D7-8498BDB04BD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굴림"/>
              </a:rPr>
              <a:t>مارک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96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مانن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 توانیم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گراف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م رسم كنیم. از آنجایی كه نحوه رسم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همانند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‌باش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ر اینجا از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ضیح مجدد آن خود داری می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BD12-142E-40B1-BB0A-CEFD603883D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9-5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 مدل دیاگرام بلوکی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B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272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ی ایجاد ی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B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مانند سایر مدل ها عمل میكنیم. یعنی یا ا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New Pro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ستفاده میكنیم یا از من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Model Edi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ه هردوی آنها را قبلا مرور كردی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B94A-C635-4107-9620-9E42869A8DB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86800" cy="50324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209680" y="2286000"/>
            <a:ext cx="6477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س از آنكه ی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B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جدید ایجاد كردیم یك صفحه كه در آن تنها یك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굴림"/>
              </a:rPr>
              <a:t>بلو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جود دار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یجاد میشو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س از آنكه این صفحه ایجاد شد، می توانیم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بلو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ربوطه را بس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ط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هیم تا دیاگرام مورد نظر ایجاد شو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61A8-D16D-4165-A6E0-952F987FE0C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rcRect l="13929" t="0" r="15040" b="0"/>
          <a:stretch/>
        </p:blipFill>
        <p:spPr>
          <a:xfrm>
            <a:off x="0" y="990720"/>
            <a:ext cx="4800600" cy="51465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0" y="106632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در صورتی كه بخواهیم بل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 مورد نظر به چند بل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 سری تبدیل شود، روی كلید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Se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کلیك میكنیم و سپس روی بل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ورد نظر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 کلیك میكنی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ی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Dialog 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ه صورت زیر باز میشود كه در آن می توانیم تعداد بل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 های مورد نظر را وارد كنیم. مثلا اگر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ی خواهیم بل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 مربوطه تبدیل به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بل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 شود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عدد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را وارد میكنی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8B37-A030-4730-934C-45E76D5A1A7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1465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647960" y="2514240"/>
            <a:ext cx="4157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حال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ل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و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اریم كه به صورت خود كار شماره 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ذ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ری شده اند. می توانیم در صورت تمایل هر كدام از آنها را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جددا بس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ط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ه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F025-E07B-4124-B7B1-CF6562DF83F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rcRect l="13224" t="2595" r="6610" b="0"/>
          <a:stretch/>
        </p:blipFill>
        <p:spPr>
          <a:xfrm>
            <a:off x="0" y="106668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800240" y="106632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ثلا اگر بخواهیم یكی از بل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 ها را به شکل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چند بلوک مواز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 بیاوریم، گزینه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Parall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انتخاب میكنیم و تعداد بل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ای مورد نیاز را وارد می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4AFE-78BE-4ACD-B46F-E3AE4069C58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-57240" y="990720"/>
            <a:ext cx="9201240" cy="518616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267080" y="2666880"/>
            <a:ext cx="4648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ه در نتیجه آن بل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 انتخاب شده تبدیل ب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ل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 موازی میشو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A278-87FE-4718-BC52-5A873A8E48F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077320" cy="5168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9-2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3200400"/>
            <a:ext cx="6858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 صورتی كه مد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تخاب شود صفحه ای همانند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ای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فحه ظاهر میشو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ین صفحه تنها شامل ی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B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‌باشد به نا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ilur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، كه به عنوان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گره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یشه در درخت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خطا 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ستفاده میشو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E441-D59A-4571-845A-A91A91B8AB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0864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990360" y="4800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ستفاده ا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Kof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م بسیار شبیه گزینه های دیگر است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با این تفاوت كه د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از شده باید عددها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را وارد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نی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1287-6104-407F-9C1F-C2E62EC7B6F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0403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190760" y="4876920"/>
            <a:ext cx="4724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پس از آ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ل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 ایجاد میشود كه به یك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رای دهنده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Vo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ی رون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CF15-12FE-4530-8A87-85DCCAB0421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952880" y="106632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پس انجام این كار باید پارامترهای مربوط به بل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 ها را وارد كنیم. برای این كار بر روی كلی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d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کلیك میكنیم ت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Dialog B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روبرو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از شو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1074" t="0" r="27959" b="0"/>
          <a:stretch/>
        </p:blipFill>
        <p:spPr>
          <a:xfrm>
            <a:off x="0" y="1066680"/>
            <a:ext cx="5029200" cy="506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FC8D-B630-4406-BB7F-8358D7C3B17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952880" y="914400"/>
            <a:ext cx="4191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حالا می توانیم هر بل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ی كه می خواهیم را انتخاب كرده و سپس اطلاعات آن را وارد كنیم. برای این منظور بل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 مربوط را از كادر سمت راست انتخاب میكنیم و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Attrib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ربوطه را از سمت چپ انتخاب میكنیم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ثل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Failure 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 سپس پارامترهای آن را وارد میكنیم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در مور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Failure 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اید مقدار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نرخ خرابی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را وارد كنی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rcRect l="1074" t="0" r="27959" b="0"/>
          <a:stretch/>
        </p:blipFill>
        <p:spPr>
          <a:xfrm>
            <a:off x="0" y="1066680"/>
            <a:ext cx="5029200" cy="506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F533-F62C-4F2C-A3B9-27141231BA5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952880" y="914400"/>
            <a:ext cx="4191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مچنین لازم است تا ی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تخاب كنیم. انتخاب نام برا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ختیاری است ولی بهتر است كه یك نام مرتبط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ا سیستمی كه مربوط به آن بل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 است انتخاب شود و سپس دكم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Vali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میزنیم تا اطلاعات برای آن بل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 ثبت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شو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rcRect l="1074" t="0" r="27959" b="0"/>
          <a:stretch/>
        </p:blipFill>
        <p:spPr>
          <a:xfrm>
            <a:off x="0" y="1066680"/>
            <a:ext cx="5029200" cy="506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5162-F02A-4270-B104-9707CE8C2BB5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876560" y="106632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گر بخواهیم یك بل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 دیگر را هم با همین سیستم مرتبط كنیم كافیست نا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آن را با این بل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 یكی بگیریم. بدین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رتیب كلی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ttribu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ای آن کپی میشو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rcRect l="1063" t="0" r="28724" b="0"/>
          <a:stretch/>
        </p:blipFill>
        <p:spPr>
          <a:xfrm>
            <a:off x="0" y="1066680"/>
            <a:ext cx="5029200" cy="507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012D-1A56-4819-A710-3C2220212CF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348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ی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تحلی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رد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B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افیست تا دقیقا موارد ذكر شده برای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تحلی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 تكرار 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B24D-39B9-47E0-A3DC-9C1E63525BA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077320" cy="5168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3200040"/>
            <a:ext cx="7162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ی آنكه بتوانیم گیت های جدید به درخت اضافه كنیم، در ابتدا بر روی كلی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dd G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 پنجره اصلی (بالایی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Shar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کلیك میكنیم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سپس در پنجره پایینی كه مربوط ب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‌باشد بر رو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Box Fail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کلیك میكنی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3585-5D47-4A1E-9C76-1E7E51EF2E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001000" cy="51609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ault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67080" y="3047760"/>
            <a:ext cx="38102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ی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Dialog B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جدید باز میشود كه در آن می توانیم اطلاعات مربوط به گیت را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تعیین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كنیم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A148-4FB5-4D3F-8915-CA6EEAE8AD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001000" cy="51609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267080" y="2666880"/>
            <a:ext cx="38102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ین اطلاعات شامل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موارد زیر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ی باش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نام گی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نوع گی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عداد ورود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وضیح اضاف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64E4-6644-46E8-965F-D4A3BD6C05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11:29:18Z</dcterms:created>
  <dc:creator>X</dc:creator>
  <dc:description/>
  <dc:language>en-US</dc:language>
  <cp:lastModifiedBy>Mehdi Dehghan</cp:lastModifiedBy>
  <dcterms:modified xsi:type="dcterms:W3CDTF">2005-04-30T12:17:36Z</dcterms:modified>
  <cp:revision>84</cp:revision>
  <dc:subject/>
  <dc:title>Slide 1</dc:title>
</cp:coreProperties>
</file>