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58DE-489E-4EC0-BAC5-5DC0B09D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B612-8AEE-452E-9B0B-F1AF9258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F792-5614-4AE7-8038-892877C9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3AFA-E58C-42DA-91DC-014C4472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D5D2-5779-4EB4-80A6-188A8171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F533-9B5D-434E-8C8D-21C24986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6244-E482-45E3-B33D-15CE3AAA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BA06-D281-450F-8B35-74D49FCC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0809-253D-43BD-BB54-C641A13F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58F7-BC31-4A87-B3B9-FFD39BF0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CEBA-B536-4451-9011-CC31AD1D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7A8C-FA81-4FBC-B6CB-9633E4EE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0C05-B2CF-48B5-89FC-92A0765E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7F0B-6AAC-4E1F-A245-BCD02666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C9E9-5BC5-43F1-B48B-93563CBE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ECF3-BDC3-4C19-921B-6B824258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2C4A-85DF-475C-AE97-C82B308A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CB53-D91B-4082-BAE0-8ADE1E10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9E3F-164D-4705-9AB0-8E68CDA5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3509-78F3-46FA-A9B1-36B738B8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D306-4DC6-47B6-BD7E-B36558FC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2BEF-206B-4101-9B52-416004D1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8BDF-B372-492E-A9CE-7A6BDEA1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31C2-857C-4486-B9AC-E0FA1952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152280"/>
            <a:ext cx="8458200" cy="304920"/>
          </a:xfrm>
          <a:prstGeom prst="rect">
            <a:avLst/>
          </a:prstGeom>
          <a:solidFill>
            <a:srgbClr val="d8d8ec"/>
          </a:solidFill>
          <a:ln w="93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F4BE-79B1-4767-B379-47754F76B5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563440" y="160200"/>
            <a:ext cx="401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330066"/>
                </a:solidFill>
                <a:latin typeface="Arial"/>
              </a:rPr>
              <a:t>فصل </a:t>
            </a:r>
            <a:r>
              <a:rPr b="1" lang="ar-SA" sz="1600" spc="-1" strike="noStrike">
                <a:solidFill>
                  <a:srgbClr val="330066"/>
                </a:solidFill>
                <a:latin typeface="Arial"/>
              </a:rPr>
              <a:t>6</a:t>
            </a:r>
            <a:r>
              <a:rPr b="1" lang="fa-IR" sz="1600" spc="-1" strike="noStrike">
                <a:solidFill>
                  <a:srgbClr val="330066"/>
                </a:solidFill>
                <a:latin typeface="Arial"/>
              </a:rPr>
              <a:t> : دیاگرام بلوکی قابلیت اطمین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15408" t="20229" r="7734" b="2609"/>
          <a:stretch/>
        </p:blipFill>
        <p:spPr>
          <a:xfrm>
            <a:off x="657360" y="1219320"/>
            <a:ext cx="7495920" cy="468612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609480" y="533520"/>
            <a:ext cx="7510680" cy="606240"/>
            <a:chOff x="609480" y="533520"/>
            <a:chExt cx="7510680" cy="606240"/>
          </a:xfrm>
        </p:grpSpPr>
        <p:sp>
          <p:nvSpPr>
            <p:cNvPr id="7" name=""/>
            <p:cNvSpPr/>
            <p:nvPr/>
          </p:nvSpPr>
          <p:spPr>
            <a:xfrm>
              <a:off x="609480" y="836640"/>
              <a:ext cx="2843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ویرایش : اول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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دوم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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   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سوم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452760" y="836640"/>
              <a:ext cx="2033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پیوند به صفحات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486400" y="836640"/>
              <a:ext cx="2633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نام مولف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: </a:t>
              </a:r>
              <a:r>
                <a:rPr b="1" lang="fa-IR" sz="1400" spc="-1" strike="noStrike">
                  <a:solidFill>
                    <a:srgbClr val="330066"/>
                  </a:solidFill>
                  <a:latin typeface="Times New Roman"/>
                  <a:cs typeface="Nazanin"/>
                </a:rPr>
                <a:t>مهدی دهقا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80" y="533520"/>
              <a:ext cx="2843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صفحه ......... از ....... صفح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452760" y="533520"/>
              <a:ext cx="2033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پیوند از صفحات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486400" y="533520"/>
              <a:ext cx="2633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1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عنوان پروژه :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طراحی سیستمهای مطمئ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09480" y="53352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09480" y="113976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12016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48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09480" y="83664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8640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45276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rcRect l="15408" t="20229" r="7734" b="2609"/>
          <a:stretch/>
        </p:blipFill>
        <p:spPr>
          <a:xfrm>
            <a:off x="657360" y="1219320"/>
            <a:ext cx="7495920" cy="4686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8471-1E4B-4A88-8CC9-E1FE5EBF0D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9480" y="533520"/>
            <a:ext cx="7510680" cy="606240"/>
            <a:chOff x="609480" y="533520"/>
            <a:chExt cx="7510680" cy="606240"/>
          </a:xfrm>
        </p:grpSpPr>
        <p:sp>
          <p:nvSpPr>
            <p:cNvPr id="63" name=""/>
            <p:cNvSpPr/>
            <p:nvPr/>
          </p:nvSpPr>
          <p:spPr>
            <a:xfrm>
              <a:off x="609480" y="836640"/>
              <a:ext cx="2843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ویرایش : اول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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دوم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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   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سوم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52760" y="836640"/>
              <a:ext cx="19573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پیوند به صفحات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10080" y="836640"/>
              <a:ext cx="2710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نام مولف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: مهدی دهقا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9480" y="533520"/>
              <a:ext cx="2843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صفحه ......... از ....... صفح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52760" y="533520"/>
              <a:ext cx="19573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پیوند از صفحات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10080" y="533520"/>
              <a:ext cx="2710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1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عنوان پروژه :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طراحی سیستمهای مطمئ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80" y="53352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480" y="113976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016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48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9480" y="83664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1008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5276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248520" y="1447920"/>
            <a:ext cx="160020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837720" y="3428640"/>
            <a:ext cx="5410440" cy="60804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دیاگرام بلوکی قابلیت اطمینا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ility Block Diagram (RB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2744640"/>
            <a:ext cx="5029200" cy="60804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66"/>
                </a:solidFill>
                <a:latin typeface="Arial"/>
              </a:rPr>
              <a:t>درس شش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95880" y="2438280"/>
            <a:ext cx="2286000" cy="5335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1880" y="20574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6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248520" y="3352680"/>
            <a:ext cx="2133360" cy="4572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1880" y="30481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6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477120" y="2209680"/>
            <a:ext cx="1337760" cy="2189160"/>
            <a:chOff x="6477120" y="2209680"/>
            <a:chExt cx="1337760" cy="2189160"/>
          </a:xfrm>
        </p:grpSpPr>
        <p:sp>
          <p:nvSpPr>
            <p:cNvPr id="123" name=""/>
            <p:cNvSpPr/>
            <p:nvPr/>
          </p:nvSpPr>
          <p:spPr>
            <a:xfrm>
              <a:off x="6477120" y="22096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61160" y="22096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45200" y="22096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7120" y="24940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61160" y="24940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45200" y="24940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29240" y="249408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77120" y="27781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61160" y="27781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45200" y="27781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29240" y="27781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13640" y="277812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77120" y="306072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61160" y="306072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45200" y="306072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29240" y="306072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7120" y="334476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61160" y="334476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45200" y="334476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29240" y="334476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13640" y="334476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77120" y="36291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61160" y="36291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45200" y="36291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29240" y="362916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77120" y="39132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1160" y="39132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45200" y="39132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29240" y="39132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61160" y="41972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29240" y="41972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400800" y="1523880"/>
            <a:ext cx="0" cy="358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848720" y="1676520"/>
            <a:ext cx="609480" cy="3045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8188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9651-98A6-4940-9645-A9B93D3AED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914400" y="1375920"/>
            <a:ext cx="685800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6-2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قابلیت اطمینان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در سیستم های سر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7772400" y="3111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229600" y="2882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914400" y="1916280"/>
            <a:ext cx="6858000" cy="10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سیستمهای سری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(بلوکها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BD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به صورت سری باشند) قابلیت اطمینا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ابر با حاصل ضرب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قابلیت اطمینا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ك تكِ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لوکه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ی آن اس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959280" y="3032280"/>
            <a:ext cx="3813120" cy="10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گر فرض كنی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(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برابر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قابلیت اطمینان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در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بلو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م است، آنگاه داری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20880" y="3032280"/>
            <a:ext cx="2930400" cy="10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229600" y="20574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16000" y="3105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7775280" y="1600200"/>
            <a:ext cx="453960" cy="1000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7772400" y="2362320"/>
            <a:ext cx="457200" cy="759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611280" y="3607920"/>
            <a:ext cx="288720" cy="1810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360" y="4146480"/>
            <a:ext cx="3833640" cy="10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حال اگر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بلو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م داراى نرخ خراب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 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ثابت به اندازه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باشد داری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153280" y="41781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7772400" y="4406760"/>
            <a:ext cx="380880" cy="1526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34920" y="4149720"/>
            <a:ext cx="291636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153280" y="501660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7772400" y="5245200"/>
            <a:ext cx="380880" cy="1522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959280" y="5221440"/>
            <a:ext cx="3798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پس در نتیجه برای سیستم های سری داری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42840" y="5121360"/>
            <a:ext cx="2916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0920" y="3968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646200" y="4471560"/>
            <a:ext cx="288720" cy="1810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50920" y="501336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646200" y="5516640"/>
            <a:ext cx="288720" cy="1807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295280" y="3068640"/>
            <a:ext cx="1944720" cy="9907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1403280" y="4160880"/>
            <a:ext cx="1800360" cy="7524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1440000" y="5121360"/>
            <a:ext cx="896760" cy="7380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2340000" y="5146560"/>
            <a:ext cx="1044720" cy="67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627B-A4DD-409D-8EC0-41A07E33CD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20880" y="4113360"/>
            <a:ext cx="6858000" cy="14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7827840" y="3405240"/>
            <a:ext cx="565200" cy="1015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317080" y="3176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34920" y="2133720"/>
            <a:ext cx="6858000" cy="8348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مچنی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TTF (Mean Time To Failur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ای سیستم های سری برابر است ب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941400" y="3076560"/>
            <a:ext cx="6858000" cy="5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MTTFs = 1/λs = 1/ Σλ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244000" y="4076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7812000" y="4305240"/>
            <a:ext cx="432000" cy="2034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244000" y="213372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7786800" y="2362320"/>
            <a:ext cx="457200" cy="3045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40000" y="4545000"/>
            <a:ext cx="971280" cy="539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664000" y="4545000"/>
            <a:ext cx="971280" cy="539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87640" y="4545000"/>
            <a:ext cx="971640" cy="539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"/>
          <p:cNvCxnSpPr>
            <a:stCxn id="383" idx="3"/>
            <a:endCxn id="384" idx="1"/>
          </p:cNvCxnSpPr>
          <p:nvPr/>
        </p:nvCxnSpPr>
        <p:spPr>
          <a:xfrm>
            <a:off x="2421000" y="4814640"/>
            <a:ext cx="234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84" idx="3"/>
            <a:endCxn id="385" idx="1"/>
          </p:cNvCxnSpPr>
          <p:nvPr/>
        </p:nvCxnSpPr>
        <p:spPr>
          <a:xfrm>
            <a:off x="3645000" y="4814640"/>
            <a:ext cx="234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88" name=""/>
          <p:cNvSpPr/>
          <p:nvPr/>
        </p:nvSpPr>
        <p:spPr>
          <a:xfrm>
            <a:off x="4859280" y="479736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16000" y="479736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2821-4460-448D-BCF5-CC0A6DD6EF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 flipV="1">
            <a:off x="7740720" y="2895120"/>
            <a:ext cx="565200" cy="1018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00000" y="2060640"/>
            <a:ext cx="6858000" cy="23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سیستم های موازی برای آنكه بتوانی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(t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را محاسب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كنیم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 ساده تر است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كه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بتدا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reliabil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را حساب كنی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reliabil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كل سیستم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مواز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ابر است با حاصل ضرب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reliabil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تك تكِ اعضای آن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 زیرا وقتی سیستم خراب می شود که تمام اعضای آن خراب شود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6858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6-3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قابلیت اطمینان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در سیستم های مواز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CB17-EABC-4774-AB67-A07EE2DBBD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4751280" y="4653000"/>
            <a:ext cx="300672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 اگر بخواهیم با حسب نرخ خرابی نشان دهیم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داری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934920" y="3537000"/>
            <a:ext cx="2952720" cy="10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34920" y="4653000"/>
            <a:ext cx="370836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1981080"/>
            <a:ext cx="6861240" cy="11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ا توجه به اینك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reli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ر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لوک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ه صورت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(t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reliability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ل به صورت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(t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شان داده میشود داری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924360" y="2816280"/>
            <a:ext cx="2808360" cy="1009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229600" y="20574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16000" y="288936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7772400" y="2362320"/>
            <a:ext cx="457200" cy="759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684360" y="3213000"/>
            <a:ext cx="3240000" cy="1080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153280" y="39625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6732720" y="4191120"/>
            <a:ext cx="1420560" cy="298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153280" y="4800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7772400" y="5029200"/>
            <a:ext cx="380880" cy="1522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50920" y="375300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646200" y="4255560"/>
            <a:ext cx="288720" cy="1810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479736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646200" y="5300280"/>
            <a:ext cx="288720" cy="363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927600" y="3968640"/>
            <a:ext cx="2768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ه در نتیج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3960720" y="2835360"/>
            <a:ext cx="2737080" cy="9572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1008000" y="3564000"/>
            <a:ext cx="2772000" cy="9810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1008000" y="4689360"/>
            <a:ext cx="2987640" cy="1049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004E-01CE-4276-ABC2-BE6E668142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 flipV="1">
            <a:off x="7740720" y="2895120"/>
            <a:ext cx="565200" cy="1018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928800" y="2341440"/>
            <a:ext cx="6858000" cy="835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مقدا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T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نیز برای سیستم های موازی به صورت زیر به دست می آید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824360" y="3249720"/>
            <a:ext cx="2951280" cy="12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3526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7772400" y="3581280"/>
            <a:ext cx="380880" cy="1526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34920" y="3249720"/>
            <a:ext cx="3781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219640" y="587700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4695480" y="5286240"/>
            <a:ext cx="560520" cy="7718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4859280" y="3322800"/>
            <a:ext cx="2879640" cy="11048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2340000" y="3429000"/>
            <a:ext cx="971640" cy="539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340000" y="4869000"/>
            <a:ext cx="971640" cy="539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340000" y="4149720"/>
            <a:ext cx="971640" cy="539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1368360" y="440064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3311280" y="4437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"/>
          <p:cNvCxnSpPr>
            <a:stCxn id="430" idx="0"/>
            <a:endCxn id="427" idx="1"/>
          </p:cNvCxnSpPr>
          <p:nvPr/>
        </p:nvCxnSpPr>
        <p:spPr>
          <a:xfrm flipH="1" flipV="1" rot="5400000">
            <a:off x="1755360" y="3816000"/>
            <a:ext cx="692640" cy="45792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33" name=""/>
          <p:cNvCxnSpPr>
            <a:stCxn id="430" idx="0"/>
            <a:endCxn id="428" idx="1"/>
          </p:cNvCxnSpPr>
          <p:nvPr/>
        </p:nvCxnSpPr>
        <p:spPr>
          <a:xfrm flipH="1" rot="16200000">
            <a:off x="1727640" y="4534920"/>
            <a:ext cx="748440" cy="457920"/>
          </a:xfrm>
          <a:prstGeom prst="bentConnector4">
            <a:avLst>
              <a:gd name="adj1" fmla="val 100192"/>
              <a:gd name="adj2" fmla="val 50668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434" name=""/>
          <p:cNvSpPr/>
          <p:nvPr/>
        </p:nvSpPr>
        <p:spPr>
          <a:xfrm>
            <a:off x="1871640" y="4400640"/>
            <a:ext cx="4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3708360" y="3681000"/>
            <a:ext cx="0" cy="14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3311640" y="3681360"/>
            <a:ext cx="39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3311640" y="5157720"/>
            <a:ext cx="39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EDB5-14E1-4B82-B613-1CA9E8FC94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934920" y="2133720"/>
            <a:ext cx="6858000" cy="12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یك سیست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شام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قطعه یکسا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ست كه اگ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ا از آنها در ح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ل كار باشن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كل سیستم هم در ح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ل كار اس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244000" y="4076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7812000" y="4305240"/>
            <a:ext cx="432000" cy="2034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920880" y="3537000"/>
            <a:ext cx="685800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6858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6-4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قابلیت اطمینان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سیستم ها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ز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 out of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244000" y="213372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7786800" y="2362320"/>
            <a:ext cx="457200" cy="3045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241720" y="3716280"/>
            <a:ext cx="121896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241720" y="4330800"/>
            <a:ext cx="121896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241720" y="5176800"/>
            <a:ext cx="121896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936800" y="3868560"/>
            <a:ext cx="6480" cy="154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936800" y="38685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936800" y="4478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936800" y="5400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31880" y="4478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451400" y="4097160"/>
            <a:ext cx="762120" cy="761760"/>
            <a:chOff x="4451400" y="4097160"/>
            <a:chExt cx="762120" cy="761760"/>
          </a:xfrm>
        </p:grpSpPr>
        <p:sp>
          <p:nvSpPr>
            <p:cNvPr id="456" name=""/>
            <p:cNvSpPr/>
            <p:nvPr/>
          </p:nvSpPr>
          <p:spPr>
            <a:xfrm>
              <a:off x="4451400" y="4097160"/>
              <a:ext cx="762120" cy="761760"/>
            </a:xfrm>
            <a:prstGeom prst="ellipse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451400" y="426384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3460680" y="44784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460680" y="53244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3924360" y="4689360"/>
            <a:ext cx="527040" cy="61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460680" y="386856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17880" y="3868560"/>
            <a:ext cx="53352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213520" y="44784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442120" y="4035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098720" y="40971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770200" y="4797360"/>
            <a:ext cx="6145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spAutoFit/>
          </a:bodyPr>
          <a:p>
            <a:pPr marL="692280" indent="-347760" algn="ctr" rtl="1">
              <a:lnSpc>
                <a:spcPct val="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92280" indent="-347760" algn="ctr" rtl="1">
              <a:lnSpc>
                <a:spcPct val="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92280" indent="-347760" algn="ctr" rtl="1">
              <a:lnSpc>
                <a:spcPct val="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914-EF91-4C7E-819B-0B78F0C0EC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934920" y="1341360"/>
            <a:ext cx="685800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یكی از بهترین مثال ها در این زمینه سیستم ها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R (Triple Module Redundanc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س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244000" y="4076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7812000" y="4305240"/>
            <a:ext cx="432000" cy="2034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934920" y="2168640"/>
            <a:ext cx="6858000" cy="14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685080" indent="-3441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سیست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سه ماژول وجود دارد و از بین آنها راى اكثریت مهم است. یعنی اگر دو تا از آنها سالم باشند راى اكثریت درست است. عملا این سیستم به صورت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ز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مل می كن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244000" y="213372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7786800" y="2362320"/>
            <a:ext cx="457200" cy="3045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971640" y="3608280"/>
            <a:ext cx="68040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just" rtl="1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 rtl="1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241720" y="3913200"/>
            <a:ext cx="121896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241720" y="4527720"/>
            <a:ext cx="121896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241720" y="5137200"/>
            <a:ext cx="121896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936800" y="406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936800" y="406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936800" y="467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936800" y="5361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631880" y="467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451400" y="4294080"/>
            <a:ext cx="762120" cy="761760"/>
            <a:chOff x="4451400" y="4294080"/>
            <a:chExt cx="762120" cy="761760"/>
          </a:xfrm>
        </p:grpSpPr>
        <p:sp>
          <p:nvSpPr>
            <p:cNvPr id="485" name=""/>
            <p:cNvSpPr/>
            <p:nvPr/>
          </p:nvSpPr>
          <p:spPr>
            <a:xfrm>
              <a:off x="4451400" y="4294080"/>
              <a:ext cx="762120" cy="761760"/>
            </a:xfrm>
            <a:prstGeom prst="ellipse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451400" y="44607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3460680" y="46753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460680" y="5284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917880" y="4903920"/>
            <a:ext cx="533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60680" y="40654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917880" y="4065480"/>
            <a:ext cx="53352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213520" y="46753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442120" y="42321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098720" y="4294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DDAC-8360-45A2-A72A-F3CFF91DA7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 flipV="1">
            <a:off x="7827840" y="3405240"/>
            <a:ext cx="565200" cy="1015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317080" y="3176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34920" y="1736640"/>
            <a:ext cx="6858000" cy="8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ای محاسب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 قابلیت اطمینان سیست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ا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ه شكل زیر عمل می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نی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4920" y="2637000"/>
            <a:ext cx="6858000" cy="20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lvl="1" marL="622800" indent="-31284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مان طور كه گفتیم اگ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اژول ا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اژول در ح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ل كار باشن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سیستم در ح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ل كار خواهد بود. بنابراین احتمال هر یك از حالت ها را در نظر می گیریم. یعنی از حالتی كه همه ماژول ها درست باشن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تا حالتی كه فق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تا از آنها درست باشند، سپس تمام این حالت ها را باهم جم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ع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یكنیم تا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قابلیت اطمینا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ل بدست ای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244000" y="213372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7812000" y="2362320"/>
            <a:ext cx="432000" cy="586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EF36-5A74-478F-AAC3-908BBD7231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7775640" y="2924280"/>
            <a:ext cx="581040" cy="856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280360" y="27813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934920" y="1808280"/>
            <a:ext cx="6858000" cy="7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حتمال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تنها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i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ماژول سالم باشد و بقی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ماژول خراب باشد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ه صورت زیر است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8207280" y="36813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7775280" y="3897000"/>
            <a:ext cx="431640" cy="12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34920" y="3608280"/>
            <a:ext cx="685800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نتیجه احتمال كل بصورت زیر در می آی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244000" y="213372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7740360" y="2349360"/>
            <a:ext cx="492120" cy="716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934920" y="4111560"/>
            <a:ext cx="6858000" cy="11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934920" y="2600280"/>
            <a:ext cx="6858000" cy="8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172360" y="42926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7740360" y="4508280"/>
            <a:ext cx="431640" cy="12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2700360" y="2638440"/>
            <a:ext cx="3097080" cy="7905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1692360" y="4149720"/>
            <a:ext cx="5364000" cy="103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537C-1D7C-46D2-819C-8A678AE477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7740720" y="3033720"/>
            <a:ext cx="652320" cy="842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317080" y="288936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209080" y="35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7777080" y="3765600"/>
            <a:ext cx="432000" cy="2030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934920" y="2637000"/>
            <a:ext cx="6858000" cy="82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سیستمها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R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همترین نوع سیستمها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هستند كه در آنها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ست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6858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قابلیت اطمینان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سیستم ها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M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34920" y="3537000"/>
            <a:ext cx="6858000" cy="8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lvl="1" marL="581400" indent="-2919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سیستم به این شكل عمل می كند كه هر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اژول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خروجى خود را تولید می كنند و نتیجه را به یك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رای دهند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ی دهن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934920" y="4437000"/>
            <a:ext cx="685800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رای دهند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ا توجه به راى اكثریت خروجى نهایی را تولید می كن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172360" y="42926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7740360" y="4521240"/>
            <a:ext cx="431640" cy="2030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1902-9C8E-4A03-9A9C-AAE9FB4A8C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781680" y="1600200"/>
            <a:ext cx="1067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67080" y="1858680"/>
            <a:ext cx="2362320" cy="6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300" spc="-1" strike="noStrike">
                <a:solidFill>
                  <a:srgbClr val="330066"/>
                </a:solidFill>
                <a:latin typeface="Arial"/>
              </a:rPr>
              <a:t> مقدمه</a:t>
            </a:r>
            <a:endParaRPr b="1" lang="en-US" sz="2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04080" y="1676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129440" y="1752480"/>
            <a:ext cx="642600" cy="838440"/>
            <a:chOff x="7129440" y="1752480"/>
            <a:chExt cx="642600" cy="838440"/>
          </a:xfrm>
        </p:grpSpPr>
        <p:sp>
          <p:nvSpPr>
            <p:cNvPr id="161" name=""/>
            <p:cNvSpPr/>
            <p:nvPr/>
          </p:nvSpPr>
          <p:spPr>
            <a:xfrm>
              <a:off x="7129440" y="175248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65520" y="175248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01960" y="175248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29440" y="186120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65520" y="186120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01960" y="186120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38400" y="186120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29440" y="196992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65520" y="196992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01960" y="196992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38400" y="196992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74840" y="196992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29440" y="207864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65520" y="207864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01960" y="207864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38400" y="207864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129440" y="218736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65520" y="218736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01960" y="218736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38400" y="218736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74840" y="218736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29440" y="229608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265520" y="229608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01960" y="229608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38400" y="229608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29440" y="240480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65520" y="240480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01960" y="240480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38400" y="240480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65520" y="251352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38400" y="251352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 flipV="1">
            <a:off x="7848720" y="1828800"/>
            <a:ext cx="457200" cy="3808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29600" y="9907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629400" y="1371240"/>
            <a:ext cx="1600200" cy="6094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29600" y="16002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772400" y="3123720"/>
            <a:ext cx="380880" cy="3812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53280" y="28195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105000"/>
            <a:ext cx="6858000" cy="24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این بخش ما با یكی از اصلی ترین روشهای محاسب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 قابلیت اطمینا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سیستمها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شنا می شویم. این روش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دیاگرام بلوکی قابلیت اطمینا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B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ست. همان طور كه از نام این روش پیداست در این روش از یك دیاگرام برای مدل كردن سیستم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ز نقطه نظر قابلیت اطمینا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ستفاده می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شود و سپس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قابلیت اطمینان سیست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ز روی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ن محاسب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ی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شو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4FB5-5A38-4F6F-89A3-CF834F85E9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 flipV="1">
            <a:off x="7827840" y="3405240"/>
            <a:ext cx="565200" cy="1015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317080" y="3176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34920" y="1808280"/>
            <a:ext cx="685800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685080" indent="-3441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ین احتمال وجود دارد كه خو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م دچار خرابی شود. در نتیج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vot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خو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ست هم در نتیجه اثر 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ذ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ر اس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244000" y="4076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7812000" y="4305240"/>
            <a:ext cx="432000" cy="2034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227640" y="3284640"/>
            <a:ext cx="15652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lvl="1" marL="574560" indent="-2883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پس داری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244000" y="213372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7786800" y="2362320"/>
            <a:ext cx="457200" cy="3045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934920" y="2960640"/>
            <a:ext cx="522144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934920" y="3789360"/>
            <a:ext cx="6858000" cy="13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قابلیت اطمینان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R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صورتی كه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(t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رسه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ماژول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آن یكسان باشد و با فرض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رای دهند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یده ال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یعنی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یچگا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خراب نمی شود) برابر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است ب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934920" y="4846680"/>
            <a:ext cx="3637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650520" indent="-32688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0000">
                <a:solidFill>
                  <a:srgbClr val="000000"/>
                </a:solidFill>
                <a:latin typeface="Arial"/>
              </a:rPr>
              <a:t>TM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(3R</a:t>
            </a:r>
            <a:r>
              <a:rPr b="0" lang="en-US" sz="2400" spc="-1" strike="noStrike" baseline="3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2R</a:t>
            </a:r>
            <a:r>
              <a:rPr b="0" lang="en-US" sz="2400" spc="-1" strike="noStrike" baseline="36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392720" y="5302080"/>
            <a:ext cx="338292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ه برحسب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نرخ خراب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یشو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934920" y="5300640"/>
            <a:ext cx="352908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18000">
                <a:solidFill>
                  <a:srgbClr val="000000"/>
                </a:solidFill>
                <a:latin typeface="Arial"/>
              </a:rPr>
              <a:t>TM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3e</a:t>
            </a:r>
            <a:r>
              <a:rPr b="0" lang="en-US" sz="2800" spc="-1" strike="noStrike" baseline="36000">
                <a:solidFill>
                  <a:srgbClr val="000000"/>
                </a:solidFill>
                <a:latin typeface="Arial"/>
              </a:rPr>
              <a:t>-2</a:t>
            </a:r>
            <a:r>
              <a:rPr b="0" lang="fa-IR" sz="3000" spc="-1" strike="noStrike" baseline="36000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3000" spc="-1" strike="noStrike" baseline="36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2e</a:t>
            </a:r>
            <a:r>
              <a:rPr b="0" lang="en-US" sz="2800" spc="-1" strike="noStrike" baseline="36000">
                <a:solidFill>
                  <a:srgbClr val="000000"/>
                </a:solidFill>
                <a:latin typeface="Arial"/>
              </a:rPr>
              <a:t>-3</a:t>
            </a:r>
            <a:r>
              <a:rPr b="0" lang="fa-IR" sz="3000" spc="-1" strike="noStrike" baseline="36000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3000" spc="-1" strike="noStrike" baseline="36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172360" y="50133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7740360" y="5241960"/>
            <a:ext cx="431640" cy="2030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79280" y="29606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610920" y="3392280"/>
            <a:ext cx="323640" cy="2156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79280" y="425772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610920" y="4689360"/>
            <a:ext cx="323640" cy="2160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79280" y="504972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10920" y="5445000"/>
            <a:ext cx="323640" cy="367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1008000" y="2997360"/>
            <a:ext cx="4032360" cy="71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801A-4236-46A9-863D-A9636AD6AE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7740720" y="3068640"/>
            <a:ext cx="666720" cy="2332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331120" y="307332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934920" y="2133720"/>
            <a:ext cx="685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نتیج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TT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آن از رابطه زیر بدست می آی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258040" y="397368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7775640" y="3897000"/>
            <a:ext cx="4824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34920" y="2637000"/>
            <a:ext cx="6858000" cy="82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8258040" y="20304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7811640" y="2259000"/>
            <a:ext cx="446040" cy="1620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34920" y="3537000"/>
            <a:ext cx="6858000" cy="8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ه در مقایسه ب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TT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ای سیستم ها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متر اس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1908000" y="2673360"/>
            <a:ext cx="4427640" cy="75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25F3-3257-4E80-919B-E333A23F37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 flipV="1">
            <a:off x="7827840" y="3405240"/>
            <a:ext cx="565200" cy="1015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317080" y="3176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934920" y="1592280"/>
            <a:ext cx="6858000" cy="9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نمودار زیر مقایسه 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قابلیت اطمینان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بین 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سیستم های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MR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MR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 و ساده را نشان می دهد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34920" y="2637000"/>
            <a:ext cx="6858000" cy="30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244000" y="213372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7775280" y="2362320"/>
            <a:ext cx="468360" cy="586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295280" y="2673360"/>
            <a:ext cx="6048360" cy="297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3E21-D92B-452C-9F24-C532F222B9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 flipV="1">
            <a:off x="7791480" y="3693600"/>
            <a:ext cx="565200" cy="1018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280360" y="34653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934920" y="2133720"/>
            <a:ext cx="6858000" cy="13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lvl="1" marL="595080" indent="-2988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ای آنكه محل برخورد دو منحنی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قابلیت اطمینان سیستم ساده 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R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را ب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یابیم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ی توانی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و سیستم را باهم برابر قرار داده و مقدا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را بر حس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ه دست آوریم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244000" y="4076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7812000" y="4305240"/>
            <a:ext cx="432000" cy="2034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048360" y="3573360"/>
            <a:ext cx="17445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lvl="1" marL="615960" indent="-30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یعنی داری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8244000" y="213372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7786800" y="2362320"/>
            <a:ext cx="457200" cy="3045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934920" y="4184640"/>
            <a:ext cx="464508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&gt; 0.693 /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934920" y="3573360"/>
            <a:ext cx="5021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6000">
                <a:solidFill>
                  <a:srgbClr val="000000"/>
                </a:solidFill>
                <a:latin typeface="Arial"/>
              </a:rPr>
              <a:t>-</a:t>
            </a:r>
            <a:r>
              <a:rPr b="0" lang="fa-IR" sz="2600" spc="-1" strike="noStrike" baseline="36000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600" spc="-1" strike="noStrike" baseline="36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3e</a:t>
            </a:r>
            <a:r>
              <a:rPr b="0" lang="en-US" sz="2600" spc="-1" strike="noStrike" baseline="36000">
                <a:solidFill>
                  <a:srgbClr val="000000"/>
                </a:solidFill>
                <a:latin typeface="Arial"/>
              </a:rPr>
              <a:t>-2λ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2e</a:t>
            </a:r>
            <a:r>
              <a:rPr b="0" lang="en-US" sz="2600" spc="-1" strike="noStrike" baseline="36000">
                <a:solidFill>
                  <a:srgbClr val="000000"/>
                </a:solidFill>
                <a:latin typeface="Arial"/>
              </a:rPr>
              <a:t>-3λ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651640" y="4184640"/>
            <a:ext cx="217800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36840" indent="-319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نتیجه داریم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34920" y="4724280"/>
            <a:ext cx="687708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یعنی به ازا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نرخ خراب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زرگ بهتر است كه از سیستمهای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ساد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ستفاده شو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827840" y="5169960"/>
            <a:ext cx="565200" cy="1018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317080" y="494172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19280" y="3645000"/>
            <a:ext cx="241200" cy="2156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6000" y="328464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19280" y="4402080"/>
            <a:ext cx="241200" cy="2160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16000" y="404172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B0CA-1699-42A4-8857-541B2DB235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 flipV="1">
            <a:off x="7791480" y="3621240"/>
            <a:ext cx="565200" cy="1015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280360" y="339264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934920" y="2133720"/>
            <a:ext cx="685800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678240" indent="-3405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عض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ی از دیاگرام ها را نمی توان به صورت تركیبى از سیستمهای سری و موازی تجزیه كرد. در این نو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ع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سیستم ها باید از راه هاى خاصی استفاده كنی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244000" y="4076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7812000" y="4305240"/>
            <a:ext cx="432000" cy="604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34920" y="4111560"/>
            <a:ext cx="685800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ا كمك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جدول صحت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th 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6858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6-5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قابلیت اطمینان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سیستمهای نه سری نه مواز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8244000" y="213372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7786800" y="2362320"/>
            <a:ext cx="457200" cy="3045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934920" y="3571920"/>
            <a:ext cx="685800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lvl="1" marL="519120" indent="-26064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ا در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مورد این گونه سیستمها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و روش مهم را بررسی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می کنی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934920" y="4653000"/>
            <a:ext cx="685800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ا كمك احتمالات شرط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7791480" y="4917600"/>
            <a:ext cx="565200" cy="1018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280360" y="46893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1B76-C9EC-4346-9931-D9A3A2F0D27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 flipV="1">
            <a:off x="7791480" y="3009960"/>
            <a:ext cx="565200" cy="1015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80360" y="27813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934920" y="2133720"/>
            <a:ext cx="6858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539640" indent="-27108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جازه دهید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و روش را با یك مثال معروف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ررس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نیم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244000" y="4076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 flipV="1">
            <a:off x="4284720" y="4076280"/>
            <a:ext cx="395928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934920" y="2744640"/>
            <a:ext cx="3384720" cy="23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8244000" y="213372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7740720" y="2349360"/>
            <a:ext cx="503280" cy="129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932360" y="2744640"/>
            <a:ext cx="286056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شكل ر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وبرو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را در نظر بگیری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934920" y="5156280"/>
            <a:ext cx="685800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ه این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مدل پ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ی گوییم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7791480" y="5312880"/>
            <a:ext cx="565200" cy="1018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280360" y="50846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971640" y="2781360"/>
            <a:ext cx="3240000" cy="228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98BD-5B8B-4FCA-AF66-1688E0FA9D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7812000" y="3392640"/>
            <a:ext cx="581040" cy="12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317080" y="3176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34920" y="2133720"/>
            <a:ext cx="685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محاسب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مك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th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8244000" y="4076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7740720" y="4041360"/>
            <a:ext cx="503280" cy="250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34920" y="3753000"/>
            <a:ext cx="685800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پس برای مثال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پل، جدول صحت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پنج ستون ورودی و یك خروجى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دارد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244000" y="213372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7775280" y="2362320"/>
            <a:ext cx="468360" cy="219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934920" y="2637000"/>
            <a:ext cx="6858000" cy="10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657360" indent="-33012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بتدا یك جدول صحت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رسم می کنیم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كه ورودی های آن بلوک ها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سیست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ستند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(سالم/خراب)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 خروجی آن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حالت سال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ل سیستم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را نشان میدهد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934920" y="4689360"/>
            <a:ext cx="6858000" cy="8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سالم بود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را با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نطقی و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خراب بود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را با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نطقی نشان می دهی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244000" y="483408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 flipV="1">
            <a:off x="7740720" y="4799160"/>
            <a:ext cx="503280" cy="2505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641B-DF36-4CBB-A5B2-FA6B42EAE8D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 flipV="1">
            <a:off x="7812000" y="3549240"/>
            <a:ext cx="507960" cy="2746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244000" y="3321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934920" y="2133720"/>
            <a:ext cx="6858000" cy="14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671400" indent="-33732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ال همانند آنچه در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تحلیل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دار منطقی انجام می دادیم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ه ازاى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ر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سطر كه خروجی آ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ست یك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عبارت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ی نویسیم كه در آن به ازاى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ها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ی ستون ورود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 به ازاى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ها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ی گذاری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244000" y="4076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7812000" y="4305240"/>
            <a:ext cx="432000" cy="2034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934920" y="4363920"/>
            <a:ext cx="685800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609120" indent="-30600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مان طور كه در شكل های پایین می بینی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قابلیت اطمینان مدل پل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ا كم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th 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حاسب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شده اس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244000" y="213372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7786800" y="2362320"/>
            <a:ext cx="457200" cy="3045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934920" y="3681360"/>
            <a:ext cx="685800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lvl="1" marL="622800" indent="-31284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سپس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ی توانیم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عبارات حاصل را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ساده سازی هم بكنیم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44AC-A78D-43F8-BABF-8A75BCF231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914400" y="1989000"/>
            <a:ext cx="6858000" cy="37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244000" y="213372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7786800" y="2362320"/>
            <a:ext cx="457200" cy="3045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1511280" y="2023920"/>
            <a:ext cx="5653080" cy="371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675C-9952-4A00-9D46-4AF3D8E8FE5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914400" y="1989000"/>
            <a:ext cx="6858000" cy="37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244000" y="213372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7786800" y="2362320"/>
            <a:ext cx="457200" cy="3045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1512720" y="2016000"/>
            <a:ext cx="5651640" cy="369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BAC6-0772-4665-BBA8-2E23ADAFC2B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0" y="1371600"/>
            <a:ext cx="1066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4120" y="1676160"/>
            <a:ext cx="1371600" cy="6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fa-IR" sz="1800" spc="-1" strike="noStrike">
                <a:solidFill>
                  <a:srgbClr val="330066"/>
                </a:solidFill>
                <a:latin typeface="Arial"/>
                <a:ea typeface="Arial"/>
              </a:rPr>
              <a:t>6-1</a:t>
            </a:r>
            <a:r>
              <a:rPr b="1" lang="fa-IR" sz="1800" spc="-1" strike="noStrike">
                <a:solidFill>
                  <a:srgbClr val="330066"/>
                </a:solidFill>
                <a:latin typeface="Arial"/>
                <a:ea typeface="Arial"/>
              </a:rPr>
              <a:t> </a:t>
            </a:r>
            <a:r>
              <a:rPr b="1" lang="fa-IR" sz="2800" spc="-1" strike="noStrike">
                <a:solidFill>
                  <a:srgbClr val="330066"/>
                </a:solidFill>
                <a:latin typeface="Arial"/>
              </a:rPr>
              <a:t>مقدمه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3276720"/>
            <a:ext cx="7086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69228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نحوه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رس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34320" y="1477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053120" y="1554120"/>
            <a:ext cx="642600" cy="838080"/>
            <a:chOff x="7053120" y="1554120"/>
            <a:chExt cx="642600" cy="838080"/>
          </a:xfrm>
        </p:grpSpPr>
        <p:sp>
          <p:nvSpPr>
            <p:cNvPr id="204" name=""/>
            <p:cNvSpPr/>
            <p:nvPr/>
          </p:nvSpPr>
          <p:spPr>
            <a:xfrm>
              <a:off x="7053120" y="155412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89200" y="155412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25640" y="155412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53120" y="166248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9200" y="166248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25640" y="166248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62080" y="166248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53120" y="177120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9200" y="177120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25640" y="177120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2080" y="177120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98520" y="177120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53120" y="187992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89200" y="187992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25640" y="187992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62080" y="187992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53120" y="198864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89200" y="198864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25640" y="198864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2080" y="198864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98520" y="198864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53120" y="209736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89200" y="209736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25640" y="209736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62080" y="209736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53120" y="220608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89200" y="220608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25640" y="220608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62080" y="220608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89200" y="231480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62080" y="231480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8229600" y="16002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7924680" y="1904760"/>
            <a:ext cx="304920" cy="1522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6705720" y="1294920"/>
            <a:ext cx="1523880" cy="685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29600" y="9907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229600" y="24382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71720" y="2657520"/>
            <a:ext cx="6858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ا در این بخش دو موضوع را بررسی میكنی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229600" y="31240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7924320" y="2743200"/>
            <a:ext cx="304920" cy="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7924320" y="3352680"/>
            <a:ext cx="304920" cy="763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41320" y="3710160"/>
            <a:ext cx="70866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نحوه محاسب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ه قابلیت اطمینان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ز روی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229600" y="3809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7919640" y="4005360"/>
            <a:ext cx="397080" cy="1080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4495680"/>
            <a:ext cx="7086600" cy="7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B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نشان میدهد كه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درست کار کردن عناصر سیستم چگونه در درست کار کردن کل سیستم موثر هست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29600" y="44956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924320" y="4800600"/>
            <a:ext cx="381240" cy="1522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E30F-E21B-4464-B7A7-DA350FAC40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 flipV="1">
            <a:off x="7791480" y="2972880"/>
            <a:ext cx="565200" cy="1018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280360" y="27446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934920" y="2097000"/>
            <a:ext cx="6858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650520" indent="-326880" algn="just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محاسبه ب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كمك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احتمالات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 شرط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209080" y="3321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7777080" y="3549600"/>
            <a:ext cx="432000" cy="2034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934920" y="3321000"/>
            <a:ext cx="6858000" cy="6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8244000" y="213372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 flipV="1">
            <a:off x="7775280" y="2349360"/>
            <a:ext cx="468360" cy="129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934920" y="2600280"/>
            <a:ext cx="6858000" cy="6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همان طور كه می دانیم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اگر رویدادی مث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به دو رویداد مجزا از هم بخش بندی شود، آنگاه داری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939960" y="4041720"/>
            <a:ext cx="685800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lvl="1" marL="581400" indent="-291960" algn="just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به طور کلی تر اگر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تا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n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رخدادهای دو به دو مجزا باشند که مجموع آن ها نیز کل حالات را بپوشاند، آنگاه بر اساس تئور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Probability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خواهیم داشت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934920" y="4941720"/>
            <a:ext cx="6858000" cy="8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7791480" y="5421240"/>
            <a:ext cx="565200" cy="1015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8280360" y="51926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7791480" y="4088880"/>
            <a:ext cx="565200" cy="1018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280360" y="38606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484360" y="4968720"/>
            <a:ext cx="3095640" cy="76536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1258920" y="3429000"/>
            <a:ext cx="5915160" cy="46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27B0-1211-4B5E-BA84-5E4811BCCD1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 flipV="1">
            <a:off x="7791480" y="3044880"/>
            <a:ext cx="565200" cy="1015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8280360" y="28162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934920" y="2313000"/>
            <a:ext cx="6858000" cy="14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lvl="1" marL="629640" indent="-31644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اید بر روی دیاگرام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بلوکی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ل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ی را به عنوان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شرط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نتخاب كنیم كه با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سالم (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) و یا خراب (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نظر گرفتن آن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قیه دیاگرام به صورت سری-موازی در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ی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ضمن ساده ترین حالت را ایجاد كن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32040" y="4473720"/>
            <a:ext cx="685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مدل پل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ورد بح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ث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هترین گزینه بل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 شمار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ی‌باش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8172360" y="46162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7740360" y="4844880"/>
            <a:ext cx="431640" cy="2034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6C6C-BE56-4D7E-8632-DD7C7DE585B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934920" y="1449360"/>
            <a:ext cx="685800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حال مسئله را در دو حالت حل میكنیم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وقتی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 که قطعه 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 سالم است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وقتی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 که قطعه 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 خراب است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8244000" y="213372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7786800" y="2362320"/>
            <a:ext cx="457200" cy="3045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091B-DC5B-468F-8443-C4D6E1BF23F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 flipV="1">
            <a:off x="7754760" y="4665600"/>
            <a:ext cx="565200" cy="1015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244000" y="44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934920" y="1449360"/>
            <a:ext cx="6858000" cy="6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وقتی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 که قطعه 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 سالم است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939960" y="2349360"/>
            <a:ext cx="6858000" cy="31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C3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[1 - (1-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1-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] [1 - (1-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1-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8244000" y="213372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7786800" y="2362320"/>
            <a:ext cx="457200" cy="3045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3467160" y="3392640"/>
            <a:ext cx="4200480" cy="186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2D30-E30D-4508-9EA7-1BBB799AE9E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 flipV="1">
            <a:off x="7754760" y="4665600"/>
            <a:ext cx="565200" cy="1015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8244000" y="44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934920" y="1449360"/>
            <a:ext cx="685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وقتی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 که قطعه 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 خراب است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939960" y="2241720"/>
            <a:ext cx="6858000" cy="34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C3dow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- (1-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1-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8244000" y="137628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7786800" y="162864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2484360" y="2782800"/>
            <a:ext cx="4086360" cy="291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544C-E442-4E53-A19F-F4EF29BA712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 flipV="1">
            <a:off x="7754760" y="2793960"/>
            <a:ext cx="565200" cy="1015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8244000" y="256536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939960" y="1736640"/>
            <a:ext cx="6858000" cy="19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C3dow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- (1-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1-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C3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1 - (1-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1-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(1 - (1-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1-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Bri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C3dow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(1-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C3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rot="10800000">
            <a:off x="1402920" y="3069720"/>
            <a:ext cx="3205080" cy="505080"/>
          </a:xfrm>
          <a:prstGeom prst="wedgeRectCallout">
            <a:avLst>
              <a:gd name="adj1" fmla="val -27712"/>
              <a:gd name="adj2" fmla="val 8458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marL="692280" indent="-347760" algn="ct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احتمال خراب بودن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 baseline="-2000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25F6-B979-40BA-B18F-44361CFA840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6858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نحوه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رس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BD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981080"/>
            <a:ext cx="6858000" cy="619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650520" indent="-326880" algn="just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در مد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BD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هر قطعه از سیستم به صورت یك بلوک نشان داده میشود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هر بلوک شامل دو پایانه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(ورودی و خروجی)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ست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2924280"/>
            <a:ext cx="685800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نحوه عمل بلوک مثل یك سوئیچ است  به این صورت ك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14400" y="3429000"/>
            <a:ext cx="6858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650520" indent="-3268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گر آن قطعه در حل كار باشد سوئیچ در حالت بسته (وصل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d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می‌باشد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229600" y="20574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153280" y="33526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7740720" y="1600200"/>
            <a:ext cx="488880" cy="1364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7772400" y="2362320"/>
            <a:ext cx="457200" cy="759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7772400" y="3581280"/>
            <a:ext cx="380880" cy="1526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4114800"/>
            <a:ext cx="6858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لی اگر آن قطعه از كار افتاده باشد سوئیچ بصورت باز (قطع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خواهد بود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153280" y="39625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7772400" y="4191120"/>
            <a:ext cx="380880" cy="1522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B908-9A1D-492A-85B6-5660575583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00000" y="1465200"/>
            <a:ext cx="6858000" cy="919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مد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BD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ین بلوک ها به هم متصل می شوند و كل دیاگرام یك ورودی و یك خروجى دار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96760" y="2565360"/>
            <a:ext cx="6858000" cy="19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36840" indent="-31968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ا توجه به اینكه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در اثر بروز خرابی در هر قطعه سیستم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عضی از بلوک ها بست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 بعضی دیگر باز هستن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گر یك مسیر بین ورودی و خروجى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مدل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جود داشت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اشد، كل سیستم در حل كار است، ولی اگر هیچ مسیری وجود نداشت، آنگاه سیستم از كار افتاده اس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AE16-AB2F-45D5-98A5-7964238C08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1449360"/>
            <a:ext cx="685800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lvl="1" marL="560520" indent="-28152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اید توجه داشت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اشیم كه بلوک به آن شكلی كه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قطعه ها در سیست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اقعى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ه ه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صل می شون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د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BD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تصل نمی شون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2492280"/>
            <a:ext cx="6858000" cy="15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609120" indent="-30600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ای مثال اگر از بین چند بلوک تنها كاركردن یكی از آنها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رای کار کردن سیست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افى باش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آن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بلا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ا به شكل موازی قرار می گیرند. ولی اگر چند بلوک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هم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 آنها برای کار کردن سیستم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نیاز باشن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آنها بصورت سری قرار می گیرن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4BCB-B74D-4A84-8C95-E530FD0B9A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76360" y="3392640"/>
            <a:ext cx="352440" cy="1443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6000" y="288936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1441440"/>
            <a:ext cx="6858000" cy="4399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ای روشن تر شدن موضوع به مثال زیر توجه كنی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952640"/>
            <a:ext cx="685800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lvl="1" marL="581400" indent="-291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یك سیستم داریم كه شامل ی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 د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ست.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فرض کنید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سیستم در صورتی در ح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ل كار محسوب میشو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ك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 لااقل یكی ا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ا در ح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ل كار باشن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229600" y="20574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172360" y="32497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7772400" y="2362320"/>
            <a:ext cx="457200" cy="759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7772400" y="3581280"/>
            <a:ext cx="380880" cy="1526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92720" y="3249720"/>
            <a:ext cx="3379680" cy="6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حوه اتصال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ها به شكل زیر است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136000" y="404172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7772400" y="4191120"/>
            <a:ext cx="380880" cy="1522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392720" y="4041720"/>
            <a:ext cx="3379680" cy="15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0920" y="3968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576360" y="4508280"/>
            <a:ext cx="380880" cy="1443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34920" y="3249720"/>
            <a:ext cx="32054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BD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ین مثال به شكل زیر در می آی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71640" y="4041720"/>
            <a:ext cx="3168720" cy="15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4689360"/>
            <a:ext cx="3060720" cy="144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688000" y="4113360"/>
            <a:ext cx="1008000" cy="323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192720" y="443700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264360" y="5084640"/>
            <a:ext cx="1008000" cy="324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96000" y="483408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51280" y="5084640"/>
            <a:ext cx="1008000" cy="324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256360" y="483408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16720" y="4130640"/>
            <a:ext cx="1296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2280" indent="-347760" algn="just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26120" y="5092560"/>
            <a:ext cx="1297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2280" indent="-347760" algn="just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660920" y="5102280"/>
            <a:ext cx="1297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2280" indent="-347760" algn="just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397160" y="4897440"/>
            <a:ext cx="1008000" cy="324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386000" y="4348080"/>
            <a:ext cx="1008000" cy="324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295280" y="4905360"/>
            <a:ext cx="1297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2280" indent="-347760" algn="just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295280" y="4365720"/>
            <a:ext cx="1297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2280" indent="-347760" algn="just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35280" y="4635360"/>
            <a:ext cx="1008000" cy="324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64000" y="4653000"/>
            <a:ext cx="1296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2280" indent="-347760" algn="just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11280" y="4508640"/>
            <a:ext cx="14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556000" y="4508640"/>
            <a:ext cx="0" cy="57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56000" y="4797360"/>
            <a:ext cx="1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1280" y="5084640"/>
            <a:ext cx="14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258920" y="447372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258920" y="4473720"/>
            <a:ext cx="0" cy="57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79640" y="4761000"/>
            <a:ext cx="1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58920" y="504972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43280" y="4797360"/>
            <a:ext cx="1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224000" y="4724280"/>
            <a:ext cx="73080" cy="73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19280" y="4761000"/>
            <a:ext cx="73080" cy="73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ED79-CF18-4B1D-96CB-975800921E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914400" y="1449360"/>
            <a:ext cx="6858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657360" indent="-33012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مان طور كه در شكل می بینی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لوک های مربوط به د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صورت موازی هستند، زیرا اگر یكی از آنها هم در ح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ل كار باش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كافیست تا اینكه در كل دیاگرام یك مسیر از ورودی به خروجى تشكیل شو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3184560"/>
            <a:ext cx="685800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02280" indent="-30240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ما بلوک مربوط ب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ع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 از آنها به صورت سری قرار گرفته است. زیرا اگ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چار مشكل شو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كل سیستم از كار می افتد. به این ترتیب با از كار افتادن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سیر بین ورودی و خروجى از بین می رو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53280" y="33526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7772400" y="3581280"/>
            <a:ext cx="380880" cy="1526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43E0-C3B0-4A9B-8716-F43527EB79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914400" y="2397240"/>
            <a:ext cx="685800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 fontScale="78000"/>
          </a:bodyPr>
          <a:p>
            <a:pPr marL="26748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كنون باید ببینیم كه چگونه میشود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قابلیت اطمینان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را با كم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B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محاسب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نمو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740720" y="3838680"/>
            <a:ext cx="565200" cy="61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229600" y="36162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14400" y="3075120"/>
            <a:ext cx="685800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36840" indent="-319680" algn="just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همان طور كه گفتیم هر بلوک م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تناظر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یك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قطعه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در سیستم است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00000" y="3586320"/>
            <a:ext cx="685800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قابلیت اطمینان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هر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قطعه با 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ب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(t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نشان د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اده می شود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4091040"/>
            <a:ext cx="685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ما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تاب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(t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هر قطعه را به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بلوک متناظر آن نسبت می دهی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229600" y="232092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29600" y="300672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136000" y="427032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7775280" y="2549520"/>
            <a:ext cx="453960" cy="1364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7772400" y="3311640"/>
            <a:ext cx="457200" cy="759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7740720" y="4414680"/>
            <a:ext cx="412560" cy="115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491184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7775280" y="4954680"/>
            <a:ext cx="377640" cy="1857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14400" y="4629240"/>
            <a:ext cx="685800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lvl="1" marL="470520" indent="-2361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سپس با كمك روشهای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ساده احتمالی، قابلیت اطمینان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كل سیستم را حساب می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كنی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34920" y="1531800"/>
            <a:ext cx="6858000" cy="3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محاسبه قابلیت اطمینان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با كمك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50120" y="145584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7795800" y="1684440"/>
            <a:ext cx="453960" cy="1364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30AE-6E68-43EE-B82A-9B59101EB3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14:37:50Z</dcterms:created>
  <dc:creator>mm</dc:creator>
  <dc:description/>
  <dc:language>en-US</dc:language>
  <cp:lastModifiedBy>Mehdi Dehghan</cp:lastModifiedBy>
  <dcterms:modified xsi:type="dcterms:W3CDTF">2005-04-29T19:51:32Z</dcterms:modified>
  <cp:revision>817</cp:revision>
  <dc:subject/>
  <dc:title>درس دو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