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B5C-6A69-42C8-8309-119AB34E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95D-E7E4-4DAF-994A-00F4C976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9AC-7B6E-4ED3-8FD9-0F5E678A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CE6-8A25-4BF0-9E0C-8E056A46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5D89-E4D5-4D5F-A189-CC4AF722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63FF-FF71-44E7-9C9E-19FB93EC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FCA8-56DE-4915-825F-4D611D6B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A31A-8EB0-4253-AD37-7B65F52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4103-54A7-4FD8-8315-D6DDB816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B537-B61B-4F75-BEF9-E44905D3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07DE-D67D-4FDD-9C70-4FC8CC3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AF9-AF64-4687-AC09-93F0249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2DD7-99A9-4051-BB77-977A175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EB19-323D-40D2-B5EF-3AEBFFBB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C1A3-C910-403F-9E85-8B31616E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7C92-E04A-433A-AADB-089094B0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2C2-8205-4D56-8438-4A0DB7BD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876-3916-4CEC-87B7-46053D4C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918-81F5-4E83-9358-82EB9C3F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59E-55EB-4A79-96B7-CAE1861C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842-3443-459C-BF01-F08958ED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789-A6C7-4045-B8E0-C1C441B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8A2-1BDD-4777-913D-BA4109D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127-99AC-4438-97D9-1CEA24D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52280"/>
            <a:ext cx="8458200" cy="304920"/>
          </a:xfrm>
          <a:prstGeom prst="rect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3A6-B0CE-4423-A9A9-98A51E26B2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15800" y="160200"/>
            <a:ext cx="36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فصل 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 : افزونگی اطلاعات و کدین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7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52760" y="83664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486400" y="83664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</a:t>
              </a:r>
              <a:r>
                <a:rPr b="1" lang="fa-IR" sz="1400" spc="-1" strike="noStrike">
                  <a:solidFill>
                    <a:srgbClr val="330066"/>
                  </a:solidFill>
                  <a:latin typeface="Times New Roman"/>
                  <a:cs typeface="Nazanin"/>
                </a:rPr>
                <a:t>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52760" y="53352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53352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8640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39B-1FC8-432E-A1C2-D0D1EB85A7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63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2760" y="83664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83664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2760" y="53352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53352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00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248520" y="1447920"/>
            <a:ext cx="16002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3428640"/>
            <a:ext cx="541044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فزونگی اطلاعات و کدین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Redundancy and 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744640"/>
            <a:ext cx="502920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66"/>
                </a:solidFill>
                <a:latin typeface="Arial"/>
              </a:rPr>
              <a:t>درس چهار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95880" y="2438280"/>
            <a:ext cx="2286000" cy="533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352680"/>
            <a:ext cx="2133360" cy="45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3048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77120" y="2209680"/>
            <a:ext cx="1337760" cy="2189160"/>
            <a:chOff x="6477120" y="220968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647712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116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4520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116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520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240" y="249408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116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520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2924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3640" y="277812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7120" y="306072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6116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520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240" y="30607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520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2924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3640" y="334476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36291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6116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520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9240" y="362916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116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520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2924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116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924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40080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48720" y="1676520"/>
            <a:ext cx="60948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078E-21E6-4F80-B342-F1BDFB683B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V="1">
            <a:off x="7775640" y="2612520"/>
            <a:ext cx="509400" cy="24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09080" y="238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1-3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شخی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ص و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صحیح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ction and Corr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96760" y="2457360"/>
            <a:ext cx="685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عنوان یك تعریف ریاضی می توان گف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775280" y="1600200"/>
            <a:ext cx="453960" cy="100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03240" y="2925720"/>
            <a:ext cx="68580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آنكه بتوانیم تا حداكث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یت خطا را تشخیص ده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یاز به حداقل فاصل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انداز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3753000"/>
            <a:ext cx="6858000" cy="7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لی برای آنكه بتوانیم تا حداكث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یت خطا را تصحیح كن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یاز به حداقل فاصل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t+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40720" y="3321000"/>
            <a:ext cx="544320" cy="192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09080" y="3284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75640" y="4292640"/>
            <a:ext cx="509400" cy="156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0908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C43-A572-4223-963E-53C13FC945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1-4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ینگ و افزون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ی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ing and Redunda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96760" y="2276640"/>
            <a:ext cx="6858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رض كنید كه یك مجموعه کد شامل دو حالت به صورت {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}  باشد كه برای نشان دادن تنها یك بیت به كار می ر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3240" y="3249720"/>
            <a:ext cx="685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واقع عد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شك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کد شده است و عد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شك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3897360"/>
            <a:ext cx="685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سیستم کد ده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عاد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یستم 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ی باش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751880" y="26125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09080" y="238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775640" y="3513240"/>
            <a:ext cx="509400" cy="237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09080" y="3284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775640" y="4041720"/>
            <a:ext cx="509400" cy="407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0908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0BB-2165-46A5-9EFC-40686B0649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 flipV="1">
            <a:off x="7751880" y="2433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09080" y="2205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ینگ و افزون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2241720"/>
            <a:ext cx="685476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09120" indent="-306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واقع کدینگ همیشه همراه با افزونگی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می‌باشد كه در نتیجه می توان از تكنیكهاى بكار رفته شده بر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کدینگ نیز استفاده ك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0000" y="3429000"/>
            <a:ext cx="686304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ل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ex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ی از راه هاى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در این رو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wor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و بار عینا تكرار می شو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3240" y="4257720"/>
            <a:ext cx="6858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ثال برای یك تك بیت دو حالت وجود دارد ك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 كه از دو بار تكرا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دست آمده ا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751880" y="3296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09080" y="30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751880" y="4449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20908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04C-F8F1-483B-AB72-BA9075D9ED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7751880" y="2649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09080" y="242100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1-5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جداپذیر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e Separabil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704000" y="1600200"/>
            <a:ext cx="52560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2565360"/>
            <a:ext cx="6858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اده های کد شده می توانند دو حالت داشته باش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3105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دا پذی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00000" y="368136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دا ناپذی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epa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775640" y="3297240"/>
            <a:ext cx="509400" cy="60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09080" y="30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740720" y="3873240"/>
            <a:ext cx="579240" cy="60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44000" y="364500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C87-CFFB-484A-A4D6-50FC7F5573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 flipV="1">
            <a:off x="7751880" y="23680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09080" y="21398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جداپذیر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bil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2276640"/>
            <a:ext cx="685800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کدی ر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جداپذی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گوییم كه بیت هاى مربوط به داده اصلی با بیت های اضافه شده برای کد از هم جدا باش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3105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حالت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ستخراج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طلاعات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ز ک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سیار ساده تر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775640" y="3080880"/>
            <a:ext cx="581040" cy="311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280360" y="2852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751880" y="37285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09080" y="3500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00000" y="3643200"/>
            <a:ext cx="6858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چون تنها كافیست كه بیت هاى مربوط به کد را كنار بگذار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AD4-E6E7-4DC4-801F-5490711BB6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flipV="1">
            <a:off x="7751880" y="30157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09080" y="2787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جداپذیر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bil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2529000"/>
            <a:ext cx="6858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کد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جداناپذی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اده های اصلی با کدهای اضافی با هم تركیب شده اند و جدا سازی آنها از یك دیگر نیاز به انجام پردازش های اضافی دا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9F7-784D-4DC2-B708-2CDDA6B662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 flipV="1">
            <a:off x="7885080" y="22600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42280" y="20318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2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ing metho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63640" y="224172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2-1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Parity Co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894800" y="1521000"/>
            <a:ext cx="45720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63640" y="3068640"/>
            <a:ext cx="7056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اده ترین روش كد گذاری جدا پذیر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63640" y="357336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روش اطلاعات کد شده شام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د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صلی به همراه یك بیت اضافه ك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نگه می دار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‌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920000" y="308736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77200" y="28591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885080" y="37652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42280" y="3537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B0F-5DE2-4447-BE9B-56B44AAC7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63640" y="2097000"/>
            <a:ext cx="705636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884720" y="1600200"/>
            <a:ext cx="344520" cy="244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63640" y="2852640"/>
            <a:ext cx="7056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و نو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جود دارد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زوج) 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فرد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3640" y="335772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روش زوج بی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گونه ای تنظیم می شود كه تعداد یك ها در كل بیت ها (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د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صلی 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زوج 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63640" y="4149720"/>
            <a:ext cx="7056360" cy="11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وش فرد بر عكس عمل می كند.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یعن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روش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فر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گونه ای تنظیم می شود كه تعداد یك ها در كل بیت ها (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د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صلی 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فر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20000" y="4257720"/>
            <a:ext cx="388800" cy="1983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32840" y="4227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C88-8B62-4FF0-95ED-ECA1C427F4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63640" y="2097000"/>
            <a:ext cx="705636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4720" y="1600200"/>
            <a:ext cx="344520" cy="244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885080" y="3537000"/>
            <a:ext cx="3999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63640" y="2852640"/>
            <a:ext cx="7056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داد كل بیت ها در نهایت برابر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63640" y="335772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حالت عملا به میز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ت جدید به داده اضافه شده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FFC-9717-4051-8EBB-C1ACFF6D92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9920" y="119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902720" y="14256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902720" y="319536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59920" y="29671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885080" y="41320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42280" y="39038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63640" y="2852640"/>
            <a:ext cx="7056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ک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اراى فاصله همین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‌باشد كه در نتیجه می تواند هر خطای تك بیتی را تشخیص دهد ولی نمی تواند هیچ ن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صحیحی انجام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63640" y="400536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ک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می تواند یك خطای دو بیتی را تشخیص ده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لی خطاهای سه بیتی را می تواند تشخیص 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32E-347A-4954-A723-207AB58C10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81680" y="1600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7080" y="1858680"/>
            <a:ext cx="236232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330066"/>
                </a:solidFill>
                <a:latin typeface="Arial"/>
              </a:rPr>
              <a:t> مقدمه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0408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129440" y="1752480"/>
            <a:ext cx="642600" cy="838440"/>
            <a:chOff x="7129440" y="1752480"/>
            <a:chExt cx="642600" cy="838440"/>
          </a:xfrm>
        </p:grpSpPr>
        <p:sp>
          <p:nvSpPr>
            <p:cNvPr id="161" name=""/>
            <p:cNvSpPr/>
            <p:nvPr/>
          </p:nvSpPr>
          <p:spPr>
            <a:xfrm>
              <a:off x="712944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6552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0196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944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6552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196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38400" y="186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944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552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196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3840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4840" y="196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9440" y="207864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6552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196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38400" y="207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2944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6552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0196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840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74840" y="218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9440" y="22960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552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0196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8400" y="229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6552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196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3840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6552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840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7848720" y="1828800"/>
            <a:ext cx="45720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29400" y="1371240"/>
            <a:ext cx="1600200" cy="609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72400" y="3123720"/>
            <a:ext cx="380880" cy="381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53280" y="2819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58960" y="2889360"/>
            <a:ext cx="7061040" cy="27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همانطور كه می دانیم این احتمال وجود دارد كه داده ها در هنگام انتقال یا ارسال یا هنگام ذخیره شدن در یك مدیا مثل دیسك ی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حافظه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یا موارد دیگری از این دست دچار خطا شوند. برای از بین بردن اثر این خ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طا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ها روشهای زیادی به وجود آماده 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ست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ه سعی می كند خ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طا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ها را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تصحیح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كند و یا لااقل آنها را شناسایی كند. به این روش ها اصطلاحا کدینگ می گویند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ما در این بخش مفاهیم کدینگ و روشهای ارائه شده برای آن را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بررسی می کنیم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B41-1D27-4BCB-B280-87C336DB3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63640" y="2097000"/>
            <a:ext cx="705636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فرد ب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هتر است یا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زوج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956720" y="1600200"/>
            <a:ext cx="272880" cy="244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63640" y="2852640"/>
            <a:ext cx="70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كه كدام یك از دو حال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وثرتر هستند كاملا بستگی به شرایط دا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63640" y="364500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ی از خطاهای رایج به نا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 Erro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Bits Erro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عروف 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این ن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خطا همه بیت ها ی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شوند ی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89C-B565-42D4-9830-CDC6BEE5C3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59920" y="1268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902720" y="149688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920000" y="35492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377200" y="3321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3640" y="3895560"/>
            <a:ext cx="70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اگر احتمال خطای هم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شتر است بهتر است كه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رد استفاده شو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2000" y="4653000"/>
            <a:ext cx="71280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احتمال خطای هم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شتر است، آنگاه دو حالت وجود دارد اگر تعداد كل بیت ها ( همراه ب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وج باشد باید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رد استفاده كرد. و اگر تعداد كل فرد باشد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زو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63640" y="2635200"/>
            <a:ext cx="705636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صورتی كه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وج استفاده شود آنگاه خطای هم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0'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قابل تشخیص نی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3640" y="342900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لی با انتخا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رد این خطا تشخیص داد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920000" y="426996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77200" y="40417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920000" y="5068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77200" y="484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715-70FE-4591-86B2-6ECF431600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3640" y="1989000"/>
            <a:ext cx="705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63640" y="2529000"/>
            <a:ext cx="70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توانیم بجای آنكه به كل بیت ها ی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ختصاص دهیم به هر گروه از آنها، مثلا هر بایت، ی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ختصاص ده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63640" y="3286080"/>
            <a:ext cx="7056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حالت بدیهی است كه میز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ز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فزایش خواهد یاف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عداد گرو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ی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یت ه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س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63640" y="4041720"/>
            <a:ext cx="705636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حالت حد اكث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خطا قابل تشخیص است، البته به شرطی كه خطا ها در بایت های مختلف باش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63640" y="4761000"/>
            <a:ext cx="705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هر د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نو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خطای هم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هم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مكن است اتفاق بیفتد می توانید از پریت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رای یك بایت و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رد برای بایت 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ی استفاده كن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894800" y="4449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35200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931160" y="527796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388360" y="50497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55E-B012-41DD-8819-EEFF056B9A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63640" y="1989000"/>
            <a:ext cx="705636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ک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با قابلیت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صلاح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7902720" y="308736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359920" y="28591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7920000" y="4060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77200" y="3832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879640" y="2602080"/>
            <a:ext cx="5040360" cy="12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در این روش همانطور كه در شكل پیداست اطلاعات بصورت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بُعدی چیده می شوند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و هر ستون و هر سطر به طور جداگان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 هایشان محاسبه شده و در انتهاى آن سطر یا ستون قرار می گیرد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63640" y="3897360"/>
            <a:ext cx="7056360" cy="6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</a:rPr>
              <a:t>به این ترتیب اگر یك خطا صورت گیرد هم سطر آن و هم ستون آن دچار مشكل می شوند كه در نتیجه سیستم می تواند متوجه محل وقوع خطا شود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3640" y="461808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ه این روش اصطلاح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apping 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می گوین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63640" y="5084640"/>
            <a:ext cx="705636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ین یكی از مثال های این روش بود كه در آن هر خطا توسط بیش از ی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تشخیص داده می شود كه به این ترتیب محل آن پیدا می شو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2016360" cy="1066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7902720" y="47448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359920" y="45165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920000" y="54288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377200" y="52005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2313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5280" y="2757600"/>
            <a:ext cx="576360" cy="347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11D-A7E1-49BE-B7F6-552E5252C0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3640" y="2060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دل كل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apping P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848720" y="3549240"/>
            <a:ext cx="587160" cy="954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59920" y="33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63640" y="3827520"/>
            <a:ext cx="705636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اگر تعداد بیت های داده براب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باشد و تعداد بیت 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900" spc="-1" strike="noStrike">
                <a:solidFill>
                  <a:srgbClr val="000000"/>
                </a:solidFill>
                <a:latin typeface="Arial"/>
              </a:rPr>
              <a:t>براب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باشد. در آن صورت جمعا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+R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بیت داریم كه هر كدام از آنها می تواند دچار خطا شود یعنی با فرض اینكه خطا های ما تك بیتی هستند،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+R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حالت مختلف خطا داری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63640" y="4762440"/>
            <a:ext cx="7056360" cy="8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علاوه بر حالت های خطا یك حالت درست هم داریم كه در آن هیچ بیتی دچار اشكال نشده است. پس جمعا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+R+1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حالت ممكن وجود دارد كه باید توس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نمایش داده شود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63640" y="2781360"/>
            <a:ext cx="7056360" cy="6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همانطور كه مشخص است هدف ا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verlapping Parity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این است كه هر خطای تك بیتی را بتوان تشخیص داد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63640" y="3429000"/>
            <a:ext cx="705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برای آنكه بدانیم به چند بیت بر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</a:rPr>
              <a:t> نیاز داریم با باید طبق رابطه زیر عمل كنی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885080" y="4276800"/>
            <a:ext cx="587520" cy="950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96280" y="40482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885080" y="5032440"/>
            <a:ext cx="587520" cy="950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96280" y="48038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E3C-528F-4C1B-8D56-3FAF707DCA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63640" y="2060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دل كل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apping P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920000" y="1600200"/>
            <a:ext cx="309600" cy="208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63640" y="4184640"/>
            <a:ext cx="70563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= R+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63640" y="4653000"/>
            <a:ext cx="70563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آنگاه می توانیم مطمئن باشیم كه تعداد بیت 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افى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63640" y="288936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با توجه به اینك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جود دارد می توان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الت مختلف داشته باشیم كه شامل حالت های خطا و درست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63640" y="371628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اگر داشته باش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920000" y="4384440"/>
            <a:ext cx="353880" cy="52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7920" y="415620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85080" y="4905360"/>
            <a:ext cx="460440" cy="157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269200" y="48340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BBF-B42C-42BA-B2FE-759C2FB2B6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63640" y="2060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دل كل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apping P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920000" y="4184640"/>
            <a:ext cx="4986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342280" y="4076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3640" y="360828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رض كن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این حال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مترین حد ممكن برا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طى آن رابطه بالا برقرار می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63640" y="4400640"/>
            <a:ext cx="7056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Arial"/>
              </a:rPr>
              <a:t>اگر فرض كنیم كل بیت ها بشكل این مجموعه هستند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</a:rPr>
              <a:t>) كه در آن بیت هاى 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</a:rPr>
              <a:t>0،1،2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</a:rPr>
              <a:t> بیت ها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</a:rPr>
              <a:t> و بقیه بیت هاى د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</a:rPr>
              <a:t>اده</a:t>
            </a:r>
            <a:r>
              <a:rPr b="0" lang="ar-SA" sz="2300" spc="-1" strike="noStrike">
                <a:solidFill>
                  <a:srgbClr val="000000"/>
                </a:solidFill>
                <a:latin typeface="Arial"/>
              </a:rPr>
              <a:t> هستند. می توانیم برای وجود خطا در بیت ها یك جدول به شكل زیر تهیه كنیم</a:t>
            </a:r>
            <a:r>
              <a:rPr b="0" lang="fa-IR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63640" y="2708280"/>
            <a:ext cx="705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چگونه این حالت ها را کد بندی كنیم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63640" y="3176640"/>
            <a:ext cx="70563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 در اینجا سعی خواهیم كرد این كار را با كمك یك مثال نشان ده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885080" y="5229360"/>
            <a:ext cx="568440" cy="1267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377200" y="51274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920000" y="3392640"/>
            <a:ext cx="442800" cy="1267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86840" y="32907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999-1572-441D-B8B4-482F093C2D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63640" y="146520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63640" y="2060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دل كل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apping P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884720" y="1600200"/>
            <a:ext cx="34452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885080" y="42397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25290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84720" y="5084640"/>
            <a:ext cx="453528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ما ه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فقط وابسته به بیت هایی است كه خطای آنها را تشخیص میدهد. یعنی به صورت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روبرو 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63640" y="4473720"/>
            <a:ext cx="248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2708280"/>
            <a:ext cx="3708360" cy="12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ر اساس این جدول اگر به طور مثال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اعلام وجود خطا كنند یعنی خطا در بیت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بود و علی آخر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11640" y="4027320"/>
            <a:ext cx="370836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گر هیچ كدام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ها اعلام خطا نكنند یعنی هیچ خطایی وجود ندار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826920" y="2652840"/>
            <a:ext cx="3343320" cy="16761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flipV="1">
            <a:off x="7885080" y="5068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42280" y="484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52000" y="4005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4365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0920" y="2924280"/>
            <a:ext cx="576000" cy="4683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4000" y="4869000"/>
            <a:ext cx="533160" cy="2523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FB6-649D-4698-BA4F-D8AEFDA5CA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دل كل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apping P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884720" y="1600200"/>
            <a:ext cx="34452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956720" y="2708280"/>
            <a:ext cx="349200" cy="18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848720" y="3608280"/>
            <a:ext cx="436320" cy="157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63640" y="3998880"/>
            <a:ext cx="70563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حاسبه مجد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برابر است ب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11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كه در نتیجه بیت ها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در آن تغییر كرد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است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63640" y="4668840"/>
            <a:ext cx="705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ه این تغییرات اصطلاح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drome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می گوین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63640" y="254304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63640" y="2975040"/>
            <a:ext cx="7056360" cy="993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رض كنید د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اده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ما باشد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1100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0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كه در نتیجه باید بشكل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110000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باشد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ولی به خاطر تغییر به صورت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1000001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در آمده است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63640" y="5064120"/>
            <a:ext cx="70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ر اساس جدول مشاهده می شود كه وجود تغییر د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یعنی خطا د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است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پس با تغیی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طا رفع می شو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20000" y="4329000"/>
            <a:ext cx="436680" cy="157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280360" y="42577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920000" y="4940280"/>
            <a:ext cx="436680" cy="157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280360" y="48690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920000" y="5624640"/>
            <a:ext cx="436680" cy="156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280360" y="5553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9DF-CBA9-4032-A86C-C2E4F9DF13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2-2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2889360"/>
            <a:ext cx="420840" cy="6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920000" y="3512880"/>
            <a:ext cx="365040" cy="60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209080" y="3284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8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63640" y="382572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گیرنده نیز داده ها را جمع می كند و اگر با حاصل جمع دریافتی یكی ن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فهمد كه خطا روى داده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63640" y="260028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روش در اصل برای سیستمهای انتقال اطلاعات استفاد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63640" y="3033720"/>
            <a:ext cx="705636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ده اصلی آن این است كه بایت های یك ب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 از داده ها با یك دیگر جمع شوند و حاصل جمع نیز ارسال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63640" y="461808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ون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ای مختلفی برا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c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جود دارد كه در اینجا آنها را بررسی می 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63640" y="5408640"/>
            <a:ext cx="705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رض كنیم كه هر كلمه از داده ها داراى طو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920000" y="4197240"/>
            <a:ext cx="365040" cy="60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9080" y="39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920000" y="4887720"/>
            <a:ext cx="365040" cy="60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209080" y="46594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926480" y="5572080"/>
            <a:ext cx="365040" cy="60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215200" y="53434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CBC-F3A8-4DE8-8B99-FCC143241A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1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مفاهیم کدینگ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ing Concep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759800" y="2722680"/>
            <a:ext cx="565200" cy="64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48680" y="24940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72360" y="3789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740360" y="3897000"/>
            <a:ext cx="4316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2480" y="3610080"/>
            <a:ext cx="70866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طول ی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or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انداز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پس از کد گذاری یك كلمه کد شده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wor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به انداز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خواهد بود. بگونه ای ك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gt;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‌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3640" y="2421000"/>
            <a:ext cx="7070760" cy="950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آنكه بتوانیم یك كلمه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از داده ها را بگونه ای کد گذاری كنیم كه قابلیت تشخیص و تصحیح خطا را داشته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ید تعداد بیت هاى آن را افزایش ده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E06-E936-42FF-80A4-8DC81A052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42280" y="1197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885080" y="14256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902720" y="32684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359920" y="304020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902720" y="47448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359920" y="45165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2651040"/>
            <a:ext cx="7056360" cy="17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ercisio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قت تك): در این روش جمع به پیمان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fa-I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نجام می شود. یعنی حاصل جمع 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قسیم می شود و باقیمانده آن فقط در نظر گرفته می شود. یا به عبارتی تنه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قم سمت راست حاصل جمع در نظر گرفته می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63640" y="4437000"/>
            <a:ext cx="7056360" cy="10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Percision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قت مضاعف): كاملا شبی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ولی بج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فاده می شود كه در نتیجه این روش خطاهای بیشتری را می تواند كشف ك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4BF-5C53-4669-995C-979C8CB4A3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63640" y="2651040"/>
            <a:ext cx="705636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e Checksum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(باقیمانده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روش بیت هاى اضافی 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 ا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ُمین بیت كه در رو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ور ریخته می 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جددا با خود 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د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صلی جمع می شود كه در نتیجه قابلیت اطمینان سیستم بالاتر می رود. زیرا وجود خطا در آن بیت هاى اضافی نیز تاثیر گذ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 هست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291-F772-4BC2-BBF4-6C333D4467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63640" y="2673360"/>
            <a:ext cx="705636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eywell Checksum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روش هر دو كلمه را به هم می چسبان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سپس كل این مجموعه های دوتایی را با هم جمع میكن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نتیجه را به پیمان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نظر می گیرند. حسن این روش این است كه اگر یك خطا همواره روی یكی از بیت هاى هر كلمه (مثلا بیت سوم) اتفاق بیفتد، د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ون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ای قبلى ممكن بود تشخیص داده ن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لی در این روش جلوى این نوع خطا ها نیز گرفته می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E8A-1376-423B-971C-694D190294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920000" y="1592280"/>
            <a:ext cx="309600" cy="7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885080" y="2895120"/>
            <a:ext cx="42084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63640" y="265104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جا با یك مثا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گون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ای مختلف را با هم مقایسه می 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971640" y="3173400"/>
            <a:ext cx="6804000" cy="20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770-14B3-4168-81EC-613DB2F81E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020000" cy="15638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63640" y="191628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902720" y="28951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59920" y="26668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7902720" y="38080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359920" y="35798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63640" y="499896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ون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می تواند این خطا را تشخیص ده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ل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آن را تشخیص می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63640" y="3897360"/>
            <a:ext cx="705636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مثال روشه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هم مقایسه شده ا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ما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ط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ر كه می بینید یكی از خطوط ارتباطی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هموار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، اصطلاحا می گوییم 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ck at 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" شده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931160" y="5176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388360" y="4948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264-142C-4A9F-84D7-29B61192A1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63640" y="2651040"/>
            <a:ext cx="705636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وشها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قط می توانند وجود خطا را تشخیص دهند ولی نمی توانند آن را تصحیح كنند. به همین خاطر اگر خطایی روى ده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ل ب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 باید مجددا ارسال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C2D-0236-40C4-96ED-8B3BB21B25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2-3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ger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2816280"/>
            <a:ext cx="420840" cy="79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63640" y="260028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ک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ِرگر یك روش جداپذیر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bl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63640" y="3033720"/>
            <a:ext cx="7056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روش به این شكل عمل می كند كه ابتدا تعداد یك های درون داده را می شمارد، سپس از عدد به دست آمده مكمل می گیرد و سپس این عدد به دست آمده را در كنار عدد اصلی قرار می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7F8-151F-43EA-9F31-69371E18FE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ger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920000" y="2852640"/>
            <a:ext cx="385920" cy="42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63640" y="422100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روش می تواند هر نوع خط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irectional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تشخیص دهد، چه خطا از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 یا برعكس آ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260028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ثال فرض كنید عد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10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دار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63640" y="3033720"/>
            <a:ext cx="7056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ون این عدد چها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جود دارد كه فرم باینرى آ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شود و مكمل آ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الا اگر این عدد را در كنار عدد اصل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رار دهیم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اری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1010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63640" y="501336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اگر هم زمان بعض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ا ب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بدیل شوند، و همان تعدا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یز ب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بدیل شو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می تواند خطا را تشخیص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7920000" y="4492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377200" y="42642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7931160" y="531936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388360" y="50911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9E6-51C5-4C41-AA64-11955F5BA3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7751880" y="2217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209080" y="198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863640" y="1376280"/>
            <a:ext cx="705636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روشهای کدین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63640" y="1952640"/>
            <a:ext cx="70563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ger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63640" y="4076640"/>
            <a:ext cx="7056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دار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+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3640" y="2708280"/>
            <a:ext cx="705636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آنكه بدانیم ک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ِرگر چه میزان سرب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جاد می ك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توانیم از فرمول زیر استفاده 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63640" y="3573360"/>
            <a:ext cx="7056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د اكثر تعدا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ا د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برست ب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+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885080" y="4292640"/>
            <a:ext cx="4777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286840" y="4292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2F4-74ED-4DFD-B724-FEB2C2BC09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مفاهیم کدین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56720" y="2565360"/>
            <a:ext cx="368280" cy="157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48680" y="24940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72360" y="31798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759800" y="3255840"/>
            <a:ext cx="41256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4400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7848360" y="4436640"/>
            <a:ext cx="4316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41320" y="2384280"/>
            <a:ext cx="708660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پس حالا ما بجای 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الت ممكن، 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الت ممكن دار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781360"/>
            <a:ext cx="7086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لی تمام این حالت ها درست نیستند، و این همان چیزی است كه باعث می شود سیستم بتواند وجود خطا را تشخیص دهد. یعنی اگر یك عدد در یكی از این حا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 غیرمجاز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یستم می فهمد كه خطایی روى داده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3400" y="4149720"/>
            <a:ext cx="70866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بعضی از روش ه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یستم در یك سری از حا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 می تواند خطای بوجود آمده را نیز اصلاح ك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C45-B051-4E84-80A7-968EBBABE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مفاهیم کدین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759800" y="2722680"/>
            <a:ext cx="565200" cy="64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2492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7740360" y="3897000"/>
            <a:ext cx="4316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52480" y="3610080"/>
            <a:ext cx="70866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ی از مشكلات استفاده از کدینگ این است كه سیستم مجبور است تا یك مدت زمانى را صرف عملیا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ند كه باعث ایجا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سربا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 می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63640" y="2421000"/>
            <a:ext cx="7070760" cy="950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وش ارائه شده باید این قابلیت را داشته باشد كه از بی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موجو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اصلی را خارج ك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این عمل اصطلاح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گوی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6000" y="3789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CC7-5BD4-4A2F-988F-C9C602FF4D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775640" y="2708280"/>
            <a:ext cx="533160" cy="181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1-1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فاصله همین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mming Dist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6760" y="2276640"/>
            <a:ext cx="6858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اصله همینگ بین د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wor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رابر است با تعداد بیت هایی كه آنها با هم متفاوت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3240" y="3141720"/>
            <a:ext cx="68580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نشان میدهد كه اگر در اثر خطا یك کد بخواهد به یك کد دیگر تبدیل 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چند بیت از آن باید تغییر كند تا این تبدیل انجام شو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4272120"/>
            <a:ext cx="6858000" cy="7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سلما هر چه قدر این فاصله بیشتر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حتمال اینك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خطا یک کلمه را به کلمه مجاز دیگری تبدیل کند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متر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751880" y="36936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09080" y="346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51880" y="4412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09080" y="4184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207-2DD2-4227-831F-6FE06A73E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740720" y="2852640"/>
            <a:ext cx="565200" cy="42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فاصله همین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96760" y="2276640"/>
            <a:ext cx="6858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ثال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دها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با یك دیگر متفاوت هستند. در نتیجه فاصله همینگ بین آنها براب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3240" y="3141720"/>
            <a:ext cx="6858000" cy="14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قط در یك بیت با هم تفاوت دار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نتیجه اگر یك خطا در بیت كم ارزش آنها روى ده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ی از آنها را به دیگری تبدیل می كند و سیستم متوجه وجود خطا نخواهد 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0000" y="4595760"/>
            <a:ext cx="685800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اصله همینگ به انداز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ضمین می كند كه اگر یك خطای تك بیتی اتفاق بیفتد سیستم حتما متوج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وز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طا خواهد 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751880" y="36936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09080" y="346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40720" y="4869000"/>
            <a:ext cx="468360" cy="107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36000" y="472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A52-40E0-48F3-A7B1-1F3B6C295C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848720" y="2744640"/>
            <a:ext cx="457200" cy="150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4-1-2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فاصله کد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e Dist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6760" y="2276640"/>
            <a:ext cx="69883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اصله کد برابر است با كمترین فاصله همینگ كه بین </a:t>
            </a:r>
            <a:r>
              <a:rPr b="0" lang="ar-SA" sz="2400" spc="-1" strike="noStrike">
                <a:solidFill>
                  <a:srgbClr val="cc0000"/>
                </a:solidFill>
                <a:latin typeface="Arial"/>
              </a:rPr>
              <a:t>هر دو کد موجو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یك مجموعه کد وجود دا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92080" y="3141720"/>
            <a:ext cx="6993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اگر مثلا در یك روش کدینگ فاصله کد براب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 به این معنی است كه هیچ كدام از کدها با کدهای دیگر فاصله همینگ كمتر از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ارن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885080" y="3836520"/>
            <a:ext cx="363600" cy="96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72360" y="3608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7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88840" y="4363920"/>
            <a:ext cx="69962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ثال مجموعه کدهای {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} همگی باهم فاص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ار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5122800"/>
            <a:ext cx="698508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نتیجه این کد می تواند هر خطای تك بیتی را تشخیص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885080" y="4701960"/>
            <a:ext cx="363600" cy="96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172360" y="4473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885080" y="5349600"/>
            <a:ext cx="363600" cy="96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172360" y="51213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880-AEF0-4EC4-B940-FE3E313B2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848720" y="2708280"/>
            <a:ext cx="457200" cy="18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فاصله ک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6760" y="2276640"/>
            <a:ext cx="69883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عنوان مثالی دیگر کدهای {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} داراى فاص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ستند پس می توانند هر خطای تك بیتی یا دو بیتی را تشخیص ده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40720" y="1600200"/>
            <a:ext cx="488880" cy="244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92080" y="3141720"/>
            <a:ext cx="6993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ر فرض شو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حتمال خطای دو بیتی كم 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ین کد می تواند به عنوان روشى كه می تواند خطاهای تك بیتی ر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لا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یز استفاده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848720" y="3716280"/>
            <a:ext cx="39996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72360" y="3608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474-8627-43FE-8C13-B18478A027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4:37:50Z</dcterms:created>
  <dc:creator>mm</dc:creator>
  <dc:description/>
  <dc:language>en-US</dc:language>
  <cp:lastModifiedBy>Mehdi Dehghan</cp:lastModifiedBy>
  <dcterms:modified xsi:type="dcterms:W3CDTF">2005-06-19T12:59:53Z</dcterms:modified>
  <cp:revision>926</cp:revision>
  <dc:subject/>
  <dc:title>درس دو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