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2DE-BE60-442F-8100-394E7316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843-FDB1-4C85-B3AB-0C565ECB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3CF-8DEC-4597-AF36-643B478C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860-B61B-4ED6-A60C-93DC50A1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177D-C8B3-42E0-AB66-FFF89569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1E99-7F6F-4D92-9957-3026952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9E62-F393-4202-8266-410197A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0566-5291-4AE1-AE27-E2E1A66B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B683-E0DC-4332-ADE6-F7E27CE7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2FB-FBC5-45CE-82A6-AC82724F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AA8-D5BB-46BA-BB41-5F9068A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244-4680-4214-B621-EBA24082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2E02-426B-4857-8F61-A3BCF2D3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1852-944E-4BA9-A145-03CA9D2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A59-49E1-4660-9348-9CF1BE65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A652-F0EE-464F-8626-68894AD1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3084-FCCA-46EE-B47B-02C7B00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935-7D8C-408C-9537-AB94E395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2E7-203F-4894-B805-16B0A351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4EF-5461-4EBE-AC67-5C3D9E06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9C3-4C1C-4B1B-B3B7-71BEE9F1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A1B-543C-4E71-B29A-80E5540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DAC-CD4E-4FB6-9725-AD47BA6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DC0-8309-4987-A715-C21EA08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52280"/>
            <a:ext cx="8458200" cy="304920"/>
          </a:xfrm>
          <a:prstGeom prst="rect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B360-B3BE-478B-A6B9-3C5361B0D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760" y="16020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فصل </a:t>
            </a:r>
            <a:r>
              <a:rPr b="1" lang="ar-SA" sz="16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fa-IR" sz="1600" spc="-1" strike="noStrike">
                <a:solidFill>
                  <a:srgbClr val="330066"/>
                </a:solidFill>
                <a:latin typeface="Arial"/>
              </a:rPr>
              <a:t> : مدل مارک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7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52760" y="83664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486400" y="83664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</a:t>
              </a:r>
              <a:r>
                <a:rPr b="1" lang="fa-IR" sz="1400" spc="-1" strike="noStrike">
                  <a:solidFill>
                    <a:srgbClr val="330066"/>
                  </a:solidFill>
                  <a:latin typeface="Times New Roman"/>
                  <a:cs typeface="Nazanin"/>
                </a:rPr>
                <a:t>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52760" y="533520"/>
              <a:ext cx="2033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533520"/>
              <a:ext cx="263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8640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5408" t="20229" r="7734" b="2609"/>
          <a:stretch/>
        </p:blipFill>
        <p:spPr>
          <a:xfrm>
            <a:off x="657360" y="1219320"/>
            <a:ext cx="7495920" cy="468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2508-7322-4130-9DDD-AB6BE26CB5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533520"/>
            <a:ext cx="7510680" cy="606240"/>
            <a:chOff x="609480" y="533520"/>
            <a:chExt cx="7510680" cy="606240"/>
          </a:xfrm>
        </p:grpSpPr>
        <p:sp>
          <p:nvSpPr>
            <p:cNvPr id="63" name=""/>
            <p:cNvSpPr/>
            <p:nvPr/>
          </p:nvSpPr>
          <p:spPr>
            <a:xfrm>
              <a:off x="609480" y="83664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ویرایش : اول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دوم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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   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سوم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2760" y="83664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به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0080" y="83664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نام مولف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 : مهدی دهق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33520"/>
              <a:ext cx="284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صفحه ......... از ....... صفح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52760" y="533520"/>
              <a:ext cx="1957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پیوند از صفحات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533520"/>
              <a:ext cx="2710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1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Nazanin"/>
                </a:rPr>
                <a:t>عنوان پروژه :</a:t>
              </a:r>
              <a:r>
                <a:rPr b="1" lang="fa-IR" sz="1400" spc="-1" strike="noStrike">
                  <a:solidFill>
                    <a:srgbClr val="000000"/>
                  </a:solidFill>
                  <a:latin typeface="Times New Roman"/>
                  <a:ea typeface="Nazanin"/>
                </a:rPr>
                <a:t> طراحی سیستمهای مطمئ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53352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113976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01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80" y="836640"/>
              <a:ext cx="7510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008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2760" y="533520"/>
              <a:ext cx="0" cy="606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248520" y="1447920"/>
            <a:ext cx="16002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3428640"/>
            <a:ext cx="541044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فزونگی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ذخیره س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744640"/>
            <a:ext cx="5029200" cy="6080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0066"/>
                </a:solidFill>
                <a:latin typeface="Arial"/>
              </a:rPr>
              <a:t>درس ده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95880" y="2438280"/>
            <a:ext cx="2286000" cy="5335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20574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352680"/>
            <a:ext cx="2133360" cy="45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30481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77120" y="2209680"/>
            <a:ext cx="1337760" cy="2189160"/>
            <a:chOff x="6477120" y="220968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647712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116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45200" y="22096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116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5200" y="249408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240" y="249408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7712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1160" y="27781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520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9240" y="27781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3640" y="277812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77120" y="306072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6116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5200" y="30607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240" y="30607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1160" y="334476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520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29240" y="334476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3640" y="334476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36291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6116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45200" y="36291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9240" y="362916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1160" y="39132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520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29240" y="39132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9240" y="41972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40080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48720" y="1676520"/>
            <a:ext cx="609480" cy="3045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D318-3D29-452C-9855-469D8F7D78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775640" y="2708280"/>
            <a:ext cx="533160" cy="181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6760" y="2276640"/>
            <a:ext cx="685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حاس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T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3240" y="3068640"/>
            <a:ext cx="6858000" cy="14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مانى كه صحبت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Redundanc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شود به جای آنكه از اصطلا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Time To Failur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فاده شود، از اصطلاح دیگری استفاده می كنیم كه از نظر مفهومی صحیح ت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4581360"/>
            <a:ext cx="6858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اصطلاح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TDL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an Time to Data Loss)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‌باشد كه به معنی متوسط زمان تا از بین رفتن داده ها می‌با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751880" y="36936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09080" y="346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751880" y="4412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09080" y="4184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FB6-493A-4BDD-9109-6408E87E76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740720" y="2498760"/>
            <a:ext cx="56520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29600" y="2313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96760" y="2276640"/>
            <a:ext cx="68580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حاسب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T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صورت زیر عمل می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63640" y="3141720"/>
            <a:ext cx="705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در لحظ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يم، آنگاه متوسط 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رود ب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بر است با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68320" y="4040280"/>
            <a:ext cx="7021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اندن 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بر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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902720" y="330336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59920" y="30751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885080" y="4149360"/>
            <a:ext cx="547560" cy="142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59920" y="3897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3640" y="4579920"/>
            <a:ext cx="7021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حتمال برگشتن ب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ب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63640" y="5121360"/>
            <a:ext cx="7021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احتمال رفتن به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ب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885080" y="4803480"/>
            <a:ext cx="547560" cy="142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59920" y="45514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85080" y="5373720"/>
            <a:ext cx="547560" cy="108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59920" y="522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F5D-5B54-4282-81CF-903ED96F1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740720" y="2498760"/>
            <a:ext cx="565200" cy="42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2313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96760" y="2276640"/>
            <a:ext cx="685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در نهايت داري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751880" y="36936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09080" y="34653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900000" y="2851200"/>
            <a:ext cx="6840720" cy="25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9A0-FDCC-484A-AB78-6677B3DB8D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848720" y="2319480"/>
            <a:ext cx="457200" cy="150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29600" y="2241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96760" y="2276640"/>
            <a:ext cx="69883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یك بانكی از دیسك ها كنار یك دیگر قرار می گیرند این بانك شام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د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s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عد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Dis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92080" y="3176640"/>
            <a:ext cx="6993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طلاعات با كمك 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m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ذخیره می شو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885080" y="3411000"/>
            <a:ext cx="363600" cy="96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72360" y="31827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88840" y="3824280"/>
            <a:ext cx="6996240" cy="10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این ترتیب كه هر كلمه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از داده ها كه شام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+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خواهد بود، بین دیسك ها پخش می شود بگونه ای كه هر بیت آن برروی یكی از دیسك ها ذخیر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885080" y="4233600"/>
            <a:ext cx="363600" cy="968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172360" y="40053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C3F-1B07-4651-8F9E-42CE5A3B1C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848720" y="2708280"/>
            <a:ext cx="457200" cy="187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29600" y="26668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96760" y="3863880"/>
            <a:ext cx="6988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این ترتیب سیست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لاترى هم خواهد دش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740720" y="1600200"/>
            <a:ext cx="488880" cy="244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92080" y="4330800"/>
            <a:ext cx="6993000" cy="14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با تمامی این اُصا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رب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سیار بالایی ایجاد می كند بگونه ای كه مدل های دی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سیار مناسبتر هستند، برای همین ما بحث دربار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در همین جا خاتمه می دهیم و به سراغ انواع دی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رو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91560" y="4048200"/>
            <a:ext cx="39996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15200" y="394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0000" y="2098800"/>
            <a:ext cx="698508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با این كار اولا كارایی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بالا می رود. زیرا تمام بیت های یك كلمه بطور هم زمان قابل دسترسى هستند در ضمن بخاطر خاصیت 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m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گر یكی از دیسك ها بطور كامل خراب شود سیستم می تواند از روی بقیه دیسك ها اطلاعات را اصلاح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891560" y="4911840"/>
            <a:ext cx="39996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15200" y="48038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506-3E9B-4455-B350-C17D345189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 flipV="1">
            <a:off x="7775640" y="2612520"/>
            <a:ext cx="509400" cy="24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09080" y="238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63640" y="2003400"/>
            <a:ext cx="705636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طور كه دیدی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ز روشى استفاده می كند كه در حافظه ها استفا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7775280" y="1600200"/>
            <a:ext cx="453960" cy="100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66880" y="2809800"/>
            <a:ext cx="70531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حافظه ها چون نمی توان محل خطا را تشخیص داد، باید با روشى مثل ک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m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حل آن را پیدا كرد كه باعث افزونگی زیادی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63640" y="3913200"/>
            <a:ext cx="7053120" cy="13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چون در دیسك ها سیستم تشخیص خطا در هر سِکتُر وجود دارد و علاوه بر آن سیستم کنترلر دیسك می تواند تشخیص دهد كه كدام دیسك دچار مشكل شده است، ما دیگر نیازی به این حجم افزونگی نخواهیم د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91560" y="3321000"/>
            <a:ext cx="544320" cy="192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59920" y="328464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26480" y="4292640"/>
            <a:ext cx="509400" cy="156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5992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3640" y="5337000"/>
            <a:ext cx="705636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ز همین خاصیت استفاده شده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885080" y="5451480"/>
            <a:ext cx="509760" cy="157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18520" y="538020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8B5-9367-4FE9-9DB6-98DB60F4E8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67280" y="2168640"/>
            <a:ext cx="385272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در این روش ما علاوه بر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دیسك كه حاوی اطلاعات هستند یك دیسك اضافه به عنوان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هم داریم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3176640"/>
            <a:ext cx="38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طلاعات روی دیسك ها بصورت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-Interleaved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ذخیره می شون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902720" y="26125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59920" y="2384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889760" y="3513240"/>
            <a:ext cx="509760" cy="237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323200" y="328464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775640" y="4041720"/>
            <a:ext cx="509400" cy="407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0908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63640" y="3933720"/>
            <a:ext cx="7056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یعنی مثلا اگر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دیسك اصلی داریم و هر كلمه از داده ها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بیت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ست هر بیت آن روی یكی از دیسك ها ذخیره می شود و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آن نیز روی دیس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ذخیره می شو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63640" y="5048280"/>
            <a:ext cx="70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در واقع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ُمین بیت روی دیس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 معادل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ُمین بیت ها روی سایر دیسك ها می‌باشد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863640" y="2097000"/>
            <a:ext cx="3168720" cy="17798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187280" y="2276640"/>
            <a:ext cx="2592720" cy="21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3280" y="3141720"/>
            <a:ext cx="509400" cy="407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2816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885080" y="5380200"/>
            <a:ext cx="509760" cy="407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18520" y="55594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305-5582-4D2F-B0FA-BB5DC5F37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V="1">
            <a:off x="7902720" y="27284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59920" y="25002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63640" y="2709720"/>
            <a:ext cx="704844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ببینیم چگونه سیستم می تواند یك خطا در این روش را تصحیح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2F6-4AF6-4AE7-9800-BF959EEA71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 flipV="1">
            <a:off x="7920000" y="24332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77200" y="2205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63640" y="2205000"/>
            <a:ext cx="7056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رض كنی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یسك اصلی داریم و یك دیس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زوج استفاده می كنی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ای مثال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ُمین موقعیت دیسك عد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100،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ذخیره شده است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آخر مربوط ب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885080" y="36270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42280" y="33987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885080" y="47797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42280" y="45514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3640" y="3421080"/>
            <a:ext cx="70516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اگر بطور مثال دیسك سوم كه حاوی "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" است خراب شود، کنترلر آن این موضوع را می فهمد و به سیستم گزارش می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3640" y="4327560"/>
            <a:ext cx="70516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 با توجه به اینك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یت دیگر كه از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یسك دیگر گرفته چه چیزهایی هستند و با علم به این موضوع 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نوع زوج می‌باشد می تواند مطمئن باشد كه بیت سوم كه روی دیسك سوم است می بایست "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" باشد تا پریتى زوج درست از آب در بیا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E13-5ECF-4BE3-8BF0-1B339A3C17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 flipV="1">
            <a:off x="7751880" y="2433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09080" y="2205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63640" y="2190600"/>
            <a:ext cx="705636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حاس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ا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751880" y="329688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0908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751880" y="4449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09080" y="4221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63640" y="2852640"/>
            <a:ext cx="70516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بر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ساب كردیم می توانیم آن را برا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م حساب كنی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63640" y="3695760"/>
            <a:ext cx="705168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با كمك مدل ماركف س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در نظر می گیریم 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”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مه دیسك ها سالم هستند.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”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ی از دیسك ها از كار افتاده است و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”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ااقل دو دیسك از كار افتاده اند. چون اگر دو دیسك از كار افتاده باشند، سیستم دیگر قابلی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ندارد می توانیم در این حالت بگوییم سیستم خراب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شده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AD1-C5C3-4EFF-94B2-F99E945CEF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81680" y="160020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7080" y="1858680"/>
            <a:ext cx="236232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330066"/>
                </a:solidFill>
                <a:latin typeface="Arial"/>
              </a:rPr>
              <a:t> مقدمه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0408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129440" y="1752480"/>
            <a:ext cx="642600" cy="838440"/>
            <a:chOff x="7129440" y="1752480"/>
            <a:chExt cx="642600" cy="838440"/>
          </a:xfrm>
        </p:grpSpPr>
        <p:sp>
          <p:nvSpPr>
            <p:cNvPr id="161" name=""/>
            <p:cNvSpPr/>
            <p:nvPr/>
          </p:nvSpPr>
          <p:spPr>
            <a:xfrm>
              <a:off x="712944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6552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01960" y="175248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944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6552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01960" y="186120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38400" y="186120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944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65520" y="196992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196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38400" y="196992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74840" y="196992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29440" y="2078640"/>
              <a:ext cx="97200" cy="774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6552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1960" y="207864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38400" y="207864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2944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5520" y="218736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0196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8400" y="218736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4840" y="218736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29440" y="2296080"/>
              <a:ext cx="97200" cy="77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552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1960" y="229608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8400" y="229608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65520" y="2404800"/>
              <a:ext cx="97200" cy="77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196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8400" y="240480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552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8400" y="2513520"/>
              <a:ext cx="97200" cy="77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7848720" y="1828800"/>
            <a:ext cx="457200" cy="3808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29600" y="990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29400" y="1371240"/>
            <a:ext cx="1600200" cy="609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1600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3123720"/>
            <a:ext cx="380880" cy="3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28195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58960" y="2889360"/>
            <a:ext cx="706104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یكی از روشهای ایجاد افزونگی در اطلاعات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افزونگی د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ذخیره ساز) ها می‌باشد. معروف ترین روش در اینج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ست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به معن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ndancy Array Of Inexpensive (Independent) Dis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می‌باشد. در این روش به جای ی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ز چندین دیسك در كنار هم استفاده می شود كه باعث ایجاد قابلیت اطمینان بیشتر یا كارایی بالاتر و یا هردوی آنها می شود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انواع مختلف دارد كه ما در اینجا درباره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نها صحبت خواهیم كر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64A-CFA7-4A4C-A8A4-D1EBA3B74F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 flipV="1">
            <a:off x="7902720" y="2433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59920" y="2205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2360" y="2205000"/>
            <a:ext cx="388764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ل ماركف این ن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ینج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آم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+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) تعداد کل دیسکها می باش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7902720" y="373500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59920" y="35067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9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902720" y="48877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59920" y="46594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7640" y="3608280"/>
            <a:ext cx="34876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 كمك این مدل مقد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T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رابطه زیر بدست می آ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16360" y="4689360"/>
            <a:ext cx="4098960" cy="8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 بر اسا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T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ی توا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نیز محاسبه نم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863640" y="2097000"/>
            <a:ext cx="3024000" cy="13287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971640" y="3584520"/>
            <a:ext cx="3313080" cy="787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900000" y="4854600"/>
            <a:ext cx="2772000" cy="5191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576360" y="2708280"/>
            <a:ext cx="323640" cy="108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22701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6360" y="3897360"/>
            <a:ext cx="425520" cy="1080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35719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5121360"/>
            <a:ext cx="462240" cy="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9280" y="4724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2FC-D8BA-48E3-9009-E34D55FE89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 flipV="1">
            <a:off x="7902720" y="2433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359920" y="2205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63640" y="2133720"/>
            <a:ext cx="70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زیر مقایسه ای بین حالتهای مختل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ست كه در آنها تعداد دیسك ه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تفاوت می‌باش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832360" y="3296880"/>
            <a:ext cx="2603520" cy="384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5992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902720" y="521136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9920" y="4983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3640" y="5013360"/>
            <a:ext cx="7051680" cy="7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طور كه مشخص است با بالا رفت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بلیت اطمینان سیستم پایین می آی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376360" y="2840040"/>
            <a:ext cx="3743280" cy="217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927-A994-4E4D-AD12-8610984D4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 flipV="1">
            <a:off x="7920000" y="22172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377200" y="1989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3640" y="2190600"/>
            <a:ext cx="7056360" cy="4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نو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سیار شبیه نوع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920000" y="30808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77200" y="2852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920000" y="42336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77200" y="40053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3640" y="2816280"/>
            <a:ext cx="705168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تنها تفاوتی كه دارد این است كه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-Interleav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اشتیم ولی در اینجا بلاك های داد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شو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63640" y="3895560"/>
            <a:ext cx="7051680" cy="10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ین بدین معنی است كه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ر بلاك داده (مثلا ی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روی یك دیسك ذخیره می شوند و بلاك بعدی روی دیسك بعدی ذخیر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79C-6386-4EBD-8EB9-C587C7BCC0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 flipV="1">
            <a:off x="7885080" y="283644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42280" y="26082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63640" y="2443320"/>
            <a:ext cx="705636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سن این كار اینست كه عملیات خواندن و نوشتن کوتاه روی یك دیسك انجام می شود كه باعث می شود این عمل سریع تر صورت بگی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885080" y="37000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42280" y="34718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885080" y="485280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42280" y="46245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63640" y="3392640"/>
            <a:ext cx="70516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ته باید توجه كنیم كه در هنگا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م دیسك مورد نظر و هم دیسك حاو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ید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شوند. ولی با این حال باز هم عمل نوشتن سریع تر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63640" y="4653000"/>
            <a:ext cx="7051680" cy="10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كردن پریتى عمل بسیار ساده ای است و به این شكل انجام می شود كه اگر دیتایی كه می خواهد نوشت شود با دیتا قبلى متفاوت باشد، پریت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معكوس)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AC0-496A-49AB-94FF-55BBD341B7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 flipV="1">
            <a:off x="7902720" y="33397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59920" y="3111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63640" y="3198960"/>
            <a:ext cx="705636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سان است، به همین خاطر در اینجا آنرا دوباره محاسبه نمی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ADF-4433-42F4-A78F-E97CFFFDC9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 flipV="1">
            <a:off x="7751880" y="24332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09080" y="2205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651640" y="3296880"/>
            <a:ext cx="2633400" cy="1681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09080" y="306864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63640" y="1989000"/>
            <a:ext cx="705168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كل زیر نحوه قرار گیری دیسك ها و بلاك های آنها را در كنار هم نشان میده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898560" y="2384280"/>
            <a:ext cx="5365800" cy="33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54E-F17C-422F-9B1B-11A53535D1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 flipV="1">
            <a:off x="7885080" y="329688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42280" y="3068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63640" y="2443320"/>
            <a:ext cx="7056360" cy="13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كی از مشكلاتی ك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ارد این است كه دیسك حاوی پریتى در هر عم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ورد دسترسى قرار می گیرد كه باعث پایین آمد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سیستم می شود، در واقع می توان گفت دیسك پریتى نقش گلوگا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len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ز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 می كن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7885080" y="4160520"/>
            <a:ext cx="53352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342280" y="393228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63640" y="4113360"/>
            <a:ext cx="70516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یسك پریتى همانند دیتا های اصلی به صور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ین دیسك ها قرار می گیرد كه باعث می شود ب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اری روی پریتى بین دیسك های مختلف توزیع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3CC-6572-40AC-BB36-AE969D897D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 flipV="1">
            <a:off x="7902720" y="243972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59920" y="221148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00000" y="1465200"/>
            <a:ext cx="6858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29600" y="13716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772400" y="1600200"/>
            <a:ext cx="457200" cy="304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63640" y="2133720"/>
            <a:ext cx="705636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مان طور كه در شكل نشان داده شده است، در هر سطر یكی از دیسك ها بعنوان پریتى استفاده می ش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940360" y="3303360"/>
            <a:ext cx="2495520" cy="5569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359920" y="30751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902720" y="5068440"/>
            <a:ext cx="533160" cy="228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359920" y="48402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3924360" cy="20509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863640" y="4964040"/>
            <a:ext cx="70563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نسب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ارای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تری دارد ول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آن تغییری نكر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F87-D51D-49E3-A69B-626FF8F7EF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920000" y="2325240"/>
            <a:ext cx="56520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08880" y="209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5200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920000" y="299700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2480" y="2744640"/>
            <a:ext cx="70866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ر در خواستی كه برای نوشتن به سیستم داده شود به هر دو دیسك منتقل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3640" y="2168640"/>
            <a:ext cx="707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نوع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یستم از دو دیسك استفاده می ك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41320" y="3537000"/>
            <a:ext cx="708660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در این حالت دیتا وارد شده به دو قسمت تقسیم می شود. عمل تقسیم بصور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-Interleav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. یعنی بیت ها بصورت یكی در میان به دو دیسك منتقل می شو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52000" y="4011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7920000" y="411912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41320" y="4616280"/>
            <a:ext cx="70866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لا بیت های فرد به دیسك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روند و بیت های زوج به دیسك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ی رو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2BA-DEFD-453B-AF13-05D8DDB3D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920000" y="2325240"/>
            <a:ext cx="56520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08880" y="209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5200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7920000" y="299700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52480" y="292428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سن این كار این است كه سرعت خواندن و نوشتن نزدیك به دو برابر می شود یعن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لا می ر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40" y="2168640"/>
            <a:ext cx="70707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ه همین ترتیب در خواست نوشتن هم همزمان  به هر دو دیسك ارسال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41320" y="368136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سیستم پایین می آید زیرا اگر یكی از دیسك ها از كار بیفتد كل اطلاعات از بین می ر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52000" y="4011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7920000" y="411912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1320" y="4437000"/>
            <a:ext cx="70866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ملا امكان بروز خرابی دو برابر شده اس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59920" y="465300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927920" y="476064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490-98B7-4548-8D86-EDE935076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920000" y="2325240"/>
            <a:ext cx="565200" cy="651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08880" y="209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52000" y="288936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7920000" y="299700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52480" y="285264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نظور ا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ین است كه هر دو دیسك شامل اطلاعات یكسانی هست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3640" y="2168640"/>
            <a:ext cx="707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مدل از دو دیسك ك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كدیگر هستند استفاده می ش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1320" y="3753000"/>
            <a:ext cx="7086600" cy="6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یكی از دیسك ها خراب شود، دیسك دیگر می تواند به كار خود ادامه دهد و جلوى از بین رفتن اطلاعات را بگیر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52000" y="40114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7920000" y="411912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6B2-B56F-4AAF-98E4-E05F071DE9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759800" y="2722680"/>
            <a:ext cx="565200" cy="64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48680" y="249408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72360" y="3789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740360" y="389700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320" y="2421000"/>
            <a:ext cx="708660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ر این روش سرعت خواندن اطلاعات بالا می رود زیرا هر در خواست خواندن بین دو دیسك تقسیم می شود و سیستم از دیسكی استفاده می كند كه بتواند زود تر پاسخ ده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1320" y="3645000"/>
            <a:ext cx="7086600" cy="9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ما سرعت نوشتن پایین می آید زیرا درخواست نوشتن به هر دو دیسك باید ارسال شود. و سرعت نوشتن برابر سرعت دیسك كند تر خواهد ب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5C5-D988-4DEE-8D86-34B107880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20000" y="2349360"/>
            <a:ext cx="441360" cy="1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85040" y="213372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09080" y="2819520"/>
            <a:ext cx="53316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7919640" y="2960280"/>
            <a:ext cx="289080" cy="874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23200" y="378936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7927920" y="3825720"/>
            <a:ext cx="432000" cy="120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1320" y="2205000"/>
            <a:ext cx="70866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دف اصلی د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-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لا برد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602080"/>
            <a:ext cx="7086600" cy="6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ال ببینیم چگونه می تو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را در این سیستم محاسبه نمو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3400" y="3500280"/>
            <a:ext cx="70866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گر نرخ خرابی هر دیسك براب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اشد و نرخ تعمیر برابر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مدل ماركُف این سیستم به صورت شكل زیر خواهد بو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40000" y="4221000"/>
            <a:ext cx="4105080" cy="1528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359920" y="476712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408360" y="4924440"/>
            <a:ext cx="1987560" cy="1252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708-068D-422F-AA88-B4189A521A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96000" y="2722320"/>
            <a:ext cx="3429000" cy="129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17080" y="2492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884720" y="3405240"/>
            <a:ext cx="474840" cy="1317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63640" y="3825720"/>
            <a:ext cx="7075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یعنی احتمال بودن سیستم در حال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زما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3640" y="2023920"/>
            <a:ext cx="707076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ز روی این مدل می توا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ا محاسبه كنی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23200" y="31766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26920" y="2465280"/>
            <a:ext cx="4069080" cy="1287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863640" y="432900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لی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یعنی احتمال حضور در حال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در لحظه بعد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63640" y="4797360"/>
            <a:ext cx="7056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قدار های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حتمال حضور در هر حالت را در لحظه نخست نشان میدهد. در اینجا فرض شده است كه در لحظه اول هر دو دیسك سالم باشند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351320" y="3429000"/>
            <a:ext cx="3605400" cy="388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 flipH="1" flipV="1">
            <a:off x="7920000" y="397476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15280" y="386712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7885080" y="462420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80360" y="4516560"/>
            <a:ext cx="533520" cy="5331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891200" y="5308200"/>
            <a:ext cx="43164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86840" y="520056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049-09EF-4A19-A0BC-D8C49CB3B6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00000" y="1449000"/>
            <a:ext cx="685800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D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920000" y="2722680"/>
            <a:ext cx="405000" cy="201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48680" y="119844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17080" y="2492280"/>
            <a:ext cx="53316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59800" y="1427040"/>
            <a:ext cx="488880" cy="1368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7920000" y="3644640"/>
            <a:ext cx="432000" cy="1206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3640" y="2781360"/>
            <a:ext cx="707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ل سیستم از رابطه زیر بدست می آی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15280" y="3537000"/>
            <a:ext cx="533520" cy="5335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63640" y="3394080"/>
            <a:ext cx="705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t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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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FC7-6F00-4F9B-BAFF-80DB9078F6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4:37:50Z</dcterms:created>
  <dc:creator>mm</dc:creator>
  <dc:description/>
  <dc:language>en-US</dc:language>
  <cp:lastModifiedBy>X</cp:lastModifiedBy>
  <dcterms:modified xsi:type="dcterms:W3CDTF">2005-03-21T08:49:28Z</dcterms:modified>
  <cp:revision>962</cp:revision>
  <dc:subject/>
  <dc:title>درس دو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