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E6A0-A546-47F6-9DDF-7D95F4CA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5A82-A896-4B3F-9E08-5BD40766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C25A-89E2-4304-9E6F-1C3C5ECD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7A0AB-520B-4963-9C99-6516418A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AA5B-2E65-4EDA-AAED-7DFFB081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284F-4607-458C-8BE1-6E633D55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2052-278F-42ED-91C9-4C252308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C0E1-3B0C-4A9D-BF0F-68E15650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A04C-B2F6-4D14-928F-B3253248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59F1-88F2-479A-B249-D65ECAD9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5DDF-956C-465A-AAF9-0ED71B3F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2A1C-24E9-4787-A285-6F441424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067C-8223-45C9-B640-15321A07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948E-687D-4495-B64E-D413DE9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A322-4DB5-4182-AD3A-14ABD9D0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912D-51E5-4278-A1FA-2B2EC022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7A25-FB58-4C82-94A0-B0848E53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7AF2-892C-4155-A331-DBBDAF5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5D4B-F263-4CA7-B95F-F02F2D08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9BB7-F1A9-48AA-B663-C77DC278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3CD9-9BA3-47A6-AA7D-4A157079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85E0-2935-4193-95C4-00ADB8E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AED7-BF39-45F0-86FC-51A5D0B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478E-B952-4E33-A9F5-00B53EA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CCB2-68B1-4E2B-8282-B86F212D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Dr K. Mirzaei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Dr K. Mirzaei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E39C-F0D9-4E5A-98D5-25E801328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C513-4A87-458B-A042-AC6FC28E54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Dr K. Mirzae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KINGC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12B0-D2B8-4C2E-93C2-85D08BCE13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 نظارتی( یا رویکرد تحکمی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 رویکرد:  تغییر و بهبود رفتار سلامتی از طریق کنترل های خارجی یا اعمال قانون به مردم تحقق می یاب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cs typeface="B Mitra"/>
              </a:rPr>
              <a:t>مثال :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استفاده اجباری از کمربند ایمنی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ین رویکرد سریعترین و آسانترین راه بهبود سلامت و یا ایجاد تغییرات مطلوب در جامعه می باش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BD8-30E3-45E5-8F4E-7050A4BEE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 نظارتی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.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دلایل ناموفق بودن رویکرد تحکمی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توسط قانون نمی توان عامل بیماریزا ( چه اجتماعی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B Mitra"/>
              </a:rPr>
              <a:t>–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 چه پزشکی) را ریشه کن کر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 روش تنها می توان توسط قانون جلوی انتشار بیماری توسط فرد بیمار را در جامعه گرف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cc00"/>
                </a:solidFill>
                <a:latin typeface="Garamond"/>
                <a:cs typeface="B Mitra"/>
              </a:rPr>
              <a:t>مثال :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 انجام واکسیناسیون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در مواردی که فرد حق انتخاب دارد ( مانند انتخاب رژیم غذایی، ورزش و...) هیچ دولتی قادر به تصویب قانون جهت اجبار افراد به رعایت آنها نیس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8513-305A-4B62-A19A-22C94A38D3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 خدمات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 رویکرد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cs typeface="B Mitra"/>
              </a:rPr>
              <a:t>هدف :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ارائه همه نیازهای سلامتی مردم در محل زندگی آنان است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و بر این فرض استوار است که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مردم جهت بهبود وضع سلامتشان ، خود از این خدمات استفاده کن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cs typeface="B Mitra"/>
              </a:rPr>
              <a:t>مانند: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دولت توالت های سیفون دار را ، رایگان در اختیار مردم روستا ها قرار ده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1D55-3BF2-4837-8DF4-9F75874E9D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 خدمات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ین رویکرد با توفیق همراه نبود زیرا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مردم برنامه یا خدمتی را که با نیازهای احساس شده شان منطبق نباشد نخواهند پذیرفت ،</a:t>
            </a:r>
            <a:r>
              <a:rPr b="1" lang="fa-IR" sz="4000" spc="-1" strike="noStrike">
                <a:solidFill>
                  <a:srgbClr val="ffcc00"/>
                </a:solidFill>
                <a:latin typeface="Garamond"/>
                <a:cs typeface="B Mitra"/>
              </a:rPr>
              <a:t>حتی اگر رایگان باشد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A9FC-4A3E-474D-BB10-9A6EA909DC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 آموزش سلامت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این رویکرد بر اساس اصول دمکراسی که می گوید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 </a:t>
            </a:r>
            <a:r>
              <a:rPr b="1" lang="fa-IR" sz="3600" spc="-1" strike="noStrike">
                <a:solidFill>
                  <a:srgbClr val="ffcc00"/>
                </a:solidFill>
                <a:latin typeface="Garamond"/>
                <a:cs typeface="B Mitra"/>
              </a:rPr>
              <a:t>نباید به مردم دستور داد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 استوار است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 و معتقد است : فرد آگاه تصمیمات بهتری را برای حفظ سلامتی خود خواهد گرف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این رویکرد معتقد است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مردم باید بر اساس برنامه ای آموزشی ، یاد بگیرند که چه بکنند، آگاه شوند، بیاموزند و تشویق شوند تا زندگی سالمی را انتخاب کنن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 رویکرد گرچه نتایج آهسته بدست می آیند ، اما پایدارن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F011-26A2-4917-80A9-6A1C82B084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 آموزش سلامت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ین رویکرد معتقد است : از آنجایی که الگوهای رفتاری و نگرشی در ابتدای زندگی شکل می گیرند ، می بایست آموزش سلامت را از کودکی آغاز کر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EA03-479D-4E1E-A403-895D162FD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 خدمات اولیه سلامت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ین رویکرد بر مبنای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مشارکت و درگیر شدن کامل مردم در برنامه ریزی و ارائه خدمات سلامتی بر اساس اصول اولیه سلامتی ، یعنی در گیر شدن جامعه و همکاری بین بخشی اس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B71-58B8-4B90-998A-5934D4301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آموزش سلامت در مقابل تبلیغ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آموزش سلامت تبلیغ سلامتی نیس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آموزش یعنی سبب شدن یا تسهیل یادگیر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تبلیغ یعنی انتشار یک نظر سازمان دهی شده خا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16F6-B679-42B4-ADDD-D1632B7A07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تفاوت های آموزش سلامت و تبلی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341360"/>
          <a:ext cx="8229600" cy="481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تبلی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آموز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آگاهی به ذهن مردم تزریق می شو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آگاهی و مهارت بطور فعال کسب می شو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با شعارهای آماده از فکر کردن مردم جلوگیری می شو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باعث می شود مردم در مورد خود فکر کنن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امیال اولیه را تحریک و بیدار می کن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امیال اولیه را نظم می بخش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رفتار های واکنشی را توسعه می دهد و به عملکرد های تکانه ای کمک می کن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رفتارهای اندیشمندانه را توسعه می بخشد و به مردم یاری می دهد تا قبل از عمل کردن قضاوت کنن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متکی بر احساس اس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متکی بر منطق اس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8773-7A9E-4539-811E-F4A7A538CC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تفاوت های آموزش سلامت و تبلیغ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600" cy="4406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تبلی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آموز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الگوی نگرش ها و رفتارهای استاندارد را براساس قالب استفاده شده توسعه می ده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فردیت ، شخصیت و بیان خود را توسعه می ده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آگاهی به فرد خورانده شده و غیر فعال کسب می شون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آگاهی از طریق فعالیت های خود اتکا کسب می شو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فرآیند آگاهی محور است و برای تغییر نگرش و رفتار طراحی نشده اس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Garamond"/>
                          <a:cs typeface="B Mitra"/>
                        </a:rPr>
                        <a:t>فرآیند رفتار محور است و به ایجاد نگرش ها ، عادات و مهارت های مطلوب کمک می کن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70A-1928-4380-9AF3-F81527C855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e5e5ff"/>
                </a:solidFill>
                <a:latin typeface="Garamond"/>
                <a:cs typeface="B Mitra"/>
              </a:rPr>
              <a:t>آموزش سلامت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  <a:ea typeface="B Mitra"/>
              </a:rPr>
              <a:t>Health Educ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مرجع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سنامه طب پیشگیری و پزشکی اجتماع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پارک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B Mitra"/>
              </a:rPr>
              <a:t>–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جلد دو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AFED-744D-43A5-B33A-551AFA6D4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مدل های آموزش سلام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مدل پزشک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مدل انگیزش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مدل مداخله اجتماع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B Mitra"/>
              </a:rPr>
              <a:t>Transtheoritical Model(stages of chan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B1E8-BC30-4D35-83EA-DF9C93F78E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مدل پزشک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 مدل فرض بر این است مردم بر اساس اطلاعاتی که توسط دست اندرکاران سلامت به آنها داده شده عمل کرده و سلامت خود را بهبود می بخش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 مدل عوامل روانشناختی و فرهنگی کمترین اهمیت را به خود اختصاص می دهد و یا اصلا مهم شمرده نمی شو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مدل پزشکی نمی تواند بین آگاهی و عملکرد پل بز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E85-D4DF-40D3-B86F-C2A0017A1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مدل انگیزش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این مدل ، انگیزش را به عنوان نیروی اصلی که می تواند اطلاعات سلامتی را به عملکرد مطلوب سلامتی تبدیل کند ، خصوصا وقتی که مردم  به اطلاعات دریافت شده عمل نمی کنند ، تاکید زیادی دار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 در این مدل سه مرحله در فرآیند تغییر رفتار توضیح داده می شود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آگاهی           علاقه مند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انگیزش         ارزیاب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                      تصمیم گیر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3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عملکرد         پذیرش یا قبو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6732720" y="4149720"/>
            <a:ext cx="215640" cy="1150920"/>
          </a:xfrm>
          <a:custGeom>
            <a:avLst/>
            <a:gdLst>
              <a:gd name="textAreaLeft" fmla="*/ 0 w 215640"/>
              <a:gd name="textAreaRight" fmla="*/ 7776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  <a:ea typeface="Times New Roman"/>
              </a:rPr>
              <a:t>Motivation interview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مصاحبه انگيزشي يک تکنيک مصاحبه مشارکتي با هدف کمک به افراد جهت افزايش انگيزه و آمادگي آنها جهت ايجاد تغييرات رفتاري است</a:t>
            </a: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مشاوران مصاحبه انگيزشگي از دلگرم کردن بدون قضاوت و همراه با يکدلي</a:t>
            </a: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(empathetic)</a:t>
            </a: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براي ايجاد يک مشارکت بين فردي مثبت استفاده مي­کنند</a:t>
            </a: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نجر به خودآزمايي، فهميدن و تغيير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يکي از اهداف مصاحبه انگيزشي بيرون کشيدن انگيزه­هاي روحي و باطني افراد براي تغيير اس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ff"/>
                </a:solidFill>
                <a:latin typeface="Garamond"/>
              </a:rPr>
              <a:t>مشاور، مراجعه­کنندگان را تشويق مي­کند که توضيح دهند چگونه رفتارهاي مرتبط با سلامت اخير آنها مي­تواند با اهداف سلامتي آنها تعارض داشته باشد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لايل خود را براي و عليه تغييرات رفتاري ارزيابي کن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استراتژي­هاي بنيادي در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I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شامل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راجعه­کنندگان اهداف را براي تغيير معين مي­کنند، بنابراين آنها فعال هستند و مشارکت خواهند کر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صحبت در مورد ايجاد تغييرات شامل اين است که مشارکت­کنندگان خود انگيزش داشته باشند و بر اين نکته تاکيد دارد که افراد بيشتر تمايل دارند فعاليتي را انجام دهند که خودشان آن را طراحي کرده­ان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2005-3A2E-4AD4-9513-0585951BE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تعری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هیچ تعریف واحدی از آموزش سلامت وجود ندار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مفاهیم آموزش سلامت بعنوان روند یا فعالیت در جهت </a:t>
            </a:r>
            <a:r>
              <a:rPr b="0" lang="fa-IR" sz="3200" spc="-1" strike="noStrike">
                <a:solidFill>
                  <a:srgbClr val="ffcc00"/>
                </a:solidFill>
                <a:latin typeface="Garamond"/>
                <a:cs typeface="B Mitra"/>
              </a:rPr>
              <a:t>تغییر رفتار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در تعاریف گوناگون مورد تاکید قرار گرفته ا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داخلا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ي­توانند خصوصا براي جمعيت­هايي که در سطح پائين آمادگي براي تغيير رفتار هستند مؤثر باشند و مي­تواند مطابق با نيازها و شرايط محيطي آنها باشد و آنها را طي يک روند تکاملي مناسب نماي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صاحبه انگيزشي ساده مي­تواند مداخلات را براي محتواي فرهنگي همگون کند زيرا مراجعه­کنندگان بيش از پزشکان اهداف را تنظيم مي­کنن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در مداخلات رژيم غذايي و فعاليت فيزيکي، ترک سيگار،‌ پيشگيري از مصرف مواد مخدر، تبعيت پزشکي در ديابت، سايکوز و ساير ناخوشي­هاي مزمن و پيشگيري از خطر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V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ستفاده مي­شو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براي مثال مصاحبه انگيزشي به طور موفقيت آميز در مداخلات افزايش دهنده مصرف سبزي و ميوه و ارتقاء کمپليانس رژيم غذايي استفاده مي­شو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صاحبه انگيزشي براي مشاوره اعتياد با روان درماني ممکن است جلسه­هاي طولاني متعددي را شامل شود. به طور آلترناتيو، در مراکز پزشکي و سلامت عمومي، ويزيت بيماران حدود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تا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دقيقه طول مي­کش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ثابت شده است که مصاحبه انگيزشي يک ابزار مؤثر در تغيير رفتار در حوزه­هاي گوناگون شامل مشکلات نوشيدن، سيگار کشيدن و رژيم درماني ديابت و کاهش وزن اس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ranstheoritical Model(stages of change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اغلب اوقات جهت طبقه بندی افراد از نظر آمادگی برای تغییر به کار می رو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</a:rPr>
              <a:t>شش مرحله تغیی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تفکر پیشین: مرحله ای است که افراد به عنوان کسانی که رفتارهایشان را در آینده تغییر می دهند در نظر گرفته نمی شون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رحله تفکر: مرحله ای است که افراد به زودی قصد به ایجاد تغییرات در رفتارهای پر خطر خود دارند(مثلا طی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ماه اینده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رحله اماده سازی: مرحله ای است که فرد قصد به تغییر در آینده خیلی نزدیک را دارد(مثلا ماه اینده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رحله فعالیت: مرحله ای که در آن افراد به طور واضح تغییراتی در رفتارهایشان، محیط و مدل زندگیشان می دهند و در مدت کمتر از شش ماه این تغییرات ایجاد شده اند. این تغییرات قابل مشاهده هستند و به عنوان گرایش به فعالیت و عمل تعیین می شوند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رحله پایداری: مرحله ای است که فرد به تغییرات در رفتارهایش ادامه داده و به مدت حداقل 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 ماه به مرحله ی قبلی باز نمی گرد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مرحله پایانی:مرحله ای است که در آن فرد دیگر نسبت به وسوسه ها حساس نبوده و یا به مرحله خود تاثیری رسیده است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A1E4-80C6-4E4C-B82B-EAFB24BA41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تعری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آموزش سلامت الگوهای رفتاری مطلوب افراد یا جامعه است که توسط فرآیند های آموزشی به دست آمده ان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آموزش سلامت فرآیندی است که در طی آن افراد یا گروههای مردمی می آموزند تا بطریقی رفتار کنند که سلامتشان ارتقاء یابد ، باقی بماند و اصلاح شو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آموزش سلامت عبارت است از :هر ترکیبی از فرصتهای آموزشی و فعالیتهای تعلیمی که برای تسهیل در تغییر داوطلبانه رفتارهایی که به سلامتی ختم می شو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16A-864B-4F15-9D2A-B9A2F8018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مدل مداخله اجتماع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 مدل اعتقاد بر این است که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در بعضی موقعیت ها این فرد نیست که باید تغییر کند بلکه محیط اجتماعی است که رفتار فرد و جامعه را شکل می دهد ( موردی که مدل انگیزشی آن را در نظر نمی گیر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این مدل بر این خصویت استوار است که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اغلب ، فرد تا زمانی که موضوع توسط گروهی که به آن تعلق دارد تائید نشود ، آن را واقعا نمی پذیر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این مدل می گوید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آموزش سلامت موثر بر پایه آگاهی دقیق از اکولوژی انسانی و درک تاثیر متقابل فرهنگی ، زیست سناختی ، فیزیکی  و عوامل اجتماعی محیطی استوار است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B888-50D6-421F-9041-C7D244487B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اصول آموزش سلامت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قابل قبول بود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علاقه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مشارکت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انگیز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جامعیت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تقویت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یادگیری از طریق عمل کرد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8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از دانسته ها به ندانسته ها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9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الگو بود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10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ارتباط خوب انسان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Garamond"/>
                <a:ea typeface="B Mitra"/>
              </a:rPr>
              <a:t>–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 بازخور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12</a:t>
            </a:r>
            <a:r>
              <a:rPr b="1" lang="fa-IR" sz="2400" spc="-1" strike="noStrike">
                <a:solidFill>
                  <a:srgbClr val="ffffff"/>
                </a:solidFill>
                <a:latin typeface="Garamond"/>
                <a:ea typeface="B Mitra"/>
              </a:rPr>
              <a:t>- رهبران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237A-8E02-4C0F-9ED3-4644A4965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1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قابل قبول بود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آموزش سلامت خوب بر پایه حقایق استوار است ، یعنی باید منطبق بر دانش علمی و نیز فرهنگ عمومی ، نظام اموزشی و اهداف اجتماعی باش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گر مردم پیام را باور نکنند و به آن اعتماد نکنند هیچ عملکرد مطلوبی هم بعد از دریافت پیام رخ نخواهد دا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1E19-ADF7-4BA3-875F-B356D4EF6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2-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علاقه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آموزش سلامت باید با علائق مردم مرتبط و بر مبنای نیازهای احساس شده آنان باش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گر برنامه سلامتی بر اساس نیازهای احساس شده مردم باشد ، مردم با خوشحالی در آن برنامه شرکت می کنند وآن برنامه ، برنامه مردم خواهد بو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E9D1-7AD9-437A-88D2-5EB7011915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3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مشارک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مشارکت کلمه کلیدی در آموزش سلامت است و بر پایه اصول روانشناختی یادگیری فعال بنا نهاده شده ا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بیانیه آلماآتا بیان می کند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“ مردم حق دارند و وظیفه دارند که شخصا و جمعا در برنامه ریزی و مراقبت های سلامتی خود مشارکت کن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5B5-E59D-4E80-9E16-A3EC6F647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4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انگیز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هر فردی میل عمیقی برای یادگیری وجود دارد ، برانگیخته کردن این میل را “ انگیزش “ می گوی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نواع انگیزش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انگیزه اولیه : مانند گرسنگی ، میل به زنده بودن و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ین انگیزه ها نیروی محرکه ای هستند که انسان را به فعالیت وا می دارند( انگیزه های مادرزاد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انگیزه ثانویه : امیالی هستند که با نیروها و یا تشویق های خارجی بوجود می آین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cs typeface="B Mitra"/>
              </a:rPr>
              <a:t>مانند: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تحسین ، عشق ، چشم وهم چشم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6771-BCE1-47B5-B050-7E7336E79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4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انگیزش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.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یادگیری نیاز به محرک ، اولین قدم بسوی تغییر می باش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cs typeface="B Mitra"/>
              </a:rPr>
              <a:t>مثال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: چاقی ...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B23-0C4C-4D3B-82BC-B6B0981EC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5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جامعی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آموزش سلامت ما باید سطح درک ، ئرجه تحصیلی و سواد مردمی را که تحت آموزش هستند بدانی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اموزش سلامت همواره باید با زبانی ارتباط برقرار شود که مردم آنرا می فهمند ، هرگز نباید از کلماتی استفاده کرد که برای مردم بیگانه یا جدید اس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آموزش باید هم سطح توان ذهنی فراگیران باش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3FF5-DD77-4884-A6F8-E61CFAF98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6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تقویت( تکرار آموزش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تقویت ( تکرار) باعث می شود از رجعیت فرد به مراحل قبل از افزایش آگاهی جلوگیری ک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4BAD-E8AF-4F3C-9338-147FDD684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B Mitr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7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- یادگیری از طریق عمل کرد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یادگیری یک فرآیند بخاطر سپردن مفاهیم کوچک نیست بلکه فرآیندی فعال است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ضرب المثل چین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cs typeface="B Mitra"/>
              </a:rPr>
              <a:t>اگر بشنوم فراموش می کن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ea typeface="B Mitra"/>
              </a:rPr>
              <a:t>             اگر ببینم به یاد می آور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cc00"/>
                </a:solidFill>
                <a:latin typeface="Garamond"/>
                <a:ea typeface="B Mitra"/>
              </a:rPr>
              <a:t>                       اگر انجام دهم خواهم دانس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E474-FF27-442A-ADF9-A1E4D4675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</a:t>
            </a:r>
            <a:r>
              <a:rPr b="0" lang="fa-IR" sz="3200" spc="-1" strike="noStrike">
                <a:solidFill>
                  <a:srgbClr val="ffcc00"/>
                </a:solidFill>
                <a:latin typeface="Garamond"/>
                <a:ea typeface="B Mitra"/>
              </a:rPr>
              <a:t>( تعریف کنفرانس ملی طب پیشگیری در آمریکا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آموزش سلامت  فرآیندی است که مردم را آگاه می کند ، برمی انگیزد و کمک می کند تا اعمال و سبک سلامتی را بکار برده و حفظ کنند و در صورت لزوم محیط را برای تسهیل در دستیابی به این هدف تغییر داده و آموزشهای حرفه ای و تحقیقات را در همین راستا انجام ده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B2D9-8D13-4AA4-9A3B-57A55582A1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8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از دانسته ها به ندانسته ها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آموزش سلامت بای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از مفاهیم خام                         مفاهیم انتزاع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از جزء                            ک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ز ساده                             مشک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از دانسته ها                          ندانسته ها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پیش رف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Line 4"/>
          <p:cNvSpPr/>
          <p:nvPr/>
        </p:nvSpPr>
        <p:spPr>
          <a:xfrm flipH="1">
            <a:off x="5364000" y="249228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Line 5"/>
          <p:cNvSpPr/>
          <p:nvPr/>
        </p:nvSpPr>
        <p:spPr>
          <a:xfrm flipH="1">
            <a:off x="5651280" y="3141720"/>
            <a:ext cx="1584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Line 6"/>
          <p:cNvSpPr/>
          <p:nvPr/>
        </p:nvSpPr>
        <p:spPr>
          <a:xfrm flipH="1">
            <a:off x="5580000" y="3716280"/>
            <a:ext cx="1728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5508720" y="42926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9272-0392-4A79-8B77-CADBB6987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9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الگو بود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آموزشگر باید خود الگوی خوبی در مورد آنچه می آموزد، باش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0BA-EDE4-4219-9AB1-F15484F83C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10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ارتباطات خوب انسان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تبادل اطلاعات ، عقاید و احساسات در میان مردمی بهتر رخ می دهد که ارتباطات خوبی داشته باش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9CB0-1E85-4E46-863E-CF64751BA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11- 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بازخور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آموزشگر سلامت می تواند اجزاء سیستم ( مانند پیام یا راه ارتباطی) را با کمک بازخوردی که از فراگیرانش می گیرد ، تغییر ده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FA7-CAAF-4B4F-9939-8B39AB333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12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- رهبرا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روانشناسان نشان داده اند ما از کسانی بیشتر می آموزیم که به آنان ارادت داشته ایم و نزد ما محترم هست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در آموزش سلامت سعی می کنیم تا از طریق رهبران با نفوذ محلی در میان مردم نفوذ کنی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5D56-06F7-4ED1-8370-39E0A52689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4" name="Picture 4" descr="KINGC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WordArt 5"/>
          <p:cNvSpPr txBox="1"/>
          <p:nvPr/>
        </p:nvSpPr>
        <p:spPr>
          <a:xfrm>
            <a:off x="250920" y="4941720"/>
            <a:ext cx="3960720" cy="12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052C-2332-4125-8D39-295FAD38F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Mitra"/>
              </a:rPr>
              <a:t>تعریف آموزش سلامت </a:t>
            </a:r>
            <a:br>
              <a:rPr sz="4000"/>
            </a:br>
            <a:r>
              <a:rPr b="1" lang="fa-IR" sz="4000" spc="-1" strike="noStrike">
                <a:solidFill>
                  <a:srgbClr val="e5e5ff"/>
                </a:solidFill>
                <a:latin typeface="Garamond"/>
                <a:ea typeface="B Mitra"/>
              </a:rPr>
              <a:t> ( بیانیه آلماآتا 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  <a:ea typeface="B Mitra"/>
              </a:rPr>
              <a:t>1987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  <a:ea typeface="B Mitra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cs typeface="B Mitra"/>
              </a:rPr>
              <a:t>فرآیندی که کمک می کند مردم تشویق شوند تا سالم باشند ، تا بدانند چگونه سالم باقی بمانند ، بطور فردی یا گروهی ، آنچه را انجام دهند تا سلامتی را حفظ کنند و هرگاه احتیاج داشته باشند ، طلب کمک کنن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c00"/>
                </a:solidFill>
                <a:latin typeface="Garamond"/>
                <a:cs typeface="B Mitra"/>
              </a:rPr>
              <a:t>مفهوم نوین آموزش سلامت  بر </a:t>
            </a:r>
            <a:r>
              <a:rPr b="0" lang="fa-IR" sz="4000" spc="-1" strike="noStrike">
                <a:solidFill>
                  <a:srgbClr val="cc3300"/>
                </a:solidFill>
                <a:latin typeface="Garamond"/>
                <a:cs typeface="B Mitra"/>
              </a:rPr>
              <a:t>رفتار</a:t>
            </a:r>
            <a:r>
              <a:rPr b="0" lang="fa-IR" sz="4000" spc="-1" strike="noStrike">
                <a:solidFill>
                  <a:srgbClr val="ffcc00"/>
                </a:solidFill>
                <a:latin typeface="Garamond"/>
                <a:ea typeface="B Mitra"/>
              </a:rPr>
              <a:t> سلامتی مردم و اعمال مرتبط با آن تاکید می کند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F75-6233-4656-9422-3F61F28F4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5e5ff"/>
                </a:solidFill>
                <a:latin typeface="Garamond"/>
                <a:cs typeface="B Mitra"/>
              </a:rPr>
              <a:t>اهداف و مقاصد</a:t>
            </a:r>
            <a:r>
              <a:rPr b="1" lang="fa-IR" sz="4400" spc="-1" strike="noStrike">
                <a:solidFill>
                  <a:srgbClr val="e5e5ff"/>
                </a:solidFill>
                <a:latin typeface="Garamond"/>
                <a:ea typeface="B Mitra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تشویق مردم به بکارگیری و حفظ سلامت از طریق ارتقاء رفتار وسبک زندگ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ارتقاء بخشیدن به استفاده صحیح از خدمات سلامتی در دستر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3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جلب علاقه ، آگاهی دادن ، بهبود مهارت ها و تغییر نگرش های مردم در اتخاذ تصمیمات منطقی برای رفع مشکلاتشا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4</a:t>
            </a:r>
            <a:r>
              <a:rPr b="0" lang="fa-IR" sz="2800" spc="-1" strike="noStrike">
                <a:solidFill>
                  <a:srgbClr val="ffffff"/>
                </a:solidFill>
                <a:latin typeface="Garamond"/>
                <a:ea typeface="B Mitra"/>
              </a:rPr>
              <a:t>- تحریک خوداتکائی  افراد و جامعه و مشارکت دادن آنها برای توسعه سلامت از طریق در گیر کردن افراد و جامعه در تمام مراحل ، از مشخص کردن مشکل تا حل آ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967-2749-4D37-B86C-7D70F1DCB7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Mitra"/>
              </a:rPr>
              <a:t>نقش ارائه کنندگان مراقبت های سلامتی در آموزش سلامت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  <a:ea typeface="B Mitr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روشن است که آموزش ، ضروری است اما آموزش به تنهایی نمی تواند سلامت کامل را تحقق بخش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در اینجا نقش ارائه کنندگان مراقبت های سلامتی عبارت است ا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الف- ایجاد فرصتهایی برای مردم تا بیاموزند که چگونه سلامت و مشکلات مربوط به سلامتشان را تحلیل کرده و چگونه اهداف و اولویت هایشان را تنظیم کنن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ب- تسهیل دسترسی به اطلاعات مربوط به سلام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ج- نشان دادن راههای جایگزین برای حل مشکلات مشخص شده مرتبط با سلامت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Garamond"/>
                <a:cs typeface="B Mitra"/>
              </a:rPr>
              <a:t>د- ایجاد دسترسی مردم به اقدامات تائید شده پیشگیرانه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72E7-24E1-4E16-940F-163E012AB8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e5e5ff"/>
                </a:solidFill>
                <a:latin typeface="Garamond"/>
                <a:cs typeface="B Mitra"/>
              </a:rPr>
              <a:t>رویکردهای آموزش سلامت</a:t>
            </a:r>
            <a:r>
              <a:rPr b="1" lang="fa-IR" sz="4000" spc="-1" strike="noStrike">
                <a:solidFill>
                  <a:srgbClr val="e5e5ff"/>
                </a:solidFill>
                <a:latin typeface="Garamond"/>
                <a:ea typeface="B Mitr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  <a:ea typeface="B Mitra"/>
              </a:rPr>
              <a:t>Approach to Health Educ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 چهار رویکرد شناخته شده به آموزش سلامت وجود دارد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1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رویکرد نظارت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2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رویکرد خدمات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3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رویکرد آموزش سلام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4</a:t>
            </a:r>
            <a:r>
              <a:rPr b="0" lang="fa-IR" sz="3200" spc="-1" strike="noStrike">
                <a:solidFill>
                  <a:srgbClr val="ffffff"/>
                </a:solidFill>
                <a:latin typeface="Garamond"/>
                <a:ea typeface="B Mitra"/>
              </a:rPr>
              <a:t>- رویکرد خدمات سلامتی اولی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3:27:14Z</dcterms:created>
  <dc:creator>A1</dc:creator>
  <dc:description/>
  <dc:language>en-US</dc:language>
  <cp:lastModifiedBy>vakiliv</cp:lastModifiedBy>
  <dcterms:modified xsi:type="dcterms:W3CDTF">2013-04-03T05:05:24Z</dcterms:modified>
  <cp:revision>52</cp:revision>
  <dc:subject/>
  <dc:title>آموزش بهداشت Health Education</dc:title>
</cp:coreProperties>
</file>