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B5F5-602D-48C3-82BD-EC622C9C6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A321-6A8E-4C79-809A-3C14360D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74C4-B287-49DD-A465-FB626131A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E8D1-3D24-4A8C-8929-7C25B877F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42B1-BEB2-4136-BE33-D9084679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B32C-C057-4ECF-AA31-6F046D85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1285-3DEA-4A06-8CF0-25CE8664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5714-5E18-4B46-8478-2DD54A2F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0372-9CA7-4088-A9A6-A65EB639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3FF3-5C00-4366-9CCF-41B11C53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2A50-72EF-4A20-AD66-68B3385F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F680-0239-4BD2-BB0C-8A77CDE1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7665-0950-43E6-8BE1-50AA7936E96C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320" y="811080"/>
            <a:ext cx="8229600" cy="5818320"/>
          </a:xfrm>
          <a:prstGeom prst="rect">
            <a:avLst/>
          </a:prstGeom>
          <a:solidFill>
            <a:srgbClr val="3f15d7"/>
          </a:solidFill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ff00"/>
                </a:solidFill>
                <a:latin typeface="Arial"/>
                <a:ea typeface="Mitra"/>
              </a:rPr>
              <a:t>                آموزش بهداشت</a:t>
            </a:r>
            <a:br>
              <a:rPr sz="4800"/>
            </a:br>
            <a:br>
              <a:rPr sz="4800"/>
            </a:br>
            <a:r>
              <a:rPr b="1" lang="fa-IR" sz="4800" spc="-1" strike="noStrike">
                <a:solidFill>
                  <a:srgbClr val="dfd293"/>
                </a:solidFill>
                <a:latin typeface="Arial"/>
                <a:ea typeface="Mitra"/>
              </a:rPr>
              <a:t>               </a:t>
            </a:r>
            <a:r>
              <a:rPr b="1" lang="fa-IR" sz="4800" spc="-1" strike="noStrike">
                <a:solidFill>
                  <a:srgbClr val="ffcc00"/>
                </a:solidFill>
                <a:latin typeface="Arial"/>
                <a:cs typeface="Mitra"/>
              </a:rPr>
              <a:t>تهيه و تنظيم  از :</a:t>
            </a:r>
            <a:br>
              <a:rPr sz="4800"/>
            </a:br>
            <a:br>
              <a:rPr sz="4800"/>
            </a:br>
            <a:r>
              <a:rPr b="1" lang="fa-IR" sz="4800" spc="-1" strike="noStrike">
                <a:solidFill>
                  <a:srgbClr val="dfd293"/>
                </a:solidFill>
                <a:latin typeface="Arial"/>
                <a:ea typeface="Mitra"/>
              </a:rPr>
              <a:t>    </a:t>
            </a:r>
            <a:r>
              <a:rPr b="1" lang="fa-IR" sz="4800" spc="-1" strike="noStrike">
                <a:solidFill>
                  <a:srgbClr val="0c0400"/>
                </a:solidFill>
                <a:latin typeface="Arial"/>
                <a:cs typeface="Mitra"/>
              </a:rPr>
              <a:t>دکتر مجيد رضا عرفانيان تقوائی</a:t>
            </a:r>
            <a:r>
              <a:rPr b="1" lang="fa-IR" sz="4800" spc="-1" strike="noStrike">
                <a:solidFill>
                  <a:srgbClr val="dfd293"/>
                </a:solidFill>
                <a:latin typeface="Arial"/>
                <a:ea typeface="Mitra"/>
              </a:rPr>
              <a:t> </a:t>
            </a:r>
            <a:br>
              <a:rPr sz="4800"/>
            </a:br>
            <a:r>
              <a:rPr b="1" lang="fa-IR" sz="4800" spc="-1" strike="noStrike">
                <a:solidFill>
                  <a:srgbClr val="dfd293"/>
                </a:solidFill>
                <a:latin typeface="Arial"/>
                <a:ea typeface="Mitra"/>
              </a:rPr>
              <a:t>  </a:t>
            </a:r>
            <a:r>
              <a:rPr b="1" lang="fa-IR" sz="3600" spc="-1" strike="noStrike">
                <a:solidFill>
                  <a:srgbClr val="dfd293"/>
                </a:solidFill>
                <a:latin typeface="Arial"/>
                <a:cs typeface="Mitra"/>
              </a:rPr>
              <a:t>متخصص و دانشياربيماريهای عفونی و بهداشت</a:t>
            </a:r>
            <a:r>
              <a:rPr b="1" lang="fa-IR" sz="4800" spc="-1" strike="noStrike">
                <a:solidFill>
                  <a:srgbClr val="dfd293"/>
                </a:solidFill>
                <a:latin typeface="Arial"/>
                <a:ea typeface="Mitra"/>
              </a:rPr>
              <a:t>  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65400"/>
            <a:ext cx="8229600" cy="544032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10000"/>
                </a:solidFill>
                <a:latin typeface="Arial"/>
                <a:ea typeface="Mitra"/>
              </a:rPr>
              <a:t>3</a:t>
            </a:r>
            <a:r>
              <a:rPr b="1" lang="fa-IR" sz="2400" spc="-1" strike="noStrike">
                <a:solidFill>
                  <a:srgbClr val="010000"/>
                </a:solidFill>
                <a:latin typeface="Arial"/>
                <a:ea typeface="Mitra"/>
              </a:rPr>
              <a:t>- بهداشت فردی و زيست محيطی و ارتقاء استانداردهای پاکيزگی </a:t>
            </a:r>
            <a:br>
              <a:rPr sz="2400"/>
            </a:br>
            <a:r>
              <a:rPr b="1" lang="fa-IR" sz="2400" spc="-1" strike="noStrike">
                <a:solidFill>
                  <a:srgbClr val="010000"/>
                </a:solidFill>
                <a:latin typeface="Arial"/>
                <a:ea typeface="Mitra"/>
              </a:rPr>
              <a:t>4</a:t>
            </a:r>
            <a:r>
              <a:rPr b="1" lang="fa-IR" sz="2400" spc="-1" strike="noStrike">
                <a:solidFill>
                  <a:srgbClr val="010000"/>
                </a:solidFill>
                <a:latin typeface="Arial"/>
                <a:ea typeface="Mitra"/>
              </a:rPr>
              <a:t>- مراقبت از سلامت خانواده   شامل : </a:t>
            </a:r>
            <a:r>
              <a:rPr b="1" lang="fa-IR" sz="2400" spc="-1" strike="noStrike">
                <a:solidFill>
                  <a:srgbClr val="ffff00"/>
                </a:solidFill>
                <a:latin typeface="Arial"/>
                <a:cs typeface="Mitra"/>
              </a:rPr>
              <a:t>برنامه های پايش رشد کودک  ،  بهداشت مادر و کودک  ،  ايمن سازی کودکان   ،  تغذيه کودکان  و مادران حامله   و در نهايت کيفيت زندگی خانواده به عنوان يک واحد و ارتقاء آن بطوری که در برابر تحولات سريع و دگرگونيهای زندگی دوام بياورد  </a:t>
            </a:r>
            <a:br>
              <a:rPr sz="2400"/>
            </a:br>
            <a:r>
              <a:rPr b="1" lang="fa-IR" sz="2400" spc="-1" strike="noStrike">
                <a:solidFill>
                  <a:srgbClr val="010000"/>
                </a:solidFill>
                <a:latin typeface="Arial"/>
                <a:ea typeface="Mitra"/>
              </a:rPr>
              <a:t>5</a:t>
            </a:r>
            <a:r>
              <a:rPr b="1" lang="fa-IR" sz="2400" spc="-1" strike="noStrike">
                <a:solidFill>
                  <a:srgbClr val="010000"/>
                </a:solidFill>
                <a:latin typeface="Arial"/>
                <a:ea typeface="Mitra"/>
              </a:rPr>
              <a:t>- مبارزه با بيماريهای واگير و غير واگير  </a:t>
            </a:r>
            <a:br>
              <a:rPr sz="2400"/>
            </a:br>
            <a:r>
              <a:rPr b="1" lang="fa-IR" sz="2400" spc="-1" strike="noStrike">
                <a:solidFill>
                  <a:srgbClr val="010000"/>
                </a:solidFill>
                <a:latin typeface="Arial"/>
                <a:ea typeface="Mitra"/>
              </a:rPr>
              <a:t>6</a:t>
            </a:r>
            <a:r>
              <a:rPr b="1" lang="fa-IR" sz="2400" spc="-1" strike="noStrike">
                <a:solidFill>
                  <a:srgbClr val="010000"/>
                </a:solidFill>
                <a:latin typeface="Arial"/>
                <a:ea typeface="Mitra"/>
              </a:rPr>
              <a:t>- بهداشت روانی  </a:t>
            </a:r>
            <a:br>
              <a:rPr sz="2400"/>
            </a:br>
            <a:r>
              <a:rPr b="1" lang="fa-IR" sz="2400" spc="-1" strike="noStrike">
                <a:solidFill>
                  <a:srgbClr val="010000"/>
                </a:solidFill>
                <a:latin typeface="Arial"/>
                <a:ea typeface="Mitra"/>
              </a:rPr>
              <a:t>7</a:t>
            </a:r>
            <a:r>
              <a:rPr b="1" lang="fa-IR" sz="2400" spc="-1" strike="noStrike">
                <a:solidFill>
                  <a:srgbClr val="010000"/>
                </a:solidFill>
                <a:latin typeface="Arial"/>
                <a:ea typeface="Mitra"/>
              </a:rPr>
              <a:t>- پيشگيری از سوانح              </a:t>
            </a:r>
            <a:r>
              <a:rPr b="1" lang="fa-IR" sz="2400" spc="-1" strike="noStrike">
                <a:solidFill>
                  <a:srgbClr val="010000"/>
                </a:solidFill>
                <a:latin typeface="Arial"/>
                <a:ea typeface="Mitra"/>
              </a:rPr>
              <a:t>8</a:t>
            </a:r>
            <a:r>
              <a:rPr b="1" lang="fa-IR" sz="2400" spc="-1" strike="noStrike">
                <a:solidFill>
                  <a:srgbClr val="010000"/>
                </a:solidFill>
                <a:latin typeface="Arial"/>
                <a:ea typeface="Mitra"/>
              </a:rPr>
              <a:t>- استفاده از خدمات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096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5c1f00"/>
                </a:solidFill>
                <a:latin typeface="Arial"/>
                <a:cs typeface="Mitra"/>
              </a:rPr>
              <a:t>اصول آموزش بهداشت</a:t>
            </a:r>
            <a:r>
              <a:rPr b="1" lang="fa-IR" sz="3200" spc="-1" strike="noStrike">
                <a:solidFill>
                  <a:srgbClr val="5c1f00"/>
                </a:solidFill>
                <a:latin typeface="Arial"/>
                <a:ea typeface="Mitra"/>
              </a:rPr>
              <a:t> :</a:t>
            </a:r>
            <a:r>
              <a:rPr b="1" lang="fa-IR" sz="2400" spc="-1" strike="noStrike">
                <a:solidFill>
                  <a:srgbClr val="5c1f00"/>
                </a:solidFill>
                <a:latin typeface="Arial"/>
                <a:ea typeface="Mitra"/>
              </a:rPr>
              <a:t> 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ff"/>
                </a:solidFill>
                <a:latin typeface="Arial"/>
                <a:ea typeface="Mitra"/>
              </a:rPr>
              <a:t>1</a:t>
            </a:r>
            <a:r>
              <a:rPr b="1" lang="fa-IR" sz="2800" spc="-1" strike="noStrike">
                <a:solidFill>
                  <a:srgbClr val="ffffff"/>
                </a:solidFill>
                <a:latin typeface="Arial"/>
                <a:ea typeface="Mitra"/>
              </a:rPr>
              <a:t>- علائق و علاقه مندی مرد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dfd293"/>
                </a:solidFill>
                <a:latin typeface="Arial"/>
                <a:ea typeface="Mitra"/>
              </a:rPr>
              <a:t>2</a:t>
            </a:r>
            <a:r>
              <a:rPr b="1" lang="fa-IR" sz="2800" spc="-1" strike="noStrike">
                <a:solidFill>
                  <a:srgbClr val="dfd293"/>
                </a:solidFill>
                <a:latin typeface="Arial"/>
                <a:ea typeface="Mitra"/>
              </a:rPr>
              <a:t>- مشارک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99"/>
                </a:solidFill>
                <a:latin typeface="Arial"/>
                <a:ea typeface="Mitra"/>
              </a:rPr>
              <a:t>3</a:t>
            </a:r>
            <a:r>
              <a:rPr b="1" lang="fa-IR" sz="2800" spc="-1" strike="noStrike">
                <a:solidFill>
                  <a:srgbClr val="ffff99"/>
                </a:solidFill>
                <a:latin typeface="Arial"/>
                <a:ea typeface="Mitra"/>
              </a:rPr>
              <a:t>- از دانسته به نادانست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66ff33"/>
                </a:solidFill>
                <a:latin typeface="Arial"/>
                <a:ea typeface="Mitra"/>
              </a:rPr>
              <a:t>4</a:t>
            </a:r>
            <a:r>
              <a:rPr b="1" lang="fa-IR" sz="2800" spc="-1" strike="noStrike">
                <a:solidFill>
                  <a:srgbClr val="66ff33"/>
                </a:solidFill>
                <a:latin typeface="Arial"/>
                <a:ea typeface="Mitra"/>
              </a:rPr>
              <a:t>- ادرا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66ff"/>
                </a:solidFill>
                <a:latin typeface="Arial"/>
                <a:ea typeface="Mitra"/>
              </a:rPr>
              <a:t>5</a:t>
            </a:r>
            <a:r>
              <a:rPr b="1" lang="fa-IR" sz="2800" spc="-1" strike="noStrike">
                <a:solidFill>
                  <a:srgbClr val="0066ff"/>
                </a:solidFill>
                <a:latin typeface="Arial"/>
                <a:ea typeface="Mitra"/>
              </a:rPr>
              <a:t>- تقوي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66cc"/>
                </a:solidFill>
                <a:latin typeface="Arial"/>
                <a:ea typeface="Mitra"/>
              </a:rPr>
              <a:t>6</a:t>
            </a:r>
            <a:r>
              <a:rPr b="1" lang="fa-IR" sz="2800" spc="-1" strike="noStrike">
                <a:solidFill>
                  <a:srgbClr val="ff66cc"/>
                </a:solidFill>
                <a:latin typeface="Arial"/>
                <a:ea typeface="Mitra"/>
              </a:rPr>
              <a:t>- ايجاد انگيز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Mitra"/>
              </a:rPr>
              <a:t>7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Mitra"/>
              </a:rPr>
              <a:t>- آموختن با عمل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ffff"/>
                </a:solidFill>
                <a:latin typeface="Arial"/>
                <a:ea typeface="Mitra"/>
              </a:rPr>
              <a:t>8</a:t>
            </a:r>
            <a:r>
              <a:rPr b="1" lang="fa-IR" sz="2800" spc="-1" strike="noStrike">
                <a:solidFill>
                  <a:srgbClr val="00ffff"/>
                </a:solidFill>
                <a:latin typeface="Arial"/>
                <a:ea typeface="Mitra"/>
              </a:rPr>
              <a:t>- خاک ، دانه  ، برزگ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66"/>
                </a:solidFill>
                <a:latin typeface="Arial"/>
                <a:ea typeface="Mitra"/>
              </a:rPr>
              <a:t>9</a:t>
            </a:r>
            <a:r>
              <a:rPr b="1" lang="fa-IR" sz="2800" spc="-1" strike="noStrike">
                <a:solidFill>
                  <a:srgbClr val="ffff66"/>
                </a:solidFill>
                <a:latin typeface="Arial"/>
                <a:ea typeface="Mitra"/>
              </a:rPr>
              <a:t>- روابط انسانی خوب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cc00"/>
                </a:solidFill>
                <a:latin typeface="Arial"/>
                <a:ea typeface="Mitra"/>
              </a:rPr>
              <a:t>10</a:t>
            </a:r>
            <a:r>
              <a:rPr b="1" lang="fa-IR" sz="2800" spc="-1" strike="noStrike">
                <a:solidFill>
                  <a:srgbClr val="ffcc00"/>
                </a:solidFill>
                <a:latin typeface="Arial"/>
                <a:ea typeface="Mitra"/>
              </a:rPr>
              <a:t>- رهبران جامع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4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4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4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616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5c1f00"/>
                </a:solidFill>
                <a:latin typeface="Arial"/>
                <a:ea typeface="Mitra"/>
              </a:rPr>
              <a:t>                وسايل کمک آموزشی :</a:t>
            </a:r>
            <a:r>
              <a:rPr b="1" lang="fa-IR" sz="2800" spc="-1" strike="noStrike">
                <a:solidFill>
                  <a:srgbClr val="5c1f00"/>
                </a:solidFill>
                <a:latin typeface="Arial"/>
                <a:ea typeface="Mitra"/>
              </a:rPr>
              <a:t> 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6102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ff8200"/>
              </a:gs>
            </a:gsLst>
            <a:lin ang="2700000"/>
          </a:gradFill>
          <a:ln w="38160">
            <a:solidFill>
              <a:srgbClr val="e4844e"/>
            </a:solidFill>
            <a:prstDash val="lgDashDotDot"/>
            <a:miter/>
          </a:ln>
        </p:spPr>
        <p:txBody>
          <a:bodyPr anchor="t">
            <a:normAutofit fontScale="87000"/>
          </a:bodyPr>
          <a:p>
            <a:pPr marL="2984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66ff"/>
                </a:solidFill>
                <a:latin typeface="Arial"/>
                <a:ea typeface="Mitra"/>
              </a:rPr>
              <a:t>1</a:t>
            </a:r>
            <a:r>
              <a:rPr b="1" lang="fa-IR" sz="2400" spc="-1" strike="noStrike">
                <a:solidFill>
                  <a:srgbClr val="0066ff"/>
                </a:solidFill>
                <a:latin typeface="Arial"/>
                <a:ea typeface="Mitra"/>
              </a:rPr>
              <a:t>- وسايل شنيداری  </a:t>
            </a:r>
            <a:r>
              <a:rPr b="1" lang="fa-IR" sz="2400" spc="-1" strike="noStrike">
                <a:solidFill>
                  <a:srgbClr val="ff66cc"/>
                </a:solidFill>
                <a:latin typeface="Arial"/>
                <a:ea typeface="Mitra"/>
              </a:rPr>
              <a:t>2</a:t>
            </a:r>
            <a:r>
              <a:rPr b="1" lang="fa-IR" sz="2400" spc="-1" strike="noStrike">
                <a:solidFill>
                  <a:srgbClr val="ff66cc"/>
                </a:solidFill>
                <a:latin typeface="Arial"/>
                <a:ea typeface="Mitra"/>
              </a:rPr>
              <a:t>- وسايل ديداری  </a:t>
            </a:r>
            <a:r>
              <a:rPr b="1" lang="fa-IR" sz="2400" spc="-1" strike="noStrike">
                <a:solidFill>
                  <a:srgbClr val="ffff66"/>
                </a:solidFill>
                <a:latin typeface="Arial"/>
                <a:ea typeface="Mitra"/>
              </a:rPr>
              <a:t>3</a:t>
            </a:r>
            <a:r>
              <a:rPr b="1" lang="fa-IR" sz="2400" spc="-1" strike="noStrike">
                <a:solidFill>
                  <a:srgbClr val="ffff66"/>
                </a:solidFill>
                <a:latin typeface="Arial"/>
                <a:ea typeface="Mitra"/>
              </a:rPr>
              <a:t>- وسايل کمک آموزشی مخلوط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99ff33"/>
                </a:solidFill>
                <a:latin typeface="Arial"/>
                <a:ea typeface="Mitra"/>
              </a:rPr>
              <a:t>         مزايا :</a:t>
            </a:r>
            <a:r>
              <a:rPr b="1" lang="fa-IR" sz="2800" spc="-1" strike="noStrike">
                <a:solidFill>
                  <a:srgbClr val="808080"/>
                </a:solidFill>
                <a:latin typeface="Arial"/>
                <a:ea typeface="Mitr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808080"/>
                </a:solidFill>
                <a:latin typeface="Arial"/>
                <a:ea typeface="Mitra"/>
              </a:rPr>
              <a:t>         </a:t>
            </a:r>
            <a:r>
              <a:rPr b="1" lang="fa-IR" sz="2400" spc="-1" strike="noStrike">
                <a:solidFill>
                  <a:srgbClr val="00ffff"/>
                </a:solidFill>
                <a:latin typeface="Arial"/>
                <a:ea typeface="Mitra"/>
              </a:rPr>
              <a:t>1</a:t>
            </a:r>
            <a:r>
              <a:rPr b="1" lang="fa-IR" sz="2400" spc="-1" strike="noStrike">
                <a:solidFill>
                  <a:srgbClr val="00ffff"/>
                </a:solidFill>
                <a:latin typeface="Arial"/>
                <a:ea typeface="Mitra"/>
              </a:rPr>
              <a:t>- مورد علاقه آموزش گيرندگان است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ffff"/>
                </a:solidFill>
                <a:latin typeface="Arial"/>
                <a:ea typeface="Mitra"/>
              </a:rPr>
              <a:t>          </a:t>
            </a:r>
            <a:r>
              <a:rPr b="1" lang="fa-IR" sz="2400" spc="-1" strike="noStrike">
                <a:solidFill>
                  <a:srgbClr val="00ffff"/>
                </a:solidFill>
                <a:latin typeface="Arial"/>
                <a:ea typeface="Mitra"/>
              </a:rPr>
              <a:t>2</a:t>
            </a:r>
            <a:r>
              <a:rPr b="1" lang="fa-IR" sz="2400" spc="-1" strike="noStrike">
                <a:solidFill>
                  <a:srgbClr val="00ffff"/>
                </a:solidFill>
                <a:latin typeface="Arial"/>
                <a:ea typeface="Mitra"/>
              </a:rPr>
              <a:t>- آموزش حاصله با دوام تر اس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ffff"/>
                </a:solidFill>
                <a:latin typeface="Arial"/>
                <a:ea typeface="Mitra"/>
              </a:rPr>
              <a:t>          </a:t>
            </a:r>
            <a:r>
              <a:rPr b="1" lang="fa-IR" sz="2400" spc="-1" strike="noStrike">
                <a:solidFill>
                  <a:srgbClr val="00ffff"/>
                </a:solidFill>
                <a:latin typeface="Arial"/>
                <a:ea typeface="Mitra"/>
              </a:rPr>
              <a:t>3</a:t>
            </a:r>
            <a:r>
              <a:rPr b="1" lang="fa-IR" sz="2400" spc="-1" strike="noStrike">
                <a:solidFill>
                  <a:srgbClr val="00ffff"/>
                </a:solidFill>
                <a:latin typeface="Arial"/>
                <a:ea typeface="Mitra"/>
              </a:rPr>
              <a:t>- يک تجربه واقعی را نشان می دهد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ffff"/>
                </a:solidFill>
                <a:latin typeface="Arial"/>
                <a:ea typeface="Mitra"/>
              </a:rPr>
              <a:t>          </a:t>
            </a:r>
            <a:r>
              <a:rPr b="1" lang="fa-IR" sz="2400" spc="-1" strike="noStrike">
                <a:solidFill>
                  <a:srgbClr val="00ffff"/>
                </a:solidFill>
                <a:latin typeface="Arial"/>
                <a:ea typeface="Mitra"/>
              </a:rPr>
              <a:t>4</a:t>
            </a:r>
            <a:r>
              <a:rPr b="1" lang="fa-IR" sz="2400" spc="-1" strike="noStrike">
                <a:solidFill>
                  <a:srgbClr val="00ffff"/>
                </a:solidFill>
                <a:latin typeface="Arial"/>
                <a:ea typeface="Mitra"/>
              </a:rPr>
              <a:t>- موجب استمرار آموزش می گردد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ffff"/>
                </a:solidFill>
                <a:latin typeface="Arial"/>
                <a:ea typeface="Mitra"/>
              </a:rPr>
              <a:t>          </a:t>
            </a:r>
            <a:r>
              <a:rPr b="1" lang="fa-IR" sz="2400" spc="-1" strike="noStrike">
                <a:solidFill>
                  <a:srgbClr val="00ffff"/>
                </a:solidFill>
                <a:latin typeface="Arial"/>
                <a:ea typeface="Mitra"/>
              </a:rPr>
              <a:t>5</a:t>
            </a:r>
            <a:r>
              <a:rPr b="1" lang="fa-IR" sz="2400" spc="-1" strike="noStrike">
                <a:solidFill>
                  <a:srgbClr val="00ffff"/>
                </a:solidFill>
                <a:latin typeface="Arial"/>
                <a:ea typeface="Mitra"/>
              </a:rPr>
              <a:t>- در رشد معنی و فرهنگ لغات سهم دارند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ffff"/>
                </a:solidFill>
                <a:latin typeface="Arial"/>
                <a:ea typeface="Mitra"/>
              </a:rPr>
              <a:t>          </a:t>
            </a:r>
            <a:r>
              <a:rPr b="1" lang="fa-IR" sz="2400" spc="-1" strike="noStrike">
                <a:solidFill>
                  <a:srgbClr val="00ffff"/>
                </a:solidFill>
                <a:latin typeface="Arial"/>
                <a:ea typeface="Mitra"/>
              </a:rPr>
              <a:t>6</a:t>
            </a:r>
            <a:r>
              <a:rPr b="1" lang="fa-IR" sz="2400" spc="-1" strike="noStrike">
                <a:solidFill>
                  <a:srgbClr val="00ffff"/>
                </a:solidFill>
                <a:latin typeface="Arial"/>
                <a:ea typeface="Mitra"/>
              </a:rPr>
              <a:t>- در کارآيی  ، ژرف بينی و تنوع آموزش سهيم می باشند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ffff"/>
                </a:solidFill>
                <a:latin typeface="Arial"/>
                <a:ea typeface="Mitra"/>
              </a:rPr>
              <a:t>          </a:t>
            </a:r>
            <a:r>
              <a:rPr b="1" lang="fa-IR" sz="2400" spc="-1" strike="noStrike">
                <a:solidFill>
                  <a:srgbClr val="00ffff"/>
                </a:solidFill>
                <a:latin typeface="Arial"/>
                <a:ea typeface="Mitra"/>
              </a:rPr>
              <a:t>7</a:t>
            </a:r>
            <a:r>
              <a:rPr b="1" lang="fa-IR" sz="2400" spc="-1" strike="noStrike">
                <a:solidFill>
                  <a:srgbClr val="00ffff"/>
                </a:solidFill>
                <a:latin typeface="Arial"/>
                <a:ea typeface="Mitra"/>
              </a:rPr>
              <a:t>- پايه محکمی برای انديشه تعقلی ايجاد می کند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86800" cy="624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5c1f00"/>
                </a:solidFill>
                <a:latin typeface="Arial"/>
                <a:cs typeface="Mitra"/>
              </a:rPr>
              <a:t>وسايل کمک آموزشی ديداری ، شنيداری ازهمه بهتر است</a:t>
            </a:r>
            <a:br>
              <a:rPr sz="3200"/>
            </a:br>
            <a:r>
              <a:rPr b="1" lang="fa-IR" sz="3200" spc="-1" strike="noStrike">
                <a:solidFill>
                  <a:srgbClr val="5c1f00"/>
                </a:solidFill>
                <a:latin typeface="Arial"/>
                <a:ea typeface="Mitra"/>
              </a:rPr>
              <a:t> </a:t>
            </a:r>
            <a:br>
              <a:rPr sz="3200"/>
            </a:br>
            <a:r>
              <a:rPr b="1" lang="fa-IR" sz="3200" spc="-1" strike="noStrike">
                <a:solidFill>
                  <a:srgbClr val="5c1f00"/>
                </a:solidFill>
                <a:latin typeface="Arial"/>
                <a:cs typeface="Mitra"/>
              </a:rPr>
              <a:t>اجراء آموزش بهداشت : </a:t>
            </a:r>
            <a:br>
              <a:rPr sz="3200"/>
            </a:br>
            <a:r>
              <a:rPr b="1" lang="fa-IR" sz="3200" spc="-1" strike="noStrike">
                <a:solidFill>
                  <a:srgbClr val="5c1f00"/>
                </a:solidFill>
                <a:latin typeface="Arial"/>
                <a:cs typeface="Mitra"/>
              </a:rPr>
              <a:t>آموزش بهداشت در سه سطح عمده اجرا می گردد : </a:t>
            </a:r>
            <a:br>
              <a:rPr sz="3200"/>
            </a:br>
            <a:r>
              <a:rPr b="1" lang="fa-IR" sz="3200" spc="-1" strike="noStrike">
                <a:solidFill>
                  <a:srgbClr val="5c1f00"/>
                </a:solidFill>
                <a:latin typeface="Arial"/>
                <a:ea typeface="Mitra"/>
              </a:rPr>
              <a:t> </a:t>
            </a:r>
            <a:br>
              <a:rPr sz="3200"/>
            </a:br>
            <a:r>
              <a:rPr b="1" lang="fa-IR" sz="3200" spc="-1" strike="noStrike">
                <a:solidFill>
                  <a:srgbClr val="ff3399"/>
                </a:solidFill>
                <a:latin typeface="Arial"/>
                <a:cs typeface="Mitra"/>
              </a:rPr>
              <a:t>فردی  ، گروهی  ، عموم مردم</a:t>
            </a:r>
            <a:br>
              <a:rPr sz="3200"/>
            </a:br>
            <a:r>
              <a:rPr b="1" lang="fa-IR" sz="3200" spc="-1" strike="noStrike">
                <a:solidFill>
                  <a:srgbClr val="5c1f00"/>
                </a:solidFill>
                <a:latin typeface="Arial"/>
                <a:ea typeface="Mitra"/>
              </a:rPr>
              <a:t> </a:t>
            </a:r>
            <a:br>
              <a:rPr sz="3200"/>
            </a:br>
            <a:br>
              <a:rPr sz="3200"/>
            </a:br>
            <a:r>
              <a:rPr b="1" lang="fa-IR" sz="3200" spc="-1" strike="noStrike">
                <a:solidFill>
                  <a:srgbClr val="5c1f00"/>
                </a:solidFill>
                <a:latin typeface="Arial"/>
                <a:cs typeface="Mitra"/>
              </a:rPr>
              <a:t>برای ايجاد دگرگونی کارساز در بينش ها و رفتارها به روشهای فردی و گروهی تکيه می شود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dfd293"/>
                </a:solidFill>
                <a:latin typeface="Arial"/>
                <a:ea typeface="Mitra"/>
              </a:rPr>
              <a:t>                 </a:t>
            </a:r>
            <a:r>
              <a:rPr b="1" lang="fa-IR" sz="3600" spc="-1" strike="noStrike">
                <a:solidFill>
                  <a:srgbClr val="ff3399"/>
                </a:solidFill>
                <a:latin typeface="Arial"/>
                <a:cs typeface="Mitra"/>
              </a:rPr>
              <a:t>آموزش انفرادی و خانوادگی :</a:t>
            </a:r>
            <a:r>
              <a:rPr b="1" lang="fa-IR" sz="2400" spc="-1" strike="noStrike">
                <a:solidFill>
                  <a:srgbClr val="dfd293"/>
                </a:solidFill>
                <a:latin typeface="Arial"/>
                <a:ea typeface="Mitra"/>
              </a:rPr>
              <a:t> 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83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2700000"/>
          </a:gra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66ff33"/>
                </a:solidFill>
                <a:latin typeface="Arial"/>
                <a:ea typeface="Mitra"/>
              </a:rPr>
              <a:t> محل انجام : </a:t>
            </a:r>
            <a:r>
              <a:rPr b="1" lang="fa-IR" sz="2400" spc="-1" strike="noStrike">
                <a:solidFill>
                  <a:srgbClr val="ff66cc"/>
                </a:solidFill>
                <a:latin typeface="Arial"/>
                <a:cs typeface="Mitra"/>
              </a:rPr>
              <a:t>در مطب  ، در مرکز بهداشتی درمانی ،  خانه بهداشت ، خانه اشخا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66ff"/>
                </a:solidFill>
                <a:latin typeface="Arial"/>
                <a:ea typeface="Mitra"/>
              </a:rPr>
              <a:t>  </a:t>
            </a:r>
            <a:r>
              <a:rPr b="1" lang="fa-IR" sz="2400" spc="-1" strike="noStrike">
                <a:solidFill>
                  <a:srgbClr val="ffffff"/>
                </a:solidFill>
                <a:latin typeface="Arial"/>
                <a:cs typeface="Mitra"/>
              </a:rPr>
              <a:t>آموزش دهندگان  :</a:t>
            </a:r>
            <a:r>
              <a:rPr b="1" lang="fa-IR" sz="2400" spc="-1" strike="noStrike">
                <a:solidFill>
                  <a:srgbClr val="0066ff"/>
                </a:solidFill>
                <a:latin typeface="Arial"/>
                <a:ea typeface="Mitra"/>
              </a:rPr>
              <a:t>  </a:t>
            </a:r>
            <a:r>
              <a:rPr b="1" lang="fa-IR" sz="2400" spc="-1" strike="noStrike">
                <a:solidFill>
                  <a:srgbClr val="ffff66"/>
                </a:solidFill>
                <a:latin typeface="Arial"/>
                <a:cs typeface="Mitra"/>
              </a:rPr>
              <a:t>پزشگ  ، پرستاران ، کارشناسان بهداشت  ، بازرسان بهداشت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66ff"/>
                </a:solidFill>
                <a:latin typeface="Arial"/>
                <a:ea typeface="Mitra"/>
              </a:rPr>
              <a:t>  </a:t>
            </a:r>
            <a:r>
              <a:rPr b="1" lang="fa-IR" sz="2400" spc="-1" strike="noStrike">
                <a:solidFill>
                  <a:srgbClr val="66ff33"/>
                </a:solidFill>
                <a:latin typeface="Arial"/>
                <a:cs typeface="Mitra"/>
              </a:rPr>
              <a:t>مزايا  :  </a:t>
            </a:r>
            <a:r>
              <a:rPr b="1" lang="fa-IR" sz="2400" spc="-1" strike="noStrike">
                <a:solidFill>
                  <a:srgbClr val="ccff33"/>
                </a:solidFill>
                <a:latin typeface="Arial"/>
                <a:ea typeface="Mitra"/>
              </a:rPr>
              <a:t>    </a:t>
            </a:r>
            <a:r>
              <a:rPr b="1" lang="fa-IR" sz="2400" spc="-1" strike="noStrike">
                <a:solidFill>
                  <a:srgbClr val="ccff33"/>
                </a:solidFill>
                <a:latin typeface="Arial"/>
                <a:ea typeface="Mitra"/>
              </a:rPr>
              <a:t>1</a:t>
            </a:r>
            <a:r>
              <a:rPr b="1" lang="fa-IR" sz="2400" spc="-1" strike="noStrike">
                <a:solidFill>
                  <a:srgbClr val="ccff33"/>
                </a:solidFill>
                <a:latin typeface="Arial"/>
                <a:ea typeface="Mitra"/>
              </a:rPr>
              <a:t>- می توان با آموزش گيرنده گفتگو کرد و آنان را ترغيب کرد که رفتارخود را دگرگون نمايند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ff33"/>
                </a:solidFill>
                <a:latin typeface="Arial"/>
                <a:ea typeface="Mitra"/>
              </a:rPr>
              <a:t>                   </a:t>
            </a:r>
            <a:r>
              <a:rPr b="1" lang="fa-IR" sz="2400" spc="-1" strike="noStrike">
                <a:solidFill>
                  <a:srgbClr val="ccff33"/>
                </a:solidFill>
                <a:latin typeface="Arial"/>
                <a:ea typeface="Mitra"/>
              </a:rPr>
              <a:t>2</a:t>
            </a:r>
            <a:r>
              <a:rPr b="1" lang="fa-IR" sz="2400" spc="-1" strike="noStrike">
                <a:solidFill>
                  <a:srgbClr val="ccff33"/>
                </a:solidFill>
                <a:latin typeface="Arial"/>
                <a:ea typeface="Mitra"/>
              </a:rPr>
              <a:t>-  فرصت برای مطرح شدن پرسش هايی در باره علائق ويژه مردم پديد می آيد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371240"/>
            <a:ext cx="7086600" cy="437364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ffff"/>
                </a:solidFill>
                <a:latin typeface="Arial"/>
                <a:cs typeface="Mitra"/>
              </a:rPr>
              <a:t>محدوديت اين روش : </a:t>
            </a:r>
            <a:br>
              <a:rPr sz="4000"/>
            </a:br>
            <a:r>
              <a:rPr b="1" lang="fa-IR" sz="4000" spc="-1" strike="noStrike">
                <a:solidFill>
                  <a:srgbClr val="99ff33"/>
                </a:solidFill>
                <a:latin typeface="Arial"/>
                <a:ea typeface="Mitra"/>
              </a:rPr>
              <a:t> شمار آموزش گيرندگان ناچيز بوده و تنها کسانی آموزش می بينند که با آموزشگر در تماسند .</a:t>
            </a:r>
            <a:br>
              <a:rPr sz="4000"/>
            </a:b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304920" y="1697040"/>
            <a:ext cx="7619760" cy="54975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d3a219"/>
                </a:solidFill>
                <a:latin typeface="Arial"/>
                <a:cs typeface="Mitra"/>
              </a:rPr>
              <a:t>آموزش بهداشت به صورت گروهی 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Arial"/>
                <a:cs typeface="Mitra"/>
              </a:rPr>
              <a:t>چند نکته  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Arial"/>
                <a:ea typeface="Mitra"/>
              </a:rPr>
              <a:t>  </a:t>
            </a:r>
            <a:r>
              <a:rPr b="1" lang="fa-IR" sz="3200" spc="-1" strike="noStrike">
                <a:solidFill>
                  <a:srgbClr val="dfd293"/>
                </a:solidFill>
                <a:latin typeface="Arial"/>
                <a:ea typeface="Mitra"/>
              </a:rPr>
              <a:t>1</a:t>
            </a:r>
            <a:r>
              <a:rPr b="1" lang="fa-IR" sz="3200" spc="-1" strike="noStrike">
                <a:solidFill>
                  <a:srgbClr val="dfd293"/>
                </a:solidFill>
                <a:latin typeface="Arial"/>
                <a:ea typeface="Mitra"/>
              </a:rPr>
              <a:t>- انتخاب موضوع متناسب با شرايط گروه آموزش گيرنده باش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dfd293"/>
                </a:solidFill>
                <a:latin typeface="Arial"/>
                <a:ea typeface="Mitra"/>
              </a:rPr>
              <a:t>   </a:t>
            </a:r>
            <a:r>
              <a:rPr b="1" lang="fa-IR" sz="3200" spc="-1" strike="noStrike">
                <a:solidFill>
                  <a:srgbClr val="dfd293"/>
                </a:solidFill>
                <a:latin typeface="Arial"/>
                <a:ea typeface="Mitra"/>
              </a:rPr>
              <a:t>2</a:t>
            </a:r>
            <a:r>
              <a:rPr b="1" lang="fa-IR" sz="3200" spc="-1" strike="noStrike">
                <a:solidFill>
                  <a:srgbClr val="dfd293"/>
                </a:solidFill>
                <a:latin typeface="Arial"/>
                <a:ea typeface="Mitra"/>
              </a:rPr>
              <a:t>- موضوع بايد مورد علاقه گروه آموزش گيرنده باش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dfd293"/>
                </a:solidFill>
                <a:latin typeface="Arial"/>
                <a:ea typeface="Mitra"/>
              </a:rPr>
              <a:t>  </a:t>
            </a:r>
            <a:r>
              <a:rPr b="1" lang="fa-IR" sz="3200" spc="-1" strike="noStrike">
                <a:solidFill>
                  <a:srgbClr val="dfd293"/>
                </a:solidFill>
                <a:latin typeface="Arial"/>
                <a:ea typeface="Mitra"/>
              </a:rPr>
              <a:t>3</a:t>
            </a:r>
            <a:r>
              <a:rPr b="1" lang="fa-IR" sz="3200" spc="-1" strike="noStrike">
                <a:solidFill>
                  <a:srgbClr val="dfd293"/>
                </a:solidFill>
                <a:latin typeface="Arial"/>
                <a:ea typeface="Mitra"/>
              </a:rPr>
              <a:t>- روش مناسبی برای آموزش برگزيده شود که شامل وسايل کمک آموزشی باشد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43280" y="-100080"/>
            <a:ext cx="554544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dfd293"/>
                </a:solidFill>
                <a:latin typeface="Arial"/>
                <a:ea typeface="Mitra"/>
              </a:rPr>
              <a:t>              </a:t>
            </a:r>
            <a:r>
              <a:rPr b="1" lang="fa-IR" sz="3200" spc="-1" strike="noStrike">
                <a:solidFill>
                  <a:srgbClr val="5c1f00"/>
                </a:solidFill>
                <a:latin typeface="Arial"/>
                <a:cs typeface="Mitra"/>
              </a:rPr>
              <a:t>روش های آموزش گروهی  :</a:t>
            </a:r>
            <a:r>
              <a:rPr b="1" lang="fa-IR" sz="2000" spc="-1" strike="noStrike">
                <a:solidFill>
                  <a:srgbClr val="dfd293"/>
                </a:solidFill>
                <a:latin typeface="Arial"/>
                <a:ea typeface="Mitra"/>
              </a:rPr>
              <a:t> </a:t>
            </a:r>
            <a:endParaRPr b="0" lang="en-US" sz="2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79096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r" rtl="1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0066"/>
                </a:solidFill>
                <a:latin typeface="Arial"/>
                <a:ea typeface="Mitra"/>
              </a:rPr>
              <a:t>  </a:t>
            </a:r>
            <a:r>
              <a:rPr b="0" lang="fa-IR" sz="2000" spc="-1" strike="noStrike">
                <a:solidFill>
                  <a:srgbClr val="ff0066"/>
                </a:solidFill>
                <a:latin typeface="Arial"/>
                <a:ea typeface="Mitra"/>
              </a:rPr>
              <a:t>1</a:t>
            </a:r>
            <a:r>
              <a:rPr b="0" lang="fa-IR" sz="2000" spc="-1" strike="noStrike">
                <a:solidFill>
                  <a:srgbClr val="ff0066"/>
                </a:solidFill>
                <a:latin typeface="Arial"/>
                <a:ea typeface="Mitra"/>
              </a:rPr>
              <a:t>- </a:t>
            </a:r>
            <a:r>
              <a:rPr b="1" lang="fa-IR" sz="2000" spc="-1" strike="noStrike">
                <a:solidFill>
                  <a:srgbClr val="ff0066"/>
                </a:solidFill>
                <a:latin typeface="Arial"/>
                <a:cs typeface="Mitra"/>
              </a:rPr>
              <a:t>سخنرانی  ( </a:t>
            </a:r>
            <a:r>
              <a:rPr b="1" lang="en-GB" sz="2000" spc="-1" strike="noStrike">
                <a:solidFill>
                  <a:srgbClr val="ff0066"/>
                </a:solidFill>
                <a:latin typeface="Lucida Handwriting"/>
                <a:ea typeface="Mitra"/>
              </a:rPr>
              <a:t>LECTURE</a:t>
            </a:r>
            <a:r>
              <a:rPr b="1" lang="fa-IR" sz="2000" spc="-1" strike="noStrike">
                <a:solidFill>
                  <a:srgbClr val="ff0066"/>
                </a:solidFill>
                <a:latin typeface="Lucida Handwriting"/>
                <a:ea typeface="Mitra"/>
              </a:rPr>
              <a:t> ) 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lnSpc>
                <a:spcPct val="170000"/>
              </a:lnSpc>
              <a:spcBef>
                <a:spcPts val="499"/>
              </a:spcBef>
              <a:buClr>
                <a:srgbClr val="ff66cc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66cc"/>
                </a:solidFill>
                <a:latin typeface="Lucida Handwriting"/>
                <a:cs typeface="Mitra"/>
              </a:rPr>
              <a:t>در کارهای آموزشی از همه بيشتر از سخنرانی استفاده می شود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lnSpc>
                <a:spcPct val="170000"/>
              </a:lnSpc>
              <a:spcBef>
                <a:spcPts val="499"/>
              </a:spcBef>
              <a:buClr>
                <a:srgbClr val="d3a219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3a219"/>
                </a:solidFill>
                <a:latin typeface="Lucida Handwriting"/>
                <a:cs typeface="Mitra"/>
              </a:rPr>
              <a:t>در اين روش ارتباط يکطرفه است و گروه فرصت نمی کند فعالانه در کار آموختن مشارکت کند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lnSpc>
                <a:spcPct val="170000"/>
              </a:lnSpc>
              <a:spcBef>
                <a:spcPts val="499"/>
              </a:spcBef>
              <a:buClr>
                <a:srgbClr val="ffff99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99"/>
                </a:solidFill>
                <a:latin typeface="Lucida Handwriting"/>
                <a:cs typeface="Mitra"/>
              </a:rPr>
              <a:t>موضوع سخنرانی بايد بر پايه نيازهای گروه باشد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lnSpc>
                <a:spcPct val="170000"/>
              </a:lnSpc>
              <a:spcBef>
                <a:spcPts val="499"/>
              </a:spcBef>
              <a:buClr>
                <a:srgbClr val="be7960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be7960"/>
                </a:solidFill>
                <a:latin typeface="Lucida Handwriting"/>
                <a:cs typeface="Mitra"/>
              </a:rPr>
              <a:t>مدت سخنرانی نبايد از </a:t>
            </a:r>
            <a:r>
              <a:rPr b="1" lang="fa-IR" sz="2000" spc="-1" strike="noStrike">
                <a:solidFill>
                  <a:srgbClr val="be7960"/>
                </a:solidFill>
                <a:latin typeface="Lucida Handwriting"/>
                <a:ea typeface="Mitra"/>
              </a:rPr>
              <a:t>15</a:t>
            </a:r>
            <a:r>
              <a:rPr b="1" lang="fa-IR" sz="2000" spc="-1" strike="noStrike">
                <a:solidFill>
                  <a:srgbClr val="be7960"/>
                </a:solidFill>
                <a:latin typeface="Lucida Handwriting"/>
                <a:ea typeface="Mitra"/>
              </a:rPr>
              <a:t> تا </a:t>
            </a:r>
            <a:r>
              <a:rPr b="1" lang="fa-IR" sz="2000" spc="-1" strike="noStrike">
                <a:solidFill>
                  <a:srgbClr val="be7960"/>
                </a:solidFill>
                <a:latin typeface="Lucida Handwriting"/>
                <a:ea typeface="Mitra"/>
              </a:rPr>
              <a:t>20</a:t>
            </a:r>
            <a:r>
              <a:rPr b="1" lang="fa-IR" sz="2000" spc="-1" strike="noStrike">
                <a:solidFill>
                  <a:srgbClr val="be7960"/>
                </a:solidFill>
                <a:latin typeface="Lucida Handwriting"/>
                <a:ea typeface="Mitra"/>
              </a:rPr>
              <a:t> دقيقه بيشتر شود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lnSpc>
                <a:spcPct val="170000"/>
              </a:lnSpc>
              <a:spcBef>
                <a:spcPts val="499"/>
              </a:spcBef>
              <a:buClr>
                <a:srgbClr val="cc3300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cc3300"/>
                </a:solidFill>
                <a:latin typeface="Lucida Handwriting"/>
                <a:cs typeface="Mitra"/>
              </a:rPr>
              <a:t>موضوع سخنرانی نبايد بيش از </a:t>
            </a:r>
            <a:r>
              <a:rPr b="1" lang="fa-IR" sz="2000" spc="-1" strike="noStrike">
                <a:solidFill>
                  <a:srgbClr val="cc3300"/>
                </a:solidFill>
                <a:latin typeface="Lucida Handwriting"/>
                <a:ea typeface="Mitra"/>
              </a:rPr>
              <a:t>5</a:t>
            </a:r>
            <a:r>
              <a:rPr b="1" lang="fa-IR" sz="2000" spc="-1" strike="noStrike">
                <a:solidFill>
                  <a:srgbClr val="cc3300"/>
                </a:solidFill>
                <a:latin typeface="Lucida Handwriting"/>
                <a:ea typeface="Mitra"/>
              </a:rPr>
              <a:t>-</a:t>
            </a:r>
            <a:r>
              <a:rPr b="1" lang="fa-IR" sz="2000" spc="-1" strike="noStrike">
                <a:solidFill>
                  <a:srgbClr val="cc3300"/>
                </a:solidFill>
                <a:latin typeface="Lucida Handwriting"/>
                <a:ea typeface="Mitra"/>
              </a:rPr>
              <a:t>6</a:t>
            </a:r>
            <a:r>
              <a:rPr b="1" lang="fa-IR" sz="2000" spc="-1" strike="noStrike">
                <a:solidFill>
                  <a:srgbClr val="cc3300"/>
                </a:solidFill>
                <a:latin typeface="Lucida Handwriting"/>
                <a:ea typeface="Mitra"/>
              </a:rPr>
              <a:t> نکته باشد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lnSpc>
                <a:spcPct val="170000"/>
              </a:lnSpc>
              <a:spcBef>
                <a:spcPts val="499"/>
              </a:spcBef>
              <a:buClr>
                <a:srgbClr val="dfd293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fd293"/>
                </a:solidFill>
                <a:latin typeface="Lucida Handwriting"/>
                <a:cs typeface="Mitra"/>
              </a:rPr>
              <a:t>افراد گروه نبايدبيش از </a:t>
            </a:r>
            <a:r>
              <a:rPr b="1" lang="fa-IR" sz="2000" spc="-1" strike="noStrike">
                <a:solidFill>
                  <a:srgbClr val="dfd293"/>
                </a:solidFill>
                <a:latin typeface="Lucida Handwriting"/>
                <a:ea typeface="Mitra"/>
              </a:rPr>
              <a:t>30</a:t>
            </a:r>
            <a:r>
              <a:rPr b="1" lang="fa-IR" sz="2000" spc="-1" strike="noStrike">
                <a:solidFill>
                  <a:srgbClr val="dfd293"/>
                </a:solidFill>
                <a:latin typeface="Lucida Handwriting"/>
                <a:ea typeface="Mitra"/>
              </a:rPr>
              <a:t> تن باشند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lnSpc>
                <a:spcPct val="170000"/>
              </a:lnSpc>
              <a:spcBef>
                <a:spcPts val="499"/>
              </a:spcBef>
              <a:buClr>
                <a:srgbClr val="ffff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Lucida Handwriting"/>
                <a:cs typeface="Mitra"/>
              </a:rPr>
              <a:t>اگر به تنهايی بکار گرفته شود تاثير چندانی بر رفتار بهداشتی مردم نخواهد داشت و بايد با وسايل کمک آموزشی توام شود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77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9" dur="77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1" dur="77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3" dur="77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539640" y="1203480"/>
            <a:ext cx="7977240" cy="5043960"/>
          </a:xfrm>
          <a:prstGeom prst="rect">
            <a:avLst/>
          </a:prstGeom>
          <a:solidFill>
            <a:srgbClr val="3333ff"/>
          </a:solidFill>
          <a:ln cap="rnd" w="76320">
            <a:solidFill>
              <a:srgbClr val="5c1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ff"/>
                </a:solidFill>
                <a:latin typeface="Lucida Handwriting"/>
                <a:ea typeface="Mitra"/>
              </a:rPr>
              <a:t>2</a:t>
            </a:r>
            <a:r>
              <a:rPr b="1" lang="fa-IR" sz="2800" spc="-1" strike="noStrike">
                <a:solidFill>
                  <a:srgbClr val="ffffff"/>
                </a:solidFill>
                <a:latin typeface="Lucida Handwriting"/>
                <a:ea typeface="Mitra"/>
              </a:rPr>
              <a:t>- بحث های گروهی 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ccff33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ff33"/>
                </a:solidFill>
                <a:latin typeface="Lucida Handwriting"/>
                <a:cs typeface="Mitra"/>
              </a:rPr>
              <a:t>ارتباط دو جانبه است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ccff33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ff33"/>
                </a:solidFill>
                <a:latin typeface="Lucida Handwriting"/>
                <a:cs typeface="Mitra"/>
              </a:rPr>
              <a:t>شمار افراد گروه کمتر از </a:t>
            </a:r>
            <a:r>
              <a:rPr b="1" lang="fa-IR" sz="2800" spc="-1" strike="noStrike">
                <a:solidFill>
                  <a:srgbClr val="ccff33"/>
                </a:solidFill>
                <a:latin typeface="Lucida Handwriting"/>
                <a:ea typeface="Mitra"/>
              </a:rPr>
              <a:t>6</a:t>
            </a:r>
            <a:r>
              <a:rPr b="1" lang="fa-IR" sz="2800" spc="-1" strike="noStrike">
                <a:solidFill>
                  <a:srgbClr val="ccff33"/>
                </a:solidFill>
                <a:latin typeface="Lucida Handwriting"/>
                <a:ea typeface="Mitra"/>
              </a:rPr>
              <a:t> وبيشتراز </a:t>
            </a:r>
            <a:r>
              <a:rPr b="1" lang="fa-IR" sz="2800" spc="-1" strike="noStrike">
                <a:solidFill>
                  <a:srgbClr val="ccff33"/>
                </a:solidFill>
                <a:latin typeface="Lucida Handwriting"/>
                <a:ea typeface="Mitra"/>
              </a:rPr>
              <a:t>20</a:t>
            </a:r>
            <a:r>
              <a:rPr b="1" lang="fa-IR" sz="2800" spc="-1" strike="noStrike">
                <a:solidFill>
                  <a:srgbClr val="ccff33"/>
                </a:solidFill>
                <a:latin typeface="Lucida Handwriting"/>
                <a:ea typeface="Mitra"/>
              </a:rPr>
              <a:t> نباشد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ccff33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ff33"/>
                </a:solidFill>
                <a:latin typeface="Lucida Handwriting"/>
                <a:cs typeface="Mitra"/>
              </a:rPr>
              <a:t>يک نفر به عنوان مدير گروه آغاز کننده بحث وراهنما و رهبرگروه موجود است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ccff33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ff33"/>
                </a:solidFill>
                <a:latin typeface="Lucida Handwriting"/>
                <a:cs typeface="Mitra"/>
              </a:rPr>
              <a:t>يک نفر به عنوان دبير جلسه مطالب بحث را يادداشت می کند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66cc"/>
                </a:solidFill>
                <a:latin typeface="Lucida Handwriting"/>
                <a:ea typeface="Mitra"/>
              </a:rPr>
              <a:t>                                     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3333cc"/>
                </a:solidFill>
                <a:latin typeface="Arial"/>
                <a:cs typeface="Mitra"/>
              </a:rPr>
              <a:t>مقررات بحث های گروهی :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436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2700000"/>
          </a:gradFill>
          <a:ln cap="rnd" w="76320">
            <a:solidFill>
              <a:srgbClr val="ffff00"/>
            </a:solidFill>
            <a:custDash>
              <a:ds d="100000" sp="1000"/>
            </a:custDash>
            <a:miter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2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ff33"/>
                </a:solidFill>
                <a:latin typeface="Arial"/>
                <a:ea typeface="Mitra"/>
              </a:rPr>
              <a:t>  </a:t>
            </a:r>
            <a:r>
              <a:rPr b="1" lang="fa-IR" sz="2400" spc="-1" strike="noStrike">
                <a:solidFill>
                  <a:srgbClr val="ccff33"/>
                </a:solidFill>
                <a:latin typeface="Arial"/>
                <a:ea typeface="Mitra"/>
              </a:rPr>
              <a:t>1</a:t>
            </a:r>
            <a:r>
              <a:rPr b="1" lang="fa-IR" sz="2400" spc="-1" strike="noStrike">
                <a:solidFill>
                  <a:srgbClr val="ccff33"/>
                </a:solidFill>
                <a:latin typeface="Arial"/>
                <a:ea typeface="Mitra"/>
              </a:rPr>
              <a:t>- نظر خود را بروشنی نه به اختصار بيان کنن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2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ff33"/>
                </a:solidFill>
                <a:latin typeface="Arial"/>
                <a:ea typeface="Mitra"/>
              </a:rPr>
              <a:t>  </a:t>
            </a:r>
            <a:r>
              <a:rPr b="1" lang="fa-IR" sz="2400" spc="-1" strike="noStrike">
                <a:solidFill>
                  <a:srgbClr val="ccff33"/>
                </a:solidFill>
                <a:latin typeface="Arial"/>
                <a:ea typeface="Mitra"/>
              </a:rPr>
              <a:t>2</a:t>
            </a:r>
            <a:r>
              <a:rPr b="1" lang="fa-IR" sz="2400" spc="-1" strike="noStrike">
                <a:solidFill>
                  <a:srgbClr val="ccff33"/>
                </a:solidFill>
                <a:latin typeface="Arial"/>
                <a:ea typeface="Mitra"/>
              </a:rPr>
              <a:t>- به سخنان ديگران گوش فرا دهند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2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ff33"/>
                </a:solidFill>
                <a:latin typeface="Arial"/>
                <a:ea typeface="Mitra"/>
              </a:rPr>
              <a:t>  </a:t>
            </a:r>
            <a:r>
              <a:rPr b="1" lang="fa-IR" sz="2400" spc="-1" strike="noStrike">
                <a:solidFill>
                  <a:srgbClr val="ccff33"/>
                </a:solidFill>
                <a:latin typeface="Arial"/>
                <a:ea typeface="Mitra"/>
              </a:rPr>
              <a:t>3</a:t>
            </a:r>
            <a:r>
              <a:rPr b="1" lang="fa-IR" sz="2400" spc="-1" strike="noStrike">
                <a:solidFill>
                  <a:srgbClr val="ccff33"/>
                </a:solidFill>
                <a:latin typeface="Arial"/>
                <a:ea typeface="Mitra"/>
              </a:rPr>
              <a:t>- به هنگام سخن گفتن ديگری ، سخن اورا قطع نکنند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2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ff33"/>
                </a:solidFill>
                <a:latin typeface="Arial"/>
                <a:ea typeface="Mitra"/>
              </a:rPr>
              <a:t>  </a:t>
            </a:r>
            <a:r>
              <a:rPr b="1" lang="fa-IR" sz="2400" spc="-1" strike="noStrike">
                <a:solidFill>
                  <a:srgbClr val="ccff33"/>
                </a:solidFill>
                <a:latin typeface="Arial"/>
                <a:ea typeface="Mitra"/>
              </a:rPr>
              <a:t>4</a:t>
            </a:r>
            <a:r>
              <a:rPr b="1" lang="fa-IR" sz="2400" spc="-1" strike="noStrike">
                <a:solidFill>
                  <a:srgbClr val="ccff33"/>
                </a:solidFill>
                <a:latin typeface="Arial"/>
                <a:ea typeface="Mitra"/>
              </a:rPr>
              <a:t>- به اشاره های مناسب بسنده کنند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2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ff33"/>
                </a:solidFill>
                <a:latin typeface="Arial"/>
                <a:ea typeface="Mitra"/>
              </a:rPr>
              <a:t>  </a:t>
            </a:r>
            <a:r>
              <a:rPr b="1" lang="fa-IR" sz="2400" spc="-1" strike="noStrike">
                <a:solidFill>
                  <a:srgbClr val="ccff33"/>
                </a:solidFill>
                <a:latin typeface="Arial"/>
                <a:ea typeface="Mitra"/>
              </a:rPr>
              <a:t>5</a:t>
            </a:r>
            <a:r>
              <a:rPr b="1" lang="fa-IR" sz="2400" spc="-1" strike="noStrike">
                <a:solidFill>
                  <a:srgbClr val="ccff33"/>
                </a:solidFill>
                <a:latin typeface="Arial"/>
                <a:ea typeface="Mitra"/>
              </a:rPr>
              <a:t>- انتقاد را با خوشرويی بپذيرند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2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cff33"/>
                </a:solidFill>
                <a:latin typeface="Arial"/>
                <a:ea typeface="Mitra"/>
              </a:rPr>
              <a:t>  </a:t>
            </a:r>
            <a:r>
              <a:rPr b="1" lang="fa-IR" sz="2400" spc="-1" strike="noStrike">
                <a:solidFill>
                  <a:srgbClr val="ccff33"/>
                </a:solidFill>
                <a:latin typeface="Arial"/>
                <a:ea typeface="Mitra"/>
              </a:rPr>
              <a:t>6</a:t>
            </a:r>
            <a:r>
              <a:rPr b="1" lang="fa-IR" sz="2400" spc="-1" strike="noStrike">
                <a:solidFill>
                  <a:srgbClr val="ccff33"/>
                </a:solidFill>
                <a:latin typeface="Arial"/>
                <a:ea typeface="Mitra"/>
              </a:rPr>
              <a:t>- در رسيدن به نتيجه کمک کنند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37" dur="2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63280" y="549360"/>
            <a:ext cx="62643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dfd293"/>
                </a:solidFill>
                <a:latin typeface="Arial"/>
                <a:ea typeface="Mitra"/>
              </a:rPr>
              <a:t>                        </a:t>
            </a:r>
            <a:r>
              <a:rPr b="1" lang="fa-IR" sz="4000" spc="-1" strike="noStrike">
                <a:solidFill>
                  <a:srgbClr val="3333ff"/>
                </a:solidFill>
                <a:latin typeface="Arial"/>
                <a:cs typeface="Mitra"/>
              </a:rPr>
              <a:t>آموزش بهداشت</a:t>
            </a:r>
            <a:r>
              <a:rPr b="1" lang="fa-IR" sz="3200" spc="-1" strike="noStrike">
                <a:solidFill>
                  <a:srgbClr val="dfd293"/>
                </a:solidFill>
                <a:latin typeface="Arial"/>
                <a:ea typeface="Mitra"/>
              </a:rPr>
              <a:t> 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48640" cy="4572000"/>
          </a:xfrm>
          <a:prstGeom prst="rect">
            <a:avLst/>
          </a:prstGeom>
          <a:solidFill>
            <a:srgbClr val="b72ac2"/>
          </a:solidFill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Arial"/>
                <a:cs typeface="Mitra"/>
              </a:rPr>
              <a:t>آموزش بهداشت ابزار لازم برای سلامتی جامعه است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Arial"/>
                <a:cs typeface="Mitra"/>
              </a:rPr>
              <a:t>بهداشت جامعه خود آموزش بهداشت است وهر کارمند بهداشتی خود يک آموزش دهنده بهداشت است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Arial"/>
                <a:cs typeface="Mitra"/>
              </a:rPr>
              <a:t>منظور از آموزش بهداشت برقراری ويا ايجاد دگرگونی در بينش و رفتار افراد و گروه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itra"/>
              </a:rPr>
              <a:t> </a:t>
            </a:r>
            <a:r>
              <a:rPr b="1" lang="fa-IR" sz="2400" spc="-1" strike="noStrike">
                <a:solidFill>
                  <a:srgbClr val="ffffff"/>
                </a:solidFill>
                <a:latin typeface="Arial"/>
                <a:cs typeface="Mitra"/>
              </a:rPr>
              <a:t>هاست به طوری که زندگی سالم تری پديد آيد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94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3333cc"/>
                </a:solidFill>
                <a:latin typeface="Arial"/>
                <a:ea typeface="Mitra"/>
              </a:rPr>
              <a:t>                      بحث پا نل :</a:t>
            </a:r>
            <a:r>
              <a:rPr b="1" lang="fa-IR" sz="2000" spc="-1" strike="noStrike">
                <a:solidFill>
                  <a:srgbClr val="3333cc"/>
                </a:solidFill>
                <a:latin typeface="Arial"/>
                <a:ea typeface="Mitra"/>
              </a:rPr>
              <a:t> </a:t>
            </a:r>
            <a:endParaRPr b="0" lang="en-US" sz="2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81480"/>
          </a:xfrm>
          <a:prstGeom prst="rect">
            <a:avLst/>
          </a:prstGeom>
          <a:blipFill rotWithShape="0">
            <a:blip r:embed="rId1"/>
            <a:stretch/>
          </a:blipFill>
          <a:ln w="76320">
            <a:solidFill>
              <a:srgbClr val="ffffff"/>
            </a:solidFill>
            <a:prstDash val="sysDot"/>
            <a:miter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160000"/>
              </a:lnSpc>
              <a:spcBef>
                <a:spcPts val="700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ff33"/>
                </a:solidFill>
                <a:latin typeface="Arial"/>
                <a:ea typeface="Mitra"/>
              </a:rPr>
              <a:t>4</a:t>
            </a:r>
            <a:r>
              <a:rPr b="1" lang="fa-IR" sz="2800" spc="-1" strike="noStrike">
                <a:solidFill>
                  <a:srgbClr val="ccff33"/>
                </a:solidFill>
                <a:latin typeface="Arial"/>
                <a:ea typeface="Mitra"/>
              </a:rPr>
              <a:t>  تا </a:t>
            </a:r>
            <a:r>
              <a:rPr b="1" lang="fa-IR" sz="2800" spc="-1" strike="noStrike">
                <a:solidFill>
                  <a:srgbClr val="ccff33"/>
                </a:solidFill>
                <a:latin typeface="Arial"/>
                <a:ea typeface="Mitra"/>
              </a:rPr>
              <a:t>8</a:t>
            </a:r>
            <a:r>
              <a:rPr b="1" lang="fa-IR" sz="2800" spc="-1" strike="noStrike">
                <a:solidFill>
                  <a:srgbClr val="ccff33"/>
                </a:solidFill>
                <a:latin typeface="Arial"/>
                <a:ea typeface="Mitra"/>
              </a:rPr>
              <a:t> تن متخصص در باره يک موضوع بحثی را در برابر گروهی از شنوندگان باز می کنن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160000"/>
              </a:lnSpc>
              <a:spcBef>
                <a:spcPts val="700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ff33"/>
                </a:solidFill>
                <a:latin typeface="Arial"/>
                <a:cs typeface="Mitra"/>
              </a:rPr>
              <a:t>اعضای پانل عبارتند از يک رئيس  ، و چهار تا هشت نفر سخنرا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160000"/>
              </a:lnSpc>
              <a:spcBef>
                <a:spcPts val="700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ff33"/>
                </a:solidFill>
                <a:latin typeface="Arial"/>
                <a:cs typeface="Mitra"/>
              </a:rPr>
              <a:t>رئيس جلسه را افتتاح کرده، خوشامد گفته ، سخنرانان را معرفی می کند ، موضوع سخنرانی را بيان کرده و از سخنرانان در خواست ارائه نظرات می نماي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9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68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4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4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52578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cff33"/>
                </a:solidFill>
                <a:latin typeface="Arial"/>
                <a:ea typeface="Mitra"/>
              </a:rPr>
              <a:t> در پانل دستور جلسه ای وجود ندارد  ،</a:t>
            </a:r>
            <a:br>
              <a:rPr sz="2800"/>
            </a:br>
            <a:r>
              <a:rPr b="1" lang="fa-IR" sz="2800" spc="-1" strike="noStrike">
                <a:solidFill>
                  <a:srgbClr val="ccff33"/>
                </a:solidFill>
                <a:latin typeface="Arial"/>
                <a:ea typeface="Mitra"/>
              </a:rPr>
              <a:t> ترتيب يا چهار چوب سخنرانی وجود ندارد </a:t>
            </a:r>
            <a:br>
              <a:rPr sz="2800"/>
            </a:br>
            <a:r>
              <a:rPr b="1" lang="fa-IR" sz="2800" spc="-1" strike="noStrike">
                <a:solidFill>
                  <a:srgbClr val="ccff33"/>
                </a:solidFill>
                <a:latin typeface="Arial"/>
                <a:cs typeface="Mitra"/>
              </a:rPr>
              <a:t>موفقيت پانل به هماهنگ کننده آن مرتبط است </a:t>
            </a:r>
            <a:br>
              <a:rPr sz="2800"/>
            </a:br>
            <a:r>
              <a:rPr b="1" lang="fa-IR" sz="2800" spc="-1" strike="noStrike">
                <a:solidFill>
                  <a:srgbClr val="ccff33"/>
                </a:solidFill>
                <a:latin typeface="Arial"/>
                <a:cs typeface="Mitra"/>
              </a:rPr>
              <a:t>پس از ارائه سخنرانی ها از شنوندگان درخواست می شود که در مذاکرات شرکت کنند </a:t>
            </a:r>
            <a:br>
              <a:rPr sz="2800"/>
            </a:br>
            <a:r>
              <a:rPr b="1" lang="fa-IR" sz="2800" spc="-1" strike="noStrike">
                <a:solidFill>
                  <a:srgbClr val="ccff33"/>
                </a:solidFill>
                <a:latin typeface="Arial"/>
                <a:cs typeface="Mitra"/>
              </a:rPr>
              <a:t>هرگاه پانل بدرستی هدايت شود می تواند بسيار کارساز باشد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Mitra"/>
              </a:rPr>
              <a:t>                   </a:t>
            </a:r>
            <a:r>
              <a:rPr b="1" lang="ar-SA" sz="3600" spc="-1" strike="noStrike">
                <a:solidFill>
                  <a:srgbClr val="3333cc"/>
                </a:solidFill>
                <a:latin typeface="Arial"/>
                <a:cs typeface="Mitra"/>
              </a:rPr>
              <a:t>سمپوزيوم :</a:t>
            </a:r>
            <a:r>
              <a:rPr b="1" lang="ar-SA" sz="2400" spc="-1" strike="noStrike">
                <a:solidFill>
                  <a:srgbClr val="3333cc"/>
                </a:solidFill>
                <a:latin typeface="Arial"/>
                <a:ea typeface="Mitra"/>
              </a:rPr>
              <a:t> 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11280" y="1774800"/>
            <a:ext cx="7864560" cy="446256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50000">
                <a:srgbClr val="cc3300"/>
              </a:gs>
              <a:gs pos="100000">
                <a:srgbClr val="800000"/>
              </a:gs>
            </a:gsLst>
            <a:lin ang="18900000"/>
          </a:gradFill>
          <a:ln w="57240">
            <a:solidFill>
              <a:srgbClr val="ff3399"/>
            </a:solidFill>
            <a:prstDash val="lgDashDotDot"/>
            <a:miter/>
          </a:ln>
        </p:spPr>
        <p:txBody>
          <a:bodyPr anchor="t">
            <a:noAutofit/>
          </a:bodyPr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Mitra"/>
              </a:rPr>
              <a:t>سمپوزيوم شامل چند سخنراني در باره يك موضوع انتخابي است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Mitra"/>
              </a:rPr>
              <a:t>هريك از سخنرانان در مورد يك جنبه از موضوع سخنراني</a:t>
            </a:r>
            <a:r>
              <a:rPr b="1" lang="fa-IR" sz="2400" spc="-1" strike="noStrike">
                <a:solidFill>
                  <a:srgbClr val="ffffff"/>
                </a:solidFill>
                <a:latin typeface="Arial"/>
                <a:ea typeface="Mitra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Mitra"/>
              </a:rPr>
              <a:t>مي كنند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Mitra"/>
              </a:rPr>
              <a:t>بحثي بين سخنرانان  ( برخلاف بحث گروهي  ) جريان نمي يابد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Mitra"/>
              </a:rPr>
              <a:t>رئيس جلسه در پايان هر جلسه چكيده جامعي از مطالب را ارائه مي كند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Mitra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itra"/>
              </a:rPr>
              <a:t>  </a:t>
            </a:r>
            <a:r>
              <a:rPr b="1" lang="ar-SA" sz="2400" spc="-1" strike="noStrike">
                <a:solidFill>
                  <a:srgbClr val="d3a219"/>
                </a:solidFill>
                <a:latin typeface="Arial"/>
                <a:ea typeface="Mitr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731520"/>
            <a:ext cx="8458200" cy="559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200" spc="-1" strike="noStrike">
                <a:solidFill>
                  <a:srgbClr val="99ff33"/>
                </a:solidFill>
                <a:latin typeface="Arial"/>
                <a:cs typeface="Mitra"/>
              </a:rPr>
              <a:t>كارگاه  (  </a:t>
            </a:r>
            <a:r>
              <a:rPr b="1" lang="en-US" sz="3200" spc="-1" strike="noStrike">
                <a:solidFill>
                  <a:srgbClr val="99ff33"/>
                </a:solidFill>
                <a:latin typeface="Lucida Handwriting"/>
                <a:ea typeface="Mitra"/>
              </a:rPr>
              <a:t>Workshop</a:t>
            </a:r>
            <a:r>
              <a:rPr b="1" lang="en-US" sz="3200" spc="-1" strike="noStrike">
                <a:solidFill>
                  <a:srgbClr val="99ff33"/>
                </a:solidFill>
                <a:latin typeface="Lucida Handwriting"/>
                <a:ea typeface="Mitra"/>
              </a:rPr>
              <a:t> </a:t>
            </a:r>
            <a:r>
              <a:rPr b="1" lang="ar-SA" sz="3200" spc="-1" strike="noStrike">
                <a:solidFill>
                  <a:srgbClr val="99ff33"/>
                </a:solidFill>
                <a:latin typeface="Lucida Handwriting"/>
                <a:ea typeface="Mitra"/>
              </a:rPr>
              <a:t> )  :  </a:t>
            </a:r>
            <a:r>
              <a:rPr b="1" lang="en-US" sz="2400" spc="-1" strike="noStrike">
                <a:solidFill>
                  <a:srgbClr val="99ff33"/>
                </a:solidFill>
                <a:latin typeface="Lucida Handwriting"/>
                <a:ea typeface="Mitra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99ff33"/>
                </a:solidFill>
                <a:latin typeface="Lucida Handwriting"/>
                <a:ea typeface="Mitra"/>
              </a:rPr>
              <a:t>   </a:t>
            </a:r>
            <a:r>
              <a:rPr b="1" lang="ar-SA" sz="2400" spc="-1" strike="noStrike">
                <a:solidFill>
                  <a:srgbClr val="99ff33"/>
                </a:solidFill>
                <a:latin typeface="Lucida Handwriting"/>
                <a:cs typeface="Mitra"/>
              </a:rPr>
              <a:t>كارگاه آموزشي شامل چند جلسه  ( </a:t>
            </a:r>
            <a:r>
              <a:rPr b="1" lang="ar-SA" sz="2400" spc="-1" strike="noStrike">
                <a:solidFill>
                  <a:srgbClr val="99ff33"/>
                </a:solidFill>
                <a:latin typeface="Lucida Handwriting"/>
                <a:ea typeface="Mitra"/>
              </a:rPr>
              <a:t>4</a:t>
            </a:r>
            <a:r>
              <a:rPr b="1" lang="ar-SA" sz="2400" spc="-1" strike="noStrike">
                <a:solidFill>
                  <a:srgbClr val="99ff33"/>
                </a:solidFill>
                <a:latin typeface="Lucida Handwriting"/>
                <a:ea typeface="Mitra"/>
              </a:rPr>
              <a:t> يا بيشتر  ) است كه بر كار انفرادي در گروه تكيه دارد </a:t>
            </a:r>
            <a:r>
              <a:rPr b="1" lang="en-US" sz="2400" spc="-1" strike="noStrike">
                <a:solidFill>
                  <a:srgbClr val="99ff33"/>
                </a:solidFill>
                <a:latin typeface="Lucida Handwriting"/>
                <a:ea typeface="Mitra"/>
              </a:rPr>
              <a:t>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99ff33"/>
                </a:solidFill>
                <a:latin typeface="Lucida Handwriting"/>
                <a:ea typeface="Mitra"/>
              </a:rPr>
              <a:t> </a:t>
            </a:r>
            <a:r>
              <a:rPr b="1" lang="ar-SA" sz="2400" spc="-1" strike="noStrike">
                <a:solidFill>
                  <a:srgbClr val="99ff33"/>
                </a:solidFill>
                <a:latin typeface="Lucida Handwriting"/>
                <a:cs typeface="Mitra"/>
              </a:rPr>
              <a:t>افراد كارگاه به گروههاي كوچكتري تقسيم شده و هر گروه براي خود مدير و يك دبير  ( گزارشگر  ) انتخاب مي كند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Arial"/>
                <a:cs typeface="Mitra"/>
              </a:rPr>
              <a:t>در كارگاه آموزشي هر شركت كننده فرصت مي يابد كه كارآئي خود را به عنوان يك متخصص بهبود يابد .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52280" y="1219320"/>
            <a:ext cx="8839440" cy="5410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2700000"/>
          </a:gradFill>
          <a:ln cap="rnd" w="38160">
            <a:solidFill>
              <a:srgbClr val="ffff00"/>
            </a:solidFill>
            <a:custDash>
              <a:ds d="100000" sp="1000"/>
            </a:custDash>
            <a:miter/>
          </a:ln>
        </p:spPr>
        <p:txBody>
          <a:bodyPr anchor="t">
            <a:noAutofit/>
          </a:bodyPr>
          <a:p>
            <a:pPr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Arial"/>
                <a:cs typeface="Mitra"/>
              </a:rPr>
              <a:t>انجمن  (</a:t>
            </a:r>
            <a:r>
              <a:rPr b="1" lang="en-GB" sz="2400" spc="-1" strike="noStrike">
                <a:solidFill>
                  <a:srgbClr val="ffffff"/>
                </a:solidFill>
                <a:latin typeface="Lucida Handwriting"/>
                <a:ea typeface="Mitra"/>
              </a:rPr>
              <a:t>Institute</a:t>
            </a:r>
            <a:r>
              <a:rPr b="1" lang="en-GB" sz="2400" spc="-1" strike="noStrike">
                <a:solidFill>
                  <a:srgbClr val="ffffff"/>
                </a:solidFill>
                <a:latin typeface="Lucida Handwriting"/>
                <a:ea typeface="Mitra"/>
              </a:rPr>
              <a:t> </a:t>
            </a:r>
            <a:r>
              <a:rPr b="1" lang="fa-IR" sz="2400" spc="-1" strike="noStrike">
                <a:solidFill>
                  <a:srgbClr val="ffffff"/>
                </a:solidFill>
                <a:latin typeface="Lucida Handwriting"/>
                <a:ea typeface="Mitra"/>
              </a:rPr>
              <a:t> )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66cc"/>
                </a:solidFill>
                <a:latin typeface="Lucida Handwriting"/>
                <a:ea typeface="Mitra"/>
              </a:rPr>
              <a:t>  </a:t>
            </a:r>
            <a:r>
              <a:rPr b="1" lang="fa-IR" sz="2400" spc="-1" strike="noStrike">
                <a:solidFill>
                  <a:srgbClr val="ffffff"/>
                </a:solidFill>
                <a:latin typeface="Lucida Handwriting"/>
                <a:cs typeface="Mitra"/>
              </a:rPr>
              <a:t>شامل چند جلسه گرد هم آيی است که برای انتقال اطلاعات و دستورات به يک محل کار بخصوص طراحی شده است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Lucida Handwriting"/>
                <a:ea typeface="Mitra"/>
              </a:rPr>
              <a:t>  اين گرد هم آيی هابرای چندين روز يا چند هفته برنامه ريزی می شود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66cc"/>
                </a:solidFill>
                <a:latin typeface="Lucida Handwriting"/>
                <a:ea typeface="Mitra"/>
              </a:rPr>
              <a:t>  </a:t>
            </a:r>
            <a:r>
              <a:rPr b="1" i="1" lang="fa-IR" sz="2400" spc="-1" strike="noStrike">
                <a:solidFill>
                  <a:srgbClr val="00ffff"/>
                </a:solidFill>
                <a:latin typeface="Lucida Handwriting"/>
                <a:cs typeface="Mitra"/>
              </a:rPr>
              <a:t>اهداف انجمن  :</a:t>
            </a:r>
            <a:r>
              <a:rPr b="1" lang="en-US" sz="2400" spc="-1" strike="noStrike">
                <a:solidFill>
                  <a:srgbClr val="00ffff"/>
                </a:solidFill>
                <a:latin typeface="Lucida Handwriting"/>
                <a:ea typeface="Mitra"/>
              </a:rPr>
              <a:t> </a:t>
            </a:r>
            <a:r>
              <a:rPr b="1" lang="fa-IR" sz="2400" spc="-1" strike="noStrike">
                <a:solidFill>
                  <a:srgbClr val="d3a219"/>
                </a:solidFill>
                <a:latin typeface="Lucida Handwriting"/>
                <a:ea typeface="Mitra"/>
              </a:rPr>
              <a:t>1</a:t>
            </a:r>
            <a:r>
              <a:rPr b="1" lang="fa-IR" sz="2400" spc="-1" strike="noStrike">
                <a:solidFill>
                  <a:srgbClr val="d3a219"/>
                </a:solidFill>
                <a:latin typeface="Lucida Handwriting"/>
                <a:ea typeface="Mitra"/>
              </a:rPr>
              <a:t>- ارائه اطلاعات  ( هدف عمده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d3a219"/>
                </a:solidFill>
                <a:latin typeface="Lucida Handwriting"/>
                <a:ea typeface="Mitra"/>
              </a:rPr>
              <a:t>                          </a:t>
            </a:r>
            <a:r>
              <a:rPr b="1" lang="fa-IR" sz="2400" spc="-1" strike="noStrike">
                <a:solidFill>
                  <a:srgbClr val="d3a219"/>
                </a:solidFill>
                <a:latin typeface="Lucida Handwriting"/>
                <a:ea typeface="Mitra"/>
              </a:rPr>
              <a:t>2</a:t>
            </a:r>
            <a:r>
              <a:rPr b="1" lang="fa-IR" sz="2400" spc="-1" strike="noStrike">
                <a:solidFill>
                  <a:srgbClr val="d3a219"/>
                </a:solidFill>
                <a:latin typeface="Lucida Handwriting"/>
                <a:ea typeface="Mitra"/>
              </a:rPr>
              <a:t>- ايجاد علاقه در مخاطبين در ارتباط با دستور کار انجم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99"/>
                </a:solidFill>
                <a:latin typeface="Lucida Handwriting"/>
                <a:cs typeface="Mitra"/>
              </a:rPr>
              <a:t>در انجمن انواع روشهای آموزشی  ( سخنرانی ، پانل ، بحث گروهی و .....  )  بکار ميايد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Lucida Handwriting"/>
                <a:ea typeface="Mitra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88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33cc"/>
                </a:solidFill>
                <a:latin typeface="Arial"/>
                <a:cs typeface="Mitra"/>
              </a:rPr>
              <a:t>نقش بازی  ( </a:t>
            </a:r>
            <a:r>
              <a:rPr b="1" lang="en-US" sz="3600" spc="-1" strike="noStrike">
                <a:solidFill>
                  <a:srgbClr val="3333cc"/>
                </a:solidFill>
                <a:latin typeface="Lucida Handwriting"/>
                <a:ea typeface="Mitra"/>
              </a:rPr>
              <a:t>Role Playing</a:t>
            </a:r>
            <a:r>
              <a:rPr b="1" lang="en-US" sz="3600" spc="-1" strike="noStrike">
                <a:solidFill>
                  <a:srgbClr val="3333cc"/>
                </a:solidFill>
                <a:latin typeface="Lucida Handwriting"/>
                <a:ea typeface="Mitra"/>
              </a:rPr>
              <a:t> </a:t>
            </a:r>
            <a:r>
              <a:rPr b="1" lang="fa-IR" sz="3600" spc="-1" strike="noStrike">
                <a:solidFill>
                  <a:srgbClr val="3333cc"/>
                </a:solidFill>
                <a:latin typeface="Lucida Handwriting"/>
                <a:ea typeface="Mitra"/>
              </a:rPr>
              <a:t> )  :</a:t>
            </a:r>
            <a:r>
              <a:rPr b="1" lang="fa-IR" sz="2800" spc="-1" strike="noStrike">
                <a:solidFill>
                  <a:srgbClr val="dfd293"/>
                </a:solidFill>
                <a:latin typeface="Lucida Handwriting"/>
                <a:ea typeface="Mitra"/>
              </a:rPr>
              <a:t> 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0151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1000"/>
          </a:bodyPr>
          <a:p>
            <a:pPr marL="31212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Arial"/>
                <a:ea typeface="Mitra"/>
              </a:rPr>
              <a:t>    اين روش بر پايه اين فرض است که بسياری از ارزشهارا نميتوان با واژه ها بيان داشت و اگر بوسيله گروهی به نمايش درآيد ارتباط موثرتری برقرار خواهد شد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Arial"/>
                <a:ea typeface="Mitra"/>
              </a:rPr>
              <a:t>     افراد شرکت کننده نقش خود را آنطور که ديده يا تجربه کرده اند ايفا ميکنند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Arial"/>
                <a:ea typeface="Mitra"/>
              </a:rPr>
              <a:t>      نقش بازی روش مفيدی برای ارائه بحث در مورد دشواريهای مربوط به روابط انسانی وخصوصا برای کودکان دبستانی مفيد اس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502920"/>
            <a:ext cx="8507520" cy="6049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ff"/>
                </a:solidFill>
                <a:latin typeface="Arial"/>
                <a:cs typeface="Mitra"/>
              </a:rPr>
              <a:t>نمايش عملی ( </a:t>
            </a:r>
            <a:r>
              <a:rPr b="1" lang="en-US" sz="3200" spc="-1" strike="noStrike">
                <a:solidFill>
                  <a:srgbClr val="3333ff"/>
                </a:solidFill>
                <a:latin typeface="Lucida Handwriting"/>
                <a:ea typeface="Mitra"/>
              </a:rPr>
              <a:t>Demonstration</a:t>
            </a:r>
            <a:r>
              <a:rPr b="1" lang="en-US" sz="3200" spc="-1" strike="noStrike">
                <a:solidFill>
                  <a:srgbClr val="3333ff"/>
                </a:solidFill>
                <a:latin typeface="Lucida Handwriting"/>
                <a:ea typeface="Mitra"/>
              </a:rPr>
              <a:t> </a:t>
            </a:r>
            <a:r>
              <a:rPr b="1" lang="fa-IR" sz="3200" spc="-1" strike="noStrike">
                <a:solidFill>
                  <a:srgbClr val="3333ff"/>
                </a:solidFill>
                <a:latin typeface="Lucida Handwriting"/>
                <a:ea typeface="Mitra"/>
              </a:rPr>
              <a:t> )  :</a:t>
            </a:r>
            <a:br>
              <a:rPr sz="3200"/>
            </a:br>
            <a:r>
              <a:rPr b="1" lang="fa-IR" sz="3200" spc="-1" strike="noStrike">
                <a:solidFill>
                  <a:srgbClr val="3333ff"/>
                </a:solidFill>
                <a:latin typeface="Lucida Handwriting"/>
                <a:cs typeface="Mitra"/>
              </a:rPr>
              <a:t>با اين روش به مردم نشان داده ميشود که يک کار خاص چگونه انجام ميگيرد مانند </a:t>
            </a:r>
            <a:br>
              <a:rPr sz="3200"/>
            </a:br>
            <a:br>
              <a:rPr sz="3200"/>
            </a:br>
            <a:r>
              <a:rPr b="1" lang="fa-IR" sz="3200" spc="-1" strike="noStrike">
                <a:solidFill>
                  <a:srgbClr val="ff3399"/>
                </a:solidFill>
                <a:latin typeface="Lucida Handwriting"/>
                <a:cs typeface="Mitra"/>
              </a:rPr>
              <a:t>مسواک زدن ، شستن کودک ، تغذيه کودک ، پخت و پز</a:t>
            </a:r>
            <a:r>
              <a:rPr b="1" lang="fa-IR" sz="3200" spc="-1" strike="noStrike">
                <a:solidFill>
                  <a:srgbClr val="3333ff"/>
                </a:solidFill>
                <a:latin typeface="Lucida Handwriting"/>
                <a:ea typeface="Mitra"/>
              </a:rPr>
              <a:t> </a:t>
            </a:r>
            <a:br>
              <a:rPr sz="3200"/>
            </a:br>
            <a:br>
              <a:rPr sz="3200"/>
            </a:br>
            <a:r>
              <a:rPr b="1" lang="fa-IR" sz="3200" spc="-1" strike="noStrike">
                <a:solidFill>
                  <a:srgbClr val="3333ff"/>
                </a:solidFill>
                <a:latin typeface="Lucida Handwriting"/>
                <a:cs typeface="Mitra"/>
              </a:rPr>
              <a:t>نمايش عملی در مغز مردم خاطره ديداری به جای می گذارد . </a:t>
            </a:r>
            <a:br>
              <a:rPr sz="3200"/>
            </a:b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32360" y="-360"/>
            <a:ext cx="3168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333ff"/>
                </a:solidFill>
                <a:latin typeface="Arial"/>
                <a:cs typeface="Mitra"/>
              </a:rPr>
              <a:t>آموزش عموم مردم :</a:t>
            </a:r>
            <a:r>
              <a:rPr b="1" lang="fa-IR" sz="1800" spc="-1" strike="noStrike">
                <a:solidFill>
                  <a:srgbClr val="dfd293"/>
                </a:solidFill>
                <a:latin typeface="Arial"/>
                <a:ea typeface="Mitra"/>
              </a:rPr>
              <a:t> </a:t>
            </a:r>
            <a:endParaRPr b="0" lang="en-US" sz="1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3640" y="914400"/>
            <a:ext cx="8569080" cy="5867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2700000"/>
          </a:gradFill>
          <a:ln w="0">
            <a:noFill/>
          </a:ln>
        </p:spPr>
        <p:txBody>
          <a:bodyPr anchor="t">
            <a:normAutofit fontScale="92000"/>
          </a:bodyPr>
          <a:p>
            <a:pPr marL="31536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Mitra"/>
              </a:rPr>
              <a:t>برای آموزش عمومی مردم  </a:t>
            </a:r>
            <a:r>
              <a:rPr b="1" lang="fa-IR" sz="2000" spc="-1" strike="noStrike">
                <a:solidFill>
                  <a:srgbClr val="5c1f00"/>
                </a:solidFill>
                <a:latin typeface="Arial"/>
                <a:cs typeface="Mitra"/>
              </a:rPr>
              <a:t>رسانا های همگانی</a:t>
            </a:r>
            <a:r>
              <a:rPr b="1" lang="fa-IR" sz="2000" spc="-1" strike="noStrike">
                <a:solidFill>
                  <a:srgbClr val="0066ff"/>
                </a:solidFill>
                <a:latin typeface="Arial"/>
                <a:ea typeface="Mitra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Mitra"/>
              </a:rPr>
              <a:t>بکار می رو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4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66cc"/>
                </a:solidFill>
                <a:latin typeface="Arial"/>
                <a:cs typeface="Mitra"/>
              </a:rPr>
              <a:t>تلويزيون  :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Mitra"/>
              </a:rPr>
              <a:t> ارزان ترين وسيله به حساب می آيد ( باتوجه به کيفيت بالای آن  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499"/>
              </a:spcBef>
              <a:buClr>
                <a:srgbClr val="d3a2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d3a219"/>
                </a:solidFill>
                <a:latin typeface="Arial"/>
                <a:cs typeface="Mitra"/>
              </a:rPr>
              <a:t>راديو  : 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Mitra"/>
              </a:rPr>
              <a:t>وسيله پرتوانی در آموزش است ، گفتار راديويی نبايد بيش از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Mitra"/>
              </a:rPr>
              <a:t>15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Mitra"/>
              </a:rPr>
              <a:t> دقيقه باشد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99"/>
                </a:solidFill>
                <a:latin typeface="Arial"/>
                <a:cs typeface="Mitra"/>
              </a:rPr>
              <a:t>روزنامه :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Mitra"/>
              </a:rPr>
              <a:t> روزنامه بيش از همه انواع نوشته های ديگر بين مردم پخش می شود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99ff33"/>
                </a:solidFill>
                <a:latin typeface="Arial"/>
                <a:cs typeface="Mitra"/>
              </a:rPr>
              <a:t>فيلم سينمائی  :</a:t>
            </a:r>
            <a:r>
              <a:rPr b="1" lang="fa-IR" sz="2000" spc="-1" strike="noStrike">
                <a:solidFill>
                  <a:srgbClr val="808000"/>
                </a:solidFill>
                <a:latin typeface="Arial"/>
                <a:ea typeface="Mitra"/>
              </a:rPr>
              <a:t>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Mitra"/>
              </a:rPr>
              <a:t>بسيار گران تمام می شود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99ff33"/>
                </a:solidFill>
                <a:latin typeface="Arial"/>
                <a:cs typeface="Mitra"/>
              </a:rPr>
              <a:t>مجله بهداشتی  :</a:t>
            </a:r>
            <a:r>
              <a:rPr b="1" lang="fa-IR" sz="2000" spc="-1" strike="noStrike">
                <a:solidFill>
                  <a:srgbClr val="990099"/>
                </a:solidFill>
                <a:latin typeface="Arial"/>
                <a:ea typeface="Mitra"/>
              </a:rPr>
              <a:t>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Mitra"/>
              </a:rPr>
              <a:t>ارائه مطالب در مجلات نياز به کارشناسی دارد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66ff"/>
                </a:solidFill>
                <a:latin typeface="Arial"/>
                <a:cs typeface="Mitra"/>
              </a:rPr>
              <a:t>پوست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Arial"/>
                <a:ea typeface="Mitra"/>
              </a:rPr>
              <a:t> در پوستر مطا لب بايد </a:t>
            </a:r>
            <a:r>
              <a:rPr b="1" lang="fa-IR" sz="2000" spc="-1" strike="noStrike">
                <a:solidFill>
                  <a:srgbClr val="00ff00"/>
                </a:solidFill>
                <a:latin typeface="Arial"/>
                <a:ea typeface="Mitra"/>
              </a:rPr>
              <a:t> هنری  </a:t>
            </a:r>
            <a:r>
              <a:rPr b="1" lang="fa-IR" sz="2000" spc="-1" strike="noStrike">
                <a:solidFill>
                  <a:srgbClr val="ffffff"/>
                </a:solidFill>
                <a:latin typeface="Arial"/>
                <a:cs typeface="Mitra"/>
              </a:rPr>
              <a:t>باشد تا جلب نظر کند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9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77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8" dur="77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0" dur="77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2" dur="77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8" dur="5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3" dur="2000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2000"/>
                                        <p:tgtEl>
                                          <p:spTgt spid="1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7" dur="2000" fill="hold"/>
                                        <p:tgtEl>
                                          <p:spTgt spid="1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2000" fill="hold"/>
                                        <p:tgtEl>
                                          <p:spTgt spid="1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12920"/>
            <a:ext cx="8076960" cy="17920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anchor="ctr">
            <a:noAutofit/>
          </a:bodyPr>
          <a:p>
            <a:pPr algn="r" rtl="1">
              <a:lnSpc>
                <a:spcPct val="150000"/>
              </a:lnSpc>
              <a:buClr>
                <a:srgbClr val="dfd2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dfd293"/>
                </a:solidFill>
                <a:latin typeface="Arial"/>
                <a:ea typeface="Mitra"/>
              </a:rPr>
              <a:t>  درجا هائيکه مدت مواجهه با پوستر کوتاه است بايد پيام پوستر </a:t>
            </a:r>
            <a:r>
              <a:rPr b="1" lang="fa-IR" sz="2800" spc="-1" strike="noStrike">
                <a:solidFill>
                  <a:srgbClr val="99ff33"/>
                </a:solidFill>
                <a:latin typeface="Arial"/>
                <a:cs typeface="Mitra"/>
              </a:rPr>
              <a:t>کوتاه ، ساده</a:t>
            </a:r>
            <a:r>
              <a:rPr b="1" lang="fa-IR" sz="2800" spc="-1" strike="noStrike">
                <a:solidFill>
                  <a:srgbClr val="808000"/>
                </a:solidFill>
                <a:latin typeface="Arial"/>
                <a:ea typeface="Mitra"/>
              </a:rPr>
              <a:t> ،</a:t>
            </a:r>
            <a:r>
              <a:rPr b="1" lang="fa-IR" sz="2800" spc="-1" strike="noStrike">
                <a:solidFill>
                  <a:srgbClr val="99ff33"/>
                </a:solidFill>
                <a:latin typeface="Arial"/>
                <a:cs typeface="Mitra"/>
              </a:rPr>
              <a:t>مستقيم ، وفوری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Mitra"/>
              </a:rPr>
              <a:t> </a:t>
            </a:r>
            <a:r>
              <a:rPr b="1" lang="fa-IR" sz="2800" spc="-1" strike="noStrike">
                <a:solidFill>
                  <a:srgbClr val="dfd293"/>
                </a:solidFill>
                <a:latin typeface="Arial"/>
                <a:cs typeface="Mitra"/>
              </a:rPr>
              <a:t>باشد .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720880"/>
            <a:ext cx="8229600" cy="37324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ff33"/>
                </a:solidFill>
                <a:latin typeface="Arial"/>
                <a:cs typeface="Mitra"/>
              </a:rPr>
              <a:t>در مکانهائی که مدت توقف مردم بيشتر است پوستر می تواند حاوی اطلاعات بيشتری باشد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ff33"/>
                </a:solidFill>
                <a:latin typeface="Arial"/>
                <a:cs typeface="Mitra"/>
              </a:rPr>
              <a:t>مطا لب پوستر بايد  به مقدار درست ، در جائی درست و به مدتی درست قرار گيرد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ff33"/>
                </a:solidFill>
                <a:latin typeface="Arial"/>
                <a:cs typeface="Mitra"/>
              </a:rPr>
              <a:t>پوستر به عنوان رسانه در دگرگونی رفتار مردم کمتر کار ساز اس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052280"/>
            <a:ext cx="6781680" cy="5257800"/>
          </a:xfrm>
          <a:prstGeom prst="rect">
            <a:avLst/>
          </a:prstGeom>
          <a:solidFill>
            <a:srgbClr val="5c1f00"/>
          </a:solidFill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ff00"/>
                </a:solidFill>
                <a:latin typeface="Arial"/>
                <a:ea typeface="Mitra"/>
              </a:rPr>
              <a:t> نمايشگاه بهداشت </a:t>
            </a:r>
            <a:br>
              <a:rPr sz="3600"/>
            </a:br>
            <a:r>
              <a:rPr b="1" i="1" lang="fa-IR" sz="3600" spc="-1" strike="noStrike">
                <a:solidFill>
                  <a:srgbClr val="00ff00"/>
                </a:solidFill>
                <a:latin typeface="Arial"/>
                <a:ea typeface="Mitra"/>
              </a:rPr>
              <a:t> </a:t>
            </a:r>
            <a:r>
              <a:rPr b="1" i="1" lang="fa-IR" sz="3600" spc="-1" strike="noStrike">
                <a:solidFill>
                  <a:srgbClr val="0066ff"/>
                </a:solidFill>
                <a:latin typeface="Arial"/>
                <a:cs typeface="Mitra"/>
              </a:rPr>
              <a:t>موزه بهداشت</a:t>
            </a:r>
            <a:r>
              <a:rPr b="1" i="1" lang="fa-IR" sz="4000" spc="-1" strike="noStrike">
                <a:solidFill>
                  <a:srgbClr val="0066ff"/>
                </a:solidFill>
                <a:latin typeface="Arial"/>
                <a:ea typeface="Mitra"/>
              </a:rPr>
              <a:t> </a:t>
            </a:r>
            <a:br>
              <a:rPr sz="4000"/>
            </a:br>
            <a:r>
              <a:rPr b="1" lang="fa-IR" sz="3200" spc="-1" strike="noStrike">
                <a:solidFill>
                  <a:srgbClr val="0066ff"/>
                </a:solidFill>
                <a:latin typeface="Arial"/>
                <a:cs typeface="Mitra"/>
              </a:rPr>
              <a:t>رسانا های همگانی در دگرگون ساختن رفتار انسان کمتر از روش های انفرادی و گروهی کارسازی دارد چرا که </a:t>
            </a:r>
            <a:r>
              <a:rPr b="1" lang="fa-IR" sz="3200" spc="-1" strike="noStrike">
                <a:solidFill>
                  <a:srgbClr val="ffcc00"/>
                </a:solidFill>
                <a:latin typeface="Arial"/>
                <a:cs typeface="Mitra"/>
              </a:rPr>
              <a:t>ارتباط يکطرفه </a:t>
            </a:r>
            <a:r>
              <a:rPr b="1" lang="fa-IR" sz="3200" spc="-1" strike="noStrike">
                <a:solidFill>
                  <a:srgbClr val="0066ff"/>
                </a:solidFill>
                <a:latin typeface="Arial"/>
                <a:ea typeface="Mitra"/>
              </a:rPr>
              <a:t> است 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76320"/>
            <a:ext cx="8686800" cy="6476760"/>
          </a:xfrm>
          <a:prstGeom prst="horizontalScroll">
            <a:avLst>
              <a:gd name="adj" fmla="val 6226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66ff33"/>
                </a:solidFill>
                <a:latin typeface="Arial"/>
                <a:cs typeface="Mitra"/>
              </a:rPr>
              <a:t>آموزش بهداشت چيست ؟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spcBef>
                <a:spcPts val="700"/>
              </a:spcBef>
              <a:buClr>
                <a:srgbClr val="d3a2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d3a219"/>
                </a:solidFill>
                <a:latin typeface="Arial"/>
                <a:ea typeface="Mitra"/>
              </a:rPr>
              <a:t>   </a:t>
            </a:r>
            <a:r>
              <a:rPr b="1" lang="fa-IR" sz="2800" spc="-1" strike="noStrike">
                <a:solidFill>
                  <a:srgbClr val="ffff99"/>
                </a:solidFill>
                <a:latin typeface="Arial"/>
                <a:cs typeface="Mitra"/>
              </a:rPr>
              <a:t>ارتباطات عمومی با هدف همگانی کردن فعاليتهای بخش بهداشت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99"/>
                </a:solidFill>
                <a:latin typeface="Arial"/>
                <a:ea typeface="Mitra"/>
              </a:rPr>
              <a:t>    مترادف با تبليغات بهداشتی !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99"/>
                </a:solidFill>
                <a:latin typeface="Arial"/>
                <a:ea typeface="Mitra"/>
              </a:rPr>
              <a:t>    انتقال اطلاعات مربوط به سلامتی و بيمار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99"/>
                </a:solidFill>
                <a:latin typeface="Arial"/>
                <a:cs typeface="Mitra"/>
              </a:rPr>
              <a:t>از سوی کارشناسان متخصص به مراجعان عامی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161616"/>
                </a:solidFill>
                <a:latin typeface="Arial"/>
                <a:ea typeface="Mitra"/>
              </a:rPr>
              <a:t>               ارتباطات در آموزش بهداشت : 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2179440"/>
            <a:ext cx="7467480" cy="42973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anchor="t">
            <a:normAutofit fontScale="88000"/>
          </a:bodyPr>
          <a:p>
            <a:pPr marL="30168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Arial"/>
                <a:cs typeface="Mitra"/>
              </a:rPr>
              <a:t>مقصود از ارتباط ، انتقال آگاهی از يک نفر يا گروهی از افراد يا گروههای ديگر است به اين منظور که دگرگونی رفتاری ايجاد شود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Arial"/>
                <a:ea typeface="Mitra"/>
              </a:rPr>
              <a:t>      اجزاء اصلی فرآيند ارتباط عبارتند از : </a:t>
            </a:r>
            <a:r>
              <a:rPr b="1" lang="fa-IR" sz="2400" spc="-1" strike="noStrike">
                <a:solidFill>
                  <a:srgbClr val="0033cc"/>
                </a:solidFill>
                <a:latin typeface="Arial"/>
                <a:ea typeface="Mitra"/>
              </a:rPr>
              <a:t>  </a:t>
            </a:r>
            <a:r>
              <a:rPr b="1" lang="fa-IR" sz="2400" spc="-1" strike="noStrike">
                <a:solidFill>
                  <a:srgbClr val="ffff00"/>
                </a:solidFill>
                <a:latin typeface="Arial"/>
                <a:cs typeface="Mitra"/>
              </a:rPr>
              <a:t>گوينده پيا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00"/>
                </a:solidFill>
                <a:latin typeface="Arial"/>
                <a:ea typeface="Mitra"/>
              </a:rPr>
              <a:t>                                                                   پيا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99"/>
                </a:solidFill>
                <a:latin typeface="Arial"/>
                <a:ea typeface="Mitra"/>
              </a:rPr>
              <a:t>                                                                   مخاطب</a:t>
            </a:r>
            <a:r>
              <a:rPr b="1" lang="fa-IR" sz="2400" spc="-1" strike="noStrike">
                <a:solidFill>
                  <a:srgbClr val="808000"/>
                </a:solidFill>
                <a:latin typeface="Arial"/>
                <a:ea typeface="Mitr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99ff33"/>
                </a:solidFill>
                <a:latin typeface="Arial"/>
                <a:ea typeface="Mitra"/>
              </a:rPr>
              <a:t>                                                                   راههای ارتباط</a:t>
            </a:r>
            <a:r>
              <a:rPr b="1" lang="fa-IR" sz="2400" spc="-1" strike="noStrike">
                <a:solidFill>
                  <a:srgbClr val="990099"/>
                </a:solidFill>
                <a:latin typeface="Arial"/>
                <a:ea typeface="Mitr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8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189000"/>
            <a:ext cx="8229600" cy="64800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dfd293"/>
                </a:solidFill>
                <a:latin typeface="Arial"/>
                <a:cs typeface="Mitra"/>
              </a:rPr>
              <a:t>الف ) گوينده پيام ،   بايد بداند  : </a:t>
            </a:r>
            <a:br>
              <a:rPr sz="2800"/>
            </a:b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Mitra"/>
              </a:rPr>
              <a:t> 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Mitra"/>
              </a:rPr>
              <a:t>1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Mitra"/>
              </a:rPr>
              <a:t>- اهداف او چيست </a:t>
            </a:r>
            <a:br>
              <a:rPr sz="2800"/>
            </a:b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Mitra"/>
              </a:rPr>
              <a:t> 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Mitra"/>
              </a:rPr>
              <a:t>2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Mitra"/>
              </a:rPr>
              <a:t>- مخاطب او کيست </a:t>
            </a:r>
            <a:br>
              <a:rPr sz="2800"/>
            </a:b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Mitra"/>
              </a:rPr>
              <a:t> 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Mitra"/>
              </a:rPr>
              <a:t>3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Mitra"/>
              </a:rPr>
              <a:t>- پيام او چيست </a:t>
            </a:r>
            <a:br>
              <a:rPr sz="2800"/>
            </a:b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Mitra"/>
              </a:rPr>
              <a:t> 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Mitra"/>
              </a:rPr>
              <a:t>4</a:t>
            </a:r>
            <a:r>
              <a:rPr b="1" lang="fa-IR" sz="2800" spc="-1" strike="noStrike">
                <a:solidFill>
                  <a:srgbClr val="00ff00"/>
                </a:solidFill>
                <a:latin typeface="Arial"/>
                <a:ea typeface="Mitra"/>
              </a:rPr>
              <a:t>- را ههای ارتباط با مخاطب کدامست </a:t>
            </a:r>
            <a:br>
              <a:rPr sz="2800"/>
            </a:br>
            <a:br>
              <a:rPr sz="2800"/>
            </a:br>
            <a:r>
              <a:rPr b="1" lang="fa-IR" sz="2800" spc="-1" strike="noStrike">
                <a:solidFill>
                  <a:srgbClr val="dfd293"/>
                </a:solidFill>
                <a:latin typeface="Arial"/>
                <a:cs typeface="Mitra"/>
              </a:rPr>
              <a:t>ب )پيام  : پيام خوب بايد  :          </a:t>
            </a:r>
            <a:r>
              <a:rPr b="1" lang="fa-IR" sz="2800" spc="-1" strike="noStrike">
                <a:solidFill>
                  <a:srgbClr val="ffcc00"/>
                </a:solidFill>
                <a:latin typeface="Arial"/>
                <a:ea typeface="Mitra"/>
              </a:rPr>
              <a:t>1</a:t>
            </a:r>
            <a:r>
              <a:rPr b="1" lang="fa-IR" sz="2800" spc="-1" strike="noStrike">
                <a:solidFill>
                  <a:srgbClr val="ffcc00"/>
                </a:solidFill>
                <a:latin typeface="Arial"/>
                <a:ea typeface="Mitra"/>
              </a:rPr>
              <a:t>-درراستای اهداف باشد </a:t>
            </a:r>
            <a:br>
              <a:rPr sz="2800"/>
            </a:br>
            <a:r>
              <a:rPr b="1" lang="fa-IR" sz="2800" spc="-1" strike="noStrike">
                <a:solidFill>
                  <a:srgbClr val="ffcc00"/>
                </a:solidFill>
                <a:latin typeface="Arial"/>
                <a:ea typeface="Mitra"/>
              </a:rPr>
              <a:t>                                                  </a:t>
            </a:r>
            <a:r>
              <a:rPr b="1" lang="fa-IR" sz="2800" spc="-1" strike="noStrike">
                <a:solidFill>
                  <a:srgbClr val="ffcc00"/>
                </a:solidFill>
                <a:latin typeface="Arial"/>
                <a:ea typeface="Mitra"/>
              </a:rPr>
              <a:t>2</a:t>
            </a:r>
            <a:r>
              <a:rPr b="1" lang="fa-IR" sz="2800" spc="-1" strike="noStrike">
                <a:solidFill>
                  <a:srgbClr val="ffcc00"/>
                </a:solidFill>
                <a:latin typeface="Arial"/>
                <a:ea typeface="Mitra"/>
              </a:rPr>
              <a:t>- با دقت انتخاب شود </a:t>
            </a:r>
            <a:br>
              <a:rPr sz="2800"/>
            </a:br>
            <a:r>
              <a:rPr b="1" lang="fa-IR" sz="2800" spc="-1" strike="noStrike">
                <a:solidFill>
                  <a:srgbClr val="ffcc00"/>
                </a:solidFill>
                <a:latin typeface="Arial"/>
                <a:ea typeface="Mitra"/>
              </a:rPr>
              <a:t>                                                  </a:t>
            </a:r>
            <a:r>
              <a:rPr b="1" lang="fa-IR" sz="2800" spc="-1" strike="noStrike">
                <a:solidFill>
                  <a:srgbClr val="ffcc00"/>
                </a:solidFill>
                <a:latin typeface="Arial"/>
                <a:ea typeface="Mitra"/>
              </a:rPr>
              <a:t>3</a:t>
            </a:r>
            <a:r>
              <a:rPr b="1" lang="fa-IR" sz="2800" spc="-1" strike="noStrike">
                <a:solidFill>
                  <a:srgbClr val="ffcc00"/>
                </a:solidFill>
                <a:latin typeface="Arial"/>
                <a:ea typeface="Mitra"/>
              </a:rPr>
              <a:t>-روشن و قابل فهم باشد </a:t>
            </a:r>
            <a:br>
              <a:rPr sz="2800"/>
            </a:b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92468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3333cc"/>
                </a:solidFill>
                <a:latin typeface="Arial"/>
                <a:ea typeface="Mitra"/>
              </a:rPr>
              <a:t>4</a:t>
            </a:r>
            <a:r>
              <a:rPr b="1" lang="fa-IR" sz="2800" spc="-1" strike="noStrike">
                <a:solidFill>
                  <a:srgbClr val="3333cc"/>
                </a:solidFill>
                <a:latin typeface="Arial"/>
                <a:ea typeface="Mitra"/>
              </a:rPr>
              <a:t>- ويژگی داشته باشد </a:t>
            </a:r>
            <a:br>
              <a:rPr sz="2800"/>
            </a:br>
            <a:r>
              <a:rPr b="1" lang="fa-IR" sz="2800" spc="-1" strike="noStrike">
                <a:solidFill>
                  <a:srgbClr val="3333cc"/>
                </a:solidFill>
                <a:latin typeface="Arial"/>
                <a:ea typeface="Mitra"/>
              </a:rPr>
              <a:t>                                           </a:t>
            </a:r>
            <a:r>
              <a:rPr b="1" lang="fa-IR" sz="2800" spc="-1" strike="noStrike">
                <a:solidFill>
                  <a:srgbClr val="3333cc"/>
                </a:solidFill>
                <a:latin typeface="Arial"/>
                <a:ea typeface="Mitra"/>
              </a:rPr>
              <a:t>5</a:t>
            </a:r>
            <a:r>
              <a:rPr b="1" lang="fa-IR" sz="2800" spc="-1" strike="noStrike">
                <a:solidFill>
                  <a:srgbClr val="3333cc"/>
                </a:solidFill>
                <a:latin typeface="Arial"/>
                <a:ea typeface="Mitra"/>
              </a:rPr>
              <a:t>- به موقع و خوشايند باشد 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229600" cy="42480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Arial"/>
                <a:cs typeface="Mitra"/>
              </a:rPr>
              <a:t>ج ) مخاطب : مصرف کننده پيام است که ممکن است همه جامعه يا بخشی از آن باشد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Arial"/>
                <a:cs typeface="Mitra"/>
              </a:rPr>
              <a:t>د ) را ههای ارتباطی  : همان رسانا ها می باشند در انتخاب راه انتقال با يد توانائی آن هزينه ودر دسترس بودن آن مد نظر باشد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Arial"/>
                <a:ea typeface="Mitra"/>
              </a:rPr>
              <a:t>     پيام بايد از را ههای مختلف به مخاطب برسد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3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solidFill>
            <a:srgbClr val="3333ff"/>
          </a:solidFill>
          <a:ln cap="rnd" w="76320">
            <a:solidFill>
              <a:srgbClr val="5c1f00"/>
            </a:solidFill>
            <a:custDash>
              <a:ds d="100000" sp="1000"/>
            </a:custDash>
            <a:miter/>
          </a:ln>
        </p:spPr>
        <p:txBody>
          <a:bodyPr anchor="ctr">
            <a:noAutofit/>
          </a:bodyPr>
          <a:p>
            <a:pPr indent="0" algn="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ff00"/>
                </a:solidFill>
                <a:latin typeface="Arial"/>
                <a:cs typeface="Mitra"/>
              </a:rPr>
              <a:t>موانع ارتباط :  </a:t>
            </a:r>
            <a:br>
              <a:rPr sz="3200"/>
            </a:br>
            <a:r>
              <a:rPr b="0" lang="fa-IR" sz="3200" spc="-1" strike="noStrike">
                <a:solidFill>
                  <a:srgbClr val="00ff00"/>
                </a:solidFill>
                <a:latin typeface="Arial"/>
                <a:ea typeface="Mitra"/>
              </a:rPr>
              <a:t> </a:t>
            </a:r>
            <a:r>
              <a:rPr b="0" lang="fa-IR" sz="3200" spc="-1" strike="noStrike">
                <a:solidFill>
                  <a:srgbClr val="ffff99"/>
                </a:solidFill>
                <a:latin typeface="Arial"/>
                <a:ea typeface="Mitra"/>
              </a:rPr>
              <a:t>1</a:t>
            </a:r>
            <a:r>
              <a:rPr b="0" lang="fa-IR" sz="3200" spc="-1" strike="noStrike">
                <a:solidFill>
                  <a:srgbClr val="ffff99"/>
                </a:solidFill>
                <a:latin typeface="Arial"/>
                <a:ea typeface="Mitra"/>
              </a:rPr>
              <a:t>- فيزيولوژيک  مانند دشواری بيان وشنيدن </a:t>
            </a:r>
            <a:br>
              <a:rPr sz="3200"/>
            </a:br>
            <a:r>
              <a:rPr b="0" lang="fa-IR" sz="3200" spc="-1" strike="noStrike">
                <a:solidFill>
                  <a:srgbClr val="ffff99"/>
                </a:solidFill>
                <a:latin typeface="Arial"/>
                <a:ea typeface="Mitra"/>
              </a:rPr>
              <a:t> </a:t>
            </a:r>
            <a:r>
              <a:rPr b="0" lang="fa-IR" sz="3200" spc="-1" strike="noStrike">
                <a:solidFill>
                  <a:srgbClr val="ffff99"/>
                </a:solidFill>
                <a:latin typeface="Arial"/>
                <a:ea typeface="Mitra"/>
              </a:rPr>
              <a:t>2</a:t>
            </a:r>
            <a:r>
              <a:rPr b="0" lang="fa-IR" sz="3200" spc="-1" strike="noStrike">
                <a:solidFill>
                  <a:srgbClr val="ffff99"/>
                </a:solidFill>
                <a:latin typeface="Arial"/>
                <a:ea typeface="Mitra"/>
              </a:rPr>
              <a:t>- روان شناختی مانند اختلالات عاطفی ، نوروز </a:t>
            </a:r>
            <a:br>
              <a:rPr sz="3200"/>
            </a:br>
            <a:r>
              <a:rPr b="0" lang="fa-IR" sz="3200" spc="-1" strike="noStrike">
                <a:solidFill>
                  <a:srgbClr val="ffff99"/>
                </a:solidFill>
                <a:latin typeface="Arial"/>
                <a:ea typeface="Mitra"/>
              </a:rPr>
              <a:t> </a:t>
            </a:r>
            <a:r>
              <a:rPr b="0" lang="fa-IR" sz="3200" spc="-1" strike="noStrike">
                <a:solidFill>
                  <a:srgbClr val="ffff99"/>
                </a:solidFill>
                <a:latin typeface="Arial"/>
                <a:ea typeface="Mitra"/>
              </a:rPr>
              <a:t>3</a:t>
            </a:r>
            <a:r>
              <a:rPr b="0" lang="fa-IR" sz="3200" spc="-1" strike="noStrike">
                <a:solidFill>
                  <a:srgbClr val="ffff99"/>
                </a:solidFill>
                <a:latin typeface="Arial"/>
                <a:ea typeface="Mitra"/>
              </a:rPr>
              <a:t>- زيست محيطی مانند سروصدا ، شلوغی ، ديده                                                                      نشدن </a:t>
            </a:r>
            <a:br>
              <a:rPr sz="3200"/>
            </a:br>
            <a:r>
              <a:rPr b="0" lang="fa-IR" sz="3200" spc="-1" strike="noStrike">
                <a:solidFill>
                  <a:srgbClr val="ffff99"/>
                </a:solidFill>
                <a:latin typeface="Arial"/>
                <a:ea typeface="Mitra"/>
              </a:rPr>
              <a:t> </a:t>
            </a:r>
            <a:r>
              <a:rPr b="0" lang="fa-IR" sz="3200" spc="-1" strike="noStrike">
                <a:solidFill>
                  <a:srgbClr val="ffff99"/>
                </a:solidFill>
                <a:latin typeface="Arial"/>
                <a:ea typeface="Mitra"/>
              </a:rPr>
              <a:t>4</a:t>
            </a:r>
            <a:r>
              <a:rPr b="0" lang="fa-IR" sz="3200" spc="-1" strike="noStrike">
                <a:solidFill>
                  <a:srgbClr val="ffff99"/>
                </a:solidFill>
                <a:latin typeface="Arial"/>
                <a:ea typeface="Mitra"/>
              </a:rPr>
              <a:t>- فرهنگی مانند دانش ، آداب وباورها ، مذهب و بينش ها </a:t>
            </a:r>
            <a:br>
              <a:rPr sz="3200"/>
            </a:br>
            <a:r>
              <a:rPr b="0" lang="fa-IR" sz="3200" spc="-1" strike="noStrike">
                <a:solidFill>
                  <a:srgbClr val="ffff99"/>
                </a:solidFill>
                <a:latin typeface="Arial"/>
                <a:cs typeface="Mitra"/>
              </a:rPr>
              <a:t>برای دستيابی به يک ارتباط موثر بايد موانع شناسائی و حذف شوند </a:t>
            </a:r>
            <a:br>
              <a:rPr sz="3200"/>
            </a:b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51280" y="261720"/>
            <a:ext cx="4759200" cy="7189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Arial"/>
                <a:cs typeface="Mitra"/>
              </a:rPr>
              <a:t>مراحل طراحي يك برنامه آموزش بهداشت :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7160"/>
            <a:ext cx="8229600" cy="54882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Mitra"/>
              </a:rPr>
              <a:t> </a:t>
            </a:r>
            <a:r>
              <a:rPr b="0" lang="ar-SA" sz="2400" spc="-1" strike="noStrike">
                <a:solidFill>
                  <a:srgbClr val="ffff00"/>
                </a:solidFill>
                <a:latin typeface="Arial"/>
                <a:ea typeface="Mitra"/>
              </a:rPr>
              <a:t>1</a:t>
            </a:r>
            <a:r>
              <a:rPr b="0" lang="ar-SA" sz="2400" spc="-1" strike="noStrike">
                <a:solidFill>
                  <a:srgbClr val="ffff00"/>
                </a:solidFill>
                <a:latin typeface="Arial"/>
                <a:ea typeface="Mitra"/>
              </a:rPr>
              <a:t>- تعيين مخاطبين و خصوصيات آنه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Mitra"/>
              </a:rPr>
              <a:t>برنامه آموزش بهداشت براي چه گروه از افراد جامعه است ؟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  <a:ea typeface="Mitra"/>
              </a:rPr>
              <a:t>2</a:t>
            </a:r>
            <a:r>
              <a:rPr b="0" lang="ar-SA" sz="2400" spc="-1" strike="noStrike">
                <a:solidFill>
                  <a:srgbClr val="ffff00"/>
                </a:solidFill>
                <a:latin typeface="Arial"/>
                <a:ea typeface="Mitra"/>
              </a:rPr>
              <a:t>- شناسائي نيازهاي آموزش گيرندگان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Mitra"/>
              </a:rPr>
              <a:t>با استفاده از روشهاي تعيين نياز ،‏ ليستي از نيازهاي آموزش بهداشت منطقه تحت پوشش و اولويت بندي آنها ‏، نيازهاي آموزش بهداشت مخاطبين ، برنامه را مشخص نماييد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  <a:ea typeface="Mitra"/>
              </a:rPr>
              <a:t>3</a:t>
            </a:r>
            <a:r>
              <a:rPr b="0" lang="ar-SA" sz="2400" spc="-1" strike="noStrike">
                <a:solidFill>
                  <a:srgbClr val="ffff00"/>
                </a:solidFill>
                <a:latin typeface="Arial"/>
                <a:ea typeface="Mitra"/>
              </a:rPr>
              <a:t>- تعيين اهداف براي آموزش بهداشت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Mitra"/>
              </a:rPr>
              <a:t>     در اين مرحله با آگاهي كامل ازنياز آموزش گيرندگان  مشخص                                                           نماييدكه انتظار داريد چه تغييري در رفتارشان ايجاد گردد ( هدف كلي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533520" y="1149480"/>
            <a:ext cx="8229600" cy="5594400"/>
          </a:xfrm>
          <a:prstGeom prst="rect">
            <a:avLst/>
          </a:prstGeom>
          <a:solidFill>
            <a:srgbClr val="3333ff"/>
          </a:solidFill>
          <a:ln w="7632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00"/>
                </a:solidFill>
                <a:latin typeface="Arial"/>
                <a:ea typeface="Mitra"/>
              </a:rPr>
              <a:t>4</a:t>
            </a:r>
            <a:r>
              <a:rPr b="1" lang="ar-SA" sz="2400" spc="-1" strike="noStrike">
                <a:solidFill>
                  <a:srgbClr val="ffff00"/>
                </a:solidFill>
                <a:latin typeface="Arial"/>
                <a:ea typeface="Mitra"/>
              </a:rPr>
              <a:t>- تعيين اهداف اختصاصي ( جزئي 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Arial"/>
                <a:ea typeface="Mitra"/>
              </a:rPr>
              <a:t>5</a:t>
            </a:r>
            <a:r>
              <a:rPr b="1" lang="ar-SA" sz="2400" spc="-1" strike="noStrike">
                <a:solidFill>
                  <a:srgbClr val="ffff00"/>
                </a:solidFill>
                <a:latin typeface="Arial"/>
                <a:ea typeface="Mitra"/>
              </a:rPr>
              <a:t>- شناسائي منابع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Arial"/>
                <a:ea typeface="Mitra"/>
              </a:rPr>
              <a:t>6</a:t>
            </a:r>
            <a:r>
              <a:rPr b="1" lang="ar-SA" sz="2400" spc="-1" strike="noStrike">
                <a:solidFill>
                  <a:srgbClr val="ffff00"/>
                </a:solidFill>
                <a:latin typeface="Arial"/>
                <a:ea typeface="Mitra"/>
              </a:rPr>
              <a:t>- برنامه ريزي محتوا و روش برنامه به تفضيل و روش آموزشي مربوط به آن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Arial"/>
                <a:ea typeface="Mitra"/>
              </a:rPr>
              <a:t>7</a:t>
            </a:r>
            <a:r>
              <a:rPr b="1" lang="ar-SA" sz="2400" spc="-1" strike="noStrike">
                <a:solidFill>
                  <a:srgbClr val="ffff00"/>
                </a:solidFill>
                <a:latin typeface="Arial"/>
                <a:ea typeface="Mitra"/>
              </a:rPr>
              <a:t>- برنامه ريزي و تهيه  روش ارزشيابي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Arial"/>
                <a:ea typeface="Mitra"/>
              </a:rPr>
              <a:t>8</a:t>
            </a:r>
            <a:r>
              <a:rPr b="1" lang="ar-SA" sz="2400" spc="-1" strike="noStrike">
                <a:solidFill>
                  <a:srgbClr val="ffff00"/>
                </a:solidFill>
                <a:latin typeface="Arial"/>
                <a:ea typeface="Mitra"/>
              </a:rPr>
              <a:t>- اجرا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Arial"/>
                <a:ea typeface="Mitra"/>
              </a:rPr>
              <a:t>9</a:t>
            </a:r>
            <a:r>
              <a:rPr b="1" lang="ar-SA" sz="2400" spc="-1" strike="noStrike">
                <a:solidFill>
                  <a:srgbClr val="ffff00"/>
                </a:solidFill>
                <a:latin typeface="Arial"/>
                <a:ea typeface="Mitra"/>
              </a:rPr>
              <a:t>- ارزشيابي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914400" y="1398600"/>
            <a:ext cx="6705720" cy="405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96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Jadid"/>
              </a:rPr>
              <a:t>پايان</a:t>
            </a:r>
            <a:endParaRPr b="1" lang="en-US" sz="96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Jadid"/>
              <a:ea typeface="Jadi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ff"/>
                </a:solidFill>
                <a:latin typeface="Arial"/>
                <a:cs typeface="Mitra"/>
              </a:rPr>
              <a:t>تعريف کنفرانس ملی درباره پزشگی پيشگيری درايالات متحده</a:t>
            </a:r>
            <a:r>
              <a:rPr b="1" lang="fa-IR" sz="2800" spc="-1" strike="noStrike">
                <a:solidFill>
                  <a:srgbClr val="dfd293"/>
                </a:solidFill>
                <a:latin typeface="Arial"/>
                <a:ea typeface="Mitra"/>
              </a:rPr>
              <a:t> :</a:t>
            </a:r>
            <a:r>
              <a:rPr b="1" lang="fa-IR" sz="3600" spc="-1" strike="noStrike">
                <a:solidFill>
                  <a:srgbClr val="dfd293"/>
                </a:solidFill>
                <a:latin typeface="Arial"/>
                <a:ea typeface="Mitra"/>
              </a:rPr>
              <a:t> 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106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83000"/>
          </a:bodyPr>
          <a:p>
            <a:pPr marL="284400" indent="0" algn="r" rtl="1">
              <a:lnSpc>
                <a:spcPct val="2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c0400"/>
                </a:solidFill>
                <a:latin typeface="Arial"/>
                <a:cs typeface="Mitra"/>
              </a:rPr>
              <a:t>آموزش بهداشت فرآيندی است که</a:t>
            </a:r>
            <a:r>
              <a:rPr b="1" lang="fa-IR" sz="2800" spc="-1" strike="noStrike">
                <a:solidFill>
                  <a:srgbClr val="ffffff"/>
                </a:solidFill>
                <a:latin typeface="Arial"/>
                <a:ea typeface="Mitra"/>
              </a:rPr>
              <a:t> </a:t>
            </a:r>
            <a:r>
              <a:rPr b="1" lang="fa-IR" sz="2800" spc="-1" strike="noStrike">
                <a:solidFill>
                  <a:srgbClr val="800000"/>
                </a:solidFill>
                <a:latin typeface="Arial"/>
                <a:cs typeface="Mitra"/>
              </a:rPr>
              <a:t>آگاهی</a:t>
            </a:r>
            <a:r>
              <a:rPr b="1" lang="fa-IR" sz="2800" spc="-1" strike="noStrike">
                <a:solidFill>
                  <a:srgbClr val="99ff33"/>
                </a:solidFill>
                <a:latin typeface="Arial"/>
                <a:ea typeface="Mitra"/>
              </a:rPr>
              <a:t> </a:t>
            </a:r>
            <a:r>
              <a:rPr b="1" lang="fa-IR" sz="2800" spc="-1" strike="noStrike">
                <a:solidFill>
                  <a:srgbClr val="d3a219"/>
                </a:solidFill>
                <a:latin typeface="Arial"/>
                <a:cs typeface="Mitra"/>
              </a:rPr>
              <a:t>،</a:t>
            </a:r>
            <a:r>
              <a:rPr b="1" lang="fa-IR" sz="2800" spc="-1" strike="noStrike">
                <a:solidFill>
                  <a:srgbClr val="66ff33"/>
                </a:solidFill>
                <a:latin typeface="Arial"/>
                <a:ea typeface="Mitra"/>
              </a:rPr>
              <a:t> </a:t>
            </a:r>
            <a:r>
              <a:rPr b="1" lang="fa-IR" sz="2800" spc="-1" strike="noStrike">
                <a:solidFill>
                  <a:srgbClr val="ff3399"/>
                </a:solidFill>
                <a:latin typeface="Arial"/>
                <a:cs typeface="Mitra"/>
              </a:rPr>
              <a:t>انگيزه ،</a:t>
            </a:r>
            <a:r>
              <a:rPr b="1" lang="fa-IR" sz="2800" spc="-1" strike="noStrike">
                <a:solidFill>
                  <a:srgbClr val="be7960"/>
                </a:solidFill>
                <a:latin typeface="Arial"/>
                <a:ea typeface="Mitra"/>
              </a:rPr>
              <a:t> </a:t>
            </a:r>
            <a:r>
              <a:rPr b="1" lang="fa-IR" sz="2800" spc="-1" strike="noStrike">
                <a:solidFill>
                  <a:srgbClr val="ff00ff"/>
                </a:solidFill>
                <a:latin typeface="Arial"/>
                <a:cs typeface="Mitra"/>
              </a:rPr>
              <a:t>وکمک</a:t>
            </a:r>
            <a:r>
              <a:rPr b="1" lang="fa-IR" sz="2800" spc="-1" strike="noStrike">
                <a:solidFill>
                  <a:srgbClr val="be7960"/>
                </a:solidFill>
                <a:latin typeface="Arial"/>
                <a:ea typeface="Mitra"/>
              </a:rPr>
              <a:t> </a:t>
            </a:r>
            <a:r>
              <a:rPr b="1" lang="fa-IR" sz="2800" spc="-1" strike="noStrike">
                <a:solidFill>
                  <a:srgbClr val="0c0400"/>
                </a:solidFill>
                <a:latin typeface="Arial"/>
                <a:cs typeface="Mitra"/>
              </a:rPr>
              <a:t>لازم را برای در پيش</a:t>
            </a:r>
            <a:r>
              <a:rPr b="1" lang="fa-IR" sz="2800" spc="-1" strike="noStrike">
                <a:solidFill>
                  <a:srgbClr val="ffffff"/>
                </a:solidFill>
                <a:latin typeface="Arial"/>
                <a:ea typeface="Mitra"/>
              </a:rPr>
              <a:t> </a:t>
            </a:r>
            <a:r>
              <a:rPr b="1" lang="fa-IR" sz="2800" spc="-1" strike="noStrike">
                <a:solidFill>
                  <a:srgbClr val="0c0400"/>
                </a:solidFill>
                <a:latin typeface="Arial"/>
                <a:cs typeface="Mitra"/>
              </a:rPr>
              <a:t>گرفتن و نگاهداری کارهای سالم و شيوه زندگی سالم برای مردم فراهم می آورد و هواخواه دگرگونی های زيست محيطی لازم برای آسان تر رسيدن به اين هدف</a:t>
            </a:r>
            <a:r>
              <a:rPr b="1" lang="fa-IR" sz="2800" spc="-1" strike="noStrike">
                <a:solidFill>
                  <a:srgbClr val="ffffff"/>
                </a:solidFill>
                <a:latin typeface="Arial"/>
                <a:ea typeface="Mitra"/>
              </a:rPr>
              <a:t> </a:t>
            </a:r>
            <a:r>
              <a:rPr b="1" lang="fa-IR" sz="2800" spc="-1" strike="noStrike">
                <a:solidFill>
                  <a:srgbClr val="0c0400"/>
                </a:solidFill>
                <a:latin typeface="Arial"/>
                <a:cs typeface="Mitra"/>
              </a:rPr>
              <a:t>آست و آموزش و پژوهش تخصصی را در اين راستا به اجرا در مياورد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r" rtl="1">
              <a:lnSpc>
                <a:spcPct val="2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fa-IR" sz="2800" spc="-1" strike="noStrike">
                <a:solidFill>
                  <a:srgbClr val="0066ff"/>
                </a:solidFill>
                <a:latin typeface="Arial"/>
                <a:cs typeface="Mitra"/>
              </a:rPr>
              <a:t>اهداف آموزش بهداشت :</a:t>
            </a:r>
            <a:br>
              <a:rPr sz="2800"/>
            </a:br>
            <a:br>
              <a:rPr sz="2000"/>
            </a:br>
            <a:r>
              <a:rPr b="1" lang="ar-SA" sz="2000" spc="-1" strike="noStrike">
                <a:solidFill>
                  <a:srgbClr val="800000"/>
                </a:solidFill>
                <a:latin typeface="Arial"/>
                <a:ea typeface="Mitra"/>
              </a:rPr>
              <a:t>1</a:t>
            </a:r>
            <a:r>
              <a:rPr b="1" lang="fa-IR" sz="2000" spc="-1" strike="noStrike">
                <a:solidFill>
                  <a:srgbClr val="800000"/>
                </a:solidFill>
                <a:latin typeface="Arial"/>
                <a:ea typeface="Mitra"/>
              </a:rPr>
              <a:t>- آگاه کردن مردم :</a:t>
            </a:r>
            <a:r>
              <a:rPr b="1" lang="fa-IR" sz="2000" spc="-1" strike="noStrike">
                <a:solidFill>
                  <a:srgbClr val="ff66cc"/>
                </a:solidFill>
                <a:latin typeface="Arial"/>
                <a:ea typeface="Mitra"/>
              </a:rPr>
              <a:t>  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Mitra"/>
              </a:rPr>
              <a:t>آگاهی يافتن، نادانی و پيش داوری و پندار نادرست را از بين ميبرد که رفع آنها موجب توجه به نيازهای بهداشتی می شود .</a:t>
            </a:r>
            <a:br>
              <a:rPr sz="2000"/>
            </a:br>
            <a:br>
              <a:rPr sz="2000"/>
            </a:br>
            <a:r>
              <a:rPr b="1" lang="fa-IR" sz="2000" spc="-1" strike="noStrike">
                <a:solidFill>
                  <a:srgbClr val="3333ff"/>
                </a:solidFill>
                <a:latin typeface="Arial"/>
                <a:ea typeface="Mitra"/>
              </a:rPr>
              <a:t>2</a:t>
            </a:r>
            <a:r>
              <a:rPr b="1" lang="fa-IR" sz="2000" spc="-1" strike="noStrike">
                <a:solidFill>
                  <a:srgbClr val="3333ff"/>
                </a:solidFill>
                <a:latin typeface="Arial"/>
                <a:ea typeface="Mitra"/>
              </a:rPr>
              <a:t>- ايجاد انگيزه در مردم :</a:t>
            </a:r>
            <a:r>
              <a:rPr b="1" lang="fa-IR" sz="2000" spc="-1" strike="noStrike">
                <a:solidFill>
                  <a:srgbClr val="ff66cc"/>
                </a:solidFill>
                <a:latin typeface="Arial"/>
                <a:ea typeface="Mitra"/>
              </a:rPr>
              <a:t> </a:t>
            </a:r>
            <a:br>
              <a:rPr sz="2000"/>
            </a:br>
            <a:r>
              <a:rPr b="1" lang="fa-IR" sz="2000" spc="-1" strike="noStrike">
                <a:solidFill>
                  <a:srgbClr val="ff66cc"/>
                </a:solidFill>
                <a:latin typeface="Arial"/>
                <a:ea typeface="Mitr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Mitra"/>
              </a:rPr>
              <a:t>الف) مهمتر از هدف اول است </a:t>
            </a:r>
            <a:br>
              <a:rPr sz="2000"/>
            </a:b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Mitra"/>
              </a:rPr>
              <a:t> ب)  بايد مردم علاقه مند به تغئير روش زندگی شوند </a:t>
            </a:r>
            <a:br>
              <a:rPr sz="2000"/>
            </a:b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Mitra"/>
              </a:rPr>
              <a:t>  ج) مردم بايد علاقه مند شوند که چه اقدام بهداشتی را چه موقع ودر چه شرايطی به انجام رساند </a:t>
            </a:r>
            <a:br>
              <a:rPr sz="2000"/>
            </a:br>
            <a:br>
              <a:rPr sz="2000"/>
            </a:br>
            <a:r>
              <a:rPr b="1" lang="fa-IR" sz="2000" spc="-1" strike="noStrike">
                <a:solidFill>
                  <a:srgbClr val="ff3399"/>
                </a:solidFill>
                <a:latin typeface="Arial"/>
                <a:ea typeface="Mitra"/>
              </a:rPr>
              <a:t>3</a:t>
            </a:r>
            <a:r>
              <a:rPr b="1" lang="fa-IR" sz="2000" spc="-1" strike="noStrike">
                <a:solidFill>
                  <a:srgbClr val="ff3399"/>
                </a:solidFill>
                <a:latin typeface="Arial"/>
                <a:ea typeface="Mitra"/>
              </a:rPr>
              <a:t>- راهنمايی جهت اقدام :</a:t>
            </a:r>
            <a:r>
              <a:rPr b="1" lang="fa-IR" sz="2000" spc="-1" strike="noStrike">
                <a:solidFill>
                  <a:srgbClr val="ff66cc"/>
                </a:solidFill>
                <a:latin typeface="Arial"/>
                <a:ea typeface="Mitr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Mitra"/>
              </a:rPr>
              <a:t>مردم برای در پيش گرفتن کارهای بهداشتی وشيوه زندگی بهداشتی وادامه آنها نياز به کمک دارند زيرا همه اينها ممکن است برای مردم تازه باشد </a:t>
            </a:r>
            <a:br>
              <a:rPr sz="2000"/>
            </a:br>
            <a:endParaRPr b="0" lang="en-US" sz="20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457200" y="225360"/>
            <a:ext cx="82296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3399"/>
                </a:solidFill>
                <a:latin typeface="Arial"/>
                <a:cs typeface="Mitra"/>
              </a:rPr>
              <a:t>وسايل دستيابی به بهداشت همگانی :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26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333ff"/>
                </a:solidFill>
                <a:latin typeface="Arial"/>
                <a:ea typeface="Mitra"/>
              </a:rPr>
              <a:t>1</a:t>
            </a:r>
            <a:r>
              <a:rPr b="1" lang="fa-IR" sz="2400" spc="-1" strike="noStrike">
                <a:solidFill>
                  <a:srgbClr val="3333ff"/>
                </a:solidFill>
                <a:latin typeface="Arial"/>
                <a:ea typeface="Mitra"/>
              </a:rPr>
              <a:t>- وسايل قانونی  :</a:t>
            </a:r>
            <a:r>
              <a:rPr b="1" lang="fa-IR" sz="2400" spc="-1" strike="noStrike">
                <a:solidFill>
                  <a:srgbClr val="5c1f00"/>
                </a:solidFill>
                <a:latin typeface="Arial"/>
                <a:ea typeface="Mitr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5c1f00"/>
                </a:solidFill>
                <a:latin typeface="Arial"/>
                <a:ea typeface="Mitra"/>
              </a:rPr>
              <a:t>      اجرای قوانين در اين موارد مد نظر است  مانند قانون بيماري های واگير ، قانون تقلب در خوراکي ها و...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5c1f00"/>
                </a:solidFill>
                <a:latin typeface="Arial"/>
                <a:ea typeface="Mitra"/>
              </a:rPr>
              <a:t>      اين قانون ها در موارد فوری يا موقعيت های محدود ممکن است مفيدباشند ولي گمان نمی رود که بتواند رفتار مردم را دگرگون سازند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5c1f00"/>
                </a:solidFill>
                <a:latin typeface="Arial"/>
                <a:ea typeface="Mitra"/>
              </a:rPr>
              <a:t>      وسايل قانونی نيازمند يک ماشين اجرائی بزرگ قانون اند و هزينه گزافی می خواهند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solidFill>
            <a:srgbClr val="ffff00"/>
          </a:solidFill>
          <a:ln cap="rnd" w="76320">
            <a:solidFill>
              <a:srgbClr val="3333ff"/>
            </a:solidFill>
            <a:custDash>
              <a:ds d="100000" sp="1000"/>
            </a:custDash>
            <a:miter/>
          </a:ln>
        </p:spPr>
        <p:txBody>
          <a:bodyPr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800000"/>
                </a:solidFill>
                <a:latin typeface="Arial"/>
                <a:ea typeface="Mitra"/>
              </a:rPr>
              <a:t>2</a:t>
            </a:r>
            <a:r>
              <a:rPr b="1" lang="fa-IR" sz="2400" spc="-1" strike="noStrike">
                <a:solidFill>
                  <a:srgbClr val="800000"/>
                </a:solidFill>
                <a:latin typeface="Arial"/>
                <a:ea typeface="Mitra"/>
              </a:rPr>
              <a:t>- وسايل خدماتی : </a:t>
            </a:r>
            <a:br>
              <a:rPr sz="2400"/>
            </a:br>
            <a:r>
              <a:rPr b="1" lang="fa-IR" sz="2400" spc="-1" strike="noStrike">
                <a:solidFill>
                  <a:srgbClr val="800000"/>
                </a:solidFill>
                <a:latin typeface="Arial"/>
                <a:cs typeface="Mitra"/>
              </a:rPr>
              <a:t>هر گاه خدمات بر پايه نيازهای ملموس مردم نباشد پيروز نمی شود </a:t>
            </a:r>
            <a:br>
              <a:rPr sz="2400"/>
            </a:br>
            <a:r>
              <a:rPr b="1" lang="fa-IR" sz="2400" spc="-1" strike="noStrike">
                <a:solidFill>
                  <a:srgbClr val="800000"/>
                </a:solidFill>
                <a:latin typeface="Arial"/>
                <a:cs typeface="Mitra"/>
              </a:rPr>
              <a:t>ممکن است بتوان خدمات رايگان برای مردم فراهم کرد ولی بکار گيری خدمات ارايه شده را نمی توان تضمين کرد </a:t>
            </a:r>
            <a:br>
              <a:rPr sz="2400"/>
            </a:br>
            <a:br>
              <a:rPr sz="2400"/>
            </a:br>
            <a:r>
              <a:rPr b="1" lang="fa-IR" sz="2400" spc="-1" strike="noStrike">
                <a:solidFill>
                  <a:srgbClr val="800000"/>
                </a:solidFill>
                <a:latin typeface="Arial"/>
                <a:ea typeface="Mitra"/>
              </a:rPr>
              <a:t>3</a:t>
            </a:r>
            <a:r>
              <a:rPr b="1" lang="fa-IR" sz="2400" spc="-1" strike="noStrike">
                <a:solidFill>
                  <a:srgbClr val="800000"/>
                </a:solidFill>
                <a:latin typeface="Arial"/>
                <a:ea typeface="Mitra"/>
              </a:rPr>
              <a:t>- وسايل آموزشی  : </a:t>
            </a:r>
            <a:br>
              <a:rPr sz="2400"/>
            </a:br>
            <a:r>
              <a:rPr b="1" lang="fa-IR" sz="2400" spc="-1" strike="noStrike">
                <a:solidFill>
                  <a:srgbClr val="800000"/>
                </a:solidFill>
                <a:latin typeface="Arial"/>
                <a:cs typeface="Mitra"/>
              </a:rPr>
              <a:t>نتايج اين روش هرچند به کندی بدست می آيد ولی پايدار و ماندنی است </a:t>
            </a:r>
            <a:br>
              <a:rPr sz="2400"/>
            </a:br>
            <a:r>
              <a:rPr b="1" lang="fa-IR" sz="2400" spc="-1" strike="noStrike">
                <a:solidFill>
                  <a:srgbClr val="800000"/>
                </a:solidFill>
                <a:latin typeface="Arial"/>
                <a:cs typeface="Mitra"/>
              </a:rPr>
              <a:t>برخی دشواريهای بهداشتی را تنها از راه آموزش می توان حل کرد مانند دشواريهای تغذيه ای ، مراقبت شير خواران و کودکان  ، تنظيم خانواده </a:t>
            </a:r>
            <a:br>
              <a:rPr sz="2400"/>
            </a:b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63640" y="274680"/>
            <a:ext cx="5832720" cy="706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99ff33"/>
                </a:solidFill>
                <a:latin typeface="Arial"/>
                <a:cs typeface="Mitra"/>
              </a:rPr>
              <a:t>آموزش بهداشت در برابر تبليغات</a:t>
            </a:r>
            <a:r>
              <a:rPr b="1" lang="fa-IR" sz="1600" spc="-1" strike="noStrike">
                <a:solidFill>
                  <a:srgbClr val="99ff33"/>
                </a:solidFill>
                <a:latin typeface="Arial"/>
                <a:ea typeface="Mitra"/>
              </a:rPr>
              <a:t> :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Mitra"/>
              </a:rPr>
              <a:t> </a:t>
            </a:r>
            <a:endParaRPr b="0" lang="en-US" sz="1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7720" y="980640"/>
            <a:ext cx="7696440" cy="5496120"/>
          </a:xfrm>
          <a:prstGeom prst="rect">
            <a:avLst/>
          </a:prstGeom>
          <a:solidFill>
            <a:srgbClr val="ff3399"/>
          </a:solidFill>
          <a:ln cap="rnd" w="76320">
            <a:solidFill>
              <a:srgbClr val="ff3399"/>
            </a:solidFill>
            <a:custDash>
              <a:ds d="100000" sp="1000"/>
            </a:custDash>
            <a:miter/>
          </a:ln>
        </p:spPr>
        <p:txBody>
          <a:bodyPr lIns="128160" rIns="128160" tIns="84960" bIns="8496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  <a:ea typeface="Mitra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5878440" y="141300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Mitra"/>
              </a:rPr>
              <a:t>      آموزش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1774800" y="1413000"/>
            <a:ext cx="17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Mitra"/>
              </a:rPr>
              <a:t>        تبليغات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4799160" y="1844640"/>
            <a:ext cx="33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Mitra"/>
              </a:rPr>
              <a:t>دانش ومهارت به طور فعال بدست ميايد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2"/>
          <p:cNvSpPr/>
          <p:nvPr/>
        </p:nvSpPr>
        <p:spPr>
          <a:xfrm>
            <a:off x="911160" y="1844640"/>
            <a:ext cx="3667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3"/>
          <p:cNvSpPr/>
          <p:nvPr/>
        </p:nvSpPr>
        <p:spPr>
          <a:xfrm>
            <a:off x="982800" y="1844640"/>
            <a:ext cx="35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Mitra"/>
              </a:rPr>
              <a:t>آگاهی  به مغز افراد فرو می شود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5"/>
          <p:cNvSpPr/>
          <p:nvPr/>
        </p:nvSpPr>
        <p:spPr>
          <a:xfrm>
            <a:off x="4870440" y="2421000"/>
            <a:ext cx="323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Mitra"/>
              </a:rPr>
              <a:t>مردم را به تفکر در باره خود وا ميدارد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26"/>
          <p:cNvSpPr/>
          <p:nvPr/>
        </p:nvSpPr>
        <p:spPr>
          <a:xfrm>
            <a:off x="567360" y="2496960"/>
            <a:ext cx="485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Mitra"/>
              </a:rPr>
              <a:t>با شعارهای پيش ساخته از تفکر جلوگيری ميکند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28"/>
          <p:cNvSpPr/>
          <p:nvPr/>
        </p:nvSpPr>
        <p:spPr>
          <a:xfrm>
            <a:off x="4654440" y="2997360"/>
            <a:ext cx="338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Mitra"/>
              </a:rPr>
              <a:t>رفتار انعکاسی بوجود ميآورد ( داوری 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31"/>
          <p:cNvSpPr/>
          <p:nvPr/>
        </p:nvSpPr>
        <p:spPr>
          <a:xfrm>
            <a:off x="838080" y="2997360"/>
            <a:ext cx="330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Mitra"/>
              </a:rPr>
              <a:t>رفتارواکنشی با هدف اقدامات آنی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33"/>
          <p:cNvSpPr/>
          <p:nvPr/>
        </p:nvSpPr>
        <p:spPr>
          <a:xfrm>
            <a:off x="4943520" y="3500280"/>
            <a:ext cx="31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Mitra"/>
              </a:rPr>
              <a:t>ازمنطق پيروی می کند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4"/>
          <p:cNvSpPr/>
          <p:nvPr/>
        </p:nvSpPr>
        <p:spPr>
          <a:xfrm>
            <a:off x="766800" y="3573360"/>
            <a:ext cx="35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Mitra"/>
              </a:rPr>
              <a:t>   از هيجانات پيروی می کند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5"/>
          <p:cNvSpPr/>
          <p:nvPr/>
        </p:nvSpPr>
        <p:spPr>
          <a:xfrm>
            <a:off x="4799160" y="4005360"/>
            <a:ext cx="345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Mitra"/>
              </a:rPr>
              <a:t>شخصيت و صراحت عقيده بوجود می اورد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36"/>
          <p:cNvSpPr/>
          <p:nvPr/>
        </p:nvSpPr>
        <p:spPr>
          <a:xfrm>
            <a:off x="838080" y="4005360"/>
            <a:ext cx="330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Mitra"/>
              </a:rPr>
              <a:t>رفتار معين از پيش تعيين شده پديد ميآورد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37"/>
          <p:cNvSpPr/>
          <p:nvPr/>
        </p:nvSpPr>
        <p:spPr>
          <a:xfrm>
            <a:off x="4799160" y="4508640"/>
            <a:ext cx="345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Mitra"/>
              </a:rPr>
              <a:t>آگاهی از طريق اتکای به خود بدست ميآيد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8"/>
          <p:cNvSpPr/>
          <p:nvPr/>
        </p:nvSpPr>
        <p:spPr>
          <a:xfrm>
            <a:off x="911160" y="4508640"/>
            <a:ext cx="359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Mitra"/>
              </a:rPr>
              <a:t>آگاهی بصورت انفعالی به خورد مردم ميدهد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40"/>
          <p:cNvSpPr/>
          <p:nvPr/>
        </p:nvSpPr>
        <p:spPr>
          <a:xfrm>
            <a:off x="4943520" y="5373720"/>
            <a:ext cx="3163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Mitra"/>
              </a:rPr>
              <a:t>فرآيند آموزش رفتار را در نظر می گيرد و هدف آن ايجاد بينش ها ، عادات و مهارت های خوب است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1"/>
          <p:cNvSpPr/>
          <p:nvPr/>
        </p:nvSpPr>
        <p:spPr>
          <a:xfrm>
            <a:off x="1054080" y="5445000"/>
            <a:ext cx="323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Mitra"/>
              </a:rPr>
              <a:t>فرآيند تبليغ دادن آگاهی را در نظر می گيرد و طرحی برای تغيير بينش و رفتار ندارد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32000" y="609480"/>
            <a:ext cx="4259520" cy="6588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99ff33"/>
                </a:solidFill>
                <a:latin typeface="Arial"/>
                <a:cs typeface="Mitra"/>
              </a:rPr>
              <a:t>محتوای آموزش بهداشت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752120"/>
            <a:ext cx="8686800" cy="480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333ff"/>
                </a:solidFill>
                <a:latin typeface="Arial"/>
                <a:cs typeface="Mitra"/>
              </a:rPr>
              <a:t>می توان آموزش بهداشت را به لحاظ محتوا در </a:t>
            </a:r>
            <a:r>
              <a:rPr b="1" lang="fa-IR" sz="2400" spc="-1" strike="noStrike">
                <a:solidFill>
                  <a:srgbClr val="3333ff"/>
                </a:solidFill>
                <a:latin typeface="Arial"/>
                <a:ea typeface="Mitra"/>
              </a:rPr>
              <a:t>8</a:t>
            </a:r>
            <a:r>
              <a:rPr b="1" lang="fa-IR" sz="2400" spc="-1" strike="noStrike">
                <a:solidFill>
                  <a:srgbClr val="3333ff"/>
                </a:solidFill>
                <a:latin typeface="Arial"/>
                <a:ea typeface="Mitra"/>
              </a:rPr>
              <a:t> بخش عمده بيان داش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333ff"/>
                </a:solidFill>
                <a:latin typeface="Arial"/>
                <a:ea typeface="Mitra"/>
              </a:rPr>
              <a:t>1</a:t>
            </a:r>
            <a:r>
              <a:rPr b="1" lang="fa-IR" sz="2400" spc="-1" strike="noStrike">
                <a:solidFill>
                  <a:srgbClr val="3333ff"/>
                </a:solidFill>
                <a:latin typeface="Arial"/>
                <a:ea typeface="Mitra"/>
              </a:rPr>
              <a:t>- زيست شناسی انس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333ff"/>
                </a:solidFill>
                <a:latin typeface="Arial"/>
                <a:ea typeface="Mitra"/>
              </a:rPr>
              <a:t>2</a:t>
            </a:r>
            <a:r>
              <a:rPr b="1" lang="fa-IR" sz="2400" spc="-1" strike="noStrike">
                <a:solidFill>
                  <a:srgbClr val="3333ff"/>
                </a:solidFill>
                <a:latin typeface="Arial"/>
                <a:ea typeface="Mitra"/>
              </a:rPr>
              <a:t>- تغذيه  :  اهدا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442440" y="2997360"/>
            <a:ext cx="6732360" cy="2868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00"/>
                </a:solidFill>
                <a:latin typeface="Arial"/>
                <a:ea typeface="Mitra"/>
              </a:rPr>
              <a:t>1</a:t>
            </a:r>
            <a:r>
              <a:rPr b="1" lang="fa-IR" sz="2000" spc="-1" strike="noStrike">
                <a:solidFill>
                  <a:srgbClr val="ffff00"/>
                </a:solidFill>
                <a:latin typeface="Arial"/>
                <a:ea typeface="Mitra"/>
              </a:rPr>
              <a:t>- راهنمائی مردم برای بهترين و متعادلترين رژيم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00"/>
                </a:solidFill>
                <a:latin typeface="Arial"/>
                <a:ea typeface="Mitra"/>
              </a:rPr>
              <a:t>2</a:t>
            </a:r>
            <a:r>
              <a:rPr b="1" lang="fa-IR" sz="2000" spc="-1" strike="noStrike">
                <a:solidFill>
                  <a:srgbClr val="ffff00"/>
                </a:solidFill>
                <a:latin typeface="Arial"/>
                <a:ea typeface="Mitra"/>
              </a:rPr>
              <a:t>- آموزش در باره ارزش غذائی خوراکي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Mitra"/>
              </a:rPr>
              <a:t> </a:t>
            </a:r>
            <a:r>
              <a:rPr b="1" lang="fa-IR" sz="2000" spc="-1" strike="noStrike">
                <a:solidFill>
                  <a:srgbClr val="ffff00"/>
                </a:solidFill>
                <a:latin typeface="Arial"/>
                <a:cs typeface="Mitra"/>
              </a:rPr>
              <a:t>ها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00"/>
                </a:solidFill>
                <a:latin typeface="Arial"/>
                <a:ea typeface="Mitra"/>
              </a:rPr>
              <a:t>3</a:t>
            </a:r>
            <a:r>
              <a:rPr b="1" lang="fa-IR" sz="2000" spc="-1" strike="noStrike">
                <a:solidFill>
                  <a:srgbClr val="ffff00"/>
                </a:solidFill>
                <a:latin typeface="Arial"/>
                <a:ea typeface="Mitra"/>
              </a:rPr>
              <a:t>- آموزش درباره چگونگی فراهم سازی ، پختن ،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00"/>
                </a:solidFill>
                <a:latin typeface="Arial"/>
                <a:cs typeface="Mitra"/>
              </a:rPr>
              <a:t>نگاهداری ،  پذيرائی وخوردن خوراکی ها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00"/>
                </a:solidFill>
                <a:latin typeface="Arial"/>
                <a:ea typeface="Mitra"/>
              </a:rPr>
              <a:t>4</a:t>
            </a:r>
            <a:r>
              <a:rPr b="1" lang="fa-IR" sz="2000" spc="-1" strike="noStrike">
                <a:solidFill>
                  <a:srgbClr val="ffff00"/>
                </a:solidFill>
                <a:latin typeface="Arial"/>
                <a:ea typeface="Mitra"/>
              </a:rPr>
              <a:t>- عدم ارائه سخنان نامفهوم تخصصی در مورد غذاها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00"/>
                </a:solidFill>
                <a:latin typeface="Arial"/>
                <a:ea typeface="Mitra"/>
              </a:rPr>
              <a:t>5</a:t>
            </a:r>
            <a:r>
              <a:rPr b="1" lang="fa-IR" sz="2000" spc="-1" strike="noStrike">
                <a:solidFill>
                  <a:srgbClr val="ffff00"/>
                </a:solidFill>
                <a:latin typeface="Arial"/>
                <a:ea typeface="Mitra"/>
              </a:rPr>
              <a:t>- آموزش اينکه خوراک</a:t>
            </a:r>
            <a:r>
              <a:rPr b="1" lang="ar-SA" sz="2000" spc="-1" strike="noStrike">
                <a:solidFill>
                  <a:srgbClr val="ffff00"/>
                </a:solidFill>
                <a:latin typeface="Arial"/>
                <a:cs typeface="Mitra"/>
              </a:rPr>
              <a:t>ي </a:t>
            </a:r>
            <a:r>
              <a:rPr b="1" lang="fa-IR" sz="2000" spc="-1" strike="noStrike">
                <a:solidFill>
                  <a:srgbClr val="ffff00"/>
                </a:solidFill>
                <a:latin typeface="Arial"/>
                <a:cs typeface="Mitra"/>
              </a:rPr>
              <a:t>های گرانبها الزاما مغذی تر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00"/>
                </a:solidFill>
                <a:latin typeface="Arial"/>
                <a:cs typeface="Mitra"/>
              </a:rPr>
              <a:t>نيستن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8"/>
          <p:cNvSpPr/>
          <p:nvPr/>
        </p:nvSpPr>
        <p:spPr>
          <a:xfrm>
            <a:off x="6477120" y="3276720"/>
            <a:ext cx="380880" cy="990360"/>
          </a:xfrm>
          <a:custGeom>
            <a:avLst/>
            <a:gdLst>
              <a:gd name="textAreaLeft" fmla="*/ 50760 w 380880"/>
              <a:gd name="textAreaRight" fmla="*/ 330120 w 380880"/>
              <a:gd name="textAreaTop" fmla="*/ 173160 h 990360"/>
              <a:gd name="textAreaBottom" fmla="*/ 718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2T18:23:33Z</dcterms:created>
  <dc:creator>Erfanian</dc:creator>
  <dc:description/>
  <dc:language>en-US</dc:language>
  <cp:lastModifiedBy>erfanianmr</cp:lastModifiedBy>
  <dcterms:modified xsi:type="dcterms:W3CDTF">2014-02-19T05:36:46Z</dcterms:modified>
  <cp:revision>270</cp:revision>
  <dc:subject/>
  <dc:title>                        آموزش بهداشت </dc:title>
</cp:coreProperties>
</file>