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264-E032-460B-9319-9D44EC53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F8D-870E-482C-AB29-4E0B9DD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A9B-DD26-429C-9F38-522A9973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949-C3D9-47E5-BF68-AC4350A0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EC7E-1B24-46C3-A193-9D5A9B1F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293-3B26-47FB-BC71-07EED56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978-5690-4035-94C9-AF988CC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D709-B546-44A6-BEE1-46ABD50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C67-86FA-43B6-A308-5ABD2D0C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876-A636-42FF-868D-8635AF89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BA57-F794-4F1E-945D-1E7954D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09C-1EDD-4B5D-91EF-221BB7DB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031E-C749-4AB7-9847-7E075F7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9FE-5737-46D0-9F7B-30898CC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8D3-33A6-4510-85F0-915A7445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276-B5BA-41C4-9555-0D6F0B1C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D853-B4C4-42B9-9728-67BCE0B6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B38-58B3-4D9D-98B5-E1BAF366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9E9-DC8E-4807-8520-ACB843D7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D0F-DE02-4CA5-B758-3516818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FD8-5E3C-482F-B2FE-083C18C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986-0EFD-4AF4-B711-7956AFA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8C9-32D4-4A3B-B308-98AB3E4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C48-5E92-4E0A-AE6F-191CCFF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6F37-2D96-4DBB-ACC0-A3F8AE983FA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6DE-21C1-4991-98DF-7128690A986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زبان ماشین و اسمبلی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</a:t>
            </a: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 درس هفت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دستورات كنترل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771A-13CE-4D88-80C5-3D7E94FB4FA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رنامه ای بنویسید که بدون استفاده از دستورالعمل ضرب دو متغی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را در هم ضرب کرده حاصل را د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ذخیره نماید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هشت بیتی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شانزده بیتی اس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95280" y="4191120"/>
            <a:ext cx="411480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x=10,y=5,sum=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=x; i&gt;0;i-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+=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7FE3-B026-4AE2-BAD5-828378565D7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447920" y="152280"/>
            <a:ext cx="655308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cks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segment  stack  ‘stac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w   320h  dup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ckse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447920" y="2666880"/>
            <a:ext cx="6476760" cy="3353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sg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  ‘dat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X   db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   db  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Z   dw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s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D386-A201-4F2D-A332-9778B5E115D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143000" y="533520"/>
            <a:ext cx="7010280" cy="6172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des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segment  ‘code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ume ss:stacksg,ds:datasg , cs:code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n                 proc 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 ax,data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 ds,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ov al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ov al,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ov  cx,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: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dd   z, a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op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 ax,4c00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 21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n                en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des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e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 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457200" y="4572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 flipV="1">
            <a:off x="4572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457200" y="3657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پرش شرط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ین دستورات از فلگ ها اثر می پذیرن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قبل از این دستورات پردازش لازم جهت تغییر فلگ ها انجام میشو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899760" y="460836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ستورات پرش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6477120" y="3581280"/>
            <a:ext cx="380880" cy="2514600"/>
          </a:xfrm>
          <a:custGeom>
            <a:avLst/>
            <a:gdLst>
              <a:gd name="textAreaLeft" fmla="*/ 0 w 380880"/>
              <a:gd name="textAreaRight" fmla="*/ 13752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940280" y="36180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بتنی بر فلگ ه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717800" y="46623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برای اعداد علامتدا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620960" y="55990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برای اعداد بی علام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پرش </a:t>
            </a:r>
            <a:r>
              <a:rPr b="1" lang="fa-IR" sz="4400" spc="-1" strike="noStrike">
                <a:solidFill>
                  <a:srgbClr val="ffffff"/>
                </a:solidFill>
                <a:latin typeface="Times New Roman"/>
              </a:rPr>
              <a:t>مبتنی بر فلگ ها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62120" y="190512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 SIGN (NEGATI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762120" y="243828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NOT SIGN (POSITI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762120" y="297180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CAR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62120" y="350532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NOT CAR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762120" y="403848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OVER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762120" y="457200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NOT OVER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762120" y="510552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P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762120" y="5638680"/>
            <a:ext cx="32004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NOT P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4191120" y="190512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4191120" y="243828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4191120" y="29718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191120" y="350532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4191120" y="403848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4191120" y="45720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4191120" y="510552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4191120" y="563868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6400800" y="190512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6400800" y="243828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6400800" y="29718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6400800" y="350532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400800" y="403848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400800" y="45720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6"/>
          <p:cNvSpPr/>
          <p:nvPr/>
        </p:nvSpPr>
        <p:spPr>
          <a:xfrm>
            <a:off x="6400800" y="510552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6400800" y="563868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پرش برای اعداد بی علام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533520" y="1981080"/>
            <a:ext cx="2819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 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533520" y="2514600"/>
            <a:ext cx="2819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NOT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533520" y="3048120"/>
            <a:ext cx="2819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ABO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533520" y="3581280"/>
            <a:ext cx="2819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 ABOVE OR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533520" y="4114800"/>
            <a:ext cx="2819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BE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33520" y="4648320"/>
            <a:ext cx="2819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BELOW OR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3657600" y="1981080"/>
            <a:ext cx="1371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8"/>
          <p:cNvSpPr/>
          <p:nvPr/>
        </p:nvSpPr>
        <p:spPr>
          <a:xfrm>
            <a:off x="3657600" y="2514600"/>
            <a:ext cx="1371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9"/>
          <p:cNvSpPr/>
          <p:nvPr/>
        </p:nvSpPr>
        <p:spPr>
          <a:xfrm>
            <a:off x="3657600" y="3048120"/>
            <a:ext cx="1371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3657600" y="3581280"/>
            <a:ext cx="1371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1"/>
          <p:cNvSpPr/>
          <p:nvPr/>
        </p:nvSpPr>
        <p:spPr>
          <a:xfrm>
            <a:off x="3657600" y="4114800"/>
            <a:ext cx="1371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42"/>
          <p:cNvSpPr/>
          <p:nvPr/>
        </p:nvSpPr>
        <p:spPr>
          <a:xfrm>
            <a:off x="3657600" y="4648320"/>
            <a:ext cx="1371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4"/>
          <p:cNvSpPr/>
          <p:nvPr/>
        </p:nvSpPr>
        <p:spPr>
          <a:xfrm>
            <a:off x="5562720" y="198108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=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5562720" y="25146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#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5562720" y="304812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gt;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7"/>
          <p:cNvSpPr/>
          <p:nvPr/>
        </p:nvSpPr>
        <p:spPr>
          <a:xfrm>
            <a:off x="5562720" y="358128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gt;=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8"/>
          <p:cNvSpPr/>
          <p:nvPr/>
        </p:nvSpPr>
        <p:spPr>
          <a:xfrm>
            <a:off x="5562720" y="41148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lt;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9"/>
          <p:cNvSpPr/>
          <p:nvPr/>
        </p:nvSpPr>
        <p:spPr>
          <a:xfrm>
            <a:off x="5562720" y="464832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lt;=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پرش برای اعداد علامتدا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80880" y="2133720"/>
            <a:ext cx="30481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80880" y="2666880"/>
            <a:ext cx="30481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NOT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80880" y="3200400"/>
            <a:ext cx="30481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GRE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0880" y="3733920"/>
            <a:ext cx="30481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 GREATER OR EQ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80880" y="4267080"/>
            <a:ext cx="30481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80880" y="4800600"/>
            <a:ext cx="30481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MP LESS OR EQ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5562720" y="213372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=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562720" y="266688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#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5562720" y="32004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gt;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5562720" y="373392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gt;=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5562720" y="426708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lt;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5562720" y="48006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&lt;=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3581280" y="2133720"/>
            <a:ext cx="17528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3581280" y="2666880"/>
            <a:ext cx="17528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3581280" y="3200400"/>
            <a:ext cx="17528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3581280" y="3733920"/>
            <a:ext cx="17528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581280" y="4267080"/>
            <a:ext cx="17528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3581280" y="4800600"/>
            <a:ext cx="17528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380880" y="304920"/>
            <a:ext cx="8153640" cy="6248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          1- Define stack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          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KSG SEGMENT STACK 'STACK'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 32H DUP(0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32H word for 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KSG ENDS            ; End of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 Define data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SG SEG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'DATA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 'IT IS TOO HOT','$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 1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 20,30,32,20,12,40,15,8,12,2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S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End of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           3- Define code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           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ESG  SEGMENT  'CODE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 SS:STACKSG,DS:DATASG,CS:CODE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 FAR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DATASG ;1-Initialize 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S,AX     ;2-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457200" y="304920"/>
            <a:ext cx="8305920" cy="6400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 DI,ARRAY            ;3-DI= address of AR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 CX,10     ;4-CX= 10 as a 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 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;5-Decremnet poi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AI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 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;6-Increment poi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P BYTE PTR [DI],40           ;7- Compare [DI] &amp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PNE AGAIN                   ;8- 40 go AGAIN, not eq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NE EXIT                              ;9-If not equal go 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 AH,09                          ;10- Else print MESSAG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 DX,MESSAGE              ;11- IT SI TOO HOT 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 21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;12-   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:   MOV AX,4C00H                    ;13- End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 21H                                     ;14-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    ENDP          ; End of proced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DESG  ENDS          ; End of 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MAIN      ; End of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نکات مه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مامی دستورات پرشی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هستند یعنی حداکثر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127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ایت پایین تر یا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ایت بالاتر پرش می کنن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دستورات پرشی دیگری هم وجود دارد که همین اعمال را انجام میدهن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رای پرش های دورتر باید این کار را برنامه نویس انجام ده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دستورات پرش بر روی فلگها تاثیر ندارن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کنترل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نشعاب غیرشرط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مشابه دستو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نشعاب شرط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مشابه با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304920" y="228600"/>
            <a:ext cx="8153280" cy="6324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MODEL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STACK  64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Define 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DA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Define data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 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C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Define code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   PROC 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@data    ;1- Set data se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DS,AX       ;2-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BL,FI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3-BL=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L,SECO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4-CL=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L,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5-AL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AL,B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6-AL=AL+B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 B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7-BL=BL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P BL,C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8-Cmopare BL &amp; CL,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E AGA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9- BL &lt;= CL go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304920" y="533520"/>
            <a:ext cx="8305560" cy="2133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AG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4C00H    ;10-End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21H         ;11- proce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   ENDP            ; End of proced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MAIN        ; End of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JCXZ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33520" y="2286000"/>
            <a:ext cx="29718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CX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57200" y="3505320"/>
            <a:ext cx="76960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P  if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1523880" y="4724280"/>
            <a:ext cx="59436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ر اغلب موارد از رجیست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X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به عنئان شمارنده حلقه ها استفاده میشو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سابروتی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85800" y="1676520"/>
            <a:ext cx="3962520" cy="4647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NAME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NAME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5562720" y="1600200"/>
            <a:ext cx="3276360" cy="472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: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C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472428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روال فراخوانی سابروتی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ذخیره آدرس بازگشت در پش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98240" y="42274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انواع سابروتی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6858000" y="3200400"/>
            <a:ext cx="609480" cy="2514600"/>
          </a:xfrm>
          <a:custGeom>
            <a:avLst/>
            <a:gdLst>
              <a:gd name="textAreaLeft" fmla="*/ 0 w 609480"/>
              <a:gd name="textAreaRight" fmla="*/ 219960 w 6094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6193440" y="3465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218280" y="5294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3200400" y="34290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3276720" y="52578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1447920" y="5257800"/>
            <a:ext cx="17524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57200" y="228600"/>
            <a:ext cx="7467480" cy="6324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segment  ‘code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ss:stacksg,ds:datasg , cs:codes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  :                proc f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 ax,datas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 ds,a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 ax,4c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                en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m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914400" y="4648320"/>
            <a:ext cx="464832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DURE DECL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838080" y="2514600"/>
            <a:ext cx="662940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 PROGRAM ( CALL PROCEDUR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457200" y="228600"/>
            <a:ext cx="7467480" cy="6324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des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segment  ‘code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ume ss:stacksg,ds:datasg , cs:codes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 :                proc f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ax,datas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ds,a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 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ax,4c00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21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               en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PROC   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***********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***********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EN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PROC   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***********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***********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EN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des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en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زاياي استفاده از رو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عداد دستورات برنامه حداقل مي شود(بدليل فراخواني روال از محل هاي مختلف سگمنت ك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شكيلات برنامه بهتر مي گردد و آسانتر مي توان محل اشكالات برنامه را پيدا نمو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نگهداري و به روز رساني و اصلاحات آتي برنامه راحت تر مي گرد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تمری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رنامه ای با روال های زیر بنویسی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والی برای به دست آوردن توان بنویسی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والی برای محاسبه فاکتوریل بنویسی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والی برای محاسبه تقسیم اعشاری بنویسی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والی بنویسید که عمل تقسیم صحیح را با استفاده از عمل تفریق محاسبه نمای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منطق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عملیات بر روی تک تک بیت ه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عمال پایه منطقی مث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-OR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و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قبل از دستورات کنترل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اثیر روی فلگه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شكل كلي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 Destination,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كد اجرا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پراند مقص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پراند من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JMP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295280" y="2133720"/>
            <a:ext cx="4191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M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371600" y="3200400"/>
            <a:ext cx="3352680" cy="3200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  AX , A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1 :   INC 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AX,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MP 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761760" y="5410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762120" y="4648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62120" y="4648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732200" y="46846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</a:rPr>
              <a:t>حلقه بی نهای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85800" y="2163600"/>
            <a:ext cx="43434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OP1,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685800" y="3459240"/>
            <a:ext cx="4343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←OP1.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5029200" y="37638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6705720" y="216360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6705720" y="269712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6705720" y="323064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6705720" y="376380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705720" y="429732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6019920" y="236232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601992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601992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60199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6019920" y="3962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6019920" y="4648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1066680" y="198108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0  0  1  1  0  1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1066680" y="274320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0  1  1  0  1  0 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85800" y="38098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442800" y="2093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66840" y="285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1066680" y="411480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0  0  1  0  0  0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0" y="2514600"/>
          <a:ext cx="3505320" cy="294624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1.X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41"/>
          <p:cNvSpPr/>
          <p:nvPr/>
        </p:nvSpPr>
        <p:spPr>
          <a:xfrm>
            <a:off x="4038480" y="533520"/>
            <a:ext cx="1357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Arial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1739160" y="3465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3049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09480" y="2209680"/>
            <a:ext cx="43434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OP1,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09480" y="3505320"/>
            <a:ext cx="4343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←OP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495288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629400" y="21636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629400" y="26971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6629400" y="323064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6629400" y="376380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6629400" y="429732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19"/>
          <p:cNvSpPr/>
          <p:nvPr/>
        </p:nvSpPr>
        <p:spPr>
          <a:xfrm>
            <a:off x="5943600" y="236232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594360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594360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22"/>
          <p:cNvSpPr/>
          <p:nvPr/>
        </p:nvSpPr>
        <p:spPr>
          <a:xfrm>
            <a:off x="594360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23"/>
          <p:cNvSpPr/>
          <p:nvPr/>
        </p:nvSpPr>
        <p:spPr>
          <a:xfrm>
            <a:off x="5943600" y="3962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24"/>
          <p:cNvSpPr/>
          <p:nvPr/>
        </p:nvSpPr>
        <p:spPr>
          <a:xfrm>
            <a:off x="5943600" y="4648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066680" y="198108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0  0  1  1  0  1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066680" y="274320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0  1  1  0  1  0 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685800" y="38098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442800" y="2093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366840" y="285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1066680" y="411480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0  1  1  1  1  1 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0" y="2514600"/>
          <a:ext cx="3505320" cy="294624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1+X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 Box 41"/>
          <p:cNvSpPr/>
          <p:nvPr/>
        </p:nvSpPr>
        <p:spPr>
          <a:xfrm>
            <a:off x="4038480" y="533520"/>
            <a:ext cx="1357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Arial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1739880" y="3465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5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609480" y="2209680"/>
            <a:ext cx="43434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OP1,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609480" y="3505320"/>
            <a:ext cx="4343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←(OP1)  XOR  (OP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495288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6629400" y="21636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6629400" y="26971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6629400" y="323064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6629400" y="376380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6629400" y="429732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5943600" y="236232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594360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594360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594360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9"/>
          <p:cNvSpPr/>
          <p:nvPr/>
        </p:nvSpPr>
        <p:spPr>
          <a:xfrm>
            <a:off x="5943600" y="3962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30"/>
          <p:cNvSpPr/>
          <p:nvPr/>
        </p:nvSpPr>
        <p:spPr>
          <a:xfrm>
            <a:off x="5943600" y="4648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4572000" y="1600200"/>
          <a:ext cx="3505320" cy="294624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Rectangle 49"/>
          <p:cNvSpPr/>
          <p:nvPr/>
        </p:nvSpPr>
        <p:spPr>
          <a:xfrm>
            <a:off x="1066680" y="198108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0  0  1  1  0  1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50"/>
          <p:cNvSpPr/>
          <p:nvPr/>
        </p:nvSpPr>
        <p:spPr>
          <a:xfrm>
            <a:off x="1066680" y="274320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0  1  1  0  1  0 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51"/>
          <p:cNvSpPr/>
          <p:nvPr/>
        </p:nvSpPr>
        <p:spPr>
          <a:xfrm>
            <a:off x="685800" y="38098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800" y="2093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53"/>
          <p:cNvSpPr/>
          <p:nvPr/>
        </p:nvSpPr>
        <p:spPr>
          <a:xfrm>
            <a:off x="366840" y="285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54"/>
          <p:cNvSpPr/>
          <p:nvPr/>
        </p:nvSpPr>
        <p:spPr>
          <a:xfrm>
            <a:off x="1066680" y="4114800"/>
            <a:ext cx="21337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0  1  0  1  1  1 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55"/>
          <p:cNvSpPr/>
          <p:nvPr/>
        </p:nvSpPr>
        <p:spPr>
          <a:xfrm>
            <a:off x="1738440" y="34653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56"/>
          <p:cNvSpPr/>
          <p:nvPr/>
        </p:nvSpPr>
        <p:spPr>
          <a:xfrm>
            <a:off x="990720" y="5715000"/>
            <a:ext cx="7619760" cy="685800"/>
          </a:xfrm>
          <a:prstGeom prst="wedgeRectCallout">
            <a:avLst>
              <a:gd name="adj1" fmla="val -40708"/>
              <a:gd name="adj2" fmla="val 972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بعضي اوقات براي صفر كردن، محتواي يك ثبات آنرا با خودش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XOR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ميكني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جاي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MOV AX,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از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XOR AX,AX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استفاده ميكني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 AX,0F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X,0F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=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 AX,12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X,01010101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=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 BX,04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BX,F0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X=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 BX,35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BX,01010101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X=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 AX,0F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OR AX,12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=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 AX,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OR AX,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=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تمری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OR AX,B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OR BX,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OR AX,B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نتیجه این دستورات چیست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حتويات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را جابه جا مي نماي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OP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هر بار یک واحد ا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کم می کن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پرش زمانی انجام میشود که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صفر نباش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رای ایجاد حلقه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مناسب اس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90720" y="3886200"/>
            <a:ext cx="2286000" cy="2590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AX,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X,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X,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   MOV AX,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 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X,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P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 flipH="1">
            <a:off x="533520" y="6019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533520" y="518112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533520" y="5181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8320" y="4343400"/>
            <a:ext cx="350496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(i=0;i&lt;20;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++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762120" y="762120"/>
            <a:ext cx="2895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PER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ي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Dest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38862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105520" y="762120"/>
            <a:ext cx="327636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تک تک بیت ها معکوس میشوند (مکمل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838080" y="2590920"/>
            <a:ext cx="33530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  OP1,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2438280" y="33526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762120" y="4419720"/>
            <a:ext cx="33526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  OP1,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4114800" y="4694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5791320" y="304812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5791320" y="358128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5791320" y="4114800"/>
            <a:ext cx="533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5791320" y="464832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5791320" y="518148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=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5105520" y="3246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5105520" y="3246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18"/>
          <p:cNvSpPr/>
          <p:nvPr/>
        </p:nvSpPr>
        <p:spPr>
          <a:xfrm>
            <a:off x="5105520" y="3780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19"/>
          <p:cNvSpPr/>
          <p:nvPr/>
        </p:nvSpPr>
        <p:spPr>
          <a:xfrm>
            <a:off x="5105520" y="4389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0"/>
          <p:cNvSpPr/>
          <p:nvPr/>
        </p:nvSpPr>
        <p:spPr>
          <a:xfrm>
            <a:off x="5105520" y="484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5105520" y="553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1600200" y="5334120"/>
            <a:ext cx="33526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قادی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غییر نمی کن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6629400" y="1371600"/>
            <a:ext cx="20574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فلگها ثابت می مانن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چند مثال از برخي كاربردهاي عمليات منط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ست اينكه آيا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رابر صفر است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OR DX,D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JZ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ست اينكه آيا علامت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DX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منفي است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OR DX,D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JS  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گر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رابر صفرا است به دستور بخصوص مي رو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EST CX,0FF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JZ 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شیف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228600" y="1828800"/>
            <a:ext cx="33526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 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038480" y="1676520"/>
            <a:ext cx="243864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OP1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OP1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8"/>
          <p:cNvSpPr/>
          <p:nvPr/>
        </p:nvSpPr>
        <p:spPr>
          <a:xfrm>
            <a:off x="6095880" y="43131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7772400" y="26668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7772400" y="32004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7772400" y="37339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7772400" y="42670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7772400" y="48006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7086600" y="28656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7086600" y="2865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7086600" y="3398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7086600" y="4008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086600" y="4465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086600" y="5151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>
            <a:off x="6095880" y="24382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380880" y="2971800"/>
            <a:ext cx="33530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  ARITHMETIC  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4038480" y="2819520"/>
            <a:ext cx="19051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OP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L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P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28"/>
          <p:cNvSpPr/>
          <p:nvPr/>
        </p:nvSpPr>
        <p:spPr>
          <a:xfrm>
            <a:off x="5029200" y="48006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29"/>
          <p:cNvSpPr/>
          <p:nvPr/>
        </p:nvSpPr>
        <p:spPr>
          <a:xfrm flipV="1">
            <a:off x="5029200" y="36572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30"/>
          <p:cNvSpPr/>
          <p:nvPr/>
        </p:nvSpPr>
        <p:spPr>
          <a:xfrm>
            <a:off x="1371600" y="4495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1"/>
          <p:cNvSpPr/>
          <p:nvPr/>
        </p:nvSpPr>
        <p:spPr>
          <a:xfrm>
            <a:off x="1676520" y="4495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32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33"/>
          <p:cNvSpPr/>
          <p:nvPr/>
        </p:nvSpPr>
        <p:spPr>
          <a:xfrm>
            <a:off x="2286000" y="4495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2590920" y="4495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5"/>
          <p:cNvSpPr/>
          <p:nvPr/>
        </p:nvSpPr>
        <p:spPr>
          <a:xfrm>
            <a:off x="2895480" y="4495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6"/>
          <p:cNvSpPr/>
          <p:nvPr/>
        </p:nvSpPr>
        <p:spPr>
          <a:xfrm>
            <a:off x="3200400" y="4495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37"/>
          <p:cNvSpPr/>
          <p:nvPr/>
        </p:nvSpPr>
        <p:spPr>
          <a:xfrm>
            <a:off x="3505320" y="4495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38"/>
          <p:cNvSpPr/>
          <p:nvPr/>
        </p:nvSpPr>
        <p:spPr>
          <a:xfrm flipH="1">
            <a:off x="3886200" y="4648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4419720" y="4419720"/>
            <a:ext cx="380880" cy="45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40"/>
          <p:cNvSpPr/>
          <p:nvPr/>
        </p:nvSpPr>
        <p:spPr>
          <a:xfrm flipH="1">
            <a:off x="990720" y="4648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380880" y="434340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AutoShape 22"/>
          <p:cNvSpPr/>
          <p:nvPr/>
        </p:nvSpPr>
        <p:spPr>
          <a:xfrm>
            <a:off x="1600200" y="5334120"/>
            <a:ext cx="33526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براي ضرب يك عدد در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، مي توان آنرا به سمت چپ شيفت دا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شیف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228600" y="1447920"/>
            <a:ext cx="335268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 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4038480" y="1295280"/>
            <a:ext cx="24386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OP1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OP1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6095880" y="3932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7772400" y="22860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7772400" y="28195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772400" y="33526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7772400" y="38862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7772400" y="44197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7086600" y="248436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7086600" y="24843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14"/>
          <p:cNvSpPr/>
          <p:nvPr/>
        </p:nvSpPr>
        <p:spPr>
          <a:xfrm>
            <a:off x="7086600" y="3017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7086600" y="36273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7086600" y="4084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7"/>
          <p:cNvSpPr/>
          <p:nvPr/>
        </p:nvSpPr>
        <p:spPr>
          <a:xfrm>
            <a:off x="7086600" y="47703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18"/>
          <p:cNvSpPr/>
          <p:nvPr/>
        </p:nvSpPr>
        <p:spPr>
          <a:xfrm>
            <a:off x="6095880" y="20574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380880" y="2590920"/>
            <a:ext cx="33530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  ARITHMETIC  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4038480" y="2438280"/>
            <a:ext cx="190512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OP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R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P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1"/>
          <p:cNvSpPr/>
          <p:nvPr/>
        </p:nvSpPr>
        <p:spPr>
          <a:xfrm>
            <a:off x="502920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22"/>
          <p:cNvSpPr/>
          <p:nvPr/>
        </p:nvSpPr>
        <p:spPr>
          <a:xfrm flipV="1">
            <a:off x="5029200" y="32763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160020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19051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220968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51460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27"/>
          <p:cNvSpPr/>
          <p:nvPr/>
        </p:nvSpPr>
        <p:spPr>
          <a:xfrm>
            <a:off x="28195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28"/>
          <p:cNvSpPr/>
          <p:nvPr/>
        </p:nvSpPr>
        <p:spPr>
          <a:xfrm>
            <a:off x="312408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29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37339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4572000" y="495288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35"/>
          <p:cNvSpPr/>
          <p:nvPr/>
        </p:nvSpPr>
        <p:spPr>
          <a:xfrm>
            <a:off x="388620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36"/>
          <p:cNvSpPr/>
          <p:nvPr/>
        </p:nvSpPr>
        <p:spPr>
          <a:xfrm flipH="1">
            <a:off x="1219320" y="5257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7"/>
          <p:cNvSpPr/>
          <p:nvPr/>
        </p:nvSpPr>
        <p:spPr>
          <a:xfrm flipV="1">
            <a:off x="12193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38"/>
          <p:cNvSpPr/>
          <p:nvPr/>
        </p:nvSpPr>
        <p:spPr>
          <a:xfrm>
            <a:off x="121932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39"/>
          <p:cNvSpPr/>
          <p:nvPr/>
        </p:nvSpPr>
        <p:spPr>
          <a:xfrm>
            <a:off x="1752480" y="4876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40"/>
          <p:cNvSpPr/>
          <p:nvPr/>
        </p:nvSpPr>
        <p:spPr>
          <a:xfrm>
            <a:off x="1828800" y="5257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41"/>
          <p:cNvSpPr/>
          <p:nvPr/>
        </p:nvSpPr>
        <p:spPr>
          <a:xfrm>
            <a:off x="990720" y="41148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42"/>
          <p:cNvSpPr/>
          <p:nvPr/>
        </p:nvSpPr>
        <p:spPr>
          <a:xfrm>
            <a:off x="1295280" y="41148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43"/>
          <p:cNvSpPr/>
          <p:nvPr/>
        </p:nvSpPr>
        <p:spPr>
          <a:xfrm>
            <a:off x="1600200" y="41148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44"/>
          <p:cNvSpPr/>
          <p:nvPr/>
        </p:nvSpPr>
        <p:spPr>
          <a:xfrm>
            <a:off x="1905120" y="41148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45"/>
          <p:cNvSpPr/>
          <p:nvPr/>
        </p:nvSpPr>
        <p:spPr>
          <a:xfrm>
            <a:off x="2209680" y="41148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46"/>
          <p:cNvSpPr/>
          <p:nvPr/>
        </p:nvSpPr>
        <p:spPr>
          <a:xfrm>
            <a:off x="2514600" y="41148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47"/>
          <p:cNvSpPr/>
          <p:nvPr/>
        </p:nvSpPr>
        <p:spPr>
          <a:xfrm>
            <a:off x="2819520" y="41148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48"/>
          <p:cNvSpPr/>
          <p:nvPr/>
        </p:nvSpPr>
        <p:spPr>
          <a:xfrm>
            <a:off x="3124080" y="41148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49"/>
          <p:cNvSpPr/>
          <p:nvPr/>
        </p:nvSpPr>
        <p:spPr>
          <a:xfrm>
            <a:off x="3962520" y="3962520"/>
            <a:ext cx="53316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50"/>
          <p:cNvSpPr/>
          <p:nvPr/>
        </p:nvSpPr>
        <p:spPr>
          <a:xfrm>
            <a:off x="32767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55"/>
          <p:cNvSpPr/>
          <p:nvPr/>
        </p:nvSpPr>
        <p:spPr>
          <a:xfrm>
            <a:off x="1219320" y="4267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56"/>
          <p:cNvSpPr/>
          <p:nvPr/>
        </p:nvSpPr>
        <p:spPr>
          <a:xfrm>
            <a:off x="201960" y="40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منطق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57"/>
          <p:cNvSpPr/>
          <p:nvPr/>
        </p:nvSpPr>
        <p:spPr>
          <a:xfrm>
            <a:off x="525240" y="506556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ریاض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دور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228600" y="2209680"/>
            <a:ext cx="33526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 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038480" y="2057400"/>
            <a:ext cx="24386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OP1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OP1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095880" y="4694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7772400" y="30481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772400" y="35812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7772400" y="41148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7772400" y="46483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7772400" y="51814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13"/>
          <p:cNvSpPr/>
          <p:nvPr/>
        </p:nvSpPr>
        <p:spPr>
          <a:xfrm>
            <a:off x="7086600" y="3246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7086600" y="3246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7086600" y="3780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6"/>
          <p:cNvSpPr/>
          <p:nvPr/>
        </p:nvSpPr>
        <p:spPr>
          <a:xfrm>
            <a:off x="7086600" y="4389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7086600" y="484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18"/>
          <p:cNvSpPr/>
          <p:nvPr/>
        </p:nvSpPr>
        <p:spPr>
          <a:xfrm>
            <a:off x="7086600" y="553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19"/>
          <p:cNvSpPr/>
          <p:nvPr/>
        </p:nvSpPr>
        <p:spPr>
          <a:xfrm>
            <a:off x="6095880" y="28195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16002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19051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25146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28195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31240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30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1"/>
          <p:cNvSpPr/>
          <p:nvPr/>
        </p:nvSpPr>
        <p:spPr>
          <a:xfrm>
            <a:off x="37339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3886200" y="6019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Oval 53"/>
          <p:cNvSpPr/>
          <p:nvPr/>
        </p:nvSpPr>
        <p:spPr>
          <a:xfrm>
            <a:off x="4419720" y="5715000"/>
            <a:ext cx="5331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54"/>
          <p:cNvSpPr/>
          <p:nvPr/>
        </p:nvSpPr>
        <p:spPr>
          <a:xfrm flipV="1">
            <a:off x="388620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55"/>
          <p:cNvSpPr/>
          <p:nvPr/>
        </p:nvSpPr>
        <p:spPr>
          <a:xfrm flipH="1">
            <a:off x="1752120" y="5410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56"/>
          <p:cNvSpPr/>
          <p:nvPr/>
        </p:nvSpPr>
        <p:spPr>
          <a:xfrm>
            <a:off x="175248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دور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228600" y="1371600"/>
            <a:ext cx="6629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ATE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HT THROUGH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Y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4038480" y="2057400"/>
            <a:ext cx="24386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C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OP1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C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OP1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6095880" y="4694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7772400" y="30481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7772400" y="35812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7772400" y="41148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7772400" y="46483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7772400" y="51814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Line 13"/>
          <p:cNvSpPr/>
          <p:nvPr/>
        </p:nvSpPr>
        <p:spPr>
          <a:xfrm>
            <a:off x="7086600" y="3246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Line 14"/>
          <p:cNvSpPr/>
          <p:nvPr/>
        </p:nvSpPr>
        <p:spPr>
          <a:xfrm>
            <a:off x="7086600" y="3246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5"/>
          <p:cNvSpPr/>
          <p:nvPr/>
        </p:nvSpPr>
        <p:spPr>
          <a:xfrm>
            <a:off x="7086600" y="3780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7086600" y="4389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7086600" y="484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7086600" y="553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6095880" y="28195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6002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1"/>
          <p:cNvSpPr/>
          <p:nvPr/>
        </p:nvSpPr>
        <p:spPr>
          <a:xfrm>
            <a:off x="19051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2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23"/>
          <p:cNvSpPr/>
          <p:nvPr/>
        </p:nvSpPr>
        <p:spPr>
          <a:xfrm>
            <a:off x="25146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24"/>
          <p:cNvSpPr/>
          <p:nvPr/>
        </p:nvSpPr>
        <p:spPr>
          <a:xfrm>
            <a:off x="28195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25"/>
          <p:cNvSpPr/>
          <p:nvPr/>
        </p:nvSpPr>
        <p:spPr>
          <a:xfrm>
            <a:off x="31240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26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27"/>
          <p:cNvSpPr/>
          <p:nvPr/>
        </p:nvSpPr>
        <p:spPr>
          <a:xfrm>
            <a:off x="37339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28"/>
          <p:cNvSpPr/>
          <p:nvPr/>
        </p:nvSpPr>
        <p:spPr>
          <a:xfrm>
            <a:off x="3886200" y="6019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Oval 29"/>
          <p:cNvSpPr/>
          <p:nvPr/>
        </p:nvSpPr>
        <p:spPr>
          <a:xfrm>
            <a:off x="4419720" y="5715000"/>
            <a:ext cx="5331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30"/>
          <p:cNvSpPr/>
          <p:nvPr/>
        </p:nvSpPr>
        <p:spPr>
          <a:xfrm flipV="1">
            <a:off x="464832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31"/>
          <p:cNvSpPr/>
          <p:nvPr/>
        </p:nvSpPr>
        <p:spPr>
          <a:xfrm flipH="1">
            <a:off x="1752480" y="541008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32"/>
          <p:cNvSpPr/>
          <p:nvPr/>
        </p:nvSpPr>
        <p:spPr>
          <a:xfrm>
            <a:off x="175248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دور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28600" y="2209680"/>
            <a:ext cx="33526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4038480" y="2057400"/>
            <a:ext cx="24386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OP1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OP1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6095880" y="4694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7772400" y="30481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7772400" y="35812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7772400" y="41148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11"/>
          <p:cNvSpPr/>
          <p:nvPr/>
        </p:nvSpPr>
        <p:spPr>
          <a:xfrm>
            <a:off x="7772400" y="46483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7772400" y="51814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7086600" y="3246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7086600" y="3246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7086600" y="3780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Line 16"/>
          <p:cNvSpPr/>
          <p:nvPr/>
        </p:nvSpPr>
        <p:spPr>
          <a:xfrm>
            <a:off x="7086600" y="4389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17"/>
          <p:cNvSpPr/>
          <p:nvPr/>
        </p:nvSpPr>
        <p:spPr>
          <a:xfrm>
            <a:off x="7086600" y="484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8"/>
          <p:cNvSpPr/>
          <p:nvPr/>
        </p:nvSpPr>
        <p:spPr>
          <a:xfrm>
            <a:off x="7086600" y="553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9"/>
          <p:cNvSpPr/>
          <p:nvPr/>
        </p:nvSpPr>
        <p:spPr>
          <a:xfrm>
            <a:off x="6095880" y="28195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6002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1"/>
          <p:cNvSpPr/>
          <p:nvPr/>
        </p:nvSpPr>
        <p:spPr>
          <a:xfrm>
            <a:off x="19051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2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25146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28195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5"/>
          <p:cNvSpPr/>
          <p:nvPr/>
        </p:nvSpPr>
        <p:spPr>
          <a:xfrm>
            <a:off x="31240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26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27"/>
          <p:cNvSpPr/>
          <p:nvPr/>
        </p:nvSpPr>
        <p:spPr>
          <a:xfrm>
            <a:off x="37339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29"/>
          <p:cNvSpPr/>
          <p:nvPr/>
        </p:nvSpPr>
        <p:spPr>
          <a:xfrm>
            <a:off x="838080" y="571500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30"/>
          <p:cNvSpPr/>
          <p:nvPr/>
        </p:nvSpPr>
        <p:spPr>
          <a:xfrm flipV="1">
            <a:off x="175248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31"/>
          <p:cNvSpPr/>
          <p:nvPr/>
        </p:nvSpPr>
        <p:spPr>
          <a:xfrm flipH="1">
            <a:off x="1752120" y="5410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Line 33"/>
          <p:cNvSpPr/>
          <p:nvPr/>
        </p:nvSpPr>
        <p:spPr>
          <a:xfrm>
            <a:off x="388620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Line 34"/>
          <p:cNvSpPr/>
          <p:nvPr/>
        </p:nvSpPr>
        <p:spPr>
          <a:xfrm flipH="1">
            <a:off x="1294920" y="60199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دستورات دور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228600" y="1371600"/>
            <a:ext cx="6629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ATE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ROUGH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Y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4038480" y="2057400"/>
            <a:ext cx="24386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C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OP1,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C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OP1,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7"/>
          <p:cNvSpPr/>
          <p:nvPr/>
        </p:nvSpPr>
        <p:spPr>
          <a:xfrm>
            <a:off x="6095880" y="4694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7772400" y="30481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7772400" y="35812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7772400" y="411480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7772400" y="464832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7772400" y="51814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13"/>
          <p:cNvSpPr/>
          <p:nvPr/>
        </p:nvSpPr>
        <p:spPr>
          <a:xfrm>
            <a:off x="7086600" y="3246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7086600" y="3246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7086600" y="3780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7086600" y="4389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17"/>
          <p:cNvSpPr/>
          <p:nvPr/>
        </p:nvSpPr>
        <p:spPr>
          <a:xfrm>
            <a:off x="7086600" y="4846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18"/>
          <p:cNvSpPr/>
          <p:nvPr/>
        </p:nvSpPr>
        <p:spPr>
          <a:xfrm>
            <a:off x="7086600" y="553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19"/>
          <p:cNvSpPr/>
          <p:nvPr/>
        </p:nvSpPr>
        <p:spPr>
          <a:xfrm>
            <a:off x="6095880" y="281952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6002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19051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25146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28195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312408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27"/>
          <p:cNvSpPr/>
          <p:nvPr/>
        </p:nvSpPr>
        <p:spPr>
          <a:xfrm>
            <a:off x="37339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Oval 29"/>
          <p:cNvSpPr/>
          <p:nvPr/>
        </p:nvSpPr>
        <p:spPr>
          <a:xfrm>
            <a:off x="685800" y="571500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31"/>
          <p:cNvSpPr/>
          <p:nvPr/>
        </p:nvSpPr>
        <p:spPr>
          <a:xfrm flipH="1">
            <a:off x="990360" y="54100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Line 34"/>
          <p:cNvSpPr/>
          <p:nvPr/>
        </p:nvSpPr>
        <p:spPr>
          <a:xfrm>
            <a:off x="3886200" y="5410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35"/>
          <p:cNvSpPr/>
          <p:nvPr/>
        </p:nvSpPr>
        <p:spPr>
          <a:xfrm flipH="1">
            <a:off x="1218960" y="6019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36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533520" y="16002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33520" y="20574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ARITHMETC 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533520" y="25146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533520" y="29718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FT ARITHMETIC 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533520" y="34290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533520" y="38862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RIGHT THROUGH CAR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533520" y="43434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533520" y="4800600"/>
            <a:ext cx="4038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LEFT  THROUGH CAR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5943600" y="16002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5943600" y="20574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943600" y="25146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19"/>
          <p:cNvSpPr/>
          <p:nvPr/>
        </p:nvSpPr>
        <p:spPr>
          <a:xfrm>
            <a:off x="5943600" y="29718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5943600" y="34290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21"/>
          <p:cNvSpPr/>
          <p:nvPr/>
        </p:nvSpPr>
        <p:spPr>
          <a:xfrm>
            <a:off x="5943600" y="38862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22"/>
          <p:cNvSpPr/>
          <p:nvPr/>
        </p:nvSpPr>
        <p:spPr>
          <a:xfrm>
            <a:off x="5943600" y="43434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23"/>
          <p:cNvSpPr/>
          <p:nvPr/>
        </p:nvSpPr>
        <p:spPr>
          <a:xfrm>
            <a:off x="5943600" y="4800600"/>
            <a:ext cx="18288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24"/>
          <p:cNvSpPr/>
          <p:nvPr/>
        </p:nvSpPr>
        <p:spPr>
          <a:xfrm>
            <a:off x="4800600" y="17524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25"/>
          <p:cNvSpPr/>
          <p:nvPr/>
        </p:nvSpPr>
        <p:spPr>
          <a:xfrm>
            <a:off x="4800600" y="21337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AutoShape 26"/>
          <p:cNvSpPr/>
          <p:nvPr/>
        </p:nvSpPr>
        <p:spPr>
          <a:xfrm>
            <a:off x="4800600" y="26668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27"/>
          <p:cNvSpPr/>
          <p:nvPr/>
        </p:nvSpPr>
        <p:spPr>
          <a:xfrm>
            <a:off x="4800600" y="30481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28"/>
          <p:cNvSpPr/>
          <p:nvPr/>
        </p:nvSpPr>
        <p:spPr>
          <a:xfrm>
            <a:off x="4800600" y="3505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29"/>
          <p:cNvSpPr/>
          <p:nvPr/>
        </p:nvSpPr>
        <p:spPr>
          <a:xfrm>
            <a:off x="4800600" y="38862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AutoShape 30"/>
          <p:cNvSpPr/>
          <p:nvPr/>
        </p:nvSpPr>
        <p:spPr>
          <a:xfrm>
            <a:off x="4800600" y="44956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utoShape 31"/>
          <p:cNvSpPr/>
          <p:nvPr/>
        </p:nvSpPr>
        <p:spPr>
          <a:xfrm>
            <a:off x="4800600" y="48769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900" spc="-1" strike="noStrike">
                <a:solidFill>
                  <a:srgbClr val="feec94"/>
                </a:solidFill>
                <a:latin typeface="Times New Roman"/>
              </a:rPr>
              <a:t>سوال ؟</a:t>
            </a:r>
            <a:endParaRPr b="1" lang="en-US" sz="229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P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مقایسه دو عد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28600" y="3200400"/>
            <a:ext cx="3200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OP1,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09480" y="4343400"/>
            <a:ext cx="2743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-OP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352680" y="4572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038480" y="33526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038480" y="38098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038480" y="42670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038480" y="47242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038480" y="51814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038480" y="5638680"/>
            <a:ext cx="533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181480" y="3781440"/>
          <a:ext cx="3505320" cy="1862280"/>
        </p:xfrm>
        <a:graphic>
          <a:graphicData uri="http://schemas.openxmlformats.org/drawingml/2006/table">
            <a:tbl>
              <a:tblPr/>
              <a:tblGrid>
                <a:gridCol w="2210040"/>
                <a:gridCol w="685800"/>
                <a:gridCol w="6094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1=OP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1&gt;OP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1&lt;OP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36"/>
          <p:cNvSpPr/>
          <p:nvPr/>
        </p:nvSpPr>
        <p:spPr>
          <a:xfrm>
            <a:off x="8062560" y="336708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7453080" y="3367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8"/>
          <p:cNvSpPr/>
          <p:nvPr/>
        </p:nvSpPr>
        <p:spPr>
          <a:xfrm>
            <a:off x="304920" y="5257800"/>
            <a:ext cx="3200400" cy="1219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1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2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تغییر نمی کنن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533520" y="99072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     AX,B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33520" y="182880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    AX, 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33520" y="266688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    Z, 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358128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   AX,12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33520" y="457200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     120,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33520" y="533412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MP    200, C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3809880" y="457200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024800" y="5029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3733920" y="990720"/>
            <a:ext cx="380880" cy="3047760"/>
          </a:xfrm>
          <a:custGeom>
            <a:avLst/>
            <a:gdLst>
              <a:gd name="textAreaLeft" fmla="*/ 0 w 380880"/>
              <a:gd name="textAreaRight" fmla="*/ 137520 w 3808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4177080" y="22464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CT 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OPZ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حلقه تا زمانی که نتیجه باش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2286000"/>
            <a:ext cx="3200400" cy="2057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=1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 ( I # 0) AND (X=1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X+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-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419720" y="2209680"/>
            <a:ext cx="2361960" cy="2057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CX,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EL :  MOV AX,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AX,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 X,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P AX,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PZ  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532680" y="4495680"/>
            <a:ext cx="46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PE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علاوه ب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X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را نیز بررسی می کن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173600" y="5029200"/>
            <a:ext cx="74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بلافاصله با غیر صفر شدن نتیجه یک محاسبه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F=0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شده و از حلقه خارج میشو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85800" y="5486400"/>
            <a:ext cx="2971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 CX#0) AND ( ZF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O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دقیقا مث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PZ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س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ا عدم تساوی دو اپرند مطمئنا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F=0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س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دلیل استفاده از این دستور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خوانایی برنامه  ؟؟؟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OPNZ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حلقه تا زمانی که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صفر نشد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نتیجه محاسبات  غیر صفر شو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خروج از حلق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صفر شو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نتیجه محاسبه صفر شود ( تساوی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80880" y="1905120"/>
            <a:ext cx="32767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(CX#0) AND (ZF=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066680" y="5943600"/>
            <a:ext cx="403884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دستو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PNE</a:t>
            </a: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 هم به همین معنی بکار برده میشو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5:48:14Z</dcterms:created>
  <dc:creator>Elmi</dc:creator>
  <dc:description/>
  <dc:language>en-US</dc:language>
  <cp:lastModifiedBy>Mat</cp:lastModifiedBy>
  <dcterms:modified xsi:type="dcterms:W3CDTF">2010-12-04T10:56:45Z</dcterms:modified>
  <cp:revision>231</cp:revision>
  <dc:subject/>
  <dc:title>Slide 1</dc:title>
</cp:coreProperties>
</file>