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FAB-4355-424F-B6C1-B8B3AB70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9CA-788C-4288-B316-07D5816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AB2-FE83-413A-A949-76854133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709-11BC-4108-B6C4-FE01E6B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B51F-DC4A-4532-A664-DAE6134D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1767-DB7A-42C1-B5F8-0463B4D0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4AC-75E0-409B-A000-4769845F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56F5-4B28-44F1-83CE-4B81C196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3AE-F5DE-4E53-8607-AA2F9BF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A41A-3CD0-4D70-A73D-F2FF3EE5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4711-0FC3-4A35-A414-314FC1F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EA4-CF26-4264-AB53-1A2FDD12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D6D5-D015-4EC0-BF51-48FAC14B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C031-7FD0-4E5D-B29B-D5E114C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C17A-B9A2-4BFD-A8B4-AF13F68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89FA-104B-4266-A92F-D95DD37B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17C-6277-4120-94F9-B944F319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C68-E05F-4774-903A-41131DA1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1C6-BB0C-4787-B8EE-D6E7DE31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83-7ACF-4050-A46F-3E6DC1F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A3A-4122-4930-841F-1D3AF35D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27C-071D-44D7-8390-A8BA15E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F2D-4964-4F0A-B733-80C32F0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7F9-E4A0-40B8-81C1-64E103E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8A7-D812-4C88-8A5D-F474E4936DA5}" type="slidenum">
              <a: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CD92-87D5-4D58-B933-4F66505B8482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E54A-FFE7-4A5F-BA84-4330262FC6EC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زبان ماشین و اسمبل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 درس شش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روع برنامه نویس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729-5C61-4C12-A761-9853DF3A541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47920" y="76320"/>
            <a:ext cx="5029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egment  stack  ‘stack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   32h  du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447920" y="1143000"/>
            <a:ext cx="502920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g              segment  ‘da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    d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   dw   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  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    dq   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    dt    123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sg            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447920" y="3429000"/>
            <a:ext cx="70102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segment  ‘cod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ss:stacksg,ds:datasg , cs:cod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                proc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ax,data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ds,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ax,4c0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2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               en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A50-FAB8-4679-B2BF-EBFF865D22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محاسبات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جم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جمع به کمک بیت نقل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تفر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تفریق با بیت قرض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گسترش بایت به کل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گسترش کلمه ب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ضر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تقسی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نفی کرد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کاه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افزای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2280-2DE0-44E6-A551-2F6D019061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295280" y="2590920"/>
            <a:ext cx="3810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T,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295280" y="3809880"/>
            <a:ext cx="3810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←DEST+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781680" y="2514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781680" y="2971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781680" y="3429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781680" y="3886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781680" y="43434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781680" y="4800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51055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715000" y="2743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7150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715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57150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5715000" y="5105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جمع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B Yekan"/>
              </a:rPr>
              <a:t>ADD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Yek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DB02-211D-41C0-B557-B6EB149EBB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1447920" y="16002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AX, BX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648320" y="16002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  ← AX+ BX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1447920" y="22860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AX, M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4648320" y="22860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  ← AX+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1447920" y="304812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M,AX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4648320" y="29718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← M+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2"/>
          <p:cNvSpPr/>
          <p:nvPr/>
        </p:nvSpPr>
        <p:spPr>
          <a:xfrm>
            <a:off x="1447920" y="48006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M,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1447920" y="548640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AL,C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4"/>
          <p:cNvSpPr/>
          <p:nvPr/>
        </p:nvSpPr>
        <p:spPr>
          <a:xfrm>
            <a:off x="1447920" y="365760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CX,0FC25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"/>
          <p:cNvSpPr/>
          <p:nvPr/>
        </p:nvSpPr>
        <p:spPr>
          <a:xfrm>
            <a:off x="4648320" y="3657600"/>
            <a:ext cx="2590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X  ← CX+ 0FC2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0"/>
          <p:cNvSpPr/>
          <p:nvPr/>
        </p:nvSpPr>
        <p:spPr>
          <a:xfrm flipH="1">
            <a:off x="1523520" y="44197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1219320" y="160020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4"/>
          <p:cNvSpPr/>
          <p:nvPr/>
        </p:nvSpPr>
        <p:spPr>
          <a:xfrm>
            <a:off x="1295280" y="48006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231120" y="2666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6"/>
          <p:cNvSpPr/>
          <p:nvPr/>
        </p:nvSpPr>
        <p:spPr>
          <a:xfrm>
            <a:off x="546840" y="519264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0B35-DA0A-4C0D-ADB2-A63742C8F2B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با بیت نقلی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295280" y="2590920"/>
            <a:ext cx="3810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T,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295280" y="3809880"/>
            <a:ext cx="3810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←DEST+SRC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781680" y="2514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781680" y="2971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781680" y="3429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6781680" y="3886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781680" y="43434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6781680" y="4800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51055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715000" y="2743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57150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5715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57150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5715000" y="5105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C41-71DA-4638-959B-48E639015EF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فریق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295280" y="2590920"/>
            <a:ext cx="3810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T,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295280" y="3809880"/>
            <a:ext cx="3810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←DEST-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781680" y="2514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781680" y="2971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781680" y="3429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781680" y="3886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6781680" y="43434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781680" y="4800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51055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5715000" y="2743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57150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5715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57150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5715000" y="5105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98E-4269-44D0-9E1C-1C0EFA29FF0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تفریق به کمک بیت قرضی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B Yekan"/>
              </a:rPr>
              <a:t>SBB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Yek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295280" y="2590920"/>
            <a:ext cx="3810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T,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95280" y="3809880"/>
            <a:ext cx="3810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←DEST-(SRC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781680" y="2514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6781680" y="2971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6781680" y="3429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6781680" y="38862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6781680" y="43434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6781680" y="4800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51055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5715000" y="2743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571500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715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571500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>
            <a:off x="57150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571500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5715000" y="5105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41C-81B4-410A-807E-38094D19F2E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گستر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892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273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565452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035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6416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679752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7178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7559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504504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617720" y="22464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یت علام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87692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876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5257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638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6019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6400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6781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7162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7543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828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2209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2590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2971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>
            <a:off x="3352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3733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4114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5257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5"/>
          <p:cNvSpPr/>
          <p:nvPr/>
        </p:nvSpPr>
        <p:spPr>
          <a:xfrm>
            <a:off x="5638680" y="312408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6"/>
          <p:cNvSpPr/>
          <p:nvPr/>
        </p:nvSpPr>
        <p:spPr>
          <a:xfrm>
            <a:off x="601992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7"/>
          <p:cNvSpPr/>
          <p:nvPr/>
        </p:nvSpPr>
        <p:spPr>
          <a:xfrm>
            <a:off x="6400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8"/>
          <p:cNvSpPr/>
          <p:nvPr/>
        </p:nvSpPr>
        <p:spPr>
          <a:xfrm>
            <a:off x="6781680" y="312408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9"/>
          <p:cNvSpPr/>
          <p:nvPr/>
        </p:nvSpPr>
        <p:spPr>
          <a:xfrm>
            <a:off x="716292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7543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696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315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934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6553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172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58672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7"/>
          <p:cNvSpPr/>
          <p:nvPr/>
        </p:nvSpPr>
        <p:spPr>
          <a:xfrm>
            <a:off x="54864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8"/>
          <p:cNvSpPr/>
          <p:nvPr/>
        </p:nvSpPr>
        <p:spPr>
          <a:xfrm>
            <a:off x="5105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9"/>
          <p:cNvSpPr/>
          <p:nvPr/>
        </p:nvSpPr>
        <p:spPr>
          <a:xfrm>
            <a:off x="4648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38862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2"/>
          <p:cNvSpPr/>
          <p:nvPr/>
        </p:nvSpPr>
        <p:spPr>
          <a:xfrm>
            <a:off x="3505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3"/>
          <p:cNvSpPr/>
          <p:nvPr/>
        </p:nvSpPr>
        <p:spPr>
          <a:xfrm>
            <a:off x="32004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4"/>
          <p:cNvSpPr/>
          <p:nvPr/>
        </p:nvSpPr>
        <p:spPr>
          <a:xfrm>
            <a:off x="2819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5"/>
          <p:cNvSpPr/>
          <p:nvPr/>
        </p:nvSpPr>
        <p:spPr>
          <a:xfrm>
            <a:off x="2362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6"/>
          <p:cNvSpPr/>
          <p:nvPr/>
        </p:nvSpPr>
        <p:spPr>
          <a:xfrm>
            <a:off x="1905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7"/>
          <p:cNvSpPr/>
          <p:nvPr/>
        </p:nvSpPr>
        <p:spPr>
          <a:xfrm flipH="1">
            <a:off x="1905120" y="3809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8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2873-94FC-4F07-A741-47EA4CFC1AC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گستر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4892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5273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65452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035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416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679752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717876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755964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04504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4617720" y="22464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یت علام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487692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4876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5257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5638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6019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6400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6781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7162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7543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3"/>
          <p:cNvSpPr/>
          <p:nvPr/>
        </p:nvSpPr>
        <p:spPr>
          <a:xfrm>
            <a:off x="1828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2209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5"/>
          <p:cNvSpPr/>
          <p:nvPr/>
        </p:nvSpPr>
        <p:spPr>
          <a:xfrm>
            <a:off x="2590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2971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3352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373392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4114800" y="4191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5257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2"/>
          <p:cNvSpPr/>
          <p:nvPr/>
        </p:nvSpPr>
        <p:spPr>
          <a:xfrm>
            <a:off x="5638680" y="312408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601992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6400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6781680" y="312408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716292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7543800" y="31240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7696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7315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934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6553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6172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58672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54864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5105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4648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8862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505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32004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2819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2362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1905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4"/>
          <p:cNvSpPr/>
          <p:nvPr/>
        </p:nvSpPr>
        <p:spPr>
          <a:xfrm flipH="1">
            <a:off x="1905120" y="3809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49528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7926-8521-4718-A09B-0232369BAAC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گسترش داد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W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Byte to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WD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 Word to By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0F1-AB6A-47CA-A2C8-F1F41972238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شروع برنامه ساز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ه بخش اصلی هر برنا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4400" y="1447920"/>
            <a:ext cx="2819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914400" y="2743200"/>
            <a:ext cx="28195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914400" y="4038480"/>
            <a:ext cx="281952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182-F5DB-4EBC-B189-078F47C33CE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ضرب  (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672120" y="3922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1447920" y="2743200"/>
            <a:ext cx="304560" cy="2819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041920" y="27432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 * 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1965960" y="392256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 * 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1890000" y="514188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 * 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4191120" y="28591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4191120" y="40384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4191120" y="52578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5396040" y="27576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5396400" y="39006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5472720" y="51418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FFEE-7A6F-437A-ACFE-425680F5B25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1143360" y="22860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 * 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3292560" y="24019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192560" y="2300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1371600" y="342900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    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1371600" y="4495680"/>
            <a:ext cx="3048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 ← OPERAND  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A7B-81A6-4C87-A590-C8368E7E4E5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419720" y="1905120"/>
            <a:ext cx="2971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=200*100=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57200" y="1295280"/>
            <a:ext cx="266688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AL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BL,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3276720" y="1981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1600200" y="5791320"/>
            <a:ext cx="5334120" cy="609480"/>
          </a:xfrm>
          <a:prstGeom prst="wedgeRectCallout">
            <a:avLst>
              <a:gd name="adj1" fmla="val -42319"/>
              <a:gd name="adj2" fmla="val 79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در ضرب بایت در بایت همیشه یکی از اپرند ها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914400" y="3352680"/>
            <a:ext cx="266688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AL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380988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5029200" y="3962520"/>
            <a:ext cx="2971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=55*100=5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35F-268C-456A-ACE4-7B588AA3945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B Yekan"/>
              </a:rPr>
              <a:t>M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144080" y="22860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 * 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292560" y="24019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4193280" y="23004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1371600" y="342900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    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1371600" y="4724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1828800" y="4724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2286000" y="4724280"/>
            <a:ext cx="2514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 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73D-8EB3-4BC6-AA6C-A6C8322384A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533520" y="1828800"/>
            <a:ext cx="213336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AX,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CX,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895480" y="25146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572000" y="24382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X,DX)   ← AX * 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"/>
          <p:cNvSpPr/>
          <p:nvPr/>
        </p:nvSpPr>
        <p:spPr>
          <a:xfrm>
            <a:off x="647712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4724280" y="419112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6705720" y="4191120"/>
            <a:ext cx="1904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7300800" y="3846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5396040" y="382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0290-E6B0-4190-A978-267673819C4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52480" y="312840"/>
            <a:ext cx="70106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139920" y="1905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477120" y="19051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533520" y="18288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 * 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3962520" y="18288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 * 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7238880" y="18288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220968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220968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 flipV="1">
            <a:off x="563868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3491280" y="27036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7"/>
          <p:cNvSpPr/>
          <p:nvPr/>
        </p:nvSpPr>
        <p:spPr>
          <a:xfrm>
            <a:off x="304920" y="388620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AL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8"/>
          <p:cNvSpPr/>
          <p:nvPr/>
        </p:nvSpPr>
        <p:spPr>
          <a:xfrm>
            <a:off x="2514600" y="47242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3352680" y="3886200"/>
            <a:ext cx="2057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AX,006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0"/>
          <p:cNvSpPr/>
          <p:nvPr/>
        </p:nvSpPr>
        <p:spPr>
          <a:xfrm>
            <a:off x="5562720" y="47242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1"/>
          <p:cNvSpPr/>
          <p:nvPr/>
        </p:nvSpPr>
        <p:spPr>
          <a:xfrm>
            <a:off x="6324480" y="4572000"/>
            <a:ext cx="2667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X,AX)←AX*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455-3638-4424-B897-B622FE95941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ضر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ضرب اعداد بی علام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IGNED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ضرب علامتدار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600200" y="34290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600200" y="48006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685800" y="1295280"/>
            <a:ext cx="487692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همیشه یکی از اپراند ها د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قرار د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3124080" y="5181480"/>
            <a:ext cx="487692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نتیجه محاسبات د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یا در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,A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) قرار می گی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46C6-0612-4E85-ADC9-D02266E5C0B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قسی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71760" y="4078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371600" y="31240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811160" y="3011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   ÷   BY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827360" y="4894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  ÷   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105520" y="31240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5392080" y="29750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 ÷   by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5385960" y="489420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X   AX)     ÷     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E72-CF55-452D-B416-0B97E6B996C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762120" y="2209680"/>
            <a:ext cx="2895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OPERAN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"/>
          <p:cNvSpPr/>
          <p:nvPr/>
        </p:nvSpPr>
        <p:spPr>
          <a:xfrm>
            <a:off x="26668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"/>
          <p:cNvSpPr/>
          <p:nvPr/>
        </p:nvSpPr>
        <p:spPr>
          <a:xfrm>
            <a:off x="266688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2881440" y="4151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14479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1786320" y="47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2729880" y="35416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5"/>
          <p:cNvSpPr/>
          <p:nvPr/>
        </p:nvSpPr>
        <p:spPr>
          <a:xfrm>
            <a:off x="1798560" y="3595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4495680" y="22096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OPERAND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64008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640080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15000" y="4151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52578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5564520" y="47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463800" y="3541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55324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,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8147-A5FE-4743-A6E1-D89865E4090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17640" y="304920"/>
            <a:ext cx="675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57200" y="129528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AX,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CL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    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429000" y="1371600"/>
            <a:ext cx="28195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= AX / CL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H= AX % CL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2666880" y="19810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533520" y="3200400"/>
            <a:ext cx="24382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DX,40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AX,12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BX,5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 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312408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4267080" y="3124080"/>
            <a:ext cx="3886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X,AX)=404012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= (DX,AX) /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X=(DX,AX) %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533520" y="4952880"/>
            <a:ext cx="24382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AX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3352680" y="5562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4267080" y="5334120"/>
            <a:ext cx="1676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5943600" y="5181480"/>
            <a:ext cx="3048120" cy="1219320"/>
          </a:xfrm>
          <a:prstGeom prst="cloudCallout">
            <a:avLst>
              <a:gd name="adj1" fmla="val -42291"/>
              <a:gd name="adj2" fmla="val 7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ملوند تقسیم نمی تواند عدد باش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4A2F-65AB-4F0D-90AD-206A6643D38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47920" y="152280"/>
            <a:ext cx="5029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egment  stack  ‘stack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   32h  du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447920" y="1447920"/>
            <a:ext cx="5029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 ‘da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447920" y="2743200"/>
            <a:ext cx="70102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segment  ‘cod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ss:stacksg,ds:datasg , cs:code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                proc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ax,data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ds,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ax,4c0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2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               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209680" y="4572000"/>
            <a:ext cx="52578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362320" y="1905120"/>
            <a:ext cx="27432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45684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4572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572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228600" y="3048120"/>
            <a:ext cx="1066680" cy="7617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4025-0FE9-46DA-BCE9-BF105C75398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ی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نامه ای بنویسید که مبلغ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557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سکه ه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ومانی خرد کن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094-4B3B-4A07-A8C2-7CC751DA14B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1447920" y="685800"/>
            <a:ext cx="5029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egment  stack  ‘stack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  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du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1447920" y="2438280"/>
            <a:ext cx="502920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 ‘da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X  dw 25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25  db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10  db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5     db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1     db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4CCA-BC3D-4C97-A359-BD414DEB1B8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1219320" y="228600"/>
            <a:ext cx="7010280" cy="640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segment  ‘cod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s:stacksg,ds:datasg , cs:code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                proc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ax,data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d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 cl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ax 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iv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c25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 cl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al ,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b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iv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ov c10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8A61-115B-48D6-9498-FC0EBC25B58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838080" y="380880"/>
            <a:ext cx="662940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v cl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v al,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iv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v c5,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v c1,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ax,4c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2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               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1D17-4AEC-4D91-900D-11A4A9A76DB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قسی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لامتد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 علام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876920" y="4038480"/>
            <a:ext cx="1447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876920" y="1828800"/>
            <a:ext cx="1447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5800" y="4495680"/>
            <a:ext cx="3657600" cy="1371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خارج قسمت د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قرار می گیرد و باقیمانده د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ی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قرار میگی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685800" y="1752480"/>
            <a:ext cx="342900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همواره عملوند اول تقسیم د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,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ی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قرار د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A7F-AF7B-4EC6-9520-99DB30332BB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فزای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REA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304920" y="2362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3429000" y="2362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429000" y="3276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EG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429000" y="41911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EG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429000" y="51055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REG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2514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2895480" y="2590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28954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2"/>
          <p:cNvSpPr/>
          <p:nvPr/>
        </p:nvSpPr>
        <p:spPr>
          <a:xfrm>
            <a:off x="28954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28954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4"/>
          <p:cNvSpPr/>
          <p:nvPr/>
        </p:nvSpPr>
        <p:spPr>
          <a:xfrm>
            <a:off x="2895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5"/>
          <p:cNvSpPr/>
          <p:nvPr/>
        </p:nvSpPr>
        <p:spPr>
          <a:xfrm>
            <a:off x="5791320" y="3124080"/>
            <a:ext cx="914400" cy="190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7"/>
          <p:cNvSpPr/>
          <p:nvPr/>
        </p:nvSpPr>
        <p:spPr>
          <a:xfrm>
            <a:off x="6858000" y="2362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8"/>
          <p:cNvSpPr/>
          <p:nvPr/>
        </p:nvSpPr>
        <p:spPr>
          <a:xfrm>
            <a:off x="6858000" y="3276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9"/>
          <p:cNvSpPr/>
          <p:nvPr/>
        </p:nvSpPr>
        <p:spPr>
          <a:xfrm>
            <a:off x="6858000" y="42670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6858000" y="51055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1"/>
          <p:cNvSpPr/>
          <p:nvPr/>
        </p:nvSpPr>
        <p:spPr>
          <a:xfrm>
            <a:off x="114300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2"/>
          <p:cNvSpPr/>
          <p:nvPr/>
        </p:nvSpPr>
        <p:spPr>
          <a:xfrm>
            <a:off x="3049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6858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5"/>
          <p:cNvSpPr/>
          <p:nvPr/>
        </p:nvSpPr>
        <p:spPr>
          <a:xfrm>
            <a:off x="14479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18288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28"/>
          <p:cNvSpPr/>
          <p:nvPr/>
        </p:nvSpPr>
        <p:spPr>
          <a:xfrm>
            <a:off x="3276720" y="6095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058-5122-4B01-A0B0-024CC1F2330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کاهش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B Yekan"/>
              </a:rPr>
              <a:t>DECRE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304920" y="2362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3429000" y="2362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429000" y="3276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REG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3429000" y="41911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REG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3429000" y="51055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REG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2514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2895480" y="2590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28954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28954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28954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2895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6"/>
          <p:cNvSpPr/>
          <p:nvPr/>
        </p:nvSpPr>
        <p:spPr>
          <a:xfrm>
            <a:off x="5791320" y="3124080"/>
            <a:ext cx="914400" cy="1905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6858000" y="2362320"/>
            <a:ext cx="22096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858000" y="3276720"/>
            <a:ext cx="22096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858000" y="4267080"/>
            <a:ext cx="22096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5105520"/>
            <a:ext cx="22096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114300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3049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858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1066680" y="60958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14479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18288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7"/>
          <p:cNvSpPr/>
          <p:nvPr/>
        </p:nvSpPr>
        <p:spPr>
          <a:xfrm>
            <a:off x="3276720" y="6095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F73D-20CF-46CE-8161-F4ED1E6569E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قرینه کرد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99072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52280" y="60958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5335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9144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1295280" y="60958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167652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457200" y="220968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OPE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2"/>
          <p:cNvSpPr/>
          <p:nvPr/>
        </p:nvSpPr>
        <p:spPr>
          <a:xfrm>
            <a:off x="3352680" y="1905120"/>
            <a:ext cx="1828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3"/>
          <p:cNvSpPr/>
          <p:nvPr/>
        </p:nvSpPr>
        <p:spPr>
          <a:xfrm>
            <a:off x="3352680" y="266688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G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3352680" y="335268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G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3352680" y="403848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6"/>
          <p:cNvSpPr/>
          <p:nvPr/>
        </p:nvSpPr>
        <p:spPr>
          <a:xfrm>
            <a:off x="304812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30481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3048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743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>
            <a:off x="32004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3"/>
          <p:cNvSpPr/>
          <p:nvPr/>
        </p:nvSpPr>
        <p:spPr>
          <a:xfrm>
            <a:off x="2057400" y="6095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4"/>
          <p:cNvSpPr/>
          <p:nvPr/>
        </p:nvSpPr>
        <p:spPr>
          <a:xfrm>
            <a:off x="6934320" y="1905120"/>
            <a:ext cx="1447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5"/>
          <p:cNvSpPr/>
          <p:nvPr/>
        </p:nvSpPr>
        <p:spPr>
          <a:xfrm>
            <a:off x="6934320" y="2666880"/>
            <a:ext cx="1447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6934320" y="3352680"/>
            <a:ext cx="1447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6934320" y="4038480"/>
            <a:ext cx="1447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8"/>
          <p:cNvSpPr/>
          <p:nvPr/>
        </p:nvSpPr>
        <p:spPr>
          <a:xfrm>
            <a:off x="5486400" y="2438280"/>
            <a:ext cx="10666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9"/>
          <p:cNvSpPr/>
          <p:nvPr/>
        </p:nvSpPr>
        <p:spPr>
          <a:xfrm>
            <a:off x="4267080" y="5181480"/>
            <a:ext cx="3200400" cy="1143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قرینه کردن معادل با مکمل دو عدد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45B5-D322-4F78-A3FD-602F6270E3E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کلیف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ای بنویسید که نمرات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درس را از حافظه خوانده و معدل آن را محاسبه نمای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ای بنویسید که یک درجه حرارت را از سلسیوس به فارنهایت تبدیل نمای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ای بنویسید که روز ماه و سال تولد و تاریخ روز را از حافظه خوانده و تعداد روزهای زندگی را محاسبه نمای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ای  بنویسید که  تاریخ روز را خوانده و تعیین کند که امروز چند شنبه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ای بنویسید که تاریخ شمسی را به میلادی تبدیل نماید (؟؟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677-618C-4AE8-82B5-EE4BC1C4DC2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1828800" y="2209680"/>
            <a:ext cx="5334120" cy="266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200" spc="-1" strike="noStrike">
                <a:solidFill>
                  <a:srgbClr val="000000"/>
                </a:solidFill>
                <a:latin typeface="Garamond"/>
              </a:rPr>
              <a:t>پایان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5F8-5522-4ABF-AC67-C6388923B67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47920" y="76320"/>
            <a:ext cx="5029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segment  stack  ‘stack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   32h  du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s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47920" y="1143000"/>
            <a:ext cx="5029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 ‘da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X  db 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Y  dw  123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447920" y="2590920"/>
            <a:ext cx="701028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segment  ‘cod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ss:stacksg,ds:datasg , cs:code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                proc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ax,data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ds,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ov ax,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ov bx,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Add ax,b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ov x,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 ax,4c0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21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               en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s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911-6BD3-4739-9A9F-31CEA777B2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عریف انواع داده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09480" y="1676520"/>
            <a:ext cx="15242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133720" y="16765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743200" y="1676520"/>
            <a:ext cx="2590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09480" y="2514600"/>
            <a:ext cx="1524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نام متغی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13372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743200" y="25146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قدار (ها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09480" y="342900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  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09480" y="3962520"/>
            <a:ext cx="3048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  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09480" y="4572000"/>
            <a:ext cx="4267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   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345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09480" y="5105520"/>
            <a:ext cx="6019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   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57234572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609480" y="5638680"/>
            <a:ext cx="7391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   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123123423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3733920" y="342900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4648320" y="388620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5715000" y="449568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6934320" y="502920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8077320" y="5562720"/>
            <a:ext cx="8380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775-15E3-4B3E-8B88-EDD30487547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عریف متغیر از نوع بای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2120" y="2209680"/>
            <a:ext cx="2438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    DB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62120" y="2895480"/>
            <a:ext cx="2438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    DB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762120" y="350532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     DB     2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62120" y="411480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     DB     0A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62120" y="480060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    DB    01011110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62120" y="5410080"/>
            <a:ext cx="2438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6     DB 15,100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800600" y="2209680"/>
            <a:ext cx="3276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     DB     10    DUP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762120" y="6095880"/>
            <a:ext cx="3352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7     DB     ‘A’,’B’,’C’,’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4800600" y="2895480"/>
            <a:ext cx="3048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9     DB     20    DUP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4800600" y="3505320"/>
            <a:ext cx="3505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0     DB     ‘ABCDEDF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4800600" y="4038480"/>
            <a:ext cx="4114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    DB     10,20,’A’,15,’COMPUT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7FAB-43B3-4F75-9BBB-778BE26D6D8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عریف متغیر از نو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62120" y="2209680"/>
            <a:ext cx="2438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    DW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62120" y="2895480"/>
            <a:ext cx="2438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    DW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2120" y="350532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     DW     122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120" y="4114800"/>
            <a:ext cx="2438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     DW     0A12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62120" y="4800600"/>
            <a:ext cx="2819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    DW    01011110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62120" y="5410080"/>
            <a:ext cx="2819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6     DW 15,100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800600" y="2209680"/>
            <a:ext cx="3276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     DW     10    DUP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762120" y="6095880"/>
            <a:ext cx="3352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7     DW     ‘A’,’B’,’C’,’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800600" y="2895480"/>
            <a:ext cx="3048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9     DW     20    DUP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800600" y="3505320"/>
            <a:ext cx="3505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0     DW     ‘A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4800600" y="4038480"/>
            <a:ext cx="4114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    DW     10,20,’AC’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898E-82C9-4089-96E7-18E7B289CA9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حوه قرار گیری داده ها در حافظ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57200" y="44197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752480" y="441972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19720" y="16002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419720" y="19810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31240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419720" y="35053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419720" y="38862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419720" y="42670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419720" y="46483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419720" y="50292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419720" y="54100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4419720" y="57913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816160" y="1560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816160" y="1941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816160" y="2398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5816160" y="2757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581616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5814720" y="3465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V="1">
            <a:off x="11430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 flipV="1">
            <a:off x="228600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114300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228600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9"/>
          <p:cNvSpPr/>
          <p:nvPr/>
        </p:nvSpPr>
        <p:spPr>
          <a:xfrm rot="16200000">
            <a:off x="1638360" y="38476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1297080" y="51418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419720" y="23623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419720" y="27432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4777200" y="2362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4771080" y="271620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9EC-D48B-47FE-9D89-A7B43C07C61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تعریف متغیر از نو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D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 BY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شابه ب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ضای اشغال شده بیشت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حوه قرار گیری در حافظه مشاب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1   DD   43FAC25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62120" y="59436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371600" y="59436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981080" y="594360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90920" y="59436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791320" y="4876920"/>
            <a:ext cx="1066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791320" y="51814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791320" y="548640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5791320" y="5791320"/>
            <a:ext cx="1066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791320" y="60958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5791320" y="640080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920640" y="4836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844680" y="514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996960" y="5446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6996240" y="5675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3352680" y="6095880"/>
            <a:ext cx="2362320" cy="152640"/>
          </a:xfrm>
          <a:prstGeom prst="rightArrow">
            <a:avLst>
              <a:gd name="adj1" fmla="val 50000"/>
              <a:gd name="adj2" fmla="val 3869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9:51:21Z</dcterms:created>
  <dc:creator>yasser</dc:creator>
  <dc:description/>
  <dc:language>en-US</dc:language>
  <cp:lastModifiedBy>Mat</cp:lastModifiedBy>
  <dcterms:modified xsi:type="dcterms:W3CDTF">2010-11-20T06:15:36Z</dcterms:modified>
  <cp:revision>132</cp:revision>
  <dc:subject/>
  <dc:title>زبان ماشین و اسمبلی – درس ششم</dc:title>
</cp:coreProperties>
</file>