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318-0EC6-41F5-AFB5-247A5910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F45-38ED-4E52-9B13-1779F8BD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1AD-E07A-4FFD-938D-FC3E94C2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878-AC1D-4D8F-A255-1DA2C627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9064-3C12-43F0-A609-79F24149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24B1-6B72-4F85-8C3B-9942792C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4DDF-1BDE-43D9-83C6-45B4BB4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B6D-1116-4F84-AFF7-DE9EE524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0F7B-6C27-4928-8E84-D98876BA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0701-C02B-435B-95DE-96A7D62C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A8E6-C0C8-498C-A6B2-9CECA3AF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831-C6C8-498F-814F-39E4B5A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3C1B-2E4D-4116-93B8-FB1936F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8D3F-4B7D-4E56-8FD3-D79409B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C13-EF49-4B6C-BD5E-819DA3FF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2112-6611-4F3E-AC92-3614DD7D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3A4-29D1-432A-8088-8965E464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449-1167-4FAD-A8FC-D8E3D944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5D9-16C9-4956-AF9F-04B9E79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250-A432-4603-A194-EA6AFA61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D30-2254-4F53-B78B-9AF812F4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E3B-003E-4E03-B657-4CC69DC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C11-F35E-4B1D-9DB5-6ED841A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936-E9D6-4D10-B4D4-B9DDAEE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8D12-B561-4ACA-BF48-345E28A1D1D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EB5C-EC25-417C-BE2C-0F3178D76824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cc"/>
                </a:solidFill>
                <a:latin typeface="Tahoma"/>
              </a:rPr>
              <a:t>زبان ماشین و اسمبلی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fa-IR" sz="4000" spc="-1" strike="noStrike">
                <a:solidFill>
                  <a:srgbClr val="ffffcc"/>
                </a:solidFill>
                <a:latin typeface="Tahoma"/>
              </a:rPr>
              <a:t> درس نه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</a:rPr>
              <a:t>وقفه ه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جدول بردار وقفه(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T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T=Interrupt Vector 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ذخیره ادرس روالهای پاسخگویی به وقف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جدولی شامل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256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رکو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ر رکورد حاوی آدرس ی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اس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رای یافتن آدرس روتین پاسخگویی به وقفه شماره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باید به رکورد دهم این جدول مراجعه ش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اندازه جدول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25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رابر با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24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بایت اس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آدرس ه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به صور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:off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ذخیره شده اس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 جدول بردار وقف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این جدول همواره در ابتدای حافظه یعنی سگمنت شماره صفر قرار د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آدرس شروع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00: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ادرس پایا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00:03F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09480" y="5105520"/>
            <a:ext cx="5105520" cy="1523880"/>
          </a:xfrm>
          <a:prstGeom prst="cloudCallout">
            <a:avLst>
              <a:gd name="adj1" fmla="val -40296"/>
              <a:gd name="adj2" fmla="val 71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در صورتی که برنامه ای این بخش حافظه را دستکاری کند معمولا سیستم قفل خواهد ش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تمری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رنامه ای بنویسید که وقفه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را تولید نماید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های کاربرد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صفحه نمای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وقفه شماره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صفحه کلی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وقفه شماره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H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قفه تایم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در هر ثانیه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بار اجرا می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های کاربردی (ادامه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پایان برنا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وقفه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پایان برنا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وقفه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ظیفه : کار با صفحه نمای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این وقفه وظایف زیادی را بر عهده د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ر وقفه می تواند دارای سرویس های زیادی باش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ر سرویس دارای یک شماره اس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صفحه نمايش و حافظه مانيتو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درحالت معمول داراي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سطر(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)و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ستون(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79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3352680"/>
          <a:ext cx="8610480" cy="2560680"/>
        </p:xfrm>
        <a:graphic>
          <a:graphicData uri="http://schemas.openxmlformats.org/drawingml/2006/table">
            <a:tbl>
              <a:tblPr/>
              <a:tblGrid>
                <a:gridCol w="3367080"/>
                <a:gridCol w="1368360"/>
                <a:gridCol w="1509840"/>
                <a:gridCol w="1279440"/>
                <a:gridCol w="1085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حل مكان نما براي يك حرف مانيتو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ه صورت دهده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به فرم هگز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سط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ستو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سط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ستو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گوشه سمت چپ بال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گوشه سمت راست بال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4F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وسط مانيتو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39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27H,28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گوشه سمت چپ پاي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18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00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گوشه سمت راست پاي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18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4F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: تنظیم صفحه نمای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رویس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0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: تعیین  حالت مانیتو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رویس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1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:تعیین اندازه مکان نم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رویس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2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:تعیین  محل مکان نم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6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:پاك كردن صفحه نماي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رویس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09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: نوشتن یک یا چند کاراکتر با رنگ مشخ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رویس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C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:نوشتن پیکسل در حالت گرافي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ی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00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086320" y="20937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758000" y="15238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791760" y="1560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345000" y="2681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← M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705720" y="4572000"/>
            <a:ext cx="198108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13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1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881400" y="613260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0*200*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" descr="01"/>
          <p:cNvPicPr/>
          <p:nvPr/>
        </p:nvPicPr>
        <p:blipFill>
          <a:blip r:embed="rId1"/>
          <a:stretch/>
        </p:blipFill>
        <p:spPr>
          <a:xfrm>
            <a:off x="304920" y="1512720"/>
            <a:ext cx="56386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ارتباط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PU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با ابزارهای جانبی</a:t>
            </a:r>
            <a:br>
              <a:rPr sz="4400"/>
            </a:b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رودي - خروجي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روش سرکش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تمام زما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PU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صرف بررسی ابزارها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/O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می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طراحی سا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کارایی پایی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روش وقفه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RUPT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PU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کارهای فعلی خود را ادامه میده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با آماده شدن یک داده د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/O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یک سیگنال تولید می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PU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کار فعلی خود را قطع کرده و به ابزا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/O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سرویس میده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یس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086320" y="3160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7758000" y="2590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961520" y="1636560"/>
            <a:ext cx="304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تعیین اندازه مکان نما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حالت معمول مانند خط تير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اكزيمم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سط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539400" y="2627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386760" y="31384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←STA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463800" y="37339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←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066680" y="2057400"/>
            <a:ext cx="1752840" cy="3886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3048120" y="2057400"/>
            <a:ext cx="152280" cy="3886200"/>
          </a:xfrm>
          <a:custGeom>
            <a:avLst/>
            <a:gdLst>
              <a:gd name="textAreaLeft" fmla="*/ 0 w 152280"/>
              <a:gd name="textAreaRight" fmla="*/ 55080 w 1522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263040" y="377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724280" y="4800600"/>
            <a:ext cx="289584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H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L,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1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یس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086320" y="3160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7772400" y="2590920"/>
            <a:ext cx="290520" cy="1981080"/>
          </a:xfrm>
          <a:custGeom>
            <a:avLst/>
            <a:gdLst>
              <a:gd name="textAreaLeft" fmla="*/ 0 w 290520"/>
              <a:gd name="textAreaRight" fmla="*/ 104760 w 2905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977720" y="16365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تعیین محل مکان نما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993360" y="2895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076440" y="32767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H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ماره سط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079680" y="35956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L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ماره ستو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1219320" y="4114800"/>
            <a:ext cx="22860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H,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L,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BH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1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5584680" y="40384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H←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شماره صفجه فعا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8086320" y="42051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7848720" y="3048120"/>
            <a:ext cx="290520" cy="2666880"/>
          </a:xfrm>
          <a:custGeom>
            <a:avLst/>
            <a:gdLst>
              <a:gd name="textAreaLeft" fmla="*/ 0 w 290520"/>
              <a:gd name="textAreaRight" fmla="*/ 104760 w 290520"/>
              <a:gd name="textAreaTop" fmla="*/ 51480 h 2666880"/>
              <a:gd name="textAreaBottom" fmla="*/ 2615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9"/>
                  <a:pt x="10800" y="1337"/>
                </a:cubicBezTo>
                <a:lnTo>
                  <a:pt x="10800" y="9463"/>
                </a:lnTo>
                <a:cubicBezTo>
                  <a:pt x="10800" y="10132"/>
                  <a:pt x="16200" y="10800"/>
                  <a:pt x="21600" y="10800"/>
                </a:cubicBezTo>
                <a:cubicBezTo>
                  <a:pt x="16200" y="10800"/>
                  <a:pt x="10800" y="11469"/>
                  <a:pt x="10800" y="12137"/>
                </a:cubicBezTo>
                <a:lnTo>
                  <a:pt x="10800" y="20263"/>
                </a:lnTo>
                <a:cubicBezTo>
                  <a:pt x="10800" y="209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967640" y="16365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پاك كردن صفحه نماي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63040" y="3059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564360" y="365760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ماره ستون گوشه سمت چپ بالاي پنجر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548520" y="3973680"/>
            <a:ext cx="46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ماره سطر گوشه سمت چپ بالاي پنجر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380880" y="3733920"/>
            <a:ext cx="2895840" cy="2361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RSCR PROC N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060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BH,6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X,000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X,184F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1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RSCR END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5544720" y="49672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H←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رنگ زمينه و حرو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856560" y="3367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←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373200" y="4343400"/>
            <a:ext cx="48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L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ماره سطر گوشه سمت راست پايين پنجر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97320" y="46483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H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ماره ستون گوشه سمت راست پايين پنجر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438280" y="5846760"/>
          <a:ext cx="6096240" cy="101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رنگ زمین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رنگ حرو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صف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BL</a:t>
                      </a:r>
                      <a:r>
                        <a:rPr b="0" lang="fa-IR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(چشمک زدن حرف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R  G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c0000"/>
                          </a:solidFill>
                          <a:latin typeface="Tahoma"/>
                        </a:rPr>
                        <a:t>I  R  G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یس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نوشتن کاراکتر در محل مکان نم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←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کداسک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رن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شماره صفحه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تعداد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914400" y="2666880"/>
            <a:ext cx="35053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AH,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AL,’T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BL,01111010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B BH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CX,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 1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0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یس شمار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0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چاپ پیکسل بر روی مانیتو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رودی 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←0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 ←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X ←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X ←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H ←PAGE NUMBER(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380880" y="228600"/>
            <a:ext cx="8001000" cy="6400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ta seg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; add your data here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ck seg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w   128  dup(0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de seg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rt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; set segment register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AH,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AL,13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T 10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AH,0C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AL,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CX,1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DX,1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BH,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T 10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v ax, 4c00h ; exit to operating syste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t 21h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d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d star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380880" y="0"/>
            <a:ext cx="784872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...........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AH,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AL,13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 10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 CX,25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1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AH,0C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AL,C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DX,1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BH,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 10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OP L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V AH,0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 21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-----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تمربن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پروسجری بنویسید که مختصات یک مستطیل را دریافت کرده و آن را رسم کن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پارامترها را از طریق رجیسترها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,AH,BL,B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به پروسجر ارسال نمایی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ا فراخوانی این پروسجر ترسیماتی را به دلخواه انجام دهی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ظیفه : کار با صفحه نمایش و صفحه ك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این وقفه وظایف زیادی را بر عهده د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ر وقفه می تواند دارای سرویس های زیادی باش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ر سرویس دارای یک شماره اس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01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:خواندن يك حرف از صفحه كليد و نمايش بر مانيتو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07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 :خواندن يك حرف از صفحه كليد بدون نمايش بر مانيتو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09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 :نمايش يك رشته يا پيغام روي مانيتو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2C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 :خواندن ساعت كامپيوت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2D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 :تغيير ساعت كامپيوت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2A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 : خواندن تاريخ كامپيوت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سرويس </a:t>
            </a:r>
            <a:r>
              <a:rPr b="0" lang="en-CA" sz="2600" spc="-1" strike="noStrike">
                <a:solidFill>
                  <a:srgbClr val="ffffff"/>
                </a:solidFill>
                <a:latin typeface="Tahoma"/>
              </a:rPr>
              <a:t>2BH</a:t>
            </a:r>
            <a:r>
              <a:rPr b="0" lang="fa-IR" sz="2600" spc="-1" strike="noStrike">
                <a:solidFill>
                  <a:srgbClr val="ffffff"/>
                </a:solidFill>
                <a:latin typeface="Tahoma"/>
              </a:rPr>
              <a:t> : تغيير تاريخ كامپيوتر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روش وقف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کارایی بال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طراحی و پیاده سازی پیچی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روند اجرای طبیعی برنامه ها مختل نمی ش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01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8192520" y="351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006360" y="1752480"/>
            <a:ext cx="59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خواندن يك حرف از صفحه كليد و نمايش آن بر مانيتو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864120" y="3516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0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380880" y="4572000"/>
            <a:ext cx="2057400" cy="1523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8165160" y="4191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خروج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943600" y="4191120"/>
            <a:ext cx="19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كد اسكي يك حرف را از بافر صفحه كليد ميگيرد و در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قرار ميده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cc"/>
                </a:solidFill>
                <a:latin typeface="Tahoma"/>
              </a:rPr>
              <a:t>برنامه اي بنويسيد كه از صفحه كليد رشته خوانده در صورتي كه بر كليد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ENTER</a:t>
            </a:r>
            <a:r>
              <a:rPr b="0" lang="fa-IR" sz="2800" spc="-1" strike="noStrike">
                <a:solidFill>
                  <a:srgbClr val="ffffcc"/>
                </a:solidFill>
                <a:latin typeface="Tahoma"/>
              </a:rPr>
              <a:t> فشار داده شد خواندن رشته متوقف گردد اندازه رشته ماكسيمم </a:t>
            </a:r>
            <a:r>
              <a:rPr b="0" lang="fa-IR" sz="2800" spc="-1" strike="noStrike">
                <a:solidFill>
                  <a:srgbClr val="ffffcc"/>
                </a:solidFill>
                <a:latin typeface="Tahoma"/>
              </a:rPr>
              <a:t>20</a:t>
            </a:r>
            <a:r>
              <a:rPr b="0" lang="fa-IR" sz="2800" spc="-1" strike="noStrike">
                <a:solidFill>
                  <a:srgbClr val="ffffcc"/>
                </a:solidFill>
                <a:latin typeface="Tahoma"/>
              </a:rPr>
              <a:t> كاراكترمي باشد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33520" y="17524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Name db 20 dup(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cx,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 si,user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ah,0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p al,0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z lbl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[si],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 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p al,0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pnz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bl1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07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8192520" y="351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973240" y="1752480"/>
            <a:ext cx="63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خواندن يك حرف از صفحه كليد  بدون نمايش آن بر مانيتو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864120" y="3516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0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80880" y="4572000"/>
            <a:ext cx="259092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07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P AL,0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E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8165160" y="4191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خروج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943600" y="4191120"/>
            <a:ext cx="19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كد اسكي يك حرف را از بافر صفحه كليد ميگيرد و در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قرار ميده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09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383360" y="17524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نمايش يك رشته يا پيغام روي مانيتو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28600" y="2057400"/>
            <a:ext cx="4038480" cy="441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seg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STRING db "THIS IS MY STRING$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ck seg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   128  dup(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de seg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r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ax, 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ds, a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es, a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 dx, MYSTR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ah, 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ax, 4c00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 21h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sta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8086320" y="42051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7848720" y="3581280"/>
            <a:ext cx="290520" cy="1676520"/>
          </a:xfrm>
          <a:custGeom>
            <a:avLst/>
            <a:gdLst>
              <a:gd name="textAreaLeft" fmla="*/ 0 w 290520"/>
              <a:gd name="textAreaRight" fmla="*/ 104760 w 290520"/>
              <a:gd name="textAreaTop" fmla="*/ 51480 h 1676520"/>
              <a:gd name="textAreaBottom" fmla="*/ 16250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4"/>
                  <a:pt x="10800" y="2127"/>
                </a:cubicBezTo>
                <a:lnTo>
                  <a:pt x="10800" y="8673"/>
                </a:lnTo>
                <a:cubicBezTo>
                  <a:pt x="10800" y="9737"/>
                  <a:pt x="16200" y="10800"/>
                  <a:pt x="21600" y="10800"/>
                </a:cubicBezTo>
                <a:cubicBezTo>
                  <a:pt x="16200" y="10800"/>
                  <a:pt x="10800" y="11864"/>
                  <a:pt x="10800" y="12927"/>
                </a:cubicBezTo>
                <a:lnTo>
                  <a:pt x="10800" y="19473"/>
                </a:lnTo>
                <a:cubicBezTo>
                  <a:pt x="10800" y="205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6560640" y="39625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09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894560" y="4343400"/>
            <a:ext cx="28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X←OFFSET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شروع رشت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4952880" y="5257800"/>
            <a:ext cx="4191120" cy="1295280"/>
          </a:xfrm>
          <a:prstGeom prst="cloudCallout">
            <a:avLst>
              <a:gd name="adj1" fmla="val -40296"/>
              <a:gd name="adj2" fmla="val 71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رشته مورد نظر حتما بايد با كاركتر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$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به اتمام برسد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304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برنامه اي بنويسيد كه از صفحه كليد رشته خوانده در صورتي كه بر كليد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NTER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فشار داده شد خواندن رشته متوقف گردد اندازه رشته ماكسيمم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 كاراكترمي باشد.پس از آن رشته مورد نظر را در خروجي چاپ نمايد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33520" y="175248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Name db 20 dup(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cx,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 si,user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ah,0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p al,0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pz go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[si],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 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mp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[si],'$'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 dx, user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 ah,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8192520" y="351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825160" y="2057400"/>
            <a:ext cx="31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خواندن ساعت كامپيوت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6864120" y="3516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2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380880" y="4572000"/>
            <a:ext cx="259092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2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8165160" y="4191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خروج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5029200" y="4191120"/>
            <a:ext cx="286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ساعت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دقيقه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H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ثانيه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صدم ثانيه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D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8192520" y="351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859360" y="205740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تغيير ساعت كامپيوت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941880" y="2895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2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80880" y="3962520"/>
            <a:ext cx="3048120" cy="2361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2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H,0EH;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ساعت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L,2EH;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46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قيق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H,0FH; 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ثاني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L,20h;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32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صدم ثاني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8165160" y="4572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خروج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334120" y="3200400"/>
            <a:ext cx="286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ساعت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دقيقه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H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ثانيه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صدم ثانيه صفر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6939720" y="4583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←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4952880" y="5257800"/>
            <a:ext cx="4191120" cy="1295280"/>
          </a:xfrm>
          <a:prstGeom prst="cloudCallout">
            <a:avLst>
              <a:gd name="adj1" fmla="val -40296"/>
              <a:gd name="adj2" fmla="val 71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اگر مقدار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برابر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FH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شد يعني مقادير ورودي صحيح نيست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A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8192520" y="351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877360" y="205740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خواندن تاريخ كامپيوت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870240" y="3516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2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380880" y="4572000"/>
            <a:ext cx="259092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2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8165160" y="4191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خروج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952880" y="3886200"/>
            <a:ext cx="2867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ماره روز هاي هفت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يكشنب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دوشنب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سه شنب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چهار شنبه،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پنج شنبه،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جمع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شنبه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X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سال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0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H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مار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ما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مار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رو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شماره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1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سرويس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2BH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8192520" y="351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رود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5911200" y="205740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ظیفه : 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تغيير تاريخ كامپيوت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863760" y="3516480"/>
            <a:ext cx="116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←2B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X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سا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H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ا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L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رو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380880" y="4572000"/>
            <a:ext cx="259092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H,2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012880" y="5257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خروج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143000" y="1828800"/>
            <a:ext cx="2867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ماره روز هاي هفت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يكشنب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دوشنب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سه شنب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چهار شنبه،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پنج شنبه،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جمعه،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 شنبه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X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سال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0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H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مار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ما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L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←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مار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ا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رو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7015680" y="5257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←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2819520" y="5105520"/>
            <a:ext cx="4190760" cy="1295280"/>
          </a:xfrm>
          <a:prstGeom prst="cloudCallout">
            <a:avLst>
              <a:gd name="adj1" fmla="val -40296"/>
              <a:gd name="adj2" fmla="val 71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اگر مقدار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برابر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FH</a:t>
            </a: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شد يعني مقادير ورودي صحيح نيست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900" spc="-1" strike="noStrike">
                <a:solidFill>
                  <a:srgbClr val="ffffcc"/>
                </a:solidFill>
                <a:latin typeface="Tahoma"/>
              </a:rPr>
              <a:t>سوال؟</a:t>
            </a:r>
            <a:endParaRPr b="0" lang="en-US" sz="2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RUPT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سیگنالی است از طرف یک ابزار جانبی یا برنامه درحال اجرا که سرویس خاصی را درخواست می کن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234840" y="441972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انواع وقفه 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172200" y="33526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065480" y="327672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Arial"/>
              </a:rPr>
              <a:t>وقفه هاي داخل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15160" y="5334120"/>
            <a:ext cx="607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وقفه هاي خارج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Arial"/>
              </a:rPr>
              <a:t>از دستگاه هاي خارجي يا دستگاه هاي جانبي به پروسسور وارد مي شوند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Arial"/>
              </a:rPr>
              <a:t>مثل: تايمر، صفحه كليد، پورت سري، ديسك، پورت پارالل و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114800" y="2895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671120" y="281952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قفه هاي شماره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0،1،3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88600" y="38862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قفه هاي نرم افزاري با دستور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NT 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هاي داخلي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قفه شماره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(تقسيم بر صفر) : اين وقفه زماني فعال مي گردد كه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PU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در شرايطي قرار گيرد كه كاري نتواند انجام دهد مانند تقسيم بر صف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قفه شماره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اجراي يك دستور- يك دستور: در صورتي كه بيت پرچم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F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توسط كاربر يا نرم افزار يك شود،كامپيوتر پس از اجراي هر دستور توقف مي نمايد و كاربر مي تواند محتويات ثبات ها و خانه هاي حافظه را بررسي نماي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هاي داخلي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قفه شماره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نقطه توقف برنامه: با گذاشتن دستور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T 3h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در برنامه ، اين وقفه ايجاد مي شو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وقفه شماره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سر ريز: اگر دستور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TO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در برنامه گذاشته شود در صورت بروز سرريز ، اين وقفه ايجاد مي شو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رخداد وقف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120" y="1752480"/>
            <a:ext cx="1676160" cy="4724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62120" y="175248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62120" y="205740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2362320"/>
            <a:ext cx="167616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62120" y="266688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62120" y="297180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62120" y="3276720"/>
            <a:ext cx="167616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62120" y="358128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62120" y="388620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762120" y="4191120"/>
            <a:ext cx="167616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62120" y="449568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62120" y="480060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62120" y="5105520"/>
            <a:ext cx="167616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762120" y="541008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62120" y="5715000"/>
            <a:ext cx="16761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62120" y="6019920"/>
            <a:ext cx="167616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20"/>
          <p:cNvSpPr/>
          <p:nvPr/>
        </p:nvSpPr>
        <p:spPr>
          <a:xfrm flipH="1">
            <a:off x="2590560" y="251460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263400" y="2322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وقف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590920" y="29718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261600" y="30081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TO IS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6172200" y="2819520"/>
            <a:ext cx="167652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6172200" y="3124080"/>
            <a:ext cx="16765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6172200" y="3429000"/>
            <a:ext cx="16765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6172200" y="3733920"/>
            <a:ext cx="167652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172200" y="4038480"/>
            <a:ext cx="16765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0"/>
          <p:cNvSpPr/>
          <p:nvPr/>
        </p:nvSpPr>
        <p:spPr>
          <a:xfrm flipH="1" flipV="1">
            <a:off x="2590560" y="3048120"/>
            <a:ext cx="3352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1563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5945040" y="2238480"/>
            <a:ext cx="204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RUP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ROUTI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رخداد وقف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ذخیره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:IP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پرش به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مربوط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ذخیره تمامی رجیسترها(اختیار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اجرا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ازیابی تمامی رجیستر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ازیاب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:IP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ازگشت به برنامه اصل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وقفه های سیست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256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وقفه مختل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256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روال پاسخگویی به وقفه مختل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هر وقفه دارای یک شماره اس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با استفاده از شماره وقفه سابروتین مورد نظر انتخاب میش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2:50Z</dcterms:created>
  <dc:creator>Elmi</dc:creator>
  <dc:description/>
  <dc:language>en-US</dc:language>
  <cp:lastModifiedBy>Mat</cp:lastModifiedBy>
  <dcterms:modified xsi:type="dcterms:W3CDTF">2011-01-01T11:04:47Z</dcterms:modified>
  <cp:revision>124</cp:revision>
  <dc:subject/>
  <dc:title>Slide 1</dc:title>
</cp:coreProperties>
</file>