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02C6-D4F5-44E6-AE0B-1191CFB4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407088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7FB8-D252-4EFD-8596-4799F132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A7DC-E126-4B9D-9D53-160F6692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A293-6473-4464-9CD6-EF12E0E7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8D95-7767-446B-BEFD-43BCDF09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07E9-CCDE-4C0D-A7F0-9546D74E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7FD2-2672-48B9-8734-20CEE558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B275-8445-4FC0-ABF0-CD9B972E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57F5-4D8F-4885-85C2-4E25B7EA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C654-A8A4-4691-81AC-A3AD3BD3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FD1E-A86E-46E5-B995-7AE476DD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28E6-F6C5-4E1D-9215-BEDA5BD8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EA59-03B5-48E5-8364-63737C7F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C5E9-AAEC-4F7F-BD33-0C7DF40B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407088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5010-98B3-4BC3-AA7A-6DC53980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5F08-6D3B-4246-A7AC-C33B2A25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D993-35ED-4D85-8543-456C40B1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EB844-2B83-452F-A2BD-FE0872D6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21151-9B6B-4D32-920C-2E25071C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B50CC-B7C9-4896-871B-BED39409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15F40-FD30-4C90-97AD-3B1471B7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76849-BC58-4B54-A019-01803DDE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FAD3-4998-41AD-8ED4-899D8EB7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8A7EE-4ECC-4902-BC77-F2F56C84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73861-A2C8-4BD7-9583-DE1620A3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4492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B3B2C-D5DC-4838-B39D-23C78918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8119A-B999-40EE-BAE6-32E38610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52480" y="407088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545E1-7349-42EC-971B-B696AADE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4492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4DF2E-54B4-497F-86F0-9544DB0D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2308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9332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75248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12308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9332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4F5C8-7C20-4FE0-9A83-5F8250A5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A8E5C-30A2-40F2-8ED3-F7DB2144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E3AE4-DFC2-4EC6-8907-590DD152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3904F-5A55-4994-899E-6BA3F71F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F670-0BE2-420B-A099-E0E1E535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0D5AE-4B35-450D-ACD7-06498281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0AC6B-DB39-4467-9D16-B045571A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DFB9C-E102-43A2-924F-D0C9E6DB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A9930-B03E-4A02-B7A2-61809893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4492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CC6C6-6671-4CB9-948E-54880FA6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6AFC0-317A-4CC4-966C-2C1A944B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752480" y="407088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51737-73D3-44F8-A464-397B1C36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4492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18DE0-0295-4851-8C45-CFFB7666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2308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9332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75248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12308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9332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F059A-524D-4698-B623-FEE0ADA1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4455-0F35-4705-81B7-67DC6030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0D34-3291-43DB-AFCF-47806F41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F287-2332-428B-BF61-CA07B531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C716-DF50-4445-B4F4-577FC54C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8BE0-8FE4-40C8-8610-4330A0FE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000000"/>
                </a:solidFill>
                <a:latin typeface="Times New Roman"/>
                <a:ea typeface="B Yek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2BA4-AA64-40A7-AF83-F7CF0AFE33E9}" type="slidenum">
              <a:rPr b="0" lang="ar-SA" sz="2400" spc="-1" strike="noStrike">
                <a:solidFill>
                  <a:srgbClr val="000000"/>
                </a:solidFill>
                <a:latin typeface="Times New Roman"/>
                <a:ea typeface="B Yek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EE57-BD13-407E-89E1-C17534CC086A}" type="slidenum"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0E26-E4E3-4950-9292-FF3EE29267E8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D907-29B2-4B3C-B732-5DE6A463667B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ADF5-7411-4558-96B1-773BF58906F4}" type="slidenum"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BC0E-276C-4A0F-B0C8-A874D38634F4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Calibri"/>
              </a:rPr>
              <a:t>Quiz</a:t>
            </a:r>
            <a:r>
              <a:rPr b="1" lang="fa-IR" sz="3600" spc="-1" strike="noStrike">
                <a:solidFill>
                  <a:srgbClr val="000000"/>
                </a:solidFill>
                <a:latin typeface="Calibri"/>
              </a:rPr>
              <a:t> - مدت زمان پاسخگويي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CA" sz="3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fa-IR" sz="3600" spc="-1" strike="noStrike">
                <a:solidFill>
                  <a:srgbClr val="000000"/>
                </a:solidFill>
                <a:latin typeface="Calibri"/>
              </a:rPr>
              <a:t>دقيق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روال اجرای دستورالعمل را در پردازشگر نام ببريد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قالب دستورات اسمبل</a:t>
            </a: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ي</a:t>
            </a: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 را بنويسيد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 منظور از كد دستورالعمل چيست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روال تول</a:t>
            </a: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ي</a:t>
            </a: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د برنامه اسمبل</a:t>
            </a: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ي</a:t>
            </a: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 را بنويسيد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مدل پردازنده پنتيوم را ترسيم نماييد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عمليات زير را محاسبه نماييد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4569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cimal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?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C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, ?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ctal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, ?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exadecimal,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FF)-(7F)=? SignedNu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DDDA-9557-47D6-8E35-F8B8D8DFEF69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آدرس دهي ثبات ها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زماني كه عمليات بر روي ثبات ها انجام گيرد از اين روش استفاده ميگرد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DD R1,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9899-2E61-4A4E-B92E-1D98D6F9A042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آدرس  دهي مستقيم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ر اين روش آدرس خانه حافظه در دستور وجود دارد و پراسسور نقشي در بدست آوردن آدرس ندا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براي مثال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DD [8000],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389F-2DCF-4FBA-860B-5BBAD167A978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آدرس دهي غير مستقيم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ر اين روش ثبات اشاره گر در دستور قرار مي گيرد كه محتواي آن ثبات آدرس خود اطلاعات در حافظه مي باش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ثال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DD R0,(R1)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703E-1928-4E11-B83B-7286E913484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2209680" y="3352680"/>
            <a:ext cx="609624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روش آدرس دهي با ثبات پايه ونسبي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آدرس از دوقسمت پايه (آدرس شروع يك ناحيه از حافظه) در ثبات قرار دارد و آدرس آفست(آدرس جابه جايي) در دستور نوشته مي شود مزيت اين روش اينست كه فقط آدرس جابه جايي در دستور قرار دارد پس دستور كمتر فضا اشغال مي كن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BBEE-37F6-4CD4-9D32-8DA74CAA89F1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563868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آدرس دهي ايندكس يا شاخ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752480" y="1142640"/>
            <a:ext cx="7010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همانند آدرس دهي غير مستق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جهت استفاده در جدول و ماتري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ثال َ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DD R2,20(R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89A7-6BB8-44C7-AF8B-9F7009B9A22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1905120" y="2666880"/>
            <a:ext cx="630072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آدرس دهي افزايش و كاهش خودكار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همانند آدرس دهي غير مستق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قدار آدرس اشاره گر يك واحد كم و يا زياد مي گرد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V R1,(R2)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V R1,-(R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2C44-BAEE-49F3-AD6F-15D51071E65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2689-C13B-417C-B977-102D156E7AC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آدرس 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 ب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ت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3505320" y="1676520"/>
            <a:ext cx="1828800" cy="434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5"/>
          <p:cNvSpPr/>
          <p:nvPr/>
        </p:nvSpPr>
        <p:spPr>
          <a:xfrm>
            <a:off x="3505320" y="1981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6"/>
          <p:cNvSpPr/>
          <p:nvPr/>
        </p:nvSpPr>
        <p:spPr>
          <a:xfrm>
            <a:off x="3505320" y="2209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7"/>
          <p:cNvSpPr/>
          <p:nvPr/>
        </p:nvSpPr>
        <p:spPr>
          <a:xfrm>
            <a:off x="3505320" y="2438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3505320" y="2666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9"/>
          <p:cNvSpPr/>
          <p:nvPr/>
        </p:nvSpPr>
        <p:spPr>
          <a:xfrm>
            <a:off x="3505320" y="5791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3505320" y="5562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2080080" y="16002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…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2193480" y="57150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...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3"/>
          <p:cNvSpPr/>
          <p:nvPr/>
        </p:nvSpPr>
        <p:spPr>
          <a:xfrm rot="16200000">
            <a:off x="2705040" y="13330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4"/>
          <p:cNvSpPr/>
          <p:nvPr/>
        </p:nvSpPr>
        <p:spPr>
          <a:xfrm rot="16200000">
            <a:off x="2781000" y="5524200"/>
            <a:ext cx="152640" cy="1295640"/>
          </a:xfrm>
          <a:custGeom>
            <a:avLst/>
            <a:gdLst>
              <a:gd name="textAreaLeft" fmla="*/ 97560 w 152640"/>
              <a:gd name="textAreaRight" fmla="*/ 153000 w 15264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2351880" y="205740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ب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2427840" y="618660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ب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5549760" y="163656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5394600" y="567540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FF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1"/>
          <p:cNvSpPr/>
          <p:nvPr/>
        </p:nvSpPr>
        <p:spPr>
          <a:xfrm>
            <a:off x="196848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B4A2-26E8-439A-91CC-CC975A104C79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3019320" y="6324480"/>
            <a:ext cx="28195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3019320" y="5943600"/>
            <a:ext cx="2819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019320" y="5562720"/>
            <a:ext cx="2819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019320" y="5181480"/>
            <a:ext cx="28195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3019320" y="4800600"/>
            <a:ext cx="2819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3019320" y="4419720"/>
            <a:ext cx="2819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019320" y="4038480"/>
            <a:ext cx="28195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3019320" y="3657600"/>
            <a:ext cx="2819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3019320" y="3276720"/>
            <a:ext cx="2819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3019320" y="2895480"/>
            <a:ext cx="28195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3019320" y="2514600"/>
            <a:ext cx="2819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3019320" y="2133720"/>
            <a:ext cx="2819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6"/>
          <p:cNvSpPr/>
          <p:nvPr/>
        </p:nvSpPr>
        <p:spPr>
          <a:xfrm>
            <a:off x="3019320" y="1752480"/>
            <a:ext cx="28195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7"/>
          <p:cNvSpPr/>
          <p:nvPr/>
        </p:nvSpPr>
        <p:spPr>
          <a:xfrm>
            <a:off x="3019320" y="1371600"/>
            <a:ext cx="2819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8"/>
          <p:cNvSpPr/>
          <p:nvPr/>
        </p:nvSpPr>
        <p:spPr>
          <a:xfrm>
            <a:off x="3019320" y="990720"/>
            <a:ext cx="2819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9"/>
          <p:cNvSpPr/>
          <p:nvPr/>
        </p:nvSpPr>
        <p:spPr>
          <a:xfrm>
            <a:off x="3019320" y="609480"/>
            <a:ext cx="28195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0"/>
          <p:cNvSpPr/>
          <p:nvPr/>
        </p:nvSpPr>
        <p:spPr>
          <a:xfrm>
            <a:off x="1116000" y="60948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00000-FFF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1"/>
          <p:cNvSpPr/>
          <p:nvPr/>
        </p:nvSpPr>
        <p:spPr>
          <a:xfrm>
            <a:off x="1972440" y="10047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2"/>
          <p:cNvSpPr/>
          <p:nvPr/>
        </p:nvSpPr>
        <p:spPr>
          <a:xfrm>
            <a:off x="2012760" y="175248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3"/>
          <p:cNvSpPr/>
          <p:nvPr/>
        </p:nvSpPr>
        <p:spPr>
          <a:xfrm>
            <a:off x="1972440" y="21337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FF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4"/>
          <p:cNvSpPr/>
          <p:nvPr/>
        </p:nvSpPr>
        <p:spPr>
          <a:xfrm>
            <a:off x="1948680" y="25146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5"/>
          <p:cNvSpPr/>
          <p:nvPr/>
        </p:nvSpPr>
        <p:spPr>
          <a:xfrm>
            <a:off x="809640" y="762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6"/>
          <p:cNvSpPr/>
          <p:nvPr/>
        </p:nvSpPr>
        <p:spPr>
          <a:xfrm>
            <a:off x="809640" y="762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7"/>
          <p:cNvSpPr/>
          <p:nvPr/>
        </p:nvSpPr>
        <p:spPr>
          <a:xfrm>
            <a:off x="80964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8"/>
          <p:cNvSpPr/>
          <p:nvPr/>
        </p:nvSpPr>
        <p:spPr>
          <a:xfrm>
            <a:off x="1998000" y="28954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FF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9"/>
          <p:cNvSpPr/>
          <p:nvPr/>
        </p:nvSpPr>
        <p:spPr>
          <a:xfrm>
            <a:off x="2123640" y="63244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0"/>
          <p:cNvSpPr/>
          <p:nvPr/>
        </p:nvSpPr>
        <p:spPr>
          <a:xfrm>
            <a:off x="1647720" y="30481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1"/>
          <p:cNvSpPr/>
          <p:nvPr/>
        </p:nvSpPr>
        <p:spPr>
          <a:xfrm>
            <a:off x="164772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2"/>
          <p:cNvSpPr/>
          <p:nvPr/>
        </p:nvSpPr>
        <p:spPr>
          <a:xfrm>
            <a:off x="1647720" y="6553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3"/>
          <p:cNvSpPr/>
          <p:nvPr/>
        </p:nvSpPr>
        <p:spPr>
          <a:xfrm>
            <a:off x="1742040" y="44956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0 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4"/>
          <p:cNvSpPr/>
          <p:nvPr/>
        </p:nvSpPr>
        <p:spPr>
          <a:xfrm>
            <a:off x="5838840" y="609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5"/>
          <p:cNvSpPr/>
          <p:nvPr/>
        </p:nvSpPr>
        <p:spPr>
          <a:xfrm>
            <a:off x="5838840" y="2133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6"/>
          <p:cNvSpPr/>
          <p:nvPr/>
        </p:nvSpPr>
        <p:spPr>
          <a:xfrm>
            <a:off x="6053760" y="1332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7"/>
          <p:cNvSpPr/>
          <p:nvPr/>
        </p:nvSpPr>
        <p:spPr>
          <a:xfrm>
            <a:off x="583884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8"/>
          <p:cNvSpPr/>
          <p:nvPr/>
        </p:nvSpPr>
        <p:spPr>
          <a:xfrm>
            <a:off x="6053760" y="2322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9"/>
          <p:cNvSpPr/>
          <p:nvPr/>
        </p:nvSpPr>
        <p:spPr>
          <a:xfrm>
            <a:off x="5901120" y="636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0"/>
          <p:cNvSpPr/>
          <p:nvPr/>
        </p:nvSpPr>
        <p:spPr>
          <a:xfrm>
            <a:off x="5901120" y="5904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1"/>
          <p:cNvSpPr/>
          <p:nvPr/>
        </p:nvSpPr>
        <p:spPr>
          <a:xfrm>
            <a:off x="5901120" y="285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2"/>
          <p:cNvSpPr/>
          <p:nvPr/>
        </p:nvSpPr>
        <p:spPr>
          <a:xfrm>
            <a:off x="5901120" y="323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3"/>
          <p:cNvSpPr/>
          <p:nvPr/>
        </p:nvSpPr>
        <p:spPr>
          <a:xfrm>
            <a:off x="6921360" y="110340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رنامه ها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4"/>
          <p:cNvSpPr/>
          <p:nvPr/>
        </p:nvSpPr>
        <p:spPr>
          <a:xfrm>
            <a:off x="7042320" y="2246400"/>
            <a:ext cx="19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حافظه گراف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5"/>
          <p:cNvSpPr/>
          <p:nvPr/>
        </p:nvSpPr>
        <p:spPr>
          <a:xfrm>
            <a:off x="6169680" y="4532400"/>
            <a:ext cx="34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قابل استفاده توسط برنامه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3DCD-DD67-489F-A78E-7D85F8B0E9D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مشکل آدرسده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آدرسها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رج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سترها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عدم توان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ذخ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ره آدرسها در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ک رج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ست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سلوله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حافظه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آدرسها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عدم توان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ذخ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ره آدرسها در سلوله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حافظ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0418-97A4-491C-A26D-FAACD054FAA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سگمنت ها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 حافظ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بخش ه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ا اندازه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KB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شروع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ک سگمنت ب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 مضرب از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اش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380880" y="3962520"/>
            <a:ext cx="82296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5"/>
          <p:cNvSpPr/>
          <p:nvPr/>
        </p:nvSpPr>
        <p:spPr>
          <a:xfrm>
            <a:off x="18288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6"/>
          <p:cNvSpPr/>
          <p:nvPr/>
        </p:nvSpPr>
        <p:spPr>
          <a:xfrm>
            <a:off x="34290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7"/>
          <p:cNvSpPr/>
          <p:nvPr/>
        </p:nvSpPr>
        <p:spPr>
          <a:xfrm>
            <a:off x="5029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8"/>
          <p:cNvSpPr/>
          <p:nvPr/>
        </p:nvSpPr>
        <p:spPr>
          <a:xfrm rot="16200000">
            <a:off x="1066680" y="4419720"/>
            <a:ext cx="152640" cy="121896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824400" y="5370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0"/>
          <p:cNvSpPr/>
          <p:nvPr/>
        </p:nvSpPr>
        <p:spPr>
          <a:xfrm rot="16200000">
            <a:off x="2514240" y="441936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2272320" y="5370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2"/>
          <p:cNvSpPr/>
          <p:nvPr/>
        </p:nvSpPr>
        <p:spPr>
          <a:xfrm rot="16200000">
            <a:off x="4114440" y="441936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872520" y="5370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230400" y="36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1662840" y="36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3263040" y="36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4786920" y="36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0" y="152280"/>
            <a:ext cx="91440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واکشی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tch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کدگشایی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ode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 3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اجرا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در واقع همان كد اجراي يك دستور مي باشد كه در زبان اسمبلي همان نام سمبليك دستور مي باشد. مثال  </a:t>
            </a:r>
            <a:r>
              <a:rPr b="0" lang="en-CA" sz="3200" spc="-1" strike="noStrike">
                <a:solidFill>
                  <a:srgbClr val="ff0000"/>
                </a:solidFill>
                <a:latin typeface="Calibri"/>
              </a:rPr>
              <a:t>ADD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AL,1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  كه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DD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دستور جمع مي باش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1087-45F8-4B99-94B8-FD598CC1F174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457200" y="914400"/>
            <a:ext cx="160020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EL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2057400" y="914400"/>
            <a:ext cx="160020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657600" y="914400"/>
            <a:ext cx="35053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nd1,operand2,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162920" y="914400"/>
            <a:ext cx="160020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7397280" y="224640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ثا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685800" y="1981080"/>
            <a:ext cx="5486400" cy="4572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V AX,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685800" y="2438280"/>
            <a:ext cx="5486400" cy="4572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X,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685800" y="2895480"/>
            <a:ext cx="5486400" cy="4572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1 : SUB AX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85800" y="3352680"/>
            <a:ext cx="5486400" cy="4572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2 : MUL BX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MULTIPLY AX,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7C65-BEDB-4F6A-AD49-2088E5E2EA39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380880" y="3962520"/>
            <a:ext cx="82296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5"/>
          <p:cNvSpPr/>
          <p:nvPr/>
        </p:nvSpPr>
        <p:spPr>
          <a:xfrm>
            <a:off x="18288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6"/>
          <p:cNvSpPr/>
          <p:nvPr/>
        </p:nvSpPr>
        <p:spPr>
          <a:xfrm>
            <a:off x="34290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7"/>
          <p:cNvSpPr/>
          <p:nvPr/>
        </p:nvSpPr>
        <p:spPr>
          <a:xfrm>
            <a:off x="5029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8"/>
          <p:cNvSpPr/>
          <p:nvPr/>
        </p:nvSpPr>
        <p:spPr>
          <a:xfrm rot="16200000">
            <a:off x="1066680" y="4419720"/>
            <a:ext cx="152640" cy="121896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824400" y="5370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0"/>
          <p:cNvSpPr/>
          <p:nvPr/>
        </p:nvSpPr>
        <p:spPr>
          <a:xfrm rot="16200000">
            <a:off x="2514240" y="441936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2272320" y="5370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2"/>
          <p:cNvSpPr/>
          <p:nvPr/>
        </p:nvSpPr>
        <p:spPr>
          <a:xfrm rot="16200000">
            <a:off x="4114440" y="441936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3872520" y="5370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4"/>
          <p:cNvSpPr/>
          <p:nvPr/>
        </p:nvSpPr>
        <p:spPr>
          <a:xfrm>
            <a:off x="230400" y="36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1662840" y="36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6"/>
          <p:cNvSpPr/>
          <p:nvPr/>
        </p:nvSpPr>
        <p:spPr>
          <a:xfrm>
            <a:off x="3263040" y="36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4786920" y="36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8"/>
          <p:cNvSpPr/>
          <p:nvPr/>
        </p:nvSpPr>
        <p:spPr>
          <a:xfrm>
            <a:off x="290880" y="323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9"/>
          <p:cNvSpPr/>
          <p:nvPr/>
        </p:nvSpPr>
        <p:spPr>
          <a:xfrm>
            <a:off x="1662840" y="32367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0"/>
          <p:cNvSpPr/>
          <p:nvPr/>
        </p:nvSpPr>
        <p:spPr>
          <a:xfrm>
            <a:off x="3187080" y="32367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1"/>
          <p:cNvSpPr/>
          <p:nvPr/>
        </p:nvSpPr>
        <p:spPr>
          <a:xfrm>
            <a:off x="4710960" y="32367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2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Yekan"/>
              </a:rPr>
              <a:t>سگمنت ها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B Yekan"/>
              </a:rPr>
              <a:t>ي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  <a:ea typeface="B Yekan"/>
              </a:rPr>
              <a:t> حافظ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Yekan"/>
              </a:rPr>
              <a:t>بخش ه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B Yekan"/>
              </a:rPr>
              <a:t>ي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Yekan"/>
              </a:rPr>
              <a:t> با اندازه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Yekan"/>
              </a:rPr>
              <a:t>64KB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Yek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Yekan"/>
              </a:rPr>
              <a:t>شروع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B Yekan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Yekan"/>
              </a:rPr>
              <a:t>ک سگمنت ب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B Yekan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Yekan"/>
              </a:rPr>
              <a:t>د مضرب از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Yekan"/>
              </a:rPr>
              <a:t>1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Yekan"/>
              </a:rPr>
              <a:t> باش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0468-F5C2-40AF-A179-C58133952393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سوال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کدام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ک از ادرس ه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ز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ر م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تواند آدرس شروع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ک سگمنت حافظه باشد ؟ چرا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CDC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BF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FC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D4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1B9D-D687-48E8-9F6A-15B25B5A60B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آدرس شروع سگمنت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ر هر مبن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عدد نو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، ضر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ب مبنا به صفر ختم م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شون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ر مبن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اعداد زوج به صفر ختم م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شو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ر مبن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ده مضارب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ه صفر ختم م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شو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ر مبن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مضارب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ه صفر ختم م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شو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B417-1DFB-4B9F-8475-B5CEB0CEE115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آفست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فاصله از ابتد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سگمن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ن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ز به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 دار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133720" y="685800"/>
            <a:ext cx="1828800" cy="5791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4432320" y="33526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KB 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 flipH="1">
            <a:off x="4114080" y="685800"/>
            <a:ext cx="152280" cy="5791320"/>
          </a:xfrm>
          <a:custGeom>
            <a:avLst/>
            <a:gdLst>
              <a:gd name="textAreaLeft" fmla="*/ 96840 w 152280"/>
              <a:gd name="textAreaRight" fmla="*/ 152280 w 15228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8"/>
          <p:cNvSpPr/>
          <p:nvPr/>
        </p:nvSpPr>
        <p:spPr>
          <a:xfrm>
            <a:off x="1219320" y="38088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044360" y="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ابتدا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 سگمن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2133720" y="3962520"/>
            <a:ext cx="1828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1"/>
          <p:cNvSpPr/>
          <p:nvPr/>
        </p:nvSpPr>
        <p:spPr>
          <a:xfrm>
            <a:off x="2057400" y="2133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2"/>
          <p:cNvSpPr/>
          <p:nvPr/>
        </p:nvSpPr>
        <p:spPr>
          <a:xfrm flipV="1">
            <a:off x="2057400" y="685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291680" y="685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91400" y="618660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F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241F-C1C0-463B-A24F-B6C19AD24F8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سگمنت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آدرس شروع همه سگمنت ها به صفر ختم م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شو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ن صفر را حذف م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کن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990720" y="3581280"/>
            <a:ext cx="73152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"/>
          <p:cNvSpPr/>
          <p:nvPr/>
        </p:nvSpPr>
        <p:spPr>
          <a:xfrm>
            <a:off x="2438280" y="3581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6"/>
          <p:cNvSpPr/>
          <p:nvPr/>
        </p:nvSpPr>
        <p:spPr>
          <a:xfrm>
            <a:off x="3886200" y="3581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5410080" y="3581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555480" y="27432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4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1831680" y="27432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3355200" y="27432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5C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4803120" y="27432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3"/>
          <p:cNvSpPr/>
          <p:nvPr/>
        </p:nvSpPr>
        <p:spPr>
          <a:xfrm>
            <a:off x="2362320" y="3124080"/>
            <a:ext cx="759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7"/>
          <p:cNvSpPr/>
          <p:nvPr/>
        </p:nvSpPr>
        <p:spPr>
          <a:xfrm>
            <a:off x="914400" y="312408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8"/>
          <p:cNvSpPr/>
          <p:nvPr/>
        </p:nvSpPr>
        <p:spPr>
          <a:xfrm>
            <a:off x="3809880" y="312408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9"/>
          <p:cNvSpPr/>
          <p:nvPr/>
        </p:nvSpPr>
        <p:spPr>
          <a:xfrm>
            <a:off x="5257800" y="312408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0"/>
          <p:cNvSpPr/>
          <p:nvPr/>
        </p:nvSpPr>
        <p:spPr>
          <a:xfrm>
            <a:off x="917280" y="41292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52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1"/>
          <p:cNvSpPr/>
          <p:nvPr/>
        </p:nvSpPr>
        <p:spPr>
          <a:xfrm>
            <a:off x="2120400" y="4419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75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2"/>
          <p:cNvSpPr/>
          <p:nvPr/>
        </p:nvSpPr>
        <p:spPr>
          <a:xfrm>
            <a:off x="3568320" y="44197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5C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3"/>
          <p:cNvSpPr/>
          <p:nvPr/>
        </p:nvSpPr>
        <p:spPr>
          <a:xfrm>
            <a:off x="5168520" y="44197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4"/>
          <p:cNvSpPr/>
          <p:nvPr/>
        </p:nvSpPr>
        <p:spPr>
          <a:xfrm>
            <a:off x="3581280" y="5334120"/>
            <a:ext cx="3886200" cy="7617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ادرسها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سگمنت 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ب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شدن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B718-94BF-4193-9AE0-8B6E04EC72D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آدرسده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G:OFF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آدرس واقعي خانه مورد نظ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9E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1828800" y="1828800"/>
            <a:ext cx="1371600" cy="464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1828800" y="2895480"/>
            <a:ext cx="1371600" cy="2590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1828800" y="4114800"/>
            <a:ext cx="1371600" cy="304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7"/>
          <p:cNvSpPr/>
          <p:nvPr/>
        </p:nvSpPr>
        <p:spPr>
          <a:xfrm>
            <a:off x="3429000" y="2895480"/>
            <a:ext cx="152280" cy="2590920"/>
          </a:xfrm>
          <a:custGeom>
            <a:avLst/>
            <a:gdLst>
              <a:gd name="textAreaLeft" fmla="*/ 0 w 152280"/>
              <a:gd name="textAreaRight" fmla="*/ 106920 w 152280"/>
              <a:gd name="textAreaTop" fmla="*/ 107640 h 2590920"/>
              <a:gd name="textAreaBottom" fmla="*/ 248328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3871800" y="43038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9"/>
          <p:cNvSpPr/>
          <p:nvPr/>
        </p:nvSpPr>
        <p:spPr>
          <a:xfrm>
            <a:off x="1066680" y="25146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0"/>
          <p:cNvSpPr/>
          <p:nvPr/>
        </p:nvSpPr>
        <p:spPr>
          <a:xfrm>
            <a:off x="1676520" y="3429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2"/>
          <p:cNvSpPr/>
          <p:nvPr/>
        </p:nvSpPr>
        <p:spPr>
          <a:xfrm flipV="1">
            <a:off x="1676520" y="2895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3"/>
          <p:cNvSpPr/>
          <p:nvPr/>
        </p:nvSpPr>
        <p:spPr>
          <a:xfrm>
            <a:off x="1526040" y="22240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4"/>
          <p:cNvSpPr/>
          <p:nvPr/>
        </p:nvSpPr>
        <p:spPr>
          <a:xfrm>
            <a:off x="900720" y="32367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F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5"/>
          <p:cNvSpPr/>
          <p:nvPr/>
        </p:nvSpPr>
        <p:spPr>
          <a:xfrm>
            <a:off x="4495680" y="2895480"/>
            <a:ext cx="3124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F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F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6"/>
          <p:cNvSpPr/>
          <p:nvPr/>
        </p:nvSpPr>
        <p:spPr>
          <a:xfrm>
            <a:off x="4419720" y="1752480"/>
            <a:ext cx="32763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7"/>
          <p:cNvSpPr/>
          <p:nvPr/>
        </p:nvSpPr>
        <p:spPr>
          <a:xfrm>
            <a:off x="2059560" y="1538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DAB7-4786-41B2-ABED-56B02798CAB3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تبد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ل آدرسها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آدرس ز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ر را به آدرس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تبد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ل نم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FC4:41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رحله اول : آدرس واقع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سگمنت را تو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 م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کن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ضافه کردن صفر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که حذف شده ب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رحله دوم : جمع آدرس شروع سگمنت  با آفس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1219320" y="4572000"/>
            <a:ext cx="190476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FC40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2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D6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99F0-74BB-44D6-9481-69AA47A7D07B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تمر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درسه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ز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ر را به آدرس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تبد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ل کن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F26:CF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9D2:24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F2:12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ن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ج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1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9C6B-0B67-4BA7-B4C5-E374F8F0B83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1371600" y="533520"/>
            <a:ext cx="1295280" cy="4800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1752480" y="1143000"/>
            <a:ext cx="1295640" cy="4800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2209680" y="1752480"/>
            <a:ext cx="1295640" cy="4800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2666880" y="2286000"/>
            <a:ext cx="1295640" cy="45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9"/>
          <p:cNvSpPr/>
          <p:nvPr/>
        </p:nvSpPr>
        <p:spPr>
          <a:xfrm>
            <a:off x="3200400" y="2819520"/>
            <a:ext cx="1295280" cy="403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0"/>
          <p:cNvSpPr/>
          <p:nvPr/>
        </p:nvSpPr>
        <p:spPr>
          <a:xfrm>
            <a:off x="3657600" y="3352680"/>
            <a:ext cx="129528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383040" y="341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383040" y="950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3"/>
          <p:cNvSpPr/>
          <p:nvPr/>
        </p:nvSpPr>
        <p:spPr>
          <a:xfrm>
            <a:off x="38304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4"/>
          <p:cNvSpPr/>
          <p:nvPr/>
        </p:nvSpPr>
        <p:spPr>
          <a:xfrm>
            <a:off x="383040" y="217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383040" y="2779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6"/>
          <p:cNvSpPr/>
          <p:nvPr/>
        </p:nvSpPr>
        <p:spPr>
          <a:xfrm>
            <a:off x="383040" y="33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7"/>
          <p:cNvSpPr/>
          <p:nvPr/>
        </p:nvSpPr>
        <p:spPr>
          <a:xfrm>
            <a:off x="838080" y="533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8"/>
          <p:cNvSpPr/>
          <p:nvPr/>
        </p:nvSpPr>
        <p:spPr>
          <a:xfrm>
            <a:off x="838080" y="1143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9"/>
          <p:cNvSpPr/>
          <p:nvPr/>
        </p:nvSpPr>
        <p:spPr>
          <a:xfrm>
            <a:off x="838080" y="1828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20"/>
          <p:cNvSpPr/>
          <p:nvPr/>
        </p:nvSpPr>
        <p:spPr>
          <a:xfrm>
            <a:off x="838080" y="2362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21"/>
          <p:cNvSpPr/>
          <p:nvPr/>
        </p:nvSpPr>
        <p:spPr>
          <a:xfrm>
            <a:off x="838080" y="2971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22"/>
          <p:cNvSpPr/>
          <p:nvPr/>
        </p:nvSpPr>
        <p:spPr>
          <a:xfrm>
            <a:off x="838080" y="3505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3"/>
          <p:cNvSpPr/>
          <p:nvPr/>
        </p:nvSpPr>
        <p:spPr>
          <a:xfrm>
            <a:off x="1371600" y="4267080"/>
            <a:ext cx="358128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26"/>
          <p:cNvSpPr/>
          <p:nvPr/>
        </p:nvSpPr>
        <p:spPr>
          <a:xfrm>
            <a:off x="4114800" y="1447920"/>
            <a:ext cx="4495680" cy="1752480"/>
          </a:xfrm>
          <a:prstGeom prst="cloudCallout">
            <a:avLst>
              <a:gd name="adj1" fmla="val -29342"/>
              <a:gd name="adj2" fmla="val 1795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ک سلول حافظه را 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توان به روشها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متفاو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ب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صور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:OFF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ادرس ده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کر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29"/>
          <p:cNvSpPr/>
          <p:nvPr/>
        </p:nvSpPr>
        <p:spPr>
          <a:xfrm>
            <a:off x="1447920" y="533520"/>
            <a:ext cx="228600" cy="3733560"/>
          </a:xfrm>
          <a:prstGeom prst="downArrow">
            <a:avLst>
              <a:gd name="adj1" fmla="val 45028"/>
              <a:gd name="adj2" fmla="val 12914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30"/>
          <p:cNvSpPr/>
          <p:nvPr/>
        </p:nvSpPr>
        <p:spPr>
          <a:xfrm>
            <a:off x="3886200" y="3352680"/>
            <a:ext cx="304920" cy="914400"/>
          </a:xfrm>
          <a:prstGeom prst="downArrow">
            <a:avLst>
              <a:gd name="adj1" fmla="val 45028"/>
              <a:gd name="adj2" fmla="val 2371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C748-EDCD-4B99-BF0F-98FF9831611B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فضا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 آدرس ده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ر حالت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ر حالت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: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1600200" y="2286000"/>
            <a:ext cx="44197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00-FFF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1600200" y="4876920"/>
            <a:ext cx="44197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0:0000            FFFF:FF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52280"/>
            <a:ext cx="86868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9A00-D89F-46DE-A996-9EDEAE4130CF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228600"/>
            <a:ext cx="1905120" cy="16002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ف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ل اسمب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"/>
          <p:cNvSpPr/>
          <p:nvPr/>
        </p:nvSpPr>
        <p:spPr>
          <a:xfrm>
            <a:off x="3276720" y="380880"/>
            <a:ext cx="1371600" cy="1295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سمبل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1981080" y="914400"/>
            <a:ext cx="1295640" cy="228600"/>
          </a:xfrm>
          <a:prstGeom prst="rightArrow">
            <a:avLst>
              <a:gd name="adj1" fmla="val 50000"/>
              <a:gd name="adj2" fmla="val 14169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4724280" y="914400"/>
            <a:ext cx="1295640" cy="228600"/>
          </a:xfrm>
          <a:prstGeom prst="rightArrow">
            <a:avLst>
              <a:gd name="adj1" fmla="val 50000"/>
              <a:gd name="adj2" fmla="val 14169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6248520" y="228600"/>
            <a:ext cx="1904760" cy="16002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ف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ل آبجک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7162920" y="1905120"/>
            <a:ext cx="228600" cy="761760"/>
          </a:xfrm>
          <a:prstGeom prst="downArrow">
            <a:avLst>
              <a:gd name="adj1" fmla="val 50000"/>
              <a:gd name="adj2" fmla="val 8330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1"/>
          <p:cNvSpPr/>
          <p:nvPr/>
        </p:nvSpPr>
        <p:spPr>
          <a:xfrm>
            <a:off x="6629400" y="2743200"/>
            <a:ext cx="1371600" cy="1295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ل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نک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2"/>
          <p:cNvSpPr/>
          <p:nvPr/>
        </p:nvSpPr>
        <p:spPr>
          <a:xfrm>
            <a:off x="5562720" y="3200400"/>
            <a:ext cx="990360" cy="304920"/>
          </a:xfrm>
          <a:prstGeom prst="leftArrow">
            <a:avLst>
              <a:gd name="adj1" fmla="val 50000"/>
              <a:gd name="adj2" fmla="val 8119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3505320" y="2590920"/>
            <a:ext cx="1904760" cy="16002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ف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ل اسمب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964320" y="21700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.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4955-6C21-45A6-9280-2142226ECC20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اجزاء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ک برنامه اسمبل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4"/>
          <p:cNvSpPr/>
          <p:nvPr/>
        </p:nvSpPr>
        <p:spPr>
          <a:xfrm>
            <a:off x="1447920" y="2057400"/>
            <a:ext cx="1600200" cy="3124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5"/>
          <p:cNvSpPr/>
          <p:nvPr/>
        </p:nvSpPr>
        <p:spPr>
          <a:xfrm>
            <a:off x="3276720" y="1219320"/>
            <a:ext cx="1600200" cy="3124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6"/>
          <p:cNvSpPr/>
          <p:nvPr/>
        </p:nvSpPr>
        <p:spPr>
          <a:xfrm>
            <a:off x="2666880" y="3352680"/>
            <a:ext cx="1600200" cy="31244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7"/>
          <p:cNvSpPr/>
          <p:nvPr/>
        </p:nvSpPr>
        <p:spPr>
          <a:xfrm>
            <a:off x="4495680" y="2590920"/>
            <a:ext cx="1600200" cy="3124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1C92-F9A5-4AF1-AFD8-13253A7DFB8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10"/>
          <p:cNvSpPr/>
          <p:nvPr/>
        </p:nvSpPr>
        <p:spPr>
          <a:xfrm>
            <a:off x="533520" y="3962520"/>
            <a:ext cx="2743200" cy="2361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Group 15"/>
          <p:cNvGrpSpPr/>
          <p:nvPr/>
        </p:nvGrpSpPr>
        <p:grpSpPr>
          <a:xfrm>
            <a:off x="762120" y="3962520"/>
            <a:ext cx="2133360" cy="2361960"/>
            <a:chOff x="762120" y="3962520"/>
            <a:chExt cx="2133360" cy="2361960"/>
          </a:xfrm>
        </p:grpSpPr>
        <p:sp>
          <p:nvSpPr>
            <p:cNvPr id="459" name="AutoShape 11"/>
            <p:cNvSpPr/>
            <p:nvPr/>
          </p:nvSpPr>
          <p:spPr>
            <a:xfrm>
              <a:off x="762120" y="4338720"/>
              <a:ext cx="734400" cy="140328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2"/>
            <p:cNvSpPr/>
            <p:nvPr/>
          </p:nvSpPr>
          <p:spPr>
            <a:xfrm>
              <a:off x="1601280" y="3962520"/>
              <a:ext cx="734400" cy="140328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3"/>
            <p:cNvSpPr/>
            <p:nvPr/>
          </p:nvSpPr>
          <p:spPr>
            <a:xfrm>
              <a:off x="1321560" y="4920840"/>
              <a:ext cx="734400" cy="140364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14"/>
            <p:cNvSpPr/>
            <p:nvPr/>
          </p:nvSpPr>
          <p:spPr>
            <a:xfrm>
              <a:off x="2161080" y="4578480"/>
              <a:ext cx="734400" cy="140328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T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Rectangle 16"/>
          <p:cNvSpPr/>
          <p:nvPr/>
        </p:nvSpPr>
        <p:spPr>
          <a:xfrm>
            <a:off x="5334120" y="685800"/>
            <a:ext cx="1523880" cy="5943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7"/>
          <p:cNvSpPr/>
          <p:nvPr/>
        </p:nvSpPr>
        <p:spPr>
          <a:xfrm>
            <a:off x="5640840" y="2286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8"/>
          <p:cNvSpPr/>
          <p:nvPr/>
        </p:nvSpPr>
        <p:spPr>
          <a:xfrm>
            <a:off x="2971800" y="5029200"/>
            <a:ext cx="2286000" cy="533520"/>
          </a:xfrm>
          <a:prstGeom prst="rightArrow">
            <a:avLst>
              <a:gd name="adj1" fmla="val 50000"/>
              <a:gd name="adj2" fmla="val 1071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4ED2-C8C3-494B-8CDB-1EE69C0A6415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4"/>
          <p:cNvSpPr/>
          <p:nvPr/>
        </p:nvSpPr>
        <p:spPr>
          <a:xfrm>
            <a:off x="533520" y="3962520"/>
            <a:ext cx="2743200" cy="2361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5"/>
          <p:cNvGrpSpPr/>
          <p:nvPr/>
        </p:nvGrpSpPr>
        <p:grpSpPr>
          <a:xfrm>
            <a:off x="762120" y="3962520"/>
            <a:ext cx="2133360" cy="2361960"/>
            <a:chOff x="762120" y="3962520"/>
            <a:chExt cx="2133360" cy="2361960"/>
          </a:xfrm>
        </p:grpSpPr>
        <p:sp>
          <p:nvSpPr>
            <p:cNvPr id="469" name="AutoShape 6"/>
            <p:cNvSpPr/>
            <p:nvPr/>
          </p:nvSpPr>
          <p:spPr>
            <a:xfrm>
              <a:off x="762120" y="4338720"/>
              <a:ext cx="734400" cy="140328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7"/>
            <p:cNvSpPr/>
            <p:nvPr/>
          </p:nvSpPr>
          <p:spPr>
            <a:xfrm>
              <a:off x="1601280" y="3962520"/>
              <a:ext cx="734400" cy="140328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8"/>
            <p:cNvSpPr/>
            <p:nvPr/>
          </p:nvSpPr>
          <p:spPr>
            <a:xfrm>
              <a:off x="1321560" y="4920840"/>
              <a:ext cx="734400" cy="140364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9"/>
            <p:cNvSpPr/>
            <p:nvPr/>
          </p:nvSpPr>
          <p:spPr>
            <a:xfrm>
              <a:off x="2161080" y="4578480"/>
              <a:ext cx="734400" cy="140328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T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Rectangle 10"/>
          <p:cNvSpPr/>
          <p:nvPr/>
        </p:nvSpPr>
        <p:spPr>
          <a:xfrm>
            <a:off x="5334120" y="685800"/>
            <a:ext cx="1523880" cy="5943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5640840" y="2286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2"/>
          <p:cNvSpPr/>
          <p:nvPr/>
        </p:nvSpPr>
        <p:spPr>
          <a:xfrm>
            <a:off x="2971800" y="5029200"/>
            <a:ext cx="2286000" cy="533520"/>
          </a:xfrm>
          <a:prstGeom prst="rightArrow">
            <a:avLst>
              <a:gd name="adj1" fmla="val 50000"/>
              <a:gd name="adj2" fmla="val 1071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8"/>
          <p:cNvSpPr/>
          <p:nvPr/>
        </p:nvSpPr>
        <p:spPr>
          <a:xfrm>
            <a:off x="5334120" y="2895480"/>
            <a:ext cx="1523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9"/>
          <p:cNvSpPr/>
          <p:nvPr/>
        </p:nvSpPr>
        <p:spPr>
          <a:xfrm>
            <a:off x="5334120" y="3505320"/>
            <a:ext cx="1523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0"/>
          <p:cNvSpPr/>
          <p:nvPr/>
        </p:nvSpPr>
        <p:spPr>
          <a:xfrm>
            <a:off x="5334120" y="4114800"/>
            <a:ext cx="1523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1"/>
          <p:cNvSpPr/>
          <p:nvPr/>
        </p:nvSpPr>
        <p:spPr>
          <a:xfrm>
            <a:off x="5334120" y="4724280"/>
            <a:ext cx="1523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2"/>
          <p:cNvSpPr/>
          <p:nvPr/>
        </p:nvSpPr>
        <p:spPr>
          <a:xfrm flipH="1">
            <a:off x="6933960" y="25146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23"/>
          <p:cNvSpPr/>
          <p:nvPr/>
        </p:nvSpPr>
        <p:spPr>
          <a:xfrm flipH="1">
            <a:off x="6933960" y="31240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24"/>
          <p:cNvSpPr/>
          <p:nvPr/>
        </p:nvSpPr>
        <p:spPr>
          <a:xfrm flipH="1">
            <a:off x="6933960" y="37339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25"/>
          <p:cNvSpPr/>
          <p:nvPr/>
        </p:nvSpPr>
        <p:spPr>
          <a:xfrm flipH="1">
            <a:off x="6933960" y="43434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6"/>
          <p:cNvSpPr/>
          <p:nvPr/>
        </p:nvSpPr>
        <p:spPr>
          <a:xfrm>
            <a:off x="7529040" y="22464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7"/>
          <p:cNvSpPr/>
          <p:nvPr/>
        </p:nvSpPr>
        <p:spPr>
          <a:xfrm>
            <a:off x="7529400" y="293220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S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8"/>
          <p:cNvSpPr/>
          <p:nvPr/>
        </p:nvSpPr>
        <p:spPr>
          <a:xfrm>
            <a:off x="7529040" y="369396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 S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9"/>
          <p:cNvSpPr/>
          <p:nvPr/>
        </p:nvSpPr>
        <p:spPr>
          <a:xfrm>
            <a:off x="7529040" y="437976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 S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728B-9615-4506-A00D-0AEC8493A472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رج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سترها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رج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ستره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داده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REGISTER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رج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ستره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اشاره گ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رج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ستره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شاخ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رج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ستره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سگمن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رج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ستره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دستورالعمل و پرچ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8C55-8D55-4625-B59F-DD409D3AF89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رج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سترها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 داده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در 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808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4"/>
          <p:cNvSpPr/>
          <p:nvPr/>
        </p:nvSpPr>
        <p:spPr>
          <a:xfrm>
            <a:off x="1828800" y="2362320"/>
            <a:ext cx="5029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5"/>
          <p:cNvSpPr/>
          <p:nvPr/>
        </p:nvSpPr>
        <p:spPr>
          <a:xfrm>
            <a:off x="1828800" y="3276720"/>
            <a:ext cx="5029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6"/>
          <p:cNvSpPr/>
          <p:nvPr/>
        </p:nvSpPr>
        <p:spPr>
          <a:xfrm>
            <a:off x="1828800" y="4038480"/>
            <a:ext cx="5029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1828800" y="4876920"/>
            <a:ext cx="5029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8"/>
          <p:cNvSpPr/>
          <p:nvPr/>
        </p:nvSpPr>
        <p:spPr>
          <a:xfrm>
            <a:off x="6548760" y="20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9"/>
          <p:cNvSpPr/>
          <p:nvPr/>
        </p:nvSpPr>
        <p:spPr>
          <a:xfrm>
            <a:off x="1748520" y="2071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0"/>
          <p:cNvSpPr/>
          <p:nvPr/>
        </p:nvSpPr>
        <p:spPr>
          <a:xfrm>
            <a:off x="6555240" y="29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1754640" y="2986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2"/>
          <p:cNvSpPr/>
          <p:nvPr/>
        </p:nvSpPr>
        <p:spPr>
          <a:xfrm>
            <a:off x="655524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3"/>
          <p:cNvSpPr/>
          <p:nvPr/>
        </p:nvSpPr>
        <p:spPr>
          <a:xfrm>
            <a:off x="1754640" y="3733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4"/>
          <p:cNvSpPr/>
          <p:nvPr/>
        </p:nvSpPr>
        <p:spPr>
          <a:xfrm>
            <a:off x="6555240" y="45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5"/>
          <p:cNvSpPr/>
          <p:nvPr/>
        </p:nvSpPr>
        <p:spPr>
          <a:xfrm>
            <a:off x="1754640" y="4586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1267-0C37-41DE-8D87-AFE6C2C4D1B5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Yekan"/>
              </a:rPr>
              <a:t>رج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B Yekan"/>
              </a:rPr>
              <a:t>ي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Yekan"/>
              </a:rPr>
              <a:t>سترها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B Yekan"/>
              </a:rPr>
              <a:t>ي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  <a:ea typeface="B Yekan"/>
              </a:rPr>
              <a:t> داده در 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  <a:ea typeface="B Yekan"/>
              </a:rPr>
              <a:t>808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1828800" y="4876920"/>
            <a:ext cx="2514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0"/>
          <p:cNvSpPr/>
          <p:nvPr/>
        </p:nvSpPr>
        <p:spPr>
          <a:xfrm>
            <a:off x="4343400" y="4876920"/>
            <a:ext cx="2514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1"/>
          <p:cNvSpPr/>
          <p:nvPr/>
        </p:nvSpPr>
        <p:spPr>
          <a:xfrm>
            <a:off x="1828800" y="4038480"/>
            <a:ext cx="25146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1828800" y="3276720"/>
            <a:ext cx="2514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3"/>
          <p:cNvSpPr/>
          <p:nvPr/>
        </p:nvSpPr>
        <p:spPr>
          <a:xfrm>
            <a:off x="1828800" y="2362320"/>
            <a:ext cx="2514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4"/>
          <p:cNvSpPr/>
          <p:nvPr/>
        </p:nvSpPr>
        <p:spPr>
          <a:xfrm>
            <a:off x="4343400" y="4038480"/>
            <a:ext cx="25146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5"/>
          <p:cNvSpPr/>
          <p:nvPr/>
        </p:nvSpPr>
        <p:spPr>
          <a:xfrm>
            <a:off x="4343400" y="3276720"/>
            <a:ext cx="2514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6"/>
          <p:cNvSpPr/>
          <p:nvPr/>
        </p:nvSpPr>
        <p:spPr>
          <a:xfrm>
            <a:off x="4343400" y="2362320"/>
            <a:ext cx="2514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7"/>
          <p:cNvSpPr/>
          <p:nvPr/>
        </p:nvSpPr>
        <p:spPr>
          <a:xfrm>
            <a:off x="6555240" y="20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8"/>
          <p:cNvSpPr/>
          <p:nvPr/>
        </p:nvSpPr>
        <p:spPr>
          <a:xfrm>
            <a:off x="1754640" y="2071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9"/>
          <p:cNvSpPr/>
          <p:nvPr/>
        </p:nvSpPr>
        <p:spPr>
          <a:xfrm>
            <a:off x="6555240" y="29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0"/>
          <p:cNvSpPr/>
          <p:nvPr/>
        </p:nvSpPr>
        <p:spPr>
          <a:xfrm>
            <a:off x="1754640" y="2986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1"/>
          <p:cNvSpPr/>
          <p:nvPr/>
        </p:nvSpPr>
        <p:spPr>
          <a:xfrm>
            <a:off x="655524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2"/>
          <p:cNvSpPr/>
          <p:nvPr/>
        </p:nvSpPr>
        <p:spPr>
          <a:xfrm>
            <a:off x="1754640" y="3747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3"/>
          <p:cNvSpPr/>
          <p:nvPr/>
        </p:nvSpPr>
        <p:spPr>
          <a:xfrm>
            <a:off x="6555240" y="45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4"/>
          <p:cNvSpPr/>
          <p:nvPr/>
        </p:nvSpPr>
        <p:spPr>
          <a:xfrm>
            <a:off x="1754640" y="4586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5"/>
          <p:cNvSpPr/>
          <p:nvPr/>
        </p:nvSpPr>
        <p:spPr>
          <a:xfrm>
            <a:off x="4329360" y="201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6"/>
          <p:cNvSpPr/>
          <p:nvPr/>
        </p:nvSpPr>
        <p:spPr>
          <a:xfrm>
            <a:off x="4339080" y="29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33908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8"/>
          <p:cNvSpPr/>
          <p:nvPr/>
        </p:nvSpPr>
        <p:spPr>
          <a:xfrm>
            <a:off x="4345200" y="45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9"/>
          <p:cNvSpPr/>
          <p:nvPr/>
        </p:nvSpPr>
        <p:spPr>
          <a:xfrm>
            <a:off x="3957840" y="19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0"/>
          <p:cNvSpPr/>
          <p:nvPr/>
        </p:nvSpPr>
        <p:spPr>
          <a:xfrm>
            <a:off x="39643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1"/>
          <p:cNvSpPr/>
          <p:nvPr/>
        </p:nvSpPr>
        <p:spPr>
          <a:xfrm>
            <a:off x="396432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32"/>
          <p:cNvSpPr/>
          <p:nvPr/>
        </p:nvSpPr>
        <p:spPr>
          <a:xfrm>
            <a:off x="3964320" y="45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21E5-3F0D-42C2-9209-3BFEC7B61F98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رج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سترها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 داده در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NTIUM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1828800" y="2362320"/>
            <a:ext cx="5029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1828800" y="3276720"/>
            <a:ext cx="5029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1828800" y="4038480"/>
            <a:ext cx="5029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1828800" y="4876920"/>
            <a:ext cx="5029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6548760" y="20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9"/>
          <p:cNvSpPr/>
          <p:nvPr/>
        </p:nvSpPr>
        <p:spPr>
          <a:xfrm>
            <a:off x="1748520" y="2071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0"/>
          <p:cNvSpPr/>
          <p:nvPr/>
        </p:nvSpPr>
        <p:spPr>
          <a:xfrm>
            <a:off x="6555240" y="29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1"/>
          <p:cNvSpPr/>
          <p:nvPr/>
        </p:nvSpPr>
        <p:spPr>
          <a:xfrm>
            <a:off x="1754640" y="2986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2"/>
          <p:cNvSpPr/>
          <p:nvPr/>
        </p:nvSpPr>
        <p:spPr>
          <a:xfrm>
            <a:off x="655524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1754640" y="3733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4"/>
          <p:cNvSpPr/>
          <p:nvPr/>
        </p:nvSpPr>
        <p:spPr>
          <a:xfrm>
            <a:off x="6555240" y="45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5"/>
          <p:cNvSpPr/>
          <p:nvPr/>
        </p:nvSpPr>
        <p:spPr>
          <a:xfrm>
            <a:off x="1754640" y="4586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AD5F-780F-496F-9248-33DF098426F3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رج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سترها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 اشاره گر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شاره گر پشته : در هر لحظه آدرس عنصر بال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پشته را نگهدار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م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ک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شاره گر پ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ه : در روش ه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آدرس ده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مورد استفاده قرار م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گ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ر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1905120" y="3200400"/>
            <a:ext cx="4572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 POINTR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1905120" y="5562720"/>
            <a:ext cx="45720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POI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8"/>
          <p:cNvSpPr/>
          <p:nvPr/>
        </p:nvSpPr>
        <p:spPr>
          <a:xfrm>
            <a:off x="6243840" y="290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9"/>
          <p:cNvSpPr/>
          <p:nvPr/>
        </p:nvSpPr>
        <p:spPr>
          <a:xfrm>
            <a:off x="1754640" y="2909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6250320" y="527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1"/>
          <p:cNvSpPr/>
          <p:nvPr/>
        </p:nvSpPr>
        <p:spPr>
          <a:xfrm>
            <a:off x="1824480" y="5272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DF14-CD99-409C-9BB6-71B50E321468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رج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سترها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 شاخص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رج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ستر مبد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رج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ستر مقص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بر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انتقالات بلو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1905120" y="4024440"/>
            <a:ext cx="45720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INDE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624384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754640" y="3733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1905120" y="5486400"/>
            <a:ext cx="4572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TION INDE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8"/>
          <p:cNvSpPr/>
          <p:nvPr/>
        </p:nvSpPr>
        <p:spPr>
          <a:xfrm>
            <a:off x="6243840" y="519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9"/>
          <p:cNvSpPr/>
          <p:nvPr/>
        </p:nvSpPr>
        <p:spPr>
          <a:xfrm>
            <a:off x="1754640" y="51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B364-3797-46C7-951A-DDB8BE3375A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رج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سترها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 سگمنت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آدرس شروع سگمنت ه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رنامه را نگهدار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م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کن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1905120" y="2743200"/>
            <a:ext cx="4572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624384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1754640" y="2452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1905120" y="3795840"/>
            <a:ext cx="45720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 SEGME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6243840" y="350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1754640" y="35053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"/>
          <p:cNvSpPr/>
          <p:nvPr/>
        </p:nvSpPr>
        <p:spPr>
          <a:xfrm>
            <a:off x="1905120" y="4800600"/>
            <a:ext cx="4572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1"/>
          <p:cNvSpPr/>
          <p:nvPr/>
        </p:nvSpPr>
        <p:spPr>
          <a:xfrm>
            <a:off x="6243840" y="45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2"/>
          <p:cNvSpPr/>
          <p:nvPr/>
        </p:nvSpPr>
        <p:spPr>
          <a:xfrm>
            <a:off x="1754640" y="4510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3"/>
          <p:cNvSpPr/>
          <p:nvPr/>
        </p:nvSpPr>
        <p:spPr>
          <a:xfrm>
            <a:off x="1905120" y="5943600"/>
            <a:ext cx="4572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 SEG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4"/>
          <p:cNvSpPr/>
          <p:nvPr/>
        </p:nvSpPr>
        <p:spPr>
          <a:xfrm>
            <a:off x="6243840" y="565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5"/>
          <p:cNvSpPr/>
          <p:nvPr/>
        </p:nvSpPr>
        <p:spPr>
          <a:xfrm>
            <a:off x="1754640" y="5653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502B-9852-4969-95E2-0ABEB311AA4C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4F7B-8166-45E1-9CBD-DB3B6FC7F782}" type="slidenum">
              <a:rPr b="0" lang="fa-I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143000" y="457200"/>
            <a:ext cx="7391520" cy="4114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6400800" y="609480"/>
            <a:ext cx="198108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ALU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371600" y="533520"/>
            <a:ext cx="152388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1447920" y="609480"/>
            <a:ext cx="152388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1523880" y="685800"/>
            <a:ext cx="152424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1600200" y="762120"/>
            <a:ext cx="152388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1676520" y="838080"/>
            <a:ext cx="152388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1752480" y="914400"/>
            <a:ext cx="152424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1828800" y="990720"/>
            <a:ext cx="152388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1371600" y="1447920"/>
            <a:ext cx="152388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1447920" y="1523880"/>
            <a:ext cx="152388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1523880" y="1600200"/>
            <a:ext cx="152424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6"/>
          <p:cNvSpPr/>
          <p:nvPr/>
        </p:nvSpPr>
        <p:spPr>
          <a:xfrm>
            <a:off x="1600200" y="1676520"/>
            <a:ext cx="152388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1676520" y="1752480"/>
            <a:ext cx="152388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1066680" y="5562720"/>
            <a:ext cx="7620120" cy="1143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9"/>
          <p:cNvSpPr/>
          <p:nvPr/>
        </p:nvSpPr>
        <p:spPr>
          <a:xfrm>
            <a:off x="2971800" y="4572000"/>
            <a:ext cx="1219320" cy="99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0"/>
          <p:cNvSpPr/>
          <p:nvPr/>
        </p:nvSpPr>
        <p:spPr>
          <a:xfrm>
            <a:off x="1752480" y="1828800"/>
            <a:ext cx="152424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1"/>
          <p:cNvSpPr/>
          <p:nvPr/>
        </p:nvSpPr>
        <p:spPr>
          <a:xfrm>
            <a:off x="4800600" y="4572000"/>
            <a:ext cx="1219320" cy="99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2"/>
          <p:cNvSpPr/>
          <p:nvPr/>
        </p:nvSpPr>
        <p:spPr>
          <a:xfrm>
            <a:off x="3870720" y="47354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3"/>
          <p:cNvSpPr/>
          <p:nvPr/>
        </p:nvSpPr>
        <p:spPr>
          <a:xfrm>
            <a:off x="5699520" y="47354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5"/>
          <p:cNvSpPr/>
          <p:nvPr/>
        </p:nvSpPr>
        <p:spPr>
          <a:xfrm>
            <a:off x="3886200" y="762120"/>
            <a:ext cx="2286000" cy="20574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irtual mem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6"/>
          <p:cNvSpPr/>
          <p:nvPr/>
        </p:nvSpPr>
        <p:spPr>
          <a:xfrm>
            <a:off x="1371600" y="2514600"/>
            <a:ext cx="152388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7"/>
          <p:cNvSpPr/>
          <p:nvPr/>
        </p:nvSpPr>
        <p:spPr>
          <a:xfrm>
            <a:off x="1523880" y="2438280"/>
            <a:ext cx="152424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1676520" y="2362320"/>
            <a:ext cx="152388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3200400" y="2971800"/>
            <a:ext cx="1371600" cy="13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Arial"/>
              </a:rPr>
              <a:t>Data Cac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Arial"/>
              </a:rPr>
              <a:t>8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1295280" y="3276720"/>
            <a:ext cx="1524240" cy="1066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Arial"/>
              </a:rPr>
              <a:t>Co-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4724280" y="2971800"/>
            <a:ext cx="1371600" cy="13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Arial"/>
              </a:rPr>
              <a:t>Instru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Arial"/>
              </a:rPr>
              <a:t>Cac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Arial"/>
              </a:rPr>
              <a:t>8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2"/>
          <p:cNvSpPr/>
          <p:nvPr/>
        </p:nvSpPr>
        <p:spPr>
          <a:xfrm>
            <a:off x="6400800" y="1676520"/>
            <a:ext cx="198108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ALU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3"/>
          <p:cNvSpPr/>
          <p:nvPr/>
        </p:nvSpPr>
        <p:spPr>
          <a:xfrm>
            <a:off x="6400800" y="26668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Arial"/>
              </a:rPr>
              <a:t>Pre-Fe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Arial"/>
              </a:rPr>
              <a:t>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4"/>
          <p:cNvSpPr/>
          <p:nvPr/>
        </p:nvSpPr>
        <p:spPr>
          <a:xfrm>
            <a:off x="6400800" y="3505320"/>
            <a:ext cx="198108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Arial"/>
              </a:rPr>
              <a:t>Jump Predi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0559-A2F0-469A-8197-D07AC318727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اشاره گر دستورالعمل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درس دستورالعم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که ب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 اجرا شود را نگهدار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م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ک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با اجر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هر دستور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ک واحد افز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ش م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ب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وسط واحد کنترل تنظ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 م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شو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425F-06F2-4594-A8AA-DD6C2E3EBA40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پرچم (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LAG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ب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 ه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وضع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ست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990720" y="28954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533520" y="28954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1447920" y="28954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1905120" y="28954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2362320" y="28954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2819520" y="28954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276720" y="28954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733920" y="28954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4648320" y="28954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4191120" y="28954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4"/>
          <p:cNvSpPr/>
          <p:nvPr/>
        </p:nvSpPr>
        <p:spPr>
          <a:xfrm>
            <a:off x="5105520" y="28954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5"/>
          <p:cNvSpPr/>
          <p:nvPr/>
        </p:nvSpPr>
        <p:spPr>
          <a:xfrm>
            <a:off x="5562720" y="28954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6"/>
          <p:cNvSpPr/>
          <p:nvPr/>
        </p:nvSpPr>
        <p:spPr>
          <a:xfrm>
            <a:off x="6019920" y="28954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7"/>
          <p:cNvSpPr/>
          <p:nvPr/>
        </p:nvSpPr>
        <p:spPr>
          <a:xfrm>
            <a:off x="6477120" y="28954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8"/>
          <p:cNvSpPr/>
          <p:nvPr/>
        </p:nvSpPr>
        <p:spPr>
          <a:xfrm>
            <a:off x="6934320" y="28954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9"/>
          <p:cNvSpPr/>
          <p:nvPr/>
        </p:nvSpPr>
        <p:spPr>
          <a:xfrm>
            <a:off x="7391520" y="28954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737748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1"/>
          <p:cNvSpPr/>
          <p:nvPr/>
        </p:nvSpPr>
        <p:spPr>
          <a:xfrm>
            <a:off x="696456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2"/>
          <p:cNvSpPr/>
          <p:nvPr/>
        </p:nvSpPr>
        <p:spPr>
          <a:xfrm>
            <a:off x="655344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3"/>
          <p:cNvSpPr/>
          <p:nvPr/>
        </p:nvSpPr>
        <p:spPr>
          <a:xfrm>
            <a:off x="609804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24"/>
          <p:cNvSpPr/>
          <p:nvPr/>
        </p:nvSpPr>
        <p:spPr>
          <a:xfrm>
            <a:off x="564084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5"/>
          <p:cNvSpPr/>
          <p:nvPr/>
        </p:nvSpPr>
        <p:spPr>
          <a:xfrm>
            <a:off x="518364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6"/>
          <p:cNvSpPr/>
          <p:nvPr/>
        </p:nvSpPr>
        <p:spPr>
          <a:xfrm>
            <a:off x="472644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27"/>
          <p:cNvSpPr/>
          <p:nvPr/>
        </p:nvSpPr>
        <p:spPr>
          <a:xfrm>
            <a:off x="426924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8"/>
          <p:cNvSpPr/>
          <p:nvPr/>
        </p:nvSpPr>
        <p:spPr>
          <a:xfrm>
            <a:off x="381204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9"/>
          <p:cNvSpPr/>
          <p:nvPr/>
        </p:nvSpPr>
        <p:spPr>
          <a:xfrm>
            <a:off x="335484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30"/>
          <p:cNvSpPr/>
          <p:nvPr/>
        </p:nvSpPr>
        <p:spPr>
          <a:xfrm>
            <a:off x="2821680" y="2452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31"/>
          <p:cNvSpPr/>
          <p:nvPr/>
        </p:nvSpPr>
        <p:spPr>
          <a:xfrm>
            <a:off x="2364480" y="2452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2"/>
          <p:cNvSpPr/>
          <p:nvPr/>
        </p:nvSpPr>
        <p:spPr>
          <a:xfrm>
            <a:off x="1907280" y="2452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33"/>
          <p:cNvSpPr/>
          <p:nvPr/>
        </p:nvSpPr>
        <p:spPr>
          <a:xfrm>
            <a:off x="1519920" y="2452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34"/>
          <p:cNvSpPr/>
          <p:nvPr/>
        </p:nvSpPr>
        <p:spPr>
          <a:xfrm>
            <a:off x="981720" y="2452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5"/>
          <p:cNvSpPr/>
          <p:nvPr/>
        </p:nvSpPr>
        <p:spPr>
          <a:xfrm>
            <a:off x="443520" y="2452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36"/>
          <p:cNvSpPr/>
          <p:nvPr/>
        </p:nvSpPr>
        <p:spPr>
          <a:xfrm>
            <a:off x="754380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37"/>
          <p:cNvSpPr/>
          <p:nvPr/>
        </p:nvSpPr>
        <p:spPr>
          <a:xfrm>
            <a:off x="7543800" y="3886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38"/>
          <p:cNvSpPr/>
          <p:nvPr/>
        </p:nvSpPr>
        <p:spPr>
          <a:xfrm>
            <a:off x="6705720" y="3352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39"/>
          <p:cNvSpPr/>
          <p:nvPr/>
        </p:nvSpPr>
        <p:spPr>
          <a:xfrm>
            <a:off x="670572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40"/>
          <p:cNvSpPr/>
          <p:nvPr/>
        </p:nvSpPr>
        <p:spPr>
          <a:xfrm>
            <a:off x="5791320" y="33526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41"/>
          <p:cNvSpPr/>
          <p:nvPr/>
        </p:nvSpPr>
        <p:spPr>
          <a:xfrm>
            <a:off x="579132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42"/>
          <p:cNvSpPr/>
          <p:nvPr/>
        </p:nvSpPr>
        <p:spPr>
          <a:xfrm>
            <a:off x="4876920" y="33526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43"/>
          <p:cNvSpPr/>
          <p:nvPr/>
        </p:nvSpPr>
        <p:spPr>
          <a:xfrm>
            <a:off x="4876920" y="6324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44"/>
          <p:cNvSpPr/>
          <p:nvPr/>
        </p:nvSpPr>
        <p:spPr>
          <a:xfrm>
            <a:off x="4343400" y="33526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45"/>
          <p:cNvSpPr/>
          <p:nvPr/>
        </p:nvSpPr>
        <p:spPr>
          <a:xfrm flipH="1">
            <a:off x="2742840" y="6324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46"/>
          <p:cNvSpPr/>
          <p:nvPr/>
        </p:nvSpPr>
        <p:spPr>
          <a:xfrm>
            <a:off x="3962520" y="3352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47"/>
          <p:cNvSpPr/>
          <p:nvPr/>
        </p:nvSpPr>
        <p:spPr>
          <a:xfrm flipH="1">
            <a:off x="2133720" y="5715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48"/>
          <p:cNvSpPr/>
          <p:nvPr/>
        </p:nvSpPr>
        <p:spPr>
          <a:xfrm>
            <a:off x="3505320" y="3352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49"/>
          <p:cNvSpPr/>
          <p:nvPr/>
        </p:nvSpPr>
        <p:spPr>
          <a:xfrm flipH="1">
            <a:off x="1904760" y="5257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51"/>
          <p:cNvSpPr/>
          <p:nvPr/>
        </p:nvSpPr>
        <p:spPr>
          <a:xfrm>
            <a:off x="2971800" y="3352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52"/>
          <p:cNvSpPr/>
          <p:nvPr/>
        </p:nvSpPr>
        <p:spPr>
          <a:xfrm flipH="1">
            <a:off x="1371240" y="4724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53"/>
          <p:cNvSpPr/>
          <p:nvPr/>
        </p:nvSpPr>
        <p:spPr>
          <a:xfrm>
            <a:off x="2590920" y="3352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54"/>
          <p:cNvSpPr/>
          <p:nvPr/>
        </p:nvSpPr>
        <p:spPr>
          <a:xfrm flipH="1">
            <a:off x="1371240" y="4191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5"/>
          <p:cNvSpPr/>
          <p:nvPr/>
        </p:nvSpPr>
        <p:spPr>
          <a:xfrm>
            <a:off x="8138160" y="371808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56"/>
          <p:cNvSpPr/>
          <p:nvPr/>
        </p:nvSpPr>
        <p:spPr>
          <a:xfrm>
            <a:off x="7071840" y="440388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57"/>
          <p:cNvSpPr/>
          <p:nvPr/>
        </p:nvSpPr>
        <p:spPr>
          <a:xfrm>
            <a:off x="6690600" y="539424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XILI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8"/>
          <p:cNvSpPr/>
          <p:nvPr/>
        </p:nvSpPr>
        <p:spPr>
          <a:xfrm>
            <a:off x="6234840" y="615636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9"/>
          <p:cNvSpPr/>
          <p:nvPr/>
        </p:nvSpPr>
        <p:spPr>
          <a:xfrm>
            <a:off x="1983600" y="619596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60"/>
          <p:cNvSpPr/>
          <p:nvPr/>
        </p:nvSpPr>
        <p:spPr>
          <a:xfrm>
            <a:off x="1204200" y="554688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61"/>
          <p:cNvSpPr/>
          <p:nvPr/>
        </p:nvSpPr>
        <p:spPr>
          <a:xfrm>
            <a:off x="610560" y="5073480"/>
            <a:ext cx="134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2"/>
          <p:cNvSpPr/>
          <p:nvPr/>
        </p:nvSpPr>
        <p:spPr>
          <a:xfrm>
            <a:off x="138960" y="455616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3"/>
          <p:cNvSpPr/>
          <p:nvPr/>
        </p:nvSpPr>
        <p:spPr>
          <a:xfrm>
            <a:off x="104400" y="4006800"/>
            <a:ext cx="134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بيت نقلي </a:t>
            </a: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ين بيت زماني يك ميگردد ك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لف) در دستورات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يتي از بيت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(هشتمين بيت) يك بيت نقلي ايجاد شو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ب) در دستورات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يتي از بيت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(شانزدهمين بيت) يك بيت نقلي ايجاد گرد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49C6-214B-423F-BD65-204A1247B301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بيت تشخيص صفر</a:t>
            </a: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ZF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زماني اين بيت يك ميگردد  كه نتيجه عمليات محاسباتي يا منطقي برابر صفر شو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674B-D8F5-453E-8590-8D9C72A9AD0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بيت علامت </a:t>
            </a: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SF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نشان دهنده علامت نتيجه آخرين محاسبه مي باش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64FE-8C08-4625-A060-C695CA56B83E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بيت نقلي كمكي </a:t>
            </a: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ر صورتي كه از بيت شماره سه (بيت چهارم)  رقم نقلي بوجود آيد مقدار آن يك مي گرد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767A-53B9-4C84-A327-10C910875D88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بيت توازن </a:t>
            </a: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PF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بعد از آخرين محاسبه بايت كوچكتر بررسي ميگردد اگر تعداد بيت هاي يك موجود در آن زوج بود مقدار آن يك در غير اين صورت مقدارش صفر مي گرد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C4F3-B869-4B97-B3AB-AC6A6F62ECE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بيت سر ريز </a:t>
            </a: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ر صورتي كه نتيجه عمليات بزرگتر از مقدار مجاز گردد مقدار اين بيت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مي گرد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F160-C39C-44CD-A1DA-E79208780921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بيت فعال كردن وقفه </a:t>
            </a: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جهت فعال كردن يا غير فعال كردن وقفه هاي خارجي اس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C181-0F28-4D1B-AF9A-F2DA4434AA88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بيت </a:t>
            </a: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TF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جهت يافتن خطا در برنامه استفاده ميگرد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568E-6925-4634-A30F-96E5AB88797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</a:rPr>
              <a:t>زبان ماش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800" spc="-1" strike="noStrike">
                <a:solidFill>
                  <a:srgbClr val="000000"/>
                </a:solidFill>
                <a:latin typeface="Arial"/>
              </a:rPr>
              <a:t>ن و اسمبل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fa-IR" sz="4800" spc="-1" strike="noStrike">
                <a:solidFill>
                  <a:srgbClr val="000000"/>
                </a:solidFill>
                <a:latin typeface="Arial"/>
              </a:rPr>
              <a:t> درس پنجم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روش هاي آدرس ده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ساختار حافظه – ثبات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بيت جهت </a:t>
            </a: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براي كنترل جهت در عمليات رشته اي مورد استفاده قرار مي گير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F99E-5344-454E-B1AD-1C73E3017EDB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016E-B6AE-41C9-8BE0-815F199C2C6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4"/>
          <p:cNvSpPr/>
          <p:nvPr/>
        </p:nvSpPr>
        <p:spPr>
          <a:xfrm>
            <a:off x="457200" y="380880"/>
            <a:ext cx="822960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380880" y="4952880"/>
            <a:ext cx="83822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6"/>
          <p:cNvSpPr/>
          <p:nvPr/>
        </p:nvSpPr>
        <p:spPr>
          <a:xfrm>
            <a:off x="685800" y="685800"/>
            <a:ext cx="2362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685800" y="1447920"/>
            <a:ext cx="236232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8"/>
          <p:cNvSpPr/>
          <p:nvPr/>
        </p:nvSpPr>
        <p:spPr>
          <a:xfrm>
            <a:off x="4038480" y="685800"/>
            <a:ext cx="43434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9"/>
          <p:cNvSpPr/>
          <p:nvPr/>
        </p:nvSpPr>
        <p:spPr>
          <a:xfrm>
            <a:off x="4038480" y="1981080"/>
            <a:ext cx="4343400" cy="175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10"/>
          <p:cNvSpPr/>
          <p:nvPr/>
        </p:nvSpPr>
        <p:spPr>
          <a:xfrm>
            <a:off x="4343400" y="1981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11"/>
          <p:cNvSpPr/>
          <p:nvPr/>
        </p:nvSpPr>
        <p:spPr>
          <a:xfrm>
            <a:off x="4648320" y="1981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2"/>
          <p:cNvSpPr/>
          <p:nvPr/>
        </p:nvSpPr>
        <p:spPr>
          <a:xfrm>
            <a:off x="4952880" y="1981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3"/>
          <p:cNvSpPr/>
          <p:nvPr/>
        </p:nvSpPr>
        <p:spPr>
          <a:xfrm>
            <a:off x="5257800" y="1981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4"/>
          <p:cNvSpPr/>
          <p:nvPr/>
        </p:nvSpPr>
        <p:spPr>
          <a:xfrm>
            <a:off x="5562720" y="1981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5"/>
          <p:cNvSpPr/>
          <p:nvPr/>
        </p:nvSpPr>
        <p:spPr>
          <a:xfrm>
            <a:off x="5867280" y="1981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16"/>
          <p:cNvSpPr/>
          <p:nvPr/>
        </p:nvSpPr>
        <p:spPr>
          <a:xfrm>
            <a:off x="6172200" y="1981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7"/>
          <p:cNvSpPr/>
          <p:nvPr/>
        </p:nvSpPr>
        <p:spPr>
          <a:xfrm>
            <a:off x="6477120" y="1981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18"/>
          <p:cNvSpPr/>
          <p:nvPr/>
        </p:nvSpPr>
        <p:spPr>
          <a:xfrm>
            <a:off x="6781680" y="1981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9"/>
          <p:cNvSpPr/>
          <p:nvPr/>
        </p:nvSpPr>
        <p:spPr>
          <a:xfrm>
            <a:off x="7086600" y="1981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20"/>
          <p:cNvSpPr/>
          <p:nvPr/>
        </p:nvSpPr>
        <p:spPr>
          <a:xfrm>
            <a:off x="7391520" y="1981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21"/>
          <p:cNvSpPr/>
          <p:nvPr/>
        </p:nvSpPr>
        <p:spPr>
          <a:xfrm>
            <a:off x="7696080" y="1981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22"/>
          <p:cNvSpPr/>
          <p:nvPr/>
        </p:nvSpPr>
        <p:spPr>
          <a:xfrm>
            <a:off x="8001000" y="1981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23"/>
          <p:cNvSpPr/>
          <p:nvPr/>
        </p:nvSpPr>
        <p:spPr>
          <a:xfrm>
            <a:off x="1752480" y="990720"/>
            <a:ext cx="152640" cy="4572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24"/>
          <p:cNvSpPr/>
          <p:nvPr/>
        </p:nvSpPr>
        <p:spPr>
          <a:xfrm>
            <a:off x="3733920" y="4191120"/>
            <a:ext cx="990360" cy="7617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25"/>
          <p:cNvSpPr/>
          <p:nvPr/>
        </p:nvSpPr>
        <p:spPr>
          <a:xfrm>
            <a:off x="3124080" y="1523880"/>
            <a:ext cx="914400" cy="228600"/>
          </a:xfrm>
          <a:prstGeom prst="leftRightArrow">
            <a:avLst>
              <a:gd name="adj1" fmla="val 50000"/>
              <a:gd name="adj2" fmla="val 796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26"/>
          <p:cNvSpPr/>
          <p:nvPr/>
        </p:nvSpPr>
        <p:spPr>
          <a:xfrm>
            <a:off x="3048120" y="2819520"/>
            <a:ext cx="914400" cy="228600"/>
          </a:xfrm>
          <a:prstGeom prst="leftRightArrow">
            <a:avLst>
              <a:gd name="adj1" fmla="val 50000"/>
              <a:gd name="adj2" fmla="val 796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05C7-CB85-415A-8F26-22D6B12C387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تمر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ن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پس از اجر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دستورات ز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ر رج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ستر پرچم را ترس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 نم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 AX,8080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 BX,8841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X,B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5036-6E2D-4339-9845-F6C5A60BFC7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تمر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ن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پس از اجر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دستورات ز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ر رج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ستر پرچم را ترس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 نم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 AX,0FFFF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 BX,11111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 AX,B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تمرين 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پس از اجر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دستورات ز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ر رج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ستر پرچم را ترس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 نم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V AX,34F5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DD AX,95EB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52A1-5160-4308-9174-E9D791090CE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Date Placeholder 2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E0B2-B2A5-4C3D-9EC7-F1BE2DF4CD5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800" spc="-1" strike="noStrike">
                <a:solidFill>
                  <a:srgbClr val="000000"/>
                </a:solidFill>
                <a:latin typeface="Arial"/>
              </a:rPr>
              <a:t>سوال ؟</a:t>
            </a:r>
            <a:endParaRPr b="1" lang="en-US" sz="2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4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ساختار دستور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E1D8-60FF-4150-B41A-DADC0907DCD8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2286000" y="1576440"/>
            <a:ext cx="56386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روش هاي آدرس دهي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آدرس دهي ضم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آدرس دهي بلافاصله يا بلادرن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آدرس دهي ثبات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آدرس دهي مستق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آدرس دهي غير مستق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آدرس دهي با ثبات پايه و نسب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آدرس دهي ايندكس يا شاخ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آدرس دهي افزايش و كاهش خودك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3A38-8FDB-4CE0-BC2A-129120EF759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آدرس دهي ضمني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جهت دستوراتي كه به طور مشخص به يك آدرس اطلاعات يا عملوند اشاره نمي كنن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مثال دستور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LC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يا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TC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كه مقدار بيت پرچم نقلي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 را صفر يا يك مي ك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8F8E-E749-498B-A9B0-2714229E4131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آدرس دهي بلافاصله يا بلا درن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طلاعات يا عملوند در خود دستور قرار دارد ونيازي نيست كه از حافظه يا ثبات آورده ش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مثال دستور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DD R1,4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05FE-41A9-466D-844C-C3196AD88E6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6:13:12Z</dcterms:created>
  <dc:creator>yasser</dc:creator>
  <dc:description/>
  <dc:language>en-US</dc:language>
  <cp:lastModifiedBy>Mat</cp:lastModifiedBy>
  <dcterms:modified xsi:type="dcterms:W3CDTF">2010-10-16T09:19:38Z</dcterms:modified>
  <cp:revision>94</cp:revision>
  <dc:subject/>
  <dc:title>زبان ماشین و اسمبلی – درس پنجم</dc:title>
</cp:coreProperties>
</file>