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0E9-3CD8-445E-A2DD-CBDCEF02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70D-5EE1-4B11-9F75-58E72412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7C5-1508-4B3E-AFFB-C154B6AD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7B1-6080-403D-B945-CC0A432E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CCE4-902D-420A-AD1D-1C4E88FF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BA91-5AB6-4C5C-B9CA-CF6179E5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08BE-E7E2-4606-A1A4-E19925F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85BA-C6FB-4378-A6F7-9BA46873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4C30-EC3B-43E8-9F76-6E327AC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1C8-4CE9-4214-8C00-B40D67B2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77E-C206-45CB-A91F-58E2702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6E7-220E-4AF5-B555-5BD8261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AEB8-DCA5-4815-A8AE-8E86374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6C98-777E-4AD9-94C9-97B26242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6BF8-C165-480E-A48F-3C0E486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F97-F8A3-4A2E-90CE-64383DF2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02E4-51A4-4F1A-8CAE-EDCC5E28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6B6-F578-4510-AD0B-541DF84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854-753B-4F4C-999E-965CCF8C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FD5-6584-40D7-8580-BBF0495C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7DD-A39D-4772-A0C4-38B17719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0E7-96B5-4E2B-9609-82E87BA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698-09B7-4715-A9C2-DD175A06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ECB-BCB6-4460-9A5E-A5D5AAC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  <a:ea typeface="B Yek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27F6-FB40-4118-A6BE-E15DE00074FF}" type="slidenum">
              <a:rPr b="0" lang="ar-SA" sz="2400" spc="-1" strike="noStrike">
                <a:solidFill>
                  <a:srgbClr val="000000"/>
                </a:solidFill>
                <a:latin typeface="Times New Roman"/>
                <a:ea typeface="B Yek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4AA-C468-42E7-A670-F299263E502D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1B46-6EB5-4CFE-98A7-411F8D45BD90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زبان ماش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ن و اسمبل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 درس چهار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صول برنامه ن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زبان اسمب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E4E6-D793-4010-9F24-B4017620D00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وال تو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 برنامه اسمب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2133720"/>
            <a:ext cx="19051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اسمب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3733920" y="2286000"/>
            <a:ext cx="13716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سمبل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2438280" y="281952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181480" y="281952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705720" y="2133720"/>
            <a:ext cx="19047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آبجک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7620120" y="3809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7086600" y="4648320"/>
            <a:ext cx="13716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ک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6019920" y="5105520"/>
            <a:ext cx="990360" cy="304560"/>
          </a:xfrm>
          <a:prstGeom prst="leftArrow">
            <a:avLst>
              <a:gd name="adj1" fmla="val 50000"/>
              <a:gd name="adj2" fmla="val 81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962520" y="4495680"/>
            <a:ext cx="19047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اسمب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916200" y="17668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7120080" y="17524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.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4421520" y="4075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F4E5-F126-4A00-A30D-DD54D3728D8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و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 ف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ل اسمب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هر 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گر مت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امکانپذ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گر نب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 کاراکتر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نتر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متن اضافه ن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96E1-C912-41C5-BF63-3609E7147C7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و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 ف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ل آبجکت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ستفاده ا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ASSEMB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ستفاده ا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O ASSEMBLER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38080" y="3124080"/>
            <a:ext cx="43434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ام ف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MYPRO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1148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629400" y="4114800"/>
            <a:ext cx="2057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PRO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17AA-1A00-4C0E-93AF-569CCD08D7C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روز خط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09480" y="388620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505320" y="3352680"/>
            <a:ext cx="213336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705720" y="388620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095880" y="53341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2666880" y="4114800"/>
            <a:ext cx="838440" cy="152280"/>
          </a:xfrm>
          <a:prstGeom prst="rightArrow">
            <a:avLst>
              <a:gd name="adj1" fmla="val 50000"/>
              <a:gd name="adj2" fmla="val 13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5791320" y="411480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5410080" y="5257800"/>
            <a:ext cx="533520" cy="53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5625360" y="38862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5184000" y="57150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5865-97F1-4BBD-AAEB-A67D77C2575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و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 ف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ل اجر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762120" y="3733920"/>
            <a:ext cx="1904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657600" y="3048120"/>
            <a:ext cx="22860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934320" y="3733920"/>
            <a:ext cx="1904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743200" y="3962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6019920" y="3962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801-72A1-4753-B994-B71C5765C98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ستفاده ا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L.EX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رائه شده توسط شرکت 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روساف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نجام همزمان اسمبل و 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990720" y="259092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L   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نام برنام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990720" y="3581280"/>
            <a:ext cx="32004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MYPRO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41911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4724280" y="3886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47242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724280" y="6248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791320" y="480060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5791320" y="594360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RO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EE32-6751-44AD-9C69-5576264C49B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ر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زبان اسمب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ح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ط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پارچه ب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نوشتن کد اسمب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جر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رنا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خط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صلاح و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M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163E-E596-41D4-8DDB-7E2DE274813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نواع ف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ل ه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اجر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تم 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ق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AE4-48D5-4F8E-981B-0DA332B3E94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ستفاده ا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2b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به قال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نامه ب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 فرمت خا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رع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 نم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جم ف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حدود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عم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ت 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ت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کار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914400" y="441972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2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filena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4343400" y="46483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5791320" y="44956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name 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D82E-651A-47FF-B6B7-94A838299D4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900" spc="-1" strike="noStrike">
                <a:solidFill>
                  <a:srgbClr val="000000"/>
                </a:solidFill>
                <a:latin typeface="Arial"/>
              </a:rPr>
              <a:t>سوال ؟</a:t>
            </a:r>
            <a:endParaRPr b="1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297-53B6-4F24-880A-08E99327D5E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فاه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 او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ر دستور در زبان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سطح بالا به تعدا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دستور زبان ماش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 تب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ش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ر دستور زبان اسمب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فقط ب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 دستور زبان ماش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 ترجمه 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52280" y="3276720"/>
            <a:ext cx="20574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&lt;&lt;“hello word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7760" y="519588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سط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0" y="4114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76720" y="3352680"/>
            <a:ext cx="175248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ax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bx,o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1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qx,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 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ax,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1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qx,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 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ax,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095880" y="3505320"/>
            <a:ext cx="129564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5105520" y="48006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430720" y="63612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سط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7438680" y="6324480"/>
            <a:ext cx="15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دستورال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5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6579-628F-48DE-BCD0-95D3A62ED77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ستورات زبان ماش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ندازه دستورات با هم برابر 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د دستورالعمل وابسته به نوع پردازنده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71600" y="4726080"/>
          <a:ext cx="2271960" cy="1336680"/>
        </p:xfrm>
        <a:graphic>
          <a:graphicData uri="http://schemas.openxmlformats.org/drawingml/2006/table">
            <a:tbl>
              <a:tblPr/>
              <a:tblGrid>
                <a:gridCol w="1136880"/>
                <a:gridCol w="113508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کد 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عم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ي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4"/>
          <p:cNvSpPr/>
          <p:nvPr/>
        </p:nvSpPr>
        <p:spPr>
          <a:xfrm>
            <a:off x="914400" y="21337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14400" y="26668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905120" y="2666880"/>
            <a:ext cx="9903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914400" y="32767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905120" y="3276720"/>
            <a:ext cx="990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895480" y="32767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02360" y="4726080"/>
          <a:ext cx="2271600" cy="1341360"/>
        </p:xfrm>
        <a:graphic>
          <a:graphicData uri="http://schemas.openxmlformats.org/drawingml/2006/table">
            <a:tbl>
              <a:tblPr/>
              <a:tblGrid>
                <a:gridCol w="1136520"/>
                <a:gridCol w="113508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کد 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عم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ي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M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61"/>
          <p:cNvSpPr/>
          <p:nvPr/>
        </p:nvSpPr>
        <p:spPr>
          <a:xfrm>
            <a:off x="6399720" y="5979960"/>
            <a:ext cx="14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پردازنده 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نت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2"/>
          <p:cNvSpPr/>
          <p:nvPr/>
        </p:nvSpPr>
        <p:spPr>
          <a:xfrm>
            <a:off x="1469520" y="594360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پردازنده موتورو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B3B9-A790-4027-BB5B-FEBEA895128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قالب دستورات اسمب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شترک 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 تما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پردازند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274320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981080" y="274320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581280" y="2743200"/>
            <a:ext cx="3505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1,operand2,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086600" y="274320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321320" y="4075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09480" y="3809880"/>
            <a:ext cx="5486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V AX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4267080"/>
            <a:ext cx="5486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X,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609480" y="4724280"/>
            <a:ext cx="5486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1 : SUB AX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609480" y="5181480"/>
            <a:ext cx="5486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2 : MUL BX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ULTIPLY AX,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06B-0D55-4A4D-ABEA-7A20545F51B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رچسب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عمولا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اراکت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خ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راجعه به محل در دستور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219320" y="3657600"/>
            <a:ext cx="25905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MOV A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MP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0363200">
            <a:off x="3962160" y="3733560"/>
            <a:ext cx="914400" cy="1752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47D-83E5-48EC-A3A7-F20565B5EB4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عملوند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AND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عداد عملوند ها در دستورات مختلف متفاوت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نواع دستورات از نطر تعداد عملون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سه آدرس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و آدرس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ک آدرس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دون آدر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523880" y="2895480"/>
            <a:ext cx="2895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R1,   R2,  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523880" y="3657600"/>
            <a:ext cx="2895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R1, 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523880" y="4419720"/>
            <a:ext cx="2895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    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523880" y="5105520"/>
            <a:ext cx="2895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1D1-6D94-46E7-A40B-DE212DA72EA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ستورات دوآ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707880" y="18288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523880" y="2438280"/>
            <a:ext cx="3124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1,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523880" y="3733920"/>
            <a:ext cx="3124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1+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752480" y="51814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352680" y="51814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952880" y="51814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114800" y="5562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571500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4114800" y="64008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5715000" y="6172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762012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V="1">
            <a:off x="8077320" y="4876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7010280" y="4267080"/>
            <a:ext cx="1752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V="1">
            <a:off x="792468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 flipH="1">
            <a:off x="571500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5715000" y="3886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3"/>
          <p:cNvSpPr/>
          <p:nvPr/>
        </p:nvSpPr>
        <p:spPr>
          <a:xfrm>
            <a:off x="2971800" y="304812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4BC-12A5-4FF4-835B-8C3BBFD13A3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ستورات دو آ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708600" y="1828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523880" y="2438280"/>
            <a:ext cx="3124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1,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23880" y="3733920"/>
            <a:ext cx="3124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1+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752480" y="51814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3352680" y="51814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952880" y="51814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114800" y="5562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71500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114800" y="64008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715000" y="6172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7620120" y="5562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8077320" y="5562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7010280" y="4952880"/>
            <a:ext cx="1752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 flipV="1">
            <a:off x="7924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4114440" y="4572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411480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2971800" y="304812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C5EC-49B3-4AF1-BF19-DE55E87E734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دستورات سه آ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98400" y="1523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14400" y="213372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1,R2,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914400" y="34290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1+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143000" y="48769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743200" y="4876920"/>
            <a:ext cx="1066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809880" y="4876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350532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441972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505320" y="60958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4419720" y="5867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 flipV="1">
            <a:off x="7010280" y="5257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V="1">
            <a:off x="746748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6400800" y="464832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 flipV="1">
            <a:off x="7315200" y="4266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 flipH="1">
            <a:off x="5181120" y="4267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51814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2362320" y="274320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4800600" y="487692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5:01:11Z</dcterms:created>
  <dc:creator>yasser</dc:creator>
  <dc:description/>
  <dc:language>en-US</dc:language>
  <cp:lastModifiedBy>Mat</cp:lastModifiedBy>
  <dcterms:modified xsi:type="dcterms:W3CDTF">2010-03-08T14:53:34Z</dcterms:modified>
  <cp:revision>51</cp:revision>
  <dc:subject/>
  <dc:title>زبان ماشین و اسمبلی – درس چهارم</dc:title>
</cp:coreProperties>
</file>