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3EF-A1F8-427E-8C41-B2A93217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F91-EFC7-42CB-A1FB-DE6C89DE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4DE-241F-4811-8D80-310FEDC5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B60-FCFC-4EBD-B8D7-AE02679E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8388-71C3-4AFA-8F89-8EAB967E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1DB2-6AAE-40E6-A7CD-8AE7584B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AFFF-6980-4B25-AD21-79DB0A30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3061-4C7B-4979-B8F7-0A125ABC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55A9-0118-4D23-B587-FF3D785C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4BC6-C948-46F7-BE36-5057346A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DD30-B055-485C-B884-5DFB4553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CB8-43A2-4E79-8BD1-6532FDD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6509-D6D5-4ECF-A752-5FF4EFAF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9DAA-2AC8-4FD2-8880-CB3BAE99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DEE3-2CD7-4BC6-A2AB-F26DDCDA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216A-04D5-4206-BB38-A4B24484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5C05-D867-4DBA-8B86-B7D913F1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118-9F1C-44F9-BAB4-0CBB4038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67F-85BA-4CA5-87ED-0A96C1BD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F01-FEC9-4CC2-B33B-B6B4FB45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2C8-BB2F-482D-8E25-DD6C78BA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3BB-4032-4B04-9D54-28B4785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54E-7FF9-49A4-8AAA-C552DB56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780-338C-405F-8120-A77F79C8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B Yek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A49B-49F7-45B8-8707-C9216675E95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E89A-1B5B-443B-9ADA-0A12070CA76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0AA8-DC19-4569-B251-A4101C8C8F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نمایش اعداد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repres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0" y="281952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ECA-5FC3-49EF-B602-871F93D8BD1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جمع در مبنای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ه حالت کل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447920" y="2971800"/>
            <a:ext cx="685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447920" y="3733920"/>
            <a:ext cx="685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114300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447920" y="4952880"/>
            <a:ext cx="6858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886200" y="2971800"/>
            <a:ext cx="685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886200" y="3733920"/>
            <a:ext cx="685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58128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3886200" y="4952880"/>
            <a:ext cx="6858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6400800" y="2971800"/>
            <a:ext cx="685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6400800" y="3733920"/>
            <a:ext cx="685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609588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6400800" y="4952880"/>
            <a:ext cx="6858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6400800" y="2209680"/>
            <a:ext cx="6858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 flipH="1">
            <a:off x="3429000" y="2362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3414960" y="23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 flipH="1">
            <a:off x="5867280" y="1828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577728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5636-91CB-4227-A393-B1B73DE1A52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286000" y="25146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971800" y="25146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3657600" y="25146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343400" y="25146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5029200" y="25146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715000" y="25146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400800" y="25146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7086600" y="25146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2286000" y="32004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2971800" y="32004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3657600" y="32004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4343400" y="32004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5029200" y="32004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5715000" y="32004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6400800" y="32004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7086600" y="32004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19051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1"/>
          <p:cNvSpPr/>
          <p:nvPr/>
        </p:nvSpPr>
        <p:spPr>
          <a:xfrm>
            <a:off x="2286000" y="4419720"/>
            <a:ext cx="60948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2971800" y="4419720"/>
            <a:ext cx="60948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3657600" y="4419720"/>
            <a:ext cx="60948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4343400" y="4419720"/>
            <a:ext cx="60948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5029200" y="4419720"/>
            <a:ext cx="60948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5715000" y="4419720"/>
            <a:ext cx="60948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6400800" y="4419720"/>
            <a:ext cx="60948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7086600" y="4419720"/>
            <a:ext cx="60948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 flipH="1">
            <a:off x="4723920" y="2209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0"/>
          <p:cNvSpPr/>
          <p:nvPr/>
        </p:nvSpPr>
        <p:spPr>
          <a:xfrm flipH="1">
            <a:off x="3885840" y="2209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634280" y="201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3796200" y="201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311976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4"/>
          <p:cNvSpPr/>
          <p:nvPr/>
        </p:nvSpPr>
        <p:spPr>
          <a:xfrm flipH="1">
            <a:off x="3200040" y="2209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662120" y="33955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56C9-DA9D-49CD-BDE8-D52A595D45C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اصلجمع زیر را محاسبه نمایی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عداد در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ست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10011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0011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11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ل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1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10100</a:t>
            </a:r>
            <a:r>
              <a:rPr b="0" lang="fa-IR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6094-84AF-4166-A624-FA1AC040E05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یت نقل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مکن است باعث اشتباه در محاسبات ش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اید روشی برای تشخیص وجود یا عدم وجود این بیت در دست داشته باشی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مواره وجود این بیت دلیل بر غلط بودن محاسبات نی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18B0-22A9-45DF-BA8B-E5F6FBDFF1F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( بیت نقلی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514600" y="2438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200400" y="2438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886200" y="2438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572000" y="2438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257800" y="2438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5943600" y="2438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6629400" y="2438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7315200" y="2438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2514600" y="34290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3200400" y="34290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3886200" y="34290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4572000" y="34290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5257800" y="34290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5943600" y="34290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6629400" y="34290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7315200" y="34290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2209680" y="43434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3200400" y="4724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3886200" y="4724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4572000" y="4724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5257800" y="4724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5943600" y="4724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6629400" y="4724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7315200" y="4724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8"/>
          <p:cNvSpPr/>
          <p:nvPr/>
        </p:nvSpPr>
        <p:spPr>
          <a:xfrm>
            <a:off x="2514600" y="472428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>
            <a:off x="6324120" y="2057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>
            <a:off x="3504960" y="2057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>
            <a:off x="2819160" y="1981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057040" y="1905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3"/>
          <p:cNvSpPr/>
          <p:nvPr/>
        </p:nvSpPr>
        <p:spPr>
          <a:xfrm>
            <a:off x="1752480" y="4724280"/>
            <a:ext cx="60984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4"/>
          <p:cNvSpPr/>
          <p:nvPr/>
        </p:nvSpPr>
        <p:spPr>
          <a:xfrm>
            <a:off x="2133720" y="54100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>
            <a:off x="3796560" y="6132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6158160" y="194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>
            <a:off x="3339000" y="194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>
            <a:off x="2576880" y="194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181476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0"/>
          <p:cNvSpPr/>
          <p:nvPr/>
        </p:nvSpPr>
        <p:spPr>
          <a:xfrm flipH="1">
            <a:off x="5654160" y="2021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>
            <a:off x="54882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عمل تفريق در مبناهاي مختل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752480" y="1523520"/>
            <a:ext cx="7010640" cy="4876920"/>
          </a:xfrm>
          <a:prstGeom prst="rect">
            <a:avLst/>
          </a:prstGeom>
          <a:ln w="0">
            <a:noFill/>
          </a:ln>
        </p:spPr>
      </p:pic>
      <p:sp>
        <p:nvSpPr>
          <p:cNvPr id="26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8F0A-50FB-40A1-BBEB-83864CD5079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4640-44A7-4A45-9C50-76F1ECBE35E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عداد منفی در مبنای دو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یستم مکمل د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حوه محاسب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دست آوردن مكمل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(تمامی بیت ها را نقیض ميكني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كمل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با عدد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جمع می کنی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9307-0764-4CD2-9591-CF78283215F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0574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25909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1240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6576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41911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47242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52578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7913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2"/>
          <p:cNvSpPr/>
          <p:nvPr/>
        </p:nvSpPr>
        <p:spPr>
          <a:xfrm>
            <a:off x="3505320" y="3276720"/>
            <a:ext cx="12189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2057400" y="40384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2590920" y="40384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3124080" y="40384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3657600" y="40384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7"/>
          <p:cNvSpPr/>
          <p:nvPr/>
        </p:nvSpPr>
        <p:spPr>
          <a:xfrm>
            <a:off x="4191120" y="40384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4724280" y="40384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5257800" y="40384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0"/>
          <p:cNvSpPr/>
          <p:nvPr/>
        </p:nvSpPr>
        <p:spPr>
          <a:xfrm>
            <a:off x="5791320" y="40384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2"/>
          <p:cNvSpPr/>
          <p:nvPr/>
        </p:nvSpPr>
        <p:spPr>
          <a:xfrm>
            <a:off x="5791320" y="49528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5166360" y="50403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"/>
          <p:cNvSpPr/>
          <p:nvPr/>
        </p:nvSpPr>
        <p:spPr>
          <a:xfrm>
            <a:off x="1905120" y="57913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2057400" y="5943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6"/>
          <p:cNvSpPr/>
          <p:nvPr/>
        </p:nvSpPr>
        <p:spPr>
          <a:xfrm>
            <a:off x="2590920" y="59436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3124080" y="5943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3657600" y="5943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9"/>
          <p:cNvSpPr/>
          <p:nvPr/>
        </p:nvSpPr>
        <p:spPr>
          <a:xfrm>
            <a:off x="4191120" y="59436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0"/>
          <p:cNvSpPr/>
          <p:nvPr/>
        </p:nvSpPr>
        <p:spPr>
          <a:xfrm>
            <a:off x="4724280" y="5943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1"/>
          <p:cNvSpPr/>
          <p:nvPr/>
        </p:nvSpPr>
        <p:spPr>
          <a:xfrm>
            <a:off x="5257800" y="5943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2"/>
          <p:cNvSpPr/>
          <p:nvPr/>
        </p:nvSpPr>
        <p:spPr>
          <a:xfrm>
            <a:off x="5791320" y="59436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AB56-EFF7-4D75-9034-C7FFFED8826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مثال : مکمل دو عدد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1010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را محاسبه نمایی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3D6E-736A-4554-9B1A-093AD0CDB3E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روش سری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ز سمت راست شروع کنید و هر بیت را به خروجی منتقل نمایید تا زمانی که به اولین یک برس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ولین یک را نیز به خروجی منتقل کن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قیه بیت ها را به صورت نقیض در خروجی بنویس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669A-1A54-4715-98CB-BD70AEF8B37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هدف کلی در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شنایی با عملیات جمع در مبناهای مختل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حوه نمایش اعداد منف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فری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9708-6A76-437C-BBBA-E032792B64A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0574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25909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1240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6576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41911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7242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2578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57913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2057400" y="39625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5"/>
          <p:cNvSpPr/>
          <p:nvPr/>
        </p:nvSpPr>
        <p:spPr>
          <a:xfrm>
            <a:off x="2590920" y="39625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3124080" y="39625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7"/>
          <p:cNvSpPr/>
          <p:nvPr/>
        </p:nvSpPr>
        <p:spPr>
          <a:xfrm>
            <a:off x="3657600" y="396252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4191120" y="396252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9"/>
          <p:cNvSpPr/>
          <p:nvPr/>
        </p:nvSpPr>
        <p:spPr>
          <a:xfrm>
            <a:off x="4724280" y="396252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0"/>
          <p:cNvSpPr/>
          <p:nvPr/>
        </p:nvSpPr>
        <p:spPr>
          <a:xfrm>
            <a:off x="5257800" y="396252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1"/>
          <p:cNvSpPr/>
          <p:nvPr/>
        </p:nvSpPr>
        <p:spPr>
          <a:xfrm>
            <a:off x="5791320" y="396252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2"/>
          <p:cNvSpPr/>
          <p:nvPr/>
        </p:nvSpPr>
        <p:spPr>
          <a:xfrm rot="16200000">
            <a:off x="4800600" y="3504600"/>
            <a:ext cx="152280" cy="22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3"/>
          <p:cNvSpPr/>
          <p:nvPr/>
        </p:nvSpPr>
        <p:spPr>
          <a:xfrm>
            <a:off x="4332240" y="4662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بدون تغیی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4"/>
          <p:cNvSpPr/>
          <p:nvPr/>
        </p:nvSpPr>
        <p:spPr>
          <a:xfrm rot="16200000">
            <a:off x="2857320" y="392364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5"/>
          <p:cNvSpPr/>
          <p:nvPr/>
        </p:nvSpPr>
        <p:spPr>
          <a:xfrm>
            <a:off x="2542320" y="468468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نقی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2B7A-1AC1-4A3D-9FCD-4124CB03D4B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مثال : مکمل دو عدد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1101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را محاسبه نمایی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D91A-878B-4EB9-B9C6-F2B7C885492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نکات مه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کمل دو در مبنای دو معادل به قرینه کردن عدد در مبنای ده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جمع هر عدد با مکملش برابر با صفر خواهد ب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زمان محاسبه مکمل باید به بیت های صفر بی اهمیت توجه ش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531B-A13E-4141-99DC-AE17A5BCC10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یت های صفر بی اهمی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عداد زیر با هم مساوی نیست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0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000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زیرا مکمل های یکسانی ندار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زمان محاسبه مکمل تعداد بیتهای واقعی عدد اهمیت دا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یت های بی اهمیت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بدل خواهند ش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ECC0-88CD-4701-AA49-2A2E84D5356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مثال : مکمل عدد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 را بدست آوری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اه حل غل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وش صحیح : عدد چند بیتی است ؟  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یتی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0000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1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8A5C-5807-47F3-AD61-A09D139A35E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نکات مهم ( ادامه 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ز این به بعد منظور از مکمل همان مکمل دو اس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صورت قيد نشدن تعداد بيت ها 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يت در نظر گرفته ش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یک عد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یتی علامتدار با ارزشترین بیت، بیت علامت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گر بیت علامت یک باشد عدد منفی است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BAE1-689B-4F4B-8E47-F0A36B861BC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مثال : در یک ساختار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 بیتی کدام عدد منفی است 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D638-395D-4B14-A82F-B573A8223EA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بدیل اعداد منف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7487280" y="346536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اعداد باینر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6934320" y="1981080"/>
            <a:ext cx="457200" cy="3429000"/>
          </a:xfrm>
          <a:custGeom>
            <a:avLst/>
            <a:gdLst>
              <a:gd name="textAreaLeft" fmla="*/ 0 w 457200"/>
              <a:gd name="textAreaRight" fmla="*/ 164880 w 4572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5208480" y="213372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بی علامت ( مثبت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5900040" y="49896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علامتد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48006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1796040" y="213372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روشهای سنتی تبدیل مبناها به 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181480" y="4114800"/>
            <a:ext cx="533520" cy="2057400"/>
          </a:xfrm>
          <a:custGeom>
            <a:avLst/>
            <a:gdLst>
              <a:gd name="textAreaLeft" fmla="*/ 0 w 533520"/>
              <a:gd name="textAreaRight" fmla="*/ 192600 w 5335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4498920" y="39625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ثب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4327920" y="59799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نف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39625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957960" y="396252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روشهای سنتی تبدیل مبناها به 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 flipH="1">
            <a:off x="388620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424680" y="58356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5875-0D21-4991-A4DB-9E335021A97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بدیل اعداد باینری منفی به دهده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یچ روش مستقیمی برای این کار وجود ندا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بتدا : قرینه عدد را تولید  می کنی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قدار قرینه عدد را در مبنای ده بدست می آوری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یک علامت منفی به جواب اضافه می کنی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80D2-5193-4A1E-BA0D-9611AE44C34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: 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100100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965240" y="270360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28954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963880" y="36180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ک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981080" y="451008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10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8"/>
          <p:cNvSpPr/>
          <p:nvPr/>
        </p:nvSpPr>
        <p:spPr>
          <a:xfrm>
            <a:off x="4267080" y="4800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6082200" y="460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0"/>
          <p:cNvSpPr/>
          <p:nvPr/>
        </p:nvSpPr>
        <p:spPr>
          <a:xfrm flipV="1">
            <a:off x="6248520" y="3276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5929920" y="2703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55E8-552D-497D-B50F-4B5AFE1D707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جم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هر رقم با متناظر مکانی خود جمع میش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حاصل از مبنا کمتر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حاصل از مبنا بیشتر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0000"/>
                </a:solidFill>
                <a:latin typeface="Arial"/>
              </a:rPr>
              <a:t>به اندازه مبنا از حاصل کم کر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0000"/>
                </a:solidFill>
                <a:latin typeface="Arial"/>
              </a:rPr>
              <a:t>یک واحد به رقم های بعدی اضافه میکنیم ( ده بر یک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F0FC-7A2F-4DB2-ACC9-ED9FB1E29E2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مثال : معادل دهدهی اعداد زیر را محاسبه کنید ، اگر اعداد همگی علامتدار و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بیتی باشند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الف :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1001111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ب: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10001000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ج: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52480" y="297144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1F23-5A5F-42AE-A5CE-54DDD8EE49F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روش میانبر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2057400" y="259092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25909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31240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6576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41911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47242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52578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57913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1319400" y="3809880"/>
            <a:ext cx="73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با  توجه به تعداد بیت های عدد آخرین بیت را با علامت منفی در نظر می گیری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3B1C-33E9-4B90-B9A6-DE96D156FB8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: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1000100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2057400" y="259092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25909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31240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36576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41911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47242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52578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9"/>
          <p:cNvSpPr/>
          <p:nvPr/>
        </p:nvSpPr>
        <p:spPr>
          <a:xfrm>
            <a:off x="57913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0"/>
          <p:cNvSpPr/>
          <p:nvPr/>
        </p:nvSpPr>
        <p:spPr>
          <a:xfrm>
            <a:off x="2057400" y="3657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2590920" y="36576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2"/>
          <p:cNvSpPr/>
          <p:nvPr/>
        </p:nvSpPr>
        <p:spPr>
          <a:xfrm>
            <a:off x="3124080" y="3657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"/>
          <p:cNvSpPr/>
          <p:nvPr/>
        </p:nvSpPr>
        <p:spPr>
          <a:xfrm>
            <a:off x="3657600" y="3657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"/>
          <p:cNvSpPr/>
          <p:nvPr/>
        </p:nvSpPr>
        <p:spPr>
          <a:xfrm>
            <a:off x="4191120" y="36576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5"/>
          <p:cNvSpPr/>
          <p:nvPr/>
        </p:nvSpPr>
        <p:spPr>
          <a:xfrm>
            <a:off x="4724280" y="3657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6"/>
          <p:cNvSpPr/>
          <p:nvPr/>
        </p:nvSpPr>
        <p:spPr>
          <a:xfrm>
            <a:off x="5257800" y="3657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7"/>
          <p:cNvSpPr/>
          <p:nvPr/>
        </p:nvSpPr>
        <p:spPr>
          <a:xfrm>
            <a:off x="5791320" y="36576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8"/>
          <p:cNvSpPr/>
          <p:nvPr/>
        </p:nvSpPr>
        <p:spPr>
          <a:xfrm>
            <a:off x="23623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9"/>
          <p:cNvSpPr/>
          <p:nvPr/>
        </p:nvSpPr>
        <p:spPr>
          <a:xfrm>
            <a:off x="4419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1"/>
          <p:cNvSpPr/>
          <p:nvPr/>
        </p:nvSpPr>
        <p:spPr>
          <a:xfrm>
            <a:off x="2805120" y="54468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28 + 8 = -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3F36-CF32-4B8B-B331-B5B995E167B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: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100100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2057400" y="259092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25909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31240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6576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41911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47242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52578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57913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2057400" y="3657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2590920" y="36576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3124080" y="3657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3657600" y="3657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4191120" y="36576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4724280" y="3657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5257800" y="36576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5791320" y="36576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23623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1"/>
          <p:cNvSpPr/>
          <p:nvPr/>
        </p:nvSpPr>
        <p:spPr>
          <a:xfrm>
            <a:off x="39625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2"/>
          <p:cNvSpPr/>
          <p:nvPr/>
        </p:nvSpPr>
        <p:spPr>
          <a:xfrm>
            <a:off x="55627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3"/>
          <p:cNvSpPr/>
          <p:nvPr/>
        </p:nvSpPr>
        <p:spPr>
          <a:xfrm>
            <a:off x="60958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4"/>
          <p:cNvSpPr/>
          <p:nvPr/>
        </p:nvSpPr>
        <p:spPr>
          <a:xfrm>
            <a:off x="1966320" y="506556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28 + 16 + 2+1 = -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9A13-8E32-4972-878D-CD69ADF6080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مثال : مقدار عددي اعداد علامت دار باينري زير را بنويسي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EAA0-F77F-4B14-93FD-ED7981E7CE3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بدیل معکو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رای تبدیل یک عدد منفی به مبنای دو هیچ روش مستقیمی وجود ندا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بتدا عدد را به صورت مثبت به مبنای دو تبدیل کرده ، سپس مکمل آنرا محاسبه می کنی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10AF-A008-4190-81DA-A634C6F34CD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مثال : عدد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را به صورت عددی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بیتی و علامتدار در مبنای دو نمایش دهید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بتدا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به مبنای دو می بری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20574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25909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31240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36576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41911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472428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5257800" y="25909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5791320" y="25909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2057400" y="3657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2590920" y="36576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3124080" y="3657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3657600" y="3657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4191120" y="36576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8"/>
          <p:cNvSpPr/>
          <p:nvPr/>
        </p:nvSpPr>
        <p:spPr>
          <a:xfrm>
            <a:off x="4724280" y="3657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9"/>
          <p:cNvSpPr/>
          <p:nvPr/>
        </p:nvSpPr>
        <p:spPr>
          <a:xfrm>
            <a:off x="5257800" y="3657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5791320" y="36576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1"/>
          <p:cNvSpPr/>
          <p:nvPr/>
        </p:nvSpPr>
        <p:spPr>
          <a:xfrm>
            <a:off x="28954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38862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3"/>
          <p:cNvSpPr/>
          <p:nvPr/>
        </p:nvSpPr>
        <p:spPr>
          <a:xfrm>
            <a:off x="50292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4"/>
          <p:cNvSpPr/>
          <p:nvPr/>
        </p:nvSpPr>
        <p:spPr>
          <a:xfrm>
            <a:off x="60199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6472440" y="3668760"/>
            <a:ext cx="6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6"/>
          <p:cNvSpPr/>
          <p:nvPr/>
        </p:nvSpPr>
        <p:spPr>
          <a:xfrm>
            <a:off x="3505320" y="4267080"/>
            <a:ext cx="129528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ک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7"/>
          <p:cNvSpPr/>
          <p:nvPr/>
        </p:nvSpPr>
        <p:spPr>
          <a:xfrm>
            <a:off x="2057400" y="533412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8"/>
          <p:cNvSpPr/>
          <p:nvPr/>
        </p:nvSpPr>
        <p:spPr>
          <a:xfrm>
            <a:off x="2590920" y="533412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9"/>
          <p:cNvSpPr/>
          <p:nvPr/>
        </p:nvSpPr>
        <p:spPr>
          <a:xfrm>
            <a:off x="3124080" y="533412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3657600" y="533412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4191120" y="533412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2"/>
          <p:cNvSpPr/>
          <p:nvPr/>
        </p:nvSpPr>
        <p:spPr>
          <a:xfrm>
            <a:off x="4724280" y="533412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3"/>
          <p:cNvSpPr/>
          <p:nvPr/>
        </p:nvSpPr>
        <p:spPr>
          <a:xfrm>
            <a:off x="5257800" y="533412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4"/>
          <p:cNvSpPr/>
          <p:nvPr/>
        </p:nvSpPr>
        <p:spPr>
          <a:xfrm>
            <a:off x="5791320" y="533412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5"/>
          <p:cNvSpPr/>
          <p:nvPr/>
        </p:nvSpPr>
        <p:spPr>
          <a:xfrm>
            <a:off x="6322680" y="539424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82AE-A680-4B2F-885E-B926B76E01B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ثال : عد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7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را در مبنای دو به صور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بیتی علامتدار نمایش دهی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جواب 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8005-F6EF-4796-A672-EA67EE19028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52480" y="236196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تمرین : در حافظه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بیتی کوچکترین و برزرگترین عدد علامتدار ممکن کدامها هستند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1697400" y="4038480"/>
            <a:ext cx="57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Yekan"/>
              </a:rPr>
              <a:t>بزرگترين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Yekan"/>
              </a:rPr>
              <a:t>127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Yekan"/>
              </a:rPr>
              <a:t> و كوچكترين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Yekan"/>
              </a:rPr>
              <a:t>128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Yek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0E6A-14ED-4F67-A874-CD26E11D4E4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فری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پردازنده ها عموما فاقد مدار مستقل جهت تفریق هست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رای شبیه سازی تفری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د اول را با قرینه عدد دوم جمع می کنی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B= A+ (-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سیتم مکل دو ، قرینه عدد همان مکمل عدد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B3D8-D2AE-4998-9AD9-01C927F2D36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جمع مبنای د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09680" y="2438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581280" y="2438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952880" y="2438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209680" y="3581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581280" y="3581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952880" y="3581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1905120" y="45720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433520" y="33955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209680" y="4876920"/>
            <a:ext cx="129564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3581280" y="4876920"/>
            <a:ext cx="129564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4952880" y="4876920"/>
            <a:ext cx="129564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3352320" y="1676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262680" y="1436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00C7-BC83-42D4-8F22-4BC3F966CCB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فری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د اول را با مکمل عدد دوم جمع می کنی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3377-1348-40D0-AC56-644CFDC89E7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اص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1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101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بدست آور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2706840" y="243828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3240000" y="24382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3773520" y="24382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4307040" y="243828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4840200" y="24382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5373720" y="24382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5907240" y="243828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6440400" y="24382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7259760" y="24750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عدد ا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2706840" y="312408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3240000" y="31240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3773520" y="31240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4307040" y="312408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4840200" y="31240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8"/>
          <p:cNvSpPr/>
          <p:nvPr/>
        </p:nvSpPr>
        <p:spPr>
          <a:xfrm>
            <a:off x="5373720" y="31240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5907240" y="312408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0"/>
          <p:cNvSpPr/>
          <p:nvPr/>
        </p:nvSpPr>
        <p:spPr>
          <a:xfrm>
            <a:off x="6440400" y="31240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1"/>
          <p:cNvSpPr/>
          <p:nvPr/>
        </p:nvSpPr>
        <p:spPr>
          <a:xfrm>
            <a:off x="2234880" y="3164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2"/>
          <p:cNvSpPr/>
          <p:nvPr/>
        </p:nvSpPr>
        <p:spPr>
          <a:xfrm>
            <a:off x="2133720" y="38098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1"/>
          <p:cNvSpPr/>
          <p:nvPr/>
        </p:nvSpPr>
        <p:spPr>
          <a:xfrm>
            <a:off x="7259760" y="43797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عدد ا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2706840" y="502920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3"/>
          <p:cNvSpPr/>
          <p:nvPr/>
        </p:nvSpPr>
        <p:spPr>
          <a:xfrm>
            <a:off x="3240000" y="50292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4"/>
          <p:cNvSpPr/>
          <p:nvPr/>
        </p:nvSpPr>
        <p:spPr>
          <a:xfrm>
            <a:off x="3773520" y="50292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5"/>
          <p:cNvSpPr/>
          <p:nvPr/>
        </p:nvSpPr>
        <p:spPr>
          <a:xfrm>
            <a:off x="4307040" y="502920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6"/>
          <p:cNvSpPr/>
          <p:nvPr/>
        </p:nvSpPr>
        <p:spPr>
          <a:xfrm>
            <a:off x="4840200" y="50292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7"/>
          <p:cNvSpPr/>
          <p:nvPr/>
        </p:nvSpPr>
        <p:spPr>
          <a:xfrm>
            <a:off x="5373720" y="50292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8"/>
          <p:cNvSpPr/>
          <p:nvPr/>
        </p:nvSpPr>
        <p:spPr>
          <a:xfrm>
            <a:off x="5907240" y="502920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9"/>
          <p:cNvSpPr/>
          <p:nvPr/>
        </p:nvSpPr>
        <p:spPr>
          <a:xfrm>
            <a:off x="6440400" y="50292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0"/>
          <p:cNvSpPr/>
          <p:nvPr/>
        </p:nvSpPr>
        <p:spPr>
          <a:xfrm>
            <a:off x="2234880" y="5068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1"/>
          <p:cNvSpPr/>
          <p:nvPr/>
        </p:nvSpPr>
        <p:spPr>
          <a:xfrm>
            <a:off x="2097000" y="57150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2"/>
          <p:cNvSpPr/>
          <p:nvPr/>
        </p:nvSpPr>
        <p:spPr>
          <a:xfrm>
            <a:off x="7264800" y="30481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عدد دو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3"/>
          <p:cNvSpPr/>
          <p:nvPr/>
        </p:nvSpPr>
        <p:spPr>
          <a:xfrm>
            <a:off x="7194240" y="50436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کمل عدد دو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4"/>
          <p:cNvSpPr/>
          <p:nvPr/>
        </p:nvSpPr>
        <p:spPr>
          <a:xfrm>
            <a:off x="2706840" y="59436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5"/>
          <p:cNvSpPr/>
          <p:nvPr/>
        </p:nvSpPr>
        <p:spPr>
          <a:xfrm>
            <a:off x="3240000" y="5943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6"/>
          <p:cNvSpPr/>
          <p:nvPr/>
        </p:nvSpPr>
        <p:spPr>
          <a:xfrm>
            <a:off x="3773520" y="5943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7"/>
          <p:cNvSpPr/>
          <p:nvPr/>
        </p:nvSpPr>
        <p:spPr>
          <a:xfrm>
            <a:off x="4307040" y="59436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8"/>
          <p:cNvSpPr/>
          <p:nvPr/>
        </p:nvSpPr>
        <p:spPr>
          <a:xfrm>
            <a:off x="4840200" y="5943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9"/>
          <p:cNvSpPr/>
          <p:nvPr/>
        </p:nvSpPr>
        <p:spPr>
          <a:xfrm>
            <a:off x="5373720" y="5943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0"/>
          <p:cNvSpPr/>
          <p:nvPr/>
        </p:nvSpPr>
        <p:spPr>
          <a:xfrm>
            <a:off x="5907240" y="59436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1"/>
          <p:cNvSpPr/>
          <p:nvPr/>
        </p:nvSpPr>
        <p:spPr>
          <a:xfrm>
            <a:off x="6440400" y="5943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3"/>
          <p:cNvSpPr/>
          <p:nvPr/>
        </p:nvSpPr>
        <p:spPr>
          <a:xfrm>
            <a:off x="2173320" y="594360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18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19"/>
          <p:cNvSpPr/>
          <p:nvPr/>
        </p:nvSpPr>
        <p:spPr>
          <a:xfrm>
            <a:off x="3200400" y="43434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20"/>
          <p:cNvSpPr/>
          <p:nvPr/>
        </p:nvSpPr>
        <p:spPr>
          <a:xfrm>
            <a:off x="3733920" y="43434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21"/>
          <p:cNvSpPr/>
          <p:nvPr/>
        </p:nvSpPr>
        <p:spPr>
          <a:xfrm>
            <a:off x="4267080" y="43434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2"/>
          <p:cNvSpPr/>
          <p:nvPr/>
        </p:nvSpPr>
        <p:spPr>
          <a:xfrm>
            <a:off x="4800600" y="43434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23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24"/>
          <p:cNvSpPr/>
          <p:nvPr/>
        </p:nvSpPr>
        <p:spPr>
          <a:xfrm>
            <a:off x="5867280" y="43434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5"/>
          <p:cNvSpPr/>
          <p:nvPr/>
        </p:nvSpPr>
        <p:spPr>
          <a:xfrm>
            <a:off x="6400800" y="43434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29"/>
          <p:cNvSpPr/>
          <p:nvPr/>
        </p:nvSpPr>
        <p:spPr>
          <a:xfrm>
            <a:off x="32785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30"/>
          <p:cNvSpPr/>
          <p:nvPr/>
        </p:nvSpPr>
        <p:spPr>
          <a:xfrm>
            <a:off x="2821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1"/>
          <p:cNvSpPr/>
          <p:nvPr/>
        </p:nvSpPr>
        <p:spPr>
          <a:xfrm>
            <a:off x="221184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D6ED-D73C-4CF7-82A9-9A8FF5783B2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یت نقل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تفریق اعداد علامتدار ایجاد بیت نقلی لزوما به معنی بروز خطا نی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عمولا این بیت دور ریخته میش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نها حالت خطا زمانی است که نتیجه در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یت قابل ذخیره نباش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F18E-B1A0-43C7-BA82-2F238FDF784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بازه اعداد منف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(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ه قابل ذخیره در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یت نی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چگونه تشخیص دهیم نتیجه صحیح نیست / یا صحیح نی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ستفاده از بی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( یا سرریز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65A0-74FB-403A-916F-FB96E78F6CC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اگر دو بیت نقلی آخر مساوی باشند تفریق به درستی انجام ش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غیر این صورت ( تفاوت دو بیت نقلی آخر) تفریق باعث سرریز شده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35EB-6C01-481D-ABE2-803DAC198F5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1110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111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2706840" y="243828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3240000" y="24382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3773520" y="24382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4307040" y="243828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840200" y="24382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5373720" y="24382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"/>
          <p:cNvSpPr/>
          <p:nvPr/>
        </p:nvSpPr>
        <p:spPr>
          <a:xfrm>
            <a:off x="5907240" y="243828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6440400" y="24382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7259760" y="24750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عدد ا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2706840" y="31240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3240000" y="31240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3773520" y="31240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4307040" y="31240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4840200" y="31240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8"/>
          <p:cNvSpPr/>
          <p:nvPr/>
        </p:nvSpPr>
        <p:spPr>
          <a:xfrm>
            <a:off x="5373720" y="31240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9"/>
          <p:cNvSpPr/>
          <p:nvPr/>
        </p:nvSpPr>
        <p:spPr>
          <a:xfrm>
            <a:off x="5907240" y="31240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0"/>
          <p:cNvSpPr/>
          <p:nvPr/>
        </p:nvSpPr>
        <p:spPr>
          <a:xfrm>
            <a:off x="6440400" y="31240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2234880" y="3164040"/>
            <a:ext cx="282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2"/>
          <p:cNvSpPr/>
          <p:nvPr/>
        </p:nvSpPr>
        <p:spPr>
          <a:xfrm>
            <a:off x="2097000" y="38098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3"/>
          <p:cNvSpPr/>
          <p:nvPr/>
        </p:nvSpPr>
        <p:spPr>
          <a:xfrm>
            <a:off x="2706840" y="43434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3240000" y="43434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5"/>
          <p:cNvSpPr/>
          <p:nvPr/>
        </p:nvSpPr>
        <p:spPr>
          <a:xfrm>
            <a:off x="3773520" y="43434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6"/>
          <p:cNvSpPr/>
          <p:nvPr/>
        </p:nvSpPr>
        <p:spPr>
          <a:xfrm>
            <a:off x="4307040" y="43434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4840200" y="43434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5373720" y="43434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5907240" y="43434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0"/>
          <p:cNvSpPr/>
          <p:nvPr/>
        </p:nvSpPr>
        <p:spPr>
          <a:xfrm>
            <a:off x="6440400" y="43434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1"/>
          <p:cNvSpPr/>
          <p:nvPr/>
        </p:nvSpPr>
        <p:spPr>
          <a:xfrm>
            <a:off x="7259760" y="43797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عدد ا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2"/>
          <p:cNvSpPr/>
          <p:nvPr/>
        </p:nvSpPr>
        <p:spPr>
          <a:xfrm>
            <a:off x="2706840" y="502920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3"/>
          <p:cNvSpPr/>
          <p:nvPr/>
        </p:nvSpPr>
        <p:spPr>
          <a:xfrm>
            <a:off x="3240000" y="50292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4"/>
          <p:cNvSpPr/>
          <p:nvPr/>
        </p:nvSpPr>
        <p:spPr>
          <a:xfrm>
            <a:off x="3773520" y="50292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5"/>
          <p:cNvSpPr/>
          <p:nvPr/>
        </p:nvSpPr>
        <p:spPr>
          <a:xfrm>
            <a:off x="4307040" y="502920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6"/>
          <p:cNvSpPr/>
          <p:nvPr/>
        </p:nvSpPr>
        <p:spPr>
          <a:xfrm>
            <a:off x="4840200" y="50292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7"/>
          <p:cNvSpPr/>
          <p:nvPr/>
        </p:nvSpPr>
        <p:spPr>
          <a:xfrm>
            <a:off x="5373720" y="50292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8"/>
          <p:cNvSpPr/>
          <p:nvPr/>
        </p:nvSpPr>
        <p:spPr>
          <a:xfrm>
            <a:off x="5907240" y="502920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9"/>
          <p:cNvSpPr/>
          <p:nvPr/>
        </p:nvSpPr>
        <p:spPr>
          <a:xfrm>
            <a:off x="6440400" y="502920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2234880" y="5068800"/>
            <a:ext cx="35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1"/>
          <p:cNvSpPr/>
          <p:nvPr/>
        </p:nvSpPr>
        <p:spPr>
          <a:xfrm>
            <a:off x="2097000" y="57150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2"/>
          <p:cNvSpPr/>
          <p:nvPr/>
        </p:nvSpPr>
        <p:spPr>
          <a:xfrm>
            <a:off x="7264800" y="3048120"/>
            <a:ext cx="957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عدد دو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3"/>
          <p:cNvSpPr/>
          <p:nvPr/>
        </p:nvSpPr>
        <p:spPr>
          <a:xfrm>
            <a:off x="7194240" y="50436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کمل عدد دو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4"/>
          <p:cNvSpPr/>
          <p:nvPr/>
        </p:nvSpPr>
        <p:spPr>
          <a:xfrm>
            <a:off x="2706840" y="59436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5"/>
          <p:cNvSpPr/>
          <p:nvPr/>
        </p:nvSpPr>
        <p:spPr>
          <a:xfrm>
            <a:off x="3240000" y="5943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6"/>
          <p:cNvSpPr/>
          <p:nvPr/>
        </p:nvSpPr>
        <p:spPr>
          <a:xfrm>
            <a:off x="3773520" y="5943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7"/>
          <p:cNvSpPr/>
          <p:nvPr/>
        </p:nvSpPr>
        <p:spPr>
          <a:xfrm>
            <a:off x="4307040" y="59436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8"/>
          <p:cNvSpPr/>
          <p:nvPr/>
        </p:nvSpPr>
        <p:spPr>
          <a:xfrm>
            <a:off x="4840200" y="5943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9"/>
          <p:cNvSpPr/>
          <p:nvPr/>
        </p:nvSpPr>
        <p:spPr>
          <a:xfrm>
            <a:off x="5373720" y="5943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0"/>
          <p:cNvSpPr/>
          <p:nvPr/>
        </p:nvSpPr>
        <p:spPr>
          <a:xfrm>
            <a:off x="5907240" y="594360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1"/>
          <p:cNvSpPr/>
          <p:nvPr/>
        </p:nvSpPr>
        <p:spPr>
          <a:xfrm>
            <a:off x="6440400" y="594360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4"/>
          <p:cNvSpPr/>
          <p:nvPr/>
        </p:nvSpPr>
        <p:spPr>
          <a:xfrm>
            <a:off x="277848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5"/>
          <p:cNvSpPr/>
          <p:nvPr/>
        </p:nvSpPr>
        <p:spPr>
          <a:xfrm>
            <a:off x="338796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0"/>
          <p:cNvSpPr/>
          <p:nvPr/>
        </p:nvSpPr>
        <p:spPr>
          <a:xfrm>
            <a:off x="2196000" y="38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17B9-24E0-4F15-9FA9-2AB4787A8BB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نکات مه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م وجود بیت نقلی دلیل بر عدم وجود خطا نیس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صحت عمل تفریق فقط به دو بیت نقلی آخر وابسته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76F5-9762-462A-8E25-ABEF4AC7362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مرین 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اصل تفریق های زیر را بدست آورده و بگویید کدام باعث سرریز میش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00100-10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1-1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0-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01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01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3352680" y="24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111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3429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6"/>
          <p:cNvSpPr/>
          <p:nvPr/>
        </p:nvSpPr>
        <p:spPr>
          <a:xfrm>
            <a:off x="335268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7"/>
          <p:cNvSpPr/>
          <p:nvPr/>
        </p:nvSpPr>
        <p:spPr>
          <a:xfrm>
            <a:off x="3505320" y="4114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010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8"/>
          <p:cNvSpPr/>
          <p:nvPr/>
        </p:nvSpPr>
        <p:spPr>
          <a:xfrm>
            <a:off x="3572640" y="45720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0011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نمايش اعداد دهدهي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BCD</a:t>
            </a:r>
            <a:br>
              <a:rPr sz="4400"/>
            </a:b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Binary Coded Decim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752480" y="1523880"/>
          <a:ext cx="7010640" cy="494352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B Yekan"/>
                        </a:rPr>
                        <a:t>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B Yekan"/>
                        </a:rPr>
                        <a:t>Bi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1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Yekan"/>
                        </a:rPr>
                        <a:t>تركيباتي كه استفاده نمي شو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1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F88D-65BA-4F30-8165-1CC6483DE2A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د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5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د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001101010101001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راي تبديل به سيستم دهدهي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1D92-DC00-4688-9FCB-68DD0C45732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2286000" y="2209680"/>
          <a:ext cx="6095880" cy="7416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  <a:ea typeface="B Yek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  <a:ea typeface="B Yek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  <a:ea typeface="B Yek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2286000" y="5257800"/>
          <a:ext cx="6095880" cy="7365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  <a:ea typeface="B Yekan"/>
                        </a:rPr>
                        <a:t>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  <a:ea typeface="B Yekan"/>
                        </a:rPr>
                        <a:t>0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  <a:ea typeface="B Yekan"/>
                        </a:rPr>
                        <a:t>0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  <a:ea typeface="B Yekan"/>
                        </a:rPr>
                        <a:t>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08DE-E647-48E7-B451-2DB0649E051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( جمع در مبنای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171560" y="290664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-8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171560" y="344016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8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2819520" y="266688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191120" y="266688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5562720" y="266688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2819520" y="380988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4191120" y="380988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5562720" y="380988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676520" y="48006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043000" y="36241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2819520" y="5105520"/>
            <a:ext cx="129528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4191120" y="5105520"/>
            <a:ext cx="129528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5562720" y="5105520"/>
            <a:ext cx="129528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 flipH="1">
            <a:off x="4038480" y="1981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402480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1447920" y="5105520"/>
            <a:ext cx="129528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5"/>
          <p:cNvSpPr/>
          <p:nvPr/>
        </p:nvSpPr>
        <p:spPr>
          <a:xfrm flipH="1">
            <a:off x="2759040" y="194472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74500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كاربرد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BC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نمايش اعداد بر روي لامپ هاي ساعت هاي كامپيوتري، ماشين حساب، خروجي كامپيوتر و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عداد زير را در سيستم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نمايش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4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67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50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0100111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0001110000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00100001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47C9-2339-4985-9FBF-B20C4D926C0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4"/>
          <p:cNvSpPr/>
          <p:nvPr/>
        </p:nvSpPr>
        <p:spPr>
          <a:xfrm>
            <a:off x="1981080" y="3048120"/>
            <a:ext cx="50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100 0101 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110 0111 0000 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0101 0000 1000 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057400" y="46483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9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7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5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34D3-E278-48A7-BB93-157798C97DA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خلاص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جمع در مبناهای مختل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یت نقلی در جم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کم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وش سریع محاسبه مک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اعداد منفی به مبنای د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فریق به کمک جم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بیت سرری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صحت تفری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9219-D0DE-49E1-94A2-1CD31DFCEEE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752480" y="685440"/>
            <a:ext cx="701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5600" spc="-1" strike="noStrike">
                <a:solidFill>
                  <a:srgbClr val="000000"/>
                </a:solidFill>
                <a:latin typeface="Arial"/>
              </a:rPr>
              <a:t>سوال ؟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FF47-0FD7-4011-89AE-269353BE0A3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اصلجمع زیر را محاسبه کنید : (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ثانیه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عداد در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هست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45+2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466+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ل : 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61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و خط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E2F6-142F-493E-ADB2-1B496207DF0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جمع در مبنای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438280" y="2438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809880" y="2438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5181480" y="2438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438280" y="3581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809880" y="3581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5181480" y="35812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1295280" y="457200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662120" y="33955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438280" y="4876920"/>
            <a:ext cx="129564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809880" y="4876920"/>
            <a:ext cx="129564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181480" y="4876920"/>
            <a:ext cx="129564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2377800" y="17524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23641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4320" y="21700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+13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768360" y="293220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12=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-16=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1066680" y="4876920"/>
            <a:ext cx="1295640" cy="761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H="1">
            <a:off x="853920" y="171612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4024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6615360" y="3998880"/>
            <a:ext cx="13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+10+8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-16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 flipH="1">
            <a:off x="3657600" y="1828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364356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AE7B-68DB-4329-AEA3-7205D6A56B9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اصلجمع زیر را محاسبه نمایی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عداد در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هست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AD+EF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ل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C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اصلجمع زیر را محاسبه نمایی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عداد در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هست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+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ل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526B-A880-4B06-8413-B985A747930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8:16:53Z</dcterms:created>
  <dc:creator>Elmi</dc:creator>
  <dc:description/>
  <dc:language>en-US</dc:language>
  <cp:lastModifiedBy>Mat</cp:lastModifiedBy>
  <dcterms:modified xsi:type="dcterms:W3CDTF">2010-10-02T11:15:56Z</dcterms:modified>
  <cp:revision>94</cp:revision>
  <dc:subject/>
  <dc:title>جمع </dc:title>
</cp:coreProperties>
</file>