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AA0-31E6-4DD4-B2F0-B8C722F8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781-319F-4C7F-A165-676445C0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FBC-868B-496E-9ED8-671C24CA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CD2-15A0-45BA-BBAD-BC46FF83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5F33-263A-4201-85B8-AB77FDC6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C1EE-E8DB-4B8F-8263-F51A648A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13B4-8CCD-4205-A5EE-3D16CDEF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D8A9-A470-432A-8B11-C557A693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A49B-36F5-4198-8C2C-0CE1D304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D15-C936-4AFD-98C9-F1D1627B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DF5E-D0AC-4A5F-8C73-5D713ADB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4EF-60A1-4AAD-A97E-65C7EC99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097B-A05D-4C23-943C-E1F4DD4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427A-3123-4171-99EB-0499EAF7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8020-5E6E-48CD-893B-4F0756C5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AAF4-43CD-4E96-B272-0B0CCE42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CD57-F19E-48A7-8050-E6A628E9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89F-38BE-40AD-B385-20922E01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D2D-A010-4A27-8478-7D791A41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7E5-51B8-400E-910E-7C2A5858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4BD-13B5-4B53-8910-BD7CD13A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7A2-CEB8-41CF-BA2D-245B8F98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05D-B5DB-4D46-816A-1D952DE0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201-5EF6-41FB-84D9-80A2FE6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DED7-3601-400F-9BD9-F2AF43CB80B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8E3B-812E-4359-ABBB-0F8119C15F59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محتواي </a:t>
            </a: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AX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و ثبات پرچم را پس از اجراي دستورات زيربنويسيد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Title 2"/>
          <p:cNvSpPr/>
          <p:nvPr/>
        </p:nvSpPr>
        <p:spPr>
          <a:xfrm>
            <a:off x="152280" y="2133720"/>
            <a:ext cx="854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V BX,1AC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V AX, 0AF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D AX,10A0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  AX,B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XOR AX,1287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V CL,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HR AX,C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4191120" y="1676520"/>
            <a:ext cx="761760" cy="5029200"/>
          </a:xfrm>
          <a:custGeom>
            <a:avLst/>
            <a:gdLst>
              <a:gd name="textAreaLeft" fmla="*/ 486720 w 761760"/>
              <a:gd name="textAreaRight" fmla="*/ 762120 w 761760"/>
              <a:gd name="textAreaTop" fmla="*/ 172080 h 5029200"/>
              <a:gd name="textAreaBottom" fmla="*/ 485712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2"/>
                  <a:pt x="10800" y="2364"/>
                </a:cubicBezTo>
                <a:lnTo>
                  <a:pt x="10800" y="8436"/>
                </a:lnTo>
                <a:cubicBezTo>
                  <a:pt x="10800" y="9618"/>
                  <a:pt x="5400" y="10800"/>
                  <a:pt x="0" y="10800"/>
                </a:cubicBezTo>
                <a:cubicBezTo>
                  <a:pt x="5400" y="10800"/>
                  <a:pt x="10800" y="11982"/>
                  <a:pt x="10800" y="13164"/>
                </a:cubicBezTo>
                <a:lnTo>
                  <a:pt x="10800" y="19236"/>
                </a:lnTo>
                <a:cubicBezTo>
                  <a:pt x="10800" y="204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5053680" y="1828800"/>
            <a:ext cx="85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F =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F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F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F =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F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Box 6"/>
          <p:cNvSpPr/>
          <p:nvPr/>
        </p:nvSpPr>
        <p:spPr>
          <a:xfrm>
            <a:off x="5271480" y="403848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X = 0435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آدرسدهی بلا فص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1600200" y="1600200"/>
            <a:ext cx="457200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mediate Address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1523880" y="2743200"/>
            <a:ext cx="381024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nd = constant val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1600200" y="3809880"/>
            <a:ext cx="213372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op1,op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3352680" y="4038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5029200" y="350532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5320440" y="33130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b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5244120" y="3809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 b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5320440" y="4303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 b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l,34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6324480" y="3733920"/>
            <a:ext cx="259092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cx,4f02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15"/>
          <p:cNvSpPr/>
          <p:nvPr/>
        </p:nvSpPr>
        <p:spPr>
          <a:xfrm>
            <a:off x="6324480" y="4267080"/>
            <a:ext cx="259092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EAX,1212f1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AutoShape 16"/>
          <p:cNvSpPr/>
          <p:nvPr/>
        </p:nvSpPr>
        <p:spPr>
          <a:xfrm>
            <a:off x="685800" y="5334120"/>
            <a:ext cx="4495680" cy="685800"/>
          </a:xfrm>
          <a:prstGeom prst="wedgeRoundRectCallout">
            <a:avLst>
              <a:gd name="adj1" fmla="val -44916"/>
              <a:gd name="adj2" fmla="val 72222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نکته : مقداردهی مستقیم برای ثباتهای سگمنت امکانپذیر نیست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18"/>
          <p:cNvSpPr/>
          <p:nvPr/>
        </p:nvSpPr>
        <p:spPr>
          <a:xfrm>
            <a:off x="6095880" y="5410080"/>
            <a:ext cx="259092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s, 1243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Line 19"/>
          <p:cNvSpPr/>
          <p:nvPr/>
        </p:nvSpPr>
        <p:spPr>
          <a:xfrm>
            <a:off x="6629400" y="5029200"/>
            <a:ext cx="13716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Line 20"/>
          <p:cNvSpPr/>
          <p:nvPr/>
        </p:nvSpPr>
        <p:spPr>
          <a:xfrm flipH="1">
            <a:off x="6781680" y="5029200"/>
            <a:ext cx="9907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آدرس دهی ثب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371600" y="2286000"/>
            <a:ext cx="594360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er Address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762120" y="4245120"/>
            <a:ext cx="3124080" cy="5331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op1,op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3048120" y="45496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5029200" y="40165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396760" y="3900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5320800" y="44337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5397120" y="50436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6553080" y="3940200"/>
            <a:ext cx="205740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l,b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6553080" y="4473720"/>
            <a:ext cx="205740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bx,c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6553080" y="5006880"/>
            <a:ext cx="205740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ebx,ec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آدرسدهی مستقی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1066680" y="1905120"/>
            <a:ext cx="5791320" cy="5331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 Addressing Mo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1066680" y="2971800"/>
            <a:ext cx="297180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op1,op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276720" y="3276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4648320" y="27432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4939200" y="2627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4863600" y="32367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4787280" y="3846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6172200" y="2666880"/>
            <a:ext cx="266688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l,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6172200" y="3200400"/>
            <a:ext cx="266688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6172200" y="3809880"/>
            <a:ext cx="266688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eax,data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4"/>
          <p:cNvSpPr/>
          <p:nvPr/>
        </p:nvSpPr>
        <p:spPr>
          <a:xfrm>
            <a:off x="1219320" y="4724280"/>
            <a:ext cx="2133360" cy="17528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 db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 dw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1 dd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آدرسدهی مستقی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1523880" y="2971800"/>
            <a:ext cx="25146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l,[100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1523880" y="3505320"/>
            <a:ext cx="25146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[100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523880" y="4038480"/>
            <a:ext cx="25146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eax,[100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4876920" y="2971800"/>
            <a:ext cx="25146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← DS:[100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4876920" y="3505320"/>
            <a:ext cx="25146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X ← DS:[100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4876920" y="4038480"/>
            <a:ext cx="251460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X← DS:[100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>
            <a:off x="4191120" y="32004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4191120" y="3733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>
            <a:off x="4191120" y="42670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457200" y="533520"/>
            <a:ext cx="7924680" cy="58672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DB 10,20,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DB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PROC FA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S, A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L,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AL,X+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AL,X+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Y,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4C00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END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M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آدرسدهی غیرمستقیم از طریق ثب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914400" y="1828800"/>
            <a:ext cx="61722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ER INDIRECT ADDRESS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914400" y="2743200"/>
            <a:ext cx="6172200" cy="6094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مشابه با اشاره گرها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4608000" y="460836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رجیسترهای قابل استفاد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4572000" y="396252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4084560" y="3922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4084560" y="44560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4173480" y="49528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160880" y="54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آدرسدهی غیرمستقیم از طریق ثب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762120" y="1752480"/>
            <a:ext cx="289548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[BX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762120" y="2438280"/>
            <a:ext cx="289548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[SI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762120" y="3124080"/>
            <a:ext cx="289548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[DI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762120" y="3809880"/>
            <a:ext cx="28954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[BP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5029200" y="1752480"/>
            <a:ext cx="289548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X← DS : [BX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5029200" y="2438280"/>
            <a:ext cx="289548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X← DS : [SI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5029200" y="3124080"/>
            <a:ext cx="289548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X← DS : [DI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5029200" y="3809880"/>
            <a:ext cx="28954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X← SS : [BP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آدرسدهی غیرمستقیم از طریق ثب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14400" y="3092400"/>
            <a:ext cx="289548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OP1,OP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2364840" y="2330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 I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2895480" y="2590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286000" y="3505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28600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2881440" y="3998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4876920" y="3124080"/>
            <a:ext cx="2895480" cy="5335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OP1,OP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5830200" y="2330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 I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6361200" y="2590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Line 15"/>
          <p:cNvSpPr/>
          <p:nvPr/>
        </p:nvSpPr>
        <p:spPr>
          <a:xfrm>
            <a:off x="6880320" y="3505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Line 16"/>
          <p:cNvSpPr/>
          <p:nvPr/>
        </p:nvSpPr>
        <p:spPr>
          <a:xfrm>
            <a:off x="688032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7475400" y="39988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دستور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914400" y="1676520"/>
            <a:ext cx="7010280" cy="7617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EFFECTIVE ADDR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990720" y="2895480"/>
            <a:ext cx="2514600" cy="6098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 SI,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694040" y="3084480"/>
            <a:ext cx="35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آدرس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داخل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قرار می گیر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990720" y="3809880"/>
            <a:ext cx="2514600" cy="23623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Y DB 20 DUP(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 BX,ARR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دستور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FFS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990720" y="2895480"/>
            <a:ext cx="3200400" cy="6098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SI,OFFSET 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4696200" y="3084480"/>
            <a:ext cx="35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مشابه دستور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آدرس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داخل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قرار می گیر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990720" y="3809880"/>
            <a:ext cx="3276360" cy="23623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Y DB 20 DUP(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BX,OFFSET ARR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cc"/>
                </a:solidFill>
                <a:latin typeface="Tahoma"/>
              </a:rPr>
              <a:t>زبان ماشین و اسمبلی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fa-IR" sz="4000" spc="-1" strike="noStrike">
                <a:solidFill>
                  <a:srgbClr val="ffffcc"/>
                </a:solidFill>
                <a:latin typeface="Tahoma"/>
              </a:rPr>
              <a:t> درس هشت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روشهای آدرس ده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304920" y="0"/>
            <a:ext cx="8381880" cy="685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CKSG SEGMENT STACK 'STACK'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W 32H DUP(0)   ; 32H word for stac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CKSG ENDS            ; End of segm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SG SEGMENT  'DATA'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1   DB 23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2   DB 10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3   DB 3B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4   DB 44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5   DB 12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     DB 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SG  ENDS            ;End of segm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DESG  SEGMENT  'CODE'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UME SS:STACKSG,DS:DATASG,CS:CODES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   PROC FAR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AX,DATASG   ;1-Initialize D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DS,AX       ;2- regist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AL,DATA1    ;3- Move 23H to 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AL,DATA2    ;4- Add 10H to 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AL,DATA3    ;5- Add 3BH to 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AL,DATA4    ;6- Add 44H to 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AL,DATA5    ;7- Add 12H to 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SUM,AL      ;8- Store AL in SU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AX,4C00H    ;9- End of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21H         ;10- proces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   ENDP            ; End of proced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DESG  ENDS            ; End of segm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D MAIN        ; End of progra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4"/>
          <p:cNvSpPr/>
          <p:nvPr/>
        </p:nvSpPr>
        <p:spPr>
          <a:xfrm>
            <a:off x="380880" y="0"/>
            <a:ext cx="8229600" cy="685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CKSG SEGMENT STACK 'STACK'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W 32H DUP(0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 32H word for stac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CKSG ENDS            ; End of segm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SG SEG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'DATA'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X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B 23H,10H,3BH,44H,12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B 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S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End of segm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DESG  SEGMENT  'CODE'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UME SS:STACKSG,DS:DATASG,CS:CODES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 FAR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AX,DATASG   ;1-Initialize D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DS,AX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2- regi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CL,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3- Move 5 to counter C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DI,OFFSET DATAX  ;4- DI=Offset DATAX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AL,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5- Move 0 to 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CK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AL,[DI]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6- Add [DI] to 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 D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7- Increment pointer D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 C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8- Decrement counter C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NZ BACK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9- If CL#0 go to BACK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SUM,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10- Else SUM=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V AX,4C00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11- End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 21H         ;12-  process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    ENDP            ; End of procedu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DESG  ENDS            ; End of segm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 MAIN        ; End of progra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2027520" y="1371600"/>
            <a:ext cx="65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برنامه ای بنویسید که محتویات آرایه را به صورت صعودی مرتب نمای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"/>
          <p:cNvSpPr/>
          <p:nvPr/>
        </p:nvSpPr>
        <p:spPr>
          <a:xfrm>
            <a:off x="380880" y="228600"/>
            <a:ext cx="8458200" cy="63244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----------------------------------------------------------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              Stack seg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CKS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 STACK 'STACK'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 10 DUP(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CKS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S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 'DATA'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1 DB 22 DUP (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S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EG   SEGMENT 'CODE'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 CS:COSEG, DS:DATASG, SS:STACKSG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 F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DATAS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-Initialize 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S,A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2-  regis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SI,0        ;3-Set SI to first memory lo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I,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4-Set DI to first memory lo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4"/>
          <p:cNvSpPr/>
          <p:nvPr/>
        </p:nvSpPr>
        <p:spPr>
          <a:xfrm>
            <a:off x="304920" y="228600"/>
            <a:ext cx="8381880" cy="63244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1:  INC D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5-Set DI to next memory lo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L,[SI]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6-Move content of [SI] to 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2:  CMP AL,[DI]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7-  &amp; compare with [DI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E SORT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8-Jump if above or equal to SORT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CHG AL,[DI]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9-  else exchange with 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[SI],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0-Move AL to [SI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RT1:  INC D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1-Increment D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P DI,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2-Compare DI with 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B BACK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3-  if below go to BACK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 S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4-Else increment 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I,S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5-Make DI equal to 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P SI,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6-Compare SI to 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L BACK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7- if less go to BACK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4C00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8-Else end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21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19- process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   END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End of proced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EG   EN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End of code seg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MA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End of progra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200" spc="-1" strike="noStrike">
                <a:solidFill>
                  <a:srgbClr val="ffffff"/>
                </a:solidFill>
                <a:latin typeface="Tahoma"/>
              </a:rPr>
              <a:t>سوال؟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دستورات تعویض داده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CHAN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914400" y="1828800"/>
            <a:ext cx="52578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CHG  OP1,OP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1981080" y="3276720"/>
            <a:ext cx="2971800" cy="1143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←OP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2 ←OP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1828800" y="5181480"/>
            <a:ext cx="327672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CHG AL,B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CHG M,A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دستورات ورودی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990720" y="1981080"/>
            <a:ext cx="3200400" cy="12193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 AL,PO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X ,PO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2895480" y="25146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2895480" y="38098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5029200" y="32004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5244120" y="308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5319360" y="41511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990720" y="4495680"/>
            <a:ext cx="3200400" cy="12193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 AL,D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X ,D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2971800" y="54100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2971800" y="62485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13"/>
          <p:cNvSpPr/>
          <p:nvPr/>
        </p:nvSpPr>
        <p:spPr>
          <a:xfrm>
            <a:off x="5105520" y="54864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5320800" y="5218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5318640" y="63612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FF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5029200" y="10666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Tahoma"/>
              </a:rPr>
              <a:t>اطلاعات يك بايت يا يك كلمه را، از دستگاه ورودي به ثبات </a:t>
            </a: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AL</a:t>
            </a:r>
            <a:r>
              <a:rPr b="0" lang="fa-IR" sz="2400" spc="-1" strike="noStrike">
                <a:solidFill>
                  <a:srgbClr val="ffffcc"/>
                </a:solidFill>
                <a:latin typeface="Tahoma"/>
              </a:rPr>
              <a:t> يا </a:t>
            </a: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AX</a:t>
            </a:r>
            <a:r>
              <a:rPr b="0" lang="fa-IR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Tahoma"/>
              </a:rPr>
              <a:t>پروسسور منتقل ميكن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809880" y="1981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Tahoma"/>
              </a:rPr>
              <a:t>آدرس دهي مستقي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3581280" y="4724280"/>
            <a:ext cx="3124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Tahoma"/>
              </a:rPr>
              <a:t>آدرس دهي غير مستقي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دستورات خروجی</a:t>
            </a: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990720" y="1981080"/>
            <a:ext cx="3200400" cy="12193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 PORT,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 PORT,A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6"/>
          <p:cNvSpPr/>
          <p:nvPr/>
        </p:nvSpPr>
        <p:spPr>
          <a:xfrm>
            <a:off x="2666880" y="28954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2666880" y="3809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5029200" y="32004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244120" y="308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5319360" y="41511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990720" y="4495680"/>
            <a:ext cx="3200400" cy="12193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 DX,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 DX,A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Line 12"/>
          <p:cNvSpPr/>
          <p:nvPr/>
        </p:nvSpPr>
        <p:spPr>
          <a:xfrm>
            <a:off x="2666880" y="54100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13"/>
          <p:cNvSpPr/>
          <p:nvPr/>
        </p:nvSpPr>
        <p:spPr>
          <a:xfrm>
            <a:off x="2666880" y="62485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5105520" y="54864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5320800" y="5218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5318640" y="63612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FF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5029200" y="10666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cc"/>
                </a:solidFill>
                <a:latin typeface="Tahoma"/>
              </a:rPr>
              <a:t>باعث مي شود كه يك بايت اطلاعات </a:t>
            </a: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AL</a:t>
            </a: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a-IR" sz="2400" spc="-1" strike="noStrike">
                <a:solidFill>
                  <a:srgbClr val="ffffcc"/>
                </a:solidFill>
                <a:latin typeface="Tahoma"/>
              </a:rPr>
              <a:t> يا دوبايت اطلاعات </a:t>
            </a: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AX</a:t>
            </a:r>
            <a:r>
              <a:rPr b="0" lang="fa-IR" sz="2400" spc="-1" strike="noStrike">
                <a:solidFill>
                  <a:srgbClr val="ffffcc"/>
                </a:solidFill>
                <a:latin typeface="Tahoma"/>
              </a:rPr>
              <a:t> به دستگاه خروجي منتقل شو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پورت چاپگ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= 378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 DX,378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 AL,’A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DX,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دستورات پشت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886200" y="1981080"/>
            <a:ext cx="1752480" cy="4419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3886200" y="5943600"/>
            <a:ext cx="175248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3886200" y="5486400"/>
            <a:ext cx="175248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5029200"/>
            <a:ext cx="175248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3886200" y="4572000"/>
            <a:ext cx="175248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3886200" y="4114800"/>
            <a:ext cx="175248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2895480" y="3733920"/>
            <a:ext cx="9144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دستورات پشت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86200" y="1981080"/>
            <a:ext cx="1752480" cy="4419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886200" y="5943600"/>
            <a:ext cx="175248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886200" y="5486400"/>
            <a:ext cx="175248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86200" y="5029200"/>
            <a:ext cx="175248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3886200" y="4572000"/>
            <a:ext cx="175248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3886200" y="4114800"/>
            <a:ext cx="175248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10"/>
          <p:cNvSpPr/>
          <p:nvPr/>
        </p:nvSpPr>
        <p:spPr>
          <a:xfrm>
            <a:off x="2971800" y="4267080"/>
            <a:ext cx="7621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cc"/>
                </a:solidFill>
                <a:latin typeface="Tahoma"/>
              </a:rPr>
              <a:t>روش های آدرسده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384120" y="335268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271960" y="247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272680" y="3389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2272320" y="43038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3583440" y="3809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584160" y="46483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rect (poin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AutoShape 10"/>
          <p:cNvSpPr/>
          <p:nvPr/>
        </p:nvSpPr>
        <p:spPr>
          <a:xfrm>
            <a:off x="1752480" y="25909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AutoShape 11"/>
          <p:cNvSpPr/>
          <p:nvPr/>
        </p:nvSpPr>
        <p:spPr>
          <a:xfrm>
            <a:off x="3276720" y="39625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07:19Z</dcterms:created>
  <dc:creator>Elmi</dc:creator>
  <dc:description/>
  <dc:language>en-US</dc:language>
  <cp:lastModifiedBy>Mat</cp:lastModifiedBy>
  <dcterms:modified xsi:type="dcterms:W3CDTF">2010-12-18T11:08:39Z</dcterms:modified>
  <cp:revision>86</cp:revision>
  <dc:subject/>
  <dc:title>Slide 1</dc:title>
</cp:coreProperties>
</file>