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745-529D-4914-9571-585794DB767B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Volatile Memory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(حافظه جانبي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3AC9-44B6-47A6-A34E-FC30D51FC3BD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7B7-870C-4D57-9A49-A9845C26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610-0A35-4EBA-BA8B-9FC213C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50C-F8F8-4F87-91C8-76D2B3DC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5F5-05E9-4B26-BBF6-3E5665A5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881B-11C9-4FF8-8307-C24F2F80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F62F-3B41-4E1C-A5D9-1526ADF4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BBC3-809B-4FE8-A738-EB6B765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7F60-DA2B-409B-9B05-7234690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7567-8FA5-43C3-8FD3-EF51382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751-CA17-44B6-861F-2505522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AAB5-1021-4334-9B0A-CCC08E5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089-20C5-436A-86EA-7875938E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4CA9-5E10-4436-A1B6-19AB50D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18E-F56B-4EE1-8539-59B6A57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430-51C9-4AFA-A839-8351E68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EF0-9E07-4725-A4B7-0C2F271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1B55-6D10-47B7-A0D9-BA689B1D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290-1BD5-4A5E-B51D-FEF4C533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D67-BA6D-47E0-9C2E-510FECF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8EA-2FE8-4487-A3A0-681ECCD1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997-E38D-4C78-9F4F-E0B791D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792-B675-4AB3-A0A5-304BB8A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F6-7A67-49FB-BD21-DEAA1D4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D37-40DE-4145-8E0C-77D1A3E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B Yek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1C8A-D8FC-4C35-8515-562BB8588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021F-C177-4CBC-84D2-CFD573E9F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9DA5-5090-4E59-9554-F7D5A8F1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ranslation_lookaside_buffer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زبان ماش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ن و اسمبل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درس سوم  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    مروری بر ساختار پردازنده پنتیوم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B069-EA06-4B4E-AC5F-5B97870CFB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819520" y="59436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4191120" y="4114800"/>
            <a:ext cx="533160" cy="609480"/>
          </a:xfrm>
          <a:prstGeom prst="upDownArrow">
            <a:avLst>
              <a:gd name="adj1" fmla="val 50000"/>
              <a:gd name="adj2" fmla="val 227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5105520" y="3200400"/>
            <a:ext cx="838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2895480" y="6019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4952880" y="60199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352680" y="4724280"/>
            <a:ext cx="21337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4267080" y="5486400"/>
            <a:ext cx="53352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853640" y="271440"/>
            <a:ext cx="45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حافظه نها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67B2-C323-4D78-9FB3-ABBBA37141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5943600"/>
            <a:ext cx="8610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4191120" y="4114800"/>
            <a:ext cx="533160" cy="609480"/>
          </a:xfrm>
          <a:prstGeom prst="upDownArrow">
            <a:avLst>
              <a:gd name="adj1" fmla="val 50000"/>
              <a:gd name="adj2" fmla="val 227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105520" y="3200400"/>
            <a:ext cx="838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533520" y="6019920"/>
            <a:ext cx="4343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105520" y="6019920"/>
            <a:ext cx="3733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2286000" y="4724280"/>
            <a:ext cx="4419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4267080" y="5486400"/>
            <a:ext cx="53352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2438280" y="4800600"/>
            <a:ext cx="23623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876920" y="4800600"/>
            <a:ext cx="17524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96520" y="452520"/>
            <a:ext cx="84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حافظه نهان مجزا برای داده و ک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0AE8-74B5-48A1-B2DE-57678F7586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523880" y="45720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حق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ranslation lookaside buf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چي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D894-1C67-47B5-A36E-6349AC73C0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19520" y="59436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4191120" y="4114800"/>
            <a:ext cx="533160" cy="609480"/>
          </a:xfrm>
          <a:prstGeom prst="upDownArrow">
            <a:avLst>
              <a:gd name="adj1" fmla="val 50000"/>
              <a:gd name="adj2" fmla="val 2275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5105520" y="3200400"/>
            <a:ext cx="838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2895480" y="6019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952880" y="60199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3352680" y="472428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4267080" y="5486400"/>
            <a:ext cx="53352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3429000" y="480060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4876920" y="4800600"/>
            <a:ext cx="990360" cy="60948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2833560" y="560520"/>
            <a:ext cx="47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گذرگاه های خارج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4A0-17B1-4F3D-A1DD-AE928145A9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819520" y="59436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4191120" y="4114800"/>
            <a:ext cx="533160" cy="609480"/>
          </a:xfrm>
          <a:prstGeom prst="upDownArrow">
            <a:avLst>
              <a:gd name="adj1" fmla="val 50000"/>
              <a:gd name="adj2" fmla="val 227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4419720" y="220968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4343400" y="32004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4419720" y="3276720"/>
            <a:ext cx="5331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5257800" y="3276720"/>
            <a:ext cx="685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2895480" y="6019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4952880" y="60199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3352680" y="472428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/>
          <p:cNvSpPr/>
          <p:nvPr/>
        </p:nvSpPr>
        <p:spPr>
          <a:xfrm>
            <a:off x="4267080" y="5486400"/>
            <a:ext cx="53352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3429000" y="4800600"/>
            <a:ext cx="1371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4876920" y="4800600"/>
            <a:ext cx="990360" cy="60948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2542320" y="609480"/>
            <a:ext cx="4554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گذرگاه های داخ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3962520" y="25146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3962520" y="3429000"/>
            <a:ext cx="380880" cy="2286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3"/>
          <p:cNvSpPr/>
          <p:nvPr/>
        </p:nvSpPr>
        <p:spPr>
          <a:xfrm>
            <a:off x="5105520" y="28954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4"/>
          <p:cNvSpPr/>
          <p:nvPr/>
        </p:nvSpPr>
        <p:spPr>
          <a:xfrm>
            <a:off x="4952880" y="3581280"/>
            <a:ext cx="304920" cy="2286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954A-20AF-4469-8366-09D67F62D8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وال اجرای دستورالعم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اکش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کدگشای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جر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6F77-38D4-4B69-A683-13111C863E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واکش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جرای ترتیب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ستفاده از پایپ لای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ستفاده از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474-50F4-4C26-823E-52A15AC49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911240" y="1828800"/>
            <a:ext cx="68518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D77-5F56-44F5-84A7-CC12F160AE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ده های مهم از خانواد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0x8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4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438F-6176-4912-9A88-D3D9E580F7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1143000" y="1066680"/>
            <a:ext cx="7391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5181480" y="1219320"/>
            <a:ext cx="32004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1371600" y="12952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"/>
          <p:cNvSpPr/>
          <p:nvPr/>
        </p:nvSpPr>
        <p:spPr>
          <a:xfrm>
            <a:off x="1447920" y="13716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8"/>
          <p:cNvSpPr/>
          <p:nvPr/>
        </p:nvSpPr>
        <p:spPr>
          <a:xfrm>
            <a:off x="1523880" y="144792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1600200" y="15238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1676520" y="1600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1"/>
          <p:cNvSpPr/>
          <p:nvPr/>
        </p:nvSpPr>
        <p:spPr>
          <a:xfrm>
            <a:off x="1752480" y="167652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2"/>
          <p:cNvSpPr/>
          <p:nvPr/>
        </p:nvSpPr>
        <p:spPr>
          <a:xfrm>
            <a:off x="1828800" y="1752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3"/>
          <p:cNvSpPr/>
          <p:nvPr/>
        </p:nvSpPr>
        <p:spPr>
          <a:xfrm>
            <a:off x="1371600" y="23623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1447920" y="24382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1523880" y="25146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1600200" y="2590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1676520" y="26668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2971800" y="4648320"/>
            <a:ext cx="571500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9"/>
          <p:cNvSpPr/>
          <p:nvPr/>
        </p:nvSpPr>
        <p:spPr>
          <a:xfrm>
            <a:off x="2971800" y="3352680"/>
            <a:ext cx="1219320" cy="1295640"/>
          </a:xfrm>
          <a:prstGeom prst="upDownArrow">
            <a:avLst>
              <a:gd name="adj1" fmla="val 50000"/>
              <a:gd name="adj2" fmla="val 21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1752480" y="27432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1"/>
          <p:cNvSpPr/>
          <p:nvPr/>
        </p:nvSpPr>
        <p:spPr>
          <a:xfrm>
            <a:off x="6781680" y="3352680"/>
            <a:ext cx="1219320" cy="1295640"/>
          </a:xfrm>
          <a:prstGeom prst="upDownArrow">
            <a:avLst>
              <a:gd name="adj1" fmla="val 50000"/>
              <a:gd name="adj2" fmla="val 21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2"/>
          <p:cNvSpPr/>
          <p:nvPr/>
        </p:nvSpPr>
        <p:spPr>
          <a:xfrm>
            <a:off x="3871440" y="38210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3"/>
          <p:cNvSpPr/>
          <p:nvPr/>
        </p:nvSpPr>
        <p:spPr>
          <a:xfrm>
            <a:off x="7681320" y="38210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4"/>
          <p:cNvSpPr/>
          <p:nvPr/>
        </p:nvSpPr>
        <p:spPr>
          <a:xfrm>
            <a:off x="3280320" y="25416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86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380880" y="4648320"/>
            <a:ext cx="236232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F12F-E719-4057-915A-89FC001ADC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هداف در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شنایی با واحدهای سازنده یک سیستم کامپیوت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سی جزئیات واحد های اص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رسی نحوه اجرای دستو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F83-9497-483C-8841-862C62120B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1143000" y="1066680"/>
            <a:ext cx="7391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6400800" y="1219320"/>
            <a:ext cx="1981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371600" y="12952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447920" y="13716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523880" y="144792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600200" y="15238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1676520" y="1600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752480" y="167652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828800" y="1752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1371600" y="23623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1447920" y="24382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1523880" y="25146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1600200" y="2590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7"/>
          <p:cNvSpPr/>
          <p:nvPr/>
        </p:nvSpPr>
        <p:spPr>
          <a:xfrm>
            <a:off x="1676520" y="26668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2971800" y="4648320"/>
            <a:ext cx="571500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9"/>
          <p:cNvSpPr/>
          <p:nvPr/>
        </p:nvSpPr>
        <p:spPr>
          <a:xfrm>
            <a:off x="2971800" y="3352680"/>
            <a:ext cx="1219320" cy="1295640"/>
          </a:xfrm>
          <a:prstGeom prst="upDownArrow">
            <a:avLst>
              <a:gd name="adj1" fmla="val 50000"/>
              <a:gd name="adj2" fmla="val 21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1752480" y="27432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6781680" y="3352680"/>
            <a:ext cx="1219320" cy="1295640"/>
          </a:xfrm>
          <a:prstGeom prst="upDownArrow">
            <a:avLst>
              <a:gd name="adj1" fmla="val 50000"/>
              <a:gd name="adj2" fmla="val 21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3871440" y="38210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7680600" y="38210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4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3280320" y="2541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286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3886200" y="1143000"/>
            <a:ext cx="228600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mory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rtual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380880" y="4648320"/>
            <a:ext cx="236232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02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8EFA-9C1B-40CF-BAE4-872765F732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143000" y="838080"/>
            <a:ext cx="73915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400800" y="1219320"/>
            <a:ext cx="1981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371600" y="9144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447920" y="9907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523880" y="1066680"/>
            <a:ext cx="1524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600200" y="1143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1676520" y="12193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1752480" y="1295280"/>
            <a:ext cx="1524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1828800" y="13716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1371600" y="18288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1447920" y="19051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1523880" y="1981080"/>
            <a:ext cx="1524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1600200" y="20574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1676520" y="21337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971800" y="4648320"/>
            <a:ext cx="571500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9"/>
          <p:cNvSpPr/>
          <p:nvPr/>
        </p:nvSpPr>
        <p:spPr>
          <a:xfrm>
            <a:off x="2971800" y="3352680"/>
            <a:ext cx="1219320" cy="1295640"/>
          </a:xfrm>
          <a:prstGeom prst="upDownArrow">
            <a:avLst>
              <a:gd name="adj1" fmla="val 50000"/>
              <a:gd name="adj2" fmla="val 21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752480" y="2209680"/>
            <a:ext cx="1524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6781680" y="3352680"/>
            <a:ext cx="1219320" cy="1295640"/>
          </a:xfrm>
          <a:prstGeom prst="upDownArrow">
            <a:avLst>
              <a:gd name="adj1" fmla="val 50000"/>
              <a:gd name="adj2" fmla="val 211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870720" y="38210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680600" y="38210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3280320" y="2541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386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3886200" y="114300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rtual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1371600" y="2895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1523880" y="281952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8"/>
          <p:cNvSpPr/>
          <p:nvPr/>
        </p:nvSpPr>
        <p:spPr>
          <a:xfrm>
            <a:off x="1676520" y="2743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80880" y="4648320"/>
            <a:ext cx="2362320" cy="190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03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838-B0BF-4C21-8A83-E03B735E81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1143000" y="457200"/>
            <a:ext cx="73915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400800" y="838080"/>
            <a:ext cx="198108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371600" y="5335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447920" y="609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3880" y="6858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600200" y="7621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167652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1752480" y="9144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1828800" y="9907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1371600" y="1447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1447920" y="15238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1523880" y="16002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1600200" y="16765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676520" y="1752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1066680" y="5562720"/>
            <a:ext cx="7620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9"/>
          <p:cNvSpPr/>
          <p:nvPr/>
        </p:nvSpPr>
        <p:spPr>
          <a:xfrm>
            <a:off x="2971800" y="4572000"/>
            <a:ext cx="121932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0"/>
          <p:cNvSpPr/>
          <p:nvPr/>
        </p:nvSpPr>
        <p:spPr>
          <a:xfrm>
            <a:off x="1752480" y="18288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1"/>
          <p:cNvSpPr/>
          <p:nvPr/>
        </p:nvSpPr>
        <p:spPr>
          <a:xfrm>
            <a:off x="4800600" y="4572000"/>
            <a:ext cx="121932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3870720" y="4735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5699520" y="4735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3280320" y="-507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486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3886200" y="7621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rtual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6"/>
          <p:cNvSpPr/>
          <p:nvPr/>
        </p:nvSpPr>
        <p:spPr>
          <a:xfrm>
            <a:off x="1371600" y="25146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1523880" y="2438280"/>
            <a:ext cx="1524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8"/>
          <p:cNvSpPr/>
          <p:nvPr/>
        </p:nvSpPr>
        <p:spPr>
          <a:xfrm>
            <a:off x="1676520" y="23623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5334120" y="2971800"/>
            <a:ext cx="304776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c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1"/>
          <p:cNvSpPr/>
          <p:nvPr/>
        </p:nvSpPr>
        <p:spPr>
          <a:xfrm>
            <a:off x="1752480" y="2971800"/>
            <a:ext cx="32004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03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-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816-2976-4B01-92F1-75B1B03B34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143000" y="457200"/>
            <a:ext cx="73915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400800" y="60948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371600" y="5335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447920" y="609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1523880" y="6858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1600200" y="7621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167652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1752480" y="9144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1828800" y="9907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1371600" y="1447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447920" y="15238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1523880" y="16002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1600200" y="16765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676520" y="17524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8"/>
          <p:cNvSpPr/>
          <p:nvPr/>
        </p:nvSpPr>
        <p:spPr>
          <a:xfrm>
            <a:off x="1066680" y="5562720"/>
            <a:ext cx="7620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9"/>
          <p:cNvSpPr/>
          <p:nvPr/>
        </p:nvSpPr>
        <p:spPr>
          <a:xfrm>
            <a:off x="2971800" y="4572000"/>
            <a:ext cx="121932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1752480" y="1828800"/>
            <a:ext cx="1524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4800600" y="4572000"/>
            <a:ext cx="121932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3870720" y="4735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5699520" y="4735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4"/>
          <p:cNvSpPr/>
          <p:nvPr/>
        </p:nvSpPr>
        <p:spPr>
          <a:xfrm>
            <a:off x="3280680" y="-5076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tium 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3886200" y="7621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rtual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6"/>
          <p:cNvSpPr/>
          <p:nvPr/>
        </p:nvSpPr>
        <p:spPr>
          <a:xfrm>
            <a:off x="1371600" y="25146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7"/>
          <p:cNvSpPr/>
          <p:nvPr/>
        </p:nvSpPr>
        <p:spPr>
          <a:xfrm>
            <a:off x="1523880" y="2438280"/>
            <a:ext cx="1524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8"/>
          <p:cNvSpPr/>
          <p:nvPr/>
        </p:nvSpPr>
        <p:spPr>
          <a:xfrm>
            <a:off x="1676520" y="23623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9"/>
          <p:cNvSpPr/>
          <p:nvPr/>
        </p:nvSpPr>
        <p:spPr>
          <a:xfrm>
            <a:off x="3200400" y="2971800"/>
            <a:ext cx="13716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ta C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1295280" y="3276720"/>
            <a:ext cx="1524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-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4724280" y="2971800"/>
            <a:ext cx="13716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6400800" y="1676520"/>
            <a:ext cx="19810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3"/>
          <p:cNvSpPr/>
          <p:nvPr/>
        </p:nvSpPr>
        <p:spPr>
          <a:xfrm>
            <a:off x="6400800" y="26668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-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4"/>
          <p:cNvSpPr/>
          <p:nvPr/>
        </p:nvSpPr>
        <p:spPr>
          <a:xfrm>
            <a:off x="6400800" y="3505320"/>
            <a:ext cx="198108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mp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2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26A-8EF8-4D94-8F84-A7A6528CBF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200" spc="-1" strike="noStrike">
                <a:solidFill>
                  <a:srgbClr val="000000"/>
                </a:solidFill>
                <a:latin typeface="Arial"/>
              </a:rPr>
              <a:t>سوال  ؟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2D7F-CB9F-421D-B2AE-002A5611AA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کنولوژی های ساخ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لامپ خ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رانزیست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دارات مجتمع (با چگالی پایی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یزپردازنده( مدارات مجتمع با چگالی بال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6559-F6BF-4CF3-BFD9-B56CF5D241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نواع مدارات مجتم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mall-Scale Integ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edium-Scale Integ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Large-Scale Integ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rge-scale integr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ردازنده های امروزی همگی از رد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ه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356-8FDF-4D2C-BF32-8CB6AD9A74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352680" y="2133720"/>
            <a:ext cx="335304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21932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0010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352680" y="518148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20574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670572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4724280" y="4114800"/>
            <a:ext cx="533520" cy="1066680"/>
          </a:xfrm>
          <a:prstGeom prst="upDownArrow">
            <a:avLst>
              <a:gd name="adj1" fmla="val 50000"/>
              <a:gd name="adj2" fmla="val 39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956600" y="45720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بلوک دیاگرام کامپیوتر پای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800B-BCA7-4984-93EF-F8DB2738D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819520" y="518148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4191120" y="4114800"/>
            <a:ext cx="533160" cy="1066680"/>
          </a:xfrm>
          <a:prstGeom prst="upDownArrow">
            <a:avLst>
              <a:gd name="adj1" fmla="val 50000"/>
              <a:gd name="adj2" fmla="val 39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6004080" y="7732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6307560" y="4659480"/>
            <a:ext cx="244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thmetic &amp;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5333760" y="12193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 flipH="1" flipV="1">
            <a:off x="5181480" y="373356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621440" y="484200"/>
            <a:ext cx="42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اجزاء داخل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1022-C1F6-4726-8C0F-1765CE7D45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819520" y="518148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191120" y="4114800"/>
            <a:ext cx="533160" cy="1066680"/>
          </a:xfrm>
          <a:prstGeom prst="upDownArrow">
            <a:avLst>
              <a:gd name="adj1" fmla="val 50000"/>
              <a:gd name="adj2" fmla="val 39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105520" y="3200400"/>
            <a:ext cx="838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987120" y="347760"/>
            <a:ext cx="64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واحد محاسبه و واحد منط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579132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994800" y="468468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gi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 flipV="1">
            <a:off x="4800600" y="167616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6462720" y="1484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ithmeti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B591-F6F0-49A1-9F31-4E702D69A5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19520" y="5181480"/>
            <a:ext cx="34290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4191120" y="4114800"/>
            <a:ext cx="533160" cy="1066680"/>
          </a:xfrm>
          <a:prstGeom prst="upDownArrow">
            <a:avLst>
              <a:gd name="adj1" fmla="val 50000"/>
              <a:gd name="adj2" fmla="val 39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105520" y="3200400"/>
            <a:ext cx="838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7391520" y="4495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83800" y="4429080"/>
            <a:ext cx="13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7215120" y="534348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7272720" y="625788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6324480" y="5562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573640" y="331920"/>
            <a:ext cx="32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واحد حافظ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810-2635-48F1-9338-EA3A9CD02C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2819520" y="2133720"/>
            <a:ext cx="3352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85800" y="2209680"/>
            <a:ext cx="8380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467480" y="2209680"/>
            <a:ext cx="8384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819520" y="518148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1523880" y="2895480"/>
            <a:ext cx="1295640" cy="457200"/>
          </a:xfrm>
          <a:prstGeom prst="leftRightArrow">
            <a:avLst>
              <a:gd name="adj1" fmla="val 50000"/>
              <a:gd name="adj2" fmla="val 56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6172200" y="2895480"/>
            <a:ext cx="1295280" cy="457200"/>
          </a:xfrm>
          <a:prstGeom prst="leftRightArrow">
            <a:avLst>
              <a:gd name="adj1" fmla="val 50000"/>
              <a:gd name="adj2" fmla="val 563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4191120" y="4114800"/>
            <a:ext cx="533160" cy="1066680"/>
          </a:xfrm>
          <a:prstGeom prst="upDownArrow">
            <a:avLst>
              <a:gd name="adj1" fmla="val 50000"/>
              <a:gd name="adj2" fmla="val 39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95480" y="2286000"/>
            <a:ext cx="10670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191120" y="22860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191120" y="31240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5105520" y="3200400"/>
            <a:ext cx="838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2895480" y="5257800"/>
            <a:ext cx="19051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4952880" y="5257800"/>
            <a:ext cx="12193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3088080" y="331920"/>
            <a:ext cx="34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مدل وان - نیو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2:24:59Z</dcterms:created>
  <dc:creator>behbin</dc:creator>
  <dc:description/>
  <dc:language>en-US</dc:language>
  <cp:lastModifiedBy>Mat</cp:lastModifiedBy>
  <dcterms:modified xsi:type="dcterms:W3CDTF">2010-10-04T19:45:46Z</dcterms:modified>
  <cp:revision>92</cp:revision>
  <dc:subject/>
  <dc:title>Slide 1</dc:title>
</cp:coreProperties>
</file>