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A01-7CA0-473E-A123-AFD28F55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856-EFDE-4A30-8CDA-7992E9DA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2C3-70B8-42B4-B90C-1C45A1D3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200-E842-4E9B-9448-4F1ADE1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DB8-A078-4E7E-8D4D-D3ECDAF1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1FF-BF2F-4BDC-BF2D-5AB3EF0A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8680-9B4A-45F8-A060-3272DFD7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DD7-7F11-4FAC-9C78-FC5F50BB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E15B-0C96-45B6-A527-29AB60D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4698-39F7-4D0B-A108-FF34BC15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BBF6-EFAD-4926-9D8C-E31EAEF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F43-6320-4FCA-8D0D-FD1176A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D6F3-170B-4CD1-8052-EE74BAA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0959-95DE-4424-9A0C-4176460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DA04-5735-4820-A0E2-04F73BBA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01E1-D9AE-4C94-B210-9F8215FD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52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4070880"/>
            <a:ext cx="225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8883-18DE-4895-B89A-962017DB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D32-E629-42ED-B36B-D29C9B03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FFC-9EAB-4EA3-A3D9-EAEC8C63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D91-BC0D-40F6-8CB5-9C7081A8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333-E8E0-4504-8505-7AB80927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24D-DDD2-4B3B-A913-83E7EE8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407088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2A5-935B-43C1-9B87-0565C63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520"/>
            <a:ext cx="3421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70880"/>
            <a:ext cx="701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082-F616-4C72-9B70-5650D3DE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B Yek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D74-7EDE-4826-A2DD-75BEB45CE1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962F-77A5-476A-BCB0-84B9155E30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4B15-455E-4626-812E-FE9E73806D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زبان ماش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ن و اسمبل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ي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1FE2-065A-4638-AAB3-095B909AD1B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رزش ارقا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زمان قرار گرفتن در یک عدد ،هر رقم دارای دو ارزش متفاوت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رزش مطل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رزش مکا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2590920" y="386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2362320" y="386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362320" y="4473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1905120" y="394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905120" y="538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038480" y="40165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4038480" y="5083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100760" y="387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4101120" y="45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4100760" y="49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101840" y="565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82E2-5F70-4F87-867C-9F86E93A8C2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رزش مکان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زش مکانی هر رقم برابر است با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رزش مطلق ضربدر ( مبنا به توان شماره مکا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ه شماره مکان از سمت راست ترین رقم و با مکان صفر شروع می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AE2-7E45-4B49-84D1-595FFDD34E8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زش مکانی رقم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دامست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27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64960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64960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317120" y="361800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*  8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281320" y="1828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A65-4874-4033-AC29-8B8D4FA4084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زش مکانی هر کدام از ارقام عدد زیر را بدست آوری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2C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2928960" y="340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928960" y="4092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2624040" y="3406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2624040" y="523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2395440" y="3406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2395440" y="64548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126400" y="3900600"/>
            <a:ext cx="12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436000" y="50436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*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6198840" y="62625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*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30CB-95E9-422C-B81D-A0202292733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قدار عدد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قدار هر عدد برابر است با مجموع ارزش مکانی ارقام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: مقدار عدد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کدامست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2C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2+32+2560=26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904D-002F-45AB-AC5D-10C21A72FC1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قدار هر کدام از اعداد زیر را بدست آور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4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A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B68-AE09-4AA8-91F0-FD10ECBD695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مبناه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بناهای مهم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8,10,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همه مبناها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جموع ارزش مکا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1066680" y="220968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657600" y="220968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657600" y="480060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990720" y="4800600"/>
            <a:ext cx="7617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40384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676520" y="2971800"/>
            <a:ext cx="19810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1828800" y="5181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8A42-5153-4789-A0F1-A42095D38E4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استثناء  ( تبدیل از باینری به دسیمال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: عدد زیر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کن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01010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057760" y="2819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5  4  3  2  1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6655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43692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320832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97972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27511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25225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293920" y="36576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36655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343692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320832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297972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2751120" y="5410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2522520" y="5791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>
            <a:off x="2293920" y="6248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4794480" y="36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4727160" y="4151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479448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4800600" y="48369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4870800" y="51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479448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4800960" y="6056280"/>
            <a:ext cx="9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>
            <a:off x="4038480" y="3276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6133680" y="306216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 0 0 1 0 1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6170040" y="276876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 32,16,8, 4  ,2  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746760" y="386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6746760" y="439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7266240" y="420516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+8+2=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8FFA-40F1-4037-92A8-63C1012BE10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ز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ه دیگر مبناه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وش تقسیمات متوا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1066680" y="220968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3657600" y="220968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990720" y="4800600"/>
            <a:ext cx="76176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3657600" y="472428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 flipV="1">
            <a:off x="403848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1676160" y="3047760"/>
            <a:ext cx="20574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1828800" y="5181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E49F-34DD-4F56-A014-CC96A52E50C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ز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ه دیگر مبناه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عدد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کن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15480" y="2779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2362320" y="2590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3623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42460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424600" y="3236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297180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29718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03408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110400" y="377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37339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73392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79620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49568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4100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95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464364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54100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872520" y="453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4634280" y="491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554868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6095880" y="5410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685800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60958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6858000" y="6095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5558040" y="49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616788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6929640" y="572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1"/>
          <p:cNvSpPr/>
          <p:nvPr/>
        </p:nvSpPr>
        <p:spPr>
          <a:xfrm>
            <a:off x="615816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6996600" y="605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>
            <a:off x="17524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4"/>
          <p:cNvSpPr/>
          <p:nvPr/>
        </p:nvSpPr>
        <p:spPr>
          <a:xfrm>
            <a:off x="22860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5"/>
          <p:cNvSpPr/>
          <p:nvPr/>
        </p:nvSpPr>
        <p:spPr>
          <a:xfrm>
            <a:off x="29718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6"/>
          <p:cNvSpPr/>
          <p:nvPr/>
        </p:nvSpPr>
        <p:spPr>
          <a:xfrm>
            <a:off x="37339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7"/>
          <p:cNvSpPr/>
          <p:nvPr/>
        </p:nvSpPr>
        <p:spPr>
          <a:xfrm>
            <a:off x="44956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8"/>
          <p:cNvSpPr/>
          <p:nvPr/>
        </p:nvSpPr>
        <p:spPr>
          <a:xfrm>
            <a:off x="53341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>
            <a:off x="6095880" y="6400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189108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1"/>
          <p:cNvSpPr/>
          <p:nvPr/>
        </p:nvSpPr>
        <p:spPr>
          <a:xfrm>
            <a:off x="311976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2"/>
          <p:cNvSpPr/>
          <p:nvPr/>
        </p:nvSpPr>
        <p:spPr>
          <a:xfrm>
            <a:off x="3881880" y="51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4643640" y="565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5482080" y="595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6243840" y="641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2433960" y="39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 flipV="1">
            <a:off x="1981080" y="4495320"/>
            <a:ext cx="33530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5327640" y="3998880"/>
            <a:ext cx="208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4)=(1000001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408-524F-4796-B693-1B65334B983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عناوین اصل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قدمه ای برمحاس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ریزپردازنده پنتی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صول برنامه نویسی به زبان اسمبل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ستورات محاسباتی ، منطق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ستورات کنترل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قف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اکرو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عملیات رشته ا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حیط های جدید برنامه نویس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رنامه نویس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بیت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فراخوان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3DB-3217-4FC5-B3A2-278F795430D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مثال : عدد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 را به صورت اکتال و هگزادسیمال بنویسی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480" y="2838240"/>
            <a:ext cx="701064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 = (9A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= (232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A0B8-C50C-4E21-B630-2F9439B11EE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استثناء ( تبدیل دسیمال به باینری 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: عدد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577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کن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124080" y="2666880"/>
            <a:ext cx="609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73392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34340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952880" y="2666880"/>
            <a:ext cx="609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556272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17220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781680" y="2666880"/>
            <a:ext cx="609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739152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800100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2514600" y="2666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423880" y="3541680"/>
            <a:ext cx="71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2666880" y="2438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V="1">
            <a:off x="2743200" y="2285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>
            <a:off x="4495680" y="2438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4572000" y="2285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8153280" y="24382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8229600" y="2285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5120280" y="3998880"/>
            <a:ext cx="218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7=(1001000001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FF51-24C6-4CE3-AC7B-4D6840411F6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کن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666880" y="2743200"/>
            <a:ext cx="6098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886200" y="27432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495680" y="2743200"/>
            <a:ext cx="6098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5105520" y="27432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5715000" y="27432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2743200"/>
            <a:ext cx="6098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6934320" y="27432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7543800" y="2743200"/>
            <a:ext cx="6094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424600" y="3618000"/>
            <a:ext cx="76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9"/>
          <p:cNvSpPr/>
          <p:nvPr/>
        </p:nvSpPr>
        <p:spPr>
          <a:xfrm>
            <a:off x="2666880" y="2362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6400800" y="2362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4557600" y="3821040"/>
            <a:ext cx="23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= (100000100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118F-6AAC-4FF0-BDFA-6F14D16FED8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ز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ه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رقم به رق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بنا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: سه رقم سه رق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مبنای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: چهار رقم ، چهار رق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914400" y="220968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505320" y="2209680"/>
            <a:ext cx="7617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838080" y="480060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"/>
          <p:cNvSpPr/>
          <p:nvPr/>
        </p:nvSpPr>
        <p:spPr>
          <a:xfrm flipH="1">
            <a:off x="1676520" y="2590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2"/>
          <p:cNvSpPr/>
          <p:nvPr/>
        </p:nvSpPr>
        <p:spPr>
          <a:xfrm flipV="1">
            <a:off x="121932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2081160" y="22464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سه رق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1118520" y="38466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چهار رق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791-BAF1-4E2F-AFDB-D717C8C4CA6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نمای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209680" y="29718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33720" y="5257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514600" y="5257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895480" y="525780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352680" y="2971800"/>
            <a:ext cx="11430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4495680" y="2971800"/>
            <a:ext cx="114300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352680" y="5257800"/>
            <a:ext cx="38124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3733920" y="5257800"/>
            <a:ext cx="3808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4114800" y="5257800"/>
            <a:ext cx="3808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4572000" y="5257800"/>
            <a:ext cx="3808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4952880" y="5257800"/>
            <a:ext cx="3812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5334120" y="5257800"/>
            <a:ext cx="3808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4556520" y="48369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0"/>
          <p:cNvSpPr/>
          <p:nvPr/>
        </p:nvSpPr>
        <p:spPr>
          <a:xfrm>
            <a:off x="3353040" y="48150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2134080" y="48150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2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2"/>
          <p:cNvSpPr/>
          <p:nvPr/>
        </p:nvSpPr>
        <p:spPr>
          <a:xfrm>
            <a:off x="27432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39625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4"/>
          <p:cNvSpPr/>
          <p:nvPr/>
        </p:nvSpPr>
        <p:spPr>
          <a:xfrm>
            <a:off x="50292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D0E6-30C2-4D4E-B879-C7DCA6434EB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نمایی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5800" y="464832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143000" y="464832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600200" y="464832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057400" y="464832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59092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304812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350532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3962520" y="4648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4495680" y="46483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4952880" y="46483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5410080" y="46483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5867280" y="46483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6400800" y="46483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6858000" y="46483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7315200" y="46483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7772400" y="46483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685800" y="2590920"/>
            <a:ext cx="18288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2590920" y="2590920"/>
            <a:ext cx="1828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4495680" y="2590920"/>
            <a:ext cx="18288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6400800" y="259092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658080" y="427824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         4 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2621880" y="42670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         4 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4526640" y="42670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         4 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6465240" y="42670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         4       2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16002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9"/>
          <p:cNvSpPr/>
          <p:nvPr/>
        </p:nvSpPr>
        <p:spPr>
          <a:xfrm>
            <a:off x="3429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0"/>
          <p:cNvSpPr/>
          <p:nvPr/>
        </p:nvSpPr>
        <p:spPr>
          <a:xfrm>
            <a:off x="51814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1"/>
          <p:cNvSpPr/>
          <p:nvPr/>
        </p:nvSpPr>
        <p:spPr>
          <a:xfrm>
            <a:off x="71629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2191-8CB2-40FE-ADC2-473ED890334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ز مبنای دو به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: هر سه رقم با هم ترکیب میش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: هر چهار رقم با هم ترکیب میشو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762120" y="1981080"/>
            <a:ext cx="7617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3352680" y="198108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685800" y="457200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928880" y="20178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سه رق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965880" y="3618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چهار رق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160020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066680" y="289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7BDF-B4D0-4EDF-BD14-0B3C91B7C7D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11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کن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2362320" y="30481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2743200" y="30481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124080" y="3048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3657600" y="3048120"/>
            <a:ext cx="3808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4038480" y="3048120"/>
            <a:ext cx="38124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419720" y="3048120"/>
            <a:ext cx="3808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3"/>
          <p:cNvSpPr/>
          <p:nvPr/>
        </p:nvSpPr>
        <p:spPr>
          <a:xfrm rot="16200000">
            <a:off x="1714320" y="339084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 rot="16200000">
            <a:off x="2857320" y="323856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 rot="16200000">
            <a:off x="4152960" y="323856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6"/>
          <p:cNvSpPr/>
          <p:nvPr/>
        </p:nvSpPr>
        <p:spPr>
          <a:xfrm>
            <a:off x="17524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7"/>
          <p:cNvSpPr/>
          <p:nvPr/>
        </p:nvSpPr>
        <p:spPr>
          <a:xfrm>
            <a:off x="28954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4191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9"/>
          <p:cNvSpPr/>
          <p:nvPr/>
        </p:nvSpPr>
        <p:spPr>
          <a:xfrm>
            <a:off x="1447920" y="49528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2286000" y="4952880"/>
            <a:ext cx="1295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3581280" y="4952880"/>
            <a:ext cx="129564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1554840" y="275436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2434320" y="27432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  2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3729960" y="27432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  2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9EF6-8B3C-4F1A-B7A7-0D30B02528D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01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را به مبنای دو تبدیل کنی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6019920" y="33526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6553080" y="33526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7086600" y="33526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620120" y="33526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3429000" y="33526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3962520" y="3352680"/>
            <a:ext cx="53316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4495680" y="33526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5029200" y="3352680"/>
            <a:ext cx="53352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3487680" y="293220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4  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094080" y="29098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4  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2500560" y="293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6"/>
          <p:cNvSpPr/>
          <p:nvPr/>
        </p:nvSpPr>
        <p:spPr>
          <a:xfrm rot="16200000">
            <a:off x="4457880" y="31618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7"/>
          <p:cNvSpPr/>
          <p:nvPr/>
        </p:nvSpPr>
        <p:spPr>
          <a:xfrm rot="16200000">
            <a:off x="6972480" y="31618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8"/>
          <p:cNvSpPr/>
          <p:nvPr/>
        </p:nvSpPr>
        <p:spPr>
          <a:xfrm rot="16200000">
            <a:off x="2590560" y="396180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9"/>
          <p:cNvSpPr/>
          <p:nvPr/>
        </p:nvSpPr>
        <p:spPr>
          <a:xfrm>
            <a:off x="26668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>
            <a:off x="45720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1"/>
          <p:cNvSpPr/>
          <p:nvPr/>
        </p:nvSpPr>
        <p:spPr>
          <a:xfrm>
            <a:off x="70102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2"/>
          <p:cNvSpPr/>
          <p:nvPr/>
        </p:nvSpPr>
        <p:spPr>
          <a:xfrm>
            <a:off x="3429000" y="5638680"/>
            <a:ext cx="22860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3"/>
          <p:cNvSpPr/>
          <p:nvPr/>
        </p:nvSpPr>
        <p:spPr>
          <a:xfrm>
            <a:off x="5791320" y="5638680"/>
            <a:ext cx="22860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1066680" y="5638680"/>
            <a:ext cx="2286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385E-454E-4DB4-9E7A-F6215C42738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 و برعک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بتدا به عنوان یک واسطه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می کن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762120" y="2743200"/>
            <a:ext cx="7617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3352680" y="274320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685800" y="5334120"/>
            <a:ext cx="762120" cy="7617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1523880" y="3657600"/>
            <a:ext cx="17528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4"/>
          <p:cNvSpPr/>
          <p:nvPr/>
        </p:nvSpPr>
        <p:spPr>
          <a:xfrm>
            <a:off x="914400" y="3657600"/>
            <a:ext cx="380880" cy="1523880"/>
          </a:xfrm>
          <a:prstGeom prst="up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5"/>
          <p:cNvSpPr/>
          <p:nvPr/>
        </p:nvSpPr>
        <p:spPr>
          <a:xfrm>
            <a:off x="1676520" y="3048120"/>
            <a:ext cx="1447560" cy="304560"/>
          </a:xfrm>
          <a:prstGeom prst="rightArrow">
            <a:avLst>
              <a:gd name="adj1" fmla="val 50000"/>
              <a:gd name="adj2" fmla="val 118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CFF6-FC1C-4753-B85A-B0F4EA0E64F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راج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رج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کتاب زبان ماشین و اسمبلی ، تالیف دکتر حسن سیدرضی، انتشارات ناقو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92D-55DF-4CC3-AA17-376876569CA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نمای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حل ) ابتدا عدد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می بری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2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1010,1100,0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پس تبدیل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انجام  میدهی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101,011,000,010)=(5302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F92A-1DAD-4E94-AC8D-00042AC6466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تمری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را به 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تبدیل نمای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09D-0DBE-4870-BF0B-45D3D1FA4A8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خلاص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سیستم های عدد نویسی : مبنا ، ارقام قابل قب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ارزش مطلق و ارزش مکانی ، مقدار عد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همه مبناها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مجموع ارزش مکان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همه مبناها ( تقسیم متوال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 تفریق متوالی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تبدیل از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( با واسطه تبدیل به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062A-D5DB-459B-9AD3-BDBD0B1309F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500" spc="-1" strike="noStrike">
                <a:solidFill>
                  <a:srgbClr val="000000"/>
                </a:solidFill>
                <a:latin typeface="Arial"/>
              </a:rPr>
              <a:t>سوال ؟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9C8B-0F4C-4171-8362-A65FA9A4DB0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نحوه ارزشیاب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زمون پايان ترم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آزمون ميان ترم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پروژه پايان ترم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فعاليت كلاسي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</a:rPr>
              <a:t>مقدمه ای بر محاسبات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درپایان درس انتظار داری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آشنایی با سیستم های عدد نویسی دسیمال ، هگزادسیمال ، باینری و اکت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وانایی انواع تبدیلات بین این چهار مب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وانایی عمل جمع در مبناهای سه گانه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2،8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A9C7-3875-468A-BEF1-3C7424CF477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یستم عدد نویس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یک عد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به عنوان مب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جموعه ارقام قابل قبول شام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3D2-B774-4673-AB61-906760E6FC1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یستم دسیمال (دهدهی ،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جوعه ارقام قابل قبول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,2,3,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چرا انسان از مبنای ده استفاده می کند 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( مراجعه به کتاب : عدد زبان علم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BD00-BBC8-490E-BD3A-5D32630F187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یستم اکتال (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جموعه ارقام قابل قبول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,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مثال : کدامیک از ارقام زیر درمبنا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نوشته شده است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932-3C26-44DB-AA34-D62C880A81F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B Yek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سیتم هگزادسیمال ( مبنای 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fa-I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جموعه ارقام قابل قبول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36760" y="3576600"/>
          <a:ext cx="6426360" cy="282420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A=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B=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C=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D=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E=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B Yekan"/>
                        </a:rPr>
                        <a:t>F=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4:40:06Z</dcterms:created>
  <dc:creator>Elmi</dc:creator>
  <dc:description/>
  <dc:language>en-US</dc:language>
  <cp:lastModifiedBy>a</cp:lastModifiedBy>
  <dcterms:modified xsi:type="dcterms:W3CDTF">2010-09-27T13:09:24Z</dcterms:modified>
  <cp:revision>119</cp:revision>
  <dc:subject/>
  <dc:title> زبان ماشين و اسمبلي- درس اول</dc:title>
</cp:coreProperties>
</file>