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640" y="6516720"/>
            <a:ext cx="294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41440" y="547560"/>
            <a:ext cx="5223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وزنه و قرقره جرم دا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5352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وسیله طنابی حول قرقره ای به شع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تصل به یک چرخ لنگر آویزان شد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قرقره و چرخ لنگ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fa-IR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روی قرقره نمی لغز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شروع حرکت از حالت سکون چقدر طول می کشد تا این جرم به فا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قوط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5400" y="1434960"/>
            <a:ext cx="1625400" cy="162576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37360" y="2247840"/>
            <a:ext cx="6480" cy="160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30880" y="1720800"/>
            <a:ext cx="1054440" cy="105408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32960" y="186048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21360" y="3840120"/>
            <a:ext cx="444600" cy="4446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71880" y="38876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56440" y="2265480"/>
            <a:ext cx="48744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4320" y="22795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7920" y="3218040"/>
            <a:ext cx="97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39160" y="4317840"/>
            <a:ext cx="0" cy="6606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893640" y="43639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77000" y="1222200"/>
            <a:ext cx="1793880" cy="13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91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915"/>
              </a:path>
            </a:pathLst>
          </a:custGeom>
          <a:noFill/>
          <a:ln cap="rnd"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67240" y="188424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2228760"/>
            <a:ext cx="63360" cy="637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3740040"/>
            <a:ext cx="0" cy="673200"/>
          </a:xfrm>
          <a:prstGeom prst="line">
            <a:avLst/>
          </a:prstGeom>
          <a:ln w="1260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52840" y="43974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4273560"/>
            <a:ext cx="0" cy="1587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31160" y="4267080"/>
            <a:ext cx="444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31160" y="5867280"/>
            <a:ext cx="444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14960" y="481644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وزنه و قرقره جرم دار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5352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جرم درحال سقوط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ct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- T = m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قرقره و چرخ لنگز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TR =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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: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این معادلات را برای یافت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ل می کن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5400" y="1434960"/>
            <a:ext cx="1625400" cy="162576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37360" y="2247840"/>
            <a:ext cx="6480" cy="160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30880" y="1720800"/>
            <a:ext cx="1054440" cy="105408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32960" y="186048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21360" y="3840120"/>
            <a:ext cx="444600" cy="4446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71880" y="38876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56440" y="2265480"/>
            <a:ext cx="48744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24320" y="22795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7920" y="3218040"/>
            <a:ext cx="97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9160" y="4317840"/>
            <a:ext cx="0" cy="6606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893640" y="43639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77000" y="1222200"/>
            <a:ext cx="1793880" cy="13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91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915"/>
              </a:path>
            </a:pathLst>
          </a:custGeom>
          <a:noFill/>
          <a:ln cap="rnd"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67240" y="188424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2228760"/>
            <a:ext cx="63360" cy="637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3740040"/>
            <a:ext cx="0" cy="673200"/>
          </a:xfrm>
          <a:prstGeom prst="line">
            <a:avLst/>
          </a:prstGeom>
          <a:ln w="1260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52840" y="43974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53280" y="4273560"/>
            <a:ext cx="0" cy="1587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1160" y="4267080"/>
            <a:ext cx="444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31160" y="5867280"/>
            <a:ext cx="444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14960" y="481644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695680" y="5019840"/>
                <a:ext cx="22636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527200" y="4813200"/>
            <a:ext cx="2184480" cy="127008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48160" y="3191040"/>
                <a:ext cx="1282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816360" y="335916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وزنه و قرقره جرم دار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دینامیک یک بعدی برای یافتن زمان لازم برای سقوط در فا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فاده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19840" y="1855800"/>
            <a:ext cx="1625760" cy="162576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12160" y="2668680"/>
            <a:ext cx="6120" cy="1603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05680" y="2141640"/>
            <a:ext cx="1054080" cy="105408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07760" y="228132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96160" y="4260960"/>
            <a:ext cx="444600" cy="44424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46320" y="4308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30880" y="2685960"/>
            <a:ext cx="48744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98760" y="270036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22720" y="3638520"/>
            <a:ext cx="97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13600" y="4738680"/>
            <a:ext cx="0" cy="6602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868080" y="478476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51800" y="1643040"/>
            <a:ext cx="1793160" cy="13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91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915"/>
              </a:path>
            </a:pathLst>
          </a:custGeom>
          <a:noFill/>
          <a:ln cap="rnd"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2040" y="230508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94560" y="2649600"/>
            <a:ext cx="63720" cy="633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80160" y="4160880"/>
            <a:ext cx="0" cy="673200"/>
          </a:xfrm>
          <a:prstGeom prst="line">
            <a:avLst/>
          </a:prstGeom>
          <a:ln w="1260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280" y="481824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128080" y="4694400"/>
            <a:ext cx="0" cy="15872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05600" y="4687920"/>
            <a:ext cx="444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05600" y="6288120"/>
            <a:ext cx="4446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89400" y="5237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000240" y="4334040"/>
                <a:ext cx="22640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405080" y="3195720"/>
                <a:ext cx="16491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614760" y="3195720"/>
                <a:ext cx="118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2749680" y="34354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101520" y="2948040"/>
            <a:ext cx="2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06720" y="466416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وران حول یک محور متحرک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47880" y="1738080"/>
            <a:ext cx="7162560" cy="2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ی دور یک دیسک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ع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ه شد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دیسک درحال سکون روی یک سطح تخت و بدون اصطکاک قرار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را با نیرو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کشیم و بدون لغزش دیسک شروع به غلتش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12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طولی از طن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ید باز شود تا مساف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طی کن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82840" y="4502160"/>
            <a:ext cx="1054080" cy="10540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16360" y="5562720"/>
            <a:ext cx="17398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62480" y="538812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5035680"/>
            <a:ext cx="0" cy="5205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6520" y="50068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10720" y="470232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52960" y="5907240"/>
            <a:ext cx="167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ما از بال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وران حول یک محور متحرک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47880" y="1738080"/>
            <a:ext cx="7162560" cy="2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7000"/>
          </a:bodyPr>
          <a:p>
            <a:pPr marL="105480" indent="-105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طبق قانون دوم نیوتن حرکت می کند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A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82840" y="5187960"/>
            <a:ext cx="1054080" cy="10540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6248520"/>
            <a:ext cx="17398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62480" y="607392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34760" y="531180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30760" y="5715000"/>
            <a:ext cx="749160" cy="0"/>
          </a:xfrm>
          <a:prstGeom prst="line">
            <a:avLst/>
          </a:prstGeom>
          <a:ln w="1260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53000" y="5311800"/>
            <a:ext cx="92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21040" y="1806480"/>
            <a:ext cx="444240" cy="139680"/>
          </a:xfrm>
          <a:prstGeom prst="rightArrow">
            <a:avLst>
              <a:gd name="adj1" fmla="val 50000"/>
              <a:gd name="adj2" fmla="val 15903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08120" y="1530360"/>
                <a:ext cx="10018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353960" y="2244600"/>
                <a:ext cx="28162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4044960" y="2394000"/>
            <a:ext cx="442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افت طی شده به وسیله مرکز جر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11440" y="554040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721480"/>
            <a:ext cx="0" cy="5205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520" y="56926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9400" y="4975200"/>
            <a:ext cx="158436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11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111"/>
              </a:path>
            </a:pathLst>
          </a:custGeom>
          <a:noFill/>
          <a:ln cap="rnd" w="12600">
            <a:solidFill>
              <a:srgbClr val="f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467000" y="5646600"/>
                <a:ext cx="17985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48080" y="3181320"/>
                <a:ext cx="2355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604880" y="3483000"/>
            <a:ext cx="444600" cy="139680"/>
          </a:xfrm>
          <a:prstGeom prst="rightArrow">
            <a:avLst>
              <a:gd name="adj1" fmla="val 50000"/>
              <a:gd name="adj2" fmla="val 159164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8640" y="3316320"/>
            <a:ext cx="4089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سک حول مرکز جرم طبق رابط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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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ن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47840" y="4189320"/>
                <a:ext cx="27604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α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749840" y="4311720"/>
            <a:ext cx="354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جابه جایی زاویه ای برابر است ب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وران حول یک محور متحرک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47880" y="1738080"/>
            <a:ext cx="7162560" cy="2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marL="119880" indent="-1198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مسافت طی شده به وسیله مرکز جرم 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زاویه دوران حول مرکز جرم برحسب  تابعی از زمان می دا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97040" y="5943600"/>
            <a:ext cx="15876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01600" y="59212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63880" y="4578480"/>
            <a:ext cx="1054080" cy="10540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7040" y="563868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25640" y="54640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5111640"/>
            <a:ext cx="0" cy="5209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971720" y="2495520"/>
                <a:ext cx="1892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443480" y="2538360"/>
                <a:ext cx="1846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664080" y="4578480"/>
            <a:ext cx="1054080" cy="10540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7240" y="5638680"/>
            <a:ext cx="31878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91280" y="538812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5111640"/>
            <a:ext cx="0" cy="5209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58640" y="477828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5797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5797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50760" y="5105520"/>
            <a:ext cx="5461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69000" y="4883400"/>
            <a:ext cx="445320" cy="445320"/>
            <a:chOff x="3969000" y="4883400"/>
            <a:chExt cx="445320" cy="445320"/>
          </a:xfrm>
        </p:grpSpPr>
        <p:sp>
          <p:nvSpPr>
            <p:cNvPr id="293" name=""/>
            <p:cNvSpPr/>
            <p:nvPr/>
          </p:nvSpPr>
          <p:spPr>
            <a:xfrm>
              <a:off x="3969360" y="488484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69000" y="48834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70440" y="488484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54680" y="3406680"/>
            <a:ext cx="274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تقس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ر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76480" y="264636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3320" y="264636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186000" y="3333600"/>
                <a:ext cx="13096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48240" y="3500280"/>
                <a:ext cx="133992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4730760" y="5943600"/>
            <a:ext cx="26542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90720" y="5921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5797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5797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21280" y="3511440"/>
            <a:ext cx="215640" cy="216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82000" y="3263760"/>
            <a:ext cx="371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بازشده طناب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 = 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7210440" y="4414680"/>
                <a:ext cx="1485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023240" y="4280040"/>
            <a:ext cx="1117440" cy="50796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78680" y="4425840"/>
            <a:ext cx="520560" cy="292320"/>
          </a:xfrm>
          <a:prstGeom prst="rightArrow">
            <a:avLst>
              <a:gd name="adj1" fmla="val 50000"/>
              <a:gd name="adj2" fmla="val 89047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03680" y="3473280"/>
            <a:ext cx="215640" cy="216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 در باره شتاب مرکز جرم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3000"/>
          </a:bodyPr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چرخش حول محور جرم استفاده می کنیم حتی اگر مرکز جرم دارا شتاب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360" indent="-29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یک چهارچوب لخت نی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 </a:t>
            </a:r>
            <a:r>
              <a:rPr b="0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آیا موافقید؟؟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سرانجام از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m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فقط در چهارچوب لخت استفاده می کنی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لی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!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یم همواره از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رای محوری که از مرکز جرم می گذرد استفاده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360" indent="-29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حتی وقتی که مرکز جرم شتاب داشته باشد نیز درست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360" indent="-29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موضوع را هنگام بحث تکانه زاویه ای اثبات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11440" y="4975200"/>
            <a:ext cx="3559680" cy="1461960"/>
            <a:chOff x="2611440" y="4975200"/>
            <a:chExt cx="3559680" cy="1461960"/>
          </a:xfrm>
        </p:grpSpPr>
        <p:sp>
          <p:nvSpPr>
            <p:cNvPr id="316" name=""/>
            <p:cNvSpPr/>
            <p:nvPr/>
          </p:nvSpPr>
          <p:spPr>
            <a:xfrm>
              <a:off x="3282840" y="5187960"/>
              <a:ext cx="1054080" cy="1054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16360" y="6248520"/>
              <a:ext cx="1739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62480" y="60739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5721480"/>
              <a:ext cx="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6520" y="56926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4760" y="5311800"/>
              <a:ext cx="1035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30760" y="5715000"/>
              <a:ext cx="749160" cy="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53000" y="5311800"/>
              <a:ext cx="92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19400" y="4975200"/>
              <a:ext cx="1584360" cy="11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111"/>
                </a:path>
              </a:pathLst>
            </a:custGeom>
            <a:noFill/>
            <a:ln cap="rnd" w="12600">
              <a:solidFill>
                <a:srgbClr val="f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1440" y="5540400"/>
              <a:ext cx="91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غلتش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عاع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ختی دوران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شیبداری به شی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به افق می غلت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آن چقدر است 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نگام حل این مسئله حرکت مرکز جرم و دوران حول مرکز جرم رادر نظر بگیرید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6305400" y="3739680"/>
            <a:ext cx="1104840" cy="334008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88040" y="4019400"/>
            <a:ext cx="1105200" cy="11052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47120" y="4572000"/>
            <a:ext cx="5461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27040" y="558468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8000" y="45990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36280" y="413244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54480" y="45990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غلتش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74240" y="1477800"/>
            <a:ext cx="7162920" cy="329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ایستای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بب غلش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نیرو نامشخص است با ید آنرا پیدا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نمودار جسم آزاد را کشیده و از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فاده کنید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داریم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حرکت حول مرکز جرم و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فاده کنیدوتوجه  کنید که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R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                        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   و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52480" y="3741840"/>
            <a:ext cx="3135600" cy="2640960"/>
            <a:chOff x="852480" y="3741840"/>
            <a:chExt cx="3135600" cy="2640960"/>
          </a:xfrm>
        </p:grpSpPr>
        <p:sp>
          <p:nvSpPr>
            <p:cNvPr id="342" name=""/>
            <p:cNvSpPr/>
            <p:nvPr/>
          </p:nvSpPr>
          <p:spPr>
            <a:xfrm>
              <a:off x="2101680" y="3741840"/>
              <a:ext cx="1104480" cy="11048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0400" y="4294080"/>
              <a:ext cx="5457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50520" y="43084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3720" y="3863880"/>
              <a:ext cx="1035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6120" y="50925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63280" y="4586040"/>
              <a:ext cx="2665080" cy="885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2480" y="5470560"/>
              <a:ext cx="209520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855520" y="4638240"/>
              <a:ext cx="502920" cy="183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64760" y="419724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639880" y="4308480"/>
              <a:ext cx="12240" cy="2072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70600" y="499104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007360" y="4308480"/>
              <a:ext cx="631800" cy="207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20680" y="4514760"/>
              <a:ext cx="612360" cy="1868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858600" y="3951360"/>
              <a:ext cx="1199160" cy="1298880"/>
              <a:chOff x="858600" y="3951360"/>
              <a:chExt cx="1199160" cy="1298880"/>
            </a:xfrm>
          </p:grpSpPr>
          <p:sp>
            <p:nvSpPr>
              <p:cNvPr id="356" name=""/>
              <p:cNvSpPr/>
              <p:nvPr/>
            </p:nvSpPr>
            <p:spPr>
              <a:xfrm flipH="1" flipV="1">
                <a:off x="1637640" y="4398120"/>
                <a:ext cx="142560" cy="3697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408680" y="4768560"/>
                <a:ext cx="371160" cy="117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400000">
                <a:off x="1140840" y="409068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400000">
                <a:off x="893880" y="474696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788000" y="4897440"/>
                <a:ext cx="1060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61" name=""/>
          <p:cNvGrpSpPr/>
          <p:nvPr/>
        </p:nvGrpSpPr>
        <p:grpSpPr>
          <a:xfrm>
            <a:off x="5940360" y="4946760"/>
            <a:ext cx="1825560" cy="788760"/>
            <a:chOff x="5940360" y="4946760"/>
            <a:chExt cx="1825560" cy="788760"/>
          </a:xfrm>
        </p:grpSpPr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6416640" y="4946760"/>
                  <a:ext cx="134928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>
              <a:off x="5940360" y="5155920"/>
              <a:ext cx="292320" cy="215640"/>
            </a:xfrm>
            <a:prstGeom prst="rightArrow">
              <a:avLst>
                <a:gd name="adj1" fmla="val 50000"/>
                <a:gd name="adj2" fmla="val 67786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506520" y="6453360"/>
            <a:ext cx="458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غلتش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97604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9000"/>
          </a:bodyPr>
          <a:p>
            <a:pPr marL="54000" indent="-5400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معادله داریم:                           و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A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بین آنها حذف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741920" y="1797120"/>
                <a:ext cx="847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759040" y="3519360"/>
                <a:ext cx="19652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 </m:t>
                            </m:r>
                            <m:r>
                              <m:t xml:space="preserve">θ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 rot="16200000">
            <a:off x="6305400" y="3739680"/>
            <a:ext cx="1104840" cy="334008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88040" y="4019400"/>
            <a:ext cx="1105200" cy="11052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47120" y="4572000"/>
            <a:ext cx="5461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27040" y="558468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318360" y="4883040"/>
            <a:ext cx="698400" cy="216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00920" y="4549680"/>
            <a:ext cx="92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88000" y="45990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36280" y="413244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54480" y="45990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305000" y="5027760"/>
                <a:ext cx="354492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 </m:t>
                            </m:r>
                            <m:r>
                              <m:t xml:space="preserve">θ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3325680" y="4764240"/>
            <a:ext cx="22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کر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40080" y="3414600"/>
            <a:ext cx="2611440" cy="9032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چرخش ها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استوانه صلب از آلومینیوم که شعا ع یکی دوبرابر دیگری است رو ی سطح شیبدار ی قرار دار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07360" indent="-75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آنها را از بالای سطح رها کنیم کدام یک در پایین سطح سرعت بیشتری خواهد داشت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00680" y="4334040"/>
            <a:ext cx="2257200" cy="1190520"/>
          </a:xfrm>
          <a:prstGeom prst="rtTriangl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00680" y="3670200"/>
            <a:ext cx="3570120" cy="1855800"/>
          </a:xfrm>
          <a:custGeom>
            <a:avLst/>
            <a:gdLst/>
            <a:ahLst/>
            <a:rect l="l" t="t" r="r" b="b"/>
            <a:pathLst>
              <a:path w="2249" h="1169">
                <a:moveTo>
                  <a:pt x="0" y="413"/>
                </a:moveTo>
                <a:lnTo>
                  <a:pt x="845" y="0"/>
                </a:lnTo>
                <a:lnTo>
                  <a:pt x="2248" y="778"/>
                </a:lnTo>
                <a:lnTo>
                  <a:pt x="1419" y="1168"/>
                </a:lnTo>
                <a:lnTo>
                  <a:pt x="0" y="413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896000" y="3625920"/>
            <a:ext cx="711000" cy="571320"/>
            <a:chOff x="4896000" y="3625920"/>
            <a:chExt cx="711000" cy="571320"/>
          </a:xfrm>
        </p:grpSpPr>
        <p:sp>
          <p:nvSpPr>
            <p:cNvPr id="388" name=""/>
            <p:cNvSpPr/>
            <p:nvPr/>
          </p:nvSpPr>
          <p:spPr>
            <a:xfrm>
              <a:off x="5162400" y="3625920"/>
              <a:ext cx="444600" cy="444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57640" y="3632040"/>
              <a:ext cx="462240" cy="541440"/>
            </a:xfrm>
            <a:custGeom>
              <a:avLst/>
              <a:gdLst/>
              <a:ahLst/>
              <a:rect l="l" t="t" r="r" b="b"/>
              <a:pathLst>
                <a:path w="291" h="341">
                  <a:moveTo>
                    <a:pt x="0" y="80"/>
                  </a:moveTo>
                  <a:lnTo>
                    <a:pt x="164" y="0"/>
                  </a:lnTo>
                  <a:lnTo>
                    <a:pt x="290" y="248"/>
                  </a:lnTo>
                  <a:lnTo>
                    <a:pt x="106" y="340"/>
                  </a:lnTo>
                  <a:lnTo>
                    <a:pt x="0" y="8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96000" y="3753000"/>
              <a:ext cx="444240" cy="4442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038560" y="3634920"/>
              <a:ext cx="2797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226120" y="4041360"/>
              <a:ext cx="27936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408560" y="4108320"/>
            <a:ext cx="365040" cy="292320"/>
            <a:chOff x="4408560" y="4108320"/>
            <a:chExt cx="365040" cy="292320"/>
          </a:xfrm>
        </p:grpSpPr>
        <p:sp>
          <p:nvSpPr>
            <p:cNvPr id="394" name=""/>
            <p:cNvSpPr/>
            <p:nvPr/>
          </p:nvSpPr>
          <p:spPr>
            <a:xfrm>
              <a:off x="4548240" y="4108320"/>
              <a:ext cx="225360" cy="2257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9560" y="4108320"/>
              <a:ext cx="242640" cy="284400"/>
            </a:xfrm>
            <a:custGeom>
              <a:avLst/>
              <a:gdLst/>
              <a:ahLst/>
              <a:rect l="l" t="t" r="r" b="b"/>
              <a:pathLst>
                <a:path w="153" h="179">
                  <a:moveTo>
                    <a:pt x="0" y="41"/>
                  </a:moveTo>
                  <a:lnTo>
                    <a:pt x="85" y="0"/>
                  </a:lnTo>
                  <a:lnTo>
                    <a:pt x="152" y="129"/>
                  </a:lnTo>
                  <a:lnTo>
                    <a:pt x="55" y="178"/>
                  </a:lnTo>
                  <a:lnTo>
                    <a:pt x="0" y="4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08560" y="4175280"/>
              <a:ext cx="225360" cy="225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479840" y="4109760"/>
              <a:ext cx="146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578480" y="4322520"/>
              <a:ext cx="145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941400" y="3421080"/>
            <a:ext cx="20559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وانه بزرگتر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وانه کوچکت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اوی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196920" indent="-19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ی از آنهار ادر نظر بگیرد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شعاع آ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رم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وازارتف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ین بیا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89120" y="4943520"/>
            <a:ext cx="2257560" cy="1190520"/>
          </a:xfrm>
          <a:prstGeom prst="rtTriangl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2320" y="4667400"/>
            <a:ext cx="444600" cy="4442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51055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0080" y="553896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41880" y="2554200"/>
            <a:ext cx="4476960" cy="379800"/>
            <a:chOff x="641880" y="2554200"/>
            <a:chExt cx="4476960" cy="379800"/>
          </a:xfrm>
        </p:grpSpPr>
        <p:sp>
          <p:nvSpPr>
            <p:cNvPr id="407" name=""/>
            <p:cNvSpPr/>
            <p:nvPr/>
          </p:nvSpPr>
          <p:spPr>
            <a:xfrm>
              <a:off x="641880" y="2567160"/>
              <a:ext cx="275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ز پایستاری انرژی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52600" y="2554200"/>
              <a:ext cx="186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-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035680" y="2463840"/>
            <a:ext cx="3097080" cy="585720"/>
            <a:chOff x="5035680" y="2463840"/>
            <a:chExt cx="3097080" cy="585720"/>
          </a:xfrm>
        </p:grpSpPr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697360" y="2463840"/>
                  <a:ext cx="24354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I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5035680" y="2597040"/>
              <a:ext cx="368280" cy="292320"/>
            </a:xfrm>
            <a:prstGeom prst="rightArrow">
              <a:avLst>
                <a:gd name="adj1" fmla="val 50000"/>
                <a:gd name="adj2" fmla="val 6299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652840" y="3316320"/>
                <a:ext cx="1112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54600" y="3316320"/>
                <a:ext cx="6699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6159600" y="3517920"/>
            <a:ext cx="49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2080" y="3419640"/>
            <a:ext cx="88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64080" y="4092480"/>
            <a:ext cx="4116240" cy="673200"/>
            <a:chOff x="3664080" y="4092480"/>
            <a:chExt cx="4116240" cy="673200"/>
          </a:xfrm>
        </p:grpSpPr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4363920" y="4092480"/>
                  <a:ext cx="341640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sSup>
                        <m:e>
                          <m:f>
                            <m:num>
                              <m:r>
                                <m:t xml:space="preserve">V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"/>
            <p:cNvSpPr/>
            <p:nvPr/>
          </p:nvSpPr>
          <p:spPr>
            <a:xfrm>
              <a:off x="3664080" y="4273560"/>
              <a:ext cx="444240" cy="368280"/>
            </a:xfrm>
            <a:prstGeom prst="rightArrow">
              <a:avLst>
                <a:gd name="adj1" fmla="val 50000"/>
                <a:gd name="adj2" fmla="val 603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511440" y="5054760"/>
            <a:ext cx="4354560" cy="556920"/>
            <a:chOff x="3511440" y="5054760"/>
            <a:chExt cx="4354560" cy="556920"/>
          </a:xfrm>
        </p:grpSpPr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4411800" y="5054760"/>
                  <a:ext cx="345420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"/>
            <p:cNvSpPr/>
            <p:nvPr/>
          </p:nvSpPr>
          <p:spPr>
            <a:xfrm>
              <a:off x="3511440" y="5187960"/>
              <a:ext cx="749520" cy="291960"/>
            </a:xfrm>
            <a:prstGeom prst="rightArrow">
              <a:avLst>
                <a:gd name="adj1" fmla="val 50000"/>
                <a:gd name="adj2" fmla="val 128372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89120" y="4943520"/>
            <a:ext cx="2257560" cy="1190520"/>
          </a:xfrm>
          <a:prstGeom prst="rtTriangl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2320" y="4667400"/>
            <a:ext cx="444600" cy="4442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51055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0080" y="553896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944720" y="1930320"/>
                <a:ext cx="15192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828480" y="1569960"/>
            <a:ext cx="111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05120"/>
            <a:ext cx="3848040" cy="609480"/>
            <a:chOff x="2057400" y="1905120"/>
            <a:chExt cx="3848040" cy="609480"/>
          </a:xfrm>
        </p:grpSpPr>
        <p:grpSp>
          <p:nvGrpSpPr>
            <p:cNvPr id="430" name=""/>
            <p:cNvGrpSpPr/>
            <p:nvPr/>
          </p:nvGrpSpPr>
          <p:grpSpPr>
            <a:xfrm>
              <a:off x="3816360" y="1930320"/>
              <a:ext cx="2089080" cy="538200"/>
              <a:chOff x="3816360" y="1930320"/>
              <a:chExt cx="2089080" cy="538200"/>
            </a:xfrm>
          </p:grpSpPr>
          <mc:AlternateContent>
            <mc:Choice xmlns:a14="http://schemas.microsoft.com/office/drawing/2010/main" Requires="a14">
              <p:sp>
                <p:nvSpPr>
                  <p:cNvPr id="431" name=""/>
                  <p:cNvSpPr txBox="1"/>
                  <p:nvPr/>
                </p:nvSpPr>
                <p:spPr>
                  <a:xfrm>
                    <a:off x="4827600" y="1930320"/>
                    <a:ext cx="1077840" cy="53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"/>
              <p:cNvSpPr/>
              <p:nvPr/>
            </p:nvSpPr>
            <p:spPr>
              <a:xfrm>
                <a:off x="3816360" y="2063880"/>
                <a:ext cx="368280" cy="291960"/>
              </a:xfrm>
              <a:prstGeom prst="rightArrow">
                <a:avLst>
                  <a:gd name="adj1" fmla="val 50000"/>
                  <a:gd name="adj2" fmla="val 63076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2057400" y="1905120"/>
              <a:ext cx="76320" cy="6094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71800" y="1905120"/>
              <a:ext cx="76320" cy="6094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16360" y="2676600"/>
            <a:ext cx="2116080" cy="561960"/>
            <a:chOff x="3816360" y="2676600"/>
            <a:chExt cx="2116080" cy="56196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791240" y="2676600"/>
                  <a:ext cx="11412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gH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3816360" y="2825640"/>
              <a:ext cx="368280" cy="292320"/>
            </a:xfrm>
            <a:prstGeom prst="rightArrow">
              <a:avLst>
                <a:gd name="adj1" fmla="val 50000"/>
                <a:gd name="adj2" fmla="val 6299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978280" y="3862440"/>
            <a:ext cx="59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سرعت در پایین سطح بستگی به شعاع ندارد 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057320" y="1779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لغزش به غلتش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94200" y="1488960"/>
            <a:ext cx="3200400" cy="33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یک توپ بولینگ به جرم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وشعا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با سرعت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پرتاب می شو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در ابتدا غلتس وجو د ندار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بعداز لغزش در حضور اصطکاک جنبشی به اندازه فاصله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غلتش بدون لغزش شروع می شود و سرعت به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می رس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ضریب اصطکاک جنبشی بین توپ و سطح برابر با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fa-IR" sz="1800" spc="-1" strike="noStrike">
                <a:solidFill>
                  <a:srgbClr val="ffffff"/>
                </a:solidFill>
                <a:latin typeface="Symbol"/>
                <a:cs typeface="Symbol"/>
              </a:rPr>
              <a:t>است</a:t>
            </a:r>
            <a:r>
              <a:rPr b="1" lang="fa-IR" sz="18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نهایی تو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چقدر است 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987560" y="5006880"/>
            <a:ext cx="6104520" cy="1013040"/>
            <a:chOff x="1987560" y="5006880"/>
            <a:chExt cx="6104520" cy="1013040"/>
          </a:xfrm>
        </p:grpSpPr>
        <p:sp>
          <p:nvSpPr>
            <p:cNvPr id="445" name=""/>
            <p:cNvSpPr/>
            <p:nvPr/>
          </p:nvSpPr>
          <p:spPr>
            <a:xfrm>
              <a:off x="5873760" y="5264280"/>
              <a:ext cx="44460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0040" y="5264280"/>
              <a:ext cx="44460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7560" y="5715000"/>
              <a:ext cx="471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40240" y="5486400"/>
              <a:ext cx="5209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59160" y="5486400"/>
              <a:ext cx="3682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14720" y="5311800"/>
              <a:ext cx="1501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ffff"/>
                  </a:solidFill>
                  <a:latin typeface="Arial"/>
                </a:rPr>
                <a:t>f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93040" y="5189400"/>
              <a:ext cx="443520" cy="59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68280" y="5006880"/>
              <a:ext cx="92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08840" y="5715000"/>
              <a:ext cx="5079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9640" y="5540400"/>
              <a:ext cx="161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 = </a:t>
              </a:r>
              <a:r>
                <a:rPr b="0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56960" y="531180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68640" y="6019920"/>
              <a:ext cx="2121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576320" y="6073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22360" y="2162160"/>
            <a:ext cx="1901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81040" y="4165560"/>
            <a:ext cx="1814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ی شکل کلیک کنید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22360" y="1969920"/>
            <a:ext cx="1930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غزش و غلت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لغزش به غلتش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نگام لغزش نیروی اصطکاک سبب شتاب توپ در جه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= M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توپ برابر است ب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t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a)</a:t>
            </a:r>
            <a:r>
              <a:rPr b="0" lang="fa-IR" sz="1800" spc="-1" strike="noStrike">
                <a:solidFill>
                  <a:srgbClr val="00ffff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گشتاوری حول مرکزجرم وارد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با توجه به اینکه برای یک کره صل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R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3760" y="52642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40040" y="52642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87560" y="5715000"/>
            <a:ext cx="471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68640" y="6019920"/>
            <a:ext cx="21211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6320" y="6073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08840" y="5715000"/>
            <a:ext cx="5079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831600" y="5257800"/>
            <a:ext cx="9270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6640" y="5311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957240" y="3781440"/>
                <a:ext cx="22669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Mg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4" name=""/>
          <p:cNvGrpSpPr/>
          <p:nvPr/>
        </p:nvGrpSpPr>
        <p:grpSpPr>
          <a:xfrm>
            <a:off x="3371760" y="3772080"/>
            <a:ext cx="1673280" cy="601560"/>
            <a:chOff x="3371760" y="3772080"/>
            <a:chExt cx="1673280" cy="601560"/>
          </a:xfrm>
        </p:grpSpPr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4097160" y="3772080"/>
                  <a:ext cx="94788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μg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6" name=""/>
            <p:cNvSpPr/>
            <p:nvPr/>
          </p:nvSpPr>
          <p:spPr>
            <a:xfrm>
              <a:off x="3371760" y="3968640"/>
              <a:ext cx="292320" cy="216000"/>
            </a:xfrm>
            <a:prstGeom prst="rightArrow">
              <a:avLst>
                <a:gd name="adj1" fmla="val 50000"/>
                <a:gd name="adj2" fmla="val 67673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479640" y="554040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416560" y="3741840"/>
            <a:ext cx="3539880" cy="603000"/>
            <a:chOff x="5416560" y="3741840"/>
            <a:chExt cx="3539880" cy="603000"/>
          </a:xfrm>
        </p:grpSpPr>
        <p:grpSp>
          <p:nvGrpSpPr>
            <p:cNvPr id="479" name=""/>
            <p:cNvGrpSpPr/>
            <p:nvPr/>
          </p:nvGrpSpPr>
          <p:grpSpPr>
            <a:xfrm>
              <a:off x="5416560" y="3741840"/>
              <a:ext cx="2719440" cy="603000"/>
              <a:chOff x="5416560" y="3741840"/>
              <a:chExt cx="2719440" cy="603000"/>
            </a:xfrm>
          </p:grpSpPr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008760" y="3741840"/>
                    <a:ext cx="212724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μ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"/>
              <p:cNvSpPr/>
              <p:nvPr/>
            </p:nvSpPr>
            <p:spPr>
              <a:xfrm>
                <a:off x="5416560" y="3968640"/>
                <a:ext cx="291960" cy="216000"/>
              </a:xfrm>
              <a:prstGeom prst="rightArrow">
                <a:avLst>
                  <a:gd name="adj1" fmla="val 50000"/>
                  <a:gd name="adj2" fmla="val 67589"/>
                </a:avLst>
              </a:prstGeom>
              <a:solidFill>
                <a:srgbClr val="00ff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7891560" y="3817800"/>
              <a:ext cx="106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340240" y="5486400"/>
            <a:ext cx="52092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59160" y="5486400"/>
            <a:ext cx="36828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28960" y="5275440"/>
            <a:ext cx="1571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 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93040" y="5189400"/>
            <a:ext cx="443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68280" y="5006880"/>
            <a:ext cx="92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56960" y="53118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لغزش به غلتش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معادله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حس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بدست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آوریم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قرار دادن در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ستفاده ا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 شرط غلتسش بدون لغزش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3760" y="52642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40040" y="52642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7560" y="5715000"/>
            <a:ext cx="471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68640" y="6019920"/>
            <a:ext cx="21211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6320" y="6073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08840" y="5715000"/>
            <a:ext cx="5079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831600" y="5257800"/>
            <a:ext cx="9270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6640" y="5311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021200" y="1581120"/>
                <a:ext cx="1062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μ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541520" y="1665360"/>
                <a:ext cx="20206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3098880" y="1619280"/>
            <a:ext cx="490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54640" y="1760400"/>
            <a:ext cx="490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12160" y="2387520"/>
                <a:ext cx="160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Rw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m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97560" y="391176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508640" y="3822840"/>
            <a:ext cx="1193760" cy="81252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79640" y="554040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440" y="3871800"/>
            <a:ext cx="2282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گی ب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دار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40240" y="5486400"/>
            <a:ext cx="52092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359160" y="5486400"/>
            <a:ext cx="36828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14720" y="5311800"/>
            <a:ext cx="1501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93040" y="5189400"/>
            <a:ext cx="443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68280" y="5006880"/>
            <a:ext cx="92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656960" y="53118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دوران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توپ بولینگ روی کف اتاق بدون لغزش می غلتد( کره صلب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07360" indent="-75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انرژی جنبشی دورانی به انرژی جنبشی انتقالی توپ چقدر است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4267080"/>
            <a:ext cx="76176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849920" y="5487840"/>
                <a:ext cx="10843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1233360" y="5562720"/>
            <a:ext cx="609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کره صلب حول مرکز جرمش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62320" y="502920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4572000"/>
            <a:ext cx="8380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3200400"/>
            <a:ext cx="5105160" cy="754920"/>
            <a:chOff x="2133720" y="3200400"/>
            <a:chExt cx="5105160" cy="754920"/>
          </a:xfrm>
        </p:grpSpPr>
        <p:sp>
          <p:nvSpPr>
            <p:cNvPr id="524" name=""/>
            <p:cNvSpPr/>
            <p:nvPr/>
          </p:nvSpPr>
          <p:spPr>
            <a:xfrm>
              <a:off x="2133720" y="3276720"/>
              <a:ext cx="51051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1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5" name=""/>
                <p:cNvSpPr txBox="1"/>
                <p:nvPr/>
              </p:nvSpPr>
              <p:spPr>
                <a:xfrm>
                  <a:off x="4572000" y="3200400"/>
                  <a:ext cx="2984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6" name=""/>
                <p:cNvSpPr txBox="1"/>
                <p:nvPr/>
              </p:nvSpPr>
              <p:spPr>
                <a:xfrm>
                  <a:off x="2666880" y="3200400"/>
                  <a:ext cx="31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6553080" y="3200400"/>
                  <a:ext cx="2984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5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17080" indent="-21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قسمتی مربوط به دوران و قسمتی مربوط به انتقال مرکز جرم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01960" y="274968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9040" y="3405240"/>
            <a:ext cx="1374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دور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29360" y="3405240"/>
            <a:ext cx="13633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نتقا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126960" y="2616120"/>
            <a:ext cx="2630880" cy="576360"/>
            <a:chOff x="3126960" y="2616120"/>
            <a:chExt cx="2630880" cy="5763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4060800" y="2616120"/>
                  <a:ext cx="66852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I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4851360" y="2616120"/>
                  <a:ext cx="90648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3126960" y="2719440"/>
              <a:ext cx="1145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 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529440" y="1778040"/>
            <a:ext cx="4785840" cy="585720"/>
            <a:chOff x="3529440" y="1778040"/>
            <a:chExt cx="4785840" cy="585720"/>
          </a:xfrm>
        </p:grpSpPr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7645320" y="1778040"/>
                  <a:ext cx="66996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"/>
            <p:cNvSpPr/>
            <p:nvPr/>
          </p:nvSpPr>
          <p:spPr>
            <a:xfrm>
              <a:off x="3529440" y="1881360"/>
              <a:ext cx="397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چون غلتش بدون لغزش است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825840" y="2567160"/>
            <a:ext cx="1374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دور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486160" y="2567160"/>
            <a:ext cx="13633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نتقا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83760" y="1778040"/>
            <a:ext cx="2630880" cy="576360"/>
            <a:chOff x="383760" y="1778040"/>
            <a:chExt cx="2630880" cy="576360"/>
          </a:xfrm>
        </p:grpSpPr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1317600" y="1778040"/>
                  <a:ext cx="66852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I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2108160" y="1778040"/>
                  <a:ext cx="90648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"/>
            <p:cNvSpPr/>
            <p:nvPr/>
          </p:nvSpPr>
          <p:spPr>
            <a:xfrm>
              <a:off x="383760" y="1881360"/>
              <a:ext cx="1145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 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193840" y="3792600"/>
            <a:ext cx="2300400" cy="1101600"/>
            <a:chOff x="2193840" y="3792600"/>
            <a:chExt cx="2300400" cy="1101600"/>
          </a:xfrm>
        </p:grpSpPr>
        <p:sp>
          <p:nvSpPr>
            <p:cNvPr id="548" name=""/>
            <p:cNvSpPr/>
            <p:nvPr/>
          </p:nvSpPr>
          <p:spPr>
            <a:xfrm>
              <a:off x="2193840" y="418464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2735280" y="3792600"/>
                  <a:ext cx="1758960" cy="11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O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RANS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I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495680" y="3270240"/>
                <a:ext cx="1508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572000" y="3726000"/>
                <a:ext cx="1994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2" name=""/>
          <p:cNvGrpSpPr/>
          <p:nvPr/>
        </p:nvGrpSpPr>
        <p:grpSpPr>
          <a:xfrm>
            <a:off x="3720960" y="3822840"/>
            <a:ext cx="292320" cy="1079280"/>
            <a:chOff x="3720960" y="3822840"/>
            <a:chExt cx="292320" cy="1079280"/>
          </a:xfrm>
        </p:grpSpPr>
        <p:sp>
          <p:nvSpPr>
            <p:cNvPr id="553" name=""/>
            <p:cNvSpPr/>
            <p:nvPr/>
          </p:nvSpPr>
          <p:spPr>
            <a:xfrm>
              <a:off x="3772080" y="3822840"/>
              <a:ext cx="241200" cy="482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20960" y="4419720"/>
              <a:ext cx="241560" cy="482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69080" y="2478240"/>
            <a:ext cx="1301760" cy="13017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62600" y="3116160"/>
            <a:ext cx="0" cy="1587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3173400"/>
            <a:ext cx="0" cy="1587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اشین آتوود با قرقره دارا ی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جرم از قرقره ای به شکل دیسک آویزان هست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این جرم ها را پیدا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83640" y="4640400"/>
            <a:ext cx="444240" cy="44424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610040" y="4687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3880" y="4645080"/>
            <a:ext cx="59688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76600" y="4768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446960" y="3129120"/>
            <a:ext cx="6033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67240" y="32083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90600" y="271764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924680" y="182196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19160" y="173196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31160" y="236232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52680" y="241776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378560" y="3086280"/>
            <a:ext cx="76320" cy="759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524800" y="4554360"/>
            <a:ext cx="0" cy="6732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234200" y="4635360"/>
            <a:ext cx="0" cy="673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767640" y="5199120"/>
            <a:ext cx="0" cy="6602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101080" y="5118120"/>
            <a:ext cx="4680" cy="5270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516800" y="564984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086320" y="41688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95840" y="4025880"/>
            <a:ext cx="106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169680" y="583092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81320" y="53211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376760" y="4006800"/>
            <a:ext cx="106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76320" y="2873520"/>
            <a:ext cx="388476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جرم های آویزان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+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+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597720" y="2292480"/>
            <a:ext cx="1583640" cy="13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11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111"/>
              </a:path>
            </a:pathLst>
          </a:custGeom>
          <a:noFill/>
          <a:ln cap="rnd"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6520" y="295596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3195720" y="4606920"/>
                <a:ext cx="2004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R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4229280" y="4030560"/>
                <a:ext cx="12459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14560" y="5646600"/>
                <a:ext cx="17985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1522800" y="5773680"/>
            <a:ext cx="2374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76320" y="4110120"/>
            <a:ext cx="4251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قرقر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 -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اشین آتوود با قرقره دارا ی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80060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1000"/>
          </a:bodyPr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ه معادله و سه مجهول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دست می آوریم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1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+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1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+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1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757520" y="4886280"/>
                <a:ext cx="295560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629080" y="3814920"/>
                <a:ext cx="1431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1555920" y="4741920"/>
            <a:ext cx="2946240" cy="108900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69080" y="2478240"/>
            <a:ext cx="1301760" cy="13017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62600" y="3116160"/>
            <a:ext cx="0" cy="1587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077320" y="3173400"/>
            <a:ext cx="0" cy="1587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883640" y="4640400"/>
            <a:ext cx="444240" cy="44424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610040" y="4687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3880" y="4645080"/>
            <a:ext cx="59688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276600" y="4768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446960" y="3129120"/>
            <a:ext cx="6033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167240" y="32083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90600" y="271764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924680" y="182196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19160" y="173196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931160" y="236232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52680" y="241776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378560" y="3086280"/>
            <a:ext cx="76320" cy="759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524800" y="4554360"/>
            <a:ext cx="0" cy="6732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234200" y="4635360"/>
            <a:ext cx="0" cy="673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97720" y="2292480"/>
            <a:ext cx="1583640" cy="13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11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111"/>
              </a:path>
            </a:pathLst>
          </a:custGeom>
          <a:noFill/>
          <a:ln cap="rnd"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86520" y="295596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83640" y="4640400"/>
            <a:ext cx="444240" cy="44424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10040" y="4687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473880" y="4645080"/>
            <a:ext cx="59688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276600" y="4768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524800" y="4554360"/>
            <a:ext cx="0" cy="6732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34200" y="4635360"/>
            <a:ext cx="0" cy="673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767640" y="5199120"/>
            <a:ext cx="0" cy="6602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101080" y="5118120"/>
            <a:ext cx="4680" cy="5270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516800" y="564984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086320" y="41688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95840" y="4025880"/>
            <a:ext cx="106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169680" y="583092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81320" y="53211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376760" y="4006800"/>
            <a:ext cx="106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درس امروز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و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نامیک چند جسم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زنه و قرقره جرم د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هایی در باره غلتش و لغز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ن حول یک محور متحر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غلتش روی سطح شیبدار به پایی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بولینگ: لغزش به غلت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شین آتوود با قرقره سنگی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تاب درسی و مسائل آنرا مرور کنید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0000"/>
          </a:bodyPr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و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نامیک چند جسم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زنه و قرقره جرم د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هایی در باره غلتش و لغز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ن حول یک محور متحر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غلتش روی سطح شیبدار به پایی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بولینگ: لغزش به غلت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شین آتوود با قرقره سنگی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 جهت دوران : 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قاعده دست راست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3337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0000"/>
          </a:bodyPr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تعیین جهت برداردور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گشتان دست راست خود را در جهت دوران خم کنید دراین صورت انگشت شست شما جهت بردار دوران را نشان می ده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موما مح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را محور دوران انتخاب می کنی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-226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-226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-226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نظر سادگی اندیس را حذف می کنیم مگر اینکه نیازی به این کار وجود داشته باش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80800" y="1484280"/>
            <a:ext cx="2271960" cy="1956960"/>
            <a:chOff x="6580800" y="1484280"/>
            <a:chExt cx="2271960" cy="1956960"/>
          </a:xfrm>
        </p:grpSpPr>
        <p:sp>
          <p:nvSpPr>
            <p:cNvPr id="57" name=""/>
            <p:cNvSpPr/>
            <p:nvPr/>
          </p:nvSpPr>
          <p:spPr>
            <a:xfrm>
              <a:off x="7440480" y="2724120"/>
              <a:ext cx="82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434360" y="1803240"/>
              <a:ext cx="0" cy="92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174440" y="2463840"/>
              <a:ext cx="559440" cy="559800"/>
              <a:chOff x="7174440" y="2463840"/>
              <a:chExt cx="559440" cy="559800"/>
            </a:xfrm>
          </p:grpSpPr>
          <p:sp>
            <p:nvSpPr>
              <p:cNvPr id="60" name=""/>
              <p:cNvSpPr/>
              <p:nvPr/>
            </p:nvSpPr>
            <p:spPr>
              <a:xfrm>
                <a:off x="7175520" y="2463840"/>
                <a:ext cx="55836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75520" y="2465280"/>
                <a:ext cx="55836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04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0467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74440" y="2465280"/>
                <a:ext cx="55800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flipH="1">
              <a:off x="6894000" y="2730600"/>
              <a:ext cx="546120" cy="444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1480" y="2550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81120" y="14842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80800" y="3078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116480" y="2736720"/>
              <a:ext cx="330120" cy="235080"/>
            </a:xfrm>
            <a:prstGeom prst="line">
              <a:avLst/>
            </a:prstGeom>
            <a:ln w="25560">
              <a:solidFill>
                <a:srgbClr val="b56c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652440" y="3316320"/>
            <a:ext cx="2271960" cy="1956960"/>
            <a:chOff x="6652440" y="3316320"/>
            <a:chExt cx="2271960" cy="1956960"/>
          </a:xfrm>
        </p:grpSpPr>
        <p:sp>
          <p:nvSpPr>
            <p:cNvPr id="69" name=""/>
            <p:cNvSpPr/>
            <p:nvPr/>
          </p:nvSpPr>
          <p:spPr>
            <a:xfrm flipV="1">
              <a:off x="7518240" y="4254480"/>
              <a:ext cx="317520" cy="316080"/>
            </a:xfrm>
            <a:prstGeom prst="line">
              <a:avLst/>
            </a:prstGeom>
            <a:ln w="25560">
              <a:solidFill>
                <a:srgbClr val="b56c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12120" y="4557600"/>
              <a:ext cx="82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505640" y="3636720"/>
              <a:ext cx="0" cy="927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245360" y="4297320"/>
              <a:ext cx="559800" cy="560160"/>
              <a:chOff x="7245360" y="4297320"/>
              <a:chExt cx="559800" cy="560160"/>
            </a:xfrm>
          </p:grpSpPr>
          <p:sp>
            <p:nvSpPr>
              <p:cNvPr id="73" name=""/>
              <p:cNvSpPr/>
              <p:nvPr/>
            </p:nvSpPr>
            <p:spPr>
              <a:xfrm>
                <a:off x="7245360" y="4297320"/>
                <a:ext cx="55836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45720" y="4299120"/>
                <a:ext cx="55800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246800" y="4299120"/>
                <a:ext cx="55836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04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0467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6965640" y="4564080"/>
              <a:ext cx="54612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43120" y="4383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52400" y="33163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52440" y="4910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 دینامیک دورانی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عامل دوران چیست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000160"/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8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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000160"/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1868400"/>
            <a:ext cx="1479600" cy="58428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2698920"/>
            <a:ext cx="715644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مشابه رابطه مربوط به دینامیک خطی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F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99cc"/>
                </a:solidFill>
                <a:latin typeface="Arial"/>
                <a:cs typeface="Arial"/>
              </a:rPr>
              <a:t>گشتاور مشابه دورانی نیرو است </a:t>
            </a:r>
            <a:r>
              <a:rPr b="1" lang="en-US" sz="2000" spc="-1" strike="noStrike">
                <a:solidFill>
                  <a:srgbClr val="ff99cc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یاری برای میزان ”چرخش ” جسم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99cc"/>
                </a:solidFill>
                <a:latin typeface="Arial"/>
                <a:cs typeface="Arial"/>
              </a:rPr>
              <a:t>گشتاور لختی </a:t>
            </a:r>
            <a:r>
              <a:rPr b="1" i="1" lang="en-US" sz="2000" spc="-1" strike="noStrike">
                <a:solidFill>
                  <a:srgbClr val="b56c01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I</a:t>
            </a:r>
            <a:r>
              <a:rPr b="1" i="1" lang="en-US" sz="2000" spc="-1" strike="noStrike">
                <a:solidFill>
                  <a:srgbClr val="b56c01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99cc"/>
                </a:solidFill>
                <a:latin typeface="Arial"/>
                <a:cs typeface="Arial"/>
              </a:rPr>
              <a:t>مشابه چرخشی جرم است</a:t>
            </a:r>
            <a:r>
              <a:rPr b="1" lang="en-US" sz="2000" spc="-1" strike="noStrike">
                <a:solidFill>
                  <a:srgbClr val="ff99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 باشد برای رسیدن به یک شتاب زاویه ای معین به گشتاوربزرگی نیاز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دارای یک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kg m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(kg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) m = Nm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دوران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1000"/>
          </a:bodyPr>
          <a:p>
            <a:pPr marL="88560" indent="-8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چرخ آزادانه حول محوری که از مراکزشان می گذرد می چرخ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دو چرخ جرم مساوی دارند ولی شعاع یکی دوبرابر دیگری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560" indent="-8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بق شکل به آنها وارد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شتاب زاویه ای دوچرخ یکسان باشد نسب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با کدام گزینه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57400" y="3890880"/>
            <a:ext cx="1243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لف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-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17520" y="4192560"/>
            <a:ext cx="4170600" cy="1636920"/>
            <a:chOff x="3017520" y="4192560"/>
            <a:chExt cx="4170600" cy="1636920"/>
          </a:xfrm>
        </p:grpSpPr>
        <p:grpSp>
          <p:nvGrpSpPr>
            <p:cNvPr id="90" name=""/>
            <p:cNvGrpSpPr/>
            <p:nvPr/>
          </p:nvGrpSpPr>
          <p:grpSpPr>
            <a:xfrm>
              <a:off x="3017520" y="4192560"/>
              <a:ext cx="4170600" cy="1636920"/>
              <a:chOff x="3017520" y="4192560"/>
              <a:chExt cx="4170600" cy="1636920"/>
            </a:xfrm>
          </p:grpSpPr>
          <p:sp>
            <p:nvSpPr>
              <p:cNvPr id="91" name=""/>
              <p:cNvSpPr/>
              <p:nvPr/>
            </p:nvSpPr>
            <p:spPr>
              <a:xfrm>
                <a:off x="4356000" y="4762440"/>
                <a:ext cx="711360" cy="711360"/>
              </a:xfrm>
              <a:prstGeom prst="ellipse">
                <a:avLst/>
              </a:prstGeom>
              <a:noFill/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4349880" y="5117760"/>
                <a:ext cx="742680" cy="3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08440" y="4765680"/>
                <a:ext cx="3240" cy="733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64000" y="4879800"/>
                <a:ext cx="495360" cy="4924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4457880" y="4867200"/>
                <a:ext cx="498240" cy="501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40560" y="4381560"/>
                <a:ext cx="1422360" cy="1422360"/>
              </a:xfrm>
              <a:prstGeom prst="ellipse">
                <a:avLst/>
              </a:prstGeom>
              <a:noFill/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5751360" y="5092560"/>
                <a:ext cx="1436760" cy="64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45080" y="4411800"/>
                <a:ext cx="6480" cy="1417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972040" y="4632480"/>
                <a:ext cx="959040" cy="950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961240" y="4608360"/>
                <a:ext cx="963360" cy="9684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3796920" y="4762440"/>
                <a:ext cx="92700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499000" y="4381560"/>
                <a:ext cx="927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7520" y="4573440"/>
                <a:ext cx="99468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57400" y="4192560"/>
                <a:ext cx="99468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80000" y="5086440"/>
                <a:ext cx="63360" cy="633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407280" y="5048280"/>
                <a:ext cx="88920" cy="8892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046920" y="4610520"/>
              <a:ext cx="71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59320" y="4749840"/>
              <a:ext cx="71100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0960" y="1922400"/>
            <a:ext cx="174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30760" y="2298600"/>
                <a:ext cx="9158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74760" y="2238480"/>
            <a:ext cx="116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9000" y="2281320"/>
            <a:ext cx="88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49600" y="2270160"/>
                <a:ext cx="83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05040" y="1963800"/>
                <a:ext cx="7002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I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237360" y="3033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68600" y="2882880"/>
                <a:ext cx="1266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8" name=""/>
          <p:cNvGrpSpPr/>
          <p:nvPr/>
        </p:nvGrpSpPr>
        <p:grpSpPr>
          <a:xfrm>
            <a:off x="3162240" y="2994120"/>
            <a:ext cx="2436840" cy="615960"/>
            <a:chOff x="3162240" y="2994120"/>
            <a:chExt cx="2436840" cy="61596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830760" y="2994120"/>
                  <a:ext cx="17683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α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α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3162240" y="3162240"/>
              <a:ext cx="355680" cy="254160"/>
            </a:xfrm>
            <a:prstGeom prst="rightArrow">
              <a:avLst>
                <a:gd name="adj1" fmla="val 50000"/>
                <a:gd name="adj2" fmla="val 34986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259080" y="4599000"/>
            <a:ext cx="4170600" cy="1636200"/>
            <a:chOff x="3259080" y="4599000"/>
            <a:chExt cx="4170600" cy="1636200"/>
          </a:xfrm>
        </p:grpSpPr>
        <p:grpSp>
          <p:nvGrpSpPr>
            <p:cNvPr id="122" name=""/>
            <p:cNvGrpSpPr/>
            <p:nvPr/>
          </p:nvGrpSpPr>
          <p:grpSpPr>
            <a:xfrm>
              <a:off x="3259080" y="4599000"/>
              <a:ext cx="4170600" cy="1636200"/>
              <a:chOff x="3259080" y="4599000"/>
              <a:chExt cx="4170600" cy="1636200"/>
            </a:xfrm>
          </p:grpSpPr>
          <p:sp>
            <p:nvSpPr>
              <p:cNvPr id="123" name=""/>
              <p:cNvSpPr/>
              <p:nvPr/>
            </p:nvSpPr>
            <p:spPr>
              <a:xfrm>
                <a:off x="4597560" y="5168520"/>
                <a:ext cx="711360" cy="711000"/>
              </a:xfrm>
              <a:prstGeom prst="ellipse">
                <a:avLst/>
              </a:prstGeom>
              <a:noFill/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591440" y="5524200"/>
                <a:ext cx="742680" cy="2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50000" y="5171760"/>
                <a:ext cx="3240" cy="7329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5560" y="5285880"/>
                <a:ext cx="495360" cy="492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699440" y="5272920"/>
                <a:ext cx="498240" cy="5014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82120" y="4787640"/>
                <a:ext cx="1422360" cy="1422000"/>
              </a:xfrm>
              <a:prstGeom prst="ellipse">
                <a:avLst/>
              </a:prstGeom>
              <a:noFill/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992920" y="5498280"/>
                <a:ext cx="1436760" cy="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6640" y="4817880"/>
                <a:ext cx="6480" cy="1417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13600" y="5038560"/>
                <a:ext cx="959040" cy="9504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6202800" y="5014080"/>
                <a:ext cx="963360" cy="968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038480" y="5168520"/>
                <a:ext cx="92700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740560" y="4787640"/>
                <a:ext cx="927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59080" y="4979520"/>
                <a:ext cx="99468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98960" y="4599000"/>
                <a:ext cx="99468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21560" y="5492520"/>
                <a:ext cx="63360" cy="6300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48840" y="5454360"/>
                <a:ext cx="88920" cy="885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288480" y="5016960"/>
              <a:ext cx="710280" cy="8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00880" y="5156280"/>
              <a:ext cx="711000" cy="63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50480" y="3873600"/>
            <a:ext cx="3762720" cy="825480"/>
            <a:chOff x="1050480" y="3873600"/>
            <a:chExt cx="3762720" cy="825480"/>
          </a:xfrm>
        </p:grpSpPr>
        <p:sp>
          <p:nvSpPr>
            <p:cNvPr id="142" name=""/>
            <p:cNvSpPr/>
            <p:nvPr/>
          </p:nvSpPr>
          <p:spPr>
            <a:xfrm>
              <a:off x="1050480" y="4116240"/>
              <a:ext cx="13021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2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9640" y="4152960"/>
              <a:ext cx="355680" cy="253800"/>
            </a:xfrm>
            <a:prstGeom prst="rightArrow">
              <a:avLst>
                <a:gd name="adj1" fmla="val 50000"/>
                <a:gd name="adj2" fmla="val 3503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794040" y="3984480"/>
                  <a:ext cx="6969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3556080" y="3873600"/>
              <a:ext cx="1257120" cy="825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: کار وا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7240" y="173844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نجام شده به وسیله گشتاو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جابه جایی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ان ایجاد شده به وسیله گشتاور ثابت وارده 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28880" y="2643120"/>
                <a:ext cx="14781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314880" y="4514760"/>
                <a:ext cx="2638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398760" y="2455920"/>
            <a:ext cx="1474920" cy="64620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9720" y="4379760"/>
            <a:ext cx="2679840" cy="102240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20Z</dcterms:created>
  <dc:creator>Mats A. Selen</dc:creator>
  <dc:description/>
  <cp:keywords/>
  <dc:language>en-US</dc:language>
  <cp:lastModifiedBy>janubi</cp:lastModifiedBy>
  <dcterms:modified xsi:type="dcterms:W3CDTF">2006-04-15T02:20:23Z</dcterms:modified>
  <cp:revision>53</cp:revision>
  <dc:subject>Rotational Dynamics</dc:subject>
  <dc:title>Physics 106P: Lecture 23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