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597640" y="6516720"/>
            <a:ext cx="2944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- فیزیک پایه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98320" y="601560"/>
            <a:ext cx="479520" cy="66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143000" y="4191120"/>
              <a:ext cx="3200400" cy="209700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45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83040" y="825480"/>
            <a:ext cx="57369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سرعت زاویه ای متوس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830240" y="1657440"/>
          <a:ext cx="244332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0240" y="1657440"/>
                    <a:ext cx="244332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683160" y="2473200"/>
            <a:ext cx="43354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سرعت زاویه ای لحظه ا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22400" y="2894040"/>
          <a:ext cx="2179800" cy="7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2400" y="2894040"/>
                    <a:ext cx="217980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032360" y="3767040"/>
            <a:ext cx="43354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شتاب زاویه ای متوسط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00160" y="4002120"/>
          <a:ext cx="94608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00160" y="4002120"/>
                    <a:ext cx="9460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041720" y="5000760"/>
            <a:ext cx="43354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شتاب زاویه ای لحظه ا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011320" y="5345280"/>
          <a:ext cx="2300400" cy="75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1320" y="5345280"/>
                    <a:ext cx="2300400" cy="75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تغییرهای دوران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6120" y="1436400"/>
            <a:ext cx="7078680" cy="45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فرض کنید که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حسب تابعی اززمان تغییرک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زاویه ای را چنین تعریف می کنیم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808440" y="2209680"/>
                <a:ext cx="16416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9" name=""/>
          <p:cNvGrpSpPr/>
          <p:nvPr/>
        </p:nvGrpSpPr>
        <p:grpSpPr>
          <a:xfrm>
            <a:off x="758880" y="1474920"/>
            <a:ext cx="2042640" cy="2074320"/>
            <a:chOff x="758880" y="1474920"/>
            <a:chExt cx="2042640" cy="2074320"/>
          </a:xfrm>
        </p:grpSpPr>
        <p:sp>
          <p:nvSpPr>
            <p:cNvPr id="110" name=""/>
            <p:cNvSpPr/>
            <p:nvPr/>
          </p:nvSpPr>
          <p:spPr>
            <a:xfrm>
              <a:off x="985680" y="1614600"/>
              <a:ext cx="1510920" cy="15112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22240" y="2351160"/>
              <a:ext cx="37800" cy="3816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69120" y="198756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747800" y="1834920"/>
              <a:ext cx="510840" cy="541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47800" y="2370240"/>
              <a:ext cx="1053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16680" y="2444760"/>
              <a:ext cx="99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500000">
              <a:off x="1739160" y="2037960"/>
              <a:ext cx="44388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55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5533"/>
                </a:path>
              </a:pathLst>
            </a:custGeom>
            <a:noFill/>
            <a:ln cap="rnd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8880" y="1474920"/>
              <a:ext cx="1878840" cy="187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58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5812"/>
                </a:path>
              </a:pathLst>
            </a:custGeom>
            <a:noFill/>
            <a:ln cap="rnd" w="12600">
              <a:solidFill>
                <a:srgbClr val="f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720" y="3186000"/>
              <a:ext cx="91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526040" y="2130120"/>
              <a:ext cx="444240" cy="446400"/>
              <a:chOff x="1526040" y="2130120"/>
              <a:chExt cx="444240" cy="446400"/>
            </a:xfrm>
          </p:grpSpPr>
          <p:sp>
            <p:nvSpPr>
              <p:cNvPr id="120" name=""/>
              <p:cNvSpPr/>
              <p:nvPr/>
            </p:nvSpPr>
            <p:spPr>
              <a:xfrm>
                <a:off x="1527120" y="2130120"/>
                <a:ext cx="443160" cy="44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3816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27120" y="2131920"/>
                <a:ext cx="443160" cy="44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54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5445"/>
                  </a:path>
                </a:pathLst>
              </a:custGeom>
              <a:noFill/>
              <a:ln cap="rnd"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6040" y="2131920"/>
                <a:ext cx="442800" cy="44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5994360" y="128520"/>
            <a:ext cx="20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46760" y="3102120"/>
            <a:ext cx="97488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التی را در نظر بگیری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br>
              <a:rPr sz="2000"/>
            </a:b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یافتن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حسب تابعی از زمان از این رابطه انتگرال می گیری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422440" y="4727520"/>
          <a:ext cx="325116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4727520"/>
                    <a:ext cx="325116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438280" y="1509840"/>
          <a:ext cx="2359080" cy="17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09840"/>
                    <a:ext cx="235908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602240" y="3198960"/>
            <a:ext cx="34653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ین دورابطه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lang="fa-I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را  حذف می کین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565360" y="3962520"/>
          <a:ext cx="247320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5360" y="3962520"/>
                    <a:ext cx="24732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2523960" y="4651200"/>
            <a:ext cx="2955960" cy="1720800"/>
            <a:chOff x="2523960" y="4651200"/>
            <a:chExt cx="2955960" cy="1720800"/>
          </a:xfrm>
        </p:grpSpPr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851200" y="4800240"/>
                  <a:ext cx="141588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</m:e>
                        <m:e>
                          <m:r>
                            <m:t xml:space="preserve">ω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αt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"/>
            <p:cNvSpPr/>
            <p:nvPr/>
          </p:nvSpPr>
          <p:spPr>
            <a:xfrm>
              <a:off x="2523960" y="4651200"/>
              <a:ext cx="2955960" cy="1663560"/>
            </a:xfrm>
            <a:prstGeom prst="roundRect">
              <a:avLst>
                <a:gd name="adj" fmla="val 12495"/>
              </a:avLst>
            </a:prstGeom>
            <a:noFill/>
            <a:ln w="5724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98440" y="4777920"/>
              <a:ext cx="13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ثاب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2857320" y="5595480"/>
                  <a:ext cx="213696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θ</m:t>
                      </m:r>
                      <m:sSub>
                        <m:e>
                          <m:r>
                            <m:t xml:space="preserve"> 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ω</m:t>
                      </m:r>
                      <m:sSub>
                        <m:e>
                          <m:r>
                            <m:t xml:space="preserve"> 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α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تغییرهای دوران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3429000"/>
            <a:ext cx="47257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4000"/>
          </a:bodyPr>
          <a:p>
            <a:pPr marL="39960" indent="-39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خاطر بیاورید که در فاصل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محور دوران داریم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40" indent="-316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              </a:t>
            </a:r>
            <a:r>
              <a:rPr b="0" i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40" indent="-316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v =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 با مشتق گرفتن از رابطه اخیر نسبت به زمان خواهیم د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40" indent="-31680" algn="r" rtl="1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a =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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02360" y="2292480"/>
            <a:ext cx="1511280" cy="15112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38920" y="3029040"/>
            <a:ext cx="38160" cy="38160"/>
          </a:xfrm>
          <a:prstGeom prst="ellipse">
            <a:avLst/>
          </a:prstGeom>
          <a:solidFill>
            <a:srgbClr val="00004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858000" y="2287440"/>
            <a:ext cx="0" cy="7732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64480" y="3048120"/>
            <a:ext cx="1054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94400" y="2989440"/>
            <a:ext cx="99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75200" y="2152800"/>
            <a:ext cx="1879560" cy="187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581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5812"/>
              </a:path>
            </a:pathLst>
          </a:custGeom>
          <a:noFill/>
          <a:ln cap="rnd" w="12600">
            <a:solidFill>
              <a:srgbClr val="f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30040" y="3863880"/>
            <a:ext cx="91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95600" y="246060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080" y="2301840"/>
            <a:ext cx="1498680" cy="149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26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2678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463800" y="2133720"/>
            <a:ext cx="5590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81080" y="165564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0200" y="2265480"/>
            <a:ext cx="95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1160" y="2662200"/>
            <a:ext cx="742680" cy="74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534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5341"/>
              </a:path>
            </a:pathLst>
          </a:custGeom>
          <a:noFill/>
          <a:ln cap="rnd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642720" y="2808000"/>
            <a:ext cx="444960" cy="446400"/>
            <a:chOff x="6642720" y="2808000"/>
            <a:chExt cx="444960" cy="446400"/>
          </a:xfrm>
        </p:grpSpPr>
        <p:sp>
          <p:nvSpPr>
            <p:cNvPr id="155" name=""/>
            <p:cNvSpPr/>
            <p:nvPr/>
          </p:nvSpPr>
          <p:spPr>
            <a:xfrm>
              <a:off x="6643800" y="2808000"/>
              <a:ext cx="4438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43800" y="2809800"/>
              <a:ext cx="4438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5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5445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42720" y="2809800"/>
              <a:ext cx="4435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781320" y="2496960"/>
            <a:ext cx="88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354400" y="1743120"/>
                <a:ext cx="234288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t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α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2103480" y="1528920"/>
            <a:ext cx="2793960" cy="172692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11000" y="162576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خلاصه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(مقایسه با سینماتیک یک بعدی 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18680" y="171468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زاویه ای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خط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589040" y="2384280"/>
                <a:ext cx="1446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88960" y="3024360"/>
                <a:ext cx="168912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625760" y="3562200"/>
                <a:ext cx="20793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α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27600" y="2282760"/>
                <a:ext cx="14302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715000" y="3033720"/>
                <a:ext cx="20653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694480" y="3576600"/>
                <a:ext cx="29034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991960" y="4473720"/>
            <a:ext cx="538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برای یک نقطه در فاصل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محور دورا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81760" y="5006880"/>
            <a:ext cx="6199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 = R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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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8240" y="1682640"/>
            <a:ext cx="7683480" cy="2578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682640"/>
            <a:ext cx="0" cy="25783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8240" y="2133720"/>
            <a:ext cx="768348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8240" y="2819520"/>
            <a:ext cx="768348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8240" y="3505320"/>
            <a:ext cx="768348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8240" y="4273560"/>
            <a:ext cx="7683480" cy="1434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چرخ و طناب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53828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91440" indent="-91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رخی به شعا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R = 0.4 m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ول محورش می چرخ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نابی به دور چرخ پیچیده شده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رخش از حالت سکون شروع 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ناب را باشتاب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 = 4 m/s</a:t>
            </a:r>
            <a:r>
              <a:rPr b="0" i="1" lang="en-US" sz="20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i="1" lang="fa-IR" sz="2000" spc="-1" strike="noStrike" baseline="30000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کشیم</a:t>
            </a:r>
            <a:r>
              <a:rPr b="0" i="1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از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ثانیه چرخ چند دور می زند؟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یک دور   =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رادیان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220480" y="3384720"/>
            <a:ext cx="4941360" cy="2747160"/>
            <a:chOff x="2220480" y="3384720"/>
            <a:chExt cx="4941360" cy="2747160"/>
          </a:xfrm>
        </p:grpSpPr>
        <p:sp>
          <p:nvSpPr>
            <p:cNvPr id="183" name=""/>
            <p:cNvSpPr/>
            <p:nvPr/>
          </p:nvSpPr>
          <p:spPr>
            <a:xfrm>
              <a:off x="4039200" y="3592440"/>
              <a:ext cx="122832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27120" y="338472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2160" y="4831200"/>
              <a:ext cx="741240" cy="0"/>
            </a:xfrm>
            <a:prstGeom prst="line">
              <a:avLst/>
            </a:prstGeom>
            <a:ln w="1260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754680" y="4357440"/>
              <a:ext cx="0" cy="481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754680" y="5743800"/>
              <a:ext cx="0" cy="388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24400" y="506808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31880" y="3895200"/>
              <a:ext cx="1919520" cy="1844280"/>
            </a:xfrm>
            <a:prstGeom prst="ellipse">
              <a:avLst/>
            </a:pr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78680" y="3943800"/>
              <a:ext cx="1810080" cy="1739520"/>
            </a:xfrm>
            <a:prstGeom prst="ellipse">
              <a:avLst/>
            </a:prstGeom>
            <a:noFill/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93080" y="4813920"/>
              <a:ext cx="1828080" cy="7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75800" y="3980880"/>
              <a:ext cx="7560" cy="17337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73880" y="4250880"/>
              <a:ext cx="1220040" cy="1162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659480" y="4221720"/>
              <a:ext cx="1225800" cy="1184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27200" y="4759200"/>
              <a:ext cx="113040" cy="1087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68560" y="4223880"/>
              <a:ext cx="904680" cy="108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48160" y="5730120"/>
              <a:ext cx="1654920" cy="0"/>
            </a:xfrm>
            <a:prstGeom prst="line">
              <a:avLst/>
            </a:prstGeom>
            <a:ln w="1260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220480" y="3926160"/>
              <a:ext cx="30711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چرخ و طناب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39600" y="1571760"/>
            <a:ext cx="7273800" cy="10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رابط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یافت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</a:t>
            </a:r>
            <a:r>
              <a:rPr b="0" lang="fa-IR" sz="2000" spc="-1" strike="noStrike">
                <a:solidFill>
                  <a:srgbClr val="ffffff"/>
                </a:solidFill>
                <a:latin typeface="Symbol"/>
                <a:cs typeface="Symbol"/>
              </a:rPr>
              <a:t>استفاده</a:t>
            </a:r>
            <a:r>
              <a:rPr b="0" lang="fa-IR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fa-IR" sz="2000" spc="-1" strike="noStrike">
                <a:solidFill>
                  <a:srgbClr val="ffffff"/>
                </a:solidFill>
                <a:latin typeface="Symbol"/>
                <a:cs typeface="Symbol"/>
              </a:rPr>
              <a:t>می</a:t>
            </a:r>
            <a:r>
              <a:rPr b="0" lang="fa-IR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fa-IR" sz="2000" spc="-1" strike="noStrike">
                <a:solidFill>
                  <a:srgbClr val="ffffff"/>
                </a:solidFill>
                <a:latin typeface="Symbol"/>
                <a:cs typeface="Symbol"/>
              </a:rPr>
              <a:t>کنیم</a:t>
            </a:r>
            <a:r>
              <a:rPr b="0" lang="fa-IR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/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4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/s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0.4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10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ad/s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39960" y="2303640"/>
            <a:ext cx="72738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از معادله مربوط به جابه جایی زاویه ای استفاده می کنیم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60640" y="459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320840" y="4043520"/>
                <a:ext cx="21463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 rad x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o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5" name=""/>
          <p:cNvGrpSpPr/>
          <p:nvPr/>
        </p:nvGrpSpPr>
        <p:grpSpPr>
          <a:xfrm>
            <a:off x="1233360" y="3262320"/>
            <a:ext cx="6381720" cy="609480"/>
            <a:chOff x="1233360" y="3262320"/>
            <a:chExt cx="6381720" cy="609480"/>
          </a:xfrm>
        </p:grpSpPr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1233360" y="3273120"/>
                  <a:ext cx="2122560" cy="59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 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3000600" y="3381120"/>
              <a:ext cx="46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= 0 + </a:t>
              </a:r>
              <a:r>
                <a:rPr b="0" i="1" lang="en-US" sz="2000" spc="-1" strike="noStrike">
                  <a:solidFill>
                    <a:srgbClr val="fc0000"/>
                  </a:solidFill>
                  <a:latin typeface="Arial"/>
                </a:rPr>
                <a:t>0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(10) +    (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10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)(10)</a:t>
              </a:r>
              <a:r>
                <a:rPr b="0" i="1" lang="en-US" sz="2000" spc="-1" strike="noStrike" baseline="30000">
                  <a:solidFill>
                    <a:srgbClr val="fafd00"/>
                  </a:solidFill>
                  <a:latin typeface="Arial"/>
                </a:rPr>
                <a:t>2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= 500 r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4897440" y="3262320"/>
                  <a:ext cx="2142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2941560" y="3477960"/>
                  <a:ext cx="200160" cy="18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2141640" y="3409920"/>
                  <a:ext cx="30168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1" name=""/>
          <p:cNvGrpSpPr/>
          <p:nvPr/>
        </p:nvGrpSpPr>
        <p:grpSpPr>
          <a:xfrm>
            <a:off x="3879360" y="3908520"/>
            <a:ext cx="4651560" cy="2496600"/>
            <a:chOff x="3879360" y="3908520"/>
            <a:chExt cx="4651560" cy="2496600"/>
          </a:xfrm>
        </p:grpSpPr>
        <p:sp>
          <p:nvSpPr>
            <p:cNvPr id="212" name=""/>
            <p:cNvSpPr/>
            <p:nvPr/>
          </p:nvSpPr>
          <p:spPr>
            <a:xfrm>
              <a:off x="5575320" y="4097160"/>
              <a:ext cx="114516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90960" y="390852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5640" y="5223240"/>
              <a:ext cx="691200" cy="0"/>
            </a:xfrm>
            <a:prstGeom prst="line">
              <a:avLst/>
            </a:prstGeom>
            <a:ln w="1260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107920" y="4792680"/>
              <a:ext cx="0" cy="437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107920" y="6052320"/>
              <a:ext cx="0" cy="352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3480" y="543852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48560" y="4372560"/>
              <a:ext cx="1789560" cy="1676160"/>
            </a:xfrm>
            <a:prstGeom prst="ellipse">
              <a:avLst/>
            </a:pr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92120" y="4416480"/>
              <a:ext cx="1688040" cy="1581120"/>
            </a:xfrm>
            <a:prstGeom prst="ellipse">
              <a:avLst/>
            </a:prstGeom>
            <a:noFill/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905080" y="5207040"/>
              <a:ext cx="1704600" cy="7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28400" y="4449960"/>
              <a:ext cx="7200" cy="15757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67160" y="4695480"/>
              <a:ext cx="1137600" cy="10569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153840" y="4668840"/>
              <a:ext cx="1143360" cy="1076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83400" y="5158080"/>
              <a:ext cx="105480" cy="9864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6080" y="6040080"/>
              <a:ext cx="1542960" cy="0"/>
            </a:xfrm>
            <a:prstGeom prst="line">
              <a:avLst/>
            </a:prstGeom>
            <a:ln w="1260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879360" y="4401000"/>
              <a:ext cx="2863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6194880" y="4686480"/>
              <a:ext cx="1098360" cy="1056240"/>
              <a:chOff x="6194880" y="4686480"/>
              <a:chExt cx="1098360" cy="1056240"/>
            </a:xfrm>
          </p:grpSpPr>
          <p:sp>
            <p:nvSpPr>
              <p:cNvPr id="228" name=""/>
              <p:cNvSpPr/>
              <p:nvPr/>
            </p:nvSpPr>
            <p:spPr>
              <a:xfrm>
                <a:off x="6197040" y="4686840"/>
                <a:ext cx="1096200" cy="104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00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98840" y="4686480"/>
                <a:ext cx="1091880" cy="105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53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5372"/>
                  </a:path>
                </a:pathLst>
              </a:custGeom>
              <a:noFill/>
              <a:ln cap="rnd"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94880" y="4689000"/>
                <a:ext cx="1091880" cy="105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854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85403"/>
                  </a:path>
                </a:pathLst>
              </a:custGeom>
              <a:noFill/>
              <a:ln cap="rnd"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6435000" y="5383800"/>
              <a:ext cx="9450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نرژی جنبشی دوران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یستم ساده چرخان زیر را درنظر بگیر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(فرض کنید که وزنه ها بوسیله میله های فاقد جرم به مرکز دوران وصل شده اند 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این سیستم از جمع انرژی های جنبشی اجسام تشکیل دهنده آن بدست می آ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38200" y="3517920"/>
            <a:ext cx="5184360" cy="2050200"/>
            <a:chOff x="1438200" y="3517920"/>
            <a:chExt cx="5184360" cy="2050200"/>
          </a:xfrm>
        </p:grpSpPr>
        <p:sp>
          <p:nvSpPr>
            <p:cNvPr id="237" name=""/>
            <p:cNvSpPr/>
            <p:nvPr/>
          </p:nvSpPr>
          <p:spPr>
            <a:xfrm flipH="1" flipV="1">
              <a:off x="2129400" y="4026240"/>
              <a:ext cx="1209960" cy="629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171880" y="4690080"/>
              <a:ext cx="1167480" cy="492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403800" y="3889080"/>
              <a:ext cx="2652480" cy="786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90840" y="4690080"/>
              <a:ext cx="685440" cy="286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135040"/>
              <a:ext cx="287640" cy="23256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27080" y="3854880"/>
              <a:ext cx="287280" cy="23220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34160" y="4916160"/>
              <a:ext cx="287280" cy="23220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14160" y="3731760"/>
              <a:ext cx="287640" cy="23256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14520" y="4635360"/>
              <a:ext cx="84600" cy="68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85280" y="4038120"/>
              <a:ext cx="93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13800" y="4898880"/>
              <a:ext cx="93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05640" y="4989600"/>
              <a:ext cx="93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17560" y="4086000"/>
              <a:ext cx="93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22800" y="351792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75320" y="396252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55440" y="516744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38200" y="475704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22760" y="4070520"/>
              <a:ext cx="99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053160" y="4424040"/>
              <a:ext cx="591840" cy="480960"/>
              <a:chOff x="3053160" y="4424040"/>
              <a:chExt cx="591840" cy="480960"/>
            </a:xfrm>
          </p:grpSpPr>
          <p:sp>
            <p:nvSpPr>
              <p:cNvPr id="256" name=""/>
              <p:cNvSpPr/>
              <p:nvPr/>
            </p:nvSpPr>
            <p:spPr>
              <a:xfrm>
                <a:off x="3054600" y="4424040"/>
                <a:ext cx="59040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054600" y="4426560"/>
                <a:ext cx="590400" cy="47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54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5445"/>
                  </a:path>
                </a:pathLst>
              </a:custGeom>
              <a:noFill/>
              <a:ln cap="rnd"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53160" y="4426560"/>
                <a:ext cx="590400" cy="47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نرژی جنبشی دوران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360" y="1730520"/>
            <a:ext cx="63817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893760" y="3076200"/>
            <a:ext cx="4569840" cy="2805840"/>
            <a:chOff x="3893760" y="3076200"/>
            <a:chExt cx="4569840" cy="2805840"/>
          </a:xfrm>
        </p:grpSpPr>
        <p:sp>
          <p:nvSpPr>
            <p:cNvPr id="264" name=""/>
            <p:cNvSpPr/>
            <p:nvPr/>
          </p:nvSpPr>
          <p:spPr>
            <a:xfrm flipV="1">
              <a:off x="6462720" y="4473360"/>
              <a:ext cx="88920" cy="393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88080" y="5209920"/>
              <a:ext cx="266400" cy="3682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481640" y="4016160"/>
              <a:ext cx="317520" cy="3430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7631280" y="3076200"/>
              <a:ext cx="279360" cy="68580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4881600" y="3990960"/>
              <a:ext cx="907920" cy="583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913280" y="4606920"/>
              <a:ext cx="876240" cy="457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837400" y="3863880"/>
              <a:ext cx="1990440" cy="730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27680" y="4606920"/>
              <a:ext cx="514440" cy="266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35440" y="5019480"/>
              <a:ext cx="216000" cy="21600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9320" y="3832200"/>
              <a:ext cx="215640" cy="2156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10440" y="4816440"/>
              <a:ext cx="215640" cy="2156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96160" y="3717720"/>
              <a:ext cx="216000" cy="21600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70440" y="4556160"/>
              <a:ext cx="63720" cy="633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54480" y="4002120"/>
              <a:ext cx="93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00240" y="4800600"/>
              <a:ext cx="93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93760" y="4884480"/>
              <a:ext cx="93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01440" y="4046400"/>
              <a:ext cx="93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55640" y="351936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97280" y="393192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55840" y="504972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1920" y="466884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0160" y="4032000"/>
              <a:ext cx="99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574240" y="4360320"/>
              <a:ext cx="444960" cy="446040"/>
              <a:chOff x="5574240" y="4360320"/>
              <a:chExt cx="444960" cy="446040"/>
            </a:xfrm>
          </p:grpSpPr>
          <p:sp>
            <p:nvSpPr>
              <p:cNvPr id="287" name=""/>
              <p:cNvSpPr/>
              <p:nvPr/>
            </p:nvSpPr>
            <p:spPr>
              <a:xfrm>
                <a:off x="5575320" y="4360320"/>
                <a:ext cx="443880" cy="44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575320" y="4362480"/>
                <a:ext cx="443880" cy="44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54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5445"/>
                  </a:path>
                </a:pathLst>
              </a:custGeom>
              <a:noFill/>
              <a:ln cap="rnd"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74240" y="4362480"/>
                <a:ext cx="443520" cy="44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3893760" y="3931920"/>
              <a:ext cx="977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86200" y="3157560"/>
              <a:ext cx="977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63640" y="5481360"/>
              <a:ext cx="977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92440" y="4503600"/>
              <a:ext cx="977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844800" y="1633680"/>
                <a:ext cx="26989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998720" y="2295360"/>
                <a:ext cx="33764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1420920" y="2570040"/>
            <a:ext cx="401400" cy="216000"/>
          </a:xfrm>
          <a:prstGeom prst="rightArrow">
            <a:avLst>
              <a:gd name="adj1" fmla="val 50000"/>
              <a:gd name="adj2" fmla="val 92925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93120" y="3260880"/>
            <a:ext cx="3520440" cy="1265040"/>
            <a:chOff x="393120" y="3260880"/>
            <a:chExt cx="3520440" cy="1265040"/>
          </a:xfrm>
        </p:grpSpPr>
        <p:sp>
          <p:nvSpPr>
            <p:cNvPr id="298" name=""/>
            <p:cNvSpPr/>
            <p:nvPr/>
          </p:nvSpPr>
          <p:spPr>
            <a:xfrm>
              <a:off x="393120" y="3260880"/>
              <a:ext cx="352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به این صورت می نویسیم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477800" y="3757680"/>
                  <a:ext cx="111600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Iw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1212840" y="3610080"/>
              <a:ext cx="1595520" cy="915840"/>
            </a:xfrm>
            <a:prstGeom prst="bevel">
              <a:avLst>
                <a:gd name="adj" fmla="val 12500"/>
              </a:avLst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246320" y="5145120"/>
                <a:ext cx="2104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212400" y="4576680"/>
            <a:ext cx="474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لختی را چنین تعریف می کنیم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19240" y="4979880"/>
            <a:ext cx="1595520" cy="84132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79200" y="5905440"/>
            <a:ext cx="454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ارای یکای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g m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نرژی جنبشی دوران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720" y="1895040"/>
            <a:ext cx="716256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marL="99720" indent="-99720" algn="ct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دورانی یک جسم چرخان مشابه انرژی جنبشی یک ذره نقطه ای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ذره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سیستم چرخ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364000" y="3355920"/>
                <a:ext cx="11160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I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984920" y="5143680"/>
                <a:ext cx="30193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971720" y="3257640"/>
                <a:ext cx="19479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1017000" y="4006800"/>
            <a:ext cx="249516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خطی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رم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22200" y="4016520"/>
            <a:ext cx="4286160" cy="8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زاویه ای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لختی حول محور دوران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25440" y="2673360"/>
            <a:ext cx="6464520" cy="35305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61040" y="2673360"/>
            <a:ext cx="0" cy="3530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25440" y="3048120"/>
            <a:ext cx="64645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گشتاور لخت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2476440"/>
            <a:ext cx="7385040" cy="30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جه کنید که لختی دورانی یک سیستم بستگی به پراکندگی جر م سیستم دارد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077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رچه پراکندگی جرم از محوردوران بیشتر باشد لختی دورانی بیشتر خواهدبو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-25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یک جسم گشتاور لختی آن بستگی به محوری دارد که جسم حول آن می چرخد( برخلاف مرکز جرم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-25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دینامیک دورانی کمیت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شابه جر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دینامیک خطی 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881600" y="1596960"/>
                <a:ext cx="1116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I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406520" y="1609560"/>
                <a:ext cx="2104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6598440" y="1587600"/>
            <a:ext cx="6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ذ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09960" y="1673280"/>
            <a:ext cx="19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که در آن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حاسبه لختی دوران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رم نقطه ای مجزا از هم که حول محوری پراکنده هستند گشتاورلختی یا لختی دورانی چنین تعریف می شود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800360" y="2486160"/>
                <a:ext cx="21049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2804400" y="2550960"/>
            <a:ext cx="470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اصله جرم از محور دوران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28600" y="3600360"/>
            <a:ext cx="685008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 ل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ختی دورانی چهار جر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در گوشه های یک مربع به ضلع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راردارند را حول محوری که  از مرکز مربع گذشته و بر سط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 ن عمود است محاسبه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97240" y="5187960"/>
            <a:ext cx="105408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21280" y="511164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87960" y="511164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21280" y="617868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87960" y="617868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95840" y="5686560"/>
            <a:ext cx="57240" cy="56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7200" y="50068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11080" y="50068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57200" y="607392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11080" y="607392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5187960"/>
            <a:ext cx="0" cy="10540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7560" y="554040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499640" y="5480280"/>
            <a:ext cx="444960" cy="445320"/>
            <a:chOff x="4499640" y="5480280"/>
            <a:chExt cx="444960" cy="445320"/>
          </a:xfrm>
        </p:grpSpPr>
        <p:sp>
          <p:nvSpPr>
            <p:cNvPr id="345" name=""/>
            <p:cNvSpPr/>
            <p:nvPr/>
          </p:nvSpPr>
          <p:spPr>
            <a:xfrm>
              <a:off x="4500720" y="548028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00720" y="548172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5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5445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99640" y="5481720"/>
              <a:ext cx="443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19120" y="6554880"/>
            <a:ext cx="3216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حاسبه لختی دوران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بع فاصله هر جرم نقطه ای از مرکز دورا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7240" y="5187960"/>
            <a:ext cx="105408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21280" y="511164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87960" y="511164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21280" y="617868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87960" y="617868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95840" y="5686560"/>
            <a:ext cx="57240" cy="56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57200" y="50068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511080" y="50068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57200" y="607392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11080" y="607392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81280" y="5187960"/>
            <a:ext cx="0" cy="10540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77560" y="554040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730760" y="5175000"/>
            <a:ext cx="520560" cy="54612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99640" y="5235480"/>
            <a:ext cx="83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724280" y="4794120"/>
            <a:ext cx="0" cy="851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257800" y="4794120"/>
            <a:ext cx="0" cy="393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730760" y="4876920"/>
            <a:ext cx="52056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23680" y="447372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773440" y="2239920"/>
                <a:ext cx="17715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816200" y="3211560"/>
                <a:ext cx="51102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6276600" y="3344760"/>
            <a:ext cx="286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992240" y="4278240"/>
            <a:ext cx="2192400" cy="601560"/>
            <a:chOff x="1992240" y="4278240"/>
            <a:chExt cx="2192400" cy="601560"/>
          </a:xfrm>
        </p:grpSpPr>
        <p:sp>
          <p:nvSpPr>
            <p:cNvPr id="375" name=""/>
            <p:cNvSpPr/>
            <p:nvPr/>
          </p:nvSpPr>
          <p:spPr>
            <a:xfrm>
              <a:off x="2485080" y="4406760"/>
              <a:ext cx="1699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Times New Roman"/>
                </a:rPr>
                <a:t>I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= 2mL</a:t>
              </a:r>
              <a:r>
                <a:rPr b="0" i="1" lang="en-US" sz="20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49600" y="4278240"/>
              <a:ext cx="1315800" cy="6015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92240" y="4492800"/>
              <a:ext cx="387360" cy="187200"/>
            </a:xfrm>
            <a:prstGeom prst="rightArrow">
              <a:avLst>
                <a:gd name="adj1" fmla="val 50000"/>
                <a:gd name="adj2" fmla="val 103471"/>
              </a:avLst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19120" y="6554880"/>
            <a:ext cx="2243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99680" y="2417760"/>
            <a:ext cx="39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با استفاده از قضیه فیثاغور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حاسبه لختی دوران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لختی دورانی همان جسم را حول محوری که مطابق شکل زیر در صفحه مربع قرار دارد محاسبه کنی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262120" y="4092480"/>
            <a:ext cx="2412720" cy="1430280"/>
            <a:chOff x="5262120" y="4092480"/>
            <a:chExt cx="2412720" cy="1430280"/>
          </a:xfrm>
        </p:grpSpPr>
        <p:sp>
          <p:nvSpPr>
            <p:cNvPr id="385" name=""/>
            <p:cNvSpPr/>
            <p:nvPr/>
          </p:nvSpPr>
          <p:spPr>
            <a:xfrm>
              <a:off x="5950080" y="4273560"/>
              <a:ext cx="1054080" cy="1054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73760" y="4197240"/>
              <a:ext cx="139680" cy="1396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40440" y="4197240"/>
              <a:ext cx="139680" cy="1396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73760" y="5264280"/>
              <a:ext cx="139680" cy="1396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40440" y="5264280"/>
              <a:ext cx="139680" cy="1396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10040" y="409248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62120" y="409248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10040" y="515952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62120" y="515952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5334120" y="4273560"/>
            <a:ext cx="0" cy="10540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28600" y="462600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3664080"/>
            <a:ext cx="0" cy="1968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221520" y="5564160"/>
            <a:ext cx="473040" cy="117360"/>
            <a:chOff x="6221520" y="5564160"/>
            <a:chExt cx="473040" cy="117360"/>
          </a:xfrm>
        </p:grpSpPr>
        <p:sp>
          <p:nvSpPr>
            <p:cNvPr id="398" name=""/>
            <p:cNvSpPr/>
            <p:nvPr/>
          </p:nvSpPr>
          <p:spPr>
            <a:xfrm>
              <a:off x="6221520" y="5564160"/>
              <a:ext cx="473040" cy="11592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73800" y="5681520"/>
              <a:ext cx="12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6483240" y="4038480"/>
            <a:ext cx="52092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328440" y="3635280"/>
            <a:ext cx="83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1955880" y="2805120"/>
                <a:ext cx="5099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2220840" y="4125960"/>
            <a:ext cx="2050920" cy="601560"/>
            <a:chOff x="2220840" y="4125960"/>
            <a:chExt cx="2050920" cy="601560"/>
          </a:xfrm>
        </p:grpSpPr>
        <p:sp>
          <p:nvSpPr>
            <p:cNvPr id="404" name=""/>
            <p:cNvSpPr/>
            <p:nvPr/>
          </p:nvSpPr>
          <p:spPr>
            <a:xfrm>
              <a:off x="2713680" y="4254480"/>
              <a:ext cx="1558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Times New Roman"/>
                </a:rPr>
                <a:t>I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= mL</a:t>
              </a:r>
              <a:r>
                <a:rPr b="0" i="1" lang="en-US" sz="20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78200" y="4125960"/>
              <a:ext cx="1315800" cy="6015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20840" y="4340160"/>
              <a:ext cx="387360" cy="187560"/>
            </a:xfrm>
            <a:prstGeom prst="rightArrow">
              <a:avLst>
                <a:gd name="adj1" fmla="val 50000"/>
                <a:gd name="adj2" fmla="val 103272"/>
              </a:avLst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حاسبه لختی دوران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لختی دورانی همان سییتم را حول محور مشخص شده در شکل زیر محاسبه کنی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950080" y="4273560"/>
            <a:ext cx="105408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73760" y="419724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40440" y="419724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73760" y="526428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40440" y="526428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0040" y="40924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262120" y="40924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710040" y="515952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62120" y="515952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4120" y="4273560"/>
            <a:ext cx="0" cy="10540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28600" y="462600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3600" y="3683160"/>
            <a:ext cx="0" cy="1968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692680" y="5592600"/>
            <a:ext cx="473040" cy="117720"/>
            <a:chOff x="5692680" y="5592600"/>
            <a:chExt cx="473040" cy="117720"/>
          </a:xfrm>
        </p:grpSpPr>
        <p:sp>
          <p:nvSpPr>
            <p:cNvPr id="424" name=""/>
            <p:cNvSpPr/>
            <p:nvPr/>
          </p:nvSpPr>
          <p:spPr>
            <a:xfrm>
              <a:off x="5692680" y="5592600"/>
              <a:ext cx="473040" cy="11592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45320" y="5710320"/>
              <a:ext cx="12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950080" y="4038480"/>
            <a:ext cx="105408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04880" y="3740040"/>
            <a:ext cx="83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2230560" y="2860560"/>
                <a:ext cx="40003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29" name=""/>
          <p:cNvGrpSpPr/>
          <p:nvPr/>
        </p:nvGrpSpPr>
        <p:grpSpPr>
          <a:xfrm>
            <a:off x="2220840" y="4125960"/>
            <a:ext cx="2192400" cy="601560"/>
            <a:chOff x="2220840" y="4125960"/>
            <a:chExt cx="2192400" cy="601560"/>
          </a:xfrm>
        </p:grpSpPr>
        <p:sp>
          <p:nvSpPr>
            <p:cNvPr id="430" name=""/>
            <p:cNvSpPr/>
            <p:nvPr/>
          </p:nvSpPr>
          <p:spPr>
            <a:xfrm>
              <a:off x="2713680" y="4254480"/>
              <a:ext cx="1699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Times New Roman"/>
                </a:rPr>
                <a:t>I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= 2mL</a:t>
              </a:r>
              <a:r>
                <a:rPr b="0" i="1" lang="en-US" sz="20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78200" y="4125960"/>
              <a:ext cx="1315800" cy="6015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20840" y="4340160"/>
              <a:ext cx="387360" cy="187560"/>
            </a:xfrm>
            <a:prstGeom prst="rightArrow">
              <a:avLst>
                <a:gd name="adj1" fmla="val 50000"/>
                <a:gd name="adj2" fmla="val 103272"/>
              </a:avLst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حاسبه لختی دوران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5008"/>
                </a:solidFill>
                <a:latin typeface="Arial"/>
                <a:cs typeface="Arial"/>
              </a:rPr>
              <a:t>مشاهده می کنید که برای یک سیستم لختی دورانی بستکی به محوردوران دارد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16760" y="4459320"/>
            <a:ext cx="105408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40440" y="438300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007480" y="438300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940440" y="545004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007480" y="545004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4535640"/>
            <a:ext cx="1800" cy="10540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3800" y="488808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10280" y="3868560"/>
            <a:ext cx="1800" cy="1968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6759720" y="5778360"/>
            <a:ext cx="473040" cy="117720"/>
            <a:chOff x="6759720" y="5778360"/>
            <a:chExt cx="473040" cy="117720"/>
          </a:xfrm>
        </p:grpSpPr>
        <p:sp>
          <p:nvSpPr>
            <p:cNvPr id="446" name=""/>
            <p:cNvSpPr/>
            <p:nvPr/>
          </p:nvSpPr>
          <p:spPr>
            <a:xfrm>
              <a:off x="6759720" y="5778360"/>
              <a:ext cx="473040" cy="11592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12000" y="5896080"/>
              <a:ext cx="12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6750360" y="3144960"/>
            <a:ext cx="1699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2mL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916680" y="3016080"/>
            <a:ext cx="1316160" cy="601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25840" y="4535640"/>
            <a:ext cx="105408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49880" y="445932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416560" y="445932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49880" y="552600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416560" y="552600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3925800"/>
            <a:ext cx="1800" cy="1968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697280" y="5826240"/>
            <a:ext cx="473040" cy="117360"/>
            <a:chOff x="4697280" y="5826240"/>
            <a:chExt cx="473040" cy="117360"/>
          </a:xfrm>
        </p:grpSpPr>
        <p:sp>
          <p:nvSpPr>
            <p:cNvPr id="457" name=""/>
            <p:cNvSpPr/>
            <p:nvPr/>
          </p:nvSpPr>
          <p:spPr>
            <a:xfrm>
              <a:off x="4697280" y="5826240"/>
              <a:ext cx="473040" cy="11592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49920" y="5943600"/>
              <a:ext cx="12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083480" y="3144960"/>
            <a:ext cx="155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L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249800" y="3016080"/>
            <a:ext cx="1315800" cy="601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058840" y="4535640"/>
            <a:ext cx="105408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82880" y="445932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49560" y="445932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82880" y="552600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049560" y="552600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57440" y="5033880"/>
            <a:ext cx="74520" cy="74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18800" y="435456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371240" y="435456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18800" y="542124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71240" y="542124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92800" y="3144960"/>
            <a:ext cx="1699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2mL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959120" y="3016080"/>
            <a:ext cx="1315800" cy="601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365920" y="4827240"/>
            <a:ext cx="444960" cy="446400"/>
            <a:chOff x="2365920" y="4827240"/>
            <a:chExt cx="444960" cy="446400"/>
          </a:xfrm>
        </p:grpSpPr>
        <p:sp>
          <p:nvSpPr>
            <p:cNvPr id="474" name=""/>
            <p:cNvSpPr/>
            <p:nvPr/>
          </p:nvSpPr>
          <p:spPr>
            <a:xfrm>
              <a:off x="2367000" y="4827240"/>
              <a:ext cx="4438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67000" y="4829040"/>
              <a:ext cx="4438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5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5445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365920" y="4829040"/>
              <a:ext cx="4435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لختی دوران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67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1000"/>
          </a:bodyPr>
          <a:p>
            <a:pPr marL="88560" indent="-8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ثلث زیر از گلوله های مشابه و میله های صلب بدون جرم مشابه تشکلیل شده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ختی دورانی حول محو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ترتیب برابر است ب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4760" indent="-705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زینه درست کدام است ؟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17560" y="3649680"/>
            <a:ext cx="246528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156280" y="3613320"/>
            <a:ext cx="1650960" cy="1346040"/>
            <a:chOff x="5156280" y="3613320"/>
            <a:chExt cx="1650960" cy="1346040"/>
          </a:xfrm>
        </p:grpSpPr>
        <p:sp>
          <p:nvSpPr>
            <p:cNvPr id="481" name=""/>
            <p:cNvSpPr/>
            <p:nvPr/>
          </p:nvSpPr>
          <p:spPr>
            <a:xfrm flipH="1">
              <a:off x="5257440" y="3708360"/>
              <a:ext cx="685800" cy="1143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257800" y="4851360"/>
              <a:ext cx="144792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5944680" y="3708000"/>
              <a:ext cx="760680" cy="1143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35600" y="3613320"/>
              <a:ext cx="21600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91240" y="4737240"/>
              <a:ext cx="21600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56280" y="4743360"/>
              <a:ext cx="21600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4648320" y="485136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372096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428004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298640" y="349416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304760" y="407196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310880" y="4637160"/>
            <a:ext cx="8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لختی دوران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537160" y="4375080"/>
            <a:ext cx="1650960" cy="1346400"/>
            <a:chOff x="5537160" y="4375080"/>
            <a:chExt cx="1650960" cy="1346400"/>
          </a:xfrm>
        </p:grpSpPr>
        <p:sp>
          <p:nvSpPr>
            <p:cNvPr id="495" name=""/>
            <p:cNvSpPr/>
            <p:nvPr/>
          </p:nvSpPr>
          <p:spPr>
            <a:xfrm flipH="1">
              <a:off x="5638320" y="4470480"/>
              <a:ext cx="685800" cy="1143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638680" y="5613480"/>
              <a:ext cx="144792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6326280" y="4470120"/>
              <a:ext cx="760320" cy="1143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16480" y="4375080"/>
              <a:ext cx="21600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72480" y="5499000"/>
              <a:ext cx="21564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37160" y="5505480"/>
              <a:ext cx="21600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5029200" y="561348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448308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029200" y="50418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679520" y="425592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686000" y="483408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692120" y="5398920"/>
            <a:ext cx="8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65000" y="1889280"/>
            <a:ext cx="392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ول ها وجرم ها را مشخص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44240" y="405288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120640" y="570384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18960" y="569124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987240" y="515772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74640" y="458640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613640" y="4481640"/>
            <a:ext cx="0" cy="5540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7612200" y="5060880"/>
            <a:ext cx="1440" cy="54936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279440" y="2906640"/>
                <a:ext cx="3241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m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627080" y="2325600"/>
            <a:ext cx="347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ختی دورانی را محاسبه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271520" y="3467160"/>
                <a:ext cx="32194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333440" y="4052880"/>
                <a:ext cx="2181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525960" y="5097600"/>
            <a:ext cx="52462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رابط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درست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حاسبه لختی دوران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یک سییستم ذره 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یک جسم صلب سه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r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برای هر عنصر از جس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m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باید به هم بیفزای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عنی برای محاسبه لختی دوران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fa-IR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سم صلب باید انتگرال زیر را محاسبه کنیم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828960" y="2314440"/>
                <a:ext cx="21052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25" name=""/>
          <p:cNvGrpSpPr/>
          <p:nvPr/>
        </p:nvGrpSpPr>
        <p:grpSpPr>
          <a:xfrm>
            <a:off x="6021360" y="2182680"/>
            <a:ext cx="1206360" cy="1206720"/>
            <a:chOff x="6021360" y="2182680"/>
            <a:chExt cx="1206360" cy="1206720"/>
          </a:xfrm>
        </p:grpSpPr>
        <p:sp>
          <p:nvSpPr>
            <p:cNvPr id="526" name=""/>
            <p:cNvSpPr/>
            <p:nvPr/>
          </p:nvSpPr>
          <p:spPr>
            <a:xfrm>
              <a:off x="6097680" y="2259000"/>
              <a:ext cx="1054080" cy="1054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21360" y="2182680"/>
              <a:ext cx="139680" cy="1396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88040" y="2182680"/>
              <a:ext cx="139680" cy="1396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21360" y="3249720"/>
              <a:ext cx="139680" cy="1396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88040" y="3249720"/>
              <a:ext cx="139680" cy="1396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95920" y="2757600"/>
              <a:ext cx="57240" cy="56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530680" y="4957920"/>
            <a:ext cx="1485000" cy="1344600"/>
            <a:chOff x="5530680" y="4957920"/>
            <a:chExt cx="1485000" cy="1344600"/>
          </a:xfrm>
        </p:grpSpPr>
        <p:grpSp>
          <p:nvGrpSpPr>
            <p:cNvPr id="533" name=""/>
            <p:cNvGrpSpPr/>
            <p:nvPr/>
          </p:nvGrpSpPr>
          <p:grpSpPr>
            <a:xfrm>
              <a:off x="5530680" y="5248440"/>
              <a:ext cx="1054080" cy="1054080"/>
              <a:chOff x="5530680" y="5248440"/>
              <a:chExt cx="1054080" cy="1054080"/>
            </a:xfrm>
          </p:grpSpPr>
          <p:sp>
            <p:nvSpPr>
              <p:cNvPr id="534" name=""/>
              <p:cNvSpPr/>
              <p:nvPr/>
            </p:nvSpPr>
            <p:spPr>
              <a:xfrm>
                <a:off x="5530680" y="5248440"/>
                <a:ext cx="1054080" cy="1054080"/>
              </a:xfrm>
              <a:prstGeom prst="rect">
                <a:avLst/>
              </a:prstGeom>
              <a:solidFill>
                <a:srgbClr val="fc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28920" y="5751720"/>
                <a:ext cx="57240" cy="5688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6373440" y="5243400"/>
              <a:ext cx="101520" cy="10188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6092640" y="5344920"/>
              <a:ext cx="282600" cy="417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47120" y="5510160"/>
              <a:ext cx="83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09040" y="495792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4014720" y="5114880"/>
                <a:ext cx="1819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6005520" y="5544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 flipH="1" rot="3983400">
            <a:off x="580320" y="1400400"/>
            <a:ext cx="404640" cy="524160"/>
          </a:xfrm>
          <a:custGeom>
            <a:avLst/>
            <a:gdLst>
              <a:gd name="textAreaLeft" fmla="*/ 360 w 404640"/>
              <a:gd name="textAreaRight" fmla="*/ 405360 w 40464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1600" h="21600">
                <a:moveTo>
                  <a:pt x="1684" y="13007"/>
                </a:moveTo>
                <a:arcTo wR="-9379" hR="-9379" stAng="9983427" swAng="-15621005"/>
                <a:lnTo>
                  <a:pt x="11546" y="21574"/>
                </a:lnTo>
                <a:arcTo wR="10800" hR="10800" stAng="5162422" swAng="15621005"/>
                <a:lnTo>
                  <a:pt x="23921" y="7623"/>
                </a:lnTo>
                <a:lnTo>
                  <a:pt x="21409" y="11741"/>
                </a:lnTo>
                <a:lnTo>
                  <a:pt x="17291" y="9228"/>
                </a:lnTo>
                <a:close/>
              </a:path>
            </a:pathLst>
          </a:custGeom>
          <a:solidFill>
            <a:srgbClr val="fc0000"/>
          </a:solidFill>
          <a:ln w="1908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209600" y="603360"/>
            <a:ext cx="727092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rial"/>
              </a:rPr>
              <a:t>مثال: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می خواهیم لختی دورانی یک میله نا زک حول محوری که عمود بر میله از یک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انتهای آن می گذرد حساب کنی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781200" y="1193760"/>
            <a:ext cx="4749480" cy="2508120"/>
            <a:chOff x="781200" y="1193760"/>
            <a:chExt cx="4749480" cy="2508120"/>
          </a:xfrm>
        </p:grpSpPr>
        <p:sp>
          <p:nvSpPr>
            <p:cNvPr id="545" name=""/>
            <p:cNvSpPr/>
            <p:nvPr/>
          </p:nvSpPr>
          <p:spPr>
            <a:xfrm>
              <a:off x="2860560" y="2152800"/>
              <a:ext cx="370080" cy="266400"/>
            </a:xfrm>
            <a:prstGeom prst="rect">
              <a:avLst/>
            </a:prstGeom>
            <a:solidFill>
              <a:srgbClr val="008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11080" y="2168640"/>
              <a:ext cx="3465720" cy="234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81200" y="2271600"/>
              <a:ext cx="4749480" cy="1440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5480" y="2757600"/>
              <a:ext cx="2021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2846160" y="2448000"/>
              <a:ext cx="14040" cy="4572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76800" y="2433600"/>
              <a:ext cx="0" cy="72396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43120" y="3081240"/>
              <a:ext cx="340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670120" y="1754280"/>
              <a:ext cx="6922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076480" y="3046320"/>
              <a:ext cx="6922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46280" y="2425680"/>
              <a:ext cx="6922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97040" y="1193760"/>
              <a:ext cx="44280" cy="250812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56" name=""/>
          <p:cNvGraphicFramePr/>
          <p:nvPr/>
        </p:nvGraphicFramePr>
        <p:xfrm>
          <a:off x="2881440" y="3735360"/>
          <a:ext cx="4159080" cy="23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1440" y="3735360"/>
                    <a:ext cx="415908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254240" y="781200"/>
            <a:ext cx="70340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Arial"/>
              </a:rPr>
              <a:t>مثال: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لختی دورانی یک دیسک یا یک استوانه توپر به شعاع قاعد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را حول محوری که عمود برقاعده از مرکز جسم می گذرد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عمود برقاعده از لبه جسم می گذرد حساب کنی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679320" y="2441520"/>
            <a:ext cx="3230280" cy="2247480"/>
            <a:chOff x="679320" y="2441520"/>
            <a:chExt cx="3230280" cy="2247480"/>
          </a:xfrm>
        </p:grpSpPr>
        <p:grpSp>
          <p:nvGrpSpPr>
            <p:cNvPr id="560" name=""/>
            <p:cNvGrpSpPr/>
            <p:nvPr/>
          </p:nvGrpSpPr>
          <p:grpSpPr>
            <a:xfrm>
              <a:off x="679320" y="2441520"/>
              <a:ext cx="1266480" cy="1923840"/>
              <a:chOff x="679320" y="2441520"/>
              <a:chExt cx="1266480" cy="1923840"/>
            </a:xfrm>
          </p:grpSpPr>
          <p:sp>
            <p:nvSpPr>
              <p:cNvPr id="561" name=""/>
              <p:cNvSpPr/>
              <p:nvPr/>
            </p:nvSpPr>
            <p:spPr>
              <a:xfrm>
                <a:off x="679320" y="2988720"/>
                <a:ext cx="1266480" cy="1376640"/>
              </a:xfrm>
              <a:prstGeom prst="donut">
                <a:avLst>
                  <a:gd name="adj" fmla="val 13439"/>
                </a:avLst>
              </a:prstGeom>
              <a:solidFill>
                <a:srgbClr val="cc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35560" y="3161880"/>
                <a:ext cx="933480" cy="1018080"/>
              </a:xfrm>
              <a:prstGeom prst="donut">
                <a:avLst>
                  <a:gd name="adj" fmla="val 10643"/>
                </a:avLst>
              </a:pr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933840" y="3648600"/>
                <a:ext cx="363600" cy="589680"/>
              </a:xfrm>
              <a:prstGeom prst="line">
                <a:avLst/>
              </a:prstGeom>
              <a:ln w="28440">
                <a:solidFill>
                  <a:srgbClr val="f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278360" y="3648600"/>
                <a:ext cx="382320" cy="0"/>
              </a:xfrm>
              <a:prstGeom prst="line">
                <a:avLst/>
              </a:prstGeom>
              <a:ln w="12600">
                <a:solidFill>
                  <a:srgbClr val="f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1641240" y="2653920"/>
                <a:ext cx="0" cy="981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1769040" y="2665080"/>
                <a:ext cx="0" cy="98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93240" y="3751920"/>
                <a:ext cx="31500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254240" y="3539160"/>
                <a:ext cx="31500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39720" y="2441520"/>
                <a:ext cx="31500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r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2240640" y="2608200"/>
              <a:ext cx="58680" cy="208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2288880" y="3221640"/>
              <a:ext cx="1620720" cy="855000"/>
              <a:chOff x="2288880" y="3221640"/>
              <a:chExt cx="1620720" cy="855000"/>
            </a:xfrm>
          </p:grpSpPr>
          <p:sp>
            <p:nvSpPr>
              <p:cNvPr id="572" name=""/>
              <p:cNvSpPr/>
              <p:nvPr/>
            </p:nvSpPr>
            <p:spPr>
              <a:xfrm>
                <a:off x="2299680" y="3429360"/>
                <a:ext cx="1609920" cy="6472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307960" y="3221640"/>
                <a:ext cx="1601280" cy="739080"/>
              </a:xfrm>
              <a:prstGeom prst="ellipse">
                <a:avLst/>
              </a:prstGeom>
              <a:solidFill>
                <a:srgbClr val="ccffff"/>
              </a:solidFill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2288880" y="3556440"/>
                <a:ext cx="29160" cy="16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909600" y="3521520"/>
                <a:ext cx="0" cy="277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 flipH="1" rot="10948800">
              <a:off x="2135880" y="2480760"/>
              <a:ext cx="460800" cy="293760"/>
            </a:xfrm>
            <a:custGeom>
              <a:avLst/>
              <a:gdLst>
                <a:gd name="textAreaLeft" fmla="*/ 61560 w 460800"/>
                <a:gd name="textAreaRight" fmla="*/ 399240 w 460800"/>
                <a:gd name="textAreaTop" fmla="*/ 45360 h 293760"/>
                <a:gd name="textAreaBottom" fmla="*/ 21924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6671" stAng="-5400000" swAng="5400000"/>
                  <a:lnTo>
                    <a:pt x="21600" y="12769"/>
                  </a:lnTo>
                  <a:arcTo wR="21600" hR="6671" stAng="0" swAng="2468308"/>
                  <a:lnTo>
                    <a:pt x="7200" y="21218"/>
                  </a:lnTo>
                  <a:lnTo>
                    <a:pt x="0" y="16391"/>
                  </a:lnTo>
                  <a:lnTo>
                    <a:pt x="7200" y="10800"/>
                  </a:lnTo>
                  <a:lnTo>
                    <a:pt x="7200" y="12960"/>
                  </a:lnTo>
                  <a:arcTo wR="21600" hR="6671" stAng="2468308" swAng="-1927237"/>
                  <a:lnTo>
                    <a:pt x="19212" y="9720"/>
                  </a:lnTo>
                  <a:arcTo wR="21600" hR="6671" stAng="-541071" swAng="-4858929"/>
                  <a:close/>
                </a:path>
                <a:path fill="darkenLess" w="21600" h="21600">
                  <a:moveTo>
                    <a:pt x="0" y="0"/>
                  </a:moveTo>
                  <a:arcTo wR="21600" hR="6671" stAng="-5400000" swAng="5400000"/>
                  <a:lnTo>
                    <a:pt x="21600" y="12769"/>
                  </a:lnTo>
                  <a:arcTo wR="21600" hR="6671" stAng="0" swAng="-541071"/>
                  <a:lnTo>
                    <a:pt x="19212" y="9720"/>
                  </a:lnTo>
                  <a:arcTo wR="21600" hR="6671" stAng="-541071" swAng="-4858929"/>
                  <a:close/>
                </a:path>
              </a:pathLst>
            </a:cu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28480" y="3591720"/>
              <a:ext cx="775800" cy="0"/>
            </a:xfrm>
            <a:prstGeom prst="line">
              <a:avLst/>
            </a:prstGeom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45200" y="3439800"/>
              <a:ext cx="2840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08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79" name=""/>
          <p:cNvGraphicFramePr/>
          <p:nvPr/>
        </p:nvGraphicFramePr>
        <p:xfrm>
          <a:off x="4903920" y="1743120"/>
          <a:ext cx="235404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3920" y="1743120"/>
                    <a:ext cx="235404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3017880" y="5140440"/>
          <a:ext cx="497520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17880" y="5140440"/>
                    <a:ext cx="49752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لختی دورا ن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د مثال از لختی دورانی اجسا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81360" y="2509920"/>
            <a:ext cx="47754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یک حلقه نازک ویا یک استوانه نازک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شعا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ول محورکه از مرکز حلقه گذشته و بر سطح آن عمود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314440" y="2463840"/>
            <a:ext cx="0" cy="1487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384200" y="2955960"/>
            <a:ext cx="1874880" cy="588960"/>
          </a:xfrm>
          <a:prstGeom prst="ellipse">
            <a:avLst/>
          </a:prstGeom>
          <a:noFill/>
          <a:ln w="255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314440" y="2840040"/>
            <a:ext cx="0" cy="21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2543040" y="2529000"/>
                <a:ext cx="1459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1" name=""/>
          <p:cNvSpPr/>
          <p:nvPr/>
        </p:nvSpPr>
        <p:spPr>
          <a:xfrm>
            <a:off x="2335320" y="3257640"/>
            <a:ext cx="88740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250720" y="3249720"/>
            <a:ext cx="899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063880" y="3892680"/>
            <a:ext cx="473040" cy="117360"/>
            <a:chOff x="2063880" y="3892680"/>
            <a:chExt cx="473040" cy="117360"/>
          </a:xfrm>
        </p:grpSpPr>
        <p:sp>
          <p:nvSpPr>
            <p:cNvPr id="594" name=""/>
            <p:cNvSpPr/>
            <p:nvPr/>
          </p:nvSpPr>
          <p:spPr>
            <a:xfrm>
              <a:off x="2063880" y="3892680"/>
              <a:ext cx="473040" cy="11592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16160" y="4010040"/>
              <a:ext cx="12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04720" y="4146480"/>
            <a:ext cx="6549840" cy="2711520"/>
            <a:chOff x="504720" y="4146480"/>
            <a:chExt cx="6549840" cy="2711520"/>
          </a:xfrm>
        </p:grpSpPr>
        <p:grpSp>
          <p:nvGrpSpPr>
            <p:cNvPr id="597" name=""/>
            <p:cNvGrpSpPr/>
            <p:nvPr/>
          </p:nvGrpSpPr>
          <p:grpSpPr>
            <a:xfrm>
              <a:off x="2063520" y="6232320"/>
              <a:ext cx="473040" cy="117360"/>
              <a:chOff x="2063520" y="6232320"/>
              <a:chExt cx="473040" cy="117360"/>
            </a:xfrm>
          </p:grpSpPr>
          <p:sp>
            <p:nvSpPr>
              <p:cNvPr id="598" name=""/>
              <p:cNvSpPr/>
              <p:nvPr/>
            </p:nvSpPr>
            <p:spPr>
              <a:xfrm>
                <a:off x="2063520" y="6232320"/>
                <a:ext cx="473040" cy="115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216160" y="6349680"/>
                <a:ext cx="1252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2300040" y="4146480"/>
              <a:ext cx="0" cy="215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1" name=""/>
                <p:cNvSpPr txBox="1"/>
                <p:nvPr/>
              </p:nvSpPr>
              <p:spPr>
                <a:xfrm>
                  <a:off x="2643120" y="4340160"/>
                  <a:ext cx="1911240" cy="88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02" name=""/>
            <p:cNvSpPr/>
            <p:nvPr/>
          </p:nvSpPr>
          <p:spPr>
            <a:xfrm>
              <a:off x="1992240" y="4262400"/>
              <a:ext cx="588960" cy="1874880"/>
            </a:xfrm>
            <a:prstGeom prst="ellipse">
              <a:avLst/>
            </a:prstGeom>
            <a:noFill/>
            <a:ln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97720" y="4770360"/>
              <a:ext cx="405684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یک حلقه به جرم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وشعاع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حول یک قطر آن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31600" y="4582800"/>
              <a:ext cx="899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00040" y="4303440"/>
              <a:ext cx="0" cy="930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4720" y="6494400"/>
              <a:ext cx="53910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0" y="2392200"/>
            <a:ext cx="0" cy="1602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76520" y="25909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fc0000"/>
              </a:gs>
              <a:gs pos="100000">
                <a:srgbClr val="e1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2035080" y="3935520"/>
            <a:ext cx="473040" cy="117360"/>
            <a:chOff x="2035080" y="3935520"/>
            <a:chExt cx="473040" cy="117360"/>
          </a:xfrm>
        </p:grpSpPr>
        <p:sp>
          <p:nvSpPr>
            <p:cNvPr id="612" name=""/>
            <p:cNvSpPr/>
            <p:nvPr/>
          </p:nvSpPr>
          <p:spPr>
            <a:xfrm>
              <a:off x="2035080" y="3935520"/>
              <a:ext cx="473040" cy="11592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87720" y="4052880"/>
              <a:ext cx="12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گشتاور لخت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د مثال در موردگشتاور لختی اجسام صل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92760" y="2836800"/>
            <a:ext cx="469728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ره صلب به جرم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شعاع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ول محوری که ا ز مرکز آن می گذ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786040" y="2185920"/>
                <a:ext cx="19033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2306520" y="3186000"/>
            <a:ext cx="63036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179440" y="3206880"/>
            <a:ext cx="899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287440" y="2390760"/>
            <a:ext cx="0" cy="1601640"/>
          </a:xfrm>
          <a:prstGeom prst="line">
            <a:avLst/>
          </a:prstGeom>
          <a:ln w="1260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338120" y="4200480"/>
            <a:ext cx="6433920" cy="2038320"/>
            <a:chOff x="1338120" y="4200480"/>
            <a:chExt cx="6433920" cy="2038320"/>
          </a:xfrm>
        </p:grpSpPr>
        <p:grpSp>
          <p:nvGrpSpPr>
            <p:cNvPr id="622" name=""/>
            <p:cNvGrpSpPr/>
            <p:nvPr/>
          </p:nvGrpSpPr>
          <p:grpSpPr>
            <a:xfrm>
              <a:off x="2049480" y="6121440"/>
              <a:ext cx="473040" cy="117360"/>
              <a:chOff x="2049480" y="6121440"/>
              <a:chExt cx="473040" cy="117360"/>
            </a:xfrm>
          </p:grpSpPr>
          <p:sp>
            <p:nvSpPr>
              <p:cNvPr id="623" name=""/>
              <p:cNvSpPr/>
              <p:nvPr/>
            </p:nvSpPr>
            <p:spPr>
              <a:xfrm>
                <a:off x="2049480" y="6121440"/>
                <a:ext cx="473040" cy="115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201760" y="6238800"/>
                <a:ext cx="1256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2281320" y="4373640"/>
              <a:ext cx="4680" cy="1806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44600" y="5340240"/>
              <a:ext cx="1887480" cy="6019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43160" y="5186520"/>
              <a:ext cx="1890720" cy="442800"/>
            </a:xfrm>
            <a:prstGeom prst="rect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44600" y="4859280"/>
              <a:ext cx="1887480" cy="60156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81320" y="4749840"/>
              <a:ext cx="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81320" y="4944960"/>
              <a:ext cx="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2457360" y="4200480"/>
                  <a:ext cx="191160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"/>
            <p:cNvSpPr/>
            <p:nvPr/>
          </p:nvSpPr>
          <p:spPr>
            <a:xfrm>
              <a:off x="2301840" y="5167440"/>
              <a:ext cx="887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246040" y="5157720"/>
              <a:ext cx="899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94920" y="4773600"/>
              <a:ext cx="46771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یک دیسک صلب به جرم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وشعاع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 rtl="1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حول محوری که از مرکز آن می گذرد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338120" y="5183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43240" y="519732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638680" y="407664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29000" y="407664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تمرین : گشتاورلخت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67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3000"/>
          </a:bodyPr>
          <a:p>
            <a:pPr marL="94320" indent="-94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کره به جر م و شعاع یکسان مفروض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ی از آلومینیوم ودیگری از پوسته ای از طلا ساخته شده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07360" indent="-752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دام یک گشتاور لختی بیشتری نسبت به محوری که از مرکز ش می گذرد دار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438156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1b1b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29200" y="438156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b16a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821680" y="6033960"/>
            <a:ext cx="294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جرم و شعاع مساوی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627560" y="4890960"/>
            <a:ext cx="137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صلب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815000"/>
            <a:ext cx="14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پوسته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266840" y="3390840"/>
            <a:ext cx="7145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  <a:cs typeface="Arial"/>
              </a:rPr>
              <a:t>الف – کره صلب آلومینوم                ب- پوسته طلا                ج- یکسان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5638680" y="396252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429000" y="396252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 تمرین گشتاور لخت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467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3000"/>
          </a:bodyPr>
          <a:p>
            <a:pPr marL="94320" indent="-94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لختی به جرم و مجذور فاصله آن از محور دوران بستگی دارد که برای پوسته طلا به علت اینکه جرم آن دورتر از مرکز دوران آن قرار دارد می 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07360" indent="-752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پوسته طلا دارای لختی دورانی بیشتری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819520" y="42670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1b1b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2670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b16a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21680" y="5919840"/>
            <a:ext cx="28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جرم و شعاع مساو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305520" y="3801960"/>
            <a:ext cx="23936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SOLID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SHE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4000" y="4734000"/>
            <a:ext cx="30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کره صلب آلومینیومی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912640" y="4700520"/>
            <a:ext cx="180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پوسته طل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077920" y="4006800"/>
            <a:ext cx="473040" cy="117360"/>
            <a:chOff x="2077920" y="4006800"/>
            <a:chExt cx="473040" cy="117360"/>
          </a:xfrm>
        </p:grpSpPr>
        <p:sp>
          <p:nvSpPr>
            <p:cNvPr id="660" name=""/>
            <p:cNvSpPr/>
            <p:nvPr/>
          </p:nvSpPr>
          <p:spPr>
            <a:xfrm>
              <a:off x="2077920" y="4006800"/>
              <a:ext cx="473040" cy="11592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30560" y="4124160"/>
              <a:ext cx="12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2314440" y="2463840"/>
            <a:ext cx="0" cy="1601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گشتاور لخت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79400" y="1752480"/>
            <a:ext cx="7796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لختی چند جسم صلب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38600" y="2992320"/>
            <a:ext cx="45831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ختی دورانی یک میله نازک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طو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ول محوری عمودبرطول آن که از مرکز میله می گدذ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2814480" y="2257560"/>
                <a:ext cx="19036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1677960" y="3414600"/>
            <a:ext cx="128736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055600" y="3448080"/>
            <a:ext cx="865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49520" y="3192480"/>
            <a:ext cx="1358640" cy="7308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365120" y="4195800"/>
            <a:ext cx="3306600" cy="1800360"/>
            <a:chOff x="1365120" y="4195800"/>
            <a:chExt cx="3306600" cy="1800360"/>
          </a:xfrm>
        </p:grpSpPr>
        <p:grpSp>
          <p:nvGrpSpPr>
            <p:cNvPr id="671" name=""/>
            <p:cNvGrpSpPr/>
            <p:nvPr/>
          </p:nvGrpSpPr>
          <p:grpSpPr>
            <a:xfrm>
              <a:off x="1365120" y="5878440"/>
              <a:ext cx="473040" cy="117720"/>
              <a:chOff x="1365120" y="5878440"/>
              <a:chExt cx="473040" cy="117720"/>
            </a:xfrm>
          </p:grpSpPr>
          <p:sp>
            <p:nvSpPr>
              <p:cNvPr id="672" name=""/>
              <p:cNvSpPr/>
              <p:nvPr/>
            </p:nvSpPr>
            <p:spPr>
              <a:xfrm>
                <a:off x="1365120" y="5878440"/>
                <a:ext cx="473040" cy="115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517400" y="5996160"/>
                <a:ext cx="1256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1596960" y="4330800"/>
              <a:ext cx="0" cy="1601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05960" y="4844880"/>
              <a:ext cx="89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6" name=""/>
                <p:cNvSpPr txBox="1"/>
                <p:nvPr/>
              </p:nvSpPr>
              <p:spPr>
                <a:xfrm>
                  <a:off x="2768400" y="4195800"/>
                  <a:ext cx="1903320" cy="88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77" name=""/>
            <p:cNvSpPr/>
            <p:nvPr/>
          </p:nvSpPr>
          <p:spPr>
            <a:xfrm>
              <a:off x="1631880" y="5353200"/>
              <a:ext cx="1287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009520" y="5386320"/>
              <a:ext cx="865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03080" y="5130720"/>
              <a:ext cx="1359000" cy="7308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4260960" y="4656240"/>
            <a:ext cx="38131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ختی دورانی یک میله نازک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طو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L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ول محوری عمودبرطول آن که از انتهای آن می گذ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قضیه محورهای مواز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marL="45720" indent="-457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ختی دورانی یک جسم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ول محوری که از مرکز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ن می گذرد معلوم 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" indent="-457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ختی دورانی حول محور مواز ی با این محور و به فا صل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آن از رابطه زیر که به قضیه محورهای موازی مشهور است بدست می آ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fafd00"/>
                </a:solidFill>
                <a:latin typeface="Arial"/>
              </a:rPr>
              <a:t>PARALLEL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 + MD</a:t>
            </a:r>
            <a:r>
              <a:rPr b="0" i="1" lang="en-US" sz="2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" indent="-457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 اگ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بدانیم به سادگی می توانیم لختی دورانی حول محور مواز ی ب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" indent="-457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ن را محاسبه کنی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670120" y="3287880"/>
            <a:ext cx="4226040" cy="80316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093000" y="3649680"/>
            <a:ext cx="473040" cy="117360"/>
            <a:chOff x="6093000" y="3649680"/>
            <a:chExt cx="473040" cy="117360"/>
          </a:xfrm>
        </p:grpSpPr>
        <p:sp>
          <p:nvSpPr>
            <p:cNvPr id="689" name=""/>
            <p:cNvSpPr/>
            <p:nvPr/>
          </p:nvSpPr>
          <p:spPr>
            <a:xfrm>
              <a:off x="6093000" y="3649680"/>
              <a:ext cx="473040" cy="11592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245280" y="3767040"/>
              <a:ext cx="12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4721400" y="3635280"/>
            <a:ext cx="473040" cy="117720"/>
            <a:chOff x="4721400" y="3635280"/>
            <a:chExt cx="473040" cy="117720"/>
          </a:xfrm>
        </p:grpSpPr>
        <p:sp>
          <p:nvSpPr>
            <p:cNvPr id="692" name=""/>
            <p:cNvSpPr/>
            <p:nvPr/>
          </p:nvSpPr>
          <p:spPr>
            <a:xfrm>
              <a:off x="4721400" y="3635280"/>
              <a:ext cx="473040" cy="11592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873680" y="3753000"/>
              <a:ext cx="12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قضیه محورهای مواز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4000"/>
          </a:bodyPr>
          <a:p>
            <a:pPr marL="154080" indent="-154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له یکنواخت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طو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در نظر بگیر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لختی را حول محوری که از انتهای آن می گذرد محاسبه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9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9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PARALLE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MD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144440" y="2757600"/>
            <a:ext cx="3016440" cy="69048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324480" y="2778120"/>
            <a:ext cx="0" cy="901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959360" y="3159000"/>
            <a:ext cx="2730600" cy="13968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59360" y="3457440"/>
            <a:ext cx="273060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43360" y="348300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959360" y="3000240"/>
            <a:ext cx="135900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903560" y="2598840"/>
            <a:ext cx="144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=L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952880" y="2778120"/>
            <a:ext cx="0" cy="901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014600" y="282744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895000" y="30463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053040" y="2927520"/>
            <a:ext cx="10288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ff00"/>
                </a:solidFill>
                <a:latin typeface="Arial"/>
              </a:rPr>
              <a:t>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330280" y="4113360"/>
                <a:ext cx="22528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>
            <a:off x="3440160" y="4276800"/>
            <a:ext cx="206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دانیم که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471760" y="4930920"/>
                <a:ext cx="4302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M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6413040" y="5094360"/>
            <a:ext cx="166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367000" y="5756400"/>
            <a:ext cx="529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با نتیجه آنچه که قبلا گفتیم مطابقت دارد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837400" y="3778200"/>
            <a:ext cx="1068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24760" y="3801960"/>
            <a:ext cx="1191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رتباط با حرکت مرکز جرم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یک سیستم ذره ای برابر بود ب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535120" y="2579760"/>
                <a:ext cx="30798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groupChr>
                      </m:e>
                      <m:lim/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groupChr>
                      </m:e>
                      <m:lim/>
                    </m:limLow>
                  </m:oMath>
                </a14:m>
              </a:p>
            </p:txBody>
          </p:sp>
        </mc:Choice>
        <mc:Fallback/>
      </mc:AlternateContent>
      <p:sp>
        <p:nvSpPr>
          <p:cNvPr id="718" name=""/>
          <p:cNvSpPr/>
          <p:nvPr/>
        </p:nvSpPr>
        <p:spPr>
          <a:xfrm>
            <a:off x="3285000" y="3335400"/>
            <a:ext cx="1210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528440" y="3341520"/>
            <a:ext cx="1152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548160" y="5713560"/>
                <a:ext cx="26748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>
            <a:off x="196200" y="3811680"/>
            <a:ext cx="8474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یک جسم صلب که حول مرکز جرم خود می چرخد جمله اول چنین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5967360" y="4456080"/>
                <a:ext cx="18464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3" name=""/>
          <p:cNvSpPr/>
          <p:nvPr/>
        </p:nvSpPr>
        <p:spPr>
          <a:xfrm>
            <a:off x="3876840" y="4568760"/>
            <a:ext cx="18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جاگذاری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936880" y="4632480"/>
                <a:ext cx="8985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5769000" y="5181480"/>
                <a:ext cx="21146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3379680" y="5264280"/>
            <a:ext cx="26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 می دانیم که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2098800" y="5146560"/>
                <a:ext cx="145728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رتباط با حرکت مرکز جرم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33560" y="1709280"/>
            <a:ext cx="716256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برای یک جسم که حول مرکز جرمش می چرخد و مرکز جرم آن حرکت می کند دار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3106800" y="2703600"/>
                <a:ext cx="30081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733" name=""/>
          <p:cNvGrpSpPr/>
          <p:nvPr/>
        </p:nvGrpSpPr>
        <p:grpSpPr>
          <a:xfrm>
            <a:off x="735120" y="3592440"/>
            <a:ext cx="7716600" cy="1501920"/>
            <a:chOff x="735120" y="3592440"/>
            <a:chExt cx="7716600" cy="1501920"/>
          </a:xfrm>
        </p:grpSpPr>
        <p:grpSp>
          <p:nvGrpSpPr>
            <p:cNvPr id="734" name=""/>
            <p:cNvGrpSpPr/>
            <p:nvPr/>
          </p:nvGrpSpPr>
          <p:grpSpPr>
            <a:xfrm>
              <a:off x="982800" y="3763800"/>
              <a:ext cx="7169040" cy="1140120"/>
              <a:chOff x="982800" y="3763800"/>
              <a:chExt cx="7169040" cy="114012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1211400" y="3763800"/>
                <a:ext cx="368280" cy="1054440"/>
                <a:chOff x="1211400" y="3763800"/>
                <a:chExt cx="368280" cy="10544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395360" y="3967200"/>
                  <a:ext cx="0" cy="520560"/>
                </a:xfrm>
                <a:prstGeom prst="line">
                  <a:avLst/>
                </a:prstGeom>
                <a:ln w="7632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211400" y="4449600"/>
                  <a:ext cx="368280" cy="368640"/>
                </a:xfrm>
                <a:prstGeom prst="ellipse">
                  <a:avLst/>
                </a:prstGeom>
                <a:solidFill>
                  <a:srgbClr val="fc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287360" y="3763800"/>
                  <a:ext cx="216000" cy="216000"/>
                </a:xfrm>
                <a:prstGeom prst="ellipse">
                  <a:avLst/>
                </a:prstGeom>
                <a:solidFill>
                  <a:srgbClr val="fc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363680" y="4297320"/>
                  <a:ext cx="63360" cy="6372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V="1">
                  <a:off x="1363680" y="4284360"/>
                  <a:ext cx="63360" cy="8892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1" name=""/>
              <p:cNvSpPr/>
              <p:nvPr/>
            </p:nvSpPr>
            <p:spPr>
              <a:xfrm>
                <a:off x="982800" y="4329000"/>
                <a:ext cx="716904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2" name=""/>
              <p:cNvGrpSpPr/>
              <p:nvPr/>
            </p:nvGrpSpPr>
            <p:grpSpPr>
              <a:xfrm>
                <a:off x="2023920" y="3850920"/>
                <a:ext cx="932040" cy="970200"/>
                <a:chOff x="2023920" y="3850920"/>
                <a:chExt cx="932040" cy="97020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2243160" y="4075200"/>
                  <a:ext cx="350640" cy="377640"/>
                </a:xfrm>
                <a:prstGeom prst="line">
                  <a:avLst/>
                </a:prstGeom>
                <a:ln w="7632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rot="19020000">
                  <a:off x="2511360" y="4376520"/>
                  <a:ext cx="368280" cy="368280"/>
                </a:xfrm>
                <a:prstGeom prst="ellipse">
                  <a:avLst/>
                </a:prstGeom>
                <a:solidFill>
                  <a:srgbClr val="fc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rot="19020000">
                  <a:off x="2068560" y="3895200"/>
                  <a:ext cx="216000" cy="216000"/>
                </a:xfrm>
                <a:prstGeom prst="ellipse">
                  <a:avLst/>
                </a:prstGeom>
                <a:solidFill>
                  <a:srgbClr val="fc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440080" y="4335480"/>
                  <a:ext cx="96840" cy="468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V="1">
                  <a:off x="2486160" y="4277880"/>
                  <a:ext cx="4680" cy="11916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3030480" y="4014720"/>
                <a:ext cx="1084320" cy="679680"/>
                <a:chOff x="3030480" y="4014720"/>
                <a:chExt cx="1084320" cy="67968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3260880" y="4197240"/>
                  <a:ext cx="477720" cy="195480"/>
                </a:xfrm>
                <a:prstGeom prst="line">
                  <a:avLst/>
                </a:prstGeom>
                <a:ln w="7632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rot="17580000">
                  <a:off x="3689280" y="4268520"/>
                  <a:ext cx="368280" cy="368280"/>
                </a:xfrm>
                <a:prstGeom prst="ellipse">
                  <a:avLst/>
                </a:prstGeom>
                <a:solidFill>
                  <a:srgbClr val="fc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rot="17580000">
                  <a:off x="3063600" y="4048200"/>
                  <a:ext cx="216000" cy="215640"/>
                </a:xfrm>
                <a:prstGeom prst="ellipse">
                  <a:avLst/>
                </a:prstGeom>
                <a:solidFill>
                  <a:srgbClr val="fc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3549600" y="4308480"/>
                  <a:ext cx="85680" cy="5256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flipV="1">
                  <a:off x="3565440" y="4277880"/>
                  <a:ext cx="54000" cy="11268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4116240" y="4145040"/>
                <a:ext cx="1054080" cy="368280"/>
                <a:chOff x="4116240" y="4145040"/>
                <a:chExt cx="1054080" cy="36828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4319640" y="4329000"/>
                  <a:ext cx="520560" cy="0"/>
                </a:xfrm>
                <a:prstGeom prst="line">
                  <a:avLst/>
                </a:prstGeom>
                <a:ln w="7632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802040" y="4145040"/>
                  <a:ext cx="368280" cy="368280"/>
                </a:xfrm>
                <a:prstGeom prst="ellipse">
                  <a:avLst/>
                </a:prstGeom>
                <a:solidFill>
                  <a:srgbClr val="fc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116240" y="4221000"/>
                  <a:ext cx="216000" cy="216000"/>
                </a:xfrm>
                <a:prstGeom prst="ellipse">
                  <a:avLst/>
                </a:prstGeom>
                <a:solidFill>
                  <a:srgbClr val="fc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V="1">
                  <a:off x="4649760" y="4284360"/>
                  <a:ext cx="63360" cy="8892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flipV="1">
                  <a:off x="4636800" y="4284360"/>
                  <a:ext cx="88920" cy="8892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5215680" y="3930840"/>
                <a:ext cx="1064160" cy="767520"/>
                <a:chOff x="5215680" y="3930840"/>
                <a:chExt cx="1064160" cy="767520"/>
              </a:xfrm>
            </p:grpSpPr>
            <p:sp>
              <p:nvSpPr>
                <p:cNvPr id="761" name=""/>
                <p:cNvSpPr/>
                <p:nvPr/>
              </p:nvSpPr>
              <p:spPr>
                <a:xfrm flipV="1">
                  <a:off x="5446800" y="4243320"/>
                  <a:ext cx="453960" cy="271440"/>
                </a:xfrm>
                <a:prstGeom prst="line">
                  <a:avLst/>
                </a:prstGeom>
                <a:ln w="7632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rot="14460000">
                  <a:off x="5844960" y="3997080"/>
                  <a:ext cx="368280" cy="368280"/>
                </a:xfrm>
                <a:prstGeom prst="ellipse">
                  <a:avLst/>
                </a:prstGeom>
                <a:solidFill>
                  <a:srgbClr val="fc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rot="14460000">
                  <a:off x="5254200" y="4443480"/>
                  <a:ext cx="216000" cy="216000"/>
                </a:xfrm>
                <a:prstGeom prst="ellipse">
                  <a:avLst/>
                </a:prstGeom>
                <a:solidFill>
                  <a:srgbClr val="fc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V="1">
                  <a:off x="5754600" y="4271760"/>
                  <a:ext cx="15840" cy="11556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H="1" flipV="1">
                  <a:off x="5703840" y="4308120"/>
                  <a:ext cx="117360" cy="4284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6500880" y="3833280"/>
                <a:ext cx="751680" cy="1068120"/>
                <a:chOff x="6500880" y="3833280"/>
                <a:chExt cx="751680" cy="1068120"/>
              </a:xfrm>
            </p:grpSpPr>
            <p:sp>
              <p:nvSpPr>
                <p:cNvPr id="767" name=""/>
                <p:cNvSpPr/>
                <p:nvPr/>
              </p:nvSpPr>
              <p:spPr>
                <a:xfrm flipV="1">
                  <a:off x="6694560" y="4200120"/>
                  <a:ext cx="237960" cy="484200"/>
                </a:xfrm>
                <a:prstGeom prst="line">
                  <a:avLst/>
                </a:prstGeom>
                <a:ln w="7632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rot="12480000">
                  <a:off x="6819480" y="3898080"/>
                  <a:ext cx="368280" cy="368280"/>
                </a:xfrm>
                <a:prstGeom prst="ellipse">
                  <a:avLst/>
                </a:prstGeom>
                <a:solidFill>
                  <a:srgbClr val="fc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rot="12480000">
                  <a:off x="6538680" y="4647600"/>
                  <a:ext cx="215640" cy="215640"/>
                </a:xfrm>
                <a:prstGeom prst="ellipse">
                  <a:avLst/>
                </a:prstGeom>
                <a:solidFill>
                  <a:srgbClr val="fc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 flipV="1">
                  <a:off x="6840360" y="4295520"/>
                  <a:ext cx="43200" cy="11412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>
                  <a:off x="6804000" y="4343400"/>
                  <a:ext cx="115920" cy="1908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745400" y="3849840"/>
                <a:ext cx="368280" cy="1054080"/>
                <a:chOff x="7745400" y="3849840"/>
                <a:chExt cx="368280" cy="1054080"/>
              </a:xfrm>
            </p:grpSpPr>
            <p:sp>
              <p:nvSpPr>
                <p:cNvPr id="773" name=""/>
                <p:cNvSpPr/>
                <p:nvPr/>
              </p:nvSpPr>
              <p:spPr>
                <a:xfrm flipV="1">
                  <a:off x="7929720" y="4167360"/>
                  <a:ext cx="0" cy="545760"/>
                </a:xfrm>
                <a:prstGeom prst="line">
                  <a:avLst/>
                </a:prstGeom>
                <a:ln w="7632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745400" y="3849840"/>
                  <a:ext cx="368280" cy="368280"/>
                </a:xfrm>
                <a:prstGeom prst="ellipse">
                  <a:avLst/>
                </a:prstGeom>
                <a:solidFill>
                  <a:srgbClr val="fc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7821720" y="4687920"/>
                  <a:ext cx="215640" cy="216000"/>
                </a:xfrm>
                <a:prstGeom prst="ellipse">
                  <a:avLst/>
                </a:prstGeom>
                <a:solidFill>
                  <a:srgbClr val="fc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V="1">
                  <a:off x="7897680" y="4293720"/>
                  <a:ext cx="63720" cy="8892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7897680" y="4307040"/>
                  <a:ext cx="63720" cy="6336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8" name=""/>
            <p:cNvSpPr/>
            <p:nvPr/>
          </p:nvSpPr>
          <p:spPr>
            <a:xfrm>
              <a:off x="735120" y="3592440"/>
              <a:ext cx="7716600" cy="1501920"/>
            </a:xfrm>
            <a:prstGeom prst="rect">
              <a:avLst/>
            </a:prstGeom>
            <a:noFill/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4573440" y="4726080"/>
            <a:ext cx="52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399560" y="4536720"/>
            <a:ext cx="444960" cy="446400"/>
            <a:chOff x="4399560" y="4536720"/>
            <a:chExt cx="444960" cy="446400"/>
          </a:xfrm>
        </p:grpSpPr>
        <p:sp>
          <p:nvSpPr>
            <p:cNvPr id="781" name=""/>
            <p:cNvSpPr/>
            <p:nvPr/>
          </p:nvSpPr>
          <p:spPr>
            <a:xfrm>
              <a:off x="4400640" y="4536720"/>
              <a:ext cx="4438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00640" y="4538520"/>
              <a:ext cx="4438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5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5445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99560" y="4538520"/>
              <a:ext cx="4435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4264200" y="3986280"/>
            <a:ext cx="8586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066560" y="3606840"/>
            <a:ext cx="1152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906640" y="2444760"/>
            <a:ext cx="3444840" cy="1063440"/>
          </a:xfrm>
          <a:prstGeom prst="roundRect">
            <a:avLst>
              <a:gd name="adj" fmla="val 12495"/>
            </a:avLst>
          </a:prstGeom>
          <a:noFill/>
          <a:ln w="5724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36360" y="5592600"/>
            <a:ext cx="593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این فورمول در درس های بعد استفاده می کنیم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589040" y="5529240"/>
            <a:ext cx="4643640" cy="434880"/>
          </a:xfrm>
          <a:prstGeom prst="flowChartProcess">
            <a:avLst/>
          </a:prstGeom>
          <a:noFill/>
          <a:ln w="7632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afd00"/>
                </a:solidFill>
                <a:latin typeface="Arial"/>
                <a:cs typeface="Arial"/>
              </a:rPr>
              <a:t>فصل یازدهم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3346560"/>
            <a:ext cx="7221240" cy="252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Arial"/>
              </a:rPr>
              <a:t>دوران جسم صلب حول محور ثابت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Arial"/>
              </a:rPr>
              <a:t>سینماتیک دورانی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ادآوری درس امروز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46120" y="175248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ینماتیک دوران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شابه باسینماتیک یک بعد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یک جسم چرخنند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لختی (لختی دوران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یستم ذرا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جسام صلب پیوسته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ضیه محورهای مواز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طالب درسی و مسائل کتاب را مرور کنی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رس امروز م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540560" cy="325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ینماتیک دوران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شابه با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ینماتیک یک بعد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یک جسم چرخنند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لختی (لختی دوران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یستم ذرا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جسام صلب پیوسته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ضیه محورهای مواز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7118280" cy="331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اکنو ن صحبتی از دوران اجسام به میان  نیاوردی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214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غزش اجسام را مورد بررسی قراردادیم ولی ا ز غلتش صحبت نکردی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214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ردیم که قرقره ها فاقد جرم هستن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ران بسیا ر مهم است و ما باید توجه کافی به آن مبذول داری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عادلات مربوط به دوران شباهت زیادی به معادلا ت سینماتیک و دینامیک یک بعد ی حر کت انتقالی   دار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92400" y="754200"/>
            <a:ext cx="20178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2  Koodak Outline"/>
              </a:rPr>
              <a:t>دوران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2  Koodak Outline"/>
              <a:ea typeface="2  Koodak Outline"/>
            </a:endParaRPr>
          </a:p>
        </p:txBody>
      </p: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467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4000"/>
          </a:bodyPr>
          <a:p>
            <a:pPr marL="68400" indent="-684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afd00"/>
                </a:solidFill>
                <a:latin typeface="Arial"/>
                <a:cs typeface="Arial"/>
              </a:rPr>
              <a:t>پیش آزمون: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هرداد روی لبه یک سکوی گردان و علی درمیانه خط واصل از مرکز به لبه این سکو نشسته است . این سکو هردو دقیقه یک دور کامل می چرخ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50840" indent="-547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زاویه ای علی برابر است ب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3600" y="3814920"/>
            <a:ext cx="367344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 – سرعت مهردا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- دوبرابر سرعت مهردا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- نصف سرعت مهر  دا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92400" y="754200"/>
            <a:ext cx="20178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2  Koodak Outline"/>
              </a:rPr>
              <a:t>دوران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2  Koodak Outline"/>
              <a:ea typeface="2  Koodak Outline"/>
            </a:endParaRPr>
          </a:p>
        </p:txBody>
      </p:sp>
    </p:spTree>
  </p:cSld>
  <p:transition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74674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6000"/>
          </a:bodyPr>
          <a:p>
            <a:pPr marL="74160" indent="-741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زاویه ای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ر نقطه از یک جسم صلب که به دور محوری می چرخد یکسان 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63080" indent="-594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هرداد وعلی هردو یک دور کام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adia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یک دقیقه می چرخ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1040" y="4930920"/>
            <a:ext cx="3568680" cy="74268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1040" y="4822920"/>
            <a:ext cx="3568680" cy="742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7560" y="5686560"/>
            <a:ext cx="139680" cy="363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63720" y="5248440"/>
            <a:ext cx="609480" cy="431640"/>
          </a:xfrm>
          <a:prstGeom prst="line">
            <a:avLst/>
          </a:prstGeom>
          <a:ln w="25560">
            <a:solidFill>
              <a:srgbClr val="f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877920" y="5194440"/>
            <a:ext cx="304920" cy="215640"/>
          </a:xfrm>
          <a:prstGeom prst="line">
            <a:avLst/>
          </a:prstGeom>
          <a:ln w="25560">
            <a:solidFill>
              <a:srgbClr val="f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16680" y="5168880"/>
            <a:ext cx="139680" cy="954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5040" y="5111640"/>
            <a:ext cx="139680" cy="8892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7560" y="4662360"/>
            <a:ext cx="139680" cy="471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63840" y="4584600"/>
            <a:ext cx="3250800" cy="109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357" swAng="540335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357" swAng="5403357"/>
              </a:path>
            </a:pathLst>
          </a:custGeom>
          <a:noFill/>
          <a:ln cap="rnd"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36440" y="4343400"/>
            <a:ext cx="9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4320" y="3657600"/>
            <a:ext cx="80553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سرعت ”خطی“ آنه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هم متفاوت است زیرا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v = 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802480" y="4584600"/>
                <a:ext cx="26557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علی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مهرداد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تغییرهای دوران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68560" y="17064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را ن حول یک محو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سکی را درنظر بگیرید که حول محور ش می چرخ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بتدا آنچه را که در مورد حرکت دورانی یکنواخت آموختیم بیاد بیاور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مشابه است با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90480" y="1347840"/>
            <a:ext cx="1816200" cy="1511280"/>
            <a:chOff x="690480" y="1347840"/>
            <a:chExt cx="1816200" cy="1511280"/>
          </a:xfrm>
        </p:grpSpPr>
        <p:sp>
          <p:nvSpPr>
            <p:cNvPr id="79" name=""/>
            <p:cNvSpPr/>
            <p:nvPr/>
          </p:nvSpPr>
          <p:spPr>
            <a:xfrm>
              <a:off x="690480" y="1347840"/>
              <a:ext cx="1511280" cy="1511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27040" y="2084400"/>
              <a:ext cx="38160" cy="3816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452600" y="1568160"/>
              <a:ext cx="511200" cy="541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52600" y="2103480"/>
              <a:ext cx="1054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21480" y="2178000"/>
              <a:ext cx="99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500000">
              <a:off x="1443600" y="1770840"/>
              <a:ext cx="44460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55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5533"/>
                </a:path>
              </a:pathLst>
            </a:custGeom>
            <a:noFill/>
            <a:ln cap="rnd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74280" y="172080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230840" y="1863360"/>
              <a:ext cx="444960" cy="446400"/>
              <a:chOff x="1230840" y="1863360"/>
              <a:chExt cx="444960" cy="446400"/>
            </a:xfrm>
          </p:grpSpPr>
          <p:sp>
            <p:nvSpPr>
              <p:cNvPr id="87" name=""/>
              <p:cNvSpPr/>
              <p:nvPr/>
            </p:nvSpPr>
            <p:spPr>
              <a:xfrm>
                <a:off x="1231920" y="1863360"/>
                <a:ext cx="443880" cy="44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844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1920" y="1865160"/>
                <a:ext cx="443880" cy="44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54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5445"/>
                  </a:path>
                </a:pathLst>
              </a:custGeom>
              <a:noFill/>
              <a:ln cap="rnd"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230840" y="1865160"/>
                <a:ext cx="443520" cy="44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397400" y="3519360"/>
                <a:ext cx="13431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95680" y="3270240"/>
                <a:ext cx="1508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516040" y="4737240"/>
                <a:ext cx="138924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28Z</dcterms:created>
  <dc:creator>Mats A. Selen</dc:creator>
  <dc:description/>
  <cp:keywords/>
  <dc:language>en-US</dc:language>
  <cp:lastModifiedBy>janubi</cp:lastModifiedBy>
  <dcterms:modified xsi:type="dcterms:W3CDTF">2006-04-15T02:20:28Z</dcterms:modified>
  <cp:revision>68</cp:revision>
  <dc:subject>Rotational Kinematics</dc:subject>
  <dc:title>Physics 106P: Lecture 21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