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02760" y="6573960"/>
            <a:ext cx="2732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 – فیزیک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82480" y="519120"/>
            <a:ext cx="52236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شتاب سنج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زن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وسیله طناب بدون جرمی به سقف ا تومبیلی بسته شده است این اتومبیل روی جاده افقی باشتا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می کن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ناب زاوی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وضعیت قائم می ساز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رحس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ست آور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760320" y="3772080"/>
          <a:ext cx="7391520" cy="20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3772080"/>
                    <a:ext cx="7391520" cy="20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flipH="1">
            <a:off x="1898280" y="4495680"/>
            <a:ext cx="10033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41520" y="4116240"/>
            <a:ext cx="22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40449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49880" y="4044960"/>
            <a:ext cx="368280" cy="6732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3240" y="4711680"/>
            <a:ext cx="139680" cy="1396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08480" y="4383000"/>
            <a:ext cx="4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20880" y="4800600"/>
            <a:ext cx="59688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5600" y="48546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سنج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اگرام جسم آزاد را برای جسم آویزان بکش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 نیروهایی وارد می شون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718080" y="2825640"/>
            <a:ext cx="4205160" cy="2663640"/>
            <a:chOff x="3718080" y="2825640"/>
            <a:chExt cx="4205160" cy="2663640"/>
          </a:xfrm>
        </p:grpSpPr>
        <p:sp>
          <p:nvSpPr>
            <p:cNvPr id="303" name=""/>
            <p:cNvSpPr/>
            <p:nvPr/>
          </p:nvSpPr>
          <p:spPr>
            <a:xfrm>
              <a:off x="3740040" y="2825640"/>
              <a:ext cx="978120" cy="1359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06920" y="4102200"/>
              <a:ext cx="339840" cy="387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02240" y="4149720"/>
              <a:ext cx="45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4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72160" y="4530600"/>
              <a:ext cx="0" cy="8636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3955680" y="3146040"/>
              <a:ext cx="755640" cy="10126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02120" y="2841480"/>
              <a:ext cx="3349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(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کشش طناب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49920" y="5126040"/>
              <a:ext cx="307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(</a:t>
              </a:r>
              <a:r>
                <a:rPr b="0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نیروی جاذبه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8080" y="3203640"/>
              <a:ext cx="406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33920" y="2825640"/>
              <a:ext cx="0" cy="9781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920880" y="4800600"/>
            <a:ext cx="59688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5600" y="48546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9120" y="6554880"/>
            <a:ext cx="4660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سنج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قانون دوم نیوتن را در مورد مولفه نیروها بکار ببر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T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T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g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621400" y="2679480"/>
            <a:ext cx="2835360" cy="2809800"/>
            <a:chOff x="5621400" y="2679480"/>
            <a:chExt cx="2835360" cy="2809800"/>
          </a:xfrm>
        </p:grpSpPr>
        <p:sp>
          <p:nvSpPr>
            <p:cNvPr id="320" name=""/>
            <p:cNvSpPr/>
            <p:nvPr/>
          </p:nvSpPr>
          <p:spPr>
            <a:xfrm>
              <a:off x="5645160" y="2825640"/>
              <a:ext cx="977760" cy="1359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12040" y="4102200"/>
              <a:ext cx="339480" cy="387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746320" y="4276800"/>
              <a:ext cx="78444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76920" y="4530600"/>
              <a:ext cx="0" cy="8636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5860800" y="3146040"/>
              <a:ext cx="755640" cy="10126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40560" y="3535200"/>
              <a:ext cx="415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54680" y="5126040"/>
              <a:ext cx="644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40400" y="3611520"/>
              <a:ext cx="40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07000" y="414972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4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30920" y="4478400"/>
              <a:ext cx="777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7354800" y="3678120"/>
              <a:ext cx="1101960" cy="1125360"/>
              <a:chOff x="7354800" y="3678120"/>
              <a:chExt cx="1101960" cy="1125360"/>
            </a:xfrm>
          </p:grpSpPr>
          <p:sp>
            <p:nvSpPr>
              <p:cNvPr id="331" name=""/>
              <p:cNvSpPr/>
              <p:nvPr/>
            </p:nvSpPr>
            <p:spPr>
              <a:xfrm>
                <a:off x="8001000" y="3740040"/>
                <a:ext cx="0" cy="596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7384680" y="4343400"/>
                <a:ext cx="6224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040600" y="3678120"/>
                <a:ext cx="416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54800" y="4440240"/>
                <a:ext cx="416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5950080" y="3124080"/>
              <a:ext cx="7491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705720" y="3117600"/>
              <a:ext cx="0" cy="1003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60000">
              <a:off x="5906880" y="2687400"/>
              <a:ext cx="949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60000">
              <a:off x="6744960" y="3373200"/>
              <a:ext cx="949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38680" y="282564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21400" y="3203640"/>
              <a:ext cx="40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19120" y="6554880"/>
            <a:ext cx="4346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59160" y="4502160"/>
            <a:ext cx="1587600" cy="7491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سنج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با استفاده از مولفه های نیروها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T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 mg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ین دو رابطه فوق حذف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4573440"/>
            <a:ext cx="258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8080" y="4876920"/>
            <a:ext cx="1511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74840" y="4954680"/>
            <a:ext cx="258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543480" y="4552920"/>
                <a:ext cx="20080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51" name=""/>
          <p:cNvGrpSpPr/>
          <p:nvPr/>
        </p:nvGrpSpPr>
        <p:grpSpPr>
          <a:xfrm>
            <a:off x="5645160" y="2679480"/>
            <a:ext cx="2811600" cy="2809800"/>
            <a:chOff x="5645160" y="2679480"/>
            <a:chExt cx="2811600" cy="2809800"/>
          </a:xfrm>
        </p:grpSpPr>
        <p:sp>
          <p:nvSpPr>
            <p:cNvPr id="352" name=""/>
            <p:cNvSpPr/>
            <p:nvPr/>
          </p:nvSpPr>
          <p:spPr>
            <a:xfrm>
              <a:off x="5645160" y="2825640"/>
              <a:ext cx="977760" cy="1359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12040" y="4102200"/>
              <a:ext cx="339480" cy="387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746320" y="4276800"/>
              <a:ext cx="78444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76920" y="4530600"/>
              <a:ext cx="0" cy="8636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5860800" y="3146040"/>
              <a:ext cx="755640" cy="10126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54680" y="5126040"/>
              <a:ext cx="644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40400" y="3611520"/>
              <a:ext cx="40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80000" y="411480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4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30920" y="4478400"/>
              <a:ext cx="777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50080" y="3124080"/>
              <a:ext cx="7491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705720" y="3117600"/>
              <a:ext cx="0" cy="1003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60000">
              <a:off x="5906880" y="2687400"/>
              <a:ext cx="949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60000">
              <a:off x="6744960" y="3373200"/>
              <a:ext cx="949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7354800" y="3678120"/>
              <a:ext cx="1101960" cy="1125360"/>
              <a:chOff x="7354800" y="3678120"/>
              <a:chExt cx="1101960" cy="1125360"/>
            </a:xfrm>
          </p:grpSpPr>
          <p:sp>
            <p:nvSpPr>
              <p:cNvPr id="366" name=""/>
              <p:cNvSpPr/>
              <p:nvPr/>
            </p:nvSpPr>
            <p:spPr>
              <a:xfrm>
                <a:off x="8001000" y="3740040"/>
                <a:ext cx="0" cy="596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7384680" y="4343400"/>
                <a:ext cx="6224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40600" y="3678120"/>
                <a:ext cx="416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54800" y="4440240"/>
                <a:ext cx="416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740560" y="3535200"/>
              <a:ext cx="415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519120" y="6554880"/>
            <a:ext cx="4346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سنج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راه حل دیگر با استفاده از برداره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کل وخا ل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NE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ساب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34080" y="3276720"/>
            <a:ext cx="309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شش ن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18160" y="5251320"/>
            <a:ext cx="284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نیروی جاذبه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133720" y="3263760"/>
            <a:ext cx="3620880" cy="2219400"/>
            <a:chOff x="2133720" y="3263760"/>
            <a:chExt cx="3620880" cy="2219400"/>
          </a:xfrm>
        </p:grpSpPr>
        <p:sp>
          <p:nvSpPr>
            <p:cNvPr id="379" name=""/>
            <p:cNvSpPr/>
            <p:nvPr/>
          </p:nvSpPr>
          <p:spPr>
            <a:xfrm>
              <a:off x="2482920" y="3446640"/>
              <a:ext cx="231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666520" y="4351320"/>
              <a:ext cx="78444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9960" y="3481560"/>
              <a:ext cx="0" cy="8632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2723760" y="3392280"/>
              <a:ext cx="755640" cy="10126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19320" y="3352680"/>
              <a:ext cx="41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720" y="3733920"/>
              <a:ext cx="64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27440" y="4552920"/>
              <a:ext cx="1063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TO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3840" y="3753000"/>
              <a:ext cx="406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92520" y="3263760"/>
              <a:ext cx="903240" cy="1175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4240" y="4367160"/>
              <a:ext cx="312840" cy="335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34120" y="4343400"/>
              <a:ext cx="42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4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46880" y="4737240"/>
              <a:ext cx="0" cy="7459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4792680" y="3541680"/>
              <a:ext cx="698400" cy="87480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72000" y="3589200"/>
              <a:ext cx="37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86400" y="3263760"/>
              <a:ext cx="0" cy="8445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86440" y="5511960"/>
            <a:ext cx="1587240" cy="7491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سنج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راه حل دیگر با استفاده از برداره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-239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کل وخا ل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NE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ساب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-239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خاطر داشته باشید که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NE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866960" y="5575320"/>
                <a:ext cx="2801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307120" y="5575320"/>
                <a:ext cx="20080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1" name=""/>
          <p:cNvGrpSpPr/>
          <p:nvPr/>
        </p:nvGrpSpPr>
        <p:grpSpPr>
          <a:xfrm>
            <a:off x="957240" y="1488960"/>
            <a:ext cx="3693960" cy="4606920"/>
            <a:chOff x="957240" y="1488960"/>
            <a:chExt cx="3693960" cy="4606920"/>
          </a:xfrm>
        </p:grpSpPr>
        <p:sp>
          <p:nvSpPr>
            <p:cNvPr id="402" name=""/>
            <p:cNvSpPr/>
            <p:nvPr/>
          </p:nvSpPr>
          <p:spPr>
            <a:xfrm>
              <a:off x="1803240" y="2620800"/>
              <a:ext cx="777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82920" y="3429000"/>
              <a:ext cx="2030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736280" y="2448000"/>
              <a:ext cx="78444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95320" y="1560600"/>
              <a:ext cx="0" cy="8636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1809360" y="1488960"/>
              <a:ext cx="755640" cy="10130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20840" y="1622520"/>
              <a:ext cx="41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57240" y="2046240"/>
              <a:ext cx="64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31960" y="1630440"/>
              <a:ext cx="40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21280" y="5665680"/>
              <a:ext cx="529920" cy="430200"/>
            </a:xfrm>
            <a:prstGeom prst="rightArrow">
              <a:avLst>
                <a:gd name="adj1" fmla="val 50000"/>
                <a:gd name="adj2" fmla="val 615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28920" y="2757600"/>
              <a:ext cx="903240" cy="1174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60880" y="4021200"/>
              <a:ext cx="312480" cy="334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14800" y="4033800"/>
              <a:ext cx="42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4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9000" y="4448160"/>
              <a:ext cx="0" cy="7462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703600" y="3120840"/>
              <a:ext cx="698400" cy="8744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49640" y="3292560"/>
              <a:ext cx="555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1920" y="4933800"/>
              <a:ext cx="74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51160" y="3170160"/>
              <a:ext cx="37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81400" y="2874960"/>
              <a:ext cx="0" cy="8445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سنج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عداد را جاگذاری کین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 سرعت اتومبیل در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ثانیه ا 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س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6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ph = 60 x 0.45 m/s = 27 m/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        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a =  Δv/Δt = 2.7 m/s</a:t>
            </a:r>
            <a:r>
              <a:rPr b="0" i="1" lang="en-US" sz="2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/g = 2.7 / 9.8 = 0.28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arctan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a/g) = 15.6 de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814400" y="5048280"/>
          <a:ext cx="534852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5048280"/>
                    <a:ext cx="53485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6" name=""/>
          <p:cNvGrpSpPr/>
          <p:nvPr/>
        </p:nvGrpSpPr>
        <p:grpSpPr>
          <a:xfrm>
            <a:off x="2590920" y="5076720"/>
            <a:ext cx="2127240" cy="666720"/>
            <a:chOff x="2590920" y="5076720"/>
            <a:chExt cx="2127240" cy="666720"/>
          </a:xfrm>
        </p:grpSpPr>
        <p:sp>
          <p:nvSpPr>
            <p:cNvPr id="427" name=""/>
            <p:cNvSpPr/>
            <p:nvPr/>
          </p:nvSpPr>
          <p:spPr>
            <a:xfrm flipH="1">
              <a:off x="2590920" y="5462640"/>
              <a:ext cx="7286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84320" y="5076720"/>
              <a:ext cx="22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61040" y="521028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67160" y="5210280"/>
              <a:ext cx="263520" cy="376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08360" y="5587920"/>
              <a:ext cx="98640" cy="74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11720" y="5380200"/>
              <a:ext cx="40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19120" y="6554880"/>
            <a:ext cx="4346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طح شیبدا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177120" indent="-177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خته ا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سطح شیبداری به شیب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 به افق به پپایین می لغز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 چقد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597040" y="3078720"/>
            <a:ext cx="2882880" cy="2096640"/>
            <a:chOff x="2597040" y="3078720"/>
            <a:chExt cx="2882880" cy="2096640"/>
          </a:xfrm>
        </p:grpSpPr>
        <p:sp>
          <p:nvSpPr>
            <p:cNvPr id="439" name=""/>
            <p:cNvSpPr/>
            <p:nvPr/>
          </p:nvSpPr>
          <p:spPr>
            <a:xfrm>
              <a:off x="2597040" y="3511440"/>
              <a:ext cx="2882880" cy="1663920"/>
            </a:xfrm>
            <a:prstGeom prst="rtTriangle">
              <a:avLst/>
            </a:prstGeom>
            <a:solidFill>
              <a:srgbClr val="037c03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83000" y="4754520"/>
              <a:ext cx="40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">
              <a:off x="2901960" y="3206880"/>
              <a:ext cx="673200" cy="596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51000" y="3354480"/>
              <a:ext cx="53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11440" y="3740040"/>
              <a:ext cx="520920" cy="292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89440" y="3583080"/>
              <a:ext cx="834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19120" y="6494400"/>
            <a:ext cx="45147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طح شیبدا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حورهای مختصات را موازی و عمود برسطح شیبدار تعریف می ک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40160" y="3048120"/>
            <a:ext cx="3706560" cy="2133360"/>
            <a:chOff x="2540160" y="3048120"/>
            <a:chExt cx="3706560" cy="2133360"/>
          </a:xfrm>
        </p:grpSpPr>
        <p:sp>
          <p:nvSpPr>
            <p:cNvPr id="451" name=""/>
            <p:cNvSpPr/>
            <p:nvPr/>
          </p:nvSpPr>
          <p:spPr>
            <a:xfrm rot="1800000">
              <a:off x="2901960" y="3206880"/>
              <a:ext cx="673200" cy="596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08480" y="4754520"/>
              <a:ext cx="40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75040" y="3354480"/>
              <a:ext cx="53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17920" y="3746520"/>
              <a:ext cx="507960" cy="2793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9440" y="3583080"/>
              <a:ext cx="834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r>
                <a:rPr b="1" i="1" lang="en-US" sz="2000" spc="-1" strike="noStrike">
                  <a:solidFill>
                    <a:srgbClr val="f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40160" y="3530520"/>
              <a:ext cx="2844720" cy="162576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108320" y="5181480"/>
              <a:ext cx="1308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5167440" y="3048120"/>
              <a:ext cx="1079280" cy="1885680"/>
              <a:chOff x="5167440" y="3048120"/>
              <a:chExt cx="1079280" cy="1885680"/>
            </a:xfrm>
          </p:grpSpPr>
          <p:sp>
            <p:nvSpPr>
              <p:cNvPr id="459" name=""/>
              <p:cNvSpPr/>
              <p:nvPr/>
            </p:nvSpPr>
            <p:spPr>
              <a:xfrm>
                <a:off x="5195880" y="4014720"/>
                <a:ext cx="706320" cy="4064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00600" y="4570560"/>
                <a:ext cx="546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67440" y="3048120"/>
                <a:ext cx="546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199120" y="3316320"/>
                <a:ext cx="406440" cy="70632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51240" y="4067280"/>
            <a:ext cx="2946240" cy="187956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طح شیبدا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لف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طور جداگانه درنظربگیری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: 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g si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 = g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:  N -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g cos </a:t>
            </a:r>
            <a:r>
              <a:rPr b="0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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= mg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365200" y="481824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78120" y="2111400"/>
            <a:ext cx="344520" cy="315720"/>
          </a:xfrm>
          <a:prstGeom prst="rightArrow">
            <a:avLst>
              <a:gd name="adj1" fmla="val 50000"/>
              <a:gd name="adj2" fmla="val 54566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2133720"/>
            <a:ext cx="1676520" cy="380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57600" y="2895480"/>
            <a:ext cx="344520" cy="316080"/>
          </a:xfrm>
          <a:prstGeom prst="rightArrow">
            <a:avLst>
              <a:gd name="adj1" fmla="val 50000"/>
              <a:gd name="adj2" fmla="val 54504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2819520"/>
            <a:ext cx="1752480" cy="380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577600" y="3773520"/>
            <a:ext cx="3643560" cy="2322360"/>
            <a:chOff x="2577600" y="3773520"/>
            <a:chExt cx="3643560" cy="2322360"/>
          </a:xfrm>
        </p:grpSpPr>
        <p:sp>
          <p:nvSpPr>
            <p:cNvPr id="473" name=""/>
            <p:cNvSpPr/>
            <p:nvPr/>
          </p:nvSpPr>
          <p:spPr>
            <a:xfrm rot="1980000">
              <a:off x="2901600" y="3908520"/>
              <a:ext cx="673200" cy="596880"/>
            </a:xfrm>
            <a:prstGeom prst="rect">
              <a:avLst/>
            </a:prstGeom>
            <a:noFill/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77600" y="4524480"/>
              <a:ext cx="482760" cy="81252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8120" y="4524480"/>
              <a:ext cx="0" cy="11174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22400" y="5732640"/>
              <a:ext cx="758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55920" y="4437000"/>
              <a:ext cx="1216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mg sin </a:t>
              </a:r>
              <a:r>
                <a:rPr b="0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27320" y="5275440"/>
              <a:ext cx="1216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mg cos </a:t>
              </a:r>
              <a:r>
                <a:rPr b="0" lang="en-US" sz="2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84600" y="4884840"/>
              <a:ext cx="40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99000" y="4014720"/>
              <a:ext cx="431640" cy="2793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08600" y="3781440"/>
              <a:ext cx="75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5141880" y="3848040"/>
              <a:ext cx="1079280" cy="1885680"/>
              <a:chOff x="5141880" y="3848040"/>
              <a:chExt cx="1079280" cy="1885680"/>
            </a:xfrm>
          </p:grpSpPr>
          <p:sp>
            <p:nvSpPr>
              <p:cNvPr id="483" name=""/>
              <p:cNvSpPr/>
              <p:nvPr/>
            </p:nvSpPr>
            <p:spPr>
              <a:xfrm>
                <a:off x="5170320" y="4814640"/>
                <a:ext cx="706320" cy="4064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675040" y="5370480"/>
                <a:ext cx="546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141880" y="3848040"/>
                <a:ext cx="546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173560" y="4116240"/>
                <a:ext cx="406440" cy="70632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 flipH="1">
              <a:off x="3090960" y="4838760"/>
              <a:ext cx="420480" cy="7048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3080" y="4527720"/>
              <a:ext cx="508320" cy="358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طح شیبدا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پاسخ با توجه به بردارها وقانون دوم نیوتن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758960" y="2641680"/>
            <a:ext cx="4487760" cy="3041640"/>
            <a:chOff x="1758960" y="2641680"/>
            <a:chExt cx="4487760" cy="3041640"/>
          </a:xfrm>
        </p:grpSpPr>
        <p:sp>
          <p:nvSpPr>
            <p:cNvPr id="494" name=""/>
            <p:cNvSpPr/>
            <p:nvPr/>
          </p:nvSpPr>
          <p:spPr>
            <a:xfrm rot="1920000">
              <a:off x="2901600" y="2800080"/>
              <a:ext cx="673200" cy="596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75040" y="2948040"/>
              <a:ext cx="53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577600" y="3416400"/>
              <a:ext cx="482760" cy="812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8120" y="3416400"/>
              <a:ext cx="0" cy="11174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27320" y="3862440"/>
              <a:ext cx="758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65200" y="371016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603520" y="4254480"/>
              <a:ext cx="431640" cy="27936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63840" y="3048120"/>
              <a:ext cx="2921040" cy="17017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58960" y="4781520"/>
              <a:ext cx="2197080" cy="90180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08000" y="4853160"/>
              <a:ext cx="213048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g sin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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mg cos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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84600" y="3776760"/>
              <a:ext cx="40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5167440" y="2641680"/>
              <a:ext cx="1079280" cy="1885680"/>
              <a:chOff x="5167440" y="2641680"/>
              <a:chExt cx="1079280" cy="1885680"/>
            </a:xfrm>
          </p:grpSpPr>
          <p:sp>
            <p:nvSpPr>
              <p:cNvPr id="506" name=""/>
              <p:cNvSpPr/>
              <p:nvPr/>
            </p:nvSpPr>
            <p:spPr>
              <a:xfrm>
                <a:off x="5195880" y="3608280"/>
                <a:ext cx="706320" cy="4064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700600" y="4164120"/>
                <a:ext cx="546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167440" y="2641680"/>
                <a:ext cx="546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5199120" y="2909880"/>
                <a:ext cx="406440" cy="70632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زوایای یک سطح شیبدا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90680" y="2917800"/>
            <a:ext cx="4287960" cy="2478240"/>
            <a:chOff x="2290680" y="2917800"/>
            <a:chExt cx="4287960" cy="2478240"/>
          </a:xfrm>
        </p:grpSpPr>
        <p:grpSp>
          <p:nvGrpSpPr>
            <p:cNvPr id="512" name=""/>
            <p:cNvGrpSpPr/>
            <p:nvPr/>
          </p:nvGrpSpPr>
          <p:grpSpPr>
            <a:xfrm>
              <a:off x="2290680" y="2968560"/>
              <a:ext cx="4108680" cy="2427480"/>
              <a:chOff x="2290680" y="2968560"/>
              <a:chExt cx="4108680" cy="2427480"/>
            </a:xfrm>
          </p:grpSpPr>
          <p:sp>
            <p:nvSpPr>
              <p:cNvPr id="513" name=""/>
              <p:cNvSpPr/>
              <p:nvPr/>
            </p:nvSpPr>
            <p:spPr>
              <a:xfrm rot="1860000">
                <a:off x="3898800" y="3429000"/>
                <a:ext cx="673200" cy="596880"/>
              </a:xfrm>
              <a:prstGeom prst="rect">
                <a:avLst/>
              </a:prstGeom>
              <a:noFill/>
              <a:ln w="1908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290680" y="2968560"/>
                <a:ext cx="4108680" cy="2408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07200" y="4989600"/>
                <a:ext cx="406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2422440" y="5389560"/>
                <a:ext cx="3919680" cy="6480"/>
              </a:xfrm>
              <a:prstGeom prst="line">
                <a:avLst/>
              </a:prstGeom>
              <a:ln w="28440">
                <a:solidFill>
                  <a:srgbClr val="00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794040" y="4335480"/>
              <a:ext cx="40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343400" y="2917800"/>
              <a:ext cx="2235240" cy="466920"/>
              <a:chOff x="4343400" y="2917800"/>
              <a:chExt cx="2235240" cy="466920"/>
            </a:xfrm>
          </p:grpSpPr>
          <p:sp>
            <p:nvSpPr>
              <p:cNvPr id="519" name=""/>
              <p:cNvSpPr/>
              <p:nvPr/>
            </p:nvSpPr>
            <p:spPr>
              <a:xfrm>
                <a:off x="4343400" y="3124080"/>
                <a:ext cx="417600" cy="260640"/>
              </a:xfrm>
              <a:prstGeom prst="line">
                <a:avLst/>
              </a:prstGeom>
              <a:ln w="25560">
                <a:solidFill>
                  <a:srgbClr val="f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84600" y="2917800"/>
                <a:ext cx="1994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c0000"/>
                    </a:solidFill>
                    <a:latin typeface="Arial"/>
                  </a:rPr>
                  <a:t>ma = mg sin </a:t>
                </a:r>
                <a:r>
                  <a:rPr b="0" lang="en-US" sz="2000" spc="-1" strike="noStrike">
                    <a:solidFill>
                      <a:srgbClr val="fc0000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4127400" y="4629240"/>
              <a:ext cx="758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62320" y="4281480"/>
              <a:ext cx="45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479760" y="4030560"/>
              <a:ext cx="582480" cy="10000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200" y="4032360"/>
              <a:ext cx="0" cy="13366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3465000" y="5033880"/>
              <a:ext cx="582840" cy="33840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807200">
              <a:off x="3503520" y="4952880"/>
              <a:ext cx="123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57560" y="5195880"/>
              <a:ext cx="190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38640" y="5195880"/>
              <a:ext cx="0" cy="1810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546200" y="1941480"/>
            <a:ext cx="62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لث ها در شکل زیر متشابهند لذا زوایا با هم برابر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نیروها و حرکت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79920" indent="-7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= 5.1 k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سطح بدون اصطکاکی به فنری به سخت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 = 125 N/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سته شد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قتی سطح افقی است و ضعیت تعادل در نق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قتی زاویه شیب سط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o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ود و ضعیت تعاد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شود مقدار آن چقدراست؟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9920" indent="-7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20c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(b)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25c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(c)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30c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632448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920880" y="3890160"/>
            <a:ext cx="7097040" cy="1983600"/>
            <a:chOff x="920880" y="3890160"/>
            <a:chExt cx="7097040" cy="1983600"/>
          </a:xfrm>
        </p:grpSpPr>
        <p:grpSp>
          <p:nvGrpSpPr>
            <p:cNvPr id="534" name=""/>
            <p:cNvGrpSpPr/>
            <p:nvPr/>
          </p:nvGrpSpPr>
          <p:grpSpPr>
            <a:xfrm>
              <a:off x="920880" y="4789440"/>
              <a:ext cx="3263760" cy="1084320"/>
              <a:chOff x="920880" y="4789440"/>
              <a:chExt cx="3263760" cy="108432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982440" y="5346360"/>
                <a:ext cx="1911240" cy="457560"/>
                <a:chOff x="982440" y="5346360"/>
                <a:chExt cx="1911240" cy="45756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1135080" y="5346360"/>
                  <a:ext cx="401760" cy="457560"/>
                  <a:chOff x="1135080" y="5346360"/>
                  <a:chExt cx="401760" cy="457560"/>
                </a:xfrm>
              </p:grpSpPr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1135080" y="5346360"/>
                    <a:ext cx="201600" cy="457560"/>
                    <a:chOff x="1135080" y="5346360"/>
                    <a:chExt cx="201600" cy="45756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V="1">
                      <a:off x="1135080" y="534636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1184400" y="5346720"/>
                      <a:ext cx="507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40" name=""/>
                    <p:cNvGrpSpPr/>
                    <p:nvPr/>
                  </p:nvGrpSpPr>
                  <p:grpSpPr>
                    <a:xfrm>
                      <a:off x="1235160" y="5574960"/>
                      <a:ext cx="101520" cy="228960"/>
                      <a:chOff x="1235160" y="5574960"/>
                      <a:chExt cx="101520" cy="228960"/>
                    </a:xfrm>
                  </p:grpSpPr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1235160" y="5575320"/>
                        <a:ext cx="5220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"/>
                      <p:cNvSpPr/>
                      <p:nvPr/>
                    </p:nvSpPr>
                    <p:spPr>
                      <a:xfrm flipV="1">
                        <a:off x="1287360" y="5574960"/>
                        <a:ext cx="4932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1336680" y="5346360"/>
                    <a:ext cx="200160" cy="457560"/>
                    <a:chOff x="1336680" y="5346360"/>
                    <a:chExt cx="200160" cy="45756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1336680" y="534636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1386000" y="5346720"/>
                      <a:ext cx="507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1436760" y="5574960"/>
                      <a:ext cx="100080" cy="228960"/>
                      <a:chOff x="1436760" y="5574960"/>
                      <a:chExt cx="100080" cy="228960"/>
                    </a:xfrm>
                  </p:grpSpPr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1436760" y="5575320"/>
                        <a:ext cx="4932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 flipV="1">
                        <a:off x="1486080" y="5574960"/>
                        <a:ext cx="5076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1536840" y="5346360"/>
                  <a:ext cx="401400" cy="457560"/>
                  <a:chOff x="1536840" y="5346360"/>
                  <a:chExt cx="401400" cy="457560"/>
                </a:xfrm>
              </p:grpSpPr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1536840" y="5346360"/>
                    <a:ext cx="199800" cy="457560"/>
                    <a:chOff x="1536840" y="5346360"/>
                    <a:chExt cx="199800" cy="45756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V="1">
                      <a:off x="1536840" y="5346360"/>
                      <a:ext cx="507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1587600" y="5346720"/>
                      <a:ext cx="489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53" name=""/>
                    <p:cNvGrpSpPr/>
                    <p:nvPr/>
                  </p:nvGrpSpPr>
                  <p:grpSpPr>
                    <a:xfrm>
                      <a:off x="1636560" y="5574960"/>
                      <a:ext cx="100080" cy="228960"/>
                      <a:chOff x="1636560" y="5574960"/>
                      <a:chExt cx="100080" cy="228960"/>
                    </a:xfrm>
                  </p:grpSpPr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1636560" y="5575320"/>
                        <a:ext cx="4932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"/>
                      <p:cNvSpPr/>
                      <p:nvPr/>
                    </p:nvSpPr>
                    <p:spPr>
                      <a:xfrm flipV="1">
                        <a:off x="1685880" y="5574960"/>
                        <a:ext cx="5076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1736640" y="5346360"/>
                    <a:ext cx="201600" cy="457560"/>
                    <a:chOff x="1736640" y="5346360"/>
                    <a:chExt cx="201600" cy="4575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V="1">
                      <a:off x="1736640" y="534636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1785960" y="5346720"/>
                      <a:ext cx="5220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59" name=""/>
                    <p:cNvGrpSpPr/>
                    <p:nvPr/>
                  </p:nvGrpSpPr>
                  <p:grpSpPr>
                    <a:xfrm>
                      <a:off x="1838160" y="5574960"/>
                      <a:ext cx="100080" cy="228960"/>
                      <a:chOff x="1838160" y="5574960"/>
                      <a:chExt cx="100080" cy="228960"/>
                    </a:xfrm>
                  </p:grpSpPr>
                  <p:sp>
                    <p:nvSpPr>
                      <p:cNvPr id="560" name=""/>
                      <p:cNvSpPr/>
                      <p:nvPr/>
                    </p:nvSpPr>
                    <p:spPr>
                      <a:xfrm>
                        <a:off x="1838160" y="5575320"/>
                        <a:ext cx="5112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1" name=""/>
                      <p:cNvSpPr/>
                      <p:nvPr/>
                    </p:nvSpPr>
                    <p:spPr>
                      <a:xfrm flipV="1">
                        <a:off x="1889280" y="5574960"/>
                        <a:ext cx="4896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1938240" y="5346360"/>
                  <a:ext cx="403200" cy="457560"/>
                  <a:chOff x="1938240" y="5346360"/>
                  <a:chExt cx="403200" cy="457560"/>
                </a:xfrm>
              </p:grpSpPr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1938240" y="5346360"/>
                    <a:ext cx="201600" cy="457560"/>
                    <a:chOff x="1938240" y="5346360"/>
                    <a:chExt cx="201600" cy="45756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V="1">
                      <a:off x="1938240" y="534636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1987560" y="5346720"/>
                      <a:ext cx="507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66" name=""/>
                    <p:cNvGrpSpPr/>
                    <p:nvPr/>
                  </p:nvGrpSpPr>
                  <p:grpSpPr>
                    <a:xfrm>
                      <a:off x="2038320" y="5574960"/>
                      <a:ext cx="101520" cy="228960"/>
                      <a:chOff x="2038320" y="5574960"/>
                      <a:chExt cx="101520" cy="228960"/>
                    </a:xfrm>
                  </p:grpSpPr>
                  <p:sp>
                    <p:nvSpPr>
                      <p:cNvPr id="567" name=""/>
                      <p:cNvSpPr/>
                      <p:nvPr/>
                    </p:nvSpPr>
                    <p:spPr>
                      <a:xfrm>
                        <a:off x="2038320" y="5575320"/>
                        <a:ext cx="5256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8" name=""/>
                      <p:cNvSpPr/>
                      <p:nvPr/>
                    </p:nvSpPr>
                    <p:spPr>
                      <a:xfrm flipV="1">
                        <a:off x="2090880" y="5574960"/>
                        <a:ext cx="4896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2139840" y="5346360"/>
                    <a:ext cx="201600" cy="457560"/>
                    <a:chOff x="2139840" y="5346360"/>
                    <a:chExt cx="201600" cy="45756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V="1">
                      <a:off x="2139840" y="5346360"/>
                      <a:ext cx="507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2190600" y="534672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72" name=""/>
                    <p:cNvGrpSpPr/>
                    <p:nvPr/>
                  </p:nvGrpSpPr>
                  <p:grpSpPr>
                    <a:xfrm>
                      <a:off x="2239920" y="5574960"/>
                      <a:ext cx="101520" cy="228960"/>
                      <a:chOff x="2239920" y="5574960"/>
                      <a:chExt cx="101520" cy="228960"/>
                    </a:xfrm>
                  </p:grpSpPr>
                  <p:sp>
                    <p:nvSpPr>
                      <p:cNvPr id="573" name=""/>
                      <p:cNvSpPr/>
                      <p:nvPr/>
                    </p:nvSpPr>
                    <p:spPr>
                      <a:xfrm>
                        <a:off x="2239920" y="5575320"/>
                        <a:ext cx="4932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 flipV="1">
                        <a:off x="2289240" y="5574960"/>
                        <a:ext cx="5220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2341440" y="5346360"/>
                  <a:ext cx="400320" cy="457560"/>
                  <a:chOff x="2341440" y="5346360"/>
                  <a:chExt cx="400320" cy="457560"/>
                </a:xfrm>
              </p:grpSpPr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2341440" y="5346360"/>
                    <a:ext cx="198720" cy="457560"/>
                    <a:chOff x="2341440" y="5346360"/>
                    <a:chExt cx="198720" cy="45756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flipV="1">
                      <a:off x="2341440" y="534636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2390760" y="534672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79" name=""/>
                    <p:cNvGrpSpPr/>
                    <p:nvPr/>
                  </p:nvGrpSpPr>
                  <p:grpSpPr>
                    <a:xfrm>
                      <a:off x="2440080" y="5574960"/>
                      <a:ext cx="100080" cy="228960"/>
                      <a:chOff x="2440080" y="5574960"/>
                      <a:chExt cx="100080" cy="228960"/>
                    </a:xfrm>
                  </p:grpSpPr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2440080" y="5575320"/>
                        <a:ext cx="5076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 flipV="1">
                        <a:off x="2490840" y="5574960"/>
                        <a:ext cx="4932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2540160" y="5346360"/>
                    <a:ext cx="201600" cy="457560"/>
                    <a:chOff x="2540160" y="5346360"/>
                    <a:chExt cx="201600" cy="45756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flipV="1">
                      <a:off x="2540160" y="5346360"/>
                      <a:ext cx="489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2589120" y="5346720"/>
                      <a:ext cx="525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2641680" y="5574960"/>
                      <a:ext cx="100080" cy="228960"/>
                      <a:chOff x="2641680" y="5574960"/>
                      <a:chExt cx="100080" cy="22896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2641680" y="5575320"/>
                        <a:ext cx="5076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 flipV="1">
                        <a:off x="2692440" y="5574960"/>
                        <a:ext cx="49320" cy="228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88" name=""/>
                <p:cNvSpPr/>
                <p:nvPr/>
              </p:nvSpPr>
              <p:spPr>
                <a:xfrm flipH="1">
                  <a:off x="982440" y="5575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>
                  <a:off x="2741400" y="5575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920880" y="5124240"/>
                <a:ext cx="55440" cy="6732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920880" y="5810040"/>
                <a:ext cx="3263760" cy="637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94040" y="4965480"/>
                <a:ext cx="0" cy="838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55280" y="4789440"/>
                <a:ext cx="1316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x = 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84320" y="5276880"/>
                <a:ext cx="533520" cy="52056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45640" y="5398920"/>
                <a:ext cx="968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432440" y="4941720"/>
                <a:ext cx="884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938840" y="4940280"/>
              <a:ext cx="1207800" cy="755640"/>
              <a:chOff x="4938840" y="4940280"/>
              <a:chExt cx="1207800" cy="75564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4979880" y="5248080"/>
                <a:ext cx="362160" cy="447840"/>
                <a:chOff x="4979880" y="5248080"/>
                <a:chExt cx="362160" cy="447840"/>
              </a:xfrm>
            </p:grpSpPr>
            <p:grpSp>
              <p:nvGrpSpPr>
                <p:cNvPr id="599" name=""/>
                <p:cNvGrpSpPr/>
                <p:nvPr/>
              </p:nvGrpSpPr>
              <p:grpSpPr>
                <a:xfrm>
                  <a:off x="4979880" y="5298480"/>
                  <a:ext cx="236520" cy="397440"/>
                  <a:chOff x="4979880" y="5298480"/>
                  <a:chExt cx="236520" cy="3974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 flipV="1">
                    <a:off x="4979880" y="5298480"/>
                    <a:ext cx="54000" cy="225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4979880" y="5298840"/>
                    <a:ext cx="117720" cy="2001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097600" y="5472000"/>
                    <a:ext cx="118800" cy="223920"/>
                    <a:chOff x="5097600" y="5472000"/>
                    <a:chExt cx="118800" cy="2239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5097600" y="5499000"/>
                      <a:ext cx="118800" cy="196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flipV="1">
                      <a:off x="5160960" y="5472000"/>
                      <a:ext cx="55440" cy="223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5106960" y="5248080"/>
                  <a:ext cx="235080" cy="398520"/>
                  <a:chOff x="5106960" y="5248080"/>
                  <a:chExt cx="235080" cy="3985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flipH="1" flipV="1">
                    <a:off x="5106960" y="5248080"/>
                    <a:ext cx="54000" cy="223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106960" y="5248080"/>
                    <a:ext cx="117360" cy="198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224320" y="5421240"/>
                    <a:ext cx="117720" cy="225360"/>
                    <a:chOff x="5224320" y="5421240"/>
                    <a:chExt cx="117720" cy="22536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5224320" y="5446440"/>
                      <a:ext cx="117720" cy="2001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flipV="1">
                      <a:off x="5288040" y="5421240"/>
                      <a:ext cx="54000" cy="225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1" name=""/>
              <p:cNvGrpSpPr/>
              <p:nvPr/>
            </p:nvGrpSpPr>
            <p:grpSpPr>
              <a:xfrm>
                <a:off x="5235480" y="5145120"/>
                <a:ext cx="360360" cy="449280"/>
                <a:chOff x="5235480" y="5145120"/>
                <a:chExt cx="360360" cy="449280"/>
              </a:xfrm>
            </p:grpSpPr>
            <p:grpSp>
              <p:nvGrpSpPr>
                <p:cNvPr id="612" name=""/>
                <p:cNvGrpSpPr/>
                <p:nvPr/>
              </p:nvGrpSpPr>
              <p:grpSpPr>
                <a:xfrm>
                  <a:off x="5235480" y="5195880"/>
                  <a:ext cx="233280" cy="398520"/>
                  <a:chOff x="5235480" y="5195880"/>
                  <a:chExt cx="233280" cy="3985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 flipV="1">
                    <a:off x="5235480" y="5195880"/>
                    <a:ext cx="52560" cy="225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5235480" y="5195880"/>
                    <a:ext cx="115920" cy="1998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5351400" y="5370480"/>
                    <a:ext cx="117360" cy="223920"/>
                    <a:chOff x="5351400" y="5370480"/>
                    <a:chExt cx="117360" cy="22392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5351400" y="5395680"/>
                      <a:ext cx="117360" cy="198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flipH="1" flipV="1">
                      <a:off x="5414760" y="5370480"/>
                      <a:ext cx="53640" cy="223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5358960" y="5145120"/>
                  <a:ext cx="236880" cy="398160"/>
                  <a:chOff x="5358960" y="5145120"/>
                  <a:chExt cx="236880" cy="3981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 flipV="1">
                    <a:off x="5358960" y="5145120"/>
                    <a:ext cx="55800" cy="225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359320" y="5145120"/>
                    <a:ext cx="120600" cy="198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5479920" y="5317920"/>
                    <a:ext cx="115920" cy="225360"/>
                    <a:chOff x="5479920" y="5317920"/>
                    <a:chExt cx="115920" cy="22536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5479920" y="5343480"/>
                      <a:ext cx="115920" cy="1998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flipH="1" flipV="1">
                      <a:off x="5543280" y="5317920"/>
                      <a:ext cx="52200" cy="225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24" name=""/>
              <p:cNvGrpSpPr/>
              <p:nvPr/>
            </p:nvGrpSpPr>
            <p:grpSpPr>
              <a:xfrm>
                <a:off x="5487480" y="5041800"/>
                <a:ext cx="362520" cy="449280"/>
                <a:chOff x="5487480" y="5041800"/>
                <a:chExt cx="362520" cy="449280"/>
              </a:xfrm>
            </p:grpSpPr>
            <p:grpSp>
              <p:nvGrpSpPr>
                <p:cNvPr id="625" name=""/>
                <p:cNvGrpSpPr/>
                <p:nvPr/>
              </p:nvGrpSpPr>
              <p:grpSpPr>
                <a:xfrm>
                  <a:off x="5487480" y="5094000"/>
                  <a:ext cx="236880" cy="397080"/>
                  <a:chOff x="5487480" y="5094000"/>
                  <a:chExt cx="236880" cy="39708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flipV="1">
                    <a:off x="5487480" y="5094000"/>
                    <a:ext cx="55800" cy="2235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5487840" y="5094360"/>
                    <a:ext cx="117720" cy="198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5605560" y="5267160"/>
                    <a:ext cx="118800" cy="223920"/>
                    <a:chOff x="5605560" y="5267160"/>
                    <a:chExt cx="118800" cy="223920"/>
                  </a:xfrm>
                </p:grpSpPr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5605560" y="5292720"/>
                      <a:ext cx="118800" cy="198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flipH="1" flipV="1">
                      <a:off x="5668920" y="5267160"/>
                      <a:ext cx="55440" cy="223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5616360" y="5041800"/>
                  <a:ext cx="233640" cy="398520"/>
                  <a:chOff x="5616360" y="5041800"/>
                  <a:chExt cx="233640" cy="3985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flipV="1">
                    <a:off x="5616360" y="5041800"/>
                    <a:ext cx="52200" cy="225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616720" y="5041800"/>
                    <a:ext cx="115920" cy="2001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5732640" y="5214960"/>
                    <a:ext cx="117360" cy="225360"/>
                    <a:chOff x="5732640" y="5214960"/>
                    <a:chExt cx="117360" cy="22536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5732640" y="5241960"/>
                      <a:ext cx="117360" cy="198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flipH="1" flipV="1">
                      <a:off x="5797440" y="5214960"/>
                      <a:ext cx="52560" cy="225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37" name=""/>
              <p:cNvGrpSpPr/>
              <p:nvPr/>
            </p:nvGrpSpPr>
            <p:grpSpPr>
              <a:xfrm>
                <a:off x="5743440" y="4940280"/>
                <a:ext cx="360360" cy="449280"/>
                <a:chOff x="5743440" y="4940280"/>
                <a:chExt cx="360360" cy="449280"/>
              </a:xfrm>
            </p:grpSpPr>
            <p:grpSp>
              <p:nvGrpSpPr>
                <p:cNvPr id="638" name=""/>
                <p:cNvGrpSpPr/>
                <p:nvPr/>
              </p:nvGrpSpPr>
              <p:grpSpPr>
                <a:xfrm>
                  <a:off x="5743440" y="4991040"/>
                  <a:ext cx="233640" cy="398520"/>
                  <a:chOff x="5743440" y="4991040"/>
                  <a:chExt cx="233640" cy="39852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flipH="1" flipV="1">
                    <a:off x="5743440" y="4991040"/>
                    <a:ext cx="54000" cy="223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743440" y="4991040"/>
                    <a:ext cx="115920" cy="2001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859360" y="5164200"/>
                    <a:ext cx="117720" cy="225360"/>
                    <a:chOff x="5859360" y="5164200"/>
                    <a:chExt cx="117720" cy="22536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5859360" y="5191200"/>
                      <a:ext cx="117720" cy="198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flipV="1">
                      <a:off x="5923080" y="5164200"/>
                      <a:ext cx="54000" cy="225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5866920" y="4940280"/>
                  <a:ext cx="236880" cy="398520"/>
                  <a:chOff x="5866920" y="4940280"/>
                  <a:chExt cx="236880" cy="3985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H="1" flipV="1">
                    <a:off x="5866920" y="4940280"/>
                    <a:ext cx="55800" cy="223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5867280" y="4940280"/>
                    <a:ext cx="120600" cy="198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5987880" y="5112720"/>
                    <a:ext cx="115920" cy="226080"/>
                    <a:chOff x="5987880" y="5112720"/>
                    <a:chExt cx="115920" cy="22608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5987880" y="5138640"/>
                      <a:ext cx="115920" cy="2001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flipV="1">
                      <a:off x="6051240" y="5112720"/>
                      <a:ext cx="52200" cy="225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50" name=""/>
              <p:cNvSpPr/>
              <p:nvPr/>
            </p:nvSpPr>
            <p:spPr>
              <a:xfrm flipH="1">
                <a:off x="4938840" y="5524560"/>
                <a:ext cx="95040" cy="3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6051600" y="5073480"/>
                <a:ext cx="95040" cy="3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rot="20280000">
              <a:off x="4835520" y="5132160"/>
              <a:ext cx="55440" cy="674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280000">
              <a:off x="4862520" y="5189400"/>
              <a:ext cx="3262320" cy="637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19960" y="4335480"/>
              <a:ext cx="314280" cy="77796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280000">
              <a:off x="5157000" y="4137120"/>
              <a:ext cx="13986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280000">
              <a:off x="6102000" y="4682880"/>
              <a:ext cx="533520" cy="5205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280000">
              <a:off x="5882040" y="4809960"/>
              <a:ext cx="968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0280000">
              <a:off x="5153400" y="4627440"/>
              <a:ext cx="88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878440" y="4487760"/>
              <a:ext cx="314280" cy="77652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937120" y="4280040"/>
              <a:ext cx="565200" cy="226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644440" y="5475240"/>
              <a:ext cx="154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30</a:t>
              </a:r>
              <a:r>
                <a:rPr b="0" i="1" lang="en-US" sz="2000" spc="-1" strike="noStrike" baseline="30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467080" y="3449880"/>
            <a:ext cx="5137560" cy="2657520"/>
            <a:chOff x="2467080" y="3449880"/>
            <a:chExt cx="5137560" cy="2657520"/>
          </a:xfrm>
        </p:grpSpPr>
        <p:sp>
          <p:nvSpPr>
            <p:cNvPr id="664" name=""/>
            <p:cNvSpPr/>
            <p:nvPr/>
          </p:nvSpPr>
          <p:spPr>
            <a:xfrm>
              <a:off x="2467080" y="6095880"/>
              <a:ext cx="1800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2909520" y="4667040"/>
              <a:ext cx="1838520" cy="1148040"/>
              <a:chOff x="2909520" y="4667040"/>
              <a:chExt cx="1838520" cy="114804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2971440" y="5135040"/>
                <a:ext cx="551160" cy="680040"/>
                <a:chOff x="2971440" y="5135040"/>
                <a:chExt cx="551160" cy="68004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2971440" y="5211360"/>
                  <a:ext cx="360720" cy="603720"/>
                  <a:chOff x="2971440" y="5211360"/>
                  <a:chExt cx="360720" cy="60372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 flipH="1" flipV="1">
                    <a:off x="2971440" y="5211360"/>
                    <a:ext cx="82440" cy="344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971800" y="5211720"/>
                    <a:ext cx="181080" cy="304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152880" y="5476680"/>
                    <a:ext cx="179280" cy="338400"/>
                    <a:chOff x="3152880" y="5476680"/>
                    <a:chExt cx="179280" cy="33840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3152880" y="5516640"/>
                      <a:ext cx="179280" cy="298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flipV="1">
                      <a:off x="3249360" y="5476680"/>
                      <a:ext cx="82440" cy="3380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3165480" y="5135040"/>
                  <a:ext cx="357120" cy="606960"/>
                  <a:chOff x="3165480" y="5135040"/>
                  <a:chExt cx="357120" cy="60696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 flipH="1" flipV="1">
                    <a:off x="3165480" y="5135040"/>
                    <a:ext cx="84240" cy="341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3165480" y="5135400"/>
                    <a:ext cx="181080" cy="30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3346560" y="5398560"/>
                    <a:ext cx="176040" cy="343440"/>
                    <a:chOff x="3346560" y="5398560"/>
                    <a:chExt cx="176040" cy="34344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3346560" y="5437080"/>
                      <a:ext cx="176040" cy="304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flipV="1">
                      <a:off x="3441240" y="5398560"/>
                      <a:ext cx="81000" cy="343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9" name=""/>
              <p:cNvGrpSpPr/>
              <p:nvPr/>
            </p:nvGrpSpPr>
            <p:grpSpPr>
              <a:xfrm>
                <a:off x="3362400" y="4976280"/>
                <a:ext cx="547560" cy="684720"/>
                <a:chOff x="3362400" y="4976280"/>
                <a:chExt cx="547560" cy="68472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3362400" y="5056200"/>
                  <a:ext cx="355680" cy="604800"/>
                  <a:chOff x="3362400" y="5056200"/>
                  <a:chExt cx="355680" cy="60480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flipH="1" flipV="1">
                    <a:off x="3362400" y="5056200"/>
                    <a:ext cx="79200" cy="342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3362400" y="5056200"/>
                    <a:ext cx="176040" cy="30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3538440" y="5321160"/>
                    <a:ext cx="179640" cy="339840"/>
                    <a:chOff x="3538440" y="5321160"/>
                    <a:chExt cx="179640" cy="33984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3538440" y="5357880"/>
                      <a:ext cx="179640" cy="3031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flipH="1" flipV="1">
                      <a:off x="3633840" y="5321160"/>
                      <a:ext cx="84240" cy="3398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86" name=""/>
                <p:cNvGrpSpPr/>
                <p:nvPr/>
              </p:nvGrpSpPr>
              <p:grpSpPr>
                <a:xfrm>
                  <a:off x="3549600" y="4976280"/>
                  <a:ext cx="360360" cy="608400"/>
                  <a:chOff x="3549600" y="4976280"/>
                  <a:chExt cx="360360" cy="60840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 flipH="1" flipV="1">
                    <a:off x="3549600" y="4976280"/>
                    <a:ext cx="84240" cy="344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3549600" y="4976640"/>
                    <a:ext cx="185760" cy="303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3735360" y="5241960"/>
                    <a:ext cx="174600" cy="342720"/>
                    <a:chOff x="3735360" y="5241960"/>
                    <a:chExt cx="174600" cy="3427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3735360" y="5280120"/>
                      <a:ext cx="174600" cy="3045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flipV="1">
                      <a:off x="3832200" y="5241960"/>
                      <a:ext cx="77760" cy="342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3746520" y="4820760"/>
                <a:ext cx="550800" cy="684720"/>
                <a:chOff x="3746520" y="4820760"/>
                <a:chExt cx="550800" cy="684720"/>
              </a:xfrm>
            </p:grpSpPr>
            <p:grpSp>
              <p:nvGrpSpPr>
                <p:cNvPr id="693" name=""/>
                <p:cNvGrpSpPr/>
                <p:nvPr/>
              </p:nvGrpSpPr>
              <p:grpSpPr>
                <a:xfrm>
                  <a:off x="3746520" y="4900680"/>
                  <a:ext cx="360360" cy="604800"/>
                  <a:chOff x="3746520" y="4900680"/>
                  <a:chExt cx="360360" cy="60480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 flipH="1" flipV="1">
                    <a:off x="3746520" y="4900680"/>
                    <a:ext cx="85680" cy="341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3746520" y="4900680"/>
                    <a:ext cx="177840" cy="30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3924360" y="5164200"/>
                    <a:ext cx="182520" cy="341280"/>
                    <a:chOff x="3924360" y="5164200"/>
                    <a:chExt cx="182520" cy="34128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3924360" y="5202360"/>
                      <a:ext cx="182520" cy="3031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flipH="1" flipV="1">
                      <a:off x="4022640" y="5164200"/>
                      <a:ext cx="84240" cy="341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3943440" y="4820760"/>
                  <a:ext cx="353880" cy="608400"/>
                  <a:chOff x="3943440" y="4820760"/>
                  <a:chExt cx="353880" cy="6084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 flipH="1" flipV="1">
                    <a:off x="3943440" y="4820760"/>
                    <a:ext cx="79200" cy="343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3943440" y="4821120"/>
                    <a:ext cx="174600" cy="303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4118040" y="5082840"/>
                    <a:ext cx="179280" cy="346320"/>
                    <a:chOff x="4118040" y="5082840"/>
                    <a:chExt cx="179280" cy="3463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118040" y="5124600"/>
                      <a:ext cx="179280" cy="3045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flipH="1" flipV="1">
                      <a:off x="4215960" y="5082840"/>
                      <a:ext cx="81000" cy="3459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5" name=""/>
              <p:cNvGrpSpPr/>
              <p:nvPr/>
            </p:nvGrpSpPr>
            <p:grpSpPr>
              <a:xfrm>
                <a:off x="4134960" y="4667040"/>
                <a:ext cx="549720" cy="682920"/>
                <a:chOff x="4134960" y="4667040"/>
                <a:chExt cx="549720" cy="682920"/>
              </a:xfrm>
            </p:grpSpPr>
            <p:grpSp>
              <p:nvGrpSpPr>
                <p:cNvPr id="706" name=""/>
                <p:cNvGrpSpPr/>
                <p:nvPr/>
              </p:nvGrpSpPr>
              <p:grpSpPr>
                <a:xfrm>
                  <a:off x="4134960" y="4741920"/>
                  <a:ext cx="357840" cy="608040"/>
                  <a:chOff x="4134960" y="4741920"/>
                  <a:chExt cx="357840" cy="60804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 flipH="1" flipV="1">
                    <a:off x="4134960" y="4741920"/>
                    <a:ext cx="81000" cy="341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4135320" y="4741920"/>
                    <a:ext cx="174600" cy="3078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4309920" y="5006520"/>
                    <a:ext cx="182880" cy="343440"/>
                    <a:chOff x="4309920" y="5006520"/>
                    <a:chExt cx="182880" cy="3434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4309920" y="5049720"/>
                      <a:ext cx="182880" cy="300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flipH="1" flipV="1">
                      <a:off x="4410000" y="5006520"/>
                      <a:ext cx="82800" cy="343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4324320" y="4667040"/>
                  <a:ext cx="360360" cy="606600"/>
                  <a:chOff x="4324320" y="4667040"/>
                  <a:chExt cx="360360" cy="60660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 flipH="1" flipV="1">
                    <a:off x="4324320" y="4667040"/>
                    <a:ext cx="85680" cy="339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4324320" y="4667400"/>
                    <a:ext cx="184320" cy="2998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4508640" y="4928760"/>
                    <a:ext cx="176040" cy="344880"/>
                    <a:chOff x="4508640" y="4928760"/>
                    <a:chExt cx="176040" cy="34488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4508640" y="4967280"/>
                      <a:ext cx="176040" cy="306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H="1" flipV="1">
                      <a:off x="4605480" y="4928760"/>
                      <a:ext cx="79200" cy="344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8" name=""/>
              <p:cNvSpPr/>
              <p:nvPr/>
            </p:nvSpPr>
            <p:spPr>
              <a:xfrm flipH="1">
                <a:off x="2909520" y="5556240"/>
                <a:ext cx="14436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4605480" y="4869000"/>
                <a:ext cx="142560" cy="6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 rot="20280000">
              <a:off x="2749680" y="4954320"/>
              <a:ext cx="90360" cy="10350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0280000">
              <a:off x="2790720" y="5041440"/>
              <a:ext cx="4975200" cy="10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0280000">
              <a:off x="3747600" y="3616200"/>
              <a:ext cx="9673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0280000">
              <a:off x="4677840" y="4271760"/>
              <a:ext cx="819360" cy="7984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0280000">
              <a:off x="4464360" y="4514760"/>
              <a:ext cx="968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0280000">
              <a:off x="3356640" y="4227120"/>
              <a:ext cx="88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41960" y="3976560"/>
              <a:ext cx="479160" cy="118440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48880" y="5740560"/>
              <a:ext cx="889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3468960" y="1617840"/>
            <a:ext cx="4788720" cy="3795120"/>
            <a:chOff x="3468960" y="1617840"/>
            <a:chExt cx="4788720" cy="3795120"/>
          </a:xfrm>
        </p:grpSpPr>
        <p:grpSp>
          <p:nvGrpSpPr>
            <p:cNvPr id="729" name=""/>
            <p:cNvGrpSpPr/>
            <p:nvPr/>
          </p:nvGrpSpPr>
          <p:grpSpPr>
            <a:xfrm>
              <a:off x="3732840" y="4284360"/>
              <a:ext cx="1189800" cy="1128600"/>
              <a:chOff x="3732840" y="4284360"/>
              <a:chExt cx="1189800" cy="1128600"/>
            </a:xfrm>
          </p:grpSpPr>
          <p:sp>
            <p:nvSpPr>
              <p:cNvPr id="730" name=""/>
              <p:cNvSpPr/>
              <p:nvPr/>
            </p:nvSpPr>
            <p:spPr>
              <a:xfrm flipH="1">
                <a:off x="4340160" y="4917600"/>
                <a:ext cx="533520" cy="228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>
                <a:off x="4644720" y="4383720"/>
                <a:ext cx="228600" cy="533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732840" y="5046120"/>
                <a:ext cx="884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037760" y="4284360"/>
                <a:ext cx="884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3468960" y="1617840"/>
              <a:ext cx="478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حور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fa-IR" sz="2000" spc="-1" strike="noStrike">
                  <a:solidFill>
                    <a:srgbClr val="fafd00"/>
                  </a:solidFill>
                  <a:latin typeface="Arial"/>
                  <a:cs typeface="Arial"/>
                </a:rPr>
                <a:t>را مطابق شکل زیر انتخاب کنید.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30120" y="2033640"/>
            <a:ext cx="6271200" cy="4824360"/>
            <a:chOff x="330120" y="2033640"/>
            <a:chExt cx="6271200" cy="4824360"/>
          </a:xfrm>
        </p:grpSpPr>
        <p:grpSp>
          <p:nvGrpSpPr>
            <p:cNvPr id="736" name=""/>
            <p:cNvGrpSpPr/>
            <p:nvPr/>
          </p:nvGrpSpPr>
          <p:grpSpPr>
            <a:xfrm>
              <a:off x="330120" y="2033640"/>
              <a:ext cx="6271200" cy="4824360"/>
              <a:chOff x="330120" y="2033640"/>
              <a:chExt cx="6271200" cy="4824360"/>
            </a:xfrm>
          </p:grpSpPr>
          <p:sp>
            <p:nvSpPr>
              <p:cNvPr id="737" name=""/>
              <p:cNvSpPr/>
              <p:nvPr/>
            </p:nvSpPr>
            <p:spPr>
              <a:xfrm>
                <a:off x="5238720" y="5105520"/>
                <a:ext cx="0" cy="17524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12280" y="5691240"/>
                <a:ext cx="1110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00"/>
                    </a:solidFill>
                    <a:latin typeface="Arial"/>
                  </a:rPr>
                  <a:t>M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30120" y="2033640"/>
                <a:ext cx="6271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 algn="r" rtl="1">
                  <a:lnSpc>
                    <a:spcPct val="90000"/>
                  </a:lnSpc>
                  <a:spcBef>
                    <a:spcPts val="1250"/>
                  </a:spcBef>
                  <a:buClr>
                    <a:srgbClr val="00ff00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000" spc="-1" strike="noStrike">
                    <a:solidFill>
                      <a:srgbClr val="00ff00"/>
                    </a:solidFill>
                    <a:latin typeface="Arial"/>
                    <a:cs typeface="Arial"/>
                  </a:rPr>
                  <a:t>نمودارجسم آزاد</a:t>
                </a:r>
                <a:r>
                  <a:rPr b="0" lang="en-US" sz="2000" spc="-1" strike="noStrike">
                    <a:solidFill>
                      <a:srgbClr val="00ff00"/>
                    </a:solidFill>
                    <a:latin typeface="Arial"/>
                  </a:rPr>
                  <a:t>: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نیروی خالص وارد بر جسم صفر است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467320" y="4190760"/>
                <a:ext cx="685800" cy="30492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 flipH="1" flipV="1">
              <a:off x="4552920" y="3276360"/>
              <a:ext cx="457200" cy="11430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79480" y="3252960"/>
              <a:ext cx="94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200160" y="2871720"/>
            <a:ext cx="8190000" cy="3214440"/>
            <a:chOff x="200160" y="2871720"/>
            <a:chExt cx="8190000" cy="3214440"/>
          </a:xfrm>
        </p:grpSpPr>
        <p:sp>
          <p:nvSpPr>
            <p:cNvPr id="744" name=""/>
            <p:cNvSpPr/>
            <p:nvPr/>
          </p:nvSpPr>
          <p:spPr>
            <a:xfrm flipH="1">
              <a:off x="4555440" y="4852440"/>
              <a:ext cx="677520" cy="224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23120" y="5076720"/>
              <a:ext cx="610200" cy="10094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29960" y="5430960"/>
              <a:ext cx="889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05360" y="5002920"/>
              <a:ext cx="19530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lvl="1" marL="1144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,g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Mg sin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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52080" y="4984200"/>
              <a:ext cx="1128240" cy="172800"/>
            </a:xfrm>
            <a:custGeom>
              <a:avLst/>
              <a:gdLst/>
              <a:ahLst/>
              <a:rect l="l" t="t" r="r" b="b"/>
              <a:pathLst>
                <a:path w="799" h="148">
                  <a:moveTo>
                    <a:pt x="798" y="127"/>
                  </a:moveTo>
                  <a:lnTo>
                    <a:pt x="748" y="126"/>
                  </a:lnTo>
                  <a:lnTo>
                    <a:pt x="716" y="136"/>
                  </a:lnTo>
                  <a:lnTo>
                    <a:pt x="685" y="136"/>
                  </a:lnTo>
                  <a:lnTo>
                    <a:pt x="663" y="147"/>
                  </a:lnTo>
                  <a:lnTo>
                    <a:pt x="632" y="147"/>
                  </a:lnTo>
                  <a:lnTo>
                    <a:pt x="600" y="147"/>
                  </a:lnTo>
                  <a:lnTo>
                    <a:pt x="569" y="147"/>
                  </a:lnTo>
                  <a:lnTo>
                    <a:pt x="537" y="147"/>
                  </a:lnTo>
                  <a:lnTo>
                    <a:pt x="495" y="147"/>
                  </a:lnTo>
                  <a:lnTo>
                    <a:pt x="464" y="147"/>
                  </a:lnTo>
                  <a:lnTo>
                    <a:pt x="442" y="147"/>
                  </a:lnTo>
                  <a:lnTo>
                    <a:pt x="411" y="147"/>
                  </a:lnTo>
                  <a:lnTo>
                    <a:pt x="379" y="147"/>
                  </a:lnTo>
                  <a:lnTo>
                    <a:pt x="348" y="147"/>
                  </a:lnTo>
                  <a:lnTo>
                    <a:pt x="316" y="147"/>
                  </a:lnTo>
                  <a:lnTo>
                    <a:pt x="285" y="136"/>
                  </a:lnTo>
                  <a:lnTo>
                    <a:pt x="243" y="126"/>
                  </a:lnTo>
                  <a:lnTo>
                    <a:pt x="221" y="115"/>
                  </a:lnTo>
                  <a:lnTo>
                    <a:pt x="190" y="105"/>
                  </a:lnTo>
                  <a:lnTo>
                    <a:pt x="148" y="94"/>
                  </a:lnTo>
                  <a:lnTo>
                    <a:pt x="116" y="73"/>
                  </a:lnTo>
                  <a:lnTo>
                    <a:pt x="85" y="63"/>
                  </a:lnTo>
                  <a:lnTo>
                    <a:pt x="53" y="31"/>
                  </a:lnTo>
                  <a:lnTo>
                    <a:pt x="22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46560" y="2871720"/>
              <a:ext cx="50436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نیروی جاذبه وارد برجسم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,g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Mg sin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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00160" y="2871720"/>
              <a:ext cx="2881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941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در راستای محور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593520" y="2381400"/>
            <a:ext cx="5099040" cy="1491120"/>
            <a:chOff x="3593520" y="2381400"/>
            <a:chExt cx="5099040" cy="1491120"/>
          </a:xfrm>
        </p:grpSpPr>
        <p:sp>
          <p:nvSpPr>
            <p:cNvPr id="752" name=""/>
            <p:cNvSpPr/>
            <p:nvPr/>
          </p:nvSpPr>
          <p:spPr>
            <a:xfrm>
              <a:off x="3593520" y="2381400"/>
              <a:ext cx="509904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نیروی وارد ازطرف فنربرجسم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,s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-kx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0280000">
              <a:off x="6549840" y="3576240"/>
              <a:ext cx="183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030560" y="1547640"/>
            <a:ext cx="448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  نیروی کل درراستا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ی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721440" y="2338560"/>
            <a:ext cx="3161520" cy="404280"/>
            <a:chOff x="721440" y="2338560"/>
            <a:chExt cx="3161520" cy="404280"/>
          </a:xfrm>
        </p:grpSpPr>
        <p:sp>
          <p:nvSpPr>
            <p:cNvPr id="757" name=""/>
            <p:cNvSpPr/>
            <p:nvPr/>
          </p:nvSpPr>
          <p:spPr>
            <a:xfrm>
              <a:off x="721440" y="2338560"/>
              <a:ext cx="31615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 sin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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x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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8240" y="2368440"/>
              <a:ext cx="368280" cy="292320"/>
            </a:xfrm>
            <a:prstGeom prst="rightArrow">
              <a:avLst>
                <a:gd name="adj1" fmla="val 50000"/>
                <a:gd name="adj2" fmla="val 62998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145160" y="2214720"/>
            <a:ext cx="6543000" cy="3892680"/>
            <a:chOff x="1145160" y="2214720"/>
            <a:chExt cx="6543000" cy="3892680"/>
          </a:xfrm>
        </p:grpSpPr>
        <p:sp>
          <p:nvSpPr>
            <p:cNvPr id="760" name=""/>
            <p:cNvSpPr/>
            <p:nvPr/>
          </p:nvSpPr>
          <p:spPr>
            <a:xfrm>
              <a:off x="2467080" y="6095880"/>
              <a:ext cx="1800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2971440" y="5135040"/>
              <a:ext cx="551160" cy="680040"/>
              <a:chOff x="2971440" y="5135040"/>
              <a:chExt cx="551160" cy="68004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2971440" y="5211360"/>
                <a:ext cx="360720" cy="603720"/>
                <a:chOff x="2971440" y="5211360"/>
                <a:chExt cx="360720" cy="603720"/>
              </a:xfrm>
            </p:grpSpPr>
            <p:sp>
              <p:nvSpPr>
                <p:cNvPr id="763" name=""/>
                <p:cNvSpPr/>
                <p:nvPr/>
              </p:nvSpPr>
              <p:spPr>
                <a:xfrm flipH="1" flipV="1">
                  <a:off x="2971440" y="5211360"/>
                  <a:ext cx="82440" cy="34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971800" y="5211720"/>
                  <a:ext cx="181080" cy="304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"/>
                <p:cNvGrpSpPr/>
                <p:nvPr/>
              </p:nvGrpSpPr>
              <p:grpSpPr>
                <a:xfrm>
                  <a:off x="3152880" y="5476680"/>
                  <a:ext cx="179280" cy="338400"/>
                  <a:chOff x="3152880" y="5476680"/>
                  <a:chExt cx="179280" cy="33840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3152880" y="5516640"/>
                    <a:ext cx="179280" cy="298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3249360" y="5476680"/>
                    <a:ext cx="82440" cy="3380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8" name=""/>
              <p:cNvGrpSpPr/>
              <p:nvPr/>
            </p:nvGrpSpPr>
            <p:grpSpPr>
              <a:xfrm>
                <a:off x="3165480" y="5135040"/>
                <a:ext cx="357120" cy="606960"/>
                <a:chOff x="3165480" y="5135040"/>
                <a:chExt cx="357120" cy="606960"/>
              </a:xfrm>
            </p:grpSpPr>
            <p:sp>
              <p:nvSpPr>
                <p:cNvPr id="769" name=""/>
                <p:cNvSpPr/>
                <p:nvPr/>
              </p:nvSpPr>
              <p:spPr>
                <a:xfrm flipH="1" flipV="1">
                  <a:off x="3165480" y="5135040"/>
                  <a:ext cx="84240" cy="34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165480" y="5135400"/>
                  <a:ext cx="181080" cy="301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71" name=""/>
                <p:cNvGrpSpPr/>
                <p:nvPr/>
              </p:nvGrpSpPr>
              <p:grpSpPr>
                <a:xfrm>
                  <a:off x="3346560" y="5398560"/>
                  <a:ext cx="176040" cy="343440"/>
                  <a:chOff x="3346560" y="5398560"/>
                  <a:chExt cx="176040" cy="34344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3346560" y="5437080"/>
                    <a:ext cx="176040" cy="304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flipV="1">
                    <a:off x="3441240" y="5398560"/>
                    <a:ext cx="81000" cy="343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74" name=""/>
            <p:cNvGrpSpPr/>
            <p:nvPr/>
          </p:nvGrpSpPr>
          <p:grpSpPr>
            <a:xfrm>
              <a:off x="3362400" y="4976280"/>
              <a:ext cx="547560" cy="684720"/>
              <a:chOff x="3362400" y="4976280"/>
              <a:chExt cx="547560" cy="68472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3362400" y="5056200"/>
                <a:ext cx="355680" cy="604800"/>
                <a:chOff x="3362400" y="5056200"/>
                <a:chExt cx="355680" cy="60480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flipV="1">
                  <a:off x="3362400" y="5056200"/>
                  <a:ext cx="79200" cy="342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362400" y="5056200"/>
                  <a:ext cx="176040" cy="301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78" name=""/>
                <p:cNvGrpSpPr/>
                <p:nvPr/>
              </p:nvGrpSpPr>
              <p:grpSpPr>
                <a:xfrm>
                  <a:off x="3538440" y="5321160"/>
                  <a:ext cx="179640" cy="339840"/>
                  <a:chOff x="3538440" y="5321160"/>
                  <a:chExt cx="179640" cy="33984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3538440" y="5357880"/>
                    <a:ext cx="179640" cy="3031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3633840" y="5321160"/>
                    <a:ext cx="84240" cy="3398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1" name=""/>
              <p:cNvGrpSpPr/>
              <p:nvPr/>
            </p:nvGrpSpPr>
            <p:grpSpPr>
              <a:xfrm>
                <a:off x="3549600" y="4976280"/>
                <a:ext cx="360360" cy="608400"/>
                <a:chOff x="3549600" y="4976280"/>
                <a:chExt cx="360360" cy="6084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flipV="1">
                  <a:off x="3549600" y="4976280"/>
                  <a:ext cx="84240" cy="34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549600" y="4976640"/>
                  <a:ext cx="185760" cy="303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84" name=""/>
                <p:cNvGrpSpPr/>
                <p:nvPr/>
              </p:nvGrpSpPr>
              <p:grpSpPr>
                <a:xfrm>
                  <a:off x="3735360" y="5241960"/>
                  <a:ext cx="174600" cy="342720"/>
                  <a:chOff x="3735360" y="5241960"/>
                  <a:chExt cx="174600" cy="34272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3735360" y="5280120"/>
                    <a:ext cx="174600" cy="3045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3832200" y="5241960"/>
                    <a:ext cx="77760" cy="342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7" name=""/>
            <p:cNvGrpSpPr/>
            <p:nvPr/>
          </p:nvGrpSpPr>
          <p:grpSpPr>
            <a:xfrm>
              <a:off x="3746520" y="4820760"/>
              <a:ext cx="550800" cy="684720"/>
              <a:chOff x="3746520" y="4820760"/>
              <a:chExt cx="550800" cy="68472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746520" y="4900680"/>
                <a:ext cx="360360" cy="604800"/>
                <a:chOff x="3746520" y="4900680"/>
                <a:chExt cx="360360" cy="604800"/>
              </a:xfrm>
            </p:grpSpPr>
            <p:sp>
              <p:nvSpPr>
                <p:cNvPr id="789" name=""/>
                <p:cNvSpPr/>
                <p:nvPr/>
              </p:nvSpPr>
              <p:spPr>
                <a:xfrm flipH="1" flipV="1">
                  <a:off x="3746520" y="4900680"/>
                  <a:ext cx="85680" cy="34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746520" y="4900680"/>
                  <a:ext cx="177840" cy="301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1" name=""/>
                <p:cNvGrpSpPr/>
                <p:nvPr/>
              </p:nvGrpSpPr>
              <p:grpSpPr>
                <a:xfrm>
                  <a:off x="3924360" y="5164200"/>
                  <a:ext cx="182520" cy="341280"/>
                  <a:chOff x="3924360" y="5164200"/>
                  <a:chExt cx="182520" cy="34128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3924360" y="5202360"/>
                    <a:ext cx="182520" cy="3031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4022640" y="5164200"/>
                    <a:ext cx="84240" cy="341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4" name=""/>
              <p:cNvGrpSpPr/>
              <p:nvPr/>
            </p:nvGrpSpPr>
            <p:grpSpPr>
              <a:xfrm>
                <a:off x="3943440" y="4820760"/>
                <a:ext cx="353880" cy="608400"/>
                <a:chOff x="3943440" y="4820760"/>
                <a:chExt cx="353880" cy="608400"/>
              </a:xfrm>
            </p:grpSpPr>
            <p:sp>
              <p:nvSpPr>
                <p:cNvPr id="795" name=""/>
                <p:cNvSpPr/>
                <p:nvPr/>
              </p:nvSpPr>
              <p:spPr>
                <a:xfrm flipH="1" flipV="1">
                  <a:off x="3943440" y="4820760"/>
                  <a:ext cx="79200" cy="343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943440" y="4821120"/>
                  <a:ext cx="174600" cy="303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7" name=""/>
                <p:cNvGrpSpPr/>
                <p:nvPr/>
              </p:nvGrpSpPr>
              <p:grpSpPr>
                <a:xfrm>
                  <a:off x="4118040" y="5082840"/>
                  <a:ext cx="179280" cy="346320"/>
                  <a:chOff x="4118040" y="5082840"/>
                  <a:chExt cx="179280" cy="34632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118040" y="5124600"/>
                    <a:ext cx="179280" cy="3045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4215960" y="5082840"/>
                    <a:ext cx="81000" cy="345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00" name=""/>
            <p:cNvGrpSpPr/>
            <p:nvPr/>
          </p:nvGrpSpPr>
          <p:grpSpPr>
            <a:xfrm>
              <a:off x="4134960" y="4667040"/>
              <a:ext cx="549720" cy="682920"/>
              <a:chOff x="4134960" y="4667040"/>
              <a:chExt cx="549720" cy="68292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4134960" y="4741920"/>
                <a:ext cx="357840" cy="608040"/>
                <a:chOff x="4134960" y="4741920"/>
                <a:chExt cx="357840" cy="608040"/>
              </a:xfrm>
            </p:grpSpPr>
            <p:sp>
              <p:nvSpPr>
                <p:cNvPr id="802" name=""/>
                <p:cNvSpPr/>
                <p:nvPr/>
              </p:nvSpPr>
              <p:spPr>
                <a:xfrm flipH="1" flipV="1">
                  <a:off x="4134960" y="4741920"/>
                  <a:ext cx="81000" cy="34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135320" y="4741920"/>
                  <a:ext cx="174600" cy="307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4" name=""/>
                <p:cNvGrpSpPr/>
                <p:nvPr/>
              </p:nvGrpSpPr>
              <p:grpSpPr>
                <a:xfrm>
                  <a:off x="4309920" y="5006520"/>
                  <a:ext cx="182880" cy="343440"/>
                  <a:chOff x="4309920" y="5006520"/>
                  <a:chExt cx="182880" cy="3434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4309920" y="5049720"/>
                    <a:ext cx="182880" cy="300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4410000" y="5006520"/>
                    <a:ext cx="82800" cy="343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7" name=""/>
              <p:cNvGrpSpPr/>
              <p:nvPr/>
            </p:nvGrpSpPr>
            <p:grpSpPr>
              <a:xfrm>
                <a:off x="4324320" y="4667040"/>
                <a:ext cx="360360" cy="606600"/>
                <a:chOff x="4324320" y="4667040"/>
                <a:chExt cx="360360" cy="606600"/>
              </a:xfrm>
            </p:grpSpPr>
            <p:sp>
              <p:nvSpPr>
                <p:cNvPr id="808" name=""/>
                <p:cNvSpPr/>
                <p:nvPr/>
              </p:nvSpPr>
              <p:spPr>
                <a:xfrm flipH="1" flipV="1">
                  <a:off x="4324320" y="4667040"/>
                  <a:ext cx="85680" cy="33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324320" y="4667400"/>
                  <a:ext cx="184320" cy="299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4508640" y="4928760"/>
                  <a:ext cx="176040" cy="344880"/>
                  <a:chOff x="4508640" y="4928760"/>
                  <a:chExt cx="176040" cy="34488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4508640" y="4967280"/>
                    <a:ext cx="176040" cy="306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4605480" y="4928760"/>
                    <a:ext cx="79200" cy="344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13" name=""/>
            <p:cNvSpPr/>
            <p:nvPr/>
          </p:nvSpPr>
          <p:spPr>
            <a:xfrm flipH="1">
              <a:off x="2909520" y="5556240"/>
              <a:ext cx="14436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605480" y="4869000"/>
              <a:ext cx="142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20280000">
              <a:off x="2749680" y="4954320"/>
              <a:ext cx="90360" cy="10350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20280000">
              <a:off x="2790720" y="5041440"/>
              <a:ext cx="4975200" cy="104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20280000">
              <a:off x="3747600" y="3616200"/>
              <a:ext cx="9673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20280000">
              <a:off x="4677840" y="4271760"/>
              <a:ext cx="819360" cy="7984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20280000">
              <a:off x="4464360" y="4514760"/>
              <a:ext cx="968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0280000">
              <a:off x="3356640" y="4227120"/>
              <a:ext cx="88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341960" y="3976560"/>
              <a:ext cx="479160" cy="118440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48880" y="5740560"/>
              <a:ext cx="889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1145160" y="4243320"/>
              <a:ext cx="1189800" cy="1128960"/>
              <a:chOff x="1145160" y="4243320"/>
              <a:chExt cx="1189800" cy="112896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1752480" y="4876920"/>
                <a:ext cx="533520" cy="2286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2057040" y="4343400"/>
                <a:ext cx="228600" cy="533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145160" y="5005440"/>
                <a:ext cx="884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50080" y="4243320"/>
                <a:ext cx="884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 flipV="1">
              <a:off x="5410080" y="4114440"/>
              <a:ext cx="685800" cy="3049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419720" y="5029200"/>
              <a:ext cx="761760" cy="3049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20340000">
              <a:off x="4233960" y="5308920"/>
              <a:ext cx="19530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lvl="1" marL="1144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,g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Mg sin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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20280000">
              <a:off x="5862240" y="3745080"/>
              <a:ext cx="18162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,s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-kx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2" name=""/>
                <p:cNvSpPr txBox="1"/>
                <p:nvPr/>
              </p:nvSpPr>
              <p:spPr>
                <a:xfrm>
                  <a:off x="4240080" y="2214720"/>
                  <a:ext cx="1500480" cy="6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Μg sin</m:t>
                          </m:r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κ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3" name=""/>
            <p:cNvSpPr/>
            <p:nvPr/>
          </p:nvSpPr>
          <p:spPr>
            <a:xfrm>
              <a:off x="3740040" y="2368440"/>
              <a:ext cx="368280" cy="292320"/>
            </a:xfrm>
            <a:prstGeom prst="rightArrow">
              <a:avLst>
                <a:gd name="adj1" fmla="val 50000"/>
                <a:gd name="adj2" fmla="val 62998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4" name=""/>
                <p:cNvSpPr txBox="1"/>
                <p:nvPr/>
              </p:nvSpPr>
              <p:spPr>
                <a:xfrm>
                  <a:off x="1238400" y="2984400"/>
                  <a:ext cx="373824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kg</m:t>
                          </m:r>
                          <m:r>
                            <m:t xml:space="preserve">⋅</m:t>
                          </m:r>
                          <m:r>
                            <m:t xml:space="preserve">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1</m:t>
                          </m:r>
                          <m:r>
                            <m:t xml:space="preserve">m</m:t>
                          </m:r>
                          <m:r>
                            <m:t xml:space="preserve">/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5</m:t>
                          </m:r>
                          <m:r>
                            <m:t xml:space="preserve">N</m:t>
                          </m:r>
                          <m:r>
                            <m:t xml:space="preserve">/</m:t>
                          </m:r>
                          <m:r>
                            <m:t xml:space="preserve">m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5" name=""/>
          <p:cNvSpPr/>
          <p:nvPr/>
        </p:nvSpPr>
        <p:spPr>
          <a:xfrm>
            <a:off x="768240" y="3130560"/>
            <a:ext cx="368280" cy="291960"/>
          </a:xfrm>
          <a:prstGeom prst="rightArrow">
            <a:avLst>
              <a:gd name="adj1" fmla="val 50000"/>
              <a:gd name="adj2" fmla="val 63076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دوجسم در تماس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جس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سطح افقی بدون اصطکاک مطابق شکل زیر درتماس با هم قرار دار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نیرو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جسم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رد شودنیروی وارد برجس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قدر خواهد بو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187280" y="4075200"/>
            <a:ext cx="6605640" cy="1452600"/>
            <a:chOff x="1187280" y="4075200"/>
            <a:chExt cx="6605640" cy="1452600"/>
          </a:xfrm>
        </p:grpSpPr>
        <p:sp>
          <p:nvSpPr>
            <p:cNvPr id="839" name=""/>
            <p:cNvSpPr/>
            <p:nvPr/>
          </p:nvSpPr>
          <p:spPr>
            <a:xfrm>
              <a:off x="1187280" y="5354640"/>
              <a:ext cx="6605640" cy="17316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29120" y="4164120"/>
              <a:ext cx="1188720" cy="1189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17840" y="4425840"/>
              <a:ext cx="1238400" cy="928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06480" y="4713120"/>
              <a:ext cx="131148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86120" y="4075200"/>
              <a:ext cx="90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002960" y="436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دوجسم در تماس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015560" y="149076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 که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9960" indent="-219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مودارجسم آزا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کشیده و قانون دوم نیوت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کاربری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23160" y="1909800"/>
            <a:ext cx="252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29640" y="3009960"/>
            <a:ext cx="7166520" cy="3260520"/>
            <a:chOff x="629640" y="3009960"/>
            <a:chExt cx="7166520" cy="3260520"/>
          </a:xfrm>
        </p:grpSpPr>
        <p:sp>
          <p:nvSpPr>
            <p:cNvPr id="848" name=""/>
            <p:cNvSpPr/>
            <p:nvPr/>
          </p:nvSpPr>
          <p:spPr>
            <a:xfrm>
              <a:off x="1190520" y="4361040"/>
              <a:ext cx="6605640" cy="17280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49640" y="3009960"/>
              <a:ext cx="1779840" cy="1766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20560" y="3354480"/>
              <a:ext cx="1113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1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19440" y="3916440"/>
              <a:ext cx="7016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34800" y="3394080"/>
              <a:ext cx="1851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1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,1</a:t>
              </a:r>
              <a:r>
                <a:rPr b="1" i="1" lang="en-US" sz="2000" spc="-1" strike="noStrike" baseline="-25000">
                  <a:solidFill>
                    <a:srgbClr val="fc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2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629640" y="4908600"/>
              <a:ext cx="3332880" cy="1316880"/>
              <a:chOff x="629640" y="4908600"/>
              <a:chExt cx="3332880" cy="1316880"/>
            </a:xfrm>
          </p:grpSpPr>
          <p:grpSp>
            <p:nvGrpSpPr>
              <p:cNvPr id="854" name=""/>
              <p:cNvGrpSpPr/>
              <p:nvPr/>
            </p:nvGrpSpPr>
            <p:grpSpPr>
              <a:xfrm>
                <a:off x="629640" y="5500800"/>
                <a:ext cx="2810520" cy="724680"/>
                <a:chOff x="629640" y="5500800"/>
                <a:chExt cx="2810520" cy="7246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269360" y="5686200"/>
                  <a:ext cx="8665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00ff"/>
                      </a:solidFill>
                      <a:latin typeface="Arial"/>
                    </a:rPr>
                    <a:t>m</a:t>
                  </a:r>
                  <a:r>
                    <a:rPr b="0" i="1" lang="en-US" sz="2000" spc="-1" strike="noStrike" baseline="-25000">
                      <a:solidFill>
                        <a:srgbClr val="ff00ff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63560" y="5838480"/>
                  <a:ext cx="785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2,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713600" y="5790960"/>
                  <a:ext cx="6958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2670840" y="5790960"/>
                  <a:ext cx="6958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2004840" y="5851440"/>
                  <a:ext cx="1030320" cy="1080"/>
                </a:xfrm>
                <a:prstGeom prst="line">
                  <a:avLst/>
                </a:prstGeom>
                <a:ln w="648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2781000" y="5749560"/>
                  <a:ext cx="659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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781000" y="5661000"/>
                  <a:ext cx="659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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781000" y="5910120"/>
                  <a:ext cx="659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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781000" y="5500800"/>
                  <a:ext cx="659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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593720" y="5749560"/>
                  <a:ext cx="659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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593720" y="5661000"/>
                  <a:ext cx="659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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593720" y="5910120"/>
                  <a:ext cx="659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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593720" y="5500800"/>
                  <a:ext cx="659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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145960" y="5854680"/>
                  <a:ext cx="721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030320" y="5662440"/>
                  <a:ext cx="775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347200" y="5878440"/>
                  <a:ext cx="8665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00ff"/>
                      </a:solidFill>
                      <a:latin typeface="Arial"/>
                    </a:rPr>
                    <a:t>m</a:t>
                  </a:r>
                  <a:r>
                    <a:rPr b="0" i="1" lang="en-US" sz="2000" spc="-1" strike="noStrike" baseline="-25000">
                      <a:solidFill>
                        <a:srgbClr val="ff00ff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806120" y="5878440"/>
                  <a:ext cx="8665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00"/>
                      </a:solidFill>
                      <a:latin typeface="Arial"/>
                    </a:rPr>
                    <a:t>m</a:t>
                  </a:r>
                  <a:r>
                    <a:rPr b="0" i="1" lang="en-US" sz="2000" spc="-1" strike="noStrike" baseline="-25000">
                      <a:solidFill>
                        <a:srgbClr val="00ff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142720" y="5530680"/>
                  <a:ext cx="727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F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29640" y="5686200"/>
                  <a:ext cx="727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ff00"/>
                      </a:solidFill>
                      <a:latin typeface="Arial"/>
                    </a:rPr>
                    <a:t>F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4" name=""/>
              <p:cNvSpPr/>
              <p:nvPr/>
            </p:nvSpPr>
            <p:spPr>
              <a:xfrm>
                <a:off x="808200" y="4908600"/>
                <a:ext cx="315432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rmAutofit/>
              </a:bodyPr>
              <a:p>
                <a:pPr marL="285840" indent="-285840" algn="r" rtl="1">
                  <a:lnSpc>
                    <a:spcPct val="90000"/>
                  </a:lnSpc>
                  <a:spcBef>
                    <a:spcPts val="751"/>
                  </a:spcBef>
                  <a:buClr>
                    <a:srgbClr val="00ff00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به جای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r>
                  <a:rPr b="1" i="1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1" i="1" lang="fa-IR" sz="2000" spc="-1" strike="noStrike">
                    <a:solidFill>
                      <a:srgbClr val="fafd00"/>
                    </a:solidFill>
                    <a:latin typeface="Arial"/>
                    <a:cs typeface="Arial"/>
                  </a:rPr>
                  <a:t>قرار دهید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4330800" y="3435480"/>
              <a:ext cx="1238040" cy="9284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3613320" y="5343480"/>
              <a:ext cx="3981240" cy="927000"/>
              <a:chOff x="3613320" y="5343480"/>
              <a:chExt cx="3981240" cy="927000"/>
            </a:xfrm>
          </p:grpSpPr>
          <p:sp>
            <p:nvSpPr>
              <p:cNvPr id="877" name=""/>
              <p:cNvSpPr/>
              <p:nvPr/>
            </p:nvSpPr>
            <p:spPr>
              <a:xfrm>
                <a:off x="3613320" y="5691240"/>
                <a:ext cx="693720" cy="345960"/>
              </a:xfrm>
              <a:prstGeom prst="rightArrow">
                <a:avLst>
                  <a:gd name="adj1" fmla="val 50000"/>
                  <a:gd name="adj2" fmla="val 50130"/>
                </a:avLst>
              </a:prstGeom>
              <a:noFill/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8" name=""/>
              <p:cNvGrpSpPr/>
              <p:nvPr/>
            </p:nvGrpSpPr>
            <p:grpSpPr>
              <a:xfrm>
                <a:off x="4935600" y="5343480"/>
                <a:ext cx="2658960" cy="927000"/>
                <a:chOff x="4935600" y="5343480"/>
                <a:chExt cx="2658960" cy="92700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5703120" y="5800680"/>
                  <a:ext cx="15919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ff00"/>
                      </a:solidFill>
                      <a:latin typeface="Arial"/>
                    </a:rPr>
                    <a:t>m</a:t>
                  </a:r>
                  <a:r>
                    <a:rPr b="0" i="1" lang="en-US" sz="2000" spc="-1" strike="noStrike" baseline="-25000">
                      <a:solidFill>
                        <a:srgbClr val="00ff00"/>
                      </a:solidFill>
                      <a:latin typeface="Arial"/>
                    </a:rPr>
                    <a:t>1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+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i="1" lang="en-US" sz="2000" spc="-1" strike="noStrike">
                      <a:solidFill>
                        <a:srgbClr val="ff00ff"/>
                      </a:solidFill>
                      <a:latin typeface="Arial"/>
                    </a:rPr>
                    <a:t>m</a:t>
                  </a:r>
                  <a:r>
                    <a:rPr b="0" i="1" lang="en-US" sz="2000" spc="-1" strike="noStrike" baseline="-25000">
                      <a:solidFill>
                        <a:srgbClr val="ff00ff"/>
                      </a:solidFill>
                      <a:latin typeface="Arial"/>
                    </a:rPr>
                    <a:t>2</a:t>
                  </a:r>
                  <a:r>
                    <a:rPr b="0" i="1" lang="en-US" sz="2000" spc="-1" strike="noStrike">
                      <a:solidFill>
                        <a:srgbClr val="fafd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071760" y="5450040"/>
                  <a:ext cx="8665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00ff"/>
                      </a:solidFill>
                      <a:latin typeface="Arial"/>
                    </a:rPr>
                    <a:t>m</a:t>
                  </a:r>
                  <a:r>
                    <a:rPr b="0" i="1" lang="en-US" sz="2000" spc="-1" strike="noStrike" baseline="-25000">
                      <a:solidFill>
                        <a:srgbClr val="ff00ff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079240" y="5605560"/>
                  <a:ext cx="93384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ff00"/>
                      </a:solidFill>
                      <a:latin typeface="Arial"/>
                    </a:rPr>
                    <a:t>F</a:t>
                  </a:r>
                  <a:r>
                    <a:rPr b="0" i="1" lang="en-US" sz="2000" spc="-1" strike="noStrike" baseline="-25000">
                      <a:solidFill>
                        <a:srgbClr val="00ff00"/>
                      </a:solidFill>
                      <a:latin typeface="Arial"/>
                    </a:rPr>
                    <a:t>2,1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935600" y="5343480"/>
                  <a:ext cx="2658960" cy="9270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999040" y="5772240"/>
                  <a:ext cx="1035000" cy="1440"/>
                </a:xfrm>
                <a:prstGeom prst="line">
                  <a:avLst/>
                </a:prstGeom>
                <a:ln w="648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784560" y="5605560"/>
                  <a:ext cx="727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F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468760" y="5580000"/>
                  <a:ext cx="7750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کشش نخ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را مطابق شکل به دو نخ که با افق زاوی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سازند آویزان کرده ایم کشش هر نخ چقدر ا 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327400" y="3162240"/>
            <a:ext cx="4130640" cy="2260800"/>
            <a:chOff x="2327400" y="3162240"/>
            <a:chExt cx="4130640" cy="2260800"/>
          </a:xfrm>
        </p:grpSpPr>
        <p:sp>
          <p:nvSpPr>
            <p:cNvPr id="889" name=""/>
            <p:cNvSpPr/>
            <p:nvPr/>
          </p:nvSpPr>
          <p:spPr>
            <a:xfrm>
              <a:off x="2327400" y="3162240"/>
              <a:ext cx="4130640" cy="12384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081320" y="4780080"/>
              <a:ext cx="642960" cy="642960"/>
            </a:xfrm>
            <a:prstGeom prst="rect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 flipV="1">
              <a:off x="3168360" y="3274560"/>
              <a:ext cx="1235160" cy="1236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400640" y="3261960"/>
              <a:ext cx="1235160" cy="1236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408560" y="4511520"/>
              <a:ext cx="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78160" y="4498920"/>
              <a:ext cx="21891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497120" y="410688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12720" y="4108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ل مسئل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21880" y="1419120"/>
            <a:ext cx="716292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مودار جسم آزاد را می کشیم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08200" y="4170240"/>
            <a:ext cx="7770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جسم آویزان ساکن است پس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,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,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2687040" y="1692360"/>
            <a:ext cx="5572800" cy="2188080"/>
            <a:chOff x="2687040" y="1692360"/>
            <a:chExt cx="5572800" cy="2188080"/>
          </a:xfrm>
        </p:grpSpPr>
        <p:sp>
          <p:nvSpPr>
            <p:cNvPr id="901" name=""/>
            <p:cNvSpPr/>
            <p:nvPr/>
          </p:nvSpPr>
          <p:spPr>
            <a:xfrm>
              <a:off x="4805280" y="2965320"/>
              <a:ext cx="0" cy="901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75240" y="2952720"/>
              <a:ext cx="21891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78200" y="26179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054320" y="261468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3976200" y="2133720"/>
              <a:ext cx="824040" cy="8236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97400" y="16923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02280" y="172080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01880" y="3481560"/>
              <a:ext cx="111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81600" y="2228760"/>
              <a:ext cx="0" cy="71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95280" y="2952720"/>
              <a:ext cx="771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87040" y="2441520"/>
              <a:ext cx="1519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sin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444280" y="2403360"/>
              <a:ext cx="1519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sin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633920" y="2979720"/>
              <a:ext cx="159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cos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81480" y="2932200"/>
              <a:ext cx="159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cos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805280" y="2133720"/>
              <a:ext cx="824040" cy="8236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624640" y="2228760"/>
              <a:ext cx="0" cy="714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824360" y="2952720"/>
              <a:ext cx="771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157880" y="2206800"/>
              <a:ext cx="1101960" cy="1125000"/>
              <a:chOff x="7157880" y="2206800"/>
              <a:chExt cx="1101960" cy="1125000"/>
            </a:xfrm>
          </p:grpSpPr>
          <p:sp>
            <p:nvSpPr>
              <p:cNvPr id="919" name=""/>
              <p:cNvSpPr/>
              <p:nvPr/>
            </p:nvSpPr>
            <p:spPr>
              <a:xfrm>
                <a:off x="7804080" y="2268360"/>
                <a:ext cx="0" cy="59652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7187760" y="2871720"/>
                <a:ext cx="6224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43680" y="2206800"/>
                <a:ext cx="416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157880" y="2968560"/>
                <a:ext cx="416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1274760" y="4865760"/>
            <a:ext cx="7226280" cy="440640"/>
            <a:chOff x="1274760" y="4865760"/>
            <a:chExt cx="7226280" cy="440640"/>
          </a:xfrm>
        </p:grpSpPr>
        <p:sp>
          <p:nvSpPr>
            <p:cNvPr id="924" name=""/>
            <p:cNvSpPr/>
            <p:nvPr/>
          </p:nvSpPr>
          <p:spPr>
            <a:xfrm>
              <a:off x="1274760" y="4865760"/>
              <a:ext cx="722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,NET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cos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-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cos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0                     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35560" y="4959360"/>
              <a:ext cx="446040" cy="210960"/>
            </a:xfrm>
            <a:prstGeom prst="rightArrow">
              <a:avLst>
                <a:gd name="adj1" fmla="val 50000"/>
                <a:gd name="adj2" fmla="val 52858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335560" y="5278320"/>
            <a:ext cx="2927520" cy="1092240"/>
            <a:chOff x="5335560" y="5278320"/>
            <a:chExt cx="2927520" cy="1092240"/>
          </a:xfrm>
        </p:grpSpPr>
        <p:sp>
          <p:nvSpPr>
            <p:cNvPr id="927" name=""/>
            <p:cNvSpPr/>
            <p:nvPr/>
          </p:nvSpPr>
          <p:spPr>
            <a:xfrm>
              <a:off x="6950160" y="5999040"/>
              <a:ext cx="131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2 sin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37440" y="5989680"/>
              <a:ext cx="777960" cy="1440"/>
            </a:xfrm>
            <a:prstGeom prst="line">
              <a:avLst/>
            </a:prstGeom>
            <a:ln w="64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134840" y="5651640"/>
              <a:ext cx="92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35560" y="5850000"/>
              <a:ext cx="446040" cy="210960"/>
            </a:xfrm>
            <a:prstGeom prst="rightArrow">
              <a:avLst>
                <a:gd name="adj1" fmla="val 50000"/>
                <a:gd name="adj2" fmla="val 52858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5400000">
              <a:off x="6390360" y="5309280"/>
              <a:ext cx="309600" cy="247680"/>
            </a:xfrm>
            <a:prstGeom prst="rightArrow">
              <a:avLst>
                <a:gd name="adj1" fmla="val 50000"/>
                <a:gd name="adj2" fmla="val 3125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00760" y="5641920"/>
              <a:ext cx="2251080" cy="7286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29040" y="5803920"/>
              <a:ext cx="1737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1274760" y="5748480"/>
            <a:ext cx="398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,NET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حرکت روی دایر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سم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انتهای نخی به 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سته شده است و درصفحه قائمی چرخانیده می شود. سرعت جسم در اترین نقطه</a:t>
            </a:r>
            <a:r>
              <a:rPr b="0" i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کشش طنا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بالاترین نقطه مسیر چقدر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3359160" y="3660840"/>
            <a:ext cx="2002320" cy="2378160"/>
            <a:chOff x="3359160" y="3660840"/>
            <a:chExt cx="2002320" cy="2378160"/>
          </a:xfrm>
        </p:grpSpPr>
        <p:sp>
          <p:nvSpPr>
            <p:cNvPr id="940" name=""/>
            <p:cNvSpPr/>
            <p:nvPr/>
          </p:nvSpPr>
          <p:spPr>
            <a:xfrm>
              <a:off x="3359160" y="4070520"/>
              <a:ext cx="1968480" cy="196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73560" y="3994200"/>
              <a:ext cx="139680" cy="13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3720960" y="4064040"/>
              <a:ext cx="6350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424040" y="510840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10720" y="36608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4076640"/>
              <a:ext cx="0" cy="50796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19480" y="411804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49880" y="5054760"/>
              <a:ext cx="9777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43400" y="4064040"/>
              <a:ext cx="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سئله : حرکت روی دایر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اگرام جسم آزاد را بکش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ه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ه پایین بگی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این رابطه استفاده کنی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در جهت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پیدا کنی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292640" y="2949480"/>
            <a:ext cx="3132000" cy="3425760"/>
            <a:chOff x="4292640" y="2949480"/>
            <a:chExt cx="3132000" cy="3425760"/>
          </a:xfrm>
        </p:grpSpPr>
        <p:sp>
          <p:nvSpPr>
            <p:cNvPr id="954" name=""/>
            <p:cNvSpPr/>
            <p:nvPr/>
          </p:nvSpPr>
          <p:spPr>
            <a:xfrm>
              <a:off x="4292640" y="3316320"/>
              <a:ext cx="3132000" cy="30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38760" y="3274920"/>
              <a:ext cx="254160" cy="254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880240" y="3406680"/>
              <a:ext cx="0" cy="812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3792600"/>
              <a:ext cx="4795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162000" tIns="81000" bIns="81000" anchor="t">
              <a:spAutoFit/>
            </a:bodyPr>
            <a:p>
              <a:pPr marL="500040" indent="-5000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800440"/>
                  <a:tab algn="l" pos="5600880"/>
                  <a:tab algn="l" pos="840096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85680" y="3784680"/>
              <a:ext cx="16920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81000" bIns="81000" anchor="t">
              <a:spAutoFit/>
            </a:bodyPr>
            <a:p>
              <a:pPr marL="500040" indent="-5000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800440"/>
                  <a:tab algn="l" pos="5600880"/>
                  <a:tab algn="l" pos="840096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80160" y="3456000"/>
              <a:ext cx="0" cy="596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31920" y="2949480"/>
              <a:ext cx="15364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81000" bIns="81000" anchor="t">
              <a:spAutoFit/>
            </a:bodyPr>
            <a:p>
              <a:pPr marL="500040" indent="-5000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800440"/>
                  <a:tab algn="l" pos="5600880"/>
                  <a:tab algn="l" pos="840096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y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"/>
          <p:cNvSpPr/>
          <p:nvPr/>
        </p:nvSpPr>
        <p:spPr>
          <a:xfrm flipV="1">
            <a:off x="6251400" y="2866680"/>
            <a:ext cx="0" cy="4698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رکت روی دایر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m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در جهت محو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+ T = 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= 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R - m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210280" y="2744640"/>
            <a:ext cx="45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81000" bIns="81000" anchor="t">
            <a:spAutoFit/>
          </a:bodyPr>
          <a:p>
            <a:pPr marL="500040" indent="-500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00440"/>
                <a:tab algn="l" pos="5600880"/>
                <a:tab algn="l" pos="840096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rot="16200000">
            <a:off x="2073600" y="3078000"/>
            <a:ext cx="603360" cy="162252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rot="16200000">
            <a:off x="2215080" y="4557600"/>
            <a:ext cx="368280" cy="52092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162080" y="5130720"/>
            <a:ext cx="2349360" cy="520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4292640" y="2852640"/>
            <a:ext cx="3463920" cy="3522600"/>
            <a:chOff x="4292640" y="2852640"/>
            <a:chExt cx="3463920" cy="3522600"/>
          </a:xfrm>
        </p:grpSpPr>
        <p:sp>
          <p:nvSpPr>
            <p:cNvPr id="971" name=""/>
            <p:cNvSpPr/>
            <p:nvPr/>
          </p:nvSpPr>
          <p:spPr>
            <a:xfrm>
              <a:off x="4292640" y="3216240"/>
              <a:ext cx="3270240" cy="3159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835600" y="3162240"/>
              <a:ext cx="254160" cy="254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5521320" y="3035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21360" y="3378240"/>
              <a:ext cx="0" cy="812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51240" y="4562640"/>
              <a:ext cx="15091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81000" bIns="81000" anchor="t">
              <a:spAutoFit/>
            </a:bodyPr>
            <a:p>
              <a:pPr marL="500040" indent="-5000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800440"/>
                  <a:tab algn="l" pos="5600880"/>
                  <a:tab algn="l" pos="840096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01800" y="3665520"/>
              <a:ext cx="1480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81000" bIns="81000" anchor="t">
              <a:spAutoFit/>
            </a:bodyPr>
            <a:p>
              <a:pPr marL="500040" indent="-5000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800440"/>
                  <a:tab algn="l" pos="5600880"/>
                  <a:tab algn="l" pos="840096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35760" y="4572000"/>
              <a:ext cx="172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685760" y="3532320"/>
              <a:ext cx="16920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81000" bIns="81000" anchor="t">
              <a:spAutoFit/>
            </a:bodyPr>
            <a:p>
              <a:pPr marL="500040" indent="-5000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800440"/>
                  <a:tab algn="l" pos="5600880"/>
                  <a:tab algn="l" pos="840096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19840" y="3384720"/>
              <a:ext cx="0" cy="596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97040" y="2978280"/>
              <a:ext cx="15364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81000" bIns="81000" anchor="t">
              <a:spAutoFit/>
            </a:bodyPr>
            <a:p>
              <a:pPr marL="500040" indent="-5000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800440"/>
                  <a:tab algn="l" pos="5600880"/>
                  <a:tab algn="l" pos="840096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y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6589800" y="2852640"/>
              <a:ext cx="0" cy="470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1936800" y="36417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F = 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رکت روی دایر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"/>
          </a:bodyPr>
          <a:p>
            <a:pPr marL="19800" indent="-1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داقل سرعت در بالاترین نقطه مسیر چقدر باشد تا نخ شل نش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-15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عتی ر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گونه ای پیدا کنید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= 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R = mg +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R = 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 که ب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بستگی  ن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299560" y="2139840"/>
            <a:ext cx="1452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000" rIns="162000" tIns="81000" bIns="81000" anchor="t">
            <a:spAutoFit/>
          </a:bodyPr>
          <a:p>
            <a:pPr marL="500040" indent="-500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00440"/>
                <a:tab algn="l" pos="5600880"/>
                <a:tab algn="l" pos="840096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4292640" y="2514600"/>
            <a:ext cx="3463920" cy="3860640"/>
            <a:chOff x="4292640" y="2514600"/>
            <a:chExt cx="3463920" cy="3860640"/>
          </a:xfrm>
        </p:grpSpPr>
        <p:sp>
          <p:nvSpPr>
            <p:cNvPr id="988" name=""/>
            <p:cNvSpPr/>
            <p:nvPr/>
          </p:nvSpPr>
          <p:spPr>
            <a:xfrm>
              <a:off x="4292640" y="2921040"/>
              <a:ext cx="3454200" cy="3454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892840" y="2768760"/>
              <a:ext cx="253800" cy="253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1240" y="4562640"/>
              <a:ext cx="15091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81000" bIns="81000" anchor="t">
              <a:spAutoFit/>
            </a:bodyPr>
            <a:p>
              <a:pPr marL="500040" indent="-5000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800440"/>
                  <a:tab algn="l" pos="5600880"/>
                  <a:tab algn="l" pos="840096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35760" y="4572000"/>
              <a:ext cx="17208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839840" y="3040200"/>
              <a:ext cx="16920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81000" bIns="81000" anchor="t">
              <a:spAutoFit/>
            </a:bodyPr>
            <a:p>
              <a:pPr marL="500040" indent="-5000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800440"/>
                  <a:tab algn="l" pos="5600880"/>
                  <a:tab algn="l" pos="840096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62680" y="2921040"/>
              <a:ext cx="0" cy="596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905440" y="2971800"/>
              <a:ext cx="173160" cy="1601640"/>
            </a:xfrm>
            <a:custGeom>
              <a:avLst/>
              <a:gdLst/>
              <a:ahLst/>
              <a:rect l="l" t="t" r="r" b="b"/>
              <a:pathLst>
                <a:path w="109" h="1009">
                  <a:moveTo>
                    <a:pt x="72" y="0"/>
                  </a:moveTo>
                  <a:lnTo>
                    <a:pt x="72" y="36"/>
                  </a:lnTo>
                  <a:lnTo>
                    <a:pt x="72" y="72"/>
                  </a:lnTo>
                  <a:lnTo>
                    <a:pt x="72" y="108"/>
                  </a:lnTo>
                  <a:lnTo>
                    <a:pt x="72" y="144"/>
                  </a:lnTo>
                  <a:lnTo>
                    <a:pt x="96" y="180"/>
                  </a:lnTo>
                  <a:lnTo>
                    <a:pt x="96" y="216"/>
                  </a:lnTo>
                  <a:lnTo>
                    <a:pt x="96" y="252"/>
                  </a:lnTo>
                  <a:lnTo>
                    <a:pt x="108" y="288"/>
                  </a:lnTo>
                  <a:lnTo>
                    <a:pt x="108" y="324"/>
                  </a:lnTo>
                  <a:lnTo>
                    <a:pt x="108" y="360"/>
                  </a:lnTo>
                  <a:lnTo>
                    <a:pt x="108" y="396"/>
                  </a:lnTo>
                  <a:lnTo>
                    <a:pt x="96" y="432"/>
                  </a:lnTo>
                  <a:lnTo>
                    <a:pt x="84" y="468"/>
                  </a:lnTo>
                  <a:lnTo>
                    <a:pt x="72" y="504"/>
                  </a:lnTo>
                  <a:lnTo>
                    <a:pt x="60" y="540"/>
                  </a:lnTo>
                  <a:lnTo>
                    <a:pt x="48" y="576"/>
                  </a:lnTo>
                  <a:lnTo>
                    <a:pt x="48" y="612"/>
                  </a:lnTo>
                  <a:lnTo>
                    <a:pt x="36" y="648"/>
                  </a:lnTo>
                  <a:lnTo>
                    <a:pt x="24" y="684"/>
                  </a:lnTo>
                  <a:lnTo>
                    <a:pt x="24" y="720"/>
                  </a:lnTo>
                  <a:lnTo>
                    <a:pt x="12" y="756"/>
                  </a:lnTo>
                  <a:lnTo>
                    <a:pt x="0" y="792"/>
                  </a:lnTo>
                  <a:lnTo>
                    <a:pt x="0" y="828"/>
                  </a:lnTo>
                  <a:lnTo>
                    <a:pt x="0" y="864"/>
                  </a:lnTo>
                  <a:lnTo>
                    <a:pt x="0" y="900"/>
                  </a:lnTo>
                  <a:lnTo>
                    <a:pt x="0" y="936"/>
                  </a:lnTo>
                  <a:lnTo>
                    <a:pt x="24" y="972"/>
                  </a:lnTo>
                  <a:lnTo>
                    <a:pt x="48" y="100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632560" y="251460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26360" y="3343320"/>
              <a:ext cx="18414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81000" bIns="81000" anchor="t">
              <a:spAutoFit/>
            </a:bodyPr>
            <a:p>
              <a:pPr marL="500040" indent="-5000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800440"/>
                  <a:tab algn="l" pos="5600880"/>
                  <a:tab algn="l" pos="840096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1378080" y="4197240"/>
            <a:ext cx="1587240" cy="596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604880" y="4329000"/>
                <a:ext cx="141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519120" y="6554880"/>
            <a:ext cx="306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2035080" y="928800"/>
            <a:ext cx="59882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کمی فکر کنیم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مقداری آب داخل سطل می ریزیم و آنرا دور سر خو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می چرخانیم . آب فرو نمی ریزد .چرا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896000" y="5397480"/>
            <a:ext cx="2935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تصویر کلیک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00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00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0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رکت روی دایر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اسکی باز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مسیری به شع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گذ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داکثر سرعت او چقدرباشد تا از زمین جدان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066680" y="2514600"/>
            <a:ext cx="6949800" cy="2590560"/>
            <a:chOff x="1066680" y="2514600"/>
            <a:chExt cx="6949800" cy="2590560"/>
          </a:xfrm>
        </p:grpSpPr>
        <p:sp>
          <p:nvSpPr>
            <p:cNvPr id="1008" name=""/>
            <p:cNvSpPr/>
            <p:nvPr/>
          </p:nvSpPr>
          <p:spPr>
            <a:xfrm>
              <a:off x="3366720" y="3421440"/>
              <a:ext cx="1789200" cy="168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4267440" y="4061880"/>
              <a:ext cx="888840" cy="206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377960" y="417960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61680" y="3094200"/>
              <a:ext cx="3754800" cy="758880"/>
            </a:xfrm>
            <a:custGeom>
              <a:avLst/>
              <a:gdLst/>
              <a:ahLst/>
              <a:rect l="l" t="t" r="r" b="b"/>
              <a:pathLst>
                <a:path w="2602" h="559">
                  <a:moveTo>
                    <a:pt x="0" y="237"/>
                  </a:moveTo>
                  <a:lnTo>
                    <a:pt x="27" y="243"/>
                  </a:lnTo>
                  <a:lnTo>
                    <a:pt x="63" y="252"/>
                  </a:lnTo>
                  <a:lnTo>
                    <a:pt x="90" y="261"/>
                  </a:lnTo>
                  <a:lnTo>
                    <a:pt x="117" y="270"/>
                  </a:lnTo>
                  <a:lnTo>
                    <a:pt x="144" y="270"/>
                  </a:lnTo>
                  <a:lnTo>
                    <a:pt x="171" y="279"/>
                  </a:lnTo>
                  <a:lnTo>
                    <a:pt x="198" y="288"/>
                  </a:lnTo>
                  <a:lnTo>
                    <a:pt x="225" y="288"/>
                  </a:lnTo>
                  <a:lnTo>
                    <a:pt x="252" y="297"/>
                  </a:lnTo>
                  <a:lnTo>
                    <a:pt x="279" y="315"/>
                  </a:lnTo>
                  <a:lnTo>
                    <a:pt x="306" y="324"/>
                  </a:lnTo>
                  <a:lnTo>
                    <a:pt x="333" y="351"/>
                  </a:lnTo>
                  <a:lnTo>
                    <a:pt x="369" y="360"/>
                  </a:lnTo>
                  <a:lnTo>
                    <a:pt x="378" y="387"/>
                  </a:lnTo>
                  <a:lnTo>
                    <a:pt x="405" y="405"/>
                  </a:lnTo>
                  <a:lnTo>
                    <a:pt x="423" y="432"/>
                  </a:lnTo>
                  <a:lnTo>
                    <a:pt x="450" y="450"/>
                  </a:lnTo>
                  <a:lnTo>
                    <a:pt x="477" y="468"/>
                  </a:lnTo>
                  <a:lnTo>
                    <a:pt x="504" y="486"/>
                  </a:lnTo>
                  <a:lnTo>
                    <a:pt x="531" y="504"/>
                  </a:lnTo>
                  <a:lnTo>
                    <a:pt x="594" y="513"/>
                  </a:lnTo>
                  <a:lnTo>
                    <a:pt x="621" y="522"/>
                  </a:lnTo>
                  <a:lnTo>
                    <a:pt x="648" y="531"/>
                  </a:lnTo>
                  <a:lnTo>
                    <a:pt x="684" y="540"/>
                  </a:lnTo>
                  <a:lnTo>
                    <a:pt x="711" y="540"/>
                  </a:lnTo>
                  <a:lnTo>
                    <a:pt x="792" y="540"/>
                  </a:lnTo>
                  <a:lnTo>
                    <a:pt x="828" y="549"/>
                  </a:lnTo>
                  <a:lnTo>
                    <a:pt x="864" y="549"/>
                  </a:lnTo>
                  <a:lnTo>
                    <a:pt x="936" y="558"/>
                  </a:lnTo>
                  <a:lnTo>
                    <a:pt x="972" y="558"/>
                  </a:lnTo>
                  <a:lnTo>
                    <a:pt x="1080" y="558"/>
                  </a:lnTo>
                  <a:lnTo>
                    <a:pt x="1107" y="558"/>
                  </a:lnTo>
                  <a:lnTo>
                    <a:pt x="1143" y="549"/>
                  </a:lnTo>
                  <a:lnTo>
                    <a:pt x="1197" y="549"/>
                  </a:lnTo>
                  <a:lnTo>
                    <a:pt x="1251" y="549"/>
                  </a:lnTo>
                  <a:lnTo>
                    <a:pt x="1323" y="549"/>
                  </a:lnTo>
                  <a:lnTo>
                    <a:pt x="1413" y="540"/>
                  </a:lnTo>
                  <a:lnTo>
                    <a:pt x="1449" y="531"/>
                  </a:lnTo>
                  <a:lnTo>
                    <a:pt x="1503" y="531"/>
                  </a:lnTo>
                  <a:lnTo>
                    <a:pt x="1530" y="531"/>
                  </a:lnTo>
                  <a:lnTo>
                    <a:pt x="1566" y="522"/>
                  </a:lnTo>
                  <a:lnTo>
                    <a:pt x="1602" y="522"/>
                  </a:lnTo>
                  <a:lnTo>
                    <a:pt x="1638" y="513"/>
                  </a:lnTo>
                  <a:lnTo>
                    <a:pt x="1665" y="504"/>
                  </a:lnTo>
                  <a:lnTo>
                    <a:pt x="1728" y="495"/>
                  </a:lnTo>
                  <a:lnTo>
                    <a:pt x="1755" y="468"/>
                  </a:lnTo>
                  <a:lnTo>
                    <a:pt x="1791" y="459"/>
                  </a:lnTo>
                  <a:lnTo>
                    <a:pt x="1863" y="450"/>
                  </a:lnTo>
                  <a:lnTo>
                    <a:pt x="1899" y="432"/>
                  </a:lnTo>
                  <a:lnTo>
                    <a:pt x="1926" y="414"/>
                  </a:lnTo>
                  <a:lnTo>
                    <a:pt x="1998" y="405"/>
                  </a:lnTo>
                  <a:lnTo>
                    <a:pt x="2025" y="378"/>
                  </a:lnTo>
                  <a:lnTo>
                    <a:pt x="2043" y="324"/>
                  </a:lnTo>
                  <a:lnTo>
                    <a:pt x="2070" y="315"/>
                  </a:lnTo>
                  <a:lnTo>
                    <a:pt x="2097" y="288"/>
                  </a:lnTo>
                  <a:lnTo>
                    <a:pt x="2124" y="270"/>
                  </a:lnTo>
                  <a:lnTo>
                    <a:pt x="2142" y="243"/>
                  </a:lnTo>
                  <a:lnTo>
                    <a:pt x="2169" y="216"/>
                  </a:lnTo>
                  <a:lnTo>
                    <a:pt x="2196" y="198"/>
                  </a:lnTo>
                  <a:lnTo>
                    <a:pt x="2268" y="171"/>
                  </a:lnTo>
                  <a:lnTo>
                    <a:pt x="2295" y="153"/>
                  </a:lnTo>
                  <a:lnTo>
                    <a:pt x="2322" y="135"/>
                  </a:lnTo>
                  <a:lnTo>
                    <a:pt x="2412" y="108"/>
                  </a:lnTo>
                  <a:lnTo>
                    <a:pt x="2448" y="90"/>
                  </a:lnTo>
                  <a:lnTo>
                    <a:pt x="2484" y="63"/>
                  </a:lnTo>
                  <a:lnTo>
                    <a:pt x="2520" y="36"/>
                  </a:lnTo>
                  <a:lnTo>
                    <a:pt x="2574" y="18"/>
                  </a:lnTo>
                  <a:lnTo>
                    <a:pt x="2601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66680" y="3412080"/>
              <a:ext cx="3127320" cy="502200"/>
            </a:xfrm>
            <a:custGeom>
              <a:avLst/>
              <a:gdLst/>
              <a:ahLst/>
              <a:rect l="l" t="t" r="r" b="b"/>
              <a:pathLst>
                <a:path w="2167" h="370">
                  <a:moveTo>
                    <a:pt x="2166" y="3"/>
                  </a:moveTo>
                  <a:lnTo>
                    <a:pt x="2133" y="0"/>
                  </a:lnTo>
                  <a:lnTo>
                    <a:pt x="2106" y="9"/>
                  </a:lnTo>
                  <a:lnTo>
                    <a:pt x="2079" y="18"/>
                  </a:lnTo>
                  <a:lnTo>
                    <a:pt x="2052" y="27"/>
                  </a:lnTo>
                  <a:lnTo>
                    <a:pt x="2025" y="36"/>
                  </a:lnTo>
                  <a:lnTo>
                    <a:pt x="1998" y="36"/>
                  </a:lnTo>
                  <a:lnTo>
                    <a:pt x="1971" y="54"/>
                  </a:lnTo>
                  <a:lnTo>
                    <a:pt x="1944" y="63"/>
                  </a:lnTo>
                  <a:lnTo>
                    <a:pt x="1917" y="72"/>
                  </a:lnTo>
                  <a:lnTo>
                    <a:pt x="1890" y="81"/>
                  </a:lnTo>
                  <a:lnTo>
                    <a:pt x="1863" y="99"/>
                  </a:lnTo>
                  <a:lnTo>
                    <a:pt x="1836" y="117"/>
                  </a:lnTo>
                  <a:lnTo>
                    <a:pt x="1818" y="144"/>
                  </a:lnTo>
                  <a:lnTo>
                    <a:pt x="1800" y="171"/>
                  </a:lnTo>
                  <a:lnTo>
                    <a:pt x="1773" y="180"/>
                  </a:lnTo>
                  <a:lnTo>
                    <a:pt x="1746" y="189"/>
                  </a:lnTo>
                  <a:lnTo>
                    <a:pt x="1719" y="198"/>
                  </a:lnTo>
                  <a:lnTo>
                    <a:pt x="1692" y="207"/>
                  </a:lnTo>
                  <a:lnTo>
                    <a:pt x="1665" y="216"/>
                  </a:lnTo>
                  <a:lnTo>
                    <a:pt x="1638" y="225"/>
                  </a:lnTo>
                  <a:lnTo>
                    <a:pt x="1611" y="243"/>
                  </a:lnTo>
                  <a:lnTo>
                    <a:pt x="1584" y="261"/>
                  </a:lnTo>
                  <a:lnTo>
                    <a:pt x="1557" y="270"/>
                  </a:lnTo>
                  <a:lnTo>
                    <a:pt x="1521" y="288"/>
                  </a:lnTo>
                  <a:lnTo>
                    <a:pt x="1494" y="297"/>
                  </a:lnTo>
                  <a:lnTo>
                    <a:pt x="1467" y="315"/>
                  </a:lnTo>
                  <a:lnTo>
                    <a:pt x="1440" y="324"/>
                  </a:lnTo>
                  <a:lnTo>
                    <a:pt x="1413" y="333"/>
                  </a:lnTo>
                  <a:lnTo>
                    <a:pt x="1359" y="351"/>
                  </a:lnTo>
                  <a:lnTo>
                    <a:pt x="1287" y="360"/>
                  </a:lnTo>
                  <a:lnTo>
                    <a:pt x="1260" y="360"/>
                  </a:lnTo>
                  <a:lnTo>
                    <a:pt x="1206" y="360"/>
                  </a:lnTo>
                  <a:lnTo>
                    <a:pt x="1134" y="369"/>
                  </a:lnTo>
                  <a:lnTo>
                    <a:pt x="1098" y="360"/>
                  </a:lnTo>
                  <a:lnTo>
                    <a:pt x="1026" y="360"/>
                  </a:lnTo>
                  <a:lnTo>
                    <a:pt x="999" y="360"/>
                  </a:lnTo>
                  <a:lnTo>
                    <a:pt x="972" y="351"/>
                  </a:lnTo>
                  <a:lnTo>
                    <a:pt x="936" y="342"/>
                  </a:lnTo>
                  <a:lnTo>
                    <a:pt x="909" y="333"/>
                  </a:lnTo>
                  <a:lnTo>
                    <a:pt x="873" y="324"/>
                  </a:lnTo>
                  <a:lnTo>
                    <a:pt x="819" y="315"/>
                  </a:lnTo>
                  <a:lnTo>
                    <a:pt x="747" y="306"/>
                  </a:lnTo>
                  <a:lnTo>
                    <a:pt x="621" y="288"/>
                  </a:lnTo>
                  <a:lnTo>
                    <a:pt x="594" y="270"/>
                  </a:lnTo>
                  <a:lnTo>
                    <a:pt x="558" y="252"/>
                  </a:lnTo>
                  <a:lnTo>
                    <a:pt x="522" y="216"/>
                  </a:lnTo>
                  <a:lnTo>
                    <a:pt x="450" y="189"/>
                  </a:lnTo>
                  <a:lnTo>
                    <a:pt x="423" y="171"/>
                  </a:lnTo>
                  <a:lnTo>
                    <a:pt x="396" y="162"/>
                  </a:lnTo>
                  <a:lnTo>
                    <a:pt x="306" y="144"/>
                  </a:lnTo>
                  <a:lnTo>
                    <a:pt x="279" y="135"/>
                  </a:lnTo>
                  <a:lnTo>
                    <a:pt x="207" y="126"/>
                  </a:lnTo>
                  <a:lnTo>
                    <a:pt x="171" y="117"/>
                  </a:lnTo>
                  <a:lnTo>
                    <a:pt x="135" y="117"/>
                  </a:lnTo>
                  <a:lnTo>
                    <a:pt x="108" y="117"/>
                  </a:lnTo>
                  <a:lnTo>
                    <a:pt x="81" y="117"/>
                  </a:lnTo>
                  <a:lnTo>
                    <a:pt x="54" y="117"/>
                  </a:lnTo>
                  <a:lnTo>
                    <a:pt x="27" y="126"/>
                  </a:lnTo>
                  <a:lnTo>
                    <a:pt x="0" y="135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197960" y="2900160"/>
              <a:ext cx="126720" cy="510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28840" y="2639520"/>
              <a:ext cx="265680" cy="249480"/>
            </a:xfrm>
            <a:prstGeom prst="ellipse">
              <a:avLst/>
            </a:prstGeom>
            <a:noFill/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20760" y="3416040"/>
              <a:ext cx="681120" cy="0"/>
            </a:xfrm>
            <a:prstGeom prst="line">
              <a:avLst/>
            </a:prstGeom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14840" y="3291840"/>
              <a:ext cx="402840" cy="11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69160" y="2688480"/>
              <a:ext cx="57240" cy="54000"/>
            </a:xfrm>
            <a:prstGeom prst="ellipse">
              <a:avLst/>
            </a:prstGeom>
            <a:noFill/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01760" y="2710080"/>
              <a:ext cx="265320" cy="9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151880" y="2514600"/>
              <a:ext cx="301320" cy="272880"/>
            </a:xfrm>
            <a:custGeom>
              <a:avLst/>
              <a:gdLst/>
              <a:ahLst/>
              <a:rect l="l" t="t" r="r" b="b"/>
              <a:pathLst>
                <a:path w="209" h="201">
                  <a:moveTo>
                    <a:pt x="0" y="108"/>
                  </a:moveTo>
                  <a:lnTo>
                    <a:pt x="4" y="96"/>
                  </a:lnTo>
                  <a:lnTo>
                    <a:pt x="12" y="84"/>
                  </a:lnTo>
                  <a:lnTo>
                    <a:pt x="16" y="72"/>
                  </a:lnTo>
                  <a:lnTo>
                    <a:pt x="20" y="88"/>
                  </a:lnTo>
                  <a:lnTo>
                    <a:pt x="32" y="76"/>
                  </a:lnTo>
                  <a:lnTo>
                    <a:pt x="56" y="44"/>
                  </a:lnTo>
                  <a:lnTo>
                    <a:pt x="56" y="84"/>
                  </a:lnTo>
                  <a:lnTo>
                    <a:pt x="56" y="100"/>
                  </a:lnTo>
                  <a:lnTo>
                    <a:pt x="64" y="64"/>
                  </a:lnTo>
                  <a:lnTo>
                    <a:pt x="72" y="52"/>
                  </a:lnTo>
                  <a:lnTo>
                    <a:pt x="64" y="84"/>
                  </a:lnTo>
                  <a:lnTo>
                    <a:pt x="64" y="96"/>
                  </a:lnTo>
                  <a:lnTo>
                    <a:pt x="72" y="68"/>
                  </a:lnTo>
                  <a:lnTo>
                    <a:pt x="80" y="36"/>
                  </a:lnTo>
                  <a:lnTo>
                    <a:pt x="104" y="32"/>
                  </a:lnTo>
                  <a:lnTo>
                    <a:pt x="96" y="76"/>
                  </a:lnTo>
                  <a:lnTo>
                    <a:pt x="128" y="56"/>
                  </a:lnTo>
                  <a:lnTo>
                    <a:pt x="168" y="32"/>
                  </a:lnTo>
                  <a:lnTo>
                    <a:pt x="140" y="84"/>
                  </a:lnTo>
                  <a:lnTo>
                    <a:pt x="144" y="60"/>
                  </a:lnTo>
                  <a:lnTo>
                    <a:pt x="152" y="48"/>
                  </a:lnTo>
                  <a:lnTo>
                    <a:pt x="144" y="84"/>
                  </a:lnTo>
                  <a:lnTo>
                    <a:pt x="112" y="140"/>
                  </a:lnTo>
                  <a:lnTo>
                    <a:pt x="120" y="72"/>
                  </a:lnTo>
                  <a:lnTo>
                    <a:pt x="100" y="96"/>
                  </a:lnTo>
                  <a:lnTo>
                    <a:pt x="92" y="108"/>
                  </a:lnTo>
                  <a:lnTo>
                    <a:pt x="96" y="84"/>
                  </a:lnTo>
                  <a:lnTo>
                    <a:pt x="104" y="60"/>
                  </a:lnTo>
                  <a:lnTo>
                    <a:pt x="92" y="84"/>
                  </a:lnTo>
                  <a:lnTo>
                    <a:pt x="116" y="36"/>
                  </a:lnTo>
                  <a:lnTo>
                    <a:pt x="92" y="68"/>
                  </a:lnTo>
                  <a:lnTo>
                    <a:pt x="88" y="44"/>
                  </a:lnTo>
                  <a:lnTo>
                    <a:pt x="64" y="48"/>
                  </a:lnTo>
                  <a:lnTo>
                    <a:pt x="40" y="56"/>
                  </a:lnTo>
                  <a:lnTo>
                    <a:pt x="40" y="40"/>
                  </a:lnTo>
                  <a:lnTo>
                    <a:pt x="28" y="52"/>
                  </a:lnTo>
                  <a:lnTo>
                    <a:pt x="16" y="56"/>
                  </a:lnTo>
                  <a:lnTo>
                    <a:pt x="16" y="96"/>
                  </a:lnTo>
                  <a:lnTo>
                    <a:pt x="52" y="60"/>
                  </a:lnTo>
                  <a:lnTo>
                    <a:pt x="56" y="80"/>
                  </a:lnTo>
                  <a:lnTo>
                    <a:pt x="52" y="112"/>
                  </a:lnTo>
                  <a:lnTo>
                    <a:pt x="80" y="80"/>
                  </a:lnTo>
                  <a:lnTo>
                    <a:pt x="112" y="72"/>
                  </a:lnTo>
                  <a:lnTo>
                    <a:pt x="108" y="100"/>
                  </a:lnTo>
                  <a:lnTo>
                    <a:pt x="100" y="132"/>
                  </a:lnTo>
                  <a:lnTo>
                    <a:pt x="172" y="68"/>
                  </a:lnTo>
                  <a:lnTo>
                    <a:pt x="196" y="60"/>
                  </a:lnTo>
                  <a:lnTo>
                    <a:pt x="172" y="92"/>
                  </a:lnTo>
                  <a:lnTo>
                    <a:pt x="148" y="124"/>
                  </a:lnTo>
                  <a:lnTo>
                    <a:pt x="160" y="100"/>
                  </a:lnTo>
                  <a:lnTo>
                    <a:pt x="168" y="88"/>
                  </a:lnTo>
                  <a:lnTo>
                    <a:pt x="164" y="120"/>
                  </a:lnTo>
                  <a:lnTo>
                    <a:pt x="160" y="144"/>
                  </a:lnTo>
                  <a:lnTo>
                    <a:pt x="196" y="96"/>
                  </a:lnTo>
                  <a:lnTo>
                    <a:pt x="148" y="164"/>
                  </a:lnTo>
                  <a:lnTo>
                    <a:pt x="144" y="188"/>
                  </a:lnTo>
                  <a:lnTo>
                    <a:pt x="168" y="164"/>
                  </a:lnTo>
                  <a:lnTo>
                    <a:pt x="172" y="140"/>
                  </a:lnTo>
                  <a:lnTo>
                    <a:pt x="168" y="160"/>
                  </a:lnTo>
                  <a:lnTo>
                    <a:pt x="168" y="184"/>
                  </a:lnTo>
                  <a:lnTo>
                    <a:pt x="180" y="152"/>
                  </a:lnTo>
                  <a:lnTo>
                    <a:pt x="180" y="164"/>
                  </a:lnTo>
                  <a:lnTo>
                    <a:pt x="172" y="196"/>
                  </a:lnTo>
                  <a:lnTo>
                    <a:pt x="196" y="164"/>
                  </a:lnTo>
                  <a:lnTo>
                    <a:pt x="188" y="200"/>
                  </a:lnTo>
                  <a:lnTo>
                    <a:pt x="196" y="180"/>
                  </a:lnTo>
                  <a:lnTo>
                    <a:pt x="200" y="156"/>
                  </a:lnTo>
                  <a:lnTo>
                    <a:pt x="208" y="124"/>
                  </a:lnTo>
                  <a:lnTo>
                    <a:pt x="196" y="164"/>
                  </a:lnTo>
                  <a:lnTo>
                    <a:pt x="200" y="112"/>
                  </a:lnTo>
                  <a:lnTo>
                    <a:pt x="204" y="88"/>
                  </a:lnTo>
                  <a:lnTo>
                    <a:pt x="192" y="116"/>
                  </a:lnTo>
                  <a:lnTo>
                    <a:pt x="196" y="96"/>
                  </a:lnTo>
                  <a:lnTo>
                    <a:pt x="200" y="72"/>
                  </a:lnTo>
                  <a:lnTo>
                    <a:pt x="196" y="48"/>
                  </a:lnTo>
                  <a:lnTo>
                    <a:pt x="188" y="76"/>
                  </a:lnTo>
                  <a:lnTo>
                    <a:pt x="164" y="108"/>
                  </a:lnTo>
                  <a:lnTo>
                    <a:pt x="168" y="84"/>
                  </a:lnTo>
                  <a:lnTo>
                    <a:pt x="144" y="140"/>
                  </a:lnTo>
                  <a:lnTo>
                    <a:pt x="148" y="124"/>
                  </a:lnTo>
                  <a:lnTo>
                    <a:pt x="156" y="100"/>
                  </a:lnTo>
                  <a:lnTo>
                    <a:pt x="160" y="88"/>
                  </a:lnTo>
                  <a:lnTo>
                    <a:pt x="156" y="120"/>
                  </a:lnTo>
                  <a:lnTo>
                    <a:pt x="148" y="144"/>
                  </a:lnTo>
                  <a:lnTo>
                    <a:pt x="148" y="168"/>
                  </a:lnTo>
                  <a:lnTo>
                    <a:pt x="156" y="156"/>
                  </a:lnTo>
                  <a:lnTo>
                    <a:pt x="164" y="116"/>
                  </a:lnTo>
                  <a:lnTo>
                    <a:pt x="156" y="172"/>
                  </a:lnTo>
                  <a:lnTo>
                    <a:pt x="188" y="136"/>
                  </a:lnTo>
                  <a:lnTo>
                    <a:pt x="196" y="112"/>
                  </a:lnTo>
                  <a:lnTo>
                    <a:pt x="192" y="124"/>
                  </a:lnTo>
                  <a:lnTo>
                    <a:pt x="200" y="100"/>
                  </a:lnTo>
                  <a:lnTo>
                    <a:pt x="208" y="60"/>
                  </a:lnTo>
                  <a:lnTo>
                    <a:pt x="172" y="100"/>
                  </a:lnTo>
                  <a:lnTo>
                    <a:pt x="172" y="64"/>
                  </a:lnTo>
                  <a:lnTo>
                    <a:pt x="180" y="48"/>
                  </a:lnTo>
                  <a:lnTo>
                    <a:pt x="168" y="80"/>
                  </a:lnTo>
                  <a:lnTo>
                    <a:pt x="144" y="112"/>
                  </a:lnTo>
                  <a:lnTo>
                    <a:pt x="120" y="120"/>
                  </a:lnTo>
                  <a:lnTo>
                    <a:pt x="132" y="80"/>
                  </a:lnTo>
                  <a:lnTo>
                    <a:pt x="136" y="40"/>
                  </a:lnTo>
                  <a:lnTo>
                    <a:pt x="124" y="76"/>
                  </a:lnTo>
                  <a:lnTo>
                    <a:pt x="128" y="36"/>
                  </a:lnTo>
                  <a:lnTo>
                    <a:pt x="124" y="52"/>
                  </a:lnTo>
                  <a:lnTo>
                    <a:pt x="116" y="76"/>
                  </a:lnTo>
                  <a:lnTo>
                    <a:pt x="92" y="80"/>
                  </a:lnTo>
                  <a:lnTo>
                    <a:pt x="96" y="56"/>
                  </a:lnTo>
                  <a:lnTo>
                    <a:pt x="100" y="32"/>
                  </a:lnTo>
                  <a:lnTo>
                    <a:pt x="88" y="40"/>
                  </a:lnTo>
                  <a:lnTo>
                    <a:pt x="64" y="48"/>
                  </a:lnTo>
                  <a:lnTo>
                    <a:pt x="68" y="24"/>
                  </a:lnTo>
                  <a:lnTo>
                    <a:pt x="72" y="0"/>
                  </a:lnTo>
                  <a:lnTo>
                    <a:pt x="48" y="32"/>
                  </a:lnTo>
                  <a:lnTo>
                    <a:pt x="44" y="8"/>
                  </a:lnTo>
                  <a:lnTo>
                    <a:pt x="32" y="20"/>
                  </a:lnTo>
                  <a:lnTo>
                    <a:pt x="28" y="32"/>
                  </a:lnTo>
                  <a:lnTo>
                    <a:pt x="32" y="44"/>
                  </a:lnTo>
                  <a:lnTo>
                    <a:pt x="28" y="68"/>
                  </a:lnTo>
                  <a:lnTo>
                    <a:pt x="40" y="68"/>
                  </a:lnTo>
                  <a:lnTo>
                    <a:pt x="32" y="84"/>
                  </a:lnTo>
                  <a:lnTo>
                    <a:pt x="64" y="8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920760" y="2948760"/>
              <a:ext cx="288360" cy="38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67200" y="3041280"/>
              <a:ext cx="219240" cy="21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61680" y="3421440"/>
              <a:ext cx="0" cy="380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92200" y="3421440"/>
              <a:ext cx="0" cy="640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409200" y="3592800"/>
              <a:ext cx="1120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963960" y="352764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3285720" y="3090240"/>
              <a:ext cx="565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62880" y="27464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371600" y="55990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)                   (b)                   (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6095880" y="5638680"/>
                <a:ext cx="97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436840" y="5638680"/>
                <a:ext cx="11890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m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4313160" y="5487840"/>
                <a:ext cx="995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R = mg -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ازای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359160" y="3968640"/>
            <a:ext cx="1968480" cy="1968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4349880" y="4718160"/>
            <a:ext cx="977760" cy="2412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269880" y="3581280"/>
            <a:ext cx="62244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500360" y="485460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053520" y="31798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343400" y="3586320"/>
            <a:ext cx="4130640" cy="887400"/>
          </a:xfrm>
          <a:custGeom>
            <a:avLst/>
            <a:gdLst/>
            <a:ahLst/>
            <a:rect l="l" t="t" r="r" b="b"/>
            <a:pathLst>
              <a:path w="2602" h="559">
                <a:moveTo>
                  <a:pt x="0" y="237"/>
                </a:moveTo>
                <a:lnTo>
                  <a:pt x="27" y="243"/>
                </a:lnTo>
                <a:lnTo>
                  <a:pt x="63" y="252"/>
                </a:lnTo>
                <a:lnTo>
                  <a:pt x="90" y="261"/>
                </a:lnTo>
                <a:lnTo>
                  <a:pt x="117" y="270"/>
                </a:lnTo>
                <a:lnTo>
                  <a:pt x="144" y="270"/>
                </a:lnTo>
                <a:lnTo>
                  <a:pt x="171" y="279"/>
                </a:lnTo>
                <a:lnTo>
                  <a:pt x="198" y="288"/>
                </a:lnTo>
                <a:lnTo>
                  <a:pt x="225" y="288"/>
                </a:lnTo>
                <a:lnTo>
                  <a:pt x="252" y="297"/>
                </a:lnTo>
                <a:lnTo>
                  <a:pt x="279" y="315"/>
                </a:lnTo>
                <a:lnTo>
                  <a:pt x="306" y="324"/>
                </a:lnTo>
                <a:lnTo>
                  <a:pt x="333" y="351"/>
                </a:lnTo>
                <a:lnTo>
                  <a:pt x="369" y="360"/>
                </a:lnTo>
                <a:lnTo>
                  <a:pt x="378" y="387"/>
                </a:lnTo>
                <a:lnTo>
                  <a:pt x="405" y="405"/>
                </a:lnTo>
                <a:lnTo>
                  <a:pt x="423" y="432"/>
                </a:lnTo>
                <a:lnTo>
                  <a:pt x="450" y="450"/>
                </a:lnTo>
                <a:lnTo>
                  <a:pt x="477" y="468"/>
                </a:lnTo>
                <a:lnTo>
                  <a:pt x="504" y="486"/>
                </a:lnTo>
                <a:lnTo>
                  <a:pt x="531" y="504"/>
                </a:lnTo>
                <a:lnTo>
                  <a:pt x="594" y="513"/>
                </a:lnTo>
                <a:lnTo>
                  <a:pt x="621" y="522"/>
                </a:lnTo>
                <a:lnTo>
                  <a:pt x="648" y="531"/>
                </a:lnTo>
                <a:lnTo>
                  <a:pt x="684" y="540"/>
                </a:lnTo>
                <a:lnTo>
                  <a:pt x="711" y="540"/>
                </a:lnTo>
                <a:lnTo>
                  <a:pt x="792" y="540"/>
                </a:lnTo>
                <a:lnTo>
                  <a:pt x="828" y="549"/>
                </a:lnTo>
                <a:lnTo>
                  <a:pt x="864" y="549"/>
                </a:lnTo>
                <a:lnTo>
                  <a:pt x="936" y="558"/>
                </a:lnTo>
                <a:lnTo>
                  <a:pt x="972" y="558"/>
                </a:lnTo>
                <a:lnTo>
                  <a:pt x="1080" y="558"/>
                </a:lnTo>
                <a:lnTo>
                  <a:pt x="1107" y="558"/>
                </a:lnTo>
                <a:lnTo>
                  <a:pt x="1143" y="549"/>
                </a:lnTo>
                <a:lnTo>
                  <a:pt x="1197" y="549"/>
                </a:lnTo>
                <a:lnTo>
                  <a:pt x="1251" y="549"/>
                </a:lnTo>
                <a:lnTo>
                  <a:pt x="1323" y="549"/>
                </a:lnTo>
                <a:lnTo>
                  <a:pt x="1413" y="540"/>
                </a:lnTo>
                <a:lnTo>
                  <a:pt x="1449" y="531"/>
                </a:lnTo>
                <a:lnTo>
                  <a:pt x="1503" y="531"/>
                </a:lnTo>
                <a:lnTo>
                  <a:pt x="1530" y="531"/>
                </a:lnTo>
                <a:lnTo>
                  <a:pt x="1566" y="522"/>
                </a:lnTo>
                <a:lnTo>
                  <a:pt x="1602" y="522"/>
                </a:lnTo>
                <a:lnTo>
                  <a:pt x="1638" y="513"/>
                </a:lnTo>
                <a:lnTo>
                  <a:pt x="1665" y="504"/>
                </a:lnTo>
                <a:lnTo>
                  <a:pt x="1728" y="495"/>
                </a:lnTo>
                <a:lnTo>
                  <a:pt x="1755" y="468"/>
                </a:lnTo>
                <a:lnTo>
                  <a:pt x="1791" y="459"/>
                </a:lnTo>
                <a:lnTo>
                  <a:pt x="1863" y="450"/>
                </a:lnTo>
                <a:lnTo>
                  <a:pt x="1899" y="432"/>
                </a:lnTo>
                <a:lnTo>
                  <a:pt x="1926" y="414"/>
                </a:lnTo>
                <a:lnTo>
                  <a:pt x="1998" y="405"/>
                </a:lnTo>
                <a:lnTo>
                  <a:pt x="2025" y="378"/>
                </a:lnTo>
                <a:lnTo>
                  <a:pt x="2043" y="324"/>
                </a:lnTo>
                <a:lnTo>
                  <a:pt x="2070" y="315"/>
                </a:lnTo>
                <a:lnTo>
                  <a:pt x="2097" y="288"/>
                </a:lnTo>
                <a:lnTo>
                  <a:pt x="2124" y="270"/>
                </a:lnTo>
                <a:lnTo>
                  <a:pt x="2142" y="243"/>
                </a:lnTo>
                <a:lnTo>
                  <a:pt x="2169" y="216"/>
                </a:lnTo>
                <a:lnTo>
                  <a:pt x="2196" y="198"/>
                </a:lnTo>
                <a:lnTo>
                  <a:pt x="2268" y="171"/>
                </a:lnTo>
                <a:lnTo>
                  <a:pt x="2295" y="153"/>
                </a:lnTo>
                <a:lnTo>
                  <a:pt x="2322" y="135"/>
                </a:lnTo>
                <a:lnTo>
                  <a:pt x="2412" y="108"/>
                </a:lnTo>
                <a:lnTo>
                  <a:pt x="2448" y="90"/>
                </a:lnTo>
                <a:lnTo>
                  <a:pt x="2484" y="63"/>
                </a:lnTo>
                <a:lnTo>
                  <a:pt x="2520" y="36"/>
                </a:lnTo>
                <a:lnTo>
                  <a:pt x="2574" y="18"/>
                </a:lnTo>
                <a:lnTo>
                  <a:pt x="2601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3957480"/>
            <a:ext cx="3440160" cy="587520"/>
          </a:xfrm>
          <a:custGeom>
            <a:avLst/>
            <a:gdLst/>
            <a:ahLst/>
            <a:rect l="l" t="t" r="r" b="b"/>
            <a:pathLst>
              <a:path w="2167" h="370">
                <a:moveTo>
                  <a:pt x="2166" y="3"/>
                </a:moveTo>
                <a:lnTo>
                  <a:pt x="2133" y="0"/>
                </a:lnTo>
                <a:lnTo>
                  <a:pt x="2106" y="9"/>
                </a:lnTo>
                <a:lnTo>
                  <a:pt x="2079" y="18"/>
                </a:lnTo>
                <a:lnTo>
                  <a:pt x="2052" y="27"/>
                </a:lnTo>
                <a:lnTo>
                  <a:pt x="2025" y="36"/>
                </a:lnTo>
                <a:lnTo>
                  <a:pt x="1998" y="36"/>
                </a:lnTo>
                <a:lnTo>
                  <a:pt x="1971" y="54"/>
                </a:lnTo>
                <a:lnTo>
                  <a:pt x="1944" y="63"/>
                </a:lnTo>
                <a:lnTo>
                  <a:pt x="1917" y="72"/>
                </a:lnTo>
                <a:lnTo>
                  <a:pt x="1890" y="81"/>
                </a:lnTo>
                <a:lnTo>
                  <a:pt x="1863" y="99"/>
                </a:lnTo>
                <a:lnTo>
                  <a:pt x="1836" y="117"/>
                </a:lnTo>
                <a:lnTo>
                  <a:pt x="1818" y="144"/>
                </a:lnTo>
                <a:lnTo>
                  <a:pt x="1800" y="171"/>
                </a:lnTo>
                <a:lnTo>
                  <a:pt x="1773" y="180"/>
                </a:lnTo>
                <a:lnTo>
                  <a:pt x="1746" y="189"/>
                </a:lnTo>
                <a:lnTo>
                  <a:pt x="1719" y="198"/>
                </a:lnTo>
                <a:lnTo>
                  <a:pt x="1692" y="207"/>
                </a:lnTo>
                <a:lnTo>
                  <a:pt x="1665" y="216"/>
                </a:lnTo>
                <a:lnTo>
                  <a:pt x="1638" y="225"/>
                </a:lnTo>
                <a:lnTo>
                  <a:pt x="1611" y="243"/>
                </a:lnTo>
                <a:lnTo>
                  <a:pt x="1584" y="261"/>
                </a:lnTo>
                <a:lnTo>
                  <a:pt x="1557" y="270"/>
                </a:lnTo>
                <a:lnTo>
                  <a:pt x="1521" y="288"/>
                </a:lnTo>
                <a:lnTo>
                  <a:pt x="1494" y="297"/>
                </a:lnTo>
                <a:lnTo>
                  <a:pt x="1467" y="315"/>
                </a:lnTo>
                <a:lnTo>
                  <a:pt x="1440" y="324"/>
                </a:lnTo>
                <a:lnTo>
                  <a:pt x="1413" y="333"/>
                </a:lnTo>
                <a:lnTo>
                  <a:pt x="1359" y="351"/>
                </a:lnTo>
                <a:lnTo>
                  <a:pt x="1287" y="360"/>
                </a:lnTo>
                <a:lnTo>
                  <a:pt x="1260" y="360"/>
                </a:lnTo>
                <a:lnTo>
                  <a:pt x="1206" y="360"/>
                </a:lnTo>
                <a:lnTo>
                  <a:pt x="1134" y="369"/>
                </a:lnTo>
                <a:lnTo>
                  <a:pt x="1098" y="360"/>
                </a:lnTo>
                <a:lnTo>
                  <a:pt x="1026" y="360"/>
                </a:lnTo>
                <a:lnTo>
                  <a:pt x="999" y="360"/>
                </a:lnTo>
                <a:lnTo>
                  <a:pt x="972" y="351"/>
                </a:lnTo>
                <a:lnTo>
                  <a:pt x="936" y="342"/>
                </a:lnTo>
                <a:lnTo>
                  <a:pt x="909" y="333"/>
                </a:lnTo>
                <a:lnTo>
                  <a:pt x="873" y="324"/>
                </a:lnTo>
                <a:lnTo>
                  <a:pt x="819" y="315"/>
                </a:lnTo>
                <a:lnTo>
                  <a:pt x="747" y="306"/>
                </a:lnTo>
                <a:lnTo>
                  <a:pt x="621" y="288"/>
                </a:lnTo>
                <a:lnTo>
                  <a:pt x="594" y="270"/>
                </a:lnTo>
                <a:lnTo>
                  <a:pt x="558" y="252"/>
                </a:lnTo>
                <a:lnTo>
                  <a:pt x="522" y="216"/>
                </a:lnTo>
                <a:lnTo>
                  <a:pt x="450" y="189"/>
                </a:lnTo>
                <a:lnTo>
                  <a:pt x="423" y="171"/>
                </a:lnTo>
                <a:lnTo>
                  <a:pt x="396" y="162"/>
                </a:lnTo>
                <a:lnTo>
                  <a:pt x="306" y="144"/>
                </a:lnTo>
                <a:lnTo>
                  <a:pt x="279" y="135"/>
                </a:lnTo>
                <a:lnTo>
                  <a:pt x="207" y="126"/>
                </a:lnTo>
                <a:lnTo>
                  <a:pt x="171" y="117"/>
                </a:lnTo>
                <a:lnTo>
                  <a:pt x="135" y="117"/>
                </a:lnTo>
                <a:lnTo>
                  <a:pt x="108" y="117"/>
                </a:lnTo>
                <a:lnTo>
                  <a:pt x="81" y="117"/>
                </a:lnTo>
                <a:lnTo>
                  <a:pt x="54" y="117"/>
                </a:lnTo>
                <a:lnTo>
                  <a:pt x="27" y="126"/>
                </a:lnTo>
                <a:lnTo>
                  <a:pt x="0" y="135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273560" y="3359160"/>
            <a:ext cx="139680" cy="596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197240" y="3054240"/>
            <a:ext cx="292320" cy="292320"/>
          </a:xfrm>
          <a:prstGeom prst="ellipse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68640" y="3962520"/>
            <a:ext cx="749520" cy="0"/>
          </a:xfrm>
          <a:prstGeom prst="line">
            <a:avLst/>
          </a:prstGeom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741840" y="3816360"/>
            <a:ext cx="44388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241880" y="3111480"/>
            <a:ext cx="63360" cy="63360"/>
          </a:xfrm>
          <a:prstGeom prst="ellipse">
            <a:avLst/>
          </a:pr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057560" y="3136680"/>
            <a:ext cx="291960" cy="11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222800" y="2908440"/>
            <a:ext cx="331560" cy="318960"/>
          </a:xfrm>
          <a:custGeom>
            <a:avLst/>
            <a:gdLst/>
            <a:ahLst/>
            <a:rect l="l" t="t" r="r" b="b"/>
            <a:pathLst>
              <a:path w="209" h="201">
                <a:moveTo>
                  <a:pt x="0" y="108"/>
                </a:moveTo>
                <a:lnTo>
                  <a:pt x="4" y="96"/>
                </a:lnTo>
                <a:lnTo>
                  <a:pt x="12" y="84"/>
                </a:lnTo>
                <a:lnTo>
                  <a:pt x="16" y="72"/>
                </a:lnTo>
                <a:lnTo>
                  <a:pt x="20" y="88"/>
                </a:lnTo>
                <a:lnTo>
                  <a:pt x="32" y="76"/>
                </a:lnTo>
                <a:lnTo>
                  <a:pt x="56" y="44"/>
                </a:lnTo>
                <a:lnTo>
                  <a:pt x="56" y="84"/>
                </a:lnTo>
                <a:lnTo>
                  <a:pt x="56" y="100"/>
                </a:lnTo>
                <a:lnTo>
                  <a:pt x="64" y="64"/>
                </a:lnTo>
                <a:lnTo>
                  <a:pt x="72" y="52"/>
                </a:lnTo>
                <a:lnTo>
                  <a:pt x="64" y="84"/>
                </a:lnTo>
                <a:lnTo>
                  <a:pt x="64" y="96"/>
                </a:lnTo>
                <a:lnTo>
                  <a:pt x="72" y="68"/>
                </a:lnTo>
                <a:lnTo>
                  <a:pt x="80" y="36"/>
                </a:lnTo>
                <a:lnTo>
                  <a:pt x="104" y="32"/>
                </a:lnTo>
                <a:lnTo>
                  <a:pt x="96" y="76"/>
                </a:lnTo>
                <a:lnTo>
                  <a:pt x="128" y="56"/>
                </a:lnTo>
                <a:lnTo>
                  <a:pt x="168" y="32"/>
                </a:lnTo>
                <a:lnTo>
                  <a:pt x="140" y="84"/>
                </a:lnTo>
                <a:lnTo>
                  <a:pt x="144" y="60"/>
                </a:lnTo>
                <a:lnTo>
                  <a:pt x="152" y="48"/>
                </a:lnTo>
                <a:lnTo>
                  <a:pt x="144" y="84"/>
                </a:lnTo>
                <a:lnTo>
                  <a:pt x="112" y="140"/>
                </a:lnTo>
                <a:lnTo>
                  <a:pt x="120" y="72"/>
                </a:lnTo>
                <a:lnTo>
                  <a:pt x="100" y="96"/>
                </a:lnTo>
                <a:lnTo>
                  <a:pt x="92" y="108"/>
                </a:lnTo>
                <a:lnTo>
                  <a:pt x="96" y="84"/>
                </a:lnTo>
                <a:lnTo>
                  <a:pt x="104" y="60"/>
                </a:lnTo>
                <a:lnTo>
                  <a:pt x="92" y="84"/>
                </a:lnTo>
                <a:lnTo>
                  <a:pt x="116" y="36"/>
                </a:lnTo>
                <a:lnTo>
                  <a:pt x="92" y="68"/>
                </a:lnTo>
                <a:lnTo>
                  <a:pt x="88" y="44"/>
                </a:lnTo>
                <a:lnTo>
                  <a:pt x="64" y="48"/>
                </a:lnTo>
                <a:lnTo>
                  <a:pt x="40" y="56"/>
                </a:lnTo>
                <a:lnTo>
                  <a:pt x="40" y="40"/>
                </a:lnTo>
                <a:lnTo>
                  <a:pt x="28" y="52"/>
                </a:lnTo>
                <a:lnTo>
                  <a:pt x="16" y="56"/>
                </a:lnTo>
                <a:lnTo>
                  <a:pt x="16" y="96"/>
                </a:lnTo>
                <a:lnTo>
                  <a:pt x="52" y="60"/>
                </a:lnTo>
                <a:lnTo>
                  <a:pt x="56" y="80"/>
                </a:lnTo>
                <a:lnTo>
                  <a:pt x="52" y="112"/>
                </a:lnTo>
                <a:lnTo>
                  <a:pt x="80" y="80"/>
                </a:lnTo>
                <a:lnTo>
                  <a:pt x="112" y="72"/>
                </a:lnTo>
                <a:lnTo>
                  <a:pt x="108" y="100"/>
                </a:lnTo>
                <a:lnTo>
                  <a:pt x="100" y="132"/>
                </a:lnTo>
                <a:lnTo>
                  <a:pt x="172" y="68"/>
                </a:lnTo>
                <a:lnTo>
                  <a:pt x="196" y="60"/>
                </a:lnTo>
                <a:lnTo>
                  <a:pt x="172" y="92"/>
                </a:lnTo>
                <a:lnTo>
                  <a:pt x="148" y="124"/>
                </a:lnTo>
                <a:lnTo>
                  <a:pt x="160" y="100"/>
                </a:lnTo>
                <a:lnTo>
                  <a:pt x="168" y="88"/>
                </a:lnTo>
                <a:lnTo>
                  <a:pt x="164" y="120"/>
                </a:lnTo>
                <a:lnTo>
                  <a:pt x="160" y="144"/>
                </a:lnTo>
                <a:lnTo>
                  <a:pt x="196" y="96"/>
                </a:lnTo>
                <a:lnTo>
                  <a:pt x="148" y="164"/>
                </a:lnTo>
                <a:lnTo>
                  <a:pt x="144" y="188"/>
                </a:lnTo>
                <a:lnTo>
                  <a:pt x="168" y="164"/>
                </a:lnTo>
                <a:lnTo>
                  <a:pt x="172" y="140"/>
                </a:lnTo>
                <a:lnTo>
                  <a:pt x="168" y="160"/>
                </a:lnTo>
                <a:lnTo>
                  <a:pt x="168" y="184"/>
                </a:lnTo>
                <a:lnTo>
                  <a:pt x="180" y="152"/>
                </a:lnTo>
                <a:lnTo>
                  <a:pt x="180" y="164"/>
                </a:lnTo>
                <a:lnTo>
                  <a:pt x="172" y="196"/>
                </a:lnTo>
                <a:lnTo>
                  <a:pt x="196" y="164"/>
                </a:lnTo>
                <a:lnTo>
                  <a:pt x="188" y="200"/>
                </a:lnTo>
                <a:lnTo>
                  <a:pt x="196" y="180"/>
                </a:lnTo>
                <a:lnTo>
                  <a:pt x="200" y="156"/>
                </a:lnTo>
                <a:lnTo>
                  <a:pt x="208" y="124"/>
                </a:lnTo>
                <a:lnTo>
                  <a:pt x="196" y="164"/>
                </a:lnTo>
                <a:lnTo>
                  <a:pt x="200" y="112"/>
                </a:lnTo>
                <a:lnTo>
                  <a:pt x="204" y="88"/>
                </a:lnTo>
                <a:lnTo>
                  <a:pt x="192" y="116"/>
                </a:lnTo>
                <a:lnTo>
                  <a:pt x="196" y="96"/>
                </a:lnTo>
                <a:lnTo>
                  <a:pt x="200" y="72"/>
                </a:lnTo>
                <a:lnTo>
                  <a:pt x="196" y="48"/>
                </a:lnTo>
                <a:lnTo>
                  <a:pt x="188" y="76"/>
                </a:lnTo>
                <a:lnTo>
                  <a:pt x="164" y="108"/>
                </a:lnTo>
                <a:lnTo>
                  <a:pt x="168" y="84"/>
                </a:lnTo>
                <a:lnTo>
                  <a:pt x="144" y="140"/>
                </a:lnTo>
                <a:lnTo>
                  <a:pt x="148" y="124"/>
                </a:lnTo>
                <a:lnTo>
                  <a:pt x="156" y="100"/>
                </a:lnTo>
                <a:lnTo>
                  <a:pt x="160" y="88"/>
                </a:lnTo>
                <a:lnTo>
                  <a:pt x="156" y="120"/>
                </a:lnTo>
                <a:lnTo>
                  <a:pt x="148" y="144"/>
                </a:lnTo>
                <a:lnTo>
                  <a:pt x="148" y="168"/>
                </a:lnTo>
                <a:lnTo>
                  <a:pt x="156" y="156"/>
                </a:lnTo>
                <a:lnTo>
                  <a:pt x="164" y="116"/>
                </a:lnTo>
                <a:lnTo>
                  <a:pt x="156" y="172"/>
                </a:lnTo>
                <a:lnTo>
                  <a:pt x="188" y="136"/>
                </a:lnTo>
                <a:lnTo>
                  <a:pt x="196" y="112"/>
                </a:lnTo>
                <a:lnTo>
                  <a:pt x="192" y="124"/>
                </a:lnTo>
                <a:lnTo>
                  <a:pt x="200" y="100"/>
                </a:lnTo>
                <a:lnTo>
                  <a:pt x="208" y="60"/>
                </a:lnTo>
                <a:lnTo>
                  <a:pt x="172" y="100"/>
                </a:lnTo>
                <a:lnTo>
                  <a:pt x="172" y="64"/>
                </a:lnTo>
                <a:lnTo>
                  <a:pt x="180" y="48"/>
                </a:lnTo>
                <a:lnTo>
                  <a:pt x="168" y="80"/>
                </a:lnTo>
                <a:lnTo>
                  <a:pt x="144" y="112"/>
                </a:lnTo>
                <a:lnTo>
                  <a:pt x="120" y="120"/>
                </a:lnTo>
                <a:lnTo>
                  <a:pt x="132" y="80"/>
                </a:lnTo>
                <a:lnTo>
                  <a:pt x="136" y="40"/>
                </a:lnTo>
                <a:lnTo>
                  <a:pt x="124" y="76"/>
                </a:lnTo>
                <a:lnTo>
                  <a:pt x="128" y="36"/>
                </a:lnTo>
                <a:lnTo>
                  <a:pt x="124" y="52"/>
                </a:lnTo>
                <a:lnTo>
                  <a:pt x="116" y="76"/>
                </a:lnTo>
                <a:lnTo>
                  <a:pt x="92" y="80"/>
                </a:lnTo>
                <a:lnTo>
                  <a:pt x="96" y="56"/>
                </a:lnTo>
                <a:lnTo>
                  <a:pt x="100" y="32"/>
                </a:lnTo>
                <a:lnTo>
                  <a:pt x="88" y="40"/>
                </a:lnTo>
                <a:lnTo>
                  <a:pt x="64" y="48"/>
                </a:lnTo>
                <a:lnTo>
                  <a:pt x="68" y="24"/>
                </a:lnTo>
                <a:lnTo>
                  <a:pt x="72" y="0"/>
                </a:lnTo>
                <a:lnTo>
                  <a:pt x="48" y="32"/>
                </a:lnTo>
                <a:lnTo>
                  <a:pt x="44" y="8"/>
                </a:lnTo>
                <a:lnTo>
                  <a:pt x="32" y="20"/>
                </a:lnTo>
                <a:lnTo>
                  <a:pt x="28" y="32"/>
                </a:lnTo>
                <a:lnTo>
                  <a:pt x="32" y="44"/>
                </a:lnTo>
                <a:lnTo>
                  <a:pt x="28" y="68"/>
                </a:lnTo>
                <a:lnTo>
                  <a:pt x="40" y="68"/>
                </a:lnTo>
                <a:lnTo>
                  <a:pt x="32" y="84"/>
                </a:lnTo>
                <a:lnTo>
                  <a:pt x="64" y="8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968640" y="3416400"/>
            <a:ext cx="317520" cy="442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019400" y="3524400"/>
            <a:ext cx="241560" cy="25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43400" y="3968640"/>
            <a:ext cx="0" cy="4446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267080" y="3968640"/>
            <a:ext cx="0" cy="749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34760" y="4168800"/>
            <a:ext cx="112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044600" y="409248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219320" y="2971800"/>
            <a:ext cx="1587240" cy="596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1447920" y="3090960"/>
                <a:ext cx="1415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نهای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سنج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طح شیبدا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روی دایر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تن کتاب را یک بار دیگر به دقت مطالعه کن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ادآور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... مسئله...مسئله..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9440" indent="-363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سنج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9440" indent="-363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طح شیبد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9440" indent="-363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دایره ا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94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440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رو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91560" y="1911240"/>
            <a:ext cx="3825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حث روی دینامی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رور قنون سوم نیوتن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یاگرام جسم آزا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بزار ایجاد و حل مسئله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ناب و قرقره ( کش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هوک (فنرها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رور قرقره ها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تغییر جهت نیرو بکار می رو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قرقره بدون جرم جهت نیرو را بدون تغییربزرگی کشش نخ تغییر می دهدو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کشش در هردو طرف نخ یکسان است 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62080" y="3208320"/>
            <a:ext cx="252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ناب بدون جرم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90080" y="3379680"/>
            <a:ext cx="5900400" cy="2104200"/>
            <a:chOff x="1990080" y="3379680"/>
            <a:chExt cx="5900400" cy="2104200"/>
          </a:xfrm>
        </p:grpSpPr>
        <p:sp>
          <p:nvSpPr>
            <p:cNvPr id="62" name=""/>
            <p:cNvSpPr/>
            <p:nvPr/>
          </p:nvSpPr>
          <p:spPr>
            <a:xfrm>
              <a:off x="4692600" y="3854520"/>
              <a:ext cx="292320" cy="291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781000" y="38098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29200" y="4000680"/>
              <a:ext cx="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25000" y="3817800"/>
              <a:ext cx="303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279160" y="3809880"/>
              <a:ext cx="546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9200" y="4959360"/>
              <a:ext cx="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0080" y="3940200"/>
              <a:ext cx="17319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-T 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i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91840" y="4321080"/>
              <a:ext cx="22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قرقره آرمانی</a:t>
              </a: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44960" y="4044600"/>
              <a:ext cx="5965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08520" y="5083200"/>
              <a:ext cx="164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T </a:t>
              </a: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j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87440" y="4245120"/>
              <a:ext cx="2003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| 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| = | 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|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2840" y="3379680"/>
              <a:ext cx="92988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68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رور فنرها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هو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ی که یک فنر وارد می کند متناسب با طول کشیده و متراکم شده فنر نسبت به وضعیت آرامش آ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-k 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 فنر از وضعیت آرامش فنر است و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سختی یا تناسب فنر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11240" y="4265640"/>
            <a:ext cx="5755680" cy="1790280"/>
            <a:chOff x="1911240" y="4265640"/>
            <a:chExt cx="5755680" cy="1790280"/>
          </a:xfrm>
        </p:grpSpPr>
        <p:grpSp>
          <p:nvGrpSpPr>
            <p:cNvPr id="79" name=""/>
            <p:cNvGrpSpPr/>
            <p:nvPr/>
          </p:nvGrpSpPr>
          <p:grpSpPr>
            <a:xfrm>
              <a:off x="1974600" y="5175360"/>
              <a:ext cx="2146320" cy="469800"/>
              <a:chOff x="1974600" y="5175360"/>
              <a:chExt cx="2146320" cy="469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2157480" y="5175360"/>
                <a:ext cx="436320" cy="469800"/>
                <a:chOff x="2157480" y="5175360"/>
                <a:chExt cx="436320" cy="469800"/>
              </a:xfrm>
            </p:grpSpPr>
            <p:grpSp>
              <p:nvGrpSpPr>
                <p:cNvPr id="81" name=""/>
                <p:cNvGrpSpPr/>
                <p:nvPr/>
              </p:nvGrpSpPr>
              <p:grpSpPr>
                <a:xfrm>
                  <a:off x="2157480" y="5175360"/>
                  <a:ext cx="212760" cy="469800"/>
                  <a:chOff x="2157480" y="5175360"/>
                  <a:chExt cx="212760" cy="4698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 flipV="1">
                    <a:off x="21574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22129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2268360" y="5403960"/>
                    <a:ext cx="101880" cy="241200"/>
                    <a:chOff x="2268360" y="5403960"/>
                    <a:chExt cx="101880" cy="24120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226836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 flipV="1">
                      <a:off x="23274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" name=""/>
                <p:cNvGrpSpPr/>
                <p:nvPr/>
              </p:nvGrpSpPr>
              <p:grpSpPr>
                <a:xfrm>
                  <a:off x="2382840" y="5175360"/>
                  <a:ext cx="210960" cy="469800"/>
                  <a:chOff x="2382840" y="5175360"/>
                  <a:chExt cx="210960" cy="46980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 flipV="1">
                    <a:off x="23828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243828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"/>
                  <p:cNvGrpSpPr/>
                  <p:nvPr/>
                </p:nvGrpSpPr>
                <p:grpSpPr>
                  <a:xfrm>
                    <a:off x="2494080" y="5403960"/>
                    <a:ext cx="99720" cy="241200"/>
                    <a:chOff x="2494080" y="5403960"/>
                    <a:chExt cx="99720" cy="24120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249408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 flipV="1">
                      <a:off x="254952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"/>
              <p:cNvGrpSpPr/>
              <p:nvPr/>
            </p:nvGrpSpPr>
            <p:grpSpPr>
              <a:xfrm>
                <a:off x="2606760" y="5175360"/>
                <a:ext cx="434880" cy="469800"/>
                <a:chOff x="2606760" y="5175360"/>
                <a:chExt cx="434880" cy="46980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2606760" y="5175360"/>
                  <a:ext cx="209520" cy="469800"/>
                  <a:chOff x="2606760" y="5175360"/>
                  <a:chExt cx="209520" cy="4698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 flipV="1">
                    <a:off x="260676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26622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2717640" y="5403960"/>
                    <a:ext cx="98640" cy="241200"/>
                    <a:chOff x="2717640" y="5403960"/>
                    <a:chExt cx="98640" cy="24120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2717640" y="5416560"/>
                      <a:ext cx="4320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flipV="1">
                      <a:off x="277344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2828880" y="5175360"/>
                  <a:ext cx="212760" cy="469800"/>
                  <a:chOff x="2828880" y="5175360"/>
                  <a:chExt cx="212760" cy="46980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flipV="1">
                    <a:off x="28288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88432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2943360" y="5403960"/>
                    <a:ext cx="98280" cy="241200"/>
                    <a:chOff x="2943360" y="5403960"/>
                    <a:chExt cx="98280" cy="24120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29433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flipV="1">
                      <a:off x="29988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3054240" y="5175360"/>
                <a:ext cx="436680" cy="469800"/>
                <a:chOff x="3054240" y="5175360"/>
                <a:chExt cx="436680" cy="46980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3054240" y="5175360"/>
                  <a:ext cx="212760" cy="469800"/>
                  <a:chOff x="3054240" y="5175360"/>
                  <a:chExt cx="212760" cy="46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V="1">
                    <a:off x="30542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11004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3165480" y="5403960"/>
                    <a:ext cx="101520" cy="241200"/>
                    <a:chOff x="3165480" y="5403960"/>
                    <a:chExt cx="101520" cy="24120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16548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 flipV="1">
                      <a:off x="322416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3279600" y="5175360"/>
                  <a:ext cx="211320" cy="469800"/>
                  <a:chOff x="3279600" y="5175360"/>
                  <a:chExt cx="211320" cy="4698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3279600" y="5175360"/>
                    <a:ext cx="43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3354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3390840" y="5403960"/>
                    <a:ext cx="100080" cy="241200"/>
                    <a:chOff x="3390840" y="5403960"/>
                    <a:chExt cx="100080" cy="241200"/>
                  </a:xfrm>
                </p:grpSpPr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339084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flipV="1">
                      <a:off x="344664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9" name=""/>
              <p:cNvGrpSpPr/>
              <p:nvPr/>
            </p:nvGrpSpPr>
            <p:grpSpPr>
              <a:xfrm>
                <a:off x="3503520" y="5175360"/>
                <a:ext cx="435240" cy="469800"/>
                <a:chOff x="3503520" y="5175360"/>
                <a:chExt cx="435240" cy="4698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3503520" y="5175360"/>
                  <a:ext cx="209520" cy="469800"/>
                  <a:chOff x="3503520" y="5175360"/>
                  <a:chExt cx="209520" cy="4698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flipV="1">
                    <a:off x="350352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35593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3614760" y="5403960"/>
                    <a:ext cx="98280" cy="241200"/>
                    <a:chOff x="3614760" y="5403960"/>
                    <a:chExt cx="98280" cy="24120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6147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 flipV="1">
                      <a:off x="36702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726000" y="5175360"/>
                  <a:ext cx="212760" cy="469800"/>
                  <a:chOff x="3726000" y="5175360"/>
                  <a:chExt cx="212760" cy="4698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flipV="1">
                    <a:off x="372600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378144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3840120" y="5403960"/>
                    <a:ext cx="98640" cy="241200"/>
                    <a:chOff x="3840120" y="5403960"/>
                    <a:chExt cx="98640" cy="24120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84012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 flipV="1">
                      <a:off x="3895560" y="5403960"/>
                      <a:ext cx="43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2" name=""/>
              <p:cNvSpPr/>
              <p:nvPr/>
            </p:nvSpPr>
            <p:spPr>
              <a:xfrm flipH="1">
                <a:off x="19746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39384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911240" y="4959360"/>
              <a:ext cx="63720" cy="673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1240" y="5645160"/>
              <a:ext cx="3645000" cy="63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5035680"/>
              <a:ext cx="0" cy="82548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57600" y="4265640"/>
              <a:ext cx="1962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وضعیت آرامش فن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22720" y="4427640"/>
              <a:ext cx="901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8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895"/>
                </a:path>
              </a:pathLst>
            </a:custGeom>
            <a:noFill/>
            <a:ln cap="rnd"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7120" y="5235480"/>
              <a:ext cx="1438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30640" y="538812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7280" y="5638680"/>
              <a:ext cx="90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85640" y="56926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فنرها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56960" indent="-156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نری با سخت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/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رای درحالت آرام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قتی فنر تا 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69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.5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شیده شودچه نیرویی به جسمی که به آن بسته شده است وارد می کند؟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1560" y="5097600"/>
            <a:ext cx="70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6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6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80440" y="3124080"/>
            <a:ext cx="8350560" cy="1295640"/>
            <a:chOff x="280440" y="3124080"/>
            <a:chExt cx="8350560" cy="1295640"/>
          </a:xfrm>
        </p:grpSpPr>
        <p:grpSp>
          <p:nvGrpSpPr>
            <p:cNvPr id="147" name=""/>
            <p:cNvGrpSpPr/>
            <p:nvPr/>
          </p:nvGrpSpPr>
          <p:grpSpPr>
            <a:xfrm>
              <a:off x="912600" y="3739680"/>
              <a:ext cx="1911240" cy="457560"/>
              <a:chOff x="912600" y="3739680"/>
              <a:chExt cx="1911240" cy="4575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1065240" y="3739680"/>
                <a:ext cx="401760" cy="457560"/>
                <a:chOff x="1065240" y="3739680"/>
                <a:chExt cx="401760" cy="45756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1065240" y="3739680"/>
                  <a:ext cx="201600" cy="457560"/>
                  <a:chOff x="1065240" y="3739680"/>
                  <a:chExt cx="201600" cy="4575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V="1">
                    <a:off x="1065240" y="3739680"/>
                    <a:ext cx="4932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114560" y="3740040"/>
                    <a:ext cx="5076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1165320" y="3968280"/>
                    <a:ext cx="101520" cy="228960"/>
                    <a:chOff x="1165320" y="3968280"/>
                    <a:chExt cx="101520" cy="22896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165320" y="3968640"/>
                      <a:ext cx="5220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 flipV="1">
                      <a:off x="1217520" y="396828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1266840" y="3739680"/>
                  <a:ext cx="200160" cy="457560"/>
                  <a:chOff x="1266840" y="3739680"/>
                  <a:chExt cx="200160" cy="45756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flipV="1">
                    <a:off x="1266840" y="3739680"/>
                    <a:ext cx="4932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316160" y="3740040"/>
                    <a:ext cx="5076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366920" y="3968280"/>
                    <a:ext cx="100080" cy="228960"/>
                    <a:chOff x="1366920" y="3968280"/>
                    <a:chExt cx="100080" cy="22896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366920" y="396864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1416240" y="3968280"/>
                      <a:ext cx="507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1" name=""/>
              <p:cNvGrpSpPr/>
              <p:nvPr/>
            </p:nvGrpSpPr>
            <p:grpSpPr>
              <a:xfrm>
                <a:off x="1467000" y="3739680"/>
                <a:ext cx="401400" cy="457560"/>
                <a:chOff x="1467000" y="3739680"/>
                <a:chExt cx="401400" cy="45756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1467000" y="3739680"/>
                  <a:ext cx="199800" cy="457560"/>
                  <a:chOff x="1467000" y="3739680"/>
                  <a:chExt cx="199800" cy="45756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V="1">
                    <a:off x="1467000" y="3739680"/>
                    <a:ext cx="5076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1517760" y="3740040"/>
                    <a:ext cx="4896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1566720" y="3968280"/>
                    <a:ext cx="100080" cy="228960"/>
                    <a:chOff x="1566720" y="3968280"/>
                    <a:chExt cx="100080" cy="2289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1566720" y="396864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flipV="1">
                      <a:off x="1616040" y="3968280"/>
                      <a:ext cx="507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1666800" y="3739680"/>
                  <a:ext cx="201600" cy="457560"/>
                  <a:chOff x="1666800" y="3739680"/>
                  <a:chExt cx="201600" cy="4575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V="1">
                    <a:off x="1666800" y="3739680"/>
                    <a:ext cx="4932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716120" y="3740040"/>
                    <a:ext cx="5220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1768320" y="3968280"/>
                    <a:ext cx="100080" cy="228960"/>
                    <a:chOff x="1768320" y="3968280"/>
                    <a:chExt cx="100080" cy="2289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1768320" y="3968640"/>
                      <a:ext cx="511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V="1">
                      <a:off x="1819440" y="3968280"/>
                      <a:ext cx="489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4" name=""/>
              <p:cNvGrpSpPr/>
              <p:nvPr/>
            </p:nvGrpSpPr>
            <p:grpSpPr>
              <a:xfrm>
                <a:off x="1868400" y="3739680"/>
                <a:ext cx="403200" cy="457560"/>
                <a:chOff x="1868400" y="3739680"/>
                <a:chExt cx="403200" cy="45756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1868400" y="3739680"/>
                  <a:ext cx="201600" cy="457560"/>
                  <a:chOff x="1868400" y="3739680"/>
                  <a:chExt cx="201600" cy="45756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V="1">
                    <a:off x="1868400" y="3739680"/>
                    <a:ext cx="4932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917720" y="3740040"/>
                    <a:ext cx="5076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1968480" y="3968280"/>
                    <a:ext cx="101520" cy="228960"/>
                    <a:chOff x="1968480" y="3968280"/>
                    <a:chExt cx="101520" cy="22896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1968480" y="3968640"/>
                      <a:ext cx="525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 flipV="1">
                      <a:off x="2021040" y="3968280"/>
                      <a:ext cx="489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2070000" y="3739680"/>
                  <a:ext cx="201600" cy="457560"/>
                  <a:chOff x="2070000" y="3739680"/>
                  <a:chExt cx="201600" cy="4575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V="1">
                    <a:off x="2070000" y="3739680"/>
                    <a:ext cx="5076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120760" y="3740040"/>
                    <a:ext cx="4932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2170080" y="3968280"/>
                    <a:ext cx="101520" cy="228960"/>
                    <a:chOff x="2170080" y="3968280"/>
                    <a:chExt cx="101520" cy="2289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2170080" y="396864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V="1">
                      <a:off x="2219400" y="3968280"/>
                      <a:ext cx="5220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7" name=""/>
              <p:cNvGrpSpPr/>
              <p:nvPr/>
            </p:nvGrpSpPr>
            <p:grpSpPr>
              <a:xfrm>
                <a:off x="2271600" y="3739680"/>
                <a:ext cx="400320" cy="457560"/>
                <a:chOff x="2271600" y="3739680"/>
                <a:chExt cx="400320" cy="4575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2271600" y="3739680"/>
                  <a:ext cx="198720" cy="457560"/>
                  <a:chOff x="2271600" y="3739680"/>
                  <a:chExt cx="198720" cy="4575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V="1">
                    <a:off x="2271600" y="3739680"/>
                    <a:ext cx="4932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320920" y="3740040"/>
                    <a:ext cx="4932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2370240" y="3968280"/>
                    <a:ext cx="100080" cy="228960"/>
                    <a:chOff x="2370240" y="3968280"/>
                    <a:chExt cx="100080" cy="22896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370240" y="3968640"/>
                      <a:ext cx="507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flipV="1">
                      <a:off x="2421000" y="396828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2470320" y="3739680"/>
                  <a:ext cx="201600" cy="457560"/>
                  <a:chOff x="2470320" y="3739680"/>
                  <a:chExt cx="201600" cy="457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V="1">
                    <a:off x="2470320" y="3739680"/>
                    <a:ext cx="4896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519280" y="3740040"/>
                    <a:ext cx="52560" cy="228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2571840" y="3968280"/>
                    <a:ext cx="100080" cy="228960"/>
                    <a:chOff x="2571840" y="3968280"/>
                    <a:chExt cx="100080" cy="22896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571840" y="3968640"/>
                      <a:ext cx="5076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 flipV="1">
                      <a:off x="2622600" y="3968280"/>
                      <a:ext cx="49320" cy="228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0" name=""/>
              <p:cNvSpPr/>
              <p:nvPr/>
            </p:nvSpPr>
            <p:spPr>
              <a:xfrm flipH="1">
                <a:off x="912600" y="396864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671560" y="3968640"/>
                <a:ext cx="1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851040" y="3517920"/>
              <a:ext cx="55440" cy="673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1040" y="4203720"/>
              <a:ext cx="3263760" cy="63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4200" y="3359160"/>
              <a:ext cx="7920" cy="106056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0440" y="3124080"/>
              <a:ext cx="1316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 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575800" y="3670200"/>
              <a:ext cx="968400" cy="520920"/>
              <a:chOff x="2575800" y="3670200"/>
              <a:chExt cx="968400" cy="520920"/>
            </a:xfrm>
          </p:grpSpPr>
          <p:sp>
            <p:nvSpPr>
              <p:cNvPr id="207" name=""/>
              <p:cNvSpPr/>
              <p:nvPr/>
            </p:nvSpPr>
            <p:spPr>
              <a:xfrm>
                <a:off x="2814480" y="3670200"/>
                <a:ext cx="533520" cy="52092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75800" y="3792600"/>
                <a:ext cx="968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1362600" y="3335400"/>
              <a:ext cx="88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99480" y="3367080"/>
              <a:ext cx="88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95680" y="3505320"/>
              <a:ext cx="63720" cy="6778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95680" y="4195800"/>
              <a:ext cx="3886200" cy="76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559040" y="3722400"/>
              <a:ext cx="3429360" cy="471600"/>
              <a:chOff x="4559040" y="3722400"/>
              <a:chExt cx="3429360" cy="47160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4559040" y="3722400"/>
                <a:ext cx="3308400" cy="471600"/>
                <a:chOff x="4559040" y="3722400"/>
                <a:chExt cx="3308400" cy="47160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4834080" y="3722400"/>
                  <a:ext cx="682560" cy="471600"/>
                  <a:chOff x="4834080" y="3722400"/>
                  <a:chExt cx="682560" cy="471600"/>
                </a:xfrm>
              </p:grpSpPr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4834080" y="3722400"/>
                    <a:ext cx="334800" cy="471600"/>
                    <a:chOff x="4834080" y="3722400"/>
                    <a:chExt cx="334800" cy="47160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4834080" y="3722400"/>
                      <a:ext cx="72720" cy="242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4919760" y="373536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5005440" y="3952080"/>
                      <a:ext cx="163440" cy="241920"/>
                      <a:chOff x="5005440" y="3952080"/>
                      <a:chExt cx="163440" cy="24192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5005440" y="3964680"/>
                        <a:ext cx="7776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 flipV="1">
                        <a:off x="5095800" y="3952080"/>
                        <a:ext cx="73080" cy="2419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5181480" y="3722400"/>
                    <a:ext cx="335160" cy="471600"/>
                    <a:chOff x="5181480" y="3722400"/>
                    <a:chExt cx="335160" cy="47160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V="1">
                      <a:off x="5181480" y="3722400"/>
                      <a:ext cx="73080" cy="242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5267160" y="373536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5353200" y="3952080"/>
                      <a:ext cx="163440" cy="241920"/>
                      <a:chOff x="5353200" y="3952080"/>
                      <a:chExt cx="163440" cy="24192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5353200" y="3964680"/>
                        <a:ext cx="7272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 flipV="1">
                        <a:off x="5438880" y="3952080"/>
                        <a:ext cx="77760" cy="2419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5529240" y="3722400"/>
                  <a:ext cx="677880" cy="471600"/>
                  <a:chOff x="5529240" y="3722400"/>
                  <a:chExt cx="677880" cy="471600"/>
                </a:xfrm>
              </p:grpSpPr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5529240" y="3722400"/>
                    <a:ext cx="330120" cy="471600"/>
                    <a:chOff x="5529240" y="3722400"/>
                    <a:chExt cx="330120" cy="47160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flipV="1">
                      <a:off x="5529240" y="3722400"/>
                      <a:ext cx="73080" cy="242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614920" y="373536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2" name=""/>
                    <p:cNvGrpSpPr/>
                    <p:nvPr/>
                  </p:nvGrpSpPr>
                  <p:grpSpPr>
                    <a:xfrm>
                      <a:off x="5700600" y="3952080"/>
                      <a:ext cx="158760" cy="241920"/>
                      <a:chOff x="5700600" y="3952080"/>
                      <a:chExt cx="158760" cy="241920"/>
                    </a:xfrm>
                  </p:grpSpPr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5700600" y="396468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 flipV="1">
                        <a:off x="5786280" y="3952080"/>
                        <a:ext cx="73080" cy="2419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5872320" y="3722400"/>
                    <a:ext cx="334800" cy="471600"/>
                    <a:chOff x="5872320" y="3722400"/>
                    <a:chExt cx="334800" cy="47160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 flipV="1">
                      <a:off x="5872320" y="3722400"/>
                      <a:ext cx="72720" cy="242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5958000" y="373536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8" name=""/>
                    <p:cNvGrpSpPr/>
                    <p:nvPr/>
                  </p:nvGrpSpPr>
                  <p:grpSpPr>
                    <a:xfrm>
                      <a:off x="6048360" y="3952080"/>
                      <a:ext cx="158760" cy="241920"/>
                      <a:chOff x="6048360" y="3952080"/>
                      <a:chExt cx="158760" cy="241920"/>
                    </a:xfrm>
                  </p:grpSpPr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6048360" y="396468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 flipV="1">
                        <a:off x="6134040" y="3952080"/>
                        <a:ext cx="73080" cy="2419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219720" y="3722400"/>
                  <a:ext cx="682560" cy="471600"/>
                  <a:chOff x="6219720" y="3722400"/>
                  <a:chExt cx="682560" cy="471600"/>
                </a:xfrm>
              </p:grpSpPr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6219720" y="3722400"/>
                    <a:ext cx="335160" cy="471600"/>
                    <a:chOff x="6219720" y="3722400"/>
                    <a:chExt cx="335160" cy="47160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flipV="1">
                      <a:off x="6219720" y="3722400"/>
                      <a:ext cx="73080" cy="242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6305400" y="373536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6391440" y="3952080"/>
                      <a:ext cx="163440" cy="241920"/>
                      <a:chOff x="6391440" y="3952080"/>
                      <a:chExt cx="163440" cy="241920"/>
                    </a:xfrm>
                  </p:grpSpPr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6391440" y="3964680"/>
                        <a:ext cx="7776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flipV="1">
                        <a:off x="6481800" y="3952080"/>
                        <a:ext cx="73080" cy="2419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6567480" y="3722400"/>
                    <a:ext cx="334800" cy="471600"/>
                    <a:chOff x="6567480" y="3722400"/>
                    <a:chExt cx="334800" cy="4716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V="1">
                      <a:off x="6567480" y="3722400"/>
                      <a:ext cx="73080" cy="242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53160" y="373536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6738840" y="3952080"/>
                      <a:ext cx="163440" cy="241920"/>
                      <a:chOff x="6738840" y="3952080"/>
                      <a:chExt cx="163440" cy="241920"/>
                    </a:xfrm>
                  </p:grpSpPr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6738840" y="396468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flipV="1">
                        <a:off x="6824520" y="3952080"/>
                        <a:ext cx="77760" cy="2419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6915240" y="3722400"/>
                  <a:ext cx="677880" cy="471600"/>
                  <a:chOff x="6915240" y="3722400"/>
                  <a:chExt cx="677880" cy="471600"/>
                </a:xfrm>
              </p:grpSpPr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6915240" y="3722400"/>
                    <a:ext cx="330120" cy="471600"/>
                    <a:chOff x="6915240" y="3722400"/>
                    <a:chExt cx="330120" cy="47160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 flipV="1">
                      <a:off x="6915240" y="3722400"/>
                      <a:ext cx="73080" cy="242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7000920" y="373536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7086600" y="3952080"/>
                      <a:ext cx="158760" cy="241920"/>
                      <a:chOff x="7086600" y="3952080"/>
                      <a:chExt cx="158760" cy="24192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7086600" y="396468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flipV="1">
                        <a:off x="7172280" y="3952080"/>
                        <a:ext cx="73080" cy="2419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7257960" y="3722400"/>
                    <a:ext cx="335160" cy="471600"/>
                    <a:chOff x="7257960" y="3722400"/>
                    <a:chExt cx="335160" cy="47160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 flipV="1">
                      <a:off x="7257960" y="3722400"/>
                      <a:ext cx="73080" cy="2422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343640" y="373536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4" name=""/>
                    <p:cNvGrpSpPr/>
                    <p:nvPr/>
                  </p:nvGrpSpPr>
                  <p:grpSpPr>
                    <a:xfrm>
                      <a:off x="7434360" y="3952080"/>
                      <a:ext cx="158760" cy="241920"/>
                      <a:chOff x="7434360" y="3952080"/>
                      <a:chExt cx="158760" cy="241920"/>
                    </a:xfrm>
                  </p:grpSpPr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7434360" y="396468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V="1">
                        <a:off x="7520040" y="3952080"/>
                        <a:ext cx="73080" cy="2419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67" name=""/>
                <p:cNvSpPr/>
                <p:nvPr/>
              </p:nvSpPr>
              <p:spPr>
                <a:xfrm flipH="1">
                  <a:off x="4559040" y="3958560"/>
                  <a:ext cx="27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7592760" y="3958560"/>
                  <a:ext cx="27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7881840" y="3936960"/>
                <a:ext cx="106560" cy="63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7842240" y="3352680"/>
              <a:ext cx="6480" cy="1060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99240" y="441972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05720" y="3352680"/>
              <a:ext cx="0" cy="106704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7603560" y="3657600"/>
              <a:ext cx="968400" cy="520560"/>
              <a:chOff x="7603560" y="3657600"/>
              <a:chExt cx="968400" cy="520560"/>
            </a:xfrm>
          </p:grpSpPr>
          <p:sp>
            <p:nvSpPr>
              <p:cNvPr id="274" name=""/>
              <p:cNvSpPr/>
              <p:nvPr/>
            </p:nvSpPr>
            <p:spPr>
              <a:xfrm>
                <a:off x="7842240" y="3657600"/>
                <a:ext cx="533520" cy="52056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3560" y="3779640"/>
                <a:ext cx="968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3903120" y="3124080"/>
              <a:ext cx="1316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 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03160" y="3138480"/>
              <a:ext cx="1527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 = 1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3240" y="3124080"/>
              <a:ext cx="1316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 =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51200" indent="-151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هوک را به خاطر بیاوری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3240" indent="-1209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-k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 نسبت به وضعیت تعادل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3625920"/>
            <a:ext cx="5715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- (40) ( .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 20 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41560" y="5097600"/>
            <a:ext cx="70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6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6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029200"/>
            <a:ext cx="1371600" cy="6094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52Z</dcterms:created>
  <dc:creator>Mats A. Selen</dc:creator>
  <dc:description/>
  <cp:keywords/>
  <dc:language>en-US</dc:language>
  <cp:lastModifiedBy>janubi</cp:lastModifiedBy>
  <dcterms:modified xsi:type="dcterms:W3CDTF">2006-04-15T02:20:53Z</dcterms:modified>
  <cp:revision>72</cp:revision>
  <dc:subject>Dynamics</dc:subject>
  <dc:title>Physics 106P: Lecture 7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