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625846F-594C-400A-BDD3-F7FDCC89F7E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71800" y="6573960"/>
            <a:ext cx="303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8160" y="550800"/>
            <a:ext cx="58284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50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حدوده فیزیک پایه یک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480" y="1703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afd00"/>
                </a:solidFill>
                <a:latin typeface="Arial"/>
                <a:cs typeface="Arial"/>
              </a:rPr>
              <a:t>فیزیک کلاسی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 مکانیک : اجسام چگونه و چرا حرکت می کنند؟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از نظر نظریه کلاسیک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2480" indent="-22140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afd00"/>
                </a:solidFill>
                <a:latin typeface="Arial"/>
                <a:cs typeface="Arial"/>
              </a:rPr>
              <a:t>اجسام   نه خیلی سریع حرکت می کنند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 &lt;&lt; c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2480" indent="-22140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afd00"/>
                </a:solidFill>
                <a:latin typeface="Arial"/>
                <a:cs typeface="Arial"/>
              </a:rPr>
              <a:t>نه خیلی کوچک هستند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 &gt;&gt; ato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بیشتر مواردی که در زندگی روزمره با آن برخورد می کنیم را می توانیم برحسب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مسیر یک توپ بیس ب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مدار سیاره 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   وغیر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  <a:cs typeface="Arial"/>
              </a:rPr>
              <a:t>بیان کنیم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62720" y="15228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9320" y="711360"/>
            <a:ext cx="3294000" cy="97308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92400" y="957240"/>
            <a:ext cx="4338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afd00"/>
                </a:solidFill>
                <a:latin typeface="Times New Roman"/>
                <a:cs typeface="Times New Roman"/>
              </a:rPr>
              <a:t>مفهوم، مدل ، قانون واصل ونظری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77000" y="1944720"/>
            <a:ext cx="2220840" cy="623880"/>
          </a:xfrm>
          <a:prstGeom prst="ellipse">
            <a:avLst/>
          </a:prstGeom>
          <a:solidFill>
            <a:srgbClr val="fafd00"/>
          </a:solidFill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40"/>
                </a:solidFill>
                <a:latin typeface="Times New Roman"/>
                <a:cs typeface="Times New Roman"/>
              </a:rPr>
              <a:t>مفهوم</a:t>
            </a:r>
            <a:r>
              <a:rPr b="0" lang="en-US" sz="2800" spc="-1" strike="noStrike">
                <a:solidFill>
                  <a:srgbClr val="000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8240" y="1770120"/>
            <a:ext cx="53848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هرنگاره یا کمیت فیزیکی که برای تحلیل پدیده های طبیعی بکارمی رو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2160" y="24242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77000" y="2666880"/>
            <a:ext cx="2220840" cy="623880"/>
          </a:xfrm>
          <a:prstGeom prst="ellipse">
            <a:avLst/>
          </a:prstGeom>
          <a:solidFill>
            <a:srgbClr val="fafd00"/>
          </a:solidFill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40"/>
                </a:solidFill>
                <a:latin typeface="Times New Roman"/>
                <a:cs typeface="Times New Roman"/>
              </a:rPr>
              <a:t>قانون</a:t>
            </a:r>
            <a:r>
              <a:rPr b="0" lang="en-US" sz="2800" spc="-1" strike="noStrike">
                <a:solidFill>
                  <a:srgbClr val="000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5760" y="2711520"/>
            <a:ext cx="47167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رابطه فیزیکی بین کمیت های فیزیکی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16600" y="3348000"/>
            <a:ext cx="2220840" cy="623880"/>
          </a:xfrm>
          <a:prstGeom prst="ellipse">
            <a:avLst/>
          </a:prstGeom>
          <a:solidFill>
            <a:srgbClr val="fafd00"/>
          </a:solidFill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40"/>
                </a:solidFill>
                <a:latin typeface="Times New Roman"/>
                <a:cs typeface="Times New Roman"/>
              </a:rPr>
              <a:t>اصل</a:t>
            </a:r>
            <a:r>
              <a:rPr b="0" lang="en-US" sz="2800" spc="-1" strike="noStrike">
                <a:solidFill>
                  <a:srgbClr val="000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640" y="3305160"/>
            <a:ext cx="5297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یک گزاره بسیار کلی در باره رفتار طبیعت که مغایرتی با آن یافت نشده است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73840" y="4084560"/>
            <a:ext cx="2220840" cy="623880"/>
          </a:xfrm>
          <a:prstGeom prst="ellipse">
            <a:avLst/>
          </a:prstGeom>
          <a:solidFill>
            <a:srgbClr val="fafd00"/>
          </a:solidFill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40"/>
                </a:solidFill>
                <a:latin typeface="Times New Roman"/>
                <a:cs typeface="Times New Roman"/>
              </a:rPr>
              <a:t>مدل</a:t>
            </a:r>
            <a:r>
              <a:rPr b="0" lang="en-US" sz="2800" spc="-1" strike="noStrike">
                <a:solidFill>
                  <a:srgbClr val="000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7480" y="4422600"/>
            <a:ext cx="4716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مشابه ساده ومناسبی که از آن برای ”نمایش ” و توصیف یک سیست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فیزیکی بکار می رو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72040" y="5013360"/>
            <a:ext cx="2221200" cy="623880"/>
          </a:xfrm>
          <a:prstGeom prst="ellipse">
            <a:avLst/>
          </a:prstGeom>
          <a:solidFill>
            <a:srgbClr val="fafd00"/>
          </a:solidFill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40"/>
                </a:solidFill>
                <a:latin typeface="Times New Roman"/>
                <a:cs typeface="Times New Roman"/>
              </a:rPr>
              <a:t>نظریه</a:t>
            </a:r>
            <a:r>
              <a:rPr b="0" lang="en-US" sz="2800" spc="-1" strike="noStrike">
                <a:solidFill>
                  <a:srgbClr val="000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5200" y="4971960"/>
            <a:ext cx="51958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مجموعه ای از اصول و فرض های اولیه (یا اصل موضوع ها) که برای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Arial"/>
                <a:cs typeface="Arial"/>
              </a:rPr>
              <a:t>رسیدن به نتایج یا قوانین خاصی درقالب یک مدل با هم ترکیب شده باشند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گونه اشیا را اندازه می گیری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کانیک کلاسیک همه اشیا را می توانیم برحسب یکاهای اصلی اندازه بگیر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عنوان مثا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دارای یک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/ 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یعنی متر بر ثانیه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 دارای یک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L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غیره ...(بعدا خواهید دید!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اها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62720" y="15228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4800" y="374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طول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8240" y="1227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فاصله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طول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عاع جه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r>
              <a:rPr b="0" lang="fa-I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کهکشان اندرومدا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انزدیک ترین ستاره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ین تاخورشید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عاع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دان فوتبا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fa-I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د یک فرد بلند قد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ضخامت کاغ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موج نور آب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طر اتم هیدرز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طر پروت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92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78360" y="15084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زم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طول زمانی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زمان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مر جها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مر گراند کانیون در امریک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سال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سا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سا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دت زمان سیر نوراز زمین تا ما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چرخه سیم گیت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چرخ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ج رادیوی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عم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زو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ول عمر یک ذره کوار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39320" y="286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جرم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9320" y="14684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سم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رم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کشان راه شیر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ورش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ی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وئینگ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74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تومبی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دانشج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ذره غبا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ذره کوار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روت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لکتر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81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وترین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8360" y="15084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کاه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اهای( دستگاه بین المللی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mks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ت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یلوگ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نی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gs: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انتی مت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نی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یکاهای انگلیسی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ن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و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ی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پو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لا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ا ازسیست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استفاده می کنیم . درموارد خاصی که با این یکاها برخورد می کنید باید بتوانید آنها را به هم تبدیکل کنید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بدیل یکاها از دستگاههای مختلف به هم دیگ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ضریب تبدیل مف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3.28  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in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2.54  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5280  f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ile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1.61  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 : مایل بر ساعت را به متر بر ثانیه تبدیل کنید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74640" y="4727520"/>
                <a:ext cx="5924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28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7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حلیل ابعادی برای بررسی کاری که انجام می دهید بسیار مهم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-221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در عین حال بسیار ساده است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ثا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ای را حل می کنید و برای سرعت این عبارت را می یابید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 = vt </a:t>
            </a:r>
            <a:r>
              <a:rPr b="0" i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locity x tim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های سمت چ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های سمت راست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/ T  x  T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x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اهای سمت چپ و راست مساوی نیستند بنابراین جواب شما نادر است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حلیل ابعاد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62720" y="15228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تمرین درس یک : تحلیل ابعادی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مان تناوب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آونگ نوسانگر به طول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تاب جادبه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ستگی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دار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فورمول برای زمان تناوب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fa-IR" sz="2000" spc="-1" strike="noStrike" u="sng">
                <a:solidFill>
                  <a:srgbClr val="cc3300"/>
                </a:solidFill>
                <a:uFillTx/>
                <a:latin typeface="Arial"/>
                <a:cs typeface="Arial"/>
              </a:rPr>
              <a:t>میتواند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ست باش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667560" y="4267080"/>
                <a:ext cx="1484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08400" y="4290840"/>
                <a:ext cx="1289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4600" y="4471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5880" y="4471920"/>
            <a:ext cx="108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40120" y="4471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0880" y="5607000"/>
            <a:ext cx="7378560" cy="596880"/>
          </a:xfrm>
          <a:prstGeom prst="rect">
            <a:avLst/>
          </a:prstGeom>
          <a:solidFill>
            <a:srgbClr val="00004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5729400"/>
            <a:ext cx="715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می دانیم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ای واحد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ای یکای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 / T 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5200" y="4457880"/>
            <a:ext cx="2367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P = 2</a:t>
            </a:r>
            <a:r>
              <a:rPr b="0" i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 (dg)</a:t>
            </a:r>
            <a:r>
              <a:rPr b="0" i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276720"/>
            <a:ext cx="2895840" cy="1066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5257800"/>
            <a:ext cx="2438280" cy="1066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5416560"/>
            <a:ext cx="2044440" cy="749160"/>
          </a:xfrm>
          <a:prstGeom prst="roundRect">
            <a:avLst>
              <a:gd name="adj" fmla="val 12495"/>
            </a:avLst>
          </a:prstGeom>
          <a:solidFill>
            <a:srgbClr val="00004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تمرین درس یک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ffff"/>
                </a:solidFill>
                <a:latin typeface="Arial"/>
                <a:cs typeface="Arial"/>
              </a:rPr>
              <a:t>پاسخ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59840" indent="-159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طرف چپ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ای یک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9840" indent="-159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عادله اول را تحلیل کیند: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35040" y="5513400"/>
                <a:ext cx="1741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10920" y="5614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2200" y="5614920"/>
            <a:ext cx="108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440" y="5614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0" y="35575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90760" y="3341520"/>
                <a:ext cx="2555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¹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917160" y="3621240"/>
            <a:ext cx="25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ادرست ا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362320" y="4343040"/>
            <a:ext cx="3808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591240" y="5334120"/>
                <a:ext cx="1484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132440" y="5357880"/>
                <a:ext cx="1288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124080"/>
            <a:ext cx="2895840" cy="1524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257800"/>
            <a:ext cx="2438280" cy="1066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98560" y="3276720"/>
                <a:ext cx="1663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¹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535040" y="5513400"/>
                <a:ext cx="1741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610920" y="5614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2200" y="5614920"/>
            <a:ext cx="108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6440" y="5614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560" y="3557520"/>
            <a:ext cx="108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4600" y="3633840"/>
            <a:ext cx="26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ادرست ا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عادله دوم را تحلیل کنید: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درس یک –تمرین </a:t>
            </a:r>
            <a:br>
              <a:rPr sz="2800"/>
            </a:b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ffff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ff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91240" y="5334120"/>
                <a:ext cx="1484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044960" y="5340240"/>
            <a:ext cx="1663560" cy="901800"/>
          </a:xfrm>
          <a:prstGeom prst="roundRect">
            <a:avLst>
              <a:gd name="adj" fmla="val 12495"/>
            </a:avLst>
          </a:prstGeom>
          <a:solidFill>
            <a:srgbClr val="00004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32440" y="5357880"/>
                <a:ext cx="1288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H="1" flipV="1">
            <a:off x="3123720" y="4114800"/>
            <a:ext cx="167652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5200" y="3662280"/>
            <a:ext cx="542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3124080"/>
            <a:ext cx="2895840" cy="1524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257800"/>
            <a:ext cx="2438280" cy="1066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11280" y="3263760"/>
                <a:ext cx="240984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  <m:r>
                              <m:t xml:space="preserve"> 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35040" y="5513400"/>
                <a:ext cx="1741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10920" y="5614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2200" y="5614920"/>
            <a:ext cx="108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440" y="56149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0" y="355752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10880" y="3633840"/>
            <a:ext cx="4141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دارای یکاهای درست است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پاسخ همین است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828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عادله سوم را تحلیل کنید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درس یک – تمرین</a:t>
            </a:r>
            <a:br>
              <a:rPr sz="2800"/>
            </a:b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9560" y="5264280"/>
            <a:ext cx="1663560" cy="1054080"/>
          </a:xfrm>
          <a:prstGeom prst="roundRect">
            <a:avLst>
              <a:gd name="adj" fmla="val 12495"/>
            </a:avLst>
          </a:prstGeom>
          <a:solidFill>
            <a:srgbClr val="00004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591240" y="5334120"/>
                <a:ext cx="1484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32440" y="5357880"/>
                <a:ext cx="1288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H="1" flipV="1">
            <a:off x="2971440" y="4267080"/>
            <a:ext cx="388620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49640" y="566640"/>
            <a:ext cx="2714760" cy="7542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ad6900"/>
                </a:solidFill>
                <a:latin typeface="Arial"/>
                <a:cs typeface="Arial"/>
              </a:rPr>
              <a:t>راهنمایی کلی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8280" y="144792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این درس دارای چند بخش است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آموزش سنتی : حضور در کلاسهای رفع اشکا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حث و حل مسئله در کلا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مرین در منز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آزمایشگاه و بررسی عملی پدیده های مربوط به در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ضور در کلاسهای عملی اجباری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کلاسهای حضوری می توانید اشکالات خودرا که در ضمن مطالعه با آن برخورد کرده اید از مدرس خود بپرسید وحضور پویا داشته باشید . دراین کلاسها  نکات مهم و کلیدی درس توضیح داده می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ساختار درس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عنا صر درس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4280" indent="-212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درهر درس مواد و نکات مهم درس مورد بررسی قرار می گی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2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ز این نکات نت برداری کنید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4280" indent="-212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در هر درس در صورت امکان کلیپ های صوتی و تصویری گنجانیده شده است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2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دون شک چیزی را که می بیند بیشتر آنرا باور می کنید!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!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42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4280" indent="-2124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با دانشجویان هم کلاسی خود در بحث گروهی شرکت کرده و آموزش خودرا پویا کنی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2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1120" y="2178000"/>
            <a:ext cx="59072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فصل او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مقدمات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81640" y="727200"/>
            <a:ext cx="2963880" cy="838080"/>
          </a:xfrm>
          <a:prstGeom prst="ellipse">
            <a:avLst/>
          </a:prstGeom>
          <a:solidFill>
            <a:srgbClr val="feff7e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9320" y="706320"/>
            <a:ext cx="7699680" cy="16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68600" y="976320"/>
            <a:ext cx="282420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5800"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ad6900"/>
                </a:solidFill>
                <a:latin typeface="Arial"/>
                <a:cs typeface="Arial"/>
              </a:rPr>
              <a:t>هدف های رفتاری این فصل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5800" indent="0" algn="r" rtl="1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8280" y="5037120"/>
            <a:ext cx="1987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90560" y="2351160"/>
            <a:ext cx="6796080" cy="3279240"/>
            <a:chOff x="790560" y="2351160"/>
            <a:chExt cx="6796080" cy="3279240"/>
          </a:xfrm>
        </p:grpSpPr>
        <p:grpSp>
          <p:nvGrpSpPr>
            <p:cNvPr id="64" name=""/>
            <p:cNvGrpSpPr/>
            <p:nvPr/>
          </p:nvGrpSpPr>
          <p:grpSpPr>
            <a:xfrm>
              <a:off x="790560" y="4143960"/>
              <a:ext cx="3549240" cy="1486440"/>
              <a:chOff x="790560" y="4143960"/>
              <a:chExt cx="3549240" cy="1486440"/>
            </a:xfrm>
          </p:grpSpPr>
          <p:sp>
            <p:nvSpPr>
              <p:cNvPr id="65" name=""/>
              <p:cNvSpPr/>
              <p:nvPr/>
            </p:nvSpPr>
            <p:spPr>
              <a:xfrm rot="19224000">
                <a:off x="1539720" y="4252680"/>
                <a:ext cx="550800" cy="580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eff7e"/>
              </a:solidFill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2235600" y="4510440"/>
                <a:ext cx="579600" cy="58104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eff7e"/>
              </a:solidFill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3700400">
                <a:off x="3162960" y="4277160"/>
                <a:ext cx="550800" cy="58104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eff7e"/>
              </a:solidFill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9726200">
                <a:off x="3188880" y="4741200"/>
                <a:ext cx="1090440" cy="536400"/>
              </a:xfrm>
              <a:prstGeom prst="ellipse">
                <a:avLst/>
              </a:prstGeom>
              <a:noFill/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مکانیک کلاسیک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73160" y="5109840"/>
                <a:ext cx="1133280" cy="520560"/>
              </a:xfrm>
              <a:prstGeom prst="ellipse">
                <a:avLst/>
              </a:prstGeom>
              <a:noFill/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ترمودینامیک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3652400">
                <a:off x="798120" y="4571280"/>
                <a:ext cx="1133280" cy="520560"/>
              </a:xfrm>
              <a:prstGeom prst="ellipse">
                <a:avLst/>
              </a:prstGeom>
              <a:noFill/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الکترومغناطی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048120" y="2351160"/>
              <a:ext cx="1931760" cy="65376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8080ff"/>
                  </a:solidFill>
                  <a:latin typeface="Times New Roman"/>
                  <a:cs typeface="Times New Roman"/>
                </a:rPr>
                <a:t>فیزی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3896000">
              <a:off x="4657320" y="2960280"/>
              <a:ext cx="1131840" cy="668160"/>
            </a:xfrm>
            <a:prstGeom prst="leftArrow">
              <a:avLst>
                <a:gd name="adj1" fmla="val 50000"/>
                <a:gd name="adj2" fmla="val 42349"/>
              </a:avLst>
            </a:prstGeom>
            <a:solidFill>
              <a:srgbClr val="fafd00"/>
            </a:solidFill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7773200">
              <a:off x="2289240" y="3031920"/>
              <a:ext cx="1131840" cy="668160"/>
            </a:xfrm>
            <a:prstGeom prst="leftArrow">
              <a:avLst>
                <a:gd name="adj1" fmla="val 50000"/>
                <a:gd name="adj2" fmla="val 42349"/>
              </a:avLst>
            </a:prstGeom>
            <a:solidFill>
              <a:srgbClr val="fafd00"/>
            </a:solidFill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44720" y="3903480"/>
              <a:ext cx="1365120" cy="609840"/>
            </a:xfrm>
            <a:prstGeom prst="ellipse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c0128"/>
                  </a:solidFill>
                  <a:latin typeface="Times New Roman"/>
                  <a:cs typeface="Times New Roman"/>
                </a:rPr>
                <a:t>فیزیک کلاسی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125800">
              <a:off x="5076720" y="3669840"/>
              <a:ext cx="1365480" cy="609480"/>
            </a:xfrm>
            <a:prstGeom prst="ellipse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fc0128"/>
                  </a:solidFill>
                  <a:latin typeface="Times New Roman"/>
                  <a:cs typeface="Times New Roman"/>
                </a:rPr>
                <a:t>فیزیک جدید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482000" y="3478320"/>
              <a:ext cx="3104640" cy="2056320"/>
              <a:chOff x="4482000" y="3478320"/>
              <a:chExt cx="3104640" cy="2056320"/>
            </a:xfrm>
          </p:grpSpPr>
          <p:sp>
            <p:nvSpPr>
              <p:cNvPr id="77" name=""/>
              <p:cNvSpPr/>
              <p:nvPr/>
            </p:nvSpPr>
            <p:spPr>
              <a:xfrm rot="16860000">
                <a:off x="4938840" y="4328280"/>
                <a:ext cx="550800" cy="580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c0128"/>
              </a:solidFill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4532000">
                <a:off x="5842080" y="4251600"/>
                <a:ext cx="579240" cy="580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c0128"/>
              </a:solidFill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1335800">
                <a:off x="6396480" y="3552840"/>
                <a:ext cx="550440" cy="58104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c0128"/>
              </a:solidFill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362200">
                <a:off x="6607440" y="3813480"/>
                <a:ext cx="1090440" cy="536400"/>
              </a:xfrm>
              <a:prstGeom prst="ellipse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نسبیت خاص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9236000">
                <a:off x="5878080" y="4713480"/>
                <a:ext cx="1133280" cy="520560"/>
              </a:xfrm>
              <a:prstGeom prst="ellipse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تمکانیک کوانتمی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1288400">
                <a:off x="4512960" y="4884480"/>
                <a:ext cx="1132920" cy="520560"/>
              </a:xfrm>
              <a:prstGeom prst="ellipse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نسبیت عام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7760" y="1639800"/>
            <a:ext cx="71708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فیزیک چی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55760" y="1833480"/>
            <a:ext cx="566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مفهوم ، مدل، قانون واصل و نظری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یکاها و اندازه گیر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یکاهای اصل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دستگاه یکا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تبدیل بین دستگاه یکا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تحلیل ابعاد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812880"/>
            <a:ext cx="2235240" cy="623880"/>
          </a:xfrm>
          <a:prstGeom prst="ellipse">
            <a:avLst/>
          </a:prstGeom>
          <a:solidFill>
            <a:srgbClr val="feff7e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d6900"/>
                </a:solidFill>
                <a:latin typeface="Arial"/>
                <a:cs typeface="Arial"/>
              </a:rPr>
              <a:t>ادامه</a:t>
            </a:r>
            <a:r>
              <a:rPr b="1" lang="en-US" sz="2800" spc="-1" strike="noStrike">
                <a:solidFill>
                  <a:srgbClr val="ad6900"/>
                </a:solidFill>
                <a:latin typeface="Arial"/>
                <a:ea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9000" y="1367280"/>
            <a:ext cx="73170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afd00"/>
                </a:solidFill>
                <a:latin typeface="Arial"/>
                <a:cs typeface="Arial"/>
              </a:rPr>
              <a:t>فيزيك چيست؟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  <a:ea typeface="Arial"/>
              </a:rPr>
              <a:t> فيزيك, بنيادي ترين علم فيزيكي با اصول اساسي جهان سروكار دارد و پايه اي است كه علوم فيزيكي ديگر 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مانند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  <a:ea typeface="Arial"/>
              </a:rPr>
              <a:t> نجوم, شيمي, زمين شناسي بر آن بنا نهاده شده است.</a:t>
            </a:r>
            <a:r>
              <a:rPr b="0" lang="ar-SA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Arial"/>
                <a:cs typeface="Arial"/>
              </a:rPr>
              <a:t>زيبايي فيزيك در سادگي نظريه هاي بنيادي آن و نيز تعداد كم اصول بنيادي, معادلات و فرضيه هاي 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 آ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cs typeface="Arial"/>
              </a:rPr>
              <a:t>ن كه نظر ما را درباره جهان اطراف گسترش مي دهد قرار دارد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Arial"/>
                <a:cs typeface="Arial"/>
              </a:rPr>
              <a:t>فيزيك با رفتار و اجزاي سازنده ماده و برهم ك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ن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cs typeface="Arial"/>
              </a:rPr>
              <a:t>شها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ی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آن در بنيادي ترين سطوح سروكار دارد و شامل دو شاخه فيزيك كلاسيك و فيزيك جديد مي باشد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c0128"/>
                </a:solidFill>
                <a:latin typeface="Arial"/>
                <a:cs typeface="Arial"/>
              </a:rPr>
              <a:t>فيزيك كلاسيك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شامل سه شاخه عمده زير است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- مكانيك: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كه در آن حركت اجسام مادي بررسي مي شود 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- ترموديناميك: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كه به مطالعه حرارت, دما و رفتار انبوهه هاي ذرات مي پردازد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- الكترومغناطيس: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كه به مطالعه نظريه هاي الكتريسيته, مغناطيس و امواج الكترومغناطيسي مي پردازد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c0128"/>
                </a:solidFill>
                <a:latin typeface="Arial"/>
                <a:cs typeface="Arial"/>
              </a:rPr>
              <a:t>فيزيك جديد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cs typeface="Arial"/>
              </a:rPr>
              <a:t>كه از اول قرن بيستم بوجود آمد و شامل مباحث زير است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- نسبيت -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كه رفتار ذراتي كه با سرعتهاي بسيار بالا حركت مي </a:t>
            </a:r>
            <a:r>
              <a:rPr b="1" lang="fa-IR" sz="1400" spc="-1" strike="noStrike">
                <a:solidFill>
                  <a:srgbClr val="ffffff"/>
                </a:solidFill>
                <a:latin typeface="Arial"/>
                <a:cs typeface="Arial"/>
              </a:rPr>
              <a:t>كنند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بررسي مي كند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- مكانيك كوانتمي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- كه رفتار ذرات را در سطح بسيار ريز (زير ميكروسكپي) بررسي مي كند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ar-SA" sz="1400" spc="-1" strike="noStrike">
                <a:solidFill>
                  <a:srgbClr val="00ff00"/>
                </a:solidFill>
                <a:latin typeface="Arial"/>
                <a:ea typeface="Arial"/>
              </a:rPr>
              <a:t>- نسبيت عام:</a:t>
            </a:r>
            <a:r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 نظريه اي كه نيروي گرانشي را به خواص هندسي فضا مربوط مي كند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Arial"/>
                <a:cs typeface="Arial"/>
              </a:rPr>
              <a:t>كليه پديده هاي فيزيك را مي توان بر حسب چهار  نيروي گرانشي, الكترومغناطيسي, قوي و ضعيف توضيح داد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04920" y="682560"/>
            <a:ext cx="4891320" cy="1058760"/>
          </a:xfrm>
          <a:prstGeom prst="ellipse">
            <a:avLst/>
          </a:prstGeom>
          <a:solidFill>
            <a:srgbClr val="feff7e"/>
          </a:solidFill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40"/>
                </a:solidFill>
                <a:latin typeface="Arial"/>
                <a:cs typeface="Arial"/>
              </a:rPr>
              <a:t>فیزیک چیست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81840" y="3324240"/>
            <a:ext cx="1219320" cy="318960"/>
          </a:xfrm>
          <a:prstGeom prst="ellipse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12160" y="4281480"/>
            <a:ext cx="1145880" cy="2318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07Z</dcterms:created>
  <dc:creator>Mats A. Selen</dc:creator>
  <dc:description/>
  <cp:keywords/>
  <dc:language>en-US</dc:language>
  <cp:lastModifiedBy>janubi</cp:lastModifiedBy>
  <dcterms:modified xsi:type="dcterms:W3CDTF">2006-04-15T02:20:08Z</dcterms:modified>
  <cp:revision>107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