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1.png" ContentType="image/png"/>
  <Override PartName="/ppt/media/image3.wmf" ContentType="image/x-wmf"/>
  <Override PartName="/ppt/media/image4.wmf" ContentType="image/x-wmf"/>
  <Override PartName="/ppt/media/image9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5.jpeg" ContentType="image/jpeg"/>
  <Override PartName="/ppt/media/image7.gif" ContentType="image/gif"/>
  <Override PartName="/ppt/media/image8.png" ContentType="image/png"/>
  <Override PartName="/ppt/media/image12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574240" y="6576840"/>
            <a:ext cx="2732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 – فیزیک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1280" y="601560"/>
            <a:ext cx="52056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های پایستا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33120" y="14569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نیروی پایستار بستگی به مسیرندا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1520" y="3032280"/>
            <a:ext cx="123840" cy="1238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02440" y="2664000"/>
            <a:ext cx="123840" cy="1234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05360" y="3130560"/>
            <a:ext cx="371520" cy="3459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9480" y="3278160"/>
            <a:ext cx="668520" cy="1857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962680" y="3204720"/>
            <a:ext cx="873000" cy="666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837480" y="2779560"/>
            <a:ext cx="293400" cy="4161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88080" y="2572920"/>
            <a:ext cx="414000" cy="4604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307120" y="2542680"/>
            <a:ext cx="703080" cy="334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19920" y="2239560"/>
            <a:ext cx="766800" cy="2970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99320" y="2239920"/>
            <a:ext cx="333360" cy="4208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54280" y="3321000"/>
            <a:ext cx="50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33480" y="5719680"/>
            <a:ext cx="7027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28600" y="2130480"/>
            <a:ext cx="50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1520" y="4959360"/>
            <a:ext cx="123840" cy="1238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05360" y="5057640"/>
            <a:ext cx="371520" cy="3463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89480" y="5205240"/>
            <a:ext cx="668520" cy="1857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962680" y="5132160"/>
            <a:ext cx="873000" cy="666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837480" y="4646160"/>
            <a:ext cx="306360" cy="4762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888080" y="4500720"/>
            <a:ext cx="414000" cy="46008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07120" y="4470480"/>
            <a:ext cx="703080" cy="3312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9920" y="4167360"/>
            <a:ext cx="779400" cy="29664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99320" y="4167360"/>
            <a:ext cx="320760" cy="4698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54280" y="5248440"/>
            <a:ext cx="50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28600" y="4057560"/>
            <a:ext cx="50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46080" y="2717640"/>
            <a:ext cx="119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2520" y="2774880"/>
            <a:ext cx="532080" cy="271440"/>
          </a:xfrm>
          <a:prstGeom prst="rightArrow">
            <a:avLst>
              <a:gd name="adj1" fmla="val 50000"/>
              <a:gd name="adj2" fmla="val 49005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2040" y="4649760"/>
            <a:ext cx="253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82520" y="4800600"/>
            <a:ext cx="532080" cy="271440"/>
          </a:xfrm>
          <a:prstGeom prst="rightArrow">
            <a:avLst>
              <a:gd name="adj1" fmla="val 50000"/>
              <a:gd name="adj2" fmla="val 49005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7640" y="3583080"/>
            <a:ext cx="3946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7000"/>
          </a:bodyPr>
          <a:p>
            <a:pPr marL="219960" indent="-219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کار این نیرو در مسیر بسته صفر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نیروهای پایستار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شکل زیر بردارهای نیرو را در میدان دو نیرو مشاهده می کنید کدام یک پایستار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51460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ردو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6680" y="3206880"/>
            <a:ext cx="2501640" cy="2730240"/>
          </a:xfrm>
          <a:prstGeom prst="rect">
            <a:avLst/>
          </a:prstGeom>
          <a:noFill/>
          <a:ln w="1260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90512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600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6688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04812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42900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80988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05120" y="4267080"/>
            <a:ext cx="1904760" cy="457200"/>
            <a:chOff x="1905120" y="4267080"/>
            <a:chExt cx="1904760" cy="457200"/>
          </a:xfrm>
        </p:grpSpPr>
        <p:sp>
          <p:nvSpPr>
            <p:cNvPr id="172" name=""/>
            <p:cNvSpPr/>
            <p:nvPr/>
          </p:nvSpPr>
          <p:spPr>
            <a:xfrm flipV="1">
              <a:off x="190512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28600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66688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04812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42900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0988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905120" y="3580920"/>
            <a:ext cx="1904760" cy="304920"/>
            <a:chOff x="1905120" y="3580920"/>
            <a:chExt cx="1904760" cy="304920"/>
          </a:xfrm>
        </p:grpSpPr>
        <p:sp>
          <p:nvSpPr>
            <p:cNvPr id="179" name=""/>
            <p:cNvSpPr/>
            <p:nvPr/>
          </p:nvSpPr>
          <p:spPr>
            <a:xfrm flipV="1">
              <a:off x="190512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28600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6688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04812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42900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80988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883040" y="3206880"/>
            <a:ext cx="2502000" cy="2730240"/>
          </a:xfrm>
          <a:prstGeom prst="rect">
            <a:avLst/>
          </a:prstGeom>
          <a:noFill/>
          <a:ln w="1260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18148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81480" y="426672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181480" y="335232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562720" y="3428640"/>
            <a:ext cx="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3504960"/>
            <a:ext cx="0" cy="5331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324480" y="358128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05720" y="3657600"/>
            <a:ext cx="0" cy="380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086600" y="3733920"/>
            <a:ext cx="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562720" y="4343040"/>
            <a:ext cx="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324480" y="449568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705720" y="4572000"/>
            <a:ext cx="0" cy="380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086600" y="4648320"/>
            <a:ext cx="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62720" y="5181480"/>
            <a:ext cx="0" cy="60984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943600" y="5257800"/>
            <a:ext cx="0" cy="5335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324480" y="53341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705720" y="5409720"/>
            <a:ext cx="0" cy="38124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086600" y="5486040"/>
            <a:ext cx="0" cy="3049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4120" y="60721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40840" y="60721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47920" y="5638680"/>
            <a:ext cx="0" cy="60984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6248520"/>
            <a:ext cx="5331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4280" y="538632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8680" y="607212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724280" y="5638680"/>
            <a:ext cx="0" cy="60984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6248520"/>
            <a:ext cx="5335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40640" y="538632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5040" y="607212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نیرو را در دو مسیر بسته حساب می کنیم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6680" y="3206880"/>
            <a:ext cx="2501640" cy="2730240"/>
          </a:xfrm>
          <a:prstGeom prst="rect">
            <a:avLst/>
          </a:prstGeom>
          <a:noFill/>
          <a:ln w="1260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0512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8600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66688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4812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42900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80988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05120" y="4267080"/>
            <a:ext cx="1904760" cy="457200"/>
            <a:chOff x="1905120" y="4267080"/>
            <a:chExt cx="1904760" cy="457200"/>
          </a:xfrm>
        </p:grpSpPr>
        <p:sp>
          <p:nvSpPr>
            <p:cNvPr id="224" name=""/>
            <p:cNvSpPr/>
            <p:nvPr/>
          </p:nvSpPr>
          <p:spPr>
            <a:xfrm flipV="1">
              <a:off x="190512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28600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66688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04812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42900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809880" y="4267080"/>
              <a:ext cx="0" cy="457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905120" y="3580920"/>
            <a:ext cx="1904760" cy="304920"/>
            <a:chOff x="1905120" y="3580920"/>
            <a:chExt cx="1904760" cy="304920"/>
          </a:xfrm>
        </p:grpSpPr>
        <p:sp>
          <p:nvSpPr>
            <p:cNvPr id="231" name=""/>
            <p:cNvSpPr/>
            <p:nvPr/>
          </p:nvSpPr>
          <p:spPr>
            <a:xfrm flipV="1">
              <a:off x="190512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28600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6688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04812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42900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09880" y="3580920"/>
              <a:ext cx="0" cy="304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883040" y="3206880"/>
            <a:ext cx="2502000" cy="2730240"/>
          </a:xfrm>
          <a:prstGeom prst="rect">
            <a:avLst/>
          </a:prstGeom>
          <a:noFill/>
          <a:ln w="1260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181480" y="510516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181480" y="426672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181480" y="335232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562720" y="3428640"/>
            <a:ext cx="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943600" y="3504960"/>
            <a:ext cx="0" cy="5331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324480" y="358128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705720" y="3657600"/>
            <a:ext cx="0" cy="380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086600" y="3733920"/>
            <a:ext cx="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562720" y="4343040"/>
            <a:ext cx="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324480" y="449568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705720" y="4572000"/>
            <a:ext cx="0" cy="380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086600" y="4648320"/>
            <a:ext cx="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62720" y="5181480"/>
            <a:ext cx="0" cy="60984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943600" y="5257800"/>
            <a:ext cx="0" cy="5335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324480" y="53341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05720" y="5409720"/>
            <a:ext cx="0" cy="38124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086600" y="5486040"/>
            <a:ext cx="0" cy="3049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64120" y="60721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40840" y="60721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14680" y="3467160"/>
            <a:ext cx="2097000" cy="2325600"/>
          </a:xfrm>
          <a:custGeom>
            <a:avLst/>
            <a:gdLst/>
            <a:ahLst/>
            <a:rect l="l" t="t" r="r" b="b"/>
            <a:pathLst>
              <a:path w="1321" h="1465">
                <a:moveTo>
                  <a:pt x="1320" y="1464"/>
                </a:moveTo>
                <a:lnTo>
                  <a:pt x="1320" y="1427"/>
                </a:lnTo>
                <a:lnTo>
                  <a:pt x="1320" y="1464"/>
                </a:lnTo>
                <a:lnTo>
                  <a:pt x="1288" y="1445"/>
                </a:lnTo>
                <a:lnTo>
                  <a:pt x="1264" y="1445"/>
                </a:lnTo>
                <a:lnTo>
                  <a:pt x="1240" y="1445"/>
                </a:lnTo>
                <a:lnTo>
                  <a:pt x="1216" y="1445"/>
                </a:lnTo>
                <a:lnTo>
                  <a:pt x="1192" y="1445"/>
                </a:lnTo>
                <a:lnTo>
                  <a:pt x="1168" y="1445"/>
                </a:lnTo>
                <a:lnTo>
                  <a:pt x="1136" y="1445"/>
                </a:lnTo>
                <a:lnTo>
                  <a:pt x="1112" y="1445"/>
                </a:lnTo>
                <a:lnTo>
                  <a:pt x="1088" y="1445"/>
                </a:lnTo>
                <a:lnTo>
                  <a:pt x="1064" y="1445"/>
                </a:lnTo>
                <a:lnTo>
                  <a:pt x="1040" y="1445"/>
                </a:lnTo>
                <a:lnTo>
                  <a:pt x="1016" y="1445"/>
                </a:lnTo>
                <a:lnTo>
                  <a:pt x="992" y="1445"/>
                </a:lnTo>
                <a:lnTo>
                  <a:pt x="968" y="1445"/>
                </a:lnTo>
                <a:lnTo>
                  <a:pt x="936" y="1445"/>
                </a:lnTo>
                <a:lnTo>
                  <a:pt x="912" y="1445"/>
                </a:lnTo>
                <a:lnTo>
                  <a:pt x="888" y="1445"/>
                </a:lnTo>
                <a:lnTo>
                  <a:pt x="864" y="1445"/>
                </a:lnTo>
                <a:lnTo>
                  <a:pt x="840" y="1445"/>
                </a:lnTo>
                <a:lnTo>
                  <a:pt x="808" y="1445"/>
                </a:lnTo>
                <a:lnTo>
                  <a:pt x="784" y="1445"/>
                </a:lnTo>
                <a:lnTo>
                  <a:pt x="760" y="1454"/>
                </a:lnTo>
                <a:lnTo>
                  <a:pt x="736" y="1454"/>
                </a:lnTo>
                <a:lnTo>
                  <a:pt x="704" y="1454"/>
                </a:lnTo>
                <a:lnTo>
                  <a:pt x="680" y="1454"/>
                </a:lnTo>
                <a:lnTo>
                  <a:pt x="648" y="1454"/>
                </a:lnTo>
                <a:lnTo>
                  <a:pt x="616" y="1454"/>
                </a:lnTo>
                <a:lnTo>
                  <a:pt x="584" y="1454"/>
                </a:lnTo>
                <a:lnTo>
                  <a:pt x="552" y="1454"/>
                </a:lnTo>
                <a:lnTo>
                  <a:pt x="520" y="1454"/>
                </a:lnTo>
                <a:lnTo>
                  <a:pt x="496" y="1464"/>
                </a:lnTo>
                <a:lnTo>
                  <a:pt x="472" y="1464"/>
                </a:lnTo>
                <a:lnTo>
                  <a:pt x="448" y="1464"/>
                </a:lnTo>
                <a:lnTo>
                  <a:pt x="424" y="1464"/>
                </a:lnTo>
                <a:lnTo>
                  <a:pt x="400" y="1464"/>
                </a:lnTo>
                <a:lnTo>
                  <a:pt x="376" y="1464"/>
                </a:lnTo>
                <a:lnTo>
                  <a:pt x="352" y="1464"/>
                </a:lnTo>
                <a:lnTo>
                  <a:pt x="328" y="1454"/>
                </a:lnTo>
                <a:lnTo>
                  <a:pt x="304" y="1445"/>
                </a:lnTo>
                <a:lnTo>
                  <a:pt x="280" y="1436"/>
                </a:lnTo>
                <a:lnTo>
                  <a:pt x="256" y="1427"/>
                </a:lnTo>
                <a:lnTo>
                  <a:pt x="232" y="1408"/>
                </a:lnTo>
                <a:lnTo>
                  <a:pt x="208" y="1399"/>
                </a:lnTo>
                <a:lnTo>
                  <a:pt x="184" y="1390"/>
                </a:lnTo>
                <a:lnTo>
                  <a:pt x="160" y="1371"/>
                </a:lnTo>
                <a:lnTo>
                  <a:pt x="136" y="1353"/>
                </a:lnTo>
                <a:lnTo>
                  <a:pt x="128" y="1325"/>
                </a:lnTo>
                <a:lnTo>
                  <a:pt x="104" y="1298"/>
                </a:lnTo>
                <a:lnTo>
                  <a:pt x="96" y="1270"/>
                </a:lnTo>
                <a:lnTo>
                  <a:pt x="80" y="1243"/>
                </a:lnTo>
                <a:lnTo>
                  <a:pt x="72" y="1215"/>
                </a:lnTo>
                <a:lnTo>
                  <a:pt x="72" y="1187"/>
                </a:lnTo>
                <a:lnTo>
                  <a:pt x="56" y="1150"/>
                </a:lnTo>
                <a:lnTo>
                  <a:pt x="48" y="1123"/>
                </a:lnTo>
                <a:lnTo>
                  <a:pt x="40" y="1095"/>
                </a:lnTo>
                <a:lnTo>
                  <a:pt x="40" y="1068"/>
                </a:lnTo>
                <a:lnTo>
                  <a:pt x="40" y="1040"/>
                </a:lnTo>
                <a:lnTo>
                  <a:pt x="40" y="1003"/>
                </a:lnTo>
                <a:lnTo>
                  <a:pt x="40" y="976"/>
                </a:lnTo>
                <a:lnTo>
                  <a:pt x="40" y="939"/>
                </a:lnTo>
                <a:lnTo>
                  <a:pt x="40" y="902"/>
                </a:lnTo>
                <a:lnTo>
                  <a:pt x="40" y="856"/>
                </a:lnTo>
                <a:lnTo>
                  <a:pt x="40" y="819"/>
                </a:lnTo>
                <a:lnTo>
                  <a:pt x="40" y="782"/>
                </a:lnTo>
                <a:lnTo>
                  <a:pt x="40" y="745"/>
                </a:lnTo>
                <a:lnTo>
                  <a:pt x="40" y="708"/>
                </a:lnTo>
                <a:lnTo>
                  <a:pt x="40" y="672"/>
                </a:lnTo>
                <a:lnTo>
                  <a:pt x="40" y="644"/>
                </a:lnTo>
                <a:lnTo>
                  <a:pt x="40" y="616"/>
                </a:lnTo>
                <a:lnTo>
                  <a:pt x="40" y="570"/>
                </a:lnTo>
                <a:lnTo>
                  <a:pt x="32" y="543"/>
                </a:lnTo>
                <a:lnTo>
                  <a:pt x="32" y="506"/>
                </a:lnTo>
                <a:lnTo>
                  <a:pt x="24" y="478"/>
                </a:lnTo>
                <a:lnTo>
                  <a:pt x="24" y="451"/>
                </a:lnTo>
                <a:lnTo>
                  <a:pt x="24" y="423"/>
                </a:lnTo>
                <a:lnTo>
                  <a:pt x="24" y="395"/>
                </a:lnTo>
                <a:lnTo>
                  <a:pt x="24" y="368"/>
                </a:lnTo>
                <a:lnTo>
                  <a:pt x="16" y="331"/>
                </a:lnTo>
                <a:lnTo>
                  <a:pt x="16" y="303"/>
                </a:lnTo>
                <a:lnTo>
                  <a:pt x="8" y="257"/>
                </a:lnTo>
                <a:lnTo>
                  <a:pt x="8" y="230"/>
                </a:lnTo>
                <a:lnTo>
                  <a:pt x="8" y="202"/>
                </a:lnTo>
                <a:lnTo>
                  <a:pt x="8" y="174"/>
                </a:lnTo>
                <a:lnTo>
                  <a:pt x="8" y="138"/>
                </a:lnTo>
                <a:lnTo>
                  <a:pt x="8" y="110"/>
                </a:lnTo>
                <a:lnTo>
                  <a:pt x="8" y="82"/>
                </a:lnTo>
                <a:lnTo>
                  <a:pt x="8" y="55"/>
                </a:lnTo>
                <a:lnTo>
                  <a:pt x="8" y="2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ffff"/>
            </a:solidFill>
            <a:custDash>
              <a:ds d="499000" sp="201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3314880"/>
            <a:ext cx="2287800" cy="2325600"/>
          </a:xfrm>
          <a:custGeom>
            <a:avLst/>
            <a:gdLst/>
            <a:ahLst/>
            <a:rect l="l" t="t" r="r" b="b"/>
            <a:pathLst>
              <a:path w="1441" h="1465">
                <a:moveTo>
                  <a:pt x="1440" y="1464"/>
                </a:moveTo>
                <a:lnTo>
                  <a:pt x="1440" y="1427"/>
                </a:lnTo>
                <a:lnTo>
                  <a:pt x="1431" y="1399"/>
                </a:lnTo>
                <a:lnTo>
                  <a:pt x="1422" y="1371"/>
                </a:lnTo>
                <a:lnTo>
                  <a:pt x="1422" y="1344"/>
                </a:lnTo>
                <a:lnTo>
                  <a:pt x="1422" y="1316"/>
                </a:lnTo>
                <a:lnTo>
                  <a:pt x="1422" y="1289"/>
                </a:lnTo>
                <a:lnTo>
                  <a:pt x="1422" y="1261"/>
                </a:lnTo>
                <a:lnTo>
                  <a:pt x="1422" y="1233"/>
                </a:lnTo>
                <a:lnTo>
                  <a:pt x="1413" y="1206"/>
                </a:lnTo>
                <a:lnTo>
                  <a:pt x="1413" y="1178"/>
                </a:lnTo>
                <a:lnTo>
                  <a:pt x="1404" y="1150"/>
                </a:lnTo>
                <a:lnTo>
                  <a:pt x="1404" y="1123"/>
                </a:lnTo>
                <a:lnTo>
                  <a:pt x="1404" y="1095"/>
                </a:lnTo>
                <a:lnTo>
                  <a:pt x="1404" y="1068"/>
                </a:lnTo>
                <a:lnTo>
                  <a:pt x="1404" y="1040"/>
                </a:lnTo>
                <a:lnTo>
                  <a:pt x="1404" y="1012"/>
                </a:lnTo>
                <a:lnTo>
                  <a:pt x="1404" y="985"/>
                </a:lnTo>
                <a:lnTo>
                  <a:pt x="1404" y="957"/>
                </a:lnTo>
                <a:lnTo>
                  <a:pt x="1413" y="929"/>
                </a:lnTo>
                <a:lnTo>
                  <a:pt x="1413" y="902"/>
                </a:lnTo>
                <a:lnTo>
                  <a:pt x="1413" y="874"/>
                </a:lnTo>
                <a:lnTo>
                  <a:pt x="1413" y="847"/>
                </a:lnTo>
                <a:lnTo>
                  <a:pt x="1413" y="819"/>
                </a:lnTo>
                <a:lnTo>
                  <a:pt x="1413" y="782"/>
                </a:lnTo>
                <a:lnTo>
                  <a:pt x="1413" y="745"/>
                </a:lnTo>
                <a:lnTo>
                  <a:pt x="1413" y="708"/>
                </a:lnTo>
                <a:lnTo>
                  <a:pt x="1413" y="672"/>
                </a:lnTo>
                <a:lnTo>
                  <a:pt x="1413" y="644"/>
                </a:lnTo>
                <a:lnTo>
                  <a:pt x="1413" y="616"/>
                </a:lnTo>
                <a:lnTo>
                  <a:pt x="1413" y="580"/>
                </a:lnTo>
                <a:lnTo>
                  <a:pt x="1413" y="552"/>
                </a:lnTo>
                <a:lnTo>
                  <a:pt x="1413" y="515"/>
                </a:lnTo>
                <a:lnTo>
                  <a:pt x="1413" y="488"/>
                </a:lnTo>
                <a:lnTo>
                  <a:pt x="1413" y="451"/>
                </a:lnTo>
                <a:lnTo>
                  <a:pt x="1413" y="423"/>
                </a:lnTo>
                <a:lnTo>
                  <a:pt x="1413" y="395"/>
                </a:lnTo>
                <a:lnTo>
                  <a:pt x="1404" y="368"/>
                </a:lnTo>
                <a:lnTo>
                  <a:pt x="1404" y="340"/>
                </a:lnTo>
                <a:lnTo>
                  <a:pt x="1386" y="313"/>
                </a:lnTo>
                <a:lnTo>
                  <a:pt x="1377" y="285"/>
                </a:lnTo>
                <a:lnTo>
                  <a:pt x="1350" y="257"/>
                </a:lnTo>
                <a:lnTo>
                  <a:pt x="1332" y="230"/>
                </a:lnTo>
                <a:lnTo>
                  <a:pt x="1305" y="211"/>
                </a:lnTo>
                <a:lnTo>
                  <a:pt x="1278" y="193"/>
                </a:lnTo>
                <a:lnTo>
                  <a:pt x="1251" y="174"/>
                </a:lnTo>
                <a:lnTo>
                  <a:pt x="1224" y="156"/>
                </a:lnTo>
                <a:lnTo>
                  <a:pt x="1197" y="147"/>
                </a:lnTo>
                <a:lnTo>
                  <a:pt x="1170" y="138"/>
                </a:lnTo>
                <a:lnTo>
                  <a:pt x="1143" y="119"/>
                </a:lnTo>
                <a:lnTo>
                  <a:pt x="1116" y="110"/>
                </a:lnTo>
                <a:lnTo>
                  <a:pt x="1080" y="101"/>
                </a:lnTo>
                <a:lnTo>
                  <a:pt x="1044" y="82"/>
                </a:lnTo>
                <a:lnTo>
                  <a:pt x="1008" y="73"/>
                </a:lnTo>
                <a:lnTo>
                  <a:pt x="972" y="64"/>
                </a:lnTo>
                <a:lnTo>
                  <a:pt x="936" y="64"/>
                </a:lnTo>
                <a:lnTo>
                  <a:pt x="909" y="64"/>
                </a:lnTo>
                <a:lnTo>
                  <a:pt x="882" y="64"/>
                </a:lnTo>
                <a:lnTo>
                  <a:pt x="846" y="64"/>
                </a:lnTo>
                <a:lnTo>
                  <a:pt x="810" y="64"/>
                </a:lnTo>
                <a:lnTo>
                  <a:pt x="783" y="64"/>
                </a:lnTo>
                <a:lnTo>
                  <a:pt x="738" y="64"/>
                </a:lnTo>
                <a:lnTo>
                  <a:pt x="711" y="64"/>
                </a:lnTo>
                <a:lnTo>
                  <a:pt x="675" y="64"/>
                </a:lnTo>
                <a:lnTo>
                  <a:pt x="648" y="64"/>
                </a:lnTo>
                <a:lnTo>
                  <a:pt x="621" y="64"/>
                </a:lnTo>
                <a:lnTo>
                  <a:pt x="594" y="64"/>
                </a:lnTo>
                <a:lnTo>
                  <a:pt x="558" y="64"/>
                </a:lnTo>
                <a:lnTo>
                  <a:pt x="522" y="64"/>
                </a:lnTo>
                <a:lnTo>
                  <a:pt x="486" y="55"/>
                </a:lnTo>
                <a:lnTo>
                  <a:pt x="459" y="55"/>
                </a:lnTo>
                <a:lnTo>
                  <a:pt x="432" y="46"/>
                </a:lnTo>
                <a:lnTo>
                  <a:pt x="405" y="36"/>
                </a:lnTo>
                <a:lnTo>
                  <a:pt x="369" y="27"/>
                </a:lnTo>
                <a:lnTo>
                  <a:pt x="333" y="27"/>
                </a:lnTo>
                <a:lnTo>
                  <a:pt x="297" y="18"/>
                </a:lnTo>
                <a:lnTo>
                  <a:pt x="270" y="18"/>
                </a:lnTo>
                <a:lnTo>
                  <a:pt x="225" y="9"/>
                </a:lnTo>
                <a:lnTo>
                  <a:pt x="198" y="9"/>
                </a:lnTo>
                <a:lnTo>
                  <a:pt x="171" y="9"/>
                </a:lnTo>
                <a:lnTo>
                  <a:pt x="135" y="9"/>
                </a:lnTo>
                <a:lnTo>
                  <a:pt x="108" y="9"/>
                </a:lnTo>
                <a:lnTo>
                  <a:pt x="81" y="9"/>
                </a:lnTo>
                <a:lnTo>
                  <a:pt x="54" y="9"/>
                </a:lnTo>
                <a:lnTo>
                  <a:pt x="27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9900"/>
            </a:solidFill>
            <a:custDash>
              <a:ds d="499000" sp="201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42840" y="2719440"/>
            <a:ext cx="17409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f99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91040" y="3543480"/>
            <a:ext cx="2097000" cy="2325600"/>
          </a:xfrm>
          <a:custGeom>
            <a:avLst/>
            <a:gdLst/>
            <a:ahLst/>
            <a:rect l="l" t="t" r="r" b="b"/>
            <a:pathLst>
              <a:path w="1321" h="1465">
                <a:moveTo>
                  <a:pt x="1320" y="1464"/>
                </a:moveTo>
                <a:lnTo>
                  <a:pt x="1320" y="1427"/>
                </a:lnTo>
                <a:lnTo>
                  <a:pt x="1320" y="1464"/>
                </a:lnTo>
                <a:lnTo>
                  <a:pt x="1288" y="1445"/>
                </a:lnTo>
                <a:lnTo>
                  <a:pt x="1264" y="1445"/>
                </a:lnTo>
                <a:lnTo>
                  <a:pt x="1240" y="1445"/>
                </a:lnTo>
                <a:lnTo>
                  <a:pt x="1216" y="1445"/>
                </a:lnTo>
                <a:lnTo>
                  <a:pt x="1192" y="1445"/>
                </a:lnTo>
                <a:lnTo>
                  <a:pt x="1168" y="1445"/>
                </a:lnTo>
                <a:lnTo>
                  <a:pt x="1136" y="1445"/>
                </a:lnTo>
                <a:lnTo>
                  <a:pt x="1112" y="1445"/>
                </a:lnTo>
                <a:lnTo>
                  <a:pt x="1088" y="1445"/>
                </a:lnTo>
                <a:lnTo>
                  <a:pt x="1064" y="1445"/>
                </a:lnTo>
                <a:lnTo>
                  <a:pt x="1040" y="1445"/>
                </a:lnTo>
                <a:lnTo>
                  <a:pt x="1016" y="1445"/>
                </a:lnTo>
                <a:lnTo>
                  <a:pt x="992" y="1445"/>
                </a:lnTo>
                <a:lnTo>
                  <a:pt x="968" y="1445"/>
                </a:lnTo>
                <a:lnTo>
                  <a:pt x="936" y="1445"/>
                </a:lnTo>
                <a:lnTo>
                  <a:pt x="912" y="1445"/>
                </a:lnTo>
                <a:lnTo>
                  <a:pt x="888" y="1445"/>
                </a:lnTo>
                <a:lnTo>
                  <a:pt x="864" y="1445"/>
                </a:lnTo>
                <a:lnTo>
                  <a:pt x="840" y="1445"/>
                </a:lnTo>
                <a:lnTo>
                  <a:pt x="808" y="1445"/>
                </a:lnTo>
                <a:lnTo>
                  <a:pt x="784" y="1445"/>
                </a:lnTo>
                <a:lnTo>
                  <a:pt x="760" y="1454"/>
                </a:lnTo>
                <a:lnTo>
                  <a:pt x="736" y="1454"/>
                </a:lnTo>
                <a:lnTo>
                  <a:pt x="704" y="1454"/>
                </a:lnTo>
                <a:lnTo>
                  <a:pt x="680" y="1454"/>
                </a:lnTo>
                <a:lnTo>
                  <a:pt x="648" y="1454"/>
                </a:lnTo>
                <a:lnTo>
                  <a:pt x="616" y="1454"/>
                </a:lnTo>
                <a:lnTo>
                  <a:pt x="584" y="1454"/>
                </a:lnTo>
                <a:lnTo>
                  <a:pt x="552" y="1454"/>
                </a:lnTo>
                <a:lnTo>
                  <a:pt x="520" y="1454"/>
                </a:lnTo>
                <a:lnTo>
                  <a:pt x="496" y="1464"/>
                </a:lnTo>
                <a:lnTo>
                  <a:pt x="472" y="1464"/>
                </a:lnTo>
                <a:lnTo>
                  <a:pt x="448" y="1464"/>
                </a:lnTo>
                <a:lnTo>
                  <a:pt x="424" y="1464"/>
                </a:lnTo>
                <a:lnTo>
                  <a:pt x="400" y="1464"/>
                </a:lnTo>
                <a:lnTo>
                  <a:pt x="376" y="1464"/>
                </a:lnTo>
                <a:lnTo>
                  <a:pt x="352" y="1464"/>
                </a:lnTo>
                <a:lnTo>
                  <a:pt x="328" y="1454"/>
                </a:lnTo>
                <a:lnTo>
                  <a:pt x="304" y="1445"/>
                </a:lnTo>
                <a:lnTo>
                  <a:pt x="280" y="1436"/>
                </a:lnTo>
                <a:lnTo>
                  <a:pt x="256" y="1427"/>
                </a:lnTo>
                <a:lnTo>
                  <a:pt x="232" y="1408"/>
                </a:lnTo>
                <a:lnTo>
                  <a:pt x="208" y="1399"/>
                </a:lnTo>
                <a:lnTo>
                  <a:pt x="184" y="1390"/>
                </a:lnTo>
                <a:lnTo>
                  <a:pt x="160" y="1371"/>
                </a:lnTo>
                <a:lnTo>
                  <a:pt x="136" y="1353"/>
                </a:lnTo>
                <a:lnTo>
                  <a:pt x="128" y="1325"/>
                </a:lnTo>
                <a:lnTo>
                  <a:pt x="104" y="1298"/>
                </a:lnTo>
                <a:lnTo>
                  <a:pt x="96" y="1270"/>
                </a:lnTo>
                <a:lnTo>
                  <a:pt x="80" y="1243"/>
                </a:lnTo>
                <a:lnTo>
                  <a:pt x="72" y="1215"/>
                </a:lnTo>
                <a:lnTo>
                  <a:pt x="72" y="1187"/>
                </a:lnTo>
                <a:lnTo>
                  <a:pt x="56" y="1150"/>
                </a:lnTo>
                <a:lnTo>
                  <a:pt x="48" y="1123"/>
                </a:lnTo>
                <a:lnTo>
                  <a:pt x="40" y="1095"/>
                </a:lnTo>
                <a:lnTo>
                  <a:pt x="40" y="1068"/>
                </a:lnTo>
                <a:lnTo>
                  <a:pt x="40" y="1040"/>
                </a:lnTo>
                <a:lnTo>
                  <a:pt x="40" y="1003"/>
                </a:lnTo>
                <a:lnTo>
                  <a:pt x="40" y="976"/>
                </a:lnTo>
                <a:lnTo>
                  <a:pt x="40" y="939"/>
                </a:lnTo>
                <a:lnTo>
                  <a:pt x="40" y="902"/>
                </a:lnTo>
                <a:lnTo>
                  <a:pt x="40" y="856"/>
                </a:lnTo>
                <a:lnTo>
                  <a:pt x="40" y="819"/>
                </a:lnTo>
                <a:lnTo>
                  <a:pt x="40" y="782"/>
                </a:lnTo>
                <a:lnTo>
                  <a:pt x="40" y="745"/>
                </a:lnTo>
                <a:lnTo>
                  <a:pt x="40" y="708"/>
                </a:lnTo>
                <a:lnTo>
                  <a:pt x="40" y="672"/>
                </a:lnTo>
                <a:lnTo>
                  <a:pt x="40" y="644"/>
                </a:lnTo>
                <a:lnTo>
                  <a:pt x="40" y="616"/>
                </a:lnTo>
                <a:lnTo>
                  <a:pt x="40" y="570"/>
                </a:lnTo>
                <a:lnTo>
                  <a:pt x="32" y="543"/>
                </a:lnTo>
                <a:lnTo>
                  <a:pt x="32" y="506"/>
                </a:lnTo>
                <a:lnTo>
                  <a:pt x="24" y="478"/>
                </a:lnTo>
                <a:lnTo>
                  <a:pt x="24" y="451"/>
                </a:lnTo>
                <a:lnTo>
                  <a:pt x="24" y="423"/>
                </a:lnTo>
                <a:lnTo>
                  <a:pt x="24" y="395"/>
                </a:lnTo>
                <a:lnTo>
                  <a:pt x="24" y="368"/>
                </a:lnTo>
                <a:lnTo>
                  <a:pt x="16" y="331"/>
                </a:lnTo>
                <a:lnTo>
                  <a:pt x="16" y="303"/>
                </a:lnTo>
                <a:lnTo>
                  <a:pt x="8" y="257"/>
                </a:lnTo>
                <a:lnTo>
                  <a:pt x="8" y="230"/>
                </a:lnTo>
                <a:lnTo>
                  <a:pt x="8" y="202"/>
                </a:lnTo>
                <a:lnTo>
                  <a:pt x="8" y="174"/>
                </a:lnTo>
                <a:lnTo>
                  <a:pt x="8" y="138"/>
                </a:lnTo>
                <a:lnTo>
                  <a:pt x="8" y="110"/>
                </a:lnTo>
                <a:lnTo>
                  <a:pt x="8" y="82"/>
                </a:lnTo>
                <a:lnTo>
                  <a:pt x="8" y="55"/>
                </a:lnTo>
                <a:lnTo>
                  <a:pt x="8" y="2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ffff"/>
            </a:solidFill>
            <a:custDash>
              <a:ds d="499000" sp="201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3390840"/>
            <a:ext cx="2287440" cy="2325600"/>
          </a:xfrm>
          <a:custGeom>
            <a:avLst/>
            <a:gdLst/>
            <a:ahLst/>
            <a:rect l="l" t="t" r="r" b="b"/>
            <a:pathLst>
              <a:path w="1441" h="1465">
                <a:moveTo>
                  <a:pt x="1440" y="1464"/>
                </a:moveTo>
                <a:lnTo>
                  <a:pt x="1440" y="1427"/>
                </a:lnTo>
                <a:lnTo>
                  <a:pt x="1431" y="1399"/>
                </a:lnTo>
                <a:lnTo>
                  <a:pt x="1422" y="1371"/>
                </a:lnTo>
                <a:lnTo>
                  <a:pt x="1422" y="1344"/>
                </a:lnTo>
                <a:lnTo>
                  <a:pt x="1422" y="1316"/>
                </a:lnTo>
                <a:lnTo>
                  <a:pt x="1422" y="1289"/>
                </a:lnTo>
                <a:lnTo>
                  <a:pt x="1422" y="1261"/>
                </a:lnTo>
                <a:lnTo>
                  <a:pt x="1422" y="1233"/>
                </a:lnTo>
                <a:lnTo>
                  <a:pt x="1413" y="1206"/>
                </a:lnTo>
                <a:lnTo>
                  <a:pt x="1413" y="1178"/>
                </a:lnTo>
                <a:lnTo>
                  <a:pt x="1404" y="1150"/>
                </a:lnTo>
                <a:lnTo>
                  <a:pt x="1404" y="1123"/>
                </a:lnTo>
                <a:lnTo>
                  <a:pt x="1404" y="1095"/>
                </a:lnTo>
                <a:lnTo>
                  <a:pt x="1404" y="1068"/>
                </a:lnTo>
                <a:lnTo>
                  <a:pt x="1404" y="1040"/>
                </a:lnTo>
                <a:lnTo>
                  <a:pt x="1404" y="1012"/>
                </a:lnTo>
                <a:lnTo>
                  <a:pt x="1404" y="985"/>
                </a:lnTo>
                <a:lnTo>
                  <a:pt x="1404" y="957"/>
                </a:lnTo>
                <a:lnTo>
                  <a:pt x="1413" y="929"/>
                </a:lnTo>
                <a:lnTo>
                  <a:pt x="1413" y="902"/>
                </a:lnTo>
                <a:lnTo>
                  <a:pt x="1413" y="874"/>
                </a:lnTo>
                <a:lnTo>
                  <a:pt x="1413" y="847"/>
                </a:lnTo>
                <a:lnTo>
                  <a:pt x="1413" y="819"/>
                </a:lnTo>
                <a:lnTo>
                  <a:pt x="1413" y="782"/>
                </a:lnTo>
                <a:lnTo>
                  <a:pt x="1413" y="745"/>
                </a:lnTo>
                <a:lnTo>
                  <a:pt x="1413" y="708"/>
                </a:lnTo>
                <a:lnTo>
                  <a:pt x="1413" y="672"/>
                </a:lnTo>
                <a:lnTo>
                  <a:pt x="1413" y="644"/>
                </a:lnTo>
                <a:lnTo>
                  <a:pt x="1413" y="616"/>
                </a:lnTo>
                <a:lnTo>
                  <a:pt x="1413" y="580"/>
                </a:lnTo>
                <a:lnTo>
                  <a:pt x="1413" y="552"/>
                </a:lnTo>
                <a:lnTo>
                  <a:pt x="1413" y="515"/>
                </a:lnTo>
                <a:lnTo>
                  <a:pt x="1413" y="488"/>
                </a:lnTo>
                <a:lnTo>
                  <a:pt x="1413" y="451"/>
                </a:lnTo>
                <a:lnTo>
                  <a:pt x="1413" y="423"/>
                </a:lnTo>
                <a:lnTo>
                  <a:pt x="1413" y="395"/>
                </a:lnTo>
                <a:lnTo>
                  <a:pt x="1404" y="368"/>
                </a:lnTo>
                <a:lnTo>
                  <a:pt x="1404" y="340"/>
                </a:lnTo>
                <a:lnTo>
                  <a:pt x="1386" y="313"/>
                </a:lnTo>
                <a:lnTo>
                  <a:pt x="1377" y="285"/>
                </a:lnTo>
                <a:lnTo>
                  <a:pt x="1350" y="257"/>
                </a:lnTo>
                <a:lnTo>
                  <a:pt x="1332" y="230"/>
                </a:lnTo>
                <a:lnTo>
                  <a:pt x="1305" y="211"/>
                </a:lnTo>
                <a:lnTo>
                  <a:pt x="1278" y="193"/>
                </a:lnTo>
                <a:lnTo>
                  <a:pt x="1251" y="174"/>
                </a:lnTo>
                <a:lnTo>
                  <a:pt x="1224" y="156"/>
                </a:lnTo>
                <a:lnTo>
                  <a:pt x="1197" y="147"/>
                </a:lnTo>
                <a:lnTo>
                  <a:pt x="1170" y="138"/>
                </a:lnTo>
                <a:lnTo>
                  <a:pt x="1143" y="119"/>
                </a:lnTo>
                <a:lnTo>
                  <a:pt x="1116" y="110"/>
                </a:lnTo>
                <a:lnTo>
                  <a:pt x="1080" y="101"/>
                </a:lnTo>
                <a:lnTo>
                  <a:pt x="1044" y="82"/>
                </a:lnTo>
                <a:lnTo>
                  <a:pt x="1008" y="73"/>
                </a:lnTo>
                <a:lnTo>
                  <a:pt x="972" y="64"/>
                </a:lnTo>
                <a:lnTo>
                  <a:pt x="936" y="64"/>
                </a:lnTo>
                <a:lnTo>
                  <a:pt x="909" y="64"/>
                </a:lnTo>
                <a:lnTo>
                  <a:pt x="882" y="64"/>
                </a:lnTo>
                <a:lnTo>
                  <a:pt x="846" y="64"/>
                </a:lnTo>
                <a:lnTo>
                  <a:pt x="810" y="64"/>
                </a:lnTo>
                <a:lnTo>
                  <a:pt x="783" y="64"/>
                </a:lnTo>
                <a:lnTo>
                  <a:pt x="738" y="64"/>
                </a:lnTo>
                <a:lnTo>
                  <a:pt x="711" y="64"/>
                </a:lnTo>
                <a:lnTo>
                  <a:pt x="675" y="64"/>
                </a:lnTo>
                <a:lnTo>
                  <a:pt x="648" y="64"/>
                </a:lnTo>
                <a:lnTo>
                  <a:pt x="621" y="64"/>
                </a:lnTo>
                <a:lnTo>
                  <a:pt x="594" y="64"/>
                </a:lnTo>
                <a:lnTo>
                  <a:pt x="558" y="64"/>
                </a:lnTo>
                <a:lnTo>
                  <a:pt x="522" y="64"/>
                </a:lnTo>
                <a:lnTo>
                  <a:pt x="486" y="55"/>
                </a:lnTo>
                <a:lnTo>
                  <a:pt x="459" y="55"/>
                </a:lnTo>
                <a:lnTo>
                  <a:pt x="432" y="46"/>
                </a:lnTo>
                <a:lnTo>
                  <a:pt x="405" y="36"/>
                </a:lnTo>
                <a:lnTo>
                  <a:pt x="369" y="27"/>
                </a:lnTo>
                <a:lnTo>
                  <a:pt x="333" y="27"/>
                </a:lnTo>
                <a:lnTo>
                  <a:pt x="297" y="18"/>
                </a:lnTo>
                <a:lnTo>
                  <a:pt x="270" y="18"/>
                </a:lnTo>
                <a:lnTo>
                  <a:pt x="225" y="9"/>
                </a:lnTo>
                <a:lnTo>
                  <a:pt x="198" y="9"/>
                </a:lnTo>
                <a:lnTo>
                  <a:pt x="171" y="9"/>
                </a:lnTo>
                <a:lnTo>
                  <a:pt x="135" y="9"/>
                </a:lnTo>
                <a:lnTo>
                  <a:pt x="108" y="9"/>
                </a:lnTo>
                <a:lnTo>
                  <a:pt x="81" y="9"/>
                </a:lnTo>
                <a:lnTo>
                  <a:pt x="54" y="9"/>
                </a:lnTo>
                <a:lnTo>
                  <a:pt x="27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9900"/>
            </a:solidFill>
            <a:custDash>
              <a:ds d="499000" sp="201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95520" y="2719440"/>
            <a:ext cx="17409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f99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..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45440" indent="-14544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واقع اگر مسیری از نوع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وجود داشت می توانید کسب درامد کنی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560" indent="-116280" algn="r" rtl="1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این نوع نیرو در مسیر بست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ود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560" indent="-116280" algn="r" rtl="1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عنی انرژی جنبشی مجانی بدست می آورد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572000" y="518112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572000" y="434304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572000" y="3428640"/>
            <a:ext cx="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52880" y="3504960"/>
            <a:ext cx="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334120" y="3581280"/>
            <a:ext cx="0" cy="5335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15000" y="365760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095880" y="3733920"/>
            <a:ext cx="0" cy="380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477120" y="3809520"/>
            <a:ext cx="0" cy="3049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952880" y="4419360"/>
            <a:ext cx="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334120" y="4495680"/>
            <a:ext cx="0" cy="5335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715000" y="457200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095880" y="4648320"/>
            <a:ext cx="0" cy="380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477120" y="4723920"/>
            <a:ext cx="0" cy="3049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952880" y="5257440"/>
            <a:ext cx="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334120" y="5333760"/>
            <a:ext cx="0" cy="5331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715000" y="541008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95880" y="5486400"/>
            <a:ext cx="0" cy="380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477120" y="5562720"/>
            <a:ext cx="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3265560"/>
            <a:ext cx="0" cy="266688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8640" y="4383000"/>
            <a:ext cx="176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 = 15 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343400" y="5943600"/>
            <a:ext cx="2286000" cy="419400"/>
            <a:chOff x="4343400" y="5943600"/>
            <a:chExt cx="2286000" cy="419400"/>
          </a:xfrm>
        </p:grpSpPr>
        <p:sp>
          <p:nvSpPr>
            <p:cNvPr id="287" name=""/>
            <p:cNvSpPr/>
            <p:nvPr/>
          </p:nvSpPr>
          <p:spPr>
            <a:xfrm>
              <a:off x="4343400" y="5943600"/>
              <a:ext cx="22860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25360" y="5996160"/>
              <a:ext cx="1428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W 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324120" y="3276720"/>
            <a:ext cx="1712160" cy="2666880"/>
            <a:chOff x="6324120" y="3276720"/>
            <a:chExt cx="1712160" cy="2666880"/>
          </a:xfrm>
        </p:grpSpPr>
        <p:sp>
          <p:nvSpPr>
            <p:cNvPr id="290" name=""/>
            <p:cNvSpPr/>
            <p:nvPr/>
          </p:nvSpPr>
          <p:spPr>
            <a:xfrm>
              <a:off x="6629400" y="3276720"/>
              <a:ext cx="0" cy="26668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24120" y="4471920"/>
              <a:ext cx="17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W = -5 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343400" y="2871720"/>
            <a:ext cx="2286000" cy="405000"/>
            <a:chOff x="4343400" y="2871720"/>
            <a:chExt cx="2286000" cy="405000"/>
          </a:xfrm>
        </p:grpSpPr>
        <p:sp>
          <p:nvSpPr>
            <p:cNvPr id="293" name=""/>
            <p:cNvSpPr/>
            <p:nvPr/>
          </p:nvSpPr>
          <p:spPr>
            <a:xfrm>
              <a:off x="4343400" y="3276720"/>
              <a:ext cx="22860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1680" y="2871720"/>
              <a:ext cx="1428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W 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845360" y="2871720"/>
            <a:ext cx="2678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0 J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480" y="4800600"/>
            <a:ext cx="292284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400" spc="-1" strike="noStrike" u="sng">
                <a:solidFill>
                  <a:srgbClr val="fc0000"/>
                </a:solidFill>
                <a:uFillTx/>
                <a:latin typeface="Times New Roman"/>
                <a:cs typeface="Times New Roman"/>
              </a:rPr>
              <a:t>توج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اجایی  که ما می دانیم چنین نیرویی وجود ندار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انرژی پتانسیل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نیروی پایستار انرژی پتانسی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چنین تعریف می کنی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توانی موقعیت اولیه تراز اولیه انرژی پتانسیل را به طور اختیاری انتخاب کنید ک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U = 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صفر باش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686320" y="2290680"/>
            <a:ext cx="3990600" cy="1114560"/>
            <a:chOff x="2686320" y="2290680"/>
            <a:chExt cx="3990600" cy="1114560"/>
          </a:xfrm>
        </p:grpSpPr>
        <p:sp>
          <p:nvSpPr>
            <p:cNvPr id="302" name=""/>
            <p:cNvSpPr/>
            <p:nvPr/>
          </p:nvSpPr>
          <p:spPr>
            <a:xfrm>
              <a:off x="2686320" y="2397240"/>
              <a:ext cx="399060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 = U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- U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-W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r>
                <a:rPr b="0" lang="en-US" sz="5400" spc="-1" strike="noStrike" baseline="8000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d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5397120" y="2290680"/>
              <a:ext cx="1067040" cy="1114560"/>
              <a:chOff x="5397120" y="2290680"/>
              <a:chExt cx="1067040" cy="1114560"/>
            </a:xfrm>
          </p:grpSpPr>
          <mc:AlternateContent>
            <mc:Choice xmlns:a14="http://schemas.microsoft.com/office/drawing/2010/main" Requires="a14">
              <p:sp>
                <p:nvSpPr>
                  <p:cNvPr id="304" name=""/>
                  <p:cNvSpPr txBox="1"/>
                  <p:nvPr/>
                </p:nvSpPr>
                <p:spPr>
                  <a:xfrm>
                    <a:off x="5605560" y="2344680"/>
                    <a:ext cx="858600" cy="1060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05" name=""/>
              <p:cNvGrpSpPr/>
              <p:nvPr/>
            </p:nvGrpSpPr>
            <p:grpSpPr>
              <a:xfrm>
                <a:off x="5397120" y="2290680"/>
                <a:ext cx="993240" cy="929160"/>
                <a:chOff x="5397120" y="2290680"/>
                <a:chExt cx="993240" cy="9291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397120" y="2913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460480" y="229068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های پایستار و انرژی پتانسیل 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طالبی که باید بدانید!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2280" y="1682640"/>
            <a:ext cx="7759440" cy="387360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00200" y="2590920"/>
            <a:ext cx="774540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0200" y="4495680"/>
            <a:ext cx="774540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0200" y="3505320"/>
            <a:ext cx="774540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690560"/>
            <a:ext cx="0" cy="3859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81680" y="1690560"/>
            <a:ext cx="0" cy="3859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1690560"/>
            <a:ext cx="0" cy="3859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9960" y="1765440"/>
            <a:ext cx="1269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نیر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70480" y="1731960"/>
            <a:ext cx="15332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ک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W(1-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49760" y="1730520"/>
            <a:ext cx="19782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تغیییر انرژی پتانسی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- U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77880" y="1731960"/>
            <a:ext cx="305748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تابع انرژی پتانسی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5120" y="2832120"/>
            <a:ext cx="2070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mg  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2680" y="3745080"/>
            <a:ext cx="2151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         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4400" y="4811760"/>
            <a:ext cx="1754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kx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24680" y="3679920"/>
            <a:ext cx="887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^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48800" y="2714760"/>
            <a:ext cx="887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^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517840" y="3603600"/>
                <a:ext cx="1792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M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552760" y="4740120"/>
                <a:ext cx="1536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2402280" y="2851200"/>
            <a:ext cx="1869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25440" y="2846520"/>
            <a:ext cx="1854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19600" y="3614760"/>
                <a:ext cx="19828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M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052960" y="4737240"/>
                <a:ext cx="13464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219320" y="3676680"/>
                <a:ext cx="717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6726960" y="2855880"/>
            <a:ext cx="1778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y +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6910560" y="3700440"/>
                <a:ext cx="19936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7043760" y="4743360"/>
                <a:ext cx="1984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1170000" y="5778360"/>
            <a:ext cx="66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فاصله دو مرک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شیدگی فنر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2019240" y="3200400"/>
            <a:ext cx="235080" cy="1238400"/>
            <a:chOff x="2019240" y="3200400"/>
            <a:chExt cx="235080" cy="1238400"/>
          </a:xfrm>
        </p:grpSpPr>
        <p:grpSp>
          <p:nvGrpSpPr>
            <p:cNvPr id="339" name=""/>
            <p:cNvGrpSpPr/>
            <p:nvPr/>
          </p:nvGrpSpPr>
          <p:grpSpPr>
            <a:xfrm>
              <a:off x="2019240" y="3362400"/>
              <a:ext cx="235080" cy="923760"/>
              <a:chOff x="2019240" y="3362400"/>
              <a:chExt cx="235080" cy="92376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2019240" y="3362400"/>
                <a:ext cx="235080" cy="231840"/>
                <a:chOff x="2019240" y="3362400"/>
                <a:chExt cx="235080" cy="23184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2019240" y="3362400"/>
                  <a:ext cx="235080" cy="114120"/>
                  <a:chOff x="2019240" y="3362400"/>
                  <a:chExt cx="235080" cy="1141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>
                    <a:off x="2019240" y="336240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019240" y="3390840"/>
                    <a:ext cx="11736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136240" y="3417840"/>
                    <a:ext cx="118080" cy="58680"/>
                    <a:chOff x="2136240" y="3417840"/>
                    <a:chExt cx="118080" cy="586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2136600" y="3417840"/>
                      <a:ext cx="11772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>
                      <a:off x="2136240" y="3446640"/>
                      <a:ext cx="117720" cy="298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2019240" y="3476520"/>
                  <a:ext cx="235080" cy="117720"/>
                  <a:chOff x="2019240" y="3476520"/>
                  <a:chExt cx="235080" cy="1177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flipH="1">
                    <a:off x="2019240" y="347652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019240" y="3506760"/>
                    <a:ext cx="117360" cy="25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2136240" y="3532320"/>
                    <a:ext cx="118080" cy="61920"/>
                    <a:chOff x="2136240" y="3532320"/>
                    <a:chExt cx="118080" cy="6192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2136600" y="3532320"/>
                      <a:ext cx="11772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>
                      <a:off x="2136240" y="3565440"/>
                      <a:ext cx="11772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3" name=""/>
              <p:cNvGrpSpPr/>
              <p:nvPr/>
            </p:nvGrpSpPr>
            <p:grpSpPr>
              <a:xfrm>
                <a:off x="2019240" y="3594240"/>
                <a:ext cx="235080" cy="226800"/>
                <a:chOff x="2019240" y="3594240"/>
                <a:chExt cx="235080" cy="22680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2019240" y="3594240"/>
                  <a:ext cx="235080" cy="112680"/>
                  <a:chOff x="2019240" y="3594240"/>
                  <a:chExt cx="235080" cy="1126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>
                    <a:off x="2019240" y="359424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019240" y="3622680"/>
                    <a:ext cx="117360" cy="23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136240" y="3646440"/>
                    <a:ext cx="118080" cy="60480"/>
                    <a:chOff x="2136240" y="3646440"/>
                    <a:chExt cx="118080" cy="604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2136600" y="3646440"/>
                      <a:ext cx="11772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>
                      <a:off x="2136240" y="3681360"/>
                      <a:ext cx="117720" cy="25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2019240" y="3706920"/>
                  <a:ext cx="235080" cy="114120"/>
                  <a:chOff x="2019240" y="3706920"/>
                  <a:chExt cx="235080" cy="1141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>
                    <a:off x="2019240" y="370692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019240" y="3735360"/>
                    <a:ext cx="11736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36240" y="3762360"/>
                    <a:ext cx="118080" cy="58680"/>
                    <a:chOff x="2136240" y="3762360"/>
                    <a:chExt cx="118080" cy="5868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2136600" y="3762360"/>
                      <a:ext cx="11772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>
                      <a:off x="2136240" y="3797280"/>
                      <a:ext cx="117720" cy="23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2019240" y="3821040"/>
                <a:ext cx="235080" cy="230400"/>
                <a:chOff x="2019240" y="3821040"/>
                <a:chExt cx="235080" cy="23040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019240" y="3821040"/>
                  <a:ext cx="235080" cy="117720"/>
                  <a:chOff x="2019240" y="3821040"/>
                  <a:chExt cx="235080" cy="11772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>
                    <a:off x="2019240" y="382104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019240" y="385128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2136240" y="3881520"/>
                    <a:ext cx="118080" cy="57240"/>
                    <a:chOff x="2136240" y="3881520"/>
                    <a:chExt cx="118080" cy="5724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2136600" y="3881520"/>
                      <a:ext cx="11772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flipH="1">
                      <a:off x="2136240" y="3909960"/>
                      <a:ext cx="11772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2019240" y="3938760"/>
                  <a:ext cx="235080" cy="112680"/>
                  <a:chOff x="2019240" y="3938760"/>
                  <a:chExt cx="235080" cy="11268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H="1">
                    <a:off x="2019240" y="3938760"/>
                    <a:ext cx="117360" cy="26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019240" y="396540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2136240" y="3995640"/>
                    <a:ext cx="118080" cy="55800"/>
                    <a:chOff x="2136240" y="3995640"/>
                    <a:chExt cx="118080" cy="5580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2136600" y="3995640"/>
                      <a:ext cx="11772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>
                      <a:off x="2136240" y="4024440"/>
                      <a:ext cx="11772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2019240" y="4051440"/>
                <a:ext cx="235080" cy="234720"/>
                <a:chOff x="2019240" y="4051440"/>
                <a:chExt cx="235080" cy="23472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2019240" y="4051440"/>
                  <a:ext cx="235080" cy="114120"/>
                  <a:chOff x="2019240" y="4051440"/>
                  <a:chExt cx="235080" cy="1141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>
                    <a:off x="2019240" y="405144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019240" y="4086360"/>
                    <a:ext cx="117360" cy="25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2136240" y="4111560"/>
                    <a:ext cx="118080" cy="54000"/>
                    <a:chOff x="2136240" y="4111560"/>
                    <a:chExt cx="118080" cy="5400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2136600" y="4111560"/>
                      <a:ext cx="11772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>
                      <a:off x="2136240" y="4140360"/>
                      <a:ext cx="117720" cy="25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2019240" y="4165560"/>
                  <a:ext cx="235080" cy="120600"/>
                  <a:chOff x="2019240" y="4165560"/>
                  <a:chExt cx="235080" cy="1206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>
                    <a:off x="2019240" y="416556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019240" y="4200480"/>
                    <a:ext cx="117360" cy="25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136240" y="4226040"/>
                    <a:ext cx="118080" cy="60120"/>
                    <a:chOff x="2136240" y="4226040"/>
                    <a:chExt cx="118080" cy="601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136600" y="4226040"/>
                      <a:ext cx="11772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>
                      <a:off x="2136240" y="4253040"/>
                      <a:ext cx="11772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392" name=""/>
            <p:cNvSpPr/>
            <p:nvPr/>
          </p:nvSpPr>
          <p:spPr>
            <a:xfrm flipV="1">
              <a:off x="2136600" y="320040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141640" y="427680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587600" y="3200400"/>
            <a:ext cx="234720" cy="1238400"/>
            <a:chOff x="1587600" y="3200400"/>
            <a:chExt cx="234720" cy="1238400"/>
          </a:xfrm>
        </p:grpSpPr>
        <p:grpSp>
          <p:nvGrpSpPr>
            <p:cNvPr id="395" name=""/>
            <p:cNvGrpSpPr/>
            <p:nvPr/>
          </p:nvGrpSpPr>
          <p:grpSpPr>
            <a:xfrm>
              <a:off x="1587600" y="3362400"/>
              <a:ext cx="234720" cy="923760"/>
              <a:chOff x="1587600" y="3362400"/>
              <a:chExt cx="234720" cy="92376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1587600" y="3362400"/>
                <a:ext cx="234720" cy="231840"/>
                <a:chOff x="1587600" y="3362400"/>
                <a:chExt cx="234720" cy="23184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1587600" y="3362400"/>
                  <a:ext cx="234720" cy="114120"/>
                  <a:chOff x="1587600" y="3362400"/>
                  <a:chExt cx="234720" cy="11412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flipH="1">
                    <a:off x="1587600" y="336240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587600" y="3390840"/>
                    <a:ext cx="11736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1704960" y="3417840"/>
                    <a:ext cx="117360" cy="58680"/>
                    <a:chOff x="1704960" y="3417840"/>
                    <a:chExt cx="117360" cy="5868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704960" y="341784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flipH="1">
                      <a:off x="1704960" y="3446640"/>
                      <a:ext cx="117360" cy="298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1587600" y="3476520"/>
                  <a:ext cx="234720" cy="117720"/>
                  <a:chOff x="1587600" y="3476520"/>
                  <a:chExt cx="234720" cy="11772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flipH="1">
                    <a:off x="1587600" y="347652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587600" y="3506760"/>
                    <a:ext cx="117360" cy="25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1704960" y="3532320"/>
                    <a:ext cx="117360" cy="61920"/>
                    <a:chOff x="1704960" y="3532320"/>
                    <a:chExt cx="117360" cy="619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704960" y="3532320"/>
                      <a:ext cx="11736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>
                      <a:off x="1704960" y="356544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9" name=""/>
              <p:cNvGrpSpPr/>
              <p:nvPr/>
            </p:nvGrpSpPr>
            <p:grpSpPr>
              <a:xfrm>
                <a:off x="1587600" y="3594240"/>
                <a:ext cx="234720" cy="226800"/>
                <a:chOff x="1587600" y="3594240"/>
                <a:chExt cx="234720" cy="22680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1587600" y="3594240"/>
                  <a:ext cx="234720" cy="112680"/>
                  <a:chOff x="1587600" y="3594240"/>
                  <a:chExt cx="234720" cy="11268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>
                    <a:off x="1587600" y="359424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587600" y="3622680"/>
                    <a:ext cx="117360" cy="23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1704960" y="3646440"/>
                    <a:ext cx="117360" cy="60480"/>
                    <a:chOff x="1704960" y="3646440"/>
                    <a:chExt cx="117360" cy="604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1704960" y="364644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1704960" y="3681360"/>
                      <a:ext cx="117360" cy="25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1587600" y="3706920"/>
                  <a:ext cx="234720" cy="114120"/>
                  <a:chOff x="1587600" y="3706920"/>
                  <a:chExt cx="234720" cy="11412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H="1">
                    <a:off x="1587600" y="370692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587600" y="3735360"/>
                    <a:ext cx="11736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1704960" y="3762360"/>
                    <a:ext cx="117360" cy="58680"/>
                    <a:chOff x="1704960" y="3762360"/>
                    <a:chExt cx="117360" cy="586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1704960" y="376236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flipH="1">
                      <a:off x="1704960" y="3797280"/>
                      <a:ext cx="117360" cy="23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1587600" y="3821040"/>
                <a:ext cx="234720" cy="230400"/>
                <a:chOff x="1587600" y="3821040"/>
                <a:chExt cx="234720" cy="23040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1587600" y="3821040"/>
                  <a:ext cx="234720" cy="117720"/>
                  <a:chOff x="1587600" y="3821040"/>
                  <a:chExt cx="234720" cy="117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H="1">
                    <a:off x="1587600" y="382104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1587600" y="385128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1704960" y="3881520"/>
                    <a:ext cx="117360" cy="57240"/>
                    <a:chOff x="1704960" y="3881520"/>
                    <a:chExt cx="117360" cy="5724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1704960" y="388152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flipH="1">
                      <a:off x="1704960" y="390996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1587600" y="3938760"/>
                  <a:ext cx="234720" cy="112680"/>
                  <a:chOff x="1587600" y="3938760"/>
                  <a:chExt cx="234720" cy="1126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H="1">
                    <a:off x="1587600" y="3938760"/>
                    <a:ext cx="117360" cy="26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587600" y="396540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1704960" y="3995640"/>
                    <a:ext cx="117360" cy="55800"/>
                    <a:chOff x="1704960" y="3995640"/>
                    <a:chExt cx="117360" cy="5580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1704960" y="399564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>
                      <a:off x="1704960" y="4024440"/>
                      <a:ext cx="11736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5" name=""/>
              <p:cNvGrpSpPr/>
              <p:nvPr/>
            </p:nvGrpSpPr>
            <p:grpSpPr>
              <a:xfrm>
                <a:off x="1587600" y="4051440"/>
                <a:ext cx="234720" cy="234720"/>
                <a:chOff x="1587600" y="4051440"/>
                <a:chExt cx="234720" cy="23472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1587600" y="4051440"/>
                  <a:ext cx="234720" cy="114120"/>
                  <a:chOff x="1587600" y="4051440"/>
                  <a:chExt cx="234720" cy="11412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H="1">
                    <a:off x="1587600" y="405144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1587600" y="4086360"/>
                    <a:ext cx="117360" cy="25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1704960" y="4111560"/>
                    <a:ext cx="117360" cy="54000"/>
                    <a:chOff x="1704960" y="4111560"/>
                    <a:chExt cx="117360" cy="5400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1704960" y="411156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>
                      <a:off x="1704960" y="4140360"/>
                      <a:ext cx="117360" cy="25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1587600" y="4165560"/>
                  <a:ext cx="234720" cy="120600"/>
                  <a:chOff x="1587600" y="4165560"/>
                  <a:chExt cx="234720" cy="12060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flipH="1">
                    <a:off x="1587600" y="416556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1587600" y="4200480"/>
                    <a:ext cx="117360" cy="25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1704960" y="4226040"/>
                    <a:ext cx="117360" cy="60120"/>
                    <a:chOff x="1704960" y="4226040"/>
                    <a:chExt cx="117360" cy="601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1704960" y="4226040"/>
                      <a:ext cx="11736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>
                      <a:off x="1704960" y="4253040"/>
                      <a:ext cx="11736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48" name=""/>
            <p:cNvSpPr/>
            <p:nvPr/>
          </p:nvSpPr>
          <p:spPr>
            <a:xfrm flipV="1">
              <a:off x="1704960" y="320040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709640" y="427680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نرژی پتانسیل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17080" indent="-21708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لیه فنرها و جرم ها یکسان هست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ذبه  به پایین اثر می ک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0920" indent="-173520" algn="r" rtl="1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نسبت به وضعیت آرامش فنر  کدام یک دارا انرژی ذخیره بیشتری است 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0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35520" y="3330720"/>
            <a:ext cx="149724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الف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-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ب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-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یکسان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</a:t>
            </a:r>
            <a:r>
              <a:rPr b="1" i="1" lang="fa-IR" sz="2000" spc="-1" strike="noStrike" baseline="-25000">
                <a:solidFill>
                  <a:srgbClr val="00ffff"/>
                </a:solidFill>
                <a:latin typeface="Arial"/>
                <a:cs typeface="Arial"/>
              </a:rPr>
              <a:t>ج</a:t>
            </a:r>
            <a:r>
              <a:rPr b="1" i="1" lang="fa-IR" sz="2000" spc="-1" strike="noStrike" baseline="-25000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 baseline="-25000">
                <a:solidFill>
                  <a:srgbClr val="00ffff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 baseline="-25000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55920" y="4444920"/>
            <a:ext cx="723600" cy="59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142800" y="3206520"/>
            <a:ext cx="235440" cy="1479960"/>
            <a:chOff x="3142800" y="3206520"/>
            <a:chExt cx="235440" cy="1479960"/>
          </a:xfrm>
        </p:grpSpPr>
        <p:grpSp>
          <p:nvGrpSpPr>
            <p:cNvPr id="455" name=""/>
            <p:cNvGrpSpPr/>
            <p:nvPr/>
          </p:nvGrpSpPr>
          <p:grpSpPr>
            <a:xfrm>
              <a:off x="3142800" y="3398760"/>
              <a:ext cx="235440" cy="1103400"/>
              <a:chOff x="3142800" y="3398760"/>
              <a:chExt cx="235440" cy="11034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3142800" y="3398760"/>
                <a:ext cx="235440" cy="277920"/>
                <a:chOff x="3142800" y="3398760"/>
                <a:chExt cx="235440" cy="27792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3142800" y="3398760"/>
                  <a:ext cx="235440" cy="136440"/>
                  <a:chOff x="3142800" y="3398760"/>
                  <a:chExt cx="235440" cy="1364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flipH="1">
                    <a:off x="3142800" y="3398760"/>
                    <a:ext cx="117720" cy="33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143160" y="3432240"/>
                    <a:ext cx="11772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3260880" y="3467160"/>
                    <a:ext cx="117360" cy="68040"/>
                    <a:chOff x="3260880" y="3467160"/>
                    <a:chExt cx="117360" cy="6804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260880" y="3467160"/>
                      <a:ext cx="117360" cy="363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H="1">
                      <a:off x="3260880" y="3503520"/>
                      <a:ext cx="117360" cy="31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3142800" y="3535200"/>
                  <a:ext cx="235440" cy="141480"/>
                  <a:chOff x="3142800" y="3535200"/>
                  <a:chExt cx="235440" cy="14148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flipH="1">
                    <a:off x="3142800" y="3535200"/>
                    <a:ext cx="117720" cy="381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143160" y="357336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3260880" y="3605040"/>
                    <a:ext cx="117360" cy="71640"/>
                    <a:chOff x="3260880" y="3605040"/>
                    <a:chExt cx="117360" cy="7164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3260880" y="360504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H="1">
                      <a:off x="3260880" y="3639960"/>
                      <a:ext cx="117360" cy="367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3142800" y="3676680"/>
                <a:ext cx="235440" cy="271440"/>
                <a:chOff x="3142800" y="3676680"/>
                <a:chExt cx="235440" cy="27144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3142800" y="3676680"/>
                  <a:ext cx="235440" cy="136440"/>
                  <a:chOff x="3142800" y="3676680"/>
                  <a:chExt cx="235440" cy="13644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>
                    <a:off x="3142800" y="3676680"/>
                    <a:ext cx="117720" cy="33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143160" y="371016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3260880" y="3741840"/>
                    <a:ext cx="117360" cy="71280"/>
                    <a:chOff x="3260880" y="3741840"/>
                    <a:chExt cx="117360" cy="7128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3260880" y="3741840"/>
                      <a:ext cx="117360" cy="381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>
                      <a:off x="3260880" y="3780000"/>
                      <a:ext cx="11736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3142800" y="3813120"/>
                  <a:ext cx="235440" cy="135000"/>
                  <a:chOff x="3142800" y="3813120"/>
                  <a:chExt cx="235440" cy="13500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H="1">
                    <a:off x="3142800" y="3813120"/>
                    <a:ext cx="117720" cy="33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143160" y="3846600"/>
                    <a:ext cx="11772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3260880" y="3881520"/>
                    <a:ext cx="117360" cy="66600"/>
                    <a:chOff x="3260880" y="3881520"/>
                    <a:chExt cx="117360" cy="6660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3260880" y="3881520"/>
                      <a:ext cx="117360" cy="363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H="1">
                      <a:off x="3260880" y="3917880"/>
                      <a:ext cx="117360" cy="302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2" name=""/>
              <p:cNvGrpSpPr/>
              <p:nvPr/>
            </p:nvGrpSpPr>
            <p:grpSpPr>
              <a:xfrm>
                <a:off x="3142800" y="3948120"/>
                <a:ext cx="235440" cy="276120"/>
                <a:chOff x="3142800" y="3948120"/>
                <a:chExt cx="235440" cy="27612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3142800" y="3948120"/>
                  <a:ext cx="235440" cy="142920"/>
                  <a:chOff x="3142800" y="3948120"/>
                  <a:chExt cx="235440" cy="14292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flipH="1">
                    <a:off x="3142800" y="3948120"/>
                    <a:ext cx="117720" cy="381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3143160" y="398628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3260880" y="4017960"/>
                    <a:ext cx="117360" cy="73080"/>
                    <a:chOff x="3260880" y="4017960"/>
                    <a:chExt cx="117360" cy="7308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3260880" y="4017960"/>
                      <a:ext cx="117360" cy="33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H="1">
                      <a:off x="3260880" y="4051440"/>
                      <a:ext cx="11736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3142800" y="4091040"/>
                  <a:ext cx="235440" cy="133200"/>
                  <a:chOff x="3142800" y="4091040"/>
                  <a:chExt cx="235440" cy="1332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H="1">
                    <a:off x="3142800" y="409104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143160" y="412272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3260880" y="4154400"/>
                    <a:ext cx="117360" cy="69840"/>
                    <a:chOff x="3260880" y="4154400"/>
                    <a:chExt cx="117360" cy="6984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3260880" y="4154400"/>
                      <a:ext cx="117360" cy="367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H="1">
                      <a:off x="3260880" y="4191120"/>
                      <a:ext cx="11736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3142800" y="4224240"/>
                <a:ext cx="235440" cy="277920"/>
                <a:chOff x="3142800" y="4224240"/>
                <a:chExt cx="235440" cy="27792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3142800" y="4224240"/>
                  <a:ext cx="235440" cy="136800"/>
                  <a:chOff x="3142800" y="4224240"/>
                  <a:chExt cx="235440" cy="1368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>
                    <a:off x="3142800" y="4224240"/>
                    <a:ext cx="117720" cy="381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3143160" y="426240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3260880" y="4294080"/>
                    <a:ext cx="117360" cy="66960"/>
                    <a:chOff x="3260880" y="4294080"/>
                    <a:chExt cx="117360" cy="6696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3260880" y="429408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>
                      <a:off x="3260880" y="4329000"/>
                      <a:ext cx="117360" cy="320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3142800" y="4361040"/>
                  <a:ext cx="235440" cy="141120"/>
                  <a:chOff x="3142800" y="4361040"/>
                  <a:chExt cx="235440" cy="1411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>
                    <a:off x="3142800" y="4361040"/>
                    <a:ext cx="117720" cy="37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143160" y="4398840"/>
                    <a:ext cx="117720" cy="33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3260880" y="4432320"/>
                    <a:ext cx="117360" cy="69840"/>
                    <a:chOff x="3260880" y="4432320"/>
                    <a:chExt cx="117360" cy="6984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3260880" y="443232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H="1">
                      <a:off x="3260880" y="446724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508" name=""/>
            <p:cNvSpPr/>
            <p:nvPr/>
          </p:nvSpPr>
          <p:spPr>
            <a:xfrm flipV="1">
              <a:off x="3260880" y="3206520"/>
              <a:ext cx="0" cy="191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265560" y="4494240"/>
              <a:ext cx="0" cy="192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149480" y="3003480"/>
            <a:ext cx="2819160" cy="19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92480" y="534528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789640" y="535788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927520" y="4686480"/>
            <a:ext cx="723600" cy="59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0720" y="4673520"/>
            <a:ext cx="3581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019240" y="3200400"/>
            <a:ext cx="235080" cy="1238400"/>
            <a:chOff x="2019240" y="3200400"/>
            <a:chExt cx="235080" cy="1238400"/>
          </a:xfrm>
        </p:grpSpPr>
        <p:grpSp>
          <p:nvGrpSpPr>
            <p:cNvPr id="516" name=""/>
            <p:cNvGrpSpPr/>
            <p:nvPr/>
          </p:nvGrpSpPr>
          <p:grpSpPr>
            <a:xfrm>
              <a:off x="2019240" y="3362400"/>
              <a:ext cx="235080" cy="923760"/>
              <a:chOff x="2019240" y="3362400"/>
              <a:chExt cx="235080" cy="92376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2019240" y="3362400"/>
                <a:ext cx="235080" cy="231840"/>
                <a:chOff x="2019240" y="3362400"/>
                <a:chExt cx="235080" cy="23184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2019240" y="3362400"/>
                  <a:ext cx="235080" cy="114120"/>
                  <a:chOff x="2019240" y="3362400"/>
                  <a:chExt cx="235080" cy="11412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H="1">
                    <a:off x="2019240" y="336240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019240" y="3390840"/>
                    <a:ext cx="11736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2136240" y="3417840"/>
                    <a:ext cx="118080" cy="58680"/>
                    <a:chOff x="2136240" y="3417840"/>
                    <a:chExt cx="118080" cy="5868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2136600" y="3417840"/>
                      <a:ext cx="11772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>
                      <a:off x="2136240" y="3446640"/>
                      <a:ext cx="117720" cy="298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2019240" y="3476520"/>
                  <a:ext cx="235080" cy="117720"/>
                  <a:chOff x="2019240" y="3476520"/>
                  <a:chExt cx="235080" cy="11772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>
                    <a:off x="2019240" y="347652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019240" y="3506760"/>
                    <a:ext cx="117360" cy="25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136240" y="3532320"/>
                    <a:ext cx="118080" cy="61920"/>
                    <a:chOff x="2136240" y="3532320"/>
                    <a:chExt cx="118080" cy="6192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2136600" y="3532320"/>
                      <a:ext cx="11772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H="1">
                      <a:off x="2136240" y="3565440"/>
                      <a:ext cx="11772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0" name=""/>
              <p:cNvGrpSpPr/>
              <p:nvPr/>
            </p:nvGrpSpPr>
            <p:grpSpPr>
              <a:xfrm>
                <a:off x="2019240" y="3594240"/>
                <a:ext cx="235080" cy="226800"/>
                <a:chOff x="2019240" y="3594240"/>
                <a:chExt cx="235080" cy="226800"/>
              </a:xfrm>
            </p:grpSpPr>
            <p:grpSp>
              <p:nvGrpSpPr>
                <p:cNvPr id="531" name=""/>
                <p:cNvGrpSpPr/>
                <p:nvPr/>
              </p:nvGrpSpPr>
              <p:grpSpPr>
                <a:xfrm>
                  <a:off x="2019240" y="3594240"/>
                  <a:ext cx="235080" cy="112680"/>
                  <a:chOff x="2019240" y="3594240"/>
                  <a:chExt cx="235080" cy="11268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H="1">
                    <a:off x="2019240" y="359424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019240" y="3622680"/>
                    <a:ext cx="117360" cy="23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136240" y="3646440"/>
                    <a:ext cx="118080" cy="60480"/>
                    <a:chOff x="2136240" y="3646440"/>
                    <a:chExt cx="118080" cy="6048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2136600" y="3646440"/>
                      <a:ext cx="11772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>
                      <a:off x="2136240" y="3681360"/>
                      <a:ext cx="117720" cy="25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2019240" y="3706920"/>
                  <a:ext cx="235080" cy="114120"/>
                  <a:chOff x="2019240" y="3706920"/>
                  <a:chExt cx="235080" cy="1141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>
                    <a:off x="2019240" y="370692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019240" y="3735360"/>
                    <a:ext cx="11736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2136240" y="3762360"/>
                    <a:ext cx="118080" cy="58680"/>
                    <a:chOff x="2136240" y="3762360"/>
                    <a:chExt cx="118080" cy="586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2136600" y="3762360"/>
                      <a:ext cx="11772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>
                      <a:off x="2136240" y="3797280"/>
                      <a:ext cx="117720" cy="23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43" name=""/>
              <p:cNvGrpSpPr/>
              <p:nvPr/>
            </p:nvGrpSpPr>
            <p:grpSpPr>
              <a:xfrm>
                <a:off x="2019240" y="3821040"/>
                <a:ext cx="235080" cy="230400"/>
                <a:chOff x="2019240" y="3821040"/>
                <a:chExt cx="235080" cy="23040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2019240" y="3821040"/>
                  <a:ext cx="235080" cy="117720"/>
                  <a:chOff x="2019240" y="3821040"/>
                  <a:chExt cx="235080" cy="11772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H="1">
                    <a:off x="2019240" y="382104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019240" y="385128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2136240" y="3881520"/>
                    <a:ext cx="118080" cy="57240"/>
                    <a:chOff x="2136240" y="3881520"/>
                    <a:chExt cx="118080" cy="5724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2136600" y="3881520"/>
                      <a:ext cx="11772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>
                      <a:off x="2136240" y="3909960"/>
                      <a:ext cx="11772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2019240" y="3938760"/>
                  <a:ext cx="235080" cy="112680"/>
                  <a:chOff x="2019240" y="3938760"/>
                  <a:chExt cx="235080" cy="11268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flipH="1">
                    <a:off x="2019240" y="3938760"/>
                    <a:ext cx="117360" cy="26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019240" y="396540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2136240" y="3995640"/>
                    <a:ext cx="118080" cy="55800"/>
                    <a:chOff x="2136240" y="3995640"/>
                    <a:chExt cx="118080" cy="5580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2136600" y="3995640"/>
                      <a:ext cx="11772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>
                      <a:off x="2136240" y="4024440"/>
                      <a:ext cx="11772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56" name=""/>
              <p:cNvGrpSpPr/>
              <p:nvPr/>
            </p:nvGrpSpPr>
            <p:grpSpPr>
              <a:xfrm>
                <a:off x="2019240" y="4051440"/>
                <a:ext cx="235080" cy="234720"/>
                <a:chOff x="2019240" y="4051440"/>
                <a:chExt cx="235080" cy="23472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2019240" y="4051440"/>
                  <a:ext cx="235080" cy="114120"/>
                  <a:chOff x="2019240" y="4051440"/>
                  <a:chExt cx="235080" cy="11412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flipH="1">
                    <a:off x="2019240" y="405144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019240" y="4086360"/>
                    <a:ext cx="117360" cy="25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2136240" y="4111560"/>
                    <a:ext cx="118080" cy="54000"/>
                    <a:chOff x="2136240" y="4111560"/>
                    <a:chExt cx="118080" cy="5400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2136600" y="4111560"/>
                      <a:ext cx="11772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>
                      <a:off x="2136240" y="4140360"/>
                      <a:ext cx="117720" cy="25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2019240" y="4165560"/>
                  <a:ext cx="235080" cy="120600"/>
                  <a:chOff x="2019240" y="4165560"/>
                  <a:chExt cx="235080" cy="1206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>
                    <a:off x="2019240" y="416556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019240" y="4200480"/>
                    <a:ext cx="117360" cy="25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2136240" y="4226040"/>
                    <a:ext cx="118080" cy="60120"/>
                    <a:chOff x="2136240" y="4226040"/>
                    <a:chExt cx="118080" cy="601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2136600" y="4226040"/>
                      <a:ext cx="11772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>
                      <a:off x="2136240" y="4253040"/>
                      <a:ext cx="11772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569" name=""/>
            <p:cNvSpPr/>
            <p:nvPr/>
          </p:nvSpPr>
          <p:spPr>
            <a:xfrm flipV="1">
              <a:off x="2136600" y="320040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141640" y="427680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587600" y="3200400"/>
            <a:ext cx="234720" cy="1238400"/>
            <a:chOff x="1587600" y="3200400"/>
            <a:chExt cx="234720" cy="1238400"/>
          </a:xfrm>
        </p:grpSpPr>
        <p:grpSp>
          <p:nvGrpSpPr>
            <p:cNvPr id="572" name=""/>
            <p:cNvGrpSpPr/>
            <p:nvPr/>
          </p:nvGrpSpPr>
          <p:grpSpPr>
            <a:xfrm>
              <a:off x="1587600" y="3362400"/>
              <a:ext cx="234720" cy="923760"/>
              <a:chOff x="1587600" y="3362400"/>
              <a:chExt cx="234720" cy="92376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1587600" y="3362400"/>
                <a:ext cx="234720" cy="231840"/>
                <a:chOff x="1587600" y="3362400"/>
                <a:chExt cx="234720" cy="23184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1587600" y="3362400"/>
                  <a:ext cx="234720" cy="114120"/>
                  <a:chOff x="1587600" y="3362400"/>
                  <a:chExt cx="234720" cy="1141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flipH="1">
                    <a:off x="1587600" y="336240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587600" y="3390840"/>
                    <a:ext cx="11736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1704960" y="3417840"/>
                    <a:ext cx="117360" cy="58680"/>
                    <a:chOff x="1704960" y="3417840"/>
                    <a:chExt cx="117360" cy="5868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1704960" y="341784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flipH="1">
                      <a:off x="1704960" y="3446640"/>
                      <a:ext cx="117360" cy="298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1587600" y="3476520"/>
                  <a:ext cx="234720" cy="117720"/>
                  <a:chOff x="1587600" y="3476520"/>
                  <a:chExt cx="234720" cy="11772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 flipH="1">
                    <a:off x="1587600" y="347652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1587600" y="3506760"/>
                    <a:ext cx="117360" cy="25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1704960" y="3532320"/>
                    <a:ext cx="117360" cy="61920"/>
                    <a:chOff x="1704960" y="3532320"/>
                    <a:chExt cx="117360" cy="6192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1704960" y="3532320"/>
                      <a:ext cx="11736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flipH="1">
                      <a:off x="1704960" y="356544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6" name=""/>
              <p:cNvGrpSpPr/>
              <p:nvPr/>
            </p:nvGrpSpPr>
            <p:grpSpPr>
              <a:xfrm>
                <a:off x="1587600" y="3594240"/>
                <a:ext cx="234720" cy="226800"/>
                <a:chOff x="1587600" y="3594240"/>
                <a:chExt cx="234720" cy="226800"/>
              </a:xfrm>
            </p:grpSpPr>
            <p:grpSp>
              <p:nvGrpSpPr>
                <p:cNvPr id="587" name=""/>
                <p:cNvGrpSpPr/>
                <p:nvPr/>
              </p:nvGrpSpPr>
              <p:grpSpPr>
                <a:xfrm>
                  <a:off x="1587600" y="3594240"/>
                  <a:ext cx="234720" cy="112680"/>
                  <a:chOff x="1587600" y="3594240"/>
                  <a:chExt cx="234720" cy="11268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flipH="1">
                    <a:off x="1587600" y="359424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1587600" y="3622680"/>
                    <a:ext cx="117360" cy="237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1704960" y="3646440"/>
                    <a:ext cx="117360" cy="60480"/>
                    <a:chOff x="1704960" y="3646440"/>
                    <a:chExt cx="117360" cy="6048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1704960" y="364644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flipH="1">
                      <a:off x="1704960" y="3681360"/>
                      <a:ext cx="117360" cy="25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1587600" y="3706920"/>
                  <a:ext cx="234720" cy="114120"/>
                  <a:chOff x="1587600" y="3706920"/>
                  <a:chExt cx="234720" cy="11412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flipH="1">
                    <a:off x="1587600" y="370692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1587600" y="3735360"/>
                    <a:ext cx="11736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1704960" y="3762360"/>
                    <a:ext cx="117360" cy="58680"/>
                    <a:chOff x="1704960" y="3762360"/>
                    <a:chExt cx="117360" cy="5868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1704960" y="376236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flipH="1">
                      <a:off x="1704960" y="3797280"/>
                      <a:ext cx="117360" cy="23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9" name=""/>
              <p:cNvGrpSpPr/>
              <p:nvPr/>
            </p:nvGrpSpPr>
            <p:grpSpPr>
              <a:xfrm>
                <a:off x="1587600" y="3821040"/>
                <a:ext cx="234720" cy="230400"/>
                <a:chOff x="1587600" y="3821040"/>
                <a:chExt cx="234720" cy="23040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1587600" y="3821040"/>
                  <a:ext cx="234720" cy="117720"/>
                  <a:chOff x="1587600" y="3821040"/>
                  <a:chExt cx="234720" cy="1177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flipH="1">
                    <a:off x="1587600" y="382104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1587600" y="385128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1704960" y="3881520"/>
                    <a:ext cx="117360" cy="57240"/>
                    <a:chOff x="1704960" y="3881520"/>
                    <a:chExt cx="117360" cy="5724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1704960" y="388152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flipH="1">
                      <a:off x="1704960" y="390996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1587600" y="3938760"/>
                  <a:ext cx="234720" cy="112680"/>
                  <a:chOff x="1587600" y="3938760"/>
                  <a:chExt cx="234720" cy="11268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>
                    <a:off x="1587600" y="3938760"/>
                    <a:ext cx="117360" cy="26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1587600" y="396540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1704960" y="3995640"/>
                    <a:ext cx="117360" cy="55800"/>
                    <a:chOff x="1704960" y="3995640"/>
                    <a:chExt cx="117360" cy="5580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1704960" y="399564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flipH="1">
                      <a:off x="1704960" y="4024440"/>
                      <a:ext cx="11736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1587600" y="4051440"/>
                <a:ext cx="234720" cy="234720"/>
                <a:chOff x="1587600" y="4051440"/>
                <a:chExt cx="234720" cy="23472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1587600" y="4051440"/>
                  <a:ext cx="234720" cy="114120"/>
                  <a:chOff x="1587600" y="4051440"/>
                  <a:chExt cx="234720" cy="11412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H="1">
                    <a:off x="1587600" y="405144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1587600" y="4086360"/>
                    <a:ext cx="117360" cy="25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704960" y="4111560"/>
                    <a:ext cx="117360" cy="54000"/>
                    <a:chOff x="1704960" y="4111560"/>
                    <a:chExt cx="117360" cy="5400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704960" y="411156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704960" y="4140360"/>
                      <a:ext cx="117360" cy="25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9" name=""/>
                <p:cNvGrpSpPr/>
                <p:nvPr/>
              </p:nvGrpSpPr>
              <p:grpSpPr>
                <a:xfrm>
                  <a:off x="1587600" y="4165560"/>
                  <a:ext cx="234720" cy="120600"/>
                  <a:chOff x="1587600" y="4165560"/>
                  <a:chExt cx="234720" cy="12060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 flipH="1">
                    <a:off x="1587600" y="416556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1587600" y="4200480"/>
                    <a:ext cx="117360" cy="25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1704960" y="4226040"/>
                    <a:ext cx="117360" cy="60120"/>
                    <a:chOff x="1704960" y="4226040"/>
                    <a:chExt cx="117360" cy="6012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1704960" y="4226040"/>
                      <a:ext cx="11736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 flipH="1">
                      <a:off x="1704960" y="4253040"/>
                      <a:ext cx="11736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625" name=""/>
            <p:cNvSpPr/>
            <p:nvPr/>
          </p:nvSpPr>
          <p:spPr>
            <a:xfrm flipV="1">
              <a:off x="1704960" y="320040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709640" y="427680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61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به جای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حالت تعادل دوبراب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هر فنر نصف نیروی لازم برای تعادل با نیرو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را دریافت می کند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55920" y="4444920"/>
            <a:ext cx="723600" cy="59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142800" y="3206520"/>
            <a:ext cx="235440" cy="1479960"/>
            <a:chOff x="3142800" y="3206520"/>
            <a:chExt cx="235440" cy="1479960"/>
          </a:xfrm>
        </p:grpSpPr>
        <p:grpSp>
          <p:nvGrpSpPr>
            <p:cNvPr id="631" name=""/>
            <p:cNvGrpSpPr/>
            <p:nvPr/>
          </p:nvGrpSpPr>
          <p:grpSpPr>
            <a:xfrm>
              <a:off x="3142800" y="3398760"/>
              <a:ext cx="235440" cy="1103400"/>
              <a:chOff x="3142800" y="3398760"/>
              <a:chExt cx="235440" cy="110340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3142800" y="3398760"/>
                <a:ext cx="235440" cy="277920"/>
                <a:chOff x="3142800" y="3398760"/>
                <a:chExt cx="235440" cy="277920"/>
              </a:xfrm>
            </p:grpSpPr>
            <p:grpSp>
              <p:nvGrpSpPr>
                <p:cNvPr id="633" name=""/>
                <p:cNvGrpSpPr/>
                <p:nvPr/>
              </p:nvGrpSpPr>
              <p:grpSpPr>
                <a:xfrm>
                  <a:off x="3142800" y="3398760"/>
                  <a:ext cx="235440" cy="136440"/>
                  <a:chOff x="3142800" y="3398760"/>
                  <a:chExt cx="235440" cy="13644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>
                    <a:off x="3142800" y="3398760"/>
                    <a:ext cx="117720" cy="33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3143160" y="3432240"/>
                    <a:ext cx="11772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3260880" y="3467160"/>
                    <a:ext cx="117360" cy="68040"/>
                    <a:chOff x="3260880" y="3467160"/>
                    <a:chExt cx="117360" cy="6804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3260880" y="3467160"/>
                      <a:ext cx="117360" cy="363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flipH="1">
                      <a:off x="3260880" y="3503520"/>
                      <a:ext cx="117360" cy="31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3142800" y="3535200"/>
                  <a:ext cx="235440" cy="141480"/>
                  <a:chOff x="3142800" y="3535200"/>
                  <a:chExt cx="235440" cy="14148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>
                    <a:off x="3142800" y="3535200"/>
                    <a:ext cx="117720" cy="381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3143160" y="357336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3260880" y="3605040"/>
                    <a:ext cx="117360" cy="71640"/>
                    <a:chOff x="3260880" y="3605040"/>
                    <a:chExt cx="117360" cy="7164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3260880" y="360504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flipH="1">
                      <a:off x="3260880" y="3639960"/>
                      <a:ext cx="117360" cy="367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5" name=""/>
              <p:cNvGrpSpPr/>
              <p:nvPr/>
            </p:nvGrpSpPr>
            <p:grpSpPr>
              <a:xfrm>
                <a:off x="3142800" y="3676680"/>
                <a:ext cx="235440" cy="271440"/>
                <a:chOff x="3142800" y="3676680"/>
                <a:chExt cx="235440" cy="271440"/>
              </a:xfrm>
            </p:grpSpPr>
            <p:grpSp>
              <p:nvGrpSpPr>
                <p:cNvPr id="646" name=""/>
                <p:cNvGrpSpPr/>
                <p:nvPr/>
              </p:nvGrpSpPr>
              <p:grpSpPr>
                <a:xfrm>
                  <a:off x="3142800" y="3676680"/>
                  <a:ext cx="235440" cy="136440"/>
                  <a:chOff x="3142800" y="3676680"/>
                  <a:chExt cx="235440" cy="13644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>
                    <a:off x="3142800" y="3676680"/>
                    <a:ext cx="117720" cy="33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143160" y="371016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260880" y="3741840"/>
                    <a:ext cx="117360" cy="71280"/>
                    <a:chOff x="3260880" y="3741840"/>
                    <a:chExt cx="117360" cy="7128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3260880" y="3741840"/>
                      <a:ext cx="117360" cy="381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>
                      <a:off x="3260880" y="3780000"/>
                      <a:ext cx="11736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3142800" y="3813120"/>
                  <a:ext cx="235440" cy="135000"/>
                  <a:chOff x="3142800" y="3813120"/>
                  <a:chExt cx="235440" cy="13500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>
                    <a:off x="3142800" y="3813120"/>
                    <a:ext cx="117720" cy="33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143160" y="3846600"/>
                    <a:ext cx="11772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3260880" y="3881520"/>
                    <a:ext cx="117360" cy="66600"/>
                    <a:chOff x="3260880" y="3881520"/>
                    <a:chExt cx="117360" cy="6660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3260880" y="3881520"/>
                      <a:ext cx="117360" cy="363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>
                      <a:off x="3260880" y="3917880"/>
                      <a:ext cx="117360" cy="302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58" name=""/>
              <p:cNvGrpSpPr/>
              <p:nvPr/>
            </p:nvGrpSpPr>
            <p:grpSpPr>
              <a:xfrm>
                <a:off x="3142800" y="3948120"/>
                <a:ext cx="235440" cy="276120"/>
                <a:chOff x="3142800" y="3948120"/>
                <a:chExt cx="235440" cy="276120"/>
              </a:xfrm>
            </p:grpSpPr>
            <p:grpSp>
              <p:nvGrpSpPr>
                <p:cNvPr id="659" name=""/>
                <p:cNvGrpSpPr/>
                <p:nvPr/>
              </p:nvGrpSpPr>
              <p:grpSpPr>
                <a:xfrm>
                  <a:off x="3142800" y="3948120"/>
                  <a:ext cx="235440" cy="142920"/>
                  <a:chOff x="3142800" y="3948120"/>
                  <a:chExt cx="235440" cy="14292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>
                    <a:off x="3142800" y="3948120"/>
                    <a:ext cx="117720" cy="381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3143160" y="398628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2" name=""/>
                  <p:cNvGrpSpPr/>
                  <p:nvPr/>
                </p:nvGrpSpPr>
                <p:grpSpPr>
                  <a:xfrm>
                    <a:off x="3260880" y="4017960"/>
                    <a:ext cx="117360" cy="73080"/>
                    <a:chOff x="3260880" y="4017960"/>
                    <a:chExt cx="117360" cy="73080"/>
                  </a:xfrm>
                </p:grpSpPr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3260880" y="4017960"/>
                      <a:ext cx="117360" cy="33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 flipH="1">
                      <a:off x="3260880" y="4051440"/>
                      <a:ext cx="11736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3142800" y="4091040"/>
                  <a:ext cx="235440" cy="133200"/>
                  <a:chOff x="3142800" y="4091040"/>
                  <a:chExt cx="235440" cy="13320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 flipH="1">
                    <a:off x="3142800" y="409104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3143160" y="412272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3260880" y="4154400"/>
                    <a:ext cx="117360" cy="69840"/>
                    <a:chOff x="3260880" y="4154400"/>
                    <a:chExt cx="117360" cy="6984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3260880" y="4154400"/>
                      <a:ext cx="117360" cy="367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>
                      <a:off x="3260880" y="4191120"/>
                      <a:ext cx="117360" cy="331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1" name=""/>
              <p:cNvGrpSpPr/>
              <p:nvPr/>
            </p:nvGrpSpPr>
            <p:grpSpPr>
              <a:xfrm>
                <a:off x="3142800" y="4224240"/>
                <a:ext cx="235440" cy="277920"/>
                <a:chOff x="3142800" y="4224240"/>
                <a:chExt cx="235440" cy="277920"/>
              </a:xfrm>
            </p:grpSpPr>
            <p:grpSp>
              <p:nvGrpSpPr>
                <p:cNvPr id="672" name=""/>
                <p:cNvGrpSpPr/>
                <p:nvPr/>
              </p:nvGrpSpPr>
              <p:grpSpPr>
                <a:xfrm>
                  <a:off x="3142800" y="4224240"/>
                  <a:ext cx="235440" cy="136800"/>
                  <a:chOff x="3142800" y="4224240"/>
                  <a:chExt cx="235440" cy="13680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 flipH="1">
                    <a:off x="3142800" y="4224240"/>
                    <a:ext cx="117720" cy="381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3143160" y="4262400"/>
                    <a:ext cx="11772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3260880" y="4294080"/>
                    <a:ext cx="117360" cy="66960"/>
                    <a:chOff x="3260880" y="4294080"/>
                    <a:chExt cx="117360" cy="6696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3260880" y="429408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flipH="1">
                      <a:off x="3260880" y="4329000"/>
                      <a:ext cx="117360" cy="320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3142800" y="4361040"/>
                  <a:ext cx="235440" cy="141120"/>
                  <a:chOff x="3142800" y="4361040"/>
                  <a:chExt cx="235440" cy="14112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 flipH="1">
                    <a:off x="3142800" y="4361040"/>
                    <a:ext cx="117720" cy="37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3143160" y="4398840"/>
                    <a:ext cx="117720" cy="33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3260880" y="4432320"/>
                    <a:ext cx="117360" cy="69840"/>
                    <a:chOff x="3260880" y="4432320"/>
                    <a:chExt cx="117360" cy="6984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3260880" y="443232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flipH="1">
                      <a:off x="3260880" y="446724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684" name=""/>
            <p:cNvSpPr/>
            <p:nvPr/>
          </p:nvSpPr>
          <p:spPr>
            <a:xfrm flipV="1">
              <a:off x="3260880" y="3206520"/>
              <a:ext cx="0" cy="191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265560" y="4494240"/>
              <a:ext cx="0" cy="192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1149480" y="3003480"/>
            <a:ext cx="2819160" cy="19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92480" y="534528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89640" y="535788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927520" y="4686480"/>
            <a:ext cx="723600" cy="59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90720" y="4191120"/>
            <a:ext cx="3581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90720" y="4432320"/>
            <a:ext cx="3581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257000" y="423072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244040" y="4497480"/>
            <a:ext cx="11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269600" y="400212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4533840" y="5334120"/>
            <a:ext cx="358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562720" y="3860640"/>
            <a:ext cx="234720" cy="1238400"/>
            <a:chOff x="5562720" y="3860640"/>
            <a:chExt cx="234720" cy="1238400"/>
          </a:xfrm>
        </p:grpSpPr>
        <p:grpSp>
          <p:nvGrpSpPr>
            <p:cNvPr id="697" name=""/>
            <p:cNvGrpSpPr/>
            <p:nvPr/>
          </p:nvGrpSpPr>
          <p:grpSpPr>
            <a:xfrm>
              <a:off x="5562720" y="4022640"/>
              <a:ext cx="234720" cy="924120"/>
              <a:chOff x="5562720" y="4022640"/>
              <a:chExt cx="234720" cy="92412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5562720" y="4022640"/>
                <a:ext cx="234720" cy="231840"/>
                <a:chOff x="5562720" y="4022640"/>
                <a:chExt cx="234720" cy="231840"/>
              </a:xfrm>
            </p:grpSpPr>
            <p:grpSp>
              <p:nvGrpSpPr>
                <p:cNvPr id="699" name=""/>
                <p:cNvGrpSpPr/>
                <p:nvPr/>
              </p:nvGrpSpPr>
              <p:grpSpPr>
                <a:xfrm>
                  <a:off x="5562720" y="4022640"/>
                  <a:ext cx="234720" cy="114480"/>
                  <a:chOff x="5562720" y="4022640"/>
                  <a:chExt cx="234720" cy="11448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 flipH="1">
                    <a:off x="5562720" y="4022640"/>
                    <a:ext cx="117360" cy="28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5562720" y="4051440"/>
                    <a:ext cx="11736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680080" y="4078440"/>
                    <a:ext cx="117360" cy="58680"/>
                    <a:chOff x="5680080" y="4078440"/>
                    <a:chExt cx="117360" cy="5868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5680080" y="407844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flipH="1">
                      <a:off x="5680080" y="4106880"/>
                      <a:ext cx="117360" cy="302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5" name=""/>
                <p:cNvGrpSpPr/>
                <p:nvPr/>
              </p:nvGrpSpPr>
              <p:grpSpPr>
                <a:xfrm>
                  <a:off x="5562720" y="4137120"/>
                  <a:ext cx="234720" cy="117360"/>
                  <a:chOff x="5562720" y="4137120"/>
                  <a:chExt cx="234720" cy="11736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H="1">
                    <a:off x="5562720" y="413712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5562720" y="4167360"/>
                    <a:ext cx="117360" cy="25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5680080" y="4192560"/>
                    <a:ext cx="117360" cy="61920"/>
                    <a:chOff x="5680080" y="4192560"/>
                    <a:chExt cx="117360" cy="6192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5680080" y="4192560"/>
                      <a:ext cx="117360" cy="33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>
                      <a:off x="5680080" y="422604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11" name=""/>
              <p:cNvGrpSpPr/>
              <p:nvPr/>
            </p:nvGrpSpPr>
            <p:grpSpPr>
              <a:xfrm>
                <a:off x="5562720" y="4254480"/>
                <a:ext cx="234720" cy="227160"/>
                <a:chOff x="5562720" y="4254480"/>
                <a:chExt cx="234720" cy="227160"/>
              </a:xfrm>
            </p:grpSpPr>
            <p:grpSp>
              <p:nvGrpSpPr>
                <p:cNvPr id="712" name=""/>
                <p:cNvGrpSpPr/>
                <p:nvPr/>
              </p:nvGrpSpPr>
              <p:grpSpPr>
                <a:xfrm>
                  <a:off x="5562720" y="4254480"/>
                  <a:ext cx="234720" cy="112680"/>
                  <a:chOff x="5562720" y="4254480"/>
                  <a:chExt cx="234720" cy="11268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 flipH="1">
                    <a:off x="5562720" y="4254480"/>
                    <a:ext cx="11736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5562720" y="4282920"/>
                    <a:ext cx="117360" cy="24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5680080" y="4307040"/>
                    <a:ext cx="117360" cy="60120"/>
                    <a:chOff x="5680080" y="4307040"/>
                    <a:chExt cx="117360" cy="6012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5680080" y="430704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H="1">
                      <a:off x="5680080" y="4341960"/>
                      <a:ext cx="117360" cy="25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5562720" y="4367160"/>
                  <a:ext cx="234720" cy="114480"/>
                  <a:chOff x="5562720" y="4367160"/>
                  <a:chExt cx="234720" cy="11448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flipH="1">
                    <a:off x="5562720" y="4367160"/>
                    <a:ext cx="117360" cy="28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5562720" y="4395960"/>
                    <a:ext cx="117360" cy="26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5680080" y="4422600"/>
                    <a:ext cx="117360" cy="59040"/>
                    <a:chOff x="5680080" y="4422600"/>
                    <a:chExt cx="117360" cy="5904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5680080" y="4422600"/>
                      <a:ext cx="117360" cy="35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flipH="1">
                      <a:off x="5680080" y="4457880"/>
                      <a:ext cx="117360" cy="23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24" name=""/>
              <p:cNvGrpSpPr/>
              <p:nvPr/>
            </p:nvGrpSpPr>
            <p:grpSpPr>
              <a:xfrm>
                <a:off x="5562720" y="4481640"/>
                <a:ext cx="234720" cy="230040"/>
                <a:chOff x="5562720" y="4481640"/>
                <a:chExt cx="234720" cy="230040"/>
              </a:xfrm>
            </p:grpSpPr>
            <p:grpSp>
              <p:nvGrpSpPr>
                <p:cNvPr id="725" name=""/>
                <p:cNvGrpSpPr/>
                <p:nvPr/>
              </p:nvGrpSpPr>
              <p:grpSpPr>
                <a:xfrm>
                  <a:off x="5562720" y="4481640"/>
                  <a:ext cx="234720" cy="117360"/>
                  <a:chOff x="5562720" y="4481640"/>
                  <a:chExt cx="234720" cy="11736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 flipH="1">
                    <a:off x="5562720" y="4481640"/>
                    <a:ext cx="117360" cy="29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5562720" y="451152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680080" y="4541760"/>
                    <a:ext cx="117360" cy="57240"/>
                    <a:chOff x="5680080" y="4541760"/>
                    <a:chExt cx="117360" cy="572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5680080" y="454176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flipH="1">
                      <a:off x="5680080" y="457056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31" name=""/>
                <p:cNvGrpSpPr/>
                <p:nvPr/>
              </p:nvGrpSpPr>
              <p:grpSpPr>
                <a:xfrm>
                  <a:off x="5562720" y="4599000"/>
                  <a:ext cx="234720" cy="112680"/>
                  <a:chOff x="5562720" y="4599000"/>
                  <a:chExt cx="234720" cy="11268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 flipH="1">
                    <a:off x="5562720" y="4599000"/>
                    <a:ext cx="11736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562720" y="4626000"/>
                    <a:ext cx="11736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680080" y="4656240"/>
                    <a:ext cx="117360" cy="55440"/>
                    <a:chOff x="5680080" y="4656240"/>
                    <a:chExt cx="117360" cy="5544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5680080" y="465624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flipH="1">
                      <a:off x="5680080" y="4684680"/>
                      <a:ext cx="11736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7" name=""/>
              <p:cNvGrpSpPr/>
              <p:nvPr/>
            </p:nvGrpSpPr>
            <p:grpSpPr>
              <a:xfrm>
                <a:off x="5562720" y="4711680"/>
                <a:ext cx="234720" cy="235080"/>
                <a:chOff x="5562720" y="4711680"/>
                <a:chExt cx="234720" cy="235080"/>
              </a:xfrm>
            </p:grpSpPr>
            <p:grpSp>
              <p:nvGrpSpPr>
                <p:cNvPr id="738" name=""/>
                <p:cNvGrpSpPr/>
                <p:nvPr/>
              </p:nvGrpSpPr>
              <p:grpSpPr>
                <a:xfrm>
                  <a:off x="5562720" y="4711680"/>
                  <a:ext cx="234720" cy="114480"/>
                  <a:chOff x="5562720" y="4711680"/>
                  <a:chExt cx="234720" cy="11448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 flipH="1">
                    <a:off x="5562720" y="471168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5562720" y="4746600"/>
                    <a:ext cx="117360" cy="25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680080" y="4772160"/>
                    <a:ext cx="117360" cy="54000"/>
                    <a:chOff x="5680080" y="4772160"/>
                    <a:chExt cx="117360" cy="5400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5680080" y="477216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flipH="1">
                      <a:off x="5680080" y="4800600"/>
                      <a:ext cx="117360" cy="25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5562720" y="4826160"/>
                  <a:ext cx="234720" cy="120600"/>
                  <a:chOff x="5562720" y="4826160"/>
                  <a:chExt cx="234720" cy="12060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 flipH="1">
                    <a:off x="5562720" y="482616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5562720" y="4861080"/>
                    <a:ext cx="117360" cy="25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5680080" y="4886280"/>
                    <a:ext cx="117360" cy="60480"/>
                    <a:chOff x="5680080" y="4886280"/>
                    <a:chExt cx="117360" cy="6048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5680080" y="4886280"/>
                      <a:ext cx="11736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flipH="1">
                      <a:off x="5680080" y="4913280"/>
                      <a:ext cx="117360" cy="33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750" name=""/>
            <p:cNvSpPr/>
            <p:nvPr/>
          </p:nvSpPr>
          <p:spPr>
            <a:xfrm flipV="1">
              <a:off x="5680080" y="386064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5684760" y="493704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130360" y="3860640"/>
            <a:ext cx="235440" cy="1238400"/>
            <a:chOff x="5130360" y="3860640"/>
            <a:chExt cx="235440" cy="1238400"/>
          </a:xfrm>
        </p:grpSpPr>
        <p:grpSp>
          <p:nvGrpSpPr>
            <p:cNvPr id="753" name=""/>
            <p:cNvGrpSpPr/>
            <p:nvPr/>
          </p:nvGrpSpPr>
          <p:grpSpPr>
            <a:xfrm>
              <a:off x="5130360" y="4022640"/>
              <a:ext cx="235440" cy="924120"/>
              <a:chOff x="5130360" y="4022640"/>
              <a:chExt cx="235440" cy="92412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5130360" y="4022640"/>
                <a:ext cx="235440" cy="231840"/>
                <a:chOff x="5130360" y="4022640"/>
                <a:chExt cx="235440" cy="23184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5130360" y="4022640"/>
                  <a:ext cx="235440" cy="114480"/>
                  <a:chOff x="5130360" y="4022640"/>
                  <a:chExt cx="235440" cy="11448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 flipH="1">
                    <a:off x="5130360" y="4022640"/>
                    <a:ext cx="117720" cy="28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130720" y="4051440"/>
                    <a:ext cx="11772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5248440" y="4078440"/>
                    <a:ext cx="117360" cy="58680"/>
                    <a:chOff x="5248440" y="4078440"/>
                    <a:chExt cx="117360" cy="5868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5248440" y="407844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>
                      <a:off x="5248440" y="4106880"/>
                      <a:ext cx="117360" cy="302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1" name=""/>
                <p:cNvGrpSpPr/>
                <p:nvPr/>
              </p:nvGrpSpPr>
              <p:grpSpPr>
                <a:xfrm>
                  <a:off x="5130360" y="4137120"/>
                  <a:ext cx="235440" cy="117360"/>
                  <a:chOff x="5130360" y="4137120"/>
                  <a:chExt cx="235440" cy="11736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flipH="1">
                    <a:off x="5130360" y="4137120"/>
                    <a:ext cx="11772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5130720" y="4167360"/>
                    <a:ext cx="117720" cy="25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5248440" y="4192560"/>
                    <a:ext cx="117360" cy="61920"/>
                    <a:chOff x="5248440" y="4192560"/>
                    <a:chExt cx="117360" cy="6192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>
                      <a:off x="5248440" y="4192560"/>
                      <a:ext cx="117360" cy="33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>
                      <a:off x="5248440" y="422604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7" name=""/>
              <p:cNvGrpSpPr/>
              <p:nvPr/>
            </p:nvGrpSpPr>
            <p:grpSpPr>
              <a:xfrm>
                <a:off x="5130360" y="4254480"/>
                <a:ext cx="235440" cy="227160"/>
                <a:chOff x="5130360" y="4254480"/>
                <a:chExt cx="235440" cy="227160"/>
              </a:xfrm>
            </p:grpSpPr>
            <p:grpSp>
              <p:nvGrpSpPr>
                <p:cNvPr id="768" name=""/>
                <p:cNvGrpSpPr/>
                <p:nvPr/>
              </p:nvGrpSpPr>
              <p:grpSpPr>
                <a:xfrm>
                  <a:off x="5130360" y="4254480"/>
                  <a:ext cx="235440" cy="112680"/>
                  <a:chOff x="5130360" y="4254480"/>
                  <a:chExt cx="235440" cy="11268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 flipH="1">
                    <a:off x="5130360" y="4254480"/>
                    <a:ext cx="117720" cy="284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130720" y="4282920"/>
                    <a:ext cx="117720" cy="24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248440" y="4307040"/>
                    <a:ext cx="117360" cy="60120"/>
                    <a:chOff x="5248440" y="4307040"/>
                    <a:chExt cx="117360" cy="6012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5248440" y="430704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flipH="1">
                      <a:off x="5248440" y="4341960"/>
                      <a:ext cx="117360" cy="252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74" name=""/>
                <p:cNvGrpSpPr/>
                <p:nvPr/>
              </p:nvGrpSpPr>
              <p:grpSpPr>
                <a:xfrm>
                  <a:off x="5130360" y="4367160"/>
                  <a:ext cx="235440" cy="114480"/>
                  <a:chOff x="5130360" y="4367160"/>
                  <a:chExt cx="235440" cy="114480"/>
                </a:xfrm>
              </p:grpSpPr>
              <p:sp>
                <p:nvSpPr>
                  <p:cNvPr id="775" name=""/>
                  <p:cNvSpPr/>
                  <p:nvPr/>
                </p:nvSpPr>
                <p:spPr>
                  <a:xfrm flipH="1">
                    <a:off x="5130360" y="4367160"/>
                    <a:ext cx="117720" cy="288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5130720" y="4395960"/>
                    <a:ext cx="117720" cy="26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5248440" y="4422600"/>
                    <a:ext cx="117360" cy="59040"/>
                    <a:chOff x="5248440" y="4422600"/>
                    <a:chExt cx="117360" cy="5904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5248440" y="4422600"/>
                      <a:ext cx="117360" cy="352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flipH="1">
                      <a:off x="5248440" y="4457880"/>
                      <a:ext cx="117360" cy="237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80" name=""/>
              <p:cNvGrpSpPr/>
              <p:nvPr/>
            </p:nvGrpSpPr>
            <p:grpSpPr>
              <a:xfrm>
                <a:off x="5130360" y="4481640"/>
                <a:ext cx="235440" cy="230040"/>
                <a:chOff x="5130360" y="4481640"/>
                <a:chExt cx="235440" cy="230040"/>
              </a:xfrm>
            </p:grpSpPr>
            <p:grpSp>
              <p:nvGrpSpPr>
                <p:cNvPr id="781" name=""/>
                <p:cNvGrpSpPr/>
                <p:nvPr/>
              </p:nvGrpSpPr>
              <p:grpSpPr>
                <a:xfrm>
                  <a:off x="5130360" y="4481640"/>
                  <a:ext cx="235440" cy="117360"/>
                  <a:chOff x="5130360" y="4481640"/>
                  <a:chExt cx="235440" cy="11736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 flipH="1">
                    <a:off x="5130360" y="4481640"/>
                    <a:ext cx="117720" cy="298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5130720" y="4511520"/>
                    <a:ext cx="11772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4" name=""/>
                  <p:cNvGrpSpPr/>
                  <p:nvPr/>
                </p:nvGrpSpPr>
                <p:grpSpPr>
                  <a:xfrm>
                    <a:off x="5248440" y="4541760"/>
                    <a:ext cx="117360" cy="57240"/>
                    <a:chOff x="5248440" y="4541760"/>
                    <a:chExt cx="117360" cy="57240"/>
                  </a:xfrm>
                </p:grpSpPr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5248440" y="4541760"/>
                      <a:ext cx="117360" cy="288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"/>
                    <p:cNvSpPr/>
                    <p:nvPr/>
                  </p:nvSpPr>
                  <p:spPr>
                    <a:xfrm flipH="1">
                      <a:off x="5248440" y="457056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5130360" y="4599000"/>
                  <a:ext cx="235440" cy="112680"/>
                  <a:chOff x="5130360" y="4599000"/>
                  <a:chExt cx="235440" cy="11268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 flipH="1">
                    <a:off x="5130360" y="4599000"/>
                    <a:ext cx="117720" cy="27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5130720" y="4626000"/>
                    <a:ext cx="117720" cy="302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0" name=""/>
                  <p:cNvGrpSpPr/>
                  <p:nvPr/>
                </p:nvGrpSpPr>
                <p:grpSpPr>
                  <a:xfrm>
                    <a:off x="5248440" y="4656240"/>
                    <a:ext cx="117360" cy="55440"/>
                    <a:chOff x="5248440" y="4656240"/>
                    <a:chExt cx="117360" cy="55440"/>
                  </a:xfrm>
                </p:grpSpPr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5248440" y="465624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 flipH="1">
                      <a:off x="5248440" y="4684680"/>
                      <a:ext cx="11736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93" name=""/>
              <p:cNvGrpSpPr/>
              <p:nvPr/>
            </p:nvGrpSpPr>
            <p:grpSpPr>
              <a:xfrm>
                <a:off x="5130360" y="4711680"/>
                <a:ext cx="235440" cy="235080"/>
                <a:chOff x="5130360" y="4711680"/>
                <a:chExt cx="235440" cy="235080"/>
              </a:xfrm>
            </p:grpSpPr>
            <p:grpSp>
              <p:nvGrpSpPr>
                <p:cNvPr id="794" name=""/>
                <p:cNvGrpSpPr/>
                <p:nvPr/>
              </p:nvGrpSpPr>
              <p:grpSpPr>
                <a:xfrm>
                  <a:off x="5130360" y="4711680"/>
                  <a:ext cx="235440" cy="114480"/>
                  <a:chOff x="5130360" y="4711680"/>
                  <a:chExt cx="235440" cy="11448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flipH="1">
                    <a:off x="5130360" y="4711680"/>
                    <a:ext cx="11772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5130720" y="4746600"/>
                    <a:ext cx="117720" cy="25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5248440" y="4772160"/>
                    <a:ext cx="117360" cy="54000"/>
                    <a:chOff x="5248440" y="4772160"/>
                    <a:chExt cx="117360" cy="5400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5248440" y="4772160"/>
                      <a:ext cx="117360" cy="284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flipH="1">
                      <a:off x="5248440" y="4800600"/>
                      <a:ext cx="117360" cy="255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5130360" y="4826160"/>
                  <a:ext cx="235440" cy="120600"/>
                  <a:chOff x="5130360" y="4826160"/>
                  <a:chExt cx="235440" cy="12060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H="1">
                    <a:off x="5130360" y="4826160"/>
                    <a:ext cx="11772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5130720" y="4861080"/>
                    <a:ext cx="117720" cy="252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5248440" y="4886280"/>
                    <a:ext cx="117360" cy="60480"/>
                    <a:chOff x="5248440" y="4886280"/>
                    <a:chExt cx="117360" cy="6048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5248440" y="4886280"/>
                      <a:ext cx="117360" cy="27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flipH="1">
                      <a:off x="5248440" y="4913280"/>
                      <a:ext cx="117360" cy="33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806" name=""/>
            <p:cNvSpPr/>
            <p:nvPr/>
          </p:nvSpPr>
          <p:spPr>
            <a:xfrm flipV="1">
              <a:off x="5248440" y="386064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5253120" y="4937040"/>
              <a:ext cx="0" cy="16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099040" y="5105520"/>
            <a:ext cx="723960" cy="59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686640" y="3867120"/>
            <a:ext cx="234720" cy="1479600"/>
            <a:chOff x="6686640" y="3867120"/>
            <a:chExt cx="234720" cy="1479600"/>
          </a:xfrm>
        </p:grpSpPr>
        <p:grpSp>
          <p:nvGrpSpPr>
            <p:cNvPr id="811" name=""/>
            <p:cNvGrpSpPr/>
            <p:nvPr/>
          </p:nvGrpSpPr>
          <p:grpSpPr>
            <a:xfrm>
              <a:off x="6686640" y="4059360"/>
              <a:ext cx="234720" cy="1103040"/>
              <a:chOff x="6686640" y="4059360"/>
              <a:chExt cx="234720" cy="110304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6686640" y="4059360"/>
                <a:ext cx="234720" cy="277560"/>
                <a:chOff x="6686640" y="4059360"/>
                <a:chExt cx="234720" cy="277560"/>
              </a:xfrm>
            </p:grpSpPr>
            <p:grpSp>
              <p:nvGrpSpPr>
                <p:cNvPr id="813" name=""/>
                <p:cNvGrpSpPr/>
                <p:nvPr/>
              </p:nvGrpSpPr>
              <p:grpSpPr>
                <a:xfrm>
                  <a:off x="6686640" y="4059360"/>
                  <a:ext cx="234720" cy="136440"/>
                  <a:chOff x="6686640" y="4059360"/>
                  <a:chExt cx="234720" cy="13644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H="1">
                    <a:off x="6686640" y="4059360"/>
                    <a:ext cx="117360" cy="33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6686640" y="409248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6804000" y="4127400"/>
                    <a:ext cx="117360" cy="68400"/>
                    <a:chOff x="6804000" y="4127400"/>
                    <a:chExt cx="117360" cy="6840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6804000" y="4127400"/>
                      <a:ext cx="117360" cy="367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flipH="1">
                      <a:off x="6804000" y="4164120"/>
                      <a:ext cx="117360" cy="31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686640" y="4195800"/>
                  <a:ext cx="234720" cy="141120"/>
                  <a:chOff x="6686640" y="4195800"/>
                  <a:chExt cx="234720" cy="14112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flipH="1">
                    <a:off x="6686640" y="4195800"/>
                    <a:ext cx="117360" cy="381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686640" y="4233960"/>
                    <a:ext cx="11736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6804000" y="4265640"/>
                    <a:ext cx="117360" cy="71280"/>
                    <a:chOff x="6804000" y="4265640"/>
                    <a:chExt cx="117360" cy="7128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6804000" y="426564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flipH="1">
                      <a:off x="6804000" y="4300560"/>
                      <a:ext cx="117360" cy="363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5" name=""/>
              <p:cNvGrpSpPr/>
              <p:nvPr/>
            </p:nvGrpSpPr>
            <p:grpSpPr>
              <a:xfrm>
                <a:off x="6686640" y="4336920"/>
                <a:ext cx="234720" cy="271440"/>
                <a:chOff x="6686640" y="4336920"/>
                <a:chExt cx="234720" cy="271440"/>
              </a:xfrm>
            </p:grpSpPr>
            <p:grpSp>
              <p:nvGrpSpPr>
                <p:cNvPr id="826" name=""/>
                <p:cNvGrpSpPr/>
                <p:nvPr/>
              </p:nvGrpSpPr>
              <p:grpSpPr>
                <a:xfrm>
                  <a:off x="6686640" y="4336920"/>
                  <a:ext cx="234720" cy="136800"/>
                  <a:chOff x="6686640" y="4336920"/>
                  <a:chExt cx="234720" cy="13680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flipH="1">
                    <a:off x="6686640" y="4336920"/>
                    <a:ext cx="117360" cy="334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686640" y="4370400"/>
                    <a:ext cx="11736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6804000" y="4402080"/>
                    <a:ext cx="117360" cy="71640"/>
                    <a:chOff x="6804000" y="4402080"/>
                    <a:chExt cx="117360" cy="7164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6804000" y="4402080"/>
                      <a:ext cx="117360" cy="381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flipH="1">
                      <a:off x="6804000" y="4440240"/>
                      <a:ext cx="117360" cy="33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6686640" y="4473720"/>
                  <a:ext cx="234720" cy="134640"/>
                  <a:chOff x="6686640" y="4473720"/>
                  <a:chExt cx="234720" cy="13464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flipH="1">
                    <a:off x="6686640" y="4473720"/>
                    <a:ext cx="117360" cy="33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6686640" y="4506840"/>
                    <a:ext cx="117360" cy="349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6804000" y="4541760"/>
                    <a:ext cx="117360" cy="66600"/>
                    <a:chOff x="6804000" y="4541760"/>
                    <a:chExt cx="117360" cy="6660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6804000" y="4541760"/>
                      <a:ext cx="117360" cy="367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flipH="1">
                      <a:off x="6804000" y="4578480"/>
                      <a:ext cx="117360" cy="298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38" name=""/>
              <p:cNvGrpSpPr/>
              <p:nvPr/>
            </p:nvGrpSpPr>
            <p:grpSpPr>
              <a:xfrm>
                <a:off x="6686640" y="4608360"/>
                <a:ext cx="234720" cy="276480"/>
                <a:chOff x="6686640" y="4608360"/>
                <a:chExt cx="234720" cy="276480"/>
              </a:xfrm>
            </p:grpSpPr>
            <p:grpSp>
              <p:nvGrpSpPr>
                <p:cNvPr id="839" name=""/>
                <p:cNvGrpSpPr/>
                <p:nvPr/>
              </p:nvGrpSpPr>
              <p:grpSpPr>
                <a:xfrm>
                  <a:off x="6686640" y="4608360"/>
                  <a:ext cx="234720" cy="142920"/>
                  <a:chOff x="6686640" y="4608360"/>
                  <a:chExt cx="234720" cy="14292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flipH="1">
                    <a:off x="6686640" y="4608360"/>
                    <a:ext cx="117360" cy="381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686640" y="4646520"/>
                    <a:ext cx="11736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6804000" y="4678200"/>
                    <a:ext cx="117360" cy="73080"/>
                    <a:chOff x="6804000" y="4678200"/>
                    <a:chExt cx="117360" cy="7308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6804000" y="4678200"/>
                      <a:ext cx="117360" cy="33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flipH="1">
                      <a:off x="6804000" y="4711680"/>
                      <a:ext cx="117360" cy="396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6686640" y="4751280"/>
                  <a:ext cx="234720" cy="133560"/>
                  <a:chOff x="6686640" y="4751280"/>
                  <a:chExt cx="234720" cy="13356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flipH="1">
                    <a:off x="6686640" y="4751280"/>
                    <a:ext cx="11736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686640" y="4782960"/>
                    <a:ext cx="117360" cy="320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6804000" y="4815000"/>
                    <a:ext cx="117360" cy="69840"/>
                    <a:chOff x="6804000" y="4815000"/>
                    <a:chExt cx="117360" cy="6984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6804000" y="4815000"/>
                      <a:ext cx="117360" cy="3636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flipH="1">
                      <a:off x="6804000" y="4851360"/>
                      <a:ext cx="117360" cy="334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51" name=""/>
              <p:cNvGrpSpPr/>
              <p:nvPr/>
            </p:nvGrpSpPr>
            <p:grpSpPr>
              <a:xfrm>
                <a:off x="6686640" y="4884840"/>
                <a:ext cx="234720" cy="277560"/>
                <a:chOff x="6686640" y="4884840"/>
                <a:chExt cx="234720" cy="277560"/>
              </a:xfrm>
            </p:grpSpPr>
            <p:grpSp>
              <p:nvGrpSpPr>
                <p:cNvPr id="852" name=""/>
                <p:cNvGrpSpPr/>
                <p:nvPr/>
              </p:nvGrpSpPr>
              <p:grpSpPr>
                <a:xfrm>
                  <a:off x="6686640" y="4884840"/>
                  <a:ext cx="234720" cy="136440"/>
                  <a:chOff x="6686640" y="4884840"/>
                  <a:chExt cx="234720" cy="13644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 flipH="1">
                    <a:off x="6686640" y="4884840"/>
                    <a:ext cx="117360" cy="381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686640" y="4923000"/>
                    <a:ext cx="117360" cy="3168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5" name=""/>
                  <p:cNvGrpSpPr/>
                  <p:nvPr/>
                </p:nvGrpSpPr>
                <p:grpSpPr>
                  <a:xfrm>
                    <a:off x="6804000" y="4954680"/>
                    <a:ext cx="117360" cy="66600"/>
                    <a:chOff x="6804000" y="4954680"/>
                    <a:chExt cx="117360" cy="66600"/>
                  </a:xfrm>
                </p:grpSpPr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6804000" y="495468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 flipH="1">
                      <a:off x="6804000" y="4989600"/>
                      <a:ext cx="117360" cy="3168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686640" y="5021280"/>
                  <a:ext cx="234720" cy="141120"/>
                  <a:chOff x="6686640" y="5021280"/>
                  <a:chExt cx="234720" cy="14112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 flipH="1">
                    <a:off x="6686640" y="5021280"/>
                    <a:ext cx="117360" cy="381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686640" y="5059440"/>
                    <a:ext cx="117360" cy="331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1" name=""/>
                  <p:cNvGrpSpPr/>
                  <p:nvPr/>
                </p:nvGrpSpPr>
                <p:grpSpPr>
                  <a:xfrm>
                    <a:off x="6804000" y="5092560"/>
                    <a:ext cx="117360" cy="69840"/>
                    <a:chOff x="6804000" y="5092560"/>
                    <a:chExt cx="117360" cy="69840"/>
                  </a:xfrm>
                </p:grpSpPr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6804000" y="509256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 flipH="1">
                      <a:off x="6804000" y="5127480"/>
                      <a:ext cx="117360" cy="349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864" name=""/>
            <p:cNvSpPr/>
            <p:nvPr/>
          </p:nvSpPr>
          <p:spPr>
            <a:xfrm flipV="1">
              <a:off x="6804000" y="3867120"/>
              <a:ext cx="0" cy="192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808680" y="5154480"/>
              <a:ext cx="0" cy="192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4692600" y="3664080"/>
            <a:ext cx="2819520" cy="196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935960" y="60055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333120" y="60181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485040" y="5346720"/>
            <a:ext cx="723960" cy="59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533840" y="4851360"/>
            <a:ext cx="358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533840" y="5092560"/>
            <a:ext cx="358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800120" y="489096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787160" y="5157720"/>
            <a:ext cx="11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812720" y="466236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439720" y="1839960"/>
            <a:ext cx="716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پتانسیل ذخیره شده در حال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 است با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1549440" y="1606680"/>
                <a:ext cx="14144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>
            <a:off x="2604240" y="2408400"/>
            <a:ext cx="6790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نرژی پتانسیل ذخیره شده در حالت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 است با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1488960" y="2300400"/>
                <a:ext cx="1602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k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9" name=""/>
          <p:cNvSpPr/>
          <p:nvPr/>
        </p:nvSpPr>
        <p:spPr>
          <a:xfrm>
            <a:off x="4124160" y="2967120"/>
            <a:ext cx="45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حال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پتانسیل دوبراب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701720" y="4021200"/>
            <a:ext cx="1177920" cy="736560"/>
          </a:xfrm>
          <a:prstGeom prst="rightArrow">
            <a:avLst>
              <a:gd name="adj1" fmla="val 50000"/>
              <a:gd name="adj2" fmla="val 79968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پایستاری ا نرژ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90720" y="14349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نیروها پایستار باشند ا نرژی جنبشی و پتانسیل کل یعنی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” انرژی مکانیکی کل ” پایستار می مان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                       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 algn="ctr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( </a:t>
            </a:r>
            <a:r>
              <a:rPr b="0" i="1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توجه کنید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: E=E</a:t>
            </a:r>
            <a:r>
              <a:rPr b="0" i="1" lang="en-US" sz="2000" spc="-1" strike="noStrike" baseline="-16000">
                <a:solidFill>
                  <a:srgbClr val="ff00ff"/>
                </a:solidFill>
                <a:latin typeface="Arial"/>
              </a:rPr>
              <a:t>mechanical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در طی این بحث برقرار است</a:t>
            </a:r>
            <a:r>
              <a:rPr b="0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E = K + U 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ثابت</a:t>
            </a:r>
            <a:r>
              <a:rPr b="1" i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c0000"/>
                </a:solidFill>
                <a:latin typeface="Arial"/>
              </a:rPr>
              <a:t>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ردو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غییر می کنن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K + U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می ما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ملاحظه می شود که در صورت حضور نیروهای ناپایستار انرژی به شکلهای  دیگر اتلاف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حرارت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صوتی )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627280" y="3987720"/>
            <a:ext cx="4437000" cy="59688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425240" y="2749680"/>
            <a:ext cx="220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K + 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+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W +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W + (-W)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652920" y="3328920"/>
            <a:ext cx="35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ستفاده ا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ستفاده ا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= -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"/>
          <p:cNvPicPr/>
          <p:nvPr/>
        </p:nvPicPr>
        <p:blipFill>
          <a:blip r:embed="rId1"/>
          <a:stretch/>
        </p:blipFill>
        <p:spPr>
          <a:xfrm>
            <a:off x="914400" y="3241800"/>
            <a:ext cx="6905520" cy="300168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1262160" y="857160"/>
            <a:ext cx="62848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آونگی ا ز وضعیت قائم منحرف و رها می شود . در غیاب نیروی مقاومت انرژ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جنبشی و پتانسیل آن مرتب به همدگد یگر تبدیل شده و انرژی مکانیکی آ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ثابت می  ماند . به شکل زیر و تغییرات انرژ ی ها توجه کنی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درکجا بیشترین انرژی جنبشی و کمترین انرژی پتانسیل را دارد وبرعکس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5892840" y="3773520"/>
            <a:ext cx="1436760" cy="1204920"/>
            <a:chOff x="5892840" y="3773520"/>
            <a:chExt cx="1436760" cy="1204920"/>
          </a:xfrm>
        </p:grpSpPr>
        <p:sp>
          <p:nvSpPr>
            <p:cNvPr id="891" name=""/>
            <p:cNvSpPr/>
            <p:nvPr/>
          </p:nvSpPr>
          <p:spPr>
            <a:xfrm>
              <a:off x="6908760" y="3773520"/>
              <a:ext cx="42084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40"/>
                  </a:solidFill>
                  <a:latin typeface="Arial"/>
                  <a:cs typeface="Arial"/>
                </a:rPr>
                <a:t>ارتفا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892840" y="4775040"/>
              <a:ext cx="103032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40"/>
                  </a:solidFill>
                  <a:latin typeface="Arial"/>
                  <a:cs typeface="Arial"/>
                </a:rPr>
                <a:t>سرعت گلوله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670120" y="663480"/>
            <a:ext cx="4025880" cy="914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آون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894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94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آونگ ساد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که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وا ز ا رتفا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حالت سکو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سبت به پائینترین وضعیت ممکن رها شو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یشترین تندی این جسم و مکان آنرا مشخص کنی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جرم تا چه ارتفا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طرف دیگر بالا می ر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2909880" y="3646440"/>
            <a:ext cx="1344600" cy="1395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4267080" y="3646440"/>
            <a:ext cx="0" cy="2005200"/>
          </a:xfrm>
          <a:prstGeom prst="line">
            <a:avLst/>
          </a:prstGeom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5645160"/>
            <a:ext cx="291960" cy="291960"/>
          </a:xfrm>
          <a:prstGeom prst="ellipse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4255560" y="3646440"/>
            <a:ext cx="1395720" cy="1395360"/>
          </a:xfrm>
          <a:prstGeom prst="line">
            <a:avLst/>
          </a:prstGeom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600880" y="4991040"/>
            <a:ext cx="291960" cy="292320"/>
          </a:xfrm>
          <a:prstGeom prst="ellipse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647800" y="4984920"/>
            <a:ext cx="292320" cy="2919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76560" y="6095880"/>
            <a:ext cx="5828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15640" y="60739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2313000" y="5295960"/>
            <a:ext cx="8618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1969920" y="5943600"/>
            <a:ext cx="4672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297040" y="5308560"/>
            <a:ext cx="862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514600" y="5348160"/>
            <a:ext cx="0" cy="5828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943600" y="5348160"/>
            <a:ext cx="0" cy="5828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39240" y="546408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266800" y="546408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317680" y="4964040"/>
            <a:ext cx="94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rot="2700000">
            <a:off x="3357720" y="2826720"/>
            <a:ext cx="18032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آونگ ساد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نیروی جاذبه پایستار است پس انرژی مکانیکی پایستار می ما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 = K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+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در پائینترین نقط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y = 0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U=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انتخاب اختیاری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 = 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+ m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909880" y="3646440"/>
            <a:ext cx="1344600" cy="1395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267080" y="3646440"/>
            <a:ext cx="0" cy="2005200"/>
          </a:xfrm>
          <a:prstGeom prst="line">
            <a:avLst/>
          </a:prstGeom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5645160"/>
            <a:ext cx="291960" cy="291960"/>
          </a:xfrm>
          <a:prstGeom prst="ellipse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4255560" y="3646440"/>
            <a:ext cx="1395720" cy="1395360"/>
          </a:xfrm>
          <a:prstGeom prst="line">
            <a:avLst/>
          </a:prstGeom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600880" y="4991040"/>
            <a:ext cx="291960" cy="292320"/>
          </a:xfrm>
          <a:prstGeom prst="ellipse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647800" y="4984920"/>
            <a:ext cx="292320" cy="2919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976560" y="6095880"/>
            <a:ext cx="5828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815640" y="60739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1868040" y="5295960"/>
            <a:ext cx="1306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1969920" y="5943600"/>
            <a:ext cx="4672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297040" y="5308560"/>
            <a:ext cx="862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14600" y="5348160"/>
            <a:ext cx="0" cy="5828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943600" y="5348160"/>
            <a:ext cx="0" cy="5828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839240" y="546408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266800" y="546408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905120" y="4255920"/>
            <a:ext cx="0" cy="15480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288080" y="41688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69400" y="574344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rot="2700000">
            <a:off x="3357720" y="2826720"/>
            <a:ext cx="18032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آونگ ساد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74720" y="1752120"/>
            <a:ext cx="770904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marL="74160" indent="-7416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mg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8200" indent="-59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حالت ابتدای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y = h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 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 = mgh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8200" indent="-59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در ابتدا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 = mgh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لذ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 = mgh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مواره برقرار است زیر ا نرژی کل پایستار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2909880" y="3646440"/>
            <a:ext cx="1344600" cy="1395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47800" y="4984920"/>
            <a:ext cx="292320" cy="2919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1868040" y="5295960"/>
            <a:ext cx="1306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1905120" y="4255920"/>
            <a:ext cx="0" cy="15480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288080" y="41688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969920" y="5943600"/>
            <a:ext cx="4672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909000" y="575460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آونگ ساد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پائینترین نقطه بیشینه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در نق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267080" y="3646440"/>
            <a:ext cx="0" cy="2005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5645160"/>
            <a:ext cx="291960" cy="2919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976560" y="6095880"/>
            <a:ext cx="5828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815640" y="60739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1929960" y="5295960"/>
            <a:ext cx="1306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969920" y="5943600"/>
            <a:ext cx="4672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14600" y="5348160"/>
            <a:ext cx="0" cy="5828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839240" y="546408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1905120" y="4255920"/>
            <a:ext cx="0" cy="17892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88080" y="41688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863280" y="5146560"/>
            <a:ext cx="1395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rot="2700000">
            <a:off x="3940920" y="3708720"/>
            <a:ext cx="6310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606840" y="2857680"/>
                <a:ext cx="1887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3409920" y="2762280"/>
            <a:ext cx="1600200" cy="54612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882000" y="574344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556240" y="2054160"/>
            <a:ext cx="568440" cy="486000"/>
          </a:xfrm>
          <a:prstGeom prst="leftArrow">
            <a:avLst>
              <a:gd name="adj1" fmla="val 50000"/>
              <a:gd name="adj2" fmla="val 29241"/>
            </a:avLst>
          </a:prstGeom>
          <a:solidFill>
            <a:srgbClr val="00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608200" y="1976400"/>
            <a:ext cx="568440" cy="485640"/>
          </a:xfrm>
          <a:prstGeom prst="leftArrow">
            <a:avLst>
              <a:gd name="adj1" fmla="val 50000"/>
              <a:gd name="adj2" fmla="val 29262"/>
            </a:avLst>
          </a:prstGeom>
          <a:solidFill>
            <a:srgbClr val="00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357720" y="2035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1/2mv</a:t>
            </a:r>
            <a:r>
              <a:rPr b="0" i="1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 = mgh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928800" y="19191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v2 = 2gh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آونگ ساد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61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mg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mgy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بدیهی است که بیشنه ارتفاع در طرف دیگر در نق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و در آن نقطه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= 0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لوله تا ارتفاع اولیه خود بالا می ر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4255560" y="3646440"/>
            <a:ext cx="1395720" cy="1395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600880" y="4991040"/>
            <a:ext cx="291960" cy="29232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881000" y="5308560"/>
            <a:ext cx="4392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1905120" y="4255920"/>
            <a:ext cx="0" cy="15480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288080" y="41688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00960" y="5159520"/>
            <a:ext cx="1879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1884240" y="5943600"/>
            <a:ext cx="4672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32680" y="575640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آونگ ساد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761000" y="155592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گلوله حول وضعیت تعادل خود نوسان میکند و انرژی بین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i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مرتب مبادله می شود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E = </a:t>
            </a:r>
            <a:r>
              <a:rPr b="1" i="1" lang="en-US" sz="18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1" i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 + mg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= K + U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fa-IR" sz="1800" spc="-1" strike="noStrike">
                <a:solidFill>
                  <a:srgbClr val="fafd00"/>
                </a:solidFill>
                <a:latin typeface="Arial"/>
                <a:cs typeface="Arial"/>
              </a:rPr>
              <a:t>ثابت</a:t>
            </a:r>
            <a:r>
              <a:rPr b="0" i="1" lang="fa-IR" sz="1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909880" y="3646440"/>
            <a:ext cx="1344600" cy="1395360"/>
          </a:xfrm>
          <a:prstGeom prst="line">
            <a:avLst/>
          </a:prstGeom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4267080" y="3646440"/>
            <a:ext cx="0" cy="2005200"/>
          </a:xfrm>
          <a:prstGeom prst="line">
            <a:avLst/>
          </a:prstGeom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114800" y="5645160"/>
            <a:ext cx="291960" cy="291960"/>
          </a:xfrm>
          <a:prstGeom prst="ellipse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4255560" y="3646440"/>
            <a:ext cx="1395720" cy="1395360"/>
          </a:xfrm>
          <a:prstGeom prst="line">
            <a:avLst/>
          </a:prstGeom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600880" y="4991040"/>
            <a:ext cx="291960" cy="29232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647800" y="4984920"/>
            <a:ext cx="292320" cy="291960"/>
          </a:xfrm>
          <a:prstGeom prst="ellipse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1905120" y="4255920"/>
            <a:ext cx="0" cy="15480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288080" y="41688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rot="2700000">
            <a:off x="3357720" y="2826720"/>
            <a:ext cx="18032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005520" y="55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آونگ ساد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مثال را با انتخا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وضعیت اولیه گلوله 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توانیم حل کنیم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: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mg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2909880" y="3646440"/>
            <a:ext cx="1344600" cy="1395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4267080" y="3646440"/>
            <a:ext cx="0" cy="2005200"/>
          </a:xfrm>
          <a:prstGeom prst="line">
            <a:avLst/>
          </a:prstGeom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114800" y="5645160"/>
            <a:ext cx="291960" cy="291960"/>
          </a:xfrm>
          <a:prstGeom prst="ellipse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 flipV="1">
            <a:off x="4255560" y="3646440"/>
            <a:ext cx="1395720" cy="1395360"/>
          </a:xfrm>
          <a:prstGeom prst="line">
            <a:avLst/>
          </a:prstGeom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600880" y="4991040"/>
            <a:ext cx="291960" cy="292320"/>
          </a:xfrm>
          <a:prstGeom prst="ellipse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647800" y="4984920"/>
            <a:ext cx="292320" cy="2919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976560" y="6095880"/>
            <a:ext cx="5828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815640" y="60674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1868040" y="5295960"/>
            <a:ext cx="1306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1969920" y="5943600"/>
            <a:ext cx="4672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297040" y="5308560"/>
            <a:ext cx="862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514600" y="5348160"/>
            <a:ext cx="0" cy="5828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43600" y="5348160"/>
            <a:ext cx="0" cy="5828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839600" y="545796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266800" y="545796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905120" y="4255920"/>
            <a:ext cx="0" cy="15480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288440" y="41623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864720" y="514044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rot="2700000">
            <a:off x="3357720" y="2826720"/>
            <a:ext cx="18032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آونگ ساد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74720" y="1752120"/>
            <a:ext cx="770904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79920" indent="-7992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mg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1880" indent="-63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حالت ابتدای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0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 = 0</a:t>
            </a:r>
            <a:r>
              <a:rPr b="0" i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لذا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0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1880" indent="-63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در حالت ابتدایی هموار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وده و انرژی همواره پایستار می ما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2909880" y="3646440"/>
            <a:ext cx="1344600" cy="1395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647800" y="4984920"/>
            <a:ext cx="292320" cy="2919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68040" y="5295960"/>
            <a:ext cx="1306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1905120" y="4255920"/>
            <a:ext cx="0" cy="15480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288440" y="41623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66160" y="514044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90720" y="5457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آونگ ساد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082160" y="13809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پائینترین نقطه بیشین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درنقطه  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-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g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2g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4267080" y="3646440"/>
            <a:ext cx="0" cy="2005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114800" y="5645160"/>
            <a:ext cx="291960" cy="2919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976560" y="6095880"/>
            <a:ext cx="5828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815640" y="60674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1917360" y="5295960"/>
            <a:ext cx="1306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969920" y="5943600"/>
            <a:ext cx="4672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514600" y="5348160"/>
            <a:ext cx="0" cy="5828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839600" y="545796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905120" y="4255920"/>
            <a:ext cx="0" cy="17892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288440" y="41623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77320" y="512748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729000" y="5737320"/>
            <a:ext cx="1480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rot="2700000">
            <a:off x="3940920" y="3708720"/>
            <a:ext cx="6310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933800" y="2160720"/>
            <a:ext cx="304920" cy="279360"/>
          </a:xfrm>
          <a:prstGeom prst="leftArrow">
            <a:avLst>
              <a:gd name="adj1" fmla="val 50000"/>
              <a:gd name="adj2" fmla="val 2728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5649840" y="3699000"/>
                <a:ext cx="1887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5500800" y="3603600"/>
            <a:ext cx="1600200" cy="54612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35400" y="451008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ساوی با مقدار قبلی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940120" y="2179800"/>
            <a:ext cx="304560" cy="279360"/>
          </a:xfrm>
          <a:prstGeom prst="leftArrow">
            <a:avLst>
              <a:gd name="adj1" fmla="val 50000"/>
              <a:gd name="adj2" fmla="val 2725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آونگ ساد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mgh = 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بنابراین بیشینه مقدار ارتفاع در طرف دیگر در نق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= 0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پ تا ارتفاع اولیه خود بالا می ر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4255560" y="3646440"/>
            <a:ext cx="1395720" cy="1395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600880" y="4991040"/>
            <a:ext cx="291960" cy="29232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881000" y="5308560"/>
            <a:ext cx="4392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1905120" y="4255920"/>
            <a:ext cx="0" cy="15480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288440" y="41623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40600" y="512748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308200" y="564840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ساوی با مقدار قبلی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ریل هوا و گلایدر ( لغزنده روی ریل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غزنده ا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ریل بدون اصطکاک افقی قرار 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آن از طریق یک طناب بدون جرم و یک قرقره ارمانی بدون جرم متصل شده است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ند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 از اینک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انداز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قوط کرد چقدر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116000" y="4030560"/>
            <a:ext cx="227340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249720" y="3878280"/>
            <a:ext cx="291960" cy="29196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192320" y="3726000"/>
            <a:ext cx="520560" cy="29196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733400" y="3871800"/>
            <a:ext cx="164952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548160" y="4038480"/>
            <a:ext cx="0" cy="6588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02000" y="4716360"/>
            <a:ext cx="291960" cy="29232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545000" y="4106880"/>
            <a:ext cx="2273400" cy="368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678720" y="3954600"/>
            <a:ext cx="291960" cy="29196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992920" y="3801960"/>
            <a:ext cx="520560" cy="29232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534000" y="3948120"/>
            <a:ext cx="27792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977160" y="4114800"/>
            <a:ext cx="0" cy="18018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831000" y="5935680"/>
            <a:ext cx="291960" cy="29196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67120" y="5014800"/>
            <a:ext cx="20304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705200" y="6234120"/>
            <a:ext cx="20304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300640" y="5029200"/>
            <a:ext cx="0" cy="119232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076360" y="53737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76800" y="3719520"/>
            <a:ext cx="5065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948960" y="37260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072960" y="46926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495040" y="352116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942960" y="54259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5576760"/>
            <a:ext cx="0" cy="506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ریل هوا و گلایدر ( لغزنده روی ریل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43120" y="1752120"/>
            <a:ext cx="75578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چون کلیه نیروها پایستار هستند پس مجموع انرژی جنبشی و پتانسیل پایستار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480" indent="-231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پیکره سیستمی به گونه ای باشد 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=0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948960" y="3521160"/>
            <a:ext cx="6174000" cy="2712960"/>
            <a:chOff x="948960" y="3521160"/>
            <a:chExt cx="6174000" cy="2712960"/>
          </a:xfrm>
        </p:grpSpPr>
        <p:sp>
          <p:nvSpPr>
            <p:cNvPr id="1096" name=""/>
            <p:cNvSpPr/>
            <p:nvPr/>
          </p:nvSpPr>
          <p:spPr>
            <a:xfrm>
              <a:off x="1116000" y="4030560"/>
              <a:ext cx="227340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49720" y="3878280"/>
              <a:ext cx="291960" cy="29196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192320" y="3726000"/>
              <a:ext cx="520560" cy="29196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33400" y="3871800"/>
              <a:ext cx="16495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48160" y="4038480"/>
              <a:ext cx="0" cy="658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02000" y="4716360"/>
              <a:ext cx="291960" cy="2923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545000" y="4106880"/>
              <a:ext cx="227340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678720" y="3954600"/>
              <a:ext cx="291960" cy="29196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992920" y="3801960"/>
              <a:ext cx="520560" cy="2923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534000" y="3948120"/>
              <a:ext cx="27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977160" y="4114800"/>
              <a:ext cx="0" cy="1801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831000" y="5935680"/>
              <a:ext cx="291960" cy="29196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67120" y="5014800"/>
              <a:ext cx="20304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05200" y="6234120"/>
              <a:ext cx="20304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00640" y="5029200"/>
              <a:ext cx="0" cy="1192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076360" y="53737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076800" y="3719520"/>
              <a:ext cx="5065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48960" y="372600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72960" y="469260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495040" y="35211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124080" y="2940120"/>
                <a:ext cx="28544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2882880" y="2832120"/>
            <a:ext cx="2730600" cy="90180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8" name=""/>
          <p:cNvGraphicFramePr/>
          <p:nvPr/>
        </p:nvGraphicFramePr>
        <p:xfrm>
          <a:off x="8086680" y="557280"/>
          <a:ext cx="5112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6680" y="557280"/>
                    <a:ext cx="5112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511280" y="4470480"/>
            <a:ext cx="1703520" cy="1233360"/>
          </a:xfrm>
          <a:custGeom>
            <a:avLst/>
            <a:gdLst/>
            <a:ahLst/>
            <a:rect l="l" t="t" r="r" b="b"/>
            <a:pathLst>
              <a:path w="1073" h="777">
                <a:moveTo>
                  <a:pt x="0" y="0"/>
                </a:moveTo>
                <a:lnTo>
                  <a:pt x="111" y="0"/>
                </a:lnTo>
                <a:lnTo>
                  <a:pt x="859" y="776"/>
                </a:lnTo>
                <a:lnTo>
                  <a:pt x="1072" y="776"/>
                </a:lnTo>
              </a:path>
            </a:pathLst>
          </a:custGeom>
          <a:noFill/>
          <a:ln cap="rnd" w="12600">
            <a:solidFill>
              <a:srgbClr val="f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اتومبیل اسباب بازی  روی مسیر افقی و بدون اصطکاک حرکت میکند و سپس از ارتفاع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ین می آید و به طور افقی با تندی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می ک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ارتفا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لا می ر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افقی خودر ا با سرع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i="1" lang="fa-IR" sz="2000" spc="-1" strike="noStrike" baseline="-25000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دامه می دهد</a:t>
            </a:r>
            <a:r>
              <a:rPr b="1" i="1" lang="fa-IR" sz="2000" spc="-1" strike="noStrike" baseline="-25000">
                <a:solidFill>
                  <a:srgbClr val="00ff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i="1" lang="fa-IR" sz="2000" spc="-1" strike="noStrike" baseline="-25000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یدا کنید</a:t>
            </a:r>
            <a:r>
              <a:rPr b="1" i="1" lang="fa-IR" sz="2000" spc="-1" strike="noStrike" baseline="-25000">
                <a:solidFill>
                  <a:srgbClr val="00ff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600200" y="4567320"/>
            <a:ext cx="5564160" cy="1297080"/>
          </a:xfrm>
          <a:custGeom>
            <a:avLst/>
            <a:gdLst/>
            <a:ahLst/>
            <a:rect l="l" t="t" r="r" b="b"/>
            <a:pathLst>
              <a:path w="3505" h="817">
                <a:moveTo>
                  <a:pt x="0" y="0"/>
                </a:moveTo>
                <a:lnTo>
                  <a:pt x="740" y="816"/>
                </a:lnTo>
                <a:lnTo>
                  <a:pt x="1826" y="816"/>
                </a:lnTo>
                <a:lnTo>
                  <a:pt x="2418" y="357"/>
                </a:lnTo>
                <a:lnTo>
                  <a:pt x="3504" y="357"/>
                </a:lnTo>
              </a:path>
            </a:pathLst>
          </a:custGeom>
          <a:noFill/>
          <a:ln cap="rnd"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23880" y="4586400"/>
            <a:ext cx="0" cy="12636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467480" y="5191200"/>
            <a:ext cx="0" cy="6588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309680" y="5862600"/>
            <a:ext cx="66787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243200" y="53071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831240" y="50655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282120" y="537840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75000" y="5705640"/>
            <a:ext cx="76032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5647680" y="467208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96160" y="5037120"/>
            <a:ext cx="48096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1"/>
          <a:stretch/>
        </p:blipFill>
        <p:spPr>
          <a:xfrm>
            <a:off x="1100160" y="4334040"/>
            <a:ext cx="603360" cy="21564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 flipH="1">
            <a:off x="1028520" y="4557600"/>
            <a:ext cx="58716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280040" y="5016600"/>
            <a:ext cx="1563480" cy="699840"/>
          </a:xfrm>
          <a:custGeom>
            <a:avLst/>
            <a:gdLst/>
            <a:ahLst/>
            <a:rect l="l" t="t" r="r" b="b"/>
            <a:pathLst>
              <a:path w="985" h="441">
                <a:moveTo>
                  <a:pt x="0" y="440"/>
                </a:moveTo>
                <a:lnTo>
                  <a:pt x="139" y="440"/>
                </a:lnTo>
                <a:lnTo>
                  <a:pt x="697" y="0"/>
                </a:lnTo>
                <a:lnTo>
                  <a:pt x="984" y="0"/>
                </a:lnTo>
              </a:path>
            </a:pathLst>
          </a:custGeom>
          <a:noFill/>
          <a:ln cap="rnd" w="12600">
            <a:solidFill>
              <a:srgbClr val="f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+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 است لذا  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-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پایین آمدن از ارتفا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: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= -mg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عادله فوق را برحسب سرعت حل می کنیم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600200" y="4567320"/>
            <a:ext cx="5564160" cy="1297080"/>
          </a:xfrm>
          <a:custGeom>
            <a:avLst/>
            <a:gdLst/>
            <a:ahLst/>
            <a:rect l="l" t="t" r="r" b="b"/>
            <a:pathLst>
              <a:path w="3505" h="817">
                <a:moveTo>
                  <a:pt x="0" y="0"/>
                </a:moveTo>
                <a:lnTo>
                  <a:pt x="740" y="816"/>
                </a:lnTo>
                <a:lnTo>
                  <a:pt x="1826" y="816"/>
                </a:lnTo>
                <a:lnTo>
                  <a:pt x="2418" y="357"/>
                </a:lnTo>
                <a:lnTo>
                  <a:pt x="3504" y="357"/>
                </a:lnTo>
              </a:path>
            </a:pathLst>
          </a:custGeom>
          <a:noFill/>
          <a:ln cap="rnd"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600200" y="4734000"/>
            <a:ext cx="0" cy="11160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467480" y="5191200"/>
            <a:ext cx="0" cy="6588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309680" y="5862600"/>
            <a:ext cx="66787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7243200" y="53071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996480" y="50785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282120" y="537840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425760" y="5743440"/>
            <a:ext cx="76032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599080" y="1798560"/>
            <a:ext cx="316080" cy="258840"/>
          </a:xfrm>
          <a:prstGeom prst="rightArrow">
            <a:avLst>
              <a:gd name="adj1" fmla="val 50000"/>
              <a:gd name="adj2" fmla="val 61074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2949480" y="3400560"/>
                <a:ext cx="1886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2" name=""/>
          <p:cNvSpPr/>
          <p:nvPr/>
        </p:nvSpPr>
        <p:spPr>
          <a:xfrm>
            <a:off x="2792520" y="3306600"/>
            <a:ext cx="1515960" cy="60192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2827440" y="5641920"/>
            <a:ext cx="603000" cy="2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مسئل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نهایت به انداز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 -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یر نقطه شروع حرکت هست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= -mg(d - 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حل برحسب سرع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600200" y="4567320"/>
            <a:ext cx="5564160" cy="1297080"/>
          </a:xfrm>
          <a:custGeom>
            <a:avLst/>
            <a:gdLst/>
            <a:ahLst/>
            <a:rect l="l" t="t" r="r" b="b"/>
            <a:pathLst>
              <a:path w="3505" h="817">
                <a:moveTo>
                  <a:pt x="0" y="0"/>
                </a:moveTo>
                <a:lnTo>
                  <a:pt x="740" y="816"/>
                </a:lnTo>
                <a:lnTo>
                  <a:pt x="1826" y="816"/>
                </a:lnTo>
                <a:lnTo>
                  <a:pt x="2418" y="357"/>
                </a:lnTo>
                <a:lnTo>
                  <a:pt x="3504" y="357"/>
                </a:lnTo>
              </a:path>
            </a:pathLst>
          </a:custGeom>
          <a:noFill/>
          <a:ln cap="rnd"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600200" y="4734000"/>
            <a:ext cx="0" cy="11160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5191200"/>
            <a:ext cx="0" cy="6588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309680" y="5862600"/>
            <a:ext cx="66787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243200" y="53071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996480" y="50785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647680" y="467208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996160" y="5037120"/>
            <a:ext cx="48096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3000240" y="3200400"/>
                <a:ext cx="26193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2806560" y="3121200"/>
            <a:ext cx="2187720" cy="57276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00600" y="4586400"/>
            <a:ext cx="0" cy="50616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452680" y="4572000"/>
            <a:ext cx="2716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357800" y="5105520"/>
            <a:ext cx="811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890880" y="4697280"/>
            <a:ext cx="126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 -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1"/>
          <a:stretch/>
        </p:blipFill>
        <p:spPr>
          <a:xfrm>
            <a:off x="5418000" y="4905360"/>
            <a:ext cx="603360" cy="2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های غیر پایستا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کار نیرو بستگی به مسیر طی شده نداشته باشد نیرو را </a:t>
            </a:r>
            <a:r>
              <a:rPr b="1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پایستار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ی گوی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کار انجام شده بستگی به مسیر داشته باشد  دراینصورت  نیرو را </a:t>
            </a:r>
            <a:r>
              <a:rPr b="1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غیر پایستار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ی گوی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نوع نیروی ناپایستار نیروی اصطکاک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قتی جسمی را روی کف زمین می کشیم کار انجام شده به توسط نیروی اصطککاک بستگی به مسیر خواهد داشت 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انجام شده به طول مسیر بستگی دار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971640" y="555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نر ژی اتلافی : اصطکاک لغزش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257720" y="3613320"/>
            <a:ext cx="3197160" cy="604800"/>
          </a:xfrm>
          <a:custGeom>
            <a:avLst/>
            <a:gdLst/>
            <a:ahLst/>
            <a:rect l="l" t="t" r="r" b="b"/>
            <a:pathLst>
              <a:path w="2014" h="381">
                <a:moveTo>
                  <a:pt x="11" y="321"/>
                </a:moveTo>
                <a:lnTo>
                  <a:pt x="22" y="0"/>
                </a:lnTo>
                <a:lnTo>
                  <a:pt x="2013" y="0"/>
                </a:lnTo>
                <a:lnTo>
                  <a:pt x="2013" y="321"/>
                </a:lnTo>
                <a:lnTo>
                  <a:pt x="2002" y="292"/>
                </a:lnTo>
                <a:lnTo>
                  <a:pt x="1991" y="263"/>
                </a:lnTo>
                <a:lnTo>
                  <a:pt x="1968" y="233"/>
                </a:lnTo>
                <a:lnTo>
                  <a:pt x="1968" y="204"/>
                </a:lnTo>
                <a:lnTo>
                  <a:pt x="1946" y="233"/>
                </a:lnTo>
                <a:lnTo>
                  <a:pt x="1934" y="263"/>
                </a:lnTo>
                <a:lnTo>
                  <a:pt x="1901" y="292"/>
                </a:lnTo>
                <a:lnTo>
                  <a:pt x="1878" y="321"/>
                </a:lnTo>
                <a:lnTo>
                  <a:pt x="1844" y="302"/>
                </a:lnTo>
                <a:lnTo>
                  <a:pt x="1811" y="302"/>
                </a:lnTo>
                <a:lnTo>
                  <a:pt x="1777" y="292"/>
                </a:lnTo>
                <a:lnTo>
                  <a:pt x="1743" y="312"/>
                </a:lnTo>
                <a:lnTo>
                  <a:pt x="1721" y="253"/>
                </a:lnTo>
                <a:lnTo>
                  <a:pt x="1698" y="214"/>
                </a:lnTo>
                <a:lnTo>
                  <a:pt x="1687" y="136"/>
                </a:lnTo>
                <a:lnTo>
                  <a:pt x="1664" y="175"/>
                </a:lnTo>
                <a:lnTo>
                  <a:pt x="1653" y="204"/>
                </a:lnTo>
                <a:lnTo>
                  <a:pt x="1653" y="263"/>
                </a:lnTo>
                <a:lnTo>
                  <a:pt x="1631" y="341"/>
                </a:lnTo>
                <a:lnTo>
                  <a:pt x="1586" y="282"/>
                </a:lnTo>
                <a:lnTo>
                  <a:pt x="1563" y="243"/>
                </a:lnTo>
                <a:lnTo>
                  <a:pt x="1541" y="273"/>
                </a:lnTo>
                <a:lnTo>
                  <a:pt x="1518" y="302"/>
                </a:lnTo>
                <a:lnTo>
                  <a:pt x="1518" y="273"/>
                </a:lnTo>
                <a:lnTo>
                  <a:pt x="1507" y="331"/>
                </a:lnTo>
                <a:lnTo>
                  <a:pt x="1473" y="341"/>
                </a:lnTo>
                <a:lnTo>
                  <a:pt x="1462" y="263"/>
                </a:lnTo>
                <a:lnTo>
                  <a:pt x="1439" y="204"/>
                </a:lnTo>
                <a:lnTo>
                  <a:pt x="1428" y="263"/>
                </a:lnTo>
                <a:lnTo>
                  <a:pt x="1383" y="243"/>
                </a:lnTo>
                <a:lnTo>
                  <a:pt x="1316" y="273"/>
                </a:lnTo>
                <a:lnTo>
                  <a:pt x="1293" y="302"/>
                </a:lnTo>
                <a:lnTo>
                  <a:pt x="1260" y="273"/>
                </a:lnTo>
                <a:lnTo>
                  <a:pt x="1226" y="302"/>
                </a:lnTo>
                <a:lnTo>
                  <a:pt x="1192" y="341"/>
                </a:lnTo>
                <a:lnTo>
                  <a:pt x="1181" y="312"/>
                </a:lnTo>
                <a:lnTo>
                  <a:pt x="1158" y="243"/>
                </a:lnTo>
                <a:lnTo>
                  <a:pt x="1125" y="331"/>
                </a:lnTo>
                <a:lnTo>
                  <a:pt x="1102" y="282"/>
                </a:lnTo>
                <a:lnTo>
                  <a:pt x="1113" y="204"/>
                </a:lnTo>
                <a:lnTo>
                  <a:pt x="1080" y="292"/>
                </a:lnTo>
                <a:lnTo>
                  <a:pt x="1057" y="351"/>
                </a:lnTo>
                <a:lnTo>
                  <a:pt x="1046" y="282"/>
                </a:lnTo>
                <a:lnTo>
                  <a:pt x="1001" y="312"/>
                </a:lnTo>
                <a:lnTo>
                  <a:pt x="1001" y="214"/>
                </a:lnTo>
                <a:lnTo>
                  <a:pt x="922" y="273"/>
                </a:lnTo>
                <a:lnTo>
                  <a:pt x="911" y="175"/>
                </a:lnTo>
                <a:lnTo>
                  <a:pt x="821" y="214"/>
                </a:lnTo>
                <a:lnTo>
                  <a:pt x="798" y="155"/>
                </a:lnTo>
                <a:lnTo>
                  <a:pt x="720" y="224"/>
                </a:lnTo>
                <a:lnTo>
                  <a:pt x="686" y="243"/>
                </a:lnTo>
                <a:lnTo>
                  <a:pt x="664" y="321"/>
                </a:lnTo>
                <a:lnTo>
                  <a:pt x="596" y="380"/>
                </a:lnTo>
                <a:lnTo>
                  <a:pt x="585" y="351"/>
                </a:lnTo>
                <a:lnTo>
                  <a:pt x="585" y="233"/>
                </a:lnTo>
                <a:lnTo>
                  <a:pt x="574" y="292"/>
                </a:lnTo>
                <a:lnTo>
                  <a:pt x="506" y="370"/>
                </a:lnTo>
                <a:lnTo>
                  <a:pt x="506" y="312"/>
                </a:lnTo>
                <a:lnTo>
                  <a:pt x="506" y="233"/>
                </a:lnTo>
                <a:lnTo>
                  <a:pt x="495" y="292"/>
                </a:lnTo>
                <a:lnTo>
                  <a:pt x="472" y="351"/>
                </a:lnTo>
                <a:lnTo>
                  <a:pt x="472" y="282"/>
                </a:lnTo>
                <a:lnTo>
                  <a:pt x="461" y="253"/>
                </a:lnTo>
                <a:lnTo>
                  <a:pt x="427" y="292"/>
                </a:lnTo>
                <a:lnTo>
                  <a:pt x="427" y="194"/>
                </a:lnTo>
                <a:lnTo>
                  <a:pt x="394" y="263"/>
                </a:lnTo>
                <a:lnTo>
                  <a:pt x="371" y="321"/>
                </a:lnTo>
                <a:lnTo>
                  <a:pt x="371" y="292"/>
                </a:lnTo>
                <a:lnTo>
                  <a:pt x="337" y="370"/>
                </a:lnTo>
                <a:lnTo>
                  <a:pt x="337" y="292"/>
                </a:lnTo>
                <a:lnTo>
                  <a:pt x="349" y="233"/>
                </a:lnTo>
                <a:lnTo>
                  <a:pt x="315" y="302"/>
                </a:lnTo>
                <a:lnTo>
                  <a:pt x="326" y="224"/>
                </a:lnTo>
                <a:lnTo>
                  <a:pt x="292" y="282"/>
                </a:lnTo>
                <a:lnTo>
                  <a:pt x="292" y="233"/>
                </a:lnTo>
                <a:lnTo>
                  <a:pt x="292" y="175"/>
                </a:lnTo>
                <a:lnTo>
                  <a:pt x="270" y="224"/>
                </a:lnTo>
                <a:lnTo>
                  <a:pt x="247" y="253"/>
                </a:lnTo>
                <a:lnTo>
                  <a:pt x="202" y="273"/>
                </a:lnTo>
                <a:lnTo>
                  <a:pt x="169" y="273"/>
                </a:lnTo>
                <a:lnTo>
                  <a:pt x="157" y="243"/>
                </a:lnTo>
                <a:lnTo>
                  <a:pt x="135" y="282"/>
                </a:lnTo>
                <a:lnTo>
                  <a:pt x="101" y="292"/>
                </a:lnTo>
                <a:lnTo>
                  <a:pt x="67" y="312"/>
                </a:lnTo>
                <a:lnTo>
                  <a:pt x="34" y="331"/>
                </a:lnTo>
                <a:lnTo>
                  <a:pt x="0" y="321"/>
                </a:lnTo>
              </a:path>
            </a:pathLst>
          </a:custGeom>
          <a:solidFill>
            <a:srgbClr val="fc0000"/>
          </a:solidFill>
          <a:ln cap="rnd" w="12600">
            <a:solidFill>
              <a:srgbClr val="f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307040" y="4487760"/>
            <a:ext cx="3125520" cy="1009800"/>
          </a:xfrm>
          <a:custGeom>
            <a:avLst/>
            <a:gdLst/>
            <a:ahLst/>
            <a:rect l="l" t="t" r="r" b="b"/>
            <a:pathLst>
              <a:path w="1969" h="636">
                <a:moveTo>
                  <a:pt x="0" y="0"/>
                </a:moveTo>
                <a:lnTo>
                  <a:pt x="6" y="8"/>
                </a:lnTo>
                <a:lnTo>
                  <a:pt x="12" y="17"/>
                </a:lnTo>
                <a:lnTo>
                  <a:pt x="12" y="26"/>
                </a:lnTo>
                <a:lnTo>
                  <a:pt x="12" y="35"/>
                </a:lnTo>
                <a:lnTo>
                  <a:pt x="15" y="44"/>
                </a:lnTo>
                <a:lnTo>
                  <a:pt x="18" y="53"/>
                </a:lnTo>
                <a:lnTo>
                  <a:pt x="21" y="62"/>
                </a:lnTo>
                <a:lnTo>
                  <a:pt x="24" y="71"/>
                </a:lnTo>
                <a:lnTo>
                  <a:pt x="27" y="80"/>
                </a:lnTo>
                <a:lnTo>
                  <a:pt x="33" y="89"/>
                </a:lnTo>
                <a:lnTo>
                  <a:pt x="36" y="98"/>
                </a:lnTo>
                <a:lnTo>
                  <a:pt x="42" y="107"/>
                </a:lnTo>
                <a:lnTo>
                  <a:pt x="48" y="116"/>
                </a:lnTo>
                <a:lnTo>
                  <a:pt x="54" y="125"/>
                </a:lnTo>
                <a:lnTo>
                  <a:pt x="60" y="134"/>
                </a:lnTo>
                <a:lnTo>
                  <a:pt x="66" y="143"/>
                </a:lnTo>
                <a:lnTo>
                  <a:pt x="72" y="152"/>
                </a:lnTo>
                <a:lnTo>
                  <a:pt x="78" y="161"/>
                </a:lnTo>
                <a:lnTo>
                  <a:pt x="84" y="170"/>
                </a:lnTo>
                <a:lnTo>
                  <a:pt x="87" y="179"/>
                </a:lnTo>
                <a:lnTo>
                  <a:pt x="93" y="188"/>
                </a:lnTo>
                <a:lnTo>
                  <a:pt x="99" y="197"/>
                </a:lnTo>
                <a:lnTo>
                  <a:pt x="102" y="206"/>
                </a:lnTo>
                <a:lnTo>
                  <a:pt x="105" y="215"/>
                </a:lnTo>
                <a:lnTo>
                  <a:pt x="111" y="224"/>
                </a:lnTo>
                <a:lnTo>
                  <a:pt x="123" y="233"/>
                </a:lnTo>
                <a:lnTo>
                  <a:pt x="132" y="242"/>
                </a:lnTo>
                <a:lnTo>
                  <a:pt x="141" y="248"/>
                </a:lnTo>
                <a:lnTo>
                  <a:pt x="147" y="257"/>
                </a:lnTo>
                <a:lnTo>
                  <a:pt x="156" y="266"/>
                </a:lnTo>
                <a:lnTo>
                  <a:pt x="162" y="275"/>
                </a:lnTo>
                <a:lnTo>
                  <a:pt x="171" y="281"/>
                </a:lnTo>
                <a:lnTo>
                  <a:pt x="180" y="287"/>
                </a:lnTo>
                <a:lnTo>
                  <a:pt x="183" y="296"/>
                </a:lnTo>
                <a:lnTo>
                  <a:pt x="192" y="302"/>
                </a:lnTo>
                <a:lnTo>
                  <a:pt x="195" y="311"/>
                </a:lnTo>
                <a:lnTo>
                  <a:pt x="204" y="317"/>
                </a:lnTo>
                <a:lnTo>
                  <a:pt x="213" y="326"/>
                </a:lnTo>
                <a:lnTo>
                  <a:pt x="219" y="335"/>
                </a:lnTo>
                <a:lnTo>
                  <a:pt x="228" y="338"/>
                </a:lnTo>
                <a:lnTo>
                  <a:pt x="234" y="347"/>
                </a:lnTo>
                <a:lnTo>
                  <a:pt x="243" y="350"/>
                </a:lnTo>
                <a:lnTo>
                  <a:pt x="246" y="359"/>
                </a:lnTo>
                <a:lnTo>
                  <a:pt x="255" y="365"/>
                </a:lnTo>
                <a:lnTo>
                  <a:pt x="261" y="374"/>
                </a:lnTo>
                <a:lnTo>
                  <a:pt x="270" y="380"/>
                </a:lnTo>
                <a:lnTo>
                  <a:pt x="279" y="383"/>
                </a:lnTo>
                <a:lnTo>
                  <a:pt x="288" y="389"/>
                </a:lnTo>
                <a:lnTo>
                  <a:pt x="294" y="398"/>
                </a:lnTo>
                <a:lnTo>
                  <a:pt x="303" y="404"/>
                </a:lnTo>
                <a:lnTo>
                  <a:pt x="312" y="410"/>
                </a:lnTo>
                <a:lnTo>
                  <a:pt x="321" y="419"/>
                </a:lnTo>
                <a:lnTo>
                  <a:pt x="330" y="422"/>
                </a:lnTo>
                <a:lnTo>
                  <a:pt x="339" y="428"/>
                </a:lnTo>
                <a:lnTo>
                  <a:pt x="348" y="434"/>
                </a:lnTo>
                <a:lnTo>
                  <a:pt x="354" y="443"/>
                </a:lnTo>
                <a:lnTo>
                  <a:pt x="363" y="446"/>
                </a:lnTo>
                <a:lnTo>
                  <a:pt x="372" y="452"/>
                </a:lnTo>
                <a:lnTo>
                  <a:pt x="384" y="458"/>
                </a:lnTo>
                <a:lnTo>
                  <a:pt x="393" y="464"/>
                </a:lnTo>
                <a:lnTo>
                  <a:pt x="402" y="467"/>
                </a:lnTo>
                <a:lnTo>
                  <a:pt x="411" y="473"/>
                </a:lnTo>
                <a:lnTo>
                  <a:pt x="420" y="479"/>
                </a:lnTo>
                <a:lnTo>
                  <a:pt x="429" y="482"/>
                </a:lnTo>
                <a:lnTo>
                  <a:pt x="438" y="491"/>
                </a:lnTo>
                <a:lnTo>
                  <a:pt x="447" y="494"/>
                </a:lnTo>
                <a:lnTo>
                  <a:pt x="456" y="500"/>
                </a:lnTo>
                <a:lnTo>
                  <a:pt x="465" y="503"/>
                </a:lnTo>
                <a:lnTo>
                  <a:pt x="474" y="509"/>
                </a:lnTo>
                <a:lnTo>
                  <a:pt x="483" y="515"/>
                </a:lnTo>
                <a:lnTo>
                  <a:pt x="492" y="518"/>
                </a:lnTo>
                <a:lnTo>
                  <a:pt x="501" y="524"/>
                </a:lnTo>
                <a:lnTo>
                  <a:pt x="510" y="527"/>
                </a:lnTo>
                <a:lnTo>
                  <a:pt x="519" y="530"/>
                </a:lnTo>
                <a:lnTo>
                  <a:pt x="528" y="536"/>
                </a:lnTo>
                <a:lnTo>
                  <a:pt x="537" y="539"/>
                </a:lnTo>
                <a:lnTo>
                  <a:pt x="546" y="542"/>
                </a:lnTo>
                <a:lnTo>
                  <a:pt x="555" y="542"/>
                </a:lnTo>
                <a:lnTo>
                  <a:pt x="564" y="545"/>
                </a:lnTo>
                <a:lnTo>
                  <a:pt x="573" y="548"/>
                </a:lnTo>
                <a:lnTo>
                  <a:pt x="582" y="551"/>
                </a:lnTo>
                <a:lnTo>
                  <a:pt x="591" y="554"/>
                </a:lnTo>
                <a:lnTo>
                  <a:pt x="600" y="557"/>
                </a:lnTo>
                <a:lnTo>
                  <a:pt x="609" y="563"/>
                </a:lnTo>
                <a:lnTo>
                  <a:pt x="618" y="566"/>
                </a:lnTo>
                <a:lnTo>
                  <a:pt x="627" y="572"/>
                </a:lnTo>
                <a:lnTo>
                  <a:pt x="636" y="575"/>
                </a:lnTo>
                <a:lnTo>
                  <a:pt x="645" y="575"/>
                </a:lnTo>
                <a:lnTo>
                  <a:pt x="654" y="581"/>
                </a:lnTo>
                <a:lnTo>
                  <a:pt x="663" y="584"/>
                </a:lnTo>
                <a:lnTo>
                  <a:pt x="672" y="587"/>
                </a:lnTo>
                <a:lnTo>
                  <a:pt x="681" y="590"/>
                </a:lnTo>
                <a:lnTo>
                  <a:pt x="690" y="590"/>
                </a:lnTo>
                <a:lnTo>
                  <a:pt x="699" y="593"/>
                </a:lnTo>
                <a:lnTo>
                  <a:pt x="708" y="596"/>
                </a:lnTo>
                <a:lnTo>
                  <a:pt x="717" y="599"/>
                </a:lnTo>
                <a:lnTo>
                  <a:pt x="726" y="599"/>
                </a:lnTo>
                <a:lnTo>
                  <a:pt x="735" y="599"/>
                </a:lnTo>
                <a:lnTo>
                  <a:pt x="744" y="602"/>
                </a:lnTo>
                <a:lnTo>
                  <a:pt x="753" y="605"/>
                </a:lnTo>
                <a:lnTo>
                  <a:pt x="762" y="608"/>
                </a:lnTo>
                <a:lnTo>
                  <a:pt x="771" y="608"/>
                </a:lnTo>
                <a:lnTo>
                  <a:pt x="780" y="611"/>
                </a:lnTo>
                <a:lnTo>
                  <a:pt x="789" y="611"/>
                </a:lnTo>
                <a:lnTo>
                  <a:pt x="798" y="614"/>
                </a:lnTo>
                <a:lnTo>
                  <a:pt x="807" y="617"/>
                </a:lnTo>
                <a:lnTo>
                  <a:pt x="816" y="620"/>
                </a:lnTo>
                <a:lnTo>
                  <a:pt x="825" y="623"/>
                </a:lnTo>
                <a:lnTo>
                  <a:pt x="834" y="623"/>
                </a:lnTo>
                <a:lnTo>
                  <a:pt x="843" y="626"/>
                </a:lnTo>
                <a:lnTo>
                  <a:pt x="852" y="626"/>
                </a:lnTo>
                <a:lnTo>
                  <a:pt x="861" y="626"/>
                </a:lnTo>
                <a:lnTo>
                  <a:pt x="870" y="626"/>
                </a:lnTo>
                <a:lnTo>
                  <a:pt x="879" y="626"/>
                </a:lnTo>
                <a:lnTo>
                  <a:pt x="888" y="626"/>
                </a:lnTo>
                <a:lnTo>
                  <a:pt x="900" y="626"/>
                </a:lnTo>
                <a:lnTo>
                  <a:pt x="912" y="632"/>
                </a:lnTo>
                <a:lnTo>
                  <a:pt x="921" y="632"/>
                </a:lnTo>
                <a:lnTo>
                  <a:pt x="930" y="632"/>
                </a:lnTo>
                <a:lnTo>
                  <a:pt x="939" y="635"/>
                </a:lnTo>
                <a:lnTo>
                  <a:pt x="948" y="635"/>
                </a:lnTo>
                <a:lnTo>
                  <a:pt x="957" y="635"/>
                </a:lnTo>
                <a:lnTo>
                  <a:pt x="969" y="635"/>
                </a:lnTo>
                <a:lnTo>
                  <a:pt x="978" y="632"/>
                </a:lnTo>
                <a:lnTo>
                  <a:pt x="987" y="632"/>
                </a:lnTo>
                <a:lnTo>
                  <a:pt x="996" y="629"/>
                </a:lnTo>
                <a:lnTo>
                  <a:pt x="1005" y="629"/>
                </a:lnTo>
                <a:lnTo>
                  <a:pt x="1014" y="629"/>
                </a:lnTo>
                <a:lnTo>
                  <a:pt x="1023" y="626"/>
                </a:lnTo>
                <a:lnTo>
                  <a:pt x="1032" y="626"/>
                </a:lnTo>
                <a:lnTo>
                  <a:pt x="1044" y="629"/>
                </a:lnTo>
                <a:lnTo>
                  <a:pt x="1053" y="629"/>
                </a:lnTo>
                <a:lnTo>
                  <a:pt x="1062" y="629"/>
                </a:lnTo>
                <a:lnTo>
                  <a:pt x="1071" y="629"/>
                </a:lnTo>
                <a:lnTo>
                  <a:pt x="1080" y="629"/>
                </a:lnTo>
                <a:lnTo>
                  <a:pt x="1089" y="629"/>
                </a:lnTo>
                <a:lnTo>
                  <a:pt x="1098" y="626"/>
                </a:lnTo>
                <a:lnTo>
                  <a:pt x="1107" y="626"/>
                </a:lnTo>
                <a:lnTo>
                  <a:pt x="1116" y="626"/>
                </a:lnTo>
                <a:lnTo>
                  <a:pt x="1125" y="623"/>
                </a:lnTo>
                <a:lnTo>
                  <a:pt x="1134" y="623"/>
                </a:lnTo>
                <a:lnTo>
                  <a:pt x="1143" y="623"/>
                </a:lnTo>
                <a:lnTo>
                  <a:pt x="1152" y="617"/>
                </a:lnTo>
                <a:lnTo>
                  <a:pt x="1161" y="614"/>
                </a:lnTo>
                <a:lnTo>
                  <a:pt x="1170" y="611"/>
                </a:lnTo>
                <a:lnTo>
                  <a:pt x="1179" y="608"/>
                </a:lnTo>
                <a:lnTo>
                  <a:pt x="1188" y="608"/>
                </a:lnTo>
                <a:lnTo>
                  <a:pt x="1200" y="605"/>
                </a:lnTo>
                <a:lnTo>
                  <a:pt x="1209" y="602"/>
                </a:lnTo>
                <a:lnTo>
                  <a:pt x="1218" y="599"/>
                </a:lnTo>
                <a:lnTo>
                  <a:pt x="1227" y="599"/>
                </a:lnTo>
                <a:lnTo>
                  <a:pt x="1236" y="599"/>
                </a:lnTo>
                <a:lnTo>
                  <a:pt x="1245" y="599"/>
                </a:lnTo>
                <a:lnTo>
                  <a:pt x="1254" y="599"/>
                </a:lnTo>
                <a:lnTo>
                  <a:pt x="1263" y="596"/>
                </a:lnTo>
                <a:lnTo>
                  <a:pt x="1272" y="593"/>
                </a:lnTo>
                <a:lnTo>
                  <a:pt x="1281" y="590"/>
                </a:lnTo>
                <a:lnTo>
                  <a:pt x="1290" y="587"/>
                </a:lnTo>
                <a:lnTo>
                  <a:pt x="1299" y="584"/>
                </a:lnTo>
                <a:lnTo>
                  <a:pt x="1308" y="581"/>
                </a:lnTo>
                <a:lnTo>
                  <a:pt x="1317" y="578"/>
                </a:lnTo>
                <a:lnTo>
                  <a:pt x="1326" y="575"/>
                </a:lnTo>
                <a:lnTo>
                  <a:pt x="1335" y="572"/>
                </a:lnTo>
                <a:lnTo>
                  <a:pt x="1347" y="569"/>
                </a:lnTo>
                <a:lnTo>
                  <a:pt x="1356" y="563"/>
                </a:lnTo>
                <a:lnTo>
                  <a:pt x="1365" y="560"/>
                </a:lnTo>
                <a:lnTo>
                  <a:pt x="1374" y="554"/>
                </a:lnTo>
                <a:lnTo>
                  <a:pt x="1383" y="551"/>
                </a:lnTo>
                <a:lnTo>
                  <a:pt x="1392" y="548"/>
                </a:lnTo>
                <a:lnTo>
                  <a:pt x="1401" y="545"/>
                </a:lnTo>
                <a:lnTo>
                  <a:pt x="1410" y="545"/>
                </a:lnTo>
                <a:lnTo>
                  <a:pt x="1419" y="542"/>
                </a:lnTo>
                <a:lnTo>
                  <a:pt x="1428" y="539"/>
                </a:lnTo>
                <a:lnTo>
                  <a:pt x="1437" y="536"/>
                </a:lnTo>
                <a:lnTo>
                  <a:pt x="1446" y="530"/>
                </a:lnTo>
                <a:lnTo>
                  <a:pt x="1455" y="527"/>
                </a:lnTo>
                <a:lnTo>
                  <a:pt x="1464" y="521"/>
                </a:lnTo>
                <a:lnTo>
                  <a:pt x="1473" y="515"/>
                </a:lnTo>
                <a:lnTo>
                  <a:pt x="1482" y="512"/>
                </a:lnTo>
                <a:lnTo>
                  <a:pt x="1491" y="506"/>
                </a:lnTo>
                <a:lnTo>
                  <a:pt x="1500" y="503"/>
                </a:lnTo>
                <a:lnTo>
                  <a:pt x="1512" y="500"/>
                </a:lnTo>
                <a:lnTo>
                  <a:pt x="1524" y="494"/>
                </a:lnTo>
                <a:lnTo>
                  <a:pt x="1533" y="491"/>
                </a:lnTo>
                <a:lnTo>
                  <a:pt x="1542" y="482"/>
                </a:lnTo>
                <a:lnTo>
                  <a:pt x="1551" y="479"/>
                </a:lnTo>
                <a:lnTo>
                  <a:pt x="1560" y="476"/>
                </a:lnTo>
                <a:lnTo>
                  <a:pt x="1572" y="467"/>
                </a:lnTo>
                <a:lnTo>
                  <a:pt x="1581" y="464"/>
                </a:lnTo>
                <a:lnTo>
                  <a:pt x="1590" y="455"/>
                </a:lnTo>
                <a:lnTo>
                  <a:pt x="1599" y="452"/>
                </a:lnTo>
                <a:lnTo>
                  <a:pt x="1608" y="443"/>
                </a:lnTo>
                <a:lnTo>
                  <a:pt x="1617" y="440"/>
                </a:lnTo>
                <a:lnTo>
                  <a:pt x="1623" y="431"/>
                </a:lnTo>
                <a:lnTo>
                  <a:pt x="1632" y="425"/>
                </a:lnTo>
                <a:lnTo>
                  <a:pt x="1641" y="419"/>
                </a:lnTo>
                <a:lnTo>
                  <a:pt x="1650" y="410"/>
                </a:lnTo>
                <a:lnTo>
                  <a:pt x="1659" y="404"/>
                </a:lnTo>
                <a:lnTo>
                  <a:pt x="1668" y="395"/>
                </a:lnTo>
                <a:lnTo>
                  <a:pt x="1677" y="389"/>
                </a:lnTo>
                <a:lnTo>
                  <a:pt x="1686" y="383"/>
                </a:lnTo>
                <a:lnTo>
                  <a:pt x="1695" y="374"/>
                </a:lnTo>
                <a:lnTo>
                  <a:pt x="1704" y="368"/>
                </a:lnTo>
                <a:lnTo>
                  <a:pt x="1710" y="359"/>
                </a:lnTo>
                <a:lnTo>
                  <a:pt x="1719" y="359"/>
                </a:lnTo>
                <a:lnTo>
                  <a:pt x="1728" y="350"/>
                </a:lnTo>
                <a:lnTo>
                  <a:pt x="1737" y="347"/>
                </a:lnTo>
                <a:lnTo>
                  <a:pt x="1743" y="338"/>
                </a:lnTo>
                <a:lnTo>
                  <a:pt x="1752" y="332"/>
                </a:lnTo>
                <a:lnTo>
                  <a:pt x="1755" y="323"/>
                </a:lnTo>
                <a:lnTo>
                  <a:pt x="1764" y="323"/>
                </a:lnTo>
                <a:lnTo>
                  <a:pt x="1770" y="314"/>
                </a:lnTo>
                <a:lnTo>
                  <a:pt x="1779" y="308"/>
                </a:lnTo>
                <a:lnTo>
                  <a:pt x="1782" y="299"/>
                </a:lnTo>
                <a:lnTo>
                  <a:pt x="1791" y="293"/>
                </a:lnTo>
                <a:lnTo>
                  <a:pt x="1797" y="284"/>
                </a:lnTo>
                <a:lnTo>
                  <a:pt x="1806" y="275"/>
                </a:lnTo>
                <a:lnTo>
                  <a:pt x="1815" y="272"/>
                </a:lnTo>
                <a:lnTo>
                  <a:pt x="1818" y="263"/>
                </a:lnTo>
                <a:lnTo>
                  <a:pt x="1827" y="254"/>
                </a:lnTo>
                <a:lnTo>
                  <a:pt x="1833" y="245"/>
                </a:lnTo>
                <a:lnTo>
                  <a:pt x="1839" y="236"/>
                </a:lnTo>
                <a:lnTo>
                  <a:pt x="1845" y="227"/>
                </a:lnTo>
                <a:lnTo>
                  <a:pt x="1851" y="215"/>
                </a:lnTo>
                <a:lnTo>
                  <a:pt x="1857" y="206"/>
                </a:lnTo>
                <a:lnTo>
                  <a:pt x="1863" y="197"/>
                </a:lnTo>
                <a:lnTo>
                  <a:pt x="1872" y="191"/>
                </a:lnTo>
                <a:lnTo>
                  <a:pt x="1878" y="182"/>
                </a:lnTo>
                <a:lnTo>
                  <a:pt x="1887" y="173"/>
                </a:lnTo>
                <a:lnTo>
                  <a:pt x="1893" y="164"/>
                </a:lnTo>
                <a:lnTo>
                  <a:pt x="1899" y="155"/>
                </a:lnTo>
                <a:lnTo>
                  <a:pt x="1902" y="146"/>
                </a:lnTo>
                <a:lnTo>
                  <a:pt x="1908" y="137"/>
                </a:lnTo>
                <a:lnTo>
                  <a:pt x="1911" y="128"/>
                </a:lnTo>
                <a:lnTo>
                  <a:pt x="1914" y="119"/>
                </a:lnTo>
                <a:lnTo>
                  <a:pt x="1920" y="110"/>
                </a:lnTo>
                <a:lnTo>
                  <a:pt x="1926" y="98"/>
                </a:lnTo>
                <a:lnTo>
                  <a:pt x="1935" y="89"/>
                </a:lnTo>
                <a:lnTo>
                  <a:pt x="1938" y="80"/>
                </a:lnTo>
                <a:lnTo>
                  <a:pt x="1941" y="71"/>
                </a:lnTo>
                <a:lnTo>
                  <a:pt x="1944" y="62"/>
                </a:lnTo>
                <a:lnTo>
                  <a:pt x="1947" y="53"/>
                </a:lnTo>
                <a:lnTo>
                  <a:pt x="1953" y="44"/>
                </a:lnTo>
                <a:lnTo>
                  <a:pt x="1956" y="35"/>
                </a:lnTo>
                <a:lnTo>
                  <a:pt x="1959" y="26"/>
                </a:lnTo>
                <a:lnTo>
                  <a:pt x="1962" y="17"/>
                </a:lnTo>
                <a:lnTo>
                  <a:pt x="1965" y="8"/>
                </a:lnTo>
                <a:lnTo>
                  <a:pt x="1968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959280"/>
            <a:ext cx="3197520" cy="519120"/>
          </a:xfrm>
          <a:custGeom>
            <a:avLst/>
            <a:gdLst/>
            <a:ahLst/>
            <a:rect l="l" t="t" r="r" b="b"/>
            <a:pathLst>
              <a:path w="2014" h="327">
                <a:moveTo>
                  <a:pt x="0" y="105"/>
                </a:moveTo>
                <a:lnTo>
                  <a:pt x="10" y="326"/>
                </a:lnTo>
                <a:lnTo>
                  <a:pt x="2013" y="326"/>
                </a:lnTo>
                <a:lnTo>
                  <a:pt x="2013" y="96"/>
                </a:lnTo>
                <a:lnTo>
                  <a:pt x="1982" y="96"/>
                </a:lnTo>
                <a:lnTo>
                  <a:pt x="1971" y="123"/>
                </a:lnTo>
                <a:lnTo>
                  <a:pt x="1940" y="140"/>
                </a:lnTo>
                <a:lnTo>
                  <a:pt x="1930" y="114"/>
                </a:lnTo>
                <a:lnTo>
                  <a:pt x="1909" y="140"/>
                </a:lnTo>
                <a:lnTo>
                  <a:pt x="1878" y="176"/>
                </a:lnTo>
                <a:lnTo>
                  <a:pt x="1847" y="185"/>
                </a:lnTo>
                <a:lnTo>
                  <a:pt x="1826" y="211"/>
                </a:lnTo>
                <a:lnTo>
                  <a:pt x="1816" y="149"/>
                </a:lnTo>
                <a:lnTo>
                  <a:pt x="1805" y="96"/>
                </a:lnTo>
                <a:lnTo>
                  <a:pt x="1774" y="132"/>
                </a:lnTo>
                <a:lnTo>
                  <a:pt x="1754" y="96"/>
                </a:lnTo>
                <a:lnTo>
                  <a:pt x="1712" y="123"/>
                </a:lnTo>
                <a:lnTo>
                  <a:pt x="1681" y="132"/>
                </a:lnTo>
                <a:lnTo>
                  <a:pt x="1650" y="123"/>
                </a:lnTo>
                <a:lnTo>
                  <a:pt x="1619" y="132"/>
                </a:lnTo>
                <a:lnTo>
                  <a:pt x="1577" y="158"/>
                </a:lnTo>
                <a:lnTo>
                  <a:pt x="1546" y="167"/>
                </a:lnTo>
                <a:lnTo>
                  <a:pt x="1536" y="105"/>
                </a:lnTo>
                <a:lnTo>
                  <a:pt x="1505" y="167"/>
                </a:lnTo>
                <a:lnTo>
                  <a:pt x="1473" y="193"/>
                </a:lnTo>
                <a:lnTo>
                  <a:pt x="1453" y="105"/>
                </a:lnTo>
                <a:lnTo>
                  <a:pt x="1422" y="123"/>
                </a:lnTo>
                <a:lnTo>
                  <a:pt x="1390" y="140"/>
                </a:lnTo>
                <a:lnTo>
                  <a:pt x="1370" y="114"/>
                </a:lnTo>
                <a:lnTo>
                  <a:pt x="1349" y="140"/>
                </a:lnTo>
                <a:lnTo>
                  <a:pt x="1318" y="132"/>
                </a:lnTo>
                <a:lnTo>
                  <a:pt x="1287" y="149"/>
                </a:lnTo>
                <a:lnTo>
                  <a:pt x="1256" y="167"/>
                </a:lnTo>
                <a:lnTo>
                  <a:pt x="1245" y="132"/>
                </a:lnTo>
                <a:lnTo>
                  <a:pt x="1204" y="158"/>
                </a:lnTo>
                <a:lnTo>
                  <a:pt x="1193" y="132"/>
                </a:lnTo>
                <a:lnTo>
                  <a:pt x="1162" y="158"/>
                </a:lnTo>
                <a:lnTo>
                  <a:pt x="1152" y="123"/>
                </a:lnTo>
                <a:lnTo>
                  <a:pt x="1121" y="123"/>
                </a:lnTo>
                <a:lnTo>
                  <a:pt x="1090" y="70"/>
                </a:lnTo>
                <a:lnTo>
                  <a:pt x="1079" y="96"/>
                </a:lnTo>
                <a:lnTo>
                  <a:pt x="1048" y="70"/>
                </a:lnTo>
                <a:lnTo>
                  <a:pt x="1027" y="96"/>
                </a:lnTo>
                <a:lnTo>
                  <a:pt x="996" y="105"/>
                </a:lnTo>
                <a:lnTo>
                  <a:pt x="996" y="52"/>
                </a:lnTo>
                <a:lnTo>
                  <a:pt x="996" y="0"/>
                </a:lnTo>
                <a:lnTo>
                  <a:pt x="986" y="43"/>
                </a:lnTo>
                <a:lnTo>
                  <a:pt x="923" y="96"/>
                </a:lnTo>
                <a:lnTo>
                  <a:pt x="903" y="123"/>
                </a:lnTo>
                <a:lnTo>
                  <a:pt x="872" y="176"/>
                </a:lnTo>
                <a:lnTo>
                  <a:pt x="861" y="229"/>
                </a:lnTo>
                <a:lnTo>
                  <a:pt x="830" y="255"/>
                </a:lnTo>
                <a:lnTo>
                  <a:pt x="820" y="193"/>
                </a:lnTo>
                <a:lnTo>
                  <a:pt x="809" y="87"/>
                </a:lnTo>
                <a:lnTo>
                  <a:pt x="809" y="123"/>
                </a:lnTo>
                <a:lnTo>
                  <a:pt x="789" y="158"/>
                </a:lnTo>
                <a:lnTo>
                  <a:pt x="789" y="105"/>
                </a:lnTo>
                <a:lnTo>
                  <a:pt x="747" y="114"/>
                </a:lnTo>
                <a:lnTo>
                  <a:pt x="737" y="140"/>
                </a:lnTo>
                <a:lnTo>
                  <a:pt x="716" y="193"/>
                </a:lnTo>
                <a:lnTo>
                  <a:pt x="685" y="176"/>
                </a:lnTo>
                <a:lnTo>
                  <a:pt x="664" y="202"/>
                </a:lnTo>
                <a:lnTo>
                  <a:pt x="602" y="255"/>
                </a:lnTo>
                <a:lnTo>
                  <a:pt x="581" y="202"/>
                </a:lnTo>
                <a:lnTo>
                  <a:pt x="560" y="167"/>
                </a:lnTo>
                <a:lnTo>
                  <a:pt x="529" y="167"/>
                </a:lnTo>
                <a:lnTo>
                  <a:pt x="508" y="114"/>
                </a:lnTo>
                <a:lnTo>
                  <a:pt x="477" y="132"/>
                </a:lnTo>
                <a:lnTo>
                  <a:pt x="436" y="140"/>
                </a:lnTo>
                <a:lnTo>
                  <a:pt x="394" y="167"/>
                </a:lnTo>
                <a:lnTo>
                  <a:pt x="384" y="140"/>
                </a:lnTo>
                <a:lnTo>
                  <a:pt x="363" y="167"/>
                </a:lnTo>
                <a:lnTo>
                  <a:pt x="353" y="140"/>
                </a:lnTo>
                <a:lnTo>
                  <a:pt x="322" y="158"/>
                </a:lnTo>
                <a:lnTo>
                  <a:pt x="291" y="149"/>
                </a:lnTo>
                <a:lnTo>
                  <a:pt x="259" y="140"/>
                </a:lnTo>
                <a:lnTo>
                  <a:pt x="249" y="114"/>
                </a:lnTo>
                <a:lnTo>
                  <a:pt x="218" y="132"/>
                </a:lnTo>
                <a:lnTo>
                  <a:pt x="208" y="105"/>
                </a:lnTo>
                <a:lnTo>
                  <a:pt x="208" y="79"/>
                </a:lnTo>
                <a:lnTo>
                  <a:pt x="176" y="105"/>
                </a:lnTo>
                <a:lnTo>
                  <a:pt x="145" y="105"/>
                </a:lnTo>
                <a:lnTo>
                  <a:pt x="125" y="140"/>
                </a:lnTo>
                <a:lnTo>
                  <a:pt x="104" y="114"/>
                </a:lnTo>
                <a:lnTo>
                  <a:pt x="73" y="132"/>
                </a:lnTo>
                <a:lnTo>
                  <a:pt x="52" y="105"/>
                </a:lnTo>
                <a:lnTo>
                  <a:pt x="42" y="132"/>
                </a:lnTo>
                <a:lnTo>
                  <a:pt x="10" y="132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257720" y="2624040"/>
            <a:ext cx="3173400" cy="1019160"/>
          </a:xfrm>
          <a:custGeom>
            <a:avLst/>
            <a:gdLst/>
            <a:ahLst/>
            <a:rect l="l" t="t" r="r" b="b"/>
            <a:pathLst>
              <a:path w="1999" h="642">
                <a:moveTo>
                  <a:pt x="0" y="641"/>
                </a:moveTo>
                <a:lnTo>
                  <a:pt x="9" y="635"/>
                </a:lnTo>
                <a:lnTo>
                  <a:pt x="9" y="626"/>
                </a:lnTo>
                <a:lnTo>
                  <a:pt x="12" y="618"/>
                </a:lnTo>
                <a:lnTo>
                  <a:pt x="15" y="609"/>
                </a:lnTo>
                <a:lnTo>
                  <a:pt x="21" y="600"/>
                </a:lnTo>
                <a:lnTo>
                  <a:pt x="24" y="591"/>
                </a:lnTo>
                <a:lnTo>
                  <a:pt x="30" y="582"/>
                </a:lnTo>
                <a:lnTo>
                  <a:pt x="36" y="574"/>
                </a:lnTo>
                <a:lnTo>
                  <a:pt x="39" y="565"/>
                </a:lnTo>
                <a:lnTo>
                  <a:pt x="39" y="556"/>
                </a:lnTo>
                <a:lnTo>
                  <a:pt x="45" y="547"/>
                </a:lnTo>
                <a:lnTo>
                  <a:pt x="48" y="538"/>
                </a:lnTo>
                <a:lnTo>
                  <a:pt x="54" y="530"/>
                </a:lnTo>
                <a:lnTo>
                  <a:pt x="60" y="521"/>
                </a:lnTo>
                <a:lnTo>
                  <a:pt x="66" y="512"/>
                </a:lnTo>
                <a:lnTo>
                  <a:pt x="72" y="503"/>
                </a:lnTo>
                <a:lnTo>
                  <a:pt x="75" y="494"/>
                </a:lnTo>
                <a:lnTo>
                  <a:pt x="81" y="486"/>
                </a:lnTo>
                <a:lnTo>
                  <a:pt x="90" y="474"/>
                </a:lnTo>
                <a:lnTo>
                  <a:pt x="96" y="465"/>
                </a:lnTo>
                <a:lnTo>
                  <a:pt x="102" y="456"/>
                </a:lnTo>
                <a:lnTo>
                  <a:pt x="108" y="448"/>
                </a:lnTo>
                <a:lnTo>
                  <a:pt x="114" y="439"/>
                </a:lnTo>
                <a:lnTo>
                  <a:pt x="123" y="433"/>
                </a:lnTo>
                <a:lnTo>
                  <a:pt x="129" y="424"/>
                </a:lnTo>
                <a:lnTo>
                  <a:pt x="132" y="415"/>
                </a:lnTo>
                <a:lnTo>
                  <a:pt x="138" y="406"/>
                </a:lnTo>
                <a:lnTo>
                  <a:pt x="144" y="398"/>
                </a:lnTo>
                <a:lnTo>
                  <a:pt x="153" y="392"/>
                </a:lnTo>
                <a:lnTo>
                  <a:pt x="156" y="383"/>
                </a:lnTo>
                <a:lnTo>
                  <a:pt x="162" y="374"/>
                </a:lnTo>
                <a:lnTo>
                  <a:pt x="171" y="368"/>
                </a:lnTo>
                <a:lnTo>
                  <a:pt x="177" y="360"/>
                </a:lnTo>
                <a:lnTo>
                  <a:pt x="186" y="354"/>
                </a:lnTo>
                <a:lnTo>
                  <a:pt x="192" y="345"/>
                </a:lnTo>
                <a:lnTo>
                  <a:pt x="201" y="336"/>
                </a:lnTo>
                <a:lnTo>
                  <a:pt x="210" y="330"/>
                </a:lnTo>
                <a:lnTo>
                  <a:pt x="219" y="321"/>
                </a:lnTo>
                <a:lnTo>
                  <a:pt x="228" y="316"/>
                </a:lnTo>
                <a:lnTo>
                  <a:pt x="237" y="310"/>
                </a:lnTo>
                <a:lnTo>
                  <a:pt x="240" y="301"/>
                </a:lnTo>
                <a:lnTo>
                  <a:pt x="249" y="292"/>
                </a:lnTo>
                <a:lnTo>
                  <a:pt x="252" y="283"/>
                </a:lnTo>
                <a:lnTo>
                  <a:pt x="255" y="275"/>
                </a:lnTo>
                <a:lnTo>
                  <a:pt x="264" y="272"/>
                </a:lnTo>
                <a:lnTo>
                  <a:pt x="270" y="263"/>
                </a:lnTo>
                <a:lnTo>
                  <a:pt x="279" y="260"/>
                </a:lnTo>
                <a:lnTo>
                  <a:pt x="288" y="254"/>
                </a:lnTo>
                <a:lnTo>
                  <a:pt x="297" y="248"/>
                </a:lnTo>
                <a:lnTo>
                  <a:pt x="303" y="239"/>
                </a:lnTo>
                <a:lnTo>
                  <a:pt x="312" y="236"/>
                </a:lnTo>
                <a:lnTo>
                  <a:pt x="321" y="231"/>
                </a:lnTo>
                <a:lnTo>
                  <a:pt x="330" y="228"/>
                </a:lnTo>
                <a:lnTo>
                  <a:pt x="338" y="222"/>
                </a:lnTo>
                <a:lnTo>
                  <a:pt x="347" y="216"/>
                </a:lnTo>
                <a:lnTo>
                  <a:pt x="356" y="210"/>
                </a:lnTo>
                <a:lnTo>
                  <a:pt x="365" y="201"/>
                </a:lnTo>
                <a:lnTo>
                  <a:pt x="371" y="192"/>
                </a:lnTo>
                <a:lnTo>
                  <a:pt x="380" y="187"/>
                </a:lnTo>
                <a:lnTo>
                  <a:pt x="389" y="181"/>
                </a:lnTo>
                <a:lnTo>
                  <a:pt x="398" y="178"/>
                </a:lnTo>
                <a:lnTo>
                  <a:pt x="407" y="172"/>
                </a:lnTo>
                <a:lnTo>
                  <a:pt x="416" y="166"/>
                </a:lnTo>
                <a:lnTo>
                  <a:pt x="425" y="160"/>
                </a:lnTo>
                <a:lnTo>
                  <a:pt x="431" y="151"/>
                </a:lnTo>
                <a:lnTo>
                  <a:pt x="440" y="149"/>
                </a:lnTo>
                <a:lnTo>
                  <a:pt x="449" y="143"/>
                </a:lnTo>
                <a:lnTo>
                  <a:pt x="455" y="134"/>
                </a:lnTo>
                <a:lnTo>
                  <a:pt x="464" y="134"/>
                </a:lnTo>
                <a:lnTo>
                  <a:pt x="473" y="128"/>
                </a:lnTo>
                <a:lnTo>
                  <a:pt x="482" y="122"/>
                </a:lnTo>
                <a:lnTo>
                  <a:pt x="491" y="119"/>
                </a:lnTo>
                <a:lnTo>
                  <a:pt x="500" y="116"/>
                </a:lnTo>
                <a:lnTo>
                  <a:pt x="509" y="110"/>
                </a:lnTo>
                <a:lnTo>
                  <a:pt x="518" y="107"/>
                </a:lnTo>
                <a:lnTo>
                  <a:pt x="527" y="102"/>
                </a:lnTo>
                <a:lnTo>
                  <a:pt x="536" y="99"/>
                </a:lnTo>
                <a:lnTo>
                  <a:pt x="545" y="96"/>
                </a:lnTo>
                <a:lnTo>
                  <a:pt x="554" y="93"/>
                </a:lnTo>
                <a:lnTo>
                  <a:pt x="563" y="90"/>
                </a:lnTo>
                <a:lnTo>
                  <a:pt x="572" y="87"/>
                </a:lnTo>
                <a:lnTo>
                  <a:pt x="581" y="87"/>
                </a:lnTo>
                <a:lnTo>
                  <a:pt x="590" y="81"/>
                </a:lnTo>
                <a:lnTo>
                  <a:pt x="599" y="75"/>
                </a:lnTo>
                <a:lnTo>
                  <a:pt x="608" y="72"/>
                </a:lnTo>
                <a:lnTo>
                  <a:pt x="617" y="66"/>
                </a:lnTo>
                <a:lnTo>
                  <a:pt x="626" y="63"/>
                </a:lnTo>
                <a:lnTo>
                  <a:pt x="635" y="61"/>
                </a:lnTo>
                <a:lnTo>
                  <a:pt x="644" y="61"/>
                </a:lnTo>
                <a:lnTo>
                  <a:pt x="656" y="55"/>
                </a:lnTo>
                <a:lnTo>
                  <a:pt x="665" y="52"/>
                </a:lnTo>
                <a:lnTo>
                  <a:pt x="674" y="49"/>
                </a:lnTo>
                <a:lnTo>
                  <a:pt x="683" y="46"/>
                </a:lnTo>
                <a:lnTo>
                  <a:pt x="692" y="46"/>
                </a:lnTo>
                <a:lnTo>
                  <a:pt x="716" y="43"/>
                </a:lnTo>
                <a:lnTo>
                  <a:pt x="725" y="43"/>
                </a:lnTo>
                <a:lnTo>
                  <a:pt x="737" y="40"/>
                </a:lnTo>
                <a:lnTo>
                  <a:pt x="746" y="34"/>
                </a:lnTo>
                <a:lnTo>
                  <a:pt x="755" y="31"/>
                </a:lnTo>
                <a:lnTo>
                  <a:pt x="764" y="28"/>
                </a:lnTo>
                <a:lnTo>
                  <a:pt x="773" y="28"/>
                </a:lnTo>
                <a:lnTo>
                  <a:pt x="782" y="25"/>
                </a:lnTo>
                <a:lnTo>
                  <a:pt x="791" y="20"/>
                </a:lnTo>
                <a:lnTo>
                  <a:pt x="800" y="17"/>
                </a:lnTo>
                <a:lnTo>
                  <a:pt x="809" y="17"/>
                </a:lnTo>
                <a:lnTo>
                  <a:pt x="818" y="17"/>
                </a:lnTo>
                <a:lnTo>
                  <a:pt x="842" y="20"/>
                </a:lnTo>
                <a:lnTo>
                  <a:pt x="854" y="20"/>
                </a:lnTo>
                <a:lnTo>
                  <a:pt x="860" y="11"/>
                </a:lnTo>
                <a:lnTo>
                  <a:pt x="869" y="5"/>
                </a:lnTo>
                <a:lnTo>
                  <a:pt x="878" y="2"/>
                </a:lnTo>
                <a:lnTo>
                  <a:pt x="887" y="8"/>
                </a:lnTo>
                <a:lnTo>
                  <a:pt x="896" y="5"/>
                </a:lnTo>
                <a:lnTo>
                  <a:pt x="905" y="5"/>
                </a:lnTo>
                <a:lnTo>
                  <a:pt x="914" y="5"/>
                </a:lnTo>
                <a:lnTo>
                  <a:pt x="923" y="2"/>
                </a:lnTo>
                <a:lnTo>
                  <a:pt x="932" y="2"/>
                </a:lnTo>
                <a:lnTo>
                  <a:pt x="941" y="0"/>
                </a:lnTo>
                <a:lnTo>
                  <a:pt x="950" y="0"/>
                </a:lnTo>
                <a:lnTo>
                  <a:pt x="959" y="2"/>
                </a:lnTo>
                <a:lnTo>
                  <a:pt x="968" y="5"/>
                </a:lnTo>
                <a:lnTo>
                  <a:pt x="977" y="5"/>
                </a:lnTo>
                <a:lnTo>
                  <a:pt x="986" y="5"/>
                </a:lnTo>
                <a:lnTo>
                  <a:pt x="998" y="5"/>
                </a:lnTo>
                <a:lnTo>
                  <a:pt x="1009" y="5"/>
                </a:lnTo>
                <a:lnTo>
                  <a:pt x="1018" y="5"/>
                </a:lnTo>
                <a:lnTo>
                  <a:pt x="1027" y="5"/>
                </a:lnTo>
                <a:lnTo>
                  <a:pt x="1036" y="5"/>
                </a:lnTo>
                <a:lnTo>
                  <a:pt x="1045" y="5"/>
                </a:lnTo>
                <a:lnTo>
                  <a:pt x="1054" y="5"/>
                </a:lnTo>
                <a:lnTo>
                  <a:pt x="1063" y="5"/>
                </a:lnTo>
                <a:lnTo>
                  <a:pt x="1072" y="5"/>
                </a:lnTo>
                <a:lnTo>
                  <a:pt x="1081" y="5"/>
                </a:lnTo>
                <a:lnTo>
                  <a:pt x="1090" y="5"/>
                </a:lnTo>
                <a:lnTo>
                  <a:pt x="1102" y="5"/>
                </a:lnTo>
                <a:lnTo>
                  <a:pt x="1120" y="8"/>
                </a:lnTo>
                <a:lnTo>
                  <a:pt x="1129" y="8"/>
                </a:lnTo>
                <a:lnTo>
                  <a:pt x="1138" y="11"/>
                </a:lnTo>
                <a:lnTo>
                  <a:pt x="1147" y="14"/>
                </a:lnTo>
                <a:lnTo>
                  <a:pt x="1156" y="17"/>
                </a:lnTo>
                <a:lnTo>
                  <a:pt x="1165" y="17"/>
                </a:lnTo>
                <a:lnTo>
                  <a:pt x="1174" y="20"/>
                </a:lnTo>
                <a:lnTo>
                  <a:pt x="1183" y="20"/>
                </a:lnTo>
                <a:lnTo>
                  <a:pt x="1192" y="20"/>
                </a:lnTo>
                <a:lnTo>
                  <a:pt x="1201" y="22"/>
                </a:lnTo>
                <a:lnTo>
                  <a:pt x="1210" y="25"/>
                </a:lnTo>
                <a:lnTo>
                  <a:pt x="1219" y="25"/>
                </a:lnTo>
                <a:lnTo>
                  <a:pt x="1228" y="28"/>
                </a:lnTo>
                <a:lnTo>
                  <a:pt x="1237" y="28"/>
                </a:lnTo>
                <a:lnTo>
                  <a:pt x="1246" y="31"/>
                </a:lnTo>
                <a:lnTo>
                  <a:pt x="1255" y="31"/>
                </a:lnTo>
                <a:lnTo>
                  <a:pt x="1264" y="37"/>
                </a:lnTo>
                <a:lnTo>
                  <a:pt x="1276" y="40"/>
                </a:lnTo>
                <a:lnTo>
                  <a:pt x="1285" y="40"/>
                </a:lnTo>
                <a:lnTo>
                  <a:pt x="1294" y="43"/>
                </a:lnTo>
                <a:lnTo>
                  <a:pt x="1303" y="46"/>
                </a:lnTo>
                <a:lnTo>
                  <a:pt x="1312" y="49"/>
                </a:lnTo>
                <a:lnTo>
                  <a:pt x="1321" y="49"/>
                </a:lnTo>
                <a:lnTo>
                  <a:pt x="1333" y="52"/>
                </a:lnTo>
                <a:lnTo>
                  <a:pt x="1342" y="52"/>
                </a:lnTo>
                <a:lnTo>
                  <a:pt x="1351" y="55"/>
                </a:lnTo>
                <a:lnTo>
                  <a:pt x="1360" y="61"/>
                </a:lnTo>
                <a:lnTo>
                  <a:pt x="1369" y="61"/>
                </a:lnTo>
                <a:lnTo>
                  <a:pt x="1378" y="63"/>
                </a:lnTo>
                <a:lnTo>
                  <a:pt x="1387" y="69"/>
                </a:lnTo>
                <a:lnTo>
                  <a:pt x="1396" y="72"/>
                </a:lnTo>
                <a:lnTo>
                  <a:pt x="1405" y="75"/>
                </a:lnTo>
                <a:lnTo>
                  <a:pt x="1414" y="81"/>
                </a:lnTo>
                <a:lnTo>
                  <a:pt x="1426" y="84"/>
                </a:lnTo>
                <a:lnTo>
                  <a:pt x="1438" y="87"/>
                </a:lnTo>
                <a:lnTo>
                  <a:pt x="1447" y="90"/>
                </a:lnTo>
                <a:lnTo>
                  <a:pt x="1456" y="96"/>
                </a:lnTo>
                <a:lnTo>
                  <a:pt x="1465" y="99"/>
                </a:lnTo>
                <a:lnTo>
                  <a:pt x="1474" y="102"/>
                </a:lnTo>
                <a:lnTo>
                  <a:pt x="1486" y="107"/>
                </a:lnTo>
                <a:lnTo>
                  <a:pt x="1495" y="110"/>
                </a:lnTo>
                <a:lnTo>
                  <a:pt x="1504" y="116"/>
                </a:lnTo>
                <a:lnTo>
                  <a:pt x="1513" y="119"/>
                </a:lnTo>
                <a:lnTo>
                  <a:pt x="1525" y="122"/>
                </a:lnTo>
                <a:lnTo>
                  <a:pt x="1534" y="125"/>
                </a:lnTo>
                <a:lnTo>
                  <a:pt x="1558" y="131"/>
                </a:lnTo>
                <a:lnTo>
                  <a:pt x="1576" y="131"/>
                </a:lnTo>
                <a:lnTo>
                  <a:pt x="1585" y="134"/>
                </a:lnTo>
                <a:lnTo>
                  <a:pt x="1594" y="137"/>
                </a:lnTo>
                <a:lnTo>
                  <a:pt x="1600" y="146"/>
                </a:lnTo>
                <a:lnTo>
                  <a:pt x="1603" y="154"/>
                </a:lnTo>
                <a:lnTo>
                  <a:pt x="1609" y="163"/>
                </a:lnTo>
                <a:lnTo>
                  <a:pt x="1618" y="172"/>
                </a:lnTo>
                <a:lnTo>
                  <a:pt x="1627" y="181"/>
                </a:lnTo>
                <a:lnTo>
                  <a:pt x="1636" y="190"/>
                </a:lnTo>
                <a:lnTo>
                  <a:pt x="1645" y="195"/>
                </a:lnTo>
                <a:lnTo>
                  <a:pt x="1654" y="204"/>
                </a:lnTo>
                <a:lnTo>
                  <a:pt x="1663" y="213"/>
                </a:lnTo>
                <a:lnTo>
                  <a:pt x="1671" y="216"/>
                </a:lnTo>
                <a:lnTo>
                  <a:pt x="1680" y="225"/>
                </a:lnTo>
                <a:lnTo>
                  <a:pt x="1689" y="228"/>
                </a:lnTo>
                <a:lnTo>
                  <a:pt x="1698" y="234"/>
                </a:lnTo>
                <a:lnTo>
                  <a:pt x="1710" y="239"/>
                </a:lnTo>
                <a:lnTo>
                  <a:pt x="1719" y="248"/>
                </a:lnTo>
                <a:lnTo>
                  <a:pt x="1728" y="254"/>
                </a:lnTo>
                <a:lnTo>
                  <a:pt x="1734" y="263"/>
                </a:lnTo>
                <a:lnTo>
                  <a:pt x="1743" y="266"/>
                </a:lnTo>
                <a:lnTo>
                  <a:pt x="1749" y="275"/>
                </a:lnTo>
                <a:lnTo>
                  <a:pt x="1758" y="280"/>
                </a:lnTo>
                <a:lnTo>
                  <a:pt x="1767" y="286"/>
                </a:lnTo>
                <a:lnTo>
                  <a:pt x="1776" y="295"/>
                </a:lnTo>
                <a:lnTo>
                  <a:pt x="1785" y="301"/>
                </a:lnTo>
                <a:lnTo>
                  <a:pt x="1794" y="310"/>
                </a:lnTo>
                <a:lnTo>
                  <a:pt x="1803" y="316"/>
                </a:lnTo>
                <a:lnTo>
                  <a:pt x="1812" y="324"/>
                </a:lnTo>
                <a:lnTo>
                  <a:pt x="1821" y="333"/>
                </a:lnTo>
                <a:lnTo>
                  <a:pt x="1827" y="342"/>
                </a:lnTo>
                <a:lnTo>
                  <a:pt x="1836" y="348"/>
                </a:lnTo>
                <a:lnTo>
                  <a:pt x="1842" y="357"/>
                </a:lnTo>
                <a:lnTo>
                  <a:pt x="1851" y="363"/>
                </a:lnTo>
                <a:lnTo>
                  <a:pt x="1857" y="371"/>
                </a:lnTo>
                <a:lnTo>
                  <a:pt x="1866" y="380"/>
                </a:lnTo>
                <a:lnTo>
                  <a:pt x="1872" y="389"/>
                </a:lnTo>
                <a:lnTo>
                  <a:pt x="1881" y="398"/>
                </a:lnTo>
                <a:lnTo>
                  <a:pt x="1890" y="406"/>
                </a:lnTo>
                <a:lnTo>
                  <a:pt x="1893" y="415"/>
                </a:lnTo>
                <a:lnTo>
                  <a:pt x="1899" y="424"/>
                </a:lnTo>
                <a:lnTo>
                  <a:pt x="1905" y="433"/>
                </a:lnTo>
                <a:lnTo>
                  <a:pt x="1914" y="442"/>
                </a:lnTo>
                <a:lnTo>
                  <a:pt x="1920" y="450"/>
                </a:lnTo>
                <a:lnTo>
                  <a:pt x="1926" y="459"/>
                </a:lnTo>
                <a:lnTo>
                  <a:pt x="1932" y="468"/>
                </a:lnTo>
                <a:lnTo>
                  <a:pt x="1938" y="477"/>
                </a:lnTo>
                <a:lnTo>
                  <a:pt x="1941" y="486"/>
                </a:lnTo>
                <a:lnTo>
                  <a:pt x="1947" y="494"/>
                </a:lnTo>
                <a:lnTo>
                  <a:pt x="1950" y="503"/>
                </a:lnTo>
                <a:lnTo>
                  <a:pt x="1956" y="512"/>
                </a:lnTo>
                <a:lnTo>
                  <a:pt x="1959" y="521"/>
                </a:lnTo>
                <a:lnTo>
                  <a:pt x="1962" y="530"/>
                </a:lnTo>
                <a:lnTo>
                  <a:pt x="1968" y="538"/>
                </a:lnTo>
                <a:lnTo>
                  <a:pt x="1974" y="547"/>
                </a:lnTo>
                <a:lnTo>
                  <a:pt x="1977" y="556"/>
                </a:lnTo>
                <a:lnTo>
                  <a:pt x="1983" y="568"/>
                </a:lnTo>
                <a:lnTo>
                  <a:pt x="1986" y="577"/>
                </a:lnTo>
                <a:lnTo>
                  <a:pt x="1989" y="585"/>
                </a:lnTo>
                <a:lnTo>
                  <a:pt x="1989" y="594"/>
                </a:lnTo>
                <a:lnTo>
                  <a:pt x="1992" y="603"/>
                </a:lnTo>
                <a:lnTo>
                  <a:pt x="1995" y="612"/>
                </a:lnTo>
                <a:lnTo>
                  <a:pt x="1998" y="620"/>
                </a:lnTo>
              </a:path>
            </a:pathLst>
          </a:custGeom>
          <a:solidFill>
            <a:srgbClr val="fc0000"/>
          </a:solidFill>
          <a:ln cap="rnd" w="12600">
            <a:solidFill>
              <a:srgbClr val="f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232160" y="2644920"/>
            <a:ext cx="3302280" cy="2859120"/>
          </a:xfrm>
          <a:prstGeom prst="ellipse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421960" y="3765600"/>
            <a:ext cx="614880" cy="35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515560" y="3668760"/>
            <a:ext cx="614880" cy="35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94400" y="3543480"/>
            <a:ext cx="615600" cy="35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39720" y="159084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89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Arial"/>
              </a:rPr>
              <a:t>وقتی قسمت ها ی مختلف روی همدیگر می لغزند ارتعاشات کوچکی بوجود می آید و  انرژی پتانسیل و جنبشی  انرژی اتمها تبدیل می شو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39720" y="4394160"/>
            <a:ext cx="358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تم ها به جلو و عقب رفته و ارتعاش می کنند وانرژی دارند ولی تکانه کل آنها صفر است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5455080" y="3529800"/>
            <a:ext cx="1035720" cy="1293120"/>
            <a:chOff x="5455080" y="3529800"/>
            <a:chExt cx="1035720" cy="1293120"/>
          </a:xfrm>
        </p:grpSpPr>
        <p:sp>
          <p:nvSpPr>
            <p:cNvPr id="1189" name=""/>
            <p:cNvSpPr/>
            <p:nvPr/>
          </p:nvSpPr>
          <p:spPr>
            <a:xfrm rot="9349800">
              <a:off x="5639760" y="3647520"/>
              <a:ext cx="7329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9349800">
              <a:off x="5618160" y="3755160"/>
              <a:ext cx="7322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9349800">
              <a:off x="5595840" y="3863160"/>
              <a:ext cx="73224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9349800">
              <a:off x="5573160" y="3971520"/>
              <a:ext cx="7329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های غیر پایستار : نیروی اصطکاک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68400" indent="-684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 ض کنید ک جعبه ای را روی کف اتاق حرکت دهی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 جعب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ضریب اصطکاک کف اتاق باجس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400" indent="-68400" algn="r" rtl="1">
              <a:lnSpc>
                <a:spcPct val="12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نیروی اصطکاک در جابه جای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 است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800" spc="-1" strike="noStrike" baseline="8000">
                <a:solidFill>
                  <a:srgbClr val="fafd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D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               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558800" y="5321160"/>
            <a:ext cx="5702400" cy="139680"/>
          </a:xfrm>
          <a:prstGeom prst="rect">
            <a:avLst/>
          </a:prstGeom>
          <a:solidFill>
            <a:srgbClr val="7679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092320" y="4483080"/>
            <a:ext cx="1054080" cy="825480"/>
          </a:xfrm>
          <a:prstGeom prst="rect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085840" y="5557680"/>
            <a:ext cx="0" cy="35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62560" y="5557680"/>
            <a:ext cx="0" cy="35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112840" y="5695920"/>
            <a:ext cx="32241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082680" y="590220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369040" y="4483080"/>
            <a:ext cx="1054080" cy="8254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4333320" y="5186520"/>
            <a:ext cx="1041120" cy="28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760200" y="4668840"/>
            <a:ext cx="195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19120" y="6554880"/>
            <a:ext cx="21016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afd00"/>
                </a:solidFill>
                <a:latin typeface="Arial"/>
                <a:cs typeface="Arial"/>
              </a:rPr>
              <a:t>فصل هشتم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2880" y="2593800"/>
            <a:ext cx="7265880" cy="157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89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Arial"/>
                <a:cs typeface="Arial"/>
              </a:rPr>
              <a:t>پایستگی انرژ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های غیر پایستار : نیروی اصطکا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marL="48240" indent="-48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بزرگی نیرو ثابت و جهت آن مخالف جهت جابه جایی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انجام شده برای حر کت جعبه در 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 است با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                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240" indent="-48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دیهی است که کار انجام شده  بستگی به مسیر 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6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240" indent="-482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cs typeface="Arial"/>
              </a:rPr>
              <a:t>مسیر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&gt; W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cs typeface="Arial"/>
              </a:rPr>
              <a:t>مسیر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206800" y="5692680"/>
            <a:ext cx="158400" cy="1587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359240" y="4145040"/>
            <a:ext cx="158760" cy="1587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2341440" y="4274640"/>
            <a:ext cx="2016360" cy="148140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797120" y="5621400"/>
            <a:ext cx="35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519440" y="3830760"/>
            <a:ext cx="351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14440" y="3457440"/>
            <a:ext cx="4302360" cy="2802240"/>
          </a:xfrm>
          <a:custGeom>
            <a:avLst/>
            <a:gdLst/>
            <a:ahLst/>
            <a:rect l="l" t="t" r="r" b="b"/>
            <a:pathLst>
              <a:path w="2710" h="1765">
                <a:moveTo>
                  <a:pt x="0" y="1485"/>
                </a:moveTo>
                <a:lnTo>
                  <a:pt x="27" y="1503"/>
                </a:lnTo>
                <a:lnTo>
                  <a:pt x="54" y="1521"/>
                </a:lnTo>
                <a:lnTo>
                  <a:pt x="81" y="1530"/>
                </a:lnTo>
                <a:lnTo>
                  <a:pt x="108" y="1548"/>
                </a:lnTo>
                <a:lnTo>
                  <a:pt x="135" y="1566"/>
                </a:lnTo>
                <a:lnTo>
                  <a:pt x="162" y="1575"/>
                </a:lnTo>
                <a:lnTo>
                  <a:pt x="189" y="1593"/>
                </a:lnTo>
                <a:lnTo>
                  <a:pt x="216" y="1620"/>
                </a:lnTo>
                <a:lnTo>
                  <a:pt x="243" y="1647"/>
                </a:lnTo>
                <a:lnTo>
                  <a:pt x="270" y="1665"/>
                </a:lnTo>
                <a:lnTo>
                  <a:pt x="297" y="1683"/>
                </a:lnTo>
                <a:lnTo>
                  <a:pt x="333" y="1701"/>
                </a:lnTo>
                <a:lnTo>
                  <a:pt x="360" y="1710"/>
                </a:lnTo>
                <a:lnTo>
                  <a:pt x="414" y="1719"/>
                </a:lnTo>
                <a:lnTo>
                  <a:pt x="450" y="1728"/>
                </a:lnTo>
                <a:lnTo>
                  <a:pt x="504" y="1737"/>
                </a:lnTo>
                <a:lnTo>
                  <a:pt x="540" y="1746"/>
                </a:lnTo>
                <a:lnTo>
                  <a:pt x="594" y="1755"/>
                </a:lnTo>
                <a:lnTo>
                  <a:pt x="666" y="1764"/>
                </a:lnTo>
                <a:lnTo>
                  <a:pt x="693" y="1764"/>
                </a:lnTo>
                <a:lnTo>
                  <a:pt x="720" y="1764"/>
                </a:lnTo>
                <a:lnTo>
                  <a:pt x="756" y="1764"/>
                </a:lnTo>
                <a:lnTo>
                  <a:pt x="783" y="1764"/>
                </a:lnTo>
                <a:lnTo>
                  <a:pt x="810" y="1746"/>
                </a:lnTo>
                <a:lnTo>
                  <a:pt x="837" y="1737"/>
                </a:lnTo>
                <a:lnTo>
                  <a:pt x="864" y="1719"/>
                </a:lnTo>
                <a:lnTo>
                  <a:pt x="900" y="1692"/>
                </a:lnTo>
                <a:lnTo>
                  <a:pt x="918" y="1665"/>
                </a:lnTo>
                <a:lnTo>
                  <a:pt x="918" y="1638"/>
                </a:lnTo>
                <a:lnTo>
                  <a:pt x="918" y="1611"/>
                </a:lnTo>
                <a:lnTo>
                  <a:pt x="918" y="1584"/>
                </a:lnTo>
                <a:lnTo>
                  <a:pt x="918" y="1557"/>
                </a:lnTo>
                <a:lnTo>
                  <a:pt x="918" y="1503"/>
                </a:lnTo>
                <a:lnTo>
                  <a:pt x="909" y="1476"/>
                </a:lnTo>
                <a:lnTo>
                  <a:pt x="909" y="1449"/>
                </a:lnTo>
                <a:lnTo>
                  <a:pt x="900" y="1422"/>
                </a:lnTo>
                <a:lnTo>
                  <a:pt x="891" y="1395"/>
                </a:lnTo>
                <a:lnTo>
                  <a:pt x="891" y="1368"/>
                </a:lnTo>
                <a:lnTo>
                  <a:pt x="891" y="1341"/>
                </a:lnTo>
                <a:lnTo>
                  <a:pt x="900" y="1314"/>
                </a:lnTo>
                <a:lnTo>
                  <a:pt x="918" y="1278"/>
                </a:lnTo>
                <a:lnTo>
                  <a:pt x="972" y="1269"/>
                </a:lnTo>
                <a:lnTo>
                  <a:pt x="1008" y="1260"/>
                </a:lnTo>
                <a:lnTo>
                  <a:pt x="1044" y="1251"/>
                </a:lnTo>
                <a:lnTo>
                  <a:pt x="1071" y="1251"/>
                </a:lnTo>
                <a:lnTo>
                  <a:pt x="1107" y="1260"/>
                </a:lnTo>
                <a:lnTo>
                  <a:pt x="1161" y="1269"/>
                </a:lnTo>
                <a:lnTo>
                  <a:pt x="1215" y="1278"/>
                </a:lnTo>
                <a:lnTo>
                  <a:pt x="1251" y="1296"/>
                </a:lnTo>
                <a:lnTo>
                  <a:pt x="1278" y="1305"/>
                </a:lnTo>
                <a:lnTo>
                  <a:pt x="1332" y="1323"/>
                </a:lnTo>
                <a:lnTo>
                  <a:pt x="1422" y="1341"/>
                </a:lnTo>
                <a:lnTo>
                  <a:pt x="1476" y="1359"/>
                </a:lnTo>
                <a:lnTo>
                  <a:pt x="1548" y="1368"/>
                </a:lnTo>
                <a:lnTo>
                  <a:pt x="1602" y="1377"/>
                </a:lnTo>
                <a:lnTo>
                  <a:pt x="1674" y="1395"/>
                </a:lnTo>
                <a:lnTo>
                  <a:pt x="1764" y="1413"/>
                </a:lnTo>
                <a:lnTo>
                  <a:pt x="1836" y="1422"/>
                </a:lnTo>
                <a:lnTo>
                  <a:pt x="1926" y="1440"/>
                </a:lnTo>
                <a:lnTo>
                  <a:pt x="2016" y="1449"/>
                </a:lnTo>
                <a:lnTo>
                  <a:pt x="2124" y="1458"/>
                </a:lnTo>
                <a:lnTo>
                  <a:pt x="2196" y="1467"/>
                </a:lnTo>
                <a:lnTo>
                  <a:pt x="2223" y="1458"/>
                </a:lnTo>
                <a:lnTo>
                  <a:pt x="2295" y="1440"/>
                </a:lnTo>
                <a:lnTo>
                  <a:pt x="2322" y="1422"/>
                </a:lnTo>
                <a:lnTo>
                  <a:pt x="2385" y="1386"/>
                </a:lnTo>
                <a:lnTo>
                  <a:pt x="2439" y="1332"/>
                </a:lnTo>
                <a:lnTo>
                  <a:pt x="2457" y="1260"/>
                </a:lnTo>
                <a:lnTo>
                  <a:pt x="2466" y="1224"/>
                </a:lnTo>
                <a:lnTo>
                  <a:pt x="2457" y="1152"/>
                </a:lnTo>
                <a:lnTo>
                  <a:pt x="2439" y="1116"/>
                </a:lnTo>
                <a:lnTo>
                  <a:pt x="2412" y="1080"/>
                </a:lnTo>
                <a:lnTo>
                  <a:pt x="2385" y="1062"/>
                </a:lnTo>
                <a:lnTo>
                  <a:pt x="2349" y="1035"/>
                </a:lnTo>
                <a:lnTo>
                  <a:pt x="2313" y="1017"/>
                </a:lnTo>
                <a:lnTo>
                  <a:pt x="2241" y="990"/>
                </a:lnTo>
                <a:lnTo>
                  <a:pt x="2187" y="981"/>
                </a:lnTo>
                <a:lnTo>
                  <a:pt x="2133" y="963"/>
                </a:lnTo>
                <a:lnTo>
                  <a:pt x="2079" y="954"/>
                </a:lnTo>
                <a:lnTo>
                  <a:pt x="2007" y="927"/>
                </a:lnTo>
                <a:lnTo>
                  <a:pt x="1953" y="909"/>
                </a:lnTo>
                <a:lnTo>
                  <a:pt x="1881" y="891"/>
                </a:lnTo>
                <a:lnTo>
                  <a:pt x="1854" y="864"/>
                </a:lnTo>
                <a:lnTo>
                  <a:pt x="1845" y="792"/>
                </a:lnTo>
                <a:lnTo>
                  <a:pt x="1845" y="738"/>
                </a:lnTo>
                <a:lnTo>
                  <a:pt x="1836" y="684"/>
                </a:lnTo>
                <a:lnTo>
                  <a:pt x="1836" y="657"/>
                </a:lnTo>
                <a:lnTo>
                  <a:pt x="1863" y="630"/>
                </a:lnTo>
                <a:lnTo>
                  <a:pt x="1890" y="630"/>
                </a:lnTo>
                <a:lnTo>
                  <a:pt x="1962" y="630"/>
                </a:lnTo>
                <a:lnTo>
                  <a:pt x="2016" y="639"/>
                </a:lnTo>
                <a:lnTo>
                  <a:pt x="2043" y="639"/>
                </a:lnTo>
                <a:lnTo>
                  <a:pt x="2115" y="657"/>
                </a:lnTo>
                <a:lnTo>
                  <a:pt x="2187" y="657"/>
                </a:lnTo>
                <a:lnTo>
                  <a:pt x="2259" y="666"/>
                </a:lnTo>
                <a:lnTo>
                  <a:pt x="2313" y="666"/>
                </a:lnTo>
                <a:lnTo>
                  <a:pt x="2367" y="666"/>
                </a:lnTo>
                <a:lnTo>
                  <a:pt x="2439" y="666"/>
                </a:lnTo>
                <a:lnTo>
                  <a:pt x="2511" y="666"/>
                </a:lnTo>
                <a:lnTo>
                  <a:pt x="2601" y="657"/>
                </a:lnTo>
                <a:lnTo>
                  <a:pt x="2655" y="639"/>
                </a:lnTo>
                <a:lnTo>
                  <a:pt x="2691" y="603"/>
                </a:lnTo>
                <a:lnTo>
                  <a:pt x="2700" y="549"/>
                </a:lnTo>
                <a:lnTo>
                  <a:pt x="2709" y="495"/>
                </a:lnTo>
                <a:lnTo>
                  <a:pt x="2709" y="441"/>
                </a:lnTo>
                <a:lnTo>
                  <a:pt x="2709" y="387"/>
                </a:lnTo>
                <a:lnTo>
                  <a:pt x="2709" y="315"/>
                </a:lnTo>
                <a:lnTo>
                  <a:pt x="2691" y="261"/>
                </a:lnTo>
                <a:lnTo>
                  <a:pt x="2673" y="189"/>
                </a:lnTo>
                <a:lnTo>
                  <a:pt x="2655" y="117"/>
                </a:lnTo>
                <a:lnTo>
                  <a:pt x="2637" y="63"/>
                </a:lnTo>
                <a:lnTo>
                  <a:pt x="2610" y="36"/>
                </a:lnTo>
                <a:lnTo>
                  <a:pt x="2583" y="18"/>
                </a:lnTo>
                <a:lnTo>
                  <a:pt x="2547" y="9"/>
                </a:lnTo>
                <a:lnTo>
                  <a:pt x="2520" y="0"/>
                </a:lnTo>
                <a:lnTo>
                  <a:pt x="2484" y="0"/>
                </a:lnTo>
                <a:lnTo>
                  <a:pt x="2457" y="0"/>
                </a:lnTo>
                <a:lnTo>
                  <a:pt x="2430" y="9"/>
                </a:lnTo>
                <a:lnTo>
                  <a:pt x="2394" y="9"/>
                </a:lnTo>
                <a:lnTo>
                  <a:pt x="2358" y="18"/>
                </a:lnTo>
                <a:lnTo>
                  <a:pt x="2331" y="36"/>
                </a:lnTo>
                <a:lnTo>
                  <a:pt x="2304" y="45"/>
                </a:lnTo>
                <a:lnTo>
                  <a:pt x="2277" y="54"/>
                </a:lnTo>
                <a:lnTo>
                  <a:pt x="2250" y="54"/>
                </a:lnTo>
                <a:lnTo>
                  <a:pt x="2223" y="63"/>
                </a:lnTo>
                <a:lnTo>
                  <a:pt x="2196" y="63"/>
                </a:lnTo>
                <a:lnTo>
                  <a:pt x="2169" y="63"/>
                </a:lnTo>
                <a:lnTo>
                  <a:pt x="2142" y="63"/>
                </a:lnTo>
                <a:lnTo>
                  <a:pt x="2079" y="63"/>
                </a:lnTo>
                <a:lnTo>
                  <a:pt x="2052" y="63"/>
                </a:lnTo>
                <a:lnTo>
                  <a:pt x="2025" y="72"/>
                </a:lnTo>
                <a:lnTo>
                  <a:pt x="1998" y="90"/>
                </a:lnTo>
                <a:lnTo>
                  <a:pt x="1971" y="108"/>
                </a:lnTo>
                <a:lnTo>
                  <a:pt x="1944" y="135"/>
                </a:lnTo>
                <a:lnTo>
                  <a:pt x="1917" y="162"/>
                </a:lnTo>
                <a:lnTo>
                  <a:pt x="1899" y="189"/>
                </a:lnTo>
                <a:lnTo>
                  <a:pt x="1872" y="261"/>
                </a:lnTo>
                <a:lnTo>
                  <a:pt x="1854" y="288"/>
                </a:lnTo>
                <a:lnTo>
                  <a:pt x="1836" y="324"/>
                </a:lnTo>
                <a:lnTo>
                  <a:pt x="1809" y="351"/>
                </a:lnTo>
                <a:lnTo>
                  <a:pt x="1800" y="405"/>
                </a:lnTo>
                <a:lnTo>
                  <a:pt x="1764" y="441"/>
                </a:lnTo>
                <a:lnTo>
                  <a:pt x="1746" y="477"/>
                </a:lnTo>
                <a:lnTo>
                  <a:pt x="1719" y="504"/>
                </a:lnTo>
                <a:lnTo>
                  <a:pt x="1701" y="531"/>
                </a:lnTo>
                <a:lnTo>
                  <a:pt x="1683" y="558"/>
                </a:lnTo>
                <a:lnTo>
                  <a:pt x="1656" y="585"/>
                </a:lnTo>
                <a:lnTo>
                  <a:pt x="1638" y="612"/>
                </a:lnTo>
                <a:lnTo>
                  <a:pt x="1611" y="630"/>
                </a:lnTo>
                <a:lnTo>
                  <a:pt x="1584" y="657"/>
                </a:lnTo>
                <a:lnTo>
                  <a:pt x="1566" y="684"/>
                </a:lnTo>
                <a:lnTo>
                  <a:pt x="1539" y="702"/>
                </a:lnTo>
                <a:lnTo>
                  <a:pt x="1512" y="720"/>
                </a:lnTo>
                <a:lnTo>
                  <a:pt x="1485" y="729"/>
                </a:lnTo>
                <a:lnTo>
                  <a:pt x="1458" y="738"/>
                </a:lnTo>
                <a:lnTo>
                  <a:pt x="1431" y="729"/>
                </a:lnTo>
                <a:lnTo>
                  <a:pt x="1404" y="711"/>
                </a:lnTo>
                <a:lnTo>
                  <a:pt x="1395" y="684"/>
                </a:lnTo>
                <a:lnTo>
                  <a:pt x="1386" y="657"/>
                </a:lnTo>
                <a:lnTo>
                  <a:pt x="1377" y="630"/>
                </a:lnTo>
                <a:lnTo>
                  <a:pt x="1377" y="603"/>
                </a:lnTo>
                <a:lnTo>
                  <a:pt x="1368" y="576"/>
                </a:lnTo>
                <a:lnTo>
                  <a:pt x="1359" y="549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120400" y="4606920"/>
            <a:ext cx="153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سی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669200" y="5202360"/>
            <a:ext cx="1472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سی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ضیه عمومیت یافته کاروا نرژ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C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حاصل جمع نیروهای پایستار و ناپایستا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کل انجام شده برابر است با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C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بق قضیه کار و انرژی جنبشی :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C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                                             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C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– 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 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می دانیم که:             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C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+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i="1" lang="en-US" sz="2000" spc="-1" strike="noStrike" baseline="-14000">
                <a:solidFill>
                  <a:srgbClr val="fafd00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820960" y="5167440"/>
            <a:ext cx="3660840" cy="66816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285920" y="4243320"/>
            <a:ext cx="569880" cy="446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ضیه عمومیت یافته کاروا نرژ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61560" y="2558880"/>
            <a:ext cx="7162920" cy="105264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txBody>
          <a:bodyPr lIns="90360" rIns="90360" tIns="44280" bIns="44280" anchor="t">
            <a:normAutofit fontScale="43000"/>
          </a:bodyPr>
          <a:p>
            <a:pPr marL="122760" indent="-122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تغییر انرژی پتانسیل + جنبشی یک سیستم  برابر است با کارنیروهای غیر پایستاروارد بر سیستم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لذا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i="1" lang="en-US" sz="1800" spc="-1" strike="noStrike" baseline="-16000">
                <a:solidFill>
                  <a:srgbClr val="00ffff"/>
                </a:solidFill>
                <a:latin typeface="Arial"/>
              </a:rPr>
              <a:t>mechanical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K+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سیستم پایستار نمی مان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4840" indent="-982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کلیه نیروهای وارد برسیستم پایستار باشددراین صور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+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ار می ما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+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i="1" lang="en-US" sz="1800" spc="-1" strike="noStrike" baseline="-16000">
                <a:solidFill>
                  <a:srgbClr val="fafd00"/>
                </a:solidFill>
                <a:latin typeface="Arial"/>
              </a:rPr>
              <a:t>mechanica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عن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18000">
                <a:solidFill>
                  <a:srgbClr val="fafd00"/>
                </a:solidFill>
                <a:latin typeface="Arial"/>
              </a:rPr>
              <a:t>NC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وده که بامعنی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4840" indent="-982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برخی از نیروها ناپایستار باش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انند نیروی اصطکا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+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دراین صورت انرژی پایستار نبوده و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1800" spc="-1" strike="noStrike" baseline="-16000">
                <a:solidFill>
                  <a:srgbClr val="fafd00"/>
                </a:solidFill>
                <a:latin typeface="Arial"/>
              </a:rPr>
              <a:t>NC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خواهد بود که بازهم معنی دار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571840" y="1717560"/>
            <a:ext cx="3860640" cy="544680"/>
          </a:xfrm>
          <a:prstGeom prst="roundRect">
            <a:avLst>
              <a:gd name="adj" fmla="val 12486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597760" y="1800360"/>
            <a:ext cx="3816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C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+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i="1" lang="en-US" sz="2000" spc="-1" strike="noStrike" baseline="-16000">
                <a:solidFill>
                  <a:srgbClr val="fafd00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" descr="speed and stopping"/>
          <p:cNvPicPr/>
          <p:nvPr/>
        </p:nvPicPr>
        <p:blipFill>
          <a:blip r:embed="rId1"/>
          <a:stretch/>
        </p:blipFill>
        <p:spPr>
          <a:xfrm>
            <a:off x="563400" y="2984400"/>
            <a:ext cx="4272120" cy="335448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motion of a sledder"/>
          <p:cNvPicPr/>
          <p:nvPr/>
        </p:nvPicPr>
        <p:blipFill>
          <a:blip r:embed="rId2"/>
          <a:stretch/>
        </p:blipFill>
        <p:spPr>
          <a:xfrm>
            <a:off x="563400" y="1389240"/>
            <a:ext cx="4241880" cy="140148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4935600" y="3019320"/>
            <a:ext cx="3556080" cy="32655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صله توقف اتومبیل دراثر ترمز گرفتن به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رعت اولیه او بستگی دارد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021280" y="1306440"/>
            <a:ext cx="3527280" cy="1479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رانیمیشن روبرو کودکی از یک تپه یخی پایی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ی اید و ازشیب تند مقابل بالا می رود انرژی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کل او همواره ثابت است وتبدیل انرژی صورت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ی گیرد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جسمی که روی سطح داری اصطکاک می لغز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16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از روی یک سطح شیبدار بدون اصطکا ک پایین می آید اگر قسمت افقی مسیر دارای ضریب اصطکا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f00ff"/>
                </a:solidFill>
                <a:latin typeface="Arial"/>
              </a:rPr>
              <a:t>k</a:t>
            </a:r>
            <a:r>
              <a:rPr b="1" lang="fa-IR" sz="20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جسم تاقبل از توقف چه مسافت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روی مسیر افقی طی می کن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800440" y="6014880"/>
            <a:ext cx="33019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600200" y="4734000"/>
            <a:ext cx="0" cy="11160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1309680" y="5844960"/>
            <a:ext cx="1192320" cy="284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767760" y="60260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996480" y="50785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rot="2820000">
            <a:off x="1653840" y="4541400"/>
            <a:ext cx="149040" cy="114480"/>
          </a:xfrm>
          <a:prstGeom prst="octagon">
            <a:avLst>
              <a:gd name="adj" fmla="val 29278"/>
            </a:avLst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171600" y="5092560"/>
            <a:ext cx="1126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</a:t>
            </a:r>
            <a:r>
              <a:rPr b="1" lang="en-US" sz="2400" spc="-1" strike="noStrike" baseline="-25000">
                <a:solidFill>
                  <a:srgbClr val="ff00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735360" y="5424480"/>
            <a:ext cx="230040" cy="3445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867040" y="5819760"/>
            <a:ext cx="47736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1500120" y="4471920"/>
            <a:ext cx="1339920" cy="13874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832120" y="5853240"/>
            <a:ext cx="490068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056280" y="5684760"/>
            <a:ext cx="152280" cy="111240"/>
          </a:xfrm>
          <a:prstGeom prst="octagon">
            <a:avLst>
              <a:gd name="adj" fmla="val 29278"/>
            </a:avLst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ل مسئل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ستفاده از :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C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+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ل سابق: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= -m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C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انجام شده به وسیله اصطکاک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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جسم از سکون شروع به حرکت کرده و نهایتا متوقف می شود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C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U         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-mg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x = d /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092480" y="4221000"/>
            <a:ext cx="1544760" cy="573120"/>
          </a:xfrm>
          <a:prstGeom prst="roundRect">
            <a:avLst>
              <a:gd name="adj" fmla="val 12486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800440" y="6014880"/>
            <a:ext cx="33019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600200" y="4734000"/>
            <a:ext cx="0" cy="11160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1309680" y="5844960"/>
            <a:ext cx="1192320" cy="284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767760" y="60260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996480" y="50785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rot="2820000">
            <a:off x="1653840" y="4541400"/>
            <a:ext cx="149040" cy="114480"/>
          </a:xfrm>
          <a:prstGeom prst="octagon">
            <a:avLst>
              <a:gd name="adj" fmla="val 29278"/>
            </a:avLst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201840" y="5092560"/>
            <a:ext cx="981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f00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711600" y="5413320"/>
            <a:ext cx="230040" cy="3445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867040" y="5819760"/>
            <a:ext cx="47736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1500120" y="4471920"/>
            <a:ext cx="1330560" cy="13874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832120" y="5853240"/>
            <a:ext cx="490068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62760" y="5691240"/>
            <a:ext cx="139680" cy="98280"/>
          </a:xfrm>
          <a:prstGeom prst="octagon">
            <a:avLst>
              <a:gd name="adj" fmla="val 29278"/>
            </a:avLst>
          </a:prstGeom>
          <a:solidFill>
            <a:srgbClr val="fc0000"/>
          </a:solidFill>
          <a:ln w="255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H="1" rot="16200000">
            <a:off x="4712040" y="3529080"/>
            <a:ext cx="301680" cy="657000"/>
          </a:xfrm>
          <a:prstGeom prst="rightArrow">
            <a:avLst>
              <a:gd name="adj1" fmla="val 50000"/>
              <a:gd name="adj2" fmla="val 50014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875120" y="3306600"/>
            <a:ext cx="358920" cy="273240"/>
          </a:xfrm>
          <a:prstGeom prst="leftArrow">
            <a:avLst>
              <a:gd name="adj1" fmla="val 50000"/>
              <a:gd name="adj2" fmla="val 32839"/>
            </a:avLst>
          </a:prstGeom>
          <a:solidFill>
            <a:srgbClr val="fafd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نهایی درس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38280" y="1981080"/>
            <a:ext cx="751500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ور انرژی پتانسیل و نیروهای پایست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گی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” انر ژی مکانیکی کل</a:t>
            </a:r>
            <a:r>
              <a:rPr b="1" lang="fa-IR" sz="2000" spc="-1" strike="noStrike">
                <a:solidFill>
                  <a:srgbClr val="fc00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ال : آون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های غیر پایست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ضیه کار وانرژ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مسئل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7920" y="1980720"/>
            <a:ext cx="7515000" cy="32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ور انرژی پتانسیل و نیروهای پایست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ستگی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” انر ژی مکانیکی کل</a:t>
            </a:r>
            <a:r>
              <a:rPr b="1" lang="fa-IR" sz="2000" spc="-1" strike="noStrike">
                <a:solidFill>
                  <a:srgbClr val="fc00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ال : آون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های غیر پایست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ضیه کار وانرژ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مسئل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های پایستا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نیروی گرانشی بستگی به مسیر ندار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71520" y="3451320"/>
          <a:ext cx="107964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3451320"/>
                    <a:ext cx="107964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 flipV="1">
            <a:off x="1544760" y="3742920"/>
            <a:ext cx="2074680" cy="5936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6280" y="4019400"/>
            <a:ext cx="1019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538280" y="2966760"/>
            <a:ext cx="2239920" cy="13748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95680" y="2973240"/>
            <a:ext cx="277920" cy="784440"/>
          </a:xfrm>
          <a:custGeom>
            <a:avLst/>
            <a:gdLst/>
            <a:ahLst/>
            <a:rect l="l" t="t" r="r" b="b"/>
            <a:pathLst>
              <a:path w="175" h="494">
                <a:moveTo>
                  <a:pt x="20" y="493"/>
                </a:moveTo>
                <a:lnTo>
                  <a:pt x="20" y="481"/>
                </a:lnTo>
                <a:lnTo>
                  <a:pt x="20" y="465"/>
                </a:lnTo>
                <a:lnTo>
                  <a:pt x="20" y="453"/>
                </a:lnTo>
                <a:lnTo>
                  <a:pt x="28" y="441"/>
                </a:lnTo>
                <a:lnTo>
                  <a:pt x="28" y="429"/>
                </a:lnTo>
                <a:lnTo>
                  <a:pt x="28" y="417"/>
                </a:lnTo>
                <a:lnTo>
                  <a:pt x="28" y="406"/>
                </a:lnTo>
                <a:lnTo>
                  <a:pt x="20" y="394"/>
                </a:lnTo>
                <a:lnTo>
                  <a:pt x="12" y="382"/>
                </a:lnTo>
                <a:lnTo>
                  <a:pt x="4" y="370"/>
                </a:lnTo>
                <a:lnTo>
                  <a:pt x="0" y="358"/>
                </a:lnTo>
                <a:lnTo>
                  <a:pt x="0" y="342"/>
                </a:lnTo>
                <a:lnTo>
                  <a:pt x="0" y="330"/>
                </a:lnTo>
                <a:lnTo>
                  <a:pt x="8" y="318"/>
                </a:lnTo>
                <a:lnTo>
                  <a:pt x="20" y="310"/>
                </a:lnTo>
                <a:lnTo>
                  <a:pt x="36" y="302"/>
                </a:lnTo>
                <a:lnTo>
                  <a:pt x="47" y="298"/>
                </a:lnTo>
                <a:lnTo>
                  <a:pt x="59" y="298"/>
                </a:lnTo>
                <a:lnTo>
                  <a:pt x="71" y="298"/>
                </a:lnTo>
                <a:lnTo>
                  <a:pt x="103" y="290"/>
                </a:lnTo>
                <a:lnTo>
                  <a:pt x="127" y="286"/>
                </a:lnTo>
                <a:lnTo>
                  <a:pt x="158" y="270"/>
                </a:lnTo>
                <a:lnTo>
                  <a:pt x="170" y="239"/>
                </a:lnTo>
                <a:lnTo>
                  <a:pt x="174" y="227"/>
                </a:lnTo>
                <a:lnTo>
                  <a:pt x="174" y="215"/>
                </a:lnTo>
                <a:lnTo>
                  <a:pt x="174" y="203"/>
                </a:lnTo>
                <a:lnTo>
                  <a:pt x="166" y="191"/>
                </a:lnTo>
                <a:lnTo>
                  <a:pt x="150" y="179"/>
                </a:lnTo>
                <a:lnTo>
                  <a:pt x="138" y="171"/>
                </a:lnTo>
                <a:lnTo>
                  <a:pt x="107" y="155"/>
                </a:lnTo>
                <a:lnTo>
                  <a:pt x="99" y="143"/>
                </a:lnTo>
                <a:lnTo>
                  <a:pt x="95" y="131"/>
                </a:lnTo>
                <a:lnTo>
                  <a:pt x="95" y="115"/>
                </a:lnTo>
                <a:lnTo>
                  <a:pt x="95" y="103"/>
                </a:lnTo>
                <a:lnTo>
                  <a:pt x="99" y="91"/>
                </a:lnTo>
                <a:lnTo>
                  <a:pt x="107" y="80"/>
                </a:lnTo>
                <a:lnTo>
                  <a:pt x="119" y="68"/>
                </a:lnTo>
                <a:lnTo>
                  <a:pt x="131" y="56"/>
                </a:lnTo>
                <a:lnTo>
                  <a:pt x="138" y="40"/>
                </a:lnTo>
                <a:lnTo>
                  <a:pt x="146" y="28"/>
                </a:lnTo>
                <a:lnTo>
                  <a:pt x="146" y="16"/>
                </a:lnTo>
                <a:lnTo>
                  <a:pt x="146" y="4"/>
                </a:lnTo>
                <a:lnTo>
                  <a:pt x="134" y="0"/>
                </a:lnTo>
                <a:lnTo>
                  <a:pt x="123" y="0"/>
                </a:lnTo>
                <a:lnTo>
                  <a:pt x="111" y="4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19080" y="3362400"/>
            <a:ext cx="1019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36200" y="45734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78200" y="2909880"/>
            <a:ext cx="82440" cy="82440"/>
          </a:xfrm>
          <a:prstGeom prst="ellipse">
            <a:avLst/>
          </a:prstGeom>
          <a:solidFill>
            <a:srgbClr val="7679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5760" y="28591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25920" y="3706920"/>
            <a:ext cx="82440" cy="8244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6680" y="51577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70280" y="4983120"/>
            <a:ext cx="149400" cy="149400"/>
          </a:xfrm>
          <a:prstGeom prst="ellipse">
            <a:avLst/>
          </a:prstGeom>
          <a:solidFill>
            <a:srgbClr val="767900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6760" y="48625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89240" y="5651640"/>
            <a:ext cx="5907960" cy="98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31"/>
                </a:moveTo>
                <a:arcTo wR="10800" hR="10800" stAng="-10777893" swAng="5376045"/>
                <a:lnTo>
                  <a:pt x="10800" y="10800"/>
                </a:lnTo>
                <a:close/>
              </a:path>
              <a:path fill="none" w="21600" h="21600">
                <a:moveTo>
                  <a:pt x="0" y="10731"/>
                </a:moveTo>
                <a:arcTo wR="10800" hR="10800" stAng="-10777893" swAng="5376045"/>
              </a:path>
            </a:pathLst>
          </a:custGeom>
          <a:noFill/>
          <a:ln cap="rnd"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00440" y="5651640"/>
            <a:ext cx="6682680" cy="98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0" y="0"/>
                </a:moveTo>
                <a:arcTo wR="10800" hR="10800" stAng="-5396733" swAng="5385675"/>
                <a:lnTo>
                  <a:pt x="10800" y="10800"/>
                </a:lnTo>
                <a:close/>
              </a:path>
              <a:path fill="none" w="21600" h="21600">
                <a:moveTo>
                  <a:pt x="10810" y="0"/>
                </a:moveTo>
                <a:arcTo wR="10800" hR="10800" stAng="-5396733" swAng="5385675"/>
              </a:path>
            </a:pathLst>
          </a:custGeom>
          <a:noFill/>
          <a:ln cap="rnd"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7880" y="5464080"/>
            <a:ext cx="149040" cy="14940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00480" y="4971960"/>
            <a:ext cx="816120" cy="530280"/>
          </a:xfrm>
          <a:custGeom>
            <a:avLst/>
            <a:gdLst/>
            <a:ahLst/>
            <a:rect l="l" t="t" r="r" b="b"/>
            <a:pathLst>
              <a:path w="514" h="334">
                <a:moveTo>
                  <a:pt x="90" y="324"/>
                </a:moveTo>
                <a:lnTo>
                  <a:pt x="117" y="315"/>
                </a:lnTo>
                <a:lnTo>
                  <a:pt x="135" y="288"/>
                </a:lnTo>
                <a:lnTo>
                  <a:pt x="135" y="261"/>
                </a:lnTo>
                <a:lnTo>
                  <a:pt x="135" y="234"/>
                </a:lnTo>
                <a:lnTo>
                  <a:pt x="117" y="207"/>
                </a:lnTo>
                <a:lnTo>
                  <a:pt x="90" y="189"/>
                </a:lnTo>
                <a:lnTo>
                  <a:pt x="63" y="171"/>
                </a:lnTo>
                <a:lnTo>
                  <a:pt x="36" y="162"/>
                </a:lnTo>
                <a:lnTo>
                  <a:pt x="18" y="135"/>
                </a:lnTo>
                <a:lnTo>
                  <a:pt x="9" y="108"/>
                </a:lnTo>
                <a:lnTo>
                  <a:pt x="0" y="81"/>
                </a:lnTo>
                <a:lnTo>
                  <a:pt x="0" y="54"/>
                </a:lnTo>
                <a:lnTo>
                  <a:pt x="9" y="27"/>
                </a:lnTo>
                <a:lnTo>
                  <a:pt x="36" y="18"/>
                </a:lnTo>
                <a:lnTo>
                  <a:pt x="63" y="0"/>
                </a:lnTo>
                <a:lnTo>
                  <a:pt x="90" y="0"/>
                </a:lnTo>
                <a:lnTo>
                  <a:pt x="117" y="0"/>
                </a:lnTo>
                <a:lnTo>
                  <a:pt x="144" y="9"/>
                </a:lnTo>
                <a:lnTo>
                  <a:pt x="171" y="36"/>
                </a:lnTo>
                <a:lnTo>
                  <a:pt x="189" y="63"/>
                </a:lnTo>
                <a:lnTo>
                  <a:pt x="207" y="90"/>
                </a:lnTo>
                <a:lnTo>
                  <a:pt x="207" y="117"/>
                </a:lnTo>
                <a:lnTo>
                  <a:pt x="216" y="144"/>
                </a:lnTo>
                <a:lnTo>
                  <a:pt x="216" y="171"/>
                </a:lnTo>
                <a:lnTo>
                  <a:pt x="225" y="198"/>
                </a:lnTo>
                <a:lnTo>
                  <a:pt x="225" y="225"/>
                </a:lnTo>
                <a:lnTo>
                  <a:pt x="243" y="252"/>
                </a:lnTo>
                <a:lnTo>
                  <a:pt x="261" y="288"/>
                </a:lnTo>
                <a:lnTo>
                  <a:pt x="288" y="297"/>
                </a:lnTo>
                <a:lnTo>
                  <a:pt x="324" y="315"/>
                </a:lnTo>
                <a:lnTo>
                  <a:pt x="396" y="333"/>
                </a:lnTo>
                <a:lnTo>
                  <a:pt x="423" y="333"/>
                </a:lnTo>
                <a:lnTo>
                  <a:pt x="450" y="333"/>
                </a:lnTo>
                <a:lnTo>
                  <a:pt x="477" y="333"/>
                </a:lnTo>
                <a:lnTo>
                  <a:pt x="504" y="315"/>
                </a:lnTo>
                <a:lnTo>
                  <a:pt x="513" y="288"/>
                </a:lnTo>
                <a:lnTo>
                  <a:pt x="513" y="261"/>
                </a:lnTo>
                <a:lnTo>
                  <a:pt x="513" y="234"/>
                </a:lnTo>
                <a:lnTo>
                  <a:pt x="513" y="207"/>
                </a:lnTo>
                <a:lnTo>
                  <a:pt x="486" y="189"/>
                </a:lnTo>
                <a:lnTo>
                  <a:pt x="459" y="171"/>
                </a:lnTo>
                <a:lnTo>
                  <a:pt x="432" y="144"/>
                </a:lnTo>
                <a:lnTo>
                  <a:pt x="405" y="117"/>
                </a:lnTo>
                <a:lnTo>
                  <a:pt x="378" y="99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43600"/>
            <a:ext cx="0" cy="50616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40240" y="5159520"/>
            <a:ext cx="1946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m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281560" y="3201840"/>
                <a:ext cx="2401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M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کار وانرژ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11240" indent="-11124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از ارتفا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سطح زمین رها می شود و وقتی با زمین برخورد می کند دارای انرژی جنبشی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 دیگری از ارتفا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R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سطح زمین رها می شود و وقتی با زمین برخورد می کند دارای انرژی جنبش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عاع کره زمین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120" indent="-88920" algn="r" rtl="1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سب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/ K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قدر است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99200" y="4079880"/>
            <a:ext cx="1892520" cy="2220840"/>
            <a:chOff x="799200" y="4079880"/>
            <a:chExt cx="1892520" cy="2220840"/>
          </a:xfrm>
        </p:grpSpPr>
        <p:sp>
          <p:nvSpPr>
            <p:cNvPr id="82" name=""/>
            <p:cNvSpPr/>
            <p:nvPr/>
          </p:nvSpPr>
          <p:spPr>
            <a:xfrm>
              <a:off x="799200" y="4079880"/>
              <a:ext cx="1892520" cy="21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   </a:t>
              </a:r>
              <a:r>
                <a:rPr b="1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811160" y="4782960"/>
                  <a:ext cx="18432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811160" y="5710320"/>
                  <a:ext cx="18432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1463040" y="4103640"/>
              <a:ext cx="89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244680" y="4883040"/>
            <a:ext cx="1270080" cy="1206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473800"/>
            <a:ext cx="63504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9960" y="5500800"/>
            <a:ext cx="10400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406760" y="4487760"/>
            <a:ext cx="1184400" cy="64296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508640" y="5079600"/>
            <a:ext cx="672840" cy="20340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56280" y="5029200"/>
            <a:ext cx="114120" cy="88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75320" y="4406760"/>
            <a:ext cx="114120" cy="88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9480" y="5221440"/>
            <a:ext cx="10400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24240" y="4383000"/>
            <a:ext cx="11818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انرژی پایستار است پس: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 =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4680" y="4883040"/>
            <a:ext cx="1270080" cy="1206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5473800"/>
            <a:ext cx="63504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9960" y="5500800"/>
            <a:ext cx="10400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406760" y="4487760"/>
            <a:ext cx="1184400" cy="64296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08640" y="5079600"/>
            <a:ext cx="672840" cy="20340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6280" y="5029200"/>
            <a:ext cx="114120" cy="88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75320" y="4406760"/>
            <a:ext cx="114120" cy="88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89480" y="5221440"/>
            <a:ext cx="10400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24240" y="4383000"/>
            <a:ext cx="11818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96840" y="2382840"/>
            <a:ext cx="3392640" cy="717480"/>
            <a:chOff x="996840" y="2382840"/>
            <a:chExt cx="3392640" cy="717480"/>
          </a:xfrm>
        </p:grpSpPr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2033640" y="2382840"/>
                  <a:ext cx="235584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GM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"/>
            <p:cNvSpPr/>
            <p:nvPr/>
          </p:nvSpPr>
          <p:spPr>
            <a:xfrm>
              <a:off x="996840" y="2495520"/>
              <a:ext cx="787680" cy="457200"/>
            </a:xfrm>
            <a:prstGeom prst="rightArrow">
              <a:avLst>
                <a:gd name="adj1" fmla="val 50000"/>
                <a:gd name="adj2" fmla="val 86149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919760" y="2421000"/>
            <a:ext cx="2406600" cy="688680"/>
            <a:chOff x="4919760" y="2421000"/>
            <a:chExt cx="2406600" cy="68868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5478480" y="2421000"/>
                  <a:ext cx="1847880" cy="68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ΔK=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4919760" y="2463840"/>
              <a:ext cx="469800" cy="622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776760" y="3405240"/>
            <a:ext cx="456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 = G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هر دوجسم یکسان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3880" y="262872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جسم اول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87880" y="4959360"/>
            <a:ext cx="1270080" cy="1206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5549760"/>
            <a:ext cx="63504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83160" y="5576760"/>
            <a:ext cx="10400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251840" y="5156280"/>
            <a:ext cx="672840" cy="20304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99480" y="5105520"/>
            <a:ext cx="114120" cy="88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32680" y="5297400"/>
            <a:ext cx="10400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49320" y="2738520"/>
                <a:ext cx="31212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c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92520" y="1706400"/>
                <a:ext cx="1846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K=c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 flipV="1">
            <a:off x="7149960" y="4564080"/>
            <a:ext cx="1184400" cy="64296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18520" y="4483080"/>
            <a:ext cx="114120" cy="88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67440" y="4459320"/>
            <a:ext cx="11818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35280" y="3784680"/>
                <a:ext cx="31464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c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949560" y="3201840"/>
            <a:ext cx="447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جسم دو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2760" y="5265720"/>
            <a:ext cx="110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76440" y="4809960"/>
                <a:ext cx="11970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41Z</dcterms:created>
  <dc:creator>Mats A. Selen</dc:creator>
  <dc:description/>
  <cp:keywords/>
  <dc:language>en-US</dc:language>
  <cp:lastModifiedBy>janubi</cp:lastModifiedBy>
  <dcterms:modified xsi:type="dcterms:W3CDTF">2006-04-15T02:20:42Z</dcterms:modified>
  <cp:revision>77</cp:revision>
  <dc:subject>Work &amp; Energy</dc:subject>
  <dc:title>Physics 106P: Lecture 12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