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94320" y="871056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B6927237-EF5A-4498-9BC5-48F8C96385DA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 the ball around the loop.  comment on the fact that 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not the same as sli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 with vertical 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spring shot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 spring constant given on the little card is for the whole 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.e. both togeth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3680" y="463680"/>
            <a:ext cx="8216640" cy="600696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51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27160" y="6516720"/>
            <a:ext cx="26427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fafd00"/>
                </a:solidFill>
                <a:latin typeface="Arial"/>
                <a:cs typeface="Arial"/>
              </a:rPr>
              <a:t>دانشگاه پیام نور- فیزیک </a:t>
            </a:r>
            <a:r>
              <a:rPr b="0" lang="fa-IR" sz="1400" spc="-1" strike="noStrike">
                <a:solidFill>
                  <a:srgbClr val="fafd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95160" y="588960"/>
            <a:ext cx="436680" cy="601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00400" y="1371600"/>
            <a:ext cx="4038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Arial"/>
                <a:cs typeface="Arial"/>
              </a:rPr>
              <a:t>فیزیک پایه </a:t>
            </a:r>
            <a:r>
              <a:rPr b="1" lang="fa-IR" sz="3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fa-IR" sz="3600" spc="-1" strike="noStrike">
                <a:solidFill>
                  <a:srgbClr val="ffffff"/>
                </a:solidFill>
                <a:latin typeface="Arial"/>
                <a:ea typeface="Arial"/>
              </a:rPr>
              <a:t>( مکانیک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درس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4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 واحد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cs typeface="Arial"/>
              </a:rPr>
              <a:t>رشته های ریاضی ، شیمی و کامپیوتر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درس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3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واحدی (حذف فصل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12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و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13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cs typeface="Arial"/>
              </a:rPr>
              <a:t>رشته کامپبوتر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afd00"/>
                </a:solidFill>
                <a:latin typeface="Arial"/>
                <a:cs typeface="Arial"/>
              </a:rPr>
              <a:t>هریس بنسو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afd00"/>
                </a:solidFill>
                <a:latin typeface="Arial"/>
                <a:cs typeface="Arial"/>
              </a:rPr>
              <a:t>ترجمه و تدوین: محمد رضا بهار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52880" y="3962520"/>
            <a:ext cx="3353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ff00"/>
                </a:solidFill>
                <a:latin typeface="Arial"/>
                <a:cs typeface="B Koodak"/>
              </a:rPr>
              <a:t>تهیه پاورپوینت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B Koodak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e9b03"/>
                </a:solidFill>
                <a:latin typeface="Arial"/>
                <a:cs typeface="B Koodak"/>
              </a:rPr>
              <a:t>محمود جنوب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e9b03"/>
                </a:solidFill>
                <a:latin typeface="Arial"/>
                <a:cs typeface="B Koodak"/>
              </a:rPr>
              <a:t>عضوهیئت علمی – مرکز ارومی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143000" y="4191120"/>
            <a:ext cx="3200400" cy="2097000"/>
            <a:chOff x="1143000" y="4191120"/>
            <a:chExt cx="3200400" cy="209700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143000" y="4191120"/>
              <a:ext cx="3200400" cy="2097000"/>
            </a:xfrm>
            <a:prstGeom prst="rect">
              <a:avLst/>
            </a:prstGeom>
            <a:ln w="9360">
              <a:solidFill>
                <a:srgbClr val="ff00ff"/>
              </a:solidFill>
              <a:miter/>
            </a:ln>
          </p:spPr>
        </p:pic>
        <p:sp>
          <p:nvSpPr>
            <p:cNvPr id="49" name=""/>
            <p:cNvSpPr/>
            <p:nvPr/>
          </p:nvSpPr>
          <p:spPr>
            <a:xfrm>
              <a:off x="1143000" y="4191120"/>
              <a:ext cx="3200400" cy="2057400"/>
            </a:xfrm>
            <a:prstGeom prst="rect">
              <a:avLst/>
            </a:prstGeom>
            <a:noFill/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سئله : تاچه ارتفاعی ؟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164" name=""/>
          <p:cNvGraphicFramePr/>
          <p:nvPr/>
        </p:nvGraphicFramePr>
        <p:xfrm>
          <a:off x="1095480" y="3903840"/>
          <a:ext cx="2144520" cy="21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5480" y="3903840"/>
                    <a:ext cx="214452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1625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214200" indent="-2142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پرتابه ای به جرم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ز سطح زمین با سرعت اولیه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ff00"/>
                </a:solidFill>
                <a:latin typeface="Arial"/>
              </a:rPr>
              <a:t>0</a:t>
            </a:r>
            <a:r>
              <a:rPr b="1" i="1" lang="en-US" sz="2000" spc="-1" strike="noStrike" baseline="-25000">
                <a:solidFill>
                  <a:srgbClr val="00ff00"/>
                </a:solidFill>
                <a:latin typeface="Arial"/>
              </a:rPr>
              <a:t>   </a:t>
            </a:r>
            <a:r>
              <a:rPr b="1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پرتاب می شو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420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یشینه فاصله آن از سطح زمین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قبل از اینکه به پایین برگردد چقدراست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044960" y="3435480"/>
            <a:ext cx="444600" cy="5968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2825640" y="4349880"/>
            <a:ext cx="36828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944800" y="4545000"/>
            <a:ext cx="130320" cy="14436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240080" y="3706920"/>
            <a:ext cx="130320" cy="14436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1454040" y="4565160"/>
            <a:ext cx="1511280" cy="10033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 flipV="1">
            <a:off x="1454040" y="3575160"/>
            <a:ext cx="2654280" cy="19936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2856600" y="3483000"/>
            <a:ext cx="13003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MAX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303640" y="3940200"/>
            <a:ext cx="10364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 flipV="1">
            <a:off x="3206880" y="4336920"/>
            <a:ext cx="444240" cy="31752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3289320" y="4092480"/>
            <a:ext cx="10047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4044600" y="355932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2977560" y="569268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سئله : تاچه ارتفاعی ؟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36576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لیه نیروها پایستار هستن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NC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 = -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U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3" name=""/>
          <p:cNvGraphicFramePr/>
          <p:nvPr/>
        </p:nvGraphicFramePr>
        <p:xfrm>
          <a:off x="1095480" y="3903840"/>
          <a:ext cx="2144520" cy="21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5480" y="3903840"/>
                    <a:ext cx="214452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5" name=""/>
          <p:cNvSpPr/>
          <p:nvPr/>
        </p:nvSpPr>
        <p:spPr>
          <a:xfrm>
            <a:off x="4044960" y="3435480"/>
            <a:ext cx="444600" cy="5968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2825640" y="4349880"/>
            <a:ext cx="36828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2944800" y="4545000"/>
            <a:ext cx="130320" cy="14436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4240080" y="3706920"/>
            <a:ext cx="130320" cy="14436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1454040" y="4565160"/>
            <a:ext cx="1511280" cy="10033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1454040" y="3575160"/>
            <a:ext cx="2654280" cy="19936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2856600" y="3483000"/>
            <a:ext cx="13003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MAX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3206880" y="4336920"/>
            <a:ext cx="444240" cy="31752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3289320" y="4092480"/>
            <a:ext cx="10047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4044600" y="355932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3435480" y="4184640"/>
            <a:ext cx="1130040" cy="8510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681360" y="4626000"/>
            <a:ext cx="12164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876920" y="1752120"/>
            <a:ext cx="350496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می دانیم ک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8" name=""/>
              <p:cNvSpPr txBox="1"/>
              <p:nvPr/>
            </p:nvSpPr>
            <p:spPr>
              <a:xfrm>
                <a:off x="5452920" y="2268360"/>
                <a:ext cx="15066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K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9" name=""/>
              <p:cNvSpPr txBox="1"/>
              <p:nvPr/>
            </p:nvSpPr>
            <p:spPr>
              <a:xfrm>
                <a:off x="5243400" y="3032280"/>
                <a:ext cx="3133800" cy="82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ΔU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GMm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00" name=""/>
          <p:cNvSpPr/>
          <p:nvPr/>
        </p:nvSpPr>
        <p:spPr>
          <a:xfrm>
            <a:off x="2303640" y="3940200"/>
            <a:ext cx="10364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2977560" y="569268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2" name=""/>
              <p:cNvSpPr txBox="1"/>
              <p:nvPr/>
            </p:nvSpPr>
            <p:spPr>
              <a:xfrm>
                <a:off x="5072040" y="5121360"/>
                <a:ext cx="31194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Mm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03" name=""/>
          <p:cNvSpPr/>
          <p:nvPr/>
        </p:nvSpPr>
        <p:spPr>
          <a:xfrm rot="5400000">
            <a:off x="6343200" y="4228920"/>
            <a:ext cx="768240" cy="593640"/>
          </a:xfrm>
          <a:prstGeom prst="rightArrow">
            <a:avLst>
              <a:gd name="adj1" fmla="val 50000"/>
              <a:gd name="adj2" fmla="val 32353"/>
            </a:avLst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6" name=""/>
              <p:cNvSpPr txBox="1"/>
              <p:nvPr/>
            </p:nvSpPr>
            <p:spPr>
              <a:xfrm>
                <a:off x="1008000" y="1376280"/>
                <a:ext cx="3392640" cy="472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GM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GM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e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207" name=""/>
          <p:cNvGraphicFramePr/>
          <p:nvPr/>
        </p:nvGraphicFramePr>
        <p:xfrm>
          <a:off x="4905360" y="2452680"/>
          <a:ext cx="188280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05360" y="2452680"/>
                    <a:ext cx="188280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9" name=""/>
          <p:cNvSpPr/>
          <p:nvPr/>
        </p:nvSpPr>
        <p:spPr>
          <a:xfrm>
            <a:off x="7494480" y="2041560"/>
            <a:ext cx="389160" cy="5223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6424560" y="2846520"/>
            <a:ext cx="320760" cy="4554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6529320" y="3016080"/>
            <a:ext cx="112680" cy="12708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666200" y="2279520"/>
            <a:ext cx="110880" cy="12564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5221440" y="3032280"/>
            <a:ext cx="1325520" cy="88416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5221440" y="2163240"/>
            <a:ext cx="2328840" cy="17528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6369840" y="2076480"/>
            <a:ext cx="13003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MAX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5832720" y="2444760"/>
            <a:ext cx="10364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 flipV="1">
            <a:off x="6757920" y="2833560"/>
            <a:ext cx="390600" cy="27792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784920" y="2612880"/>
            <a:ext cx="10047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7446600" y="214488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6959520" y="2698560"/>
            <a:ext cx="990720" cy="74916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7129440" y="3081240"/>
            <a:ext cx="12164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6486120" y="395280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4691160" y="4727520"/>
                <a:ext cx="277344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4" name=""/>
          <p:cNvSpPr/>
          <p:nvPr/>
        </p:nvSpPr>
        <p:spPr>
          <a:xfrm>
            <a:off x="3830760" y="5187960"/>
            <a:ext cx="749160" cy="673200"/>
          </a:xfrm>
          <a:prstGeom prst="rightArrow">
            <a:avLst>
              <a:gd name="adj1" fmla="val 50000"/>
              <a:gd name="adj2" fmla="val 55647"/>
            </a:avLst>
          </a:prstGeom>
          <a:solidFill>
            <a:srgbClr val="fc0000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002960" y="522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سئله : تاچه ارتفاعی ؟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سرعت فرار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990720" y="3429000"/>
            <a:ext cx="716256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3000"/>
          </a:bodyPr>
          <a:p>
            <a:pPr marL="151200" indent="-1512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گر بخواهیم که جسم از جاذبه زمین فرار کند و به بینهایت برود مخرج کسر فوق را باید مساوی صفر قرار دهیم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0" name=""/>
              <p:cNvSpPr txBox="1"/>
              <p:nvPr/>
            </p:nvSpPr>
            <p:spPr>
              <a:xfrm>
                <a:off x="3033720" y="1881360"/>
                <a:ext cx="2771640" cy="13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1276200" y="4324320"/>
                <a:ext cx="253224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32" name=""/>
          <p:cNvGrpSpPr/>
          <p:nvPr/>
        </p:nvGrpSpPr>
        <p:grpSpPr>
          <a:xfrm>
            <a:off x="3130560" y="4324320"/>
            <a:ext cx="2347920" cy="965160"/>
            <a:chOff x="3130560" y="4324320"/>
            <a:chExt cx="2347920" cy="965160"/>
          </a:xfrm>
        </p:grpSpPr>
        <mc:AlternateContent>
          <mc:Choice xmlns:a14="http://schemas.microsoft.com/office/drawing/2010/main" Requires="a14">
            <p:sp>
              <p:nvSpPr>
                <p:cNvPr id="1233" name=""/>
                <p:cNvSpPr txBox="1"/>
                <p:nvPr/>
              </p:nvSpPr>
              <p:spPr>
                <a:xfrm>
                  <a:off x="3938760" y="4324320"/>
                  <a:ext cx="1539720" cy="96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r>
                            <m:t xml:space="preserve">2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gR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34" name=""/>
            <p:cNvSpPr/>
            <p:nvPr/>
          </p:nvSpPr>
          <p:spPr>
            <a:xfrm>
              <a:off x="3130560" y="4502160"/>
              <a:ext cx="444600" cy="444600"/>
            </a:xfrm>
            <a:prstGeom prst="rightArrow">
              <a:avLst>
                <a:gd name="adj1" fmla="val 50000"/>
                <a:gd name="adj2" fmla="val 50005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5416560" y="4502160"/>
            <a:ext cx="2778120" cy="541440"/>
            <a:chOff x="5416560" y="4502160"/>
            <a:chExt cx="2778120" cy="541440"/>
          </a:xfrm>
        </p:grpSpPr>
        <mc:AlternateContent>
          <mc:Choice xmlns:a14="http://schemas.microsoft.com/office/drawing/2010/main" Requires="a14">
            <p:sp>
              <p:nvSpPr>
                <p:cNvPr id="1236" name=""/>
                <p:cNvSpPr txBox="1"/>
                <p:nvPr/>
              </p:nvSpPr>
              <p:spPr>
                <a:xfrm>
                  <a:off x="6157800" y="4510080"/>
                  <a:ext cx="203688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gR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237" name=""/>
            <p:cNvSpPr/>
            <p:nvPr/>
          </p:nvSpPr>
          <p:spPr>
            <a:xfrm>
              <a:off x="5416560" y="4502160"/>
              <a:ext cx="444600" cy="444600"/>
            </a:xfrm>
            <a:prstGeom prst="rightArrow">
              <a:avLst>
                <a:gd name="adj1" fmla="val 50000"/>
                <a:gd name="adj2" fmla="val 50005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8" name=""/>
          <p:cNvSpPr/>
          <p:nvPr/>
        </p:nvSpPr>
        <p:spPr>
          <a:xfrm>
            <a:off x="2825640" y="1758960"/>
            <a:ext cx="2502000" cy="13590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1177920" y="5311800"/>
            <a:ext cx="68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قدار این سرع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را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سرعت فرار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esc</a:t>
            </a:r>
            <a:r>
              <a:rPr b="0" i="1" lang="fa-IR" sz="2000" spc="-1" strike="noStrike" baseline="-25000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فرار می گویند.</a:t>
            </a:r>
            <a:r>
              <a:rPr b="0" i="1" lang="fa-IR" sz="2000" spc="-1" strike="noStrike" baseline="-25000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024600" y="4255920"/>
            <a:ext cx="1793880" cy="916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سرعت فرار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41996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درنظر گرفتن رابط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سرعت فرار از سیاره ای به جر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شعا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008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بر است با:(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afd00"/>
                </a:solidFill>
                <a:latin typeface="Arial"/>
              </a:rPr>
              <a:t>G =  6.67 x 10</a:t>
            </a:r>
            <a:r>
              <a:rPr b="1" i="1" lang="en-US" sz="1600" spc="-1" strike="noStrike" baseline="30000">
                <a:solidFill>
                  <a:srgbClr val="fafd00"/>
                </a:solidFill>
                <a:latin typeface="Arial"/>
              </a:rPr>
              <a:t>-11 </a:t>
            </a:r>
            <a:r>
              <a:rPr b="1" i="1" lang="en-US" sz="16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i="1" lang="en-US" sz="1600" spc="-1" strike="noStrike" baseline="30000">
                <a:solidFill>
                  <a:srgbClr val="fafd00"/>
                </a:solidFill>
                <a:latin typeface="Arial"/>
              </a:rPr>
              <a:t>3</a:t>
            </a:r>
            <a:r>
              <a:rPr b="1" i="1" lang="en-US" sz="1600" spc="-1" strike="noStrike">
                <a:solidFill>
                  <a:srgbClr val="fafd00"/>
                </a:solidFill>
                <a:latin typeface="Arial"/>
              </a:rPr>
              <a:t> kg</a:t>
            </a:r>
            <a:r>
              <a:rPr b="1" i="1" lang="en-US" sz="1600" spc="-1" strike="noStrike" baseline="30000">
                <a:solidFill>
                  <a:srgbClr val="fafd00"/>
                </a:solidFill>
                <a:latin typeface="Arial"/>
              </a:rPr>
              <a:t>-1 </a:t>
            </a:r>
            <a:r>
              <a:rPr b="1" i="1" lang="en-US" sz="1600" spc="-1" strike="noStrike">
                <a:solidFill>
                  <a:srgbClr val="fafd00"/>
                </a:solidFill>
                <a:latin typeface="Arial"/>
              </a:rPr>
              <a:t>s</a:t>
            </a:r>
            <a:r>
              <a:rPr b="1" i="1" lang="en-US" sz="1600" spc="-1" strike="noStrike" baseline="30000">
                <a:solidFill>
                  <a:srgbClr val="fafd00"/>
                </a:solidFill>
                <a:latin typeface="Arial"/>
              </a:rPr>
              <a:t>-2</a:t>
            </a:r>
            <a:r>
              <a:rPr b="0" i="1" lang="fa-IR" sz="2000" spc="-1" strike="noStrike" baseline="30000">
                <a:solidFill>
                  <a:srgbClr val="fafd00"/>
                </a:solidFill>
                <a:latin typeface="Arial"/>
                <a:ea typeface="Arial"/>
              </a:rPr>
              <a:t>)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5" name=""/>
              <p:cNvSpPr txBox="1"/>
              <p:nvPr/>
            </p:nvSpPr>
            <p:spPr>
              <a:xfrm>
                <a:off x="3544920" y="2409840"/>
                <a:ext cx="247500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c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M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6" name=""/>
              <p:cNvSpPr txBox="1"/>
              <p:nvPr/>
            </p:nvSpPr>
            <p:spPr>
              <a:xfrm>
                <a:off x="5330880" y="477720"/>
                <a:ext cx="192096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M</m:t>
                        </m:r>
                      </m:num>
                      <m:den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247" name=""/>
          <p:cNvGrpSpPr/>
          <p:nvPr/>
        </p:nvGrpSpPr>
        <p:grpSpPr>
          <a:xfrm>
            <a:off x="605160" y="3435480"/>
            <a:ext cx="7621920" cy="2577960"/>
            <a:chOff x="605160" y="3435480"/>
            <a:chExt cx="7621920" cy="2577960"/>
          </a:xfrm>
        </p:grpSpPr>
        <p:sp>
          <p:nvSpPr>
            <p:cNvPr id="1248" name=""/>
            <p:cNvSpPr/>
            <p:nvPr/>
          </p:nvSpPr>
          <p:spPr>
            <a:xfrm>
              <a:off x="605160" y="4549680"/>
              <a:ext cx="1309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afd00"/>
                  </a:solidFill>
                  <a:latin typeface="Arial"/>
                  <a:cs typeface="Arial"/>
                </a:rPr>
                <a:t>ماه</a:t>
              </a:r>
              <a:r>
                <a:rPr b="0" lang="fa-IR" sz="2000" spc="-1" strike="noStrike">
                  <a:solidFill>
                    <a:srgbClr val="fafd00"/>
                  </a:solidFill>
                  <a:latin typeface="Arial"/>
                  <a:ea typeface="Arial"/>
                </a:rPr>
                <a:t> 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13160" y="4016520"/>
              <a:ext cx="1352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afd00"/>
                  </a:solidFill>
                  <a:latin typeface="Arial"/>
                  <a:cs typeface="Arial"/>
                </a:rPr>
                <a:t>زمین</a:t>
              </a:r>
              <a:r>
                <a:rPr b="0" lang="fa-IR" sz="2000" spc="-1" strike="noStrike">
                  <a:solidFill>
                    <a:srgbClr val="fafd00"/>
                  </a:solidFill>
                  <a:latin typeface="Arial"/>
                  <a:ea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53120" y="5616720"/>
              <a:ext cx="1588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afd00"/>
                  </a:solidFill>
                  <a:latin typeface="Arial"/>
                  <a:cs typeface="Arial"/>
                </a:rPr>
                <a:t>خورشید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22160" y="5083200"/>
              <a:ext cx="1403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afd00"/>
                  </a:solidFill>
                  <a:latin typeface="Arial"/>
                  <a:cs typeface="Arial"/>
                </a:rPr>
                <a:t>مریخ</a:t>
              </a:r>
              <a:r>
                <a:rPr b="0" lang="fa-IR" sz="2000" spc="-1" strike="noStrike">
                  <a:solidFill>
                    <a:srgbClr val="fafd00"/>
                  </a:solidFill>
                  <a:latin typeface="Arial"/>
                  <a:ea typeface="Arial"/>
                </a:rPr>
                <a:t>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142720" y="3483000"/>
              <a:ext cx="1402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p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(m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566160" y="3483000"/>
              <a:ext cx="1557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p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(kg)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059800" y="3478320"/>
              <a:ext cx="16405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g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p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(m/s</a:t>
              </a:r>
              <a:r>
                <a:rPr b="0" i="1" lang="en-US" sz="20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358320" y="3478320"/>
              <a:ext cx="16934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v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esc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(m/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996840" y="3435480"/>
              <a:ext cx="6997680" cy="2577960"/>
            </a:xfrm>
            <a:prstGeom prst="rect">
              <a:avLst/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996840" y="3886200"/>
              <a:ext cx="69976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996840" y="4419720"/>
              <a:ext cx="69976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996840" y="4952880"/>
              <a:ext cx="69976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996840" y="5486400"/>
              <a:ext cx="69976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133720" y="3435480"/>
              <a:ext cx="0" cy="257796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657600" y="3435480"/>
              <a:ext cx="0" cy="257796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181480" y="3435480"/>
              <a:ext cx="0" cy="257796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553080" y="3435480"/>
              <a:ext cx="0" cy="257796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990080" y="4016520"/>
              <a:ext cx="1884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6.378x10</a:t>
              </a:r>
              <a:r>
                <a:rPr b="0" lang="en-US" sz="2000" spc="-1" strike="noStrike" baseline="30000">
                  <a:solidFill>
                    <a:srgbClr val="00ff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442680" y="4016520"/>
              <a:ext cx="1966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5.976x10</a:t>
              </a:r>
              <a:r>
                <a:rPr b="0" lang="en-US" sz="2000" spc="-1" strike="noStrike" baseline="30000">
                  <a:solidFill>
                    <a:srgbClr val="00ff00"/>
                  </a:solidFill>
                  <a:latin typeface="Arial"/>
                </a:rPr>
                <a:t>2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990080" y="4549680"/>
              <a:ext cx="1884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1.737x10</a:t>
              </a:r>
              <a:r>
                <a:rPr b="0" lang="en-US" sz="2000" spc="-1" strike="noStrike" baseline="30000">
                  <a:solidFill>
                    <a:srgbClr val="00ff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442680" y="4549680"/>
              <a:ext cx="1966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7.349x10</a:t>
              </a:r>
              <a:r>
                <a:rPr b="0" lang="en-US" sz="2000" spc="-1" strike="noStrike" baseline="30000">
                  <a:solidFill>
                    <a:srgbClr val="00ff00"/>
                  </a:solidFill>
                  <a:latin typeface="Arial"/>
                </a:rPr>
                <a:t>2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990080" y="5083200"/>
              <a:ext cx="1884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7.149x10</a:t>
              </a:r>
              <a:r>
                <a:rPr b="0" lang="en-US" sz="2000" spc="-1" strike="noStrike" baseline="30000">
                  <a:solidFill>
                    <a:srgbClr val="00ff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442680" y="5083200"/>
              <a:ext cx="1966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1.900x10</a:t>
              </a:r>
              <a:r>
                <a:rPr b="0" lang="en-US" sz="2000" spc="-1" strike="noStrike" baseline="30000">
                  <a:solidFill>
                    <a:srgbClr val="00ff00"/>
                  </a:solidFill>
                  <a:latin typeface="Arial"/>
                </a:rPr>
                <a:t>2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990080" y="5616720"/>
              <a:ext cx="1884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6.950x10</a:t>
              </a:r>
              <a:r>
                <a:rPr b="0" lang="en-US" sz="2000" spc="-1" strike="noStrike" baseline="30000">
                  <a:solidFill>
                    <a:srgbClr val="00ff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442680" y="5616720"/>
              <a:ext cx="1966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1.989x10</a:t>
              </a:r>
              <a:r>
                <a:rPr b="0" lang="en-US" sz="2000" spc="-1" strike="noStrike" baseline="30000">
                  <a:solidFill>
                    <a:srgbClr val="00ff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185080" y="4016520"/>
              <a:ext cx="1248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9.8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185080" y="4549680"/>
              <a:ext cx="1248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1.6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185080" y="5083200"/>
              <a:ext cx="1248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24.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185440" y="5616720"/>
              <a:ext cx="1178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27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484680" y="4016520"/>
              <a:ext cx="1742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11.2x10</a:t>
              </a:r>
              <a:r>
                <a:rPr b="0" lang="en-US" sz="2000" spc="-1" strike="noStrike" baseline="30000">
                  <a:solidFill>
                    <a:srgbClr val="00ff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484680" y="4549680"/>
              <a:ext cx="1742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2.38x10</a:t>
              </a:r>
              <a:r>
                <a:rPr b="0" lang="en-US" sz="2000" spc="-1" strike="noStrike" baseline="30000">
                  <a:solidFill>
                    <a:srgbClr val="00ff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484680" y="5083200"/>
              <a:ext cx="1742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59.5x10</a:t>
              </a:r>
              <a:r>
                <a:rPr b="0" lang="en-US" sz="2000" spc="-1" strike="noStrike" baseline="30000">
                  <a:solidFill>
                    <a:srgbClr val="00ff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484680" y="5616720"/>
              <a:ext cx="1742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618.x10</a:t>
              </a:r>
              <a:r>
                <a:rPr b="0" lang="en-US" sz="2000" spc="-1" strike="noStrike" baseline="30000">
                  <a:solidFill>
                    <a:srgbClr val="00ff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/>
          <p:nvPr/>
        </p:nvSpPr>
        <p:spPr>
          <a:xfrm>
            <a:off x="6337440" y="3936960"/>
            <a:ext cx="12600" cy="2235240"/>
          </a:xfrm>
          <a:prstGeom prst="line">
            <a:avLst/>
          </a:prstGeom>
          <a:ln w="93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سرعت فرار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6000"/>
          </a:bodyPr>
          <a:p>
            <a:pPr marL="159840" indent="-159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و کشتی فضایی در انتظار فرود روی دو سیاره مشابه با جرم مساوی هستن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سیاره 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1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حال سکون است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حالیکه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سیاره 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2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سرعت زاویه ا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حال چرخش است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83760" indent="-1278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دام کشتی فضایی به انرژی بیشتری برای فرار به بینهایت نیاز دارد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246480" y="3332160"/>
            <a:ext cx="487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-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    ب-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    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الف - مساو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2247840" y="4267080"/>
            <a:ext cx="1587600" cy="1587600"/>
          </a:xfrm>
          <a:prstGeom prst="ellipse">
            <a:avLst/>
          </a:prstGeom>
          <a:gradFill rotWithShape="0">
            <a:gsLst>
              <a:gs pos="0">
                <a:srgbClr val="8080ff"/>
              </a:gs>
              <a:gs pos="100000">
                <a:srgbClr val="3b3b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1251000" y="4820400"/>
            <a:ext cx="990720" cy="481680"/>
            <a:chOff x="1251000" y="4820400"/>
            <a:chExt cx="990720" cy="481680"/>
          </a:xfrm>
        </p:grpSpPr>
        <p:sp>
          <p:nvSpPr>
            <p:cNvPr id="1287" name=""/>
            <p:cNvSpPr/>
            <p:nvPr/>
          </p:nvSpPr>
          <p:spPr>
            <a:xfrm rot="16200000">
              <a:off x="1979640" y="4709520"/>
              <a:ext cx="151200" cy="37260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 rot="10800000">
              <a:off x="1868760" y="5150880"/>
              <a:ext cx="372600" cy="15120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 rot="16200000">
              <a:off x="1741680" y="4637520"/>
              <a:ext cx="151200" cy="8478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 rot="16200000">
              <a:off x="1242360" y="4994280"/>
              <a:ext cx="151200" cy="134280"/>
            </a:xfrm>
            <a:prstGeom prst="triangle">
              <a:avLst>
                <a:gd name="adj" fmla="val 49995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1" name=""/>
          <p:cNvSpPr/>
          <p:nvPr/>
        </p:nvSpPr>
        <p:spPr>
          <a:xfrm>
            <a:off x="5537160" y="4267080"/>
            <a:ext cx="1587600" cy="1587600"/>
          </a:xfrm>
          <a:prstGeom prst="ellipse">
            <a:avLst/>
          </a:prstGeom>
          <a:gradFill rotWithShape="0">
            <a:gsLst>
              <a:gs pos="0">
                <a:srgbClr val="8080ff"/>
              </a:gs>
              <a:gs pos="100000">
                <a:srgbClr val="3b3b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4540320" y="4820400"/>
            <a:ext cx="990360" cy="481680"/>
            <a:chOff x="4540320" y="4820400"/>
            <a:chExt cx="990360" cy="481680"/>
          </a:xfrm>
        </p:grpSpPr>
        <p:sp>
          <p:nvSpPr>
            <p:cNvPr id="1293" name=""/>
            <p:cNvSpPr/>
            <p:nvPr/>
          </p:nvSpPr>
          <p:spPr>
            <a:xfrm rot="16200000">
              <a:off x="5268600" y="4709880"/>
              <a:ext cx="151200" cy="37224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 rot="10800000">
              <a:off x="5158080" y="5150880"/>
              <a:ext cx="372240" cy="15120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 rot="16200000">
              <a:off x="5031000" y="4637520"/>
              <a:ext cx="151200" cy="8478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 rot="16200000">
              <a:off x="4531680" y="4994280"/>
              <a:ext cx="151200" cy="134280"/>
            </a:xfrm>
            <a:prstGeom prst="triangle">
              <a:avLst>
                <a:gd name="adj" fmla="val 49995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6103800" y="4051440"/>
            <a:ext cx="473040" cy="117360"/>
            <a:chOff x="6103800" y="4051440"/>
            <a:chExt cx="473040" cy="117360"/>
          </a:xfrm>
        </p:grpSpPr>
        <p:sp>
          <p:nvSpPr>
            <p:cNvPr id="1298" name=""/>
            <p:cNvSpPr/>
            <p:nvPr/>
          </p:nvSpPr>
          <p:spPr>
            <a:xfrm>
              <a:off x="6103800" y="4051440"/>
              <a:ext cx="473040" cy="11592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256080" y="4168800"/>
              <a:ext cx="1256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0" name=""/>
          <p:cNvSpPr/>
          <p:nvPr/>
        </p:nvSpPr>
        <p:spPr>
          <a:xfrm>
            <a:off x="1298880" y="5675400"/>
            <a:ext cx="106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4473720" y="5675400"/>
            <a:ext cx="106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5460840" y="3924360"/>
            <a:ext cx="685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5257800" y="3911760"/>
            <a:ext cx="520560" cy="4190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c0128"/>
                </a:solidFill>
                <a:latin typeface="Arial"/>
                <a:cs typeface="Arial"/>
              </a:rPr>
              <a:t>پاسخ</a:t>
            </a:r>
            <a:r>
              <a:rPr b="1" lang="fa-IR" sz="2800" spc="-1" strike="noStrike">
                <a:solidFill>
                  <a:srgbClr val="fc0128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762120" y="2031840"/>
            <a:ext cx="74293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1000"/>
          </a:bodyPr>
          <a:p>
            <a:pPr marL="174240" indent="-1742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هردو کشتی فضایی برای فرار از جاذبه و رسیدن به بینهایت سرعت فرار یکسان دارند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4240" indent="-1742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نابراین به انرژی جنبشی یکسان نیاز دارن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4240" indent="-1742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هردو دارای انرژی پتانسیل یکسان دارن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4240" indent="-1742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کشتی فضایی 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2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به علت حرکت چرخشی خود دارای مقداری انرژی جنبشی اولیه است لذا به کار کمتری نیازدارد( یعنی سوخت کمتری نیاز دارد)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درضمن توجه کنید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952200" y="1815840"/>
            <a:ext cx="7264440" cy="85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همین دلیل کلیه ایستگاههای فضایی در سرتاسر کره زمین تا حد امکان در نزدیکی استوار بر پا شده ان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8" name=""/>
          <p:cNvGrpSpPr/>
          <p:nvPr/>
        </p:nvGrpSpPr>
        <p:grpSpPr>
          <a:xfrm>
            <a:off x="844560" y="2844720"/>
            <a:ext cx="3435480" cy="3116160"/>
            <a:chOff x="844560" y="2844720"/>
            <a:chExt cx="3435480" cy="3116160"/>
          </a:xfrm>
        </p:grpSpPr>
        <p:grpSp>
          <p:nvGrpSpPr>
            <p:cNvPr id="1309" name=""/>
            <p:cNvGrpSpPr/>
            <p:nvPr/>
          </p:nvGrpSpPr>
          <p:grpSpPr>
            <a:xfrm>
              <a:off x="844560" y="4311360"/>
              <a:ext cx="990720" cy="482400"/>
              <a:chOff x="844560" y="4311360"/>
              <a:chExt cx="990720" cy="482400"/>
            </a:xfrm>
          </p:grpSpPr>
          <p:sp>
            <p:nvSpPr>
              <p:cNvPr id="1310" name=""/>
              <p:cNvSpPr/>
              <p:nvPr/>
            </p:nvSpPr>
            <p:spPr>
              <a:xfrm rot="16200000">
                <a:off x="1573200" y="4200840"/>
                <a:ext cx="151560" cy="372600"/>
              </a:xfrm>
              <a:prstGeom prst="rtTriangl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rot="10800000">
                <a:off x="1462320" y="4642200"/>
                <a:ext cx="372600" cy="151560"/>
              </a:xfrm>
              <a:prstGeom prst="rtTriangl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rot="16200000">
                <a:off x="1335240" y="4128840"/>
                <a:ext cx="151560" cy="84780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rot="16200000">
                <a:off x="835920" y="4485600"/>
                <a:ext cx="151560" cy="134280"/>
              </a:xfrm>
              <a:prstGeom prst="triangle">
                <a:avLst>
                  <a:gd name="adj" fmla="val 49995"/>
                </a:avLst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4" name=""/>
            <p:cNvSpPr/>
            <p:nvPr/>
          </p:nvSpPr>
          <p:spPr>
            <a:xfrm>
              <a:off x="1841400" y="3327120"/>
              <a:ext cx="2438640" cy="2438640"/>
            </a:xfrm>
            <a:prstGeom prst="ellipse">
              <a:avLst/>
            </a:prstGeom>
            <a:gradFill rotWithShape="0">
              <a:gsLst>
                <a:gs pos="0">
                  <a:srgbClr val="8080ff"/>
                </a:gs>
                <a:gs pos="100000">
                  <a:srgbClr val="3b3b7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15" name=""/>
            <p:cNvGrpSpPr/>
            <p:nvPr/>
          </p:nvGrpSpPr>
          <p:grpSpPr>
            <a:xfrm>
              <a:off x="2711520" y="2995560"/>
              <a:ext cx="726480" cy="178920"/>
              <a:chOff x="2711520" y="2995560"/>
              <a:chExt cx="726480" cy="178920"/>
            </a:xfrm>
          </p:grpSpPr>
          <p:sp>
            <p:nvSpPr>
              <p:cNvPr id="1316" name=""/>
              <p:cNvSpPr/>
              <p:nvPr/>
            </p:nvSpPr>
            <p:spPr>
              <a:xfrm>
                <a:off x="2711520" y="2995560"/>
                <a:ext cx="726480" cy="17676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2945160" y="3174480"/>
                <a:ext cx="1929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18" name=""/>
            <p:cNvGrpSpPr/>
            <p:nvPr/>
          </p:nvGrpSpPr>
          <p:grpSpPr>
            <a:xfrm>
              <a:off x="1153800" y="3322080"/>
              <a:ext cx="1014840" cy="774720"/>
              <a:chOff x="1153800" y="3322080"/>
              <a:chExt cx="1014840" cy="774720"/>
            </a:xfrm>
          </p:grpSpPr>
          <p:sp>
            <p:nvSpPr>
              <p:cNvPr id="1319" name=""/>
              <p:cNvSpPr/>
              <p:nvPr/>
            </p:nvSpPr>
            <p:spPr>
              <a:xfrm rot="18025200">
                <a:off x="1893600" y="3465720"/>
                <a:ext cx="151560" cy="372600"/>
              </a:xfrm>
              <a:prstGeom prst="rtTriangl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rot="12625800">
                <a:off x="1614960" y="3861000"/>
                <a:ext cx="372600" cy="151560"/>
              </a:xfrm>
              <a:prstGeom prst="rtTriangl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rot="18025200">
                <a:off x="1604520" y="3250440"/>
                <a:ext cx="151560" cy="84780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rot="18025200">
                <a:off x="1173960" y="3354120"/>
                <a:ext cx="151560" cy="134280"/>
              </a:xfrm>
              <a:prstGeom prst="triangle">
                <a:avLst>
                  <a:gd name="adj" fmla="val 49995"/>
                </a:avLst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23" name=""/>
            <p:cNvSpPr/>
            <p:nvPr/>
          </p:nvSpPr>
          <p:spPr>
            <a:xfrm>
              <a:off x="3084480" y="2844720"/>
              <a:ext cx="0" cy="3116160"/>
            </a:xfrm>
            <a:prstGeom prst="line">
              <a:avLst/>
            </a:prstGeom>
            <a:ln w="936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057400" y="3886200"/>
              <a:ext cx="102888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828800" y="4546440"/>
              <a:ext cx="125748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155680" y="3490560"/>
              <a:ext cx="92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168280" y="4151160"/>
              <a:ext cx="92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8" name=""/>
          <p:cNvSpPr/>
          <p:nvPr/>
        </p:nvSpPr>
        <p:spPr>
          <a:xfrm>
            <a:off x="5846400" y="3745080"/>
            <a:ext cx="1389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&gt; 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9" name=""/>
          <p:cNvGrpSpPr/>
          <p:nvPr/>
        </p:nvGrpSpPr>
        <p:grpSpPr>
          <a:xfrm>
            <a:off x="4395960" y="4203720"/>
            <a:ext cx="4255200" cy="925560"/>
            <a:chOff x="4395960" y="4203720"/>
            <a:chExt cx="4255200" cy="925560"/>
          </a:xfrm>
        </p:grpSpPr>
        <p:grpSp>
          <p:nvGrpSpPr>
            <p:cNvPr id="1330" name=""/>
            <p:cNvGrpSpPr/>
            <p:nvPr/>
          </p:nvGrpSpPr>
          <p:grpSpPr>
            <a:xfrm>
              <a:off x="4395960" y="4519800"/>
              <a:ext cx="2596680" cy="609480"/>
              <a:chOff x="4395960" y="4519800"/>
              <a:chExt cx="2596680" cy="609480"/>
            </a:xfrm>
          </p:grpSpPr>
          <p:sp>
            <p:nvSpPr>
              <p:cNvPr id="1331" name=""/>
              <p:cNvSpPr/>
              <p:nvPr/>
            </p:nvSpPr>
            <p:spPr>
              <a:xfrm>
                <a:off x="4395960" y="4642200"/>
                <a:ext cx="259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K</a:t>
                </a:r>
                <a:r>
                  <a:rPr b="0" i="1" lang="en-US" sz="2000" spc="-1" strike="noStrike" baseline="-25000">
                    <a:solidFill>
                      <a:srgbClr val="00ffff"/>
                    </a:solidFill>
                    <a:latin typeface="Arial"/>
                  </a:rPr>
                  <a:t>2 </a:t>
                </a: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=    m(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</a:t>
                </a: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r>
                  <a:rPr b="0" i="1" lang="en-US" sz="2000" spc="-1" strike="noStrike" baseline="-25000">
                    <a:solidFill>
                      <a:srgbClr val="fafd00"/>
                    </a:solidFill>
                    <a:latin typeface="Arial"/>
                  </a:rPr>
                  <a:t>2</a:t>
                </a: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)</a:t>
                </a:r>
                <a:r>
                  <a:rPr b="0" i="1" lang="en-US" sz="2000" spc="-1" strike="noStrike" baseline="30000">
                    <a:solidFill>
                      <a:srgbClr val="fafd00"/>
                    </a:solidFill>
                    <a:latin typeface="Arial"/>
                  </a:rPr>
                  <a:t>2   </a:t>
                </a: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&gt;</a:t>
                </a:r>
                <a:r>
                  <a:rPr b="0" i="1" lang="en-US" sz="2000" spc="-1" strike="noStrike" baseline="30000">
                    <a:solidFill>
                      <a:srgbClr val="00ffff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332" name=""/>
                  <p:cNvSpPr txBox="1"/>
                  <p:nvPr/>
                </p:nvSpPr>
                <p:spPr>
                  <a:xfrm>
                    <a:off x="5238720" y="4519800"/>
                    <a:ext cx="214200" cy="609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333" name=""/>
            <p:cNvGrpSpPr/>
            <p:nvPr/>
          </p:nvGrpSpPr>
          <p:grpSpPr>
            <a:xfrm>
              <a:off x="6368400" y="4507200"/>
              <a:ext cx="2282760" cy="609480"/>
              <a:chOff x="6368400" y="4507200"/>
              <a:chExt cx="2282760" cy="609480"/>
            </a:xfrm>
          </p:grpSpPr>
          <p:sp>
            <p:nvSpPr>
              <p:cNvPr id="1334" name=""/>
              <p:cNvSpPr/>
              <p:nvPr/>
            </p:nvSpPr>
            <p:spPr>
              <a:xfrm>
                <a:off x="6368400" y="4629240"/>
                <a:ext cx="22827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K</a:t>
                </a:r>
                <a:r>
                  <a:rPr b="0" i="1" lang="en-US" sz="2000" spc="-1" strike="noStrike" baseline="-25000">
                    <a:solidFill>
                      <a:srgbClr val="00ffff"/>
                    </a:solidFill>
                    <a:latin typeface="Arial"/>
                  </a:rPr>
                  <a:t>1 </a:t>
                </a: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=    m(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</a:t>
                </a: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r>
                  <a:rPr b="0" i="1" lang="en-US" sz="20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)</a:t>
                </a:r>
                <a:r>
                  <a:rPr b="0" i="1" lang="en-US" sz="2000" spc="-1" strike="noStrike" baseline="30000">
                    <a:solidFill>
                      <a:srgbClr val="fafd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335" name=""/>
                  <p:cNvSpPr txBox="1"/>
                  <p:nvPr/>
                </p:nvSpPr>
                <p:spPr>
                  <a:xfrm>
                    <a:off x="7219800" y="4507200"/>
                    <a:ext cx="214560" cy="609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336" name=""/>
            <p:cNvSpPr/>
            <p:nvPr/>
          </p:nvSpPr>
          <p:spPr>
            <a:xfrm>
              <a:off x="6286680" y="4203720"/>
              <a:ext cx="431640" cy="36864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7" name=""/>
          <p:cNvSpPr/>
          <p:nvPr/>
        </p:nvSpPr>
        <p:spPr>
          <a:xfrm>
            <a:off x="433800" y="731880"/>
            <a:ext cx="150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راه حل ریاضی مسئله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2859120" y="2001960"/>
            <a:ext cx="3064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NC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K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0033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f0033"/>
                </a:solidFill>
                <a:latin typeface="Arial"/>
              </a:rPr>
              <a:t>U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0" name=""/>
          <p:cNvGrpSpPr/>
          <p:nvPr/>
        </p:nvGrpSpPr>
        <p:grpSpPr>
          <a:xfrm>
            <a:off x="949320" y="2779560"/>
            <a:ext cx="6265800" cy="1346760"/>
            <a:chOff x="949320" y="2779560"/>
            <a:chExt cx="6265800" cy="1346760"/>
          </a:xfrm>
        </p:grpSpPr>
        <p:sp>
          <p:nvSpPr>
            <p:cNvPr id="1341" name=""/>
            <p:cNvSpPr/>
            <p:nvPr/>
          </p:nvSpPr>
          <p:spPr>
            <a:xfrm>
              <a:off x="949320" y="2779560"/>
              <a:ext cx="6265800" cy="134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r" rtl="1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برای کشتی فضایی </a:t>
              </a: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= (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K</a:t>
              </a:r>
              <a:r>
                <a:rPr b="0" i="1" lang="en-US" sz="2000" spc="-1" strike="noStrike" baseline="-25000">
                  <a:solidFill>
                    <a:srgbClr val="00ffff"/>
                  </a:solidFill>
                  <a:latin typeface="Arial"/>
                </a:rPr>
                <a:t>f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 - K</a:t>
              </a:r>
              <a:r>
                <a:rPr b="0" i="1" lang="en-US" sz="2000" spc="-1" strike="noStrike" baseline="-25000">
                  <a:solidFill>
                    <a:srgbClr val="00ffff"/>
                  </a:solidFill>
                  <a:latin typeface="Arial"/>
                </a:rPr>
                <a:t>0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) + (</a:t>
              </a:r>
              <a:r>
                <a:rPr b="0" i="1" lang="en-US" sz="2000" spc="-1" strike="noStrike">
                  <a:solidFill>
                    <a:srgbClr val="ff0033"/>
                  </a:solidFill>
                  <a:latin typeface="Arial"/>
                </a:rPr>
                <a:t>U</a:t>
              </a:r>
              <a:r>
                <a:rPr b="0" i="1" lang="en-US" sz="2000" spc="-1" strike="noStrike" baseline="-25000">
                  <a:solidFill>
                    <a:srgbClr val="ff0033"/>
                  </a:solidFill>
                  <a:latin typeface="Arial"/>
                </a:rPr>
                <a:t>f</a:t>
              </a:r>
              <a:r>
                <a:rPr b="0" i="1" lang="en-US" sz="2000" spc="-1" strike="noStrike">
                  <a:solidFill>
                    <a:srgbClr val="ff0033"/>
                  </a:solidFill>
                  <a:latin typeface="Arial"/>
                </a:rPr>
                <a:t> - U</a:t>
              </a:r>
              <a:r>
                <a:rPr b="0" i="1" lang="en-US" sz="2000" spc="-1" strike="noStrike" baseline="-25000">
                  <a:solidFill>
                    <a:srgbClr val="ff0033"/>
                  </a:solidFill>
                  <a:latin typeface="Arial"/>
                </a:rPr>
                <a:t>0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K</a:t>
              </a:r>
              <a:r>
                <a:rPr b="0" i="1" lang="en-US" sz="2000" spc="-1" strike="noStrike" baseline="-25000">
                  <a:solidFill>
                    <a:srgbClr val="00ffff"/>
                  </a:solidFill>
                  <a:latin typeface="Arial"/>
                </a:rPr>
                <a:t>0 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= 0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,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f0033"/>
                  </a:solidFill>
                  <a:latin typeface="Arial"/>
                </a:rPr>
                <a:t>U</a:t>
              </a:r>
              <a:r>
                <a:rPr b="0" i="1" lang="en-US" sz="2000" spc="-1" strike="noStrike" baseline="-25000">
                  <a:solidFill>
                    <a:srgbClr val="ff0033"/>
                  </a:solidFill>
                  <a:latin typeface="Arial"/>
                </a:rPr>
                <a:t>0 </a:t>
              </a:r>
              <a:r>
                <a:rPr b="0" i="1" lang="en-US" sz="2000" spc="-1" strike="noStrike">
                  <a:solidFill>
                    <a:srgbClr val="ff0033"/>
                  </a:solidFill>
                  <a:latin typeface="Arial"/>
                </a:rPr>
                <a:t>= 0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= 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K</a:t>
              </a:r>
              <a:r>
                <a:rPr b="0" i="1" lang="en-US" sz="2000" spc="-1" strike="noStrike" baseline="-25000">
                  <a:solidFill>
                    <a:srgbClr val="00ffff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+ </a:t>
              </a:r>
              <a:r>
                <a:rPr b="0" i="1" lang="en-US" sz="2000" spc="-1" strike="noStrike">
                  <a:solidFill>
                    <a:srgbClr val="ff0033"/>
                  </a:solidFill>
                  <a:latin typeface="Arial"/>
                </a:rPr>
                <a:t>U</a:t>
              </a:r>
              <a:r>
                <a:rPr b="0" i="1" lang="en-US" sz="2000" spc="-1" strike="noStrike" baseline="-25000">
                  <a:solidFill>
                    <a:srgbClr val="ff0033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390840" y="3556080"/>
              <a:ext cx="241200" cy="216000"/>
            </a:xfrm>
            <a:prstGeom prst="rightArrow">
              <a:avLst>
                <a:gd name="adj1" fmla="val 50000"/>
                <a:gd name="adj2" fmla="val 27917"/>
              </a:avLst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708360" y="3416400"/>
              <a:ext cx="1575000" cy="5079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949320" y="4303800"/>
            <a:ext cx="6265800" cy="1346760"/>
            <a:chOff x="949320" y="4303800"/>
            <a:chExt cx="6265800" cy="1346760"/>
          </a:xfrm>
        </p:grpSpPr>
        <p:sp>
          <p:nvSpPr>
            <p:cNvPr id="1345" name=""/>
            <p:cNvSpPr/>
            <p:nvPr/>
          </p:nvSpPr>
          <p:spPr>
            <a:xfrm>
              <a:off x="949320" y="4303800"/>
              <a:ext cx="6265800" cy="134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r" rtl="1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برای کشتی فضایی </a:t>
              </a: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= (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K</a:t>
              </a:r>
              <a:r>
                <a:rPr b="0" i="1" lang="en-US" sz="2000" spc="-1" strike="noStrike" baseline="-25000">
                  <a:solidFill>
                    <a:srgbClr val="00ffff"/>
                  </a:solidFill>
                  <a:latin typeface="Arial"/>
                </a:rPr>
                <a:t>f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 - K</a:t>
              </a:r>
              <a:r>
                <a:rPr b="0" i="1" lang="en-US" sz="2000" spc="-1" strike="noStrike" baseline="-25000">
                  <a:solidFill>
                    <a:srgbClr val="00ffff"/>
                  </a:solidFill>
                  <a:latin typeface="Arial"/>
                </a:rPr>
                <a:t>0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) + (</a:t>
              </a:r>
              <a:r>
                <a:rPr b="0" i="1" lang="en-US" sz="2000" spc="-1" strike="noStrike">
                  <a:solidFill>
                    <a:srgbClr val="ff0033"/>
                  </a:solidFill>
                  <a:latin typeface="Arial"/>
                </a:rPr>
                <a:t>U</a:t>
              </a:r>
              <a:r>
                <a:rPr b="0" i="1" lang="en-US" sz="2000" spc="-1" strike="noStrike" baseline="-25000">
                  <a:solidFill>
                    <a:srgbClr val="ff0033"/>
                  </a:solidFill>
                  <a:latin typeface="Arial"/>
                </a:rPr>
                <a:t>f</a:t>
              </a:r>
              <a:r>
                <a:rPr b="0" i="1" lang="en-US" sz="2000" spc="-1" strike="noStrike">
                  <a:solidFill>
                    <a:srgbClr val="ff0033"/>
                  </a:solidFill>
                  <a:latin typeface="Arial"/>
                </a:rPr>
                <a:t> - U</a:t>
              </a:r>
              <a:r>
                <a:rPr b="0" i="1" lang="en-US" sz="2000" spc="-1" strike="noStrike" baseline="-25000">
                  <a:solidFill>
                    <a:srgbClr val="ff0033"/>
                  </a:solidFill>
                  <a:latin typeface="Arial"/>
                </a:rPr>
                <a:t>0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)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=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K</a:t>
              </a:r>
              <a:r>
                <a:rPr b="0" i="1" lang="en-US" sz="2000" spc="-1" strike="noStrike" baseline="-25000">
                  <a:solidFill>
                    <a:srgbClr val="00ffff"/>
                  </a:solidFill>
                  <a:latin typeface="Arial"/>
                </a:rPr>
                <a:t>0 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=    m(</a:t>
              </a:r>
              <a:r>
                <a:rPr b="0" lang="en-US" sz="2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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r)</a:t>
              </a:r>
              <a:r>
                <a:rPr b="0" i="1" lang="en-US" sz="2000" spc="-1" strike="noStrike" baseline="30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,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f0033"/>
                  </a:solidFill>
                  <a:latin typeface="Arial"/>
                </a:rPr>
                <a:t>U</a:t>
              </a:r>
              <a:r>
                <a:rPr b="0" i="1" lang="en-US" sz="2000" spc="-1" strike="noStrike" baseline="-25000">
                  <a:solidFill>
                    <a:srgbClr val="ff0033"/>
                  </a:solidFill>
                  <a:latin typeface="Arial"/>
                </a:rPr>
                <a:t>0 </a:t>
              </a:r>
              <a:r>
                <a:rPr b="0" i="1" lang="en-US" sz="2000" spc="-1" strike="noStrike">
                  <a:solidFill>
                    <a:srgbClr val="ff0033"/>
                  </a:solidFill>
                  <a:latin typeface="Arial"/>
                </a:rPr>
                <a:t>= 0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= 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K</a:t>
              </a:r>
              <a:r>
                <a:rPr b="0" i="1" lang="en-US" sz="2000" spc="-1" strike="noStrike" baseline="-25000">
                  <a:solidFill>
                    <a:srgbClr val="00ffff"/>
                  </a:solidFill>
                  <a:latin typeface="Arial"/>
                </a:rPr>
                <a:t>f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+ </a:t>
              </a:r>
              <a:r>
                <a:rPr b="0" i="1" lang="en-US" sz="2000" spc="-1" strike="noStrike">
                  <a:solidFill>
                    <a:srgbClr val="ff0033"/>
                  </a:solidFill>
                  <a:latin typeface="Arial"/>
                </a:rPr>
                <a:t>U</a:t>
              </a:r>
              <a:r>
                <a:rPr b="0" i="1" lang="en-US" sz="2000" spc="-1" strike="noStrike" baseline="-25000">
                  <a:solidFill>
                    <a:srgbClr val="ff0033"/>
                  </a:solidFill>
                  <a:latin typeface="Arial"/>
                </a:rPr>
                <a:t>f  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-</a:t>
              </a:r>
              <a:r>
                <a:rPr b="0" i="1" lang="en-US" sz="2000" spc="-1" strike="noStrike" baseline="-25000">
                  <a:solidFill>
                    <a:srgbClr val="00ffff"/>
                  </a:solidFill>
                  <a:latin typeface="Arial"/>
                </a:rPr>
                <a:t>      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m(</a:t>
              </a:r>
              <a:r>
                <a:rPr b="0" lang="en-US" sz="2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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r)</a:t>
              </a:r>
              <a:r>
                <a:rPr b="0" i="1" lang="en-US" sz="2000" spc="-1" strike="noStrike" baseline="30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390840" y="5079960"/>
              <a:ext cx="241200" cy="216000"/>
            </a:xfrm>
            <a:prstGeom prst="rightArrow">
              <a:avLst>
                <a:gd name="adj1" fmla="val 50000"/>
                <a:gd name="adj2" fmla="val 27917"/>
              </a:avLst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7" name=""/>
                <p:cNvSpPr txBox="1"/>
                <p:nvPr/>
              </p:nvSpPr>
              <p:spPr>
                <a:xfrm>
                  <a:off x="1542960" y="4902120"/>
                  <a:ext cx="2145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48" name=""/>
                <p:cNvSpPr txBox="1"/>
                <p:nvPr/>
              </p:nvSpPr>
              <p:spPr>
                <a:xfrm>
                  <a:off x="5327640" y="4902120"/>
                  <a:ext cx="21420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349" name=""/>
            <p:cNvSpPr/>
            <p:nvPr/>
          </p:nvSpPr>
          <p:spPr>
            <a:xfrm>
              <a:off x="3720960" y="4863960"/>
              <a:ext cx="2781360" cy="7239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0" name=""/>
          <p:cNvGrpSpPr/>
          <p:nvPr/>
        </p:nvGrpSpPr>
        <p:grpSpPr>
          <a:xfrm>
            <a:off x="890280" y="5749920"/>
            <a:ext cx="7266240" cy="533520"/>
            <a:chOff x="890280" y="5749920"/>
            <a:chExt cx="7266240" cy="533520"/>
          </a:xfrm>
        </p:grpSpPr>
        <p:sp>
          <p:nvSpPr>
            <p:cNvPr id="1351" name=""/>
            <p:cNvSpPr/>
            <p:nvPr/>
          </p:nvSpPr>
          <p:spPr>
            <a:xfrm>
              <a:off x="890280" y="5837400"/>
              <a:ext cx="7266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1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&gt;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2    </a:t>
              </a: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بنابراین کشتی فضایی </a:t>
              </a: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به سوخت بیشتیری نیاز دارد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.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666800" y="5749920"/>
              <a:ext cx="1180800" cy="533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سئله : فنر فضایی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403848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3000"/>
          </a:bodyPr>
          <a:p>
            <a:pPr marL="94320" indent="-943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 یک برنامه فضایی تصمصیم می گیرند که یک کشتی فضایی به جرم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10,000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kg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 استفاده از یک فنر عظیم به فضا پرتاب کنن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گر بخواهیم که این کشتی فضایی به ارتفاع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لای سطح زمین برس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ین فنر به سخت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</a:rPr>
              <a:t>8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N/m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باید به اندازه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فشرده شود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7" name=""/>
          <p:cNvGrpSpPr/>
          <p:nvPr/>
        </p:nvGrpSpPr>
        <p:grpSpPr>
          <a:xfrm>
            <a:off x="4654440" y="1378080"/>
            <a:ext cx="4025880" cy="4711680"/>
            <a:chOff x="4654440" y="1378080"/>
            <a:chExt cx="4025880" cy="4711680"/>
          </a:xfrm>
        </p:grpSpPr>
        <p:grpSp>
          <p:nvGrpSpPr>
            <p:cNvPr id="1358" name=""/>
            <p:cNvGrpSpPr/>
            <p:nvPr/>
          </p:nvGrpSpPr>
          <p:grpSpPr>
            <a:xfrm>
              <a:off x="4654440" y="3282840"/>
              <a:ext cx="1968480" cy="2806920"/>
              <a:chOff x="4654440" y="3282840"/>
              <a:chExt cx="1968480" cy="2806920"/>
            </a:xfrm>
          </p:grpSpPr>
          <p:grpSp>
            <p:nvGrpSpPr>
              <p:cNvPr id="1359" name=""/>
              <p:cNvGrpSpPr/>
              <p:nvPr/>
            </p:nvGrpSpPr>
            <p:grpSpPr>
              <a:xfrm>
                <a:off x="5099040" y="4883040"/>
                <a:ext cx="1081080" cy="1206720"/>
                <a:chOff x="5099040" y="4883040"/>
                <a:chExt cx="1081080" cy="1206720"/>
              </a:xfrm>
            </p:grpSpPr>
            <p:grpSp>
              <p:nvGrpSpPr>
                <p:cNvPr id="1360" name=""/>
                <p:cNvGrpSpPr/>
                <p:nvPr/>
              </p:nvGrpSpPr>
              <p:grpSpPr>
                <a:xfrm>
                  <a:off x="5099040" y="4930920"/>
                  <a:ext cx="1081080" cy="1158840"/>
                  <a:chOff x="5099040" y="4930920"/>
                  <a:chExt cx="1081080" cy="1158840"/>
                </a:xfrm>
              </p:grpSpPr>
              <p:grpSp>
                <p:nvGrpSpPr>
                  <p:cNvPr id="1361" name=""/>
                  <p:cNvGrpSpPr/>
                  <p:nvPr/>
                </p:nvGrpSpPr>
                <p:grpSpPr>
                  <a:xfrm>
                    <a:off x="5099040" y="5748120"/>
                    <a:ext cx="1081080" cy="260280"/>
                    <a:chOff x="5099040" y="5748120"/>
                    <a:chExt cx="1081080" cy="260280"/>
                  </a:xfrm>
                </p:grpSpPr>
                <p:grpSp>
                  <p:nvGrpSpPr>
                    <p:cNvPr id="1362" name=""/>
                    <p:cNvGrpSpPr/>
                    <p:nvPr/>
                  </p:nvGrpSpPr>
                  <p:grpSpPr>
                    <a:xfrm>
                      <a:off x="5099040" y="5873760"/>
                      <a:ext cx="1081080" cy="134640"/>
                      <a:chOff x="5099040" y="5873760"/>
                      <a:chExt cx="1081080" cy="134640"/>
                    </a:xfrm>
                  </p:grpSpPr>
                  <p:sp>
                    <p:nvSpPr>
                      <p:cNvPr id="1363" name=""/>
                      <p:cNvSpPr/>
                      <p:nvPr/>
                    </p:nvSpPr>
                    <p:spPr>
                      <a:xfrm flipV="1">
                        <a:off x="5641920" y="5965560"/>
                        <a:ext cx="525600" cy="42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4" name=""/>
                      <p:cNvSpPr/>
                      <p:nvPr/>
                    </p:nvSpPr>
                    <p:spPr>
                      <a:xfrm flipH="1" flipV="1">
                        <a:off x="5629320" y="5933880"/>
                        <a:ext cx="550800" cy="4428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" bIns="-25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365" name=""/>
                      <p:cNvGrpSpPr/>
                      <p:nvPr/>
                    </p:nvGrpSpPr>
                    <p:grpSpPr>
                      <a:xfrm>
                        <a:off x="5099040" y="5873760"/>
                        <a:ext cx="542880" cy="73080"/>
                        <a:chOff x="5099040" y="5873760"/>
                        <a:chExt cx="542880" cy="73080"/>
                      </a:xfrm>
                    </p:grpSpPr>
                    <p:sp>
                      <p:nvSpPr>
                        <p:cNvPr id="1366" name=""/>
                        <p:cNvSpPr/>
                        <p:nvPr/>
                      </p:nvSpPr>
                      <p:spPr>
                        <a:xfrm flipH="1" flipV="1">
                          <a:off x="5099040" y="5900760"/>
                          <a:ext cx="542880" cy="46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7" name=""/>
                        <p:cNvSpPr/>
                        <p:nvPr/>
                      </p:nvSpPr>
                      <p:spPr>
                        <a:xfrm flipV="1">
                          <a:off x="5111640" y="5873760"/>
                          <a:ext cx="517680" cy="396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0" bIns="-72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368" name=""/>
                    <p:cNvGrpSpPr/>
                    <p:nvPr/>
                  </p:nvGrpSpPr>
                  <p:grpSpPr>
                    <a:xfrm>
                      <a:off x="5099040" y="5748120"/>
                      <a:ext cx="1081080" cy="138240"/>
                      <a:chOff x="5099040" y="5748120"/>
                      <a:chExt cx="1081080" cy="138240"/>
                    </a:xfrm>
                  </p:grpSpPr>
                  <p:sp>
                    <p:nvSpPr>
                      <p:cNvPr id="1369" name=""/>
                      <p:cNvSpPr/>
                      <p:nvPr/>
                    </p:nvSpPr>
                    <p:spPr>
                      <a:xfrm flipV="1">
                        <a:off x="5641920" y="5840280"/>
                        <a:ext cx="525600" cy="46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0" name=""/>
                      <p:cNvSpPr/>
                      <p:nvPr/>
                    </p:nvSpPr>
                    <p:spPr>
                      <a:xfrm flipH="1" flipV="1">
                        <a:off x="5629320" y="5811480"/>
                        <a:ext cx="550800" cy="41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371" name=""/>
                      <p:cNvGrpSpPr/>
                      <p:nvPr/>
                    </p:nvGrpSpPr>
                    <p:grpSpPr>
                      <a:xfrm>
                        <a:off x="5099040" y="5748120"/>
                        <a:ext cx="542880" cy="75960"/>
                        <a:chOff x="5099040" y="5748120"/>
                        <a:chExt cx="542880" cy="75960"/>
                      </a:xfrm>
                    </p:grpSpPr>
                    <p:sp>
                      <p:nvSpPr>
                        <p:cNvPr id="1372" name=""/>
                        <p:cNvSpPr/>
                        <p:nvPr/>
                      </p:nvSpPr>
                      <p:spPr>
                        <a:xfrm flipH="1" flipV="1">
                          <a:off x="5099040" y="5779800"/>
                          <a:ext cx="542880" cy="44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" bIns="-252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73" name=""/>
                        <p:cNvSpPr/>
                        <p:nvPr/>
                      </p:nvSpPr>
                      <p:spPr>
                        <a:xfrm flipV="1">
                          <a:off x="5111640" y="5748120"/>
                          <a:ext cx="517680" cy="44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" bIns="-252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374" name=""/>
                  <p:cNvGrpSpPr/>
                  <p:nvPr/>
                </p:nvGrpSpPr>
                <p:grpSpPr>
                  <a:xfrm>
                    <a:off x="5099040" y="5503680"/>
                    <a:ext cx="1081080" cy="257040"/>
                    <a:chOff x="5099040" y="5503680"/>
                    <a:chExt cx="1081080" cy="257040"/>
                  </a:xfrm>
                </p:grpSpPr>
                <p:grpSp>
                  <p:nvGrpSpPr>
                    <p:cNvPr id="1375" name=""/>
                    <p:cNvGrpSpPr/>
                    <p:nvPr/>
                  </p:nvGrpSpPr>
                  <p:grpSpPr>
                    <a:xfrm>
                      <a:off x="5099040" y="5627160"/>
                      <a:ext cx="1081080" cy="133560"/>
                      <a:chOff x="5099040" y="5627160"/>
                      <a:chExt cx="1081080" cy="133560"/>
                    </a:xfrm>
                  </p:grpSpPr>
                  <p:sp>
                    <p:nvSpPr>
                      <p:cNvPr id="1376" name=""/>
                      <p:cNvSpPr/>
                      <p:nvPr/>
                    </p:nvSpPr>
                    <p:spPr>
                      <a:xfrm flipV="1">
                        <a:off x="5641920" y="5717880"/>
                        <a:ext cx="525600" cy="42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7" name=""/>
                      <p:cNvSpPr/>
                      <p:nvPr/>
                    </p:nvSpPr>
                    <p:spPr>
                      <a:xfrm flipH="1" flipV="1">
                        <a:off x="5629320" y="5686200"/>
                        <a:ext cx="550800" cy="4428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" bIns="-25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378" name=""/>
                      <p:cNvGrpSpPr/>
                      <p:nvPr/>
                    </p:nvGrpSpPr>
                    <p:grpSpPr>
                      <a:xfrm>
                        <a:off x="5099040" y="5627160"/>
                        <a:ext cx="542880" cy="71640"/>
                        <a:chOff x="5099040" y="5627160"/>
                        <a:chExt cx="542880" cy="71640"/>
                      </a:xfrm>
                    </p:grpSpPr>
                    <p:sp>
                      <p:nvSpPr>
                        <p:cNvPr id="1379" name=""/>
                        <p:cNvSpPr/>
                        <p:nvPr/>
                      </p:nvSpPr>
                      <p:spPr>
                        <a:xfrm flipH="1" flipV="1">
                          <a:off x="5099040" y="5655960"/>
                          <a:ext cx="542880" cy="428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80" name=""/>
                        <p:cNvSpPr/>
                        <p:nvPr/>
                      </p:nvSpPr>
                      <p:spPr>
                        <a:xfrm flipV="1">
                          <a:off x="5111640" y="5627160"/>
                          <a:ext cx="517680" cy="41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400" bIns="-54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381" name=""/>
                    <p:cNvGrpSpPr/>
                    <p:nvPr/>
                  </p:nvGrpSpPr>
                  <p:grpSpPr>
                    <a:xfrm>
                      <a:off x="5099040" y="5503680"/>
                      <a:ext cx="1081080" cy="136800"/>
                      <a:chOff x="5099040" y="5503680"/>
                      <a:chExt cx="1081080" cy="136800"/>
                    </a:xfrm>
                  </p:grpSpPr>
                  <p:sp>
                    <p:nvSpPr>
                      <p:cNvPr id="1382" name=""/>
                      <p:cNvSpPr/>
                      <p:nvPr/>
                    </p:nvSpPr>
                    <p:spPr>
                      <a:xfrm flipV="1">
                        <a:off x="5641920" y="5595840"/>
                        <a:ext cx="525600" cy="44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3" name=""/>
                      <p:cNvSpPr/>
                      <p:nvPr/>
                    </p:nvSpPr>
                    <p:spPr>
                      <a:xfrm flipH="1" flipV="1">
                        <a:off x="5629320" y="5564160"/>
                        <a:ext cx="550800" cy="44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384" name=""/>
                      <p:cNvGrpSpPr/>
                      <p:nvPr/>
                    </p:nvGrpSpPr>
                    <p:grpSpPr>
                      <a:xfrm>
                        <a:off x="5099040" y="5503680"/>
                        <a:ext cx="542880" cy="72720"/>
                        <a:chOff x="5099040" y="5503680"/>
                        <a:chExt cx="542880" cy="72720"/>
                      </a:xfrm>
                    </p:grpSpPr>
                    <p:sp>
                      <p:nvSpPr>
                        <p:cNvPr id="1385" name=""/>
                        <p:cNvSpPr/>
                        <p:nvPr/>
                      </p:nvSpPr>
                      <p:spPr>
                        <a:xfrm flipH="1" flipV="1">
                          <a:off x="5099040" y="5533560"/>
                          <a:ext cx="542880" cy="428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86" name=""/>
                        <p:cNvSpPr/>
                        <p:nvPr/>
                      </p:nvSpPr>
                      <p:spPr>
                        <a:xfrm flipV="1">
                          <a:off x="5111640" y="5503680"/>
                          <a:ext cx="517680" cy="428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387" name=""/>
                  <p:cNvGrpSpPr/>
                  <p:nvPr/>
                </p:nvGrpSpPr>
                <p:grpSpPr>
                  <a:xfrm>
                    <a:off x="5099040" y="5254560"/>
                    <a:ext cx="1081080" cy="262080"/>
                    <a:chOff x="5099040" y="5254560"/>
                    <a:chExt cx="1081080" cy="262080"/>
                  </a:xfrm>
                </p:grpSpPr>
                <p:grpSp>
                  <p:nvGrpSpPr>
                    <p:cNvPr id="1388" name=""/>
                    <p:cNvGrpSpPr/>
                    <p:nvPr/>
                  </p:nvGrpSpPr>
                  <p:grpSpPr>
                    <a:xfrm>
                      <a:off x="5099040" y="5380200"/>
                      <a:ext cx="1081080" cy="136440"/>
                      <a:chOff x="5099040" y="5380200"/>
                      <a:chExt cx="1081080" cy="136440"/>
                    </a:xfrm>
                  </p:grpSpPr>
                  <p:sp>
                    <p:nvSpPr>
                      <p:cNvPr id="1389" name=""/>
                      <p:cNvSpPr/>
                      <p:nvPr/>
                    </p:nvSpPr>
                    <p:spPr>
                      <a:xfrm flipV="1">
                        <a:off x="5641920" y="5472000"/>
                        <a:ext cx="525600" cy="44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90" name=""/>
                      <p:cNvSpPr/>
                      <p:nvPr/>
                    </p:nvSpPr>
                    <p:spPr>
                      <a:xfrm flipH="1" flipV="1">
                        <a:off x="5629320" y="5441760"/>
                        <a:ext cx="550800" cy="42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391" name=""/>
                      <p:cNvGrpSpPr/>
                      <p:nvPr/>
                    </p:nvGrpSpPr>
                    <p:grpSpPr>
                      <a:xfrm>
                        <a:off x="5099040" y="5380200"/>
                        <a:ext cx="542880" cy="74520"/>
                        <a:chOff x="5099040" y="5380200"/>
                        <a:chExt cx="542880" cy="74520"/>
                      </a:xfrm>
                    </p:grpSpPr>
                    <p:sp>
                      <p:nvSpPr>
                        <p:cNvPr id="1392" name=""/>
                        <p:cNvSpPr/>
                        <p:nvPr/>
                      </p:nvSpPr>
                      <p:spPr>
                        <a:xfrm flipH="1" flipV="1">
                          <a:off x="5099040" y="5408640"/>
                          <a:ext cx="542880" cy="46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93" name=""/>
                        <p:cNvSpPr/>
                        <p:nvPr/>
                      </p:nvSpPr>
                      <p:spPr>
                        <a:xfrm flipV="1">
                          <a:off x="5111640" y="5380200"/>
                          <a:ext cx="517680" cy="41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760" bIns="-576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394" name=""/>
                    <p:cNvGrpSpPr/>
                    <p:nvPr/>
                  </p:nvGrpSpPr>
                  <p:grpSpPr>
                    <a:xfrm>
                      <a:off x="5099040" y="5254560"/>
                      <a:ext cx="1081080" cy="138240"/>
                      <a:chOff x="5099040" y="5254560"/>
                      <a:chExt cx="1081080" cy="138240"/>
                    </a:xfrm>
                  </p:grpSpPr>
                  <p:sp>
                    <p:nvSpPr>
                      <p:cNvPr id="1395" name=""/>
                      <p:cNvSpPr/>
                      <p:nvPr/>
                    </p:nvSpPr>
                    <p:spPr>
                      <a:xfrm flipV="1">
                        <a:off x="5641920" y="5348160"/>
                        <a:ext cx="525600" cy="44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96" name=""/>
                      <p:cNvSpPr/>
                      <p:nvPr/>
                    </p:nvSpPr>
                    <p:spPr>
                      <a:xfrm flipH="1" flipV="1">
                        <a:off x="5629320" y="5319360"/>
                        <a:ext cx="550800" cy="41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397" name=""/>
                      <p:cNvGrpSpPr/>
                      <p:nvPr/>
                    </p:nvGrpSpPr>
                    <p:grpSpPr>
                      <a:xfrm>
                        <a:off x="5099040" y="5254560"/>
                        <a:ext cx="542880" cy="77400"/>
                        <a:chOff x="5099040" y="5254560"/>
                        <a:chExt cx="542880" cy="77400"/>
                      </a:xfrm>
                    </p:grpSpPr>
                    <p:sp>
                      <p:nvSpPr>
                        <p:cNvPr id="1398" name=""/>
                        <p:cNvSpPr/>
                        <p:nvPr/>
                      </p:nvSpPr>
                      <p:spPr>
                        <a:xfrm flipH="1" flipV="1">
                          <a:off x="5099040" y="5287680"/>
                          <a:ext cx="542880" cy="44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" bIns="-252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99" name=""/>
                        <p:cNvSpPr/>
                        <p:nvPr/>
                      </p:nvSpPr>
                      <p:spPr>
                        <a:xfrm flipV="1">
                          <a:off x="5111640" y="5254560"/>
                          <a:ext cx="517680" cy="46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400" name=""/>
                  <p:cNvGrpSpPr/>
                  <p:nvPr/>
                </p:nvGrpSpPr>
                <p:grpSpPr>
                  <a:xfrm>
                    <a:off x="5099040" y="5008680"/>
                    <a:ext cx="1081080" cy="258480"/>
                    <a:chOff x="5099040" y="5008680"/>
                    <a:chExt cx="1081080" cy="258480"/>
                  </a:xfrm>
                </p:grpSpPr>
                <p:grpSp>
                  <p:nvGrpSpPr>
                    <p:cNvPr id="1401" name=""/>
                    <p:cNvGrpSpPr/>
                    <p:nvPr/>
                  </p:nvGrpSpPr>
                  <p:grpSpPr>
                    <a:xfrm>
                      <a:off x="5099040" y="5135040"/>
                      <a:ext cx="1081080" cy="132120"/>
                      <a:chOff x="5099040" y="5135040"/>
                      <a:chExt cx="1081080" cy="132120"/>
                    </a:xfrm>
                  </p:grpSpPr>
                  <p:sp>
                    <p:nvSpPr>
                      <p:cNvPr id="1402" name=""/>
                      <p:cNvSpPr/>
                      <p:nvPr/>
                    </p:nvSpPr>
                    <p:spPr>
                      <a:xfrm flipV="1">
                        <a:off x="5641920" y="5226120"/>
                        <a:ext cx="525600" cy="410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760" bIns="-57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03" name=""/>
                      <p:cNvSpPr/>
                      <p:nvPr/>
                    </p:nvSpPr>
                    <p:spPr>
                      <a:xfrm flipH="1" flipV="1">
                        <a:off x="5629320" y="5195520"/>
                        <a:ext cx="550800" cy="42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404" name=""/>
                      <p:cNvGrpSpPr/>
                      <p:nvPr/>
                    </p:nvGrpSpPr>
                    <p:grpSpPr>
                      <a:xfrm>
                        <a:off x="5099040" y="5135040"/>
                        <a:ext cx="542880" cy="73440"/>
                        <a:chOff x="5099040" y="5135040"/>
                        <a:chExt cx="542880" cy="73440"/>
                      </a:xfrm>
                    </p:grpSpPr>
                    <p:sp>
                      <p:nvSpPr>
                        <p:cNvPr id="1405" name=""/>
                        <p:cNvSpPr/>
                        <p:nvPr/>
                      </p:nvSpPr>
                      <p:spPr>
                        <a:xfrm flipH="1" flipV="1">
                          <a:off x="5099040" y="5162400"/>
                          <a:ext cx="542880" cy="46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06" name=""/>
                        <p:cNvSpPr/>
                        <p:nvPr/>
                      </p:nvSpPr>
                      <p:spPr>
                        <a:xfrm flipV="1">
                          <a:off x="5111640" y="5135040"/>
                          <a:ext cx="517680" cy="399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6840" bIns="-684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407" name=""/>
                    <p:cNvGrpSpPr/>
                    <p:nvPr/>
                  </p:nvGrpSpPr>
                  <p:grpSpPr>
                    <a:xfrm>
                      <a:off x="5099040" y="5008680"/>
                      <a:ext cx="1081080" cy="139680"/>
                      <a:chOff x="5099040" y="5008680"/>
                      <a:chExt cx="1081080" cy="139680"/>
                    </a:xfrm>
                  </p:grpSpPr>
                  <p:sp>
                    <p:nvSpPr>
                      <p:cNvPr id="1408" name=""/>
                      <p:cNvSpPr/>
                      <p:nvPr/>
                    </p:nvSpPr>
                    <p:spPr>
                      <a:xfrm flipV="1">
                        <a:off x="5641920" y="5102280"/>
                        <a:ext cx="525600" cy="46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09" name=""/>
                      <p:cNvSpPr/>
                      <p:nvPr/>
                    </p:nvSpPr>
                    <p:spPr>
                      <a:xfrm flipH="1" flipV="1">
                        <a:off x="5629320" y="5070240"/>
                        <a:ext cx="550800" cy="4428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" bIns="-25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410" name=""/>
                      <p:cNvGrpSpPr/>
                      <p:nvPr/>
                    </p:nvGrpSpPr>
                    <p:grpSpPr>
                      <a:xfrm>
                        <a:off x="5099040" y="5008680"/>
                        <a:ext cx="542880" cy="74520"/>
                        <a:chOff x="5099040" y="5008680"/>
                        <a:chExt cx="542880" cy="74520"/>
                      </a:xfrm>
                    </p:grpSpPr>
                    <p:sp>
                      <p:nvSpPr>
                        <p:cNvPr id="1411" name=""/>
                        <p:cNvSpPr/>
                        <p:nvPr/>
                      </p:nvSpPr>
                      <p:spPr>
                        <a:xfrm flipH="1" flipV="1">
                          <a:off x="5099040" y="5043600"/>
                          <a:ext cx="542880" cy="396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0" bIns="-72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12" name=""/>
                        <p:cNvSpPr/>
                        <p:nvPr/>
                      </p:nvSpPr>
                      <p:spPr>
                        <a:xfrm flipV="1">
                          <a:off x="5111640" y="5008680"/>
                          <a:ext cx="517680" cy="4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" bIns="72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1413" name=""/>
                  <p:cNvSpPr/>
                  <p:nvPr/>
                </p:nvSpPr>
                <p:spPr>
                  <a:xfrm>
                    <a:off x="5635800" y="6008760"/>
                    <a:ext cx="0" cy="81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4" name=""/>
                  <p:cNvSpPr/>
                  <p:nvPr/>
                </p:nvSpPr>
                <p:spPr>
                  <a:xfrm>
                    <a:off x="5635800" y="4930920"/>
                    <a:ext cx="0" cy="777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5" name=""/>
                <p:cNvSpPr/>
                <p:nvPr/>
              </p:nvSpPr>
              <p:spPr>
                <a:xfrm>
                  <a:off x="5532480" y="4883040"/>
                  <a:ext cx="163440" cy="30240"/>
                </a:xfrm>
                <a:prstGeom prst="ellipse">
                  <a:avLst/>
                </a:prstGeom>
                <a:noFill/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6" name=""/>
              <p:cNvSpPr/>
              <p:nvPr/>
            </p:nvSpPr>
            <p:spPr>
              <a:xfrm>
                <a:off x="4654440" y="5950080"/>
                <a:ext cx="1968480" cy="139680"/>
              </a:xfrm>
              <a:prstGeom prst="rect">
                <a:avLst/>
              </a:prstGeom>
              <a:solidFill>
                <a:srgbClr val="767900"/>
              </a:solidFill>
              <a:ln w="12600">
                <a:solidFill>
                  <a:srgbClr val="767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4959360" y="4883040"/>
                <a:ext cx="1359000" cy="63720"/>
              </a:xfrm>
              <a:prstGeom prst="rect">
                <a:avLst/>
              </a:prstGeom>
              <a:solidFill>
                <a:srgbClr val="fc0000"/>
              </a:solidFill>
              <a:ln w="1260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5721480" y="4273560"/>
                <a:ext cx="139680" cy="596880"/>
              </a:xfrm>
              <a:prstGeom prst="rtTriangl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rot="16200000">
                <a:off x="5187960" y="4502160"/>
                <a:ext cx="596880" cy="139680"/>
              </a:xfrm>
              <a:prstGeom prst="rtTriangl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568840" y="3511440"/>
                <a:ext cx="139680" cy="135900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5568840" y="3282840"/>
                <a:ext cx="139680" cy="216000"/>
              </a:xfrm>
              <a:prstGeom prst="triangle">
                <a:avLst>
                  <a:gd name="adj" fmla="val 49995"/>
                </a:avLst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22" name=""/>
            <p:cNvGrpSpPr/>
            <p:nvPr/>
          </p:nvGrpSpPr>
          <p:grpSpPr>
            <a:xfrm>
              <a:off x="7156440" y="3282840"/>
              <a:ext cx="1081080" cy="2806920"/>
              <a:chOff x="7156440" y="3282840"/>
              <a:chExt cx="1081080" cy="2806920"/>
            </a:xfrm>
          </p:grpSpPr>
          <p:grpSp>
            <p:nvGrpSpPr>
              <p:cNvPr id="1423" name=""/>
              <p:cNvGrpSpPr/>
              <p:nvPr/>
            </p:nvGrpSpPr>
            <p:grpSpPr>
              <a:xfrm>
                <a:off x="7156440" y="3392640"/>
                <a:ext cx="1081080" cy="2697120"/>
                <a:chOff x="7156440" y="3392640"/>
                <a:chExt cx="1081080" cy="2697120"/>
              </a:xfrm>
            </p:grpSpPr>
            <p:grpSp>
              <p:nvGrpSpPr>
                <p:cNvPr id="1424" name=""/>
                <p:cNvGrpSpPr/>
                <p:nvPr/>
              </p:nvGrpSpPr>
              <p:grpSpPr>
                <a:xfrm>
                  <a:off x="7156440" y="5300640"/>
                  <a:ext cx="1081080" cy="585360"/>
                  <a:chOff x="7156440" y="5300640"/>
                  <a:chExt cx="1081080" cy="585360"/>
                </a:xfrm>
              </p:grpSpPr>
              <p:grpSp>
                <p:nvGrpSpPr>
                  <p:cNvPr id="1425" name=""/>
                  <p:cNvGrpSpPr/>
                  <p:nvPr/>
                </p:nvGrpSpPr>
                <p:grpSpPr>
                  <a:xfrm>
                    <a:off x="7156440" y="5590800"/>
                    <a:ext cx="1081080" cy="295200"/>
                    <a:chOff x="7156440" y="5590800"/>
                    <a:chExt cx="1081080" cy="295200"/>
                  </a:xfrm>
                </p:grpSpPr>
                <p:sp>
                  <p:nvSpPr>
                    <p:cNvPr id="1426" name=""/>
                    <p:cNvSpPr/>
                    <p:nvPr/>
                  </p:nvSpPr>
                  <p:spPr>
                    <a:xfrm flipV="1">
                      <a:off x="7699320" y="5803560"/>
                      <a:ext cx="525600" cy="824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7" name=""/>
                    <p:cNvSpPr/>
                    <p:nvPr/>
                  </p:nvSpPr>
                  <p:spPr>
                    <a:xfrm flipH="1" flipV="1">
                      <a:off x="7686720" y="5729400"/>
                      <a:ext cx="550800" cy="871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428" name=""/>
                    <p:cNvGrpSpPr/>
                    <p:nvPr/>
                  </p:nvGrpSpPr>
                  <p:grpSpPr>
                    <a:xfrm>
                      <a:off x="7156440" y="5590800"/>
                      <a:ext cx="542880" cy="150840"/>
                      <a:chOff x="7156440" y="5590800"/>
                      <a:chExt cx="542880" cy="150840"/>
                    </a:xfrm>
                  </p:grpSpPr>
                  <p:sp>
                    <p:nvSpPr>
                      <p:cNvPr id="1429" name=""/>
                      <p:cNvSpPr/>
                      <p:nvPr/>
                    </p:nvSpPr>
                    <p:spPr>
                      <a:xfrm flipH="1" flipV="1">
                        <a:off x="7156440" y="5652720"/>
                        <a:ext cx="542880" cy="8892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2120" bIns="42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30" name=""/>
                      <p:cNvSpPr/>
                      <p:nvPr/>
                    </p:nvSpPr>
                    <p:spPr>
                      <a:xfrm flipV="1">
                        <a:off x="7169040" y="5590800"/>
                        <a:ext cx="517680" cy="74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720" bIns="277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431" name=""/>
                  <p:cNvGrpSpPr/>
                  <p:nvPr/>
                </p:nvGrpSpPr>
                <p:grpSpPr>
                  <a:xfrm>
                    <a:off x="7156440" y="5300640"/>
                    <a:ext cx="1081080" cy="302760"/>
                    <a:chOff x="7156440" y="5300640"/>
                    <a:chExt cx="1081080" cy="302760"/>
                  </a:xfrm>
                </p:grpSpPr>
                <p:sp>
                  <p:nvSpPr>
                    <p:cNvPr id="1432" name=""/>
                    <p:cNvSpPr/>
                    <p:nvPr/>
                  </p:nvSpPr>
                  <p:spPr>
                    <a:xfrm flipV="1">
                      <a:off x="7699320" y="5513040"/>
                      <a:ext cx="525600" cy="903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3" name=""/>
                    <p:cNvSpPr/>
                    <p:nvPr/>
                  </p:nvSpPr>
                  <p:spPr>
                    <a:xfrm flipH="1" flipV="1">
                      <a:off x="7686720" y="5446800"/>
                      <a:ext cx="550800" cy="792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434" name=""/>
                    <p:cNvGrpSpPr/>
                    <p:nvPr/>
                  </p:nvGrpSpPr>
                  <p:grpSpPr>
                    <a:xfrm>
                      <a:off x="7156440" y="5300640"/>
                      <a:ext cx="542880" cy="158760"/>
                      <a:chOff x="7156440" y="5300640"/>
                      <a:chExt cx="542880" cy="158760"/>
                    </a:xfrm>
                  </p:grpSpPr>
                  <p:sp>
                    <p:nvSpPr>
                      <p:cNvPr id="1435" name=""/>
                      <p:cNvSpPr/>
                      <p:nvPr/>
                    </p:nvSpPr>
                    <p:spPr>
                      <a:xfrm flipH="1" flipV="1">
                        <a:off x="7156440" y="5373720"/>
                        <a:ext cx="542880" cy="8568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880" bIns="388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36" name=""/>
                      <p:cNvSpPr/>
                      <p:nvPr/>
                    </p:nvSpPr>
                    <p:spPr>
                      <a:xfrm flipV="1">
                        <a:off x="7169040" y="5300640"/>
                        <a:ext cx="517680" cy="8568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880" bIns="388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437" name=""/>
                <p:cNvGrpSpPr/>
                <p:nvPr/>
              </p:nvGrpSpPr>
              <p:grpSpPr>
                <a:xfrm>
                  <a:off x="7156440" y="4735440"/>
                  <a:ext cx="1081080" cy="577440"/>
                  <a:chOff x="7156440" y="4735440"/>
                  <a:chExt cx="1081080" cy="577440"/>
                </a:xfrm>
              </p:grpSpPr>
              <p:grpSp>
                <p:nvGrpSpPr>
                  <p:cNvPr id="1438" name=""/>
                  <p:cNvGrpSpPr/>
                  <p:nvPr/>
                </p:nvGrpSpPr>
                <p:grpSpPr>
                  <a:xfrm>
                    <a:off x="7156440" y="5021280"/>
                    <a:ext cx="1081080" cy="291600"/>
                    <a:chOff x="7156440" y="5021280"/>
                    <a:chExt cx="1081080" cy="291600"/>
                  </a:xfrm>
                </p:grpSpPr>
                <p:sp>
                  <p:nvSpPr>
                    <p:cNvPr id="1439" name=""/>
                    <p:cNvSpPr/>
                    <p:nvPr/>
                  </p:nvSpPr>
                  <p:spPr>
                    <a:xfrm flipV="1">
                      <a:off x="7699320" y="5230440"/>
                      <a:ext cx="525600" cy="824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0" name=""/>
                    <p:cNvSpPr/>
                    <p:nvPr/>
                  </p:nvSpPr>
                  <p:spPr>
                    <a:xfrm flipH="1" flipV="1">
                      <a:off x="7686720" y="5157720"/>
                      <a:ext cx="550800" cy="856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441" name=""/>
                    <p:cNvGrpSpPr/>
                    <p:nvPr/>
                  </p:nvGrpSpPr>
                  <p:grpSpPr>
                    <a:xfrm>
                      <a:off x="7156440" y="5021280"/>
                      <a:ext cx="542880" cy="148680"/>
                      <a:chOff x="7156440" y="5021280"/>
                      <a:chExt cx="542880" cy="148680"/>
                    </a:xfrm>
                  </p:grpSpPr>
                  <p:sp>
                    <p:nvSpPr>
                      <p:cNvPr id="1442" name=""/>
                      <p:cNvSpPr/>
                      <p:nvPr/>
                    </p:nvSpPr>
                    <p:spPr>
                      <a:xfrm flipH="1" flipV="1">
                        <a:off x="7156440" y="5087520"/>
                        <a:ext cx="542880" cy="82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43" name=""/>
                      <p:cNvSpPr/>
                      <p:nvPr/>
                    </p:nvSpPr>
                    <p:spPr>
                      <a:xfrm flipV="1">
                        <a:off x="7169040" y="5021280"/>
                        <a:ext cx="517680" cy="79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400" bIns="324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444" name=""/>
                  <p:cNvGrpSpPr/>
                  <p:nvPr/>
                </p:nvGrpSpPr>
                <p:grpSpPr>
                  <a:xfrm>
                    <a:off x="7156440" y="4735440"/>
                    <a:ext cx="1081080" cy="298440"/>
                    <a:chOff x="7156440" y="4735440"/>
                    <a:chExt cx="1081080" cy="298440"/>
                  </a:xfrm>
                </p:grpSpPr>
                <p:sp>
                  <p:nvSpPr>
                    <p:cNvPr id="1445" name=""/>
                    <p:cNvSpPr/>
                    <p:nvPr/>
                  </p:nvSpPr>
                  <p:spPr>
                    <a:xfrm flipV="1">
                      <a:off x="7699320" y="4948200"/>
                      <a:ext cx="525600" cy="856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6" name=""/>
                    <p:cNvSpPr/>
                    <p:nvPr/>
                  </p:nvSpPr>
                  <p:spPr>
                    <a:xfrm flipH="1" flipV="1">
                      <a:off x="7686720" y="4875120"/>
                      <a:ext cx="550800" cy="856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447" name=""/>
                    <p:cNvGrpSpPr/>
                    <p:nvPr/>
                  </p:nvGrpSpPr>
                  <p:grpSpPr>
                    <a:xfrm>
                      <a:off x="7156440" y="4735440"/>
                      <a:ext cx="542880" cy="152640"/>
                      <a:chOff x="7156440" y="4735440"/>
                      <a:chExt cx="542880" cy="152640"/>
                    </a:xfrm>
                  </p:grpSpPr>
                  <p:sp>
                    <p:nvSpPr>
                      <p:cNvPr id="1448" name=""/>
                      <p:cNvSpPr/>
                      <p:nvPr/>
                    </p:nvSpPr>
                    <p:spPr>
                      <a:xfrm flipH="1" flipV="1">
                        <a:off x="7156440" y="4805280"/>
                        <a:ext cx="542880" cy="8280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000" bIns="360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49" name=""/>
                      <p:cNvSpPr/>
                      <p:nvPr/>
                    </p:nvSpPr>
                    <p:spPr>
                      <a:xfrm flipV="1">
                        <a:off x="7169040" y="4735440"/>
                        <a:ext cx="517680" cy="8280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000" bIns="360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450" name=""/>
                <p:cNvGrpSpPr/>
                <p:nvPr/>
              </p:nvGrpSpPr>
              <p:grpSpPr>
                <a:xfrm>
                  <a:off x="7156440" y="4158720"/>
                  <a:ext cx="1081080" cy="589320"/>
                  <a:chOff x="7156440" y="4158720"/>
                  <a:chExt cx="1081080" cy="589320"/>
                </a:xfrm>
              </p:grpSpPr>
              <p:grpSp>
                <p:nvGrpSpPr>
                  <p:cNvPr id="1451" name=""/>
                  <p:cNvGrpSpPr/>
                  <p:nvPr/>
                </p:nvGrpSpPr>
                <p:grpSpPr>
                  <a:xfrm>
                    <a:off x="7156440" y="4447800"/>
                    <a:ext cx="1081080" cy="300240"/>
                    <a:chOff x="7156440" y="4447800"/>
                    <a:chExt cx="1081080" cy="300240"/>
                  </a:xfrm>
                </p:grpSpPr>
                <p:sp>
                  <p:nvSpPr>
                    <p:cNvPr id="1452" name=""/>
                    <p:cNvSpPr/>
                    <p:nvPr/>
                  </p:nvSpPr>
                  <p:spPr>
                    <a:xfrm flipV="1">
                      <a:off x="7699320" y="4660920"/>
                      <a:ext cx="525600" cy="871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3" name=""/>
                    <p:cNvSpPr/>
                    <p:nvPr/>
                  </p:nvSpPr>
                  <p:spPr>
                    <a:xfrm flipH="1" flipV="1">
                      <a:off x="7686720" y="4592160"/>
                      <a:ext cx="550800" cy="81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454" name=""/>
                    <p:cNvGrpSpPr/>
                    <p:nvPr/>
                  </p:nvGrpSpPr>
                  <p:grpSpPr>
                    <a:xfrm>
                      <a:off x="7156440" y="4447800"/>
                      <a:ext cx="542880" cy="157680"/>
                      <a:chOff x="7156440" y="4447800"/>
                      <a:chExt cx="542880" cy="157680"/>
                    </a:xfrm>
                  </p:grpSpPr>
                  <p:sp>
                    <p:nvSpPr>
                      <p:cNvPr id="1455" name=""/>
                      <p:cNvSpPr/>
                      <p:nvPr/>
                    </p:nvSpPr>
                    <p:spPr>
                      <a:xfrm flipH="1" flipV="1">
                        <a:off x="7156440" y="4514760"/>
                        <a:ext cx="542880" cy="9072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920" bIns="43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56" name=""/>
                      <p:cNvSpPr/>
                      <p:nvPr/>
                    </p:nvSpPr>
                    <p:spPr>
                      <a:xfrm flipV="1">
                        <a:off x="7169040" y="4447800"/>
                        <a:ext cx="517680" cy="79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760" bIns="327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457" name=""/>
                  <p:cNvGrpSpPr/>
                  <p:nvPr/>
                </p:nvGrpSpPr>
                <p:grpSpPr>
                  <a:xfrm>
                    <a:off x="7156440" y="4158720"/>
                    <a:ext cx="1081080" cy="302040"/>
                    <a:chOff x="7156440" y="4158720"/>
                    <a:chExt cx="1081080" cy="302040"/>
                  </a:xfrm>
                </p:grpSpPr>
                <p:sp>
                  <p:nvSpPr>
                    <p:cNvPr id="1458" name=""/>
                    <p:cNvSpPr/>
                    <p:nvPr/>
                  </p:nvSpPr>
                  <p:spPr>
                    <a:xfrm flipV="1">
                      <a:off x="7699320" y="4375080"/>
                      <a:ext cx="525600" cy="856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9" name=""/>
                    <p:cNvSpPr/>
                    <p:nvPr/>
                  </p:nvSpPr>
                  <p:spPr>
                    <a:xfrm flipH="1" flipV="1">
                      <a:off x="7686720" y="4308480"/>
                      <a:ext cx="550800" cy="792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460" name=""/>
                    <p:cNvGrpSpPr/>
                    <p:nvPr/>
                  </p:nvGrpSpPr>
                  <p:grpSpPr>
                    <a:xfrm>
                      <a:off x="7156440" y="4158720"/>
                      <a:ext cx="542880" cy="162360"/>
                      <a:chOff x="7156440" y="4158720"/>
                      <a:chExt cx="542880" cy="162360"/>
                    </a:xfrm>
                  </p:grpSpPr>
                  <p:sp>
                    <p:nvSpPr>
                      <p:cNvPr id="1461" name=""/>
                      <p:cNvSpPr/>
                      <p:nvPr/>
                    </p:nvSpPr>
                    <p:spPr>
                      <a:xfrm flipH="1" flipV="1">
                        <a:off x="7156440" y="4235400"/>
                        <a:ext cx="542880" cy="8568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880" bIns="388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62" name=""/>
                      <p:cNvSpPr/>
                      <p:nvPr/>
                    </p:nvSpPr>
                    <p:spPr>
                      <a:xfrm flipV="1">
                        <a:off x="7169040" y="4158720"/>
                        <a:ext cx="517680" cy="8892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2120" bIns="42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463" name=""/>
                <p:cNvGrpSpPr/>
                <p:nvPr/>
              </p:nvGrpSpPr>
              <p:grpSpPr>
                <a:xfrm>
                  <a:off x="7156440" y="3588840"/>
                  <a:ext cx="1081080" cy="582840"/>
                  <a:chOff x="7156440" y="3588840"/>
                  <a:chExt cx="1081080" cy="582840"/>
                </a:xfrm>
              </p:grpSpPr>
              <p:grpSp>
                <p:nvGrpSpPr>
                  <p:cNvPr id="1464" name=""/>
                  <p:cNvGrpSpPr/>
                  <p:nvPr/>
                </p:nvGrpSpPr>
                <p:grpSpPr>
                  <a:xfrm>
                    <a:off x="7156440" y="3882960"/>
                    <a:ext cx="1081080" cy="288720"/>
                    <a:chOff x="7156440" y="3882960"/>
                    <a:chExt cx="1081080" cy="288720"/>
                  </a:xfrm>
                </p:grpSpPr>
                <p:sp>
                  <p:nvSpPr>
                    <p:cNvPr id="1465" name=""/>
                    <p:cNvSpPr/>
                    <p:nvPr/>
                  </p:nvSpPr>
                  <p:spPr>
                    <a:xfrm flipV="1">
                      <a:off x="7699320" y="4092120"/>
                      <a:ext cx="525600" cy="795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760" bIns="327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6" name=""/>
                    <p:cNvSpPr/>
                    <p:nvPr/>
                  </p:nvSpPr>
                  <p:spPr>
                    <a:xfrm flipH="1" flipV="1">
                      <a:off x="7686720" y="4022640"/>
                      <a:ext cx="550800" cy="828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467" name=""/>
                    <p:cNvGrpSpPr/>
                    <p:nvPr/>
                  </p:nvGrpSpPr>
                  <p:grpSpPr>
                    <a:xfrm>
                      <a:off x="7156440" y="3882960"/>
                      <a:ext cx="542880" cy="152280"/>
                      <a:chOff x="7156440" y="3882960"/>
                      <a:chExt cx="542880" cy="152280"/>
                    </a:xfrm>
                  </p:grpSpPr>
                  <p:sp>
                    <p:nvSpPr>
                      <p:cNvPr id="1468" name=""/>
                      <p:cNvSpPr/>
                      <p:nvPr/>
                    </p:nvSpPr>
                    <p:spPr>
                      <a:xfrm flipH="1" flipV="1">
                        <a:off x="7156440" y="3946320"/>
                        <a:ext cx="542880" cy="8892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2120" bIns="42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69" name=""/>
                      <p:cNvSpPr/>
                      <p:nvPr/>
                    </p:nvSpPr>
                    <p:spPr>
                      <a:xfrm flipV="1">
                        <a:off x="7169040" y="3882960"/>
                        <a:ext cx="517680" cy="7632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470" name=""/>
                  <p:cNvGrpSpPr/>
                  <p:nvPr/>
                </p:nvGrpSpPr>
                <p:grpSpPr>
                  <a:xfrm>
                    <a:off x="7156440" y="3588840"/>
                    <a:ext cx="1081080" cy="306720"/>
                    <a:chOff x="7156440" y="3588840"/>
                    <a:chExt cx="1081080" cy="306720"/>
                  </a:xfrm>
                </p:grpSpPr>
                <p:sp>
                  <p:nvSpPr>
                    <p:cNvPr id="1471" name=""/>
                    <p:cNvSpPr/>
                    <p:nvPr/>
                  </p:nvSpPr>
                  <p:spPr>
                    <a:xfrm flipV="1">
                      <a:off x="7699320" y="3807000"/>
                      <a:ext cx="525600" cy="885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760" bIns="417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2" name=""/>
                    <p:cNvSpPr/>
                    <p:nvPr/>
                  </p:nvSpPr>
                  <p:spPr>
                    <a:xfrm flipH="1" flipV="1">
                      <a:off x="7686720" y="3731760"/>
                      <a:ext cx="550800" cy="874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473" name=""/>
                    <p:cNvGrpSpPr/>
                    <p:nvPr/>
                  </p:nvGrpSpPr>
                  <p:grpSpPr>
                    <a:xfrm>
                      <a:off x="7156440" y="3588840"/>
                      <a:ext cx="542880" cy="156240"/>
                      <a:chOff x="7156440" y="3588840"/>
                      <a:chExt cx="542880" cy="156240"/>
                    </a:xfrm>
                  </p:grpSpPr>
                  <p:sp>
                    <p:nvSpPr>
                      <p:cNvPr id="1474" name=""/>
                      <p:cNvSpPr/>
                      <p:nvPr/>
                    </p:nvSpPr>
                    <p:spPr>
                      <a:xfrm flipH="1" flipV="1">
                        <a:off x="7156440" y="3670200"/>
                        <a:ext cx="542880" cy="7488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080" bIns="280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5" name=""/>
                      <p:cNvSpPr/>
                      <p:nvPr/>
                    </p:nvSpPr>
                    <p:spPr>
                      <a:xfrm flipV="1">
                        <a:off x="7169040" y="3588840"/>
                        <a:ext cx="517680" cy="9396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476" name=""/>
                <p:cNvSpPr/>
                <p:nvPr/>
              </p:nvSpPr>
              <p:spPr>
                <a:xfrm>
                  <a:off x="7693200" y="588636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7693200" y="3392640"/>
                  <a:ext cx="0" cy="196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8" name=""/>
              <p:cNvSpPr/>
              <p:nvPr/>
            </p:nvSpPr>
            <p:spPr>
              <a:xfrm>
                <a:off x="7589880" y="3282840"/>
                <a:ext cx="163440" cy="85680"/>
              </a:xfrm>
              <a:prstGeom prst="ellipse">
                <a:avLst/>
              </a:prstGeom>
              <a:noFill/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79" name=""/>
            <p:cNvSpPr/>
            <p:nvPr/>
          </p:nvSpPr>
          <p:spPr>
            <a:xfrm>
              <a:off x="6711840" y="5950080"/>
              <a:ext cx="1968480" cy="139680"/>
            </a:xfrm>
            <a:prstGeom prst="rect">
              <a:avLst/>
            </a:prstGeom>
            <a:solidFill>
              <a:srgbClr val="767900"/>
            </a:solidFill>
            <a:ln w="12600">
              <a:solidFill>
                <a:srgbClr val="767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016760" y="3282840"/>
              <a:ext cx="1359000" cy="6372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1" name=""/>
            <p:cNvGrpSpPr/>
            <p:nvPr/>
          </p:nvGrpSpPr>
          <p:grpSpPr>
            <a:xfrm>
              <a:off x="7473960" y="1378080"/>
              <a:ext cx="444600" cy="1587240"/>
              <a:chOff x="7473960" y="1378080"/>
              <a:chExt cx="444600" cy="1587240"/>
            </a:xfrm>
          </p:grpSpPr>
          <p:sp>
            <p:nvSpPr>
              <p:cNvPr id="1482" name=""/>
              <p:cNvSpPr/>
              <p:nvPr/>
            </p:nvSpPr>
            <p:spPr>
              <a:xfrm>
                <a:off x="7778880" y="2368440"/>
                <a:ext cx="139680" cy="596880"/>
              </a:xfrm>
              <a:prstGeom prst="rtTriangl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 rot="16200000">
                <a:off x="7245360" y="2597040"/>
                <a:ext cx="596880" cy="139680"/>
              </a:xfrm>
              <a:prstGeom prst="rtTriangl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7626240" y="1606680"/>
                <a:ext cx="139680" cy="135864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7626240" y="1378080"/>
                <a:ext cx="139680" cy="215640"/>
              </a:xfrm>
              <a:prstGeom prst="triangle">
                <a:avLst>
                  <a:gd name="adj" fmla="val 49995"/>
                </a:avLst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86" name=""/>
            <p:cNvSpPr/>
            <p:nvPr/>
          </p:nvSpPr>
          <p:spPr>
            <a:xfrm>
              <a:off x="6705720" y="3435480"/>
              <a:ext cx="0" cy="1511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024240" y="401652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252480" y="531180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54160" y="2371680"/>
            <a:ext cx="6834240" cy="211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دامه مسئله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0000"/>
          </a:bodyPr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ون نیروی جاذبه یک نیروی پایستار است واز طرفی   چون انرژی مکانیکی ابتدا و در بینهایت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K = 0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 است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 =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لذا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before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= U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+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G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(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G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1795320" y="3678120"/>
                <a:ext cx="31687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Mm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Mm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"/>
              <p:cNvSpPr txBox="1"/>
              <p:nvPr/>
            </p:nvSpPr>
            <p:spPr>
              <a:xfrm>
                <a:off x="1380960" y="4710240"/>
                <a:ext cx="429120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Mm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Mm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Mm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495" name=""/>
          <p:cNvGrpSpPr/>
          <p:nvPr/>
        </p:nvGrpSpPr>
        <p:grpSpPr>
          <a:xfrm>
            <a:off x="5568840" y="4714920"/>
            <a:ext cx="2698920" cy="930240"/>
            <a:chOff x="5568840" y="4714920"/>
            <a:chExt cx="2698920" cy="930240"/>
          </a:xfrm>
        </p:grpSpPr>
        <mc:AlternateContent>
          <mc:Choice xmlns:a14="http://schemas.microsoft.com/office/drawing/2010/main" Requires="a14">
            <p:sp>
              <p:nvSpPr>
                <p:cNvPr id="1496" name=""/>
                <p:cNvSpPr txBox="1"/>
                <p:nvPr/>
              </p:nvSpPr>
              <p:spPr>
                <a:xfrm>
                  <a:off x="6257880" y="4714920"/>
                  <a:ext cx="2009880" cy="93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GMm</m:t>
                              </m:r>
                            </m:num>
                            <m:den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R</m:t>
                                  </m:r>
                                </m:e>
                                <m:sub>
                                  <m:r>
                                    <m:t xml:space="preserve">E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497" name=""/>
            <p:cNvSpPr/>
            <p:nvPr/>
          </p:nvSpPr>
          <p:spPr>
            <a:xfrm>
              <a:off x="5568840" y="4807080"/>
              <a:ext cx="368280" cy="520560"/>
            </a:xfrm>
            <a:prstGeom prst="rightArrow">
              <a:avLst>
                <a:gd name="adj1" fmla="val 50000"/>
                <a:gd name="adj2" fmla="val 50005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8" name=""/>
          <p:cNvSpPr/>
          <p:nvPr/>
        </p:nvSpPr>
        <p:spPr>
          <a:xfrm>
            <a:off x="6060960" y="4527720"/>
            <a:ext cx="1770120" cy="1064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990720" y="623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دامه مسئله فنر فضایی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1201680" y="2359080"/>
            <a:ext cx="4138560" cy="105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ی اعداد داده شده 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d = 79.1 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072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2800" indent="-2628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لی زیاد خوشحال نباشید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3" name=""/>
              <p:cNvSpPr txBox="1"/>
              <p:nvPr/>
            </p:nvSpPr>
            <p:spPr>
              <a:xfrm>
                <a:off x="2662200" y="1463760"/>
                <a:ext cx="200988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Mm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504" name=""/>
          <p:cNvGrpSpPr/>
          <p:nvPr/>
        </p:nvGrpSpPr>
        <p:grpSpPr>
          <a:xfrm>
            <a:off x="4654440" y="1378080"/>
            <a:ext cx="4025880" cy="4711680"/>
            <a:chOff x="4654440" y="1378080"/>
            <a:chExt cx="4025880" cy="4711680"/>
          </a:xfrm>
        </p:grpSpPr>
        <p:grpSp>
          <p:nvGrpSpPr>
            <p:cNvPr id="1505" name=""/>
            <p:cNvGrpSpPr/>
            <p:nvPr/>
          </p:nvGrpSpPr>
          <p:grpSpPr>
            <a:xfrm>
              <a:off x="4654440" y="3282840"/>
              <a:ext cx="1968480" cy="2806920"/>
              <a:chOff x="4654440" y="3282840"/>
              <a:chExt cx="1968480" cy="2806920"/>
            </a:xfrm>
          </p:grpSpPr>
          <p:grpSp>
            <p:nvGrpSpPr>
              <p:cNvPr id="1506" name=""/>
              <p:cNvGrpSpPr/>
              <p:nvPr/>
            </p:nvGrpSpPr>
            <p:grpSpPr>
              <a:xfrm>
                <a:off x="5099040" y="4883040"/>
                <a:ext cx="1081080" cy="1206720"/>
                <a:chOff x="5099040" y="4883040"/>
                <a:chExt cx="1081080" cy="1206720"/>
              </a:xfrm>
            </p:grpSpPr>
            <p:grpSp>
              <p:nvGrpSpPr>
                <p:cNvPr id="1507" name=""/>
                <p:cNvGrpSpPr/>
                <p:nvPr/>
              </p:nvGrpSpPr>
              <p:grpSpPr>
                <a:xfrm>
                  <a:off x="5099040" y="4930920"/>
                  <a:ext cx="1081080" cy="1158840"/>
                  <a:chOff x="5099040" y="4930920"/>
                  <a:chExt cx="1081080" cy="1158840"/>
                </a:xfrm>
              </p:grpSpPr>
              <p:grpSp>
                <p:nvGrpSpPr>
                  <p:cNvPr id="1508" name=""/>
                  <p:cNvGrpSpPr/>
                  <p:nvPr/>
                </p:nvGrpSpPr>
                <p:grpSpPr>
                  <a:xfrm>
                    <a:off x="5099040" y="5748120"/>
                    <a:ext cx="1081080" cy="260280"/>
                    <a:chOff x="5099040" y="5748120"/>
                    <a:chExt cx="1081080" cy="260280"/>
                  </a:xfrm>
                </p:grpSpPr>
                <p:grpSp>
                  <p:nvGrpSpPr>
                    <p:cNvPr id="1509" name=""/>
                    <p:cNvGrpSpPr/>
                    <p:nvPr/>
                  </p:nvGrpSpPr>
                  <p:grpSpPr>
                    <a:xfrm>
                      <a:off x="5099040" y="5873760"/>
                      <a:ext cx="1081080" cy="134640"/>
                      <a:chOff x="5099040" y="5873760"/>
                      <a:chExt cx="1081080" cy="134640"/>
                    </a:xfrm>
                  </p:grpSpPr>
                  <p:sp>
                    <p:nvSpPr>
                      <p:cNvPr id="1510" name=""/>
                      <p:cNvSpPr/>
                      <p:nvPr/>
                    </p:nvSpPr>
                    <p:spPr>
                      <a:xfrm flipV="1">
                        <a:off x="5641920" y="5965560"/>
                        <a:ext cx="525600" cy="42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1" name=""/>
                      <p:cNvSpPr/>
                      <p:nvPr/>
                    </p:nvSpPr>
                    <p:spPr>
                      <a:xfrm flipH="1" flipV="1">
                        <a:off x="5629320" y="5933880"/>
                        <a:ext cx="550800" cy="4428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" bIns="-25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512" name=""/>
                      <p:cNvGrpSpPr/>
                      <p:nvPr/>
                    </p:nvGrpSpPr>
                    <p:grpSpPr>
                      <a:xfrm>
                        <a:off x="5099040" y="5873760"/>
                        <a:ext cx="542880" cy="73080"/>
                        <a:chOff x="5099040" y="5873760"/>
                        <a:chExt cx="542880" cy="73080"/>
                      </a:xfrm>
                    </p:grpSpPr>
                    <p:sp>
                      <p:nvSpPr>
                        <p:cNvPr id="1513" name=""/>
                        <p:cNvSpPr/>
                        <p:nvPr/>
                      </p:nvSpPr>
                      <p:spPr>
                        <a:xfrm flipH="1" flipV="1">
                          <a:off x="5099040" y="5900760"/>
                          <a:ext cx="542880" cy="46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4" name=""/>
                        <p:cNvSpPr/>
                        <p:nvPr/>
                      </p:nvSpPr>
                      <p:spPr>
                        <a:xfrm flipV="1">
                          <a:off x="5111640" y="5873760"/>
                          <a:ext cx="517680" cy="396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0" bIns="-72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515" name=""/>
                    <p:cNvGrpSpPr/>
                    <p:nvPr/>
                  </p:nvGrpSpPr>
                  <p:grpSpPr>
                    <a:xfrm>
                      <a:off x="5099040" y="5748120"/>
                      <a:ext cx="1081080" cy="138240"/>
                      <a:chOff x="5099040" y="5748120"/>
                      <a:chExt cx="1081080" cy="138240"/>
                    </a:xfrm>
                  </p:grpSpPr>
                  <p:sp>
                    <p:nvSpPr>
                      <p:cNvPr id="1516" name=""/>
                      <p:cNvSpPr/>
                      <p:nvPr/>
                    </p:nvSpPr>
                    <p:spPr>
                      <a:xfrm flipV="1">
                        <a:off x="5641920" y="5840280"/>
                        <a:ext cx="525600" cy="46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7" name=""/>
                      <p:cNvSpPr/>
                      <p:nvPr/>
                    </p:nvSpPr>
                    <p:spPr>
                      <a:xfrm flipH="1" flipV="1">
                        <a:off x="5629320" y="5811480"/>
                        <a:ext cx="550800" cy="41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518" name=""/>
                      <p:cNvGrpSpPr/>
                      <p:nvPr/>
                    </p:nvGrpSpPr>
                    <p:grpSpPr>
                      <a:xfrm>
                        <a:off x="5099040" y="5748120"/>
                        <a:ext cx="542880" cy="75960"/>
                        <a:chOff x="5099040" y="5748120"/>
                        <a:chExt cx="542880" cy="75960"/>
                      </a:xfrm>
                    </p:grpSpPr>
                    <p:sp>
                      <p:nvSpPr>
                        <p:cNvPr id="1519" name=""/>
                        <p:cNvSpPr/>
                        <p:nvPr/>
                      </p:nvSpPr>
                      <p:spPr>
                        <a:xfrm flipH="1" flipV="1">
                          <a:off x="5099040" y="5779800"/>
                          <a:ext cx="542880" cy="44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" bIns="-252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20" name=""/>
                        <p:cNvSpPr/>
                        <p:nvPr/>
                      </p:nvSpPr>
                      <p:spPr>
                        <a:xfrm flipV="1">
                          <a:off x="5111640" y="5748120"/>
                          <a:ext cx="517680" cy="44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" bIns="-252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521" name=""/>
                  <p:cNvGrpSpPr/>
                  <p:nvPr/>
                </p:nvGrpSpPr>
                <p:grpSpPr>
                  <a:xfrm>
                    <a:off x="5099040" y="5503680"/>
                    <a:ext cx="1081080" cy="257040"/>
                    <a:chOff x="5099040" y="5503680"/>
                    <a:chExt cx="1081080" cy="257040"/>
                  </a:xfrm>
                </p:grpSpPr>
                <p:grpSp>
                  <p:nvGrpSpPr>
                    <p:cNvPr id="1522" name=""/>
                    <p:cNvGrpSpPr/>
                    <p:nvPr/>
                  </p:nvGrpSpPr>
                  <p:grpSpPr>
                    <a:xfrm>
                      <a:off x="5099040" y="5627160"/>
                      <a:ext cx="1081080" cy="133560"/>
                      <a:chOff x="5099040" y="5627160"/>
                      <a:chExt cx="1081080" cy="133560"/>
                    </a:xfrm>
                  </p:grpSpPr>
                  <p:sp>
                    <p:nvSpPr>
                      <p:cNvPr id="1523" name=""/>
                      <p:cNvSpPr/>
                      <p:nvPr/>
                    </p:nvSpPr>
                    <p:spPr>
                      <a:xfrm flipV="1">
                        <a:off x="5641920" y="5717880"/>
                        <a:ext cx="525600" cy="42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4" name=""/>
                      <p:cNvSpPr/>
                      <p:nvPr/>
                    </p:nvSpPr>
                    <p:spPr>
                      <a:xfrm flipH="1" flipV="1">
                        <a:off x="5629320" y="5686200"/>
                        <a:ext cx="550800" cy="4428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" bIns="-25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525" name=""/>
                      <p:cNvGrpSpPr/>
                      <p:nvPr/>
                    </p:nvGrpSpPr>
                    <p:grpSpPr>
                      <a:xfrm>
                        <a:off x="5099040" y="5627160"/>
                        <a:ext cx="542880" cy="71640"/>
                        <a:chOff x="5099040" y="5627160"/>
                        <a:chExt cx="542880" cy="71640"/>
                      </a:xfrm>
                    </p:grpSpPr>
                    <p:sp>
                      <p:nvSpPr>
                        <p:cNvPr id="1526" name=""/>
                        <p:cNvSpPr/>
                        <p:nvPr/>
                      </p:nvSpPr>
                      <p:spPr>
                        <a:xfrm flipH="1" flipV="1">
                          <a:off x="5099040" y="5655960"/>
                          <a:ext cx="542880" cy="428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27" name=""/>
                        <p:cNvSpPr/>
                        <p:nvPr/>
                      </p:nvSpPr>
                      <p:spPr>
                        <a:xfrm flipV="1">
                          <a:off x="5111640" y="5627160"/>
                          <a:ext cx="517680" cy="41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400" bIns="-54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528" name=""/>
                    <p:cNvGrpSpPr/>
                    <p:nvPr/>
                  </p:nvGrpSpPr>
                  <p:grpSpPr>
                    <a:xfrm>
                      <a:off x="5099040" y="5503680"/>
                      <a:ext cx="1081080" cy="136800"/>
                      <a:chOff x="5099040" y="5503680"/>
                      <a:chExt cx="1081080" cy="136800"/>
                    </a:xfrm>
                  </p:grpSpPr>
                  <p:sp>
                    <p:nvSpPr>
                      <p:cNvPr id="1529" name=""/>
                      <p:cNvSpPr/>
                      <p:nvPr/>
                    </p:nvSpPr>
                    <p:spPr>
                      <a:xfrm flipV="1">
                        <a:off x="5641920" y="5595840"/>
                        <a:ext cx="525600" cy="44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0" name=""/>
                      <p:cNvSpPr/>
                      <p:nvPr/>
                    </p:nvSpPr>
                    <p:spPr>
                      <a:xfrm flipH="1" flipV="1">
                        <a:off x="5629320" y="5564160"/>
                        <a:ext cx="550800" cy="44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531" name=""/>
                      <p:cNvGrpSpPr/>
                      <p:nvPr/>
                    </p:nvGrpSpPr>
                    <p:grpSpPr>
                      <a:xfrm>
                        <a:off x="5099040" y="5503680"/>
                        <a:ext cx="542880" cy="72720"/>
                        <a:chOff x="5099040" y="5503680"/>
                        <a:chExt cx="542880" cy="72720"/>
                      </a:xfrm>
                    </p:grpSpPr>
                    <p:sp>
                      <p:nvSpPr>
                        <p:cNvPr id="1532" name=""/>
                        <p:cNvSpPr/>
                        <p:nvPr/>
                      </p:nvSpPr>
                      <p:spPr>
                        <a:xfrm flipH="1" flipV="1">
                          <a:off x="5099040" y="5533560"/>
                          <a:ext cx="542880" cy="428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33" name=""/>
                        <p:cNvSpPr/>
                        <p:nvPr/>
                      </p:nvSpPr>
                      <p:spPr>
                        <a:xfrm flipV="1">
                          <a:off x="5111640" y="5503680"/>
                          <a:ext cx="517680" cy="428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534" name=""/>
                  <p:cNvGrpSpPr/>
                  <p:nvPr/>
                </p:nvGrpSpPr>
                <p:grpSpPr>
                  <a:xfrm>
                    <a:off x="5099040" y="5254560"/>
                    <a:ext cx="1081080" cy="262080"/>
                    <a:chOff x="5099040" y="5254560"/>
                    <a:chExt cx="1081080" cy="262080"/>
                  </a:xfrm>
                </p:grpSpPr>
                <p:grpSp>
                  <p:nvGrpSpPr>
                    <p:cNvPr id="1535" name=""/>
                    <p:cNvGrpSpPr/>
                    <p:nvPr/>
                  </p:nvGrpSpPr>
                  <p:grpSpPr>
                    <a:xfrm>
                      <a:off x="5099040" y="5380200"/>
                      <a:ext cx="1081080" cy="136440"/>
                      <a:chOff x="5099040" y="5380200"/>
                      <a:chExt cx="1081080" cy="136440"/>
                    </a:xfrm>
                  </p:grpSpPr>
                  <p:sp>
                    <p:nvSpPr>
                      <p:cNvPr id="1536" name=""/>
                      <p:cNvSpPr/>
                      <p:nvPr/>
                    </p:nvSpPr>
                    <p:spPr>
                      <a:xfrm flipV="1">
                        <a:off x="5641920" y="5472000"/>
                        <a:ext cx="525600" cy="44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7" name=""/>
                      <p:cNvSpPr/>
                      <p:nvPr/>
                    </p:nvSpPr>
                    <p:spPr>
                      <a:xfrm flipH="1" flipV="1">
                        <a:off x="5629320" y="5441760"/>
                        <a:ext cx="550800" cy="42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538" name=""/>
                      <p:cNvGrpSpPr/>
                      <p:nvPr/>
                    </p:nvGrpSpPr>
                    <p:grpSpPr>
                      <a:xfrm>
                        <a:off x="5099040" y="5380200"/>
                        <a:ext cx="542880" cy="74520"/>
                        <a:chOff x="5099040" y="5380200"/>
                        <a:chExt cx="542880" cy="74520"/>
                      </a:xfrm>
                    </p:grpSpPr>
                    <p:sp>
                      <p:nvSpPr>
                        <p:cNvPr id="1539" name=""/>
                        <p:cNvSpPr/>
                        <p:nvPr/>
                      </p:nvSpPr>
                      <p:spPr>
                        <a:xfrm flipH="1" flipV="1">
                          <a:off x="5099040" y="5408640"/>
                          <a:ext cx="542880" cy="46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40" name=""/>
                        <p:cNvSpPr/>
                        <p:nvPr/>
                      </p:nvSpPr>
                      <p:spPr>
                        <a:xfrm flipV="1">
                          <a:off x="5111640" y="5380200"/>
                          <a:ext cx="517680" cy="41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760" bIns="-576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541" name=""/>
                    <p:cNvGrpSpPr/>
                    <p:nvPr/>
                  </p:nvGrpSpPr>
                  <p:grpSpPr>
                    <a:xfrm>
                      <a:off x="5099040" y="5254560"/>
                      <a:ext cx="1081080" cy="138240"/>
                      <a:chOff x="5099040" y="5254560"/>
                      <a:chExt cx="1081080" cy="138240"/>
                    </a:xfrm>
                  </p:grpSpPr>
                  <p:sp>
                    <p:nvSpPr>
                      <p:cNvPr id="1542" name=""/>
                      <p:cNvSpPr/>
                      <p:nvPr/>
                    </p:nvSpPr>
                    <p:spPr>
                      <a:xfrm flipV="1">
                        <a:off x="5641920" y="5348160"/>
                        <a:ext cx="525600" cy="44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3" name=""/>
                      <p:cNvSpPr/>
                      <p:nvPr/>
                    </p:nvSpPr>
                    <p:spPr>
                      <a:xfrm flipH="1" flipV="1">
                        <a:off x="5629320" y="5319360"/>
                        <a:ext cx="550800" cy="41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544" name=""/>
                      <p:cNvGrpSpPr/>
                      <p:nvPr/>
                    </p:nvGrpSpPr>
                    <p:grpSpPr>
                      <a:xfrm>
                        <a:off x="5099040" y="5254560"/>
                        <a:ext cx="542880" cy="77400"/>
                        <a:chOff x="5099040" y="5254560"/>
                        <a:chExt cx="542880" cy="77400"/>
                      </a:xfrm>
                    </p:grpSpPr>
                    <p:sp>
                      <p:nvSpPr>
                        <p:cNvPr id="1545" name=""/>
                        <p:cNvSpPr/>
                        <p:nvPr/>
                      </p:nvSpPr>
                      <p:spPr>
                        <a:xfrm flipH="1" flipV="1">
                          <a:off x="5099040" y="5287680"/>
                          <a:ext cx="542880" cy="44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" bIns="-252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46" name=""/>
                        <p:cNvSpPr/>
                        <p:nvPr/>
                      </p:nvSpPr>
                      <p:spPr>
                        <a:xfrm flipV="1">
                          <a:off x="5111640" y="5254560"/>
                          <a:ext cx="517680" cy="46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547" name=""/>
                  <p:cNvGrpSpPr/>
                  <p:nvPr/>
                </p:nvGrpSpPr>
                <p:grpSpPr>
                  <a:xfrm>
                    <a:off x="5099040" y="5008680"/>
                    <a:ext cx="1081080" cy="258480"/>
                    <a:chOff x="5099040" y="5008680"/>
                    <a:chExt cx="1081080" cy="258480"/>
                  </a:xfrm>
                </p:grpSpPr>
                <p:grpSp>
                  <p:nvGrpSpPr>
                    <p:cNvPr id="1548" name=""/>
                    <p:cNvGrpSpPr/>
                    <p:nvPr/>
                  </p:nvGrpSpPr>
                  <p:grpSpPr>
                    <a:xfrm>
                      <a:off x="5099040" y="5135040"/>
                      <a:ext cx="1081080" cy="132120"/>
                      <a:chOff x="5099040" y="5135040"/>
                      <a:chExt cx="1081080" cy="132120"/>
                    </a:xfrm>
                  </p:grpSpPr>
                  <p:sp>
                    <p:nvSpPr>
                      <p:cNvPr id="1549" name=""/>
                      <p:cNvSpPr/>
                      <p:nvPr/>
                    </p:nvSpPr>
                    <p:spPr>
                      <a:xfrm flipV="1">
                        <a:off x="5641920" y="5226120"/>
                        <a:ext cx="525600" cy="410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760" bIns="-57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0" name=""/>
                      <p:cNvSpPr/>
                      <p:nvPr/>
                    </p:nvSpPr>
                    <p:spPr>
                      <a:xfrm flipH="1" flipV="1">
                        <a:off x="5629320" y="5195520"/>
                        <a:ext cx="550800" cy="42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551" name=""/>
                      <p:cNvGrpSpPr/>
                      <p:nvPr/>
                    </p:nvGrpSpPr>
                    <p:grpSpPr>
                      <a:xfrm>
                        <a:off x="5099040" y="5135040"/>
                        <a:ext cx="542880" cy="73440"/>
                        <a:chOff x="5099040" y="5135040"/>
                        <a:chExt cx="542880" cy="73440"/>
                      </a:xfrm>
                    </p:grpSpPr>
                    <p:sp>
                      <p:nvSpPr>
                        <p:cNvPr id="1552" name=""/>
                        <p:cNvSpPr/>
                        <p:nvPr/>
                      </p:nvSpPr>
                      <p:spPr>
                        <a:xfrm flipH="1" flipV="1">
                          <a:off x="5099040" y="5162400"/>
                          <a:ext cx="542880" cy="46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53" name=""/>
                        <p:cNvSpPr/>
                        <p:nvPr/>
                      </p:nvSpPr>
                      <p:spPr>
                        <a:xfrm flipV="1">
                          <a:off x="5111640" y="5135040"/>
                          <a:ext cx="517680" cy="399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6840" bIns="-684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554" name=""/>
                    <p:cNvGrpSpPr/>
                    <p:nvPr/>
                  </p:nvGrpSpPr>
                  <p:grpSpPr>
                    <a:xfrm>
                      <a:off x="5099040" y="5008680"/>
                      <a:ext cx="1081080" cy="139680"/>
                      <a:chOff x="5099040" y="5008680"/>
                      <a:chExt cx="1081080" cy="139680"/>
                    </a:xfrm>
                  </p:grpSpPr>
                  <p:sp>
                    <p:nvSpPr>
                      <p:cNvPr id="1555" name=""/>
                      <p:cNvSpPr/>
                      <p:nvPr/>
                    </p:nvSpPr>
                    <p:spPr>
                      <a:xfrm flipV="1">
                        <a:off x="5641920" y="5102280"/>
                        <a:ext cx="525600" cy="46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6" name=""/>
                      <p:cNvSpPr/>
                      <p:nvPr/>
                    </p:nvSpPr>
                    <p:spPr>
                      <a:xfrm flipH="1" flipV="1">
                        <a:off x="5629320" y="5070240"/>
                        <a:ext cx="550800" cy="4428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" bIns="-25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557" name=""/>
                      <p:cNvGrpSpPr/>
                      <p:nvPr/>
                    </p:nvGrpSpPr>
                    <p:grpSpPr>
                      <a:xfrm>
                        <a:off x="5099040" y="5008680"/>
                        <a:ext cx="542880" cy="74520"/>
                        <a:chOff x="5099040" y="5008680"/>
                        <a:chExt cx="542880" cy="74520"/>
                      </a:xfrm>
                    </p:grpSpPr>
                    <p:sp>
                      <p:nvSpPr>
                        <p:cNvPr id="1558" name=""/>
                        <p:cNvSpPr/>
                        <p:nvPr/>
                      </p:nvSpPr>
                      <p:spPr>
                        <a:xfrm flipH="1" flipV="1">
                          <a:off x="5099040" y="5043600"/>
                          <a:ext cx="542880" cy="396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0" bIns="-72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59" name=""/>
                        <p:cNvSpPr/>
                        <p:nvPr/>
                      </p:nvSpPr>
                      <p:spPr>
                        <a:xfrm flipV="1">
                          <a:off x="5111640" y="5008680"/>
                          <a:ext cx="517680" cy="4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" bIns="72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1560" name=""/>
                  <p:cNvSpPr/>
                  <p:nvPr/>
                </p:nvSpPr>
                <p:spPr>
                  <a:xfrm>
                    <a:off x="5635800" y="6008760"/>
                    <a:ext cx="0" cy="81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1" name=""/>
                  <p:cNvSpPr/>
                  <p:nvPr/>
                </p:nvSpPr>
                <p:spPr>
                  <a:xfrm>
                    <a:off x="5635800" y="4930920"/>
                    <a:ext cx="0" cy="777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2" name=""/>
                <p:cNvSpPr/>
                <p:nvPr/>
              </p:nvSpPr>
              <p:spPr>
                <a:xfrm>
                  <a:off x="5532480" y="4883040"/>
                  <a:ext cx="163440" cy="30240"/>
                </a:xfrm>
                <a:prstGeom prst="ellipse">
                  <a:avLst/>
                </a:prstGeom>
                <a:noFill/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"/>
              <p:cNvSpPr/>
              <p:nvPr/>
            </p:nvSpPr>
            <p:spPr>
              <a:xfrm>
                <a:off x="4654440" y="5950080"/>
                <a:ext cx="1968480" cy="139680"/>
              </a:xfrm>
              <a:prstGeom prst="rect">
                <a:avLst/>
              </a:prstGeom>
              <a:solidFill>
                <a:srgbClr val="767900"/>
              </a:solidFill>
              <a:ln w="12600">
                <a:solidFill>
                  <a:srgbClr val="767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4959360" y="4883040"/>
                <a:ext cx="1359000" cy="63720"/>
              </a:xfrm>
              <a:prstGeom prst="rect">
                <a:avLst/>
              </a:prstGeom>
              <a:solidFill>
                <a:srgbClr val="fc0000"/>
              </a:solidFill>
              <a:ln w="1260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5721480" y="4273560"/>
                <a:ext cx="139680" cy="596880"/>
              </a:xfrm>
              <a:prstGeom prst="rtTriangl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 rot="16200000">
                <a:off x="5187960" y="4502160"/>
                <a:ext cx="596880" cy="139680"/>
              </a:xfrm>
              <a:prstGeom prst="rtTriangl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5568840" y="3511440"/>
                <a:ext cx="139680" cy="135900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5568840" y="3282840"/>
                <a:ext cx="139680" cy="216000"/>
              </a:xfrm>
              <a:prstGeom prst="triangle">
                <a:avLst>
                  <a:gd name="adj" fmla="val 49995"/>
                </a:avLst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69" name=""/>
            <p:cNvGrpSpPr/>
            <p:nvPr/>
          </p:nvGrpSpPr>
          <p:grpSpPr>
            <a:xfrm>
              <a:off x="7156440" y="3282840"/>
              <a:ext cx="1081080" cy="2806920"/>
              <a:chOff x="7156440" y="3282840"/>
              <a:chExt cx="1081080" cy="2806920"/>
            </a:xfrm>
          </p:grpSpPr>
          <p:grpSp>
            <p:nvGrpSpPr>
              <p:cNvPr id="1570" name=""/>
              <p:cNvGrpSpPr/>
              <p:nvPr/>
            </p:nvGrpSpPr>
            <p:grpSpPr>
              <a:xfrm>
                <a:off x="7156440" y="3392640"/>
                <a:ext cx="1081080" cy="2697120"/>
                <a:chOff x="7156440" y="3392640"/>
                <a:chExt cx="1081080" cy="2697120"/>
              </a:xfrm>
            </p:grpSpPr>
            <p:grpSp>
              <p:nvGrpSpPr>
                <p:cNvPr id="1571" name=""/>
                <p:cNvGrpSpPr/>
                <p:nvPr/>
              </p:nvGrpSpPr>
              <p:grpSpPr>
                <a:xfrm>
                  <a:off x="7156440" y="5300640"/>
                  <a:ext cx="1081080" cy="585360"/>
                  <a:chOff x="7156440" y="5300640"/>
                  <a:chExt cx="1081080" cy="585360"/>
                </a:xfrm>
              </p:grpSpPr>
              <p:grpSp>
                <p:nvGrpSpPr>
                  <p:cNvPr id="1572" name=""/>
                  <p:cNvGrpSpPr/>
                  <p:nvPr/>
                </p:nvGrpSpPr>
                <p:grpSpPr>
                  <a:xfrm>
                    <a:off x="7156440" y="5590800"/>
                    <a:ext cx="1081080" cy="295200"/>
                    <a:chOff x="7156440" y="5590800"/>
                    <a:chExt cx="1081080" cy="295200"/>
                  </a:xfrm>
                </p:grpSpPr>
                <p:sp>
                  <p:nvSpPr>
                    <p:cNvPr id="1573" name=""/>
                    <p:cNvSpPr/>
                    <p:nvPr/>
                  </p:nvSpPr>
                  <p:spPr>
                    <a:xfrm flipV="1">
                      <a:off x="7699320" y="5803560"/>
                      <a:ext cx="525600" cy="824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4" name=""/>
                    <p:cNvSpPr/>
                    <p:nvPr/>
                  </p:nvSpPr>
                  <p:spPr>
                    <a:xfrm flipH="1" flipV="1">
                      <a:off x="7686720" y="5729400"/>
                      <a:ext cx="550800" cy="871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575" name=""/>
                    <p:cNvGrpSpPr/>
                    <p:nvPr/>
                  </p:nvGrpSpPr>
                  <p:grpSpPr>
                    <a:xfrm>
                      <a:off x="7156440" y="5590800"/>
                      <a:ext cx="542880" cy="150840"/>
                      <a:chOff x="7156440" y="5590800"/>
                      <a:chExt cx="542880" cy="150840"/>
                    </a:xfrm>
                  </p:grpSpPr>
                  <p:sp>
                    <p:nvSpPr>
                      <p:cNvPr id="1576" name=""/>
                      <p:cNvSpPr/>
                      <p:nvPr/>
                    </p:nvSpPr>
                    <p:spPr>
                      <a:xfrm flipH="1" flipV="1">
                        <a:off x="7156440" y="5652720"/>
                        <a:ext cx="542880" cy="8892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2120" bIns="42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7" name=""/>
                      <p:cNvSpPr/>
                      <p:nvPr/>
                    </p:nvSpPr>
                    <p:spPr>
                      <a:xfrm flipV="1">
                        <a:off x="7169040" y="5590800"/>
                        <a:ext cx="517680" cy="74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720" bIns="277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578" name=""/>
                  <p:cNvGrpSpPr/>
                  <p:nvPr/>
                </p:nvGrpSpPr>
                <p:grpSpPr>
                  <a:xfrm>
                    <a:off x="7156440" y="5300640"/>
                    <a:ext cx="1081080" cy="302760"/>
                    <a:chOff x="7156440" y="5300640"/>
                    <a:chExt cx="1081080" cy="302760"/>
                  </a:xfrm>
                </p:grpSpPr>
                <p:sp>
                  <p:nvSpPr>
                    <p:cNvPr id="1579" name=""/>
                    <p:cNvSpPr/>
                    <p:nvPr/>
                  </p:nvSpPr>
                  <p:spPr>
                    <a:xfrm flipV="1">
                      <a:off x="7699320" y="5513040"/>
                      <a:ext cx="525600" cy="903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0" name=""/>
                    <p:cNvSpPr/>
                    <p:nvPr/>
                  </p:nvSpPr>
                  <p:spPr>
                    <a:xfrm flipH="1" flipV="1">
                      <a:off x="7686720" y="5446800"/>
                      <a:ext cx="550800" cy="792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581" name=""/>
                    <p:cNvGrpSpPr/>
                    <p:nvPr/>
                  </p:nvGrpSpPr>
                  <p:grpSpPr>
                    <a:xfrm>
                      <a:off x="7156440" y="5300640"/>
                      <a:ext cx="542880" cy="158760"/>
                      <a:chOff x="7156440" y="5300640"/>
                      <a:chExt cx="542880" cy="158760"/>
                    </a:xfrm>
                  </p:grpSpPr>
                  <p:sp>
                    <p:nvSpPr>
                      <p:cNvPr id="1582" name=""/>
                      <p:cNvSpPr/>
                      <p:nvPr/>
                    </p:nvSpPr>
                    <p:spPr>
                      <a:xfrm flipH="1" flipV="1">
                        <a:off x="7156440" y="5373720"/>
                        <a:ext cx="542880" cy="8568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880" bIns="388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3" name=""/>
                      <p:cNvSpPr/>
                      <p:nvPr/>
                    </p:nvSpPr>
                    <p:spPr>
                      <a:xfrm flipV="1">
                        <a:off x="7169040" y="5300640"/>
                        <a:ext cx="517680" cy="8568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880" bIns="388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584" name=""/>
                <p:cNvGrpSpPr/>
                <p:nvPr/>
              </p:nvGrpSpPr>
              <p:grpSpPr>
                <a:xfrm>
                  <a:off x="7156440" y="4735440"/>
                  <a:ext cx="1081080" cy="577440"/>
                  <a:chOff x="7156440" y="4735440"/>
                  <a:chExt cx="1081080" cy="577440"/>
                </a:xfrm>
              </p:grpSpPr>
              <p:grpSp>
                <p:nvGrpSpPr>
                  <p:cNvPr id="1585" name=""/>
                  <p:cNvGrpSpPr/>
                  <p:nvPr/>
                </p:nvGrpSpPr>
                <p:grpSpPr>
                  <a:xfrm>
                    <a:off x="7156440" y="5021280"/>
                    <a:ext cx="1081080" cy="291600"/>
                    <a:chOff x="7156440" y="5021280"/>
                    <a:chExt cx="1081080" cy="291600"/>
                  </a:xfrm>
                </p:grpSpPr>
                <p:sp>
                  <p:nvSpPr>
                    <p:cNvPr id="1586" name=""/>
                    <p:cNvSpPr/>
                    <p:nvPr/>
                  </p:nvSpPr>
                  <p:spPr>
                    <a:xfrm flipV="1">
                      <a:off x="7699320" y="5230440"/>
                      <a:ext cx="525600" cy="824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7" name=""/>
                    <p:cNvSpPr/>
                    <p:nvPr/>
                  </p:nvSpPr>
                  <p:spPr>
                    <a:xfrm flipH="1" flipV="1">
                      <a:off x="7686720" y="5157720"/>
                      <a:ext cx="550800" cy="856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588" name=""/>
                    <p:cNvGrpSpPr/>
                    <p:nvPr/>
                  </p:nvGrpSpPr>
                  <p:grpSpPr>
                    <a:xfrm>
                      <a:off x="7156440" y="5021280"/>
                      <a:ext cx="542880" cy="148680"/>
                      <a:chOff x="7156440" y="5021280"/>
                      <a:chExt cx="542880" cy="148680"/>
                    </a:xfrm>
                  </p:grpSpPr>
                  <p:sp>
                    <p:nvSpPr>
                      <p:cNvPr id="1589" name=""/>
                      <p:cNvSpPr/>
                      <p:nvPr/>
                    </p:nvSpPr>
                    <p:spPr>
                      <a:xfrm flipH="1" flipV="1">
                        <a:off x="7156440" y="5087520"/>
                        <a:ext cx="542880" cy="82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0" name=""/>
                      <p:cNvSpPr/>
                      <p:nvPr/>
                    </p:nvSpPr>
                    <p:spPr>
                      <a:xfrm flipV="1">
                        <a:off x="7169040" y="5021280"/>
                        <a:ext cx="517680" cy="79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400" bIns="324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591" name=""/>
                  <p:cNvGrpSpPr/>
                  <p:nvPr/>
                </p:nvGrpSpPr>
                <p:grpSpPr>
                  <a:xfrm>
                    <a:off x="7156440" y="4735440"/>
                    <a:ext cx="1081080" cy="298440"/>
                    <a:chOff x="7156440" y="4735440"/>
                    <a:chExt cx="1081080" cy="298440"/>
                  </a:xfrm>
                </p:grpSpPr>
                <p:sp>
                  <p:nvSpPr>
                    <p:cNvPr id="1592" name=""/>
                    <p:cNvSpPr/>
                    <p:nvPr/>
                  </p:nvSpPr>
                  <p:spPr>
                    <a:xfrm flipV="1">
                      <a:off x="7699320" y="4948200"/>
                      <a:ext cx="525600" cy="856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3" name=""/>
                    <p:cNvSpPr/>
                    <p:nvPr/>
                  </p:nvSpPr>
                  <p:spPr>
                    <a:xfrm flipH="1" flipV="1">
                      <a:off x="7686720" y="4875120"/>
                      <a:ext cx="550800" cy="856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594" name=""/>
                    <p:cNvGrpSpPr/>
                    <p:nvPr/>
                  </p:nvGrpSpPr>
                  <p:grpSpPr>
                    <a:xfrm>
                      <a:off x="7156440" y="4735440"/>
                      <a:ext cx="542880" cy="152640"/>
                      <a:chOff x="7156440" y="4735440"/>
                      <a:chExt cx="542880" cy="152640"/>
                    </a:xfrm>
                  </p:grpSpPr>
                  <p:sp>
                    <p:nvSpPr>
                      <p:cNvPr id="1595" name=""/>
                      <p:cNvSpPr/>
                      <p:nvPr/>
                    </p:nvSpPr>
                    <p:spPr>
                      <a:xfrm flipH="1" flipV="1">
                        <a:off x="7156440" y="4805280"/>
                        <a:ext cx="542880" cy="8280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000" bIns="360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6" name=""/>
                      <p:cNvSpPr/>
                      <p:nvPr/>
                    </p:nvSpPr>
                    <p:spPr>
                      <a:xfrm flipV="1">
                        <a:off x="7169040" y="4735440"/>
                        <a:ext cx="517680" cy="8280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000" bIns="360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597" name=""/>
                <p:cNvGrpSpPr/>
                <p:nvPr/>
              </p:nvGrpSpPr>
              <p:grpSpPr>
                <a:xfrm>
                  <a:off x="7156440" y="4158720"/>
                  <a:ext cx="1081080" cy="589320"/>
                  <a:chOff x="7156440" y="4158720"/>
                  <a:chExt cx="1081080" cy="589320"/>
                </a:xfrm>
              </p:grpSpPr>
              <p:grpSp>
                <p:nvGrpSpPr>
                  <p:cNvPr id="1598" name=""/>
                  <p:cNvGrpSpPr/>
                  <p:nvPr/>
                </p:nvGrpSpPr>
                <p:grpSpPr>
                  <a:xfrm>
                    <a:off x="7156440" y="4447800"/>
                    <a:ext cx="1081080" cy="300240"/>
                    <a:chOff x="7156440" y="4447800"/>
                    <a:chExt cx="1081080" cy="300240"/>
                  </a:xfrm>
                </p:grpSpPr>
                <p:sp>
                  <p:nvSpPr>
                    <p:cNvPr id="1599" name=""/>
                    <p:cNvSpPr/>
                    <p:nvPr/>
                  </p:nvSpPr>
                  <p:spPr>
                    <a:xfrm flipV="1">
                      <a:off x="7699320" y="4660920"/>
                      <a:ext cx="525600" cy="871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0" name=""/>
                    <p:cNvSpPr/>
                    <p:nvPr/>
                  </p:nvSpPr>
                  <p:spPr>
                    <a:xfrm flipH="1" flipV="1">
                      <a:off x="7686720" y="4592160"/>
                      <a:ext cx="550800" cy="81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601" name=""/>
                    <p:cNvGrpSpPr/>
                    <p:nvPr/>
                  </p:nvGrpSpPr>
                  <p:grpSpPr>
                    <a:xfrm>
                      <a:off x="7156440" y="4447800"/>
                      <a:ext cx="542880" cy="157680"/>
                      <a:chOff x="7156440" y="4447800"/>
                      <a:chExt cx="542880" cy="157680"/>
                    </a:xfrm>
                  </p:grpSpPr>
                  <p:sp>
                    <p:nvSpPr>
                      <p:cNvPr id="1602" name=""/>
                      <p:cNvSpPr/>
                      <p:nvPr/>
                    </p:nvSpPr>
                    <p:spPr>
                      <a:xfrm flipH="1" flipV="1">
                        <a:off x="7156440" y="4514760"/>
                        <a:ext cx="542880" cy="9072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920" bIns="43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3" name=""/>
                      <p:cNvSpPr/>
                      <p:nvPr/>
                    </p:nvSpPr>
                    <p:spPr>
                      <a:xfrm flipV="1">
                        <a:off x="7169040" y="4447800"/>
                        <a:ext cx="517680" cy="79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760" bIns="327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604" name=""/>
                  <p:cNvGrpSpPr/>
                  <p:nvPr/>
                </p:nvGrpSpPr>
                <p:grpSpPr>
                  <a:xfrm>
                    <a:off x="7156440" y="4158720"/>
                    <a:ext cx="1081080" cy="302040"/>
                    <a:chOff x="7156440" y="4158720"/>
                    <a:chExt cx="1081080" cy="302040"/>
                  </a:xfrm>
                </p:grpSpPr>
                <p:sp>
                  <p:nvSpPr>
                    <p:cNvPr id="1605" name=""/>
                    <p:cNvSpPr/>
                    <p:nvPr/>
                  </p:nvSpPr>
                  <p:spPr>
                    <a:xfrm flipV="1">
                      <a:off x="7699320" y="4375080"/>
                      <a:ext cx="525600" cy="856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6" name=""/>
                    <p:cNvSpPr/>
                    <p:nvPr/>
                  </p:nvSpPr>
                  <p:spPr>
                    <a:xfrm flipH="1" flipV="1">
                      <a:off x="7686720" y="4308480"/>
                      <a:ext cx="550800" cy="792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607" name=""/>
                    <p:cNvGrpSpPr/>
                    <p:nvPr/>
                  </p:nvGrpSpPr>
                  <p:grpSpPr>
                    <a:xfrm>
                      <a:off x="7156440" y="4158720"/>
                      <a:ext cx="542880" cy="162360"/>
                      <a:chOff x="7156440" y="4158720"/>
                      <a:chExt cx="542880" cy="162360"/>
                    </a:xfrm>
                  </p:grpSpPr>
                  <p:sp>
                    <p:nvSpPr>
                      <p:cNvPr id="1608" name=""/>
                      <p:cNvSpPr/>
                      <p:nvPr/>
                    </p:nvSpPr>
                    <p:spPr>
                      <a:xfrm flipH="1" flipV="1">
                        <a:off x="7156440" y="4235400"/>
                        <a:ext cx="542880" cy="8568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880" bIns="388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9" name=""/>
                      <p:cNvSpPr/>
                      <p:nvPr/>
                    </p:nvSpPr>
                    <p:spPr>
                      <a:xfrm flipV="1">
                        <a:off x="7169040" y="4158720"/>
                        <a:ext cx="517680" cy="8892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2120" bIns="42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610" name=""/>
                <p:cNvGrpSpPr/>
                <p:nvPr/>
              </p:nvGrpSpPr>
              <p:grpSpPr>
                <a:xfrm>
                  <a:off x="7156440" y="3588840"/>
                  <a:ext cx="1081080" cy="582840"/>
                  <a:chOff x="7156440" y="3588840"/>
                  <a:chExt cx="1081080" cy="582840"/>
                </a:xfrm>
              </p:grpSpPr>
              <p:grpSp>
                <p:nvGrpSpPr>
                  <p:cNvPr id="1611" name=""/>
                  <p:cNvGrpSpPr/>
                  <p:nvPr/>
                </p:nvGrpSpPr>
                <p:grpSpPr>
                  <a:xfrm>
                    <a:off x="7156440" y="3882960"/>
                    <a:ext cx="1081080" cy="288720"/>
                    <a:chOff x="7156440" y="3882960"/>
                    <a:chExt cx="1081080" cy="288720"/>
                  </a:xfrm>
                </p:grpSpPr>
                <p:sp>
                  <p:nvSpPr>
                    <p:cNvPr id="1612" name=""/>
                    <p:cNvSpPr/>
                    <p:nvPr/>
                  </p:nvSpPr>
                  <p:spPr>
                    <a:xfrm flipV="1">
                      <a:off x="7699320" y="4092120"/>
                      <a:ext cx="525600" cy="795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760" bIns="327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3" name=""/>
                    <p:cNvSpPr/>
                    <p:nvPr/>
                  </p:nvSpPr>
                  <p:spPr>
                    <a:xfrm flipH="1" flipV="1">
                      <a:off x="7686720" y="4022640"/>
                      <a:ext cx="550800" cy="828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614" name=""/>
                    <p:cNvGrpSpPr/>
                    <p:nvPr/>
                  </p:nvGrpSpPr>
                  <p:grpSpPr>
                    <a:xfrm>
                      <a:off x="7156440" y="3882960"/>
                      <a:ext cx="542880" cy="152280"/>
                      <a:chOff x="7156440" y="3882960"/>
                      <a:chExt cx="542880" cy="152280"/>
                    </a:xfrm>
                  </p:grpSpPr>
                  <p:sp>
                    <p:nvSpPr>
                      <p:cNvPr id="1615" name=""/>
                      <p:cNvSpPr/>
                      <p:nvPr/>
                    </p:nvSpPr>
                    <p:spPr>
                      <a:xfrm flipH="1" flipV="1">
                        <a:off x="7156440" y="3946320"/>
                        <a:ext cx="542880" cy="8892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2120" bIns="42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6" name=""/>
                      <p:cNvSpPr/>
                      <p:nvPr/>
                    </p:nvSpPr>
                    <p:spPr>
                      <a:xfrm flipV="1">
                        <a:off x="7169040" y="3882960"/>
                        <a:ext cx="517680" cy="7632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617" name=""/>
                  <p:cNvGrpSpPr/>
                  <p:nvPr/>
                </p:nvGrpSpPr>
                <p:grpSpPr>
                  <a:xfrm>
                    <a:off x="7156440" y="3588840"/>
                    <a:ext cx="1081080" cy="306720"/>
                    <a:chOff x="7156440" y="3588840"/>
                    <a:chExt cx="1081080" cy="306720"/>
                  </a:xfrm>
                </p:grpSpPr>
                <p:sp>
                  <p:nvSpPr>
                    <p:cNvPr id="1618" name=""/>
                    <p:cNvSpPr/>
                    <p:nvPr/>
                  </p:nvSpPr>
                  <p:spPr>
                    <a:xfrm flipV="1">
                      <a:off x="7699320" y="3807000"/>
                      <a:ext cx="525600" cy="885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760" bIns="417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9" name=""/>
                    <p:cNvSpPr/>
                    <p:nvPr/>
                  </p:nvSpPr>
                  <p:spPr>
                    <a:xfrm flipH="1" flipV="1">
                      <a:off x="7686720" y="3731760"/>
                      <a:ext cx="550800" cy="874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620" name=""/>
                    <p:cNvGrpSpPr/>
                    <p:nvPr/>
                  </p:nvGrpSpPr>
                  <p:grpSpPr>
                    <a:xfrm>
                      <a:off x="7156440" y="3588840"/>
                      <a:ext cx="542880" cy="156240"/>
                      <a:chOff x="7156440" y="3588840"/>
                      <a:chExt cx="542880" cy="156240"/>
                    </a:xfrm>
                  </p:grpSpPr>
                  <p:sp>
                    <p:nvSpPr>
                      <p:cNvPr id="1621" name=""/>
                      <p:cNvSpPr/>
                      <p:nvPr/>
                    </p:nvSpPr>
                    <p:spPr>
                      <a:xfrm flipH="1" flipV="1">
                        <a:off x="7156440" y="3670200"/>
                        <a:ext cx="542880" cy="7488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080" bIns="280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2" name=""/>
                      <p:cNvSpPr/>
                      <p:nvPr/>
                    </p:nvSpPr>
                    <p:spPr>
                      <a:xfrm flipV="1">
                        <a:off x="7169040" y="3588840"/>
                        <a:ext cx="517680" cy="9396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623" name=""/>
                <p:cNvSpPr/>
                <p:nvPr/>
              </p:nvSpPr>
              <p:spPr>
                <a:xfrm>
                  <a:off x="7693200" y="588636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7693200" y="3392640"/>
                  <a:ext cx="0" cy="196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5" name=""/>
              <p:cNvSpPr/>
              <p:nvPr/>
            </p:nvSpPr>
            <p:spPr>
              <a:xfrm>
                <a:off x="7589880" y="3282840"/>
                <a:ext cx="163440" cy="85680"/>
              </a:xfrm>
              <a:prstGeom prst="ellipse">
                <a:avLst/>
              </a:prstGeom>
              <a:noFill/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26" name=""/>
            <p:cNvSpPr/>
            <p:nvPr/>
          </p:nvSpPr>
          <p:spPr>
            <a:xfrm>
              <a:off x="6711840" y="5950080"/>
              <a:ext cx="1968480" cy="139680"/>
            </a:xfrm>
            <a:prstGeom prst="rect">
              <a:avLst/>
            </a:prstGeom>
            <a:solidFill>
              <a:srgbClr val="767900"/>
            </a:solidFill>
            <a:ln w="12600">
              <a:solidFill>
                <a:srgbClr val="767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016760" y="3282840"/>
              <a:ext cx="1359000" cy="6372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28" name=""/>
            <p:cNvGrpSpPr/>
            <p:nvPr/>
          </p:nvGrpSpPr>
          <p:grpSpPr>
            <a:xfrm>
              <a:off x="7473960" y="1378080"/>
              <a:ext cx="444600" cy="1587240"/>
              <a:chOff x="7473960" y="1378080"/>
              <a:chExt cx="444600" cy="1587240"/>
            </a:xfrm>
          </p:grpSpPr>
          <p:sp>
            <p:nvSpPr>
              <p:cNvPr id="1629" name=""/>
              <p:cNvSpPr/>
              <p:nvPr/>
            </p:nvSpPr>
            <p:spPr>
              <a:xfrm>
                <a:off x="7778880" y="2368440"/>
                <a:ext cx="139680" cy="596880"/>
              </a:xfrm>
              <a:prstGeom prst="rtTriangl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 rot="16200000">
                <a:off x="7245360" y="2597040"/>
                <a:ext cx="596880" cy="139680"/>
              </a:xfrm>
              <a:prstGeom prst="rtTriangl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7626240" y="1606680"/>
                <a:ext cx="139680" cy="135864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7626240" y="1378080"/>
                <a:ext cx="139680" cy="215640"/>
              </a:xfrm>
              <a:prstGeom prst="triangle">
                <a:avLst>
                  <a:gd name="adj" fmla="val 49995"/>
                </a:avLst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33" name=""/>
            <p:cNvSpPr/>
            <p:nvPr/>
          </p:nvSpPr>
          <p:spPr>
            <a:xfrm>
              <a:off x="6705720" y="3435480"/>
              <a:ext cx="0" cy="1511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024240" y="401652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252480" y="531180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6" name=""/>
          <p:cNvSpPr/>
          <p:nvPr/>
        </p:nvSpPr>
        <p:spPr>
          <a:xfrm flipV="1">
            <a:off x="4800600" y="4641480"/>
            <a:ext cx="0" cy="54612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4195440" y="477828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5294160" y="1844640"/>
            <a:ext cx="4413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لذا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1065240" y="3938760"/>
            <a:ext cx="2761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 = kd = m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kd/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79.1 x 10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4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m/s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80,600 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فضانورد غمگین</a:t>
            </a:r>
            <a:r>
              <a:rPr b="0" lang="fa-IR" sz="20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0" lang="fa-IR" sz="2000" spc="-1" strike="noStrike">
                <a:solidFill>
                  <a:srgbClr val="00ff00"/>
                </a:solidFill>
                <a:latin typeface="Arial"/>
                <a:ea typeface="Arial"/>
              </a:rPr>
              <a:t>!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سئله حلقه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رم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ز حالت سکون از ارتفاع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روی سطح شیبدار بدون اصطکاکی رها می شو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ین جرم سپس وارد یک سطح تخت شده و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یک حلقه به شعاع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را می پیمای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رتفاع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قدر باشد تا این جرم حلقه را کاملا بدون اینکه سطح آنرا ترک کند طی نماید؟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1994040" y="5041800"/>
            <a:ext cx="1346040" cy="13464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3365640" y="6400800"/>
            <a:ext cx="325116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4584600" y="5499000"/>
            <a:ext cx="889200" cy="88920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 rot="2580000">
            <a:off x="2053800" y="4973760"/>
            <a:ext cx="139680" cy="139680"/>
          </a:xfrm>
          <a:prstGeom prst="roundRect">
            <a:avLst>
              <a:gd name="adj" fmla="val 12495"/>
            </a:avLst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1828800" y="5111640"/>
            <a:ext cx="0" cy="1282680"/>
          </a:xfrm>
          <a:prstGeom prst="line">
            <a:avLst/>
          </a:prstGeom>
          <a:ln w="1260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1149120" y="5616720"/>
            <a:ext cx="93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 flipV="1">
            <a:off x="5035680" y="5784480"/>
            <a:ext cx="368280" cy="1652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4766760" y="5911920"/>
            <a:ext cx="93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"/>
          <p:cNvSpPr/>
          <p:nvPr/>
        </p:nvSpPr>
        <p:spPr>
          <a:xfrm>
            <a:off x="2832120" y="766800"/>
            <a:ext cx="3819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Arial"/>
                <a:cs typeface="Arial"/>
              </a:rPr>
              <a:t>حلقه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5294160" y="5589720"/>
            <a:ext cx="23608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  <a:cs typeface="Arial"/>
              </a:rPr>
              <a:t>روی تصویر کلیک کنی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4" name="" descr=""/>
          <p:cNvPicPr/>
          <p:nvPr/>
        </p:nvPicPr>
        <p:blipFill>
          <a:blip r:embed="rId1"/>
          <a:stretch/>
        </p:blipFill>
        <p:spPr>
          <a:xfrm>
            <a:off x="2844720" y="1951200"/>
            <a:ext cx="3494160" cy="2620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1654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1654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9" dur="1" fill="hold"/>
                                        <p:tgtEl>
                                          <p:spTgt spid="16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سئله حلقه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990720" y="1794960"/>
            <a:ext cx="413856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مودار جسم آزاد را برای بالای حلقه رسم کنی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-(mg+N)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i="1" lang="en-US" sz="2000" spc="-1" strike="noStrike">
                <a:solidFill>
                  <a:srgbClr val="fc0000"/>
                </a:solidFill>
                <a:latin typeface="Arial"/>
              </a:rPr>
              <a:t>a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-m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/R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ی اینکه جسم حلقه را  ترک نکند حداقل باید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g = m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/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1994040" y="5041800"/>
            <a:ext cx="1346040" cy="13464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3365640" y="6400800"/>
            <a:ext cx="325116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4584600" y="5499000"/>
            <a:ext cx="889200" cy="88920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4964040" y="5511960"/>
            <a:ext cx="139680" cy="139680"/>
          </a:xfrm>
          <a:prstGeom prst="roundRect">
            <a:avLst>
              <a:gd name="adj" fmla="val 12495"/>
            </a:avLst>
          </a:prstGeom>
          <a:solidFill>
            <a:srgbClr val="f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1828800" y="5111640"/>
            <a:ext cx="0" cy="1282680"/>
          </a:xfrm>
          <a:prstGeom prst="line">
            <a:avLst/>
          </a:prstGeom>
          <a:ln w="1260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1149120" y="5616720"/>
            <a:ext cx="93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 flipV="1">
            <a:off x="5035680" y="5784480"/>
            <a:ext cx="368280" cy="1652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4766760" y="5911920"/>
            <a:ext cx="93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 flipH="1">
            <a:off x="4794120" y="5410080"/>
            <a:ext cx="393840" cy="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4575960" y="500688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9" name=""/>
          <p:cNvGrpSpPr/>
          <p:nvPr/>
        </p:nvGrpSpPr>
        <p:grpSpPr>
          <a:xfrm>
            <a:off x="5778360" y="1884240"/>
            <a:ext cx="2113920" cy="1989360"/>
            <a:chOff x="5778360" y="1884240"/>
            <a:chExt cx="2113920" cy="1989360"/>
          </a:xfrm>
        </p:grpSpPr>
        <p:sp>
          <p:nvSpPr>
            <p:cNvPr id="1670" name=""/>
            <p:cNvSpPr/>
            <p:nvPr/>
          </p:nvSpPr>
          <p:spPr>
            <a:xfrm>
              <a:off x="6642000" y="2603520"/>
              <a:ext cx="584280" cy="584280"/>
            </a:xfrm>
            <a:prstGeom prst="rect">
              <a:avLst/>
            </a:prstGeom>
            <a:solidFill>
              <a:srgbClr val="fc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178680" y="2444760"/>
              <a:ext cx="1587240" cy="13968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934320" y="1917720"/>
              <a:ext cx="0" cy="66024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934320" y="3213000"/>
              <a:ext cx="0" cy="66060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785640" y="3483000"/>
              <a:ext cx="1106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710040" y="1884240"/>
              <a:ext cx="937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>
              <a:off x="5778360" y="2971800"/>
              <a:ext cx="71136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795280" y="302724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8" name=""/>
          <p:cNvSpPr/>
          <p:nvPr/>
        </p:nvSpPr>
        <p:spPr>
          <a:xfrm>
            <a:off x="6553080" y="5492880"/>
            <a:ext cx="0" cy="520560"/>
          </a:xfrm>
          <a:prstGeom prst="line">
            <a:avLst/>
          </a:prstGeom>
          <a:ln w="1260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6559560" y="6019920"/>
            <a:ext cx="52056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6843600" y="6073920"/>
            <a:ext cx="392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5871600" y="5388120"/>
            <a:ext cx="963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j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2" name=""/>
          <p:cNvGrpSpPr/>
          <p:nvPr/>
        </p:nvGrpSpPr>
        <p:grpSpPr>
          <a:xfrm>
            <a:off x="2618280" y="4415040"/>
            <a:ext cx="1505160" cy="884880"/>
            <a:chOff x="2618280" y="4415040"/>
            <a:chExt cx="1505160" cy="884880"/>
          </a:xfrm>
        </p:grpSpPr>
        <p:sp>
          <p:nvSpPr>
            <p:cNvPr id="1683" name=""/>
            <p:cNvSpPr/>
            <p:nvPr/>
          </p:nvSpPr>
          <p:spPr>
            <a:xfrm>
              <a:off x="2618280" y="4994640"/>
              <a:ext cx="700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V="1">
              <a:off x="3366720" y="5178240"/>
              <a:ext cx="34920" cy="19080"/>
            </a:xfrm>
            <a:prstGeom prst="line">
              <a:avLst/>
            </a:prstGeom>
            <a:ln w="64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401640" y="5181840"/>
              <a:ext cx="50760" cy="982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 flipV="1">
              <a:off x="3455640" y="5010120"/>
              <a:ext cx="58680" cy="269640"/>
            </a:xfrm>
            <a:prstGeom prst="line">
              <a:avLst/>
            </a:prstGeom>
            <a:ln w="64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514320" y="5010480"/>
              <a:ext cx="343080" cy="1440"/>
            </a:xfrm>
            <a:prstGeom prst="line">
              <a:avLst/>
            </a:prstGeom>
            <a:ln w="64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224880" y="4994640"/>
              <a:ext cx="898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R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2822400" y="4970520"/>
              <a:ext cx="775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H="1" rot="14040000">
              <a:off x="2838600" y="4456440"/>
              <a:ext cx="368280" cy="52056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00ff00"/>
            </a:solidFill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1" name=""/>
          <p:cNvSpPr/>
          <p:nvPr/>
        </p:nvSpPr>
        <p:spPr>
          <a:xfrm>
            <a:off x="5264280" y="1454040"/>
            <a:ext cx="3187440" cy="29592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4686480" y="5041800"/>
            <a:ext cx="672840" cy="6732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 flipV="1">
            <a:off x="5416560" y="4336560"/>
            <a:ext cx="444600" cy="622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سئله حلقه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149960" cy="151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وجه کنید که انرژ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+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پایستار است :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 = -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U = -mg(h) = -mg(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-2R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 = 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2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1994040" y="5041800"/>
            <a:ext cx="1346040" cy="13464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3365640" y="6400800"/>
            <a:ext cx="325116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4584600" y="5499000"/>
            <a:ext cx="889200" cy="88920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 rot="2580000">
            <a:off x="2053800" y="4973760"/>
            <a:ext cx="139680" cy="139680"/>
          </a:xfrm>
          <a:prstGeom prst="roundRect">
            <a:avLst>
              <a:gd name="adj" fmla="val 12495"/>
            </a:avLst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1828800" y="5111640"/>
            <a:ext cx="0" cy="1282680"/>
          </a:xfrm>
          <a:prstGeom prst="line">
            <a:avLst/>
          </a:prstGeom>
          <a:ln w="1260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1149120" y="5616720"/>
            <a:ext cx="93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 flipV="1">
            <a:off x="5035680" y="5784480"/>
            <a:ext cx="368280" cy="1652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4766760" y="5911920"/>
            <a:ext cx="93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4964040" y="5511960"/>
            <a:ext cx="139680" cy="139680"/>
          </a:xfrm>
          <a:prstGeom prst="roundRect">
            <a:avLst>
              <a:gd name="adj" fmla="val 12495"/>
            </a:avLst>
          </a:prstGeom>
          <a:solidFill>
            <a:srgbClr val="f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2521080" y="4952880"/>
            <a:ext cx="12063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3511440" y="5562720"/>
            <a:ext cx="12067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3657600" y="4959360"/>
            <a:ext cx="0" cy="59688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2823120" y="4549680"/>
            <a:ext cx="1920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h = 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- 2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 flipH="1">
            <a:off x="4794120" y="5410080"/>
            <a:ext cx="393840" cy="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4575960" y="500688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3" name=""/>
          <p:cNvGrpSpPr/>
          <p:nvPr/>
        </p:nvGrpSpPr>
        <p:grpSpPr>
          <a:xfrm>
            <a:off x="4346640" y="3448080"/>
            <a:ext cx="2249640" cy="749160"/>
            <a:chOff x="4346640" y="3448080"/>
            <a:chExt cx="2249640" cy="749160"/>
          </a:xfrm>
        </p:grpSpPr>
        <p:sp>
          <p:nvSpPr>
            <p:cNvPr id="1714" name=""/>
            <p:cNvSpPr/>
            <p:nvPr/>
          </p:nvSpPr>
          <p:spPr>
            <a:xfrm>
              <a:off x="5919480" y="3813120"/>
              <a:ext cx="172800" cy="1800"/>
            </a:xfrm>
            <a:prstGeom prst="line">
              <a:avLst/>
            </a:prstGeom>
            <a:ln w="64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5130000" y="3652920"/>
              <a:ext cx="756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ff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839560" y="3652920"/>
              <a:ext cx="756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5382720" y="3627360"/>
              <a:ext cx="775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631480" y="3494160"/>
              <a:ext cx="714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5637960" y="3844800"/>
              <a:ext cx="714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5260680" y="3448080"/>
              <a:ext cx="1206360" cy="74916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4346640" y="3524400"/>
              <a:ext cx="444240" cy="596880"/>
            </a:xfrm>
            <a:prstGeom prst="rightArrow">
              <a:avLst>
                <a:gd name="adj1" fmla="val 50000"/>
                <a:gd name="adj2" fmla="val 50005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22" name=""/>
              <p:cNvSpPr txBox="1"/>
              <p:nvPr/>
            </p:nvSpPr>
            <p:spPr>
              <a:xfrm>
                <a:off x="595440" y="646200"/>
                <a:ext cx="15764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723" name=""/>
          <p:cNvGrpSpPr/>
          <p:nvPr/>
        </p:nvGrpSpPr>
        <p:grpSpPr>
          <a:xfrm>
            <a:off x="1006200" y="3030480"/>
            <a:ext cx="2975760" cy="1015200"/>
            <a:chOff x="1006200" y="3030480"/>
            <a:chExt cx="2975760" cy="1015200"/>
          </a:xfrm>
        </p:grpSpPr>
        <p:sp>
          <p:nvSpPr>
            <p:cNvPr id="1724" name=""/>
            <p:cNvSpPr/>
            <p:nvPr/>
          </p:nvSpPr>
          <p:spPr>
            <a:xfrm>
              <a:off x="1006200" y="3605040"/>
              <a:ext cx="2975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g(</a:t>
              </a:r>
              <a:r>
                <a:rPr b="0" i="1" lang="en-US" sz="2000" spc="-1" strike="noStrike">
                  <a:solidFill>
                    <a:srgbClr val="ff00ff"/>
                  </a:solidFill>
                  <a:latin typeface="Arial"/>
                </a:rPr>
                <a:t>H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-2R) = </a:t>
              </a:r>
              <a:r>
                <a:rPr b="0" i="1" lang="en-US" sz="2000" spc="-1" strike="noStrike" baseline="30000">
                  <a:solidFill>
                    <a:srgbClr val="fafd00"/>
                  </a:solidFill>
                  <a:latin typeface="Arial"/>
                </a:rPr>
                <a:t>1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/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2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R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 rot="5400000">
              <a:off x="2209680" y="2954160"/>
              <a:ext cx="444600" cy="596880"/>
            </a:xfrm>
            <a:prstGeom prst="rightArrow">
              <a:avLst>
                <a:gd name="adj1" fmla="val 50000"/>
                <a:gd name="adj2" fmla="val 50005"/>
              </a:avLst>
            </a:prstGeom>
            <a:gradFill rotWithShape="0">
              <a:gsLst>
                <a:gs pos="0">
                  <a:srgbClr val="007500"/>
                </a:gs>
                <a:gs pos="50000">
                  <a:srgbClr val="00ff00"/>
                </a:gs>
                <a:gs pos="100000">
                  <a:srgbClr val="007500"/>
                </a:gs>
              </a:gsLst>
              <a:lin ang="0"/>
            </a:gra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6" name=""/>
          <p:cNvSpPr/>
          <p:nvPr/>
        </p:nvSpPr>
        <p:spPr>
          <a:xfrm>
            <a:off x="2476440" y="243360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00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یستاری انرژی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...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1000"/>
          </a:bodyPr>
          <a:p>
            <a:pPr marL="174240" indent="-1742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ر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ز حالت سکون از ارتفا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روی سطح شیبدار بدون اصطکاکی رها می شو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ین جرم سپس وارد یک سطح تخت شده و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یک حلقه به شعا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را می پیمای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رتفا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قدر باشد تا نیروی قائم وارد بر این جسم در بالاترین نقطه حلقه برابر با وزن جسم باش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3352680" y="6400800"/>
            <a:ext cx="32767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4584600" y="5499000"/>
            <a:ext cx="889200" cy="88920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 flipV="1">
            <a:off x="5029200" y="5790960"/>
            <a:ext cx="380880" cy="152280"/>
          </a:xfrm>
          <a:prstGeom prst="line">
            <a:avLst/>
          </a:prstGeom>
          <a:ln w="1260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4765320" y="5910120"/>
            <a:ext cx="94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1905120" y="4952880"/>
            <a:ext cx="1447560" cy="144792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 rot="2580000">
            <a:off x="2041200" y="4948200"/>
            <a:ext cx="139680" cy="139680"/>
          </a:xfrm>
          <a:prstGeom prst="roundRect">
            <a:avLst>
              <a:gd name="adj" fmla="val 12495"/>
            </a:avLst>
          </a:prstGeom>
          <a:solidFill>
            <a:srgbClr val="ff0033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1828800" y="5029200"/>
            <a:ext cx="0" cy="1447920"/>
          </a:xfrm>
          <a:prstGeom prst="line">
            <a:avLst/>
          </a:prstGeom>
          <a:ln w="12600">
            <a:solidFill>
              <a:srgbClr val="fafd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1044000" y="5526000"/>
            <a:ext cx="94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1600200" y="3519360"/>
            <a:ext cx="62485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3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3.5R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4R    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سخ مسئله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...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990360" y="1274400"/>
            <a:ext cx="3168360" cy="24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مودار جسم آزاد را برای بالای حلقه بکشی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NET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-(mg+N)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i="1" lang="en-US" sz="2000" spc="-1" strike="noStrike">
                <a:solidFill>
                  <a:srgbClr val="fc0000"/>
                </a:solidFill>
                <a:latin typeface="Arial"/>
              </a:rPr>
              <a:t>a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-mv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/R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این حالت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 = mg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2mg = mv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/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3352680" y="6400800"/>
            <a:ext cx="32767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4584600" y="5499000"/>
            <a:ext cx="889200" cy="88920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4964040" y="5511960"/>
            <a:ext cx="139680" cy="139680"/>
          </a:xfrm>
          <a:prstGeom prst="roundRect">
            <a:avLst>
              <a:gd name="adj" fmla="val 12495"/>
            </a:avLst>
          </a:prstGeom>
          <a:solidFill>
            <a:srgbClr val="f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 flipV="1">
            <a:off x="5029200" y="5790960"/>
            <a:ext cx="380880" cy="152280"/>
          </a:xfrm>
          <a:prstGeom prst="line">
            <a:avLst/>
          </a:prstGeom>
          <a:ln w="1260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4765320" y="5910120"/>
            <a:ext cx="94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 flipH="1">
            <a:off x="4800600" y="5410080"/>
            <a:ext cx="380880" cy="0"/>
          </a:xfrm>
          <a:prstGeom prst="line">
            <a:avLst/>
          </a:prstGeom>
          <a:ln w="12600">
            <a:solidFill>
              <a:srgbClr val="00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4574160" y="5005440"/>
            <a:ext cx="8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7" name=""/>
          <p:cNvGrpSpPr/>
          <p:nvPr/>
        </p:nvGrpSpPr>
        <p:grpSpPr>
          <a:xfrm>
            <a:off x="5790960" y="1881360"/>
            <a:ext cx="2103120" cy="2004840"/>
            <a:chOff x="5790960" y="1881360"/>
            <a:chExt cx="2103120" cy="2004840"/>
          </a:xfrm>
        </p:grpSpPr>
        <p:sp>
          <p:nvSpPr>
            <p:cNvPr id="1748" name=""/>
            <p:cNvSpPr/>
            <p:nvPr/>
          </p:nvSpPr>
          <p:spPr>
            <a:xfrm>
              <a:off x="6642000" y="2603520"/>
              <a:ext cx="584280" cy="584280"/>
            </a:xfrm>
            <a:prstGeom prst="rect">
              <a:avLst/>
            </a:prstGeom>
            <a:solidFill>
              <a:srgbClr val="fc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6178680" y="2444760"/>
              <a:ext cx="1587240" cy="13968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6934320" y="1905120"/>
              <a:ext cx="0" cy="68580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6934320" y="3200400"/>
              <a:ext cx="0" cy="68580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6783840" y="3481560"/>
              <a:ext cx="1110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708240" y="1881360"/>
              <a:ext cx="94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H="1">
              <a:off x="5790960" y="2971800"/>
              <a:ext cx="68580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5793480" y="3024360"/>
              <a:ext cx="884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6" name=""/>
          <p:cNvSpPr/>
          <p:nvPr/>
        </p:nvSpPr>
        <p:spPr>
          <a:xfrm>
            <a:off x="6553080" y="5486400"/>
            <a:ext cx="0" cy="533520"/>
          </a:xfrm>
          <a:prstGeom prst="line">
            <a:avLst/>
          </a:prstGeom>
          <a:ln w="12600">
            <a:solidFill>
              <a:srgbClr val="00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6553080" y="6019920"/>
            <a:ext cx="53352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6842160" y="6072120"/>
            <a:ext cx="3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5870520" y="5386320"/>
            <a:ext cx="966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j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0" name=""/>
          <p:cNvGrpSpPr/>
          <p:nvPr/>
        </p:nvGrpSpPr>
        <p:grpSpPr>
          <a:xfrm>
            <a:off x="2691360" y="3850920"/>
            <a:ext cx="1482120" cy="918000"/>
            <a:chOff x="2691360" y="3850920"/>
            <a:chExt cx="1482120" cy="918000"/>
          </a:xfrm>
        </p:grpSpPr>
        <mc:AlternateContent>
          <mc:Choice xmlns:a14="http://schemas.microsoft.com/office/drawing/2010/main" Requires="a14">
            <p:sp>
              <p:nvSpPr>
                <p:cNvPr id="1761" name=""/>
                <p:cNvSpPr txBox="1"/>
                <p:nvPr/>
              </p:nvSpPr>
              <p:spPr>
                <a:xfrm>
                  <a:off x="3166920" y="4448160"/>
                  <a:ext cx="1006560" cy="32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v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R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62" name=""/>
            <p:cNvSpPr/>
            <p:nvPr/>
          </p:nvSpPr>
          <p:spPr>
            <a:xfrm rot="19440000">
              <a:off x="2749680" y="3968640"/>
              <a:ext cx="520560" cy="368280"/>
            </a:xfrm>
            <a:prstGeom prst="downArrow">
              <a:avLst>
                <a:gd name="adj1" fmla="val 50000"/>
                <a:gd name="adj2" fmla="val 50005"/>
              </a:avLst>
            </a:prstGeom>
            <a:blipFill rotWithShape="0">
              <a:blip r:embed="rId1"/>
              <a:srcRect/>
              <a:stretch/>
            </a:blipFill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3" name=""/>
          <p:cNvSpPr/>
          <p:nvPr/>
        </p:nvSpPr>
        <p:spPr>
          <a:xfrm>
            <a:off x="5264280" y="1454040"/>
            <a:ext cx="3187440" cy="29592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4686480" y="5041800"/>
            <a:ext cx="672840" cy="6732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 flipV="1">
            <a:off x="5410080" y="4343040"/>
            <a:ext cx="457200" cy="609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1905120" y="4952880"/>
            <a:ext cx="1447560" cy="144792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 rot="2580000">
            <a:off x="2041200" y="4948200"/>
            <a:ext cx="139680" cy="139680"/>
          </a:xfrm>
          <a:prstGeom prst="roundRect">
            <a:avLst>
              <a:gd name="adj" fmla="val 12495"/>
            </a:avLst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1828800" y="5029200"/>
            <a:ext cx="0" cy="1447920"/>
          </a:xfrm>
          <a:prstGeom prst="line">
            <a:avLst/>
          </a:prstGeom>
          <a:ln w="12600">
            <a:solidFill>
              <a:srgbClr val="fafd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1044000" y="5526000"/>
            <a:ext cx="94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ادامه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...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ز این حقیقت که ا نرژی مکانیک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+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پایستار است استفاده کنی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 = -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U = -mg(h) = -mg(H - 2R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 = 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2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m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Rg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      </a:t>
            </a:r>
            <a:br>
              <a:rPr sz="2000"/>
            </a:b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g(H - 2R) = mRg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3352680" y="6400800"/>
            <a:ext cx="32767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4584600" y="5499000"/>
            <a:ext cx="889200" cy="88920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 flipV="1">
            <a:off x="5029200" y="5790960"/>
            <a:ext cx="380880" cy="152280"/>
          </a:xfrm>
          <a:prstGeom prst="line">
            <a:avLst/>
          </a:prstGeom>
          <a:ln w="1260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4765320" y="5910120"/>
            <a:ext cx="94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4964040" y="5511960"/>
            <a:ext cx="139680" cy="139680"/>
          </a:xfrm>
          <a:prstGeom prst="roundRect">
            <a:avLst>
              <a:gd name="adj" fmla="val 12495"/>
            </a:avLst>
          </a:prstGeom>
          <a:solidFill>
            <a:srgbClr val="f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2514600" y="4952880"/>
            <a:ext cx="12193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3505320" y="5562720"/>
            <a:ext cx="12189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3657600" y="4952880"/>
            <a:ext cx="0" cy="609840"/>
          </a:xfrm>
          <a:prstGeom prst="line">
            <a:avLst/>
          </a:prstGeom>
          <a:ln w="12600">
            <a:solidFill>
              <a:srgbClr val="fafd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2820960" y="4548240"/>
            <a:ext cx="1924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h = H - 2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 flipH="1">
            <a:off x="4800600" y="5410080"/>
            <a:ext cx="380880" cy="0"/>
          </a:xfrm>
          <a:prstGeom prst="line">
            <a:avLst/>
          </a:prstGeom>
          <a:ln w="12600">
            <a:solidFill>
              <a:srgbClr val="00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4574160" y="5005440"/>
            <a:ext cx="8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3" name=""/>
          <p:cNvGrpSpPr/>
          <p:nvPr/>
        </p:nvGrpSpPr>
        <p:grpSpPr>
          <a:xfrm>
            <a:off x="4933800" y="4179960"/>
            <a:ext cx="2543040" cy="749160"/>
            <a:chOff x="4933800" y="4179960"/>
            <a:chExt cx="2543040" cy="749160"/>
          </a:xfrm>
        </p:grpSpPr>
        <mc:AlternateContent>
          <mc:Choice xmlns:a14="http://schemas.microsoft.com/office/drawing/2010/main" Requires="a14">
            <p:sp>
              <p:nvSpPr>
                <p:cNvPr id="1784" name=""/>
                <p:cNvSpPr txBox="1"/>
                <p:nvPr/>
              </p:nvSpPr>
              <p:spPr>
                <a:xfrm>
                  <a:off x="6277680" y="4413240"/>
                  <a:ext cx="963000" cy="22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R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85" name=""/>
            <p:cNvSpPr/>
            <p:nvPr/>
          </p:nvSpPr>
          <p:spPr>
            <a:xfrm>
              <a:off x="6030360" y="4179960"/>
              <a:ext cx="1446480" cy="749160"/>
            </a:xfrm>
            <a:prstGeom prst="roundRect">
              <a:avLst>
                <a:gd name="adj" fmla="val 12495"/>
              </a:avLst>
            </a:prstGeom>
            <a:noFill/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4933800" y="4255920"/>
              <a:ext cx="532440" cy="596520"/>
            </a:xfrm>
            <a:prstGeom prst="rightArrow">
              <a:avLst>
                <a:gd name="adj1" fmla="val 50000"/>
                <a:gd name="adj2" fmla="val 50005"/>
              </a:avLst>
            </a:prstGeom>
            <a:gradFill rotWithShape="0">
              <a:gsLst>
                <a:gs pos="0">
                  <a:srgbClr val="fafd00"/>
                </a:gs>
                <a:gs pos="100000">
                  <a:srgbClr val="737400"/>
                </a:gs>
              </a:gsLst>
              <a:lin ang="5400000"/>
            </a:gradFill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7" name=""/>
          <p:cNvSpPr/>
          <p:nvPr/>
        </p:nvSpPr>
        <p:spPr>
          <a:xfrm>
            <a:off x="1905120" y="4952880"/>
            <a:ext cx="1447560" cy="144792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 rot="2580000">
            <a:off x="2041200" y="4948200"/>
            <a:ext cx="139680" cy="139680"/>
          </a:xfrm>
          <a:prstGeom prst="roundRect">
            <a:avLst>
              <a:gd name="adj" fmla="val 12495"/>
            </a:avLst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1828800" y="5029200"/>
            <a:ext cx="0" cy="1447920"/>
          </a:xfrm>
          <a:prstGeom prst="line">
            <a:avLst/>
          </a:prstGeom>
          <a:ln w="12600">
            <a:solidFill>
              <a:srgbClr val="fafd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1044000" y="5526000"/>
            <a:ext cx="94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1" name=""/>
              <p:cNvSpPr txBox="1"/>
              <p:nvPr/>
            </p:nvSpPr>
            <p:spPr>
              <a:xfrm>
                <a:off x="1382760" y="1106640"/>
                <a:ext cx="100656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Rg</m:t>
                    </m:r>
                  </m:oMath>
                </a14:m>
              </a:p>
            </p:txBody>
          </p:sp>
        </mc:Choice>
        <mc:Fallback/>
      </mc:AlternateContent>
    </p:spTree>
  </p:cSld>
  <p:transition>
    <p:wedg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فنرهای قا ئم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4681440" cy="15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فنری را به طور قائم آویزان می کنی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y = 0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ضعیت آرامش فنر است </a:t>
            </a:r>
            <a:r>
              <a:rPr b="0" lang="fa-IR" sz="2000" spc="-1" strike="noStrike">
                <a:solidFill>
                  <a:srgbClr val="ff00ff"/>
                </a:solidFill>
                <a:latin typeface="Arial"/>
                <a:ea typeface="Arial"/>
              </a:rPr>
              <a:t>(الف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قتی جر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را به آن آویزان می کنیم و ضعیت جدید آن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y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e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fa-IR" sz="2000" spc="-1" strike="noStrike">
                <a:solidFill>
                  <a:srgbClr val="ff00ff"/>
                </a:solidFill>
                <a:latin typeface="Arial"/>
                <a:cs typeface="Arial"/>
              </a:rPr>
              <a:t>ب) می شو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6" name=""/>
          <p:cNvGrpSpPr/>
          <p:nvPr/>
        </p:nvGrpSpPr>
        <p:grpSpPr>
          <a:xfrm>
            <a:off x="6242040" y="2139840"/>
            <a:ext cx="240840" cy="1663920"/>
            <a:chOff x="6242040" y="2139840"/>
            <a:chExt cx="240840" cy="1663920"/>
          </a:xfrm>
        </p:grpSpPr>
        <p:grpSp>
          <p:nvGrpSpPr>
            <p:cNvPr id="1797" name=""/>
            <p:cNvGrpSpPr/>
            <p:nvPr/>
          </p:nvGrpSpPr>
          <p:grpSpPr>
            <a:xfrm>
              <a:off x="6242040" y="3314880"/>
              <a:ext cx="240840" cy="366120"/>
              <a:chOff x="6242040" y="3314880"/>
              <a:chExt cx="240840" cy="366120"/>
            </a:xfrm>
          </p:grpSpPr>
          <p:grpSp>
            <p:nvGrpSpPr>
              <p:cNvPr id="1798" name=""/>
              <p:cNvGrpSpPr/>
              <p:nvPr/>
            </p:nvGrpSpPr>
            <p:grpSpPr>
              <a:xfrm>
                <a:off x="6242040" y="3492360"/>
                <a:ext cx="240840" cy="188640"/>
                <a:chOff x="6242040" y="3492360"/>
                <a:chExt cx="240840" cy="188640"/>
              </a:xfrm>
            </p:grpSpPr>
            <p:sp>
              <p:nvSpPr>
                <p:cNvPr id="1799" name=""/>
                <p:cNvSpPr/>
                <p:nvPr/>
              </p:nvSpPr>
              <p:spPr>
                <a:xfrm flipV="1">
                  <a:off x="6367320" y="3623760"/>
                  <a:ext cx="10332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 flipH="1" flipV="1">
                  <a:off x="6354360" y="3583080"/>
                  <a:ext cx="128520" cy="54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01" name=""/>
                <p:cNvGrpSpPr/>
                <p:nvPr/>
              </p:nvGrpSpPr>
              <p:grpSpPr>
                <a:xfrm>
                  <a:off x="6242040" y="3492360"/>
                  <a:ext cx="125280" cy="103320"/>
                  <a:chOff x="6242040" y="3492360"/>
                  <a:chExt cx="125280" cy="103320"/>
                </a:xfrm>
              </p:grpSpPr>
              <p:sp>
                <p:nvSpPr>
                  <p:cNvPr id="1802" name=""/>
                  <p:cNvSpPr/>
                  <p:nvPr/>
                </p:nvSpPr>
                <p:spPr>
                  <a:xfrm flipH="1" flipV="1">
                    <a:off x="6242040" y="3533760"/>
                    <a:ext cx="125280" cy="619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3" name=""/>
                  <p:cNvSpPr/>
                  <p:nvPr/>
                </p:nvSpPr>
                <p:spPr>
                  <a:xfrm flipV="1">
                    <a:off x="6254640" y="3492360"/>
                    <a:ext cx="100080" cy="54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04" name=""/>
              <p:cNvGrpSpPr/>
              <p:nvPr/>
            </p:nvGrpSpPr>
            <p:grpSpPr>
              <a:xfrm>
                <a:off x="6242040" y="3314880"/>
                <a:ext cx="240840" cy="190080"/>
                <a:chOff x="6242040" y="3314880"/>
                <a:chExt cx="240840" cy="190080"/>
              </a:xfrm>
            </p:grpSpPr>
            <p:sp>
              <p:nvSpPr>
                <p:cNvPr id="1805" name=""/>
                <p:cNvSpPr/>
                <p:nvPr/>
              </p:nvSpPr>
              <p:spPr>
                <a:xfrm flipV="1">
                  <a:off x="6367320" y="3447720"/>
                  <a:ext cx="10332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 flipH="1" flipV="1">
                  <a:off x="6354360" y="3405240"/>
                  <a:ext cx="128520" cy="554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07" name=""/>
                <p:cNvGrpSpPr/>
                <p:nvPr/>
              </p:nvGrpSpPr>
              <p:grpSpPr>
                <a:xfrm>
                  <a:off x="6242040" y="3314880"/>
                  <a:ext cx="125280" cy="102600"/>
                  <a:chOff x="6242040" y="3314880"/>
                  <a:chExt cx="125280" cy="102600"/>
                </a:xfrm>
              </p:grpSpPr>
              <p:sp>
                <p:nvSpPr>
                  <p:cNvPr id="1808" name=""/>
                  <p:cNvSpPr/>
                  <p:nvPr/>
                </p:nvSpPr>
                <p:spPr>
                  <a:xfrm flipH="1" flipV="1">
                    <a:off x="6242040" y="3357360"/>
                    <a:ext cx="125280" cy="601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9" name=""/>
                  <p:cNvSpPr/>
                  <p:nvPr/>
                </p:nvSpPr>
                <p:spPr>
                  <a:xfrm flipV="1">
                    <a:off x="6254640" y="3314880"/>
                    <a:ext cx="100080" cy="554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10" name=""/>
            <p:cNvGrpSpPr/>
            <p:nvPr/>
          </p:nvGrpSpPr>
          <p:grpSpPr>
            <a:xfrm>
              <a:off x="6242040" y="2963880"/>
              <a:ext cx="240840" cy="363240"/>
              <a:chOff x="6242040" y="2963880"/>
              <a:chExt cx="240840" cy="363240"/>
            </a:xfrm>
          </p:grpSpPr>
          <p:grpSp>
            <p:nvGrpSpPr>
              <p:cNvPr id="1811" name=""/>
              <p:cNvGrpSpPr/>
              <p:nvPr/>
            </p:nvGrpSpPr>
            <p:grpSpPr>
              <a:xfrm>
                <a:off x="6242040" y="3139560"/>
                <a:ext cx="240840" cy="187560"/>
                <a:chOff x="6242040" y="3139560"/>
                <a:chExt cx="240840" cy="187560"/>
              </a:xfrm>
            </p:grpSpPr>
            <p:sp>
              <p:nvSpPr>
                <p:cNvPr id="1812" name=""/>
                <p:cNvSpPr/>
                <p:nvPr/>
              </p:nvSpPr>
              <p:spPr>
                <a:xfrm flipV="1">
                  <a:off x="6367320" y="3269880"/>
                  <a:ext cx="10332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 flipH="1" flipV="1">
                  <a:off x="6354360" y="3223800"/>
                  <a:ext cx="128520" cy="5868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14" name=""/>
                <p:cNvGrpSpPr/>
                <p:nvPr/>
              </p:nvGrpSpPr>
              <p:grpSpPr>
                <a:xfrm>
                  <a:off x="6242040" y="3139560"/>
                  <a:ext cx="125280" cy="96840"/>
                  <a:chOff x="6242040" y="3139560"/>
                  <a:chExt cx="125280" cy="96840"/>
                </a:xfrm>
              </p:grpSpPr>
              <p:sp>
                <p:nvSpPr>
                  <p:cNvPr id="1815" name=""/>
                  <p:cNvSpPr/>
                  <p:nvPr/>
                </p:nvSpPr>
                <p:spPr>
                  <a:xfrm flipH="1" flipV="1">
                    <a:off x="6242040" y="3184200"/>
                    <a:ext cx="125280" cy="52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6" name=""/>
                  <p:cNvSpPr/>
                  <p:nvPr/>
                </p:nvSpPr>
                <p:spPr>
                  <a:xfrm flipV="1">
                    <a:off x="6254640" y="3139560"/>
                    <a:ext cx="100080" cy="572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17" name=""/>
              <p:cNvGrpSpPr/>
              <p:nvPr/>
            </p:nvGrpSpPr>
            <p:grpSpPr>
              <a:xfrm>
                <a:off x="6242040" y="2963880"/>
                <a:ext cx="240840" cy="188640"/>
                <a:chOff x="6242040" y="2963880"/>
                <a:chExt cx="240840" cy="188640"/>
              </a:xfrm>
            </p:grpSpPr>
            <p:sp>
              <p:nvSpPr>
                <p:cNvPr id="1818" name=""/>
                <p:cNvSpPr/>
                <p:nvPr/>
              </p:nvSpPr>
              <p:spPr>
                <a:xfrm flipV="1">
                  <a:off x="6367320" y="3095280"/>
                  <a:ext cx="10332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 flipH="1" flipV="1">
                  <a:off x="6354360" y="3050640"/>
                  <a:ext cx="12852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20" name=""/>
                <p:cNvGrpSpPr/>
                <p:nvPr/>
              </p:nvGrpSpPr>
              <p:grpSpPr>
                <a:xfrm>
                  <a:off x="6242040" y="2963880"/>
                  <a:ext cx="125280" cy="99720"/>
                  <a:chOff x="6242040" y="2963880"/>
                  <a:chExt cx="125280" cy="99720"/>
                </a:xfrm>
              </p:grpSpPr>
              <p:sp>
                <p:nvSpPr>
                  <p:cNvPr id="1821" name=""/>
                  <p:cNvSpPr/>
                  <p:nvPr/>
                </p:nvSpPr>
                <p:spPr>
                  <a:xfrm flipH="1" flipV="1">
                    <a:off x="6242040" y="3006360"/>
                    <a:ext cx="125280" cy="572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2" name=""/>
                  <p:cNvSpPr/>
                  <p:nvPr/>
                </p:nvSpPr>
                <p:spPr>
                  <a:xfrm flipV="1">
                    <a:off x="6254640" y="2963880"/>
                    <a:ext cx="100080" cy="554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23" name=""/>
            <p:cNvGrpSpPr/>
            <p:nvPr/>
          </p:nvGrpSpPr>
          <p:grpSpPr>
            <a:xfrm>
              <a:off x="6242040" y="2608200"/>
              <a:ext cx="240840" cy="368280"/>
              <a:chOff x="6242040" y="2608200"/>
              <a:chExt cx="240840" cy="368280"/>
            </a:xfrm>
          </p:grpSpPr>
          <p:grpSp>
            <p:nvGrpSpPr>
              <p:cNvPr id="1824" name=""/>
              <p:cNvGrpSpPr/>
              <p:nvPr/>
            </p:nvGrpSpPr>
            <p:grpSpPr>
              <a:xfrm>
                <a:off x="6242040" y="2787480"/>
                <a:ext cx="240840" cy="189000"/>
                <a:chOff x="6242040" y="2787480"/>
                <a:chExt cx="240840" cy="189000"/>
              </a:xfrm>
            </p:grpSpPr>
            <p:sp>
              <p:nvSpPr>
                <p:cNvPr id="1825" name=""/>
                <p:cNvSpPr/>
                <p:nvPr/>
              </p:nvSpPr>
              <p:spPr>
                <a:xfrm flipV="1">
                  <a:off x="6367320" y="2921040"/>
                  <a:ext cx="103320" cy="554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 flipH="1" flipV="1">
                  <a:off x="6354360" y="2876040"/>
                  <a:ext cx="12852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27" name=""/>
                <p:cNvGrpSpPr/>
                <p:nvPr/>
              </p:nvGrpSpPr>
              <p:grpSpPr>
                <a:xfrm>
                  <a:off x="6242040" y="2787480"/>
                  <a:ext cx="125280" cy="101880"/>
                  <a:chOff x="6242040" y="2787480"/>
                  <a:chExt cx="125280" cy="101880"/>
                </a:xfrm>
              </p:grpSpPr>
              <p:sp>
                <p:nvSpPr>
                  <p:cNvPr id="1828" name=""/>
                  <p:cNvSpPr/>
                  <p:nvPr/>
                </p:nvSpPr>
                <p:spPr>
                  <a:xfrm flipH="1" flipV="1">
                    <a:off x="6242040" y="2828880"/>
                    <a:ext cx="125280" cy="604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9" name=""/>
                  <p:cNvSpPr/>
                  <p:nvPr/>
                </p:nvSpPr>
                <p:spPr>
                  <a:xfrm flipV="1">
                    <a:off x="6254640" y="2787480"/>
                    <a:ext cx="100080" cy="54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30" name=""/>
              <p:cNvGrpSpPr/>
              <p:nvPr/>
            </p:nvGrpSpPr>
            <p:grpSpPr>
              <a:xfrm>
                <a:off x="6242040" y="2608200"/>
                <a:ext cx="240840" cy="192240"/>
                <a:chOff x="6242040" y="2608200"/>
                <a:chExt cx="240840" cy="192240"/>
              </a:xfrm>
            </p:grpSpPr>
            <p:sp>
              <p:nvSpPr>
                <p:cNvPr id="1831" name=""/>
                <p:cNvSpPr/>
                <p:nvPr/>
              </p:nvSpPr>
              <p:spPr>
                <a:xfrm flipV="1">
                  <a:off x="6367320" y="2739960"/>
                  <a:ext cx="103320" cy="6048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 flipH="1" flipV="1">
                  <a:off x="6354360" y="2701440"/>
                  <a:ext cx="128520" cy="507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33" name=""/>
                <p:cNvGrpSpPr/>
                <p:nvPr/>
              </p:nvGrpSpPr>
              <p:grpSpPr>
                <a:xfrm>
                  <a:off x="6242040" y="2608200"/>
                  <a:ext cx="125280" cy="106560"/>
                  <a:chOff x="6242040" y="2608200"/>
                  <a:chExt cx="125280" cy="106560"/>
                </a:xfrm>
              </p:grpSpPr>
              <p:sp>
                <p:nvSpPr>
                  <p:cNvPr id="1834" name=""/>
                  <p:cNvSpPr/>
                  <p:nvPr/>
                </p:nvSpPr>
                <p:spPr>
                  <a:xfrm flipH="1" flipV="1">
                    <a:off x="6242040" y="2655720"/>
                    <a:ext cx="125280" cy="590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5" name=""/>
                  <p:cNvSpPr/>
                  <p:nvPr/>
                </p:nvSpPr>
                <p:spPr>
                  <a:xfrm flipV="1">
                    <a:off x="6254640" y="2608200"/>
                    <a:ext cx="100080" cy="604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36" name=""/>
            <p:cNvGrpSpPr/>
            <p:nvPr/>
          </p:nvGrpSpPr>
          <p:grpSpPr>
            <a:xfrm>
              <a:off x="6242040" y="2255760"/>
              <a:ext cx="240840" cy="364680"/>
              <a:chOff x="6242040" y="2255760"/>
              <a:chExt cx="240840" cy="364680"/>
            </a:xfrm>
          </p:grpSpPr>
          <p:grpSp>
            <p:nvGrpSpPr>
              <p:cNvPr id="1837" name=""/>
              <p:cNvGrpSpPr/>
              <p:nvPr/>
            </p:nvGrpSpPr>
            <p:grpSpPr>
              <a:xfrm>
                <a:off x="6242040" y="2436480"/>
                <a:ext cx="240840" cy="183960"/>
                <a:chOff x="6242040" y="2436480"/>
                <a:chExt cx="240840" cy="183960"/>
              </a:xfrm>
            </p:grpSpPr>
            <p:sp>
              <p:nvSpPr>
                <p:cNvPr id="1838" name=""/>
                <p:cNvSpPr/>
                <p:nvPr/>
              </p:nvSpPr>
              <p:spPr>
                <a:xfrm flipV="1">
                  <a:off x="6367320" y="2566800"/>
                  <a:ext cx="103320" cy="536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 flipH="1" flipV="1">
                  <a:off x="6354360" y="2522160"/>
                  <a:ext cx="12852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40" name=""/>
                <p:cNvGrpSpPr/>
                <p:nvPr/>
              </p:nvGrpSpPr>
              <p:grpSpPr>
                <a:xfrm>
                  <a:off x="6242040" y="2436480"/>
                  <a:ext cx="125280" cy="98280"/>
                  <a:chOff x="6242040" y="2436480"/>
                  <a:chExt cx="125280" cy="98280"/>
                </a:xfrm>
              </p:grpSpPr>
              <p:sp>
                <p:nvSpPr>
                  <p:cNvPr id="1841" name=""/>
                  <p:cNvSpPr/>
                  <p:nvPr/>
                </p:nvSpPr>
                <p:spPr>
                  <a:xfrm flipH="1" flipV="1">
                    <a:off x="6242040" y="2476080"/>
                    <a:ext cx="125280" cy="586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2" name=""/>
                  <p:cNvSpPr/>
                  <p:nvPr/>
                </p:nvSpPr>
                <p:spPr>
                  <a:xfrm flipV="1">
                    <a:off x="6254640" y="2436480"/>
                    <a:ext cx="100080" cy="52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43" name=""/>
              <p:cNvGrpSpPr/>
              <p:nvPr/>
            </p:nvGrpSpPr>
            <p:grpSpPr>
              <a:xfrm>
                <a:off x="6242040" y="2255760"/>
                <a:ext cx="240840" cy="193320"/>
                <a:chOff x="6242040" y="2255760"/>
                <a:chExt cx="240840" cy="193320"/>
              </a:xfrm>
            </p:grpSpPr>
            <p:sp>
              <p:nvSpPr>
                <p:cNvPr id="1844" name=""/>
                <p:cNvSpPr/>
                <p:nvPr/>
              </p:nvSpPr>
              <p:spPr>
                <a:xfrm flipV="1">
                  <a:off x="6367320" y="2391840"/>
                  <a:ext cx="10332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 flipH="1" flipV="1">
                  <a:off x="6354360" y="2344680"/>
                  <a:ext cx="128520" cy="6048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46" name=""/>
                <p:cNvGrpSpPr/>
                <p:nvPr/>
              </p:nvGrpSpPr>
              <p:grpSpPr>
                <a:xfrm>
                  <a:off x="6242040" y="2255760"/>
                  <a:ext cx="125280" cy="101160"/>
                  <a:chOff x="6242040" y="2255760"/>
                  <a:chExt cx="125280" cy="101160"/>
                </a:xfrm>
              </p:grpSpPr>
              <p:sp>
                <p:nvSpPr>
                  <p:cNvPr id="1847" name=""/>
                  <p:cNvSpPr/>
                  <p:nvPr/>
                </p:nvSpPr>
                <p:spPr>
                  <a:xfrm flipH="1" flipV="1">
                    <a:off x="6242040" y="2303280"/>
                    <a:ext cx="125280" cy="53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8" name=""/>
                  <p:cNvSpPr/>
                  <p:nvPr/>
                </p:nvSpPr>
                <p:spPr>
                  <a:xfrm flipV="1">
                    <a:off x="6254640" y="2255760"/>
                    <a:ext cx="100080" cy="604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849" name=""/>
            <p:cNvSpPr/>
            <p:nvPr/>
          </p:nvSpPr>
          <p:spPr>
            <a:xfrm>
              <a:off x="6361200" y="3681360"/>
              <a:ext cx="0" cy="12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6361200" y="2139840"/>
              <a:ext cx="0" cy="1159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1" name=""/>
          <p:cNvSpPr/>
          <p:nvPr/>
        </p:nvSpPr>
        <p:spPr>
          <a:xfrm>
            <a:off x="6184800" y="2133720"/>
            <a:ext cx="35568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6178680" y="3809880"/>
            <a:ext cx="1434960" cy="0"/>
          </a:xfrm>
          <a:prstGeom prst="line">
            <a:avLst/>
          </a:prstGeom>
          <a:ln w="12600">
            <a:solidFill>
              <a:srgbClr val="fafd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6178680" y="4648320"/>
            <a:ext cx="1434960" cy="0"/>
          </a:xfrm>
          <a:prstGeom prst="line">
            <a:avLst/>
          </a:prstGeom>
          <a:ln w="12600">
            <a:solidFill>
              <a:srgbClr val="fafd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7317720" y="3559320"/>
            <a:ext cx="131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y =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7327440" y="4397400"/>
            <a:ext cx="14634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y = y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 flipV="1">
            <a:off x="7924680" y="2127240"/>
            <a:ext cx="0" cy="85104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7624080" y="2112840"/>
            <a:ext cx="963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j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6328440" y="257004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7023240" y="2133720"/>
            <a:ext cx="35532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0" name=""/>
          <p:cNvGrpSpPr/>
          <p:nvPr/>
        </p:nvGrpSpPr>
        <p:grpSpPr>
          <a:xfrm>
            <a:off x="6719400" y="2139840"/>
            <a:ext cx="964800" cy="2858760"/>
            <a:chOff x="6719400" y="2139840"/>
            <a:chExt cx="964800" cy="2858760"/>
          </a:xfrm>
        </p:grpSpPr>
        <p:grpSp>
          <p:nvGrpSpPr>
            <p:cNvPr id="1861" name=""/>
            <p:cNvGrpSpPr/>
            <p:nvPr/>
          </p:nvGrpSpPr>
          <p:grpSpPr>
            <a:xfrm>
              <a:off x="7079760" y="3908520"/>
              <a:ext cx="241920" cy="542880"/>
              <a:chOff x="7079760" y="3908520"/>
              <a:chExt cx="241920" cy="542880"/>
            </a:xfrm>
          </p:grpSpPr>
          <p:grpSp>
            <p:nvGrpSpPr>
              <p:cNvPr id="1862" name=""/>
              <p:cNvGrpSpPr/>
              <p:nvPr/>
            </p:nvGrpSpPr>
            <p:grpSpPr>
              <a:xfrm>
                <a:off x="7079760" y="4174920"/>
                <a:ext cx="241920" cy="276480"/>
                <a:chOff x="7079760" y="4174920"/>
                <a:chExt cx="241920" cy="276480"/>
              </a:xfrm>
            </p:grpSpPr>
            <p:sp>
              <p:nvSpPr>
                <p:cNvPr id="1863" name=""/>
                <p:cNvSpPr/>
                <p:nvPr/>
              </p:nvSpPr>
              <p:spPr>
                <a:xfrm flipV="1">
                  <a:off x="7205760" y="4373640"/>
                  <a:ext cx="102960" cy="777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 flipH="1" flipV="1">
                  <a:off x="7192800" y="4309920"/>
                  <a:ext cx="128880" cy="7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65" name=""/>
                <p:cNvGrpSpPr/>
                <p:nvPr/>
              </p:nvGrpSpPr>
              <p:grpSpPr>
                <a:xfrm>
                  <a:off x="7079760" y="4174920"/>
                  <a:ext cx="125640" cy="147960"/>
                  <a:chOff x="7079760" y="4174920"/>
                  <a:chExt cx="125640" cy="147960"/>
                </a:xfrm>
              </p:grpSpPr>
              <p:sp>
                <p:nvSpPr>
                  <p:cNvPr id="1866" name=""/>
                  <p:cNvSpPr/>
                  <p:nvPr/>
                </p:nvSpPr>
                <p:spPr>
                  <a:xfrm flipH="1" flipV="1">
                    <a:off x="7079760" y="4237200"/>
                    <a:ext cx="125640" cy="856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7" name=""/>
                  <p:cNvSpPr/>
                  <p:nvPr/>
                </p:nvSpPr>
                <p:spPr>
                  <a:xfrm flipV="1">
                    <a:off x="7093080" y="4174920"/>
                    <a:ext cx="99720" cy="745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68" name=""/>
              <p:cNvGrpSpPr/>
              <p:nvPr/>
            </p:nvGrpSpPr>
            <p:grpSpPr>
              <a:xfrm>
                <a:off x="7079760" y="3908520"/>
                <a:ext cx="241920" cy="279000"/>
                <a:chOff x="7079760" y="3908520"/>
                <a:chExt cx="241920" cy="279000"/>
              </a:xfrm>
            </p:grpSpPr>
            <p:sp>
              <p:nvSpPr>
                <p:cNvPr id="1869" name=""/>
                <p:cNvSpPr/>
                <p:nvPr/>
              </p:nvSpPr>
              <p:spPr>
                <a:xfrm flipV="1">
                  <a:off x="7205760" y="4107960"/>
                  <a:ext cx="102960" cy="79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 flipH="1" flipV="1">
                  <a:off x="7192800" y="4044960"/>
                  <a:ext cx="128880" cy="7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71" name=""/>
                <p:cNvGrpSpPr/>
                <p:nvPr/>
              </p:nvGrpSpPr>
              <p:grpSpPr>
                <a:xfrm>
                  <a:off x="7079760" y="3908520"/>
                  <a:ext cx="125640" cy="148680"/>
                  <a:chOff x="7079760" y="3908520"/>
                  <a:chExt cx="125640" cy="148680"/>
                </a:xfrm>
              </p:grpSpPr>
              <p:sp>
                <p:nvSpPr>
                  <p:cNvPr id="1872" name=""/>
                  <p:cNvSpPr/>
                  <p:nvPr/>
                </p:nvSpPr>
                <p:spPr>
                  <a:xfrm flipH="1" flipV="1">
                    <a:off x="7079760" y="3973320"/>
                    <a:ext cx="125640" cy="838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3" name=""/>
                  <p:cNvSpPr/>
                  <p:nvPr/>
                </p:nvSpPr>
                <p:spPr>
                  <a:xfrm flipV="1">
                    <a:off x="7093080" y="3908520"/>
                    <a:ext cx="99720" cy="777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74" name=""/>
            <p:cNvGrpSpPr/>
            <p:nvPr/>
          </p:nvGrpSpPr>
          <p:grpSpPr>
            <a:xfrm>
              <a:off x="7079760" y="3382920"/>
              <a:ext cx="241920" cy="538200"/>
              <a:chOff x="7079760" y="3382920"/>
              <a:chExt cx="241920" cy="538200"/>
            </a:xfrm>
          </p:grpSpPr>
          <p:grpSp>
            <p:nvGrpSpPr>
              <p:cNvPr id="1875" name=""/>
              <p:cNvGrpSpPr/>
              <p:nvPr/>
            </p:nvGrpSpPr>
            <p:grpSpPr>
              <a:xfrm>
                <a:off x="7079760" y="3646080"/>
                <a:ext cx="241920" cy="275040"/>
                <a:chOff x="7079760" y="3646080"/>
                <a:chExt cx="241920" cy="275040"/>
              </a:xfrm>
            </p:grpSpPr>
            <p:sp>
              <p:nvSpPr>
                <p:cNvPr id="1876" name=""/>
                <p:cNvSpPr/>
                <p:nvPr/>
              </p:nvSpPr>
              <p:spPr>
                <a:xfrm flipV="1">
                  <a:off x="7205760" y="3841920"/>
                  <a:ext cx="102960" cy="792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7" name=""/>
                <p:cNvSpPr/>
                <p:nvPr/>
              </p:nvSpPr>
              <p:spPr>
                <a:xfrm flipH="1" flipV="1">
                  <a:off x="7192800" y="3773160"/>
                  <a:ext cx="128880" cy="81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78" name=""/>
                <p:cNvGrpSpPr/>
                <p:nvPr/>
              </p:nvGrpSpPr>
              <p:grpSpPr>
                <a:xfrm>
                  <a:off x="7079760" y="3646080"/>
                  <a:ext cx="125640" cy="139680"/>
                  <a:chOff x="7079760" y="3646080"/>
                  <a:chExt cx="125640" cy="139680"/>
                </a:xfrm>
              </p:grpSpPr>
              <p:sp>
                <p:nvSpPr>
                  <p:cNvPr id="1879" name=""/>
                  <p:cNvSpPr/>
                  <p:nvPr/>
                </p:nvSpPr>
                <p:spPr>
                  <a:xfrm flipH="1" flipV="1">
                    <a:off x="7079760" y="3712680"/>
                    <a:ext cx="125640" cy="730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0" name=""/>
                  <p:cNvSpPr/>
                  <p:nvPr/>
                </p:nvSpPr>
                <p:spPr>
                  <a:xfrm flipV="1">
                    <a:off x="7093080" y="3646080"/>
                    <a:ext cx="99720" cy="79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81" name=""/>
              <p:cNvGrpSpPr/>
              <p:nvPr/>
            </p:nvGrpSpPr>
            <p:grpSpPr>
              <a:xfrm>
                <a:off x="7079760" y="3382920"/>
                <a:ext cx="241920" cy="276120"/>
                <a:chOff x="7079760" y="3382920"/>
                <a:chExt cx="241920" cy="276120"/>
              </a:xfrm>
            </p:grpSpPr>
            <p:sp>
              <p:nvSpPr>
                <p:cNvPr id="1882" name=""/>
                <p:cNvSpPr/>
                <p:nvPr/>
              </p:nvSpPr>
              <p:spPr>
                <a:xfrm flipV="1">
                  <a:off x="7205760" y="3579840"/>
                  <a:ext cx="102960" cy="792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 flipH="1" flipV="1">
                  <a:off x="7192800" y="3513240"/>
                  <a:ext cx="128880" cy="792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84" name=""/>
                <p:cNvGrpSpPr/>
                <p:nvPr/>
              </p:nvGrpSpPr>
              <p:grpSpPr>
                <a:xfrm>
                  <a:off x="7079760" y="3382920"/>
                  <a:ext cx="125640" cy="142920"/>
                  <a:chOff x="7079760" y="3382920"/>
                  <a:chExt cx="125640" cy="142920"/>
                </a:xfrm>
              </p:grpSpPr>
              <p:sp>
                <p:nvSpPr>
                  <p:cNvPr id="1885" name=""/>
                  <p:cNvSpPr/>
                  <p:nvPr/>
                </p:nvSpPr>
                <p:spPr>
                  <a:xfrm flipH="1" flipV="1">
                    <a:off x="7079760" y="3446640"/>
                    <a:ext cx="125640" cy="79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6" name=""/>
                  <p:cNvSpPr/>
                  <p:nvPr/>
                </p:nvSpPr>
                <p:spPr>
                  <a:xfrm flipV="1">
                    <a:off x="7093080" y="3382920"/>
                    <a:ext cx="99720" cy="763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87" name=""/>
            <p:cNvGrpSpPr/>
            <p:nvPr/>
          </p:nvGrpSpPr>
          <p:grpSpPr>
            <a:xfrm>
              <a:off x="7079760" y="2849400"/>
              <a:ext cx="241920" cy="546120"/>
              <a:chOff x="7079760" y="2849400"/>
              <a:chExt cx="241920" cy="546120"/>
            </a:xfrm>
          </p:grpSpPr>
          <p:grpSp>
            <p:nvGrpSpPr>
              <p:cNvPr id="1888" name=""/>
              <p:cNvGrpSpPr/>
              <p:nvPr/>
            </p:nvGrpSpPr>
            <p:grpSpPr>
              <a:xfrm>
                <a:off x="7079760" y="3117600"/>
                <a:ext cx="241920" cy="277920"/>
                <a:chOff x="7079760" y="3117600"/>
                <a:chExt cx="241920" cy="277920"/>
              </a:xfrm>
            </p:grpSpPr>
            <p:sp>
              <p:nvSpPr>
                <p:cNvPr id="1889" name=""/>
                <p:cNvSpPr/>
                <p:nvPr/>
              </p:nvSpPr>
              <p:spPr>
                <a:xfrm flipV="1">
                  <a:off x="7205760" y="3317760"/>
                  <a:ext cx="102960" cy="777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 flipH="1" flipV="1">
                  <a:off x="7192800" y="3250800"/>
                  <a:ext cx="128880" cy="79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91" name=""/>
                <p:cNvGrpSpPr/>
                <p:nvPr/>
              </p:nvGrpSpPr>
              <p:grpSpPr>
                <a:xfrm>
                  <a:off x="7079760" y="3117600"/>
                  <a:ext cx="125640" cy="145800"/>
                  <a:chOff x="7079760" y="3117600"/>
                  <a:chExt cx="125640" cy="145800"/>
                </a:xfrm>
              </p:grpSpPr>
              <p:sp>
                <p:nvSpPr>
                  <p:cNvPr id="1892" name=""/>
                  <p:cNvSpPr/>
                  <p:nvPr/>
                </p:nvSpPr>
                <p:spPr>
                  <a:xfrm flipH="1" flipV="1">
                    <a:off x="7079760" y="3179520"/>
                    <a:ext cx="125640" cy="838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3" name=""/>
                  <p:cNvSpPr/>
                  <p:nvPr/>
                </p:nvSpPr>
                <p:spPr>
                  <a:xfrm flipV="1">
                    <a:off x="7093080" y="3117600"/>
                    <a:ext cx="99720" cy="745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94" name=""/>
              <p:cNvGrpSpPr/>
              <p:nvPr/>
            </p:nvGrpSpPr>
            <p:grpSpPr>
              <a:xfrm>
                <a:off x="7079760" y="2849400"/>
                <a:ext cx="241920" cy="281160"/>
                <a:chOff x="7079760" y="2849400"/>
                <a:chExt cx="241920" cy="281160"/>
              </a:xfrm>
            </p:grpSpPr>
            <p:sp>
              <p:nvSpPr>
                <p:cNvPr id="1895" name=""/>
                <p:cNvSpPr/>
                <p:nvPr/>
              </p:nvSpPr>
              <p:spPr>
                <a:xfrm flipV="1">
                  <a:off x="7205760" y="3046320"/>
                  <a:ext cx="102960" cy="84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 flipH="1" flipV="1">
                  <a:off x="7192800" y="2989440"/>
                  <a:ext cx="128880" cy="698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97" name=""/>
                <p:cNvGrpSpPr/>
                <p:nvPr/>
              </p:nvGrpSpPr>
              <p:grpSpPr>
                <a:xfrm>
                  <a:off x="7079760" y="2849400"/>
                  <a:ext cx="125640" cy="152640"/>
                  <a:chOff x="7079760" y="2849400"/>
                  <a:chExt cx="125640" cy="152640"/>
                </a:xfrm>
              </p:grpSpPr>
              <p:sp>
                <p:nvSpPr>
                  <p:cNvPr id="1898" name=""/>
                  <p:cNvSpPr/>
                  <p:nvPr/>
                </p:nvSpPr>
                <p:spPr>
                  <a:xfrm flipH="1" flipV="1">
                    <a:off x="7079760" y="2919240"/>
                    <a:ext cx="125640" cy="828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9" name=""/>
                  <p:cNvSpPr/>
                  <p:nvPr/>
                </p:nvSpPr>
                <p:spPr>
                  <a:xfrm flipV="1">
                    <a:off x="7093080" y="2849400"/>
                    <a:ext cx="99720" cy="828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00" name=""/>
            <p:cNvGrpSpPr/>
            <p:nvPr/>
          </p:nvGrpSpPr>
          <p:grpSpPr>
            <a:xfrm>
              <a:off x="7079760" y="2319120"/>
              <a:ext cx="241920" cy="543240"/>
              <a:chOff x="7079760" y="2319120"/>
              <a:chExt cx="241920" cy="543240"/>
            </a:xfrm>
          </p:grpSpPr>
          <p:grpSp>
            <p:nvGrpSpPr>
              <p:cNvPr id="1901" name=""/>
              <p:cNvGrpSpPr/>
              <p:nvPr/>
            </p:nvGrpSpPr>
            <p:grpSpPr>
              <a:xfrm>
                <a:off x="7079760" y="2590560"/>
                <a:ext cx="241920" cy="271800"/>
                <a:chOff x="7079760" y="2590560"/>
                <a:chExt cx="241920" cy="271800"/>
              </a:xfrm>
            </p:grpSpPr>
            <p:sp>
              <p:nvSpPr>
                <p:cNvPr id="1902" name=""/>
                <p:cNvSpPr/>
                <p:nvPr/>
              </p:nvSpPr>
              <p:spPr>
                <a:xfrm flipV="1">
                  <a:off x="7205760" y="2786040"/>
                  <a:ext cx="102960" cy="7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 flipH="1" flipV="1">
                  <a:off x="7192800" y="2719440"/>
                  <a:ext cx="128880" cy="792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04" name=""/>
                <p:cNvGrpSpPr/>
                <p:nvPr/>
              </p:nvGrpSpPr>
              <p:grpSpPr>
                <a:xfrm>
                  <a:off x="7079760" y="2590560"/>
                  <a:ext cx="125640" cy="141120"/>
                  <a:chOff x="7079760" y="2590560"/>
                  <a:chExt cx="125640" cy="141120"/>
                </a:xfrm>
              </p:grpSpPr>
              <p:sp>
                <p:nvSpPr>
                  <p:cNvPr id="1905" name=""/>
                  <p:cNvSpPr/>
                  <p:nvPr/>
                </p:nvSpPr>
                <p:spPr>
                  <a:xfrm flipH="1" flipV="1">
                    <a:off x="7079760" y="2650680"/>
                    <a:ext cx="125640" cy="81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6" name=""/>
                  <p:cNvSpPr/>
                  <p:nvPr/>
                </p:nvSpPr>
                <p:spPr>
                  <a:xfrm flipV="1">
                    <a:off x="7093080" y="2590560"/>
                    <a:ext cx="99720" cy="730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07" name=""/>
              <p:cNvGrpSpPr/>
              <p:nvPr/>
            </p:nvGrpSpPr>
            <p:grpSpPr>
              <a:xfrm>
                <a:off x="7079760" y="2319120"/>
                <a:ext cx="241920" cy="284040"/>
                <a:chOff x="7079760" y="2319120"/>
                <a:chExt cx="241920" cy="284040"/>
              </a:xfrm>
            </p:grpSpPr>
            <p:sp>
              <p:nvSpPr>
                <p:cNvPr id="1908" name=""/>
                <p:cNvSpPr/>
                <p:nvPr/>
              </p:nvSpPr>
              <p:spPr>
                <a:xfrm flipV="1">
                  <a:off x="7205760" y="2523600"/>
                  <a:ext cx="102960" cy="79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 flipH="1" flipV="1">
                  <a:off x="7192800" y="2454120"/>
                  <a:ext cx="128880" cy="828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10" name=""/>
                <p:cNvGrpSpPr/>
                <p:nvPr/>
              </p:nvGrpSpPr>
              <p:grpSpPr>
                <a:xfrm>
                  <a:off x="7079760" y="2319120"/>
                  <a:ext cx="125640" cy="147960"/>
                  <a:chOff x="7079760" y="2319120"/>
                  <a:chExt cx="125640" cy="147960"/>
                </a:xfrm>
              </p:grpSpPr>
              <p:sp>
                <p:nvSpPr>
                  <p:cNvPr id="1911" name=""/>
                  <p:cNvSpPr/>
                  <p:nvPr/>
                </p:nvSpPr>
                <p:spPr>
                  <a:xfrm flipH="1" flipV="1">
                    <a:off x="7079760" y="2390760"/>
                    <a:ext cx="125640" cy="763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2" name=""/>
                  <p:cNvSpPr/>
                  <p:nvPr/>
                </p:nvSpPr>
                <p:spPr>
                  <a:xfrm flipV="1">
                    <a:off x="7093080" y="2319120"/>
                    <a:ext cx="99720" cy="838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13" name=""/>
            <p:cNvSpPr/>
            <p:nvPr/>
          </p:nvSpPr>
          <p:spPr>
            <a:xfrm>
              <a:off x="7199280" y="4451400"/>
              <a:ext cx="0" cy="190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7199280" y="2139840"/>
              <a:ext cx="0" cy="1796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7016760" y="4654440"/>
              <a:ext cx="368280" cy="29232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719400" y="4635360"/>
              <a:ext cx="964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7" name=""/>
          <p:cNvSpPr/>
          <p:nvPr/>
        </p:nvSpPr>
        <p:spPr>
          <a:xfrm>
            <a:off x="5784120" y="1708200"/>
            <a:ext cx="1335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(</a:t>
            </a:r>
            <a:r>
              <a:rPr b="0" lang="fa-IR" sz="2000" spc="-1" strike="noStrike">
                <a:solidFill>
                  <a:srgbClr val="ff00ff"/>
                </a:solidFill>
                <a:latin typeface="Arial"/>
                <a:cs typeface="Arial"/>
              </a:rPr>
              <a:t>الف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6631920" y="1703520"/>
            <a:ext cx="116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(</a:t>
            </a:r>
            <a:r>
              <a:rPr b="0" lang="fa-IR" sz="2000" spc="-1" strike="noStrike">
                <a:solidFill>
                  <a:srgbClr val="ff00ff"/>
                </a:solidFill>
                <a:latin typeface="Arial"/>
                <a:cs typeface="Arial"/>
              </a:rPr>
              <a:t>ب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7086600" y="4978440"/>
            <a:ext cx="0" cy="711000"/>
          </a:xfrm>
          <a:prstGeom prst="line">
            <a:avLst/>
          </a:prstGeom>
          <a:ln w="507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7315200" y="4978440"/>
            <a:ext cx="0" cy="711000"/>
          </a:xfrm>
          <a:prstGeom prst="line">
            <a:avLst/>
          </a:prstGeom>
          <a:ln w="507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6099840" y="5388120"/>
            <a:ext cx="110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7018200" y="5311800"/>
            <a:ext cx="11768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-ky</a:t>
            </a:r>
            <a:r>
              <a:rPr b="0" i="1" lang="en-US" sz="20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976320" y="3178080"/>
            <a:ext cx="4227480" cy="15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4040" indent="-284040" algn="r" rtl="1">
              <a:lnSpc>
                <a:spcPct val="90000"/>
              </a:lnSpc>
              <a:spcBef>
                <a:spcPts val="1250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وجه کنید که نیروی فنر برابر با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-kx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این مور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00ff"/>
                </a:solidFill>
                <a:latin typeface="Arial"/>
                <a:ea typeface="Arial"/>
              </a:rPr>
              <a:t>(ب)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mg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x = y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e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y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e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- mg = 0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y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e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4" name=""/>
          <p:cNvGrpSpPr/>
          <p:nvPr/>
        </p:nvGrpSpPr>
        <p:grpSpPr>
          <a:xfrm>
            <a:off x="825840" y="4973760"/>
            <a:ext cx="3943080" cy="1191240"/>
            <a:chOff x="825840" y="4973760"/>
            <a:chExt cx="3943080" cy="1191240"/>
          </a:xfrm>
        </p:grpSpPr>
        <p:sp>
          <p:nvSpPr>
            <p:cNvPr id="1925" name=""/>
            <p:cNvSpPr/>
            <p:nvPr/>
          </p:nvSpPr>
          <p:spPr>
            <a:xfrm>
              <a:off x="1606680" y="4973760"/>
              <a:ext cx="1434960" cy="596880"/>
            </a:xfrm>
            <a:prstGeom prst="roundRect">
              <a:avLst>
                <a:gd name="adj" fmla="val 12495"/>
              </a:avLst>
            </a:prstGeom>
            <a:noFill/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825840" y="5764320"/>
              <a:ext cx="39430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 algn="r" rtl="1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( چون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y</a:t>
              </a:r>
              <a:r>
                <a:rPr b="0" i="1" lang="en-US" sz="2000" spc="-1" strike="noStrike" baseline="-25000">
                  <a:solidFill>
                    <a:srgbClr val="00ff00"/>
                  </a:solidFill>
                  <a:latin typeface="Arial"/>
                </a:rPr>
                <a:t>e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یک عدد منفی است 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1377720" y="5097600"/>
              <a:ext cx="18201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mg = -ky</a:t>
              </a:r>
              <a:r>
                <a:rPr b="0" i="1" lang="en-US" sz="2000" spc="-1" strike="noStrike" baseline="-25000">
                  <a:solidFill>
                    <a:srgbClr val="00ff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8" name=""/>
          <p:cNvSpPr/>
          <p:nvPr/>
        </p:nvSpPr>
        <p:spPr>
          <a:xfrm>
            <a:off x="957240" y="4275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afd00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0" y="928800"/>
            <a:ext cx="6229440" cy="53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afd00"/>
                </a:solidFill>
                <a:latin typeface="Tahoma"/>
                <a:cs typeface="Tahoma"/>
              </a:rPr>
              <a:t>هدفهای کلی درس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ff00"/>
                </a:solidFill>
                <a:latin typeface="Tahoma"/>
                <a:cs typeface="Tahoma"/>
              </a:rPr>
              <a:t>آشنایی با</a:t>
            </a:r>
            <a:r>
              <a:rPr b="1" lang="en-US" sz="2800" spc="-1" strike="noStrike">
                <a:solidFill>
                  <a:srgbClr val="00ff00"/>
                </a:solidFill>
                <a:latin typeface="Tahoma"/>
                <a:ea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فیزیک ، مفهوم، مدل ، قانون ونظری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بردارها: ضرب نرده ای وبردار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ا نواع حرکت: یک بعدی و دوبعد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رکت سقوطی آزاد و دایره ا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رکت نسب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ینامیک ذره : قوانین نیوتن و اصطکا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مفاهیم کار ، انرژی وتوا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پایستگی انرژِ ی : نیروهای پایستارو غیر پایستا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انرژی جنبشی و پتانسی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تکانه خطی و قانون پایستگی تکانه خط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سیستم ذرات : مرکز جرم ، حرکت مرکز جر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وران جسم صلب حول محورثابت : سینماتیک دوران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ینامیک دورانی :تکانه زاویه ای و پایستگی آ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گرانش : قانون گرانش نیوت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ل مسائل فیزیک مکانی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فنرهای قا ئم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4681440" cy="15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نرژی پتانسیل فنر + جرم آویزان برابر است با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3" name=""/>
          <p:cNvGrpSpPr/>
          <p:nvPr/>
        </p:nvGrpSpPr>
        <p:grpSpPr>
          <a:xfrm>
            <a:off x="6242040" y="2139840"/>
            <a:ext cx="240840" cy="1663920"/>
            <a:chOff x="6242040" y="2139840"/>
            <a:chExt cx="240840" cy="1663920"/>
          </a:xfrm>
        </p:grpSpPr>
        <p:grpSp>
          <p:nvGrpSpPr>
            <p:cNvPr id="1934" name=""/>
            <p:cNvGrpSpPr/>
            <p:nvPr/>
          </p:nvGrpSpPr>
          <p:grpSpPr>
            <a:xfrm>
              <a:off x="6242040" y="3314880"/>
              <a:ext cx="240840" cy="366120"/>
              <a:chOff x="6242040" y="3314880"/>
              <a:chExt cx="240840" cy="366120"/>
            </a:xfrm>
          </p:grpSpPr>
          <p:grpSp>
            <p:nvGrpSpPr>
              <p:cNvPr id="1935" name=""/>
              <p:cNvGrpSpPr/>
              <p:nvPr/>
            </p:nvGrpSpPr>
            <p:grpSpPr>
              <a:xfrm>
                <a:off x="6242040" y="3492360"/>
                <a:ext cx="240840" cy="188640"/>
                <a:chOff x="6242040" y="3492360"/>
                <a:chExt cx="240840" cy="188640"/>
              </a:xfrm>
            </p:grpSpPr>
            <p:sp>
              <p:nvSpPr>
                <p:cNvPr id="1936" name=""/>
                <p:cNvSpPr/>
                <p:nvPr/>
              </p:nvSpPr>
              <p:spPr>
                <a:xfrm flipV="1">
                  <a:off x="6367320" y="3623760"/>
                  <a:ext cx="10332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 flipH="1" flipV="1">
                  <a:off x="6354360" y="3583080"/>
                  <a:ext cx="128520" cy="54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38" name=""/>
                <p:cNvGrpSpPr/>
                <p:nvPr/>
              </p:nvGrpSpPr>
              <p:grpSpPr>
                <a:xfrm>
                  <a:off x="6242040" y="3492360"/>
                  <a:ext cx="125280" cy="103320"/>
                  <a:chOff x="6242040" y="3492360"/>
                  <a:chExt cx="125280" cy="103320"/>
                </a:xfrm>
              </p:grpSpPr>
              <p:sp>
                <p:nvSpPr>
                  <p:cNvPr id="1939" name=""/>
                  <p:cNvSpPr/>
                  <p:nvPr/>
                </p:nvSpPr>
                <p:spPr>
                  <a:xfrm flipH="1" flipV="1">
                    <a:off x="6242040" y="3533760"/>
                    <a:ext cx="125280" cy="619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0" name=""/>
                  <p:cNvSpPr/>
                  <p:nvPr/>
                </p:nvSpPr>
                <p:spPr>
                  <a:xfrm flipV="1">
                    <a:off x="6254640" y="3492360"/>
                    <a:ext cx="100080" cy="54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41" name=""/>
              <p:cNvGrpSpPr/>
              <p:nvPr/>
            </p:nvGrpSpPr>
            <p:grpSpPr>
              <a:xfrm>
                <a:off x="6242040" y="3314880"/>
                <a:ext cx="240840" cy="190080"/>
                <a:chOff x="6242040" y="3314880"/>
                <a:chExt cx="240840" cy="190080"/>
              </a:xfrm>
            </p:grpSpPr>
            <p:sp>
              <p:nvSpPr>
                <p:cNvPr id="1942" name=""/>
                <p:cNvSpPr/>
                <p:nvPr/>
              </p:nvSpPr>
              <p:spPr>
                <a:xfrm flipV="1">
                  <a:off x="6367320" y="3447720"/>
                  <a:ext cx="10332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 flipH="1" flipV="1">
                  <a:off x="6354360" y="3405240"/>
                  <a:ext cx="128520" cy="554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44" name=""/>
                <p:cNvGrpSpPr/>
                <p:nvPr/>
              </p:nvGrpSpPr>
              <p:grpSpPr>
                <a:xfrm>
                  <a:off x="6242040" y="3314880"/>
                  <a:ext cx="125280" cy="102600"/>
                  <a:chOff x="6242040" y="3314880"/>
                  <a:chExt cx="125280" cy="102600"/>
                </a:xfrm>
              </p:grpSpPr>
              <p:sp>
                <p:nvSpPr>
                  <p:cNvPr id="1945" name=""/>
                  <p:cNvSpPr/>
                  <p:nvPr/>
                </p:nvSpPr>
                <p:spPr>
                  <a:xfrm flipH="1" flipV="1">
                    <a:off x="6242040" y="3357360"/>
                    <a:ext cx="125280" cy="601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6" name=""/>
                  <p:cNvSpPr/>
                  <p:nvPr/>
                </p:nvSpPr>
                <p:spPr>
                  <a:xfrm flipV="1">
                    <a:off x="6254640" y="3314880"/>
                    <a:ext cx="100080" cy="554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47" name=""/>
            <p:cNvGrpSpPr/>
            <p:nvPr/>
          </p:nvGrpSpPr>
          <p:grpSpPr>
            <a:xfrm>
              <a:off x="6242040" y="2963880"/>
              <a:ext cx="240840" cy="363240"/>
              <a:chOff x="6242040" y="2963880"/>
              <a:chExt cx="240840" cy="363240"/>
            </a:xfrm>
          </p:grpSpPr>
          <p:grpSp>
            <p:nvGrpSpPr>
              <p:cNvPr id="1948" name=""/>
              <p:cNvGrpSpPr/>
              <p:nvPr/>
            </p:nvGrpSpPr>
            <p:grpSpPr>
              <a:xfrm>
                <a:off x="6242040" y="3139560"/>
                <a:ext cx="240840" cy="187560"/>
                <a:chOff x="6242040" y="3139560"/>
                <a:chExt cx="240840" cy="187560"/>
              </a:xfrm>
            </p:grpSpPr>
            <p:sp>
              <p:nvSpPr>
                <p:cNvPr id="1949" name=""/>
                <p:cNvSpPr/>
                <p:nvPr/>
              </p:nvSpPr>
              <p:spPr>
                <a:xfrm flipV="1">
                  <a:off x="6367320" y="3269880"/>
                  <a:ext cx="10332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 flipH="1" flipV="1">
                  <a:off x="6354360" y="3223800"/>
                  <a:ext cx="128520" cy="5868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51" name=""/>
                <p:cNvGrpSpPr/>
                <p:nvPr/>
              </p:nvGrpSpPr>
              <p:grpSpPr>
                <a:xfrm>
                  <a:off x="6242040" y="3139560"/>
                  <a:ext cx="125280" cy="96840"/>
                  <a:chOff x="6242040" y="3139560"/>
                  <a:chExt cx="125280" cy="96840"/>
                </a:xfrm>
              </p:grpSpPr>
              <p:sp>
                <p:nvSpPr>
                  <p:cNvPr id="1952" name=""/>
                  <p:cNvSpPr/>
                  <p:nvPr/>
                </p:nvSpPr>
                <p:spPr>
                  <a:xfrm flipH="1" flipV="1">
                    <a:off x="6242040" y="3184200"/>
                    <a:ext cx="125280" cy="52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3" name=""/>
                  <p:cNvSpPr/>
                  <p:nvPr/>
                </p:nvSpPr>
                <p:spPr>
                  <a:xfrm flipV="1">
                    <a:off x="6254640" y="3139560"/>
                    <a:ext cx="100080" cy="572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54" name=""/>
              <p:cNvGrpSpPr/>
              <p:nvPr/>
            </p:nvGrpSpPr>
            <p:grpSpPr>
              <a:xfrm>
                <a:off x="6242040" y="2963880"/>
                <a:ext cx="240840" cy="188640"/>
                <a:chOff x="6242040" y="2963880"/>
                <a:chExt cx="240840" cy="188640"/>
              </a:xfrm>
            </p:grpSpPr>
            <p:sp>
              <p:nvSpPr>
                <p:cNvPr id="1955" name=""/>
                <p:cNvSpPr/>
                <p:nvPr/>
              </p:nvSpPr>
              <p:spPr>
                <a:xfrm flipV="1">
                  <a:off x="6367320" y="3095280"/>
                  <a:ext cx="10332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 flipH="1" flipV="1">
                  <a:off x="6354360" y="3050640"/>
                  <a:ext cx="12852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57" name=""/>
                <p:cNvGrpSpPr/>
                <p:nvPr/>
              </p:nvGrpSpPr>
              <p:grpSpPr>
                <a:xfrm>
                  <a:off x="6242040" y="2963880"/>
                  <a:ext cx="125280" cy="99720"/>
                  <a:chOff x="6242040" y="2963880"/>
                  <a:chExt cx="125280" cy="99720"/>
                </a:xfrm>
              </p:grpSpPr>
              <p:sp>
                <p:nvSpPr>
                  <p:cNvPr id="1958" name=""/>
                  <p:cNvSpPr/>
                  <p:nvPr/>
                </p:nvSpPr>
                <p:spPr>
                  <a:xfrm flipH="1" flipV="1">
                    <a:off x="6242040" y="3006360"/>
                    <a:ext cx="125280" cy="572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9" name=""/>
                  <p:cNvSpPr/>
                  <p:nvPr/>
                </p:nvSpPr>
                <p:spPr>
                  <a:xfrm flipV="1">
                    <a:off x="6254640" y="2963880"/>
                    <a:ext cx="100080" cy="554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60" name=""/>
            <p:cNvGrpSpPr/>
            <p:nvPr/>
          </p:nvGrpSpPr>
          <p:grpSpPr>
            <a:xfrm>
              <a:off x="6242040" y="2608200"/>
              <a:ext cx="240840" cy="368280"/>
              <a:chOff x="6242040" y="2608200"/>
              <a:chExt cx="240840" cy="368280"/>
            </a:xfrm>
          </p:grpSpPr>
          <p:grpSp>
            <p:nvGrpSpPr>
              <p:cNvPr id="1961" name=""/>
              <p:cNvGrpSpPr/>
              <p:nvPr/>
            </p:nvGrpSpPr>
            <p:grpSpPr>
              <a:xfrm>
                <a:off x="6242040" y="2787480"/>
                <a:ext cx="240840" cy="189000"/>
                <a:chOff x="6242040" y="2787480"/>
                <a:chExt cx="240840" cy="189000"/>
              </a:xfrm>
            </p:grpSpPr>
            <p:sp>
              <p:nvSpPr>
                <p:cNvPr id="1962" name=""/>
                <p:cNvSpPr/>
                <p:nvPr/>
              </p:nvSpPr>
              <p:spPr>
                <a:xfrm flipV="1">
                  <a:off x="6367320" y="2921040"/>
                  <a:ext cx="103320" cy="554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 flipH="1" flipV="1">
                  <a:off x="6354360" y="2876040"/>
                  <a:ext cx="12852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64" name=""/>
                <p:cNvGrpSpPr/>
                <p:nvPr/>
              </p:nvGrpSpPr>
              <p:grpSpPr>
                <a:xfrm>
                  <a:off x="6242040" y="2787480"/>
                  <a:ext cx="125280" cy="101880"/>
                  <a:chOff x="6242040" y="2787480"/>
                  <a:chExt cx="125280" cy="101880"/>
                </a:xfrm>
              </p:grpSpPr>
              <p:sp>
                <p:nvSpPr>
                  <p:cNvPr id="1965" name=""/>
                  <p:cNvSpPr/>
                  <p:nvPr/>
                </p:nvSpPr>
                <p:spPr>
                  <a:xfrm flipH="1" flipV="1">
                    <a:off x="6242040" y="2828880"/>
                    <a:ext cx="125280" cy="604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6" name=""/>
                  <p:cNvSpPr/>
                  <p:nvPr/>
                </p:nvSpPr>
                <p:spPr>
                  <a:xfrm flipV="1">
                    <a:off x="6254640" y="2787480"/>
                    <a:ext cx="100080" cy="54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7" name=""/>
              <p:cNvGrpSpPr/>
              <p:nvPr/>
            </p:nvGrpSpPr>
            <p:grpSpPr>
              <a:xfrm>
                <a:off x="6242040" y="2608200"/>
                <a:ext cx="240840" cy="192240"/>
                <a:chOff x="6242040" y="2608200"/>
                <a:chExt cx="240840" cy="192240"/>
              </a:xfrm>
            </p:grpSpPr>
            <p:sp>
              <p:nvSpPr>
                <p:cNvPr id="1968" name=""/>
                <p:cNvSpPr/>
                <p:nvPr/>
              </p:nvSpPr>
              <p:spPr>
                <a:xfrm flipV="1">
                  <a:off x="6367320" y="2739960"/>
                  <a:ext cx="103320" cy="6048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 flipH="1" flipV="1">
                  <a:off x="6354360" y="2701440"/>
                  <a:ext cx="128520" cy="507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70" name=""/>
                <p:cNvGrpSpPr/>
                <p:nvPr/>
              </p:nvGrpSpPr>
              <p:grpSpPr>
                <a:xfrm>
                  <a:off x="6242040" y="2608200"/>
                  <a:ext cx="125280" cy="106560"/>
                  <a:chOff x="6242040" y="2608200"/>
                  <a:chExt cx="125280" cy="106560"/>
                </a:xfrm>
              </p:grpSpPr>
              <p:sp>
                <p:nvSpPr>
                  <p:cNvPr id="1971" name=""/>
                  <p:cNvSpPr/>
                  <p:nvPr/>
                </p:nvSpPr>
                <p:spPr>
                  <a:xfrm flipH="1" flipV="1">
                    <a:off x="6242040" y="2655720"/>
                    <a:ext cx="125280" cy="590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2" name=""/>
                  <p:cNvSpPr/>
                  <p:nvPr/>
                </p:nvSpPr>
                <p:spPr>
                  <a:xfrm flipV="1">
                    <a:off x="6254640" y="2608200"/>
                    <a:ext cx="100080" cy="604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73" name=""/>
            <p:cNvGrpSpPr/>
            <p:nvPr/>
          </p:nvGrpSpPr>
          <p:grpSpPr>
            <a:xfrm>
              <a:off x="6242040" y="2255760"/>
              <a:ext cx="240840" cy="364680"/>
              <a:chOff x="6242040" y="2255760"/>
              <a:chExt cx="240840" cy="364680"/>
            </a:xfrm>
          </p:grpSpPr>
          <p:grpSp>
            <p:nvGrpSpPr>
              <p:cNvPr id="1974" name=""/>
              <p:cNvGrpSpPr/>
              <p:nvPr/>
            </p:nvGrpSpPr>
            <p:grpSpPr>
              <a:xfrm>
                <a:off x="6242040" y="2436480"/>
                <a:ext cx="240840" cy="183960"/>
                <a:chOff x="6242040" y="2436480"/>
                <a:chExt cx="240840" cy="183960"/>
              </a:xfrm>
            </p:grpSpPr>
            <p:sp>
              <p:nvSpPr>
                <p:cNvPr id="1975" name=""/>
                <p:cNvSpPr/>
                <p:nvPr/>
              </p:nvSpPr>
              <p:spPr>
                <a:xfrm flipV="1">
                  <a:off x="6367320" y="2566800"/>
                  <a:ext cx="103320" cy="536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 flipH="1" flipV="1">
                  <a:off x="6354360" y="2522160"/>
                  <a:ext cx="12852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77" name=""/>
                <p:cNvGrpSpPr/>
                <p:nvPr/>
              </p:nvGrpSpPr>
              <p:grpSpPr>
                <a:xfrm>
                  <a:off x="6242040" y="2436480"/>
                  <a:ext cx="125280" cy="98280"/>
                  <a:chOff x="6242040" y="2436480"/>
                  <a:chExt cx="125280" cy="98280"/>
                </a:xfrm>
              </p:grpSpPr>
              <p:sp>
                <p:nvSpPr>
                  <p:cNvPr id="1978" name=""/>
                  <p:cNvSpPr/>
                  <p:nvPr/>
                </p:nvSpPr>
                <p:spPr>
                  <a:xfrm flipH="1" flipV="1">
                    <a:off x="6242040" y="2476080"/>
                    <a:ext cx="125280" cy="586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9" name=""/>
                  <p:cNvSpPr/>
                  <p:nvPr/>
                </p:nvSpPr>
                <p:spPr>
                  <a:xfrm flipV="1">
                    <a:off x="6254640" y="2436480"/>
                    <a:ext cx="100080" cy="52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80" name=""/>
              <p:cNvGrpSpPr/>
              <p:nvPr/>
            </p:nvGrpSpPr>
            <p:grpSpPr>
              <a:xfrm>
                <a:off x="6242040" y="2255760"/>
                <a:ext cx="240840" cy="193320"/>
                <a:chOff x="6242040" y="2255760"/>
                <a:chExt cx="240840" cy="193320"/>
              </a:xfrm>
            </p:grpSpPr>
            <p:sp>
              <p:nvSpPr>
                <p:cNvPr id="1981" name=""/>
                <p:cNvSpPr/>
                <p:nvPr/>
              </p:nvSpPr>
              <p:spPr>
                <a:xfrm flipV="1">
                  <a:off x="6367320" y="2391840"/>
                  <a:ext cx="10332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 flipH="1" flipV="1">
                  <a:off x="6354360" y="2344680"/>
                  <a:ext cx="128520" cy="6048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83" name=""/>
                <p:cNvGrpSpPr/>
                <p:nvPr/>
              </p:nvGrpSpPr>
              <p:grpSpPr>
                <a:xfrm>
                  <a:off x="6242040" y="2255760"/>
                  <a:ext cx="125280" cy="101160"/>
                  <a:chOff x="6242040" y="2255760"/>
                  <a:chExt cx="125280" cy="101160"/>
                </a:xfrm>
              </p:grpSpPr>
              <p:sp>
                <p:nvSpPr>
                  <p:cNvPr id="1984" name=""/>
                  <p:cNvSpPr/>
                  <p:nvPr/>
                </p:nvSpPr>
                <p:spPr>
                  <a:xfrm flipH="1" flipV="1">
                    <a:off x="6242040" y="2303280"/>
                    <a:ext cx="125280" cy="53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5" name=""/>
                  <p:cNvSpPr/>
                  <p:nvPr/>
                </p:nvSpPr>
                <p:spPr>
                  <a:xfrm flipV="1">
                    <a:off x="6254640" y="2255760"/>
                    <a:ext cx="100080" cy="604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86" name=""/>
            <p:cNvSpPr/>
            <p:nvPr/>
          </p:nvSpPr>
          <p:spPr>
            <a:xfrm>
              <a:off x="6361200" y="3681360"/>
              <a:ext cx="0" cy="12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6361200" y="2139840"/>
              <a:ext cx="0" cy="1159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88" name=""/>
          <p:cNvGrpSpPr/>
          <p:nvPr/>
        </p:nvGrpSpPr>
        <p:grpSpPr>
          <a:xfrm>
            <a:off x="7079760" y="2139840"/>
            <a:ext cx="241920" cy="2502000"/>
            <a:chOff x="7079760" y="2139840"/>
            <a:chExt cx="241920" cy="2502000"/>
          </a:xfrm>
        </p:grpSpPr>
        <p:grpSp>
          <p:nvGrpSpPr>
            <p:cNvPr id="1989" name=""/>
            <p:cNvGrpSpPr/>
            <p:nvPr/>
          </p:nvGrpSpPr>
          <p:grpSpPr>
            <a:xfrm>
              <a:off x="7079760" y="3908520"/>
              <a:ext cx="241920" cy="542880"/>
              <a:chOff x="7079760" y="3908520"/>
              <a:chExt cx="241920" cy="542880"/>
            </a:xfrm>
          </p:grpSpPr>
          <p:grpSp>
            <p:nvGrpSpPr>
              <p:cNvPr id="1990" name=""/>
              <p:cNvGrpSpPr/>
              <p:nvPr/>
            </p:nvGrpSpPr>
            <p:grpSpPr>
              <a:xfrm>
                <a:off x="7079760" y="4174920"/>
                <a:ext cx="241920" cy="276480"/>
                <a:chOff x="7079760" y="4174920"/>
                <a:chExt cx="241920" cy="276480"/>
              </a:xfrm>
            </p:grpSpPr>
            <p:sp>
              <p:nvSpPr>
                <p:cNvPr id="1991" name=""/>
                <p:cNvSpPr/>
                <p:nvPr/>
              </p:nvSpPr>
              <p:spPr>
                <a:xfrm flipV="1">
                  <a:off x="7205760" y="4373640"/>
                  <a:ext cx="102960" cy="777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 flipH="1" flipV="1">
                  <a:off x="7192800" y="4309920"/>
                  <a:ext cx="128880" cy="7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93" name=""/>
                <p:cNvGrpSpPr/>
                <p:nvPr/>
              </p:nvGrpSpPr>
              <p:grpSpPr>
                <a:xfrm>
                  <a:off x="7079760" y="4174920"/>
                  <a:ext cx="125640" cy="147960"/>
                  <a:chOff x="7079760" y="4174920"/>
                  <a:chExt cx="125640" cy="147960"/>
                </a:xfrm>
              </p:grpSpPr>
              <p:sp>
                <p:nvSpPr>
                  <p:cNvPr id="1994" name=""/>
                  <p:cNvSpPr/>
                  <p:nvPr/>
                </p:nvSpPr>
                <p:spPr>
                  <a:xfrm flipH="1" flipV="1">
                    <a:off x="7079760" y="4237200"/>
                    <a:ext cx="125640" cy="856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5" name=""/>
                  <p:cNvSpPr/>
                  <p:nvPr/>
                </p:nvSpPr>
                <p:spPr>
                  <a:xfrm flipV="1">
                    <a:off x="7093080" y="4174920"/>
                    <a:ext cx="99720" cy="745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6" name=""/>
              <p:cNvGrpSpPr/>
              <p:nvPr/>
            </p:nvGrpSpPr>
            <p:grpSpPr>
              <a:xfrm>
                <a:off x="7079760" y="3908520"/>
                <a:ext cx="241920" cy="279000"/>
                <a:chOff x="7079760" y="3908520"/>
                <a:chExt cx="241920" cy="279000"/>
              </a:xfrm>
            </p:grpSpPr>
            <p:sp>
              <p:nvSpPr>
                <p:cNvPr id="1997" name=""/>
                <p:cNvSpPr/>
                <p:nvPr/>
              </p:nvSpPr>
              <p:spPr>
                <a:xfrm flipV="1">
                  <a:off x="7205760" y="4107960"/>
                  <a:ext cx="102960" cy="79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 flipH="1" flipV="1">
                  <a:off x="7192800" y="4044960"/>
                  <a:ext cx="128880" cy="7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99" name=""/>
                <p:cNvGrpSpPr/>
                <p:nvPr/>
              </p:nvGrpSpPr>
              <p:grpSpPr>
                <a:xfrm>
                  <a:off x="7079760" y="3908520"/>
                  <a:ext cx="125640" cy="148680"/>
                  <a:chOff x="7079760" y="3908520"/>
                  <a:chExt cx="125640" cy="148680"/>
                </a:xfrm>
              </p:grpSpPr>
              <p:sp>
                <p:nvSpPr>
                  <p:cNvPr id="2000" name=""/>
                  <p:cNvSpPr/>
                  <p:nvPr/>
                </p:nvSpPr>
                <p:spPr>
                  <a:xfrm flipH="1" flipV="1">
                    <a:off x="7079760" y="3973320"/>
                    <a:ext cx="125640" cy="838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1" name=""/>
                  <p:cNvSpPr/>
                  <p:nvPr/>
                </p:nvSpPr>
                <p:spPr>
                  <a:xfrm flipV="1">
                    <a:off x="7093080" y="3908520"/>
                    <a:ext cx="99720" cy="777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02" name=""/>
            <p:cNvGrpSpPr/>
            <p:nvPr/>
          </p:nvGrpSpPr>
          <p:grpSpPr>
            <a:xfrm>
              <a:off x="7079760" y="3382920"/>
              <a:ext cx="241920" cy="538200"/>
              <a:chOff x="7079760" y="3382920"/>
              <a:chExt cx="241920" cy="538200"/>
            </a:xfrm>
          </p:grpSpPr>
          <p:grpSp>
            <p:nvGrpSpPr>
              <p:cNvPr id="2003" name=""/>
              <p:cNvGrpSpPr/>
              <p:nvPr/>
            </p:nvGrpSpPr>
            <p:grpSpPr>
              <a:xfrm>
                <a:off x="7079760" y="3646080"/>
                <a:ext cx="241920" cy="275040"/>
                <a:chOff x="7079760" y="3646080"/>
                <a:chExt cx="241920" cy="275040"/>
              </a:xfrm>
            </p:grpSpPr>
            <p:sp>
              <p:nvSpPr>
                <p:cNvPr id="2004" name=""/>
                <p:cNvSpPr/>
                <p:nvPr/>
              </p:nvSpPr>
              <p:spPr>
                <a:xfrm flipV="1">
                  <a:off x="7205760" y="3841920"/>
                  <a:ext cx="102960" cy="792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 flipH="1" flipV="1">
                  <a:off x="7192800" y="3773160"/>
                  <a:ext cx="128880" cy="81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06" name=""/>
                <p:cNvGrpSpPr/>
                <p:nvPr/>
              </p:nvGrpSpPr>
              <p:grpSpPr>
                <a:xfrm>
                  <a:off x="7079760" y="3646080"/>
                  <a:ext cx="125640" cy="139680"/>
                  <a:chOff x="7079760" y="3646080"/>
                  <a:chExt cx="125640" cy="139680"/>
                </a:xfrm>
              </p:grpSpPr>
              <p:sp>
                <p:nvSpPr>
                  <p:cNvPr id="2007" name=""/>
                  <p:cNvSpPr/>
                  <p:nvPr/>
                </p:nvSpPr>
                <p:spPr>
                  <a:xfrm flipH="1" flipV="1">
                    <a:off x="7079760" y="3712680"/>
                    <a:ext cx="125640" cy="730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8" name=""/>
                  <p:cNvSpPr/>
                  <p:nvPr/>
                </p:nvSpPr>
                <p:spPr>
                  <a:xfrm flipV="1">
                    <a:off x="7093080" y="3646080"/>
                    <a:ext cx="99720" cy="79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09" name=""/>
              <p:cNvGrpSpPr/>
              <p:nvPr/>
            </p:nvGrpSpPr>
            <p:grpSpPr>
              <a:xfrm>
                <a:off x="7079760" y="3382920"/>
                <a:ext cx="241920" cy="276120"/>
                <a:chOff x="7079760" y="3382920"/>
                <a:chExt cx="241920" cy="276120"/>
              </a:xfrm>
            </p:grpSpPr>
            <p:sp>
              <p:nvSpPr>
                <p:cNvPr id="2010" name=""/>
                <p:cNvSpPr/>
                <p:nvPr/>
              </p:nvSpPr>
              <p:spPr>
                <a:xfrm flipV="1">
                  <a:off x="7205760" y="3579840"/>
                  <a:ext cx="102960" cy="792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 flipH="1" flipV="1">
                  <a:off x="7192800" y="3513240"/>
                  <a:ext cx="128880" cy="792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12" name=""/>
                <p:cNvGrpSpPr/>
                <p:nvPr/>
              </p:nvGrpSpPr>
              <p:grpSpPr>
                <a:xfrm>
                  <a:off x="7079760" y="3382920"/>
                  <a:ext cx="125640" cy="142920"/>
                  <a:chOff x="7079760" y="3382920"/>
                  <a:chExt cx="125640" cy="142920"/>
                </a:xfrm>
              </p:grpSpPr>
              <p:sp>
                <p:nvSpPr>
                  <p:cNvPr id="2013" name=""/>
                  <p:cNvSpPr/>
                  <p:nvPr/>
                </p:nvSpPr>
                <p:spPr>
                  <a:xfrm flipH="1" flipV="1">
                    <a:off x="7079760" y="3446640"/>
                    <a:ext cx="125640" cy="79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4" name=""/>
                  <p:cNvSpPr/>
                  <p:nvPr/>
                </p:nvSpPr>
                <p:spPr>
                  <a:xfrm flipV="1">
                    <a:off x="7093080" y="3382920"/>
                    <a:ext cx="99720" cy="763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15" name=""/>
            <p:cNvGrpSpPr/>
            <p:nvPr/>
          </p:nvGrpSpPr>
          <p:grpSpPr>
            <a:xfrm>
              <a:off x="7079760" y="2849400"/>
              <a:ext cx="241920" cy="546120"/>
              <a:chOff x="7079760" y="2849400"/>
              <a:chExt cx="241920" cy="546120"/>
            </a:xfrm>
          </p:grpSpPr>
          <p:grpSp>
            <p:nvGrpSpPr>
              <p:cNvPr id="2016" name=""/>
              <p:cNvGrpSpPr/>
              <p:nvPr/>
            </p:nvGrpSpPr>
            <p:grpSpPr>
              <a:xfrm>
                <a:off x="7079760" y="3117600"/>
                <a:ext cx="241920" cy="277920"/>
                <a:chOff x="7079760" y="3117600"/>
                <a:chExt cx="241920" cy="277920"/>
              </a:xfrm>
            </p:grpSpPr>
            <p:sp>
              <p:nvSpPr>
                <p:cNvPr id="2017" name=""/>
                <p:cNvSpPr/>
                <p:nvPr/>
              </p:nvSpPr>
              <p:spPr>
                <a:xfrm flipV="1">
                  <a:off x="7205760" y="3317760"/>
                  <a:ext cx="102960" cy="777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 flipH="1" flipV="1">
                  <a:off x="7192800" y="3250800"/>
                  <a:ext cx="128880" cy="79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19" name=""/>
                <p:cNvGrpSpPr/>
                <p:nvPr/>
              </p:nvGrpSpPr>
              <p:grpSpPr>
                <a:xfrm>
                  <a:off x="7079760" y="3117600"/>
                  <a:ext cx="125640" cy="145800"/>
                  <a:chOff x="7079760" y="3117600"/>
                  <a:chExt cx="125640" cy="145800"/>
                </a:xfrm>
              </p:grpSpPr>
              <p:sp>
                <p:nvSpPr>
                  <p:cNvPr id="2020" name=""/>
                  <p:cNvSpPr/>
                  <p:nvPr/>
                </p:nvSpPr>
                <p:spPr>
                  <a:xfrm flipH="1" flipV="1">
                    <a:off x="7079760" y="3179520"/>
                    <a:ext cx="125640" cy="838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1" name=""/>
                  <p:cNvSpPr/>
                  <p:nvPr/>
                </p:nvSpPr>
                <p:spPr>
                  <a:xfrm flipV="1">
                    <a:off x="7093080" y="3117600"/>
                    <a:ext cx="99720" cy="745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22" name=""/>
              <p:cNvGrpSpPr/>
              <p:nvPr/>
            </p:nvGrpSpPr>
            <p:grpSpPr>
              <a:xfrm>
                <a:off x="7079760" y="2849400"/>
                <a:ext cx="241920" cy="281160"/>
                <a:chOff x="7079760" y="2849400"/>
                <a:chExt cx="241920" cy="281160"/>
              </a:xfrm>
            </p:grpSpPr>
            <p:sp>
              <p:nvSpPr>
                <p:cNvPr id="2023" name=""/>
                <p:cNvSpPr/>
                <p:nvPr/>
              </p:nvSpPr>
              <p:spPr>
                <a:xfrm flipV="1">
                  <a:off x="7205760" y="3046320"/>
                  <a:ext cx="102960" cy="84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 flipH="1" flipV="1">
                  <a:off x="7192800" y="2989440"/>
                  <a:ext cx="128880" cy="698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25" name=""/>
                <p:cNvGrpSpPr/>
                <p:nvPr/>
              </p:nvGrpSpPr>
              <p:grpSpPr>
                <a:xfrm>
                  <a:off x="7079760" y="2849400"/>
                  <a:ext cx="125640" cy="152640"/>
                  <a:chOff x="7079760" y="2849400"/>
                  <a:chExt cx="125640" cy="152640"/>
                </a:xfrm>
              </p:grpSpPr>
              <p:sp>
                <p:nvSpPr>
                  <p:cNvPr id="2026" name=""/>
                  <p:cNvSpPr/>
                  <p:nvPr/>
                </p:nvSpPr>
                <p:spPr>
                  <a:xfrm flipH="1" flipV="1">
                    <a:off x="7079760" y="2919240"/>
                    <a:ext cx="125640" cy="828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7" name=""/>
                  <p:cNvSpPr/>
                  <p:nvPr/>
                </p:nvSpPr>
                <p:spPr>
                  <a:xfrm flipV="1">
                    <a:off x="7093080" y="2849400"/>
                    <a:ext cx="99720" cy="828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28" name=""/>
            <p:cNvGrpSpPr/>
            <p:nvPr/>
          </p:nvGrpSpPr>
          <p:grpSpPr>
            <a:xfrm>
              <a:off x="7079760" y="2319120"/>
              <a:ext cx="241920" cy="543240"/>
              <a:chOff x="7079760" y="2319120"/>
              <a:chExt cx="241920" cy="543240"/>
            </a:xfrm>
          </p:grpSpPr>
          <p:grpSp>
            <p:nvGrpSpPr>
              <p:cNvPr id="2029" name=""/>
              <p:cNvGrpSpPr/>
              <p:nvPr/>
            </p:nvGrpSpPr>
            <p:grpSpPr>
              <a:xfrm>
                <a:off x="7079760" y="2590560"/>
                <a:ext cx="241920" cy="271800"/>
                <a:chOff x="7079760" y="2590560"/>
                <a:chExt cx="241920" cy="271800"/>
              </a:xfrm>
            </p:grpSpPr>
            <p:sp>
              <p:nvSpPr>
                <p:cNvPr id="2030" name=""/>
                <p:cNvSpPr/>
                <p:nvPr/>
              </p:nvSpPr>
              <p:spPr>
                <a:xfrm flipV="1">
                  <a:off x="7205760" y="2786040"/>
                  <a:ext cx="102960" cy="7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 flipH="1" flipV="1">
                  <a:off x="7192800" y="2719440"/>
                  <a:ext cx="128880" cy="792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32" name=""/>
                <p:cNvGrpSpPr/>
                <p:nvPr/>
              </p:nvGrpSpPr>
              <p:grpSpPr>
                <a:xfrm>
                  <a:off x="7079760" y="2590560"/>
                  <a:ext cx="125640" cy="141120"/>
                  <a:chOff x="7079760" y="2590560"/>
                  <a:chExt cx="125640" cy="141120"/>
                </a:xfrm>
              </p:grpSpPr>
              <p:sp>
                <p:nvSpPr>
                  <p:cNvPr id="2033" name=""/>
                  <p:cNvSpPr/>
                  <p:nvPr/>
                </p:nvSpPr>
                <p:spPr>
                  <a:xfrm flipH="1" flipV="1">
                    <a:off x="7079760" y="2650680"/>
                    <a:ext cx="125640" cy="81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4" name=""/>
                  <p:cNvSpPr/>
                  <p:nvPr/>
                </p:nvSpPr>
                <p:spPr>
                  <a:xfrm flipV="1">
                    <a:off x="7093080" y="2590560"/>
                    <a:ext cx="99720" cy="730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35" name=""/>
              <p:cNvGrpSpPr/>
              <p:nvPr/>
            </p:nvGrpSpPr>
            <p:grpSpPr>
              <a:xfrm>
                <a:off x="7079760" y="2319120"/>
                <a:ext cx="241920" cy="284040"/>
                <a:chOff x="7079760" y="2319120"/>
                <a:chExt cx="241920" cy="284040"/>
              </a:xfrm>
            </p:grpSpPr>
            <p:sp>
              <p:nvSpPr>
                <p:cNvPr id="2036" name=""/>
                <p:cNvSpPr/>
                <p:nvPr/>
              </p:nvSpPr>
              <p:spPr>
                <a:xfrm flipV="1">
                  <a:off x="7205760" y="2523600"/>
                  <a:ext cx="102960" cy="79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 flipH="1" flipV="1">
                  <a:off x="7192800" y="2454120"/>
                  <a:ext cx="128880" cy="828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38" name=""/>
                <p:cNvGrpSpPr/>
                <p:nvPr/>
              </p:nvGrpSpPr>
              <p:grpSpPr>
                <a:xfrm>
                  <a:off x="7079760" y="2319120"/>
                  <a:ext cx="125640" cy="147960"/>
                  <a:chOff x="7079760" y="2319120"/>
                  <a:chExt cx="125640" cy="147960"/>
                </a:xfrm>
              </p:grpSpPr>
              <p:sp>
                <p:nvSpPr>
                  <p:cNvPr id="2039" name=""/>
                  <p:cNvSpPr/>
                  <p:nvPr/>
                </p:nvSpPr>
                <p:spPr>
                  <a:xfrm flipH="1" flipV="1">
                    <a:off x="7079760" y="2390760"/>
                    <a:ext cx="125640" cy="763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0" name=""/>
                  <p:cNvSpPr/>
                  <p:nvPr/>
                </p:nvSpPr>
                <p:spPr>
                  <a:xfrm flipV="1">
                    <a:off x="7093080" y="2319120"/>
                    <a:ext cx="99720" cy="838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041" name=""/>
            <p:cNvSpPr/>
            <p:nvPr/>
          </p:nvSpPr>
          <p:spPr>
            <a:xfrm>
              <a:off x="7199280" y="4451400"/>
              <a:ext cx="0" cy="190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7199280" y="2139840"/>
              <a:ext cx="0" cy="1796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3" name=""/>
          <p:cNvSpPr/>
          <p:nvPr/>
        </p:nvSpPr>
        <p:spPr>
          <a:xfrm>
            <a:off x="6184800" y="2133720"/>
            <a:ext cx="35568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7023240" y="2133720"/>
            <a:ext cx="35532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7016760" y="4654440"/>
            <a:ext cx="368280" cy="292320"/>
          </a:xfrm>
          <a:prstGeom prst="rect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6178680" y="3809880"/>
            <a:ext cx="1434960" cy="0"/>
          </a:xfrm>
          <a:prstGeom prst="line">
            <a:avLst/>
          </a:prstGeom>
          <a:ln w="12600">
            <a:solidFill>
              <a:srgbClr val="fafd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6178680" y="4648320"/>
            <a:ext cx="1434960" cy="0"/>
          </a:xfrm>
          <a:prstGeom prst="line">
            <a:avLst/>
          </a:prstGeom>
          <a:ln w="12600">
            <a:solidFill>
              <a:srgbClr val="fafd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7317720" y="3559320"/>
            <a:ext cx="131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y =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7327440" y="4397400"/>
            <a:ext cx="14634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y = y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 flipV="1">
            <a:off x="7924680" y="2127240"/>
            <a:ext cx="0" cy="85104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7624080" y="2112840"/>
            <a:ext cx="963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j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6328440" y="257004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6719400" y="463536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5837040" y="1708200"/>
            <a:ext cx="1065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(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6661080" y="1703520"/>
            <a:ext cx="1065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(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6" name=""/>
              <p:cNvSpPr txBox="1"/>
              <p:nvPr/>
            </p:nvSpPr>
            <p:spPr>
              <a:xfrm>
                <a:off x="1557360" y="2529000"/>
                <a:ext cx="30351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y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57" name=""/>
          <p:cNvGrpSpPr/>
          <p:nvPr/>
        </p:nvGrpSpPr>
        <p:grpSpPr>
          <a:xfrm>
            <a:off x="1960560" y="3278160"/>
            <a:ext cx="2673720" cy="1177920"/>
            <a:chOff x="1960560" y="3278160"/>
            <a:chExt cx="2673720" cy="1177920"/>
          </a:xfrm>
        </p:grpSpPr>
        <mc:AlternateContent>
          <mc:Choice xmlns:a14="http://schemas.microsoft.com/office/drawing/2010/main" Requires="a14">
            <p:sp>
              <p:nvSpPr>
                <p:cNvPr id="2058" name=""/>
                <p:cNvSpPr txBox="1"/>
                <p:nvPr/>
              </p:nvSpPr>
              <p:spPr>
                <a:xfrm>
                  <a:off x="1960560" y="3851280"/>
                  <a:ext cx="230652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ky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y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r>
                        <m:t xml:space="preserve">y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59" name=""/>
            <p:cNvSpPr/>
            <p:nvPr/>
          </p:nvSpPr>
          <p:spPr>
            <a:xfrm>
              <a:off x="2125440" y="3278160"/>
              <a:ext cx="25088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 algn="r" rtl="1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ولی  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g = -ky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60" name=""/>
          <p:cNvSpPr/>
          <p:nvPr/>
        </p:nvSpPr>
        <p:spPr>
          <a:xfrm>
            <a:off x="522360" y="4549680"/>
            <a:ext cx="551808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را طوری انتخاب کنید که در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y = y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e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برابر با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U=0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 باش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1" name=""/>
              <p:cNvSpPr txBox="1"/>
              <p:nvPr/>
            </p:nvSpPr>
            <p:spPr>
              <a:xfrm>
                <a:off x="1544760" y="5295960"/>
                <a:ext cx="23050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y</m:t>
                        </m:r>
                      </m:e>
                      <m: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y</m:t>
                        </m:r>
                      </m:e>
                      <m: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2" name=""/>
              <p:cNvSpPr txBox="1"/>
              <p:nvPr/>
            </p:nvSpPr>
            <p:spPr>
              <a:xfrm>
                <a:off x="4762440" y="5295960"/>
                <a:ext cx="11494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y</m:t>
                        </m:r>
                      </m:e>
                      <m: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wedg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فنرهای قا ئم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4681440" cy="15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لذا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7" name=""/>
          <p:cNvGrpSpPr/>
          <p:nvPr/>
        </p:nvGrpSpPr>
        <p:grpSpPr>
          <a:xfrm>
            <a:off x="6242040" y="2139840"/>
            <a:ext cx="240840" cy="1663920"/>
            <a:chOff x="6242040" y="2139840"/>
            <a:chExt cx="240840" cy="1663920"/>
          </a:xfrm>
        </p:grpSpPr>
        <p:grpSp>
          <p:nvGrpSpPr>
            <p:cNvPr id="2068" name=""/>
            <p:cNvGrpSpPr/>
            <p:nvPr/>
          </p:nvGrpSpPr>
          <p:grpSpPr>
            <a:xfrm>
              <a:off x="6242040" y="3314880"/>
              <a:ext cx="240840" cy="366120"/>
              <a:chOff x="6242040" y="3314880"/>
              <a:chExt cx="240840" cy="366120"/>
            </a:xfrm>
          </p:grpSpPr>
          <p:grpSp>
            <p:nvGrpSpPr>
              <p:cNvPr id="2069" name=""/>
              <p:cNvGrpSpPr/>
              <p:nvPr/>
            </p:nvGrpSpPr>
            <p:grpSpPr>
              <a:xfrm>
                <a:off x="6242040" y="3492360"/>
                <a:ext cx="240840" cy="188640"/>
                <a:chOff x="6242040" y="3492360"/>
                <a:chExt cx="240840" cy="188640"/>
              </a:xfrm>
            </p:grpSpPr>
            <p:sp>
              <p:nvSpPr>
                <p:cNvPr id="2070" name=""/>
                <p:cNvSpPr/>
                <p:nvPr/>
              </p:nvSpPr>
              <p:spPr>
                <a:xfrm flipV="1">
                  <a:off x="6367320" y="3623760"/>
                  <a:ext cx="10332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H="1" flipV="1">
                  <a:off x="6354360" y="3583080"/>
                  <a:ext cx="128520" cy="54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72" name=""/>
                <p:cNvGrpSpPr/>
                <p:nvPr/>
              </p:nvGrpSpPr>
              <p:grpSpPr>
                <a:xfrm>
                  <a:off x="6242040" y="3492360"/>
                  <a:ext cx="125280" cy="103320"/>
                  <a:chOff x="6242040" y="3492360"/>
                  <a:chExt cx="125280" cy="103320"/>
                </a:xfrm>
              </p:grpSpPr>
              <p:sp>
                <p:nvSpPr>
                  <p:cNvPr id="2073" name=""/>
                  <p:cNvSpPr/>
                  <p:nvPr/>
                </p:nvSpPr>
                <p:spPr>
                  <a:xfrm flipH="1" flipV="1">
                    <a:off x="6242040" y="3533760"/>
                    <a:ext cx="125280" cy="619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4" name=""/>
                  <p:cNvSpPr/>
                  <p:nvPr/>
                </p:nvSpPr>
                <p:spPr>
                  <a:xfrm flipV="1">
                    <a:off x="6254640" y="3492360"/>
                    <a:ext cx="100080" cy="54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75" name=""/>
              <p:cNvGrpSpPr/>
              <p:nvPr/>
            </p:nvGrpSpPr>
            <p:grpSpPr>
              <a:xfrm>
                <a:off x="6242040" y="3314880"/>
                <a:ext cx="240840" cy="190080"/>
                <a:chOff x="6242040" y="3314880"/>
                <a:chExt cx="240840" cy="190080"/>
              </a:xfrm>
            </p:grpSpPr>
            <p:sp>
              <p:nvSpPr>
                <p:cNvPr id="2076" name=""/>
                <p:cNvSpPr/>
                <p:nvPr/>
              </p:nvSpPr>
              <p:spPr>
                <a:xfrm flipV="1">
                  <a:off x="6367320" y="3447720"/>
                  <a:ext cx="10332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H="1" flipV="1">
                  <a:off x="6354360" y="3405240"/>
                  <a:ext cx="128520" cy="554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78" name=""/>
                <p:cNvGrpSpPr/>
                <p:nvPr/>
              </p:nvGrpSpPr>
              <p:grpSpPr>
                <a:xfrm>
                  <a:off x="6242040" y="3314880"/>
                  <a:ext cx="125280" cy="102600"/>
                  <a:chOff x="6242040" y="3314880"/>
                  <a:chExt cx="125280" cy="102600"/>
                </a:xfrm>
              </p:grpSpPr>
              <p:sp>
                <p:nvSpPr>
                  <p:cNvPr id="2079" name=""/>
                  <p:cNvSpPr/>
                  <p:nvPr/>
                </p:nvSpPr>
                <p:spPr>
                  <a:xfrm flipH="1" flipV="1">
                    <a:off x="6242040" y="3357360"/>
                    <a:ext cx="125280" cy="601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0" name=""/>
                  <p:cNvSpPr/>
                  <p:nvPr/>
                </p:nvSpPr>
                <p:spPr>
                  <a:xfrm flipV="1">
                    <a:off x="6254640" y="3314880"/>
                    <a:ext cx="100080" cy="554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81" name=""/>
            <p:cNvGrpSpPr/>
            <p:nvPr/>
          </p:nvGrpSpPr>
          <p:grpSpPr>
            <a:xfrm>
              <a:off x="6242040" y="2963880"/>
              <a:ext cx="240840" cy="363240"/>
              <a:chOff x="6242040" y="2963880"/>
              <a:chExt cx="240840" cy="363240"/>
            </a:xfrm>
          </p:grpSpPr>
          <p:grpSp>
            <p:nvGrpSpPr>
              <p:cNvPr id="2082" name=""/>
              <p:cNvGrpSpPr/>
              <p:nvPr/>
            </p:nvGrpSpPr>
            <p:grpSpPr>
              <a:xfrm>
                <a:off x="6242040" y="3139560"/>
                <a:ext cx="240840" cy="187560"/>
                <a:chOff x="6242040" y="3139560"/>
                <a:chExt cx="240840" cy="187560"/>
              </a:xfrm>
            </p:grpSpPr>
            <p:sp>
              <p:nvSpPr>
                <p:cNvPr id="2083" name=""/>
                <p:cNvSpPr/>
                <p:nvPr/>
              </p:nvSpPr>
              <p:spPr>
                <a:xfrm flipV="1">
                  <a:off x="6367320" y="3269880"/>
                  <a:ext cx="10332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H="1" flipV="1">
                  <a:off x="6354360" y="3223800"/>
                  <a:ext cx="128520" cy="5868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85" name=""/>
                <p:cNvGrpSpPr/>
                <p:nvPr/>
              </p:nvGrpSpPr>
              <p:grpSpPr>
                <a:xfrm>
                  <a:off x="6242040" y="3139560"/>
                  <a:ext cx="125280" cy="96840"/>
                  <a:chOff x="6242040" y="3139560"/>
                  <a:chExt cx="125280" cy="96840"/>
                </a:xfrm>
              </p:grpSpPr>
              <p:sp>
                <p:nvSpPr>
                  <p:cNvPr id="2086" name=""/>
                  <p:cNvSpPr/>
                  <p:nvPr/>
                </p:nvSpPr>
                <p:spPr>
                  <a:xfrm flipH="1" flipV="1">
                    <a:off x="6242040" y="3184200"/>
                    <a:ext cx="125280" cy="52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7" name=""/>
                  <p:cNvSpPr/>
                  <p:nvPr/>
                </p:nvSpPr>
                <p:spPr>
                  <a:xfrm flipV="1">
                    <a:off x="6254640" y="3139560"/>
                    <a:ext cx="100080" cy="572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88" name=""/>
              <p:cNvGrpSpPr/>
              <p:nvPr/>
            </p:nvGrpSpPr>
            <p:grpSpPr>
              <a:xfrm>
                <a:off x="6242040" y="2963880"/>
                <a:ext cx="240840" cy="188640"/>
                <a:chOff x="6242040" y="2963880"/>
                <a:chExt cx="240840" cy="188640"/>
              </a:xfrm>
            </p:grpSpPr>
            <p:sp>
              <p:nvSpPr>
                <p:cNvPr id="2089" name=""/>
                <p:cNvSpPr/>
                <p:nvPr/>
              </p:nvSpPr>
              <p:spPr>
                <a:xfrm flipV="1">
                  <a:off x="6367320" y="3095280"/>
                  <a:ext cx="10332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H="1" flipV="1">
                  <a:off x="6354360" y="3050640"/>
                  <a:ext cx="12852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91" name=""/>
                <p:cNvGrpSpPr/>
                <p:nvPr/>
              </p:nvGrpSpPr>
              <p:grpSpPr>
                <a:xfrm>
                  <a:off x="6242040" y="2963880"/>
                  <a:ext cx="125280" cy="99720"/>
                  <a:chOff x="6242040" y="2963880"/>
                  <a:chExt cx="125280" cy="99720"/>
                </a:xfrm>
              </p:grpSpPr>
              <p:sp>
                <p:nvSpPr>
                  <p:cNvPr id="2092" name=""/>
                  <p:cNvSpPr/>
                  <p:nvPr/>
                </p:nvSpPr>
                <p:spPr>
                  <a:xfrm flipH="1" flipV="1">
                    <a:off x="6242040" y="3006360"/>
                    <a:ext cx="125280" cy="572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3" name=""/>
                  <p:cNvSpPr/>
                  <p:nvPr/>
                </p:nvSpPr>
                <p:spPr>
                  <a:xfrm flipV="1">
                    <a:off x="6254640" y="2963880"/>
                    <a:ext cx="100080" cy="554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94" name=""/>
            <p:cNvGrpSpPr/>
            <p:nvPr/>
          </p:nvGrpSpPr>
          <p:grpSpPr>
            <a:xfrm>
              <a:off x="6242040" y="2608200"/>
              <a:ext cx="240840" cy="368280"/>
              <a:chOff x="6242040" y="2608200"/>
              <a:chExt cx="240840" cy="368280"/>
            </a:xfrm>
          </p:grpSpPr>
          <p:grpSp>
            <p:nvGrpSpPr>
              <p:cNvPr id="2095" name=""/>
              <p:cNvGrpSpPr/>
              <p:nvPr/>
            </p:nvGrpSpPr>
            <p:grpSpPr>
              <a:xfrm>
                <a:off x="6242040" y="2787480"/>
                <a:ext cx="240840" cy="189000"/>
                <a:chOff x="6242040" y="2787480"/>
                <a:chExt cx="240840" cy="189000"/>
              </a:xfrm>
            </p:grpSpPr>
            <p:sp>
              <p:nvSpPr>
                <p:cNvPr id="2096" name=""/>
                <p:cNvSpPr/>
                <p:nvPr/>
              </p:nvSpPr>
              <p:spPr>
                <a:xfrm flipV="1">
                  <a:off x="6367320" y="2921040"/>
                  <a:ext cx="103320" cy="554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 flipH="1" flipV="1">
                  <a:off x="6354360" y="2876040"/>
                  <a:ext cx="12852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98" name=""/>
                <p:cNvGrpSpPr/>
                <p:nvPr/>
              </p:nvGrpSpPr>
              <p:grpSpPr>
                <a:xfrm>
                  <a:off x="6242040" y="2787480"/>
                  <a:ext cx="125280" cy="101880"/>
                  <a:chOff x="6242040" y="2787480"/>
                  <a:chExt cx="125280" cy="101880"/>
                </a:xfrm>
              </p:grpSpPr>
              <p:sp>
                <p:nvSpPr>
                  <p:cNvPr id="2099" name=""/>
                  <p:cNvSpPr/>
                  <p:nvPr/>
                </p:nvSpPr>
                <p:spPr>
                  <a:xfrm flipH="1" flipV="1">
                    <a:off x="6242040" y="2828880"/>
                    <a:ext cx="125280" cy="604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0" name=""/>
                  <p:cNvSpPr/>
                  <p:nvPr/>
                </p:nvSpPr>
                <p:spPr>
                  <a:xfrm flipV="1">
                    <a:off x="6254640" y="2787480"/>
                    <a:ext cx="100080" cy="54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01" name=""/>
              <p:cNvGrpSpPr/>
              <p:nvPr/>
            </p:nvGrpSpPr>
            <p:grpSpPr>
              <a:xfrm>
                <a:off x="6242040" y="2608200"/>
                <a:ext cx="240840" cy="192240"/>
                <a:chOff x="6242040" y="2608200"/>
                <a:chExt cx="240840" cy="192240"/>
              </a:xfrm>
            </p:grpSpPr>
            <p:sp>
              <p:nvSpPr>
                <p:cNvPr id="2102" name=""/>
                <p:cNvSpPr/>
                <p:nvPr/>
              </p:nvSpPr>
              <p:spPr>
                <a:xfrm flipV="1">
                  <a:off x="6367320" y="2739960"/>
                  <a:ext cx="103320" cy="6048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 flipH="1" flipV="1">
                  <a:off x="6354360" y="2701440"/>
                  <a:ext cx="128520" cy="507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04" name=""/>
                <p:cNvGrpSpPr/>
                <p:nvPr/>
              </p:nvGrpSpPr>
              <p:grpSpPr>
                <a:xfrm>
                  <a:off x="6242040" y="2608200"/>
                  <a:ext cx="125280" cy="106560"/>
                  <a:chOff x="6242040" y="2608200"/>
                  <a:chExt cx="125280" cy="106560"/>
                </a:xfrm>
              </p:grpSpPr>
              <p:sp>
                <p:nvSpPr>
                  <p:cNvPr id="2105" name=""/>
                  <p:cNvSpPr/>
                  <p:nvPr/>
                </p:nvSpPr>
                <p:spPr>
                  <a:xfrm flipH="1" flipV="1">
                    <a:off x="6242040" y="2655720"/>
                    <a:ext cx="125280" cy="590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6" name=""/>
                  <p:cNvSpPr/>
                  <p:nvPr/>
                </p:nvSpPr>
                <p:spPr>
                  <a:xfrm flipV="1">
                    <a:off x="6254640" y="2608200"/>
                    <a:ext cx="100080" cy="604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07" name=""/>
            <p:cNvGrpSpPr/>
            <p:nvPr/>
          </p:nvGrpSpPr>
          <p:grpSpPr>
            <a:xfrm>
              <a:off x="6242040" y="2255760"/>
              <a:ext cx="240840" cy="364680"/>
              <a:chOff x="6242040" y="2255760"/>
              <a:chExt cx="240840" cy="364680"/>
            </a:xfrm>
          </p:grpSpPr>
          <p:grpSp>
            <p:nvGrpSpPr>
              <p:cNvPr id="2108" name=""/>
              <p:cNvGrpSpPr/>
              <p:nvPr/>
            </p:nvGrpSpPr>
            <p:grpSpPr>
              <a:xfrm>
                <a:off x="6242040" y="2436480"/>
                <a:ext cx="240840" cy="183960"/>
                <a:chOff x="6242040" y="2436480"/>
                <a:chExt cx="240840" cy="183960"/>
              </a:xfrm>
            </p:grpSpPr>
            <p:sp>
              <p:nvSpPr>
                <p:cNvPr id="2109" name=""/>
                <p:cNvSpPr/>
                <p:nvPr/>
              </p:nvSpPr>
              <p:spPr>
                <a:xfrm flipV="1">
                  <a:off x="6367320" y="2566800"/>
                  <a:ext cx="103320" cy="536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 flipH="1" flipV="1">
                  <a:off x="6354360" y="2522160"/>
                  <a:ext cx="12852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11" name=""/>
                <p:cNvGrpSpPr/>
                <p:nvPr/>
              </p:nvGrpSpPr>
              <p:grpSpPr>
                <a:xfrm>
                  <a:off x="6242040" y="2436480"/>
                  <a:ext cx="125280" cy="98280"/>
                  <a:chOff x="6242040" y="2436480"/>
                  <a:chExt cx="125280" cy="98280"/>
                </a:xfrm>
              </p:grpSpPr>
              <p:sp>
                <p:nvSpPr>
                  <p:cNvPr id="2112" name=""/>
                  <p:cNvSpPr/>
                  <p:nvPr/>
                </p:nvSpPr>
                <p:spPr>
                  <a:xfrm flipH="1" flipV="1">
                    <a:off x="6242040" y="2476080"/>
                    <a:ext cx="125280" cy="586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3" name=""/>
                  <p:cNvSpPr/>
                  <p:nvPr/>
                </p:nvSpPr>
                <p:spPr>
                  <a:xfrm flipV="1">
                    <a:off x="6254640" y="2436480"/>
                    <a:ext cx="100080" cy="52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14" name=""/>
              <p:cNvGrpSpPr/>
              <p:nvPr/>
            </p:nvGrpSpPr>
            <p:grpSpPr>
              <a:xfrm>
                <a:off x="6242040" y="2255760"/>
                <a:ext cx="240840" cy="193320"/>
                <a:chOff x="6242040" y="2255760"/>
                <a:chExt cx="240840" cy="193320"/>
              </a:xfrm>
            </p:grpSpPr>
            <p:sp>
              <p:nvSpPr>
                <p:cNvPr id="2115" name=""/>
                <p:cNvSpPr/>
                <p:nvPr/>
              </p:nvSpPr>
              <p:spPr>
                <a:xfrm flipV="1">
                  <a:off x="6367320" y="2391840"/>
                  <a:ext cx="10332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 flipH="1" flipV="1">
                  <a:off x="6354360" y="2344680"/>
                  <a:ext cx="128520" cy="6048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17" name=""/>
                <p:cNvGrpSpPr/>
                <p:nvPr/>
              </p:nvGrpSpPr>
              <p:grpSpPr>
                <a:xfrm>
                  <a:off x="6242040" y="2255760"/>
                  <a:ext cx="125280" cy="101160"/>
                  <a:chOff x="6242040" y="2255760"/>
                  <a:chExt cx="125280" cy="101160"/>
                </a:xfrm>
              </p:grpSpPr>
              <p:sp>
                <p:nvSpPr>
                  <p:cNvPr id="2118" name=""/>
                  <p:cNvSpPr/>
                  <p:nvPr/>
                </p:nvSpPr>
                <p:spPr>
                  <a:xfrm flipH="1" flipV="1">
                    <a:off x="6242040" y="2303280"/>
                    <a:ext cx="125280" cy="53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9" name=""/>
                  <p:cNvSpPr/>
                  <p:nvPr/>
                </p:nvSpPr>
                <p:spPr>
                  <a:xfrm flipV="1">
                    <a:off x="6254640" y="2255760"/>
                    <a:ext cx="100080" cy="604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120" name=""/>
            <p:cNvSpPr/>
            <p:nvPr/>
          </p:nvSpPr>
          <p:spPr>
            <a:xfrm>
              <a:off x="6361200" y="3681360"/>
              <a:ext cx="0" cy="12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6361200" y="2139840"/>
              <a:ext cx="0" cy="1159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2" name=""/>
          <p:cNvGrpSpPr/>
          <p:nvPr/>
        </p:nvGrpSpPr>
        <p:grpSpPr>
          <a:xfrm>
            <a:off x="7079760" y="2139840"/>
            <a:ext cx="241920" cy="2502000"/>
            <a:chOff x="7079760" y="2139840"/>
            <a:chExt cx="241920" cy="2502000"/>
          </a:xfrm>
        </p:grpSpPr>
        <p:grpSp>
          <p:nvGrpSpPr>
            <p:cNvPr id="2123" name=""/>
            <p:cNvGrpSpPr/>
            <p:nvPr/>
          </p:nvGrpSpPr>
          <p:grpSpPr>
            <a:xfrm>
              <a:off x="7079760" y="3908520"/>
              <a:ext cx="241920" cy="542880"/>
              <a:chOff x="7079760" y="3908520"/>
              <a:chExt cx="241920" cy="542880"/>
            </a:xfrm>
          </p:grpSpPr>
          <p:grpSp>
            <p:nvGrpSpPr>
              <p:cNvPr id="2124" name=""/>
              <p:cNvGrpSpPr/>
              <p:nvPr/>
            </p:nvGrpSpPr>
            <p:grpSpPr>
              <a:xfrm>
                <a:off x="7079760" y="4174920"/>
                <a:ext cx="241920" cy="276480"/>
                <a:chOff x="7079760" y="4174920"/>
                <a:chExt cx="241920" cy="276480"/>
              </a:xfrm>
            </p:grpSpPr>
            <p:sp>
              <p:nvSpPr>
                <p:cNvPr id="2125" name=""/>
                <p:cNvSpPr/>
                <p:nvPr/>
              </p:nvSpPr>
              <p:spPr>
                <a:xfrm flipV="1">
                  <a:off x="7205760" y="4373640"/>
                  <a:ext cx="102960" cy="777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 flipH="1" flipV="1">
                  <a:off x="7192800" y="4309920"/>
                  <a:ext cx="128880" cy="7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27" name=""/>
                <p:cNvGrpSpPr/>
                <p:nvPr/>
              </p:nvGrpSpPr>
              <p:grpSpPr>
                <a:xfrm>
                  <a:off x="7079760" y="4174920"/>
                  <a:ext cx="125640" cy="147960"/>
                  <a:chOff x="7079760" y="4174920"/>
                  <a:chExt cx="125640" cy="147960"/>
                </a:xfrm>
              </p:grpSpPr>
              <p:sp>
                <p:nvSpPr>
                  <p:cNvPr id="2128" name=""/>
                  <p:cNvSpPr/>
                  <p:nvPr/>
                </p:nvSpPr>
                <p:spPr>
                  <a:xfrm flipH="1" flipV="1">
                    <a:off x="7079760" y="4237200"/>
                    <a:ext cx="125640" cy="856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9" name=""/>
                  <p:cNvSpPr/>
                  <p:nvPr/>
                </p:nvSpPr>
                <p:spPr>
                  <a:xfrm flipV="1">
                    <a:off x="7093080" y="4174920"/>
                    <a:ext cx="99720" cy="745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30" name=""/>
              <p:cNvGrpSpPr/>
              <p:nvPr/>
            </p:nvGrpSpPr>
            <p:grpSpPr>
              <a:xfrm>
                <a:off x="7079760" y="3908520"/>
                <a:ext cx="241920" cy="279000"/>
                <a:chOff x="7079760" y="3908520"/>
                <a:chExt cx="241920" cy="279000"/>
              </a:xfrm>
            </p:grpSpPr>
            <p:sp>
              <p:nvSpPr>
                <p:cNvPr id="2131" name=""/>
                <p:cNvSpPr/>
                <p:nvPr/>
              </p:nvSpPr>
              <p:spPr>
                <a:xfrm flipV="1">
                  <a:off x="7205760" y="4107960"/>
                  <a:ext cx="102960" cy="79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 flipH="1" flipV="1">
                  <a:off x="7192800" y="4044960"/>
                  <a:ext cx="128880" cy="7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33" name=""/>
                <p:cNvGrpSpPr/>
                <p:nvPr/>
              </p:nvGrpSpPr>
              <p:grpSpPr>
                <a:xfrm>
                  <a:off x="7079760" y="3908520"/>
                  <a:ext cx="125640" cy="148680"/>
                  <a:chOff x="7079760" y="3908520"/>
                  <a:chExt cx="125640" cy="148680"/>
                </a:xfrm>
              </p:grpSpPr>
              <p:sp>
                <p:nvSpPr>
                  <p:cNvPr id="2134" name=""/>
                  <p:cNvSpPr/>
                  <p:nvPr/>
                </p:nvSpPr>
                <p:spPr>
                  <a:xfrm flipH="1" flipV="1">
                    <a:off x="7079760" y="3973320"/>
                    <a:ext cx="125640" cy="838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5" name=""/>
                  <p:cNvSpPr/>
                  <p:nvPr/>
                </p:nvSpPr>
                <p:spPr>
                  <a:xfrm flipV="1">
                    <a:off x="7093080" y="3908520"/>
                    <a:ext cx="99720" cy="777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36" name=""/>
            <p:cNvGrpSpPr/>
            <p:nvPr/>
          </p:nvGrpSpPr>
          <p:grpSpPr>
            <a:xfrm>
              <a:off x="7079760" y="3382920"/>
              <a:ext cx="241920" cy="538200"/>
              <a:chOff x="7079760" y="3382920"/>
              <a:chExt cx="241920" cy="538200"/>
            </a:xfrm>
          </p:grpSpPr>
          <p:grpSp>
            <p:nvGrpSpPr>
              <p:cNvPr id="2137" name=""/>
              <p:cNvGrpSpPr/>
              <p:nvPr/>
            </p:nvGrpSpPr>
            <p:grpSpPr>
              <a:xfrm>
                <a:off x="7079760" y="3646080"/>
                <a:ext cx="241920" cy="275040"/>
                <a:chOff x="7079760" y="3646080"/>
                <a:chExt cx="241920" cy="275040"/>
              </a:xfrm>
            </p:grpSpPr>
            <p:sp>
              <p:nvSpPr>
                <p:cNvPr id="2138" name=""/>
                <p:cNvSpPr/>
                <p:nvPr/>
              </p:nvSpPr>
              <p:spPr>
                <a:xfrm flipV="1">
                  <a:off x="7205760" y="3841920"/>
                  <a:ext cx="102960" cy="792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 flipH="1" flipV="1">
                  <a:off x="7192800" y="3773160"/>
                  <a:ext cx="128880" cy="81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40" name=""/>
                <p:cNvGrpSpPr/>
                <p:nvPr/>
              </p:nvGrpSpPr>
              <p:grpSpPr>
                <a:xfrm>
                  <a:off x="7079760" y="3646080"/>
                  <a:ext cx="125640" cy="139680"/>
                  <a:chOff x="7079760" y="3646080"/>
                  <a:chExt cx="125640" cy="139680"/>
                </a:xfrm>
              </p:grpSpPr>
              <p:sp>
                <p:nvSpPr>
                  <p:cNvPr id="2141" name=""/>
                  <p:cNvSpPr/>
                  <p:nvPr/>
                </p:nvSpPr>
                <p:spPr>
                  <a:xfrm flipH="1" flipV="1">
                    <a:off x="7079760" y="3712680"/>
                    <a:ext cx="125640" cy="730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2" name=""/>
                  <p:cNvSpPr/>
                  <p:nvPr/>
                </p:nvSpPr>
                <p:spPr>
                  <a:xfrm flipV="1">
                    <a:off x="7093080" y="3646080"/>
                    <a:ext cx="99720" cy="79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43" name=""/>
              <p:cNvGrpSpPr/>
              <p:nvPr/>
            </p:nvGrpSpPr>
            <p:grpSpPr>
              <a:xfrm>
                <a:off x="7079760" y="3382920"/>
                <a:ext cx="241920" cy="276120"/>
                <a:chOff x="7079760" y="3382920"/>
                <a:chExt cx="241920" cy="276120"/>
              </a:xfrm>
            </p:grpSpPr>
            <p:sp>
              <p:nvSpPr>
                <p:cNvPr id="2144" name=""/>
                <p:cNvSpPr/>
                <p:nvPr/>
              </p:nvSpPr>
              <p:spPr>
                <a:xfrm flipV="1">
                  <a:off x="7205760" y="3579840"/>
                  <a:ext cx="102960" cy="792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 flipH="1" flipV="1">
                  <a:off x="7192800" y="3513240"/>
                  <a:ext cx="128880" cy="792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46" name=""/>
                <p:cNvGrpSpPr/>
                <p:nvPr/>
              </p:nvGrpSpPr>
              <p:grpSpPr>
                <a:xfrm>
                  <a:off x="7079760" y="3382920"/>
                  <a:ext cx="125640" cy="142920"/>
                  <a:chOff x="7079760" y="3382920"/>
                  <a:chExt cx="125640" cy="142920"/>
                </a:xfrm>
              </p:grpSpPr>
              <p:sp>
                <p:nvSpPr>
                  <p:cNvPr id="2147" name=""/>
                  <p:cNvSpPr/>
                  <p:nvPr/>
                </p:nvSpPr>
                <p:spPr>
                  <a:xfrm flipH="1" flipV="1">
                    <a:off x="7079760" y="3446640"/>
                    <a:ext cx="125640" cy="79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8" name=""/>
                  <p:cNvSpPr/>
                  <p:nvPr/>
                </p:nvSpPr>
                <p:spPr>
                  <a:xfrm flipV="1">
                    <a:off x="7093080" y="3382920"/>
                    <a:ext cx="99720" cy="763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49" name=""/>
            <p:cNvGrpSpPr/>
            <p:nvPr/>
          </p:nvGrpSpPr>
          <p:grpSpPr>
            <a:xfrm>
              <a:off x="7079760" y="2849400"/>
              <a:ext cx="241920" cy="546120"/>
              <a:chOff x="7079760" y="2849400"/>
              <a:chExt cx="241920" cy="546120"/>
            </a:xfrm>
          </p:grpSpPr>
          <p:grpSp>
            <p:nvGrpSpPr>
              <p:cNvPr id="2150" name=""/>
              <p:cNvGrpSpPr/>
              <p:nvPr/>
            </p:nvGrpSpPr>
            <p:grpSpPr>
              <a:xfrm>
                <a:off x="7079760" y="3117600"/>
                <a:ext cx="241920" cy="277920"/>
                <a:chOff x="7079760" y="3117600"/>
                <a:chExt cx="241920" cy="277920"/>
              </a:xfrm>
            </p:grpSpPr>
            <p:sp>
              <p:nvSpPr>
                <p:cNvPr id="2151" name=""/>
                <p:cNvSpPr/>
                <p:nvPr/>
              </p:nvSpPr>
              <p:spPr>
                <a:xfrm flipV="1">
                  <a:off x="7205760" y="3317760"/>
                  <a:ext cx="102960" cy="777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 flipH="1" flipV="1">
                  <a:off x="7192800" y="3250800"/>
                  <a:ext cx="128880" cy="79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53" name=""/>
                <p:cNvGrpSpPr/>
                <p:nvPr/>
              </p:nvGrpSpPr>
              <p:grpSpPr>
                <a:xfrm>
                  <a:off x="7079760" y="3117600"/>
                  <a:ext cx="125640" cy="145800"/>
                  <a:chOff x="7079760" y="3117600"/>
                  <a:chExt cx="125640" cy="145800"/>
                </a:xfrm>
              </p:grpSpPr>
              <p:sp>
                <p:nvSpPr>
                  <p:cNvPr id="2154" name=""/>
                  <p:cNvSpPr/>
                  <p:nvPr/>
                </p:nvSpPr>
                <p:spPr>
                  <a:xfrm flipH="1" flipV="1">
                    <a:off x="7079760" y="3179520"/>
                    <a:ext cx="125640" cy="838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5" name=""/>
                  <p:cNvSpPr/>
                  <p:nvPr/>
                </p:nvSpPr>
                <p:spPr>
                  <a:xfrm flipV="1">
                    <a:off x="7093080" y="3117600"/>
                    <a:ext cx="99720" cy="745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56" name=""/>
              <p:cNvGrpSpPr/>
              <p:nvPr/>
            </p:nvGrpSpPr>
            <p:grpSpPr>
              <a:xfrm>
                <a:off x="7079760" y="2849400"/>
                <a:ext cx="241920" cy="281160"/>
                <a:chOff x="7079760" y="2849400"/>
                <a:chExt cx="241920" cy="281160"/>
              </a:xfrm>
            </p:grpSpPr>
            <p:sp>
              <p:nvSpPr>
                <p:cNvPr id="2157" name=""/>
                <p:cNvSpPr/>
                <p:nvPr/>
              </p:nvSpPr>
              <p:spPr>
                <a:xfrm flipV="1">
                  <a:off x="7205760" y="3046320"/>
                  <a:ext cx="102960" cy="84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 flipH="1" flipV="1">
                  <a:off x="7192800" y="2989440"/>
                  <a:ext cx="128880" cy="698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59" name=""/>
                <p:cNvGrpSpPr/>
                <p:nvPr/>
              </p:nvGrpSpPr>
              <p:grpSpPr>
                <a:xfrm>
                  <a:off x="7079760" y="2849400"/>
                  <a:ext cx="125640" cy="152640"/>
                  <a:chOff x="7079760" y="2849400"/>
                  <a:chExt cx="125640" cy="152640"/>
                </a:xfrm>
              </p:grpSpPr>
              <p:sp>
                <p:nvSpPr>
                  <p:cNvPr id="2160" name=""/>
                  <p:cNvSpPr/>
                  <p:nvPr/>
                </p:nvSpPr>
                <p:spPr>
                  <a:xfrm flipH="1" flipV="1">
                    <a:off x="7079760" y="2919240"/>
                    <a:ext cx="125640" cy="828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1" name=""/>
                  <p:cNvSpPr/>
                  <p:nvPr/>
                </p:nvSpPr>
                <p:spPr>
                  <a:xfrm flipV="1">
                    <a:off x="7093080" y="2849400"/>
                    <a:ext cx="99720" cy="828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62" name=""/>
            <p:cNvGrpSpPr/>
            <p:nvPr/>
          </p:nvGrpSpPr>
          <p:grpSpPr>
            <a:xfrm>
              <a:off x="7079760" y="2319120"/>
              <a:ext cx="241920" cy="543240"/>
              <a:chOff x="7079760" y="2319120"/>
              <a:chExt cx="241920" cy="543240"/>
            </a:xfrm>
          </p:grpSpPr>
          <p:grpSp>
            <p:nvGrpSpPr>
              <p:cNvPr id="2163" name=""/>
              <p:cNvGrpSpPr/>
              <p:nvPr/>
            </p:nvGrpSpPr>
            <p:grpSpPr>
              <a:xfrm>
                <a:off x="7079760" y="2590560"/>
                <a:ext cx="241920" cy="271800"/>
                <a:chOff x="7079760" y="2590560"/>
                <a:chExt cx="241920" cy="271800"/>
              </a:xfrm>
            </p:grpSpPr>
            <p:sp>
              <p:nvSpPr>
                <p:cNvPr id="2164" name=""/>
                <p:cNvSpPr/>
                <p:nvPr/>
              </p:nvSpPr>
              <p:spPr>
                <a:xfrm flipV="1">
                  <a:off x="7205760" y="2786040"/>
                  <a:ext cx="102960" cy="7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 flipH="1" flipV="1">
                  <a:off x="7192800" y="2719440"/>
                  <a:ext cx="128880" cy="792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66" name=""/>
                <p:cNvGrpSpPr/>
                <p:nvPr/>
              </p:nvGrpSpPr>
              <p:grpSpPr>
                <a:xfrm>
                  <a:off x="7079760" y="2590560"/>
                  <a:ext cx="125640" cy="141120"/>
                  <a:chOff x="7079760" y="2590560"/>
                  <a:chExt cx="125640" cy="141120"/>
                </a:xfrm>
              </p:grpSpPr>
              <p:sp>
                <p:nvSpPr>
                  <p:cNvPr id="2167" name=""/>
                  <p:cNvSpPr/>
                  <p:nvPr/>
                </p:nvSpPr>
                <p:spPr>
                  <a:xfrm flipH="1" flipV="1">
                    <a:off x="7079760" y="2650680"/>
                    <a:ext cx="125640" cy="81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8" name=""/>
                  <p:cNvSpPr/>
                  <p:nvPr/>
                </p:nvSpPr>
                <p:spPr>
                  <a:xfrm flipV="1">
                    <a:off x="7093080" y="2590560"/>
                    <a:ext cx="99720" cy="730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69" name=""/>
              <p:cNvGrpSpPr/>
              <p:nvPr/>
            </p:nvGrpSpPr>
            <p:grpSpPr>
              <a:xfrm>
                <a:off x="7079760" y="2319120"/>
                <a:ext cx="241920" cy="284040"/>
                <a:chOff x="7079760" y="2319120"/>
                <a:chExt cx="241920" cy="284040"/>
              </a:xfrm>
            </p:grpSpPr>
            <p:sp>
              <p:nvSpPr>
                <p:cNvPr id="2170" name=""/>
                <p:cNvSpPr/>
                <p:nvPr/>
              </p:nvSpPr>
              <p:spPr>
                <a:xfrm flipV="1">
                  <a:off x="7205760" y="2523600"/>
                  <a:ext cx="102960" cy="79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 flipH="1" flipV="1">
                  <a:off x="7192800" y="2454120"/>
                  <a:ext cx="128880" cy="828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72" name=""/>
                <p:cNvGrpSpPr/>
                <p:nvPr/>
              </p:nvGrpSpPr>
              <p:grpSpPr>
                <a:xfrm>
                  <a:off x="7079760" y="2319120"/>
                  <a:ext cx="125640" cy="147960"/>
                  <a:chOff x="7079760" y="2319120"/>
                  <a:chExt cx="125640" cy="147960"/>
                </a:xfrm>
              </p:grpSpPr>
              <p:sp>
                <p:nvSpPr>
                  <p:cNvPr id="2173" name=""/>
                  <p:cNvSpPr/>
                  <p:nvPr/>
                </p:nvSpPr>
                <p:spPr>
                  <a:xfrm flipH="1" flipV="1">
                    <a:off x="7079760" y="2390760"/>
                    <a:ext cx="125640" cy="763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4" name=""/>
                  <p:cNvSpPr/>
                  <p:nvPr/>
                </p:nvSpPr>
                <p:spPr>
                  <a:xfrm flipV="1">
                    <a:off x="7093080" y="2319120"/>
                    <a:ext cx="99720" cy="838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175" name=""/>
            <p:cNvSpPr/>
            <p:nvPr/>
          </p:nvSpPr>
          <p:spPr>
            <a:xfrm>
              <a:off x="7199280" y="4451400"/>
              <a:ext cx="0" cy="190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7199280" y="2139840"/>
              <a:ext cx="0" cy="1796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7" name=""/>
          <p:cNvSpPr/>
          <p:nvPr/>
        </p:nvSpPr>
        <p:spPr>
          <a:xfrm>
            <a:off x="6184800" y="2133720"/>
            <a:ext cx="35568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7023240" y="2133720"/>
            <a:ext cx="35532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7016760" y="4654440"/>
            <a:ext cx="368280" cy="292320"/>
          </a:xfrm>
          <a:prstGeom prst="rect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6178680" y="3809880"/>
            <a:ext cx="1434960" cy="0"/>
          </a:xfrm>
          <a:prstGeom prst="line">
            <a:avLst/>
          </a:prstGeom>
          <a:ln w="12600">
            <a:solidFill>
              <a:srgbClr val="fafd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6178680" y="4648320"/>
            <a:ext cx="1434960" cy="0"/>
          </a:xfrm>
          <a:prstGeom prst="line">
            <a:avLst/>
          </a:prstGeom>
          <a:ln w="12600">
            <a:solidFill>
              <a:srgbClr val="fafd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7317720" y="3559320"/>
            <a:ext cx="131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y =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7327440" y="4397400"/>
            <a:ext cx="14634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y = y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 flipV="1">
            <a:off x="7924680" y="2127240"/>
            <a:ext cx="0" cy="85104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7624080" y="2112840"/>
            <a:ext cx="963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j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6328440" y="257004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6719400" y="463536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5837040" y="1708200"/>
            <a:ext cx="1065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(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6661080" y="1703520"/>
            <a:ext cx="1065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(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90" name=""/>
          <p:cNvGraphicFramePr/>
          <p:nvPr/>
        </p:nvGraphicFramePr>
        <p:xfrm>
          <a:off x="1581120" y="2462040"/>
          <a:ext cx="2851200" cy="12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1120" y="2462040"/>
                    <a:ext cx="2851200" cy="12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2" name=""/>
          <p:cNvSpPr/>
          <p:nvPr/>
        </p:nvSpPr>
        <p:spPr>
          <a:xfrm>
            <a:off x="507960" y="6453360"/>
            <a:ext cx="203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2903400" y="3922560"/>
            <a:ext cx="3077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ی توان چنین نوشت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4" name=""/>
              <p:cNvSpPr txBox="1"/>
              <p:nvPr/>
            </p:nvSpPr>
            <p:spPr>
              <a:xfrm>
                <a:off x="1720800" y="4809960"/>
                <a:ext cx="17733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فنرهای قا ئم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856800" y="2960640"/>
            <a:ext cx="4700520" cy="15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لذا اگرمختصات جدید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y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را طوری انتخاب کنیم ک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y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0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شد یعن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 (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y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y - y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این صورت نتیجه ساده زیر بدست می آید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9" name=""/>
          <p:cNvGrpSpPr/>
          <p:nvPr/>
        </p:nvGrpSpPr>
        <p:grpSpPr>
          <a:xfrm>
            <a:off x="6242040" y="2139840"/>
            <a:ext cx="240840" cy="1663920"/>
            <a:chOff x="6242040" y="2139840"/>
            <a:chExt cx="240840" cy="1663920"/>
          </a:xfrm>
        </p:grpSpPr>
        <p:grpSp>
          <p:nvGrpSpPr>
            <p:cNvPr id="2200" name=""/>
            <p:cNvGrpSpPr/>
            <p:nvPr/>
          </p:nvGrpSpPr>
          <p:grpSpPr>
            <a:xfrm>
              <a:off x="6242040" y="3314880"/>
              <a:ext cx="240840" cy="366120"/>
              <a:chOff x="6242040" y="3314880"/>
              <a:chExt cx="240840" cy="366120"/>
            </a:xfrm>
          </p:grpSpPr>
          <p:grpSp>
            <p:nvGrpSpPr>
              <p:cNvPr id="2201" name=""/>
              <p:cNvGrpSpPr/>
              <p:nvPr/>
            </p:nvGrpSpPr>
            <p:grpSpPr>
              <a:xfrm>
                <a:off x="6242040" y="3492360"/>
                <a:ext cx="240840" cy="188640"/>
                <a:chOff x="6242040" y="3492360"/>
                <a:chExt cx="240840" cy="188640"/>
              </a:xfrm>
            </p:grpSpPr>
            <p:sp>
              <p:nvSpPr>
                <p:cNvPr id="2202" name=""/>
                <p:cNvSpPr/>
                <p:nvPr/>
              </p:nvSpPr>
              <p:spPr>
                <a:xfrm flipV="1">
                  <a:off x="6367320" y="3623760"/>
                  <a:ext cx="10332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 flipH="1" flipV="1">
                  <a:off x="6354360" y="3583080"/>
                  <a:ext cx="128520" cy="54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204" name=""/>
                <p:cNvGrpSpPr/>
                <p:nvPr/>
              </p:nvGrpSpPr>
              <p:grpSpPr>
                <a:xfrm>
                  <a:off x="6242040" y="3492360"/>
                  <a:ext cx="125280" cy="103320"/>
                  <a:chOff x="6242040" y="3492360"/>
                  <a:chExt cx="125280" cy="103320"/>
                </a:xfrm>
              </p:grpSpPr>
              <p:sp>
                <p:nvSpPr>
                  <p:cNvPr id="2205" name=""/>
                  <p:cNvSpPr/>
                  <p:nvPr/>
                </p:nvSpPr>
                <p:spPr>
                  <a:xfrm flipH="1" flipV="1">
                    <a:off x="6242040" y="3533760"/>
                    <a:ext cx="125280" cy="619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6" name=""/>
                  <p:cNvSpPr/>
                  <p:nvPr/>
                </p:nvSpPr>
                <p:spPr>
                  <a:xfrm flipV="1">
                    <a:off x="6254640" y="3492360"/>
                    <a:ext cx="100080" cy="54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07" name=""/>
              <p:cNvGrpSpPr/>
              <p:nvPr/>
            </p:nvGrpSpPr>
            <p:grpSpPr>
              <a:xfrm>
                <a:off x="6242040" y="3314880"/>
                <a:ext cx="240840" cy="190080"/>
                <a:chOff x="6242040" y="3314880"/>
                <a:chExt cx="240840" cy="190080"/>
              </a:xfrm>
            </p:grpSpPr>
            <p:sp>
              <p:nvSpPr>
                <p:cNvPr id="2208" name=""/>
                <p:cNvSpPr/>
                <p:nvPr/>
              </p:nvSpPr>
              <p:spPr>
                <a:xfrm flipV="1">
                  <a:off x="6367320" y="3447720"/>
                  <a:ext cx="10332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 flipH="1" flipV="1">
                  <a:off x="6354360" y="3405240"/>
                  <a:ext cx="128520" cy="554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210" name=""/>
                <p:cNvGrpSpPr/>
                <p:nvPr/>
              </p:nvGrpSpPr>
              <p:grpSpPr>
                <a:xfrm>
                  <a:off x="6242040" y="3314880"/>
                  <a:ext cx="125280" cy="102600"/>
                  <a:chOff x="6242040" y="3314880"/>
                  <a:chExt cx="125280" cy="102600"/>
                </a:xfrm>
              </p:grpSpPr>
              <p:sp>
                <p:nvSpPr>
                  <p:cNvPr id="2211" name=""/>
                  <p:cNvSpPr/>
                  <p:nvPr/>
                </p:nvSpPr>
                <p:spPr>
                  <a:xfrm flipH="1" flipV="1">
                    <a:off x="6242040" y="3357360"/>
                    <a:ext cx="125280" cy="601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2" name=""/>
                  <p:cNvSpPr/>
                  <p:nvPr/>
                </p:nvSpPr>
                <p:spPr>
                  <a:xfrm flipV="1">
                    <a:off x="6254640" y="3314880"/>
                    <a:ext cx="100080" cy="554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13" name=""/>
            <p:cNvGrpSpPr/>
            <p:nvPr/>
          </p:nvGrpSpPr>
          <p:grpSpPr>
            <a:xfrm>
              <a:off x="6242040" y="2963880"/>
              <a:ext cx="240840" cy="363240"/>
              <a:chOff x="6242040" y="2963880"/>
              <a:chExt cx="240840" cy="363240"/>
            </a:xfrm>
          </p:grpSpPr>
          <p:grpSp>
            <p:nvGrpSpPr>
              <p:cNvPr id="2214" name=""/>
              <p:cNvGrpSpPr/>
              <p:nvPr/>
            </p:nvGrpSpPr>
            <p:grpSpPr>
              <a:xfrm>
                <a:off x="6242040" y="3139560"/>
                <a:ext cx="240840" cy="187560"/>
                <a:chOff x="6242040" y="3139560"/>
                <a:chExt cx="240840" cy="187560"/>
              </a:xfrm>
            </p:grpSpPr>
            <p:sp>
              <p:nvSpPr>
                <p:cNvPr id="2215" name=""/>
                <p:cNvSpPr/>
                <p:nvPr/>
              </p:nvSpPr>
              <p:spPr>
                <a:xfrm flipV="1">
                  <a:off x="6367320" y="3269880"/>
                  <a:ext cx="10332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 flipH="1" flipV="1">
                  <a:off x="6354360" y="3223800"/>
                  <a:ext cx="128520" cy="5868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217" name=""/>
                <p:cNvGrpSpPr/>
                <p:nvPr/>
              </p:nvGrpSpPr>
              <p:grpSpPr>
                <a:xfrm>
                  <a:off x="6242040" y="3139560"/>
                  <a:ext cx="125280" cy="96840"/>
                  <a:chOff x="6242040" y="3139560"/>
                  <a:chExt cx="125280" cy="96840"/>
                </a:xfrm>
              </p:grpSpPr>
              <p:sp>
                <p:nvSpPr>
                  <p:cNvPr id="2218" name=""/>
                  <p:cNvSpPr/>
                  <p:nvPr/>
                </p:nvSpPr>
                <p:spPr>
                  <a:xfrm flipH="1" flipV="1">
                    <a:off x="6242040" y="3184200"/>
                    <a:ext cx="125280" cy="52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9" name=""/>
                  <p:cNvSpPr/>
                  <p:nvPr/>
                </p:nvSpPr>
                <p:spPr>
                  <a:xfrm flipV="1">
                    <a:off x="6254640" y="3139560"/>
                    <a:ext cx="100080" cy="572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20" name=""/>
              <p:cNvGrpSpPr/>
              <p:nvPr/>
            </p:nvGrpSpPr>
            <p:grpSpPr>
              <a:xfrm>
                <a:off x="6242040" y="2963880"/>
                <a:ext cx="240840" cy="188640"/>
                <a:chOff x="6242040" y="2963880"/>
                <a:chExt cx="240840" cy="188640"/>
              </a:xfrm>
            </p:grpSpPr>
            <p:sp>
              <p:nvSpPr>
                <p:cNvPr id="2221" name=""/>
                <p:cNvSpPr/>
                <p:nvPr/>
              </p:nvSpPr>
              <p:spPr>
                <a:xfrm flipV="1">
                  <a:off x="6367320" y="3095280"/>
                  <a:ext cx="10332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2" name=""/>
                <p:cNvSpPr/>
                <p:nvPr/>
              </p:nvSpPr>
              <p:spPr>
                <a:xfrm flipH="1" flipV="1">
                  <a:off x="6354360" y="3050640"/>
                  <a:ext cx="12852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223" name=""/>
                <p:cNvGrpSpPr/>
                <p:nvPr/>
              </p:nvGrpSpPr>
              <p:grpSpPr>
                <a:xfrm>
                  <a:off x="6242040" y="2963880"/>
                  <a:ext cx="125280" cy="99720"/>
                  <a:chOff x="6242040" y="2963880"/>
                  <a:chExt cx="125280" cy="99720"/>
                </a:xfrm>
              </p:grpSpPr>
              <p:sp>
                <p:nvSpPr>
                  <p:cNvPr id="2224" name=""/>
                  <p:cNvSpPr/>
                  <p:nvPr/>
                </p:nvSpPr>
                <p:spPr>
                  <a:xfrm flipH="1" flipV="1">
                    <a:off x="6242040" y="3006360"/>
                    <a:ext cx="125280" cy="572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5" name=""/>
                  <p:cNvSpPr/>
                  <p:nvPr/>
                </p:nvSpPr>
                <p:spPr>
                  <a:xfrm flipV="1">
                    <a:off x="6254640" y="2963880"/>
                    <a:ext cx="100080" cy="554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26" name=""/>
            <p:cNvGrpSpPr/>
            <p:nvPr/>
          </p:nvGrpSpPr>
          <p:grpSpPr>
            <a:xfrm>
              <a:off x="6242040" y="2608200"/>
              <a:ext cx="240840" cy="368280"/>
              <a:chOff x="6242040" y="2608200"/>
              <a:chExt cx="240840" cy="368280"/>
            </a:xfrm>
          </p:grpSpPr>
          <p:grpSp>
            <p:nvGrpSpPr>
              <p:cNvPr id="2227" name=""/>
              <p:cNvGrpSpPr/>
              <p:nvPr/>
            </p:nvGrpSpPr>
            <p:grpSpPr>
              <a:xfrm>
                <a:off x="6242040" y="2787480"/>
                <a:ext cx="240840" cy="189000"/>
                <a:chOff x="6242040" y="2787480"/>
                <a:chExt cx="240840" cy="189000"/>
              </a:xfrm>
            </p:grpSpPr>
            <p:sp>
              <p:nvSpPr>
                <p:cNvPr id="2228" name=""/>
                <p:cNvSpPr/>
                <p:nvPr/>
              </p:nvSpPr>
              <p:spPr>
                <a:xfrm flipV="1">
                  <a:off x="6367320" y="2921040"/>
                  <a:ext cx="103320" cy="554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 flipH="1" flipV="1">
                  <a:off x="6354360" y="2876040"/>
                  <a:ext cx="12852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230" name=""/>
                <p:cNvGrpSpPr/>
                <p:nvPr/>
              </p:nvGrpSpPr>
              <p:grpSpPr>
                <a:xfrm>
                  <a:off x="6242040" y="2787480"/>
                  <a:ext cx="125280" cy="101880"/>
                  <a:chOff x="6242040" y="2787480"/>
                  <a:chExt cx="125280" cy="101880"/>
                </a:xfrm>
              </p:grpSpPr>
              <p:sp>
                <p:nvSpPr>
                  <p:cNvPr id="2231" name=""/>
                  <p:cNvSpPr/>
                  <p:nvPr/>
                </p:nvSpPr>
                <p:spPr>
                  <a:xfrm flipH="1" flipV="1">
                    <a:off x="6242040" y="2828880"/>
                    <a:ext cx="125280" cy="604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2" name=""/>
                  <p:cNvSpPr/>
                  <p:nvPr/>
                </p:nvSpPr>
                <p:spPr>
                  <a:xfrm flipV="1">
                    <a:off x="6254640" y="2787480"/>
                    <a:ext cx="100080" cy="54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33" name=""/>
              <p:cNvGrpSpPr/>
              <p:nvPr/>
            </p:nvGrpSpPr>
            <p:grpSpPr>
              <a:xfrm>
                <a:off x="6242040" y="2608200"/>
                <a:ext cx="240840" cy="192240"/>
                <a:chOff x="6242040" y="2608200"/>
                <a:chExt cx="240840" cy="192240"/>
              </a:xfrm>
            </p:grpSpPr>
            <p:sp>
              <p:nvSpPr>
                <p:cNvPr id="2234" name=""/>
                <p:cNvSpPr/>
                <p:nvPr/>
              </p:nvSpPr>
              <p:spPr>
                <a:xfrm flipV="1">
                  <a:off x="6367320" y="2739960"/>
                  <a:ext cx="103320" cy="6048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 flipH="1" flipV="1">
                  <a:off x="6354360" y="2701440"/>
                  <a:ext cx="128520" cy="507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236" name=""/>
                <p:cNvGrpSpPr/>
                <p:nvPr/>
              </p:nvGrpSpPr>
              <p:grpSpPr>
                <a:xfrm>
                  <a:off x="6242040" y="2608200"/>
                  <a:ext cx="125280" cy="106560"/>
                  <a:chOff x="6242040" y="2608200"/>
                  <a:chExt cx="125280" cy="106560"/>
                </a:xfrm>
              </p:grpSpPr>
              <p:sp>
                <p:nvSpPr>
                  <p:cNvPr id="2237" name=""/>
                  <p:cNvSpPr/>
                  <p:nvPr/>
                </p:nvSpPr>
                <p:spPr>
                  <a:xfrm flipH="1" flipV="1">
                    <a:off x="6242040" y="2655720"/>
                    <a:ext cx="125280" cy="590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8" name=""/>
                  <p:cNvSpPr/>
                  <p:nvPr/>
                </p:nvSpPr>
                <p:spPr>
                  <a:xfrm flipV="1">
                    <a:off x="6254640" y="2608200"/>
                    <a:ext cx="100080" cy="604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39" name=""/>
            <p:cNvGrpSpPr/>
            <p:nvPr/>
          </p:nvGrpSpPr>
          <p:grpSpPr>
            <a:xfrm>
              <a:off x="6242040" y="2255760"/>
              <a:ext cx="240840" cy="364680"/>
              <a:chOff x="6242040" y="2255760"/>
              <a:chExt cx="240840" cy="364680"/>
            </a:xfrm>
          </p:grpSpPr>
          <p:grpSp>
            <p:nvGrpSpPr>
              <p:cNvPr id="2240" name=""/>
              <p:cNvGrpSpPr/>
              <p:nvPr/>
            </p:nvGrpSpPr>
            <p:grpSpPr>
              <a:xfrm>
                <a:off x="6242040" y="2436480"/>
                <a:ext cx="240840" cy="183960"/>
                <a:chOff x="6242040" y="2436480"/>
                <a:chExt cx="240840" cy="183960"/>
              </a:xfrm>
            </p:grpSpPr>
            <p:sp>
              <p:nvSpPr>
                <p:cNvPr id="2241" name=""/>
                <p:cNvSpPr/>
                <p:nvPr/>
              </p:nvSpPr>
              <p:spPr>
                <a:xfrm flipV="1">
                  <a:off x="6367320" y="2566800"/>
                  <a:ext cx="103320" cy="536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2" name=""/>
                <p:cNvSpPr/>
                <p:nvPr/>
              </p:nvSpPr>
              <p:spPr>
                <a:xfrm flipH="1" flipV="1">
                  <a:off x="6354360" y="2522160"/>
                  <a:ext cx="12852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243" name=""/>
                <p:cNvGrpSpPr/>
                <p:nvPr/>
              </p:nvGrpSpPr>
              <p:grpSpPr>
                <a:xfrm>
                  <a:off x="6242040" y="2436480"/>
                  <a:ext cx="125280" cy="98280"/>
                  <a:chOff x="6242040" y="2436480"/>
                  <a:chExt cx="125280" cy="98280"/>
                </a:xfrm>
              </p:grpSpPr>
              <p:sp>
                <p:nvSpPr>
                  <p:cNvPr id="2244" name=""/>
                  <p:cNvSpPr/>
                  <p:nvPr/>
                </p:nvSpPr>
                <p:spPr>
                  <a:xfrm flipH="1" flipV="1">
                    <a:off x="6242040" y="2476080"/>
                    <a:ext cx="125280" cy="586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5" name=""/>
                  <p:cNvSpPr/>
                  <p:nvPr/>
                </p:nvSpPr>
                <p:spPr>
                  <a:xfrm flipV="1">
                    <a:off x="6254640" y="2436480"/>
                    <a:ext cx="100080" cy="52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46" name=""/>
              <p:cNvGrpSpPr/>
              <p:nvPr/>
            </p:nvGrpSpPr>
            <p:grpSpPr>
              <a:xfrm>
                <a:off x="6242040" y="2255760"/>
                <a:ext cx="240840" cy="193320"/>
                <a:chOff x="6242040" y="2255760"/>
                <a:chExt cx="240840" cy="193320"/>
              </a:xfrm>
            </p:grpSpPr>
            <p:sp>
              <p:nvSpPr>
                <p:cNvPr id="2247" name=""/>
                <p:cNvSpPr/>
                <p:nvPr/>
              </p:nvSpPr>
              <p:spPr>
                <a:xfrm flipV="1">
                  <a:off x="6367320" y="2391840"/>
                  <a:ext cx="10332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 flipH="1" flipV="1">
                  <a:off x="6354360" y="2344680"/>
                  <a:ext cx="128520" cy="6048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249" name=""/>
                <p:cNvGrpSpPr/>
                <p:nvPr/>
              </p:nvGrpSpPr>
              <p:grpSpPr>
                <a:xfrm>
                  <a:off x="6242040" y="2255760"/>
                  <a:ext cx="125280" cy="101160"/>
                  <a:chOff x="6242040" y="2255760"/>
                  <a:chExt cx="125280" cy="101160"/>
                </a:xfrm>
              </p:grpSpPr>
              <p:sp>
                <p:nvSpPr>
                  <p:cNvPr id="2250" name=""/>
                  <p:cNvSpPr/>
                  <p:nvPr/>
                </p:nvSpPr>
                <p:spPr>
                  <a:xfrm flipH="1" flipV="1">
                    <a:off x="6242040" y="2303280"/>
                    <a:ext cx="125280" cy="53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1" name=""/>
                  <p:cNvSpPr/>
                  <p:nvPr/>
                </p:nvSpPr>
                <p:spPr>
                  <a:xfrm flipV="1">
                    <a:off x="6254640" y="2255760"/>
                    <a:ext cx="100080" cy="604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252" name=""/>
            <p:cNvSpPr/>
            <p:nvPr/>
          </p:nvSpPr>
          <p:spPr>
            <a:xfrm>
              <a:off x="6361200" y="3681360"/>
              <a:ext cx="0" cy="12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361200" y="2139840"/>
              <a:ext cx="0" cy="1159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54" name=""/>
          <p:cNvGrpSpPr/>
          <p:nvPr/>
        </p:nvGrpSpPr>
        <p:grpSpPr>
          <a:xfrm>
            <a:off x="7079760" y="2139840"/>
            <a:ext cx="241920" cy="2502000"/>
            <a:chOff x="7079760" y="2139840"/>
            <a:chExt cx="241920" cy="2502000"/>
          </a:xfrm>
        </p:grpSpPr>
        <p:grpSp>
          <p:nvGrpSpPr>
            <p:cNvPr id="2255" name=""/>
            <p:cNvGrpSpPr/>
            <p:nvPr/>
          </p:nvGrpSpPr>
          <p:grpSpPr>
            <a:xfrm>
              <a:off x="7079760" y="3908520"/>
              <a:ext cx="241920" cy="542880"/>
              <a:chOff x="7079760" y="3908520"/>
              <a:chExt cx="241920" cy="542880"/>
            </a:xfrm>
          </p:grpSpPr>
          <p:grpSp>
            <p:nvGrpSpPr>
              <p:cNvPr id="2256" name=""/>
              <p:cNvGrpSpPr/>
              <p:nvPr/>
            </p:nvGrpSpPr>
            <p:grpSpPr>
              <a:xfrm>
                <a:off x="7079760" y="4174920"/>
                <a:ext cx="241920" cy="276480"/>
                <a:chOff x="7079760" y="4174920"/>
                <a:chExt cx="241920" cy="276480"/>
              </a:xfrm>
            </p:grpSpPr>
            <p:sp>
              <p:nvSpPr>
                <p:cNvPr id="2257" name=""/>
                <p:cNvSpPr/>
                <p:nvPr/>
              </p:nvSpPr>
              <p:spPr>
                <a:xfrm flipV="1">
                  <a:off x="7205760" y="4373640"/>
                  <a:ext cx="102960" cy="777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 flipH="1" flipV="1">
                  <a:off x="7192800" y="4309920"/>
                  <a:ext cx="128880" cy="7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259" name=""/>
                <p:cNvGrpSpPr/>
                <p:nvPr/>
              </p:nvGrpSpPr>
              <p:grpSpPr>
                <a:xfrm>
                  <a:off x="7079760" y="4174920"/>
                  <a:ext cx="125640" cy="147960"/>
                  <a:chOff x="7079760" y="4174920"/>
                  <a:chExt cx="125640" cy="147960"/>
                </a:xfrm>
              </p:grpSpPr>
              <p:sp>
                <p:nvSpPr>
                  <p:cNvPr id="2260" name=""/>
                  <p:cNvSpPr/>
                  <p:nvPr/>
                </p:nvSpPr>
                <p:spPr>
                  <a:xfrm flipH="1" flipV="1">
                    <a:off x="7079760" y="4237200"/>
                    <a:ext cx="125640" cy="856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1" name=""/>
                  <p:cNvSpPr/>
                  <p:nvPr/>
                </p:nvSpPr>
                <p:spPr>
                  <a:xfrm flipV="1">
                    <a:off x="7093080" y="4174920"/>
                    <a:ext cx="99720" cy="745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62" name=""/>
              <p:cNvGrpSpPr/>
              <p:nvPr/>
            </p:nvGrpSpPr>
            <p:grpSpPr>
              <a:xfrm>
                <a:off x="7079760" y="3908520"/>
                <a:ext cx="241920" cy="279000"/>
                <a:chOff x="7079760" y="3908520"/>
                <a:chExt cx="241920" cy="279000"/>
              </a:xfrm>
            </p:grpSpPr>
            <p:sp>
              <p:nvSpPr>
                <p:cNvPr id="2263" name=""/>
                <p:cNvSpPr/>
                <p:nvPr/>
              </p:nvSpPr>
              <p:spPr>
                <a:xfrm flipV="1">
                  <a:off x="7205760" y="4107960"/>
                  <a:ext cx="102960" cy="79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 flipH="1" flipV="1">
                  <a:off x="7192800" y="4044960"/>
                  <a:ext cx="128880" cy="7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265" name=""/>
                <p:cNvGrpSpPr/>
                <p:nvPr/>
              </p:nvGrpSpPr>
              <p:grpSpPr>
                <a:xfrm>
                  <a:off x="7079760" y="3908520"/>
                  <a:ext cx="125640" cy="148680"/>
                  <a:chOff x="7079760" y="3908520"/>
                  <a:chExt cx="125640" cy="148680"/>
                </a:xfrm>
              </p:grpSpPr>
              <p:sp>
                <p:nvSpPr>
                  <p:cNvPr id="2266" name=""/>
                  <p:cNvSpPr/>
                  <p:nvPr/>
                </p:nvSpPr>
                <p:spPr>
                  <a:xfrm flipH="1" flipV="1">
                    <a:off x="7079760" y="3973320"/>
                    <a:ext cx="125640" cy="838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7" name=""/>
                  <p:cNvSpPr/>
                  <p:nvPr/>
                </p:nvSpPr>
                <p:spPr>
                  <a:xfrm flipV="1">
                    <a:off x="7093080" y="3908520"/>
                    <a:ext cx="99720" cy="777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68" name=""/>
            <p:cNvGrpSpPr/>
            <p:nvPr/>
          </p:nvGrpSpPr>
          <p:grpSpPr>
            <a:xfrm>
              <a:off x="7079760" y="3382920"/>
              <a:ext cx="241920" cy="538200"/>
              <a:chOff x="7079760" y="3382920"/>
              <a:chExt cx="241920" cy="538200"/>
            </a:xfrm>
          </p:grpSpPr>
          <p:grpSp>
            <p:nvGrpSpPr>
              <p:cNvPr id="2269" name=""/>
              <p:cNvGrpSpPr/>
              <p:nvPr/>
            </p:nvGrpSpPr>
            <p:grpSpPr>
              <a:xfrm>
                <a:off x="7079760" y="3646080"/>
                <a:ext cx="241920" cy="275040"/>
                <a:chOff x="7079760" y="3646080"/>
                <a:chExt cx="241920" cy="275040"/>
              </a:xfrm>
            </p:grpSpPr>
            <p:sp>
              <p:nvSpPr>
                <p:cNvPr id="2270" name=""/>
                <p:cNvSpPr/>
                <p:nvPr/>
              </p:nvSpPr>
              <p:spPr>
                <a:xfrm flipV="1">
                  <a:off x="7205760" y="3841920"/>
                  <a:ext cx="102960" cy="792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 flipH="1" flipV="1">
                  <a:off x="7192800" y="3773160"/>
                  <a:ext cx="128880" cy="81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272" name=""/>
                <p:cNvGrpSpPr/>
                <p:nvPr/>
              </p:nvGrpSpPr>
              <p:grpSpPr>
                <a:xfrm>
                  <a:off x="7079760" y="3646080"/>
                  <a:ext cx="125640" cy="139680"/>
                  <a:chOff x="7079760" y="3646080"/>
                  <a:chExt cx="125640" cy="139680"/>
                </a:xfrm>
              </p:grpSpPr>
              <p:sp>
                <p:nvSpPr>
                  <p:cNvPr id="2273" name=""/>
                  <p:cNvSpPr/>
                  <p:nvPr/>
                </p:nvSpPr>
                <p:spPr>
                  <a:xfrm flipH="1" flipV="1">
                    <a:off x="7079760" y="3712680"/>
                    <a:ext cx="125640" cy="730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4" name=""/>
                  <p:cNvSpPr/>
                  <p:nvPr/>
                </p:nvSpPr>
                <p:spPr>
                  <a:xfrm flipV="1">
                    <a:off x="7093080" y="3646080"/>
                    <a:ext cx="99720" cy="79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75" name=""/>
              <p:cNvGrpSpPr/>
              <p:nvPr/>
            </p:nvGrpSpPr>
            <p:grpSpPr>
              <a:xfrm>
                <a:off x="7079760" y="3382920"/>
                <a:ext cx="241920" cy="276120"/>
                <a:chOff x="7079760" y="3382920"/>
                <a:chExt cx="241920" cy="276120"/>
              </a:xfrm>
            </p:grpSpPr>
            <p:sp>
              <p:nvSpPr>
                <p:cNvPr id="2276" name=""/>
                <p:cNvSpPr/>
                <p:nvPr/>
              </p:nvSpPr>
              <p:spPr>
                <a:xfrm flipV="1">
                  <a:off x="7205760" y="3579840"/>
                  <a:ext cx="102960" cy="792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 flipH="1" flipV="1">
                  <a:off x="7192800" y="3513240"/>
                  <a:ext cx="128880" cy="792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278" name=""/>
                <p:cNvGrpSpPr/>
                <p:nvPr/>
              </p:nvGrpSpPr>
              <p:grpSpPr>
                <a:xfrm>
                  <a:off x="7079760" y="3382920"/>
                  <a:ext cx="125640" cy="142920"/>
                  <a:chOff x="7079760" y="3382920"/>
                  <a:chExt cx="125640" cy="142920"/>
                </a:xfrm>
              </p:grpSpPr>
              <p:sp>
                <p:nvSpPr>
                  <p:cNvPr id="2279" name=""/>
                  <p:cNvSpPr/>
                  <p:nvPr/>
                </p:nvSpPr>
                <p:spPr>
                  <a:xfrm flipH="1" flipV="1">
                    <a:off x="7079760" y="3446640"/>
                    <a:ext cx="125640" cy="79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0" name=""/>
                  <p:cNvSpPr/>
                  <p:nvPr/>
                </p:nvSpPr>
                <p:spPr>
                  <a:xfrm flipV="1">
                    <a:off x="7093080" y="3382920"/>
                    <a:ext cx="99720" cy="763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81" name=""/>
            <p:cNvGrpSpPr/>
            <p:nvPr/>
          </p:nvGrpSpPr>
          <p:grpSpPr>
            <a:xfrm>
              <a:off x="7079760" y="2849400"/>
              <a:ext cx="241920" cy="546120"/>
              <a:chOff x="7079760" y="2849400"/>
              <a:chExt cx="241920" cy="546120"/>
            </a:xfrm>
          </p:grpSpPr>
          <p:grpSp>
            <p:nvGrpSpPr>
              <p:cNvPr id="2282" name=""/>
              <p:cNvGrpSpPr/>
              <p:nvPr/>
            </p:nvGrpSpPr>
            <p:grpSpPr>
              <a:xfrm>
                <a:off x="7079760" y="3117600"/>
                <a:ext cx="241920" cy="277920"/>
                <a:chOff x="7079760" y="3117600"/>
                <a:chExt cx="241920" cy="277920"/>
              </a:xfrm>
            </p:grpSpPr>
            <p:sp>
              <p:nvSpPr>
                <p:cNvPr id="2283" name=""/>
                <p:cNvSpPr/>
                <p:nvPr/>
              </p:nvSpPr>
              <p:spPr>
                <a:xfrm flipV="1">
                  <a:off x="7205760" y="3317760"/>
                  <a:ext cx="102960" cy="777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 flipH="1" flipV="1">
                  <a:off x="7192800" y="3250800"/>
                  <a:ext cx="128880" cy="79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285" name=""/>
                <p:cNvGrpSpPr/>
                <p:nvPr/>
              </p:nvGrpSpPr>
              <p:grpSpPr>
                <a:xfrm>
                  <a:off x="7079760" y="3117600"/>
                  <a:ext cx="125640" cy="145800"/>
                  <a:chOff x="7079760" y="3117600"/>
                  <a:chExt cx="125640" cy="145800"/>
                </a:xfrm>
              </p:grpSpPr>
              <p:sp>
                <p:nvSpPr>
                  <p:cNvPr id="2286" name=""/>
                  <p:cNvSpPr/>
                  <p:nvPr/>
                </p:nvSpPr>
                <p:spPr>
                  <a:xfrm flipH="1" flipV="1">
                    <a:off x="7079760" y="3179520"/>
                    <a:ext cx="125640" cy="838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7" name=""/>
                  <p:cNvSpPr/>
                  <p:nvPr/>
                </p:nvSpPr>
                <p:spPr>
                  <a:xfrm flipV="1">
                    <a:off x="7093080" y="3117600"/>
                    <a:ext cx="99720" cy="745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88" name=""/>
              <p:cNvGrpSpPr/>
              <p:nvPr/>
            </p:nvGrpSpPr>
            <p:grpSpPr>
              <a:xfrm>
                <a:off x="7079760" y="2849400"/>
                <a:ext cx="241920" cy="281160"/>
                <a:chOff x="7079760" y="2849400"/>
                <a:chExt cx="241920" cy="281160"/>
              </a:xfrm>
            </p:grpSpPr>
            <p:sp>
              <p:nvSpPr>
                <p:cNvPr id="2289" name=""/>
                <p:cNvSpPr/>
                <p:nvPr/>
              </p:nvSpPr>
              <p:spPr>
                <a:xfrm flipV="1">
                  <a:off x="7205760" y="3046320"/>
                  <a:ext cx="102960" cy="84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 flipH="1" flipV="1">
                  <a:off x="7192800" y="2989440"/>
                  <a:ext cx="128880" cy="698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291" name=""/>
                <p:cNvGrpSpPr/>
                <p:nvPr/>
              </p:nvGrpSpPr>
              <p:grpSpPr>
                <a:xfrm>
                  <a:off x="7079760" y="2849400"/>
                  <a:ext cx="125640" cy="152640"/>
                  <a:chOff x="7079760" y="2849400"/>
                  <a:chExt cx="125640" cy="152640"/>
                </a:xfrm>
              </p:grpSpPr>
              <p:sp>
                <p:nvSpPr>
                  <p:cNvPr id="2292" name=""/>
                  <p:cNvSpPr/>
                  <p:nvPr/>
                </p:nvSpPr>
                <p:spPr>
                  <a:xfrm flipH="1" flipV="1">
                    <a:off x="7079760" y="2919240"/>
                    <a:ext cx="125640" cy="828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3" name=""/>
                  <p:cNvSpPr/>
                  <p:nvPr/>
                </p:nvSpPr>
                <p:spPr>
                  <a:xfrm flipV="1">
                    <a:off x="7093080" y="2849400"/>
                    <a:ext cx="99720" cy="828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94" name=""/>
            <p:cNvGrpSpPr/>
            <p:nvPr/>
          </p:nvGrpSpPr>
          <p:grpSpPr>
            <a:xfrm>
              <a:off x="7079760" y="2319120"/>
              <a:ext cx="241920" cy="543240"/>
              <a:chOff x="7079760" y="2319120"/>
              <a:chExt cx="241920" cy="543240"/>
            </a:xfrm>
          </p:grpSpPr>
          <p:grpSp>
            <p:nvGrpSpPr>
              <p:cNvPr id="2295" name=""/>
              <p:cNvGrpSpPr/>
              <p:nvPr/>
            </p:nvGrpSpPr>
            <p:grpSpPr>
              <a:xfrm>
                <a:off x="7079760" y="2590560"/>
                <a:ext cx="241920" cy="271800"/>
                <a:chOff x="7079760" y="2590560"/>
                <a:chExt cx="241920" cy="271800"/>
              </a:xfrm>
            </p:grpSpPr>
            <p:sp>
              <p:nvSpPr>
                <p:cNvPr id="2296" name=""/>
                <p:cNvSpPr/>
                <p:nvPr/>
              </p:nvSpPr>
              <p:spPr>
                <a:xfrm flipV="1">
                  <a:off x="7205760" y="2786040"/>
                  <a:ext cx="102960" cy="7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 flipH="1" flipV="1">
                  <a:off x="7192800" y="2719440"/>
                  <a:ext cx="128880" cy="792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298" name=""/>
                <p:cNvGrpSpPr/>
                <p:nvPr/>
              </p:nvGrpSpPr>
              <p:grpSpPr>
                <a:xfrm>
                  <a:off x="7079760" y="2590560"/>
                  <a:ext cx="125640" cy="141120"/>
                  <a:chOff x="7079760" y="2590560"/>
                  <a:chExt cx="125640" cy="141120"/>
                </a:xfrm>
              </p:grpSpPr>
              <p:sp>
                <p:nvSpPr>
                  <p:cNvPr id="2299" name=""/>
                  <p:cNvSpPr/>
                  <p:nvPr/>
                </p:nvSpPr>
                <p:spPr>
                  <a:xfrm flipH="1" flipV="1">
                    <a:off x="7079760" y="2650680"/>
                    <a:ext cx="125640" cy="81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0" name=""/>
                  <p:cNvSpPr/>
                  <p:nvPr/>
                </p:nvSpPr>
                <p:spPr>
                  <a:xfrm flipV="1">
                    <a:off x="7093080" y="2590560"/>
                    <a:ext cx="99720" cy="730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01" name=""/>
              <p:cNvGrpSpPr/>
              <p:nvPr/>
            </p:nvGrpSpPr>
            <p:grpSpPr>
              <a:xfrm>
                <a:off x="7079760" y="2319120"/>
                <a:ext cx="241920" cy="284040"/>
                <a:chOff x="7079760" y="2319120"/>
                <a:chExt cx="241920" cy="284040"/>
              </a:xfrm>
            </p:grpSpPr>
            <p:sp>
              <p:nvSpPr>
                <p:cNvPr id="2302" name=""/>
                <p:cNvSpPr/>
                <p:nvPr/>
              </p:nvSpPr>
              <p:spPr>
                <a:xfrm flipV="1">
                  <a:off x="7205760" y="2523600"/>
                  <a:ext cx="102960" cy="79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 flipH="1" flipV="1">
                  <a:off x="7192800" y="2454120"/>
                  <a:ext cx="128880" cy="828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04" name=""/>
                <p:cNvGrpSpPr/>
                <p:nvPr/>
              </p:nvGrpSpPr>
              <p:grpSpPr>
                <a:xfrm>
                  <a:off x="7079760" y="2319120"/>
                  <a:ext cx="125640" cy="147960"/>
                  <a:chOff x="7079760" y="2319120"/>
                  <a:chExt cx="125640" cy="147960"/>
                </a:xfrm>
              </p:grpSpPr>
              <p:sp>
                <p:nvSpPr>
                  <p:cNvPr id="2305" name=""/>
                  <p:cNvSpPr/>
                  <p:nvPr/>
                </p:nvSpPr>
                <p:spPr>
                  <a:xfrm flipH="1" flipV="1">
                    <a:off x="7079760" y="2390760"/>
                    <a:ext cx="125640" cy="763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6" name=""/>
                  <p:cNvSpPr/>
                  <p:nvPr/>
                </p:nvSpPr>
                <p:spPr>
                  <a:xfrm flipV="1">
                    <a:off x="7093080" y="2319120"/>
                    <a:ext cx="99720" cy="838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307" name=""/>
            <p:cNvSpPr/>
            <p:nvPr/>
          </p:nvSpPr>
          <p:spPr>
            <a:xfrm>
              <a:off x="7199280" y="4451400"/>
              <a:ext cx="0" cy="190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7199280" y="2139840"/>
              <a:ext cx="0" cy="1796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9" name=""/>
          <p:cNvSpPr/>
          <p:nvPr/>
        </p:nvSpPr>
        <p:spPr>
          <a:xfrm>
            <a:off x="6184800" y="2133720"/>
            <a:ext cx="35568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7023240" y="2133720"/>
            <a:ext cx="35532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7016760" y="4654440"/>
            <a:ext cx="368280" cy="292320"/>
          </a:xfrm>
          <a:prstGeom prst="rect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6178680" y="3809880"/>
            <a:ext cx="1434960" cy="0"/>
          </a:xfrm>
          <a:prstGeom prst="line">
            <a:avLst/>
          </a:prstGeom>
          <a:ln w="12600">
            <a:solidFill>
              <a:srgbClr val="fafd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6178680" y="4648320"/>
            <a:ext cx="1434960" cy="0"/>
          </a:xfrm>
          <a:prstGeom prst="line">
            <a:avLst/>
          </a:prstGeom>
          <a:ln w="12600">
            <a:solidFill>
              <a:srgbClr val="fafd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7308720" y="4397400"/>
            <a:ext cx="1497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y</a:t>
            </a:r>
            <a:r>
              <a:rPr b="0" i="1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0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 flipV="1">
            <a:off x="7924680" y="2127240"/>
            <a:ext cx="0" cy="85104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7624080" y="2112840"/>
            <a:ext cx="963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j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6328440" y="257004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6719400" y="463536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5837040" y="1708200"/>
            <a:ext cx="1065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(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6661080" y="1703520"/>
            <a:ext cx="1065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(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1" name=""/>
              <p:cNvSpPr txBox="1"/>
              <p:nvPr/>
            </p:nvSpPr>
            <p:spPr>
              <a:xfrm>
                <a:off x="2049480" y="2120760"/>
                <a:ext cx="17715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2" name=""/>
              <p:cNvSpPr txBox="1"/>
              <p:nvPr/>
            </p:nvSpPr>
            <p:spPr>
              <a:xfrm>
                <a:off x="2514600" y="4699080"/>
                <a:ext cx="1163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ky</m:t>
                    </m:r>
                    <m:sSup>
                      <m:e>
                        <m:r>
                          <m:t xml:space="preserve"> 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3" name=""/>
          <p:cNvSpPr/>
          <p:nvPr/>
        </p:nvSpPr>
        <p:spPr>
          <a:xfrm>
            <a:off x="3038760" y="4749840"/>
            <a:ext cx="83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فنرهای قا ئم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27" name="PlaceHolder 2"/>
          <p:cNvSpPr>
            <a:spLocks noGrp="1"/>
          </p:cNvSpPr>
          <p:nvPr>
            <p:ph/>
          </p:nvPr>
        </p:nvSpPr>
        <p:spPr>
          <a:xfrm>
            <a:off x="871200" y="1795320"/>
            <a:ext cx="4700520" cy="15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4000"/>
          </a:bodyPr>
          <a:p>
            <a:pPr marL="154080" indent="-1540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گر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y = 0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ضعیت تعادل جسم آویزان باشد دراینصورت انرژی پتانسیل را می توانیم به گونه ساده زیر تعریف کنیم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7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54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54080" indent="-1540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وجه کنیدک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این عبارت ظاهر نمی شو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7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 انتخاب دستگاه مختصات و ثابتهای مناسب می توان آثار جاذبه را پنهان کرد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8" name=""/>
          <p:cNvGrpSpPr/>
          <p:nvPr/>
        </p:nvGrpSpPr>
        <p:grpSpPr>
          <a:xfrm>
            <a:off x="6242040" y="2139840"/>
            <a:ext cx="240840" cy="1663920"/>
            <a:chOff x="6242040" y="2139840"/>
            <a:chExt cx="240840" cy="1663920"/>
          </a:xfrm>
        </p:grpSpPr>
        <p:grpSp>
          <p:nvGrpSpPr>
            <p:cNvPr id="2329" name=""/>
            <p:cNvGrpSpPr/>
            <p:nvPr/>
          </p:nvGrpSpPr>
          <p:grpSpPr>
            <a:xfrm>
              <a:off x="6242040" y="3314880"/>
              <a:ext cx="240840" cy="366120"/>
              <a:chOff x="6242040" y="3314880"/>
              <a:chExt cx="240840" cy="366120"/>
            </a:xfrm>
          </p:grpSpPr>
          <p:grpSp>
            <p:nvGrpSpPr>
              <p:cNvPr id="2330" name=""/>
              <p:cNvGrpSpPr/>
              <p:nvPr/>
            </p:nvGrpSpPr>
            <p:grpSpPr>
              <a:xfrm>
                <a:off x="6242040" y="3492360"/>
                <a:ext cx="240840" cy="188640"/>
                <a:chOff x="6242040" y="3492360"/>
                <a:chExt cx="240840" cy="188640"/>
              </a:xfrm>
            </p:grpSpPr>
            <p:sp>
              <p:nvSpPr>
                <p:cNvPr id="2331" name=""/>
                <p:cNvSpPr/>
                <p:nvPr/>
              </p:nvSpPr>
              <p:spPr>
                <a:xfrm flipV="1">
                  <a:off x="6367320" y="3623760"/>
                  <a:ext cx="10332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 flipH="1" flipV="1">
                  <a:off x="6354360" y="3583080"/>
                  <a:ext cx="128520" cy="54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33" name=""/>
                <p:cNvGrpSpPr/>
                <p:nvPr/>
              </p:nvGrpSpPr>
              <p:grpSpPr>
                <a:xfrm>
                  <a:off x="6242040" y="3492360"/>
                  <a:ext cx="125280" cy="103320"/>
                  <a:chOff x="6242040" y="3492360"/>
                  <a:chExt cx="125280" cy="103320"/>
                </a:xfrm>
              </p:grpSpPr>
              <p:sp>
                <p:nvSpPr>
                  <p:cNvPr id="2334" name=""/>
                  <p:cNvSpPr/>
                  <p:nvPr/>
                </p:nvSpPr>
                <p:spPr>
                  <a:xfrm flipH="1" flipV="1">
                    <a:off x="6242040" y="3533760"/>
                    <a:ext cx="125280" cy="619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5" name=""/>
                  <p:cNvSpPr/>
                  <p:nvPr/>
                </p:nvSpPr>
                <p:spPr>
                  <a:xfrm flipV="1">
                    <a:off x="6254640" y="3492360"/>
                    <a:ext cx="100080" cy="54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36" name=""/>
              <p:cNvGrpSpPr/>
              <p:nvPr/>
            </p:nvGrpSpPr>
            <p:grpSpPr>
              <a:xfrm>
                <a:off x="6242040" y="3314880"/>
                <a:ext cx="240840" cy="190080"/>
                <a:chOff x="6242040" y="3314880"/>
                <a:chExt cx="240840" cy="190080"/>
              </a:xfrm>
            </p:grpSpPr>
            <p:sp>
              <p:nvSpPr>
                <p:cNvPr id="2337" name=""/>
                <p:cNvSpPr/>
                <p:nvPr/>
              </p:nvSpPr>
              <p:spPr>
                <a:xfrm flipV="1">
                  <a:off x="6367320" y="3447720"/>
                  <a:ext cx="10332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 flipH="1" flipV="1">
                  <a:off x="6354360" y="3405240"/>
                  <a:ext cx="128520" cy="554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39" name=""/>
                <p:cNvGrpSpPr/>
                <p:nvPr/>
              </p:nvGrpSpPr>
              <p:grpSpPr>
                <a:xfrm>
                  <a:off x="6242040" y="3314880"/>
                  <a:ext cx="125280" cy="102600"/>
                  <a:chOff x="6242040" y="3314880"/>
                  <a:chExt cx="125280" cy="102600"/>
                </a:xfrm>
              </p:grpSpPr>
              <p:sp>
                <p:nvSpPr>
                  <p:cNvPr id="2340" name=""/>
                  <p:cNvSpPr/>
                  <p:nvPr/>
                </p:nvSpPr>
                <p:spPr>
                  <a:xfrm flipH="1" flipV="1">
                    <a:off x="6242040" y="3357360"/>
                    <a:ext cx="125280" cy="601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1" name=""/>
                  <p:cNvSpPr/>
                  <p:nvPr/>
                </p:nvSpPr>
                <p:spPr>
                  <a:xfrm flipV="1">
                    <a:off x="6254640" y="3314880"/>
                    <a:ext cx="100080" cy="554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42" name=""/>
            <p:cNvGrpSpPr/>
            <p:nvPr/>
          </p:nvGrpSpPr>
          <p:grpSpPr>
            <a:xfrm>
              <a:off x="6242040" y="2963880"/>
              <a:ext cx="240840" cy="363240"/>
              <a:chOff x="6242040" y="2963880"/>
              <a:chExt cx="240840" cy="363240"/>
            </a:xfrm>
          </p:grpSpPr>
          <p:grpSp>
            <p:nvGrpSpPr>
              <p:cNvPr id="2343" name=""/>
              <p:cNvGrpSpPr/>
              <p:nvPr/>
            </p:nvGrpSpPr>
            <p:grpSpPr>
              <a:xfrm>
                <a:off x="6242040" y="3139560"/>
                <a:ext cx="240840" cy="187560"/>
                <a:chOff x="6242040" y="3139560"/>
                <a:chExt cx="240840" cy="187560"/>
              </a:xfrm>
            </p:grpSpPr>
            <p:sp>
              <p:nvSpPr>
                <p:cNvPr id="2344" name=""/>
                <p:cNvSpPr/>
                <p:nvPr/>
              </p:nvSpPr>
              <p:spPr>
                <a:xfrm flipV="1">
                  <a:off x="6367320" y="3269880"/>
                  <a:ext cx="10332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 flipH="1" flipV="1">
                  <a:off x="6354360" y="3223800"/>
                  <a:ext cx="128520" cy="5868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46" name=""/>
                <p:cNvGrpSpPr/>
                <p:nvPr/>
              </p:nvGrpSpPr>
              <p:grpSpPr>
                <a:xfrm>
                  <a:off x="6242040" y="3139560"/>
                  <a:ext cx="125280" cy="96840"/>
                  <a:chOff x="6242040" y="3139560"/>
                  <a:chExt cx="125280" cy="96840"/>
                </a:xfrm>
              </p:grpSpPr>
              <p:sp>
                <p:nvSpPr>
                  <p:cNvPr id="2347" name=""/>
                  <p:cNvSpPr/>
                  <p:nvPr/>
                </p:nvSpPr>
                <p:spPr>
                  <a:xfrm flipH="1" flipV="1">
                    <a:off x="6242040" y="3184200"/>
                    <a:ext cx="125280" cy="52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8" name=""/>
                  <p:cNvSpPr/>
                  <p:nvPr/>
                </p:nvSpPr>
                <p:spPr>
                  <a:xfrm flipV="1">
                    <a:off x="6254640" y="3139560"/>
                    <a:ext cx="100080" cy="572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49" name=""/>
              <p:cNvGrpSpPr/>
              <p:nvPr/>
            </p:nvGrpSpPr>
            <p:grpSpPr>
              <a:xfrm>
                <a:off x="6242040" y="2963880"/>
                <a:ext cx="240840" cy="188640"/>
                <a:chOff x="6242040" y="2963880"/>
                <a:chExt cx="240840" cy="188640"/>
              </a:xfrm>
            </p:grpSpPr>
            <p:sp>
              <p:nvSpPr>
                <p:cNvPr id="2350" name=""/>
                <p:cNvSpPr/>
                <p:nvPr/>
              </p:nvSpPr>
              <p:spPr>
                <a:xfrm flipV="1">
                  <a:off x="6367320" y="3095280"/>
                  <a:ext cx="10332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 flipH="1" flipV="1">
                  <a:off x="6354360" y="3050640"/>
                  <a:ext cx="12852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52" name=""/>
                <p:cNvGrpSpPr/>
                <p:nvPr/>
              </p:nvGrpSpPr>
              <p:grpSpPr>
                <a:xfrm>
                  <a:off x="6242040" y="2963880"/>
                  <a:ext cx="125280" cy="99720"/>
                  <a:chOff x="6242040" y="2963880"/>
                  <a:chExt cx="125280" cy="99720"/>
                </a:xfrm>
              </p:grpSpPr>
              <p:sp>
                <p:nvSpPr>
                  <p:cNvPr id="2353" name=""/>
                  <p:cNvSpPr/>
                  <p:nvPr/>
                </p:nvSpPr>
                <p:spPr>
                  <a:xfrm flipH="1" flipV="1">
                    <a:off x="6242040" y="3006360"/>
                    <a:ext cx="125280" cy="572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4" name=""/>
                  <p:cNvSpPr/>
                  <p:nvPr/>
                </p:nvSpPr>
                <p:spPr>
                  <a:xfrm flipV="1">
                    <a:off x="6254640" y="2963880"/>
                    <a:ext cx="100080" cy="554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55" name=""/>
            <p:cNvGrpSpPr/>
            <p:nvPr/>
          </p:nvGrpSpPr>
          <p:grpSpPr>
            <a:xfrm>
              <a:off x="6242040" y="2608200"/>
              <a:ext cx="240840" cy="368280"/>
              <a:chOff x="6242040" y="2608200"/>
              <a:chExt cx="240840" cy="368280"/>
            </a:xfrm>
          </p:grpSpPr>
          <p:grpSp>
            <p:nvGrpSpPr>
              <p:cNvPr id="2356" name=""/>
              <p:cNvGrpSpPr/>
              <p:nvPr/>
            </p:nvGrpSpPr>
            <p:grpSpPr>
              <a:xfrm>
                <a:off x="6242040" y="2787480"/>
                <a:ext cx="240840" cy="189000"/>
                <a:chOff x="6242040" y="2787480"/>
                <a:chExt cx="240840" cy="189000"/>
              </a:xfrm>
            </p:grpSpPr>
            <p:sp>
              <p:nvSpPr>
                <p:cNvPr id="2357" name=""/>
                <p:cNvSpPr/>
                <p:nvPr/>
              </p:nvSpPr>
              <p:spPr>
                <a:xfrm flipV="1">
                  <a:off x="6367320" y="2921040"/>
                  <a:ext cx="103320" cy="554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 flipH="1" flipV="1">
                  <a:off x="6354360" y="2876040"/>
                  <a:ext cx="12852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59" name=""/>
                <p:cNvGrpSpPr/>
                <p:nvPr/>
              </p:nvGrpSpPr>
              <p:grpSpPr>
                <a:xfrm>
                  <a:off x="6242040" y="2787480"/>
                  <a:ext cx="125280" cy="101880"/>
                  <a:chOff x="6242040" y="2787480"/>
                  <a:chExt cx="125280" cy="101880"/>
                </a:xfrm>
              </p:grpSpPr>
              <p:sp>
                <p:nvSpPr>
                  <p:cNvPr id="2360" name=""/>
                  <p:cNvSpPr/>
                  <p:nvPr/>
                </p:nvSpPr>
                <p:spPr>
                  <a:xfrm flipH="1" flipV="1">
                    <a:off x="6242040" y="2828880"/>
                    <a:ext cx="125280" cy="604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1" name=""/>
                  <p:cNvSpPr/>
                  <p:nvPr/>
                </p:nvSpPr>
                <p:spPr>
                  <a:xfrm flipV="1">
                    <a:off x="6254640" y="2787480"/>
                    <a:ext cx="100080" cy="54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62" name=""/>
              <p:cNvGrpSpPr/>
              <p:nvPr/>
            </p:nvGrpSpPr>
            <p:grpSpPr>
              <a:xfrm>
                <a:off x="6242040" y="2608200"/>
                <a:ext cx="240840" cy="192240"/>
                <a:chOff x="6242040" y="2608200"/>
                <a:chExt cx="240840" cy="192240"/>
              </a:xfrm>
            </p:grpSpPr>
            <p:sp>
              <p:nvSpPr>
                <p:cNvPr id="2363" name=""/>
                <p:cNvSpPr/>
                <p:nvPr/>
              </p:nvSpPr>
              <p:spPr>
                <a:xfrm flipV="1">
                  <a:off x="6367320" y="2739960"/>
                  <a:ext cx="103320" cy="6048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 flipH="1" flipV="1">
                  <a:off x="6354360" y="2701440"/>
                  <a:ext cx="128520" cy="507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65" name=""/>
                <p:cNvGrpSpPr/>
                <p:nvPr/>
              </p:nvGrpSpPr>
              <p:grpSpPr>
                <a:xfrm>
                  <a:off x="6242040" y="2608200"/>
                  <a:ext cx="125280" cy="106560"/>
                  <a:chOff x="6242040" y="2608200"/>
                  <a:chExt cx="125280" cy="106560"/>
                </a:xfrm>
              </p:grpSpPr>
              <p:sp>
                <p:nvSpPr>
                  <p:cNvPr id="2366" name=""/>
                  <p:cNvSpPr/>
                  <p:nvPr/>
                </p:nvSpPr>
                <p:spPr>
                  <a:xfrm flipH="1" flipV="1">
                    <a:off x="6242040" y="2655720"/>
                    <a:ext cx="125280" cy="590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7" name=""/>
                  <p:cNvSpPr/>
                  <p:nvPr/>
                </p:nvSpPr>
                <p:spPr>
                  <a:xfrm flipV="1">
                    <a:off x="6254640" y="2608200"/>
                    <a:ext cx="100080" cy="604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68" name=""/>
            <p:cNvGrpSpPr/>
            <p:nvPr/>
          </p:nvGrpSpPr>
          <p:grpSpPr>
            <a:xfrm>
              <a:off x="6242040" y="2255760"/>
              <a:ext cx="240840" cy="364680"/>
              <a:chOff x="6242040" y="2255760"/>
              <a:chExt cx="240840" cy="364680"/>
            </a:xfrm>
          </p:grpSpPr>
          <p:grpSp>
            <p:nvGrpSpPr>
              <p:cNvPr id="2369" name=""/>
              <p:cNvGrpSpPr/>
              <p:nvPr/>
            </p:nvGrpSpPr>
            <p:grpSpPr>
              <a:xfrm>
                <a:off x="6242040" y="2436480"/>
                <a:ext cx="240840" cy="183960"/>
                <a:chOff x="6242040" y="2436480"/>
                <a:chExt cx="240840" cy="183960"/>
              </a:xfrm>
            </p:grpSpPr>
            <p:sp>
              <p:nvSpPr>
                <p:cNvPr id="2370" name=""/>
                <p:cNvSpPr/>
                <p:nvPr/>
              </p:nvSpPr>
              <p:spPr>
                <a:xfrm flipV="1">
                  <a:off x="6367320" y="2566800"/>
                  <a:ext cx="103320" cy="536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 flipH="1" flipV="1">
                  <a:off x="6354360" y="2522160"/>
                  <a:ext cx="12852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72" name=""/>
                <p:cNvGrpSpPr/>
                <p:nvPr/>
              </p:nvGrpSpPr>
              <p:grpSpPr>
                <a:xfrm>
                  <a:off x="6242040" y="2436480"/>
                  <a:ext cx="125280" cy="98280"/>
                  <a:chOff x="6242040" y="2436480"/>
                  <a:chExt cx="125280" cy="98280"/>
                </a:xfrm>
              </p:grpSpPr>
              <p:sp>
                <p:nvSpPr>
                  <p:cNvPr id="2373" name=""/>
                  <p:cNvSpPr/>
                  <p:nvPr/>
                </p:nvSpPr>
                <p:spPr>
                  <a:xfrm flipH="1" flipV="1">
                    <a:off x="6242040" y="2476080"/>
                    <a:ext cx="125280" cy="586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4" name=""/>
                  <p:cNvSpPr/>
                  <p:nvPr/>
                </p:nvSpPr>
                <p:spPr>
                  <a:xfrm flipV="1">
                    <a:off x="6254640" y="2436480"/>
                    <a:ext cx="100080" cy="52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75" name=""/>
              <p:cNvGrpSpPr/>
              <p:nvPr/>
            </p:nvGrpSpPr>
            <p:grpSpPr>
              <a:xfrm>
                <a:off x="6242040" y="2255760"/>
                <a:ext cx="240840" cy="193320"/>
                <a:chOff x="6242040" y="2255760"/>
                <a:chExt cx="240840" cy="193320"/>
              </a:xfrm>
            </p:grpSpPr>
            <p:sp>
              <p:nvSpPr>
                <p:cNvPr id="2376" name=""/>
                <p:cNvSpPr/>
                <p:nvPr/>
              </p:nvSpPr>
              <p:spPr>
                <a:xfrm flipV="1">
                  <a:off x="6367320" y="2391840"/>
                  <a:ext cx="10332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 flipH="1" flipV="1">
                  <a:off x="6354360" y="2344680"/>
                  <a:ext cx="128520" cy="6048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78" name=""/>
                <p:cNvGrpSpPr/>
                <p:nvPr/>
              </p:nvGrpSpPr>
              <p:grpSpPr>
                <a:xfrm>
                  <a:off x="6242040" y="2255760"/>
                  <a:ext cx="125280" cy="101160"/>
                  <a:chOff x="6242040" y="2255760"/>
                  <a:chExt cx="125280" cy="101160"/>
                </a:xfrm>
              </p:grpSpPr>
              <p:sp>
                <p:nvSpPr>
                  <p:cNvPr id="2379" name=""/>
                  <p:cNvSpPr/>
                  <p:nvPr/>
                </p:nvSpPr>
                <p:spPr>
                  <a:xfrm flipH="1" flipV="1">
                    <a:off x="6242040" y="2303280"/>
                    <a:ext cx="125280" cy="53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0" name=""/>
                  <p:cNvSpPr/>
                  <p:nvPr/>
                </p:nvSpPr>
                <p:spPr>
                  <a:xfrm flipV="1">
                    <a:off x="6254640" y="2255760"/>
                    <a:ext cx="100080" cy="604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381" name=""/>
            <p:cNvSpPr/>
            <p:nvPr/>
          </p:nvSpPr>
          <p:spPr>
            <a:xfrm>
              <a:off x="6361200" y="3681360"/>
              <a:ext cx="0" cy="12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361200" y="2139840"/>
              <a:ext cx="0" cy="1159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83" name=""/>
          <p:cNvGrpSpPr/>
          <p:nvPr/>
        </p:nvGrpSpPr>
        <p:grpSpPr>
          <a:xfrm>
            <a:off x="7079760" y="2139840"/>
            <a:ext cx="241920" cy="2502000"/>
            <a:chOff x="7079760" y="2139840"/>
            <a:chExt cx="241920" cy="2502000"/>
          </a:xfrm>
        </p:grpSpPr>
        <p:grpSp>
          <p:nvGrpSpPr>
            <p:cNvPr id="2384" name=""/>
            <p:cNvGrpSpPr/>
            <p:nvPr/>
          </p:nvGrpSpPr>
          <p:grpSpPr>
            <a:xfrm>
              <a:off x="7079760" y="3908520"/>
              <a:ext cx="241920" cy="542880"/>
              <a:chOff x="7079760" y="3908520"/>
              <a:chExt cx="241920" cy="542880"/>
            </a:xfrm>
          </p:grpSpPr>
          <p:grpSp>
            <p:nvGrpSpPr>
              <p:cNvPr id="2385" name=""/>
              <p:cNvGrpSpPr/>
              <p:nvPr/>
            </p:nvGrpSpPr>
            <p:grpSpPr>
              <a:xfrm>
                <a:off x="7079760" y="4174920"/>
                <a:ext cx="241920" cy="276480"/>
                <a:chOff x="7079760" y="4174920"/>
                <a:chExt cx="241920" cy="276480"/>
              </a:xfrm>
            </p:grpSpPr>
            <p:sp>
              <p:nvSpPr>
                <p:cNvPr id="2386" name=""/>
                <p:cNvSpPr/>
                <p:nvPr/>
              </p:nvSpPr>
              <p:spPr>
                <a:xfrm flipV="1">
                  <a:off x="7205760" y="4373640"/>
                  <a:ext cx="102960" cy="777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 flipH="1" flipV="1">
                  <a:off x="7192800" y="4309920"/>
                  <a:ext cx="128880" cy="7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88" name=""/>
                <p:cNvGrpSpPr/>
                <p:nvPr/>
              </p:nvGrpSpPr>
              <p:grpSpPr>
                <a:xfrm>
                  <a:off x="7079760" y="4174920"/>
                  <a:ext cx="125640" cy="147960"/>
                  <a:chOff x="7079760" y="4174920"/>
                  <a:chExt cx="125640" cy="147960"/>
                </a:xfrm>
              </p:grpSpPr>
              <p:sp>
                <p:nvSpPr>
                  <p:cNvPr id="2389" name=""/>
                  <p:cNvSpPr/>
                  <p:nvPr/>
                </p:nvSpPr>
                <p:spPr>
                  <a:xfrm flipH="1" flipV="1">
                    <a:off x="7079760" y="4237200"/>
                    <a:ext cx="125640" cy="856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0" name=""/>
                  <p:cNvSpPr/>
                  <p:nvPr/>
                </p:nvSpPr>
                <p:spPr>
                  <a:xfrm flipV="1">
                    <a:off x="7093080" y="4174920"/>
                    <a:ext cx="99720" cy="745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91" name=""/>
              <p:cNvGrpSpPr/>
              <p:nvPr/>
            </p:nvGrpSpPr>
            <p:grpSpPr>
              <a:xfrm>
                <a:off x="7079760" y="3908520"/>
                <a:ext cx="241920" cy="279000"/>
                <a:chOff x="7079760" y="3908520"/>
                <a:chExt cx="241920" cy="279000"/>
              </a:xfrm>
            </p:grpSpPr>
            <p:sp>
              <p:nvSpPr>
                <p:cNvPr id="2392" name=""/>
                <p:cNvSpPr/>
                <p:nvPr/>
              </p:nvSpPr>
              <p:spPr>
                <a:xfrm flipV="1">
                  <a:off x="7205760" y="4107960"/>
                  <a:ext cx="102960" cy="79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 flipH="1" flipV="1">
                  <a:off x="7192800" y="4044960"/>
                  <a:ext cx="128880" cy="7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94" name=""/>
                <p:cNvGrpSpPr/>
                <p:nvPr/>
              </p:nvGrpSpPr>
              <p:grpSpPr>
                <a:xfrm>
                  <a:off x="7079760" y="3908520"/>
                  <a:ext cx="125640" cy="148680"/>
                  <a:chOff x="7079760" y="3908520"/>
                  <a:chExt cx="125640" cy="148680"/>
                </a:xfrm>
              </p:grpSpPr>
              <p:sp>
                <p:nvSpPr>
                  <p:cNvPr id="2395" name=""/>
                  <p:cNvSpPr/>
                  <p:nvPr/>
                </p:nvSpPr>
                <p:spPr>
                  <a:xfrm flipH="1" flipV="1">
                    <a:off x="7079760" y="3973320"/>
                    <a:ext cx="125640" cy="838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6" name=""/>
                  <p:cNvSpPr/>
                  <p:nvPr/>
                </p:nvSpPr>
                <p:spPr>
                  <a:xfrm flipV="1">
                    <a:off x="7093080" y="3908520"/>
                    <a:ext cx="99720" cy="777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97" name=""/>
            <p:cNvGrpSpPr/>
            <p:nvPr/>
          </p:nvGrpSpPr>
          <p:grpSpPr>
            <a:xfrm>
              <a:off x="7079760" y="3382920"/>
              <a:ext cx="241920" cy="538200"/>
              <a:chOff x="7079760" y="3382920"/>
              <a:chExt cx="241920" cy="538200"/>
            </a:xfrm>
          </p:grpSpPr>
          <p:grpSp>
            <p:nvGrpSpPr>
              <p:cNvPr id="2398" name=""/>
              <p:cNvGrpSpPr/>
              <p:nvPr/>
            </p:nvGrpSpPr>
            <p:grpSpPr>
              <a:xfrm>
                <a:off x="7079760" y="3646080"/>
                <a:ext cx="241920" cy="275040"/>
                <a:chOff x="7079760" y="3646080"/>
                <a:chExt cx="241920" cy="275040"/>
              </a:xfrm>
            </p:grpSpPr>
            <p:sp>
              <p:nvSpPr>
                <p:cNvPr id="2399" name=""/>
                <p:cNvSpPr/>
                <p:nvPr/>
              </p:nvSpPr>
              <p:spPr>
                <a:xfrm flipV="1">
                  <a:off x="7205760" y="3841920"/>
                  <a:ext cx="102960" cy="792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 flipH="1" flipV="1">
                  <a:off x="7192800" y="3773160"/>
                  <a:ext cx="128880" cy="81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01" name=""/>
                <p:cNvGrpSpPr/>
                <p:nvPr/>
              </p:nvGrpSpPr>
              <p:grpSpPr>
                <a:xfrm>
                  <a:off x="7079760" y="3646080"/>
                  <a:ext cx="125640" cy="139680"/>
                  <a:chOff x="7079760" y="3646080"/>
                  <a:chExt cx="125640" cy="139680"/>
                </a:xfrm>
              </p:grpSpPr>
              <p:sp>
                <p:nvSpPr>
                  <p:cNvPr id="2402" name=""/>
                  <p:cNvSpPr/>
                  <p:nvPr/>
                </p:nvSpPr>
                <p:spPr>
                  <a:xfrm flipH="1" flipV="1">
                    <a:off x="7079760" y="3712680"/>
                    <a:ext cx="125640" cy="730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3" name=""/>
                  <p:cNvSpPr/>
                  <p:nvPr/>
                </p:nvSpPr>
                <p:spPr>
                  <a:xfrm flipV="1">
                    <a:off x="7093080" y="3646080"/>
                    <a:ext cx="99720" cy="79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04" name=""/>
              <p:cNvGrpSpPr/>
              <p:nvPr/>
            </p:nvGrpSpPr>
            <p:grpSpPr>
              <a:xfrm>
                <a:off x="7079760" y="3382920"/>
                <a:ext cx="241920" cy="276120"/>
                <a:chOff x="7079760" y="3382920"/>
                <a:chExt cx="241920" cy="276120"/>
              </a:xfrm>
            </p:grpSpPr>
            <p:sp>
              <p:nvSpPr>
                <p:cNvPr id="2405" name=""/>
                <p:cNvSpPr/>
                <p:nvPr/>
              </p:nvSpPr>
              <p:spPr>
                <a:xfrm flipV="1">
                  <a:off x="7205760" y="3579840"/>
                  <a:ext cx="102960" cy="792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 flipH="1" flipV="1">
                  <a:off x="7192800" y="3513240"/>
                  <a:ext cx="128880" cy="792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07" name=""/>
                <p:cNvGrpSpPr/>
                <p:nvPr/>
              </p:nvGrpSpPr>
              <p:grpSpPr>
                <a:xfrm>
                  <a:off x="7079760" y="3382920"/>
                  <a:ext cx="125640" cy="142920"/>
                  <a:chOff x="7079760" y="3382920"/>
                  <a:chExt cx="125640" cy="142920"/>
                </a:xfrm>
              </p:grpSpPr>
              <p:sp>
                <p:nvSpPr>
                  <p:cNvPr id="2408" name=""/>
                  <p:cNvSpPr/>
                  <p:nvPr/>
                </p:nvSpPr>
                <p:spPr>
                  <a:xfrm flipH="1" flipV="1">
                    <a:off x="7079760" y="3446640"/>
                    <a:ext cx="125640" cy="79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9" name=""/>
                  <p:cNvSpPr/>
                  <p:nvPr/>
                </p:nvSpPr>
                <p:spPr>
                  <a:xfrm flipV="1">
                    <a:off x="7093080" y="3382920"/>
                    <a:ext cx="99720" cy="763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10" name=""/>
            <p:cNvGrpSpPr/>
            <p:nvPr/>
          </p:nvGrpSpPr>
          <p:grpSpPr>
            <a:xfrm>
              <a:off x="7079760" y="2849400"/>
              <a:ext cx="241920" cy="546120"/>
              <a:chOff x="7079760" y="2849400"/>
              <a:chExt cx="241920" cy="546120"/>
            </a:xfrm>
          </p:grpSpPr>
          <p:grpSp>
            <p:nvGrpSpPr>
              <p:cNvPr id="2411" name=""/>
              <p:cNvGrpSpPr/>
              <p:nvPr/>
            </p:nvGrpSpPr>
            <p:grpSpPr>
              <a:xfrm>
                <a:off x="7079760" y="3117600"/>
                <a:ext cx="241920" cy="277920"/>
                <a:chOff x="7079760" y="3117600"/>
                <a:chExt cx="241920" cy="277920"/>
              </a:xfrm>
            </p:grpSpPr>
            <p:sp>
              <p:nvSpPr>
                <p:cNvPr id="2412" name=""/>
                <p:cNvSpPr/>
                <p:nvPr/>
              </p:nvSpPr>
              <p:spPr>
                <a:xfrm flipV="1">
                  <a:off x="7205760" y="3317760"/>
                  <a:ext cx="102960" cy="777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 flipH="1" flipV="1">
                  <a:off x="7192800" y="3250800"/>
                  <a:ext cx="128880" cy="79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14" name=""/>
                <p:cNvGrpSpPr/>
                <p:nvPr/>
              </p:nvGrpSpPr>
              <p:grpSpPr>
                <a:xfrm>
                  <a:off x="7079760" y="3117600"/>
                  <a:ext cx="125640" cy="145800"/>
                  <a:chOff x="7079760" y="3117600"/>
                  <a:chExt cx="125640" cy="145800"/>
                </a:xfrm>
              </p:grpSpPr>
              <p:sp>
                <p:nvSpPr>
                  <p:cNvPr id="2415" name=""/>
                  <p:cNvSpPr/>
                  <p:nvPr/>
                </p:nvSpPr>
                <p:spPr>
                  <a:xfrm flipH="1" flipV="1">
                    <a:off x="7079760" y="3179520"/>
                    <a:ext cx="125640" cy="838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6" name=""/>
                  <p:cNvSpPr/>
                  <p:nvPr/>
                </p:nvSpPr>
                <p:spPr>
                  <a:xfrm flipV="1">
                    <a:off x="7093080" y="3117600"/>
                    <a:ext cx="99720" cy="745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17" name=""/>
              <p:cNvGrpSpPr/>
              <p:nvPr/>
            </p:nvGrpSpPr>
            <p:grpSpPr>
              <a:xfrm>
                <a:off x="7079760" y="2849400"/>
                <a:ext cx="241920" cy="281160"/>
                <a:chOff x="7079760" y="2849400"/>
                <a:chExt cx="241920" cy="281160"/>
              </a:xfrm>
            </p:grpSpPr>
            <p:sp>
              <p:nvSpPr>
                <p:cNvPr id="2418" name=""/>
                <p:cNvSpPr/>
                <p:nvPr/>
              </p:nvSpPr>
              <p:spPr>
                <a:xfrm flipV="1">
                  <a:off x="7205760" y="3046320"/>
                  <a:ext cx="102960" cy="84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 flipH="1" flipV="1">
                  <a:off x="7192800" y="2989440"/>
                  <a:ext cx="128880" cy="698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20" name=""/>
                <p:cNvGrpSpPr/>
                <p:nvPr/>
              </p:nvGrpSpPr>
              <p:grpSpPr>
                <a:xfrm>
                  <a:off x="7079760" y="2849400"/>
                  <a:ext cx="125640" cy="152640"/>
                  <a:chOff x="7079760" y="2849400"/>
                  <a:chExt cx="125640" cy="152640"/>
                </a:xfrm>
              </p:grpSpPr>
              <p:sp>
                <p:nvSpPr>
                  <p:cNvPr id="2421" name=""/>
                  <p:cNvSpPr/>
                  <p:nvPr/>
                </p:nvSpPr>
                <p:spPr>
                  <a:xfrm flipH="1" flipV="1">
                    <a:off x="7079760" y="2919240"/>
                    <a:ext cx="125640" cy="828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2" name=""/>
                  <p:cNvSpPr/>
                  <p:nvPr/>
                </p:nvSpPr>
                <p:spPr>
                  <a:xfrm flipV="1">
                    <a:off x="7093080" y="2849400"/>
                    <a:ext cx="99720" cy="828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23" name=""/>
            <p:cNvGrpSpPr/>
            <p:nvPr/>
          </p:nvGrpSpPr>
          <p:grpSpPr>
            <a:xfrm>
              <a:off x="7079760" y="2319120"/>
              <a:ext cx="241920" cy="543240"/>
              <a:chOff x="7079760" y="2319120"/>
              <a:chExt cx="241920" cy="543240"/>
            </a:xfrm>
          </p:grpSpPr>
          <p:grpSp>
            <p:nvGrpSpPr>
              <p:cNvPr id="2424" name=""/>
              <p:cNvGrpSpPr/>
              <p:nvPr/>
            </p:nvGrpSpPr>
            <p:grpSpPr>
              <a:xfrm>
                <a:off x="7079760" y="2590560"/>
                <a:ext cx="241920" cy="271800"/>
                <a:chOff x="7079760" y="2590560"/>
                <a:chExt cx="241920" cy="271800"/>
              </a:xfrm>
            </p:grpSpPr>
            <p:sp>
              <p:nvSpPr>
                <p:cNvPr id="2425" name=""/>
                <p:cNvSpPr/>
                <p:nvPr/>
              </p:nvSpPr>
              <p:spPr>
                <a:xfrm flipV="1">
                  <a:off x="7205760" y="2786040"/>
                  <a:ext cx="102960" cy="7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 flipH="1" flipV="1">
                  <a:off x="7192800" y="2719440"/>
                  <a:ext cx="128880" cy="792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27" name=""/>
                <p:cNvGrpSpPr/>
                <p:nvPr/>
              </p:nvGrpSpPr>
              <p:grpSpPr>
                <a:xfrm>
                  <a:off x="7079760" y="2590560"/>
                  <a:ext cx="125640" cy="141120"/>
                  <a:chOff x="7079760" y="2590560"/>
                  <a:chExt cx="125640" cy="141120"/>
                </a:xfrm>
              </p:grpSpPr>
              <p:sp>
                <p:nvSpPr>
                  <p:cNvPr id="2428" name=""/>
                  <p:cNvSpPr/>
                  <p:nvPr/>
                </p:nvSpPr>
                <p:spPr>
                  <a:xfrm flipH="1" flipV="1">
                    <a:off x="7079760" y="2650680"/>
                    <a:ext cx="125640" cy="81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9" name=""/>
                  <p:cNvSpPr/>
                  <p:nvPr/>
                </p:nvSpPr>
                <p:spPr>
                  <a:xfrm flipV="1">
                    <a:off x="7093080" y="2590560"/>
                    <a:ext cx="99720" cy="730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30" name=""/>
              <p:cNvGrpSpPr/>
              <p:nvPr/>
            </p:nvGrpSpPr>
            <p:grpSpPr>
              <a:xfrm>
                <a:off x="7079760" y="2319120"/>
                <a:ext cx="241920" cy="284040"/>
                <a:chOff x="7079760" y="2319120"/>
                <a:chExt cx="241920" cy="284040"/>
              </a:xfrm>
            </p:grpSpPr>
            <p:sp>
              <p:nvSpPr>
                <p:cNvPr id="2431" name=""/>
                <p:cNvSpPr/>
                <p:nvPr/>
              </p:nvSpPr>
              <p:spPr>
                <a:xfrm flipV="1">
                  <a:off x="7205760" y="2523600"/>
                  <a:ext cx="102960" cy="79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 flipH="1" flipV="1">
                  <a:off x="7192800" y="2454120"/>
                  <a:ext cx="128880" cy="828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33" name=""/>
                <p:cNvGrpSpPr/>
                <p:nvPr/>
              </p:nvGrpSpPr>
              <p:grpSpPr>
                <a:xfrm>
                  <a:off x="7079760" y="2319120"/>
                  <a:ext cx="125640" cy="147960"/>
                  <a:chOff x="7079760" y="2319120"/>
                  <a:chExt cx="125640" cy="147960"/>
                </a:xfrm>
              </p:grpSpPr>
              <p:sp>
                <p:nvSpPr>
                  <p:cNvPr id="2434" name=""/>
                  <p:cNvSpPr/>
                  <p:nvPr/>
                </p:nvSpPr>
                <p:spPr>
                  <a:xfrm flipH="1" flipV="1">
                    <a:off x="7079760" y="2390760"/>
                    <a:ext cx="125640" cy="763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5" name=""/>
                  <p:cNvSpPr/>
                  <p:nvPr/>
                </p:nvSpPr>
                <p:spPr>
                  <a:xfrm flipV="1">
                    <a:off x="7093080" y="2319120"/>
                    <a:ext cx="99720" cy="838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436" name=""/>
            <p:cNvSpPr/>
            <p:nvPr/>
          </p:nvSpPr>
          <p:spPr>
            <a:xfrm>
              <a:off x="7199280" y="4451400"/>
              <a:ext cx="0" cy="190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7199280" y="2139840"/>
              <a:ext cx="0" cy="1796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8" name=""/>
          <p:cNvSpPr/>
          <p:nvPr/>
        </p:nvSpPr>
        <p:spPr>
          <a:xfrm>
            <a:off x="6184800" y="2133720"/>
            <a:ext cx="35568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9" name=""/>
          <p:cNvSpPr/>
          <p:nvPr/>
        </p:nvSpPr>
        <p:spPr>
          <a:xfrm>
            <a:off x="7023240" y="2133720"/>
            <a:ext cx="35532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0" name=""/>
          <p:cNvSpPr/>
          <p:nvPr/>
        </p:nvSpPr>
        <p:spPr>
          <a:xfrm>
            <a:off x="7016760" y="4654440"/>
            <a:ext cx="368280" cy="292320"/>
          </a:xfrm>
          <a:prstGeom prst="rect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1" name=""/>
          <p:cNvSpPr/>
          <p:nvPr/>
        </p:nvSpPr>
        <p:spPr>
          <a:xfrm>
            <a:off x="6178680" y="3809880"/>
            <a:ext cx="1434960" cy="0"/>
          </a:xfrm>
          <a:prstGeom prst="line">
            <a:avLst/>
          </a:prstGeom>
          <a:ln w="12600">
            <a:solidFill>
              <a:srgbClr val="fafd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2" name=""/>
          <p:cNvSpPr/>
          <p:nvPr/>
        </p:nvSpPr>
        <p:spPr>
          <a:xfrm>
            <a:off x="6178680" y="4648320"/>
            <a:ext cx="1434960" cy="0"/>
          </a:xfrm>
          <a:prstGeom prst="line">
            <a:avLst/>
          </a:prstGeom>
          <a:ln w="12600">
            <a:solidFill>
              <a:srgbClr val="fafd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3" name=""/>
          <p:cNvSpPr/>
          <p:nvPr/>
        </p:nvSpPr>
        <p:spPr>
          <a:xfrm>
            <a:off x="7322760" y="4397400"/>
            <a:ext cx="13950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y = 0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 flipV="1">
            <a:off x="7924680" y="2127240"/>
            <a:ext cx="0" cy="85104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>
            <a:off x="7624080" y="2112840"/>
            <a:ext cx="963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j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6328440" y="257004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7" name=""/>
          <p:cNvSpPr/>
          <p:nvPr/>
        </p:nvSpPr>
        <p:spPr>
          <a:xfrm>
            <a:off x="6719400" y="463536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8" name=""/>
          <p:cNvSpPr/>
          <p:nvPr/>
        </p:nvSpPr>
        <p:spPr>
          <a:xfrm>
            <a:off x="5837040" y="1708200"/>
            <a:ext cx="1065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(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>
            <a:off x="6661080" y="1703520"/>
            <a:ext cx="1065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(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0" name=""/>
              <p:cNvSpPr txBox="1"/>
              <p:nvPr/>
            </p:nvSpPr>
            <p:spPr>
              <a:xfrm>
                <a:off x="2284560" y="3279600"/>
                <a:ext cx="193824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51" name=""/>
          <p:cNvSpPr/>
          <p:nvPr/>
        </p:nvSpPr>
        <p:spPr>
          <a:xfrm>
            <a:off x="1917720" y="3081240"/>
            <a:ext cx="1917720" cy="1001880"/>
          </a:xfrm>
          <a:prstGeom prst="bevel">
            <a:avLst>
              <a:gd name="adj" fmla="val 12500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4" name=""/>
          <p:cNvSpPr/>
          <p:nvPr/>
        </p:nvSpPr>
        <p:spPr>
          <a:xfrm>
            <a:off x="2313000" y="1859040"/>
            <a:ext cx="0" cy="33242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5" name=""/>
          <p:cNvSpPr/>
          <p:nvPr/>
        </p:nvSpPr>
        <p:spPr>
          <a:xfrm>
            <a:off x="2274840" y="5189400"/>
            <a:ext cx="77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6" name=""/>
          <p:cNvSpPr/>
          <p:nvPr/>
        </p:nvSpPr>
        <p:spPr>
          <a:xfrm>
            <a:off x="2274840" y="4890960"/>
            <a:ext cx="77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7" name=""/>
          <p:cNvSpPr/>
          <p:nvPr/>
        </p:nvSpPr>
        <p:spPr>
          <a:xfrm>
            <a:off x="2274840" y="4576680"/>
            <a:ext cx="77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8" name=""/>
          <p:cNvSpPr/>
          <p:nvPr/>
        </p:nvSpPr>
        <p:spPr>
          <a:xfrm>
            <a:off x="2274840" y="4276800"/>
            <a:ext cx="77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9" name=""/>
          <p:cNvSpPr/>
          <p:nvPr/>
        </p:nvSpPr>
        <p:spPr>
          <a:xfrm>
            <a:off x="2274840" y="3978360"/>
            <a:ext cx="77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0" name=""/>
          <p:cNvSpPr/>
          <p:nvPr/>
        </p:nvSpPr>
        <p:spPr>
          <a:xfrm>
            <a:off x="2274840" y="3678120"/>
            <a:ext cx="77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>
            <a:off x="2274840" y="3363840"/>
            <a:ext cx="77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2" name=""/>
          <p:cNvSpPr/>
          <p:nvPr/>
        </p:nvSpPr>
        <p:spPr>
          <a:xfrm>
            <a:off x="2274840" y="3063960"/>
            <a:ext cx="77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3" name=""/>
          <p:cNvSpPr/>
          <p:nvPr/>
        </p:nvSpPr>
        <p:spPr>
          <a:xfrm>
            <a:off x="2274840" y="2765520"/>
            <a:ext cx="77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4" name=""/>
          <p:cNvSpPr/>
          <p:nvPr/>
        </p:nvSpPr>
        <p:spPr>
          <a:xfrm>
            <a:off x="2274840" y="2465280"/>
            <a:ext cx="77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5" name=""/>
          <p:cNvSpPr/>
          <p:nvPr/>
        </p:nvSpPr>
        <p:spPr>
          <a:xfrm>
            <a:off x="2274840" y="2151000"/>
            <a:ext cx="77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>
            <a:off x="2274840" y="1852560"/>
            <a:ext cx="77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7" name=""/>
          <p:cNvSpPr/>
          <p:nvPr/>
        </p:nvSpPr>
        <p:spPr>
          <a:xfrm>
            <a:off x="2319480" y="4276800"/>
            <a:ext cx="33908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8" name=""/>
          <p:cNvSpPr/>
          <p:nvPr/>
        </p:nvSpPr>
        <p:spPr>
          <a:xfrm flipV="1">
            <a:off x="231300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9" name=""/>
          <p:cNvSpPr/>
          <p:nvPr/>
        </p:nvSpPr>
        <p:spPr>
          <a:xfrm flipV="1">
            <a:off x="247824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0" name=""/>
          <p:cNvSpPr/>
          <p:nvPr/>
        </p:nvSpPr>
        <p:spPr>
          <a:xfrm flipV="1">
            <a:off x="265896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 flipV="1">
            <a:off x="282240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 flipV="1">
            <a:off x="298764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 flipV="1">
            <a:off x="316872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 flipV="1">
            <a:off x="333216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 flipV="1">
            <a:off x="349740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 flipV="1">
            <a:off x="367812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 flipV="1">
            <a:off x="384192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 flipV="1">
            <a:off x="402264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 flipV="1">
            <a:off x="418788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 flipV="1">
            <a:off x="435132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 flipV="1">
            <a:off x="453240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 flipV="1">
            <a:off x="469728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 flipV="1">
            <a:off x="486108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 flipV="1">
            <a:off x="504180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 flipV="1">
            <a:off x="520704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 flipV="1">
            <a:off x="537048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 flipV="1">
            <a:off x="555156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 flipV="1">
            <a:off x="571644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2313000" y="2765520"/>
            <a:ext cx="3405240" cy="1512720"/>
          </a:xfrm>
          <a:custGeom>
            <a:avLst/>
            <a:gdLst/>
            <a:ahLst/>
            <a:rect l="l" t="t" r="r" b="b"/>
            <a:pathLst>
              <a:path w="2145" h="953">
                <a:moveTo>
                  <a:pt x="0" y="0"/>
                </a:moveTo>
                <a:lnTo>
                  <a:pt x="10" y="19"/>
                </a:lnTo>
                <a:lnTo>
                  <a:pt x="19" y="38"/>
                </a:lnTo>
                <a:lnTo>
                  <a:pt x="29" y="56"/>
                </a:lnTo>
                <a:lnTo>
                  <a:pt x="48" y="75"/>
                </a:lnTo>
                <a:lnTo>
                  <a:pt x="57" y="94"/>
                </a:lnTo>
                <a:lnTo>
                  <a:pt x="67" y="113"/>
                </a:lnTo>
                <a:lnTo>
                  <a:pt x="76" y="132"/>
                </a:lnTo>
                <a:lnTo>
                  <a:pt x="85" y="141"/>
                </a:lnTo>
                <a:lnTo>
                  <a:pt x="95" y="160"/>
                </a:lnTo>
                <a:lnTo>
                  <a:pt x="104" y="179"/>
                </a:lnTo>
                <a:lnTo>
                  <a:pt x="114" y="198"/>
                </a:lnTo>
                <a:lnTo>
                  <a:pt x="133" y="217"/>
                </a:lnTo>
                <a:lnTo>
                  <a:pt x="142" y="226"/>
                </a:lnTo>
                <a:lnTo>
                  <a:pt x="152" y="245"/>
                </a:lnTo>
                <a:lnTo>
                  <a:pt x="161" y="264"/>
                </a:lnTo>
                <a:lnTo>
                  <a:pt x="170" y="283"/>
                </a:lnTo>
                <a:lnTo>
                  <a:pt x="180" y="292"/>
                </a:lnTo>
                <a:lnTo>
                  <a:pt x="189" y="311"/>
                </a:lnTo>
                <a:lnTo>
                  <a:pt x="208" y="330"/>
                </a:lnTo>
                <a:lnTo>
                  <a:pt x="218" y="339"/>
                </a:lnTo>
                <a:lnTo>
                  <a:pt x="227" y="358"/>
                </a:lnTo>
                <a:lnTo>
                  <a:pt x="236" y="377"/>
                </a:lnTo>
                <a:lnTo>
                  <a:pt x="246" y="386"/>
                </a:lnTo>
                <a:lnTo>
                  <a:pt x="255" y="405"/>
                </a:lnTo>
                <a:lnTo>
                  <a:pt x="265" y="415"/>
                </a:lnTo>
                <a:lnTo>
                  <a:pt x="284" y="434"/>
                </a:lnTo>
                <a:lnTo>
                  <a:pt x="293" y="443"/>
                </a:lnTo>
                <a:lnTo>
                  <a:pt x="303" y="462"/>
                </a:lnTo>
                <a:lnTo>
                  <a:pt x="312" y="471"/>
                </a:lnTo>
                <a:lnTo>
                  <a:pt x="321" y="490"/>
                </a:lnTo>
                <a:lnTo>
                  <a:pt x="331" y="500"/>
                </a:lnTo>
                <a:lnTo>
                  <a:pt x="340" y="509"/>
                </a:lnTo>
                <a:lnTo>
                  <a:pt x="350" y="528"/>
                </a:lnTo>
                <a:lnTo>
                  <a:pt x="369" y="537"/>
                </a:lnTo>
                <a:lnTo>
                  <a:pt x="378" y="547"/>
                </a:lnTo>
                <a:lnTo>
                  <a:pt x="388" y="566"/>
                </a:lnTo>
                <a:lnTo>
                  <a:pt x="397" y="575"/>
                </a:lnTo>
                <a:lnTo>
                  <a:pt x="406" y="584"/>
                </a:lnTo>
                <a:lnTo>
                  <a:pt x="416" y="594"/>
                </a:lnTo>
                <a:lnTo>
                  <a:pt x="425" y="613"/>
                </a:lnTo>
                <a:lnTo>
                  <a:pt x="444" y="622"/>
                </a:lnTo>
                <a:lnTo>
                  <a:pt x="454" y="632"/>
                </a:lnTo>
                <a:lnTo>
                  <a:pt x="463" y="641"/>
                </a:lnTo>
                <a:lnTo>
                  <a:pt x="473" y="650"/>
                </a:lnTo>
                <a:lnTo>
                  <a:pt x="482" y="669"/>
                </a:lnTo>
                <a:lnTo>
                  <a:pt x="491" y="679"/>
                </a:lnTo>
                <a:lnTo>
                  <a:pt x="501" y="688"/>
                </a:lnTo>
                <a:lnTo>
                  <a:pt x="510" y="698"/>
                </a:lnTo>
                <a:lnTo>
                  <a:pt x="529" y="707"/>
                </a:lnTo>
                <a:lnTo>
                  <a:pt x="539" y="716"/>
                </a:lnTo>
                <a:lnTo>
                  <a:pt x="548" y="726"/>
                </a:lnTo>
                <a:lnTo>
                  <a:pt x="557" y="735"/>
                </a:lnTo>
                <a:lnTo>
                  <a:pt x="567" y="745"/>
                </a:lnTo>
                <a:lnTo>
                  <a:pt x="576" y="754"/>
                </a:lnTo>
                <a:lnTo>
                  <a:pt x="586" y="764"/>
                </a:lnTo>
                <a:lnTo>
                  <a:pt x="605" y="773"/>
                </a:lnTo>
                <a:lnTo>
                  <a:pt x="614" y="773"/>
                </a:lnTo>
                <a:lnTo>
                  <a:pt x="624" y="782"/>
                </a:lnTo>
                <a:lnTo>
                  <a:pt x="633" y="792"/>
                </a:lnTo>
                <a:lnTo>
                  <a:pt x="642" y="801"/>
                </a:lnTo>
                <a:lnTo>
                  <a:pt x="652" y="811"/>
                </a:lnTo>
                <a:lnTo>
                  <a:pt x="661" y="820"/>
                </a:lnTo>
                <a:lnTo>
                  <a:pt x="680" y="820"/>
                </a:lnTo>
                <a:lnTo>
                  <a:pt x="690" y="830"/>
                </a:lnTo>
                <a:lnTo>
                  <a:pt x="699" y="839"/>
                </a:lnTo>
                <a:lnTo>
                  <a:pt x="709" y="839"/>
                </a:lnTo>
                <a:lnTo>
                  <a:pt x="718" y="848"/>
                </a:lnTo>
                <a:lnTo>
                  <a:pt x="727" y="858"/>
                </a:lnTo>
                <a:lnTo>
                  <a:pt x="737" y="858"/>
                </a:lnTo>
                <a:lnTo>
                  <a:pt x="746" y="867"/>
                </a:lnTo>
                <a:lnTo>
                  <a:pt x="765" y="877"/>
                </a:lnTo>
                <a:lnTo>
                  <a:pt x="775" y="877"/>
                </a:lnTo>
                <a:lnTo>
                  <a:pt x="784" y="886"/>
                </a:lnTo>
                <a:lnTo>
                  <a:pt x="794" y="886"/>
                </a:lnTo>
                <a:lnTo>
                  <a:pt x="803" y="896"/>
                </a:lnTo>
                <a:lnTo>
                  <a:pt x="812" y="896"/>
                </a:lnTo>
                <a:lnTo>
                  <a:pt x="822" y="905"/>
                </a:lnTo>
                <a:lnTo>
                  <a:pt x="841" y="905"/>
                </a:lnTo>
                <a:lnTo>
                  <a:pt x="850" y="914"/>
                </a:lnTo>
                <a:lnTo>
                  <a:pt x="860" y="914"/>
                </a:lnTo>
                <a:lnTo>
                  <a:pt x="869" y="924"/>
                </a:lnTo>
                <a:lnTo>
                  <a:pt x="878" y="924"/>
                </a:lnTo>
                <a:lnTo>
                  <a:pt x="888" y="924"/>
                </a:lnTo>
                <a:lnTo>
                  <a:pt x="897" y="933"/>
                </a:lnTo>
                <a:lnTo>
                  <a:pt x="907" y="933"/>
                </a:lnTo>
                <a:lnTo>
                  <a:pt x="926" y="933"/>
                </a:lnTo>
                <a:lnTo>
                  <a:pt x="935" y="933"/>
                </a:lnTo>
                <a:lnTo>
                  <a:pt x="945" y="943"/>
                </a:lnTo>
                <a:lnTo>
                  <a:pt x="954" y="943"/>
                </a:lnTo>
                <a:lnTo>
                  <a:pt x="963" y="943"/>
                </a:lnTo>
                <a:lnTo>
                  <a:pt x="973" y="943"/>
                </a:lnTo>
                <a:lnTo>
                  <a:pt x="982" y="952"/>
                </a:lnTo>
                <a:lnTo>
                  <a:pt x="1001" y="952"/>
                </a:lnTo>
                <a:lnTo>
                  <a:pt x="1011" y="952"/>
                </a:lnTo>
                <a:lnTo>
                  <a:pt x="1020" y="952"/>
                </a:lnTo>
                <a:lnTo>
                  <a:pt x="1030" y="952"/>
                </a:lnTo>
                <a:lnTo>
                  <a:pt x="1039" y="952"/>
                </a:lnTo>
                <a:lnTo>
                  <a:pt x="1048" y="952"/>
                </a:lnTo>
                <a:lnTo>
                  <a:pt x="1058" y="952"/>
                </a:lnTo>
                <a:lnTo>
                  <a:pt x="1077" y="952"/>
                </a:lnTo>
                <a:lnTo>
                  <a:pt x="1086" y="952"/>
                </a:lnTo>
                <a:lnTo>
                  <a:pt x="1096" y="952"/>
                </a:lnTo>
                <a:lnTo>
                  <a:pt x="1105" y="952"/>
                </a:lnTo>
                <a:lnTo>
                  <a:pt x="1115" y="952"/>
                </a:lnTo>
                <a:lnTo>
                  <a:pt x="1124" y="952"/>
                </a:lnTo>
                <a:lnTo>
                  <a:pt x="1133" y="952"/>
                </a:lnTo>
                <a:lnTo>
                  <a:pt x="1143" y="952"/>
                </a:lnTo>
                <a:lnTo>
                  <a:pt x="1162" y="952"/>
                </a:lnTo>
                <a:lnTo>
                  <a:pt x="1171" y="943"/>
                </a:lnTo>
                <a:lnTo>
                  <a:pt x="1181" y="943"/>
                </a:lnTo>
                <a:lnTo>
                  <a:pt x="1190" y="943"/>
                </a:lnTo>
                <a:lnTo>
                  <a:pt x="1199" y="943"/>
                </a:lnTo>
                <a:lnTo>
                  <a:pt x="1209" y="933"/>
                </a:lnTo>
                <a:lnTo>
                  <a:pt x="1218" y="933"/>
                </a:lnTo>
                <a:lnTo>
                  <a:pt x="1237" y="933"/>
                </a:lnTo>
                <a:lnTo>
                  <a:pt x="1247" y="933"/>
                </a:lnTo>
                <a:lnTo>
                  <a:pt x="1256" y="924"/>
                </a:lnTo>
                <a:lnTo>
                  <a:pt x="1266" y="924"/>
                </a:lnTo>
                <a:lnTo>
                  <a:pt x="1275" y="924"/>
                </a:lnTo>
                <a:lnTo>
                  <a:pt x="1284" y="914"/>
                </a:lnTo>
                <a:lnTo>
                  <a:pt x="1294" y="914"/>
                </a:lnTo>
                <a:lnTo>
                  <a:pt x="1303" y="905"/>
                </a:lnTo>
                <a:lnTo>
                  <a:pt x="1322" y="905"/>
                </a:lnTo>
                <a:lnTo>
                  <a:pt x="1332" y="896"/>
                </a:lnTo>
                <a:lnTo>
                  <a:pt x="1341" y="896"/>
                </a:lnTo>
                <a:lnTo>
                  <a:pt x="1351" y="886"/>
                </a:lnTo>
                <a:lnTo>
                  <a:pt x="1360" y="886"/>
                </a:lnTo>
                <a:lnTo>
                  <a:pt x="1369" y="877"/>
                </a:lnTo>
                <a:lnTo>
                  <a:pt x="1379" y="877"/>
                </a:lnTo>
                <a:lnTo>
                  <a:pt x="1398" y="867"/>
                </a:lnTo>
                <a:lnTo>
                  <a:pt x="1407" y="858"/>
                </a:lnTo>
                <a:lnTo>
                  <a:pt x="1417" y="858"/>
                </a:lnTo>
                <a:lnTo>
                  <a:pt x="1426" y="848"/>
                </a:lnTo>
                <a:lnTo>
                  <a:pt x="1436" y="839"/>
                </a:lnTo>
                <a:lnTo>
                  <a:pt x="1445" y="839"/>
                </a:lnTo>
                <a:lnTo>
                  <a:pt x="1454" y="830"/>
                </a:lnTo>
                <a:lnTo>
                  <a:pt x="1464" y="820"/>
                </a:lnTo>
                <a:lnTo>
                  <a:pt x="1483" y="820"/>
                </a:lnTo>
                <a:lnTo>
                  <a:pt x="1492" y="811"/>
                </a:lnTo>
                <a:lnTo>
                  <a:pt x="1502" y="801"/>
                </a:lnTo>
                <a:lnTo>
                  <a:pt x="1511" y="792"/>
                </a:lnTo>
                <a:lnTo>
                  <a:pt x="1520" y="782"/>
                </a:lnTo>
                <a:lnTo>
                  <a:pt x="1530" y="773"/>
                </a:lnTo>
                <a:lnTo>
                  <a:pt x="1539" y="773"/>
                </a:lnTo>
                <a:lnTo>
                  <a:pt x="1558" y="764"/>
                </a:lnTo>
                <a:lnTo>
                  <a:pt x="1568" y="754"/>
                </a:lnTo>
                <a:lnTo>
                  <a:pt x="1577" y="745"/>
                </a:lnTo>
                <a:lnTo>
                  <a:pt x="1587" y="735"/>
                </a:lnTo>
                <a:lnTo>
                  <a:pt x="1596" y="726"/>
                </a:lnTo>
                <a:lnTo>
                  <a:pt x="1605" y="716"/>
                </a:lnTo>
                <a:lnTo>
                  <a:pt x="1615" y="707"/>
                </a:lnTo>
                <a:lnTo>
                  <a:pt x="1634" y="698"/>
                </a:lnTo>
                <a:lnTo>
                  <a:pt x="1643" y="688"/>
                </a:lnTo>
                <a:lnTo>
                  <a:pt x="1653" y="679"/>
                </a:lnTo>
                <a:lnTo>
                  <a:pt x="1662" y="669"/>
                </a:lnTo>
                <a:lnTo>
                  <a:pt x="1672" y="650"/>
                </a:lnTo>
                <a:lnTo>
                  <a:pt x="1681" y="641"/>
                </a:lnTo>
                <a:lnTo>
                  <a:pt x="1690" y="632"/>
                </a:lnTo>
                <a:lnTo>
                  <a:pt x="1700" y="622"/>
                </a:lnTo>
                <a:lnTo>
                  <a:pt x="1719" y="613"/>
                </a:lnTo>
                <a:lnTo>
                  <a:pt x="1728" y="594"/>
                </a:lnTo>
                <a:lnTo>
                  <a:pt x="1738" y="584"/>
                </a:lnTo>
                <a:lnTo>
                  <a:pt x="1747" y="575"/>
                </a:lnTo>
                <a:lnTo>
                  <a:pt x="1757" y="566"/>
                </a:lnTo>
                <a:lnTo>
                  <a:pt x="1766" y="547"/>
                </a:lnTo>
                <a:lnTo>
                  <a:pt x="1775" y="537"/>
                </a:lnTo>
                <a:lnTo>
                  <a:pt x="1794" y="528"/>
                </a:lnTo>
                <a:lnTo>
                  <a:pt x="1804" y="509"/>
                </a:lnTo>
                <a:lnTo>
                  <a:pt x="1813" y="500"/>
                </a:lnTo>
                <a:lnTo>
                  <a:pt x="1823" y="490"/>
                </a:lnTo>
                <a:lnTo>
                  <a:pt x="1832" y="471"/>
                </a:lnTo>
                <a:lnTo>
                  <a:pt x="1841" y="462"/>
                </a:lnTo>
                <a:lnTo>
                  <a:pt x="1851" y="443"/>
                </a:lnTo>
                <a:lnTo>
                  <a:pt x="1860" y="434"/>
                </a:lnTo>
                <a:lnTo>
                  <a:pt x="1879" y="415"/>
                </a:lnTo>
                <a:lnTo>
                  <a:pt x="1889" y="405"/>
                </a:lnTo>
                <a:lnTo>
                  <a:pt x="1898" y="386"/>
                </a:lnTo>
                <a:lnTo>
                  <a:pt x="1908" y="377"/>
                </a:lnTo>
                <a:lnTo>
                  <a:pt x="1917" y="358"/>
                </a:lnTo>
                <a:lnTo>
                  <a:pt x="1926" y="339"/>
                </a:lnTo>
                <a:lnTo>
                  <a:pt x="1936" y="330"/>
                </a:lnTo>
                <a:lnTo>
                  <a:pt x="1955" y="311"/>
                </a:lnTo>
                <a:lnTo>
                  <a:pt x="1964" y="292"/>
                </a:lnTo>
                <a:lnTo>
                  <a:pt x="1974" y="283"/>
                </a:lnTo>
                <a:lnTo>
                  <a:pt x="1983" y="264"/>
                </a:lnTo>
                <a:lnTo>
                  <a:pt x="1993" y="245"/>
                </a:lnTo>
                <a:lnTo>
                  <a:pt x="2002" y="226"/>
                </a:lnTo>
                <a:lnTo>
                  <a:pt x="2011" y="217"/>
                </a:lnTo>
                <a:lnTo>
                  <a:pt x="2030" y="198"/>
                </a:lnTo>
                <a:lnTo>
                  <a:pt x="2040" y="179"/>
                </a:lnTo>
                <a:lnTo>
                  <a:pt x="2049" y="160"/>
                </a:lnTo>
                <a:lnTo>
                  <a:pt x="2059" y="141"/>
                </a:lnTo>
                <a:lnTo>
                  <a:pt x="2068" y="132"/>
                </a:lnTo>
                <a:lnTo>
                  <a:pt x="2078" y="113"/>
                </a:lnTo>
                <a:lnTo>
                  <a:pt x="2087" y="94"/>
                </a:lnTo>
                <a:lnTo>
                  <a:pt x="2096" y="75"/>
                </a:lnTo>
                <a:lnTo>
                  <a:pt x="2115" y="56"/>
                </a:lnTo>
                <a:lnTo>
                  <a:pt x="2125" y="38"/>
                </a:lnTo>
                <a:lnTo>
                  <a:pt x="2134" y="19"/>
                </a:lnTo>
                <a:lnTo>
                  <a:pt x="2144" y="0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>
            <a:off x="2156760" y="2055960"/>
            <a:ext cx="2879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انرژی پتانسیل فن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>
            <a:off x="1580400" y="5052960"/>
            <a:ext cx="9907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-6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1580400" y="4754520"/>
            <a:ext cx="9907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-4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>
            <a:off x="1580400" y="4440240"/>
            <a:ext cx="9907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-2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1728720" y="4140360"/>
            <a:ext cx="844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>
            <a:off x="1640160" y="3841920"/>
            <a:ext cx="9360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6" name=""/>
          <p:cNvSpPr/>
          <p:nvPr/>
        </p:nvSpPr>
        <p:spPr>
          <a:xfrm>
            <a:off x="1640160" y="3541680"/>
            <a:ext cx="9360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4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7" name=""/>
          <p:cNvSpPr/>
          <p:nvPr/>
        </p:nvSpPr>
        <p:spPr>
          <a:xfrm>
            <a:off x="1640160" y="3228840"/>
            <a:ext cx="9360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6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8" name=""/>
          <p:cNvSpPr/>
          <p:nvPr/>
        </p:nvSpPr>
        <p:spPr>
          <a:xfrm>
            <a:off x="1640160" y="2928960"/>
            <a:ext cx="9360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8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9" name=""/>
          <p:cNvSpPr/>
          <p:nvPr/>
        </p:nvSpPr>
        <p:spPr>
          <a:xfrm>
            <a:off x="1550160" y="2630520"/>
            <a:ext cx="10274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1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0" name=""/>
          <p:cNvSpPr/>
          <p:nvPr/>
        </p:nvSpPr>
        <p:spPr>
          <a:xfrm>
            <a:off x="1550160" y="2330280"/>
            <a:ext cx="10274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12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1" name=""/>
          <p:cNvSpPr/>
          <p:nvPr/>
        </p:nvSpPr>
        <p:spPr>
          <a:xfrm>
            <a:off x="1550160" y="2016000"/>
            <a:ext cx="10274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14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>
            <a:off x="1550160" y="1717560"/>
            <a:ext cx="10274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16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3" name=""/>
          <p:cNvSpPr/>
          <p:nvPr/>
        </p:nvSpPr>
        <p:spPr>
          <a:xfrm>
            <a:off x="1820160" y="4379760"/>
            <a:ext cx="9907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-1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"/>
          <p:cNvSpPr/>
          <p:nvPr/>
        </p:nvSpPr>
        <p:spPr>
          <a:xfrm>
            <a:off x="2208600" y="4379760"/>
            <a:ext cx="8992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-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2539080" y="4379760"/>
            <a:ext cx="8992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-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2883600" y="4379760"/>
            <a:ext cx="8992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>
            <a:off x="3228120" y="4379760"/>
            <a:ext cx="8992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>
            <a:off x="3602160" y="4379760"/>
            <a:ext cx="844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>
            <a:off x="3932280" y="4379760"/>
            <a:ext cx="844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>
            <a:off x="4275360" y="4379760"/>
            <a:ext cx="844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>
            <a:off x="4619880" y="4379760"/>
            <a:ext cx="844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2" name=""/>
          <p:cNvSpPr/>
          <p:nvPr/>
        </p:nvSpPr>
        <p:spPr>
          <a:xfrm>
            <a:off x="4950000" y="4379760"/>
            <a:ext cx="844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>
            <a:off x="5250240" y="4379760"/>
            <a:ext cx="9360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4" name=""/>
          <p:cNvSpPr/>
          <p:nvPr/>
        </p:nvSpPr>
        <p:spPr>
          <a:xfrm>
            <a:off x="4819320" y="471816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5" name=""/>
          <p:cNvSpPr/>
          <p:nvPr/>
        </p:nvSpPr>
        <p:spPr>
          <a:xfrm>
            <a:off x="1217160" y="2624040"/>
            <a:ext cx="1007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U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6" name=""/>
          <p:cNvSpPr/>
          <p:nvPr/>
        </p:nvSpPr>
        <p:spPr>
          <a:xfrm>
            <a:off x="6021360" y="2843280"/>
            <a:ext cx="392040" cy="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7" name=""/>
          <p:cNvSpPr/>
          <p:nvPr/>
        </p:nvSpPr>
        <p:spPr>
          <a:xfrm>
            <a:off x="6110280" y="2712960"/>
            <a:ext cx="19116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S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y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0" name=""/>
          <p:cNvSpPr/>
          <p:nvPr/>
        </p:nvSpPr>
        <p:spPr>
          <a:xfrm>
            <a:off x="2313000" y="1859040"/>
            <a:ext cx="0" cy="33242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1" name=""/>
          <p:cNvSpPr/>
          <p:nvPr/>
        </p:nvSpPr>
        <p:spPr>
          <a:xfrm>
            <a:off x="2274840" y="5189400"/>
            <a:ext cx="77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2" name=""/>
          <p:cNvSpPr/>
          <p:nvPr/>
        </p:nvSpPr>
        <p:spPr>
          <a:xfrm>
            <a:off x="2274840" y="4890960"/>
            <a:ext cx="77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3" name=""/>
          <p:cNvSpPr/>
          <p:nvPr/>
        </p:nvSpPr>
        <p:spPr>
          <a:xfrm>
            <a:off x="2274840" y="4576680"/>
            <a:ext cx="77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4" name=""/>
          <p:cNvSpPr/>
          <p:nvPr/>
        </p:nvSpPr>
        <p:spPr>
          <a:xfrm>
            <a:off x="2274840" y="4276800"/>
            <a:ext cx="77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>
            <a:off x="2274840" y="3978360"/>
            <a:ext cx="77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6" name=""/>
          <p:cNvSpPr/>
          <p:nvPr/>
        </p:nvSpPr>
        <p:spPr>
          <a:xfrm>
            <a:off x="2274840" y="3678120"/>
            <a:ext cx="77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>
            <a:off x="2274840" y="3363840"/>
            <a:ext cx="77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>
            <a:off x="2274840" y="3063960"/>
            <a:ext cx="77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9" name=""/>
          <p:cNvSpPr/>
          <p:nvPr/>
        </p:nvSpPr>
        <p:spPr>
          <a:xfrm>
            <a:off x="2274840" y="2765520"/>
            <a:ext cx="77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0" name=""/>
          <p:cNvSpPr/>
          <p:nvPr/>
        </p:nvSpPr>
        <p:spPr>
          <a:xfrm>
            <a:off x="2274840" y="2465280"/>
            <a:ext cx="77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1" name=""/>
          <p:cNvSpPr/>
          <p:nvPr/>
        </p:nvSpPr>
        <p:spPr>
          <a:xfrm>
            <a:off x="2274840" y="2151000"/>
            <a:ext cx="77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2" name=""/>
          <p:cNvSpPr/>
          <p:nvPr/>
        </p:nvSpPr>
        <p:spPr>
          <a:xfrm>
            <a:off x="2274840" y="1852560"/>
            <a:ext cx="77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3" name=""/>
          <p:cNvSpPr/>
          <p:nvPr/>
        </p:nvSpPr>
        <p:spPr>
          <a:xfrm>
            <a:off x="2319480" y="4276800"/>
            <a:ext cx="33908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4" name=""/>
          <p:cNvSpPr/>
          <p:nvPr/>
        </p:nvSpPr>
        <p:spPr>
          <a:xfrm flipV="1">
            <a:off x="231300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5" name=""/>
          <p:cNvSpPr/>
          <p:nvPr/>
        </p:nvSpPr>
        <p:spPr>
          <a:xfrm flipV="1">
            <a:off x="247824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6" name=""/>
          <p:cNvSpPr/>
          <p:nvPr/>
        </p:nvSpPr>
        <p:spPr>
          <a:xfrm flipV="1">
            <a:off x="265896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7" name=""/>
          <p:cNvSpPr/>
          <p:nvPr/>
        </p:nvSpPr>
        <p:spPr>
          <a:xfrm flipV="1">
            <a:off x="282240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 flipV="1">
            <a:off x="298764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 flipV="1">
            <a:off x="316872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 flipV="1">
            <a:off x="333216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 flipV="1">
            <a:off x="349740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 flipV="1">
            <a:off x="367812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 flipV="1">
            <a:off x="384192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 flipV="1">
            <a:off x="402264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 flipV="1">
            <a:off x="418788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 flipV="1">
            <a:off x="435132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 flipV="1">
            <a:off x="453240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 flipV="1">
            <a:off x="469728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 flipV="1">
            <a:off x="486108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 flipV="1">
            <a:off x="504180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1" name=""/>
          <p:cNvSpPr/>
          <p:nvPr/>
        </p:nvSpPr>
        <p:spPr>
          <a:xfrm flipV="1">
            <a:off x="520704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2" name=""/>
          <p:cNvSpPr/>
          <p:nvPr/>
        </p:nvSpPr>
        <p:spPr>
          <a:xfrm flipV="1">
            <a:off x="537048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3" name=""/>
          <p:cNvSpPr/>
          <p:nvPr/>
        </p:nvSpPr>
        <p:spPr>
          <a:xfrm flipV="1">
            <a:off x="555156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4" name=""/>
          <p:cNvSpPr/>
          <p:nvPr/>
        </p:nvSpPr>
        <p:spPr>
          <a:xfrm flipV="1">
            <a:off x="571644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5" name=""/>
          <p:cNvSpPr/>
          <p:nvPr/>
        </p:nvSpPr>
        <p:spPr>
          <a:xfrm>
            <a:off x="2313000" y="3529080"/>
            <a:ext cx="3405240" cy="1512720"/>
          </a:xfrm>
          <a:custGeom>
            <a:avLst/>
            <a:gdLst/>
            <a:ahLst/>
            <a:rect l="l" t="t" r="r" b="b"/>
            <a:pathLst>
              <a:path w="2145" h="953">
                <a:moveTo>
                  <a:pt x="0" y="952"/>
                </a:moveTo>
                <a:lnTo>
                  <a:pt x="10" y="942"/>
                </a:lnTo>
                <a:lnTo>
                  <a:pt x="19" y="942"/>
                </a:lnTo>
                <a:lnTo>
                  <a:pt x="29" y="933"/>
                </a:lnTo>
                <a:lnTo>
                  <a:pt x="48" y="933"/>
                </a:lnTo>
                <a:lnTo>
                  <a:pt x="57" y="924"/>
                </a:lnTo>
                <a:lnTo>
                  <a:pt x="67" y="924"/>
                </a:lnTo>
                <a:lnTo>
                  <a:pt x="76" y="914"/>
                </a:lnTo>
                <a:lnTo>
                  <a:pt x="85" y="914"/>
                </a:lnTo>
                <a:lnTo>
                  <a:pt x="95" y="905"/>
                </a:lnTo>
                <a:lnTo>
                  <a:pt x="104" y="905"/>
                </a:lnTo>
                <a:lnTo>
                  <a:pt x="114" y="895"/>
                </a:lnTo>
                <a:lnTo>
                  <a:pt x="133" y="895"/>
                </a:lnTo>
                <a:lnTo>
                  <a:pt x="142" y="886"/>
                </a:lnTo>
                <a:lnTo>
                  <a:pt x="152" y="886"/>
                </a:lnTo>
                <a:lnTo>
                  <a:pt x="161" y="876"/>
                </a:lnTo>
                <a:lnTo>
                  <a:pt x="170" y="876"/>
                </a:lnTo>
                <a:lnTo>
                  <a:pt x="180" y="867"/>
                </a:lnTo>
                <a:lnTo>
                  <a:pt x="189" y="867"/>
                </a:lnTo>
                <a:lnTo>
                  <a:pt x="208" y="858"/>
                </a:lnTo>
                <a:lnTo>
                  <a:pt x="218" y="858"/>
                </a:lnTo>
                <a:lnTo>
                  <a:pt x="227" y="848"/>
                </a:lnTo>
                <a:lnTo>
                  <a:pt x="236" y="848"/>
                </a:lnTo>
                <a:lnTo>
                  <a:pt x="246" y="839"/>
                </a:lnTo>
                <a:lnTo>
                  <a:pt x="255" y="839"/>
                </a:lnTo>
                <a:lnTo>
                  <a:pt x="265" y="829"/>
                </a:lnTo>
                <a:lnTo>
                  <a:pt x="284" y="829"/>
                </a:lnTo>
                <a:lnTo>
                  <a:pt x="293" y="820"/>
                </a:lnTo>
                <a:lnTo>
                  <a:pt x="303" y="820"/>
                </a:lnTo>
                <a:lnTo>
                  <a:pt x="312" y="810"/>
                </a:lnTo>
                <a:lnTo>
                  <a:pt x="321" y="810"/>
                </a:lnTo>
                <a:lnTo>
                  <a:pt x="331" y="801"/>
                </a:lnTo>
                <a:lnTo>
                  <a:pt x="340" y="801"/>
                </a:lnTo>
                <a:lnTo>
                  <a:pt x="350" y="792"/>
                </a:lnTo>
                <a:lnTo>
                  <a:pt x="369" y="792"/>
                </a:lnTo>
                <a:lnTo>
                  <a:pt x="378" y="782"/>
                </a:lnTo>
                <a:lnTo>
                  <a:pt x="388" y="782"/>
                </a:lnTo>
                <a:lnTo>
                  <a:pt x="397" y="773"/>
                </a:lnTo>
                <a:lnTo>
                  <a:pt x="406" y="773"/>
                </a:lnTo>
                <a:lnTo>
                  <a:pt x="416" y="763"/>
                </a:lnTo>
                <a:lnTo>
                  <a:pt x="425" y="763"/>
                </a:lnTo>
                <a:lnTo>
                  <a:pt x="444" y="754"/>
                </a:lnTo>
                <a:lnTo>
                  <a:pt x="454" y="754"/>
                </a:lnTo>
                <a:lnTo>
                  <a:pt x="463" y="744"/>
                </a:lnTo>
                <a:lnTo>
                  <a:pt x="473" y="744"/>
                </a:lnTo>
                <a:lnTo>
                  <a:pt x="482" y="735"/>
                </a:lnTo>
                <a:lnTo>
                  <a:pt x="491" y="735"/>
                </a:lnTo>
                <a:lnTo>
                  <a:pt x="501" y="726"/>
                </a:lnTo>
                <a:lnTo>
                  <a:pt x="510" y="726"/>
                </a:lnTo>
                <a:lnTo>
                  <a:pt x="529" y="716"/>
                </a:lnTo>
                <a:lnTo>
                  <a:pt x="539" y="716"/>
                </a:lnTo>
                <a:lnTo>
                  <a:pt x="548" y="707"/>
                </a:lnTo>
                <a:lnTo>
                  <a:pt x="557" y="707"/>
                </a:lnTo>
                <a:lnTo>
                  <a:pt x="567" y="697"/>
                </a:lnTo>
                <a:lnTo>
                  <a:pt x="576" y="688"/>
                </a:lnTo>
                <a:lnTo>
                  <a:pt x="586" y="688"/>
                </a:lnTo>
                <a:lnTo>
                  <a:pt x="605" y="679"/>
                </a:lnTo>
                <a:lnTo>
                  <a:pt x="614" y="679"/>
                </a:lnTo>
                <a:lnTo>
                  <a:pt x="624" y="669"/>
                </a:lnTo>
                <a:lnTo>
                  <a:pt x="633" y="669"/>
                </a:lnTo>
                <a:lnTo>
                  <a:pt x="642" y="660"/>
                </a:lnTo>
                <a:lnTo>
                  <a:pt x="652" y="660"/>
                </a:lnTo>
                <a:lnTo>
                  <a:pt x="661" y="650"/>
                </a:lnTo>
                <a:lnTo>
                  <a:pt x="680" y="650"/>
                </a:lnTo>
                <a:lnTo>
                  <a:pt x="690" y="641"/>
                </a:lnTo>
                <a:lnTo>
                  <a:pt x="699" y="641"/>
                </a:lnTo>
                <a:lnTo>
                  <a:pt x="709" y="631"/>
                </a:lnTo>
                <a:lnTo>
                  <a:pt x="718" y="631"/>
                </a:lnTo>
                <a:lnTo>
                  <a:pt x="727" y="622"/>
                </a:lnTo>
                <a:lnTo>
                  <a:pt x="737" y="622"/>
                </a:lnTo>
                <a:lnTo>
                  <a:pt x="746" y="613"/>
                </a:lnTo>
                <a:lnTo>
                  <a:pt x="765" y="613"/>
                </a:lnTo>
                <a:lnTo>
                  <a:pt x="775" y="603"/>
                </a:lnTo>
                <a:lnTo>
                  <a:pt x="784" y="603"/>
                </a:lnTo>
                <a:lnTo>
                  <a:pt x="794" y="594"/>
                </a:lnTo>
                <a:lnTo>
                  <a:pt x="803" y="594"/>
                </a:lnTo>
                <a:lnTo>
                  <a:pt x="812" y="584"/>
                </a:lnTo>
                <a:lnTo>
                  <a:pt x="822" y="584"/>
                </a:lnTo>
                <a:lnTo>
                  <a:pt x="841" y="575"/>
                </a:lnTo>
                <a:lnTo>
                  <a:pt x="850" y="575"/>
                </a:lnTo>
                <a:lnTo>
                  <a:pt x="860" y="565"/>
                </a:lnTo>
                <a:lnTo>
                  <a:pt x="869" y="565"/>
                </a:lnTo>
                <a:lnTo>
                  <a:pt x="878" y="556"/>
                </a:lnTo>
                <a:lnTo>
                  <a:pt x="888" y="556"/>
                </a:lnTo>
                <a:lnTo>
                  <a:pt x="897" y="547"/>
                </a:lnTo>
                <a:lnTo>
                  <a:pt x="907" y="547"/>
                </a:lnTo>
                <a:lnTo>
                  <a:pt x="926" y="537"/>
                </a:lnTo>
                <a:lnTo>
                  <a:pt x="935" y="537"/>
                </a:lnTo>
                <a:lnTo>
                  <a:pt x="945" y="528"/>
                </a:lnTo>
                <a:lnTo>
                  <a:pt x="954" y="528"/>
                </a:lnTo>
                <a:lnTo>
                  <a:pt x="963" y="518"/>
                </a:lnTo>
                <a:lnTo>
                  <a:pt x="973" y="518"/>
                </a:lnTo>
                <a:lnTo>
                  <a:pt x="982" y="509"/>
                </a:lnTo>
                <a:lnTo>
                  <a:pt x="1001" y="509"/>
                </a:lnTo>
                <a:lnTo>
                  <a:pt x="1011" y="499"/>
                </a:lnTo>
                <a:lnTo>
                  <a:pt x="1020" y="499"/>
                </a:lnTo>
                <a:lnTo>
                  <a:pt x="1030" y="490"/>
                </a:lnTo>
                <a:lnTo>
                  <a:pt x="1039" y="490"/>
                </a:lnTo>
                <a:lnTo>
                  <a:pt x="1048" y="481"/>
                </a:lnTo>
                <a:lnTo>
                  <a:pt x="1058" y="481"/>
                </a:lnTo>
                <a:lnTo>
                  <a:pt x="1077" y="471"/>
                </a:lnTo>
                <a:lnTo>
                  <a:pt x="1086" y="471"/>
                </a:lnTo>
                <a:lnTo>
                  <a:pt x="1096" y="462"/>
                </a:lnTo>
                <a:lnTo>
                  <a:pt x="1105" y="462"/>
                </a:lnTo>
                <a:lnTo>
                  <a:pt x="1115" y="452"/>
                </a:lnTo>
                <a:lnTo>
                  <a:pt x="1124" y="452"/>
                </a:lnTo>
                <a:lnTo>
                  <a:pt x="1133" y="443"/>
                </a:lnTo>
                <a:lnTo>
                  <a:pt x="1143" y="443"/>
                </a:lnTo>
                <a:lnTo>
                  <a:pt x="1162" y="433"/>
                </a:lnTo>
                <a:lnTo>
                  <a:pt x="1171" y="433"/>
                </a:lnTo>
                <a:lnTo>
                  <a:pt x="1181" y="424"/>
                </a:lnTo>
                <a:lnTo>
                  <a:pt x="1190" y="424"/>
                </a:lnTo>
                <a:lnTo>
                  <a:pt x="1199" y="415"/>
                </a:lnTo>
                <a:lnTo>
                  <a:pt x="1209" y="415"/>
                </a:lnTo>
                <a:lnTo>
                  <a:pt x="1218" y="405"/>
                </a:lnTo>
                <a:lnTo>
                  <a:pt x="1237" y="405"/>
                </a:lnTo>
                <a:lnTo>
                  <a:pt x="1247" y="396"/>
                </a:lnTo>
                <a:lnTo>
                  <a:pt x="1256" y="396"/>
                </a:lnTo>
                <a:lnTo>
                  <a:pt x="1266" y="386"/>
                </a:lnTo>
                <a:lnTo>
                  <a:pt x="1275" y="386"/>
                </a:lnTo>
                <a:lnTo>
                  <a:pt x="1284" y="377"/>
                </a:lnTo>
                <a:lnTo>
                  <a:pt x="1294" y="377"/>
                </a:lnTo>
                <a:lnTo>
                  <a:pt x="1303" y="367"/>
                </a:lnTo>
                <a:lnTo>
                  <a:pt x="1322" y="367"/>
                </a:lnTo>
                <a:lnTo>
                  <a:pt x="1332" y="358"/>
                </a:lnTo>
                <a:lnTo>
                  <a:pt x="1341" y="358"/>
                </a:lnTo>
                <a:lnTo>
                  <a:pt x="1351" y="349"/>
                </a:lnTo>
                <a:lnTo>
                  <a:pt x="1360" y="339"/>
                </a:lnTo>
                <a:lnTo>
                  <a:pt x="1369" y="339"/>
                </a:lnTo>
                <a:lnTo>
                  <a:pt x="1379" y="330"/>
                </a:lnTo>
                <a:lnTo>
                  <a:pt x="1398" y="330"/>
                </a:lnTo>
                <a:lnTo>
                  <a:pt x="1407" y="320"/>
                </a:lnTo>
                <a:lnTo>
                  <a:pt x="1417" y="320"/>
                </a:lnTo>
                <a:lnTo>
                  <a:pt x="1426" y="311"/>
                </a:lnTo>
                <a:lnTo>
                  <a:pt x="1436" y="311"/>
                </a:lnTo>
                <a:lnTo>
                  <a:pt x="1445" y="301"/>
                </a:lnTo>
                <a:lnTo>
                  <a:pt x="1454" y="301"/>
                </a:lnTo>
                <a:lnTo>
                  <a:pt x="1464" y="292"/>
                </a:lnTo>
                <a:lnTo>
                  <a:pt x="1483" y="292"/>
                </a:lnTo>
                <a:lnTo>
                  <a:pt x="1492" y="283"/>
                </a:lnTo>
                <a:lnTo>
                  <a:pt x="1502" y="283"/>
                </a:lnTo>
                <a:lnTo>
                  <a:pt x="1511" y="273"/>
                </a:lnTo>
                <a:lnTo>
                  <a:pt x="1520" y="273"/>
                </a:lnTo>
                <a:lnTo>
                  <a:pt x="1530" y="264"/>
                </a:lnTo>
                <a:lnTo>
                  <a:pt x="1539" y="264"/>
                </a:lnTo>
                <a:lnTo>
                  <a:pt x="1558" y="254"/>
                </a:lnTo>
                <a:lnTo>
                  <a:pt x="1568" y="254"/>
                </a:lnTo>
                <a:lnTo>
                  <a:pt x="1577" y="245"/>
                </a:lnTo>
                <a:lnTo>
                  <a:pt x="1587" y="245"/>
                </a:lnTo>
                <a:lnTo>
                  <a:pt x="1596" y="235"/>
                </a:lnTo>
                <a:lnTo>
                  <a:pt x="1605" y="235"/>
                </a:lnTo>
                <a:lnTo>
                  <a:pt x="1615" y="226"/>
                </a:lnTo>
                <a:lnTo>
                  <a:pt x="1634" y="226"/>
                </a:lnTo>
                <a:lnTo>
                  <a:pt x="1643" y="217"/>
                </a:lnTo>
                <a:lnTo>
                  <a:pt x="1653" y="217"/>
                </a:lnTo>
                <a:lnTo>
                  <a:pt x="1662" y="207"/>
                </a:lnTo>
                <a:lnTo>
                  <a:pt x="1672" y="207"/>
                </a:lnTo>
                <a:lnTo>
                  <a:pt x="1681" y="198"/>
                </a:lnTo>
                <a:lnTo>
                  <a:pt x="1690" y="198"/>
                </a:lnTo>
                <a:lnTo>
                  <a:pt x="1700" y="188"/>
                </a:lnTo>
                <a:lnTo>
                  <a:pt x="1719" y="188"/>
                </a:lnTo>
                <a:lnTo>
                  <a:pt x="1728" y="179"/>
                </a:lnTo>
                <a:lnTo>
                  <a:pt x="1738" y="179"/>
                </a:lnTo>
                <a:lnTo>
                  <a:pt x="1747" y="169"/>
                </a:lnTo>
                <a:lnTo>
                  <a:pt x="1757" y="169"/>
                </a:lnTo>
                <a:lnTo>
                  <a:pt x="1766" y="160"/>
                </a:lnTo>
                <a:lnTo>
                  <a:pt x="1775" y="160"/>
                </a:lnTo>
                <a:lnTo>
                  <a:pt x="1794" y="151"/>
                </a:lnTo>
                <a:lnTo>
                  <a:pt x="1804" y="151"/>
                </a:lnTo>
                <a:lnTo>
                  <a:pt x="1813" y="141"/>
                </a:lnTo>
                <a:lnTo>
                  <a:pt x="1823" y="141"/>
                </a:lnTo>
                <a:lnTo>
                  <a:pt x="1832" y="132"/>
                </a:lnTo>
                <a:lnTo>
                  <a:pt x="1841" y="132"/>
                </a:lnTo>
                <a:lnTo>
                  <a:pt x="1851" y="122"/>
                </a:lnTo>
                <a:lnTo>
                  <a:pt x="1860" y="122"/>
                </a:lnTo>
                <a:lnTo>
                  <a:pt x="1879" y="113"/>
                </a:lnTo>
                <a:lnTo>
                  <a:pt x="1889" y="113"/>
                </a:lnTo>
                <a:lnTo>
                  <a:pt x="1898" y="103"/>
                </a:lnTo>
                <a:lnTo>
                  <a:pt x="1908" y="103"/>
                </a:lnTo>
                <a:lnTo>
                  <a:pt x="1917" y="94"/>
                </a:lnTo>
                <a:lnTo>
                  <a:pt x="1926" y="94"/>
                </a:lnTo>
                <a:lnTo>
                  <a:pt x="1936" y="85"/>
                </a:lnTo>
                <a:lnTo>
                  <a:pt x="1955" y="85"/>
                </a:lnTo>
                <a:lnTo>
                  <a:pt x="1964" y="75"/>
                </a:lnTo>
                <a:lnTo>
                  <a:pt x="1974" y="75"/>
                </a:lnTo>
                <a:lnTo>
                  <a:pt x="1983" y="66"/>
                </a:lnTo>
                <a:lnTo>
                  <a:pt x="1993" y="66"/>
                </a:lnTo>
                <a:lnTo>
                  <a:pt x="2002" y="56"/>
                </a:lnTo>
                <a:lnTo>
                  <a:pt x="2011" y="56"/>
                </a:lnTo>
                <a:lnTo>
                  <a:pt x="2030" y="47"/>
                </a:lnTo>
                <a:lnTo>
                  <a:pt x="2040" y="47"/>
                </a:lnTo>
                <a:lnTo>
                  <a:pt x="2049" y="37"/>
                </a:lnTo>
                <a:lnTo>
                  <a:pt x="2059" y="37"/>
                </a:lnTo>
                <a:lnTo>
                  <a:pt x="2068" y="28"/>
                </a:lnTo>
                <a:lnTo>
                  <a:pt x="2078" y="28"/>
                </a:lnTo>
                <a:lnTo>
                  <a:pt x="2087" y="19"/>
                </a:lnTo>
                <a:lnTo>
                  <a:pt x="2096" y="19"/>
                </a:lnTo>
                <a:lnTo>
                  <a:pt x="2115" y="9"/>
                </a:lnTo>
                <a:lnTo>
                  <a:pt x="2125" y="9"/>
                </a:lnTo>
                <a:lnTo>
                  <a:pt x="2134" y="0"/>
                </a:lnTo>
                <a:lnTo>
                  <a:pt x="2144" y="0"/>
                </a:lnTo>
              </a:path>
            </a:pathLst>
          </a:custGeom>
          <a:noFill/>
          <a:ln cap="rnd"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6" name=""/>
          <p:cNvSpPr/>
          <p:nvPr/>
        </p:nvSpPr>
        <p:spPr>
          <a:xfrm>
            <a:off x="2139840" y="2055960"/>
            <a:ext cx="3165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انرژی پتانسیل جاذبه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7" name=""/>
          <p:cNvSpPr/>
          <p:nvPr/>
        </p:nvSpPr>
        <p:spPr>
          <a:xfrm>
            <a:off x="1580400" y="5052960"/>
            <a:ext cx="9907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-6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>
            <a:off x="1580400" y="4754520"/>
            <a:ext cx="9907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-4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>
            <a:off x="1580400" y="4440240"/>
            <a:ext cx="9907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-2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>
            <a:off x="1728720" y="4140360"/>
            <a:ext cx="844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>
            <a:off x="1640160" y="3841920"/>
            <a:ext cx="9360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1640160" y="3541680"/>
            <a:ext cx="9360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4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3" name=""/>
          <p:cNvSpPr/>
          <p:nvPr/>
        </p:nvSpPr>
        <p:spPr>
          <a:xfrm>
            <a:off x="1640160" y="3228840"/>
            <a:ext cx="9360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6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4" name=""/>
          <p:cNvSpPr/>
          <p:nvPr/>
        </p:nvSpPr>
        <p:spPr>
          <a:xfrm>
            <a:off x="1640160" y="2928960"/>
            <a:ext cx="9360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8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5" name=""/>
          <p:cNvSpPr/>
          <p:nvPr/>
        </p:nvSpPr>
        <p:spPr>
          <a:xfrm>
            <a:off x="1550160" y="2630520"/>
            <a:ext cx="10274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1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6" name=""/>
          <p:cNvSpPr/>
          <p:nvPr/>
        </p:nvSpPr>
        <p:spPr>
          <a:xfrm>
            <a:off x="1550160" y="2330280"/>
            <a:ext cx="10274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12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7" name=""/>
          <p:cNvSpPr/>
          <p:nvPr/>
        </p:nvSpPr>
        <p:spPr>
          <a:xfrm>
            <a:off x="1550160" y="2016000"/>
            <a:ext cx="10274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14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8" name=""/>
          <p:cNvSpPr/>
          <p:nvPr/>
        </p:nvSpPr>
        <p:spPr>
          <a:xfrm>
            <a:off x="1550160" y="1717560"/>
            <a:ext cx="10274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16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9" name=""/>
          <p:cNvSpPr/>
          <p:nvPr/>
        </p:nvSpPr>
        <p:spPr>
          <a:xfrm>
            <a:off x="1820160" y="4379760"/>
            <a:ext cx="9907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-1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0" name=""/>
          <p:cNvSpPr/>
          <p:nvPr/>
        </p:nvSpPr>
        <p:spPr>
          <a:xfrm>
            <a:off x="2208600" y="4379760"/>
            <a:ext cx="8992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-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1" name=""/>
          <p:cNvSpPr/>
          <p:nvPr/>
        </p:nvSpPr>
        <p:spPr>
          <a:xfrm>
            <a:off x="2539080" y="4379760"/>
            <a:ext cx="8992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-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2" name=""/>
          <p:cNvSpPr/>
          <p:nvPr/>
        </p:nvSpPr>
        <p:spPr>
          <a:xfrm>
            <a:off x="2883600" y="4379760"/>
            <a:ext cx="8992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3" name=""/>
          <p:cNvSpPr/>
          <p:nvPr/>
        </p:nvSpPr>
        <p:spPr>
          <a:xfrm>
            <a:off x="3228120" y="4379760"/>
            <a:ext cx="8992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4" name=""/>
          <p:cNvSpPr/>
          <p:nvPr/>
        </p:nvSpPr>
        <p:spPr>
          <a:xfrm>
            <a:off x="3602160" y="4379760"/>
            <a:ext cx="844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5" name=""/>
          <p:cNvSpPr/>
          <p:nvPr/>
        </p:nvSpPr>
        <p:spPr>
          <a:xfrm>
            <a:off x="3932280" y="4379760"/>
            <a:ext cx="844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6" name=""/>
          <p:cNvSpPr/>
          <p:nvPr/>
        </p:nvSpPr>
        <p:spPr>
          <a:xfrm>
            <a:off x="4275360" y="4379760"/>
            <a:ext cx="844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7" name=""/>
          <p:cNvSpPr/>
          <p:nvPr/>
        </p:nvSpPr>
        <p:spPr>
          <a:xfrm>
            <a:off x="4619880" y="4379760"/>
            <a:ext cx="844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4950000" y="4379760"/>
            <a:ext cx="844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9" name=""/>
          <p:cNvSpPr/>
          <p:nvPr/>
        </p:nvSpPr>
        <p:spPr>
          <a:xfrm>
            <a:off x="5250240" y="4379760"/>
            <a:ext cx="9360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0" name=""/>
          <p:cNvSpPr/>
          <p:nvPr/>
        </p:nvSpPr>
        <p:spPr>
          <a:xfrm>
            <a:off x="4819320" y="471816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1" name=""/>
          <p:cNvSpPr/>
          <p:nvPr/>
        </p:nvSpPr>
        <p:spPr>
          <a:xfrm>
            <a:off x="1217160" y="2624040"/>
            <a:ext cx="1007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U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>
            <a:off x="6021360" y="3549600"/>
            <a:ext cx="39204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>
            <a:off x="6097680" y="3341520"/>
            <a:ext cx="18349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G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mgy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5" name=""/>
          <p:cNvSpPr/>
          <p:nvPr/>
        </p:nvSpPr>
        <p:spPr>
          <a:xfrm>
            <a:off x="2313000" y="1859040"/>
            <a:ext cx="0" cy="33242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6" name=""/>
          <p:cNvSpPr/>
          <p:nvPr/>
        </p:nvSpPr>
        <p:spPr>
          <a:xfrm>
            <a:off x="2274840" y="5189400"/>
            <a:ext cx="77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2274840" y="4890960"/>
            <a:ext cx="77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>
            <a:off x="2274840" y="4576680"/>
            <a:ext cx="77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2274840" y="4276800"/>
            <a:ext cx="77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2274840" y="3978360"/>
            <a:ext cx="77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2274840" y="3678120"/>
            <a:ext cx="77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2274840" y="3363840"/>
            <a:ext cx="77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>
            <a:off x="2274840" y="3063960"/>
            <a:ext cx="77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>
            <a:off x="2274840" y="2765520"/>
            <a:ext cx="77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2274840" y="2465280"/>
            <a:ext cx="77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2274840" y="2151000"/>
            <a:ext cx="77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2274840" y="1852560"/>
            <a:ext cx="77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2319480" y="4276800"/>
            <a:ext cx="33908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 flipV="1">
            <a:off x="231300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 flipV="1">
            <a:off x="247824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 flipV="1">
            <a:off x="265896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 flipV="1">
            <a:off x="282240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 flipV="1">
            <a:off x="298764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 flipV="1">
            <a:off x="316872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 flipV="1">
            <a:off x="333216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6" name=""/>
          <p:cNvSpPr/>
          <p:nvPr/>
        </p:nvSpPr>
        <p:spPr>
          <a:xfrm flipV="1">
            <a:off x="349740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 flipV="1">
            <a:off x="367812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8" name=""/>
          <p:cNvSpPr/>
          <p:nvPr/>
        </p:nvSpPr>
        <p:spPr>
          <a:xfrm flipV="1">
            <a:off x="384192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9" name=""/>
          <p:cNvSpPr/>
          <p:nvPr/>
        </p:nvSpPr>
        <p:spPr>
          <a:xfrm flipV="1">
            <a:off x="402264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0" name=""/>
          <p:cNvSpPr/>
          <p:nvPr/>
        </p:nvSpPr>
        <p:spPr>
          <a:xfrm flipV="1">
            <a:off x="418788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1" name=""/>
          <p:cNvSpPr/>
          <p:nvPr/>
        </p:nvSpPr>
        <p:spPr>
          <a:xfrm flipV="1">
            <a:off x="435132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2" name=""/>
          <p:cNvSpPr/>
          <p:nvPr/>
        </p:nvSpPr>
        <p:spPr>
          <a:xfrm flipV="1">
            <a:off x="453240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"/>
          <p:cNvSpPr/>
          <p:nvPr/>
        </p:nvSpPr>
        <p:spPr>
          <a:xfrm flipV="1">
            <a:off x="469728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"/>
          <p:cNvSpPr/>
          <p:nvPr/>
        </p:nvSpPr>
        <p:spPr>
          <a:xfrm flipV="1">
            <a:off x="486108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5" name=""/>
          <p:cNvSpPr/>
          <p:nvPr/>
        </p:nvSpPr>
        <p:spPr>
          <a:xfrm flipV="1">
            <a:off x="504180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6" name=""/>
          <p:cNvSpPr/>
          <p:nvPr/>
        </p:nvSpPr>
        <p:spPr>
          <a:xfrm flipV="1">
            <a:off x="520704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7" name=""/>
          <p:cNvSpPr/>
          <p:nvPr/>
        </p:nvSpPr>
        <p:spPr>
          <a:xfrm flipV="1">
            <a:off x="537048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8" name=""/>
          <p:cNvSpPr/>
          <p:nvPr/>
        </p:nvSpPr>
        <p:spPr>
          <a:xfrm flipV="1">
            <a:off x="555156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9" name=""/>
          <p:cNvSpPr/>
          <p:nvPr/>
        </p:nvSpPr>
        <p:spPr>
          <a:xfrm flipV="1">
            <a:off x="571644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0" name=""/>
          <p:cNvSpPr/>
          <p:nvPr/>
        </p:nvSpPr>
        <p:spPr>
          <a:xfrm>
            <a:off x="2313000" y="3529080"/>
            <a:ext cx="3405240" cy="1512720"/>
          </a:xfrm>
          <a:custGeom>
            <a:avLst/>
            <a:gdLst/>
            <a:ahLst/>
            <a:rect l="l" t="t" r="r" b="b"/>
            <a:pathLst>
              <a:path w="2145" h="953">
                <a:moveTo>
                  <a:pt x="0" y="952"/>
                </a:moveTo>
                <a:lnTo>
                  <a:pt x="10" y="942"/>
                </a:lnTo>
                <a:lnTo>
                  <a:pt x="19" y="942"/>
                </a:lnTo>
                <a:lnTo>
                  <a:pt x="29" y="933"/>
                </a:lnTo>
                <a:lnTo>
                  <a:pt x="48" y="933"/>
                </a:lnTo>
                <a:lnTo>
                  <a:pt x="57" y="924"/>
                </a:lnTo>
                <a:lnTo>
                  <a:pt x="67" y="924"/>
                </a:lnTo>
                <a:lnTo>
                  <a:pt x="76" y="914"/>
                </a:lnTo>
                <a:lnTo>
                  <a:pt x="85" y="914"/>
                </a:lnTo>
                <a:lnTo>
                  <a:pt x="95" y="905"/>
                </a:lnTo>
                <a:lnTo>
                  <a:pt x="104" y="905"/>
                </a:lnTo>
                <a:lnTo>
                  <a:pt x="114" y="895"/>
                </a:lnTo>
                <a:lnTo>
                  <a:pt x="133" y="895"/>
                </a:lnTo>
                <a:lnTo>
                  <a:pt x="142" y="886"/>
                </a:lnTo>
                <a:lnTo>
                  <a:pt x="152" y="886"/>
                </a:lnTo>
                <a:lnTo>
                  <a:pt x="161" y="876"/>
                </a:lnTo>
                <a:lnTo>
                  <a:pt x="170" y="876"/>
                </a:lnTo>
                <a:lnTo>
                  <a:pt x="180" y="867"/>
                </a:lnTo>
                <a:lnTo>
                  <a:pt x="189" y="867"/>
                </a:lnTo>
                <a:lnTo>
                  <a:pt x="208" y="858"/>
                </a:lnTo>
                <a:lnTo>
                  <a:pt x="218" y="858"/>
                </a:lnTo>
                <a:lnTo>
                  <a:pt x="227" y="848"/>
                </a:lnTo>
                <a:lnTo>
                  <a:pt x="236" y="848"/>
                </a:lnTo>
                <a:lnTo>
                  <a:pt x="246" y="839"/>
                </a:lnTo>
                <a:lnTo>
                  <a:pt x="255" y="839"/>
                </a:lnTo>
                <a:lnTo>
                  <a:pt x="265" y="829"/>
                </a:lnTo>
                <a:lnTo>
                  <a:pt x="284" y="829"/>
                </a:lnTo>
                <a:lnTo>
                  <a:pt x="293" y="820"/>
                </a:lnTo>
                <a:lnTo>
                  <a:pt x="303" y="820"/>
                </a:lnTo>
                <a:lnTo>
                  <a:pt x="312" y="810"/>
                </a:lnTo>
                <a:lnTo>
                  <a:pt x="321" y="810"/>
                </a:lnTo>
                <a:lnTo>
                  <a:pt x="331" y="801"/>
                </a:lnTo>
                <a:lnTo>
                  <a:pt x="340" y="801"/>
                </a:lnTo>
                <a:lnTo>
                  <a:pt x="350" y="792"/>
                </a:lnTo>
                <a:lnTo>
                  <a:pt x="369" y="792"/>
                </a:lnTo>
                <a:lnTo>
                  <a:pt x="378" y="782"/>
                </a:lnTo>
                <a:lnTo>
                  <a:pt x="388" y="782"/>
                </a:lnTo>
                <a:lnTo>
                  <a:pt x="397" y="773"/>
                </a:lnTo>
                <a:lnTo>
                  <a:pt x="406" y="773"/>
                </a:lnTo>
                <a:lnTo>
                  <a:pt x="416" y="763"/>
                </a:lnTo>
                <a:lnTo>
                  <a:pt x="425" y="763"/>
                </a:lnTo>
                <a:lnTo>
                  <a:pt x="444" y="754"/>
                </a:lnTo>
                <a:lnTo>
                  <a:pt x="454" y="754"/>
                </a:lnTo>
                <a:lnTo>
                  <a:pt x="463" y="744"/>
                </a:lnTo>
                <a:lnTo>
                  <a:pt x="473" y="744"/>
                </a:lnTo>
                <a:lnTo>
                  <a:pt x="482" y="735"/>
                </a:lnTo>
                <a:lnTo>
                  <a:pt x="491" y="735"/>
                </a:lnTo>
                <a:lnTo>
                  <a:pt x="501" y="726"/>
                </a:lnTo>
                <a:lnTo>
                  <a:pt x="510" y="726"/>
                </a:lnTo>
                <a:lnTo>
                  <a:pt x="529" y="716"/>
                </a:lnTo>
                <a:lnTo>
                  <a:pt x="539" y="716"/>
                </a:lnTo>
                <a:lnTo>
                  <a:pt x="548" y="707"/>
                </a:lnTo>
                <a:lnTo>
                  <a:pt x="557" y="707"/>
                </a:lnTo>
                <a:lnTo>
                  <a:pt x="567" y="697"/>
                </a:lnTo>
                <a:lnTo>
                  <a:pt x="576" y="688"/>
                </a:lnTo>
                <a:lnTo>
                  <a:pt x="586" y="688"/>
                </a:lnTo>
                <a:lnTo>
                  <a:pt x="605" y="679"/>
                </a:lnTo>
                <a:lnTo>
                  <a:pt x="614" y="679"/>
                </a:lnTo>
                <a:lnTo>
                  <a:pt x="624" y="669"/>
                </a:lnTo>
                <a:lnTo>
                  <a:pt x="633" y="669"/>
                </a:lnTo>
                <a:lnTo>
                  <a:pt x="642" y="660"/>
                </a:lnTo>
                <a:lnTo>
                  <a:pt x="652" y="660"/>
                </a:lnTo>
                <a:lnTo>
                  <a:pt x="661" y="650"/>
                </a:lnTo>
                <a:lnTo>
                  <a:pt x="680" y="650"/>
                </a:lnTo>
                <a:lnTo>
                  <a:pt x="690" y="641"/>
                </a:lnTo>
                <a:lnTo>
                  <a:pt x="699" y="641"/>
                </a:lnTo>
                <a:lnTo>
                  <a:pt x="709" y="631"/>
                </a:lnTo>
                <a:lnTo>
                  <a:pt x="718" y="631"/>
                </a:lnTo>
                <a:lnTo>
                  <a:pt x="727" y="622"/>
                </a:lnTo>
                <a:lnTo>
                  <a:pt x="737" y="622"/>
                </a:lnTo>
                <a:lnTo>
                  <a:pt x="746" y="613"/>
                </a:lnTo>
                <a:lnTo>
                  <a:pt x="765" y="613"/>
                </a:lnTo>
                <a:lnTo>
                  <a:pt x="775" y="603"/>
                </a:lnTo>
                <a:lnTo>
                  <a:pt x="784" y="603"/>
                </a:lnTo>
                <a:lnTo>
                  <a:pt x="794" y="594"/>
                </a:lnTo>
                <a:lnTo>
                  <a:pt x="803" y="594"/>
                </a:lnTo>
                <a:lnTo>
                  <a:pt x="812" y="584"/>
                </a:lnTo>
                <a:lnTo>
                  <a:pt x="822" y="584"/>
                </a:lnTo>
                <a:lnTo>
                  <a:pt x="841" y="575"/>
                </a:lnTo>
                <a:lnTo>
                  <a:pt x="850" y="575"/>
                </a:lnTo>
                <a:lnTo>
                  <a:pt x="860" y="565"/>
                </a:lnTo>
                <a:lnTo>
                  <a:pt x="869" y="565"/>
                </a:lnTo>
                <a:lnTo>
                  <a:pt x="878" y="556"/>
                </a:lnTo>
                <a:lnTo>
                  <a:pt x="888" y="556"/>
                </a:lnTo>
                <a:lnTo>
                  <a:pt x="897" y="547"/>
                </a:lnTo>
                <a:lnTo>
                  <a:pt x="907" y="547"/>
                </a:lnTo>
                <a:lnTo>
                  <a:pt x="926" y="537"/>
                </a:lnTo>
                <a:lnTo>
                  <a:pt x="935" y="537"/>
                </a:lnTo>
                <a:lnTo>
                  <a:pt x="945" y="528"/>
                </a:lnTo>
                <a:lnTo>
                  <a:pt x="954" y="528"/>
                </a:lnTo>
                <a:lnTo>
                  <a:pt x="963" y="518"/>
                </a:lnTo>
                <a:lnTo>
                  <a:pt x="973" y="518"/>
                </a:lnTo>
                <a:lnTo>
                  <a:pt x="982" y="509"/>
                </a:lnTo>
                <a:lnTo>
                  <a:pt x="1001" y="509"/>
                </a:lnTo>
                <a:lnTo>
                  <a:pt x="1011" y="499"/>
                </a:lnTo>
                <a:lnTo>
                  <a:pt x="1020" y="499"/>
                </a:lnTo>
                <a:lnTo>
                  <a:pt x="1030" y="490"/>
                </a:lnTo>
                <a:lnTo>
                  <a:pt x="1039" y="490"/>
                </a:lnTo>
                <a:lnTo>
                  <a:pt x="1048" y="481"/>
                </a:lnTo>
                <a:lnTo>
                  <a:pt x="1058" y="481"/>
                </a:lnTo>
                <a:lnTo>
                  <a:pt x="1077" y="471"/>
                </a:lnTo>
                <a:lnTo>
                  <a:pt x="1086" y="471"/>
                </a:lnTo>
                <a:lnTo>
                  <a:pt x="1096" y="462"/>
                </a:lnTo>
                <a:lnTo>
                  <a:pt x="1105" y="462"/>
                </a:lnTo>
                <a:lnTo>
                  <a:pt x="1115" y="452"/>
                </a:lnTo>
                <a:lnTo>
                  <a:pt x="1124" y="452"/>
                </a:lnTo>
                <a:lnTo>
                  <a:pt x="1133" y="443"/>
                </a:lnTo>
                <a:lnTo>
                  <a:pt x="1143" y="443"/>
                </a:lnTo>
                <a:lnTo>
                  <a:pt x="1162" y="433"/>
                </a:lnTo>
                <a:lnTo>
                  <a:pt x="1171" y="433"/>
                </a:lnTo>
                <a:lnTo>
                  <a:pt x="1181" y="424"/>
                </a:lnTo>
                <a:lnTo>
                  <a:pt x="1190" y="424"/>
                </a:lnTo>
                <a:lnTo>
                  <a:pt x="1199" y="415"/>
                </a:lnTo>
                <a:lnTo>
                  <a:pt x="1209" y="415"/>
                </a:lnTo>
                <a:lnTo>
                  <a:pt x="1218" y="405"/>
                </a:lnTo>
                <a:lnTo>
                  <a:pt x="1237" y="405"/>
                </a:lnTo>
                <a:lnTo>
                  <a:pt x="1247" y="396"/>
                </a:lnTo>
                <a:lnTo>
                  <a:pt x="1256" y="396"/>
                </a:lnTo>
                <a:lnTo>
                  <a:pt x="1266" y="386"/>
                </a:lnTo>
                <a:lnTo>
                  <a:pt x="1275" y="386"/>
                </a:lnTo>
                <a:lnTo>
                  <a:pt x="1284" y="377"/>
                </a:lnTo>
                <a:lnTo>
                  <a:pt x="1294" y="377"/>
                </a:lnTo>
                <a:lnTo>
                  <a:pt x="1303" y="367"/>
                </a:lnTo>
                <a:lnTo>
                  <a:pt x="1322" y="367"/>
                </a:lnTo>
                <a:lnTo>
                  <a:pt x="1332" y="358"/>
                </a:lnTo>
                <a:lnTo>
                  <a:pt x="1341" y="358"/>
                </a:lnTo>
                <a:lnTo>
                  <a:pt x="1351" y="349"/>
                </a:lnTo>
                <a:lnTo>
                  <a:pt x="1360" y="339"/>
                </a:lnTo>
                <a:lnTo>
                  <a:pt x="1369" y="339"/>
                </a:lnTo>
                <a:lnTo>
                  <a:pt x="1379" y="330"/>
                </a:lnTo>
                <a:lnTo>
                  <a:pt x="1398" y="330"/>
                </a:lnTo>
                <a:lnTo>
                  <a:pt x="1407" y="320"/>
                </a:lnTo>
                <a:lnTo>
                  <a:pt x="1417" y="320"/>
                </a:lnTo>
                <a:lnTo>
                  <a:pt x="1426" y="311"/>
                </a:lnTo>
                <a:lnTo>
                  <a:pt x="1436" y="311"/>
                </a:lnTo>
                <a:lnTo>
                  <a:pt x="1445" y="301"/>
                </a:lnTo>
                <a:lnTo>
                  <a:pt x="1454" y="301"/>
                </a:lnTo>
                <a:lnTo>
                  <a:pt x="1464" y="292"/>
                </a:lnTo>
                <a:lnTo>
                  <a:pt x="1483" y="292"/>
                </a:lnTo>
                <a:lnTo>
                  <a:pt x="1492" y="283"/>
                </a:lnTo>
                <a:lnTo>
                  <a:pt x="1502" y="283"/>
                </a:lnTo>
                <a:lnTo>
                  <a:pt x="1511" y="273"/>
                </a:lnTo>
                <a:lnTo>
                  <a:pt x="1520" y="273"/>
                </a:lnTo>
                <a:lnTo>
                  <a:pt x="1530" y="264"/>
                </a:lnTo>
                <a:lnTo>
                  <a:pt x="1539" y="264"/>
                </a:lnTo>
                <a:lnTo>
                  <a:pt x="1558" y="254"/>
                </a:lnTo>
                <a:lnTo>
                  <a:pt x="1568" y="254"/>
                </a:lnTo>
                <a:lnTo>
                  <a:pt x="1577" y="245"/>
                </a:lnTo>
                <a:lnTo>
                  <a:pt x="1587" y="245"/>
                </a:lnTo>
                <a:lnTo>
                  <a:pt x="1596" y="235"/>
                </a:lnTo>
                <a:lnTo>
                  <a:pt x="1605" y="235"/>
                </a:lnTo>
                <a:lnTo>
                  <a:pt x="1615" y="226"/>
                </a:lnTo>
                <a:lnTo>
                  <a:pt x="1634" y="226"/>
                </a:lnTo>
                <a:lnTo>
                  <a:pt x="1643" y="217"/>
                </a:lnTo>
                <a:lnTo>
                  <a:pt x="1653" y="217"/>
                </a:lnTo>
                <a:lnTo>
                  <a:pt x="1662" y="207"/>
                </a:lnTo>
                <a:lnTo>
                  <a:pt x="1672" y="207"/>
                </a:lnTo>
                <a:lnTo>
                  <a:pt x="1681" y="198"/>
                </a:lnTo>
                <a:lnTo>
                  <a:pt x="1690" y="198"/>
                </a:lnTo>
                <a:lnTo>
                  <a:pt x="1700" y="188"/>
                </a:lnTo>
                <a:lnTo>
                  <a:pt x="1719" y="188"/>
                </a:lnTo>
                <a:lnTo>
                  <a:pt x="1728" y="179"/>
                </a:lnTo>
                <a:lnTo>
                  <a:pt x="1738" y="179"/>
                </a:lnTo>
                <a:lnTo>
                  <a:pt x="1747" y="169"/>
                </a:lnTo>
                <a:lnTo>
                  <a:pt x="1757" y="169"/>
                </a:lnTo>
                <a:lnTo>
                  <a:pt x="1766" y="160"/>
                </a:lnTo>
                <a:lnTo>
                  <a:pt x="1775" y="160"/>
                </a:lnTo>
                <a:lnTo>
                  <a:pt x="1794" y="151"/>
                </a:lnTo>
                <a:lnTo>
                  <a:pt x="1804" y="151"/>
                </a:lnTo>
                <a:lnTo>
                  <a:pt x="1813" y="141"/>
                </a:lnTo>
                <a:lnTo>
                  <a:pt x="1823" y="141"/>
                </a:lnTo>
                <a:lnTo>
                  <a:pt x="1832" y="132"/>
                </a:lnTo>
                <a:lnTo>
                  <a:pt x="1841" y="132"/>
                </a:lnTo>
                <a:lnTo>
                  <a:pt x="1851" y="122"/>
                </a:lnTo>
                <a:lnTo>
                  <a:pt x="1860" y="122"/>
                </a:lnTo>
                <a:lnTo>
                  <a:pt x="1879" y="113"/>
                </a:lnTo>
                <a:lnTo>
                  <a:pt x="1889" y="113"/>
                </a:lnTo>
                <a:lnTo>
                  <a:pt x="1898" y="103"/>
                </a:lnTo>
                <a:lnTo>
                  <a:pt x="1908" y="103"/>
                </a:lnTo>
                <a:lnTo>
                  <a:pt x="1917" y="94"/>
                </a:lnTo>
                <a:lnTo>
                  <a:pt x="1926" y="94"/>
                </a:lnTo>
                <a:lnTo>
                  <a:pt x="1936" y="85"/>
                </a:lnTo>
                <a:lnTo>
                  <a:pt x="1955" y="85"/>
                </a:lnTo>
                <a:lnTo>
                  <a:pt x="1964" y="75"/>
                </a:lnTo>
                <a:lnTo>
                  <a:pt x="1974" y="75"/>
                </a:lnTo>
                <a:lnTo>
                  <a:pt x="1983" y="66"/>
                </a:lnTo>
                <a:lnTo>
                  <a:pt x="1993" y="66"/>
                </a:lnTo>
                <a:lnTo>
                  <a:pt x="2002" y="56"/>
                </a:lnTo>
                <a:lnTo>
                  <a:pt x="2011" y="56"/>
                </a:lnTo>
                <a:lnTo>
                  <a:pt x="2030" y="47"/>
                </a:lnTo>
                <a:lnTo>
                  <a:pt x="2040" y="47"/>
                </a:lnTo>
                <a:lnTo>
                  <a:pt x="2049" y="37"/>
                </a:lnTo>
                <a:lnTo>
                  <a:pt x="2059" y="37"/>
                </a:lnTo>
                <a:lnTo>
                  <a:pt x="2068" y="28"/>
                </a:lnTo>
                <a:lnTo>
                  <a:pt x="2078" y="28"/>
                </a:lnTo>
                <a:lnTo>
                  <a:pt x="2087" y="19"/>
                </a:lnTo>
                <a:lnTo>
                  <a:pt x="2096" y="19"/>
                </a:lnTo>
                <a:lnTo>
                  <a:pt x="2115" y="9"/>
                </a:lnTo>
                <a:lnTo>
                  <a:pt x="2125" y="9"/>
                </a:lnTo>
                <a:lnTo>
                  <a:pt x="2134" y="0"/>
                </a:lnTo>
                <a:lnTo>
                  <a:pt x="2144" y="0"/>
                </a:lnTo>
              </a:path>
            </a:pathLst>
          </a:custGeom>
          <a:noFill/>
          <a:ln cap="rnd"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>
            <a:off x="2313000" y="2765520"/>
            <a:ext cx="3405240" cy="1512720"/>
          </a:xfrm>
          <a:custGeom>
            <a:avLst/>
            <a:gdLst/>
            <a:ahLst/>
            <a:rect l="l" t="t" r="r" b="b"/>
            <a:pathLst>
              <a:path w="2145" h="953">
                <a:moveTo>
                  <a:pt x="0" y="0"/>
                </a:moveTo>
                <a:lnTo>
                  <a:pt x="10" y="19"/>
                </a:lnTo>
                <a:lnTo>
                  <a:pt x="19" y="38"/>
                </a:lnTo>
                <a:lnTo>
                  <a:pt x="29" y="56"/>
                </a:lnTo>
                <a:lnTo>
                  <a:pt x="48" y="75"/>
                </a:lnTo>
                <a:lnTo>
                  <a:pt x="57" y="94"/>
                </a:lnTo>
                <a:lnTo>
                  <a:pt x="67" y="113"/>
                </a:lnTo>
                <a:lnTo>
                  <a:pt x="76" y="132"/>
                </a:lnTo>
                <a:lnTo>
                  <a:pt x="85" y="141"/>
                </a:lnTo>
                <a:lnTo>
                  <a:pt x="95" y="160"/>
                </a:lnTo>
                <a:lnTo>
                  <a:pt x="104" y="179"/>
                </a:lnTo>
                <a:lnTo>
                  <a:pt x="114" y="198"/>
                </a:lnTo>
                <a:lnTo>
                  <a:pt x="133" y="217"/>
                </a:lnTo>
                <a:lnTo>
                  <a:pt x="142" y="226"/>
                </a:lnTo>
                <a:lnTo>
                  <a:pt x="152" y="245"/>
                </a:lnTo>
                <a:lnTo>
                  <a:pt x="161" y="264"/>
                </a:lnTo>
                <a:lnTo>
                  <a:pt x="170" y="283"/>
                </a:lnTo>
                <a:lnTo>
                  <a:pt x="180" y="292"/>
                </a:lnTo>
                <a:lnTo>
                  <a:pt x="189" y="311"/>
                </a:lnTo>
                <a:lnTo>
                  <a:pt x="208" y="330"/>
                </a:lnTo>
                <a:lnTo>
                  <a:pt x="218" y="339"/>
                </a:lnTo>
                <a:lnTo>
                  <a:pt x="227" y="358"/>
                </a:lnTo>
                <a:lnTo>
                  <a:pt x="236" y="377"/>
                </a:lnTo>
                <a:lnTo>
                  <a:pt x="246" y="386"/>
                </a:lnTo>
                <a:lnTo>
                  <a:pt x="255" y="405"/>
                </a:lnTo>
                <a:lnTo>
                  <a:pt x="265" y="415"/>
                </a:lnTo>
                <a:lnTo>
                  <a:pt x="284" y="434"/>
                </a:lnTo>
                <a:lnTo>
                  <a:pt x="293" y="443"/>
                </a:lnTo>
                <a:lnTo>
                  <a:pt x="303" y="462"/>
                </a:lnTo>
                <a:lnTo>
                  <a:pt x="312" y="471"/>
                </a:lnTo>
                <a:lnTo>
                  <a:pt x="321" y="490"/>
                </a:lnTo>
                <a:lnTo>
                  <a:pt x="331" y="500"/>
                </a:lnTo>
                <a:lnTo>
                  <a:pt x="340" y="509"/>
                </a:lnTo>
                <a:lnTo>
                  <a:pt x="350" y="528"/>
                </a:lnTo>
                <a:lnTo>
                  <a:pt x="369" y="537"/>
                </a:lnTo>
                <a:lnTo>
                  <a:pt x="378" y="547"/>
                </a:lnTo>
                <a:lnTo>
                  <a:pt x="388" y="566"/>
                </a:lnTo>
                <a:lnTo>
                  <a:pt x="397" y="575"/>
                </a:lnTo>
                <a:lnTo>
                  <a:pt x="406" y="584"/>
                </a:lnTo>
                <a:lnTo>
                  <a:pt x="416" y="594"/>
                </a:lnTo>
                <a:lnTo>
                  <a:pt x="425" y="613"/>
                </a:lnTo>
                <a:lnTo>
                  <a:pt x="444" y="622"/>
                </a:lnTo>
                <a:lnTo>
                  <a:pt x="454" y="632"/>
                </a:lnTo>
                <a:lnTo>
                  <a:pt x="463" y="641"/>
                </a:lnTo>
                <a:lnTo>
                  <a:pt x="473" y="650"/>
                </a:lnTo>
                <a:lnTo>
                  <a:pt x="482" y="669"/>
                </a:lnTo>
                <a:lnTo>
                  <a:pt x="491" y="679"/>
                </a:lnTo>
                <a:lnTo>
                  <a:pt x="501" y="688"/>
                </a:lnTo>
                <a:lnTo>
                  <a:pt x="510" y="698"/>
                </a:lnTo>
                <a:lnTo>
                  <a:pt x="529" y="707"/>
                </a:lnTo>
                <a:lnTo>
                  <a:pt x="539" y="716"/>
                </a:lnTo>
                <a:lnTo>
                  <a:pt x="548" y="726"/>
                </a:lnTo>
                <a:lnTo>
                  <a:pt x="557" y="735"/>
                </a:lnTo>
                <a:lnTo>
                  <a:pt x="567" y="745"/>
                </a:lnTo>
                <a:lnTo>
                  <a:pt x="576" y="754"/>
                </a:lnTo>
                <a:lnTo>
                  <a:pt x="586" y="764"/>
                </a:lnTo>
                <a:lnTo>
                  <a:pt x="605" y="773"/>
                </a:lnTo>
                <a:lnTo>
                  <a:pt x="614" y="773"/>
                </a:lnTo>
                <a:lnTo>
                  <a:pt x="624" y="782"/>
                </a:lnTo>
                <a:lnTo>
                  <a:pt x="633" y="792"/>
                </a:lnTo>
                <a:lnTo>
                  <a:pt x="642" y="801"/>
                </a:lnTo>
                <a:lnTo>
                  <a:pt x="652" y="811"/>
                </a:lnTo>
                <a:lnTo>
                  <a:pt x="661" y="820"/>
                </a:lnTo>
                <a:lnTo>
                  <a:pt x="680" y="820"/>
                </a:lnTo>
                <a:lnTo>
                  <a:pt x="690" y="830"/>
                </a:lnTo>
                <a:lnTo>
                  <a:pt x="699" y="839"/>
                </a:lnTo>
                <a:lnTo>
                  <a:pt x="709" y="839"/>
                </a:lnTo>
                <a:lnTo>
                  <a:pt x="718" y="848"/>
                </a:lnTo>
                <a:lnTo>
                  <a:pt x="727" y="858"/>
                </a:lnTo>
                <a:lnTo>
                  <a:pt x="737" y="858"/>
                </a:lnTo>
                <a:lnTo>
                  <a:pt x="746" y="867"/>
                </a:lnTo>
                <a:lnTo>
                  <a:pt x="765" y="877"/>
                </a:lnTo>
                <a:lnTo>
                  <a:pt x="775" y="877"/>
                </a:lnTo>
                <a:lnTo>
                  <a:pt x="784" y="886"/>
                </a:lnTo>
                <a:lnTo>
                  <a:pt x="794" y="886"/>
                </a:lnTo>
                <a:lnTo>
                  <a:pt x="803" y="896"/>
                </a:lnTo>
                <a:lnTo>
                  <a:pt x="812" y="896"/>
                </a:lnTo>
                <a:lnTo>
                  <a:pt x="822" y="905"/>
                </a:lnTo>
                <a:lnTo>
                  <a:pt x="841" y="905"/>
                </a:lnTo>
                <a:lnTo>
                  <a:pt x="850" y="914"/>
                </a:lnTo>
                <a:lnTo>
                  <a:pt x="860" y="914"/>
                </a:lnTo>
                <a:lnTo>
                  <a:pt x="869" y="924"/>
                </a:lnTo>
                <a:lnTo>
                  <a:pt x="878" y="924"/>
                </a:lnTo>
                <a:lnTo>
                  <a:pt x="888" y="924"/>
                </a:lnTo>
                <a:lnTo>
                  <a:pt x="897" y="933"/>
                </a:lnTo>
                <a:lnTo>
                  <a:pt x="907" y="933"/>
                </a:lnTo>
                <a:lnTo>
                  <a:pt x="926" y="933"/>
                </a:lnTo>
                <a:lnTo>
                  <a:pt x="935" y="933"/>
                </a:lnTo>
                <a:lnTo>
                  <a:pt x="945" y="943"/>
                </a:lnTo>
                <a:lnTo>
                  <a:pt x="954" y="943"/>
                </a:lnTo>
                <a:lnTo>
                  <a:pt x="963" y="943"/>
                </a:lnTo>
                <a:lnTo>
                  <a:pt x="973" y="943"/>
                </a:lnTo>
                <a:lnTo>
                  <a:pt x="982" y="952"/>
                </a:lnTo>
                <a:lnTo>
                  <a:pt x="1001" y="952"/>
                </a:lnTo>
                <a:lnTo>
                  <a:pt x="1011" y="952"/>
                </a:lnTo>
                <a:lnTo>
                  <a:pt x="1020" y="952"/>
                </a:lnTo>
                <a:lnTo>
                  <a:pt x="1030" y="952"/>
                </a:lnTo>
                <a:lnTo>
                  <a:pt x="1039" y="952"/>
                </a:lnTo>
                <a:lnTo>
                  <a:pt x="1048" y="952"/>
                </a:lnTo>
                <a:lnTo>
                  <a:pt x="1058" y="952"/>
                </a:lnTo>
                <a:lnTo>
                  <a:pt x="1077" y="952"/>
                </a:lnTo>
                <a:lnTo>
                  <a:pt x="1086" y="952"/>
                </a:lnTo>
                <a:lnTo>
                  <a:pt x="1096" y="952"/>
                </a:lnTo>
                <a:lnTo>
                  <a:pt x="1105" y="952"/>
                </a:lnTo>
                <a:lnTo>
                  <a:pt x="1115" y="952"/>
                </a:lnTo>
                <a:lnTo>
                  <a:pt x="1124" y="952"/>
                </a:lnTo>
                <a:lnTo>
                  <a:pt x="1133" y="952"/>
                </a:lnTo>
                <a:lnTo>
                  <a:pt x="1143" y="952"/>
                </a:lnTo>
                <a:lnTo>
                  <a:pt x="1162" y="952"/>
                </a:lnTo>
                <a:lnTo>
                  <a:pt x="1171" y="943"/>
                </a:lnTo>
                <a:lnTo>
                  <a:pt x="1181" y="943"/>
                </a:lnTo>
                <a:lnTo>
                  <a:pt x="1190" y="943"/>
                </a:lnTo>
                <a:lnTo>
                  <a:pt x="1199" y="943"/>
                </a:lnTo>
                <a:lnTo>
                  <a:pt x="1209" y="933"/>
                </a:lnTo>
                <a:lnTo>
                  <a:pt x="1218" y="933"/>
                </a:lnTo>
                <a:lnTo>
                  <a:pt x="1237" y="933"/>
                </a:lnTo>
                <a:lnTo>
                  <a:pt x="1247" y="933"/>
                </a:lnTo>
                <a:lnTo>
                  <a:pt x="1256" y="924"/>
                </a:lnTo>
                <a:lnTo>
                  <a:pt x="1266" y="924"/>
                </a:lnTo>
                <a:lnTo>
                  <a:pt x="1275" y="924"/>
                </a:lnTo>
                <a:lnTo>
                  <a:pt x="1284" y="914"/>
                </a:lnTo>
                <a:lnTo>
                  <a:pt x="1294" y="914"/>
                </a:lnTo>
                <a:lnTo>
                  <a:pt x="1303" y="905"/>
                </a:lnTo>
                <a:lnTo>
                  <a:pt x="1322" y="905"/>
                </a:lnTo>
                <a:lnTo>
                  <a:pt x="1332" y="896"/>
                </a:lnTo>
                <a:lnTo>
                  <a:pt x="1341" y="896"/>
                </a:lnTo>
                <a:lnTo>
                  <a:pt x="1351" y="886"/>
                </a:lnTo>
                <a:lnTo>
                  <a:pt x="1360" y="886"/>
                </a:lnTo>
                <a:lnTo>
                  <a:pt x="1369" y="877"/>
                </a:lnTo>
                <a:lnTo>
                  <a:pt x="1379" y="877"/>
                </a:lnTo>
                <a:lnTo>
                  <a:pt x="1398" y="867"/>
                </a:lnTo>
                <a:lnTo>
                  <a:pt x="1407" y="858"/>
                </a:lnTo>
                <a:lnTo>
                  <a:pt x="1417" y="858"/>
                </a:lnTo>
                <a:lnTo>
                  <a:pt x="1426" y="848"/>
                </a:lnTo>
                <a:lnTo>
                  <a:pt x="1436" y="839"/>
                </a:lnTo>
                <a:lnTo>
                  <a:pt x="1445" y="839"/>
                </a:lnTo>
                <a:lnTo>
                  <a:pt x="1454" y="830"/>
                </a:lnTo>
                <a:lnTo>
                  <a:pt x="1464" y="820"/>
                </a:lnTo>
                <a:lnTo>
                  <a:pt x="1483" y="820"/>
                </a:lnTo>
                <a:lnTo>
                  <a:pt x="1492" y="811"/>
                </a:lnTo>
                <a:lnTo>
                  <a:pt x="1502" y="801"/>
                </a:lnTo>
                <a:lnTo>
                  <a:pt x="1511" y="792"/>
                </a:lnTo>
                <a:lnTo>
                  <a:pt x="1520" y="782"/>
                </a:lnTo>
                <a:lnTo>
                  <a:pt x="1530" y="773"/>
                </a:lnTo>
                <a:lnTo>
                  <a:pt x="1539" y="773"/>
                </a:lnTo>
                <a:lnTo>
                  <a:pt x="1558" y="764"/>
                </a:lnTo>
                <a:lnTo>
                  <a:pt x="1568" y="754"/>
                </a:lnTo>
                <a:lnTo>
                  <a:pt x="1577" y="745"/>
                </a:lnTo>
                <a:lnTo>
                  <a:pt x="1587" y="735"/>
                </a:lnTo>
                <a:lnTo>
                  <a:pt x="1596" y="726"/>
                </a:lnTo>
                <a:lnTo>
                  <a:pt x="1605" y="716"/>
                </a:lnTo>
                <a:lnTo>
                  <a:pt x="1615" y="707"/>
                </a:lnTo>
                <a:lnTo>
                  <a:pt x="1634" y="698"/>
                </a:lnTo>
                <a:lnTo>
                  <a:pt x="1643" y="688"/>
                </a:lnTo>
                <a:lnTo>
                  <a:pt x="1653" y="679"/>
                </a:lnTo>
                <a:lnTo>
                  <a:pt x="1662" y="669"/>
                </a:lnTo>
                <a:lnTo>
                  <a:pt x="1672" y="650"/>
                </a:lnTo>
                <a:lnTo>
                  <a:pt x="1681" y="641"/>
                </a:lnTo>
                <a:lnTo>
                  <a:pt x="1690" y="632"/>
                </a:lnTo>
                <a:lnTo>
                  <a:pt x="1700" y="622"/>
                </a:lnTo>
                <a:lnTo>
                  <a:pt x="1719" y="613"/>
                </a:lnTo>
                <a:lnTo>
                  <a:pt x="1728" y="594"/>
                </a:lnTo>
                <a:lnTo>
                  <a:pt x="1738" y="584"/>
                </a:lnTo>
                <a:lnTo>
                  <a:pt x="1747" y="575"/>
                </a:lnTo>
                <a:lnTo>
                  <a:pt x="1757" y="566"/>
                </a:lnTo>
                <a:lnTo>
                  <a:pt x="1766" y="547"/>
                </a:lnTo>
                <a:lnTo>
                  <a:pt x="1775" y="537"/>
                </a:lnTo>
                <a:lnTo>
                  <a:pt x="1794" y="528"/>
                </a:lnTo>
                <a:lnTo>
                  <a:pt x="1804" y="509"/>
                </a:lnTo>
                <a:lnTo>
                  <a:pt x="1813" y="500"/>
                </a:lnTo>
                <a:lnTo>
                  <a:pt x="1823" y="490"/>
                </a:lnTo>
                <a:lnTo>
                  <a:pt x="1832" y="471"/>
                </a:lnTo>
                <a:lnTo>
                  <a:pt x="1841" y="462"/>
                </a:lnTo>
                <a:lnTo>
                  <a:pt x="1851" y="443"/>
                </a:lnTo>
                <a:lnTo>
                  <a:pt x="1860" y="434"/>
                </a:lnTo>
                <a:lnTo>
                  <a:pt x="1879" y="415"/>
                </a:lnTo>
                <a:lnTo>
                  <a:pt x="1889" y="405"/>
                </a:lnTo>
                <a:lnTo>
                  <a:pt x="1898" y="386"/>
                </a:lnTo>
                <a:lnTo>
                  <a:pt x="1908" y="377"/>
                </a:lnTo>
                <a:lnTo>
                  <a:pt x="1917" y="358"/>
                </a:lnTo>
                <a:lnTo>
                  <a:pt x="1926" y="339"/>
                </a:lnTo>
                <a:lnTo>
                  <a:pt x="1936" y="330"/>
                </a:lnTo>
                <a:lnTo>
                  <a:pt x="1955" y="311"/>
                </a:lnTo>
                <a:lnTo>
                  <a:pt x="1964" y="292"/>
                </a:lnTo>
                <a:lnTo>
                  <a:pt x="1974" y="283"/>
                </a:lnTo>
                <a:lnTo>
                  <a:pt x="1983" y="264"/>
                </a:lnTo>
                <a:lnTo>
                  <a:pt x="1993" y="245"/>
                </a:lnTo>
                <a:lnTo>
                  <a:pt x="2002" y="226"/>
                </a:lnTo>
                <a:lnTo>
                  <a:pt x="2011" y="217"/>
                </a:lnTo>
                <a:lnTo>
                  <a:pt x="2030" y="198"/>
                </a:lnTo>
                <a:lnTo>
                  <a:pt x="2040" y="179"/>
                </a:lnTo>
                <a:lnTo>
                  <a:pt x="2049" y="160"/>
                </a:lnTo>
                <a:lnTo>
                  <a:pt x="2059" y="141"/>
                </a:lnTo>
                <a:lnTo>
                  <a:pt x="2068" y="132"/>
                </a:lnTo>
                <a:lnTo>
                  <a:pt x="2078" y="113"/>
                </a:lnTo>
                <a:lnTo>
                  <a:pt x="2087" y="94"/>
                </a:lnTo>
                <a:lnTo>
                  <a:pt x="2096" y="75"/>
                </a:lnTo>
                <a:lnTo>
                  <a:pt x="2115" y="56"/>
                </a:lnTo>
                <a:lnTo>
                  <a:pt x="2125" y="38"/>
                </a:lnTo>
                <a:lnTo>
                  <a:pt x="2134" y="19"/>
                </a:lnTo>
                <a:lnTo>
                  <a:pt x="2144" y="0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>
            <a:off x="2313000" y="2001960"/>
            <a:ext cx="3405240" cy="2381040"/>
          </a:xfrm>
          <a:custGeom>
            <a:avLst/>
            <a:gdLst/>
            <a:ahLst/>
            <a:rect l="l" t="t" r="r" b="b"/>
            <a:pathLst>
              <a:path w="2145" h="1500">
                <a:moveTo>
                  <a:pt x="0" y="962"/>
                </a:moveTo>
                <a:lnTo>
                  <a:pt x="10" y="971"/>
                </a:lnTo>
                <a:lnTo>
                  <a:pt x="19" y="990"/>
                </a:lnTo>
                <a:lnTo>
                  <a:pt x="29" y="999"/>
                </a:lnTo>
                <a:lnTo>
                  <a:pt x="48" y="1009"/>
                </a:lnTo>
                <a:lnTo>
                  <a:pt x="57" y="1028"/>
                </a:lnTo>
                <a:lnTo>
                  <a:pt x="67" y="1037"/>
                </a:lnTo>
                <a:lnTo>
                  <a:pt x="76" y="1056"/>
                </a:lnTo>
                <a:lnTo>
                  <a:pt x="85" y="1065"/>
                </a:lnTo>
                <a:lnTo>
                  <a:pt x="95" y="1075"/>
                </a:lnTo>
                <a:lnTo>
                  <a:pt x="104" y="1094"/>
                </a:lnTo>
                <a:lnTo>
                  <a:pt x="114" y="1103"/>
                </a:lnTo>
                <a:lnTo>
                  <a:pt x="133" y="1113"/>
                </a:lnTo>
                <a:lnTo>
                  <a:pt x="142" y="1131"/>
                </a:lnTo>
                <a:lnTo>
                  <a:pt x="152" y="1141"/>
                </a:lnTo>
                <a:lnTo>
                  <a:pt x="161" y="1150"/>
                </a:lnTo>
                <a:lnTo>
                  <a:pt x="170" y="1160"/>
                </a:lnTo>
                <a:lnTo>
                  <a:pt x="180" y="1169"/>
                </a:lnTo>
                <a:lnTo>
                  <a:pt x="189" y="1188"/>
                </a:lnTo>
                <a:lnTo>
                  <a:pt x="208" y="1197"/>
                </a:lnTo>
                <a:lnTo>
                  <a:pt x="218" y="1207"/>
                </a:lnTo>
                <a:lnTo>
                  <a:pt x="227" y="1216"/>
                </a:lnTo>
                <a:lnTo>
                  <a:pt x="236" y="1226"/>
                </a:lnTo>
                <a:lnTo>
                  <a:pt x="246" y="1235"/>
                </a:lnTo>
                <a:lnTo>
                  <a:pt x="255" y="1245"/>
                </a:lnTo>
                <a:lnTo>
                  <a:pt x="265" y="1254"/>
                </a:lnTo>
                <a:lnTo>
                  <a:pt x="284" y="1263"/>
                </a:lnTo>
                <a:lnTo>
                  <a:pt x="293" y="1273"/>
                </a:lnTo>
                <a:lnTo>
                  <a:pt x="303" y="1282"/>
                </a:lnTo>
                <a:lnTo>
                  <a:pt x="312" y="1292"/>
                </a:lnTo>
                <a:lnTo>
                  <a:pt x="321" y="1301"/>
                </a:lnTo>
                <a:lnTo>
                  <a:pt x="331" y="1311"/>
                </a:lnTo>
                <a:lnTo>
                  <a:pt x="340" y="1320"/>
                </a:lnTo>
                <a:lnTo>
                  <a:pt x="350" y="1329"/>
                </a:lnTo>
                <a:lnTo>
                  <a:pt x="369" y="1329"/>
                </a:lnTo>
                <a:lnTo>
                  <a:pt x="378" y="1339"/>
                </a:lnTo>
                <a:lnTo>
                  <a:pt x="388" y="1348"/>
                </a:lnTo>
                <a:lnTo>
                  <a:pt x="397" y="1358"/>
                </a:lnTo>
                <a:lnTo>
                  <a:pt x="406" y="1367"/>
                </a:lnTo>
                <a:lnTo>
                  <a:pt x="416" y="1367"/>
                </a:lnTo>
                <a:lnTo>
                  <a:pt x="425" y="1377"/>
                </a:lnTo>
                <a:lnTo>
                  <a:pt x="444" y="1386"/>
                </a:lnTo>
                <a:lnTo>
                  <a:pt x="454" y="1386"/>
                </a:lnTo>
                <a:lnTo>
                  <a:pt x="463" y="1395"/>
                </a:lnTo>
                <a:lnTo>
                  <a:pt x="473" y="1405"/>
                </a:lnTo>
                <a:lnTo>
                  <a:pt x="482" y="1405"/>
                </a:lnTo>
                <a:lnTo>
                  <a:pt x="491" y="1414"/>
                </a:lnTo>
                <a:lnTo>
                  <a:pt x="501" y="1424"/>
                </a:lnTo>
                <a:lnTo>
                  <a:pt x="510" y="1424"/>
                </a:lnTo>
                <a:lnTo>
                  <a:pt x="529" y="1433"/>
                </a:lnTo>
                <a:lnTo>
                  <a:pt x="539" y="1433"/>
                </a:lnTo>
                <a:lnTo>
                  <a:pt x="548" y="1443"/>
                </a:lnTo>
                <a:lnTo>
                  <a:pt x="557" y="1443"/>
                </a:lnTo>
                <a:lnTo>
                  <a:pt x="567" y="1452"/>
                </a:lnTo>
                <a:lnTo>
                  <a:pt x="576" y="1452"/>
                </a:lnTo>
                <a:lnTo>
                  <a:pt x="586" y="1452"/>
                </a:lnTo>
                <a:lnTo>
                  <a:pt x="605" y="1461"/>
                </a:lnTo>
                <a:lnTo>
                  <a:pt x="614" y="1461"/>
                </a:lnTo>
                <a:lnTo>
                  <a:pt x="624" y="1471"/>
                </a:lnTo>
                <a:lnTo>
                  <a:pt x="633" y="1471"/>
                </a:lnTo>
                <a:lnTo>
                  <a:pt x="642" y="1471"/>
                </a:lnTo>
                <a:lnTo>
                  <a:pt x="652" y="1480"/>
                </a:lnTo>
                <a:lnTo>
                  <a:pt x="661" y="1480"/>
                </a:lnTo>
                <a:lnTo>
                  <a:pt x="680" y="1480"/>
                </a:lnTo>
                <a:lnTo>
                  <a:pt x="690" y="1480"/>
                </a:lnTo>
                <a:lnTo>
                  <a:pt x="699" y="1490"/>
                </a:lnTo>
                <a:lnTo>
                  <a:pt x="709" y="1490"/>
                </a:lnTo>
                <a:lnTo>
                  <a:pt x="718" y="1490"/>
                </a:lnTo>
                <a:lnTo>
                  <a:pt x="727" y="1490"/>
                </a:lnTo>
                <a:lnTo>
                  <a:pt x="737" y="1490"/>
                </a:lnTo>
                <a:lnTo>
                  <a:pt x="746" y="1490"/>
                </a:lnTo>
                <a:lnTo>
                  <a:pt x="765" y="1490"/>
                </a:lnTo>
                <a:lnTo>
                  <a:pt x="775" y="1490"/>
                </a:lnTo>
                <a:lnTo>
                  <a:pt x="784" y="1490"/>
                </a:lnTo>
                <a:lnTo>
                  <a:pt x="794" y="1499"/>
                </a:lnTo>
                <a:lnTo>
                  <a:pt x="803" y="1499"/>
                </a:lnTo>
                <a:lnTo>
                  <a:pt x="812" y="1499"/>
                </a:lnTo>
                <a:lnTo>
                  <a:pt x="822" y="1490"/>
                </a:lnTo>
                <a:lnTo>
                  <a:pt x="841" y="1490"/>
                </a:lnTo>
                <a:lnTo>
                  <a:pt x="850" y="1490"/>
                </a:lnTo>
                <a:lnTo>
                  <a:pt x="860" y="1490"/>
                </a:lnTo>
                <a:lnTo>
                  <a:pt x="869" y="1490"/>
                </a:lnTo>
                <a:lnTo>
                  <a:pt x="878" y="1490"/>
                </a:lnTo>
                <a:lnTo>
                  <a:pt x="888" y="1490"/>
                </a:lnTo>
                <a:lnTo>
                  <a:pt x="897" y="1490"/>
                </a:lnTo>
                <a:lnTo>
                  <a:pt x="907" y="1490"/>
                </a:lnTo>
                <a:lnTo>
                  <a:pt x="926" y="1480"/>
                </a:lnTo>
                <a:lnTo>
                  <a:pt x="935" y="1480"/>
                </a:lnTo>
                <a:lnTo>
                  <a:pt x="945" y="1480"/>
                </a:lnTo>
                <a:lnTo>
                  <a:pt x="954" y="1480"/>
                </a:lnTo>
                <a:lnTo>
                  <a:pt x="963" y="1471"/>
                </a:lnTo>
                <a:lnTo>
                  <a:pt x="973" y="1471"/>
                </a:lnTo>
                <a:lnTo>
                  <a:pt x="982" y="1471"/>
                </a:lnTo>
                <a:lnTo>
                  <a:pt x="1001" y="1461"/>
                </a:lnTo>
                <a:lnTo>
                  <a:pt x="1011" y="1461"/>
                </a:lnTo>
                <a:lnTo>
                  <a:pt x="1020" y="1452"/>
                </a:lnTo>
                <a:lnTo>
                  <a:pt x="1030" y="1452"/>
                </a:lnTo>
                <a:lnTo>
                  <a:pt x="1039" y="1452"/>
                </a:lnTo>
                <a:lnTo>
                  <a:pt x="1048" y="1443"/>
                </a:lnTo>
                <a:lnTo>
                  <a:pt x="1058" y="1443"/>
                </a:lnTo>
                <a:lnTo>
                  <a:pt x="1077" y="1433"/>
                </a:lnTo>
                <a:lnTo>
                  <a:pt x="1086" y="1433"/>
                </a:lnTo>
                <a:lnTo>
                  <a:pt x="1096" y="1424"/>
                </a:lnTo>
                <a:lnTo>
                  <a:pt x="1105" y="1424"/>
                </a:lnTo>
                <a:lnTo>
                  <a:pt x="1115" y="1414"/>
                </a:lnTo>
                <a:lnTo>
                  <a:pt x="1124" y="1405"/>
                </a:lnTo>
                <a:lnTo>
                  <a:pt x="1133" y="1405"/>
                </a:lnTo>
                <a:lnTo>
                  <a:pt x="1143" y="1395"/>
                </a:lnTo>
                <a:lnTo>
                  <a:pt x="1162" y="1386"/>
                </a:lnTo>
                <a:lnTo>
                  <a:pt x="1171" y="1386"/>
                </a:lnTo>
                <a:lnTo>
                  <a:pt x="1181" y="1377"/>
                </a:lnTo>
                <a:lnTo>
                  <a:pt x="1190" y="1367"/>
                </a:lnTo>
                <a:lnTo>
                  <a:pt x="1199" y="1367"/>
                </a:lnTo>
                <a:lnTo>
                  <a:pt x="1209" y="1358"/>
                </a:lnTo>
                <a:lnTo>
                  <a:pt x="1218" y="1348"/>
                </a:lnTo>
                <a:lnTo>
                  <a:pt x="1237" y="1339"/>
                </a:lnTo>
                <a:lnTo>
                  <a:pt x="1247" y="1329"/>
                </a:lnTo>
                <a:lnTo>
                  <a:pt x="1256" y="1329"/>
                </a:lnTo>
                <a:lnTo>
                  <a:pt x="1266" y="1320"/>
                </a:lnTo>
                <a:lnTo>
                  <a:pt x="1275" y="1311"/>
                </a:lnTo>
                <a:lnTo>
                  <a:pt x="1284" y="1301"/>
                </a:lnTo>
                <a:lnTo>
                  <a:pt x="1294" y="1292"/>
                </a:lnTo>
                <a:lnTo>
                  <a:pt x="1303" y="1282"/>
                </a:lnTo>
                <a:lnTo>
                  <a:pt x="1322" y="1273"/>
                </a:lnTo>
                <a:lnTo>
                  <a:pt x="1332" y="1263"/>
                </a:lnTo>
                <a:lnTo>
                  <a:pt x="1341" y="1254"/>
                </a:lnTo>
                <a:lnTo>
                  <a:pt x="1351" y="1245"/>
                </a:lnTo>
                <a:lnTo>
                  <a:pt x="1360" y="1235"/>
                </a:lnTo>
                <a:lnTo>
                  <a:pt x="1369" y="1226"/>
                </a:lnTo>
                <a:lnTo>
                  <a:pt x="1379" y="1216"/>
                </a:lnTo>
                <a:lnTo>
                  <a:pt x="1398" y="1207"/>
                </a:lnTo>
                <a:lnTo>
                  <a:pt x="1407" y="1197"/>
                </a:lnTo>
                <a:lnTo>
                  <a:pt x="1417" y="1188"/>
                </a:lnTo>
                <a:lnTo>
                  <a:pt x="1426" y="1169"/>
                </a:lnTo>
                <a:lnTo>
                  <a:pt x="1436" y="1160"/>
                </a:lnTo>
                <a:lnTo>
                  <a:pt x="1445" y="1150"/>
                </a:lnTo>
                <a:lnTo>
                  <a:pt x="1454" y="1141"/>
                </a:lnTo>
                <a:lnTo>
                  <a:pt x="1464" y="1131"/>
                </a:lnTo>
                <a:lnTo>
                  <a:pt x="1483" y="1113"/>
                </a:lnTo>
                <a:lnTo>
                  <a:pt x="1492" y="1103"/>
                </a:lnTo>
                <a:lnTo>
                  <a:pt x="1502" y="1094"/>
                </a:lnTo>
                <a:lnTo>
                  <a:pt x="1511" y="1075"/>
                </a:lnTo>
                <a:lnTo>
                  <a:pt x="1520" y="1065"/>
                </a:lnTo>
                <a:lnTo>
                  <a:pt x="1530" y="1056"/>
                </a:lnTo>
                <a:lnTo>
                  <a:pt x="1539" y="1037"/>
                </a:lnTo>
                <a:lnTo>
                  <a:pt x="1558" y="1028"/>
                </a:lnTo>
                <a:lnTo>
                  <a:pt x="1568" y="1009"/>
                </a:lnTo>
                <a:lnTo>
                  <a:pt x="1577" y="999"/>
                </a:lnTo>
                <a:lnTo>
                  <a:pt x="1587" y="990"/>
                </a:lnTo>
                <a:lnTo>
                  <a:pt x="1596" y="971"/>
                </a:lnTo>
                <a:lnTo>
                  <a:pt x="1605" y="962"/>
                </a:lnTo>
                <a:lnTo>
                  <a:pt x="1615" y="943"/>
                </a:lnTo>
                <a:lnTo>
                  <a:pt x="1634" y="924"/>
                </a:lnTo>
                <a:lnTo>
                  <a:pt x="1643" y="915"/>
                </a:lnTo>
                <a:lnTo>
                  <a:pt x="1653" y="896"/>
                </a:lnTo>
                <a:lnTo>
                  <a:pt x="1662" y="886"/>
                </a:lnTo>
                <a:lnTo>
                  <a:pt x="1672" y="867"/>
                </a:lnTo>
                <a:lnTo>
                  <a:pt x="1681" y="849"/>
                </a:lnTo>
                <a:lnTo>
                  <a:pt x="1690" y="839"/>
                </a:lnTo>
                <a:lnTo>
                  <a:pt x="1700" y="820"/>
                </a:lnTo>
                <a:lnTo>
                  <a:pt x="1719" y="801"/>
                </a:lnTo>
                <a:lnTo>
                  <a:pt x="1728" y="792"/>
                </a:lnTo>
                <a:lnTo>
                  <a:pt x="1738" y="773"/>
                </a:lnTo>
                <a:lnTo>
                  <a:pt x="1747" y="754"/>
                </a:lnTo>
                <a:lnTo>
                  <a:pt x="1757" y="735"/>
                </a:lnTo>
                <a:lnTo>
                  <a:pt x="1766" y="717"/>
                </a:lnTo>
                <a:lnTo>
                  <a:pt x="1775" y="707"/>
                </a:lnTo>
                <a:lnTo>
                  <a:pt x="1794" y="688"/>
                </a:lnTo>
                <a:lnTo>
                  <a:pt x="1804" y="669"/>
                </a:lnTo>
                <a:lnTo>
                  <a:pt x="1813" y="651"/>
                </a:lnTo>
                <a:lnTo>
                  <a:pt x="1823" y="632"/>
                </a:lnTo>
                <a:lnTo>
                  <a:pt x="1832" y="613"/>
                </a:lnTo>
                <a:lnTo>
                  <a:pt x="1841" y="594"/>
                </a:lnTo>
                <a:lnTo>
                  <a:pt x="1851" y="575"/>
                </a:lnTo>
                <a:lnTo>
                  <a:pt x="1860" y="556"/>
                </a:lnTo>
                <a:lnTo>
                  <a:pt x="1879" y="537"/>
                </a:lnTo>
                <a:lnTo>
                  <a:pt x="1889" y="519"/>
                </a:lnTo>
                <a:lnTo>
                  <a:pt x="1898" y="500"/>
                </a:lnTo>
                <a:lnTo>
                  <a:pt x="1908" y="481"/>
                </a:lnTo>
                <a:lnTo>
                  <a:pt x="1917" y="462"/>
                </a:lnTo>
                <a:lnTo>
                  <a:pt x="1926" y="443"/>
                </a:lnTo>
                <a:lnTo>
                  <a:pt x="1936" y="424"/>
                </a:lnTo>
                <a:lnTo>
                  <a:pt x="1955" y="396"/>
                </a:lnTo>
                <a:lnTo>
                  <a:pt x="1964" y="377"/>
                </a:lnTo>
                <a:lnTo>
                  <a:pt x="1974" y="358"/>
                </a:lnTo>
                <a:lnTo>
                  <a:pt x="1983" y="339"/>
                </a:lnTo>
                <a:lnTo>
                  <a:pt x="1993" y="321"/>
                </a:lnTo>
                <a:lnTo>
                  <a:pt x="2002" y="292"/>
                </a:lnTo>
                <a:lnTo>
                  <a:pt x="2011" y="273"/>
                </a:lnTo>
                <a:lnTo>
                  <a:pt x="2030" y="255"/>
                </a:lnTo>
                <a:lnTo>
                  <a:pt x="2040" y="226"/>
                </a:lnTo>
                <a:lnTo>
                  <a:pt x="2049" y="207"/>
                </a:lnTo>
                <a:lnTo>
                  <a:pt x="2059" y="189"/>
                </a:lnTo>
                <a:lnTo>
                  <a:pt x="2068" y="160"/>
                </a:lnTo>
                <a:lnTo>
                  <a:pt x="2078" y="141"/>
                </a:lnTo>
                <a:lnTo>
                  <a:pt x="2087" y="123"/>
                </a:lnTo>
                <a:lnTo>
                  <a:pt x="2096" y="94"/>
                </a:lnTo>
                <a:lnTo>
                  <a:pt x="2115" y="76"/>
                </a:lnTo>
                <a:lnTo>
                  <a:pt x="2125" y="47"/>
                </a:lnTo>
                <a:lnTo>
                  <a:pt x="2134" y="28"/>
                </a:lnTo>
                <a:lnTo>
                  <a:pt x="2144" y="0"/>
                </a:lnTo>
              </a:path>
            </a:pathLst>
          </a:custGeom>
          <a:noFill/>
          <a:ln cap="rnd"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>
            <a:off x="2096640" y="2055960"/>
            <a:ext cx="3793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انرژی پتانسیل فنر + جاذبه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1580400" y="5052960"/>
            <a:ext cx="9907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-6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>
            <a:off x="1580400" y="4754520"/>
            <a:ext cx="9907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-4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>
            <a:off x="1580400" y="4440240"/>
            <a:ext cx="9907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-2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>
            <a:off x="1728720" y="4140360"/>
            <a:ext cx="844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8" name=""/>
          <p:cNvSpPr/>
          <p:nvPr/>
        </p:nvSpPr>
        <p:spPr>
          <a:xfrm>
            <a:off x="1640160" y="3841920"/>
            <a:ext cx="9360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9" name=""/>
          <p:cNvSpPr/>
          <p:nvPr/>
        </p:nvSpPr>
        <p:spPr>
          <a:xfrm>
            <a:off x="1640160" y="3541680"/>
            <a:ext cx="9360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4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0" name=""/>
          <p:cNvSpPr/>
          <p:nvPr/>
        </p:nvSpPr>
        <p:spPr>
          <a:xfrm>
            <a:off x="1640160" y="3228840"/>
            <a:ext cx="9360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6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1" name=""/>
          <p:cNvSpPr/>
          <p:nvPr/>
        </p:nvSpPr>
        <p:spPr>
          <a:xfrm>
            <a:off x="1640160" y="2928960"/>
            <a:ext cx="9360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8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2" name=""/>
          <p:cNvSpPr/>
          <p:nvPr/>
        </p:nvSpPr>
        <p:spPr>
          <a:xfrm>
            <a:off x="1550160" y="2630520"/>
            <a:ext cx="10274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1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3" name=""/>
          <p:cNvSpPr/>
          <p:nvPr/>
        </p:nvSpPr>
        <p:spPr>
          <a:xfrm>
            <a:off x="1550160" y="2330280"/>
            <a:ext cx="10274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12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4" name=""/>
          <p:cNvSpPr/>
          <p:nvPr/>
        </p:nvSpPr>
        <p:spPr>
          <a:xfrm>
            <a:off x="1550160" y="2016000"/>
            <a:ext cx="10274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14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5" name=""/>
          <p:cNvSpPr/>
          <p:nvPr/>
        </p:nvSpPr>
        <p:spPr>
          <a:xfrm>
            <a:off x="1550160" y="1717560"/>
            <a:ext cx="10274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16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6" name=""/>
          <p:cNvSpPr/>
          <p:nvPr/>
        </p:nvSpPr>
        <p:spPr>
          <a:xfrm>
            <a:off x="1820160" y="4379760"/>
            <a:ext cx="9907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-1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7" name=""/>
          <p:cNvSpPr/>
          <p:nvPr/>
        </p:nvSpPr>
        <p:spPr>
          <a:xfrm>
            <a:off x="2208600" y="4379760"/>
            <a:ext cx="8992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-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8" name=""/>
          <p:cNvSpPr/>
          <p:nvPr/>
        </p:nvSpPr>
        <p:spPr>
          <a:xfrm>
            <a:off x="2539080" y="4379760"/>
            <a:ext cx="8992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-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9" name=""/>
          <p:cNvSpPr/>
          <p:nvPr/>
        </p:nvSpPr>
        <p:spPr>
          <a:xfrm>
            <a:off x="2883600" y="4379760"/>
            <a:ext cx="8992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0" name=""/>
          <p:cNvSpPr/>
          <p:nvPr/>
        </p:nvSpPr>
        <p:spPr>
          <a:xfrm>
            <a:off x="3228120" y="4379760"/>
            <a:ext cx="8992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1" name=""/>
          <p:cNvSpPr/>
          <p:nvPr/>
        </p:nvSpPr>
        <p:spPr>
          <a:xfrm>
            <a:off x="3602160" y="4379760"/>
            <a:ext cx="844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2" name=""/>
          <p:cNvSpPr/>
          <p:nvPr/>
        </p:nvSpPr>
        <p:spPr>
          <a:xfrm>
            <a:off x="3932280" y="4379760"/>
            <a:ext cx="844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4275360" y="4379760"/>
            <a:ext cx="844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4" name=""/>
          <p:cNvSpPr/>
          <p:nvPr/>
        </p:nvSpPr>
        <p:spPr>
          <a:xfrm>
            <a:off x="4619880" y="4379760"/>
            <a:ext cx="844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5" name=""/>
          <p:cNvSpPr/>
          <p:nvPr/>
        </p:nvSpPr>
        <p:spPr>
          <a:xfrm>
            <a:off x="4950000" y="4379760"/>
            <a:ext cx="844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6" name=""/>
          <p:cNvSpPr/>
          <p:nvPr/>
        </p:nvSpPr>
        <p:spPr>
          <a:xfrm>
            <a:off x="5250240" y="4379760"/>
            <a:ext cx="9360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7" name=""/>
          <p:cNvSpPr/>
          <p:nvPr/>
        </p:nvSpPr>
        <p:spPr>
          <a:xfrm>
            <a:off x="4819320" y="471816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>
            <a:off x="1217160" y="2624040"/>
            <a:ext cx="1007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U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>
            <a:off x="6021360" y="3549600"/>
            <a:ext cx="39204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>
            <a:off x="6097680" y="3341520"/>
            <a:ext cx="18349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G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mgy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>
            <a:off x="6021360" y="2843280"/>
            <a:ext cx="392040" cy="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>
            <a:off x="6110280" y="2712960"/>
            <a:ext cx="19116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S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y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6021360" y="2060640"/>
            <a:ext cx="392040" cy="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>
            <a:off x="6104520" y="1954080"/>
            <a:ext cx="23659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NET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U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G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+ U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>
            <a:off x="4038480" y="3359160"/>
            <a:ext cx="0" cy="18921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3581280" y="3359160"/>
            <a:ext cx="0" cy="18921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2627640" y="5724360"/>
            <a:ext cx="3514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نتقال به دلیل جمل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g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 flipH="1">
            <a:off x="3587400" y="5111640"/>
            <a:ext cx="444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>
            <a:off x="3611160" y="5261040"/>
            <a:ext cx="8521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>
            <a:off x="3148560" y="5251320"/>
            <a:ext cx="9010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2313000" y="1859040"/>
            <a:ext cx="0" cy="33242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>
            <a:off x="2274840" y="5189400"/>
            <a:ext cx="77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>
            <a:off x="2274840" y="4890960"/>
            <a:ext cx="77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2274840" y="4576680"/>
            <a:ext cx="77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7" name=""/>
          <p:cNvSpPr/>
          <p:nvPr/>
        </p:nvSpPr>
        <p:spPr>
          <a:xfrm>
            <a:off x="2274840" y="4276800"/>
            <a:ext cx="77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8" name=""/>
          <p:cNvSpPr/>
          <p:nvPr/>
        </p:nvSpPr>
        <p:spPr>
          <a:xfrm>
            <a:off x="2274840" y="3978360"/>
            <a:ext cx="77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>
            <a:off x="2274840" y="3678120"/>
            <a:ext cx="77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0" name=""/>
          <p:cNvSpPr/>
          <p:nvPr/>
        </p:nvSpPr>
        <p:spPr>
          <a:xfrm>
            <a:off x="2274840" y="3363840"/>
            <a:ext cx="77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1" name=""/>
          <p:cNvSpPr/>
          <p:nvPr/>
        </p:nvSpPr>
        <p:spPr>
          <a:xfrm>
            <a:off x="2274840" y="3063960"/>
            <a:ext cx="77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2" name=""/>
          <p:cNvSpPr/>
          <p:nvPr/>
        </p:nvSpPr>
        <p:spPr>
          <a:xfrm>
            <a:off x="2274840" y="2765520"/>
            <a:ext cx="77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3" name=""/>
          <p:cNvSpPr/>
          <p:nvPr/>
        </p:nvSpPr>
        <p:spPr>
          <a:xfrm>
            <a:off x="2274840" y="2465280"/>
            <a:ext cx="77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4" name=""/>
          <p:cNvSpPr/>
          <p:nvPr/>
        </p:nvSpPr>
        <p:spPr>
          <a:xfrm>
            <a:off x="2274840" y="2151000"/>
            <a:ext cx="77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5" name=""/>
          <p:cNvSpPr/>
          <p:nvPr/>
        </p:nvSpPr>
        <p:spPr>
          <a:xfrm>
            <a:off x="2274840" y="1852560"/>
            <a:ext cx="777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>
            <a:off x="2319480" y="4276800"/>
            <a:ext cx="33908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 flipV="1">
            <a:off x="231300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 flipV="1">
            <a:off x="247824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9" name=""/>
          <p:cNvSpPr/>
          <p:nvPr/>
        </p:nvSpPr>
        <p:spPr>
          <a:xfrm flipV="1">
            <a:off x="265896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0" name=""/>
          <p:cNvSpPr/>
          <p:nvPr/>
        </p:nvSpPr>
        <p:spPr>
          <a:xfrm flipV="1">
            <a:off x="282240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1" name=""/>
          <p:cNvSpPr/>
          <p:nvPr/>
        </p:nvSpPr>
        <p:spPr>
          <a:xfrm flipV="1">
            <a:off x="298764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2" name=""/>
          <p:cNvSpPr/>
          <p:nvPr/>
        </p:nvSpPr>
        <p:spPr>
          <a:xfrm flipV="1">
            <a:off x="316872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3" name=""/>
          <p:cNvSpPr/>
          <p:nvPr/>
        </p:nvSpPr>
        <p:spPr>
          <a:xfrm flipV="1">
            <a:off x="333216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4" name=""/>
          <p:cNvSpPr/>
          <p:nvPr/>
        </p:nvSpPr>
        <p:spPr>
          <a:xfrm flipV="1">
            <a:off x="349740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5" name=""/>
          <p:cNvSpPr/>
          <p:nvPr/>
        </p:nvSpPr>
        <p:spPr>
          <a:xfrm flipV="1">
            <a:off x="367812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6" name=""/>
          <p:cNvSpPr/>
          <p:nvPr/>
        </p:nvSpPr>
        <p:spPr>
          <a:xfrm flipV="1">
            <a:off x="384192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7" name=""/>
          <p:cNvSpPr/>
          <p:nvPr/>
        </p:nvSpPr>
        <p:spPr>
          <a:xfrm flipV="1">
            <a:off x="402264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8" name=""/>
          <p:cNvSpPr/>
          <p:nvPr/>
        </p:nvSpPr>
        <p:spPr>
          <a:xfrm flipV="1">
            <a:off x="418788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9" name=""/>
          <p:cNvSpPr/>
          <p:nvPr/>
        </p:nvSpPr>
        <p:spPr>
          <a:xfrm flipV="1">
            <a:off x="435132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0" name=""/>
          <p:cNvSpPr/>
          <p:nvPr/>
        </p:nvSpPr>
        <p:spPr>
          <a:xfrm flipV="1">
            <a:off x="453240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1" name=""/>
          <p:cNvSpPr/>
          <p:nvPr/>
        </p:nvSpPr>
        <p:spPr>
          <a:xfrm flipV="1">
            <a:off x="469728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 flipV="1">
            <a:off x="486108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 flipV="1">
            <a:off x="504180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 flipV="1">
            <a:off x="520704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5" name=""/>
          <p:cNvSpPr/>
          <p:nvPr/>
        </p:nvSpPr>
        <p:spPr>
          <a:xfrm flipV="1">
            <a:off x="537048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6" name=""/>
          <p:cNvSpPr/>
          <p:nvPr/>
        </p:nvSpPr>
        <p:spPr>
          <a:xfrm flipV="1">
            <a:off x="555156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 flipV="1">
            <a:off x="5716440" y="4226040"/>
            <a:ext cx="0" cy="101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2313000" y="2765520"/>
            <a:ext cx="3405240" cy="1512720"/>
          </a:xfrm>
          <a:custGeom>
            <a:avLst/>
            <a:gdLst/>
            <a:ahLst/>
            <a:rect l="l" t="t" r="r" b="b"/>
            <a:pathLst>
              <a:path w="2145" h="953">
                <a:moveTo>
                  <a:pt x="0" y="0"/>
                </a:moveTo>
                <a:lnTo>
                  <a:pt x="10" y="19"/>
                </a:lnTo>
                <a:lnTo>
                  <a:pt x="19" y="38"/>
                </a:lnTo>
                <a:lnTo>
                  <a:pt x="29" y="56"/>
                </a:lnTo>
                <a:lnTo>
                  <a:pt x="48" y="75"/>
                </a:lnTo>
                <a:lnTo>
                  <a:pt x="57" y="94"/>
                </a:lnTo>
                <a:lnTo>
                  <a:pt x="67" y="113"/>
                </a:lnTo>
                <a:lnTo>
                  <a:pt x="76" y="132"/>
                </a:lnTo>
                <a:lnTo>
                  <a:pt x="85" y="141"/>
                </a:lnTo>
                <a:lnTo>
                  <a:pt x="95" y="160"/>
                </a:lnTo>
                <a:lnTo>
                  <a:pt x="104" y="179"/>
                </a:lnTo>
                <a:lnTo>
                  <a:pt x="114" y="198"/>
                </a:lnTo>
                <a:lnTo>
                  <a:pt x="133" y="217"/>
                </a:lnTo>
                <a:lnTo>
                  <a:pt x="142" y="226"/>
                </a:lnTo>
                <a:lnTo>
                  <a:pt x="152" y="245"/>
                </a:lnTo>
                <a:lnTo>
                  <a:pt x="161" y="264"/>
                </a:lnTo>
                <a:lnTo>
                  <a:pt x="170" y="283"/>
                </a:lnTo>
                <a:lnTo>
                  <a:pt x="180" y="292"/>
                </a:lnTo>
                <a:lnTo>
                  <a:pt x="189" y="311"/>
                </a:lnTo>
                <a:lnTo>
                  <a:pt x="208" y="330"/>
                </a:lnTo>
                <a:lnTo>
                  <a:pt x="218" y="339"/>
                </a:lnTo>
                <a:lnTo>
                  <a:pt x="227" y="358"/>
                </a:lnTo>
                <a:lnTo>
                  <a:pt x="236" y="377"/>
                </a:lnTo>
                <a:lnTo>
                  <a:pt x="246" y="386"/>
                </a:lnTo>
                <a:lnTo>
                  <a:pt x="255" y="405"/>
                </a:lnTo>
                <a:lnTo>
                  <a:pt x="265" y="415"/>
                </a:lnTo>
                <a:lnTo>
                  <a:pt x="284" y="434"/>
                </a:lnTo>
                <a:lnTo>
                  <a:pt x="293" y="443"/>
                </a:lnTo>
                <a:lnTo>
                  <a:pt x="303" y="462"/>
                </a:lnTo>
                <a:lnTo>
                  <a:pt x="312" y="471"/>
                </a:lnTo>
                <a:lnTo>
                  <a:pt x="321" y="490"/>
                </a:lnTo>
                <a:lnTo>
                  <a:pt x="331" y="500"/>
                </a:lnTo>
                <a:lnTo>
                  <a:pt x="340" y="509"/>
                </a:lnTo>
                <a:lnTo>
                  <a:pt x="350" y="528"/>
                </a:lnTo>
                <a:lnTo>
                  <a:pt x="369" y="537"/>
                </a:lnTo>
                <a:lnTo>
                  <a:pt x="378" y="547"/>
                </a:lnTo>
                <a:lnTo>
                  <a:pt x="388" y="566"/>
                </a:lnTo>
                <a:lnTo>
                  <a:pt x="397" y="575"/>
                </a:lnTo>
                <a:lnTo>
                  <a:pt x="406" y="584"/>
                </a:lnTo>
                <a:lnTo>
                  <a:pt x="416" y="594"/>
                </a:lnTo>
                <a:lnTo>
                  <a:pt x="425" y="613"/>
                </a:lnTo>
                <a:lnTo>
                  <a:pt x="444" y="622"/>
                </a:lnTo>
                <a:lnTo>
                  <a:pt x="454" y="632"/>
                </a:lnTo>
                <a:lnTo>
                  <a:pt x="463" y="641"/>
                </a:lnTo>
                <a:lnTo>
                  <a:pt x="473" y="650"/>
                </a:lnTo>
                <a:lnTo>
                  <a:pt x="482" y="669"/>
                </a:lnTo>
                <a:lnTo>
                  <a:pt x="491" y="679"/>
                </a:lnTo>
                <a:lnTo>
                  <a:pt x="501" y="688"/>
                </a:lnTo>
                <a:lnTo>
                  <a:pt x="510" y="698"/>
                </a:lnTo>
                <a:lnTo>
                  <a:pt x="529" y="707"/>
                </a:lnTo>
                <a:lnTo>
                  <a:pt x="539" y="716"/>
                </a:lnTo>
                <a:lnTo>
                  <a:pt x="548" y="726"/>
                </a:lnTo>
                <a:lnTo>
                  <a:pt x="557" y="735"/>
                </a:lnTo>
                <a:lnTo>
                  <a:pt x="567" y="745"/>
                </a:lnTo>
                <a:lnTo>
                  <a:pt x="576" y="754"/>
                </a:lnTo>
                <a:lnTo>
                  <a:pt x="586" y="764"/>
                </a:lnTo>
                <a:lnTo>
                  <a:pt x="605" y="773"/>
                </a:lnTo>
                <a:lnTo>
                  <a:pt x="614" y="773"/>
                </a:lnTo>
                <a:lnTo>
                  <a:pt x="624" y="782"/>
                </a:lnTo>
                <a:lnTo>
                  <a:pt x="633" y="792"/>
                </a:lnTo>
                <a:lnTo>
                  <a:pt x="642" y="801"/>
                </a:lnTo>
                <a:lnTo>
                  <a:pt x="652" y="811"/>
                </a:lnTo>
                <a:lnTo>
                  <a:pt x="661" y="820"/>
                </a:lnTo>
                <a:lnTo>
                  <a:pt x="680" y="820"/>
                </a:lnTo>
                <a:lnTo>
                  <a:pt x="690" y="830"/>
                </a:lnTo>
                <a:lnTo>
                  <a:pt x="699" y="839"/>
                </a:lnTo>
                <a:lnTo>
                  <a:pt x="709" y="839"/>
                </a:lnTo>
                <a:lnTo>
                  <a:pt x="718" y="848"/>
                </a:lnTo>
                <a:lnTo>
                  <a:pt x="727" y="858"/>
                </a:lnTo>
                <a:lnTo>
                  <a:pt x="737" y="858"/>
                </a:lnTo>
                <a:lnTo>
                  <a:pt x="746" y="867"/>
                </a:lnTo>
                <a:lnTo>
                  <a:pt x="765" y="877"/>
                </a:lnTo>
                <a:lnTo>
                  <a:pt x="775" y="877"/>
                </a:lnTo>
                <a:lnTo>
                  <a:pt x="784" y="886"/>
                </a:lnTo>
                <a:lnTo>
                  <a:pt x="794" y="886"/>
                </a:lnTo>
                <a:lnTo>
                  <a:pt x="803" y="896"/>
                </a:lnTo>
                <a:lnTo>
                  <a:pt x="812" y="896"/>
                </a:lnTo>
                <a:lnTo>
                  <a:pt x="822" y="905"/>
                </a:lnTo>
                <a:lnTo>
                  <a:pt x="841" y="905"/>
                </a:lnTo>
                <a:lnTo>
                  <a:pt x="850" y="914"/>
                </a:lnTo>
                <a:lnTo>
                  <a:pt x="860" y="914"/>
                </a:lnTo>
                <a:lnTo>
                  <a:pt x="869" y="924"/>
                </a:lnTo>
                <a:lnTo>
                  <a:pt x="878" y="924"/>
                </a:lnTo>
                <a:lnTo>
                  <a:pt x="888" y="924"/>
                </a:lnTo>
                <a:lnTo>
                  <a:pt x="897" y="933"/>
                </a:lnTo>
                <a:lnTo>
                  <a:pt x="907" y="933"/>
                </a:lnTo>
                <a:lnTo>
                  <a:pt x="926" y="933"/>
                </a:lnTo>
                <a:lnTo>
                  <a:pt x="935" y="933"/>
                </a:lnTo>
                <a:lnTo>
                  <a:pt x="945" y="943"/>
                </a:lnTo>
                <a:lnTo>
                  <a:pt x="954" y="943"/>
                </a:lnTo>
                <a:lnTo>
                  <a:pt x="963" y="943"/>
                </a:lnTo>
                <a:lnTo>
                  <a:pt x="973" y="943"/>
                </a:lnTo>
                <a:lnTo>
                  <a:pt x="982" y="952"/>
                </a:lnTo>
                <a:lnTo>
                  <a:pt x="1001" y="952"/>
                </a:lnTo>
                <a:lnTo>
                  <a:pt x="1011" y="952"/>
                </a:lnTo>
                <a:lnTo>
                  <a:pt x="1020" y="952"/>
                </a:lnTo>
                <a:lnTo>
                  <a:pt x="1030" y="952"/>
                </a:lnTo>
                <a:lnTo>
                  <a:pt x="1039" y="952"/>
                </a:lnTo>
                <a:lnTo>
                  <a:pt x="1048" y="952"/>
                </a:lnTo>
                <a:lnTo>
                  <a:pt x="1058" y="952"/>
                </a:lnTo>
                <a:lnTo>
                  <a:pt x="1077" y="952"/>
                </a:lnTo>
                <a:lnTo>
                  <a:pt x="1086" y="952"/>
                </a:lnTo>
                <a:lnTo>
                  <a:pt x="1096" y="952"/>
                </a:lnTo>
                <a:lnTo>
                  <a:pt x="1105" y="952"/>
                </a:lnTo>
                <a:lnTo>
                  <a:pt x="1115" y="952"/>
                </a:lnTo>
                <a:lnTo>
                  <a:pt x="1124" y="952"/>
                </a:lnTo>
                <a:lnTo>
                  <a:pt x="1133" y="952"/>
                </a:lnTo>
                <a:lnTo>
                  <a:pt x="1143" y="952"/>
                </a:lnTo>
                <a:lnTo>
                  <a:pt x="1162" y="952"/>
                </a:lnTo>
                <a:lnTo>
                  <a:pt x="1171" y="943"/>
                </a:lnTo>
                <a:lnTo>
                  <a:pt x="1181" y="943"/>
                </a:lnTo>
                <a:lnTo>
                  <a:pt x="1190" y="943"/>
                </a:lnTo>
                <a:lnTo>
                  <a:pt x="1199" y="943"/>
                </a:lnTo>
                <a:lnTo>
                  <a:pt x="1209" y="933"/>
                </a:lnTo>
                <a:lnTo>
                  <a:pt x="1218" y="933"/>
                </a:lnTo>
                <a:lnTo>
                  <a:pt x="1237" y="933"/>
                </a:lnTo>
                <a:lnTo>
                  <a:pt x="1247" y="933"/>
                </a:lnTo>
                <a:lnTo>
                  <a:pt x="1256" y="924"/>
                </a:lnTo>
                <a:lnTo>
                  <a:pt x="1266" y="924"/>
                </a:lnTo>
                <a:lnTo>
                  <a:pt x="1275" y="924"/>
                </a:lnTo>
                <a:lnTo>
                  <a:pt x="1284" y="914"/>
                </a:lnTo>
                <a:lnTo>
                  <a:pt x="1294" y="914"/>
                </a:lnTo>
                <a:lnTo>
                  <a:pt x="1303" y="905"/>
                </a:lnTo>
                <a:lnTo>
                  <a:pt x="1322" y="905"/>
                </a:lnTo>
                <a:lnTo>
                  <a:pt x="1332" y="896"/>
                </a:lnTo>
                <a:lnTo>
                  <a:pt x="1341" y="896"/>
                </a:lnTo>
                <a:lnTo>
                  <a:pt x="1351" y="886"/>
                </a:lnTo>
                <a:lnTo>
                  <a:pt x="1360" y="886"/>
                </a:lnTo>
                <a:lnTo>
                  <a:pt x="1369" y="877"/>
                </a:lnTo>
                <a:lnTo>
                  <a:pt x="1379" y="877"/>
                </a:lnTo>
                <a:lnTo>
                  <a:pt x="1398" y="867"/>
                </a:lnTo>
                <a:lnTo>
                  <a:pt x="1407" y="858"/>
                </a:lnTo>
                <a:lnTo>
                  <a:pt x="1417" y="858"/>
                </a:lnTo>
                <a:lnTo>
                  <a:pt x="1426" y="848"/>
                </a:lnTo>
                <a:lnTo>
                  <a:pt x="1436" y="839"/>
                </a:lnTo>
                <a:lnTo>
                  <a:pt x="1445" y="839"/>
                </a:lnTo>
                <a:lnTo>
                  <a:pt x="1454" y="830"/>
                </a:lnTo>
                <a:lnTo>
                  <a:pt x="1464" y="820"/>
                </a:lnTo>
                <a:lnTo>
                  <a:pt x="1483" y="820"/>
                </a:lnTo>
                <a:lnTo>
                  <a:pt x="1492" y="811"/>
                </a:lnTo>
                <a:lnTo>
                  <a:pt x="1502" y="801"/>
                </a:lnTo>
                <a:lnTo>
                  <a:pt x="1511" y="792"/>
                </a:lnTo>
                <a:lnTo>
                  <a:pt x="1520" y="782"/>
                </a:lnTo>
                <a:lnTo>
                  <a:pt x="1530" y="773"/>
                </a:lnTo>
                <a:lnTo>
                  <a:pt x="1539" y="773"/>
                </a:lnTo>
                <a:lnTo>
                  <a:pt x="1558" y="764"/>
                </a:lnTo>
                <a:lnTo>
                  <a:pt x="1568" y="754"/>
                </a:lnTo>
                <a:lnTo>
                  <a:pt x="1577" y="745"/>
                </a:lnTo>
                <a:lnTo>
                  <a:pt x="1587" y="735"/>
                </a:lnTo>
                <a:lnTo>
                  <a:pt x="1596" y="726"/>
                </a:lnTo>
                <a:lnTo>
                  <a:pt x="1605" y="716"/>
                </a:lnTo>
                <a:lnTo>
                  <a:pt x="1615" y="707"/>
                </a:lnTo>
                <a:lnTo>
                  <a:pt x="1634" y="698"/>
                </a:lnTo>
                <a:lnTo>
                  <a:pt x="1643" y="688"/>
                </a:lnTo>
                <a:lnTo>
                  <a:pt x="1653" y="679"/>
                </a:lnTo>
                <a:lnTo>
                  <a:pt x="1662" y="669"/>
                </a:lnTo>
                <a:lnTo>
                  <a:pt x="1672" y="650"/>
                </a:lnTo>
                <a:lnTo>
                  <a:pt x="1681" y="641"/>
                </a:lnTo>
                <a:lnTo>
                  <a:pt x="1690" y="632"/>
                </a:lnTo>
                <a:lnTo>
                  <a:pt x="1700" y="622"/>
                </a:lnTo>
                <a:lnTo>
                  <a:pt x="1719" y="613"/>
                </a:lnTo>
                <a:lnTo>
                  <a:pt x="1728" y="594"/>
                </a:lnTo>
                <a:lnTo>
                  <a:pt x="1738" y="584"/>
                </a:lnTo>
                <a:lnTo>
                  <a:pt x="1747" y="575"/>
                </a:lnTo>
                <a:lnTo>
                  <a:pt x="1757" y="566"/>
                </a:lnTo>
                <a:lnTo>
                  <a:pt x="1766" y="547"/>
                </a:lnTo>
                <a:lnTo>
                  <a:pt x="1775" y="537"/>
                </a:lnTo>
                <a:lnTo>
                  <a:pt x="1794" y="528"/>
                </a:lnTo>
                <a:lnTo>
                  <a:pt x="1804" y="509"/>
                </a:lnTo>
                <a:lnTo>
                  <a:pt x="1813" y="500"/>
                </a:lnTo>
                <a:lnTo>
                  <a:pt x="1823" y="490"/>
                </a:lnTo>
                <a:lnTo>
                  <a:pt x="1832" y="471"/>
                </a:lnTo>
                <a:lnTo>
                  <a:pt x="1841" y="462"/>
                </a:lnTo>
                <a:lnTo>
                  <a:pt x="1851" y="443"/>
                </a:lnTo>
                <a:lnTo>
                  <a:pt x="1860" y="434"/>
                </a:lnTo>
                <a:lnTo>
                  <a:pt x="1879" y="415"/>
                </a:lnTo>
                <a:lnTo>
                  <a:pt x="1889" y="405"/>
                </a:lnTo>
                <a:lnTo>
                  <a:pt x="1898" y="386"/>
                </a:lnTo>
                <a:lnTo>
                  <a:pt x="1908" y="377"/>
                </a:lnTo>
                <a:lnTo>
                  <a:pt x="1917" y="358"/>
                </a:lnTo>
                <a:lnTo>
                  <a:pt x="1926" y="339"/>
                </a:lnTo>
                <a:lnTo>
                  <a:pt x="1936" y="330"/>
                </a:lnTo>
                <a:lnTo>
                  <a:pt x="1955" y="311"/>
                </a:lnTo>
                <a:lnTo>
                  <a:pt x="1964" y="292"/>
                </a:lnTo>
                <a:lnTo>
                  <a:pt x="1974" y="283"/>
                </a:lnTo>
                <a:lnTo>
                  <a:pt x="1983" y="264"/>
                </a:lnTo>
                <a:lnTo>
                  <a:pt x="1993" y="245"/>
                </a:lnTo>
                <a:lnTo>
                  <a:pt x="2002" y="226"/>
                </a:lnTo>
                <a:lnTo>
                  <a:pt x="2011" y="217"/>
                </a:lnTo>
                <a:lnTo>
                  <a:pt x="2030" y="198"/>
                </a:lnTo>
                <a:lnTo>
                  <a:pt x="2040" y="179"/>
                </a:lnTo>
                <a:lnTo>
                  <a:pt x="2049" y="160"/>
                </a:lnTo>
                <a:lnTo>
                  <a:pt x="2059" y="141"/>
                </a:lnTo>
                <a:lnTo>
                  <a:pt x="2068" y="132"/>
                </a:lnTo>
                <a:lnTo>
                  <a:pt x="2078" y="113"/>
                </a:lnTo>
                <a:lnTo>
                  <a:pt x="2087" y="94"/>
                </a:lnTo>
                <a:lnTo>
                  <a:pt x="2096" y="75"/>
                </a:lnTo>
                <a:lnTo>
                  <a:pt x="2115" y="56"/>
                </a:lnTo>
                <a:lnTo>
                  <a:pt x="2125" y="38"/>
                </a:lnTo>
                <a:lnTo>
                  <a:pt x="2134" y="19"/>
                </a:lnTo>
                <a:lnTo>
                  <a:pt x="2144" y="0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2313000" y="1901880"/>
            <a:ext cx="3405240" cy="2381040"/>
          </a:xfrm>
          <a:custGeom>
            <a:avLst/>
            <a:gdLst/>
            <a:ahLst/>
            <a:rect l="l" t="t" r="r" b="b"/>
            <a:pathLst>
              <a:path w="2145" h="1500">
                <a:moveTo>
                  <a:pt x="0" y="962"/>
                </a:moveTo>
                <a:lnTo>
                  <a:pt x="10" y="971"/>
                </a:lnTo>
                <a:lnTo>
                  <a:pt x="19" y="990"/>
                </a:lnTo>
                <a:lnTo>
                  <a:pt x="29" y="999"/>
                </a:lnTo>
                <a:lnTo>
                  <a:pt x="48" y="1009"/>
                </a:lnTo>
                <a:lnTo>
                  <a:pt x="57" y="1028"/>
                </a:lnTo>
                <a:lnTo>
                  <a:pt x="67" y="1037"/>
                </a:lnTo>
                <a:lnTo>
                  <a:pt x="76" y="1056"/>
                </a:lnTo>
                <a:lnTo>
                  <a:pt x="85" y="1065"/>
                </a:lnTo>
                <a:lnTo>
                  <a:pt x="95" y="1075"/>
                </a:lnTo>
                <a:lnTo>
                  <a:pt x="104" y="1094"/>
                </a:lnTo>
                <a:lnTo>
                  <a:pt x="114" y="1103"/>
                </a:lnTo>
                <a:lnTo>
                  <a:pt x="133" y="1113"/>
                </a:lnTo>
                <a:lnTo>
                  <a:pt x="142" y="1131"/>
                </a:lnTo>
                <a:lnTo>
                  <a:pt x="152" y="1141"/>
                </a:lnTo>
                <a:lnTo>
                  <a:pt x="161" y="1150"/>
                </a:lnTo>
                <a:lnTo>
                  <a:pt x="170" y="1160"/>
                </a:lnTo>
                <a:lnTo>
                  <a:pt x="180" y="1169"/>
                </a:lnTo>
                <a:lnTo>
                  <a:pt x="189" y="1188"/>
                </a:lnTo>
                <a:lnTo>
                  <a:pt x="208" y="1197"/>
                </a:lnTo>
                <a:lnTo>
                  <a:pt x="218" y="1207"/>
                </a:lnTo>
                <a:lnTo>
                  <a:pt x="227" y="1216"/>
                </a:lnTo>
                <a:lnTo>
                  <a:pt x="236" y="1226"/>
                </a:lnTo>
                <a:lnTo>
                  <a:pt x="246" y="1235"/>
                </a:lnTo>
                <a:lnTo>
                  <a:pt x="255" y="1245"/>
                </a:lnTo>
                <a:lnTo>
                  <a:pt x="265" y="1254"/>
                </a:lnTo>
                <a:lnTo>
                  <a:pt x="284" y="1263"/>
                </a:lnTo>
                <a:lnTo>
                  <a:pt x="293" y="1273"/>
                </a:lnTo>
                <a:lnTo>
                  <a:pt x="303" y="1282"/>
                </a:lnTo>
                <a:lnTo>
                  <a:pt x="312" y="1292"/>
                </a:lnTo>
                <a:lnTo>
                  <a:pt x="321" y="1301"/>
                </a:lnTo>
                <a:lnTo>
                  <a:pt x="331" y="1311"/>
                </a:lnTo>
                <a:lnTo>
                  <a:pt x="340" y="1320"/>
                </a:lnTo>
                <a:lnTo>
                  <a:pt x="350" y="1329"/>
                </a:lnTo>
                <a:lnTo>
                  <a:pt x="369" y="1329"/>
                </a:lnTo>
                <a:lnTo>
                  <a:pt x="378" y="1339"/>
                </a:lnTo>
                <a:lnTo>
                  <a:pt x="388" y="1348"/>
                </a:lnTo>
                <a:lnTo>
                  <a:pt x="397" y="1358"/>
                </a:lnTo>
                <a:lnTo>
                  <a:pt x="406" y="1367"/>
                </a:lnTo>
                <a:lnTo>
                  <a:pt x="416" y="1367"/>
                </a:lnTo>
                <a:lnTo>
                  <a:pt x="425" y="1377"/>
                </a:lnTo>
                <a:lnTo>
                  <a:pt x="444" y="1386"/>
                </a:lnTo>
                <a:lnTo>
                  <a:pt x="454" y="1386"/>
                </a:lnTo>
                <a:lnTo>
                  <a:pt x="463" y="1395"/>
                </a:lnTo>
                <a:lnTo>
                  <a:pt x="473" y="1405"/>
                </a:lnTo>
                <a:lnTo>
                  <a:pt x="482" y="1405"/>
                </a:lnTo>
                <a:lnTo>
                  <a:pt x="491" y="1414"/>
                </a:lnTo>
                <a:lnTo>
                  <a:pt x="501" y="1424"/>
                </a:lnTo>
                <a:lnTo>
                  <a:pt x="510" y="1424"/>
                </a:lnTo>
                <a:lnTo>
                  <a:pt x="529" y="1433"/>
                </a:lnTo>
                <a:lnTo>
                  <a:pt x="539" y="1433"/>
                </a:lnTo>
                <a:lnTo>
                  <a:pt x="548" y="1443"/>
                </a:lnTo>
                <a:lnTo>
                  <a:pt x="557" y="1443"/>
                </a:lnTo>
                <a:lnTo>
                  <a:pt x="567" y="1452"/>
                </a:lnTo>
                <a:lnTo>
                  <a:pt x="576" y="1452"/>
                </a:lnTo>
                <a:lnTo>
                  <a:pt x="586" y="1452"/>
                </a:lnTo>
                <a:lnTo>
                  <a:pt x="605" y="1461"/>
                </a:lnTo>
                <a:lnTo>
                  <a:pt x="614" y="1461"/>
                </a:lnTo>
                <a:lnTo>
                  <a:pt x="624" y="1471"/>
                </a:lnTo>
                <a:lnTo>
                  <a:pt x="633" y="1471"/>
                </a:lnTo>
                <a:lnTo>
                  <a:pt x="642" y="1471"/>
                </a:lnTo>
                <a:lnTo>
                  <a:pt x="652" y="1480"/>
                </a:lnTo>
                <a:lnTo>
                  <a:pt x="661" y="1480"/>
                </a:lnTo>
                <a:lnTo>
                  <a:pt x="680" y="1480"/>
                </a:lnTo>
                <a:lnTo>
                  <a:pt x="690" y="1480"/>
                </a:lnTo>
                <a:lnTo>
                  <a:pt x="699" y="1490"/>
                </a:lnTo>
                <a:lnTo>
                  <a:pt x="709" y="1490"/>
                </a:lnTo>
                <a:lnTo>
                  <a:pt x="718" y="1490"/>
                </a:lnTo>
                <a:lnTo>
                  <a:pt x="727" y="1490"/>
                </a:lnTo>
                <a:lnTo>
                  <a:pt x="737" y="1490"/>
                </a:lnTo>
                <a:lnTo>
                  <a:pt x="746" y="1490"/>
                </a:lnTo>
                <a:lnTo>
                  <a:pt x="765" y="1490"/>
                </a:lnTo>
                <a:lnTo>
                  <a:pt x="775" y="1490"/>
                </a:lnTo>
                <a:lnTo>
                  <a:pt x="784" y="1490"/>
                </a:lnTo>
                <a:lnTo>
                  <a:pt x="794" y="1499"/>
                </a:lnTo>
                <a:lnTo>
                  <a:pt x="803" y="1499"/>
                </a:lnTo>
                <a:lnTo>
                  <a:pt x="812" y="1499"/>
                </a:lnTo>
                <a:lnTo>
                  <a:pt x="822" y="1490"/>
                </a:lnTo>
                <a:lnTo>
                  <a:pt x="841" y="1490"/>
                </a:lnTo>
                <a:lnTo>
                  <a:pt x="850" y="1490"/>
                </a:lnTo>
                <a:lnTo>
                  <a:pt x="860" y="1490"/>
                </a:lnTo>
                <a:lnTo>
                  <a:pt x="869" y="1490"/>
                </a:lnTo>
                <a:lnTo>
                  <a:pt x="878" y="1490"/>
                </a:lnTo>
                <a:lnTo>
                  <a:pt x="888" y="1490"/>
                </a:lnTo>
                <a:lnTo>
                  <a:pt x="897" y="1490"/>
                </a:lnTo>
                <a:lnTo>
                  <a:pt x="907" y="1490"/>
                </a:lnTo>
                <a:lnTo>
                  <a:pt x="926" y="1480"/>
                </a:lnTo>
                <a:lnTo>
                  <a:pt x="935" y="1480"/>
                </a:lnTo>
                <a:lnTo>
                  <a:pt x="945" y="1480"/>
                </a:lnTo>
                <a:lnTo>
                  <a:pt x="954" y="1480"/>
                </a:lnTo>
                <a:lnTo>
                  <a:pt x="963" y="1471"/>
                </a:lnTo>
                <a:lnTo>
                  <a:pt x="973" y="1471"/>
                </a:lnTo>
                <a:lnTo>
                  <a:pt x="982" y="1471"/>
                </a:lnTo>
                <a:lnTo>
                  <a:pt x="1001" y="1461"/>
                </a:lnTo>
                <a:lnTo>
                  <a:pt x="1011" y="1461"/>
                </a:lnTo>
                <a:lnTo>
                  <a:pt x="1020" y="1452"/>
                </a:lnTo>
                <a:lnTo>
                  <a:pt x="1030" y="1452"/>
                </a:lnTo>
                <a:lnTo>
                  <a:pt x="1039" y="1452"/>
                </a:lnTo>
                <a:lnTo>
                  <a:pt x="1048" y="1443"/>
                </a:lnTo>
                <a:lnTo>
                  <a:pt x="1058" y="1443"/>
                </a:lnTo>
                <a:lnTo>
                  <a:pt x="1077" y="1433"/>
                </a:lnTo>
                <a:lnTo>
                  <a:pt x="1086" y="1433"/>
                </a:lnTo>
                <a:lnTo>
                  <a:pt x="1096" y="1424"/>
                </a:lnTo>
                <a:lnTo>
                  <a:pt x="1105" y="1424"/>
                </a:lnTo>
                <a:lnTo>
                  <a:pt x="1115" y="1414"/>
                </a:lnTo>
                <a:lnTo>
                  <a:pt x="1124" y="1405"/>
                </a:lnTo>
                <a:lnTo>
                  <a:pt x="1133" y="1405"/>
                </a:lnTo>
                <a:lnTo>
                  <a:pt x="1143" y="1395"/>
                </a:lnTo>
                <a:lnTo>
                  <a:pt x="1162" y="1386"/>
                </a:lnTo>
                <a:lnTo>
                  <a:pt x="1171" y="1386"/>
                </a:lnTo>
                <a:lnTo>
                  <a:pt x="1181" y="1377"/>
                </a:lnTo>
                <a:lnTo>
                  <a:pt x="1190" y="1367"/>
                </a:lnTo>
                <a:lnTo>
                  <a:pt x="1199" y="1367"/>
                </a:lnTo>
                <a:lnTo>
                  <a:pt x="1209" y="1358"/>
                </a:lnTo>
                <a:lnTo>
                  <a:pt x="1218" y="1348"/>
                </a:lnTo>
                <a:lnTo>
                  <a:pt x="1237" y="1339"/>
                </a:lnTo>
                <a:lnTo>
                  <a:pt x="1247" y="1329"/>
                </a:lnTo>
                <a:lnTo>
                  <a:pt x="1256" y="1329"/>
                </a:lnTo>
                <a:lnTo>
                  <a:pt x="1266" y="1320"/>
                </a:lnTo>
                <a:lnTo>
                  <a:pt x="1275" y="1311"/>
                </a:lnTo>
                <a:lnTo>
                  <a:pt x="1284" y="1301"/>
                </a:lnTo>
                <a:lnTo>
                  <a:pt x="1294" y="1292"/>
                </a:lnTo>
                <a:lnTo>
                  <a:pt x="1303" y="1282"/>
                </a:lnTo>
                <a:lnTo>
                  <a:pt x="1322" y="1273"/>
                </a:lnTo>
                <a:lnTo>
                  <a:pt x="1332" y="1263"/>
                </a:lnTo>
                <a:lnTo>
                  <a:pt x="1341" y="1254"/>
                </a:lnTo>
                <a:lnTo>
                  <a:pt x="1351" y="1245"/>
                </a:lnTo>
                <a:lnTo>
                  <a:pt x="1360" y="1235"/>
                </a:lnTo>
                <a:lnTo>
                  <a:pt x="1369" y="1226"/>
                </a:lnTo>
                <a:lnTo>
                  <a:pt x="1379" y="1216"/>
                </a:lnTo>
                <a:lnTo>
                  <a:pt x="1398" y="1207"/>
                </a:lnTo>
                <a:lnTo>
                  <a:pt x="1407" y="1197"/>
                </a:lnTo>
                <a:lnTo>
                  <a:pt x="1417" y="1188"/>
                </a:lnTo>
                <a:lnTo>
                  <a:pt x="1426" y="1169"/>
                </a:lnTo>
                <a:lnTo>
                  <a:pt x="1436" y="1160"/>
                </a:lnTo>
                <a:lnTo>
                  <a:pt x="1445" y="1150"/>
                </a:lnTo>
                <a:lnTo>
                  <a:pt x="1454" y="1141"/>
                </a:lnTo>
                <a:lnTo>
                  <a:pt x="1464" y="1131"/>
                </a:lnTo>
                <a:lnTo>
                  <a:pt x="1483" y="1113"/>
                </a:lnTo>
                <a:lnTo>
                  <a:pt x="1492" y="1103"/>
                </a:lnTo>
                <a:lnTo>
                  <a:pt x="1502" y="1094"/>
                </a:lnTo>
                <a:lnTo>
                  <a:pt x="1511" y="1075"/>
                </a:lnTo>
                <a:lnTo>
                  <a:pt x="1520" y="1065"/>
                </a:lnTo>
                <a:lnTo>
                  <a:pt x="1530" y="1056"/>
                </a:lnTo>
                <a:lnTo>
                  <a:pt x="1539" y="1037"/>
                </a:lnTo>
                <a:lnTo>
                  <a:pt x="1558" y="1028"/>
                </a:lnTo>
                <a:lnTo>
                  <a:pt x="1568" y="1009"/>
                </a:lnTo>
                <a:lnTo>
                  <a:pt x="1577" y="999"/>
                </a:lnTo>
                <a:lnTo>
                  <a:pt x="1587" y="990"/>
                </a:lnTo>
                <a:lnTo>
                  <a:pt x="1596" y="971"/>
                </a:lnTo>
                <a:lnTo>
                  <a:pt x="1605" y="962"/>
                </a:lnTo>
                <a:lnTo>
                  <a:pt x="1615" y="943"/>
                </a:lnTo>
                <a:lnTo>
                  <a:pt x="1634" y="924"/>
                </a:lnTo>
                <a:lnTo>
                  <a:pt x="1643" y="915"/>
                </a:lnTo>
                <a:lnTo>
                  <a:pt x="1653" y="896"/>
                </a:lnTo>
                <a:lnTo>
                  <a:pt x="1662" y="886"/>
                </a:lnTo>
                <a:lnTo>
                  <a:pt x="1672" y="867"/>
                </a:lnTo>
                <a:lnTo>
                  <a:pt x="1681" y="849"/>
                </a:lnTo>
                <a:lnTo>
                  <a:pt x="1690" y="839"/>
                </a:lnTo>
                <a:lnTo>
                  <a:pt x="1700" y="820"/>
                </a:lnTo>
                <a:lnTo>
                  <a:pt x="1719" y="801"/>
                </a:lnTo>
                <a:lnTo>
                  <a:pt x="1728" y="792"/>
                </a:lnTo>
                <a:lnTo>
                  <a:pt x="1738" y="773"/>
                </a:lnTo>
                <a:lnTo>
                  <a:pt x="1747" y="754"/>
                </a:lnTo>
                <a:lnTo>
                  <a:pt x="1757" y="735"/>
                </a:lnTo>
                <a:lnTo>
                  <a:pt x="1766" y="717"/>
                </a:lnTo>
                <a:lnTo>
                  <a:pt x="1775" y="707"/>
                </a:lnTo>
                <a:lnTo>
                  <a:pt x="1794" y="688"/>
                </a:lnTo>
                <a:lnTo>
                  <a:pt x="1804" y="669"/>
                </a:lnTo>
                <a:lnTo>
                  <a:pt x="1813" y="651"/>
                </a:lnTo>
                <a:lnTo>
                  <a:pt x="1823" y="632"/>
                </a:lnTo>
                <a:lnTo>
                  <a:pt x="1832" y="613"/>
                </a:lnTo>
                <a:lnTo>
                  <a:pt x="1841" y="594"/>
                </a:lnTo>
                <a:lnTo>
                  <a:pt x="1851" y="575"/>
                </a:lnTo>
                <a:lnTo>
                  <a:pt x="1860" y="556"/>
                </a:lnTo>
                <a:lnTo>
                  <a:pt x="1879" y="537"/>
                </a:lnTo>
                <a:lnTo>
                  <a:pt x="1889" y="519"/>
                </a:lnTo>
                <a:lnTo>
                  <a:pt x="1898" y="500"/>
                </a:lnTo>
                <a:lnTo>
                  <a:pt x="1908" y="481"/>
                </a:lnTo>
                <a:lnTo>
                  <a:pt x="1917" y="462"/>
                </a:lnTo>
                <a:lnTo>
                  <a:pt x="1926" y="443"/>
                </a:lnTo>
                <a:lnTo>
                  <a:pt x="1936" y="424"/>
                </a:lnTo>
                <a:lnTo>
                  <a:pt x="1955" y="396"/>
                </a:lnTo>
                <a:lnTo>
                  <a:pt x="1964" y="377"/>
                </a:lnTo>
                <a:lnTo>
                  <a:pt x="1974" y="358"/>
                </a:lnTo>
                <a:lnTo>
                  <a:pt x="1983" y="339"/>
                </a:lnTo>
                <a:lnTo>
                  <a:pt x="1993" y="321"/>
                </a:lnTo>
                <a:lnTo>
                  <a:pt x="2002" y="292"/>
                </a:lnTo>
                <a:lnTo>
                  <a:pt x="2011" y="273"/>
                </a:lnTo>
                <a:lnTo>
                  <a:pt x="2030" y="255"/>
                </a:lnTo>
                <a:lnTo>
                  <a:pt x="2040" y="226"/>
                </a:lnTo>
                <a:lnTo>
                  <a:pt x="2049" y="207"/>
                </a:lnTo>
                <a:lnTo>
                  <a:pt x="2059" y="189"/>
                </a:lnTo>
                <a:lnTo>
                  <a:pt x="2068" y="160"/>
                </a:lnTo>
                <a:lnTo>
                  <a:pt x="2078" y="141"/>
                </a:lnTo>
                <a:lnTo>
                  <a:pt x="2087" y="123"/>
                </a:lnTo>
                <a:lnTo>
                  <a:pt x="2096" y="94"/>
                </a:lnTo>
                <a:lnTo>
                  <a:pt x="2115" y="76"/>
                </a:lnTo>
                <a:lnTo>
                  <a:pt x="2125" y="47"/>
                </a:lnTo>
                <a:lnTo>
                  <a:pt x="2134" y="28"/>
                </a:lnTo>
                <a:lnTo>
                  <a:pt x="2144" y="0"/>
                </a:lnTo>
              </a:path>
            </a:pathLst>
          </a:custGeom>
          <a:noFill/>
          <a:ln cap="rnd"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2096640" y="2055960"/>
            <a:ext cx="3793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انرژی پتانسیل فنر + جاذبه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1580400" y="5052960"/>
            <a:ext cx="9907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-6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1580400" y="4754520"/>
            <a:ext cx="9907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-4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>
            <a:off x="1580400" y="4440240"/>
            <a:ext cx="9907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-2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>
            <a:off x="1728720" y="4140360"/>
            <a:ext cx="844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>
            <a:off x="1640160" y="3841920"/>
            <a:ext cx="9360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>
            <a:off x="1640160" y="3541680"/>
            <a:ext cx="9360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4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1640160" y="3228840"/>
            <a:ext cx="9360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6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1640160" y="2928960"/>
            <a:ext cx="9360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8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>
            <a:off x="1550160" y="2630520"/>
            <a:ext cx="10274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1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>
            <a:off x="1550160" y="2330280"/>
            <a:ext cx="10274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12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>
            <a:off x="1550160" y="2016000"/>
            <a:ext cx="10274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14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1550160" y="1717560"/>
            <a:ext cx="10274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16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1820160" y="4379760"/>
            <a:ext cx="9907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-1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2208600" y="4379760"/>
            <a:ext cx="8992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-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>
            <a:off x="2539080" y="4379760"/>
            <a:ext cx="8992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-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>
            <a:off x="2883600" y="4379760"/>
            <a:ext cx="8992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>
            <a:off x="3228120" y="4379760"/>
            <a:ext cx="8992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>
            <a:off x="3602160" y="4379760"/>
            <a:ext cx="844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>
            <a:off x="3932280" y="4379760"/>
            <a:ext cx="844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4275360" y="4379760"/>
            <a:ext cx="844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4619880" y="4379760"/>
            <a:ext cx="844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2" name=""/>
          <p:cNvSpPr/>
          <p:nvPr/>
        </p:nvSpPr>
        <p:spPr>
          <a:xfrm>
            <a:off x="4950000" y="4379760"/>
            <a:ext cx="844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3" name=""/>
          <p:cNvSpPr/>
          <p:nvPr/>
        </p:nvSpPr>
        <p:spPr>
          <a:xfrm>
            <a:off x="5250240" y="4379760"/>
            <a:ext cx="9360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afd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4" name=""/>
          <p:cNvSpPr/>
          <p:nvPr/>
        </p:nvSpPr>
        <p:spPr>
          <a:xfrm>
            <a:off x="4819320" y="471816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5" name=""/>
          <p:cNvSpPr/>
          <p:nvPr/>
        </p:nvSpPr>
        <p:spPr>
          <a:xfrm>
            <a:off x="1217160" y="2624040"/>
            <a:ext cx="1007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U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6" name=""/>
          <p:cNvSpPr/>
          <p:nvPr/>
        </p:nvSpPr>
        <p:spPr>
          <a:xfrm>
            <a:off x="6008760" y="4699080"/>
            <a:ext cx="392040" cy="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7" name=""/>
          <p:cNvSpPr/>
          <p:nvPr/>
        </p:nvSpPr>
        <p:spPr>
          <a:xfrm>
            <a:off x="6097680" y="4568760"/>
            <a:ext cx="19116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S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y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8" name=""/>
          <p:cNvSpPr/>
          <p:nvPr/>
        </p:nvSpPr>
        <p:spPr>
          <a:xfrm>
            <a:off x="6008760" y="3916440"/>
            <a:ext cx="392040" cy="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9" name=""/>
          <p:cNvSpPr/>
          <p:nvPr/>
        </p:nvSpPr>
        <p:spPr>
          <a:xfrm>
            <a:off x="6118920" y="3773520"/>
            <a:ext cx="27406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NET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U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G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+ U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S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+ 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0" name=""/>
          <p:cNvSpPr/>
          <p:nvPr/>
        </p:nvSpPr>
        <p:spPr>
          <a:xfrm>
            <a:off x="4038480" y="3359160"/>
            <a:ext cx="0" cy="18921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1" name=""/>
          <p:cNvSpPr/>
          <p:nvPr/>
        </p:nvSpPr>
        <p:spPr>
          <a:xfrm>
            <a:off x="3581280" y="3359160"/>
            <a:ext cx="0" cy="18921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2" name=""/>
          <p:cNvSpPr/>
          <p:nvPr/>
        </p:nvSpPr>
        <p:spPr>
          <a:xfrm>
            <a:off x="3611160" y="5261040"/>
            <a:ext cx="8521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3" name=""/>
          <p:cNvSpPr/>
          <p:nvPr/>
        </p:nvSpPr>
        <p:spPr>
          <a:xfrm>
            <a:off x="3148560" y="5251320"/>
            <a:ext cx="9010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4" name=""/>
          <p:cNvSpPr/>
          <p:nvPr/>
        </p:nvSpPr>
        <p:spPr>
          <a:xfrm flipH="1">
            <a:off x="3587400" y="5111640"/>
            <a:ext cx="444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5" name=""/>
          <p:cNvSpPr/>
          <p:nvPr/>
        </p:nvSpPr>
        <p:spPr>
          <a:xfrm>
            <a:off x="2559600" y="5738760"/>
            <a:ext cx="3383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نتقال به دلیل جمل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m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6" name=""/>
          <p:cNvSpPr/>
          <p:nvPr/>
        </p:nvSpPr>
        <p:spPr>
          <a:xfrm>
            <a:off x="5289480" y="803160"/>
            <a:ext cx="2778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را طوری انتخاب کنید که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وضعیت تعادل جدید دارای انرژی پتانسیل صفر باشد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850680" y="495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یستار بودن انرژی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...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38" name="PlaceHolder 2"/>
          <p:cNvSpPr>
            <a:spLocks noGrp="1"/>
          </p:cNvSpPr>
          <p:nvPr>
            <p:ph/>
          </p:nvPr>
        </p:nvSpPr>
        <p:spPr>
          <a:xfrm>
            <a:off x="748800" y="1549440"/>
            <a:ext cx="74041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 حالت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 جرم از فنری آویزان شده 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 حاتل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رم مشابهی در ارتفاع ارامش فنر با دست نگهداشته شده اس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دام گزینه رابطه انرژی پتانسیل دو حالت فوق را به درستی بیان می کند: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>
            <a:off x="1479240" y="3151080"/>
            <a:ext cx="61225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ل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baseline="30000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>
            <a:off x="2101680" y="5746680"/>
            <a:ext cx="825840" cy="673200"/>
          </a:xfrm>
          <a:prstGeom prst="cube">
            <a:avLst>
              <a:gd name="adj" fmla="val 24995"/>
            </a:avLst>
          </a:prstGeom>
          <a:solidFill>
            <a:srgbClr val="ff0033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1" name=""/>
          <p:cNvGrpSpPr/>
          <p:nvPr/>
        </p:nvGrpSpPr>
        <p:grpSpPr>
          <a:xfrm>
            <a:off x="5781600" y="4906800"/>
            <a:ext cx="2098800" cy="1271520"/>
            <a:chOff x="5781600" y="4906800"/>
            <a:chExt cx="2098800" cy="1271520"/>
          </a:xfrm>
        </p:grpSpPr>
        <p:sp>
          <p:nvSpPr>
            <p:cNvPr id="2742" name=""/>
            <p:cNvSpPr/>
            <p:nvPr/>
          </p:nvSpPr>
          <p:spPr>
            <a:xfrm flipH="1">
              <a:off x="5781600" y="4906800"/>
              <a:ext cx="2098800" cy="1271520"/>
            </a:xfrm>
            <a:custGeom>
              <a:avLst/>
              <a:gdLst/>
              <a:ahLst/>
              <a:rect l="l" t="t" r="r" b="b"/>
              <a:pathLst>
                <a:path w="1322" h="801">
                  <a:moveTo>
                    <a:pt x="510" y="76"/>
                  </a:moveTo>
                  <a:lnTo>
                    <a:pt x="528" y="74"/>
                  </a:lnTo>
                  <a:lnTo>
                    <a:pt x="619" y="74"/>
                  </a:lnTo>
                  <a:lnTo>
                    <a:pt x="634" y="78"/>
                  </a:lnTo>
                  <a:lnTo>
                    <a:pt x="649" y="82"/>
                  </a:lnTo>
                  <a:lnTo>
                    <a:pt x="663" y="88"/>
                  </a:lnTo>
                  <a:lnTo>
                    <a:pt x="778" y="173"/>
                  </a:lnTo>
                  <a:lnTo>
                    <a:pt x="843" y="245"/>
                  </a:lnTo>
                  <a:lnTo>
                    <a:pt x="879" y="289"/>
                  </a:lnTo>
                  <a:lnTo>
                    <a:pt x="931" y="365"/>
                  </a:lnTo>
                  <a:lnTo>
                    <a:pt x="999" y="397"/>
                  </a:lnTo>
                  <a:lnTo>
                    <a:pt x="1060" y="417"/>
                  </a:lnTo>
                  <a:lnTo>
                    <a:pt x="1097" y="432"/>
                  </a:lnTo>
                  <a:lnTo>
                    <a:pt x="1115" y="440"/>
                  </a:lnTo>
                  <a:lnTo>
                    <a:pt x="1132" y="443"/>
                  </a:lnTo>
                  <a:lnTo>
                    <a:pt x="1163" y="445"/>
                  </a:lnTo>
                  <a:lnTo>
                    <a:pt x="1190" y="446"/>
                  </a:lnTo>
                  <a:lnTo>
                    <a:pt x="1215" y="450"/>
                  </a:lnTo>
                  <a:lnTo>
                    <a:pt x="1236" y="454"/>
                  </a:lnTo>
                  <a:lnTo>
                    <a:pt x="1254" y="459"/>
                  </a:lnTo>
                  <a:lnTo>
                    <a:pt x="1277" y="471"/>
                  </a:lnTo>
                  <a:lnTo>
                    <a:pt x="1291" y="487"/>
                  </a:lnTo>
                  <a:lnTo>
                    <a:pt x="1293" y="509"/>
                  </a:lnTo>
                  <a:lnTo>
                    <a:pt x="1291" y="524"/>
                  </a:lnTo>
                  <a:lnTo>
                    <a:pt x="1285" y="540"/>
                  </a:lnTo>
                  <a:lnTo>
                    <a:pt x="1275" y="552"/>
                  </a:lnTo>
                  <a:lnTo>
                    <a:pt x="1289" y="555"/>
                  </a:lnTo>
                  <a:lnTo>
                    <a:pt x="1301" y="563"/>
                  </a:lnTo>
                  <a:lnTo>
                    <a:pt x="1313" y="576"/>
                  </a:lnTo>
                  <a:lnTo>
                    <a:pt x="1321" y="598"/>
                  </a:lnTo>
                  <a:lnTo>
                    <a:pt x="1321" y="622"/>
                  </a:lnTo>
                  <a:lnTo>
                    <a:pt x="1314" y="642"/>
                  </a:lnTo>
                  <a:lnTo>
                    <a:pt x="1303" y="654"/>
                  </a:lnTo>
                  <a:lnTo>
                    <a:pt x="1292" y="660"/>
                  </a:lnTo>
                  <a:lnTo>
                    <a:pt x="1275" y="667"/>
                  </a:lnTo>
                  <a:lnTo>
                    <a:pt x="1280" y="679"/>
                  </a:lnTo>
                  <a:lnTo>
                    <a:pt x="1282" y="693"/>
                  </a:lnTo>
                  <a:lnTo>
                    <a:pt x="1279" y="707"/>
                  </a:lnTo>
                  <a:lnTo>
                    <a:pt x="1275" y="718"/>
                  </a:lnTo>
                  <a:lnTo>
                    <a:pt x="1267" y="731"/>
                  </a:lnTo>
                  <a:lnTo>
                    <a:pt x="1259" y="739"/>
                  </a:lnTo>
                  <a:lnTo>
                    <a:pt x="1247" y="747"/>
                  </a:lnTo>
                  <a:lnTo>
                    <a:pt x="1232" y="750"/>
                  </a:lnTo>
                  <a:lnTo>
                    <a:pt x="1128" y="746"/>
                  </a:lnTo>
                  <a:lnTo>
                    <a:pt x="1060" y="754"/>
                  </a:lnTo>
                  <a:lnTo>
                    <a:pt x="1048" y="777"/>
                  </a:lnTo>
                  <a:lnTo>
                    <a:pt x="1032" y="794"/>
                  </a:lnTo>
                  <a:lnTo>
                    <a:pt x="1005" y="800"/>
                  </a:lnTo>
                  <a:lnTo>
                    <a:pt x="983" y="797"/>
                  </a:lnTo>
                  <a:lnTo>
                    <a:pt x="875" y="774"/>
                  </a:lnTo>
                  <a:lnTo>
                    <a:pt x="794" y="762"/>
                  </a:lnTo>
                  <a:lnTo>
                    <a:pt x="622" y="742"/>
                  </a:lnTo>
                  <a:lnTo>
                    <a:pt x="376" y="602"/>
                  </a:lnTo>
                  <a:lnTo>
                    <a:pt x="320" y="535"/>
                  </a:lnTo>
                  <a:lnTo>
                    <a:pt x="284" y="491"/>
                  </a:lnTo>
                  <a:lnTo>
                    <a:pt x="259" y="455"/>
                  </a:lnTo>
                  <a:lnTo>
                    <a:pt x="219" y="389"/>
                  </a:lnTo>
                  <a:lnTo>
                    <a:pt x="177" y="303"/>
                  </a:lnTo>
                  <a:lnTo>
                    <a:pt x="169" y="311"/>
                  </a:lnTo>
                  <a:lnTo>
                    <a:pt x="154" y="317"/>
                  </a:lnTo>
                  <a:lnTo>
                    <a:pt x="138" y="321"/>
                  </a:lnTo>
                  <a:lnTo>
                    <a:pt x="122" y="323"/>
                  </a:lnTo>
                  <a:lnTo>
                    <a:pt x="104" y="322"/>
                  </a:lnTo>
                  <a:lnTo>
                    <a:pt x="89" y="319"/>
                  </a:lnTo>
                  <a:lnTo>
                    <a:pt x="71" y="315"/>
                  </a:lnTo>
                  <a:lnTo>
                    <a:pt x="47" y="310"/>
                  </a:lnTo>
                  <a:lnTo>
                    <a:pt x="24" y="298"/>
                  </a:lnTo>
                  <a:lnTo>
                    <a:pt x="10" y="282"/>
                  </a:lnTo>
                  <a:lnTo>
                    <a:pt x="2" y="259"/>
                  </a:lnTo>
                  <a:lnTo>
                    <a:pt x="0" y="233"/>
                  </a:lnTo>
                  <a:lnTo>
                    <a:pt x="1" y="207"/>
                  </a:lnTo>
                  <a:lnTo>
                    <a:pt x="6" y="187"/>
                  </a:lnTo>
                  <a:lnTo>
                    <a:pt x="18" y="167"/>
                  </a:lnTo>
                  <a:lnTo>
                    <a:pt x="30" y="153"/>
                  </a:lnTo>
                  <a:lnTo>
                    <a:pt x="45" y="139"/>
                  </a:lnTo>
                  <a:lnTo>
                    <a:pt x="64" y="125"/>
                  </a:lnTo>
                  <a:lnTo>
                    <a:pt x="79" y="116"/>
                  </a:lnTo>
                  <a:lnTo>
                    <a:pt x="95" y="108"/>
                  </a:lnTo>
                  <a:lnTo>
                    <a:pt x="102" y="90"/>
                  </a:lnTo>
                  <a:lnTo>
                    <a:pt x="167" y="36"/>
                  </a:lnTo>
                  <a:lnTo>
                    <a:pt x="247" y="4"/>
                  </a:lnTo>
                  <a:lnTo>
                    <a:pt x="328" y="0"/>
                  </a:lnTo>
                  <a:lnTo>
                    <a:pt x="384" y="10"/>
                  </a:lnTo>
                  <a:lnTo>
                    <a:pt x="416" y="20"/>
                  </a:lnTo>
                  <a:lnTo>
                    <a:pt x="439" y="31"/>
                  </a:lnTo>
                  <a:lnTo>
                    <a:pt x="466" y="46"/>
                  </a:lnTo>
                  <a:lnTo>
                    <a:pt x="510" y="76"/>
                  </a:lnTo>
                </a:path>
              </a:pathLst>
            </a:custGeom>
            <a:solidFill>
              <a:srgbClr val="ff9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 flipH="1">
              <a:off x="6192720" y="5714640"/>
              <a:ext cx="1027440" cy="444600"/>
            </a:xfrm>
            <a:custGeom>
              <a:avLst/>
              <a:gdLst/>
              <a:ahLst/>
              <a:rect l="l" t="t" r="r" b="b"/>
              <a:pathLst>
                <a:path w="647" h="280">
                  <a:moveTo>
                    <a:pt x="624" y="279"/>
                  </a:moveTo>
                  <a:lnTo>
                    <a:pt x="640" y="255"/>
                  </a:lnTo>
                  <a:lnTo>
                    <a:pt x="646" y="229"/>
                  </a:lnTo>
                  <a:lnTo>
                    <a:pt x="640" y="201"/>
                  </a:lnTo>
                  <a:lnTo>
                    <a:pt x="620" y="175"/>
                  </a:lnTo>
                  <a:lnTo>
                    <a:pt x="597" y="161"/>
                  </a:lnTo>
                  <a:lnTo>
                    <a:pt x="569" y="151"/>
                  </a:lnTo>
                  <a:lnTo>
                    <a:pt x="539" y="145"/>
                  </a:lnTo>
                  <a:lnTo>
                    <a:pt x="505" y="139"/>
                  </a:lnTo>
                  <a:lnTo>
                    <a:pt x="469" y="139"/>
                  </a:lnTo>
                  <a:lnTo>
                    <a:pt x="431" y="133"/>
                  </a:lnTo>
                  <a:lnTo>
                    <a:pt x="413" y="115"/>
                  </a:lnTo>
                  <a:lnTo>
                    <a:pt x="374" y="95"/>
                  </a:lnTo>
                  <a:lnTo>
                    <a:pt x="332" y="85"/>
                  </a:lnTo>
                  <a:lnTo>
                    <a:pt x="292" y="81"/>
                  </a:lnTo>
                  <a:lnTo>
                    <a:pt x="264" y="57"/>
                  </a:lnTo>
                  <a:lnTo>
                    <a:pt x="236" y="37"/>
                  </a:lnTo>
                  <a:lnTo>
                    <a:pt x="200" y="16"/>
                  </a:lnTo>
                  <a:lnTo>
                    <a:pt x="162" y="4"/>
                  </a:lnTo>
                  <a:lnTo>
                    <a:pt x="119" y="0"/>
                  </a:lnTo>
                  <a:lnTo>
                    <a:pt x="83" y="2"/>
                  </a:lnTo>
                  <a:lnTo>
                    <a:pt x="36" y="9"/>
                  </a:lnTo>
                  <a:lnTo>
                    <a:pt x="0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 flipH="1">
              <a:off x="5854320" y="5749560"/>
              <a:ext cx="933480" cy="216000"/>
            </a:xfrm>
            <a:custGeom>
              <a:avLst/>
              <a:gdLst/>
              <a:ahLst/>
              <a:rect l="l" t="t" r="r" b="b"/>
              <a:pathLst>
                <a:path w="588" h="136">
                  <a:moveTo>
                    <a:pt x="587" y="135"/>
                  </a:moveTo>
                  <a:lnTo>
                    <a:pt x="573" y="119"/>
                  </a:lnTo>
                  <a:lnTo>
                    <a:pt x="550" y="105"/>
                  </a:lnTo>
                  <a:lnTo>
                    <a:pt x="528" y="99"/>
                  </a:lnTo>
                  <a:lnTo>
                    <a:pt x="500" y="93"/>
                  </a:lnTo>
                  <a:lnTo>
                    <a:pt x="472" y="91"/>
                  </a:lnTo>
                  <a:lnTo>
                    <a:pt x="438" y="91"/>
                  </a:lnTo>
                  <a:lnTo>
                    <a:pt x="406" y="95"/>
                  </a:lnTo>
                  <a:lnTo>
                    <a:pt x="374" y="85"/>
                  </a:lnTo>
                  <a:lnTo>
                    <a:pt x="340" y="75"/>
                  </a:lnTo>
                  <a:lnTo>
                    <a:pt x="305" y="67"/>
                  </a:lnTo>
                  <a:lnTo>
                    <a:pt x="273" y="63"/>
                  </a:lnTo>
                  <a:lnTo>
                    <a:pt x="243" y="59"/>
                  </a:lnTo>
                  <a:lnTo>
                    <a:pt x="221" y="45"/>
                  </a:lnTo>
                  <a:lnTo>
                    <a:pt x="195" y="29"/>
                  </a:lnTo>
                  <a:lnTo>
                    <a:pt x="169" y="15"/>
                  </a:lnTo>
                  <a:lnTo>
                    <a:pt x="141" y="4"/>
                  </a:lnTo>
                  <a:lnTo>
                    <a:pt x="111" y="0"/>
                  </a:lnTo>
                  <a:lnTo>
                    <a:pt x="82" y="0"/>
                  </a:lnTo>
                  <a:lnTo>
                    <a:pt x="50" y="8"/>
                  </a:lnTo>
                  <a:lnTo>
                    <a:pt x="32" y="20"/>
                  </a:lnTo>
                  <a:lnTo>
                    <a:pt x="14" y="31"/>
                  </a:lnTo>
                  <a:lnTo>
                    <a:pt x="0" y="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 flipH="1">
              <a:off x="5854680" y="5668920"/>
              <a:ext cx="774720" cy="115560"/>
            </a:xfrm>
            <a:custGeom>
              <a:avLst/>
              <a:gdLst/>
              <a:ahLst/>
              <a:rect l="l" t="t" r="r" b="b"/>
              <a:pathLst>
                <a:path w="488" h="73">
                  <a:moveTo>
                    <a:pt x="487" y="72"/>
                  </a:moveTo>
                  <a:lnTo>
                    <a:pt x="458" y="66"/>
                  </a:lnTo>
                  <a:lnTo>
                    <a:pt x="430" y="64"/>
                  </a:lnTo>
                  <a:lnTo>
                    <a:pt x="392" y="64"/>
                  </a:lnTo>
                  <a:lnTo>
                    <a:pt x="358" y="64"/>
                  </a:lnTo>
                  <a:lnTo>
                    <a:pt x="318" y="53"/>
                  </a:lnTo>
                  <a:lnTo>
                    <a:pt x="274" y="49"/>
                  </a:lnTo>
                  <a:lnTo>
                    <a:pt x="237" y="50"/>
                  </a:lnTo>
                  <a:lnTo>
                    <a:pt x="199" y="36"/>
                  </a:lnTo>
                  <a:lnTo>
                    <a:pt x="163" y="16"/>
                  </a:lnTo>
                  <a:lnTo>
                    <a:pt x="121" y="6"/>
                  </a:lnTo>
                  <a:lnTo>
                    <a:pt x="93" y="0"/>
                  </a:lnTo>
                  <a:lnTo>
                    <a:pt x="65" y="0"/>
                  </a:lnTo>
                  <a:lnTo>
                    <a:pt x="33" y="4"/>
                  </a:lnTo>
                  <a:lnTo>
                    <a:pt x="0" y="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 flipH="1">
              <a:off x="7515000" y="5072040"/>
              <a:ext cx="135000" cy="180720"/>
            </a:xfrm>
            <a:custGeom>
              <a:avLst/>
              <a:gdLst/>
              <a:ahLst/>
              <a:rect l="l" t="t" r="r" b="b"/>
              <a:pathLst>
                <a:path w="85" h="114">
                  <a:moveTo>
                    <a:pt x="0" y="0"/>
                  </a:moveTo>
                  <a:lnTo>
                    <a:pt x="18" y="1"/>
                  </a:lnTo>
                  <a:lnTo>
                    <a:pt x="33" y="3"/>
                  </a:lnTo>
                  <a:lnTo>
                    <a:pt x="50" y="10"/>
                  </a:lnTo>
                  <a:lnTo>
                    <a:pt x="64" y="21"/>
                  </a:lnTo>
                  <a:lnTo>
                    <a:pt x="78" y="36"/>
                  </a:lnTo>
                  <a:lnTo>
                    <a:pt x="84" y="60"/>
                  </a:lnTo>
                  <a:lnTo>
                    <a:pt x="84" y="84"/>
                  </a:lnTo>
                  <a:lnTo>
                    <a:pt x="82" y="11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 flipH="1">
              <a:off x="7493040" y="5125680"/>
              <a:ext cx="93600" cy="255600"/>
            </a:xfrm>
            <a:custGeom>
              <a:avLst/>
              <a:gdLst/>
              <a:ahLst/>
              <a:rect l="l" t="t" r="r" b="b"/>
              <a:pathLst>
                <a:path w="59" h="161">
                  <a:moveTo>
                    <a:pt x="58" y="0"/>
                  </a:moveTo>
                  <a:lnTo>
                    <a:pt x="54" y="37"/>
                  </a:lnTo>
                  <a:lnTo>
                    <a:pt x="48" y="74"/>
                  </a:lnTo>
                  <a:lnTo>
                    <a:pt x="42" y="100"/>
                  </a:lnTo>
                  <a:lnTo>
                    <a:pt x="34" y="121"/>
                  </a:lnTo>
                  <a:lnTo>
                    <a:pt x="24" y="134"/>
                  </a:lnTo>
                  <a:lnTo>
                    <a:pt x="14" y="147"/>
                  </a:lnTo>
                  <a:lnTo>
                    <a:pt x="0" y="16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 flipH="1">
              <a:off x="7402680" y="5333760"/>
              <a:ext cx="149040" cy="36720"/>
            </a:xfrm>
            <a:custGeom>
              <a:avLst/>
              <a:gdLst/>
              <a:ahLst/>
              <a:rect l="l" t="t" r="r" b="b"/>
              <a:pathLst>
                <a:path w="94" h="23">
                  <a:moveTo>
                    <a:pt x="0" y="3"/>
                  </a:moveTo>
                  <a:lnTo>
                    <a:pt x="22" y="0"/>
                  </a:lnTo>
                  <a:lnTo>
                    <a:pt x="43" y="2"/>
                  </a:lnTo>
                  <a:lnTo>
                    <a:pt x="65" y="8"/>
                  </a:lnTo>
                  <a:lnTo>
                    <a:pt x="93" y="2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 flipH="1">
              <a:off x="7408440" y="5367240"/>
              <a:ext cx="174600" cy="48960"/>
            </a:xfrm>
            <a:custGeom>
              <a:avLst/>
              <a:gdLst/>
              <a:ahLst/>
              <a:rect l="l" t="t" r="r" b="b"/>
              <a:pathLst>
                <a:path w="110" h="31">
                  <a:moveTo>
                    <a:pt x="0" y="9"/>
                  </a:moveTo>
                  <a:lnTo>
                    <a:pt x="22" y="3"/>
                  </a:lnTo>
                  <a:lnTo>
                    <a:pt x="36" y="0"/>
                  </a:lnTo>
                  <a:lnTo>
                    <a:pt x="54" y="1"/>
                  </a:lnTo>
                  <a:lnTo>
                    <a:pt x="75" y="7"/>
                  </a:lnTo>
                  <a:lnTo>
                    <a:pt x="94" y="18"/>
                  </a:lnTo>
                  <a:lnTo>
                    <a:pt x="109" y="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 flipH="1">
              <a:off x="7016760" y="5027400"/>
              <a:ext cx="68400" cy="378000"/>
            </a:xfrm>
            <a:custGeom>
              <a:avLst/>
              <a:gdLst/>
              <a:ahLst/>
              <a:rect l="l" t="t" r="r" b="b"/>
              <a:pathLst>
                <a:path w="43" h="238">
                  <a:moveTo>
                    <a:pt x="10" y="0"/>
                  </a:moveTo>
                  <a:lnTo>
                    <a:pt x="19" y="16"/>
                  </a:lnTo>
                  <a:lnTo>
                    <a:pt x="29" y="38"/>
                  </a:lnTo>
                  <a:lnTo>
                    <a:pt x="38" y="62"/>
                  </a:lnTo>
                  <a:lnTo>
                    <a:pt x="42" y="87"/>
                  </a:lnTo>
                  <a:lnTo>
                    <a:pt x="42" y="115"/>
                  </a:lnTo>
                  <a:lnTo>
                    <a:pt x="40" y="141"/>
                  </a:lnTo>
                  <a:lnTo>
                    <a:pt x="34" y="168"/>
                  </a:lnTo>
                  <a:lnTo>
                    <a:pt x="24" y="193"/>
                  </a:lnTo>
                  <a:lnTo>
                    <a:pt x="13" y="215"/>
                  </a:lnTo>
                  <a:lnTo>
                    <a:pt x="0" y="23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 flipH="1">
              <a:off x="7186680" y="5486040"/>
              <a:ext cx="223920" cy="84240"/>
            </a:xfrm>
            <a:custGeom>
              <a:avLst/>
              <a:gdLst/>
              <a:ahLst/>
              <a:rect l="l" t="t" r="r" b="b"/>
              <a:pathLst>
                <a:path w="141" h="53">
                  <a:moveTo>
                    <a:pt x="0" y="52"/>
                  </a:moveTo>
                  <a:lnTo>
                    <a:pt x="24" y="36"/>
                  </a:lnTo>
                  <a:lnTo>
                    <a:pt x="48" y="24"/>
                  </a:lnTo>
                  <a:lnTo>
                    <a:pt x="68" y="16"/>
                  </a:lnTo>
                  <a:lnTo>
                    <a:pt x="92" y="8"/>
                  </a:lnTo>
                  <a:lnTo>
                    <a:pt x="120" y="4"/>
                  </a:lnTo>
                  <a:lnTo>
                    <a:pt x="14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 flipH="1">
              <a:off x="6744960" y="5238720"/>
              <a:ext cx="360360" cy="236520"/>
            </a:xfrm>
            <a:custGeom>
              <a:avLst/>
              <a:gdLst/>
              <a:ahLst/>
              <a:rect l="l" t="t" r="r" b="b"/>
              <a:pathLst>
                <a:path w="227" h="149">
                  <a:moveTo>
                    <a:pt x="0" y="148"/>
                  </a:moveTo>
                  <a:lnTo>
                    <a:pt x="25" y="148"/>
                  </a:lnTo>
                  <a:lnTo>
                    <a:pt x="61" y="140"/>
                  </a:lnTo>
                  <a:lnTo>
                    <a:pt x="94" y="128"/>
                  </a:lnTo>
                  <a:lnTo>
                    <a:pt x="122" y="116"/>
                  </a:lnTo>
                  <a:lnTo>
                    <a:pt x="150" y="96"/>
                  </a:lnTo>
                  <a:lnTo>
                    <a:pt x="182" y="72"/>
                  </a:lnTo>
                  <a:lnTo>
                    <a:pt x="194" y="48"/>
                  </a:lnTo>
                  <a:lnTo>
                    <a:pt x="22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 flipH="1">
              <a:off x="6802200" y="5416200"/>
              <a:ext cx="166680" cy="3996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24"/>
                  </a:moveTo>
                  <a:lnTo>
                    <a:pt x="44" y="16"/>
                  </a:lnTo>
                  <a:lnTo>
                    <a:pt x="80" y="8"/>
                  </a:lnTo>
                  <a:lnTo>
                    <a:pt x="10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 flipH="1">
              <a:off x="6546600" y="5391000"/>
              <a:ext cx="500040" cy="217440"/>
            </a:xfrm>
            <a:custGeom>
              <a:avLst/>
              <a:gdLst/>
              <a:ahLst/>
              <a:rect l="l" t="t" r="r" b="b"/>
              <a:pathLst>
                <a:path w="315" h="137">
                  <a:moveTo>
                    <a:pt x="0" y="136"/>
                  </a:moveTo>
                  <a:lnTo>
                    <a:pt x="32" y="116"/>
                  </a:lnTo>
                  <a:lnTo>
                    <a:pt x="69" y="100"/>
                  </a:lnTo>
                  <a:lnTo>
                    <a:pt x="101" y="88"/>
                  </a:lnTo>
                  <a:lnTo>
                    <a:pt x="145" y="72"/>
                  </a:lnTo>
                  <a:lnTo>
                    <a:pt x="181" y="52"/>
                  </a:lnTo>
                  <a:lnTo>
                    <a:pt x="189" y="52"/>
                  </a:lnTo>
                  <a:lnTo>
                    <a:pt x="237" y="20"/>
                  </a:lnTo>
                  <a:lnTo>
                    <a:pt x="278" y="8"/>
                  </a:lnTo>
                  <a:lnTo>
                    <a:pt x="31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 flipH="1">
              <a:off x="7682040" y="5072040"/>
              <a:ext cx="4608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16"/>
                  </a:moveTo>
                  <a:lnTo>
                    <a:pt x="16" y="8"/>
                  </a:lnTo>
                  <a:lnTo>
                    <a:pt x="2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 flipH="1">
              <a:off x="6755040" y="5844960"/>
              <a:ext cx="109440" cy="33480"/>
            </a:xfrm>
            <a:custGeom>
              <a:avLst/>
              <a:gdLst/>
              <a:ahLst/>
              <a:rect l="l" t="t" r="r" b="b"/>
              <a:pathLst>
                <a:path w="69" h="21">
                  <a:moveTo>
                    <a:pt x="68" y="0"/>
                  </a:moveTo>
                  <a:lnTo>
                    <a:pt x="48" y="2"/>
                  </a:lnTo>
                  <a:lnTo>
                    <a:pt x="32" y="6"/>
                  </a:lnTo>
                  <a:lnTo>
                    <a:pt x="16" y="12"/>
                  </a:lnTo>
                  <a:lnTo>
                    <a:pt x="0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 flipH="1">
              <a:off x="6534360" y="5927400"/>
              <a:ext cx="110880" cy="27000"/>
            </a:xfrm>
            <a:custGeom>
              <a:avLst/>
              <a:gdLst/>
              <a:ahLst/>
              <a:rect l="l" t="t" r="r" b="b"/>
              <a:pathLst>
                <a:path w="70" h="17">
                  <a:moveTo>
                    <a:pt x="69" y="0"/>
                  </a:moveTo>
                  <a:lnTo>
                    <a:pt x="45" y="0"/>
                  </a:lnTo>
                  <a:lnTo>
                    <a:pt x="21" y="5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 flipH="1">
              <a:off x="6391080" y="5844960"/>
              <a:ext cx="150840" cy="74520"/>
            </a:xfrm>
            <a:custGeom>
              <a:avLst/>
              <a:gdLst/>
              <a:ahLst/>
              <a:rect l="l" t="t" r="r" b="b"/>
              <a:pathLst>
                <a:path w="95" h="47">
                  <a:moveTo>
                    <a:pt x="94" y="0"/>
                  </a:moveTo>
                  <a:lnTo>
                    <a:pt x="78" y="2"/>
                  </a:lnTo>
                  <a:lnTo>
                    <a:pt x="58" y="8"/>
                  </a:lnTo>
                  <a:lnTo>
                    <a:pt x="40" y="16"/>
                  </a:lnTo>
                  <a:lnTo>
                    <a:pt x="26" y="26"/>
                  </a:lnTo>
                  <a:lnTo>
                    <a:pt x="14" y="36"/>
                  </a:lnTo>
                  <a:lnTo>
                    <a:pt x="6" y="42"/>
                  </a:lnTo>
                  <a:lnTo>
                    <a:pt x="0" y="4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 flipH="1">
              <a:off x="6139080" y="5900400"/>
              <a:ext cx="117360" cy="46080"/>
            </a:xfrm>
            <a:custGeom>
              <a:avLst/>
              <a:gdLst/>
              <a:ahLst/>
              <a:rect l="l" t="t" r="r" b="b"/>
              <a:pathLst>
                <a:path w="74" h="29">
                  <a:moveTo>
                    <a:pt x="73" y="0"/>
                  </a:moveTo>
                  <a:lnTo>
                    <a:pt x="39" y="4"/>
                  </a:lnTo>
                  <a:lnTo>
                    <a:pt x="25" y="10"/>
                  </a:lnTo>
                  <a:lnTo>
                    <a:pt x="11" y="18"/>
                  </a:lnTo>
                  <a:lnTo>
                    <a:pt x="0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 flipH="1">
              <a:off x="6034320" y="5770440"/>
              <a:ext cx="131760" cy="71280"/>
            </a:xfrm>
            <a:custGeom>
              <a:avLst/>
              <a:gdLst/>
              <a:ahLst/>
              <a:rect l="l" t="t" r="r" b="b"/>
              <a:pathLst>
                <a:path w="83" h="45">
                  <a:moveTo>
                    <a:pt x="82" y="0"/>
                  </a:moveTo>
                  <a:lnTo>
                    <a:pt x="54" y="8"/>
                  </a:lnTo>
                  <a:lnTo>
                    <a:pt x="38" y="16"/>
                  </a:lnTo>
                  <a:lnTo>
                    <a:pt x="24" y="24"/>
                  </a:lnTo>
                  <a:lnTo>
                    <a:pt x="12" y="34"/>
                  </a:lnTo>
                  <a:lnTo>
                    <a:pt x="0" y="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 flipH="1">
              <a:off x="6257520" y="5748120"/>
              <a:ext cx="109800" cy="52560"/>
            </a:xfrm>
            <a:custGeom>
              <a:avLst/>
              <a:gdLst/>
              <a:ahLst/>
              <a:rect l="l" t="t" r="r" b="b"/>
              <a:pathLst>
                <a:path w="69" h="33">
                  <a:moveTo>
                    <a:pt x="68" y="0"/>
                  </a:moveTo>
                  <a:lnTo>
                    <a:pt x="42" y="6"/>
                  </a:lnTo>
                  <a:lnTo>
                    <a:pt x="28" y="14"/>
                  </a:lnTo>
                  <a:lnTo>
                    <a:pt x="14" y="22"/>
                  </a:lnTo>
                  <a:lnTo>
                    <a:pt x="0" y="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 flipH="1">
              <a:off x="6082920" y="5609880"/>
              <a:ext cx="141480" cy="103320"/>
            </a:xfrm>
            <a:custGeom>
              <a:avLst/>
              <a:gdLst/>
              <a:ahLst/>
              <a:rect l="l" t="t" r="r" b="b"/>
              <a:pathLst>
                <a:path w="89" h="65">
                  <a:moveTo>
                    <a:pt x="88" y="0"/>
                  </a:moveTo>
                  <a:lnTo>
                    <a:pt x="50" y="7"/>
                  </a:lnTo>
                  <a:lnTo>
                    <a:pt x="28" y="19"/>
                  </a:lnTo>
                  <a:lnTo>
                    <a:pt x="12" y="33"/>
                  </a:lnTo>
                  <a:lnTo>
                    <a:pt x="4" y="48"/>
                  </a:lnTo>
                  <a:lnTo>
                    <a:pt x="0" y="6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 flipH="1">
              <a:off x="6276600" y="5540040"/>
              <a:ext cx="198360" cy="66960"/>
            </a:xfrm>
            <a:custGeom>
              <a:avLst/>
              <a:gdLst/>
              <a:ahLst/>
              <a:rect l="l" t="t" r="r" b="b"/>
              <a:pathLst>
                <a:path w="125" h="42">
                  <a:moveTo>
                    <a:pt x="124" y="0"/>
                  </a:moveTo>
                  <a:lnTo>
                    <a:pt x="72" y="0"/>
                  </a:lnTo>
                  <a:lnTo>
                    <a:pt x="36" y="13"/>
                  </a:lnTo>
                  <a:lnTo>
                    <a:pt x="12" y="25"/>
                  </a:lnTo>
                  <a:lnTo>
                    <a:pt x="0" y="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 flipH="1">
              <a:off x="6511680" y="5573520"/>
              <a:ext cx="27000" cy="96840"/>
            </a:xfrm>
            <a:custGeom>
              <a:avLst/>
              <a:gdLst/>
              <a:ahLst/>
              <a:rect l="l" t="t" r="r" b="b"/>
              <a:pathLst>
                <a:path w="17" h="61">
                  <a:moveTo>
                    <a:pt x="5" y="60"/>
                  </a:moveTo>
                  <a:lnTo>
                    <a:pt x="0" y="44"/>
                  </a:lnTo>
                  <a:lnTo>
                    <a:pt x="5" y="24"/>
                  </a:ln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5" name=""/>
            <p:cNvSpPr/>
            <p:nvPr/>
          </p:nvSpPr>
          <p:spPr>
            <a:xfrm flipH="1">
              <a:off x="6653160" y="5681520"/>
              <a:ext cx="52560" cy="6516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32" y="40"/>
                  </a:moveTo>
                  <a:lnTo>
                    <a:pt x="16" y="2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 flipV="1">
              <a:off x="6623280" y="6076800"/>
              <a:ext cx="252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7" name=""/>
          <p:cNvGrpSpPr/>
          <p:nvPr/>
        </p:nvGrpSpPr>
        <p:grpSpPr>
          <a:xfrm>
            <a:off x="5912280" y="3911400"/>
            <a:ext cx="234360" cy="1237680"/>
            <a:chOff x="5912280" y="3911400"/>
            <a:chExt cx="234360" cy="1237680"/>
          </a:xfrm>
        </p:grpSpPr>
        <p:grpSp>
          <p:nvGrpSpPr>
            <p:cNvPr id="2768" name=""/>
            <p:cNvGrpSpPr/>
            <p:nvPr/>
          </p:nvGrpSpPr>
          <p:grpSpPr>
            <a:xfrm>
              <a:off x="5912280" y="4073400"/>
              <a:ext cx="234360" cy="921960"/>
              <a:chOff x="5912280" y="4073400"/>
              <a:chExt cx="234360" cy="921960"/>
            </a:xfrm>
          </p:grpSpPr>
          <p:grpSp>
            <p:nvGrpSpPr>
              <p:cNvPr id="2769" name=""/>
              <p:cNvGrpSpPr/>
              <p:nvPr/>
            </p:nvGrpSpPr>
            <p:grpSpPr>
              <a:xfrm>
                <a:off x="5912280" y="4073400"/>
                <a:ext cx="234360" cy="230400"/>
                <a:chOff x="5912280" y="4073400"/>
                <a:chExt cx="234360" cy="230400"/>
              </a:xfrm>
            </p:grpSpPr>
            <p:grpSp>
              <p:nvGrpSpPr>
                <p:cNvPr id="2770" name=""/>
                <p:cNvGrpSpPr/>
                <p:nvPr/>
              </p:nvGrpSpPr>
              <p:grpSpPr>
                <a:xfrm>
                  <a:off x="5912280" y="4073400"/>
                  <a:ext cx="234360" cy="113040"/>
                  <a:chOff x="5912280" y="4073400"/>
                  <a:chExt cx="234360" cy="113040"/>
                </a:xfrm>
              </p:grpSpPr>
              <p:sp>
                <p:nvSpPr>
                  <p:cNvPr id="2771" name=""/>
                  <p:cNvSpPr/>
                  <p:nvPr/>
                </p:nvSpPr>
                <p:spPr>
                  <a:xfrm>
                    <a:off x="6029280" y="4073400"/>
                    <a:ext cx="117360" cy="280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2" name=""/>
                  <p:cNvSpPr/>
                  <p:nvPr/>
                </p:nvSpPr>
                <p:spPr>
                  <a:xfrm flipH="1">
                    <a:off x="6029280" y="4101480"/>
                    <a:ext cx="117360" cy="26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73" name=""/>
                  <p:cNvGrpSpPr/>
                  <p:nvPr/>
                </p:nvGrpSpPr>
                <p:grpSpPr>
                  <a:xfrm>
                    <a:off x="5912280" y="4128480"/>
                    <a:ext cx="117360" cy="57960"/>
                    <a:chOff x="5912280" y="4128480"/>
                    <a:chExt cx="117360" cy="57960"/>
                  </a:xfrm>
                </p:grpSpPr>
                <p:sp>
                  <p:nvSpPr>
                    <p:cNvPr id="2774" name=""/>
                    <p:cNvSpPr/>
                    <p:nvPr/>
                  </p:nvSpPr>
                  <p:spPr>
                    <a:xfrm flipH="1">
                      <a:off x="5912280" y="4128480"/>
                      <a:ext cx="117000" cy="284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5" name=""/>
                    <p:cNvSpPr/>
                    <p:nvPr/>
                  </p:nvSpPr>
                  <p:spPr>
                    <a:xfrm>
                      <a:off x="5912640" y="4156920"/>
                      <a:ext cx="117000" cy="295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776" name=""/>
                <p:cNvGrpSpPr/>
                <p:nvPr/>
              </p:nvGrpSpPr>
              <p:grpSpPr>
                <a:xfrm>
                  <a:off x="5912280" y="4187160"/>
                  <a:ext cx="234360" cy="116640"/>
                  <a:chOff x="5912280" y="4187160"/>
                  <a:chExt cx="234360" cy="116640"/>
                </a:xfrm>
              </p:grpSpPr>
              <p:sp>
                <p:nvSpPr>
                  <p:cNvPr id="2777" name=""/>
                  <p:cNvSpPr/>
                  <p:nvPr/>
                </p:nvSpPr>
                <p:spPr>
                  <a:xfrm>
                    <a:off x="6029280" y="4187160"/>
                    <a:ext cx="117360" cy="298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8" name=""/>
                  <p:cNvSpPr/>
                  <p:nvPr/>
                </p:nvSpPr>
                <p:spPr>
                  <a:xfrm flipH="1">
                    <a:off x="6029280" y="4217040"/>
                    <a:ext cx="117360" cy="25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79" name=""/>
                  <p:cNvGrpSpPr/>
                  <p:nvPr/>
                </p:nvGrpSpPr>
                <p:grpSpPr>
                  <a:xfrm>
                    <a:off x="5912280" y="4242600"/>
                    <a:ext cx="117360" cy="61200"/>
                    <a:chOff x="5912280" y="4242600"/>
                    <a:chExt cx="117360" cy="61200"/>
                  </a:xfrm>
                </p:grpSpPr>
                <p:sp>
                  <p:nvSpPr>
                    <p:cNvPr id="2780" name=""/>
                    <p:cNvSpPr/>
                    <p:nvPr/>
                  </p:nvSpPr>
                  <p:spPr>
                    <a:xfrm flipH="1">
                      <a:off x="5912280" y="4242600"/>
                      <a:ext cx="117000" cy="327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1" name=""/>
                    <p:cNvSpPr/>
                    <p:nvPr/>
                  </p:nvSpPr>
                  <p:spPr>
                    <a:xfrm>
                      <a:off x="5912640" y="4275360"/>
                      <a:ext cx="117000" cy="284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782" name=""/>
              <p:cNvGrpSpPr/>
              <p:nvPr/>
            </p:nvGrpSpPr>
            <p:grpSpPr>
              <a:xfrm>
                <a:off x="5912280" y="4304880"/>
                <a:ext cx="234360" cy="225360"/>
                <a:chOff x="5912280" y="4304880"/>
                <a:chExt cx="234360" cy="225360"/>
              </a:xfrm>
            </p:grpSpPr>
            <p:grpSp>
              <p:nvGrpSpPr>
                <p:cNvPr id="2783" name=""/>
                <p:cNvGrpSpPr/>
                <p:nvPr/>
              </p:nvGrpSpPr>
              <p:grpSpPr>
                <a:xfrm>
                  <a:off x="5912280" y="4304880"/>
                  <a:ext cx="234360" cy="111600"/>
                  <a:chOff x="5912280" y="4304880"/>
                  <a:chExt cx="234360" cy="111600"/>
                </a:xfrm>
              </p:grpSpPr>
              <p:sp>
                <p:nvSpPr>
                  <p:cNvPr id="2784" name=""/>
                  <p:cNvSpPr/>
                  <p:nvPr/>
                </p:nvSpPr>
                <p:spPr>
                  <a:xfrm>
                    <a:off x="6029280" y="4304880"/>
                    <a:ext cx="117360" cy="280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5" name=""/>
                  <p:cNvSpPr/>
                  <p:nvPr/>
                </p:nvSpPr>
                <p:spPr>
                  <a:xfrm flipH="1">
                    <a:off x="6029280" y="4332960"/>
                    <a:ext cx="117360" cy="234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86" name=""/>
                  <p:cNvGrpSpPr/>
                  <p:nvPr/>
                </p:nvGrpSpPr>
                <p:grpSpPr>
                  <a:xfrm>
                    <a:off x="5912280" y="4356720"/>
                    <a:ext cx="117360" cy="59760"/>
                    <a:chOff x="5912280" y="4356720"/>
                    <a:chExt cx="117360" cy="59760"/>
                  </a:xfrm>
                </p:grpSpPr>
                <p:sp>
                  <p:nvSpPr>
                    <p:cNvPr id="2787" name=""/>
                    <p:cNvSpPr/>
                    <p:nvPr/>
                  </p:nvSpPr>
                  <p:spPr>
                    <a:xfrm flipH="1">
                      <a:off x="5912280" y="4356720"/>
                      <a:ext cx="117000" cy="345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8" name=""/>
                    <p:cNvSpPr/>
                    <p:nvPr/>
                  </p:nvSpPr>
                  <p:spPr>
                    <a:xfrm>
                      <a:off x="5912640" y="4391280"/>
                      <a:ext cx="117000" cy="252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789" name=""/>
                <p:cNvGrpSpPr/>
                <p:nvPr/>
              </p:nvGrpSpPr>
              <p:grpSpPr>
                <a:xfrm>
                  <a:off x="5912280" y="4417200"/>
                  <a:ext cx="234360" cy="113040"/>
                  <a:chOff x="5912280" y="4417200"/>
                  <a:chExt cx="234360" cy="113040"/>
                </a:xfrm>
              </p:grpSpPr>
              <p:sp>
                <p:nvSpPr>
                  <p:cNvPr id="2790" name=""/>
                  <p:cNvSpPr/>
                  <p:nvPr/>
                </p:nvSpPr>
                <p:spPr>
                  <a:xfrm>
                    <a:off x="6029280" y="4417200"/>
                    <a:ext cx="117360" cy="280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1" name=""/>
                  <p:cNvSpPr/>
                  <p:nvPr/>
                </p:nvSpPr>
                <p:spPr>
                  <a:xfrm flipH="1">
                    <a:off x="6029280" y="4445280"/>
                    <a:ext cx="117360" cy="26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92" name=""/>
                  <p:cNvGrpSpPr/>
                  <p:nvPr/>
                </p:nvGrpSpPr>
                <p:grpSpPr>
                  <a:xfrm>
                    <a:off x="5912280" y="4472280"/>
                    <a:ext cx="117360" cy="57960"/>
                    <a:chOff x="5912280" y="4472280"/>
                    <a:chExt cx="117360" cy="57960"/>
                  </a:xfrm>
                </p:grpSpPr>
                <p:sp>
                  <p:nvSpPr>
                    <p:cNvPr id="2793" name=""/>
                    <p:cNvSpPr/>
                    <p:nvPr/>
                  </p:nvSpPr>
                  <p:spPr>
                    <a:xfrm flipH="1">
                      <a:off x="5912280" y="4472280"/>
                      <a:ext cx="117000" cy="345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4" name=""/>
                    <p:cNvSpPr/>
                    <p:nvPr/>
                  </p:nvSpPr>
                  <p:spPr>
                    <a:xfrm>
                      <a:off x="5912640" y="4506840"/>
                      <a:ext cx="117000" cy="234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795" name=""/>
              <p:cNvGrpSpPr/>
              <p:nvPr/>
            </p:nvGrpSpPr>
            <p:grpSpPr>
              <a:xfrm>
                <a:off x="5912280" y="4531680"/>
                <a:ext cx="234360" cy="228960"/>
                <a:chOff x="5912280" y="4531680"/>
                <a:chExt cx="234360" cy="228960"/>
              </a:xfrm>
            </p:grpSpPr>
            <p:grpSp>
              <p:nvGrpSpPr>
                <p:cNvPr id="2796" name=""/>
                <p:cNvGrpSpPr/>
                <p:nvPr/>
              </p:nvGrpSpPr>
              <p:grpSpPr>
                <a:xfrm>
                  <a:off x="5912280" y="4531680"/>
                  <a:ext cx="234360" cy="116640"/>
                  <a:chOff x="5912280" y="4531680"/>
                  <a:chExt cx="234360" cy="116640"/>
                </a:xfrm>
              </p:grpSpPr>
              <p:sp>
                <p:nvSpPr>
                  <p:cNvPr id="2797" name=""/>
                  <p:cNvSpPr/>
                  <p:nvPr/>
                </p:nvSpPr>
                <p:spPr>
                  <a:xfrm>
                    <a:off x="6029280" y="4531680"/>
                    <a:ext cx="117360" cy="298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8" name=""/>
                  <p:cNvSpPr/>
                  <p:nvPr/>
                </p:nvSpPr>
                <p:spPr>
                  <a:xfrm flipH="1">
                    <a:off x="6029280" y="4561560"/>
                    <a:ext cx="117360" cy="298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99" name=""/>
                  <p:cNvGrpSpPr/>
                  <p:nvPr/>
                </p:nvGrpSpPr>
                <p:grpSpPr>
                  <a:xfrm>
                    <a:off x="5912280" y="4591800"/>
                    <a:ext cx="117360" cy="56520"/>
                    <a:chOff x="5912280" y="4591800"/>
                    <a:chExt cx="117360" cy="56520"/>
                  </a:xfrm>
                </p:grpSpPr>
                <p:sp>
                  <p:nvSpPr>
                    <p:cNvPr id="2800" name=""/>
                    <p:cNvSpPr/>
                    <p:nvPr/>
                  </p:nvSpPr>
                  <p:spPr>
                    <a:xfrm flipH="1">
                      <a:off x="5912280" y="4591800"/>
                      <a:ext cx="117000" cy="280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1" name=""/>
                    <p:cNvSpPr/>
                    <p:nvPr/>
                  </p:nvSpPr>
                  <p:spPr>
                    <a:xfrm>
                      <a:off x="5912640" y="4619880"/>
                      <a:ext cx="117000" cy="284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802" name=""/>
                <p:cNvGrpSpPr/>
                <p:nvPr/>
              </p:nvGrpSpPr>
              <p:grpSpPr>
                <a:xfrm>
                  <a:off x="5912280" y="4649040"/>
                  <a:ext cx="234360" cy="111600"/>
                  <a:chOff x="5912280" y="4649040"/>
                  <a:chExt cx="234360" cy="111600"/>
                </a:xfrm>
              </p:grpSpPr>
              <p:sp>
                <p:nvSpPr>
                  <p:cNvPr id="2803" name=""/>
                  <p:cNvSpPr/>
                  <p:nvPr/>
                </p:nvSpPr>
                <p:spPr>
                  <a:xfrm>
                    <a:off x="6029280" y="4649040"/>
                    <a:ext cx="117360" cy="262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4" name=""/>
                  <p:cNvSpPr/>
                  <p:nvPr/>
                </p:nvSpPr>
                <p:spPr>
                  <a:xfrm flipH="1">
                    <a:off x="6029280" y="4675320"/>
                    <a:ext cx="117360" cy="298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05" name=""/>
                  <p:cNvGrpSpPr/>
                  <p:nvPr/>
                </p:nvGrpSpPr>
                <p:grpSpPr>
                  <a:xfrm>
                    <a:off x="5912280" y="4705560"/>
                    <a:ext cx="117360" cy="55080"/>
                    <a:chOff x="5912280" y="4705560"/>
                    <a:chExt cx="117360" cy="55080"/>
                  </a:xfrm>
                </p:grpSpPr>
                <p:sp>
                  <p:nvSpPr>
                    <p:cNvPr id="2806" name=""/>
                    <p:cNvSpPr/>
                    <p:nvPr/>
                  </p:nvSpPr>
                  <p:spPr>
                    <a:xfrm flipH="1">
                      <a:off x="5912280" y="4705560"/>
                      <a:ext cx="117000" cy="284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7" name=""/>
                    <p:cNvSpPr/>
                    <p:nvPr/>
                  </p:nvSpPr>
                  <p:spPr>
                    <a:xfrm>
                      <a:off x="5912640" y="4734000"/>
                      <a:ext cx="117000" cy="26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08" name=""/>
              <p:cNvGrpSpPr/>
              <p:nvPr/>
            </p:nvGrpSpPr>
            <p:grpSpPr>
              <a:xfrm>
                <a:off x="5912280" y="4762080"/>
                <a:ext cx="234360" cy="233280"/>
                <a:chOff x="5912280" y="4762080"/>
                <a:chExt cx="234360" cy="233280"/>
              </a:xfrm>
            </p:grpSpPr>
            <p:grpSp>
              <p:nvGrpSpPr>
                <p:cNvPr id="2809" name=""/>
                <p:cNvGrpSpPr/>
                <p:nvPr/>
              </p:nvGrpSpPr>
              <p:grpSpPr>
                <a:xfrm>
                  <a:off x="5912280" y="4762080"/>
                  <a:ext cx="234360" cy="113040"/>
                  <a:chOff x="5912280" y="4762080"/>
                  <a:chExt cx="234360" cy="113040"/>
                </a:xfrm>
              </p:grpSpPr>
              <p:sp>
                <p:nvSpPr>
                  <p:cNvPr id="2810" name=""/>
                  <p:cNvSpPr/>
                  <p:nvPr/>
                </p:nvSpPr>
                <p:spPr>
                  <a:xfrm>
                    <a:off x="6029280" y="4762080"/>
                    <a:ext cx="117360" cy="3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1" name=""/>
                  <p:cNvSpPr/>
                  <p:nvPr/>
                </p:nvSpPr>
                <p:spPr>
                  <a:xfrm flipH="1">
                    <a:off x="6029280" y="4796640"/>
                    <a:ext cx="117360" cy="248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12" name=""/>
                  <p:cNvGrpSpPr/>
                  <p:nvPr/>
                </p:nvGrpSpPr>
                <p:grpSpPr>
                  <a:xfrm>
                    <a:off x="5912280" y="4821840"/>
                    <a:ext cx="117360" cy="53280"/>
                    <a:chOff x="5912280" y="4821840"/>
                    <a:chExt cx="117360" cy="53280"/>
                  </a:xfrm>
                </p:grpSpPr>
                <p:sp>
                  <p:nvSpPr>
                    <p:cNvPr id="2813" name=""/>
                    <p:cNvSpPr/>
                    <p:nvPr/>
                  </p:nvSpPr>
                  <p:spPr>
                    <a:xfrm flipH="1">
                      <a:off x="5912280" y="4821840"/>
                      <a:ext cx="117000" cy="284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4" name=""/>
                    <p:cNvSpPr/>
                    <p:nvPr/>
                  </p:nvSpPr>
                  <p:spPr>
                    <a:xfrm>
                      <a:off x="5912640" y="4850280"/>
                      <a:ext cx="117000" cy="248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815" name=""/>
                <p:cNvGrpSpPr/>
                <p:nvPr/>
              </p:nvGrpSpPr>
              <p:grpSpPr>
                <a:xfrm>
                  <a:off x="5912280" y="4875840"/>
                  <a:ext cx="234360" cy="119520"/>
                  <a:chOff x="5912280" y="4875840"/>
                  <a:chExt cx="234360" cy="119520"/>
                </a:xfrm>
              </p:grpSpPr>
              <p:sp>
                <p:nvSpPr>
                  <p:cNvPr id="2816" name=""/>
                  <p:cNvSpPr/>
                  <p:nvPr/>
                </p:nvSpPr>
                <p:spPr>
                  <a:xfrm>
                    <a:off x="6029280" y="4875840"/>
                    <a:ext cx="117360" cy="3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7" name=""/>
                  <p:cNvSpPr/>
                  <p:nvPr/>
                </p:nvSpPr>
                <p:spPr>
                  <a:xfrm flipH="1">
                    <a:off x="6029280" y="4910400"/>
                    <a:ext cx="117360" cy="25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18" name=""/>
                  <p:cNvGrpSpPr/>
                  <p:nvPr/>
                </p:nvGrpSpPr>
                <p:grpSpPr>
                  <a:xfrm>
                    <a:off x="5912280" y="4935960"/>
                    <a:ext cx="117360" cy="59400"/>
                    <a:chOff x="5912280" y="4935960"/>
                    <a:chExt cx="117360" cy="59400"/>
                  </a:xfrm>
                </p:grpSpPr>
                <p:sp>
                  <p:nvSpPr>
                    <p:cNvPr id="2819" name=""/>
                    <p:cNvSpPr/>
                    <p:nvPr/>
                  </p:nvSpPr>
                  <p:spPr>
                    <a:xfrm flipH="1">
                      <a:off x="5912280" y="4935960"/>
                      <a:ext cx="117000" cy="26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0" name=""/>
                    <p:cNvSpPr/>
                    <p:nvPr/>
                  </p:nvSpPr>
                  <p:spPr>
                    <a:xfrm>
                      <a:off x="5912640" y="4962600"/>
                      <a:ext cx="117000" cy="327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2821" name=""/>
            <p:cNvSpPr/>
            <p:nvPr/>
          </p:nvSpPr>
          <p:spPr>
            <a:xfrm flipV="1">
              <a:off x="6029280" y="3911400"/>
              <a:ext cx="0" cy="1616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 flipV="1">
              <a:off x="6024600" y="4987440"/>
              <a:ext cx="0" cy="1616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23" name=""/>
          <p:cNvSpPr/>
          <p:nvPr/>
        </p:nvSpPr>
        <p:spPr>
          <a:xfrm flipH="1">
            <a:off x="5149080" y="3778200"/>
            <a:ext cx="1739880" cy="190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6216480" y="5137200"/>
            <a:ext cx="825840" cy="673200"/>
          </a:xfrm>
          <a:prstGeom prst="cube">
            <a:avLst>
              <a:gd name="adj" fmla="val 24995"/>
            </a:avLst>
          </a:prstGeom>
          <a:solidFill>
            <a:srgbClr val="ff0033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5" name=""/>
          <p:cNvGrpSpPr/>
          <p:nvPr/>
        </p:nvGrpSpPr>
        <p:grpSpPr>
          <a:xfrm>
            <a:off x="2400480" y="3911400"/>
            <a:ext cx="241560" cy="1904760"/>
            <a:chOff x="2400480" y="3911400"/>
            <a:chExt cx="241560" cy="1904760"/>
          </a:xfrm>
        </p:grpSpPr>
        <p:grpSp>
          <p:nvGrpSpPr>
            <p:cNvPr id="2826" name=""/>
            <p:cNvGrpSpPr/>
            <p:nvPr/>
          </p:nvGrpSpPr>
          <p:grpSpPr>
            <a:xfrm>
              <a:off x="2400480" y="4160520"/>
              <a:ext cx="241560" cy="1419120"/>
              <a:chOff x="2400480" y="4160520"/>
              <a:chExt cx="241560" cy="1419120"/>
            </a:xfrm>
          </p:grpSpPr>
          <p:grpSp>
            <p:nvGrpSpPr>
              <p:cNvPr id="2827" name=""/>
              <p:cNvGrpSpPr/>
              <p:nvPr/>
            </p:nvGrpSpPr>
            <p:grpSpPr>
              <a:xfrm>
                <a:off x="2400480" y="4160520"/>
                <a:ext cx="241560" cy="356040"/>
                <a:chOff x="2400480" y="4160520"/>
                <a:chExt cx="241560" cy="356040"/>
              </a:xfrm>
            </p:grpSpPr>
            <p:grpSp>
              <p:nvGrpSpPr>
                <p:cNvPr id="2828" name=""/>
                <p:cNvGrpSpPr/>
                <p:nvPr/>
              </p:nvGrpSpPr>
              <p:grpSpPr>
                <a:xfrm>
                  <a:off x="2400480" y="4160520"/>
                  <a:ext cx="241560" cy="175320"/>
                  <a:chOff x="2400480" y="4160520"/>
                  <a:chExt cx="241560" cy="175320"/>
                </a:xfrm>
              </p:grpSpPr>
              <p:sp>
                <p:nvSpPr>
                  <p:cNvPr id="2829" name=""/>
                  <p:cNvSpPr/>
                  <p:nvPr/>
                </p:nvSpPr>
                <p:spPr>
                  <a:xfrm>
                    <a:off x="2521440" y="4160520"/>
                    <a:ext cx="120600" cy="442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0" name=""/>
                  <p:cNvSpPr/>
                  <p:nvPr/>
                </p:nvSpPr>
                <p:spPr>
                  <a:xfrm flipH="1">
                    <a:off x="2521080" y="4204800"/>
                    <a:ext cx="120600" cy="406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31" name=""/>
                  <p:cNvGrpSpPr/>
                  <p:nvPr/>
                </p:nvGrpSpPr>
                <p:grpSpPr>
                  <a:xfrm>
                    <a:off x="2400480" y="4245840"/>
                    <a:ext cx="120960" cy="90000"/>
                    <a:chOff x="2400480" y="4245840"/>
                    <a:chExt cx="120960" cy="90000"/>
                  </a:xfrm>
                </p:grpSpPr>
                <p:sp>
                  <p:nvSpPr>
                    <p:cNvPr id="2832" name=""/>
                    <p:cNvSpPr/>
                    <p:nvPr/>
                  </p:nvSpPr>
                  <p:spPr>
                    <a:xfrm flipH="1">
                      <a:off x="2400480" y="4245840"/>
                      <a:ext cx="120600" cy="428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3" name=""/>
                    <p:cNvSpPr/>
                    <p:nvPr/>
                  </p:nvSpPr>
                  <p:spPr>
                    <a:xfrm>
                      <a:off x="2400840" y="4288680"/>
                      <a:ext cx="120600" cy="471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834" name=""/>
                <p:cNvGrpSpPr/>
                <p:nvPr/>
              </p:nvGrpSpPr>
              <p:grpSpPr>
                <a:xfrm>
                  <a:off x="2400480" y="4336560"/>
                  <a:ext cx="241560" cy="180000"/>
                  <a:chOff x="2400480" y="4336560"/>
                  <a:chExt cx="241560" cy="180000"/>
                </a:xfrm>
              </p:grpSpPr>
              <p:sp>
                <p:nvSpPr>
                  <p:cNvPr id="2835" name=""/>
                  <p:cNvSpPr/>
                  <p:nvPr/>
                </p:nvSpPr>
                <p:spPr>
                  <a:xfrm>
                    <a:off x="2521440" y="4336560"/>
                    <a:ext cx="120600" cy="457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6" name=""/>
                  <p:cNvSpPr/>
                  <p:nvPr/>
                </p:nvSpPr>
                <p:spPr>
                  <a:xfrm flipH="1">
                    <a:off x="2521080" y="4382280"/>
                    <a:ext cx="120600" cy="392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37" name=""/>
                  <p:cNvGrpSpPr/>
                  <p:nvPr/>
                </p:nvGrpSpPr>
                <p:grpSpPr>
                  <a:xfrm>
                    <a:off x="2400480" y="4421880"/>
                    <a:ext cx="120960" cy="94680"/>
                    <a:chOff x="2400480" y="4421880"/>
                    <a:chExt cx="120960" cy="94680"/>
                  </a:xfrm>
                </p:grpSpPr>
                <p:sp>
                  <p:nvSpPr>
                    <p:cNvPr id="2838" name=""/>
                    <p:cNvSpPr/>
                    <p:nvPr/>
                  </p:nvSpPr>
                  <p:spPr>
                    <a:xfrm flipH="1">
                      <a:off x="2400480" y="4421880"/>
                      <a:ext cx="120600" cy="504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9" name=""/>
                    <p:cNvSpPr/>
                    <p:nvPr/>
                  </p:nvSpPr>
                  <p:spPr>
                    <a:xfrm>
                      <a:off x="2400840" y="4472280"/>
                      <a:ext cx="120600" cy="442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0" name=""/>
              <p:cNvGrpSpPr/>
              <p:nvPr/>
            </p:nvGrpSpPr>
            <p:grpSpPr>
              <a:xfrm>
                <a:off x="2400480" y="4517640"/>
                <a:ext cx="241560" cy="347760"/>
                <a:chOff x="2400480" y="4517640"/>
                <a:chExt cx="241560" cy="347760"/>
              </a:xfrm>
            </p:grpSpPr>
            <p:grpSp>
              <p:nvGrpSpPr>
                <p:cNvPr id="2841" name=""/>
                <p:cNvGrpSpPr/>
                <p:nvPr/>
              </p:nvGrpSpPr>
              <p:grpSpPr>
                <a:xfrm>
                  <a:off x="2400480" y="4517640"/>
                  <a:ext cx="241560" cy="171720"/>
                  <a:chOff x="2400480" y="4517640"/>
                  <a:chExt cx="241560" cy="171720"/>
                </a:xfrm>
              </p:grpSpPr>
              <p:sp>
                <p:nvSpPr>
                  <p:cNvPr id="2842" name=""/>
                  <p:cNvSpPr/>
                  <p:nvPr/>
                </p:nvSpPr>
                <p:spPr>
                  <a:xfrm>
                    <a:off x="2521440" y="4517640"/>
                    <a:ext cx="120600" cy="424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3" name=""/>
                  <p:cNvSpPr/>
                  <p:nvPr/>
                </p:nvSpPr>
                <p:spPr>
                  <a:xfrm flipH="1">
                    <a:off x="2521080" y="4560120"/>
                    <a:ext cx="120600" cy="36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44" name=""/>
                  <p:cNvGrpSpPr/>
                  <p:nvPr/>
                </p:nvGrpSpPr>
                <p:grpSpPr>
                  <a:xfrm>
                    <a:off x="2400480" y="4596480"/>
                    <a:ext cx="120960" cy="92880"/>
                    <a:chOff x="2400480" y="4596480"/>
                    <a:chExt cx="120960" cy="92880"/>
                  </a:xfrm>
                </p:grpSpPr>
                <p:sp>
                  <p:nvSpPr>
                    <p:cNvPr id="2845" name=""/>
                    <p:cNvSpPr/>
                    <p:nvPr/>
                  </p:nvSpPr>
                  <p:spPr>
                    <a:xfrm flipH="1">
                      <a:off x="2400480" y="4596480"/>
                      <a:ext cx="120600" cy="53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6" name=""/>
                    <p:cNvSpPr/>
                    <p:nvPr/>
                  </p:nvSpPr>
                  <p:spPr>
                    <a:xfrm>
                      <a:off x="2400840" y="4650120"/>
                      <a:ext cx="120600" cy="392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847" name=""/>
                <p:cNvGrpSpPr/>
                <p:nvPr/>
              </p:nvGrpSpPr>
              <p:grpSpPr>
                <a:xfrm>
                  <a:off x="2400480" y="4690080"/>
                  <a:ext cx="241560" cy="175320"/>
                  <a:chOff x="2400480" y="4690080"/>
                  <a:chExt cx="241560" cy="175320"/>
                </a:xfrm>
              </p:grpSpPr>
              <p:sp>
                <p:nvSpPr>
                  <p:cNvPr id="2848" name=""/>
                  <p:cNvSpPr/>
                  <p:nvPr/>
                </p:nvSpPr>
                <p:spPr>
                  <a:xfrm>
                    <a:off x="2521440" y="4690080"/>
                    <a:ext cx="120600" cy="424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9" name=""/>
                  <p:cNvSpPr/>
                  <p:nvPr/>
                </p:nvSpPr>
                <p:spPr>
                  <a:xfrm flipH="1">
                    <a:off x="2521080" y="4732560"/>
                    <a:ext cx="120600" cy="424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50" name=""/>
                  <p:cNvGrpSpPr/>
                  <p:nvPr/>
                </p:nvGrpSpPr>
                <p:grpSpPr>
                  <a:xfrm>
                    <a:off x="2400480" y="4775400"/>
                    <a:ext cx="120960" cy="90000"/>
                    <a:chOff x="2400480" y="4775400"/>
                    <a:chExt cx="120960" cy="90000"/>
                  </a:xfrm>
                </p:grpSpPr>
                <p:sp>
                  <p:nvSpPr>
                    <p:cNvPr id="2851" name=""/>
                    <p:cNvSpPr/>
                    <p:nvPr/>
                  </p:nvSpPr>
                  <p:spPr>
                    <a:xfrm flipH="1">
                      <a:off x="2400480" y="4775400"/>
                      <a:ext cx="120600" cy="522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2" name=""/>
                    <p:cNvSpPr/>
                    <p:nvPr/>
                  </p:nvSpPr>
                  <p:spPr>
                    <a:xfrm>
                      <a:off x="2400840" y="4827600"/>
                      <a:ext cx="120600" cy="378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53" name=""/>
              <p:cNvGrpSpPr/>
              <p:nvPr/>
            </p:nvGrpSpPr>
            <p:grpSpPr>
              <a:xfrm>
                <a:off x="2400480" y="4866840"/>
                <a:ext cx="241560" cy="352440"/>
                <a:chOff x="2400480" y="4866840"/>
                <a:chExt cx="241560" cy="352440"/>
              </a:xfrm>
            </p:grpSpPr>
            <p:grpSp>
              <p:nvGrpSpPr>
                <p:cNvPr id="2854" name=""/>
                <p:cNvGrpSpPr/>
                <p:nvPr/>
              </p:nvGrpSpPr>
              <p:grpSpPr>
                <a:xfrm>
                  <a:off x="2400480" y="4866840"/>
                  <a:ext cx="241560" cy="178200"/>
                  <a:chOff x="2400480" y="4866840"/>
                  <a:chExt cx="241560" cy="178200"/>
                </a:xfrm>
              </p:grpSpPr>
              <p:sp>
                <p:nvSpPr>
                  <p:cNvPr id="2855" name=""/>
                  <p:cNvSpPr/>
                  <p:nvPr/>
                </p:nvSpPr>
                <p:spPr>
                  <a:xfrm>
                    <a:off x="2521440" y="4866840"/>
                    <a:ext cx="120600" cy="457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6" name=""/>
                  <p:cNvSpPr/>
                  <p:nvPr/>
                </p:nvSpPr>
                <p:spPr>
                  <a:xfrm flipH="1">
                    <a:off x="2521080" y="4912560"/>
                    <a:ext cx="120600" cy="453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57" name=""/>
                  <p:cNvGrpSpPr/>
                  <p:nvPr/>
                </p:nvGrpSpPr>
                <p:grpSpPr>
                  <a:xfrm>
                    <a:off x="2400480" y="4958280"/>
                    <a:ext cx="120960" cy="86760"/>
                    <a:chOff x="2400480" y="4958280"/>
                    <a:chExt cx="120960" cy="86760"/>
                  </a:xfrm>
                </p:grpSpPr>
                <p:sp>
                  <p:nvSpPr>
                    <p:cNvPr id="2858" name=""/>
                    <p:cNvSpPr/>
                    <p:nvPr/>
                  </p:nvSpPr>
                  <p:spPr>
                    <a:xfrm flipH="1">
                      <a:off x="2400480" y="4958280"/>
                      <a:ext cx="120600" cy="442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9" name=""/>
                    <p:cNvSpPr/>
                    <p:nvPr/>
                  </p:nvSpPr>
                  <p:spPr>
                    <a:xfrm>
                      <a:off x="2400840" y="5002560"/>
                      <a:ext cx="120600" cy="424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860" name=""/>
                <p:cNvGrpSpPr/>
                <p:nvPr/>
              </p:nvGrpSpPr>
              <p:grpSpPr>
                <a:xfrm>
                  <a:off x="2400480" y="5045760"/>
                  <a:ext cx="241560" cy="173520"/>
                  <a:chOff x="2400480" y="5045760"/>
                  <a:chExt cx="241560" cy="173520"/>
                </a:xfrm>
              </p:grpSpPr>
              <p:sp>
                <p:nvSpPr>
                  <p:cNvPr id="2861" name=""/>
                  <p:cNvSpPr/>
                  <p:nvPr/>
                </p:nvSpPr>
                <p:spPr>
                  <a:xfrm>
                    <a:off x="2521440" y="5045760"/>
                    <a:ext cx="120600" cy="424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2" name=""/>
                  <p:cNvSpPr/>
                  <p:nvPr/>
                </p:nvSpPr>
                <p:spPr>
                  <a:xfrm flipH="1">
                    <a:off x="2521080" y="5088240"/>
                    <a:ext cx="120600" cy="457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63" name=""/>
                  <p:cNvGrpSpPr/>
                  <p:nvPr/>
                </p:nvGrpSpPr>
                <p:grpSpPr>
                  <a:xfrm>
                    <a:off x="2400480" y="5134320"/>
                    <a:ext cx="120960" cy="84960"/>
                    <a:chOff x="2400480" y="5134320"/>
                    <a:chExt cx="120960" cy="84960"/>
                  </a:xfrm>
                </p:grpSpPr>
                <p:sp>
                  <p:nvSpPr>
                    <p:cNvPr id="2864" name=""/>
                    <p:cNvSpPr/>
                    <p:nvPr/>
                  </p:nvSpPr>
                  <p:spPr>
                    <a:xfrm flipH="1">
                      <a:off x="2400480" y="5134320"/>
                      <a:ext cx="120600" cy="424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5" name=""/>
                    <p:cNvSpPr/>
                    <p:nvPr/>
                  </p:nvSpPr>
                  <p:spPr>
                    <a:xfrm>
                      <a:off x="2400840" y="5176800"/>
                      <a:ext cx="120600" cy="424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66" name=""/>
              <p:cNvGrpSpPr/>
              <p:nvPr/>
            </p:nvGrpSpPr>
            <p:grpSpPr>
              <a:xfrm>
                <a:off x="2400480" y="5220720"/>
                <a:ext cx="241560" cy="358920"/>
                <a:chOff x="2400480" y="5220720"/>
                <a:chExt cx="241560" cy="358920"/>
              </a:xfrm>
            </p:grpSpPr>
            <p:grpSp>
              <p:nvGrpSpPr>
                <p:cNvPr id="2867" name=""/>
                <p:cNvGrpSpPr/>
                <p:nvPr/>
              </p:nvGrpSpPr>
              <p:grpSpPr>
                <a:xfrm>
                  <a:off x="2400480" y="5220720"/>
                  <a:ext cx="241560" cy="173520"/>
                  <a:chOff x="2400480" y="5220720"/>
                  <a:chExt cx="241560" cy="173520"/>
                </a:xfrm>
              </p:grpSpPr>
              <p:sp>
                <p:nvSpPr>
                  <p:cNvPr id="2868" name=""/>
                  <p:cNvSpPr/>
                  <p:nvPr/>
                </p:nvSpPr>
                <p:spPr>
                  <a:xfrm>
                    <a:off x="2521440" y="5220720"/>
                    <a:ext cx="120600" cy="52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9" name=""/>
                  <p:cNvSpPr/>
                  <p:nvPr/>
                </p:nvSpPr>
                <p:spPr>
                  <a:xfrm flipH="1">
                    <a:off x="2521080" y="5272920"/>
                    <a:ext cx="120600" cy="392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70" name=""/>
                  <p:cNvGrpSpPr/>
                  <p:nvPr/>
                </p:nvGrpSpPr>
                <p:grpSpPr>
                  <a:xfrm>
                    <a:off x="2400480" y="5312520"/>
                    <a:ext cx="120960" cy="81720"/>
                    <a:chOff x="2400480" y="5312520"/>
                    <a:chExt cx="120960" cy="81720"/>
                  </a:xfrm>
                </p:grpSpPr>
                <p:sp>
                  <p:nvSpPr>
                    <p:cNvPr id="2871" name=""/>
                    <p:cNvSpPr/>
                    <p:nvPr/>
                  </p:nvSpPr>
                  <p:spPr>
                    <a:xfrm flipH="1">
                      <a:off x="2400480" y="5312520"/>
                      <a:ext cx="120600" cy="439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2" name=""/>
                    <p:cNvSpPr/>
                    <p:nvPr/>
                  </p:nvSpPr>
                  <p:spPr>
                    <a:xfrm>
                      <a:off x="2400840" y="5356440"/>
                      <a:ext cx="120600" cy="378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873" name=""/>
                <p:cNvGrpSpPr/>
                <p:nvPr/>
              </p:nvGrpSpPr>
              <p:grpSpPr>
                <a:xfrm>
                  <a:off x="2400480" y="5394960"/>
                  <a:ext cx="241560" cy="184680"/>
                  <a:chOff x="2400480" y="5394960"/>
                  <a:chExt cx="241560" cy="184680"/>
                </a:xfrm>
              </p:grpSpPr>
              <p:sp>
                <p:nvSpPr>
                  <p:cNvPr id="2874" name=""/>
                  <p:cNvSpPr/>
                  <p:nvPr/>
                </p:nvSpPr>
                <p:spPr>
                  <a:xfrm>
                    <a:off x="2521440" y="5394960"/>
                    <a:ext cx="120600" cy="53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5" name=""/>
                  <p:cNvSpPr/>
                  <p:nvPr/>
                </p:nvSpPr>
                <p:spPr>
                  <a:xfrm flipH="1">
                    <a:off x="2521080" y="5448600"/>
                    <a:ext cx="120600" cy="392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76" name=""/>
                  <p:cNvGrpSpPr/>
                  <p:nvPr/>
                </p:nvGrpSpPr>
                <p:grpSpPr>
                  <a:xfrm>
                    <a:off x="2400480" y="5488200"/>
                    <a:ext cx="120960" cy="91440"/>
                    <a:chOff x="2400480" y="5488200"/>
                    <a:chExt cx="120960" cy="91440"/>
                  </a:xfrm>
                </p:grpSpPr>
                <p:sp>
                  <p:nvSpPr>
                    <p:cNvPr id="2877" name=""/>
                    <p:cNvSpPr/>
                    <p:nvPr/>
                  </p:nvSpPr>
                  <p:spPr>
                    <a:xfrm flipH="1">
                      <a:off x="2400480" y="5488200"/>
                      <a:ext cx="120600" cy="410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8" name=""/>
                    <p:cNvSpPr/>
                    <p:nvPr/>
                  </p:nvSpPr>
                  <p:spPr>
                    <a:xfrm>
                      <a:off x="2400840" y="5529240"/>
                      <a:ext cx="120600" cy="504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2879" name=""/>
            <p:cNvSpPr/>
            <p:nvPr/>
          </p:nvSpPr>
          <p:spPr>
            <a:xfrm flipV="1">
              <a:off x="2521080" y="3911400"/>
              <a:ext cx="0" cy="24876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 flipV="1">
              <a:off x="2516400" y="5567040"/>
              <a:ext cx="0" cy="2491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81" name=""/>
          <p:cNvSpPr/>
          <p:nvPr/>
        </p:nvSpPr>
        <p:spPr>
          <a:xfrm flipH="1">
            <a:off x="1644480" y="3778200"/>
            <a:ext cx="1740240" cy="190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2" name=""/>
          <p:cNvSpPr/>
          <p:nvPr/>
        </p:nvSpPr>
        <p:spPr>
          <a:xfrm flipH="1">
            <a:off x="4152600" y="5130720"/>
            <a:ext cx="15238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3" name=""/>
          <p:cNvSpPr/>
          <p:nvPr/>
        </p:nvSpPr>
        <p:spPr>
          <a:xfrm flipH="1">
            <a:off x="2933640" y="5740560"/>
            <a:ext cx="15242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4" name=""/>
          <p:cNvSpPr/>
          <p:nvPr/>
        </p:nvSpPr>
        <p:spPr>
          <a:xfrm>
            <a:off x="4229280" y="5130720"/>
            <a:ext cx="0" cy="609840"/>
          </a:xfrm>
          <a:prstGeom prst="line">
            <a:avLst/>
          </a:prstGeom>
          <a:ln w="12600">
            <a:solidFill>
              <a:srgbClr val="fafd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5" name=""/>
          <p:cNvSpPr/>
          <p:nvPr/>
        </p:nvSpPr>
        <p:spPr>
          <a:xfrm flipH="1">
            <a:off x="3486960" y="5259240"/>
            <a:ext cx="968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6" name=""/>
          <p:cNvSpPr/>
          <p:nvPr/>
        </p:nvSpPr>
        <p:spPr>
          <a:xfrm flipH="1">
            <a:off x="2457720" y="4154400"/>
            <a:ext cx="153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حالت 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7" name=""/>
          <p:cNvSpPr/>
          <p:nvPr/>
        </p:nvSpPr>
        <p:spPr>
          <a:xfrm flipH="1">
            <a:off x="6142320" y="4141800"/>
            <a:ext cx="153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حالت 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889" name=""/>
          <p:cNvGrpSpPr/>
          <p:nvPr/>
        </p:nvGrpSpPr>
        <p:grpSpPr>
          <a:xfrm>
            <a:off x="413280" y="3308400"/>
            <a:ext cx="4666680" cy="2705040"/>
            <a:chOff x="413280" y="3308400"/>
            <a:chExt cx="4666680" cy="2705040"/>
          </a:xfrm>
        </p:grpSpPr>
        <p:sp>
          <p:nvSpPr>
            <p:cNvPr id="2890" name=""/>
            <p:cNvSpPr/>
            <p:nvPr/>
          </p:nvSpPr>
          <p:spPr>
            <a:xfrm>
              <a:off x="2520720" y="5340600"/>
              <a:ext cx="825840" cy="672840"/>
            </a:xfrm>
            <a:prstGeom prst="cube">
              <a:avLst>
                <a:gd name="adj" fmla="val 24995"/>
              </a:avLst>
            </a:prstGeom>
            <a:solidFill>
              <a:srgbClr val="ff0033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91" name=""/>
            <p:cNvGrpSpPr/>
            <p:nvPr/>
          </p:nvGrpSpPr>
          <p:grpSpPr>
            <a:xfrm>
              <a:off x="2806200" y="3505320"/>
              <a:ext cx="241560" cy="1904760"/>
              <a:chOff x="2806200" y="3505320"/>
              <a:chExt cx="241560" cy="1904760"/>
            </a:xfrm>
          </p:grpSpPr>
          <p:grpSp>
            <p:nvGrpSpPr>
              <p:cNvPr id="2892" name=""/>
              <p:cNvGrpSpPr/>
              <p:nvPr/>
            </p:nvGrpSpPr>
            <p:grpSpPr>
              <a:xfrm>
                <a:off x="2806200" y="3754440"/>
                <a:ext cx="241560" cy="1420920"/>
                <a:chOff x="2806200" y="3754440"/>
                <a:chExt cx="241560" cy="1420920"/>
              </a:xfrm>
            </p:grpSpPr>
            <p:grpSp>
              <p:nvGrpSpPr>
                <p:cNvPr id="2893" name=""/>
                <p:cNvGrpSpPr/>
                <p:nvPr/>
              </p:nvGrpSpPr>
              <p:grpSpPr>
                <a:xfrm>
                  <a:off x="2806200" y="3754440"/>
                  <a:ext cx="241560" cy="357480"/>
                  <a:chOff x="2806200" y="3754440"/>
                  <a:chExt cx="241560" cy="357480"/>
                </a:xfrm>
              </p:grpSpPr>
              <p:grpSp>
                <p:nvGrpSpPr>
                  <p:cNvPr id="2894" name=""/>
                  <p:cNvGrpSpPr/>
                  <p:nvPr/>
                </p:nvGrpSpPr>
                <p:grpSpPr>
                  <a:xfrm>
                    <a:off x="2806200" y="3754440"/>
                    <a:ext cx="241560" cy="176400"/>
                    <a:chOff x="2806200" y="3754440"/>
                    <a:chExt cx="241560" cy="176400"/>
                  </a:xfrm>
                </p:grpSpPr>
                <p:sp>
                  <p:nvSpPr>
                    <p:cNvPr id="2895" name=""/>
                    <p:cNvSpPr/>
                    <p:nvPr/>
                  </p:nvSpPr>
                  <p:spPr>
                    <a:xfrm flipH="1">
                      <a:off x="2806200" y="3754440"/>
                      <a:ext cx="120600" cy="44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6" name=""/>
                    <p:cNvSpPr/>
                    <p:nvPr/>
                  </p:nvSpPr>
                  <p:spPr>
                    <a:xfrm>
                      <a:off x="2806560" y="3799080"/>
                      <a:ext cx="120600" cy="410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897" name=""/>
                    <p:cNvGrpSpPr/>
                    <p:nvPr/>
                  </p:nvGrpSpPr>
                  <p:grpSpPr>
                    <a:xfrm>
                      <a:off x="2926800" y="3840120"/>
                      <a:ext cx="120960" cy="90720"/>
                      <a:chOff x="2926800" y="3840120"/>
                      <a:chExt cx="120960" cy="90720"/>
                    </a:xfrm>
                  </p:grpSpPr>
                  <p:sp>
                    <p:nvSpPr>
                      <p:cNvPr id="2898" name=""/>
                      <p:cNvSpPr/>
                      <p:nvPr/>
                    </p:nvSpPr>
                    <p:spPr>
                      <a:xfrm>
                        <a:off x="2927160" y="3840120"/>
                        <a:ext cx="120600" cy="43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" bIns="-3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99" name=""/>
                      <p:cNvSpPr/>
                      <p:nvPr/>
                    </p:nvSpPr>
                    <p:spPr>
                      <a:xfrm flipH="1">
                        <a:off x="2926800" y="3883320"/>
                        <a:ext cx="120600" cy="47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" bIns="7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900" name=""/>
                  <p:cNvGrpSpPr/>
                  <p:nvPr/>
                </p:nvGrpSpPr>
                <p:grpSpPr>
                  <a:xfrm>
                    <a:off x="2806200" y="3930840"/>
                    <a:ext cx="241560" cy="181080"/>
                    <a:chOff x="2806200" y="3930840"/>
                    <a:chExt cx="241560" cy="181080"/>
                  </a:xfrm>
                </p:grpSpPr>
                <p:sp>
                  <p:nvSpPr>
                    <p:cNvPr id="2901" name=""/>
                    <p:cNvSpPr/>
                    <p:nvPr/>
                  </p:nvSpPr>
                  <p:spPr>
                    <a:xfrm flipH="1">
                      <a:off x="2806200" y="3930840"/>
                      <a:ext cx="120600" cy="460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2" name=""/>
                    <p:cNvSpPr/>
                    <p:nvPr/>
                  </p:nvSpPr>
                  <p:spPr>
                    <a:xfrm>
                      <a:off x="2806560" y="3976920"/>
                      <a:ext cx="120600" cy="396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903" name=""/>
                    <p:cNvGrpSpPr/>
                    <p:nvPr/>
                  </p:nvGrpSpPr>
                  <p:grpSpPr>
                    <a:xfrm>
                      <a:off x="2926800" y="4016520"/>
                      <a:ext cx="120960" cy="95400"/>
                      <a:chOff x="2926800" y="4016520"/>
                      <a:chExt cx="120960" cy="95400"/>
                    </a:xfrm>
                  </p:grpSpPr>
                  <p:sp>
                    <p:nvSpPr>
                      <p:cNvPr id="2904" name=""/>
                      <p:cNvSpPr/>
                      <p:nvPr/>
                    </p:nvSpPr>
                    <p:spPr>
                      <a:xfrm>
                        <a:off x="2927160" y="4016520"/>
                        <a:ext cx="120600" cy="5076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" bIns="3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5" name=""/>
                      <p:cNvSpPr/>
                      <p:nvPr/>
                    </p:nvSpPr>
                    <p:spPr>
                      <a:xfrm flipH="1">
                        <a:off x="2926800" y="4067280"/>
                        <a:ext cx="120600" cy="44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906" name=""/>
                <p:cNvGrpSpPr/>
                <p:nvPr/>
              </p:nvGrpSpPr>
              <p:grpSpPr>
                <a:xfrm>
                  <a:off x="2806200" y="4111920"/>
                  <a:ext cx="241560" cy="349200"/>
                  <a:chOff x="2806200" y="4111920"/>
                  <a:chExt cx="241560" cy="349200"/>
                </a:xfrm>
              </p:grpSpPr>
              <p:grpSp>
                <p:nvGrpSpPr>
                  <p:cNvPr id="2907" name=""/>
                  <p:cNvGrpSpPr/>
                  <p:nvPr/>
                </p:nvGrpSpPr>
                <p:grpSpPr>
                  <a:xfrm>
                    <a:off x="2806200" y="4111920"/>
                    <a:ext cx="241560" cy="172800"/>
                    <a:chOff x="2806200" y="4111920"/>
                    <a:chExt cx="241560" cy="172800"/>
                  </a:xfrm>
                </p:grpSpPr>
                <p:sp>
                  <p:nvSpPr>
                    <p:cNvPr id="2908" name=""/>
                    <p:cNvSpPr/>
                    <p:nvPr/>
                  </p:nvSpPr>
                  <p:spPr>
                    <a:xfrm flipH="1">
                      <a:off x="2806200" y="4111920"/>
                      <a:ext cx="120600" cy="428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9" name=""/>
                    <p:cNvSpPr/>
                    <p:nvPr/>
                  </p:nvSpPr>
                  <p:spPr>
                    <a:xfrm>
                      <a:off x="2806560" y="4154760"/>
                      <a:ext cx="120600" cy="363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910" name=""/>
                    <p:cNvGrpSpPr/>
                    <p:nvPr/>
                  </p:nvGrpSpPr>
                  <p:grpSpPr>
                    <a:xfrm>
                      <a:off x="2926800" y="4191120"/>
                      <a:ext cx="120960" cy="93600"/>
                      <a:chOff x="2926800" y="4191120"/>
                      <a:chExt cx="120960" cy="93600"/>
                    </a:xfrm>
                  </p:grpSpPr>
                  <p:sp>
                    <p:nvSpPr>
                      <p:cNvPr id="2911" name=""/>
                      <p:cNvSpPr/>
                      <p:nvPr/>
                    </p:nvSpPr>
                    <p:spPr>
                      <a:xfrm>
                        <a:off x="2927160" y="4191120"/>
                        <a:ext cx="120600" cy="5400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0" bIns="7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12" name=""/>
                      <p:cNvSpPr/>
                      <p:nvPr/>
                    </p:nvSpPr>
                    <p:spPr>
                      <a:xfrm flipH="1">
                        <a:off x="2926800" y="4245120"/>
                        <a:ext cx="120600" cy="3960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913" name=""/>
                  <p:cNvGrpSpPr/>
                  <p:nvPr/>
                </p:nvGrpSpPr>
                <p:grpSpPr>
                  <a:xfrm>
                    <a:off x="2806200" y="4284720"/>
                    <a:ext cx="241560" cy="176400"/>
                    <a:chOff x="2806200" y="4284720"/>
                    <a:chExt cx="241560" cy="176400"/>
                  </a:xfrm>
                </p:grpSpPr>
                <p:sp>
                  <p:nvSpPr>
                    <p:cNvPr id="2914" name=""/>
                    <p:cNvSpPr/>
                    <p:nvPr/>
                  </p:nvSpPr>
                  <p:spPr>
                    <a:xfrm flipH="1">
                      <a:off x="2806200" y="4284720"/>
                      <a:ext cx="120600" cy="428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5" name=""/>
                    <p:cNvSpPr/>
                    <p:nvPr/>
                  </p:nvSpPr>
                  <p:spPr>
                    <a:xfrm>
                      <a:off x="2806560" y="4327560"/>
                      <a:ext cx="120600" cy="428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916" name=""/>
                    <p:cNvGrpSpPr/>
                    <p:nvPr/>
                  </p:nvGrpSpPr>
                  <p:grpSpPr>
                    <a:xfrm>
                      <a:off x="2926800" y="4370400"/>
                      <a:ext cx="120960" cy="90720"/>
                      <a:chOff x="2926800" y="4370400"/>
                      <a:chExt cx="120960" cy="90720"/>
                    </a:xfrm>
                  </p:grpSpPr>
                  <p:sp>
                    <p:nvSpPr>
                      <p:cNvPr id="2917" name=""/>
                      <p:cNvSpPr/>
                      <p:nvPr/>
                    </p:nvSpPr>
                    <p:spPr>
                      <a:xfrm>
                        <a:off x="2927160" y="4370400"/>
                        <a:ext cx="120600" cy="52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760" bIns="57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18" name=""/>
                      <p:cNvSpPr/>
                      <p:nvPr/>
                    </p:nvSpPr>
                    <p:spPr>
                      <a:xfrm flipH="1">
                        <a:off x="2926800" y="4422960"/>
                        <a:ext cx="120600" cy="38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919" name=""/>
                <p:cNvGrpSpPr/>
                <p:nvPr/>
              </p:nvGrpSpPr>
              <p:grpSpPr>
                <a:xfrm>
                  <a:off x="2806200" y="4461120"/>
                  <a:ext cx="241560" cy="353880"/>
                  <a:chOff x="2806200" y="4461120"/>
                  <a:chExt cx="241560" cy="353880"/>
                </a:xfrm>
              </p:grpSpPr>
              <p:grpSp>
                <p:nvGrpSpPr>
                  <p:cNvPr id="2920" name=""/>
                  <p:cNvGrpSpPr/>
                  <p:nvPr/>
                </p:nvGrpSpPr>
                <p:grpSpPr>
                  <a:xfrm>
                    <a:off x="2806200" y="4461120"/>
                    <a:ext cx="241560" cy="179280"/>
                    <a:chOff x="2806200" y="4461120"/>
                    <a:chExt cx="241560" cy="179280"/>
                  </a:xfrm>
                </p:grpSpPr>
                <p:sp>
                  <p:nvSpPr>
                    <p:cNvPr id="2921" name=""/>
                    <p:cNvSpPr/>
                    <p:nvPr/>
                  </p:nvSpPr>
                  <p:spPr>
                    <a:xfrm flipH="1">
                      <a:off x="2806200" y="4461120"/>
                      <a:ext cx="120600" cy="460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2" name=""/>
                    <p:cNvSpPr/>
                    <p:nvPr/>
                  </p:nvSpPr>
                  <p:spPr>
                    <a:xfrm>
                      <a:off x="2806560" y="4507200"/>
                      <a:ext cx="120600" cy="457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923" name=""/>
                    <p:cNvGrpSpPr/>
                    <p:nvPr/>
                  </p:nvGrpSpPr>
                  <p:grpSpPr>
                    <a:xfrm>
                      <a:off x="2926800" y="4552920"/>
                      <a:ext cx="120960" cy="87480"/>
                      <a:chOff x="2926800" y="4552920"/>
                      <a:chExt cx="120960" cy="87480"/>
                    </a:xfrm>
                  </p:grpSpPr>
                  <p:sp>
                    <p:nvSpPr>
                      <p:cNvPr id="2924" name=""/>
                      <p:cNvSpPr/>
                      <p:nvPr/>
                    </p:nvSpPr>
                    <p:spPr>
                      <a:xfrm>
                        <a:off x="2927160" y="4552920"/>
                        <a:ext cx="120600" cy="44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25" name=""/>
                      <p:cNvSpPr/>
                      <p:nvPr/>
                    </p:nvSpPr>
                    <p:spPr>
                      <a:xfrm flipH="1">
                        <a:off x="2926800" y="4597560"/>
                        <a:ext cx="120600" cy="42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926" name=""/>
                  <p:cNvGrpSpPr/>
                  <p:nvPr/>
                </p:nvGrpSpPr>
                <p:grpSpPr>
                  <a:xfrm>
                    <a:off x="2806200" y="4640400"/>
                    <a:ext cx="241560" cy="174600"/>
                    <a:chOff x="2806200" y="4640400"/>
                    <a:chExt cx="241560" cy="174600"/>
                  </a:xfrm>
                </p:grpSpPr>
                <p:sp>
                  <p:nvSpPr>
                    <p:cNvPr id="2927" name=""/>
                    <p:cNvSpPr/>
                    <p:nvPr/>
                  </p:nvSpPr>
                  <p:spPr>
                    <a:xfrm flipH="1">
                      <a:off x="2806200" y="4640400"/>
                      <a:ext cx="120600" cy="428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8" name=""/>
                    <p:cNvSpPr/>
                    <p:nvPr/>
                  </p:nvSpPr>
                  <p:spPr>
                    <a:xfrm>
                      <a:off x="2806560" y="4683240"/>
                      <a:ext cx="120600" cy="460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929" name=""/>
                    <p:cNvGrpSpPr/>
                    <p:nvPr/>
                  </p:nvGrpSpPr>
                  <p:grpSpPr>
                    <a:xfrm>
                      <a:off x="2926800" y="4729320"/>
                      <a:ext cx="120960" cy="85680"/>
                      <a:chOff x="2926800" y="4729320"/>
                      <a:chExt cx="120960" cy="85680"/>
                    </a:xfrm>
                  </p:grpSpPr>
                  <p:sp>
                    <p:nvSpPr>
                      <p:cNvPr id="2930" name=""/>
                      <p:cNvSpPr/>
                      <p:nvPr/>
                    </p:nvSpPr>
                    <p:spPr>
                      <a:xfrm>
                        <a:off x="2927160" y="4729320"/>
                        <a:ext cx="120600" cy="42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31" name=""/>
                      <p:cNvSpPr/>
                      <p:nvPr/>
                    </p:nvSpPr>
                    <p:spPr>
                      <a:xfrm flipH="1">
                        <a:off x="2926800" y="4772160"/>
                        <a:ext cx="120600" cy="42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932" name=""/>
                <p:cNvGrpSpPr/>
                <p:nvPr/>
              </p:nvGrpSpPr>
              <p:grpSpPr>
                <a:xfrm>
                  <a:off x="2806200" y="4815000"/>
                  <a:ext cx="241560" cy="360360"/>
                  <a:chOff x="2806200" y="4815000"/>
                  <a:chExt cx="241560" cy="360360"/>
                </a:xfrm>
              </p:grpSpPr>
              <p:grpSp>
                <p:nvGrpSpPr>
                  <p:cNvPr id="2933" name=""/>
                  <p:cNvGrpSpPr/>
                  <p:nvPr/>
                </p:nvGrpSpPr>
                <p:grpSpPr>
                  <a:xfrm>
                    <a:off x="2806200" y="4815000"/>
                    <a:ext cx="241560" cy="174600"/>
                    <a:chOff x="2806200" y="4815000"/>
                    <a:chExt cx="241560" cy="174600"/>
                  </a:xfrm>
                </p:grpSpPr>
                <p:sp>
                  <p:nvSpPr>
                    <p:cNvPr id="2934" name=""/>
                    <p:cNvSpPr/>
                    <p:nvPr/>
                  </p:nvSpPr>
                  <p:spPr>
                    <a:xfrm flipH="1">
                      <a:off x="2806200" y="4815000"/>
                      <a:ext cx="120600" cy="525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5" name=""/>
                    <p:cNvSpPr/>
                    <p:nvPr/>
                  </p:nvSpPr>
                  <p:spPr>
                    <a:xfrm>
                      <a:off x="2806560" y="4867560"/>
                      <a:ext cx="120600" cy="396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936" name=""/>
                    <p:cNvGrpSpPr/>
                    <p:nvPr/>
                  </p:nvGrpSpPr>
                  <p:grpSpPr>
                    <a:xfrm>
                      <a:off x="2926800" y="4907160"/>
                      <a:ext cx="120960" cy="82440"/>
                      <a:chOff x="2926800" y="4907160"/>
                      <a:chExt cx="120960" cy="82440"/>
                    </a:xfrm>
                  </p:grpSpPr>
                  <p:sp>
                    <p:nvSpPr>
                      <p:cNvPr id="2937" name=""/>
                      <p:cNvSpPr/>
                      <p:nvPr/>
                    </p:nvSpPr>
                    <p:spPr>
                      <a:xfrm>
                        <a:off x="2927160" y="4907160"/>
                        <a:ext cx="120600" cy="4428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" bIns="-25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38" name=""/>
                      <p:cNvSpPr/>
                      <p:nvPr/>
                    </p:nvSpPr>
                    <p:spPr>
                      <a:xfrm flipH="1">
                        <a:off x="2926800" y="4951440"/>
                        <a:ext cx="120600" cy="38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939" name=""/>
                  <p:cNvGrpSpPr/>
                  <p:nvPr/>
                </p:nvGrpSpPr>
                <p:grpSpPr>
                  <a:xfrm>
                    <a:off x="2806200" y="4989600"/>
                    <a:ext cx="241560" cy="185760"/>
                    <a:chOff x="2806200" y="4989600"/>
                    <a:chExt cx="241560" cy="185760"/>
                  </a:xfrm>
                </p:grpSpPr>
                <p:sp>
                  <p:nvSpPr>
                    <p:cNvPr id="2940" name=""/>
                    <p:cNvSpPr/>
                    <p:nvPr/>
                  </p:nvSpPr>
                  <p:spPr>
                    <a:xfrm flipH="1">
                      <a:off x="2806200" y="4989600"/>
                      <a:ext cx="120600" cy="54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1" name=""/>
                    <p:cNvSpPr/>
                    <p:nvPr/>
                  </p:nvSpPr>
                  <p:spPr>
                    <a:xfrm>
                      <a:off x="2806560" y="5043600"/>
                      <a:ext cx="120600" cy="396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942" name=""/>
                    <p:cNvGrpSpPr/>
                    <p:nvPr/>
                  </p:nvGrpSpPr>
                  <p:grpSpPr>
                    <a:xfrm>
                      <a:off x="2926800" y="5083200"/>
                      <a:ext cx="120960" cy="92160"/>
                      <a:chOff x="2926800" y="5083200"/>
                      <a:chExt cx="120960" cy="92160"/>
                    </a:xfrm>
                  </p:grpSpPr>
                  <p:sp>
                    <p:nvSpPr>
                      <p:cNvPr id="2943" name=""/>
                      <p:cNvSpPr/>
                      <p:nvPr/>
                    </p:nvSpPr>
                    <p:spPr>
                      <a:xfrm>
                        <a:off x="2927160" y="5083200"/>
                        <a:ext cx="120600" cy="41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44" name=""/>
                      <p:cNvSpPr/>
                      <p:nvPr/>
                    </p:nvSpPr>
                    <p:spPr>
                      <a:xfrm flipH="1">
                        <a:off x="2926800" y="5124600"/>
                        <a:ext cx="120600" cy="5076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" bIns="3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2945" name=""/>
              <p:cNvSpPr/>
              <p:nvPr/>
            </p:nvSpPr>
            <p:spPr>
              <a:xfrm flipV="1">
                <a:off x="2927160" y="3505320"/>
                <a:ext cx="0" cy="2491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flipV="1">
                <a:off x="2931840" y="5160600"/>
                <a:ext cx="0" cy="2494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47" name=""/>
            <p:cNvSpPr/>
            <p:nvPr/>
          </p:nvSpPr>
          <p:spPr>
            <a:xfrm>
              <a:off x="2063520" y="3308400"/>
              <a:ext cx="1740240" cy="1904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2489040" y="5334120"/>
              <a:ext cx="25909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413280" y="5145120"/>
              <a:ext cx="229464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y = 0,  U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= 0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748800" y="1549080"/>
            <a:ext cx="740412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حالت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می توان فرض کرد که انرژی پتانسیل کل جرم(مجموع انرژیهای  پتانسیل فنر و جاذبه جسم)برابر با صفر بوده و سیستم در وضعیت تعادل خود قرار دار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>
            <a:off x="4469760" y="5789520"/>
            <a:ext cx="3389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پاسخ (ب) اس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2" name=""/>
          <p:cNvGrpSpPr/>
          <p:nvPr/>
        </p:nvGrpSpPr>
        <p:grpSpPr>
          <a:xfrm>
            <a:off x="4418640" y="3546360"/>
            <a:ext cx="4013640" cy="2057400"/>
            <a:chOff x="4418640" y="3546360"/>
            <a:chExt cx="4013640" cy="2057400"/>
          </a:xfrm>
        </p:grpSpPr>
        <p:sp>
          <p:nvSpPr>
            <p:cNvPr id="2953" name=""/>
            <p:cNvSpPr/>
            <p:nvPr/>
          </p:nvSpPr>
          <p:spPr>
            <a:xfrm>
              <a:off x="7046280" y="4786200"/>
              <a:ext cx="1386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y = d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4645080" y="4962240"/>
              <a:ext cx="0" cy="6098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4418640" y="5091120"/>
              <a:ext cx="968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d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56" name=""/>
            <p:cNvGrpSpPr/>
            <p:nvPr/>
          </p:nvGrpSpPr>
          <p:grpSpPr>
            <a:xfrm>
              <a:off x="5476680" y="3546360"/>
              <a:ext cx="1739880" cy="2057400"/>
              <a:chOff x="5476680" y="3546360"/>
              <a:chExt cx="1739880" cy="2057400"/>
            </a:xfrm>
          </p:grpSpPr>
          <p:sp>
            <p:nvSpPr>
              <p:cNvPr id="2957" name=""/>
              <p:cNvSpPr/>
              <p:nvPr/>
            </p:nvSpPr>
            <p:spPr>
              <a:xfrm>
                <a:off x="5476680" y="3546360"/>
                <a:ext cx="1739880" cy="1904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5933880" y="4930560"/>
                <a:ext cx="825480" cy="673200"/>
              </a:xfrm>
              <a:prstGeom prst="cube">
                <a:avLst>
                  <a:gd name="adj" fmla="val 24995"/>
                </a:avLst>
              </a:prstGeom>
              <a:solidFill>
                <a:srgbClr val="ff0033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959" name=""/>
              <p:cNvGrpSpPr/>
              <p:nvPr/>
            </p:nvGrpSpPr>
            <p:grpSpPr>
              <a:xfrm>
                <a:off x="6219360" y="3743280"/>
                <a:ext cx="236520" cy="1250640"/>
                <a:chOff x="6219360" y="3743280"/>
                <a:chExt cx="236520" cy="1250640"/>
              </a:xfrm>
            </p:grpSpPr>
            <p:grpSp>
              <p:nvGrpSpPr>
                <p:cNvPr id="2960" name=""/>
                <p:cNvGrpSpPr/>
                <p:nvPr/>
              </p:nvGrpSpPr>
              <p:grpSpPr>
                <a:xfrm>
                  <a:off x="6219360" y="3906720"/>
                  <a:ext cx="236520" cy="931680"/>
                  <a:chOff x="6219360" y="3906720"/>
                  <a:chExt cx="236520" cy="931680"/>
                </a:xfrm>
              </p:grpSpPr>
              <p:grpSp>
                <p:nvGrpSpPr>
                  <p:cNvPr id="2961" name=""/>
                  <p:cNvGrpSpPr/>
                  <p:nvPr/>
                </p:nvGrpSpPr>
                <p:grpSpPr>
                  <a:xfrm>
                    <a:off x="6219360" y="3906720"/>
                    <a:ext cx="236520" cy="232920"/>
                    <a:chOff x="6219360" y="3906720"/>
                    <a:chExt cx="236520" cy="232920"/>
                  </a:xfrm>
                </p:grpSpPr>
                <p:grpSp>
                  <p:nvGrpSpPr>
                    <p:cNvPr id="2962" name=""/>
                    <p:cNvGrpSpPr/>
                    <p:nvPr/>
                  </p:nvGrpSpPr>
                  <p:grpSpPr>
                    <a:xfrm>
                      <a:off x="6219360" y="3906720"/>
                      <a:ext cx="236520" cy="114120"/>
                      <a:chOff x="6219360" y="3906720"/>
                      <a:chExt cx="236520" cy="114120"/>
                    </a:xfrm>
                  </p:grpSpPr>
                  <p:sp>
                    <p:nvSpPr>
                      <p:cNvPr id="2963" name=""/>
                      <p:cNvSpPr/>
                      <p:nvPr/>
                    </p:nvSpPr>
                    <p:spPr>
                      <a:xfrm flipH="1">
                        <a:off x="6219360" y="3906720"/>
                        <a:ext cx="118800" cy="28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360" bIns="-18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64" name=""/>
                      <p:cNvSpPr/>
                      <p:nvPr/>
                    </p:nvSpPr>
                    <p:spPr>
                      <a:xfrm>
                        <a:off x="6219360" y="3935160"/>
                        <a:ext cx="118800" cy="2700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965" name=""/>
                      <p:cNvGrpSpPr/>
                      <p:nvPr/>
                    </p:nvGrpSpPr>
                    <p:grpSpPr>
                      <a:xfrm>
                        <a:off x="6337800" y="3962160"/>
                        <a:ext cx="118080" cy="58680"/>
                        <a:chOff x="6337800" y="3962160"/>
                        <a:chExt cx="118080" cy="58680"/>
                      </a:xfrm>
                    </p:grpSpPr>
                    <p:sp>
                      <p:nvSpPr>
                        <p:cNvPr id="2966" name=""/>
                        <p:cNvSpPr/>
                        <p:nvPr/>
                      </p:nvSpPr>
                      <p:spPr>
                        <a:xfrm>
                          <a:off x="6338160" y="3962160"/>
                          <a:ext cx="117720" cy="28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0" bIns="-180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7" name=""/>
                        <p:cNvSpPr/>
                        <p:nvPr/>
                      </p:nvSpPr>
                      <p:spPr>
                        <a:xfrm flipH="1">
                          <a:off x="6337800" y="3990960"/>
                          <a:ext cx="117720" cy="29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920" bIns="-1692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968" name=""/>
                    <p:cNvGrpSpPr/>
                    <p:nvPr/>
                  </p:nvGrpSpPr>
                  <p:grpSpPr>
                    <a:xfrm>
                      <a:off x="6219360" y="4021560"/>
                      <a:ext cx="236520" cy="118080"/>
                      <a:chOff x="6219360" y="4021560"/>
                      <a:chExt cx="236520" cy="118080"/>
                    </a:xfrm>
                  </p:grpSpPr>
                  <p:sp>
                    <p:nvSpPr>
                      <p:cNvPr id="2969" name=""/>
                      <p:cNvSpPr/>
                      <p:nvPr/>
                    </p:nvSpPr>
                    <p:spPr>
                      <a:xfrm flipH="1">
                        <a:off x="6219360" y="4021560"/>
                        <a:ext cx="118800" cy="302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0" name=""/>
                      <p:cNvSpPr/>
                      <p:nvPr/>
                    </p:nvSpPr>
                    <p:spPr>
                      <a:xfrm>
                        <a:off x="6219360" y="4051800"/>
                        <a:ext cx="118800" cy="2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971" name=""/>
                      <p:cNvGrpSpPr/>
                      <p:nvPr/>
                    </p:nvGrpSpPr>
                    <p:grpSpPr>
                      <a:xfrm>
                        <a:off x="6337800" y="4077720"/>
                        <a:ext cx="118080" cy="61920"/>
                        <a:chOff x="6337800" y="4077720"/>
                        <a:chExt cx="118080" cy="61920"/>
                      </a:xfrm>
                    </p:grpSpPr>
                    <p:sp>
                      <p:nvSpPr>
                        <p:cNvPr id="2972" name=""/>
                        <p:cNvSpPr/>
                        <p:nvPr/>
                      </p:nvSpPr>
                      <p:spPr>
                        <a:xfrm>
                          <a:off x="6338160" y="4077720"/>
                          <a:ext cx="117720" cy="331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680" bIns="-1368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3" name=""/>
                        <p:cNvSpPr/>
                        <p:nvPr/>
                      </p:nvSpPr>
                      <p:spPr>
                        <a:xfrm flipH="1">
                          <a:off x="6337800" y="4110840"/>
                          <a:ext cx="117720" cy="28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0" bIns="-180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974" name=""/>
                  <p:cNvGrpSpPr/>
                  <p:nvPr/>
                </p:nvGrpSpPr>
                <p:grpSpPr>
                  <a:xfrm>
                    <a:off x="6219360" y="4140720"/>
                    <a:ext cx="236520" cy="227880"/>
                    <a:chOff x="6219360" y="4140720"/>
                    <a:chExt cx="236520" cy="227880"/>
                  </a:xfrm>
                </p:grpSpPr>
                <p:grpSp>
                  <p:nvGrpSpPr>
                    <p:cNvPr id="2975" name=""/>
                    <p:cNvGrpSpPr/>
                    <p:nvPr/>
                  </p:nvGrpSpPr>
                  <p:grpSpPr>
                    <a:xfrm>
                      <a:off x="6219360" y="4140720"/>
                      <a:ext cx="236520" cy="112680"/>
                      <a:chOff x="6219360" y="4140720"/>
                      <a:chExt cx="236520" cy="112680"/>
                    </a:xfrm>
                  </p:grpSpPr>
                  <p:sp>
                    <p:nvSpPr>
                      <p:cNvPr id="2976" name=""/>
                      <p:cNvSpPr/>
                      <p:nvPr/>
                    </p:nvSpPr>
                    <p:spPr>
                      <a:xfrm flipH="1">
                        <a:off x="6219360" y="4140720"/>
                        <a:ext cx="118800" cy="28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360" bIns="-18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7" name=""/>
                      <p:cNvSpPr/>
                      <p:nvPr/>
                    </p:nvSpPr>
                    <p:spPr>
                      <a:xfrm>
                        <a:off x="6219360" y="4169160"/>
                        <a:ext cx="118800" cy="2376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978" name=""/>
                      <p:cNvGrpSpPr/>
                      <p:nvPr/>
                    </p:nvGrpSpPr>
                    <p:grpSpPr>
                      <a:xfrm>
                        <a:off x="6337800" y="4192920"/>
                        <a:ext cx="118080" cy="60480"/>
                        <a:chOff x="6337800" y="4192920"/>
                        <a:chExt cx="118080" cy="60480"/>
                      </a:xfrm>
                    </p:grpSpPr>
                    <p:sp>
                      <p:nvSpPr>
                        <p:cNvPr id="2979" name=""/>
                        <p:cNvSpPr/>
                        <p:nvPr/>
                      </p:nvSpPr>
                      <p:spPr>
                        <a:xfrm>
                          <a:off x="6338160" y="4192920"/>
                          <a:ext cx="117720" cy="34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80" name=""/>
                        <p:cNvSpPr/>
                        <p:nvPr/>
                      </p:nvSpPr>
                      <p:spPr>
                        <a:xfrm flipH="1">
                          <a:off x="6337800" y="4227840"/>
                          <a:ext cx="117720" cy="2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240" bIns="-2124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981" name=""/>
                    <p:cNvGrpSpPr/>
                    <p:nvPr/>
                  </p:nvGrpSpPr>
                  <p:grpSpPr>
                    <a:xfrm>
                      <a:off x="6219360" y="4254120"/>
                      <a:ext cx="236520" cy="114480"/>
                      <a:chOff x="6219360" y="4254120"/>
                      <a:chExt cx="236520" cy="114480"/>
                    </a:xfrm>
                  </p:grpSpPr>
                  <p:sp>
                    <p:nvSpPr>
                      <p:cNvPr id="2982" name=""/>
                      <p:cNvSpPr/>
                      <p:nvPr/>
                    </p:nvSpPr>
                    <p:spPr>
                      <a:xfrm flipH="1">
                        <a:off x="6219360" y="4254120"/>
                        <a:ext cx="118800" cy="28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360" bIns="-18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83" name=""/>
                      <p:cNvSpPr/>
                      <p:nvPr/>
                    </p:nvSpPr>
                    <p:spPr>
                      <a:xfrm>
                        <a:off x="6219360" y="4282560"/>
                        <a:ext cx="118800" cy="2700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984" name=""/>
                      <p:cNvGrpSpPr/>
                      <p:nvPr/>
                    </p:nvGrpSpPr>
                    <p:grpSpPr>
                      <a:xfrm>
                        <a:off x="6337800" y="4309920"/>
                        <a:ext cx="118080" cy="58680"/>
                        <a:chOff x="6337800" y="4309920"/>
                        <a:chExt cx="118080" cy="58680"/>
                      </a:xfrm>
                    </p:grpSpPr>
                    <p:sp>
                      <p:nvSpPr>
                        <p:cNvPr id="2985" name=""/>
                        <p:cNvSpPr/>
                        <p:nvPr/>
                      </p:nvSpPr>
                      <p:spPr>
                        <a:xfrm>
                          <a:off x="6338160" y="4309920"/>
                          <a:ext cx="117720" cy="34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86" name=""/>
                        <p:cNvSpPr/>
                        <p:nvPr/>
                      </p:nvSpPr>
                      <p:spPr>
                        <a:xfrm flipH="1">
                          <a:off x="6337800" y="4344840"/>
                          <a:ext cx="117720" cy="237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987" name=""/>
                  <p:cNvGrpSpPr/>
                  <p:nvPr/>
                </p:nvGrpSpPr>
                <p:grpSpPr>
                  <a:xfrm>
                    <a:off x="6219360" y="4369680"/>
                    <a:ext cx="236520" cy="231840"/>
                    <a:chOff x="6219360" y="4369680"/>
                    <a:chExt cx="236520" cy="231840"/>
                  </a:xfrm>
                </p:grpSpPr>
                <p:grpSp>
                  <p:nvGrpSpPr>
                    <p:cNvPr id="2988" name=""/>
                    <p:cNvGrpSpPr/>
                    <p:nvPr/>
                  </p:nvGrpSpPr>
                  <p:grpSpPr>
                    <a:xfrm>
                      <a:off x="6219360" y="4369680"/>
                      <a:ext cx="236520" cy="118080"/>
                      <a:chOff x="6219360" y="4369680"/>
                      <a:chExt cx="236520" cy="118080"/>
                    </a:xfrm>
                  </p:grpSpPr>
                  <p:sp>
                    <p:nvSpPr>
                      <p:cNvPr id="2989" name=""/>
                      <p:cNvSpPr/>
                      <p:nvPr/>
                    </p:nvSpPr>
                    <p:spPr>
                      <a:xfrm flipH="1">
                        <a:off x="6219360" y="4369680"/>
                        <a:ext cx="118800" cy="302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90" name=""/>
                      <p:cNvSpPr/>
                      <p:nvPr/>
                    </p:nvSpPr>
                    <p:spPr>
                      <a:xfrm>
                        <a:off x="6219360" y="4399920"/>
                        <a:ext cx="118800" cy="302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991" name=""/>
                      <p:cNvGrpSpPr/>
                      <p:nvPr/>
                    </p:nvGrpSpPr>
                    <p:grpSpPr>
                      <a:xfrm>
                        <a:off x="6337800" y="4430520"/>
                        <a:ext cx="118080" cy="57240"/>
                        <a:chOff x="6337800" y="4430520"/>
                        <a:chExt cx="118080" cy="57240"/>
                      </a:xfrm>
                    </p:grpSpPr>
                    <p:sp>
                      <p:nvSpPr>
                        <p:cNvPr id="2992" name=""/>
                        <p:cNvSpPr/>
                        <p:nvPr/>
                      </p:nvSpPr>
                      <p:spPr>
                        <a:xfrm>
                          <a:off x="6338160" y="4430520"/>
                          <a:ext cx="117720" cy="28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360" bIns="-1836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93" name=""/>
                        <p:cNvSpPr/>
                        <p:nvPr/>
                      </p:nvSpPr>
                      <p:spPr>
                        <a:xfrm flipH="1">
                          <a:off x="6337800" y="4458960"/>
                          <a:ext cx="117720" cy="28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0" bIns="-180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994" name=""/>
                    <p:cNvGrpSpPr/>
                    <p:nvPr/>
                  </p:nvGrpSpPr>
                  <p:grpSpPr>
                    <a:xfrm>
                      <a:off x="6219360" y="4488480"/>
                      <a:ext cx="236520" cy="113040"/>
                      <a:chOff x="6219360" y="4488480"/>
                      <a:chExt cx="236520" cy="113040"/>
                    </a:xfrm>
                  </p:grpSpPr>
                  <p:sp>
                    <p:nvSpPr>
                      <p:cNvPr id="2995" name=""/>
                      <p:cNvSpPr/>
                      <p:nvPr/>
                    </p:nvSpPr>
                    <p:spPr>
                      <a:xfrm flipH="1">
                        <a:off x="6219360" y="4488480"/>
                        <a:ext cx="118800" cy="26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96" name=""/>
                      <p:cNvSpPr/>
                      <p:nvPr/>
                    </p:nvSpPr>
                    <p:spPr>
                      <a:xfrm>
                        <a:off x="6219360" y="4515120"/>
                        <a:ext cx="118800" cy="302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997" name=""/>
                      <p:cNvGrpSpPr/>
                      <p:nvPr/>
                    </p:nvGrpSpPr>
                    <p:grpSpPr>
                      <a:xfrm>
                        <a:off x="6337800" y="4545720"/>
                        <a:ext cx="118080" cy="55800"/>
                        <a:chOff x="6337800" y="4545720"/>
                        <a:chExt cx="118080" cy="55800"/>
                      </a:xfrm>
                    </p:grpSpPr>
                    <p:sp>
                      <p:nvSpPr>
                        <p:cNvPr id="2998" name=""/>
                        <p:cNvSpPr/>
                        <p:nvPr/>
                      </p:nvSpPr>
                      <p:spPr>
                        <a:xfrm>
                          <a:off x="6338160" y="4545720"/>
                          <a:ext cx="117720" cy="28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0" bIns="-180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99" name=""/>
                        <p:cNvSpPr/>
                        <p:nvPr/>
                      </p:nvSpPr>
                      <p:spPr>
                        <a:xfrm flipH="1">
                          <a:off x="6337800" y="4574520"/>
                          <a:ext cx="117720" cy="270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3000" name=""/>
                  <p:cNvGrpSpPr/>
                  <p:nvPr/>
                </p:nvGrpSpPr>
                <p:grpSpPr>
                  <a:xfrm>
                    <a:off x="6219360" y="4602600"/>
                    <a:ext cx="236520" cy="235800"/>
                    <a:chOff x="6219360" y="4602600"/>
                    <a:chExt cx="236520" cy="235800"/>
                  </a:xfrm>
                </p:grpSpPr>
                <p:grpSp>
                  <p:nvGrpSpPr>
                    <p:cNvPr id="3001" name=""/>
                    <p:cNvGrpSpPr/>
                    <p:nvPr/>
                  </p:nvGrpSpPr>
                  <p:grpSpPr>
                    <a:xfrm>
                      <a:off x="6219360" y="4602600"/>
                      <a:ext cx="236520" cy="114480"/>
                      <a:chOff x="6219360" y="4602600"/>
                      <a:chExt cx="236520" cy="114480"/>
                    </a:xfrm>
                  </p:grpSpPr>
                  <p:sp>
                    <p:nvSpPr>
                      <p:cNvPr id="3002" name=""/>
                      <p:cNvSpPr/>
                      <p:nvPr/>
                    </p:nvSpPr>
                    <p:spPr>
                      <a:xfrm flipH="1">
                        <a:off x="6219360" y="4602600"/>
                        <a:ext cx="118800" cy="3492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03" name=""/>
                      <p:cNvSpPr/>
                      <p:nvPr/>
                    </p:nvSpPr>
                    <p:spPr>
                      <a:xfrm>
                        <a:off x="6219360" y="4637520"/>
                        <a:ext cx="118800" cy="2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004" name=""/>
                      <p:cNvGrpSpPr/>
                      <p:nvPr/>
                    </p:nvGrpSpPr>
                    <p:grpSpPr>
                      <a:xfrm>
                        <a:off x="6337800" y="4663080"/>
                        <a:ext cx="118080" cy="54000"/>
                        <a:chOff x="6337800" y="4663080"/>
                        <a:chExt cx="118080" cy="54000"/>
                      </a:xfrm>
                    </p:grpSpPr>
                    <p:sp>
                      <p:nvSpPr>
                        <p:cNvPr id="3005" name=""/>
                        <p:cNvSpPr/>
                        <p:nvPr/>
                      </p:nvSpPr>
                      <p:spPr>
                        <a:xfrm>
                          <a:off x="6338160" y="4663080"/>
                          <a:ext cx="117720" cy="28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0" bIns="-180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06" name=""/>
                        <p:cNvSpPr/>
                        <p:nvPr/>
                      </p:nvSpPr>
                      <p:spPr>
                        <a:xfrm flipH="1">
                          <a:off x="6337800" y="4691880"/>
                          <a:ext cx="117720" cy="2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600" bIns="-216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007" name=""/>
                    <p:cNvGrpSpPr/>
                    <p:nvPr/>
                  </p:nvGrpSpPr>
                  <p:grpSpPr>
                    <a:xfrm>
                      <a:off x="6219360" y="4717440"/>
                      <a:ext cx="236520" cy="120960"/>
                      <a:chOff x="6219360" y="4717440"/>
                      <a:chExt cx="236520" cy="120960"/>
                    </a:xfrm>
                  </p:grpSpPr>
                  <p:sp>
                    <p:nvSpPr>
                      <p:cNvPr id="3008" name=""/>
                      <p:cNvSpPr/>
                      <p:nvPr/>
                    </p:nvSpPr>
                    <p:spPr>
                      <a:xfrm flipH="1">
                        <a:off x="6219360" y="4717440"/>
                        <a:ext cx="118800" cy="3492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09" name=""/>
                      <p:cNvSpPr/>
                      <p:nvPr/>
                    </p:nvSpPr>
                    <p:spPr>
                      <a:xfrm>
                        <a:off x="6219360" y="4752360"/>
                        <a:ext cx="118800" cy="2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010" name=""/>
                      <p:cNvGrpSpPr/>
                      <p:nvPr/>
                    </p:nvGrpSpPr>
                    <p:grpSpPr>
                      <a:xfrm>
                        <a:off x="6337800" y="4778280"/>
                        <a:ext cx="118080" cy="60120"/>
                        <a:chOff x="6337800" y="4778280"/>
                        <a:chExt cx="118080" cy="60120"/>
                      </a:xfrm>
                    </p:grpSpPr>
                    <p:sp>
                      <p:nvSpPr>
                        <p:cNvPr id="3011" name=""/>
                        <p:cNvSpPr/>
                        <p:nvPr/>
                      </p:nvSpPr>
                      <p:spPr>
                        <a:xfrm>
                          <a:off x="6338160" y="4778280"/>
                          <a:ext cx="117720" cy="270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12" name=""/>
                        <p:cNvSpPr/>
                        <p:nvPr/>
                      </p:nvSpPr>
                      <p:spPr>
                        <a:xfrm flipH="1">
                          <a:off x="6337800" y="4805280"/>
                          <a:ext cx="117720" cy="331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680" bIns="-1368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3013" name=""/>
                <p:cNvSpPr/>
                <p:nvPr/>
              </p:nvSpPr>
              <p:spPr>
                <a:xfrm flipV="1">
                  <a:off x="6338520" y="3743280"/>
                  <a:ext cx="0" cy="1634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4" name=""/>
                <p:cNvSpPr/>
                <p:nvPr/>
              </p:nvSpPr>
              <p:spPr>
                <a:xfrm flipV="1">
                  <a:off x="6343200" y="4830480"/>
                  <a:ext cx="0" cy="1634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15" name=""/>
            <p:cNvSpPr/>
            <p:nvPr/>
          </p:nvSpPr>
          <p:spPr>
            <a:xfrm>
              <a:off x="6124320" y="3935160"/>
              <a:ext cx="2183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حالت آرامش</a:t>
              </a: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4721040" y="4949640"/>
              <a:ext cx="2514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17" name=""/>
              <p:cNvSpPr txBox="1"/>
              <p:nvPr/>
            </p:nvSpPr>
            <p:spPr>
              <a:xfrm>
                <a:off x="5210280" y="2674800"/>
                <a:ext cx="11811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18" name=""/>
          <p:cNvSpPr/>
          <p:nvPr/>
        </p:nvSpPr>
        <p:spPr>
          <a:xfrm>
            <a:off x="865080" y="2228760"/>
            <a:ext cx="74041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در حالت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انرژی پتانسیل کل برابر است با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afd00"/>
                </a:solidFill>
                <a:latin typeface="Arial"/>
                <a:cs typeface="Arial"/>
              </a:rPr>
              <a:t>ادامه فصل هشتم</a:t>
            </a:r>
            <a:r>
              <a:rPr b="1" lang="en-US" sz="5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5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20600" y="2608200"/>
            <a:ext cx="7251840" cy="16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ff"/>
                </a:solidFill>
                <a:latin typeface="Arial"/>
                <a:cs typeface="Arial"/>
              </a:rPr>
              <a:t>پاستگی انرژ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فنرهای قائم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22" name="PlaceHolder 2"/>
          <p:cNvSpPr>
            <a:spLocks noGrp="1"/>
          </p:cNvSpPr>
          <p:nvPr>
            <p:ph/>
          </p:nvPr>
        </p:nvSpPr>
        <p:spPr>
          <a:xfrm>
            <a:off x="871200" y="1795320"/>
            <a:ext cx="4700520" cy="15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marL="194040" indent="-1940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گر جرم آویزان را به انداز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زوضع تعادل دور و سپس آنرا رها کنیم این جرم به بالا و پاینین شروع به نوسان می کن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یشینه تندی این جر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جابه جای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ثابت فنر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</a:t>
            </a:r>
            <a:r>
              <a:rPr b="0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گونه است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؟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66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4040" indent="-1940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ون کلیه نیروها پایستار هستند لذا انرژی مکانیکی </a:t>
            </a:r>
            <a:br>
              <a:rPr sz="2000"/>
            </a:b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E = K + U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ثابت اس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3" name=""/>
          <p:cNvGrpSpPr/>
          <p:nvPr/>
        </p:nvGrpSpPr>
        <p:grpSpPr>
          <a:xfrm>
            <a:off x="7079760" y="2139840"/>
            <a:ext cx="241920" cy="1663920"/>
            <a:chOff x="7079760" y="2139840"/>
            <a:chExt cx="241920" cy="1663920"/>
          </a:xfrm>
        </p:grpSpPr>
        <p:grpSp>
          <p:nvGrpSpPr>
            <p:cNvPr id="3024" name=""/>
            <p:cNvGrpSpPr/>
            <p:nvPr/>
          </p:nvGrpSpPr>
          <p:grpSpPr>
            <a:xfrm>
              <a:off x="7079760" y="3314880"/>
              <a:ext cx="241920" cy="366120"/>
              <a:chOff x="7079760" y="3314880"/>
              <a:chExt cx="241920" cy="366120"/>
            </a:xfrm>
          </p:grpSpPr>
          <p:grpSp>
            <p:nvGrpSpPr>
              <p:cNvPr id="3025" name=""/>
              <p:cNvGrpSpPr/>
              <p:nvPr/>
            </p:nvGrpSpPr>
            <p:grpSpPr>
              <a:xfrm>
                <a:off x="7079760" y="3492360"/>
                <a:ext cx="241920" cy="188640"/>
                <a:chOff x="7079760" y="3492360"/>
                <a:chExt cx="241920" cy="188640"/>
              </a:xfrm>
            </p:grpSpPr>
            <p:sp>
              <p:nvSpPr>
                <p:cNvPr id="3026" name=""/>
                <p:cNvSpPr/>
                <p:nvPr/>
              </p:nvSpPr>
              <p:spPr>
                <a:xfrm flipV="1">
                  <a:off x="7205760" y="3623760"/>
                  <a:ext cx="10296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7" name=""/>
                <p:cNvSpPr/>
                <p:nvPr/>
              </p:nvSpPr>
              <p:spPr>
                <a:xfrm flipH="1" flipV="1">
                  <a:off x="7192800" y="3583080"/>
                  <a:ext cx="128880" cy="54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028" name=""/>
                <p:cNvGrpSpPr/>
                <p:nvPr/>
              </p:nvGrpSpPr>
              <p:grpSpPr>
                <a:xfrm>
                  <a:off x="7079760" y="3492360"/>
                  <a:ext cx="125640" cy="103320"/>
                  <a:chOff x="7079760" y="3492360"/>
                  <a:chExt cx="125640" cy="103320"/>
                </a:xfrm>
              </p:grpSpPr>
              <p:sp>
                <p:nvSpPr>
                  <p:cNvPr id="3029" name=""/>
                  <p:cNvSpPr/>
                  <p:nvPr/>
                </p:nvSpPr>
                <p:spPr>
                  <a:xfrm flipH="1" flipV="1">
                    <a:off x="7079760" y="3533760"/>
                    <a:ext cx="125640" cy="619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0" name=""/>
                  <p:cNvSpPr/>
                  <p:nvPr/>
                </p:nvSpPr>
                <p:spPr>
                  <a:xfrm flipV="1">
                    <a:off x="7093080" y="3492360"/>
                    <a:ext cx="99720" cy="54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31" name=""/>
              <p:cNvGrpSpPr/>
              <p:nvPr/>
            </p:nvGrpSpPr>
            <p:grpSpPr>
              <a:xfrm>
                <a:off x="7079760" y="3314880"/>
                <a:ext cx="241920" cy="190080"/>
                <a:chOff x="7079760" y="3314880"/>
                <a:chExt cx="241920" cy="190080"/>
              </a:xfrm>
            </p:grpSpPr>
            <p:sp>
              <p:nvSpPr>
                <p:cNvPr id="3032" name=""/>
                <p:cNvSpPr/>
                <p:nvPr/>
              </p:nvSpPr>
              <p:spPr>
                <a:xfrm flipV="1">
                  <a:off x="7205760" y="3447720"/>
                  <a:ext cx="10296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3" name=""/>
                <p:cNvSpPr/>
                <p:nvPr/>
              </p:nvSpPr>
              <p:spPr>
                <a:xfrm flipH="1" flipV="1">
                  <a:off x="7192800" y="3405240"/>
                  <a:ext cx="128880" cy="554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034" name=""/>
                <p:cNvGrpSpPr/>
                <p:nvPr/>
              </p:nvGrpSpPr>
              <p:grpSpPr>
                <a:xfrm>
                  <a:off x="7079760" y="3314880"/>
                  <a:ext cx="125640" cy="102600"/>
                  <a:chOff x="7079760" y="3314880"/>
                  <a:chExt cx="125640" cy="102600"/>
                </a:xfrm>
              </p:grpSpPr>
              <p:sp>
                <p:nvSpPr>
                  <p:cNvPr id="3035" name=""/>
                  <p:cNvSpPr/>
                  <p:nvPr/>
                </p:nvSpPr>
                <p:spPr>
                  <a:xfrm flipH="1" flipV="1">
                    <a:off x="7079760" y="3357360"/>
                    <a:ext cx="125640" cy="601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6" name=""/>
                  <p:cNvSpPr/>
                  <p:nvPr/>
                </p:nvSpPr>
                <p:spPr>
                  <a:xfrm flipV="1">
                    <a:off x="7093080" y="3314880"/>
                    <a:ext cx="99720" cy="554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037" name=""/>
            <p:cNvGrpSpPr/>
            <p:nvPr/>
          </p:nvGrpSpPr>
          <p:grpSpPr>
            <a:xfrm>
              <a:off x="7079760" y="2963880"/>
              <a:ext cx="241920" cy="363240"/>
              <a:chOff x="7079760" y="2963880"/>
              <a:chExt cx="241920" cy="363240"/>
            </a:xfrm>
          </p:grpSpPr>
          <p:grpSp>
            <p:nvGrpSpPr>
              <p:cNvPr id="3038" name=""/>
              <p:cNvGrpSpPr/>
              <p:nvPr/>
            </p:nvGrpSpPr>
            <p:grpSpPr>
              <a:xfrm>
                <a:off x="7079760" y="3139560"/>
                <a:ext cx="241920" cy="187560"/>
                <a:chOff x="7079760" y="3139560"/>
                <a:chExt cx="241920" cy="187560"/>
              </a:xfrm>
            </p:grpSpPr>
            <p:sp>
              <p:nvSpPr>
                <p:cNvPr id="3039" name=""/>
                <p:cNvSpPr/>
                <p:nvPr/>
              </p:nvSpPr>
              <p:spPr>
                <a:xfrm flipV="1">
                  <a:off x="7205760" y="3269880"/>
                  <a:ext cx="10296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0" name=""/>
                <p:cNvSpPr/>
                <p:nvPr/>
              </p:nvSpPr>
              <p:spPr>
                <a:xfrm flipH="1" flipV="1">
                  <a:off x="7192800" y="3223800"/>
                  <a:ext cx="128880" cy="5868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041" name=""/>
                <p:cNvGrpSpPr/>
                <p:nvPr/>
              </p:nvGrpSpPr>
              <p:grpSpPr>
                <a:xfrm>
                  <a:off x="7079760" y="3139560"/>
                  <a:ext cx="125640" cy="96840"/>
                  <a:chOff x="7079760" y="3139560"/>
                  <a:chExt cx="125640" cy="96840"/>
                </a:xfrm>
              </p:grpSpPr>
              <p:sp>
                <p:nvSpPr>
                  <p:cNvPr id="3042" name=""/>
                  <p:cNvSpPr/>
                  <p:nvPr/>
                </p:nvSpPr>
                <p:spPr>
                  <a:xfrm flipH="1" flipV="1">
                    <a:off x="7079760" y="3184200"/>
                    <a:ext cx="125640" cy="52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3" name=""/>
                  <p:cNvSpPr/>
                  <p:nvPr/>
                </p:nvSpPr>
                <p:spPr>
                  <a:xfrm flipV="1">
                    <a:off x="7093080" y="3139560"/>
                    <a:ext cx="99720" cy="572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44" name=""/>
              <p:cNvGrpSpPr/>
              <p:nvPr/>
            </p:nvGrpSpPr>
            <p:grpSpPr>
              <a:xfrm>
                <a:off x="7079760" y="2963880"/>
                <a:ext cx="241920" cy="188640"/>
                <a:chOff x="7079760" y="2963880"/>
                <a:chExt cx="241920" cy="188640"/>
              </a:xfrm>
            </p:grpSpPr>
            <p:sp>
              <p:nvSpPr>
                <p:cNvPr id="3045" name=""/>
                <p:cNvSpPr/>
                <p:nvPr/>
              </p:nvSpPr>
              <p:spPr>
                <a:xfrm flipV="1">
                  <a:off x="7205760" y="3095280"/>
                  <a:ext cx="10296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6" name=""/>
                <p:cNvSpPr/>
                <p:nvPr/>
              </p:nvSpPr>
              <p:spPr>
                <a:xfrm flipH="1" flipV="1">
                  <a:off x="7192800" y="3050640"/>
                  <a:ext cx="12888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047" name=""/>
                <p:cNvGrpSpPr/>
                <p:nvPr/>
              </p:nvGrpSpPr>
              <p:grpSpPr>
                <a:xfrm>
                  <a:off x="7079760" y="2963880"/>
                  <a:ext cx="125640" cy="99720"/>
                  <a:chOff x="7079760" y="2963880"/>
                  <a:chExt cx="125640" cy="99720"/>
                </a:xfrm>
              </p:grpSpPr>
              <p:sp>
                <p:nvSpPr>
                  <p:cNvPr id="3048" name=""/>
                  <p:cNvSpPr/>
                  <p:nvPr/>
                </p:nvSpPr>
                <p:spPr>
                  <a:xfrm flipH="1" flipV="1">
                    <a:off x="7079760" y="3006360"/>
                    <a:ext cx="125640" cy="572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9" name=""/>
                  <p:cNvSpPr/>
                  <p:nvPr/>
                </p:nvSpPr>
                <p:spPr>
                  <a:xfrm flipV="1">
                    <a:off x="7093080" y="2963880"/>
                    <a:ext cx="99720" cy="554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050" name=""/>
            <p:cNvGrpSpPr/>
            <p:nvPr/>
          </p:nvGrpSpPr>
          <p:grpSpPr>
            <a:xfrm>
              <a:off x="7079760" y="2608200"/>
              <a:ext cx="241920" cy="368280"/>
              <a:chOff x="7079760" y="2608200"/>
              <a:chExt cx="241920" cy="368280"/>
            </a:xfrm>
          </p:grpSpPr>
          <p:grpSp>
            <p:nvGrpSpPr>
              <p:cNvPr id="3051" name=""/>
              <p:cNvGrpSpPr/>
              <p:nvPr/>
            </p:nvGrpSpPr>
            <p:grpSpPr>
              <a:xfrm>
                <a:off x="7079760" y="2787480"/>
                <a:ext cx="241920" cy="189000"/>
                <a:chOff x="7079760" y="2787480"/>
                <a:chExt cx="241920" cy="189000"/>
              </a:xfrm>
            </p:grpSpPr>
            <p:sp>
              <p:nvSpPr>
                <p:cNvPr id="3052" name=""/>
                <p:cNvSpPr/>
                <p:nvPr/>
              </p:nvSpPr>
              <p:spPr>
                <a:xfrm flipV="1">
                  <a:off x="7205760" y="2921040"/>
                  <a:ext cx="102960" cy="554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3" name=""/>
                <p:cNvSpPr/>
                <p:nvPr/>
              </p:nvSpPr>
              <p:spPr>
                <a:xfrm flipH="1" flipV="1">
                  <a:off x="7192800" y="2876040"/>
                  <a:ext cx="12888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054" name=""/>
                <p:cNvGrpSpPr/>
                <p:nvPr/>
              </p:nvGrpSpPr>
              <p:grpSpPr>
                <a:xfrm>
                  <a:off x="7079760" y="2787480"/>
                  <a:ext cx="125640" cy="101880"/>
                  <a:chOff x="7079760" y="2787480"/>
                  <a:chExt cx="125640" cy="101880"/>
                </a:xfrm>
              </p:grpSpPr>
              <p:sp>
                <p:nvSpPr>
                  <p:cNvPr id="3055" name=""/>
                  <p:cNvSpPr/>
                  <p:nvPr/>
                </p:nvSpPr>
                <p:spPr>
                  <a:xfrm flipH="1" flipV="1">
                    <a:off x="7079760" y="2828880"/>
                    <a:ext cx="125640" cy="604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6" name=""/>
                  <p:cNvSpPr/>
                  <p:nvPr/>
                </p:nvSpPr>
                <p:spPr>
                  <a:xfrm flipV="1">
                    <a:off x="7093080" y="2787480"/>
                    <a:ext cx="99720" cy="54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57" name=""/>
              <p:cNvGrpSpPr/>
              <p:nvPr/>
            </p:nvGrpSpPr>
            <p:grpSpPr>
              <a:xfrm>
                <a:off x="7079760" y="2608200"/>
                <a:ext cx="241920" cy="192240"/>
                <a:chOff x="7079760" y="2608200"/>
                <a:chExt cx="241920" cy="192240"/>
              </a:xfrm>
            </p:grpSpPr>
            <p:sp>
              <p:nvSpPr>
                <p:cNvPr id="3058" name=""/>
                <p:cNvSpPr/>
                <p:nvPr/>
              </p:nvSpPr>
              <p:spPr>
                <a:xfrm flipV="1">
                  <a:off x="7205760" y="2739960"/>
                  <a:ext cx="102960" cy="6048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9" name=""/>
                <p:cNvSpPr/>
                <p:nvPr/>
              </p:nvSpPr>
              <p:spPr>
                <a:xfrm flipH="1" flipV="1">
                  <a:off x="7192800" y="2701440"/>
                  <a:ext cx="128880" cy="507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060" name=""/>
                <p:cNvGrpSpPr/>
                <p:nvPr/>
              </p:nvGrpSpPr>
              <p:grpSpPr>
                <a:xfrm>
                  <a:off x="7079760" y="2608200"/>
                  <a:ext cx="125640" cy="106560"/>
                  <a:chOff x="7079760" y="2608200"/>
                  <a:chExt cx="125640" cy="106560"/>
                </a:xfrm>
              </p:grpSpPr>
              <p:sp>
                <p:nvSpPr>
                  <p:cNvPr id="3061" name=""/>
                  <p:cNvSpPr/>
                  <p:nvPr/>
                </p:nvSpPr>
                <p:spPr>
                  <a:xfrm flipH="1" flipV="1">
                    <a:off x="7079760" y="2655720"/>
                    <a:ext cx="125640" cy="590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2" name=""/>
                  <p:cNvSpPr/>
                  <p:nvPr/>
                </p:nvSpPr>
                <p:spPr>
                  <a:xfrm flipV="1">
                    <a:off x="7093080" y="2608200"/>
                    <a:ext cx="99720" cy="604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063" name=""/>
            <p:cNvGrpSpPr/>
            <p:nvPr/>
          </p:nvGrpSpPr>
          <p:grpSpPr>
            <a:xfrm>
              <a:off x="7079760" y="2255760"/>
              <a:ext cx="241920" cy="364680"/>
              <a:chOff x="7079760" y="2255760"/>
              <a:chExt cx="241920" cy="364680"/>
            </a:xfrm>
          </p:grpSpPr>
          <p:grpSp>
            <p:nvGrpSpPr>
              <p:cNvPr id="3064" name=""/>
              <p:cNvGrpSpPr/>
              <p:nvPr/>
            </p:nvGrpSpPr>
            <p:grpSpPr>
              <a:xfrm>
                <a:off x="7079760" y="2436480"/>
                <a:ext cx="241920" cy="183960"/>
                <a:chOff x="7079760" y="2436480"/>
                <a:chExt cx="241920" cy="183960"/>
              </a:xfrm>
            </p:grpSpPr>
            <p:sp>
              <p:nvSpPr>
                <p:cNvPr id="3065" name=""/>
                <p:cNvSpPr/>
                <p:nvPr/>
              </p:nvSpPr>
              <p:spPr>
                <a:xfrm flipV="1">
                  <a:off x="7205760" y="2566800"/>
                  <a:ext cx="102960" cy="536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6" name=""/>
                <p:cNvSpPr/>
                <p:nvPr/>
              </p:nvSpPr>
              <p:spPr>
                <a:xfrm flipH="1" flipV="1">
                  <a:off x="7192800" y="2522160"/>
                  <a:ext cx="12888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067" name=""/>
                <p:cNvGrpSpPr/>
                <p:nvPr/>
              </p:nvGrpSpPr>
              <p:grpSpPr>
                <a:xfrm>
                  <a:off x="7079760" y="2436480"/>
                  <a:ext cx="125640" cy="98280"/>
                  <a:chOff x="7079760" y="2436480"/>
                  <a:chExt cx="125640" cy="98280"/>
                </a:xfrm>
              </p:grpSpPr>
              <p:sp>
                <p:nvSpPr>
                  <p:cNvPr id="3068" name=""/>
                  <p:cNvSpPr/>
                  <p:nvPr/>
                </p:nvSpPr>
                <p:spPr>
                  <a:xfrm flipH="1" flipV="1">
                    <a:off x="7079760" y="2476080"/>
                    <a:ext cx="125640" cy="586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9" name=""/>
                  <p:cNvSpPr/>
                  <p:nvPr/>
                </p:nvSpPr>
                <p:spPr>
                  <a:xfrm flipV="1">
                    <a:off x="7093080" y="2436480"/>
                    <a:ext cx="99720" cy="52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70" name=""/>
              <p:cNvGrpSpPr/>
              <p:nvPr/>
            </p:nvGrpSpPr>
            <p:grpSpPr>
              <a:xfrm>
                <a:off x="7079760" y="2255760"/>
                <a:ext cx="241920" cy="193320"/>
                <a:chOff x="7079760" y="2255760"/>
                <a:chExt cx="241920" cy="193320"/>
              </a:xfrm>
            </p:grpSpPr>
            <p:sp>
              <p:nvSpPr>
                <p:cNvPr id="3071" name=""/>
                <p:cNvSpPr/>
                <p:nvPr/>
              </p:nvSpPr>
              <p:spPr>
                <a:xfrm flipV="1">
                  <a:off x="7205760" y="2391840"/>
                  <a:ext cx="10296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2" name=""/>
                <p:cNvSpPr/>
                <p:nvPr/>
              </p:nvSpPr>
              <p:spPr>
                <a:xfrm flipH="1" flipV="1">
                  <a:off x="7192800" y="2344680"/>
                  <a:ext cx="128880" cy="6048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073" name=""/>
                <p:cNvGrpSpPr/>
                <p:nvPr/>
              </p:nvGrpSpPr>
              <p:grpSpPr>
                <a:xfrm>
                  <a:off x="7079760" y="2255760"/>
                  <a:ext cx="125640" cy="101160"/>
                  <a:chOff x="7079760" y="2255760"/>
                  <a:chExt cx="125640" cy="101160"/>
                </a:xfrm>
              </p:grpSpPr>
              <p:sp>
                <p:nvSpPr>
                  <p:cNvPr id="3074" name=""/>
                  <p:cNvSpPr/>
                  <p:nvPr/>
                </p:nvSpPr>
                <p:spPr>
                  <a:xfrm flipH="1" flipV="1">
                    <a:off x="7079760" y="2303280"/>
                    <a:ext cx="125640" cy="53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5" name=""/>
                  <p:cNvSpPr/>
                  <p:nvPr/>
                </p:nvSpPr>
                <p:spPr>
                  <a:xfrm flipV="1">
                    <a:off x="7093080" y="2255760"/>
                    <a:ext cx="99720" cy="604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076" name=""/>
            <p:cNvSpPr/>
            <p:nvPr/>
          </p:nvSpPr>
          <p:spPr>
            <a:xfrm>
              <a:off x="7199280" y="3681360"/>
              <a:ext cx="0" cy="12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7199280" y="2139840"/>
              <a:ext cx="0" cy="1159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78" name=""/>
          <p:cNvSpPr/>
          <p:nvPr/>
        </p:nvSpPr>
        <p:spPr>
          <a:xfrm>
            <a:off x="7023240" y="2133720"/>
            <a:ext cx="35532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9" name=""/>
          <p:cNvSpPr/>
          <p:nvPr/>
        </p:nvSpPr>
        <p:spPr>
          <a:xfrm>
            <a:off x="7475040" y="4626000"/>
            <a:ext cx="13950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y = 0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0" name=""/>
          <p:cNvSpPr/>
          <p:nvPr/>
        </p:nvSpPr>
        <p:spPr>
          <a:xfrm flipV="1">
            <a:off x="7924680" y="2127240"/>
            <a:ext cx="0" cy="85104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1" name=""/>
          <p:cNvSpPr/>
          <p:nvPr/>
        </p:nvSpPr>
        <p:spPr>
          <a:xfrm>
            <a:off x="7624080" y="2112840"/>
            <a:ext cx="963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j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2" name=""/>
          <p:cNvSpPr/>
          <p:nvPr/>
        </p:nvSpPr>
        <p:spPr>
          <a:xfrm>
            <a:off x="6481080" y="272268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3" name=""/>
          <p:cNvGrpSpPr/>
          <p:nvPr/>
        </p:nvGrpSpPr>
        <p:grpSpPr>
          <a:xfrm>
            <a:off x="6719400" y="3797280"/>
            <a:ext cx="964800" cy="363240"/>
            <a:chOff x="6719400" y="3797280"/>
            <a:chExt cx="964800" cy="363240"/>
          </a:xfrm>
        </p:grpSpPr>
        <p:sp>
          <p:nvSpPr>
            <p:cNvPr id="3084" name=""/>
            <p:cNvSpPr/>
            <p:nvPr/>
          </p:nvSpPr>
          <p:spPr>
            <a:xfrm>
              <a:off x="7016760" y="3816360"/>
              <a:ext cx="368280" cy="29196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6719400" y="3797280"/>
              <a:ext cx="964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6" name=""/>
          <p:cNvSpPr/>
          <p:nvPr/>
        </p:nvSpPr>
        <p:spPr>
          <a:xfrm>
            <a:off x="7016760" y="4654440"/>
            <a:ext cx="368280" cy="292320"/>
          </a:xfrm>
          <a:prstGeom prst="rect">
            <a:avLst/>
          </a:prstGeom>
          <a:noFill/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>
            <a:off x="7016760" y="5492880"/>
            <a:ext cx="368280" cy="291960"/>
          </a:xfrm>
          <a:prstGeom prst="rect">
            <a:avLst/>
          </a:prstGeom>
          <a:noFill/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7472520" y="3787920"/>
            <a:ext cx="13536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y = d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>
            <a:off x="7472160" y="5464080"/>
            <a:ext cx="14389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y = -d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6858000" y="4578480"/>
            <a:ext cx="0" cy="52056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6099840" y="462600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2" name=""/>
          <p:cNvSpPr/>
          <p:nvPr/>
        </p:nvSpPr>
        <p:spPr>
          <a:xfrm>
            <a:off x="7620120" y="3968640"/>
            <a:ext cx="0" cy="1663920"/>
          </a:xfrm>
          <a:prstGeom prst="line">
            <a:avLst/>
          </a:prstGeom>
          <a:ln w="12600">
            <a:solidFill>
              <a:srgbClr val="f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3" name=""/>
              <p:cNvSpPr txBox="1"/>
              <p:nvPr/>
            </p:nvSpPr>
            <p:spPr>
              <a:xfrm>
                <a:off x="1255680" y="5470560"/>
                <a:ext cx="19382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4" name=""/>
              <p:cNvSpPr txBox="1"/>
              <p:nvPr/>
            </p:nvSpPr>
            <p:spPr>
              <a:xfrm>
                <a:off x="3402000" y="5437080"/>
                <a:ext cx="11764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95" name=""/>
          <p:cNvSpPr/>
          <p:nvPr/>
        </p:nvSpPr>
        <p:spPr>
          <a:xfrm>
            <a:off x="4116600" y="4670280"/>
            <a:ext cx="1809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ی دانیم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6" name=""/>
          <p:cNvSpPr/>
          <p:nvPr/>
        </p:nvSpPr>
        <p:spPr>
          <a:xfrm>
            <a:off x="3124080" y="4572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gradFill rotWithShape="0">
            <a:gsLst>
              <a:gs pos="0">
                <a:srgbClr val="fafd00"/>
              </a:gs>
              <a:gs pos="100000">
                <a:srgbClr val="fc0000"/>
              </a:gs>
            </a:gsLst>
            <a:lin ang="5400000"/>
          </a:gra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فنرهای قائم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00" name="PlaceHolder 2"/>
          <p:cNvSpPr>
            <a:spLocks noGrp="1"/>
          </p:cNvSpPr>
          <p:nvPr>
            <p:ph/>
          </p:nvPr>
        </p:nvSpPr>
        <p:spPr>
          <a:xfrm>
            <a:off x="761760" y="1795320"/>
            <a:ext cx="5715000" cy="15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 وضعیت ابتدایی </a:t>
            </a:r>
            <a:br>
              <a:rPr sz="2000"/>
            </a:b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 = 0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زیر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(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v=0</a:t>
            </a:r>
            <a:r>
              <a:rPr b="0" i="1" lang="fa-IR" sz="2000" spc="-1" strike="noStrike">
                <a:solidFill>
                  <a:srgbClr val="00ff00"/>
                </a:solidFill>
                <a:latin typeface="Arial"/>
                <a:ea typeface="Arial"/>
              </a:rPr>
              <a:t>)   است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1" name=""/>
          <p:cNvGrpSpPr/>
          <p:nvPr/>
        </p:nvGrpSpPr>
        <p:grpSpPr>
          <a:xfrm>
            <a:off x="7079760" y="2139840"/>
            <a:ext cx="241920" cy="1663920"/>
            <a:chOff x="7079760" y="2139840"/>
            <a:chExt cx="241920" cy="1663920"/>
          </a:xfrm>
        </p:grpSpPr>
        <p:grpSp>
          <p:nvGrpSpPr>
            <p:cNvPr id="3102" name=""/>
            <p:cNvGrpSpPr/>
            <p:nvPr/>
          </p:nvGrpSpPr>
          <p:grpSpPr>
            <a:xfrm>
              <a:off x="7079760" y="3314880"/>
              <a:ext cx="241920" cy="366120"/>
              <a:chOff x="7079760" y="3314880"/>
              <a:chExt cx="241920" cy="366120"/>
            </a:xfrm>
          </p:grpSpPr>
          <p:grpSp>
            <p:nvGrpSpPr>
              <p:cNvPr id="3103" name=""/>
              <p:cNvGrpSpPr/>
              <p:nvPr/>
            </p:nvGrpSpPr>
            <p:grpSpPr>
              <a:xfrm>
                <a:off x="7079760" y="3492360"/>
                <a:ext cx="241920" cy="188640"/>
                <a:chOff x="7079760" y="3492360"/>
                <a:chExt cx="241920" cy="188640"/>
              </a:xfrm>
            </p:grpSpPr>
            <p:sp>
              <p:nvSpPr>
                <p:cNvPr id="3104" name=""/>
                <p:cNvSpPr/>
                <p:nvPr/>
              </p:nvSpPr>
              <p:spPr>
                <a:xfrm flipV="1">
                  <a:off x="7205760" y="3623760"/>
                  <a:ext cx="10296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5" name=""/>
                <p:cNvSpPr/>
                <p:nvPr/>
              </p:nvSpPr>
              <p:spPr>
                <a:xfrm flipH="1" flipV="1">
                  <a:off x="7192800" y="3583080"/>
                  <a:ext cx="128880" cy="54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106" name=""/>
                <p:cNvGrpSpPr/>
                <p:nvPr/>
              </p:nvGrpSpPr>
              <p:grpSpPr>
                <a:xfrm>
                  <a:off x="7079760" y="3492360"/>
                  <a:ext cx="125640" cy="103320"/>
                  <a:chOff x="7079760" y="3492360"/>
                  <a:chExt cx="125640" cy="103320"/>
                </a:xfrm>
              </p:grpSpPr>
              <p:sp>
                <p:nvSpPr>
                  <p:cNvPr id="3107" name=""/>
                  <p:cNvSpPr/>
                  <p:nvPr/>
                </p:nvSpPr>
                <p:spPr>
                  <a:xfrm flipH="1" flipV="1">
                    <a:off x="7079760" y="3533760"/>
                    <a:ext cx="125640" cy="619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8" name=""/>
                  <p:cNvSpPr/>
                  <p:nvPr/>
                </p:nvSpPr>
                <p:spPr>
                  <a:xfrm flipV="1">
                    <a:off x="7093080" y="3492360"/>
                    <a:ext cx="99720" cy="54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09" name=""/>
              <p:cNvGrpSpPr/>
              <p:nvPr/>
            </p:nvGrpSpPr>
            <p:grpSpPr>
              <a:xfrm>
                <a:off x="7079760" y="3314880"/>
                <a:ext cx="241920" cy="190080"/>
                <a:chOff x="7079760" y="3314880"/>
                <a:chExt cx="241920" cy="190080"/>
              </a:xfrm>
            </p:grpSpPr>
            <p:sp>
              <p:nvSpPr>
                <p:cNvPr id="3110" name=""/>
                <p:cNvSpPr/>
                <p:nvPr/>
              </p:nvSpPr>
              <p:spPr>
                <a:xfrm flipV="1">
                  <a:off x="7205760" y="3447720"/>
                  <a:ext cx="10296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1" name=""/>
                <p:cNvSpPr/>
                <p:nvPr/>
              </p:nvSpPr>
              <p:spPr>
                <a:xfrm flipH="1" flipV="1">
                  <a:off x="7192800" y="3405240"/>
                  <a:ext cx="128880" cy="554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112" name=""/>
                <p:cNvGrpSpPr/>
                <p:nvPr/>
              </p:nvGrpSpPr>
              <p:grpSpPr>
                <a:xfrm>
                  <a:off x="7079760" y="3314880"/>
                  <a:ext cx="125640" cy="102600"/>
                  <a:chOff x="7079760" y="3314880"/>
                  <a:chExt cx="125640" cy="102600"/>
                </a:xfrm>
              </p:grpSpPr>
              <p:sp>
                <p:nvSpPr>
                  <p:cNvPr id="3113" name=""/>
                  <p:cNvSpPr/>
                  <p:nvPr/>
                </p:nvSpPr>
                <p:spPr>
                  <a:xfrm flipH="1" flipV="1">
                    <a:off x="7079760" y="3357360"/>
                    <a:ext cx="125640" cy="601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4" name=""/>
                  <p:cNvSpPr/>
                  <p:nvPr/>
                </p:nvSpPr>
                <p:spPr>
                  <a:xfrm flipV="1">
                    <a:off x="7093080" y="3314880"/>
                    <a:ext cx="99720" cy="554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115" name=""/>
            <p:cNvGrpSpPr/>
            <p:nvPr/>
          </p:nvGrpSpPr>
          <p:grpSpPr>
            <a:xfrm>
              <a:off x="7079760" y="2963880"/>
              <a:ext cx="241920" cy="363240"/>
              <a:chOff x="7079760" y="2963880"/>
              <a:chExt cx="241920" cy="363240"/>
            </a:xfrm>
          </p:grpSpPr>
          <p:grpSp>
            <p:nvGrpSpPr>
              <p:cNvPr id="3116" name=""/>
              <p:cNvGrpSpPr/>
              <p:nvPr/>
            </p:nvGrpSpPr>
            <p:grpSpPr>
              <a:xfrm>
                <a:off x="7079760" y="3139560"/>
                <a:ext cx="241920" cy="187560"/>
                <a:chOff x="7079760" y="3139560"/>
                <a:chExt cx="241920" cy="187560"/>
              </a:xfrm>
            </p:grpSpPr>
            <p:sp>
              <p:nvSpPr>
                <p:cNvPr id="3117" name=""/>
                <p:cNvSpPr/>
                <p:nvPr/>
              </p:nvSpPr>
              <p:spPr>
                <a:xfrm flipV="1">
                  <a:off x="7205760" y="3269880"/>
                  <a:ext cx="10296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8" name=""/>
                <p:cNvSpPr/>
                <p:nvPr/>
              </p:nvSpPr>
              <p:spPr>
                <a:xfrm flipH="1" flipV="1">
                  <a:off x="7192800" y="3223800"/>
                  <a:ext cx="128880" cy="5868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119" name=""/>
                <p:cNvGrpSpPr/>
                <p:nvPr/>
              </p:nvGrpSpPr>
              <p:grpSpPr>
                <a:xfrm>
                  <a:off x="7079760" y="3139560"/>
                  <a:ext cx="125640" cy="96840"/>
                  <a:chOff x="7079760" y="3139560"/>
                  <a:chExt cx="125640" cy="96840"/>
                </a:xfrm>
              </p:grpSpPr>
              <p:sp>
                <p:nvSpPr>
                  <p:cNvPr id="3120" name=""/>
                  <p:cNvSpPr/>
                  <p:nvPr/>
                </p:nvSpPr>
                <p:spPr>
                  <a:xfrm flipH="1" flipV="1">
                    <a:off x="7079760" y="3184200"/>
                    <a:ext cx="125640" cy="52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1" name=""/>
                  <p:cNvSpPr/>
                  <p:nvPr/>
                </p:nvSpPr>
                <p:spPr>
                  <a:xfrm flipV="1">
                    <a:off x="7093080" y="3139560"/>
                    <a:ext cx="99720" cy="572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22" name=""/>
              <p:cNvGrpSpPr/>
              <p:nvPr/>
            </p:nvGrpSpPr>
            <p:grpSpPr>
              <a:xfrm>
                <a:off x="7079760" y="2963880"/>
                <a:ext cx="241920" cy="188640"/>
                <a:chOff x="7079760" y="2963880"/>
                <a:chExt cx="241920" cy="188640"/>
              </a:xfrm>
            </p:grpSpPr>
            <p:sp>
              <p:nvSpPr>
                <p:cNvPr id="3123" name=""/>
                <p:cNvSpPr/>
                <p:nvPr/>
              </p:nvSpPr>
              <p:spPr>
                <a:xfrm flipV="1">
                  <a:off x="7205760" y="3095280"/>
                  <a:ext cx="10296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4" name=""/>
                <p:cNvSpPr/>
                <p:nvPr/>
              </p:nvSpPr>
              <p:spPr>
                <a:xfrm flipH="1" flipV="1">
                  <a:off x="7192800" y="3050640"/>
                  <a:ext cx="12888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125" name=""/>
                <p:cNvGrpSpPr/>
                <p:nvPr/>
              </p:nvGrpSpPr>
              <p:grpSpPr>
                <a:xfrm>
                  <a:off x="7079760" y="2963880"/>
                  <a:ext cx="125640" cy="99720"/>
                  <a:chOff x="7079760" y="2963880"/>
                  <a:chExt cx="125640" cy="99720"/>
                </a:xfrm>
              </p:grpSpPr>
              <p:sp>
                <p:nvSpPr>
                  <p:cNvPr id="3126" name=""/>
                  <p:cNvSpPr/>
                  <p:nvPr/>
                </p:nvSpPr>
                <p:spPr>
                  <a:xfrm flipH="1" flipV="1">
                    <a:off x="7079760" y="3006360"/>
                    <a:ext cx="125640" cy="572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7" name=""/>
                  <p:cNvSpPr/>
                  <p:nvPr/>
                </p:nvSpPr>
                <p:spPr>
                  <a:xfrm flipV="1">
                    <a:off x="7093080" y="2963880"/>
                    <a:ext cx="99720" cy="554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128" name=""/>
            <p:cNvGrpSpPr/>
            <p:nvPr/>
          </p:nvGrpSpPr>
          <p:grpSpPr>
            <a:xfrm>
              <a:off x="7079760" y="2608200"/>
              <a:ext cx="241920" cy="368280"/>
              <a:chOff x="7079760" y="2608200"/>
              <a:chExt cx="241920" cy="368280"/>
            </a:xfrm>
          </p:grpSpPr>
          <p:grpSp>
            <p:nvGrpSpPr>
              <p:cNvPr id="3129" name=""/>
              <p:cNvGrpSpPr/>
              <p:nvPr/>
            </p:nvGrpSpPr>
            <p:grpSpPr>
              <a:xfrm>
                <a:off x="7079760" y="2787480"/>
                <a:ext cx="241920" cy="189000"/>
                <a:chOff x="7079760" y="2787480"/>
                <a:chExt cx="241920" cy="189000"/>
              </a:xfrm>
            </p:grpSpPr>
            <p:sp>
              <p:nvSpPr>
                <p:cNvPr id="3130" name=""/>
                <p:cNvSpPr/>
                <p:nvPr/>
              </p:nvSpPr>
              <p:spPr>
                <a:xfrm flipV="1">
                  <a:off x="7205760" y="2921040"/>
                  <a:ext cx="102960" cy="554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1" name=""/>
                <p:cNvSpPr/>
                <p:nvPr/>
              </p:nvSpPr>
              <p:spPr>
                <a:xfrm flipH="1" flipV="1">
                  <a:off x="7192800" y="2876040"/>
                  <a:ext cx="12888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132" name=""/>
                <p:cNvGrpSpPr/>
                <p:nvPr/>
              </p:nvGrpSpPr>
              <p:grpSpPr>
                <a:xfrm>
                  <a:off x="7079760" y="2787480"/>
                  <a:ext cx="125640" cy="101880"/>
                  <a:chOff x="7079760" y="2787480"/>
                  <a:chExt cx="125640" cy="101880"/>
                </a:xfrm>
              </p:grpSpPr>
              <p:sp>
                <p:nvSpPr>
                  <p:cNvPr id="3133" name=""/>
                  <p:cNvSpPr/>
                  <p:nvPr/>
                </p:nvSpPr>
                <p:spPr>
                  <a:xfrm flipH="1" flipV="1">
                    <a:off x="7079760" y="2828880"/>
                    <a:ext cx="125640" cy="604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4" name=""/>
                  <p:cNvSpPr/>
                  <p:nvPr/>
                </p:nvSpPr>
                <p:spPr>
                  <a:xfrm flipV="1">
                    <a:off x="7093080" y="2787480"/>
                    <a:ext cx="99720" cy="54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35" name=""/>
              <p:cNvGrpSpPr/>
              <p:nvPr/>
            </p:nvGrpSpPr>
            <p:grpSpPr>
              <a:xfrm>
                <a:off x="7079760" y="2608200"/>
                <a:ext cx="241920" cy="192240"/>
                <a:chOff x="7079760" y="2608200"/>
                <a:chExt cx="241920" cy="192240"/>
              </a:xfrm>
            </p:grpSpPr>
            <p:sp>
              <p:nvSpPr>
                <p:cNvPr id="3136" name=""/>
                <p:cNvSpPr/>
                <p:nvPr/>
              </p:nvSpPr>
              <p:spPr>
                <a:xfrm flipV="1">
                  <a:off x="7205760" y="2739960"/>
                  <a:ext cx="102960" cy="6048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7" name=""/>
                <p:cNvSpPr/>
                <p:nvPr/>
              </p:nvSpPr>
              <p:spPr>
                <a:xfrm flipH="1" flipV="1">
                  <a:off x="7192800" y="2701440"/>
                  <a:ext cx="128880" cy="507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138" name=""/>
                <p:cNvGrpSpPr/>
                <p:nvPr/>
              </p:nvGrpSpPr>
              <p:grpSpPr>
                <a:xfrm>
                  <a:off x="7079760" y="2608200"/>
                  <a:ext cx="125640" cy="106560"/>
                  <a:chOff x="7079760" y="2608200"/>
                  <a:chExt cx="125640" cy="106560"/>
                </a:xfrm>
              </p:grpSpPr>
              <p:sp>
                <p:nvSpPr>
                  <p:cNvPr id="3139" name=""/>
                  <p:cNvSpPr/>
                  <p:nvPr/>
                </p:nvSpPr>
                <p:spPr>
                  <a:xfrm flipH="1" flipV="1">
                    <a:off x="7079760" y="2655720"/>
                    <a:ext cx="125640" cy="590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0" name=""/>
                  <p:cNvSpPr/>
                  <p:nvPr/>
                </p:nvSpPr>
                <p:spPr>
                  <a:xfrm flipV="1">
                    <a:off x="7093080" y="2608200"/>
                    <a:ext cx="99720" cy="604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141" name=""/>
            <p:cNvGrpSpPr/>
            <p:nvPr/>
          </p:nvGrpSpPr>
          <p:grpSpPr>
            <a:xfrm>
              <a:off x="7079760" y="2255760"/>
              <a:ext cx="241920" cy="364680"/>
              <a:chOff x="7079760" y="2255760"/>
              <a:chExt cx="241920" cy="364680"/>
            </a:xfrm>
          </p:grpSpPr>
          <p:grpSp>
            <p:nvGrpSpPr>
              <p:cNvPr id="3142" name=""/>
              <p:cNvGrpSpPr/>
              <p:nvPr/>
            </p:nvGrpSpPr>
            <p:grpSpPr>
              <a:xfrm>
                <a:off x="7079760" y="2436480"/>
                <a:ext cx="241920" cy="183960"/>
                <a:chOff x="7079760" y="2436480"/>
                <a:chExt cx="241920" cy="183960"/>
              </a:xfrm>
            </p:grpSpPr>
            <p:sp>
              <p:nvSpPr>
                <p:cNvPr id="3143" name=""/>
                <p:cNvSpPr/>
                <p:nvPr/>
              </p:nvSpPr>
              <p:spPr>
                <a:xfrm flipV="1">
                  <a:off x="7205760" y="2566800"/>
                  <a:ext cx="102960" cy="536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4" name=""/>
                <p:cNvSpPr/>
                <p:nvPr/>
              </p:nvSpPr>
              <p:spPr>
                <a:xfrm flipH="1" flipV="1">
                  <a:off x="7192800" y="2522160"/>
                  <a:ext cx="12888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145" name=""/>
                <p:cNvGrpSpPr/>
                <p:nvPr/>
              </p:nvGrpSpPr>
              <p:grpSpPr>
                <a:xfrm>
                  <a:off x="7079760" y="2436480"/>
                  <a:ext cx="125640" cy="98280"/>
                  <a:chOff x="7079760" y="2436480"/>
                  <a:chExt cx="125640" cy="98280"/>
                </a:xfrm>
              </p:grpSpPr>
              <p:sp>
                <p:nvSpPr>
                  <p:cNvPr id="3146" name=""/>
                  <p:cNvSpPr/>
                  <p:nvPr/>
                </p:nvSpPr>
                <p:spPr>
                  <a:xfrm flipH="1" flipV="1">
                    <a:off x="7079760" y="2476080"/>
                    <a:ext cx="125640" cy="586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7" name=""/>
                  <p:cNvSpPr/>
                  <p:nvPr/>
                </p:nvSpPr>
                <p:spPr>
                  <a:xfrm flipV="1">
                    <a:off x="7093080" y="2436480"/>
                    <a:ext cx="99720" cy="52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48" name=""/>
              <p:cNvGrpSpPr/>
              <p:nvPr/>
            </p:nvGrpSpPr>
            <p:grpSpPr>
              <a:xfrm>
                <a:off x="7079760" y="2255760"/>
                <a:ext cx="241920" cy="193320"/>
                <a:chOff x="7079760" y="2255760"/>
                <a:chExt cx="241920" cy="193320"/>
              </a:xfrm>
            </p:grpSpPr>
            <p:sp>
              <p:nvSpPr>
                <p:cNvPr id="3149" name=""/>
                <p:cNvSpPr/>
                <p:nvPr/>
              </p:nvSpPr>
              <p:spPr>
                <a:xfrm flipV="1">
                  <a:off x="7205760" y="2391840"/>
                  <a:ext cx="102960" cy="57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0" name=""/>
                <p:cNvSpPr/>
                <p:nvPr/>
              </p:nvSpPr>
              <p:spPr>
                <a:xfrm flipH="1" flipV="1">
                  <a:off x="7192800" y="2344680"/>
                  <a:ext cx="128880" cy="6048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151" name=""/>
                <p:cNvGrpSpPr/>
                <p:nvPr/>
              </p:nvGrpSpPr>
              <p:grpSpPr>
                <a:xfrm>
                  <a:off x="7079760" y="2255760"/>
                  <a:ext cx="125640" cy="101160"/>
                  <a:chOff x="7079760" y="2255760"/>
                  <a:chExt cx="125640" cy="101160"/>
                </a:xfrm>
              </p:grpSpPr>
              <p:sp>
                <p:nvSpPr>
                  <p:cNvPr id="3152" name=""/>
                  <p:cNvSpPr/>
                  <p:nvPr/>
                </p:nvSpPr>
                <p:spPr>
                  <a:xfrm flipH="1" flipV="1">
                    <a:off x="7079760" y="2303280"/>
                    <a:ext cx="125640" cy="53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3" name=""/>
                  <p:cNvSpPr/>
                  <p:nvPr/>
                </p:nvSpPr>
                <p:spPr>
                  <a:xfrm flipV="1">
                    <a:off x="7093080" y="2255760"/>
                    <a:ext cx="99720" cy="604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154" name=""/>
            <p:cNvSpPr/>
            <p:nvPr/>
          </p:nvSpPr>
          <p:spPr>
            <a:xfrm>
              <a:off x="7199280" y="3681360"/>
              <a:ext cx="0" cy="12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7199280" y="2139840"/>
              <a:ext cx="0" cy="1159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6" name=""/>
          <p:cNvSpPr/>
          <p:nvPr/>
        </p:nvSpPr>
        <p:spPr>
          <a:xfrm>
            <a:off x="7023240" y="2133720"/>
            <a:ext cx="35532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7" name=""/>
          <p:cNvSpPr/>
          <p:nvPr/>
        </p:nvSpPr>
        <p:spPr>
          <a:xfrm>
            <a:off x="7475040" y="4626000"/>
            <a:ext cx="13950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y = 0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8" name=""/>
          <p:cNvSpPr/>
          <p:nvPr/>
        </p:nvSpPr>
        <p:spPr>
          <a:xfrm flipV="1">
            <a:off x="7924680" y="2127240"/>
            <a:ext cx="0" cy="85104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9" name=""/>
          <p:cNvSpPr/>
          <p:nvPr/>
        </p:nvSpPr>
        <p:spPr>
          <a:xfrm>
            <a:off x="7624080" y="2112840"/>
            <a:ext cx="963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j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0" name=""/>
          <p:cNvSpPr/>
          <p:nvPr/>
        </p:nvSpPr>
        <p:spPr>
          <a:xfrm>
            <a:off x="6481080" y="272268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1" name=""/>
          <p:cNvGrpSpPr/>
          <p:nvPr/>
        </p:nvGrpSpPr>
        <p:grpSpPr>
          <a:xfrm>
            <a:off x="6719400" y="3797280"/>
            <a:ext cx="964800" cy="363240"/>
            <a:chOff x="6719400" y="3797280"/>
            <a:chExt cx="964800" cy="363240"/>
          </a:xfrm>
        </p:grpSpPr>
        <p:sp>
          <p:nvSpPr>
            <p:cNvPr id="3162" name=""/>
            <p:cNvSpPr/>
            <p:nvPr/>
          </p:nvSpPr>
          <p:spPr>
            <a:xfrm>
              <a:off x="7016760" y="3816360"/>
              <a:ext cx="368280" cy="29196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6719400" y="3797280"/>
              <a:ext cx="964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164" name=""/>
          <p:cNvGraphicFramePr/>
          <p:nvPr/>
        </p:nvGraphicFramePr>
        <p:xfrm>
          <a:off x="1403280" y="2444760"/>
          <a:ext cx="166860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444760"/>
                    <a:ext cx="16686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6" name=""/>
          <p:cNvSpPr/>
          <p:nvPr/>
        </p:nvSpPr>
        <p:spPr>
          <a:xfrm>
            <a:off x="3015720" y="2584440"/>
            <a:ext cx="33602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ون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E=K+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پایستار اس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2000"/>
            </a:b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همواره درست اس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7" name=""/>
          <p:cNvSpPr/>
          <p:nvPr/>
        </p:nvSpPr>
        <p:spPr>
          <a:xfrm>
            <a:off x="7016760" y="4654440"/>
            <a:ext cx="368280" cy="292320"/>
          </a:xfrm>
          <a:prstGeom prst="rect">
            <a:avLst/>
          </a:prstGeom>
          <a:noFill/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8" name=""/>
          <p:cNvSpPr/>
          <p:nvPr/>
        </p:nvSpPr>
        <p:spPr>
          <a:xfrm>
            <a:off x="7016760" y="5492880"/>
            <a:ext cx="368280" cy="291960"/>
          </a:xfrm>
          <a:prstGeom prst="rect">
            <a:avLst/>
          </a:prstGeom>
          <a:noFill/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9" name=""/>
          <p:cNvSpPr/>
          <p:nvPr/>
        </p:nvSpPr>
        <p:spPr>
          <a:xfrm>
            <a:off x="7472520" y="3787920"/>
            <a:ext cx="13536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y = d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0" name=""/>
          <p:cNvSpPr/>
          <p:nvPr/>
        </p:nvSpPr>
        <p:spPr>
          <a:xfrm>
            <a:off x="7472160" y="5464080"/>
            <a:ext cx="14389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y = -d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1" name=""/>
          <p:cNvSpPr/>
          <p:nvPr/>
        </p:nvSpPr>
        <p:spPr>
          <a:xfrm>
            <a:off x="6858000" y="4578480"/>
            <a:ext cx="0" cy="52056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2" name=""/>
          <p:cNvSpPr/>
          <p:nvPr/>
        </p:nvSpPr>
        <p:spPr>
          <a:xfrm>
            <a:off x="6099840" y="462600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3" name=""/>
          <p:cNvSpPr/>
          <p:nvPr/>
        </p:nvSpPr>
        <p:spPr>
          <a:xfrm>
            <a:off x="7620120" y="3968640"/>
            <a:ext cx="0" cy="1663920"/>
          </a:xfrm>
          <a:prstGeom prst="line">
            <a:avLst/>
          </a:prstGeom>
          <a:ln w="12600">
            <a:solidFill>
              <a:srgbClr val="f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4" name=""/>
              <p:cNvSpPr txBox="1"/>
              <p:nvPr/>
            </p:nvSpPr>
            <p:spPr>
              <a:xfrm>
                <a:off x="1536840" y="1608120"/>
                <a:ext cx="19382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75" name=""/>
          <p:cNvSpPr/>
          <p:nvPr/>
        </p:nvSpPr>
        <p:spPr>
          <a:xfrm>
            <a:off x="559440" y="4321080"/>
            <a:ext cx="4488120" cy="11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نرژی شامل دوجمل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y = d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ا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نرژی پتانسیل است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y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نرژی جنبشی اس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6" name=""/>
              <p:cNvSpPr txBox="1"/>
              <p:nvPr/>
            </p:nvSpPr>
            <p:spPr>
              <a:xfrm>
                <a:off x="1523880" y="5486400"/>
                <a:ext cx="232416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177" name=""/>
          <p:cNvGrpSpPr/>
          <p:nvPr/>
        </p:nvGrpSpPr>
        <p:grpSpPr>
          <a:xfrm>
            <a:off x="3587760" y="5486400"/>
            <a:ext cx="2166840" cy="679320"/>
            <a:chOff x="3587760" y="5486400"/>
            <a:chExt cx="2166840" cy="679320"/>
          </a:xfrm>
        </p:grpSpPr>
        <mc:AlternateContent>
          <mc:Choice xmlns:a14="http://schemas.microsoft.com/office/drawing/2010/main" Requires="a14">
            <p:sp>
              <p:nvSpPr>
                <p:cNvPr id="3178" name=""/>
                <p:cNvSpPr txBox="1"/>
                <p:nvPr/>
              </p:nvSpPr>
              <p:spPr>
                <a:xfrm>
                  <a:off x="4419720" y="5486400"/>
                  <a:ext cx="1334880" cy="67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t xml:space="preserve">d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k</m:t>
                              </m:r>
                            </m:num>
                            <m:den>
                              <m:r>
                                <m:t xml:space="preserve">m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3179" name=""/>
            <p:cNvSpPr/>
            <p:nvPr/>
          </p:nvSpPr>
          <p:spPr>
            <a:xfrm>
              <a:off x="3587760" y="5568840"/>
              <a:ext cx="444600" cy="368280"/>
            </a:xfrm>
            <a:prstGeom prst="rightArrow">
              <a:avLst>
                <a:gd name="adj1" fmla="val 50000"/>
                <a:gd name="adj2" fmla="val 60367"/>
              </a:avLst>
            </a:prstGeom>
            <a:solidFill>
              <a:srgbClr val="fafd00"/>
            </a:solidFill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80" name=""/>
              <p:cNvSpPr txBox="1"/>
              <p:nvPr/>
            </p:nvSpPr>
            <p:spPr>
              <a:xfrm>
                <a:off x="1908000" y="3397320"/>
                <a:ext cx="30592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81" name=""/>
          <p:cNvSpPr/>
          <p:nvPr/>
        </p:nvSpPr>
        <p:spPr>
          <a:xfrm>
            <a:off x="3009960" y="161784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ff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توان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16256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4000"/>
          </a:bodyPr>
          <a:p>
            <a:pPr marL="96840" indent="-96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یدیم که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W =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0" lang="en-US" sz="5400" spc="-1" strike="noStrike" baseline="8000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32920" indent="-774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این عبارت  در برگیرنده زمان نی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5" name=""/>
          <p:cNvSpPr/>
          <p:nvPr/>
        </p:nvSpPr>
        <p:spPr>
          <a:xfrm>
            <a:off x="6300720" y="5907240"/>
            <a:ext cx="371520" cy="236520"/>
          </a:xfrm>
          <a:prstGeom prst="ellipse">
            <a:avLst/>
          </a:prstGeom>
          <a:noFill/>
          <a:ln w="12600">
            <a:solidFill>
              <a:srgbClr val="00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6" name=""/>
          <p:cNvSpPr/>
          <p:nvPr/>
        </p:nvSpPr>
        <p:spPr>
          <a:xfrm flipV="1">
            <a:off x="7319880" y="4632480"/>
            <a:ext cx="139680" cy="78408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7" name=""/>
          <p:cNvSpPr/>
          <p:nvPr/>
        </p:nvSpPr>
        <p:spPr>
          <a:xfrm>
            <a:off x="6705360" y="4521240"/>
            <a:ext cx="90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8" name=""/>
          <p:cNvSpPr/>
          <p:nvPr/>
        </p:nvSpPr>
        <p:spPr>
          <a:xfrm>
            <a:off x="7552800" y="4916520"/>
            <a:ext cx="1007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9" name=""/>
          <p:cNvSpPr/>
          <p:nvPr/>
        </p:nvSpPr>
        <p:spPr>
          <a:xfrm>
            <a:off x="7999560" y="4581360"/>
            <a:ext cx="369720" cy="236880"/>
          </a:xfrm>
          <a:prstGeom prst="ellipse">
            <a:avLst/>
          </a:prstGeom>
          <a:noFill/>
          <a:ln w="12600">
            <a:solidFill>
              <a:srgbClr val="00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0" name=""/>
          <p:cNvSpPr/>
          <p:nvPr/>
        </p:nvSpPr>
        <p:spPr>
          <a:xfrm flipV="1">
            <a:off x="6662880" y="4797360"/>
            <a:ext cx="1344600" cy="113040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1" name=""/>
          <p:cNvSpPr/>
          <p:nvPr/>
        </p:nvSpPr>
        <p:spPr>
          <a:xfrm>
            <a:off x="7108920" y="5313240"/>
            <a:ext cx="369720" cy="23652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2" name=""/>
          <p:cNvSpPr/>
          <p:nvPr/>
        </p:nvSpPr>
        <p:spPr>
          <a:xfrm flipV="1">
            <a:off x="7367760" y="5609880"/>
            <a:ext cx="596880" cy="469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3" name=""/>
          <p:cNvSpPr/>
          <p:nvPr/>
        </p:nvSpPr>
        <p:spPr>
          <a:xfrm>
            <a:off x="7365600" y="590076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4" name=""/>
              <p:cNvSpPr txBox="1"/>
              <p:nvPr/>
            </p:nvSpPr>
            <p:spPr>
              <a:xfrm>
                <a:off x="2658960" y="2747880"/>
                <a:ext cx="160200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95" name=""/>
          <p:cNvSpPr/>
          <p:nvPr/>
        </p:nvSpPr>
        <p:spPr>
          <a:xfrm>
            <a:off x="4763880" y="2811600"/>
            <a:ext cx="3506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وان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آهنگ انجام کار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6" name=""/>
          <p:cNvSpPr/>
          <p:nvPr/>
        </p:nvSpPr>
        <p:spPr>
          <a:xfrm>
            <a:off x="1582560" y="3849840"/>
            <a:ext cx="580248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گر نیرو به زمان بستگی نداشته باشد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W/dt =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0" lang="en-US" sz="5400" spc="-1" strike="noStrike" baseline="8000">
                <a:solidFill>
                  <a:srgbClr val="ffffff"/>
                </a:solidFill>
                <a:latin typeface="Arial"/>
              </a:rPr>
              <a:t>.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d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/dt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0" lang="en-US" sz="5400" spc="-1" strike="noStrike" baseline="8000">
                <a:solidFill>
                  <a:srgbClr val="ffffff"/>
                </a:solidFill>
                <a:latin typeface="Arial"/>
              </a:rPr>
              <a:t>.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P =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0" lang="en-US" sz="5400" spc="-1" strike="noStrike" baseline="8000">
                <a:solidFill>
                  <a:srgbClr val="ffffff"/>
                </a:solidFill>
                <a:latin typeface="Arial"/>
              </a:rPr>
              <a:t>.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7" name=""/>
          <p:cNvSpPr/>
          <p:nvPr/>
        </p:nvSpPr>
        <p:spPr>
          <a:xfrm>
            <a:off x="689400" y="5083200"/>
            <a:ext cx="488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اهای توان 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J/sec = N-m/sec = Watts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8" name=""/>
          <p:cNvSpPr/>
          <p:nvPr/>
        </p:nvSpPr>
        <p:spPr>
          <a:xfrm>
            <a:off x="2349360" y="2517840"/>
            <a:ext cx="1844640" cy="1042920"/>
          </a:xfrm>
          <a:prstGeom prst="bevel">
            <a:avLst>
              <a:gd name="adj" fmla="val 12500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9" name=""/>
          <p:cNvSpPr/>
          <p:nvPr/>
        </p:nvSpPr>
        <p:spPr>
          <a:xfrm>
            <a:off x="1363680" y="4264200"/>
            <a:ext cx="976320" cy="485640"/>
          </a:xfrm>
          <a:prstGeom prst="rightArrow">
            <a:avLst>
              <a:gd name="adj1" fmla="val 49676"/>
              <a:gd name="adj2" fmla="val 50343"/>
            </a:avLst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lin ang="5400000"/>
          </a:gradFill>
          <a:ln w="7632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0" name=""/>
          <p:cNvSpPr/>
          <p:nvPr/>
        </p:nvSpPr>
        <p:spPr>
          <a:xfrm>
            <a:off x="5497560" y="4178160"/>
            <a:ext cx="1495440" cy="538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1" name=""/>
          <p:cNvSpPr/>
          <p:nvPr/>
        </p:nvSpPr>
        <p:spPr>
          <a:xfrm>
            <a:off x="898560" y="4896000"/>
            <a:ext cx="4557600" cy="91440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توان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05" name="PlaceHolder 2"/>
          <p:cNvSpPr>
            <a:spLocks noGrp="1"/>
          </p:cNvSpPr>
          <p:nvPr>
            <p:ph/>
          </p:nvPr>
        </p:nvSpPr>
        <p:spPr>
          <a:xfrm>
            <a:off x="4280040" y="1388880"/>
            <a:ext cx="4194000" cy="192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marL="185760" indent="-1857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 جر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2000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را به کمک یک ارابه و قرقره از سطحی به شیب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30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جه با سرع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i/hr</a:t>
            </a:r>
            <a:r>
              <a:rPr b="0" i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بالا می بریم</a:t>
            </a:r>
            <a:br>
              <a:rPr sz="2000"/>
            </a:b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ه توانی بکار می رود؟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5760" indent="-1857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وان برابر است با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P =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0" lang="en-US" sz="5400" spc="-1" strike="noStrike" baseline="8000">
                <a:solidFill>
                  <a:srgbClr val="ffffff"/>
                </a:solidFill>
                <a:latin typeface="Arial"/>
              </a:rPr>
              <a:t>.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T</a:t>
            </a:r>
            <a:r>
              <a:rPr b="0" lang="en-US" sz="5400" spc="-1" strike="noStrike" baseline="8000">
                <a:solidFill>
                  <a:srgbClr val="ffffff"/>
                </a:solidFill>
                <a:latin typeface="Arial"/>
              </a:rPr>
              <a:t>.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1" i="1" lang="fa-IR" sz="20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 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fa-IR" sz="2000" spc="-1" strike="noStrike">
                <a:solidFill>
                  <a:srgbClr val="00ff00"/>
                </a:solidFill>
                <a:latin typeface="Arial"/>
                <a:ea typeface="Arial"/>
              </a:rPr>
              <a:t> 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fa-IR" sz="20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fa-IR" sz="20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5760" indent="-1857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ون بالا بردن بدون شتاب انجام می کیرد لذا در جهت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5680" indent="0" algn="ct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T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- mg si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5680" indent="0" algn="ct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T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mg si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06" name=""/>
          <p:cNvGrpSpPr/>
          <p:nvPr/>
        </p:nvGrpSpPr>
        <p:grpSpPr>
          <a:xfrm>
            <a:off x="671400" y="2043000"/>
            <a:ext cx="3796560" cy="2717640"/>
            <a:chOff x="671400" y="2043000"/>
            <a:chExt cx="3796560" cy="2717640"/>
          </a:xfrm>
        </p:grpSpPr>
        <p:sp>
          <p:nvSpPr>
            <p:cNvPr id="3207" name=""/>
            <p:cNvSpPr/>
            <p:nvPr/>
          </p:nvSpPr>
          <p:spPr>
            <a:xfrm flipV="1">
              <a:off x="684000" y="3246120"/>
              <a:ext cx="2749680" cy="1089000"/>
            </a:xfrm>
            <a:prstGeom prst="line">
              <a:avLst/>
            </a:prstGeom>
            <a:ln w="25560">
              <a:solidFill>
                <a:srgbClr val="767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 rot="20340000">
              <a:off x="1217520" y="3868560"/>
              <a:ext cx="177480" cy="177840"/>
            </a:xfrm>
            <a:prstGeom prst="ellipse">
              <a:avLst/>
            </a:prstGeom>
            <a:noFill/>
            <a:ln w="507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 rot="20340000">
              <a:off x="1715760" y="3678120"/>
              <a:ext cx="177840" cy="177840"/>
            </a:xfrm>
            <a:prstGeom prst="ellipse">
              <a:avLst/>
            </a:prstGeom>
            <a:noFill/>
            <a:ln w="507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 rot="20340000">
              <a:off x="960120" y="3538440"/>
              <a:ext cx="1054080" cy="29196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 rot="20340000">
              <a:off x="1155600" y="3254040"/>
              <a:ext cx="44424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671400" y="4349520"/>
              <a:ext cx="21970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1355040" y="4024080"/>
              <a:ext cx="885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 flipV="1">
              <a:off x="1680840" y="3028320"/>
              <a:ext cx="368280" cy="1652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1350360" y="272880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1503000" y="3676680"/>
              <a:ext cx="0" cy="102852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1281600" y="4397400"/>
              <a:ext cx="1176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g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2112480" y="2867040"/>
              <a:ext cx="90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ff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 flipV="1">
              <a:off x="1985760" y="2876400"/>
              <a:ext cx="1601640" cy="612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3471480" y="2860560"/>
              <a:ext cx="416160" cy="3873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3486240" y="2762280"/>
              <a:ext cx="50112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 flipV="1">
              <a:off x="2000160" y="3295080"/>
              <a:ext cx="417240" cy="19044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3057840" y="3236760"/>
              <a:ext cx="1410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afd00"/>
                  </a:solidFill>
                  <a:latin typeface="Arial"/>
                  <a:cs typeface="Arial"/>
                </a:rPr>
                <a:t>قرقره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2118960" y="2298600"/>
              <a:ext cx="139680" cy="444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5" name=""/>
            <p:cNvSpPr/>
            <p:nvPr/>
          </p:nvSpPr>
          <p:spPr>
            <a:xfrm flipV="1">
              <a:off x="2271600" y="2590200"/>
              <a:ext cx="444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2421360" y="234792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1583280" y="204300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توان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1547640" y="1633680"/>
            <a:ext cx="682488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"/>
          </a:bodyPr>
          <a:p>
            <a:pPr marL="22680" indent="-226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T</a:t>
            </a:r>
            <a:r>
              <a:rPr b="0" lang="en-US" sz="5400" spc="-1" strike="noStrike" baseline="8000">
                <a:solidFill>
                  <a:srgbClr val="ffffff"/>
                </a:solidFill>
                <a:latin typeface="Arial"/>
              </a:rPr>
              <a:t>.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T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br>
              <a:rPr sz="2000"/>
            </a:b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ون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وازی با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1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72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80" indent="-226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ون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mgv si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   لذا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72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80" indent="0" algn="ct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 = 20 mi/hr =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8.94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m/s</a:t>
            </a:r>
            <a:br>
              <a:rPr sz="2000"/>
            </a:b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g =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9.8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m/s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br>
              <a:rPr sz="2000"/>
            </a:b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 =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2000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kg</a:t>
            </a:r>
            <a:br>
              <a:rPr sz="2000"/>
            </a:b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si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si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3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0.5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80" indent="0" algn="ct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P = (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2000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kg)(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9.8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m/s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)(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8.94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m/s)(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0.5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87,700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2" name=""/>
          <p:cNvGrpSpPr/>
          <p:nvPr/>
        </p:nvGrpSpPr>
        <p:grpSpPr>
          <a:xfrm>
            <a:off x="755640" y="507960"/>
            <a:ext cx="3796560" cy="2717640"/>
            <a:chOff x="755640" y="507960"/>
            <a:chExt cx="3796560" cy="2717640"/>
          </a:xfrm>
        </p:grpSpPr>
        <p:sp>
          <p:nvSpPr>
            <p:cNvPr id="3233" name=""/>
            <p:cNvSpPr/>
            <p:nvPr/>
          </p:nvSpPr>
          <p:spPr>
            <a:xfrm flipV="1">
              <a:off x="768240" y="1711080"/>
              <a:ext cx="2749680" cy="1089000"/>
            </a:xfrm>
            <a:prstGeom prst="line">
              <a:avLst/>
            </a:prstGeom>
            <a:ln w="25560">
              <a:solidFill>
                <a:srgbClr val="767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4" name=""/>
            <p:cNvSpPr/>
            <p:nvPr/>
          </p:nvSpPr>
          <p:spPr>
            <a:xfrm rot="20340000">
              <a:off x="1301760" y="2333520"/>
              <a:ext cx="177480" cy="177840"/>
            </a:xfrm>
            <a:prstGeom prst="ellipse">
              <a:avLst/>
            </a:prstGeom>
            <a:noFill/>
            <a:ln w="507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5" name=""/>
            <p:cNvSpPr/>
            <p:nvPr/>
          </p:nvSpPr>
          <p:spPr>
            <a:xfrm rot="20340000">
              <a:off x="1800000" y="2143080"/>
              <a:ext cx="177840" cy="177840"/>
            </a:xfrm>
            <a:prstGeom prst="ellipse">
              <a:avLst/>
            </a:prstGeom>
            <a:noFill/>
            <a:ln w="507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6" name=""/>
            <p:cNvSpPr/>
            <p:nvPr/>
          </p:nvSpPr>
          <p:spPr>
            <a:xfrm rot="20340000">
              <a:off x="1044360" y="2003400"/>
              <a:ext cx="1054080" cy="29196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7" name=""/>
            <p:cNvSpPr/>
            <p:nvPr/>
          </p:nvSpPr>
          <p:spPr>
            <a:xfrm rot="20340000">
              <a:off x="1239840" y="1719000"/>
              <a:ext cx="44424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755640" y="2814480"/>
              <a:ext cx="21970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1439280" y="2489040"/>
              <a:ext cx="885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0" name=""/>
            <p:cNvSpPr/>
            <p:nvPr/>
          </p:nvSpPr>
          <p:spPr>
            <a:xfrm flipV="1">
              <a:off x="1765080" y="1493280"/>
              <a:ext cx="368280" cy="1652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1434600" y="119376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1587240" y="2141640"/>
              <a:ext cx="0" cy="102852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1365840" y="2862360"/>
              <a:ext cx="1176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g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2196720" y="1332000"/>
              <a:ext cx="90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ff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 flipV="1">
              <a:off x="2070000" y="1341360"/>
              <a:ext cx="1601640" cy="612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3555720" y="1325520"/>
              <a:ext cx="416160" cy="3873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3570480" y="1227240"/>
              <a:ext cx="50112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 flipV="1">
              <a:off x="2084400" y="1760040"/>
              <a:ext cx="417240" cy="19044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3142080" y="1701720"/>
              <a:ext cx="1410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afd00"/>
                  </a:solidFill>
                  <a:latin typeface="Arial"/>
                  <a:cs typeface="Arial"/>
                </a:rPr>
                <a:t>قرقره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2203200" y="763560"/>
              <a:ext cx="139680" cy="444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 flipV="1">
              <a:off x="2355840" y="1055160"/>
              <a:ext cx="444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2505600" y="81288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1667520" y="5079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یاد آوری درس امروز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5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مسائلی درباره  قضیه کارو انرژی جنبش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پرتاب با فن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سرعت فرا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سئله حلق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فنرهای قائ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عریف توان با مثال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کتاب درسی و مسائل آنرا به دقت بخوانید!!</a:t>
            </a:r>
            <a:r>
              <a:rPr b="0" lang="fa-IR" sz="2000" spc="-1" strike="noStrike">
                <a:solidFill>
                  <a:srgbClr val="00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درس امروز ما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27524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سائلی درباره  قضیه کارو انرژی جنبش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پرتاب با فن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سرعت فرار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مسئله حلق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فنرهای قائم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عریف توان با مثال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3863520" y="5016240"/>
            <a:ext cx="916920" cy="1161000"/>
            <a:chOff x="3863520" y="5016240"/>
            <a:chExt cx="916920" cy="1161000"/>
          </a:xfrm>
        </p:grpSpPr>
        <p:grpSp>
          <p:nvGrpSpPr>
            <p:cNvPr id="59" name=""/>
            <p:cNvGrpSpPr/>
            <p:nvPr/>
          </p:nvGrpSpPr>
          <p:grpSpPr>
            <a:xfrm>
              <a:off x="3863520" y="5016240"/>
              <a:ext cx="884520" cy="1103400"/>
              <a:chOff x="3863520" y="5016240"/>
              <a:chExt cx="884520" cy="1103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3924000" y="5059440"/>
                <a:ext cx="217440" cy="314280"/>
                <a:chOff x="3924000" y="5059440"/>
                <a:chExt cx="217440" cy="314280"/>
              </a:xfrm>
            </p:grpSpPr>
            <p:grpSp>
              <p:nvGrpSpPr>
                <p:cNvPr id="61" name=""/>
                <p:cNvGrpSpPr/>
                <p:nvPr/>
              </p:nvGrpSpPr>
              <p:grpSpPr>
                <a:xfrm>
                  <a:off x="3924000" y="5059440"/>
                  <a:ext cx="124200" cy="198360"/>
                  <a:chOff x="3924000" y="5059440"/>
                  <a:chExt cx="124200" cy="198360"/>
                </a:xfrm>
              </p:grpSpPr>
              <p:sp>
                <p:nvSpPr>
                  <p:cNvPr id="62" name=""/>
                  <p:cNvSpPr/>
                  <p:nvPr/>
                </p:nvSpPr>
                <p:spPr>
                  <a:xfrm flipV="1">
                    <a:off x="3946320" y="5071680"/>
                    <a:ext cx="88920" cy="208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 flipH="1">
                    <a:off x="3978360" y="5059440"/>
                    <a:ext cx="69840" cy="1047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4" name=""/>
                  <p:cNvGrpSpPr/>
                  <p:nvPr/>
                </p:nvGrpSpPr>
                <p:grpSpPr>
                  <a:xfrm>
                    <a:off x="3924000" y="5151600"/>
                    <a:ext cx="100080" cy="106200"/>
                    <a:chOff x="3924000" y="5151600"/>
                    <a:chExt cx="100080" cy="106200"/>
                  </a:xfrm>
                </p:grpSpPr>
                <p:sp>
                  <p:nvSpPr>
                    <p:cNvPr id="65" name=""/>
                    <p:cNvSpPr/>
                    <p:nvPr/>
                  </p:nvSpPr>
                  <p:spPr>
                    <a:xfrm flipH="1">
                      <a:off x="3924000" y="5151600"/>
                      <a:ext cx="66600" cy="1062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" name=""/>
                    <p:cNvSpPr/>
                    <p:nvPr/>
                  </p:nvSpPr>
                  <p:spPr>
                    <a:xfrm flipV="1">
                      <a:off x="3936960" y="5222520"/>
                      <a:ext cx="87120" cy="223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7" name=""/>
                <p:cNvGrpSpPr/>
                <p:nvPr/>
              </p:nvGrpSpPr>
              <p:grpSpPr>
                <a:xfrm>
                  <a:off x="4016160" y="5178240"/>
                  <a:ext cx="125280" cy="195480"/>
                  <a:chOff x="4016160" y="5178240"/>
                  <a:chExt cx="125280" cy="19548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 flipV="1">
                    <a:off x="4037040" y="5190840"/>
                    <a:ext cx="91800" cy="190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 flipH="1">
                    <a:off x="4069800" y="5178240"/>
                    <a:ext cx="71640" cy="1029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0" name=""/>
                  <p:cNvGrpSpPr/>
                  <p:nvPr/>
                </p:nvGrpSpPr>
                <p:grpSpPr>
                  <a:xfrm>
                    <a:off x="4016160" y="5268960"/>
                    <a:ext cx="101880" cy="104760"/>
                    <a:chOff x="4016160" y="5268960"/>
                    <a:chExt cx="101880" cy="104760"/>
                  </a:xfrm>
                </p:grpSpPr>
                <p:sp>
                  <p:nvSpPr>
                    <p:cNvPr id="71" name=""/>
                    <p:cNvSpPr/>
                    <p:nvPr/>
                  </p:nvSpPr>
                  <p:spPr>
                    <a:xfrm flipH="1">
                      <a:off x="4016160" y="5268960"/>
                      <a:ext cx="66960" cy="1047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" name=""/>
                    <p:cNvSpPr/>
                    <p:nvPr/>
                  </p:nvSpPr>
                  <p:spPr>
                    <a:xfrm flipV="1">
                      <a:off x="4029120" y="5341680"/>
                      <a:ext cx="88920" cy="190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3" name=""/>
              <p:cNvGrpSpPr/>
              <p:nvPr/>
            </p:nvGrpSpPr>
            <p:grpSpPr>
              <a:xfrm>
                <a:off x="4106880" y="5295960"/>
                <a:ext cx="217440" cy="310680"/>
                <a:chOff x="4106880" y="5295960"/>
                <a:chExt cx="217440" cy="310680"/>
              </a:xfrm>
            </p:grpSpPr>
            <p:grpSp>
              <p:nvGrpSpPr>
                <p:cNvPr id="74" name=""/>
                <p:cNvGrpSpPr/>
                <p:nvPr/>
              </p:nvGrpSpPr>
              <p:grpSpPr>
                <a:xfrm>
                  <a:off x="4106880" y="5295960"/>
                  <a:ext cx="126720" cy="195120"/>
                  <a:chOff x="4106880" y="5295960"/>
                  <a:chExt cx="126720" cy="19512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 flipV="1">
                    <a:off x="4130640" y="5308200"/>
                    <a:ext cx="90360" cy="208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 flipH="1">
                    <a:off x="4163400" y="5295960"/>
                    <a:ext cx="70200" cy="1033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7" name=""/>
                  <p:cNvGrpSpPr/>
                  <p:nvPr/>
                </p:nvGrpSpPr>
                <p:grpSpPr>
                  <a:xfrm>
                    <a:off x="4106880" y="5386320"/>
                    <a:ext cx="101520" cy="104760"/>
                    <a:chOff x="4106880" y="5386320"/>
                    <a:chExt cx="101520" cy="104760"/>
                  </a:xfrm>
                </p:grpSpPr>
                <p:sp>
                  <p:nvSpPr>
                    <p:cNvPr id="78" name=""/>
                    <p:cNvSpPr/>
                    <p:nvPr/>
                  </p:nvSpPr>
                  <p:spPr>
                    <a:xfrm flipH="1">
                      <a:off x="4106880" y="5386320"/>
                      <a:ext cx="69840" cy="1047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" name=""/>
                    <p:cNvSpPr/>
                    <p:nvPr/>
                  </p:nvSpPr>
                  <p:spPr>
                    <a:xfrm flipV="1">
                      <a:off x="4119480" y="5457600"/>
                      <a:ext cx="88920" cy="205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0" name=""/>
                <p:cNvGrpSpPr/>
                <p:nvPr/>
              </p:nvGrpSpPr>
              <p:grpSpPr>
                <a:xfrm>
                  <a:off x="4196880" y="5413320"/>
                  <a:ext cx="127440" cy="193320"/>
                  <a:chOff x="4196880" y="5413320"/>
                  <a:chExt cx="127440" cy="1933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flipV="1">
                    <a:off x="4221000" y="5425920"/>
                    <a:ext cx="90720" cy="187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flipH="1">
                    <a:off x="4255920" y="5413320"/>
                    <a:ext cx="68400" cy="1047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3" name=""/>
                  <p:cNvGrpSpPr/>
                  <p:nvPr/>
                </p:nvGrpSpPr>
                <p:grpSpPr>
                  <a:xfrm>
                    <a:off x="4196880" y="5505120"/>
                    <a:ext cx="103680" cy="101520"/>
                    <a:chOff x="4196880" y="5505120"/>
                    <a:chExt cx="103680" cy="101520"/>
                  </a:xfrm>
                </p:grpSpPr>
                <p:sp>
                  <p:nvSpPr>
                    <p:cNvPr id="84" name=""/>
                    <p:cNvSpPr/>
                    <p:nvPr/>
                  </p:nvSpPr>
                  <p:spPr>
                    <a:xfrm flipH="1">
                      <a:off x="4196880" y="5505120"/>
                      <a:ext cx="71640" cy="1015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" name=""/>
                    <p:cNvSpPr/>
                    <p:nvPr/>
                  </p:nvSpPr>
                  <p:spPr>
                    <a:xfrm flipV="1">
                      <a:off x="4209840" y="5574960"/>
                      <a:ext cx="90720" cy="190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6" name=""/>
              <p:cNvGrpSpPr/>
              <p:nvPr/>
            </p:nvGrpSpPr>
            <p:grpSpPr>
              <a:xfrm>
                <a:off x="4290840" y="5529240"/>
                <a:ext cx="217440" cy="312840"/>
                <a:chOff x="4290840" y="5529240"/>
                <a:chExt cx="217440" cy="312840"/>
              </a:xfrm>
            </p:grpSpPr>
            <p:grpSp>
              <p:nvGrpSpPr>
                <p:cNvPr id="87" name=""/>
                <p:cNvGrpSpPr/>
                <p:nvPr/>
              </p:nvGrpSpPr>
              <p:grpSpPr>
                <a:xfrm>
                  <a:off x="4290840" y="5529240"/>
                  <a:ext cx="123480" cy="198360"/>
                  <a:chOff x="4290840" y="5529240"/>
                  <a:chExt cx="123480" cy="198360"/>
                </a:xfrm>
              </p:grpSpPr>
              <p:sp>
                <p:nvSpPr>
                  <p:cNvPr id="88" name=""/>
                  <p:cNvSpPr/>
                  <p:nvPr/>
                </p:nvSpPr>
                <p:spPr>
                  <a:xfrm flipV="1">
                    <a:off x="4313160" y="5541480"/>
                    <a:ext cx="88920" cy="208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 flipH="1">
                    <a:off x="4346280" y="5529240"/>
                    <a:ext cx="68040" cy="1047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0" name=""/>
                  <p:cNvGrpSpPr/>
                  <p:nvPr/>
                </p:nvGrpSpPr>
                <p:grpSpPr>
                  <a:xfrm>
                    <a:off x="4290840" y="5621400"/>
                    <a:ext cx="101520" cy="106200"/>
                    <a:chOff x="4290840" y="5621400"/>
                    <a:chExt cx="101520" cy="106200"/>
                  </a:xfrm>
                </p:grpSpPr>
                <p:sp>
                  <p:nvSpPr>
                    <p:cNvPr id="91" name=""/>
                    <p:cNvSpPr/>
                    <p:nvPr/>
                  </p:nvSpPr>
                  <p:spPr>
                    <a:xfrm flipH="1">
                      <a:off x="4290840" y="5621400"/>
                      <a:ext cx="68400" cy="1062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"/>
                    <p:cNvSpPr/>
                    <p:nvPr/>
                  </p:nvSpPr>
                  <p:spPr>
                    <a:xfrm flipV="1">
                      <a:off x="4303800" y="5692320"/>
                      <a:ext cx="88560" cy="223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3" name=""/>
                <p:cNvGrpSpPr/>
                <p:nvPr/>
              </p:nvGrpSpPr>
              <p:grpSpPr>
                <a:xfrm>
                  <a:off x="4381200" y="5649480"/>
                  <a:ext cx="127080" cy="192600"/>
                  <a:chOff x="4381200" y="5649480"/>
                  <a:chExt cx="127080" cy="192600"/>
                </a:xfrm>
              </p:grpSpPr>
              <p:sp>
                <p:nvSpPr>
                  <p:cNvPr id="94" name=""/>
                  <p:cNvSpPr/>
                  <p:nvPr/>
                </p:nvSpPr>
                <p:spPr>
                  <a:xfrm flipV="1">
                    <a:off x="4405320" y="5662440"/>
                    <a:ext cx="90360" cy="172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 flipH="1">
                    <a:off x="4437000" y="5649480"/>
                    <a:ext cx="71280" cy="1000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6" name=""/>
                  <p:cNvGrpSpPr/>
                  <p:nvPr/>
                </p:nvGrpSpPr>
                <p:grpSpPr>
                  <a:xfrm>
                    <a:off x="4381200" y="5737320"/>
                    <a:ext cx="103320" cy="104760"/>
                    <a:chOff x="4381200" y="5737320"/>
                    <a:chExt cx="103320" cy="104760"/>
                  </a:xfrm>
                </p:grpSpPr>
                <p:sp>
                  <p:nvSpPr>
                    <p:cNvPr id="97" name=""/>
                    <p:cNvSpPr/>
                    <p:nvPr/>
                  </p:nvSpPr>
                  <p:spPr>
                    <a:xfrm flipH="1">
                      <a:off x="4381200" y="5737320"/>
                      <a:ext cx="68040" cy="1047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 flipV="1">
                      <a:off x="4394160" y="5811480"/>
                      <a:ext cx="90360" cy="17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9" name=""/>
              <p:cNvGrpSpPr/>
              <p:nvPr/>
            </p:nvGrpSpPr>
            <p:grpSpPr>
              <a:xfrm>
                <a:off x="4474800" y="5765760"/>
                <a:ext cx="216360" cy="311040"/>
                <a:chOff x="4474800" y="5765760"/>
                <a:chExt cx="216360" cy="311040"/>
              </a:xfrm>
            </p:grpSpPr>
            <p:grpSp>
              <p:nvGrpSpPr>
                <p:cNvPr id="100" name=""/>
                <p:cNvGrpSpPr/>
                <p:nvPr/>
              </p:nvGrpSpPr>
              <p:grpSpPr>
                <a:xfrm>
                  <a:off x="4474800" y="5765760"/>
                  <a:ext cx="124200" cy="196920"/>
                  <a:chOff x="4474800" y="5765760"/>
                  <a:chExt cx="124200" cy="196920"/>
                </a:xfrm>
              </p:grpSpPr>
              <p:sp>
                <p:nvSpPr>
                  <p:cNvPr id="101" name=""/>
                  <p:cNvSpPr/>
                  <p:nvPr/>
                </p:nvSpPr>
                <p:spPr>
                  <a:xfrm flipV="1">
                    <a:off x="4497480" y="5778360"/>
                    <a:ext cx="88560" cy="205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 flipH="1">
                    <a:off x="4530600" y="5765760"/>
                    <a:ext cx="68400" cy="1033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4474800" y="5856480"/>
                    <a:ext cx="100440" cy="106200"/>
                    <a:chOff x="4474800" y="5856480"/>
                    <a:chExt cx="100440" cy="10620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flipH="1">
                      <a:off x="4474800" y="5856480"/>
                      <a:ext cx="68040" cy="1062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flipV="1">
                      <a:off x="4487760" y="5925960"/>
                      <a:ext cx="87480" cy="237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6" name=""/>
                <p:cNvGrpSpPr/>
                <p:nvPr/>
              </p:nvGrpSpPr>
              <p:grpSpPr>
                <a:xfrm>
                  <a:off x="4565160" y="5881320"/>
                  <a:ext cx="126000" cy="195480"/>
                  <a:chOff x="4565160" y="5881320"/>
                  <a:chExt cx="126000" cy="195480"/>
                </a:xfrm>
              </p:grpSpPr>
              <p:sp>
                <p:nvSpPr>
                  <p:cNvPr id="107" name=""/>
                  <p:cNvSpPr/>
                  <p:nvPr/>
                </p:nvSpPr>
                <p:spPr>
                  <a:xfrm flipV="1">
                    <a:off x="4587840" y="5893920"/>
                    <a:ext cx="90360" cy="190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H="1">
                    <a:off x="4624200" y="5881320"/>
                    <a:ext cx="66960" cy="108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9" name=""/>
                  <p:cNvGrpSpPr/>
                  <p:nvPr/>
                </p:nvGrpSpPr>
                <p:grpSpPr>
                  <a:xfrm>
                    <a:off x="4565160" y="5976720"/>
                    <a:ext cx="103680" cy="100080"/>
                    <a:chOff x="4565160" y="5976720"/>
                    <a:chExt cx="103680" cy="100080"/>
                  </a:xfrm>
                </p:grpSpPr>
                <p:sp>
                  <p:nvSpPr>
                    <p:cNvPr id="110" name=""/>
                    <p:cNvSpPr/>
                    <p:nvPr/>
                  </p:nvSpPr>
                  <p:spPr>
                    <a:xfrm flipH="1">
                      <a:off x="4565160" y="5976720"/>
                      <a:ext cx="71640" cy="1000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 flipV="1">
                      <a:off x="4578120" y="6046560"/>
                      <a:ext cx="90720" cy="172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12" name=""/>
              <p:cNvSpPr/>
              <p:nvPr/>
            </p:nvSpPr>
            <p:spPr>
              <a:xfrm flipH="1" flipV="1">
                <a:off x="3863520" y="5016240"/>
                <a:ext cx="82440" cy="763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flipV="1">
                <a:off x="4668840" y="6046560"/>
                <a:ext cx="79200" cy="730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 flipV="1" rot="19320000">
              <a:off x="4749840" y="6135120"/>
              <a:ext cx="20520" cy="39600"/>
            </a:xfrm>
            <a:prstGeom prst="ellipse">
              <a:avLst/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سئله : پرتاب با فنر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766880"/>
            <a:ext cx="716256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1000"/>
          </a:bodyPr>
          <a:p>
            <a:pPr marL="117000" indent="-1170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 جفت فنر با ثابت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k</a:t>
            </a:r>
            <a:r>
              <a:rPr b="1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فروض است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طول اولیه هریک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است </a:t>
            </a:r>
            <a:r>
              <a:rPr b="1" i="1" lang="fa-IR" sz="2000" spc="-1" strike="noStrike" baseline="-25000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گلوله ای به جرم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 نقطه اتصال دو فنر که تا طول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طابق شکل زیر کشیده اند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قرار می دهیم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گلوله را رها می کنیم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ند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عداز رها کردن آن چقدر است ؟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طول در حالت آرامش هر فنر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1" i="1" lang="fa-IR" sz="2000" spc="-1" strike="noStrike" baseline="-25000">
                <a:solidFill>
                  <a:srgbClr val="fafd00"/>
                </a:solidFill>
                <a:latin typeface="Arial"/>
                <a:ea typeface="Arial"/>
              </a:rPr>
              <a:t>     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ا</a:t>
            </a:r>
            <a:r>
              <a:rPr b="1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ست</a:t>
            </a:r>
            <a:r>
              <a:rPr b="1" i="1" lang="fa-IR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fa-IR" sz="2000" spc="-1" strike="noStrike" baseline="-25000">
                <a:solidFill>
                  <a:srgbClr val="fafd00"/>
                </a:solidFill>
                <a:latin typeface="Arial"/>
                <a:ea typeface="Arial"/>
              </a:rPr>
              <a:t>  .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109960" y="4993920"/>
            <a:ext cx="0" cy="1033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77920" y="4997520"/>
            <a:ext cx="63720" cy="633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16160" y="4807080"/>
            <a:ext cx="444600" cy="44424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441440" y="388620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441440" y="502920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00200" y="3892680"/>
            <a:ext cx="0" cy="11300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4840" y="4168800"/>
            <a:ext cx="963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61640" y="482904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858840" y="3857040"/>
            <a:ext cx="916920" cy="1161000"/>
            <a:chOff x="3858840" y="3857040"/>
            <a:chExt cx="916920" cy="1161000"/>
          </a:xfrm>
        </p:grpSpPr>
        <p:grpSp>
          <p:nvGrpSpPr>
            <p:cNvPr id="127" name=""/>
            <p:cNvGrpSpPr/>
            <p:nvPr/>
          </p:nvGrpSpPr>
          <p:grpSpPr>
            <a:xfrm>
              <a:off x="3858840" y="3914640"/>
              <a:ext cx="884520" cy="1103400"/>
              <a:chOff x="3858840" y="3914640"/>
              <a:chExt cx="884520" cy="110340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3919320" y="4660560"/>
                <a:ext cx="217440" cy="314280"/>
                <a:chOff x="3919320" y="4660560"/>
                <a:chExt cx="217440" cy="314280"/>
              </a:xfrm>
            </p:grpSpPr>
            <p:grpSp>
              <p:nvGrpSpPr>
                <p:cNvPr id="129" name=""/>
                <p:cNvGrpSpPr/>
                <p:nvPr/>
              </p:nvGrpSpPr>
              <p:grpSpPr>
                <a:xfrm>
                  <a:off x="3919320" y="4776480"/>
                  <a:ext cx="124200" cy="198360"/>
                  <a:chOff x="3919320" y="4776480"/>
                  <a:chExt cx="124200" cy="19836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3941640" y="4941720"/>
                    <a:ext cx="88920" cy="208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 flipH="1" flipV="1">
                    <a:off x="3973680" y="4870080"/>
                    <a:ext cx="69840" cy="1047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2" name=""/>
                  <p:cNvGrpSpPr/>
                  <p:nvPr/>
                </p:nvGrpSpPr>
                <p:grpSpPr>
                  <a:xfrm>
                    <a:off x="3919320" y="4776480"/>
                    <a:ext cx="100080" cy="106200"/>
                    <a:chOff x="3919320" y="4776480"/>
                    <a:chExt cx="100080" cy="106200"/>
                  </a:xfrm>
                </p:grpSpPr>
                <p:sp>
                  <p:nvSpPr>
                    <p:cNvPr id="133" name=""/>
                    <p:cNvSpPr/>
                    <p:nvPr/>
                  </p:nvSpPr>
                  <p:spPr>
                    <a:xfrm flipH="1" flipV="1">
                      <a:off x="3919320" y="4776480"/>
                      <a:ext cx="66600" cy="1062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3932280" y="4789440"/>
                      <a:ext cx="87120" cy="223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5" name=""/>
                <p:cNvGrpSpPr/>
                <p:nvPr/>
              </p:nvGrpSpPr>
              <p:grpSpPr>
                <a:xfrm>
                  <a:off x="4011480" y="4660560"/>
                  <a:ext cx="125280" cy="195480"/>
                  <a:chOff x="4011480" y="4660560"/>
                  <a:chExt cx="125280" cy="19548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>
                    <a:off x="4032360" y="4824360"/>
                    <a:ext cx="91800" cy="190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flipH="1" flipV="1">
                    <a:off x="4065120" y="4753080"/>
                    <a:ext cx="71640" cy="1029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4011480" y="4660560"/>
                    <a:ext cx="101880" cy="104760"/>
                    <a:chOff x="4011480" y="4660560"/>
                    <a:chExt cx="101880" cy="104760"/>
                  </a:xfrm>
                </p:grpSpPr>
                <p:sp>
                  <p:nvSpPr>
                    <p:cNvPr id="139" name=""/>
                    <p:cNvSpPr/>
                    <p:nvPr/>
                  </p:nvSpPr>
                  <p:spPr>
                    <a:xfrm flipH="1" flipV="1">
                      <a:off x="4011480" y="4660560"/>
                      <a:ext cx="66960" cy="1047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4024440" y="4673520"/>
                      <a:ext cx="88920" cy="190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1" name=""/>
              <p:cNvGrpSpPr/>
              <p:nvPr/>
            </p:nvGrpSpPr>
            <p:grpSpPr>
              <a:xfrm>
                <a:off x="4102200" y="4427640"/>
                <a:ext cx="217440" cy="310680"/>
                <a:chOff x="4102200" y="4427640"/>
                <a:chExt cx="217440" cy="310680"/>
              </a:xfrm>
            </p:grpSpPr>
            <p:grpSp>
              <p:nvGrpSpPr>
                <p:cNvPr id="142" name=""/>
                <p:cNvGrpSpPr/>
                <p:nvPr/>
              </p:nvGrpSpPr>
              <p:grpSpPr>
                <a:xfrm>
                  <a:off x="4102200" y="4543200"/>
                  <a:ext cx="126720" cy="195120"/>
                  <a:chOff x="4102200" y="4543200"/>
                  <a:chExt cx="126720" cy="19512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>
                    <a:off x="4125960" y="4705200"/>
                    <a:ext cx="90360" cy="208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flipH="1" flipV="1">
                    <a:off x="4158720" y="4635000"/>
                    <a:ext cx="70200" cy="1033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5" name=""/>
                  <p:cNvGrpSpPr/>
                  <p:nvPr/>
                </p:nvGrpSpPr>
                <p:grpSpPr>
                  <a:xfrm>
                    <a:off x="4102200" y="4543200"/>
                    <a:ext cx="101520" cy="104760"/>
                    <a:chOff x="4102200" y="4543200"/>
                    <a:chExt cx="101520" cy="104760"/>
                  </a:xfrm>
                </p:grpSpPr>
                <p:sp>
                  <p:nvSpPr>
                    <p:cNvPr id="146" name=""/>
                    <p:cNvSpPr/>
                    <p:nvPr/>
                  </p:nvSpPr>
                  <p:spPr>
                    <a:xfrm flipH="1" flipV="1">
                      <a:off x="4102200" y="4543200"/>
                      <a:ext cx="69840" cy="1047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4114800" y="4556160"/>
                      <a:ext cx="88920" cy="205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4192200" y="4427640"/>
                  <a:ext cx="127440" cy="193320"/>
                  <a:chOff x="4192200" y="4427640"/>
                  <a:chExt cx="127440" cy="19332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4216320" y="4589640"/>
                    <a:ext cx="90720" cy="187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H="1" flipV="1">
                    <a:off x="4251240" y="4516200"/>
                    <a:ext cx="68400" cy="1047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4192200" y="4427640"/>
                    <a:ext cx="103680" cy="101520"/>
                    <a:chOff x="4192200" y="4427640"/>
                    <a:chExt cx="103680" cy="101520"/>
                  </a:xfrm>
                </p:grpSpPr>
                <p:sp>
                  <p:nvSpPr>
                    <p:cNvPr id="152" name=""/>
                    <p:cNvSpPr/>
                    <p:nvPr/>
                  </p:nvSpPr>
                  <p:spPr>
                    <a:xfrm flipH="1" flipV="1">
                      <a:off x="4192200" y="4427640"/>
                      <a:ext cx="71640" cy="1015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4205160" y="4440240"/>
                      <a:ext cx="90720" cy="190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4" name=""/>
              <p:cNvGrpSpPr/>
              <p:nvPr/>
            </p:nvGrpSpPr>
            <p:grpSpPr>
              <a:xfrm>
                <a:off x="4286160" y="4192200"/>
                <a:ext cx="217440" cy="312840"/>
                <a:chOff x="4286160" y="4192200"/>
                <a:chExt cx="217440" cy="312840"/>
              </a:xfrm>
            </p:grpSpPr>
            <p:grpSp>
              <p:nvGrpSpPr>
                <p:cNvPr id="155" name=""/>
                <p:cNvGrpSpPr/>
                <p:nvPr/>
              </p:nvGrpSpPr>
              <p:grpSpPr>
                <a:xfrm>
                  <a:off x="4286160" y="4306680"/>
                  <a:ext cx="123480" cy="198360"/>
                  <a:chOff x="4286160" y="4306680"/>
                  <a:chExt cx="123480" cy="19836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>
                    <a:off x="4308480" y="4471920"/>
                    <a:ext cx="88920" cy="208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flipH="1" flipV="1">
                    <a:off x="4341600" y="4400280"/>
                    <a:ext cx="68040" cy="1047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8" name=""/>
                  <p:cNvGrpSpPr/>
                  <p:nvPr/>
                </p:nvGrpSpPr>
                <p:grpSpPr>
                  <a:xfrm>
                    <a:off x="4286160" y="4306680"/>
                    <a:ext cx="101520" cy="106200"/>
                    <a:chOff x="4286160" y="4306680"/>
                    <a:chExt cx="101520" cy="106200"/>
                  </a:xfrm>
                </p:grpSpPr>
                <p:sp>
                  <p:nvSpPr>
                    <p:cNvPr id="159" name=""/>
                    <p:cNvSpPr/>
                    <p:nvPr/>
                  </p:nvSpPr>
                  <p:spPr>
                    <a:xfrm flipH="1" flipV="1">
                      <a:off x="4286160" y="4306680"/>
                      <a:ext cx="68400" cy="1062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4299120" y="4319640"/>
                      <a:ext cx="88560" cy="223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61" name=""/>
                <p:cNvGrpSpPr/>
                <p:nvPr/>
              </p:nvGrpSpPr>
              <p:grpSpPr>
                <a:xfrm>
                  <a:off x="4376520" y="4192200"/>
                  <a:ext cx="127080" cy="192600"/>
                  <a:chOff x="4376520" y="4192200"/>
                  <a:chExt cx="127080" cy="1926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4400640" y="4354560"/>
                    <a:ext cx="90360" cy="172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flipH="1" flipV="1">
                    <a:off x="4432320" y="4284720"/>
                    <a:ext cx="71280" cy="1000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4" name=""/>
                  <p:cNvGrpSpPr/>
                  <p:nvPr/>
                </p:nvGrpSpPr>
                <p:grpSpPr>
                  <a:xfrm>
                    <a:off x="4376520" y="4192200"/>
                    <a:ext cx="103320" cy="104760"/>
                    <a:chOff x="4376520" y="4192200"/>
                    <a:chExt cx="103320" cy="104760"/>
                  </a:xfrm>
                </p:grpSpPr>
                <p:sp>
                  <p:nvSpPr>
                    <p:cNvPr id="165" name=""/>
                    <p:cNvSpPr/>
                    <p:nvPr/>
                  </p:nvSpPr>
                  <p:spPr>
                    <a:xfrm flipH="1" flipV="1">
                      <a:off x="4376520" y="4192200"/>
                      <a:ext cx="68040" cy="1047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4389480" y="4205160"/>
                      <a:ext cx="90360" cy="17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7" name=""/>
              <p:cNvGrpSpPr/>
              <p:nvPr/>
            </p:nvGrpSpPr>
            <p:grpSpPr>
              <a:xfrm>
                <a:off x="4470120" y="3957480"/>
                <a:ext cx="216360" cy="311040"/>
                <a:chOff x="4470120" y="3957480"/>
                <a:chExt cx="216360" cy="31104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4470120" y="4071600"/>
                  <a:ext cx="124200" cy="196920"/>
                  <a:chOff x="4470120" y="4071600"/>
                  <a:chExt cx="124200" cy="19692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4492800" y="4235400"/>
                    <a:ext cx="88560" cy="205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H="1" flipV="1">
                    <a:off x="4525920" y="4165200"/>
                    <a:ext cx="68400" cy="1033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4470120" y="4071600"/>
                    <a:ext cx="100440" cy="106200"/>
                    <a:chOff x="4470120" y="4071600"/>
                    <a:chExt cx="100440" cy="106200"/>
                  </a:xfrm>
                </p:grpSpPr>
                <p:sp>
                  <p:nvSpPr>
                    <p:cNvPr id="172" name=""/>
                    <p:cNvSpPr/>
                    <p:nvPr/>
                  </p:nvSpPr>
                  <p:spPr>
                    <a:xfrm flipH="1" flipV="1">
                      <a:off x="4470120" y="4071600"/>
                      <a:ext cx="68040" cy="1062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4483080" y="4084560"/>
                      <a:ext cx="87480" cy="237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4560480" y="3957480"/>
                  <a:ext cx="126000" cy="195480"/>
                  <a:chOff x="4560480" y="3957480"/>
                  <a:chExt cx="126000" cy="19548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>
                    <a:off x="4583160" y="4121280"/>
                    <a:ext cx="90360" cy="190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H="1" flipV="1">
                    <a:off x="4619520" y="4044960"/>
                    <a:ext cx="66960" cy="108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7" name=""/>
                  <p:cNvGrpSpPr/>
                  <p:nvPr/>
                </p:nvGrpSpPr>
                <p:grpSpPr>
                  <a:xfrm>
                    <a:off x="4560480" y="3957480"/>
                    <a:ext cx="103680" cy="100080"/>
                    <a:chOff x="4560480" y="3957480"/>
                    <a:chExt cx="103680" cy="100080"/>
                  </a:xfrm>
                </p:grpSpPr>
                <p:sp>
                  <p:nvSpPr>
                    <p:cNvPr id="178" name=""/>
                    <p:cNvSpPr/>
                    <p:nvPr/>
                  </p:nvSpPr>
                  <p:spPr>
                    <a:xfrm flipH="1" flipV="1">
                      <a:off x="4560480" y="3957480"/>
                      <a:ext cx="71640" cy="1000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4573440" y="3970440"/>
                      <a:ext cx="90720" cy="172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80" name=""/>
              <p:cNvSpPr/>
              <p:nvPr/>
            </p:nvSpPr>
            <p:spPr>
              <a:xfrm flipH="1">
                <a:off x="3858840" y="4941720"/>
                <a:ext cx="82440" cy="763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4664160" y="3914640"/>
                <a:ext cx="79200" cy="730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 rot="2280000">
              <a:off x="4745160" y="3858840"/>
              <a:ext cx="20520" cy="39600"/>
            </a:xfrm>
            <a:prstGeom prst="ellipse">
              <a:avLst/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849840" y="4983120"/>
            <a:ext cx="63360" cy="63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044960" y="4807080"/>
            <a:ext cx="444600" cy="44424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2840" y="3648240"/>
            <a:ext cx="1123920" cy="1314360"/>
            <a:chOff x="3552840" y="3648240"/>
            <a:chExt cx="1123920" cy="1314360"/>
          </a:xfrm>
        </p:grpSpPr>
        <p:sp>
          <p:nvSpPr>
            <p:cNvPr id="186" name=""/>
            <p:cNvSpPr/>
            <p:nvPr/>
          </p:nvSpPr>
          <p:spPr>
            <a:xfrm>
              <a:off x="4446720" y="3648240"/>
              <a:ext cx="230040" cy="17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52840" y="4789440"/>
              <a:ext cx="2300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3660840" y="3741840"/>
              <a:ext cx="907920" cy="1127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3439440" y="3940200"/>
            <a:ext cx="963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90440" y="482904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59560" y="4807080"/>
            <a:ext cx="444600" cy="44424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69040" y="5029200"/>
            <a:ext cx="52092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38280" y="508320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03600" y="482904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384680" y="3794040"/>
            <a:ext cx="166680" cy="619200"/>
            <a:chOff x="7384680" y="3794040"/>
            <a:chExt cx="166680" cy="619200"/>
          </a:xfrm>
        </p:grpSpPr>
        <p:sp>
          <p:nvSpPr>
            <p:cNvPr id="196" name=""/>
            <p:cNvSpPr/>
            <p:nvPr/>
          </p:nvSpPr>
          <p:spPr>
            <a:xfrm flipH="1" flipV="1">
              <a:off x="7397280" y="4346640"/>
              <a:ext cx="88920" cy="302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7410600" y="4319280"/>
              <a:ext cx="63360" cy="270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7473960" y="4289400"/>
              <a:ext cx="65160" cy="302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7461000" y="4267080"/>
              <a:ext cx="90360" cy="288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7391160" y="4244760"/>
              <a:ext cx="88920" cy="28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7410600" y="4224240"/>
              <a:ext cx="63360" cy="302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7473960" y="4198680"/>
              <a:ext cx="65160" cy="28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7461000" y="4176360"/>
              <a:ext cx="90360" cy="28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7394040" y="4154400"/>
              <a:ext cx="88920" cy="288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7410600" y="4138560"/>
              <a:ext cx="63360" cy="288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7473960" y="4109760"/>
              <a:ext cx="65160" cy="28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7461000" y="4084560"/>
              <a:ext cx="90360" cy="288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7387920" y="4065480"/>
              <a:ext cx="88920" cy="288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7410600" y="4036680"/>
              <a:ext cx="63360" cy="28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7473960" y="4008240"/>
              <a:ext cx="65160" cy="298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7461000" y="3990600"/>
              <a:ext cx="90360" cy="270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7387920" y="3968640"/>
              <a:ext cx="88920" cy="288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7404120" y="3951360"/>
              <a:ext cx="63360" cy="302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7473960" y="3922560"/>
              <a:ext cx="65160" cy="288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7457760" y="3902040"/>
              <a:ext cx="90360" cy="302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7384680" y="3881160"/>
              <a:ext cx="88920" cy="270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7397640" y="3854520"/>
              <a:ext cx="63720" cy="302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480440" y="4376880"/>
              <a:ext cx="0" cy="3636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467480" y="3819600"/>
              <a:ext cx="0" cy="349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58120" y="3794040"/>
              <a:ext cx="12600" cy="9720"/>
            </a:xfrm>
            <a:prstGeom prst="ellipse">
              <a:avLst/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7772400" y="3816360"/>
            <a:ext cx="0" cy="52056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702560" y="3809880"/>
            <a:ext cx="139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702560" y="4343400"/>
            <a:ext cx="139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553520" y="3863880"/>
            <a:ext cx="971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169040" y="3511440"/>
            <a:ext cx="1206720" cy="1130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009880" y="5058000"/>
            <a:ext cx="218160" cy="1216080"/>
            <a:chOff x="2009880" y="5058000"/>
            <a:chExt cx="218160" cy="1216080"/>
          </a:xfrm>
        </p:grpSpPr>
        <p:grpSp>
          <p:nvGrpSpPr>
            <p:cNvPr id="227" name=""/>
            <p:cNvGrpSpPr/>
            <p:nvPr/>
          </p:nvGrpSpPr>
          <p:grpSpPr>
            <a:xfrm>
              <a:off x="2011320" y="5135400"/>
              <a:ext cx="210960" cy="130320"/>
              <a:chOff x="2011320" y="5135400"/>
              <a:chExt cx="210960" cy="130320"/>
            </a:xfrm>
          </p:grpSpPr>
          <p:sp>
            <p:nvSpPr>
              <p:cNvPr id="228" name=""/>
              <p:cNvSpPr/>
              <p:nvPr/>
            </p:nvSpPr>
            <p:spPr>
              <a:xfrm>
                <a:off x="2120040" y="5135400"/>
                <a:ext cx="90360" cy="374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2109960" y="5159880"/>
                <a:ext cx="112320" cy="475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2011320" y="5194440"/>
                <a:ext cx="110520" cy="71280"/>
                <a:chOff x="2011320" y="5194440"/>
                <a:chExt cx="110520" cy="71280"/>
              </a:xfrm>
            </p:grpSpPr>
            <p:sp>
              <p:nvSpPr>
                <p:cNvPr id="231" name=""/>
                <p:cNvSpPr/>
                <p:nvPr/>
              </p:nvSpPr>
              <p:spPr>
                <a:xfrm flipH="1">
                  <a:off x="2011320" y="5194440"/>
                  <a:ext cx="110520" cy="486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2023560" y="5229720"/>
                  <a:ext cx="88920" cy="36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"/>
            <p:cNvGrpSpPr/>
            <p:nvPr/>
          </p:nvGrpSpPr>
          <p:grpSpPr>
            <a:xfrm>
              <a:off x="2009880" y="5265720"/>
              <a:ext cx="211320" cy="133920"/>
              <a:chOff x="2009880" y="5265720"/>
              <a:chExt cx="211320" cy="133920"/>
            </a:xfrm>
          </p:grpSpPr>
          <p:sp>
            <p:nvSpPr>
              <p:cNvPr id="234" name=""/>
              <p:cNvSpPr/>
              <p:nvPr/>
            </p:nvSpPr>
            <p:spPr>
              <a:xfrm>
                <a:off x="2118600" y="5265720"/>
                <a:ext cx="90720" cy="41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2108520" y="5293440"/>
                <a:ext cx="112680" cy="442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2009880" y="5324400"/>
                <a:ext cx="110880" cy="75240"/>
                <a:chOff x="2009880" y="5324400"/>
                <a:chExt cx="110880" cy="75240"/>
              </a:xfrm>
            </p:grpSpPr>
            <p:sp>
              <p:nvSpPr>
                <p:cNvPr id="237" name=""/>
                <p:cNvSpPr/>
                <p:nvPr/>
              </p:nvSpPr>
              <p:spPr>
                <a:xfrm flipH="1">
                  <a:off x="2009880" y="5324400"/>
                  <a:ext cx="110880" cy="49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022480" y="5360400"/>
                  <a:ext cx="88920" cy="39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9" name=""/>
            <p:cNvGrpSpPr/>
            <p:nvPr/>
          </p:nvGrpSpPr>
          <p:grpSpPr>
            <a:xfrm>
              <a:off x="2014920" y="5392800"/>
              <a:ext cx="211320" cy="128520"/>
              <a:chOff x="2014920" y="5392800"/>
              <a:chExt cx="211320" cy="128520"/>
            </a:xfrm>
          </p:grpSpPr>
          <p:sp>
            <p:nvSpPr>
              <p:cNvPr id="240" name=""/>
              <p:cNvSpPr/>
              <p:nvPr/>
            </p:nvSpPr>
            <p:spPr>
              <a:xfrm>
                <a:off x="2124000" y="5392800"/>
                <a:ext cx="90360" cy="378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2113920" y="5417640"/>
                <a:ext cx="112320" cy="471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2014920" y="5451480"/>
                <a:ext cx="110880" cy="69840"/>
                <a:chOff x="2014920" y="5451480"/>
                <a:chExt cx="110880" cy="69840"/>
              </a:xfrm>
            </p:grpSpPr>
            <p:sp>
              <p:nvSpPr>
                <p:cNvPr id="243" name=""/>
                <p:cNvSpPr/>
                <p:nvPr/>
              </p:nvSpPr>
              <p:spPr>
                <a:xfrm flipH="1">
                  <a:off x="2014920" y="5451480"/>
                  <a:ext cx="110880" cy="457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027520" y="5483880"/>
                  <a:ext cx="88920" cy="374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"/>
            <p:cNvGrpSpPr/>
            <p:nvPr/>
          </p:nvGrpSpPr>
          <p:grpSpPr>
            <a:xfrm>
              <a:off x="2013840" y="5521320"/>
              <a:ext cx="211320" cy="132120"/>
              <a:chOff x="2013840" y="5521320"/>
              <a:chExt cx="211320" cy="132120"/>
            </a:xfrm>
          </p:grpSpPr>
          <p:sp>
            <p:nvSpPr>
              <p:cNvPr id="246" name=""/>
              <p:cNvSpPr/>
              <p:nvPr/>
            </p:nvSpPr>
            <p:spPr>
              <a:xfrm>
                <a:off x="2122920" y="5521320"/>
                <a:ext cx="90720" cy="392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2112840" y="5547600"/>
                <a:ext cx="112320" cy="475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8" name=""/>
              <p:cNvGrpSpPr/>
              <p:nvPr/>
            </p:nvGrpSpPr>
            <p:grpSpPr>
              <a:xfrm>
                <a:off x="2013840" y="5581440"/>
                <a:ext cx="111240" cy="72000"/>
                <a:chOff x="2013840" y="5581440"/>
                <a:chExt cx="111240" cy="72000"/>
              </a:xfrm>
            </p:grpSpPr>
            <p:sp>
              <p:nvSpPr>
                <p:cNvPr id="249" name=""/>
                <p:cNvSpPr/>
                <p:nvPr/>
              </p:nvSpPr>
              <p:spPr>
                <a:xfrm flipH="1">
                  <a:off x="2013840" y="5581440"/>
                  <a:ext cx="111240" cy="457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026440" y="5614200"/>
                  <a:ext cx="89280" cy="39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2012760" y="5646960"/>
              <a:ext cx="210960" cy="130320"/>
              <a:chOff x="2012760" y="5646960"/>
              <a:chExt cx="210960" cy="130320"/>
            </a:xfrm>
          </p:grpSpPr>
          <p:sp>
            <p:nvSpPr>
              <p:cNvPr id="252" name=""/>
              <p:cNvSpPr/>
              <p:nvPr/>
            </p:nvSpPr>
            <p:spPr>
              <a:xfrm>
                <a:off x="2121480" y="5646960"/>
                <a:ext cx="90360" cy="374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2111400" y="5671440"/>
                <a:ext cx="112320" cy="475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4" name=""/>
              <p:cNvGrpSpPr/>
              <p:nvPr/>
            </p:nvGrpSpPr>
            <p:grpSpPr>
              <a:xfrm>
                <a:off x="2012760" y="5706000"/>
                <a:ext cx="110520" cy="71280"/>
                <a:chOff x="2012760" y="5706000"/>
                <a:chExt cx="110520" cy="71280"/>
              </a:xfrm>
            </p:grpSpPr>
            <p:sp>
              <p:nvSpPr>
                <p:cNvPr id="255" name=""/>
                <p:cNvSpPr/>
                <p:nvPr/>
              </p:nvSpPr>
              <p:spPr>
                <a:xfrm flipH="1">
                  <a:off x="2012760" y="5706000"/>
                  <a:ext cx="110520" cy="486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2025000" y="5741280"/>
                  <a:ext cx="88920" cy="36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"/>
            <p:cNvGrpSpPr/>
            <p:nvPr/>
          </p:nvGrpSpPr>
          <p:grpSpPr>
            <a:xfrm>
              <a:off x="2011320" y="5771520"/>
              <a:ext cx="211320" cy="133200"/>
              <a:chOff x="2011320" y="5771520"/>
              <a:chExt cx="211320" cy="133200"/>
            </a:xfrm>
          </p:grpSpPr>
          <p:sp>
            <p:nvSpPr>
              <p:cNvPr id="258" name=""/>
              <p:cNvSpPr/>
              <p:nvPr/>
            </p:nvSpPr>
            <p:spPr>
              <a:xfrm>
                <a:off x="2120400" y="5771520"/>
                <a:ext cx="90720" cy="40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2110320" y="5798880"/>
                <a:ext cx="112320" cy="43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2011320" y="5829840"/>
                <a:ext cx="110880" cy="74880"/>
                <a:chOff x="2011320" y="5829840"/>
                <a:chExt cx="110880" cy="74880"/>
              </a:xfrm>
            </p:grpSpPr>
            <p:sp>
              <p:nvSpPr>
                <p:cNvPr id="261" name=""/>
                <p:cNvSpPr/>
                <p:nvPr/>
              </p:nvSpPr>
              <p:spPr>
                <a:xfrm flipH="1">
                  <a:off x="2011320" y="5829840"/>
                  <a:ext cx="110880" cy="471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023920" y="5864040"/>
                  <a:ext cx="89280" cy="4068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"/>
            <p:cNvGrpSpPr/>
            <p:nvPr/>
          </p:nvGrpSpPr>
          <p:grpSpPr>
            <a:xfrm>
              <a:off x="2016720" y="5904360"/>
              <a:ext cx="211320" cy="128520"/>
              <a:chOff x="2016720" y="5904360"/>
              <a:chExt cx="211320" cy="128520"/>
            </a:xfrm>
          </p:grpSpPr>
          <p:sp>
            <p:nvSpPr>
              <p:cNvPr id="264" name=""/>
              <p:cNvSpPr/>
              <p:nvPr/>
            </p:nvSpPr>
            <p:spPr>
              <a:xfrm>
                <a:off x="2125800" y="5904360"/>
                <a:ext cx="90360" cy="378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2115360" y="5928840"/>
                <a:ext cx="112680" cy="453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2016720" y="5961600"/>
                <a:ext cx="110880" cy="71280"/>
                <a:chOff x="2016720" y="5961600"/>
                <a:chExt cx="110880" cy="71280"/>
              </a:xfrm>
            </p:grpSpPr>
            <p:sp>
              <p:nvSpPr>
                <p:cNvPr id="267" name=""/>
                <p:cNvSpPr/>
                <p:nvPr/>
              </p:nvSpPr>
              <p:spPr>
                <a:xfrm flipH="1">
                  <a:off x="2016720" y="5961600"/>
                  <a:ext cx="110880" cy="486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029320" y="5996880"/>
                  <a:ext cx="88920" cy="36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"/>
            <p:cNvGrpSpPr/>
            <p:nvPr/>
          </p:nvGrpSpPr>
          <p:grpSpPr>
            <a:xfrm>
              <a:off x="2015280" y="6026760"/>
              <a:ext cx="210960" cy="133560"/>
              <a:chOff x="2015280" y="6026760"/>
              <a:chExt cx="210960" cy="133560"/>
            </a:xfrm>
          </p:grpSpPr>
          <p:sp>
            <p:nvSpPr>
              <p:cNvPr id="270" name=""/>
              <p:cNvSpPr/>
              <p:nvPr/>
            </p:nvSpPr>
            <p:spPr>
              <a:xfrm>
                <a:off x="2124000" y="6026760"/>
                <a:ext cx="90720" cy="388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2114280" y="6053040"/>
                <a:ext cx="111960" cy="486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2015280" y="6089040"/>
                <a:ext cx="110880" cy="71280"/>
                <a:chOff x="2015280" y="6089040"/>
                <a:chExt cx="110880" cy="71280"/>
              </a:xfrm>
            </p:grpSpPr>
            <p:sp>
              <p:nvSpPr>
                <p:cNvPr id="273" name=""/>
                <p:cNvSpPr/>
                <p:nvPr/>
              </p:nvSpPr>
              <p:spPr>
                <a:xfrm flipH="1">
                  <a:off x="2015280" y="6089040"/>
                  <a:ext cx="110880" cy="43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027520" y="6119640"/>
                  <a:ext cx="89280" cy="4068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5" name=""/>
            <p:cNvSpPr/>
            <p:nvPr/>
          </p:nvSpPr>
          <p:spPr>
            <a:xfrm flipH="1" flipV="1">
              <a:off x="2110680" y="5058000"/>
              <a:ext cx="3240" cy="7776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2129040" y="6153120"/>
              <a:ext cx="3240" cy="748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 rot="21462000">
              <a:off x="2118960" y="6244560"/>
              <a:ext cx="20880" cy="28440"/>
            </a:xfrm>
            <a:prstGeom prst="ellipse">
              <a:avLst/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009880" y="3806640"/>
            <a:ext cx="218160" cy="1216080"/>
            <a:chOff x="2009880" y="3806640"/>
            <a:chExt cx="218160" cy="1216080"/>
          </a:xfrm>
        </p:grpSpPr>
        <p:grpSp>
          <p:nvGrpSpPr>
            <p:cNvPr id="279" name=""/>
            <p:cNvGrpSpPr/>
            <p:nvPr/>
          </p:nvGrpSpPr>
          <p:grpSpPr>
            <a:xfrm>
              <a:off x="2011320" y="4815000"/>
              <a:ext cx="210960" cy="130320"/>
              <a:chOff x="2011320" y="4815000"/>
              <a:chExt cx="210960" cy="130320"/>
            </a:xfrm>
          </p:grpSpPr>
          <p:sp>
            <p:nvSpPr>
              <p:cNvPr id="280" name=""/>
              <p:cNvSpPr/>
              <p:nvPr/>
            </p:nvSpPr>
            <p:spPr>
              <a:xfrm flipV="1">
                <a:off x="2120040" y="4907880"/>
                <a:ext cx="90360" cy="374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 flipV="1">
                <a:off x="2109960" y="4873320"/>
                <a:ext cx="112320" cy="475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2011320" y="4815000"/>
                <a:ext cx="110520" cy="71280"/>
                <a:chOff x="2011320" y="4815000"/>
                <a:chExt cx="110520" cy="71280"/>
              </a:xfrm>
            </p:grpSpPr>
            <p:sp>
              <p:nvSpPr>
                <p:cNvPr id="283" name=""/>
                <p:cNvSpPr/>
                <p:nvPr/>
              </p:nvSpPr>
              <p:spPr>
                <a:xfrm flipH="1" flipV="1">
                  <a:off x="2011320" y="4837680"/>
                  <a:ext cx="110520" cy="486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2023560" y="4815000"/>
                  <a:ext cx="88920" cy="36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"/>
            <p:cNvGrpSpPr/>
            <p:nvPr/>
          </p:nvGrpSpPr>
          <p:grpSpPr>
            <a:xfrm>
              <a:off x="2009880" y="4681080"/>
              <a:ext cx="211320" cy="133920"/>
              <a:chOff x="2009880" y="4681080"/>
              <a:chExt cx="211320" cy="133920"/>
            </a:xfrm>
          </p:grpSpPr>
          <p:sp>
            <p:nvSpPr>
              <p:cNvPr id="286" name=""/>
              <p:cNvSpPr/>
              <p:nvPr/>
            </p:nvSpPr>
            <p:spPr>
              <a:xfrm flipV="1">
                <a:off x="2118600" y="4773960"/>
                <a:ext cx="90720" cy="41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 flipV="1">
                <a:off x="2108520" y="4743000"/>
                <a:ext cx="112680" cy="442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8" name=""/>
              <p:cNvGrpSpPr/>
              <p:nvPr/>
            </p:nvGrpSpPr>
            <p:grpSpPr>
              <a:xfrm>
                <a:off x="2009880" y="4681080"/>
                <a:ext cx="110880" cy="75240"/>
                <a:chOff x="2009880" y="4681080"/>
                <a:chExt cx="110880" cy="75240"/>
              </a:xfrm>
            </p:grpSpPr>
            <p:sp>
              <p:nvSpPr>
                <p:cNvPr id="289" name=""/>
                <p:cNvSpPr/>
                <p:nvPr/>
              </p:nvSpPr>
              <p:spPr>
                <a:xfrm flipH="1" flipV="1">
                  <a:off x="2009880" y="4707000"/>
                  <a:ext cx="110880" cy="49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V="1">
                  <a:off x="2022480" y="4681080"/>
                  <a:ext cx="88920" cy="39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1" name=""/>
            <p:cNvGrpSpPr/>
            <p:nvPr/>
          </p:nvGrpSpPr>
          <p:grpSpPr>
            <a:xfrm>
              <a:off x="2014920" y="4559400"/>
              <a:ext cx="211320" cy="128520"/>
              <a:chOff x="2014920" y="4559400"/>
              <a:chExt cx="211320" cy="128520"/>
            </a:xfrm>
          </p:grpSpPr>
          <p:sp>
            <p:nvSpPr>
              <p:cNvPr id="292" name=""/>
              <p:cNvSpPr/>
              <p:nvPr/>
            </p:nvSpPr>
            <p:spPr>
              <a:xfrm flipV="1">
                <a:off x="2124000" y="4650120"/>
                <a:ext cx="90360" cy="378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 flipV="1">
                <a:off x="2113920" y="4615920"/>
                <a:ext cx="112320" cy="471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94" name=""/>
              <p:cNvGrpSpPr/>
              <p:nvPr/>
            </p:nvGrpSpPr>
            <p:grpSpPr>
              <a:xfrm>
                <a:off x="2014920" y="4559400"/>
                <a:ext cx="110880" cy="69840"/>
                <a:chOff x="2014920" y="4559400"/>
                <a:chExt cx="110880" cy="69840"/>
              </a:xfrm>
            </p:grpSpPr>
            <p:sp>
              <p:nvSpPr>
                <p:cNvPr id="295" name=""/>
                <p:cNvSpPr/>
                <p:nvPr/>
              </p:nvSpPr>
              <p:spPr>
                <a:xfrm flipH="1" flipV="1">
                  <a:off x="2014920" y="4583520"/>
                  <a:ext cx="110880" cy="457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V="1">
                  <a:off x="2027160" y="4559400"/>
                  <a:ext cx="89280" cy="374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7" name=""/>
            <p:cNvGrpSpPr/>
            <p:nvPr/>
          </p:nvGrpSpPr>
          <p:grpSpPr>
            <a:xfrm>
              <a:off x="2013840" y="4427280"/>
              <a:ext cx="211320" cy="132120"/>
              <a:chOff x="2013840" y="4427280"/>
              <a:chExt cx="211320" cy="132120"/>
            </a:xfrm>
          </p:grpSpPr>
          <p:sp>
            <p:nvSpPr>
              <p:cNvPr id="298" name=""/>
              <p:cNvSpPr/>
              <p:nvPr/>
            </p:nvSpPr>
            <p:spPr>
              <a:xfrm flipV="1">
                <a:off x="2122920" y="4520160"/>
                <a:ext cx="90360" cy="392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2112840" y="4485600"/>
                <a:ext cx="112320" cy="475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2013840" y="4427280"/>
                <a:ext cx="111240" cy="72000"/>
                <a:chOff x="2013840" y="4427280"/>
                <a:chExt cx="111240" cy="72000"/>
              </a:xfrm>
            </p:grpSpPr>
            <p:sp>
              <p:nvSpPr>
                <p:cNvPr id="301" name=""/>
                <p:cNvSpPr/>
                <p:nvPr/>
              </p:nvSpPr>
              <p:spPr>
                <a:xfrm flipH="1" flipV="1">
                  <a:off x="2013840" y="4453560"/>
                  <a:ext cx="111240" cy="457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V="1">
                  <a:off x="2026440" y="4427280"/>
                  <a:ext cx="89280" cy="39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3" name=""/>
            <p:cNvGrpSpPr/>
            <p:nvPr/>
          </p:nvGrpSpPr>
          <p:grpSpPr>
            <a:xfrm>
              <a:off x="2012760" y="4303440"/>
              <a:ext cx="210960" cy="130320"/>
              <a:chOff x="2012760" y="4303440"/>
              <a:chExt cx="210960" cy="130320"/>
            </a:xfrm>
          </p:grpSpPr>
          <p:sp>
            <p:nvSpPr>
              <p:cNvPr id="304" name=""/>
              <p:cNvSpPr/>
              <p:nvPr/>
            </p:nvSpPr>
            <p:spPr>
              <a:xfrm flipV="1">
                <a:off x="2121480" y="4396320"/>
                <a:ext cx="90360" cy="374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flipV="1">
                <a:off x="2111400" y="4361760"/>
                <a:ext cx="112320" cy="475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6" name=""/>
              <p:cNvGrpSpPr/>
              <p:nvPr/>
            </p:nvGrpSpPr>
            <p:grpSpPr>
              <a:xfrm>
                <a:off x="2012760" y="4303440"/>
                <a:ext cx="110520" cy="71280"/>
                <a:chOff x="2012760" y="4303440"/>
                <a:chExt cx="110520" cy="71280"/>
              </a:xfrm>
            </p:grpSpPr>
            <p:sp>
              <p:nvSpPr>
                <p:cNvPr id="307" name=""/>
                <p:cNvSpPr/>
                <p:nvPr/>
              </p:nvSpPr>
              <p:spPr>
                <a:xfrm flipH="1" flipV="1">
                  <a:off x="2012760" y="4326120"/>
                  <a:ext cx="110520" cy="486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V="1">
                  <a:off x="2025000" y="4303440"/>
                  <a:ext cx="88920" cy="36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9" name=""/>
            <p:cNvGrpSpPr/>
            <p:nvPr/>
          </p:nvGrpSpPr>
          <p:grpSpPr>
            <a:xfrm>
              <a:off x="2011320" y="4176000"/>
              <a:ext cx="211320" cy="133200"/>
              <a:chOff x="2011320" y="4176000"/>
              <a:chExt cx="211320" cy="133200"/>
            </a:xfrm>
          </p:grpSpPr>
          <p:sp>
            <p:nvSpPr>
              <p:cNvPr id="310" name=""/>
              <p:cNvSpPr/>
              <p:nvPr/>
            </p:nvSpPr>
            <p:spPr>
              <a:xfrm flipV="1">
                <a:off x="2120400" y="4268520"/>
                <a:ext cx="90720" cy="40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 flipV="1">
                <a:off x="2110320" y="4237920"/>
                <a:ext cx="112320" cy="43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2" name=""/>
              <p:cNvGrpSpPr/>
              <p:nvPr/>
            </p:nvGrpSpPr>
            <p:grpSpPr>
              <a:xfrm>
                <a:off x="2011320" y="4176000"/>
                <a:ext cx="110880" cy="74880"/>
                <a:chOff x="2011320" y="4176000"/>
                <a:chExt cx="110880" cy="74880"/>
              </a:xfrm>
            </p:grpSpPr>
            <p:sp>
              <p:nvSpPr>
                <p:cNvPr id="313" name=""/>
                <p:cNvSpPr/>
                <p:nvPr/>
              </p:nvSpPr>
              <p:spPr>
                <a:xfrm flipH="1" flipV="1">
                  <a:off x="2011320" y="4203720"/>
                  <a:ext cx="110880" cy="471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2023920" y="4176000"/>
                  <a:ext cx="89280" cy="4068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5" name=""/>
            <p:cNvGrpSpPr/>
            <p:nvPr/>
          </p:nvGrpSpPr>
          <p:grpSpPr>
            <a:xfrm>
              <a:off x="2016720" y="4047840"/>
              <a:ext cx="211320" cy="128520"/>
              <a:chOff x="2016720" y="4047840"/>
              <a:chExt cx="211320" cy="128520"/>
            </a:xfrm>
          </p:grpSpPr>
          <p:sp>
            <p:nvSpPr>
              <p:cNvPr id="316" name=""/>
              <p:cNvSpPr/>
              <p:nvPr/>
            </p:nvSpPr>
            <p:spPr>
              <a:xfrm flipV="1">
                <a:off x="2125800" y="4138560"/>
                <a:ext cx="90360" cy="378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 flipV="1">
                <a:off x="2115360" y="4106520"/>
                <a:ext cx="112680" cy="453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8" name=""/>
              <p:cNvGrpSpPr/>
              <p:nvPr/>
            </p:nvGrpSpPr>
            <p:grpSpPr>
              <a:xfrm>
                <a:off x="2016720" y="4047840"/>
                <a:ext cx="110880" cy="71280"/>
                <a:chOff x="2016720" y="4047840"/>
                <a:chExt cx="110880" cy="71280"/>
              </a:xfrm>
            </p:grpSpPr>
            <p:sp>
              <p:nvSpPr>
                <p:cNvPr id="319" name=""/>
                <p:cNvSpPr/>
                <p:nvPr/>
              </p:nvSpPr>
              <p:spPr>
                <a:xfrm flipH="1" flipV="1">
                  <a:off x="2016720" y="4070520"/>
                  <a:ext cx="110880" cy="486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V="1">
                  <a:off x="2029320" y="4047840"/>
                  <a:ext cx="88920" cy="36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2015280" y="3920400"/>
              <a:ext cx="210960" cy="133560"/>
              <a:chOff x="2015280" y="3920400"/>
              <a:chExt cx="210960" cy="133560"/>
            </a:xfrm>
          </p:grpSpPr>
          <p:sp>
            <p:nvSpPr>
              <p:cNvPr id="322" name=""/>
              <p:cNvSpPr/>
              <p:nvPr/>
            </p:nvSpPr>
            <p:spPr>
              <a:xfrm flipV="1">
                <a:off x="2124000" y="4015080"/>
                <a:ext cx="90720" cy="388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 flipV="1">
                <a:off x="2114280" y="3979080"/>
                <a:ext cx="111960" cy="486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4" name=""/>
              <p:cNvGrpSpPr/>
              <p:nvPr/>
            </p:nvGrpSpPr>
            <p:grpSpPr>
              <a:xfrm>
                <a:off x="2015280" y="3920400"/>
                <a:ext cx="110880" cy="71280"/>
                <a:chOff x="2015280" y="3920400"/>
                <a:chExt cx="110880" cy="71280"/>
              </a:xfrm>
            </p:grpSpPr>
            <p:sp>
              <p:nvSpPr>
                <p:cNvPr id="325" name=""/>
                <p:cNvSpPr/>
                <p:nvPr/>
              </p:nvSpPr>
              <p:spPr>
                <a:xfrm flipH="1" flipV="1">
                  <a:off x="2015280" y="3947760"/>
                  <a:ext cx="110880" cy="43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V="1">
                  <a:off x="2027520" y="3920400"/>
                  <a:ext cx="89280" cy="4068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7" name=""/>
            <p:cNvSpPr/>
            <p:nvPr/>
          </p:nvSpPr>
          <p:spPr>
            <a:xfrm flipH="1">
              <a:off x="2110680" y="4944960"/>
              <a:ext cx="3240" cy="7776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129040" y="3852720"/>
              <a:ext cx="3240" cy="748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138000">
              <a:off x="2118960" y="3807000"/>
              <a:ext cx="20880" cy="28440"/>
            </a:xfrm>
            <a:prstGeom prst="ellipse">
              <a:avLst/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6066000" y="5003640"/>
            <a:ext cx="63360" cy="63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5997960" y="5064480"/>
            <a:ext cx="218160" cy="1216080"/>
            <a:chOff x="5997960" y="5064480"/>
            <a:chExt cx="218160" cy="1216080"/>
          </a:xfrm>
        </p:grpSpPr>
        <p:grpSp>
          <p:nvGrpSpPr>
            <p:cNvPr id="332" name=""/>
            <p:cNvGrpSpPr/>
            <p:nvPr/>
          </p:nvGrpSpPr>
          <p:grpSpPr>
            <a:xfrm>
              <a:off x="5999400" y="5141880"/>
              <a:ext cx="210960" cy="130320"/>
              <a:chOff x="5999400" y="5141880"/>
              <a:chExt cx="210960" cy="130320"/>
            </a:xfrm>
          </p:grpSpPr>
          <p:sp>
            <p:nvSpPr>
              <p:cNvPr id="333" name=""/>
              <p:cNvSpPr/>
              <p:nvPr/>
            </p:nvSpPr>
            <p:spPr>
              <a:xfrm>
                <a:off x="6108120" y="5141880"/>
                <a:ext cx="90360" cy="374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6098040" y="5166360"/>
                <a:ext cx="112320" cy="475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5" name=""/>
              <p:cNvGrpSpPr/>
              <p:nvPr/>
            </p:nvGrpSpPr>
            <p:grpSpPr>
              <a:xfrm>
                <a:off x="5999400" y="5200920"/>
                <a:ext cx="110520" cy="71280"/>
                <a:chOff x="5999400" y="5200920"/>
                <a:chExt cx="110520" cy="71280"/>
              </a:xfrm>
            </p:grpSpPr>
            <p:sp>
              <p:nvSpPr>
                <p:cNvPr id="336" name=""/>
                <p:cNvSpPr/>
                <p:nvPr/>
              </p:nvSpPr>
              <p:spPr>
                <a:xfrm flipH="1">
                  <a:off x="5999400" y="5200920"/>
                  <a:ext cx="110520" cy="486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011640" y="5236200"/>
                  <a:ext cx="88920" cy="36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8" name=""/>
            <p:cNvGrpSpPr/>
            <p:nvPr/>
          </p:nvGrpSpPr>
          <p:grpSpPr>
            <a:xfrm>
              <a:off x="5997960" y="5272200"/>
              <a:ext cx="211320" cy="133920"/>
              <a:chOff x="5997960" y="5272200"/>
              <a:chExt cx="211320" cy="133920"/>
            </a:xfrm>
          </p:grpSpPr>
          <p:sp>
            <p:nvSpPr>
              <p:cNvPr id="339" name=""/>
              <p:cNvSpPr/>
              <p:nvPr/>
            </p:nvSpPr>
            <p:spPr>
              <a:xfrm>
                <a:off x="6106680" y="5272200"/>
                <a:ext cx="90720" cy="41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6096600" y="5299920"/>
                <a:ext cx="112680" cy="43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5997960" y="5330880"/>
                <a:ext cx="110880" cy="75240"/>
                <a:chOff x="5997960" y="5330880"/>
                <a:chExt cx="110880" cy="75240"/>
              </a:xfrm>
            </p:grpSpPr>
            <p:sp>
              <p:nvSpPr>
                <p:cNvPr id="342" name=""/>
                <p:cNvSpPr/>
                <p:nvPr/>
              </p:nvSpPr>
              <p:spPr>
                <a:xfrm flipH="1">
                  <a:off x="5997960" y="5330880"/>
                  <a:ext cx="110880" cy="49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010560" y="5366880"/>
                  <a:ext cx="88920" cy="39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4" name=""/>
            <p:cNvGrpSpPr/>
            <p:nvPr/>
          </p:nvGrpSpPr>
          <p:grpSpPr>
            <a:xfrm>
              <a:off x="6003000" y="5399280"/>
              <a:ext cx="211320" cy="128520"/>
              <a:chOff x="6003000" y="5399280"/>
              <a:chExt cx="211320" cy="128520"/>
            </a:xfrm>
          </p:grpSpPr>
          <p:sp>
            <p:nvSpPr>
              <p:cNvPr id="345" name=""/>
              <p:cNvSpPr/>
              <p:nvPr/>
            </p:nvSpPr>
            <p:spPr>
              <a:xfrm>
                <a:off x="6112080" y="5399280"/>
                <a:ext cx="90360" cy="378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6102000" y="5424120"/>
                <a:ext cx="112320" cy="471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7" name=""/>
              <p:cNvGrpSpPr/>
              <p:nvPr/>
            </p:nvGrpSpPr>
            <p:grpSpPr>
              <a:xfrm>
                <a:off x="6003000" y="5457960"/>
                <a:ext cx="110880" cy="69840"/>
                <a:chOff x="6003000" y="5457960"/>
                <a:chExt cx="110880" cy="69840"/>
              </a:xfrm>
            </p:grpSpPr>
            <p:sp>
              <p:nvSpPr>
                <p:cNvPr id="348" name=""/>
                <p:cNvSpPr/>
                <p:nvPr/>
              </p:nvSpPr>
              <p:spPr>
                <a:xfrm flipH="1">
                  <a:off x="6003000" y="5457960"/>
                  <a:ext cx="110880" cy="457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015600" y="5490360"/>
                  <a:ext cx="88920" cy="374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0" name=""/>
            <p:cNvGrpSpPr/>
            <p:nvPr/>
          </p:nvGrpSpPr>
          <p:grpSpPr>
            <a:xfrm>
              <a:off x="6001920" y="5527800"/>
              <a:ext cx="211320" cy="132120"/>
              <a:chOff x="6001920" y="5527800"/>
              <a:chExt cx="211320" cy="132120"/>
            </a:xfrm>
          </p:grpSpPr>
          <p:sp>
            <p:nvSpPr>
              <p:cNvPr id="351" name=""/>
              <p:cNvSpPr/>
              <p:nvPr/>
            </p:nvSpPr>
            <p:spPr>
              <a:xfrm>
                <a:off x="6111000" y="5527800"/>
                <a:ext cx="90720" cy="392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6100920" y="5554080"/>
                <a:ext cx="112320" cy="475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3" name=""/>
              <p:cNvGrpSpPr/>
              <p:nvPr/>
            </p:nvGrpSpPr>
            <p:grpSpPr>
              <a:xfrm>
                <a:off x="6001920" y="5587920"/>
                <a:ext cx="111240" cy="72000"/>
                <a:chOff x="6001920" y="5587920"/>
                <a:chExt cx="111240" cy="72000"/>
              </a:xfrm>
            </p:grpSpPr>
            <p:sp>
              <p:nvSpPr>
                <p:cNvPr id="354" name=""/>
                <p:cNvSpPr/>
                <p:nvPr/>
              </p:nvSpPr>
              <p:spPr>
                <a:xfrm flipH="1">
                  <a:off x="6001920" y="5587920"/>
                  <a:ext cx="111240" cy="457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014520" y="5620680"/>
                  <a:ext cx="89280" cy="39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6" name=""/>
            <p:cNvGrpSpPr/>
            <p:nvPr/>
          </p:nvGrpSpPr>
          <p:grpSpPr>
            <a:xfrm>
              <a:off x="6000840" y="5653440"/>
              <a:ext cx="210960" cy="130320"/>
              <a:chOff x="6000840" y="5653440"/>
              <a:chExt cx="210960" cy="130320"/>
            </a:xfrm>
          </p:grpSpPr>
          <p:sp>
            <p:nvSpPr>
              <p:cNvPr id="357" name=""/>
              <p:cNvSpPr/>
              <p:nvPr/>
            </p:nvSpPr>
            <p:spPr>
              <a:xfrm>
                <a:off x="6109560" y="5653440"/>
                <a:ext cx="90360" cy="374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6099480" y="5677920"/>
                <a:ext cx="112320" cy="475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9" name=""/>
              <p:cNvGrpSpPr/>
              <p:nvPr/>
            </p:nvGrpSpPr>
            <p:grpSpPr>
              <a:xfrm>
                <a:off x="6000840" y="5712480"/>
                <a:ext cx="110520" cy="71280"/>
                <a:chOff x="6000840" y="5712480"/>
                <a:chExt cx="110520" cy="71280"/>
              </a:xfrm>
            </p:grpSpPr>
            <p:sp>
              <p:nvSpPr>
                <p:cNvPr id="360" name=""/>
                <p:cNvSpPr/>
                <p:nvPr/>
              </p:nvSpPr>
              <p:spPr>
                <a:xfrm flipH="1">
                  <a:off x="6000840" y="5712480"/>
                  <a:ext cx="110520" cy="486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013080" y="5747760"/>
                  <a:ext cx="88920" cy="36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2" name=""/>
            <p:cNvGrpSpPr/>
            <p:nvPr/>
          </p:nvGrpSpPr>
          <p:grpSpPr>
            <a:xfrm>
              <a:off x="5999400" y="5778000"/>
              <a:ext cx="211320" cy="133200"/>
              <a:chOff x="5999400" y="5778000"/>
              <a:chExt cx="211320" cy="133200"/>
            </a:xfrm>
          </p:grpSpPr>
          <p:sp>
            <p:nvSpPr>
              <p:cNvPr id="363" name=""/>
              <p:cNvSpPr/>
              <p:nvPr/>
            </p:nvSpPr>
            <p:spPr>
              <a:xfrm>
                <a:off x="6108480" y="5778000"/>
                <a:ext cx="90720" cy="40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6098400" y="5805360"/>
                <a:ext cx="112320" cy="43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5999400" y="5836320"/>
                <a:ext cx="110880" cy="74880"/>
                <a:chOff x="5999400" y="5836320"/>
                <a:chExt cx="110880" cy="74880"/>
              </a:xfrm>
            </p:grpSpPr>
            <p:sp>
              <p:nvSpPr>
                <p:cNvPr id="366" name=""/>
                <p:cNvSpPr/>
                <p:nvPr/>
              </p:nvSpPr>
              <p:spPr>
                <a:xfrm flipH="1">
                  <a:off x="5999400" y="5836320"/>
                  <a:ext cx="110880" cy="471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012000" y="5870520"/>
                  <a:ext cx="89280" cy="4068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8" name=""/>
            <p:cNvGrpSpPr/>
            <p:nvPr/>
          </p:nvGrpSpPr>
          <p:grpSpPr>
            <a:xfrm>
              <a:off x="6004800" y="5910840"/>
              <a:ext cx="211320" cy="128520"/>
              <a:chOff x="6004800" y="5910840"/>
              <a:chExt cx="211320" cy="128520"/>
            </a:xfrm>
          </p:grpSpPr>
          <p:sp>
            <p:nvSpPr>
              <p:cNvPr id="369" name=""/>
              <p:cNvSpPr/>
              <p:nvPr/>
            </p:nvSpPr>
            <p:spPr>
              <a:xfrm>
                <a:off x="6113880" y="5910840"/>
                <a:ext cx="90360" cy="378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6103440" y="5935320"/>
                <a:ext cx="112680" cy="453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1" name=""/>
              <p:cNvGrpSpPr/>
              <p:nvPr/>
            </p:nvGrpSpPr>
            <p:grpSpPr>
              <a:xfrm>
                <a:off x="6004800" y="5968080"/>
                <a:ext cx="110880" cy="71280"/>
                <a:chOff x="6004800" y="5968080"/>
                <a:chExt cx="110880" cy="71280"/>
              </a:xfrm>
            </p:grpSpPr>
            <p:sp>
              <p:nvSpPr>
                <p:cNvPr id="372" name=""/>
                <p:cNvSpPr/>
                <p:nvPr/>
              </p:nvSpPr>
              <p:spPr>
                <a:xfrm flipH="1">
                  <a:off x="6004800" y="5968080"/>
                  <a:ext cx="110880" cy="486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6017400" y="6003360"/>
                  <a:ext cx="88920" cy="36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4" name=""/>
            <p:cNvGrpSpPr/>
            <p:nvPr/>
          </p:nvGrpSpPr>
          <p:grpSpPr>
            <a:xfrm>
              <a:off x="6003360" y="6033240"/>
              <a:ext cx="210960" cy="133560"/>
              <a:chOff x="6003360" y="6033240"/>
              <a:chExt cx="210960" cy="133560"/>
            </a:xfrm>
          </p:grpSpPr>
          <p:sp>
            <p:nvSpPr>
              <p:cNvPr id="375" name=""/>
              <p:cNvSpPr/>
              <p:nvPr/>
            </p:nvSpPr>
            <p:spPr>
              <a:xfrm>
                <a:off x="6112080" y="6033240"/>
                <a:ext cx="90720" cy="388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6102360" y="6059520"/>
                <a:ext cx="111960" cy="486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7" name=""/>
              <p:cNvGrpSpPr/>
              <p:nvPr/>
            </p:nvGrpSpPr>
            <p:grpSpPr>
              <a:xfrm>
                <a:off x="6003360" y="6095520"/>
                <a:ext cx="110880" cy="71280"/>
                <a:chOff x="6003360" y="6095520"/>
                <a:chExt cx="110880" cy="71280"/>
              </a:xfrm>
            </p:grpSpPr>
            <p:sp>
              <p:nvSpPr>
                <p:cNvPr id="378" name=""/>
                <p:cNvSpPr/>
                <p:nvPr/>
              </p:nvSpPr>
              <p:spPr>
                <a:xfrm flipH="1">
                  <a:off x="6003360" y="6095520"/>
                  <a:ext cx="110880" cy="43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015600" y="6126120"/>
                  <a:ext cx="89280" cy="4068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0" name=""/>
            <p:cNvSpPr/>
            <p:nvPr/>
          </p:nvSpPr>
          <p:spPr>
            <a:xfrm flipH="1" flipV="1">
              <a:off x="6098760" y="5064480"/>
              <a:ext cx="3240" cy="77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 flipV="1">
              <a:off x="6117120" y="6159600"/>
              <a:ext cx="3240" cy="748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 rot="21462000">
              <a:off x="6107040" y="6251040"/>
              <a:ext cx="20880" cy="28440"/>
            </a:xfrm>
            <a:prstGeom prst="ellipse">
              <a:avLst/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5997960" y="3812760"/>
            <a:ext cx="218160" cy="1216080"/>
            <a:chOff x="5997960" y="3812760"/>
            <a:chExt cx="218160" cy="1216080"/>
          </a:xfrm>
        </p:grpSpPr>
        <p:grpSp>
          <p:nvGrpSpPr>
            <p:cNvPr id="384" name=""/>
            <p:cNvGrpSpPr/>
            <p:nvPr/>
          </p:nvGrpSpPr>
          <p:grpSpPr>
            <a:xfrm>
              <a:off x="5999400" y="4821120"/>
              <a:ext cx="210960" cy="130320"/>
              <a:chOff x="5999400" y="4821120"/>
              <a:chExt cx="210960" cy="130320"/>
            </a:xfrm>
          </p:grpSpPr>
          <p:sp>
            <p:nvSpPr>
              <p:cNvPr id="385" name=""/>
              <p:cNvSpPr/>
              <p:nvPr/>
            </p:nvSpPr>
            <p:spPr>
              <a:xfrm flipV="1">
                <a:off x="6108120" y="4914000"/>
                <a:ext cx="90360" cy="374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 flipV="1">
                <a:off x="6098040" y="4879440"/>
                <a:ext cx="112320" cy="475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7" name=""/>
              <p:cNvGrpSpPr/>
              <p:nvPr/>
            </p:nvGrpSpPr>
            <p:grpSpPr>
              <a:xfrm>
                <a:off x="5999400" y="4821120"/>
                <a:ext cx="110520" cy="71280"/>
                <a:chOff x="5999400" y="4821120"/>
                <a:chExt cx="110520" cy="71280"/>
              </a:xfrm>
            </p:grpSpPr>
            <p:sp>
              <p:nvSpPr>
                <p:cNvPr id="388" name=""/>
                <p:cNvSpPr/>
                <p:nvPr/>
              </p:nvSpPr>
              <p:spPr>
                <a:xfrm flipH="1" flipV="1">
                  <a:off x="5999400" y="4843800"/>
                  <a:ext cx="110520" cy="486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V="1">
                  <a:off x="6011640" y="4821120"/>
                  <a:ext cx="88920" cy="36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0" name=""/>
            <p:cNvGrpSpPr/>
            <p:nvPr/>
          </p:nvGrpSpPr>
          <p:grpSpPr>
            <a:xfrm>
              <a:off x="5997960" y="4687200"/>
              <a:ext cx="211320" cy="133920"/>
              <a:chOff x="5997960" y="4687200"/>
              <a:chExt cx="211320" cy="133920"/>
            </a:xfrm>
          </p:grpSpPr>
          <p:sp>
            <p:nvSpPr>
              <p:cNvPr id="391" name=""/>
              <p:cNvSpPr/>
              <p:nvPr/>
            </p:nvSpPr>
            <p:spPr>
              <a:xfrm flipV="1">
                <a:off x="6106680" y="4780080"/>
                <a:ext cx="90720" cy="41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 flipV="1">
                <a:off x="6096600" y="4749480"/>
                <a:ext cx="112680" cy="43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93" name=""/>
              <p:cNvGrpSpPr/>
              <p:nvPr/>
            </p:nvGrpSpPr>
            <p:grpSpPr>
              <a:xfrm>
                <a:off x="5997960" y="4687200"/>
                <a:ext cx="110880" cy="75240"/>
                <a:chOff x="5997960" y="4687200"/>
                <a:chExt cx="110880" cy="75240"/>
              </a:xfrm>
            </p:grpSpPr>
            <p:sp>
              <p:nvSpPr>
                <p:cNvPr id="394" name=""/>
                <p:cNvSpPr/>
                <p:nvPr/>
              </p:nvSpPr>
              <p:spPr>
                <a:xfrm flipH="1" flipV="1">
                  <a:off x="5997960" y="4713120"/>
                  <a:ext cx="110880" cy="49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V="1">
                  <a:off x="6010560" y="4687200"/>
                  <a:ext cx="88920" cy="39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6" name=""/>
            <p:cNvGrpSpPr/>
            <p:nvPr/>
          </p:nvGrpSpPr>
          <p:grpSpPr>
            <a:xfrm>
              <a:off x="6003000" y="4565520"/>
              <a:ext cx="211320" cy="128520"/>
              <a:chOff x="6003000" y="4565520"/>
              <a:chExt cx="211320" cy="128520"/>
            </a:xfrm>
          </p:grpSpPr>
          <p:sp>
            <p:nvSpPr>
              <p:cNvPr id="397" name=""/>
              <p:cNvSpPr/>
              <p:nvPr/>
            </p:nvSpPr>
            <p:spPr>
              <a:xfrm flipV="1">
                <a:off x="6112080" y="4656240"/>
                <a:ext cx="90360" cy="378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 flipV="1">
                <a:off x="6102000" y="4622040"/>
                <a:ext cx="112320" cy="471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99" name=""/>
              <p:cNvGrpSpPr/>
              <p:nvPr/>
            </p:nvGrpSpPr>
            <p:grpSpPr>
              <a:xfrm>
                <a:off x="6003000" y="4565520"/>
                <a:ext cx="110880" cy="69840"/>
                <a:chOff x="6003000" y="4565520"/>
                <a:chExt cx="110880" cy="69840"/>
              </a:xfrm>
            </p:grpSpPr>
            <p:sp>
              <p:nvSpPr>
                <p:cNvPr id="400" name=""/>
                <p:cNvSpPr/>
                <p:nvPr/>
              </p:nvSpPr>
              <p:spPr>
                <a:xfrm flipH="1" flipV="1">
                  <a:off x="6003000" y="4589640"/>
                  <a:ext cx="110880" cy="457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V="1">
                  <a:off x="6015600" y="4565520"/>
                  <a:ext cx="88920" cy="374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2" name=""/>
            <p:cNvGrpSpPr/>
            <p:nvPr/>
          </p:nvGrpSpPr>
          <p:grpSpPr>
            <a:xfrm>
              <a:off x="6001920" y="4433400"/>
              <a:ext cx="211320" cy="132120"/>
              <a:chOff x="6001920" y="4433400"/>
              <a:chExt cx="211320" cy="132120"/>
            </a:xfrm>
          </p:grpSpPr>
          <p:sp>
            <p:nvSpPr>
              <p:cNvPr id="403" name=""/>
              <p:cNvSpPr/>
              <p:nvPr/>
            </p:nvSpPr>
            <p:spPr>
              <a:xfrm flipV="1">
                <a:off x="6111000" y="4526280"/>
                <a:ext cx="90720" cy="392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 flipV="1">
                <a:off x="6100920" y="4491720"/>
                <a:ext cx="112320" cy="475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05" name=""/>
              <p:cNvGrpSpPr/>
              <p:nvPr/>
            </p:nvGrpSpPr>
            <p:grpSpPr>
              <a:xfrm>
                <a:off x="6001920" y="4433400"/>
                <a:ext cx="111240" cy="72000"/>
                <a:chOff x="6001920" y="4433400"/>
                <a:chExt cx="111240" cy="72000"/>
              </a:xfrm>
            </p:grpSpPr>
            <p:sp>
              <p:nvSpPr>
                <p:cNvPr id="406" name=""/>
                <p:cNvSpPr/>
                <p:nvPr/>
              </p:nvSpPr>
              <p:spPr>
                <a:xfrm flipH="1" flipV="1">
                  <a:off x="6001920" y="4459680"/>
                  <a:ext cx="111240" cy="457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V="1">
                  <a:off x="6014520" y="4433400"/>
                  <a:ext cx="89280" cy="39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8" name=""/>
            <p:cNvGrpSpPr/>
            <p:nvPr/>
          </p:nvGrpSpPr>
          <p:grpSpPr>
            <a:xfrm>
              <a:off x="6000840" y="4309560"/>
              <a:ext cx="210960" cy="130320"/>
              <a:chOff x="6000840" y="4309560"/>
              <a:chExt cx="210960" cy="130320"/>
            </a:xfrm>
          </p:grpSpPr>
          <p:sp>
            <p:nvSpPr>
              <p:cNvPr id="409" name=""/>
              <p:cNvSpPr/>
              <p:nvPr/>
            </p:nvSpPr>
            <p:spPr>
              <a:xfrm flipV="1">
                <a:off x="6109560" y="4402440"/>
                <a:ext cx="90360" cy="374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 flipV="1">
                <a:off x="6099480" y="4367880"/>
                <a:ext cx="112320" cy="475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1" name=""/>
              <p:cNvGrpSpPr/>
              <p:nvPr/>
            </p:nvGrpSpPr>
            <p:grpSpPr>
              <a:xfrm>
                <a:off x="6000840" y="4309560"/>
                <a:ext cx="110520" cy="71280"/>
                <a:chOff x="6000840" y="4309560"/>
                <a:chExt cx="110520" cy="71280"/>
              </a:xfrm>
            </p:grpSpPr>
            <p:sp>
              <p:nvSpPr>
                <p:cNvPr id="412" name=""/>
                <p:cNvSpPr/>
                <p:nvPr/>
              </p:nvSpPr>
              <p:spPr>
                <a:xfrm flipH="1" flipV="1">
                  <a:off x="6000840" y="4332240"/>
                  <a:ext cx="110520" cy="486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flipV="1">
                  <a:off x="6013080" y="4309560"/>
                  <a:ext cx="88920" cy="36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4" name=""/>
            <p:cNvGrpSpPr/>
            <p:nvPr/>
          </p:nvGrpSpPr>
          <p:grpSpPr>
            <a:xfrm>
              <a:off x="5999400" y="4182120"/>
              <a:ext cx="211320" cy="133200"/>
              <a:chOff x="5999400" y="4182120"/>
              <a:chExt cx="211320" cy="133200"/>
            </a:xfrm>
          </p:grpSpPr>
          <p:sp>
            <p:nvSpPr>
              <p:cNvPr id="415" name=""/>
              <p:cNvSpPr/>
              <p:nvPr/>
            </p:nvSpPr>
            <p:spPr>
              <a:xfrm flipV="1">
                <a:off x="6108480" y="4274640"/>
                <a:ext cx="90720" cy="40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 flipV="1">
                <a:off x="6098400" y="4244040"/>
                <a:ext cx="112320" cy="43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7" name=""/>
              <p:cNvGrpSpPr/>
              <p:nvPr/>
            </p:nvGrpSpPr>
            <p:grpSpPr>
              <a:xfrm>
                <a:off x="5999400" y="4182120"/>
                <a:ext cx="110880" cy="74880"/>
                <a:chOff x="5999400" y="4182120"/>
                <a:chExt cx="110880" cy="74880"/>
              </a:xfrm>
            </p:grpSpPr>
            <p:sp>
              <p:nvSpPr>
                <p:cNvPr id="418" name=""/>
                <p:cNvSpPr/>
                <p:nvPr/>
              </p:nvSpPr>
              <p:spPr>
                <a:xfrm flipH="1" flipV="1">
                  <a:off x="5999400" y="4209840"/>
                  <a:ext cx="110880" cy="471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flipV="1">
                  <a:off x="6012000" y="4182120"/>
                  <a:ext cx="89280" cy="4068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0" name=""/>
            <p:cNvGrpSpPr/>
            <p:nvPr/>
          </p:nvGrpSpPr>
          <p:grpSpPr>
            <a:xfrm>
              <a:off x="6004800" y="4053960"/>
              <a:ext cx="211320" cy="128520"/>
              <a:chOff x="6004800" y="4053960"/>
              <a:chExt cx="211320" cy="128520"/>
            </a:xfrm>
          </p:grpSpPr>
          <p:sp>
            <p:nvSpPr>
              <p:cNvPr id="421" name=""/>
              <p:cNvSpPr/>
              <p:nvPr/>
            </p:nvSpPr>
            <p:spPr>
              <a:xfrm flipV="1">
                <a:off x="6113880" y="4144680"/>
                <a:ext cx="90360" cy="378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 flipV="1">
                <a:off x="6103440" y="4112640"/>
                <a:ext cx="112680" cy="453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3" name=""/>
              <p:cNvGrpSpPr/>
              <p:nvPr/>
            </p:nvGrpSpPr>
            <p:grpSpPr>
              <a:xfrm>
                <a:off x="6004800" y="4053960"/>
                <a:ext cx="110880" cy="71280"/>
                <a:chOff x="6004800" y="4053960"/>
                <a:chExt cx="110880" cy="71280"/>
              </a:xfrm>
            </p:grpSpPr>
            <p:sp>
              <p:nvSpPr>
                <p:cNvPr id="424" name=""/>
                <p:cNvSpPr/>
                <p:nvPr/>
              </p:nvSpPr>
              <p:spPr>
                <a:xfrm flipH="1" flipV="1">
                  <a:off x="6004800" y="4076640"/>
                  <a:ext cx="110880" cy="486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V="1">
                  <a:off x="6017400" y="4053960"/>
                  <a:ext cx="88920" cy="36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6" name=""/>
            <p:cNvGrpSpPr/>
            <p:nvPr/>
          </p:nvGrpSpPr>
          <p:grpSpPr>
            <a:xfrm>
              <a:off x="6003360" y="3926520"/>
              <a:ext cx="210960" cy="133560"/>
              <a:chOff x="6003360" y="3926520"/>
              <a:chExt cx="210960" cy="133560"/>
            </a:xfrm>
          </p:grpSpPr>
          <p:sp>
            <p:nvSpPr>
              <p:cNvPr id="427" name=""/>
              <p:cNvSpPr/>
              <p:nvPr/>
            </p:nvSpPr>
            <p:spPr>
              <a:xfrm flipV="1">
                <a:off x="6112080" y="4021200"/>
                <a:ext cx="90720" cy="388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 flipV="1">
                <a:off x="6102360" y="3985200"/>
                <a:ext cx="111960" cy="486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9" name=""/>
              <p:cNvGrpSpPr/>
              <p:nvPr/>
            </p:nvGrpSpPr>
            <p:grpSpPr>
              <a:xfrm>
                <a:off x="6003360" y="3926520"/>
                <a:ext cx="110880" cy="71280"/>
                <a:chOff x="6003360" y="3926520"/>
                <a:chExt cx="110880" cy="71280"/>
              </a:xfrm>
            </p:grpSpPr>
            <p:sp>
              <p:nvSpPr>
                <p:cNvPr id="430" name=""/>
                <p:cNvSpPr/>
                <p:nvPr/>
              </p:nvSpPr>
              <p:spPr>
                <a:xfrm flipH="1" flipV="1">
                  <a:off x="6003360" y="3953880"/>
                  <a:ext cx="110880" cy="43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flipV="1">
                  <a:off x="6015600" y="3926520"/>
                  <a:ext cx="89280" cy="4068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2" name=""/>
            <p:cNvSpPr/>
            <p:nvPr/>
          </p:nvSpPr>
          <p:spPr>
            <a:xfrm flipH="1">
              <a:off x="6098760" y="4951440"/>
              <a:ext cx="3240" cy="77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6117120" y="3858840"/>
              <a:ext cx="3240" cy="748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38000">
              <a:off x="6107040" y="3813120"/>
              <a:ext cx="20880" cy="28440"/>
            </a:xfrm>
            <a:prstGeom prst="ellipse">
              <a:avLst/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2366640" y="5016240"/>
            <a:ext cx="916920" cy="1161000"/>
            <a:chOff x="2366640" y="5016240"/>
            <a:chExt cx="916920" cy="1161000"/>
          </a:xfrm>
        </p:grpSpPr>
        <p:grpSp>
          <p:nvGrpSpPr>
            <p:cNvPr id="436" name=""/>
            <p:cNvGrpSpPr/>
            <p:nvPr/>
          </p:nvGrpSpPr>
          <p:grpSpPr>
            <a:xfrm>
              <a:off x="2366640" y="5016240"/>
              <a:ext cx="884520" cy="1103400"/>
              <a:chOff x="2366640" y="5016240"/>
              <a:chExt cx="884520" cy="1103400"/>
            </a:xfrm>
          </p:grpSpPr>
          <p:grpSp>
            <p:nvGrpSpPr>
              <p:cNvPr id="437" name=""/>
              <p:cNvGrpSpPr/>
              <p:nvPr/>
            </p:nvGrpSpPr>
            <p:grpSpPr>
              <a:xfrm>
                <a:off x="2427120" y="5059440"/>
                <a:ext cx="217440" cy="314280"/>
                <a:chOff x="2427120" y="5059440"/>
                <a:chExt cx="217440" cy="314280"/>
              </a:xfrm>
            </p:grpSpPr>
            <p:grpSp>
              <p:nvGrpSpPr>
                <p:cNvPr id="438" name=""/>
                <p:cNvGrpSpPr/>
                <p:nvPr/>
              </p:nvGrpSpPr>
              <p:grpSpPr>
                <a:xfrm>
                  <a:off x="2427120" y="5059440"/>
                  <a:ext cx="124200" cy="198360"/>
                  <a:chOff x="2427120" y="5059440"/>
                  <a:chExt cx="124200" cy="19836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flipV="1">
                    <a:off x="2449440" y="5071680"/>
                    <a:ext cx="88920" cy="208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flipH="1">
                    <a:off x="2481480" y="5059440"/>
                    <a:ext cx="69840" cy="1047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1" name=""/>
                  <p:cNvGrpSpPr/>
                  <p:nvPr/>
                </p:nvGrpSpPr>
                <p:grpSpPr>
                  <a:xfrm>
                    <a:off x="2427120" y="5151600"/>
                    <a:ext cx="100080" cy="106200"/>
                    <a:chOff x="2427120" y="5151600"/>
                    <a:chExt cx="100080" cy="106200"/>
                  </a:xfrm>
                </p:grpSpPr>
                <p:sp>
                  <p:nvSpPr>
                    <p:cNvPr id="442" name=""/>
                    <p:cNvSpPr/>
                    <p:nvPr/>
                  </p:nvSpPr>
                  <p:spPr>
                    <a:xfrm flipH="1">
                      <a:off x="2427120" y="5151600"/>
                      <a:ext cx="66600" cy="1062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 flipV="1">
                      <a:off x="2440080" y="5222520"/>
                      <a:ext cx="87120" cy="223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44" name=""/>
                <p:cNvGrpSpPr/>
                <p:nvPr/>
              </p:nvGrpSpPr>
              <p:grpSpPr>
                <a:xfrm>
                  <a:off x="2519280" y="5178240"/>
                  <a:ext cx="125280" cy="195480"/>
                  <a:chOff x="2519280" y="5178240"/>
                  <a:chExt cx="125280" cy="195480"/>
                </a:xfrm>
              </p:grpSpPr>
              <p:sp>
                <p:nvSpPr>
                  <p:cNvPr id="445" name=""/>
                  <p:cNvSpPr/>
                  <p:nvPr/>
                </p:nvSpPr>
                <p:spPr>
                  <a:xfrm flipV="1">
                    <a:off x="2540160" y="5190840"/>
                    <a:ext cx="91800" cy="190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flipH="1">
                    <a:off x="2572920" y="5178240"/>
                    <a:ext cx="71640" cy="1029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7" name=""/>
                  <p:cNvGrpSpPr/>
                  <p:nvPr/>
                </p:nvGrpSpPr>
                <p:grpSpPr>
                  <a:xfrm>
                    <a:off x="2519280" y="5268960"/>
                    <a:ext cx="101880" cy="104760"/>
                    <a:chOff x="2519280" y="5268960"/>
                    <a:chExt cx="101880" cy="104760"/>
                  </a:xfrm>
                </p:grpSpPr>
                <p:sp>
                  <p:nvSpPr>
                    <p:cNvPr id="448" name=""/>
                    <p:cNvSpPr/>
                    <p:nvPr/>
                  </p:nvSpPr>
                  <p:spPr>
                    <a:xfrm flipH="1">
                      <a:off x="2519280" y="5268960"/>
                      <a:ext cx="66960" cy="1047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9" name=""/>
                    <p:cNvSpPr/>
                    <p:nvPr/>
                  </p:nvSpPr>
                  <p:spPr>
                    <a:xfrm flipV="1">
                      <a:off x="2532240" y="5341680"/>
                      <a:ext cx="88920" cy="190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50" name=""/>
              <p:cNvGrpSpPr/>
              <p:nvPr/>
            </p:nvGrpSpPr>
            <p:grpSpPr>
              <a:xfrm>
                <a:off x="2610000" y="5295960"/>
                <a:ext cx="217440" cy="310680"/>
                <a:chOff x="2610000" y="5295960"/>
                <a:chExt cx="217440" cy="310680"/>
              </a:xfrm>
            </p:grpSpPr>
            <p:grpSp>
              <p:nvGrpSpPr>
                <p:cNvPr id="451" name=""/>
                <p:cNvGrpSpPr/>
                <p:nvPr/>
              </p:nvGrpSpPr>
              <p:grpSpPr>
                <a:xfrm>
                  <a:off x="2610000" y="5295960"/>
                  <a:ext cx="126720" cy="195120"/>
                  <a:chOff x="2610000" y="5295960"/>
                  <a:chExt cx="126720" cy="195120"/>
                </a:xfrm>
              </p:grpSpPr>
              <p:sp>
                <p:nvSpPr>
                  <p:cNvPr id="452" name=""/>
                  <p:cNvSpPr/>
                  <p:nvPr/>
                </p:nvSpPr>
                <p:spPr>
                  <a:xfrm flipV="1">
                    <a:off x="2633760" y="5308200"/>
                    <a:ext cx="90360" cy="208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 flipH="1">
                    <a:off x="2666520" y="5295960"/>
                    <a:ext cx="70200" cy="1033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54" name=""/>
                  <p:cNvGrpSpPr/>
                  <p:nvPr/>
                </p:nvGrpSpPr>
                <p:grpSpPr>
                  <a:xfrm>
                    <a:off x="2610000" y="5386320"/>
                    <a:ext cx="101520" cy="104760"/>
                    <a:chOff x="2610000" y="5386320"/>
                    <a:chExt cx="101520" cy="104760"/>
                  </a:xfrm>
                </p:grpSpPr>
                <p:sp>
                  <p:nvSpPr>
                    <p:cNvPr id="455" name=""/>
                    <p:cNvSpPr/>
                    <p:nvPr/>
                  </p:nvSpPr>
                  <p:spPr>
                    <a:xfrm flipH="1">
                      <a:off x="2610000" y="5386320"/>
                      <a:ext cx="69840" cy="1047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 flipV="1">
                      <a:off x="2622600" y="5457600"/>
                      <a:ext cx="88920" cy="205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57" name=""/>
                <p:cNvGrpSpPr/>
                <p:nvPr/>
              </p:nvGrpSpPr>
              <p:grpSpPr>
                <a:xfrm>
                  <a:off x="2700000" y="5413320"/>
                  <a:ext cx="127440" cy="193320"/>
                  <a:chOff x="2700000" y="5413320"/>
                  <a:chExt cx="127440" cy="193320"/>
                </a:xfrm>
              </p:grpSpPr>
              <p:sp>
                <p:nvSpPr>
                  <p:cNvPr id="458" name=""/>
                  <p:cNvSpPr/>
                  <p:nvPr/>
                </p:nvSpPr>
                <p:spPr>
                  <a:xfrm flipV="1">
                    <a:off x="2724120" y="5425920"/>
                    <a:ext cx="90720" cy="187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 flipH="1">
                    <a:off x="2759040" y="5413320"/>
                    <a:ext cx="68400" cy="1047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60" name=""/>
                  <p:cNvGrpSpPr/>
                  <p:nvPr/>
                </p:nvGrpSpPr>
                <p:grpSpPr>
                  <a:xfrm>
                    <a:off x="2700000" y="5505120"/>
                    <a:ext cx="103680" cy="101520"/>
                    <a:chOff x="2700000" y="5505120"/>
                    <a:chExt cx="103680" cy="101520"/>
                  </a:xfrm>
                </p:grpSpPr>
                <p:sp>
                  <p:nvSpPr>
                    <p:cNvPr id="461" name=""/>
                    <p:cNvSpPr/>
                    <p:nvPr/>
                  </p:nvSpPr>
                  <p:spPr>
                    <a:xfrm flipH="1">
                      <a:off x="2700000" y="5505120"/>
                      <a:ext cx="71640" cy="1015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"/>
                    <p:cNvSpPr/>
                    <p:nvPr/>
                  </p:nvSpPr>
                  <p:spPr>
                    <a:xfrm flipV="1">
                      <a:off x="2712960" y="5574960"/>
                      <a:ext cx="90720" cy="190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63" name=""/>
              <p:cNvGrpSpPr/>
              <p:nvPr/>
            </p:nvGrpSpPr>
            <p:grpSpPr>
              <a:xfrm>
                <a:off x="2793960" y="5529240"/>
                <a:ext cx="217440" cy="312840"/>
                <a:chOff x="2793960" y="5529240"/>
                <a:chExt cx="217440" cy="312840"/>
              </a:xfrm>
            </p:grpSpPr>
            <p:grpSp>
              <p:nvGrpSpPr>
                <p:cNvPr id="464" name=""/>
                <p:cNvGrpSpPr/>
                <p:nvPr/>
              </p:nvGrpSpPr>
              <p:grpSpPr>
                <a:xfrm>
                  <a:off x="2793960" y="5529240"/>
                  <a:ext cx="123480" cy="198360"/>
                  <a:chOff x="2793960" y="5529240"/>
                  <a:chExt cx="123480" cy="19836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flipV="1">
                    <a:off x="2816280" y="5541480"/>
                    <a:ext cx="88920" cy="208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flipH="1">
                    <a:off x="2849400" y="5529240"/>
                    <a:ext cx="68040" cy="1047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67" name=""/>
                  <p:cNvGrpSpPr/>
                  <p:nvPr/>
                </p:nvGrpSpPr>
                <p:grpSpPr>
                  <a:xfrm>
                    <a:off x="2793960" y="5621400"/>
                    <a:ext cx="101520" cy="106200"/>
                    <a:chOff x="2793960" y="5621400"/>
                    <a:chExt cx="101520" cy="106200"/>
                  </a:xfrm>
                </p:grpSpPr>
                <p:sp>
                  <p:nvSpPr>
                    <p:cNvPr id="468" name=""/>
                    <p:cNvSpPr/>
                    <p:nvPr/>
                  </p:nvSpPr>
                  <p:spPr>
                    <a:xfrm flipH="1">
                      <a:off x="2793960" y="5621400"/>
                      <a:ext cx="68400" cy="1062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 flipV="1">
                      <a:off x="2806920" y="5692320"/>
                      <a:ext cx="88560" cy="223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2884320" y="5649480"/>
                  <a:ext cx="127080" cy="192600"/>
                  <a:chOff x="2884320" y="5649480"/>
                  <a:chExt cx="127080" cy="19260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flipV="1">
                    <a:off x="2908440" y="5662440"/>
                    <a:ext cx="90360" cy="172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flipH="1">
                    <a:off x="2940120" y="5649480"/>
                    <a:ext cx="71280" cy="1000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73" name=""/>
                  <p:cNvGrpSpPr/>
                  <p:nvPr/>
                </p:nvGrpSpPr>
                <p:grpSpPr>
                  <a:xfrm>
                    <a:off x="2884320" y="5737320"/>
                    <a:ext cx="103320" cy="104760"/>
                    <a:chOff x="2884320" y="5737320"/>
                    <a:chExt cx="103320" cy="104760"/>
                  </a:xfrm>
                </p:grpSpPr>
                <p:sp>
                  <p:nvSpPr>
                    <p:cNvPr id="474" name=""/>
                    <p:cNvSpPr/>
                    <p:nvPr/>
                  </p:nvSpPr>
                  <p:spPr>
                    <a:xfrm flipH="1">
                      <a:off x="2884320" y="5737320"/>
                      <a:ext cx="68040" cy="1047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5" name=""/>
                    <p:cNvSpPr/>
                    <p:nvPr/>
                  </p:nvSpPr>
                  <p:spPr>
                    <a:xfrm flipV="1">
                      <a:off x="2897280" y="5811480"/>
                      <a:ext cx="90360" cy="17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76" name=""/>
              <p:cNvGrpSpPr/>
              <p:nvPr/>
            </p:nvGrpSpPr>
            <p:grpSpPr>
              <a:xfrm>
                <a:off x="2977920" y="5765760"/>
                <a:ext cx="216360" cy="311040"/>
                <a:chOff x="2977920" y="5765760"/>
                <a:chExt cx="216360" cy="311040"/>
              </a:xfrm>
            </p:grpSpPr>
            <p:grpSp>
              <p:nvGrpSpPr>
                <p:cNvPr id="477" name=""/>
                <p:cNvGrpSpPr/>
                <p:nvPr/>
              </p:nvGrpSpPr>
              <p:grpSpPr>
                <a:xfrm>
                  <a:off x="2977920" y="5765760"/>
                  <a:ext cx="124200" cy="196920"/>
                  <a:chOff x="2977920" y="5765760"/>
                  <a:chExt cx="124200" cy="196920"/>
                </a:xfrm>
              </p:grpSpPr>
              <p:sp>
                <p:nvSpPr>
                  <p:cNvPr id="478" name=""/>
                  <p:cNvSpPr/>
                  <p:nvPr/>
                </p:nvSpPr>
                <p:spPr>
                  <a:xfrm flipV="1">
                    <a:off x="3000600" y="5778360"/>
                    <a:ext cx="88560" cy="205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flipH="1">
                    <a:off x="3033720" y="5765760"/>
                    <a:ext cx="68400" cy="1033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80" name=""/>
                  <p:cNvGrpSpPr/>
                  <p:nvPr/>
                </p:nvGrpSpPr>
                <p:grpSpPr>
                  <a:xfrm>
                    <a:off x="2977920" y="5856480"/>
                    <a:ext cx="100440" cy="106200"/>
                    <a:chOff x="2977920" y="5856480"/>
                    <a:chExt cx="100440" cy="106200"/>
                  </a:xfrm>
                </p:grpSpPr>
                <p:sp>
                  <p:nvSpPr>
                    <p:cNvPr id="481" name=""/>
                    <p:cNvSpPr/>
                    <p:nvPr/>
                  </p:nvSpPr>
                  <p:spPr>
                    <a:xfrm flipH="1">
                      <a:off x="2977920" y="5856480"/>
                      <a:ext cx="68040" cy="1062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"/>
                    <p:cNvSpPr/>
                    <p:nvPr/>
                  </p:nvSpPr>
                  <p:spPr>
                    <a:xfrm flipV="1">
                      <a:off x="2990880" y="5925960"/>
                      <a:ext cx="87480" cy="237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83" name=""/>
                <p:cNvGrpSpPr/>
                <p:nvPr/>
              </p:nvGrpSpPr>
              <p:grpSpPr>
                <a:xfrm>
                  <a:off x="3068280" y="5881320"/>
                  <a:ext cx="126000" cy="195480"/>
                  <a:chOff x="3068280" y="5881320"/>
                  <a:chExt cx="126000" cy="19548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 flipV="1">
                    <a:off x="3090960" y="5893920"/>
                    <a:ext cx="90360" cy="190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flipH="1">
                    <a:off x="3127320" y="5881320"/>
                    <a:ext cx="66960" cy="108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86" name=""/>
                  <p:cNvGrpSpPr/>
                  <p:nvPr/>
                </p:nvGrpSpPr>
                <p:grpSpPr>
                  <a:xfrm>
                    <a:off x="3068280" y="5976720"/>
                    <a:ext cx="103680" cy="100080"/>
                    <a:chOff x="3068280" y="5976720"/>
                    <a:chExt cx="103680" cy="100080"/>
                  </a:xfrm>
                </p:grpSpPr>
                <p:sp>
                  <p:nvSpPr>
                    <p:cNvPr id="487" name=""/>
                    <p:cNvSpPr/>
                    <p:nvPr/>
                  </p:nvSpPr>
                  <p:spPr>
                    <a:xfrm flipH="1">
                      <a:off x="3068280" y="5976720"/>
                      <a:ext cx="71640" cy="1000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 flipV="1">
                      <a:off x="3081240" y="6046560"/>
                      <a:ext cx="90720" cy="172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489" name=""/>
              <p:cNvSpPr/>
              <p:nvPr/>
            </p:nvSpPr>
            <p:spPr>
              <a:xfrm flipH="1" flipV="1">
                <a:off x="2366640" y="5016240"/>
                <a:ext cx="82440" cy="763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 flipV="1">
                <a:off x="3171960" y="6046560"/>
                <a:ext cx="79200" cy="730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1" name=""/>
            <p:cNvSpPr/>
            <p:nvPr/>
          </p:nvSpPr>
          <p:spPr>
            <a:xfrm flipV="1" rot="19320000">
              <a:off x="3252960" y="6135120"/>
              <a:ext cx="20520" cy="39600"/>
            </a:xfrm>
            <a:prstGeom prst="ellipse">
              <a:avLst/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سئله : پرتاب با فنر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فقط نیروها پایستار حضور دارند لذا انرژی مکانیک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+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پایستار اس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 = -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s</a:t>
            </a:r>
            <a:r>
              <a:rPr b="0" i="1" lang="fa-IR" sz="2000" spc="-1" strike="noStrike" baseline="-25000">
                <a:solidFill>
                  <a:srgbClr val="fafd00"/>
                </a:solidFill>
                <a:latin typeface="Arial"/>
                <a:ea typeface="Arial"/>
              </a:rPr>
              <a:t>                                                 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E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2334960" y="3857040"/>
            <a:ext cx="916920" cy="1161000"/>
            <a:chOff x="2334960" y="3857040"/>
            <a:chExt cx="916920" cy="1161000"/>
          </a:xfrm>
        </p:grpSpPr>
        <p:grpSp>
          <p:nvGrpSpPr>
            <p:cNvPr id="497" name=""/>
            <p:cNvGrpSpPr/>
            <p:nvPr/>
          </p:nvGrpSpPr>
          <p:grpSpPr>
            <a:xfrm>
              <a:off x="2334960" y="3914640"/>
              <a:ext cx="884160" cy="1103400"/>
              <a:chOff x="2334960" y="3914640"/>
              <a:chExt cx="884160" cy="1103400"/>
            </a:xfrm>
          </p:grpSpPr>
          <p:grpSp>
            <p:nvGrpSpPr>
              <p:cNvPr id="498" name=""/>
              <p:cNvGrpSpPr/>
              <p:nvPr/>
            </p:nvGrpSpPr>
            <p:grpSpPr>
              <a:xfrm>
                <a:off x="2395080" y="4660560"/>
                <a:ext cx="217800" cy="314280"/>
                <a:chOff x="2395080" y="4660560"/>
                <a:chExt cx="217800" cy="314280"/>
              </a:xfrm>
            </p:grpSpPr>
            <p:grpSp>
              <p:nvGrpSpPr>
                <p:cNvPr id="499" name=""/>
                <p:cNvGrpSpPr/>
                <p:nvPr/>
              </p:nvGrpSpPr>
              <p:grpSpPr>
                <a:xfrm>
                  <a:off x="2395080" y="4776480"/>
                  <a:ext cx="124200" cy="198360"/>
                  <a:chOff x="2395080" y="4776480"/>
                  <a:chExt cx="124200" cy="19836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>
                    <a:off x="2417760" y="4941720"/>
                    <a:ext cx="88920" cy="208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flipH="1" flipV="1">
                    <a:off x="2449440" y="4870080"/>
                    <a:ext cx="69840" cy="1047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02" name=""/>
                  <p:cNvGrpSpPr/>
                  <p:nvPr/>
                </p:nvGrpSpPr>
                <p:grpSpPr>
                  <a:xfrm>
                    <a:off x="2395080" y="4776480"/>
                    <a:ext cx="100440" cy="106200"/>
                    <a:chOff x="2395080" y="4776480"/>
                    <a:chExt cx="100440" cy="106200"/>
                  </a:xfrm>
                </p:grpSpPr>
                <p:sp>
                  <p:nvSpPr>
                    <p:cNvPr id="503" name=""/>
                    <p:cNvSpPr/>
                    <p:nvPr/>
                  </p:nvSpPr>
                  <p:spPr>
                    <a:xfrm flipH="1" flipV="1">
                      <a:off x="2395080" y="4776480"/>
                      <a:ext cx="66600" cy="1062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4" name=""/>
                    <p:cNvSpPr/>
                    <p:nvPr/>
                  </p:nvSpPr>
                  <p:spPr>
                    <a:xfrm>
                      <a:off x="2408400" y="4789440"/>
                      <a:ext cx="87120" cy="223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2487240" y="4660560"/>
                  <a:ext cx="125640" cy="195480"/>
                  <a:chOff x="2487240" y="4660560"/>
                  <a:chExt cx="125640" cy="19548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>
                    <a:off x="2508120" y="4824360"/>
                    <a:ext cx="92160" cy="190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flipH="1" flipV="1">
                    <a:off x="2541600" y="4753080"/>
                    <a:ext cx="71280" cy="1029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08" name=""/>
                  <p:cNvGrpSpPr/>
                  <p:nvPr/>
                </p:nvGrpSpPr>
                <p:grpSpPr>
                  <a:xfrm>
                    <a:off x="2487240" y="4660560"/>
                    <a:ext cx="101880" cy="104760"/>
                    <a:chOff x="2487240" y="4660560"/>
                    <a:chExt cx="101880" cy="104760"/>
                  </a:xfrm>
                </p:grpSpPr>
                <p:sp>
                  <p:nvSpPr>
                    <p:cNvPr id="509" name=""/>
                    <p:cNvSpPr/>
                    <p:nvPr/>
                  </p:nvSpPr>
                  <p:spPr>
                    <a:xfrm flipH="1" flipV="1">
                      <a:off x="2487240" y="4660560"/>
                      <a:ext cx="66600" cy="1047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"/>
                    <p:cNvSpPr/>
                    <p:nvPr/>
                  </p:nvSpPr>
                  <p:spPr>
                    <a:xfrm>
                      <a:off x="2500200" y="4673520"/>
                      <a:ext cx="88920" cy="190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11" name=""/>
              <p:cNvGrpSpPr/>
              <p:nvPr/>
            </p:nvGrpSpPr>
            <p:grpSpPr>
              <a:xfrm>
                <a:off x="2577960" y="4427640"/>
                <a:ext cx="217800" cy="310680"/>
                <a:chOff x="2577960" y="4427640"/>
                <a:chExt cx="217800" cy="310680"/>
              </a:xfrm>
            </p:grpSpPr>
            <p:grpSp>
              <p:nvGrpSpPr>
                <p:cNvPr id="512" name=""/>
                <p:cNvGrpSpPr/>
                <p:nvPr/>
              </p:nvGrpSpPr>
              <p:grpSpPr>
                <a:xfrm>
                  <a:off x="2577960" y="4543200"/>
                  <a:ext cx="127080" cy="195120"/>
                  <a:chOff x="2577960" y="4543200"/>
                  <a:chExt cx="127080" cy="195120"/>
                </a:xfrm>
              </p:grpSpPr>
              <p:sp>
                <p:nvSpPr>
                  <p:cNvPr id="513" name=""/>
                  <p:cNvSpPr/>
                  <p:nvPr/>
                </p:nvSpPr>
                <p:spPr>
                  <a:xfrm>
                    <a:off x="2602080" y="4705200"/>
                    <a:ext cx="90360" cy="208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 flipH="1" flipV="1">
                    <a:off x="2635200" y="4635000"/>
                    <a:ext cx="69840" cy="1033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15" name=""/>
                  <p:cNvGrpSpPr/>
                  <p:nvPr/>
                </p:nvGrpSpPr>
                <p:grpSpPr>
                  <a:xfrm>
                    <a:off x="2577960" y="4543200"/>
                    <a:ext cx="101880" cy="104760"/>
                    <a:chOff x="2577960" y="4543200"/>
                    <a:chExt cx="101880" cy="104760"/>
                  </a:xfrm>
                </p:grpSpPr>
                <p:sp>
                  <p:nvSpPr>
                    <p:cNvPr id="516" name=""/>
                    <p:cNvSpPr/>
                    <p:nvPr/>
                  </p:nvSpPr>
                  <p:spPr>
                    <a:xfrm flipH="1" flipV="1">
                      <a:off x="2577960" y="4543200"/>
                      <a:ext cx="69840" cy="1047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>
                      <a:off x="2590920" y="4556160"/>
                      <a:ext cx="88920" cy="205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18" name=""/>
                <p:cNvGrpSpPr/>
                <p:nvPr/>
              </p:nvGrpSpPr>
              <p:grpSpPr>
                <a:xfrm>
                  <a:off x="2668680" y="4427640"/>
                  <a:ext cx="127080" cy="193320"/>
                  <a:chOff x="2668680" y="4427640"/>
                  <a:chExt cx="127080" cy="19332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2692440" y="4589640"/>
                    <a:ext cx="90360" cy="187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H="1" flipV="1">
                    <a:off x="2727360" y="4516200"/>
                    <a:ext cx="68400" cy="1047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21" name=""/>
                  <p:cNvGrpSpPr/>
                  <p:nvPr/>
                </p:nvGrpSpPr>
                <p:grpSpPr>
                  <a:xfrm>
                    <a:off x="2668680" y="4427640"/>
                    <a:ext cx="102960" cy="101520"/>
                    <a:chOff x="2668680" y="4427640"/>
                    <a:chExt cx="102960" cy="101520"/>
                  </a:xfrm>
                </p:grpSpPr>
                <p:sp>
                  <p:nvSpPr>
                    <p:cNvPr id="522" name=""/>
                    <p:cNvSpPr/>
                    <p:nvPr/>
                  </p:nvSpPr>
                  <p:spPr>
                    <a:xfrm flipH="1" flipV="1">
                      <a:off x="2668680" y="4427640"/>
                      <a:ext cx="71280" cy="1015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2681280" y="4440240"/>
                      <a:ext cx="90360" cy="190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24" name=""/>
              <p:cNvGrpSpPr/>
              <p:nvPr/>
            </p:nvGrpSpPr>
            <p:grpSpPr>
              <a:xfrm>
                <a:off x="2762280" y="4192200"/>
                <a:ext cx="217440" cy="312840"/>
                <a:chOff x="2762280" y="4192200"/>
                <a:chExt cx="217440" cy="312840"/>
              </a:xfrm>
            </p:grpSpPr>
            <p:grpSp>
              <p:nvGrpSpPr>
                <p:cNvPr id="525" name=""/>
                <p:cNvGrpSpPr/>
                <p:nvPr/>
              </p:nvGrpSpPr>
              <p:grpSpPr>
                <a:xfrm>
                  <a:off x="2762280" y="4306680"/>
                  <a:ext cx="123840" cy="198360"/>
                  <a:chOff x="2762280" y="4306680"/>
                  <a:chExt cx="123840" cy="198360"/>
                </a:xfrm>
              </p:grpSpPr>
              <p:sp>
                <p:nvSpPr>
                  <p:cNvPr id="526" name=""/>
                  <p:cNvSpPr/>
                  <p:nvPr/>
                </p:nvSpPr>
                <p:spPr>
                  <a:xfrm>
                    <a:off x="2784600" y="4471920"/>
                    <a:ext cx="88920" cy="208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 flipH="1" flipV="1">
                    <a:off x="2817720" y="4400280"/>
                    <a:ext cx="68400" cy="1047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28" name=""/>
                  <p:cNvGrpSpPr/>
                  <p:nvPr/>
                </p:nvGrpSpPr>
                <p:grpSpPr>
                  <a:xfrm>
                    <a:off x="2762280" y="4306680"/>
                    <a:ext cx="101520" cy="106200"/>
                    <a:chOff x="2762280" y="4306680"/>
                    <a:chExt cx="101520" cy="106200"/>
                  </a:xfrm>
                </p:grpSpPr>
                <p:sp>
                  <p:nvSpPr>
                    <p:cNvPr id="529" name=""/>
                    <p:cNvSpPr/>
                    <p:nvPr/>
                  </p:nvSpPr>
                  <p:spPr>
                    <a:xfrm flipH="1" flipV="1">
                      <a:off x="2762280" y="4306680"/>
                      <a:ext cx="68400" cy="1062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2774880" y="4319640"/>
                      <a:ext cx="88920" cy="223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31" name=""/>
                <p:cNvGrpSpPr/>
                <p:nvPr/>
              </p:nvGrpSpPr>
              <p:grpSpPr>
                <a:xfrm>
                  <a:off x="2852640" y="4192200"/>
                  <a:ext cx="127080" cy="192600"/>
                  <a:chOff x="2852640" y="4192200"/>
                  <a:chExt cx="127080" cy="192600"/>
                </a:xfrm>
              </p:grpSpPr>
              <p:sp>
                <p:nvSpPr>
                  <p:cNvPr id="532" name=""/>
                  <p:cNvSpPr/>
                  <p:nvPr/>
                </p:nvSpPr>
                <p:spPr>
                  <a:xfrm>
                    <a:off x="2876400" y="4354560"/>
                    <a:ext cx="90720" cy="172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 flipH="1" flipV="1">
                    <a:off x="2908440" y="4284720"/>
                    <a:ext cx="71280" cy="1000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34" name=""/>
                  <p:cNvGrpSpPr/>
                  <p:nvPr/>
                </p:nvGrpSpPr>
                <p:grpSpPr>
                  <a:xfrm>
                    <a:off x="2852640" y="4192200"/>
                    <a:ext cx="103320" cy="104760"/>
                    <a:chOff x="2852640" y="4192200"/>
                    <a:chExt cx="103320" cy="104760"/>
                  </a:xfrm>
                </p:grpSpPr>
                <p:sp>
                  <p:nvSpPr>
                    <p:cNvPr id="535" name=""/>
                    <p:cNvSpPr/>
                    <p:nvPr/>
                  </p:nvSpPr>
                  <p:spPr>
                    <a:xfrm flipH="1" flipV="1">
                      <a:off x="2852640" y="4192200"/>
                      <a:ext cx="68400" cy="1047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2865600" y="4205160"/>
                      <a:ext cx="90360" cy="17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37" name=""/>
              <p:cNvGrpSpPr/>
              <p:nvPr/>
            </p:nvGrpSpPr>
            <p:grpSpPr>
              <a:xfrm>
                <a:off x="2946240" y="3957480"/>
                <a:ext cx="215640" cy="311040"/>
                <a:chOff x="2946240" y="3957480"/>
                <a:chExt cx="215640" cy="311040"/>
              </a:xfrm>
            </p:grpSpPr>
            <p:grpSp>
              <p:nvGrpSpPr>
                <p:cNvPr id="538" name=""/>
                <p:cNvGrpSpPr/>
                <p:nvPr/>
              </p:nvGrpSpPr>
              <p:grpSpPr>
                <a:xfrm>
                  <a:off x="2946240" y="4071600"/>
                  <a:ext cx="123480" cy="196920"/>
                  <a:chOff x="2946240" y="4071600"/>
                  <a:chExt cx="123480" cy="19692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>
                    <a:off x="2968560" y="4235400"/>
                    <a:ext cx="88920" cy="205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flipH="1" flipV="1">
                    <a:off x="3001680" y="4165200"/>
                    <a:ext cx="68040" cy="1033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41" name=""/>
                  <p:cNvGrpSpPr/>
                  <p:nvPr/>
                </p:nvGrpSpPr>
                <p:grpSpPr>
                  <a:xfrm>
                    <a:off x="2946240" y="4071600"/>
                    <a:ext cx="100080" cy="106200"/>
                    <a:chOff x="2946240" y="4071600"/>
                    <a:chExt cx="100080" cy="106200"/>
                  </a:xfrm>
                </p:grpSpPr>
                <p:sp>
                  <p:nvSpPr>
                    <p:cNvPr id="542" name=""/>
                    <p:cNvSpPr/>
                    <p:nvPr/>
                  </p:nvSpPr>
                  <p:spPr>
                    <a:xfrm flipH="1" flipV="1">
                      <a:off x="2946240" y="4071600"/>
                      <a:ext cx="68400" cy="1062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>
                      <a:off x="2959200" y="4084560"/>
                      <a:ext cx="87120" cy="237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44" name=""/>
                <p:cNvGrpSpPr/>
                <p:nvPr/>
              </p:nvGrpSpPr>
              <p:grpSpPr>
                <a:xfrm>
                  <a:off x="3036960" y="3957480"/>
                  <a:ext cx="124920" cy="195480"/>
                  <a:chOff x="3036960" y="3957480"/>
                  <a:chExt cx="124920" cy="195480"/>
                </a:xfrm>
              </p:grpSpPr>
              <p:sp>
                <p:nvSpPr>
                  <p:cNvPr id="545" name=""/>
                  <p:cNvSpPr/>
                  <p:nvPr/>
                </p:nvSpPr>
                <p:spPr>
                  <a:xfrm>
                    <a:off x="3059280" y="4121280"/>
                    <a:ext cx="90360" cy="190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 flipH="1" flipV="1">
                    <a:off x="3095280" y="4044960"/>
                    <a:ext cx="66600" cy="108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47" name=""/>
                  <p:cNvGrpSpPr/>
                  <p:nvPr/>
                </p:nvGrpSpPr>
                <p:grpSpPr>
                  <a:xfrm>
                    <a:off x="3036960" y="3957480"/>
                    <a:ext cx="102960" cy="100080"/>
                    <a:chOff x="3036960" y="3957480"/>
                    <a:chExt cx="102960" cy="100080"/>
                  </a:xfrm>
                </p:grpSpPr>
                <p:sp>
                  <p:nvSpPr>
                    <p:cNvPr id="548" name=""/>
                    <p:cNvSpPr/>
                    <p:nvPr/>
                  </p:nvSpPr>
                  <p:spPr>
                    <a:xfrm flipH="1" flipV="1">
                      <a:off x="3036960" y="3957480"/>
                      <a:ext cx="71280" cy="1000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>
                      <a:off x="3049560" y="3970440"/>
                      <a:ext cx="90360" cy="172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550" name=""/>
              <p:cNvSpPr/>
              <p:nvPr/>
            </p:nvSpPr>
            <p:spPr>
              <a:xfrm flipH="1">
                <a:off x="2334960" y="4941720"/>
                <a:ext cx="82440" cy="763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3139560" y="3914640"/>
                <a:ext cx="79560" cy="730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2" name=""/>
            <p:cNvSpPr/>
            <p:nvPr/>
          </p:nvSpPr>
          <p:spPr>
            <a:xfrm rot="2280000">
              <a:off x="3220560" y="3859200"/>
              <a:ext cx="20880" cy="39600"/>
            </a:xfrm>
            <a:prstGeom prst="ellipse">
              <a:avLst/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2325600" y="4983120"/>
            <a:ext cx="63720" cy="63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21080" y="4807080"/>
            <a:ext cx="444240" cy="44424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559560" y="4807080"/>
            <a:ext cx="444600" cy="44424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169040" y="5029200"/>
            <a:ext cx="52092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4108320" y="388620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4108320" y="502920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267080" y="3892680"/>
            <a:ext cx="0" cy="11300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048920" y="4245120"/>
            <a:ext cx="963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2028960" y="3648240"/>
            <a:ext cx="1123920" cy="1314360"/>
            <a:chOff x="2028960" y="3648240"/>
            <a:chExt cx="1123920" cy="1314360"/>
          </a:xfrm>
        </p:grpSpPr>
        <p:sp>
          <p:nvSpPr>
            <p:cNvPr id="562" name=""/>
            <p:cNvSpPr/>
            <p:nvPr/>
          </p:nvSpPr>
          <p:spPr>
            <a:xfrm>
              <a:off x="2922480" y="3648240"/>
              <a:ext cx="230400" cy="17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028960" y="4789440"/>
              <a:ext cx="2300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2136240" y="3741840"/>
              <a:ext cx="908280" cy="1127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1915200" y="3940200"/>
            <a:ext cx="963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266560" y="482904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303600" y="484200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1187280" y="2670120"/>
                <a:ext cx="66484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U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9" name=""/>
          <p:cNvSpPr/>
          <p:nvPr/>
        </p:nvSpPr>
        <p:spPr>
          <a:xfrm>
            <a:off x="6066000" y="5003640"/>
            <a:ext cx="63360" cy="63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997960" y="5064480"/>
            <a:ext cx="218160" cy="1216080"/>
            <a:chOff x="5997960" y="5064480"/>
            <a:chExt cx="218160" cy="1216080"/>
          </a:xfrm>
        </p:grpSpPr>
        <p:grpSp>
          <p:nvGrpSpPr>
            <p:cNvPr id="571" name=""/>
            <p:cNvGrpSpPr/>
            <p:nvPr/>
          </p:nvGrpSpPr>
          <p:grpSpPr>
            <a:xfrm>
              <a:off x="5999400" y="5141880"/>
              <a:ext cx="210960" cy="130320"/>
              <a:chOff x="5999400" y="5141880"/>
              <a:chExt cx="210960" cy="130320"/>
            </a:xfrm>
          </p:grpSpPr>
          <p:sp>
            <p:nvSpPr>
              <p:cNvPr id="572" name=""/>
              <p:cNvSpPr/>
              <p:nvPr/>
            </p:nvSpPr>
            <p:spPr>
              <a:xfrm>
                <a:off x="6108120" y="5141880"/>
                <a:ext cx="90360" cy="374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6098040" y="5166360"/>
                <a:ext cx="112320" cy="475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74" name=""/>
              <p:cNvGrpSpPr/>
              <p:nvPr/>
            </p:nvGrpSpPr>
            <p:grpSpPr>
              <a:xfrm>
                <a:off x="5999400" y="5200920"/>
                <a:ext cx="110520" cy="71280"/>
                <a:chOff x="5999400" y="5200920"/>
                <a:chExt cx="110520" cy="71280"/>
              </a:xfrm>
            </p:grpSpPr>
            <p:sp>
              <p:nvSpPr>
                <p:cNvPr id="575" name=""/>
                <p:cNvSpPr/>
                <p:nvPr/>
              </p:nvSpPr>
              <p:spPr>
                <a:xfrm flipH="1">
                  <a:off x="5999400" y="5200920"/>
                  <a:ext cx="110520" cy="486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6011640" y="5236200"/>
                  <a:ext cx="88920" cy="36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7" name=""/>
            <p:cNvGrpSpPr/>
            <p:nvPr/>
          </p:nvGrpSpPr>
          <p:grpSpPr>
            <a:xfrm>
              <a:off x="5997960" y="5272200"/>
              <a:ext cx="211320" cy="133920"/>
              <a:chOff x="5997960" y="5272200"/>
              <a:chExt cx="211320" cy="133920"/>
            </a:xfrm>
          </p:grpSpPr>
          <p:sp>
            <p:nvSpPr>
              <p:cNvPr id="578" name=""/>
              <p:cNvSpPr/>
              <p:nvPr/>
            </p:nvSpPr>
            <p:spPr>
              <a:xfrm>
                <a:off x="6106680" y="5272200"/>
                <a:ext cx="90720" cy="41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6096600" y="5299920"/>
                <a:ext cx="112680" cy="43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0" name=""/>
              <p:cNvGrpSpPr/>
              <p:nvPr/>
            </p:nvGrpSpPr>
            <p:grpSpPr>
              <a:xfrm>
                <a:off x="5997960" y="5330880"/>
                <a:ext cx="110880" cy="75240"/>
                <a:chOff x="5997960" y="5330880"/>
                <a:chExt cx="110880" cy="75240"/>
              </a:xfrm>
            </p:grpSpPr>
            <p:sp>
              <p:nvSpPr>
                <p:cNvPr id="581" name=""/>
                <p:cNvSpPr/>
                <p:nvPr/>
              </p:nvSpPr>
              <p:spPr>
                <a:xfrm flipH="1">
                  <a:off x="5997960" y="5330880"/>
                  <a:ext cx="110880" cy="49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6010560" y="5366880"/>
                  <a:ext cx="88920" cy="39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3" name=""/>
            <p:cNvGrpSpPr/>
            <p:nvPr/>
          </p:nvGrpSpPr>
          <p:grpSpPr>
            <a:xfrm>
              <a:off x="6003000" y="5399280"/>
              <a:ext cx="211320" cy="128520"/>
              <a:chOff x="6003000" y="5399280"/>
              <a:chExt cx="211320" cy="128520"/>
            </a:xfrm>
          </p:grpSpPr>
          <p:sp>
            <p:nvSpPr>
              <p:cNvPr id="584" name=""/>
              <p:cNvSpPr/>
              <p:nvPr/>
            </p:nvSpPr>
            <p:spPr>
              <a:xfrm>
                <a:off x="6112080" y="5399280"/>
                <a:ext cx="90360" cy="378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6102000" y="5424120"/>
                <a:ext cx="112320" cy="471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6" name=""/>
              <p:cNvGrpSpPr/>
              <p:nvPr/>
            </p:nvGrpSpPr>
            <p:grpSpPr>
              <a:xfrm>
                <a:off x="6003000" y="5457960"/>
                <a:ext cx="110880" cy="69840"/>
                <a:chOff x="6003000" y="5457960"/>
                <a:chExt cx="110880" cy="69840"/>
              </a:xfrm>
            </p:grpSpPr>
            <p:sp>
              <p:nvSpPr>
                <p:cNvPr id="587" name=""/>
                <p:cNvSpPr/>
                <p:nvPr/>
              </p:nvSpPr>
              <p:spPr>
                <a:xfrm flipH="1">
                  <a:off x="6003000" y="5457960"/>
                  <a:ext cx="110880" cy="457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6015600" y="5490360"/>
                  <a:ext cx="88920" cy="374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9" name=""/>
            <p:cNvGrpSpPr/>
            <p:nvPr/>
          </p:nvGrpSpPr>
          <p:grpSpPr>
            <a:xfrm>
              <a:off x="6001920" y="5527800"/>
              <a:ext cx="211320" cy="132120"/>
              <a:chOff x="6001920" y="5527800"/>
              <a:chExt cx="211320" cy="132120"/>
            </a:xfrm>
          </p:grpSpPr>
          <p:sp>
            <p:nvSpPr>
              <p:cNvPr id="590" name=""/>
              <p:cNvSpPr/>
              <p:nvPr/>
            </p:nvSpPr>
            <p:spPr>
              <a:xfrm>
                <a:off x="6111000" y="5527800"/>
                <a:ext cx="90720" cy="392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6100920" y="5554080"/>
                <a:ext cx="112320" cy="475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2" name=""/>
              <p:cNvGrpSpPr/>
              <p:nvPr/>
            </p:nvGrpSpPr>
            <p:grpSpPr>
              <a:xfrm>
                <a:off x="6001920" y="5587920"/>
                <a:ext cx="111240" cy="72000"/>
                <a:chOff x="6001920" y="5587920"/>
                <a:chExt cx="111240" cy="72000"/>
              </a:xfrm>
            </p:grpSpPr>
            <p:sp>
              <p:nvSpPr>
                <p:cNvPr id="593" name=""/>
                <p:cNvSpPr/>
                <p:nvPr/>
              </p:nvSpPr>
              <p:spPr>
                <a:xfrm flipH="1">
                  <a:off x="6001920" y="5587920"/>
                  <a:ext cx="111240" cy="457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6014520" y="5620680"/>
                  <a:ext cx="89280" cy="39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5" name=""/>
            <p:cNvGrpSpPr/>
            <p:nvPr/>
          </p:nvGrpSpPr>
          <p:grpSpPr>
            <a:xfrm>
              <a:off x="6000840" y="5653440"/>
              <a:ext cx="210960" cy="130320"/>
              <a:chOff x="6000840" y="5653440"/>
              <a:chExt cx="210960" cy="130320"/>
            </a:xfrm>
          </p:grpSpPr>
          <p:sp>
            <p:nvSpPr>
              <p:cNvPr id="596" name=""/>
              <p:cNvSpPr/>
              <p:nvPr/>
            </p:nvSpPr>
            <p:spPr>
              <a:xfrm>
                <a:off x="6109560" y="5653440"/>
                <a:ext cx="90360" cy="374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6099480" y="5677920"/>
                <a:ext cx="112320" cy="475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8" name=""/>
              <p:cNvGrpSpPr/>
              <p:nvPr/>
            </p:nvGrpSpPr>
            <p:grpSpPr>
              <a:xfrm>
                <a:off x="6000840" y="5712480"/>
                <a:ext cx="110520" cy="71280"/>
                <a:chOff x="6000840" y="5712480"/>
                <a:chExt cx="110520" cy="71280"/>
              </a:xfrm>
            </p:grpSpPr>
            <p:sp>
              <p:nvSpPr>
                <p:cNvPr id="599" name=""/>
                <p:cNvSpPr/>
                <p:nvPr/>
              </p:nvSpPr>
              <p:spPr>
                <a:xfrm flipH="1">
                  <a:off x="6000840" y="5712480"/>
                  <a:ext cx="110520" cy="486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6013080" y="5747760"/>
                  <a:ext cx="88920" cy="36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1" name=""/>
            <p:cNvGrpSpPr/>
            <p:nvPr/>
          </p:nvGrpSpPr>
          <p:grpSpPr>
            <a:xfrm>
              <a:off x="5999400" y="5778000"/>
              <a:ext cx="211320" cy="133200"/>
              <a:chOff x="5999400" y="5778000"/>
              <a:chExt cx="211320" cy="133200"/>
            </a:xfrm>
          </p:grpSpPr>
          <p:sp>
            <p:nvSpPr>
              <p:cNvPr id="602" name=""/>
              <p:cNvSpPr/>
              <p:nvPr/>
            </p:nvSpPr>
            <p:spPr>
              <a:xfrm>
                <a:off x="6108480" y="5778000"/>
                <a:ext cx="90720" cy="40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6098400" y="5805360"/>
                <a:ext cx="112320" cy="43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4" name=""/>
              <p:cNvGrpSpPr/>
              <p:nvPr/>
            </p:nvGrpSpPr>
            <p:grpSpPr>
              <a:xfrm>
                <a:off x="5999400" y="5836320"/>
                <a:ext cx="110880" cy="74880"/>
                <a:chOff x="5999400" y="5836320"/>
                <a:chExt cx="110880" cy="74880"/>
              </a:xfrm>
            </p:grpSpPr>
            <p:sp>
              <p:nvSpPr>
                <p:cNvPr id="605" name=""/>
                <p:cNvSpPr/>
                <p:nvPr/>
              </p:nvSpPr>
              <p:spPr>
                <a:xfrm flipH="1">
                  <a:off x="5999400" y="5836320"/>
                  <a:ext cx="110880" cy="471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6012000" y="5870520"/>
                  <a:ext cx="89280" cy="4068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7" name=""/>
            <p:cNvGrpSpPr/>
            <p:nvPr/>
          </p:nvGrpSpPr>
          <p:grpSpPr>
            <a:xfrm>
              <a:off x="6004800" y="5910840"/>
              <a:ext cx="211320" cy="128520"/>
              <a:chOff x="6004800" y="5910840"/>
              <a:chExt cx="211320" cy="128520"/>
            </a:xfrm>
          </p:grpSpPr>
          <p:sp>
            <p:nvSpPr>
              <p:cNvPr id="608" name=""/>
              <p:cNvSpPr/>
              <p:nvPr/>
            </p:nvSpPr>
            <p:spPr>
              <a:xfrm>
                <a:off x="6113880" y="5910840"/>
                <a:ext cx="90360" cy="378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6103440" y="5935320"/>
                <a:ext cx="112680" cy="453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0" name=""/>
              <p:cNvGrpSpPr/>
              <p:nvPr/>
            </p:nvGrpSpPr>
            <p:grpSpPr>
              <a:xfrm>
                <a:off x="6004800" y="5968080"/>
                <a:ext cx="110880" cy="71280"/>
                <a:chOff x="6004800" y="5968080"/>
                <a:chExt cx="110880" cy="71280"/>
              </a:xfrm>
            </p:grpSpPr>
            <p:sp>
              <p:nvSpPr>
                <p:cNvPr id="611" name=""/>
                <p:cNvSpPr/>
                <p:nvPr/>
              </p:nvSpPr>
              <p:spPr>
                <a:xfrm flipH="1">
                  <a:off x="6004800" y="5968080"/>
                  <a:ext cx="110880" cy="486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6017400" y="6003360"/>
                  <a:ext cx="88920" cy="36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3" name=""/>
            <p:cNvGrpSpPr/>
            <p:nvPr/>
          </p:nvGrpSpPr>
          <p:grpSpPr>
            <a:xfrm>
              <a:off x="6003360" y="6033240"/>
              <a:ext cx="210960" cy="133560"/>
              <a:chOff x="6003360" y="6033240"/>
              <a:chExt cx="210960" cy="133560"/>
            </a:xfrm>
          </p:grpSpPr>
          <p:sp>
            <p:nvSpPr>
              <p:cNvPr id="614" name=""/>
              <p:cNvSpPr/>
              <p:nvPr/>
            </p:nvSpPr>
            <p:spPr>
              <a:xfrm>
                <a:off x="6112080" y="6033240"/>
                <a:ext cx="90720" cy="388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6102360" y="6059520"/>
                <a:ext cx="111960" cy="486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6" name=""/>
              <p:cNvGrpSpPr/>
              <p:nvPr/>
            </p:nvGrpSpPr>
            <p:grpSpPr>
              <a:xfrm>
                <a:off x="6003360" y="6095520"/>
                <a:ext cx="110880" cy="71280"/>
                <a:chOff x="6003360" y="6095520"/>
                <a:chExt cx="110880" cy="71280"/>
              </a:xfrm>
            </p:grpSpPr>
            <p:sp>
              <p:nvSpPr>
                <p:cNvPr id="617" name=""/>
                <p:cNvSpPr/>
                <p:nvPr/>
              </p:nvSpPr>
              <p:spPr>
                <a:xfrm flipH="1">
                  <a:off x="6003360" y="6095520"/>
                  <a:ext cx="110880" cy="43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6015600" y="6126120"/>
                  <a:ext cx="89280" cy="4068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9" name=""/>
            <p:cNvSpPr/>
            <p:nvPr/>
          </p:nvSpPr>
          <p:spPr>
            <a:xfrm flipH="1" flipV="1">
              <a:off x="6098760" y="5064480"/>
              <a:ext cx="3240" cy="77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 flipV="1">
              <a:off x="6117120" y="6159600"/>
              <a:ext cx="3240" cy="748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 rot="21462000">
              <a:off x="6107040" y="6251040"/>
              <a:ext cx="20880" cy="28440"/>
            </a:xfrm>
            <a:prstGeom prst="ellipse">
              <a:avLst/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5997960" y="3812760"/>
            <a:ext cx="218160" cy="1216080"/>
            <a:chOff x="5997960" y="3812760"/>
            <a:chExt cx="218160" cy="1216080"/>
          </a:xfrm>
        </p:grpSpPr>
        <p:grpSp>
          <p:nvGrpSpPr>
            <p:cNvPr id="623" name=""/>
            <p:cNvGrpSpPr/>
            <p:nvPr/>
          </p:nvGrpSpPr>
          <p:grpSpPr>
            <a:xfrm>
              <a:off x="5999400" y="4821120"/>
              <a:ext cx="210960" cy="130320"/>
              <a:chOff x="5999400" y="4821120"/>
              <a:chExt cx="210960" cy="130320"/>
            </a:xfrm>
          </p:grpSpPr>
          <p:sp>
            <p:nvSpPr>
              <p:cNvPr id="624" name=""/>
              <p:cNvSpPr/>
              <p:nvPr/>
            </p:nvSpPr>
            <p:spPr>
              <a:xfrm flipV="1">
                <a:off x="6108120" y="4914000"/>
                <a:ext cx="90360" cy="374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 flipV="1">
                <a:off x="6098040" y="4879440"/>
                <a:ext cx="112320" cy="475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6" name=""/>
              <p:cNvGrpSpPr/>
              <p:nvPr/>
            </p:nvGrpSpPr>
            <p:grpSpPr>
              <a:xfrm>
                <a:off x="5999400" y="4821120"/>
                <a:ext cx="110520" cy="71280"/>
                <a:chOff x="5999400" y="4821120"/>
                <a:chExt cx="110520" cy="71280"/>
              </a:xfrm>
            </p:grpSpPr>
            <p:sp>
              <p:nvSpPr>
                <p:cNvPr id="627" name=""/>
                <p:cNvSpPr/>
                <p:nvPr/>
              </p:nvSpPr>
              <p:spPr>
                <a:xfrm flipH="1" flipV="1">
                  <a:off x="5999400" y="4843800"/>
                  <a:ext cx="110520" cy="486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 flipV="1">
                  <a:off x="6011640" y="4821120"/>
                  <a:ext cx="88920" cy="36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9" name=""/>
            <p:cNvGrpSpPr/>
            <p:nvPr/>
          </p:nvGrpSpPr>
          <p:grpSpPr>
            <a:xfrm>
              <a:off x="5997960" y="4687200"/>
              <a:ext cx="211320" cy="133920"/>
              <a:chOff x="5997960" y="4687200"/>
              <a:chExt cx="211320" cy="133920"/>
            </a:xfrm>
          </p:grpSpPr>
          <p:sp>
            <p:nvSpPr>
              <p:cNvPr id="630" name=""/>
              <p:cNvSpPr/>
              <p:nvPr/>
            </p:nvSpPr>
            <p:spPr>
              <a:xfrm flipV="1">
                <a:off x="6106680" y="4780080"/>
                <a:ext cx="90720" cy="41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 flipV="1">
                <a:off x="6096600" y="4749480"/>
                <a:ext cx="112680" cy="43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2" name=""/>
              <p:cNvGrpSpPr/>
              <p:nvPr/>
            </p:nvGrpSpPr>
            <p:grpSpPr>
              <a:xfrm>
                <a:off x="5997960" y="4687200"/>
                <a:ext cx="110880" cy="75240"/>
                <a:chOff x="5997960" y="4687200"/>
                <a:chExt cx="110880" cy="75240"/>
              </a:xfrm>
            </p:grpSpPr>
            <p:sp>
              <p:nvSpPr>
                <p:cNvPr id="633" name=""/>
                <p:cNvSpPr/>
                <p:nvPr/>
              </p:nvSpPr>
              <p:spPr>
                <a:xfrm flipH="1" flipV="1">
                  <a:off x="5997960" y="4713120"/>
                  <a:ext cx="110880" cy="49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flipV="1">
                  <a:off x="6010560" y="4687200"/>
                  <a:ext cx="88920" cy="39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5" name=""/>
            <p:cNvGrpSpPr/>
            <p:nvPr/>
          </p:nvGrpSpPr>
          <p:grpSpPr>
            <a:xfrm>
              <a:off x="6003000" y="4565520"/>
              <a:ext cx="211320" cy="128520"/>
              <a:chOff x="6003000" y="4565520"/>
              <a:chExt cx="211320" cy="128520"/>
            </a:xfrm>
          </p:grpSpPr>
          <p:sp>
            <p:nvSpPr>
              <p:cNvPr id="636" name=""/>
              <p:cNvSpPr/>
              <p:nvPr/>
            </p:nvSpPr>
            <p:spPr>
              <a:xfrm flipV="1">
                <a:off x="6112080" y="4656240"/>
                <a:ext cx="90360" cy="378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 flipV="1">
                <a:off x="6102000" y="4622040"/>
                <a:ext cx="112320" cy="471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8" name=""/>
              <p:cNvGrpSpPr/>
              <p:nvPr/>
            </p:nvGrpSpPr>
            <p:grpSpPr>
              <a:xfrm>
                <a:off x="6003000" y="4565520"/>
                <a:ext cx="110880" cy="69840"/>
                <a:chOff x="6003000" y="4565520"/>
                <a:chExt cx="110880" cy="69840"/>
              </a:xfrm>
            </p:grpSpPr>
            <p:sp>
              <p:nvSpPr>
                <p:cNvPr id="639" name=""/>
                <p:cNvSpPr/>
                <p:nvPr/>
              </p:nvSpPr>
              <p:spPr>
                <a:xfrm flipH="1" flipV="1">
                  <a:off x="6003000" y="4589640"/>
                  <a:ext cx="110880" cy="457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 flipV="1">
                  <a:off x="6015600" y="4565520"/>
                  <a:ext cx="88920" cy="374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1" name=""/>
            <p:cNvGrpSpPr/>
            <p:nvPr/>
          </p:nvGrpSpPr>
          <p:grpSpPr>
            <a:xfrm>
              <a:off x="6001920" y="4433400"/>
              <a:ext cx="211320" cy="132120"/>
              <a:chOff x="6001920" y="4433400"/>
              <a:chExt cx="211320" cy="132120"/>
            </a:xfrm>
          </p:grpSpPr>
          <p:sp>
            <p:nvSpPr>
              <p:cNvPr id="642" name=""/>
              <p:cNvSpPr/>
              <p:nvPr/>
            </p:nvSpPr>
            <p:spPr>
              <a:xfrm flipV="1">
                <a:off x="6111000" y="4526280"/>
                <a:ext cx="90720" cy="392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 flipV="1">
                <a:off x="6100920" y="4491720"/>
                <a:ext cx="112320" cy="475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4" name=""/>
              <p:cNvGrpSpPr/>
              <p:nvPr/>
            </p:nvGrpSpPr>
            <p:grpSpPr>
              <a:xfrm>
                <a:off x="6001920" y="4433400"/>
                <a:ext cx="111240" cy="72000"/>
                <a:chOff x="6001920" y="4433400"/>
                <a:chExt cx="111240" cy="72000"/>
              </a:xfrm>
            </p:grpSpPr>
            <p:sp>
              <p:nvSpPr>
                <p:cNvPr id="645" name=""/>
                <p:cNvSpPr/>
                <p:nvPr/>
              </p:nvSpPr>
              <p:spPr>
                <a:xfrm flipH="1" flipV="1">
                  <a:off x="6001920" y="4459680"/>
                  <a:ext cx="111240" cy="457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 flipV="1">
                  <a:off x="6014520" y="4433400"/>
                  <a:ext cx="89280" cy="392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7" name=""/>
            <p:cNvGrpSpPr/>
            <p:nvPr/>
          </p:nvGrpSpPr>
          <p:grpSpPr>
            <a:xfrm>
              <a:off x="6000840" y="4309560"/>
              <a:ext cx="210960" cy="130320"/>
              <a:chOff x="6000840" y="4309560"/>
              <a:chExt cx="210960" cy="130320"/>
            </a:xfrm>
          </p:grpSpPr>
          <p:sp>
            <p:nvSpPr>
              <p:cNvPr id="648" name=""/>
              <p:cNvSpPr/>
              <p:nvPr/>
            </p:nvSpPr>
            <p:spPr>
              <a:xfrm flipV="1">
                <a:off x="6109560" y="4402440"/>
                <a:ext cx="90360" cy="374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 flipV="1">
                <a:off x="6099480" y="4367880"/>
                <a:ext cx="112320" cy="475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50" name=""/>
              <p:cNvGrpSpPr/>
              <p:nvPr/>
            </p:nvGrpSpPr>
            <p:grpSpPr>
              <a:xfrm>
                <a:off x="6000840" y="4309560"/>
                <a:ext cx="110520" cy="71280"/>
                <a:chOff x="6000840" y="4309560"/>
                <a:chExt cx="110520" cy="71280"/>
              </a:xfrm>
            </p:grpSpPr>
            <p:sp>
              <p:nvSpPr>
                <p:cNvPr id="651" name=""/>
                <p:cNvSpPr/>
                <p:nvPr/>
              </p:nvSpPr>
              <p:spPr>
                <a:xfrm flipH="1" flipV="1">
                  <a:off x="6000840" y="4332240"/>
                  <a:ext cx="110520" cy="486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V="1">
                  <a:off x="6013080" y="4309560"/>
                  <a:ext cx="88920" cy="36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3" name=""/>
            <p:cNvGrpSpPr/>
            <p:nvPr/>
          </p:nvGrpSpPr>
          <p:grpSpPr>
            <a:xfrm>
              <a:off x="5999400" y="4182120"/>
              <a:ext cx="211320" cy="133200"/>
              <a:chOff x="5999400" y="4182120"/>
              <a:chExt cx="211320" cy="133200"/>
            </a:xfrm>
          </p:grpSpPr>
          <p:sp>
            <p:nvSpPr>
              <p:cNvPr id="654" name=""/>
              <p:cNvSpPr/>
              <p:nvPr/>
            </p:nvSpPr>
            <p:spPr>
              <a:xfrm flipV="1">
                <a:off x="6108480" y="4274640"/>
                <a:ext cx="90720" cy="40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 flipV="1">
                <a:off x="6098400" y="4244040"/>
                <a:ext cx="112320" cy="43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56" name=""/>
              <p:cNvGrpSpPr/>
              <p:nvPr/>
            </p:nvGrpSpPr>
            <p:grpSpPr>
              <a:xfrm>
                <a:off x="5999400" y="4182120"/>
                <a:ext cx="110880" cy="74880"/>
                <a:chOff x="5999400" y="4182120"/>
                <a:chExt cx="110880" cy="74880"/>
              </a:xfrm>
            </p:grpSpPr>
            <p:sp>
              <p:nvSpPr>
                <p:cNvPr id="657" name=""/>
                <p:cNvSpPr/>
                <p:nvPr/>
              </p:nvSpPr>
              <p:spPr>
                <a:xfrm flipH="1" flipV="1">
                  <a:off x="5999400" y="4209840"/>
                  <a:ext cx="110880" cy="471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V="1">
                  <a:off x="6012000" y="4182120"/>
                  <a:ext cx="89280" cy="4068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9" name=""/>
            <p:cNvGrpSpPr/>
            <p:nvPr/>
          </p:nvGrpSpPr>
          <p:grpSpPr>
            <a:xfrm>
              <a:off x="6004800" y="4053960"/>
              <a:ext cx="211320" cy="128520"/>
              <a:chOff x="6004800" y="4053960"/>
              <a:chExt cx="211320" cy="128520"/>
            </a:xfrm>
          </p:grpSpPr>
          <p:sp>
            <p:nvSpPr>
              <p:cNvPr id="660" name=""/>
              <p:cNvSpPr/>
              <p:nvPr/>
            </p:nvSpPr>
            <p:spPr>
              <a:xfrm flipV="1">
                <a:off x="6113880" y="4144680"/>
                <a:ext cx="90360" cy="378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 flipV="1">
                <a:off x="6103440" y="4112640"/>
                <a:ext cx="112680" cy="453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62" name=""/>
              <p:cNvGrpSpPr/>
              <p:nvPr/>
            </p:nvGrpSpPr>
            <p:grpSpPr>
              <a:xfrm>
                <a:off x="6004800" y="4053960"/>
                <a:ext cx="110880" cy="71280"/>
                <a:chOff x="6004800" y="4053960"/>
                <a:chExt cx="110880" cy="71280"/>
              </a:xfrm>
            </p:grpSpPr>
            <p:sp>
              <p:nvSpPr>
                <p:cNvPr id="663" name=""/>
                <p:cNvSpPr/>
                <p:nvPr/>
              </p:nvSpPr>
              <p:spPr>
                <a:xfrm flipH="1" flipV="1">
                  <a:off x="6004800" y="4076640"/>
                  <a:ext cx="110880" cy="486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 flipV="1">
                  <a:off x="6017400" y="4053960"/>
                  <a:ext cx="88920" cy="360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65" name=""/>
            <p:cNvGrpSpPr/>
            <p:nvPr/>
          </p:nvGrpSpPr>
          <p:grpSpPr>
            <a:xfrm>
              <a:off x="6003360" y="3926520"/>
              <a:ext cx="210960" cy="133560"/>
              <a:chOff x="6003360" y="3926520"/>
              <a:chExt cx="210960" cy="133560"/>
            </a:xfrm>
          </p:grpSpPr>
          <p:sp>
            <p:nvSpPr>
              <p:cNvPr id="666" name=""/>
              <p:cNvSpPr/>
              <p:nvPr/>
            </p:nvSpPr>
            <p:spPr>
              <a:xfrm flipV="1">
                <a:off x="6112080" y="4021200"/>
                <a:ext cx="90720" cy="388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 flipV="1">
                <a:off x="6102360" y="3985200"/>
                <a:ext cx="111960" cy="486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68" name=""/>
              <p:cNvGrpSpPr/>
              <p:nvPr/>
            </p:nvGrpSpPr>
            <p:grpSpPr>
              <a:xfrm>
                <a:off x="6003360" y="3926520"/>
                <a:ext cx="110880" cy="71280"/>
                <a:chOff x="6003360" y="3926520"/>
                <a:chExt cx="110880" cy="71280"/>
              </a:xfrm>
            </p:grpSpPr>
            <p:sp>
              <p:nvSpPr>
                <p:cNvPr id="669" name=""/>
                <p:cNvSpPr/>
                <p:nvPr/>
              </p:nvSpPr>
              <p:spPr>
                <a:xfrm flipH="1" flipV="1">
                  <a:off x="6003360" y="3953880"/>
                  <a:ext cx="110880" cy="43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 flipV="1">
                  <a:off x="6015600" y="3926520"/>
                  <a:ext cx="89280" cy="4068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1" name=""/>
            <p:cNvSpPr/>
            <p:nvPr/>
          </p:nvSpPr>
          <p:spPr>
            <a:xfrm flipH="1">
              <a:off x="6098760" y="4951440"/>
              <a:ext cx="3240" cy="77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6117120" y="3858840"/>
              <a:ext cx="3240" cy="748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rot="138000">
              <a:off x="6107040" y="3813120"/>
              <a:ext cx="20880" cy="28440"/>
            </a:xfrm>
            <a:prstGeom prst="ellipse">
              <a:avLst/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5273640" y="2052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ff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سئله : پرتاب با فنر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فقط نیروها پایستار حضور دارند لذا انرژی مکانیک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+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پایستار اس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 = -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s</a:t>
            </a:r>
            <a:r>
              <a:rPr b="0" i="1" lang="fa-IR" sz="2000" spc="-1" strike="noStrike" baseline="-25000">
                <a:solidFill>
                  <a:srgbClr val="fafd00"/>
                </a:solidFill>
                <a:latin typeface="Arial"/>
                <a:ea typeface="Arial"/>
              </a:rPr>
              <a:t>                                                 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E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199120" y="2249640"/>
            <a:ext cx="520560" cy="139680"/>
          </a:xfrm>
          <a:prstGeom prst="rightArrow">
            <a:avLst>
              <a:gd name="adj1" fmla="val 50000"/>
              <a:gd name="adj2" fmla="val 18635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3962520" y="2654280"/>
                <a:ext cx="202392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681" name=""/>
          <p:cNvGrpSpPr/>
          <p:nvPr/>
        </p:nvGrpSpPr>
        <p:grpSpPr>
          <a:xfrm>
            <a:off x="2334960" y="3857040"/>
            <a:ext cx="916920" cy="1161000"/>
            <a:chOff x="2334960" y="3857040"/>
            <a:chExt cx="916920" cy="1161000"/>
          </a:xfrm>
        </p:grpSpPr>
        <p:grpSp>
          <p:nvGrpSpPr>
            <p:cNvPr id="682" name=""/>
            <p:cNvGrpSpPr/>
            <p:nvPr/>
          </p:nvGrpSpPr>
          <p:grpSpPr>
            <a:xfrm>
              <a:off x="2334960" y="3914640"/>
              <a:ext cx="884160" cy="1103400"/>
              <a:chOff x="2334960" y="3914640"/>
              <a:chExt cx="884160" cy="1103400"/>
            </a:xfrm>
          </p:grpSpPr>
          <p:grpSp>
            <p:nvGrpSpPr>
              <p:cNvPr id="683" name=""/>
              <p:cNvGrpSpPr/>
              <p:nvPr/>
            </p:nvGrpSpPr>
            <p:grpSpPr>
              <a:xfrm>
                <a:off x="2395080" y="4660560"/>
                <a:ext cx="217800" cy="314280"/>
                <a:chOff x="2395080" y="4660560"/>
                <a:chExt cx="217800" cy="314280"/>
              </a:xfrm>
            </p:grpSpPr>
            <p:grpSp>
              <p:nvGrpSpPr>
                <p:cNvPr id="684" name=""/>
                <p:cNvGrpSpPr/>
                <p:nvPr/>
              </p:nvGrpSpPr>
              <p:grpSpPr>
                <a:xfrm>
                  <a:off x="2395080" y="4776480"/>
                  <a:ext cx="124200" cy="198360"/>
                  <a:chOff x="2395080" y="4776480"/>
                  <a:chExt cx="124200" cy="198360"/>
                </a:xfrm>
              </p:grpSpPr>
              <p:sp>
                <p:nvSpPr>
                  <p:cNvPr id="685" name=""/>
                  <p:cNvSpPr/>
                  <p:nvPr/>
                </p:nvSpPr>
                <p:spPr>
                  <a:xfrm>
                    <a:off x="2417760" y="4941720"/>
                    <a:ext cx="88920" cy="208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 flipH="1" flipV="1">
                    <a:off x="2449440" y="4870080"/>
                    <a:ext cx="69840" cy="1047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87" name=""/>
                  <p:cNvGrpSpPr/>
                  <p:nvPr/>
                </p:nvGrpSpPr>
                <p:grpSpPr>
                  <a:xfrm>
                    <a:off x="2395080" y="4776480"/>
                    <a:ext cx="100440" cy="106200"/>
                    <a:chOff x="2395080" y="4776480"/>
                    <a:chExt cx="100440" cy="106200"/>
                  </a:xfrm>
                </p:grpSpPr>
                <p:sp>
                  <p:nvSpPr>
                    <p:cNvPr id="688" name=""/>
                    <p:cNvSpPr/>
                    <p:nvPr/>
                  </p:nvSpPr>
                  <p:spPr>
                    <a:xfrm flipH="1" flipV="1">
                      <a:off x="2395080" y="4776480"/>
                      <a:ext cx="66600" cy="1062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9" name=""/>
                    <p:cNvSpPr/>
                    <p:nvPr/>
                  </p:nvSpPr>
                  <p:spPr>
                    <a:xfrm>
                      <a:off x="2408400" y="4789440"/>
                      <a:ext cx="87120" cy="223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90" name=""/>
                <p:cNvGrpSpPr/>
                <p:nvPr/>
              </p:nvGrpSpPr>
              <p:grpSpPr>
                <a:xfrm>
                  <a:off x="2487240" y="4660560"/>
                  <a:ext cx="125640" cy="195480"/>
                  <a:chOff x="2487240" y="4660560"/>
                  <a:chExt cx="125640" cy="195480"/>
                </a:xfrm>
              </p:grpSpPr>
              <p:sp>
                <p:nvSpPr>
                  <p:cNvPr id="691" name=""/>
                  <p:cNvSpPr/>
                  <p:nvPr/>
                </p:nvSpPr>
                <p:spPr>
                  <a:xfrm>
                    <a:off x="2508120" y="4824360"/>
                    <a:ext cx="92160" cy="190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 flipH="1" flipV="1">
                    <a:off x="2541600" y="4753080"/>
                    <a:ext cx="71280" cy="1029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93" name=""/>
                  <p:cNvGrpSpPr/>
                  <p:nvPr/>
                </p:nvGrpSpPr>
                <p:grpSpPr>
                  <a:xfrm>
                    <a:off x="2487240" y="4660560"/>
                    <a:ext cx="101880" cy="104760"/>
                    <a:chOff x="2487240" y="4660560"/>
                    <a:chExt cx="101880" cy="104760"/>
                  </a:xfrm>
                </p:grpSpPr>
                <p:sp>
                  <p:nvSpPr>
                    <p:cNvPr id="694" name=""/>
                    <p:cNvSpPr/>
                    <p:nvPr/>
                  </p:nvSpPr>
                  <p:spPr>
                    <a:xfrm flipH="1" flipV="1">
                      <a:off x="2487240" y="4660560"/>
                      <a:ext cx="66600" cy="1047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5" name=""/>
                    <p:cNvSpPr/>
                    <p:nvPr/>
                  </p:nvSpPr>
                  <p:spPr>
                    <a:xfrm>
                      <a:off x="2500200" y="4673520"/>
                      <a:ext cx="88920" cy="190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96" name=""/>
              <p:cNvGrpSpPr/>
              <p:nvPr/>
            </p:nvGrpSpPr>
            <p:grpSpPr>
              <a:xfrm>
                <a:off x="2577960" y="4427640"/>
                <a:ext cx="217800" cy="310680"/>
                <a:chOff x="2577960" y="4427640"/>
                <a:chExt cx="217800" cy="310680"/>
              </a:xfrm>
            </p:grpSpPr>
            <p:grpSp>
              <p:nvGrpSpPr>
                <p:cNvPr id="697" name=""/>
                <p:cNvGrpSpPr/>
                <p:nvPr/>
              </p:nvGrpSpPr>
              <p:grpSpPr>
                <a:xfrm>
                  <a:off x="2577960" y="4543200"/>
                  <a:ext cx="127080" cy="195120"/>
                  <a:chOff x="2577960" y="4543200"/>
                  <a:chExt cx="127080" cy="195120"/>
                </a:xfrm>
              </p:grpSpPr>
              <p:sp>
                <p:nvSpPr>
                  <p:cNvPr id="698" name=""/>
                  <p:cNvSpPr/>
                  <p:nvPr/>
                </p:nvSpPr>
                <p:spPr>
                  <a:xfrm>
                    <a:off x="2602080" y="4705200"/>
                    <a:ext cx="90360" cy="208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 flipH="1" flipV="1">
                    <a:off x="2635200" y="4635000"/>
                    <a:ext cx="69840" cy="1033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00" name=""/>
                  <p:cNvGrpSpPr/>
                  <p:nvPr/>
                </p:nvGrpSpPr>
                <p:grpSpPr>
                  <a:xfrm>
                    <a:off x="2577960" y="4543200"/>
                    <a:ext cx="101880" cy="104760"/>
                    <a:chOff x="2577960" y="4543200"/>
                    <a:chExt cx="101880" cy="104760"/>
                  </a:xfrm>
                </p:grpSpPr>
                <p:sp>
                  <p:nvSpPr>
                    <p:cNvPr id="701" name=""/>
                    <p:cNvSpPr/>
                    <p:nvPr/>
                  </p:nvSpPr>
                  <p:spPr>
                    <a:xfrm flipH="1" flipV="1">
                      <a:off x="2577960" y="4543200"/>
                      <a:ext cx="69840" cy="1047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2" name=""/>
                    <p:cNvSpPr/>
                    <p:nvPr/>
                  </p:nvSpPr>
                  <p:spPr>
                    <a:xfrm>
                      <a:off x="2590920" y="4556160"/>
                      <a:ext cx="88920" cy="205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03" name=""/>
                <p:cNvGrpSpPr/>
                <p:nvPr/>
              </p:nvGrpSpPr>
              <p:grpSpPr>
                <a:xfrm>
                  <a:off x="2668680" y="4427640"/>
                  <a:ext cx="127080" cy="193320"/>
                  <a:chOff x="2668680" y="4427640"/>
                  <a:chExt cx="127080" cy="193320"/>
                </a:xfrm>
              </p:grpSpPr>
              <p:sp>
                <p:nvSpPr>
                  <p:cNvPr id="704" name=""/>
                  <p:cNvSpPr/>
                  <p:nvPr/>
                </p:nvSpPr>
                <p:spPr>
                  <a:xfrm>
                    <a:off x="2692440" y="4589640"/>
                    <a:ext cx="90360" cy="187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 flipH="1" flipV="1">
                    <a:off x="2727360" y="4516200"/>
                    <a:ext cx="68400" cy="1047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06" name=""/>
                  <p:cNvGrpSpPr/>
                  <p:nvPr/>
                </p:nvGrpSpPr>
                <p:grpSpPr>
                  <a:xfrm>
                    <a:off x="2668680" y="4427640"/>
                    <a:ext cx="102960" cy="101520"/>
                    <a:chOff x="2668680" y="4427640"/>
                    <a:chExt cx="102960" cy="101520"/>
                  </a:xfrm>
                </p:grpSpPr>
                <p:sp>
                  <p:nvSpPr>
                    <p:cNvPr id="707" name=""/>
                    <p:cNvSpPr/>
                    <p:nvPr/>
                  </p:nvSpPr>
                  <p:spPr>
                    <a:xfrm flipH="1" flipV="1">
                      <a:off x="2668680" y="4427640"/>
                      <a:ext cx="71280" cy="1015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"/>
                    <p:cNvSpPr/>
                    <p:nvPr/>
                  </p:nvSpPr>
                  <p:spPr>
                    <a:xfrm>
                      <a:off x="2681280" y="4440240"/>
                      <a:ext cx="90360" cy="190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09" name=""/>
              <p:cNvGrpSpPr/>
              <p:nvPr/>
            </p:nvGrpSpPr>
            <p:grpSpPr>
              <a:xfrm>
                <a:off x="2762280" y="4192200"/>
                <a:ext cx="217440" cy="312840"/>
                <a:chOff x="2762280" y="4192200"/>
                <a:chExt cx="217440" cy="312840"/>
              </a:xfrm>
            </p:grpSpPr>
            <p:grpSp>
              <p:nvGrpSpPr>
                <p:cNvPr id="710" name=""/>
                <p:cNvGrpSpPr/>
                <p:nvPr/>
              </p:nvGrpSpPr>
              <p:grpSpPr>
                <a:xfrm>
                  <a:off x="2762280" y="4306680"/>
                  <a:ext cx="123840" cy="198360"/>
                  <a:chOff x="2762280" y="4306680"/>
                  <a:chExt cx="123840" cy="198360"/>
                </a:xfrm>
              </p:grpSpPr>
              <p:sp>
                <p:nvSpPr>
                  <p:cNvPr id="711" name=""/>
                  <p:cNvSpPr/>
                  <p:nvPr/>
                </p:nvSpPr>
                <p:spPr>
                  <a:xfrm>
                    <a:off x="2784600" y="4471920"/>
                    <a:ext cx="88920" cy="208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 flipH="1" flipV="1">
                    <a:off x="2817720" y="4400280"/>
                    <a:ext cx="68400" cy="1047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3" name=""/>
                  <p:cNvGrpSpPr/>
                  <p:nvPr/>
                </p:nvGrpSpPr>
                <p:grpSpPr>
                  <a:xfrm>
                    <a:off x="2762280" y="4306680"/>
                    <a:ext cx="101520" cy="106200"/>
                    <a:chOff x="2762280" y="4306680"/>
                    <a:chExt cx="101520" cy="106200"/>
                  </a:xfrm>
                </p:grpSpPr>
                <p:sp>
                  <p:nvSpPr>
                    <p:cNvPr id="714" name=""/>
                    <p:cNvSpPr/>
                    <p:nvPr/>
                  </p:nvSpPr>
                  <p:spPr>
                    <a:xfrm flipH="1" flipV="1">
                      <a:off x="2762280" y="4306680"/>
                      <a:ext cx="68400" cy="1062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"/>
                    <p:cNvSpPr/>
                    <p:nvPr/>
                  </p:nvSpPr>
                  <p:spPr>
                    <a:xfrm>
                      <a:off x="2774880" y="4319640"/>
                      <a:ext cx="88920" cy="223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16" name=""/>
                <p:cNvGrpSpPr/>
                <p:nvPr/>
              </p:nvGrpSpPr>
              <p:grpSpPr>
                <a:xfrm>
                  <a:off x="2852640" y="4192200"/>
                  <a:ext cx="127080" cy="192600"/>
                  <a:chOff x="2852640" y="4192200"/>
                  <a:chExt cx="127080" cy="192600"/>
                </a:xfrm>
              </p:grpSpPr>
              <p:sp>
                <p:nvSpPr>
                  <p:cNvPr id="717" name=""/>
                  <p:cNvSpPr/>
                  <p:nvPr/>
                </p:nvSpPr>
                <p:spPr>
                  <a:xfrm>
                    <a:off x="2876400" y="4354560"/>
                    <a:ext cx="90720" cy="172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 flipH="1" flipV="1">
                    <a:off x="2908440" y="4284720"/>
                    <a:ext cx="71280" cy="1000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9" name=""/>
                  <p:cNvGrpSpPr/>
                  <p:nvPr/>
                </p:nvGrpSpPr>
                <p:grpSpPr>
                  <a:xfrm>
                    <a:off x="2852640" y="4192200"/>
                    <a:ext cx="103320" cy="104760"/>
                    <a:chOff x="2852640" y="4192200"/>
                    <a:chExt cx="103320" cy="104760"/>
                  </a:xfrm>
                </p:grpSpPr>
                <p:sp>
                  <p:nvSpPr>
                    <p:cNvPr id="720" name=""/>
                    <p:cNvSpPr/>
                    <p:nvPr/>
                  </p:nvSpPr>
                  <p:spPr>
                    <a:xfrm flipH="1" flipV="1">
                      <a:off x="2852640" y="4192200"/>
                      <a:ext cx="68400" cy="1047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" name=""/>
                    <p:cNvSpPr/>
                    <p:nvPr/>
                  </p:nvSpPr>
                  <p:spPr>
                    <a:xfrm>
                      <a:off x="2865600" y="4205160"/>
                      <a:ext cx="90360" cy="17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22" name=""/>
              <p:cNvGrpSpPr/>
              <p:nvPr/>
            </p:nvGrpSpPr>
            <p:grpSpPr>
              <a:xfrm>
                <a:off x="2946240" y="3957480"/>
                <a:ext cx="215640" cy="311040"/>
                <a:chOff x="2946240" y="3957480"/>
                <a:chExt cx="215640" cy="311040"/>
              </a:xfrm>
            </p:grpSpPr>
            <p:grpSp>
              <p:nvGrpSpPr>
                <p:cNvPr id="723" name=""/>
                <p:cNvGrpSpPr/>
                <p:nvPr/>
              </p:nvGrpSpPr>
              <p:grpSpPr>
                <a:xfrm>
                  <a:off x="2946240" y="4071600"/>
                  <a:ext cx="123480" cy="196920"/>
                  <a:chOff x="2946240" y="4071600"/>
                  <a:chExt cx="123480" cy="196920"/>
                </a:xfrm>
              </p:grpSpPr>
              <p:sp>
                <p:nvSpPr>
                  <p:cNvPr id="724" name=""/>
                  <p:cNvSpPr/>
                  <p:nvPr/>
                </p:nvSpPr>
                <p:spPr>
                  <a:xfrm>
                    <a:off x="2968560" y="4235400"/>
                    <a:ext cx="88920" cy="205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 flipH="1" flipV="1">
                    <a:off x="3001680" y="4165200"/>
                    <a:ext cx="68040" cy="1033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6" name=""/>
                  <p:cNvGrpSpPr/>
                  <p:nvPr/>
                </p:nvGrpSpPr>
                <p:grpSpPr>
                  <a:xfrm>
                    <a:off x="2946240" y="4071600"/>
                    <a:ext cx="100080" cy="106200"/>
                    <a:chOff x="2946240" y="4071600"/>
                    <a:chExt cx="100080" cy="106200"/>
                  </a:xfrm>
                </p:grpSpPr>
                <p:sp>
                  <p:nvSpPr>
                    <p:cNvPr id="727" name=""/>
                    <p:cNvSpPr/>
                    <p:nvPr/>
                  </p:nvSpPr>
                  <p:spPr>
                    <a:xfrm flipH="1" flipV="1">
                      <a:off x="2946240" y="4071600"/>
                      <a:ext cx="68400" cy="1062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"/>
                    <p:cNvSpPr/>
                    <p:nvPr/>
                  </p:nvSpPr>
                  <p:spPr>
                    <a:xfrm>
                      <a:off x="2959200" y="4084560"/>
                      <a:ext cx="87120" cy="237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29" name=""/>
                <p:cNvGrpSpPr/>
                <p:nvPr/>
              </p:nvGrpSpPr>
              <p:grpSpPr>
                <a:xfrm>
                  <a:off x="3036960" y="3957480"/>
                  <a:ext cx="124920" cy="195480"/>
                  <a:chOff x="3036960" y="3957480"/>
                  <a:chExt cx="124920" cy="195480"/>
                </a:xfrm>
              </p:grpSpPr>
              <p:sp>
                <p:nvSpPr>
                  <p:cNvPr id="730" name=""/>
                  <p:cNvSpPr/>
                  <p:nvPr/>
                </p:nvSpPr>
                <p:spPr>
                  <a:xfrm>
                    <a:off x="3059280" y="4121280"/>
                    <a:ext cx="90360" cy="190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 flipH="1" flipV="1">
                    <a:off x="3095280" y="4044960"/>
                    <a:ext cx="66600" cy="108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2" name=""/>
                  <p:cNvGrpSpPr/>
                  <p:nvPr/>
                </p:nvGrpSpPr>
                <p:grpSpPr>
                  <a:xfrm>
                    <a:off x="3036960" y="3957480"/>
                    <a:ext cx="102960" cy="100080"/>
                    <a:chOff x="3036960" y="3957480"/>
                    <a:chExt cx="102960" cy="100080"/>
                  </a:xfrm>
                </p:grpSpPr>
                <p:sp>
                  <p:nvSpPr>
                    <p:cNvPr id="733" name=""/>
                    <p:cNvSpPr/>
                    <p:nvPr/>
                  </p:nvSpPr>
                  <p:spPr>
                    <a:xfrm flipH="1" flipV="1">
                      <a:off x="3036960" y="3957480"/>
                      <a:ext cx="71280" cy="1000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"/>
                    <p:cNvSpPr/>
                    <p:nvPr/>
                  </p:nvSpPr>
                  <p:spPr>
                    <a:xfrm>
                      <a:off x="3049560" y="3970440"/>
                      <a:ext cx="90360" cy="172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735" name=""/>
              <p:cNvSpPr/>
              <p:nvPr/>
            </p:nvSpPr>
            <p:spPr>
              <a:xfrm flipH="1">
                <a:off x="2334960" y="4941720"/>
                <a:ext cx="82440" cy="763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>
                <a:off x="3139560" y="3914640"/>
                <a:ext cx="79560" cy="730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7" name=""/>
            <p:cNvSpPr/>
            <p:nvPr/>
          </p:nvSpPr>
          <p:spPr>
            <a:xfrm rot="2280000">
              <a:off x="3220560" y="3859200"/>
              <a:ext cx="20880" cy="39600"/>
            </a:xfrm>
            <a:prstGeom prst="ellipse">
              <a:avLst/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2334960" y="4983120"/>
            <a:ext cx="916920" cy="1175400"/>
            <a:chOff x="2334960" y="4983120"/>
            <a:chExt cx="916920" cy="1175400"/>
          </a:xfrm>
        </p:grpSpPr>
        <p:grpSp>
          <p:nvGrpSpPr>
            <p:cNvPr id="739" name=""/>
            <p:cNvGrpSpPr/>
            <p:nvPr/>
          </p:nvGrpSpPr>
          <p:grpSpPr>
            <a:xfrm>
              <a:off x="2334960" y="4983120"/>
              <a:ext cx="884160" cy="1128240"/>
              <a:chOff x="2334960" y="4983120"/>
              <a:chExt cx="884160" cy="1128240"/>
            </a:xfrm>
          </p:grpSpPr>
          <p:grpSp>
            <p:nvGrpSpPr>
              <p:cNvPr id="740" name=""/>
              <p:cNvGrpSpPr/>
              <p:nvPr/>
            </p:nvGrpSpPr>
            <p:grpSpPr>
              <a:xfrm>
                <a:off x="2395080" y="5038560"/>
                <a:ext cx="217800" cy="314640"/>
                <a:chOff x="2395080" y="5038560"/>
                <a:chExt cx="217800" cy="314640"/>
              </a:xfrm>
            </p:grpSpPr>
            <p:grpSp>
              <p:nvGrpSpPr>
                <p:cNvPr id="741" name=""/>
                <p:cNvGrpSpPr/>
                <p:nvPr/>
              </p:nvGrpSpPr>
              <p:grpSpPr>
                <a:xfrm>
                  <a:off x="2395080" y="5038560"/>
                  <a:ext cx="124200" cy="198360"/>
                  <a:chOff x="2395080" y="5038560"/>
                  <a:chExt cx="124200" cy="198360"/>
                </a:xfrm>
              </p:grpSpPr>
              <p:sp>
                <p:nvSpPr>
                  <p:cNvPr id="742" name=""/>
                  <p:cNvSpPr/>
                  <p:nvPr/>
                </p:nvSpPr>
                <p:spPr>
                  <a:xfrm flipV="1">
                    <a:off x="2417760" y="5038560"/>
                    <a:ext cx="88920" cy="460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 flipH="1">
                    <a:off x="2449440" y="5051520"/>
                    <a:ext cx="69840" cy="79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4" name=""/>
                  <p:cNvGrpSpPr/>
                  <p:nvPr/>
                </p:nvGrpSpPr>
                <p:grpSpPr>
                  <a:xfrm>
                    <a:off x="2395080" y="5143680"/>
                    <a:ext cx="100440" cy="93240"/>
                    <a:chOff x="2395080" y="5143680"/>
                    <a:chExt cx="100440" cy="93240"/>
                  </a:xfrm>
                </p:grpSpPr>
                <p:sp>
                  <p:nvSpPr>
                    <p:cNvPr id="745" name=""/>
                    <p:cNvSpPr/>
                    <p:nvPr/>
                  </p:nvSpPr>
                  <p:spPr>
                    <a:xfrm flipH="1">
                      <a:off x="2395080" y="5143680"/>
                      <a:ext cx="66600" cy="80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840" bIns="33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"/>
                    <p:cNvSpPr/>
                    <p:nvPr/>
                  </p:nvSpPr>
                  <p:spPr>
                    <a:xfrm flipV="1">
                      <a:off x="2408400" y="5189040"/>
                      <a:ext cx="87120" cy="478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" bIns="1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47" name=""/>
                <p:cNvGrpSpPr/>
                <p:nvPr/>
              </p:nvGrpSpPr>
              <p:grpSpPr>
                <a:xfrm>
                  <a:off x="2487240" y="5157720"/>
                  <a:ext cx="125640" cy="195480"/>
                  <a:chOff x="2487240" y="5157720"/>
                  <a:chExt cx="125640" cy="195480"/>
                </a:xfrm>
              </p:grpSpPr>
              <p:sp>
                <p:nvSpPr>
                  <p:cNvPr id="748" name=""/>
                  <p:cNvSpPr/>
                  <p:nvPr/>
                </p:nvSpPr>
                <p:spPr>
                  <a:xfrm flipV="1">
                    <a:off x="2508120" y="5157720"/>
                    <a:ext cx="92160" cy="44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 flipH="1">
                    <a:off x="2541600" y="5170320"/>
                    <a:ext cx="71280" cy="781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50" name=""/>
                  <p:cNvGrpSpPr/>
                  <p:nvPr/>
                </p:nvGrpSpPr>
                <p:grpSpPr>
                  <a:xfrm>
                    <a:off x="2487240" y="5261040"/>
                    <a:ext cx="101880" cy="92160"/>
                    <a:chOff x="2487240" y="5261040"/>
                    <a:chExt cx="101880" cy="92160"/>
                  </a:xfrm>
                </p:grpSpPr>
                <p:sp>
                  <p:nvSpPr>
                    <p:cNvPr id="751" name=""/>
                    <p:cNvSpPr/>
                    <p:nvPr/>
                  </p:nvSpPr>
                  <p:spPr>
                    <a:xfrm flipH="1">
                      <a:off x="2487240" y="5261040"/>
                      <a:ext cx="66600" cy="792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2" name=""/>
                    <p:cNvSpPr/>
                    <p:nvPr/>
                  </p:nvSpPr>
                  <p:spPr>
                    <a:xfrm flipV="1">
                      <a:off x="2500200" y="5308560"/>
                      <a:ext cx="88920" cy="44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53" name=""/>
              <p:cNvGrpSpPr/>
              <p:nvPr/>
            </p:nvGrpSpPr>
            <p:grpSpPr>
              <a:xfrm>
                <a:off x="2577960" y="5275080"/>
                <a:ext cx="217800" cy="311400"/>
                <a:chOff x="2577960" y="5275080"/>
                <a:chExt cx="217800" cy="311400"/>
              </a:xfrm>
            </p:grpSpPr>
            <p:grpSp>
              <p:nvGrpSpPr>
                <p:cNvPr id="754" name=""/>
                <p:cNvGrpSpPr/>
                <p:nvPr/>
              </p:nvGrpSpPr>
              <p:grpSpPr>
                <a:xfrm>
                  <a:off x="2577960" y="5275080"/>
                  <a:ext cx="127080" cy="195480"/>
                  <a:chOff x="2577960" y="5275080"/>
                  <a:chExt cx="127080" cy="195480"/>
                </a:xfrm>
              </p:grpSpPr>
              <p:sp>
                <p:nvSpPr>
                  <p:cNvPr id="755" name=""/>
                  <p:cNvSpPr/>
                  <p:nvPr/>
                </p:nvSpPr>
                <p:spPr>
                  <a:xfrm flipV="1">
                    <a:off x="2602080" y="5275080"/>
                    <a:ext cx="90360" cy="457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 flipH="1">
                    <a:off x="2635200" y="5288040"/>
                    <a:ext cx="69840" cy="777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57" name=""/>
                  <p:cNvGrpSpPr/>
                  <p:nvPr/>
                </p:nvGrpSpPr>
                <p:grpSpPr>
                  <a:xfrm>
                    <a:off x="2577960" y="5378400"/>
                    <a:ext cx="101880" cy="92160"/>
                    <a:chOff x="2577960" y="5378400"/>
                    <a:chExt cx="101880" cy="92160"/>
                  </a:xfrm>
                </p:grpSpPr>
                <p:sp>
                  <p:nvSpPr>
                    <p:cNvPr id="758" name=""/>
                    <p:cNvSpPr/>
                    <p:nvPr/>
                  </p:nvSpPr>
                  <p:spPr>
                    <a:xfrm flipH="1">
                      <a:off x="2577960" y="5378400"/>
                      <a:ext cx="69840" cy="795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760" bIns="327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9" name=""/>
                    <p:cNvSpPr/>
                    <p:nvPr/>
                  </p:nvSpPr>
                  <p:spPr>
                    <a:xfrm flipV="1">
                      <a:off x="2590920" y="5424480"/>
                      <a:ext cx="88920" cy="460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60" name=""/>
                <p:cNvGrpSpPr/>
                <p:nvPr/>
              </p:nvGrpSpPr>
              <p:grpSpPr>
                <a:xfrm>
                  <a:off x="2668680" y="5392440"/>
                  <a:ext cx="127080" cy="194040"/>
                  <a:chOff x="2668680" y="5392440"/>
                  <a:chExt cx="127080" cy="194040"/>
                </a:xfrm>
              </p:grpSpPr>
              <p:sp>
                <p:nvSpPr>
                  <p:cNvPr id="761" name=""/>
                  <p:cNvSpPr/>
                  <p:nvPr/>
                </p:nvSpPr>
                <p:spPr>
                  <a:xfrm flipV="1">
                    <a:off x="2692440" y="5392440"/>
                    <a:ext cx="90360" cy="442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 flipH="1">
                    <a:off x="2727360" y="5405400"/>
                    <a:ext cx="68400" cy="79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63" name=""/>
                  <p:cNvGrpSpPr/>
                  <p:nvPr/>
                </p:nvGrpSpPr>
                <p:grpSpPr>
                  <a:xfrm>
                    <a:off x="2668680" y="5497560"/>
                    <a:ext cx="102960" cy="88920"/>
                    <a:chOff x="2668680" y="5497560"/>
                    <a:chExt cx="102960" cy="88920"/>
                  </a:xfrm>
                </p:grpSpPr>
                <p:sp>
                  <p:nvSpPr>
                    <p:cNvPr id="764" name=""/>
                    <p:cNvSpPr/>
                    <p:nvPr/>
                  </p:nvSpPr>
                  <p:spPr>
                    <a:xfrm flipH="1">
                      <a:off x="2668680" y="5497560"/>
                      <a:ext cx="71280" cy="763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5" name=""/>
                    <p:cNvSpPr/>
                    <p:nvPr/>
                  </p:nvSpPr>
                  <p:spPr>
                    <a:xfrm flipV="1">
                      <a:off x="2681280" y="5541840"/>
                      <a:ext cx="90360" cy="44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66" name=""/>
              <p:cNvGrpSpPr/>
              <p:nvPr/>
            </p:nvGrpSpPr>
            <p:grpSpPr>
              <a:xfrm>
                <a:off x="2762280" y="5508720"/>
                <a:ext cx="217440" cy="312120"/>
                <a:chOff x="2762280" y="5508720"/>
                <a:chExt cx="217440" cy="312120"/>
              </a:xfrm>
            </p:grpSpPr>
            <p:grpSp>
              <p:nvGrpSpPr>
                <p:cNvPr id="767" name=""/>
                <p:cNvGrpSpPr/>
                <p:nvPr/>
              </p:nvGrpSpPr>
              <p:grpSpPr>
                <a:xfrm>
                  <a:off x="2762280" y="5508720"/>
                  <a:ext cx="123840" cy="198360"/>
                  <a:chOff x="2762280" y="5508720"/>
                  <a:chExt cx="123840" cy="198360"/>
                </a:xfrm>
              </p:grpSpPr>
              <p:sp>
                <p:nvSpPr>
                  <p:cNvPr id="768" name=""/>
                  <p:cNvSpPr/>
                  <p:nvPr/>
                </p:nvSpPr>
                <p:spPr>
                  <a:xfrm flipV="1">
                    <a:off x="2784600" y="5508720"/>
                    <a:ext cx="88920" cy="460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 flipH="1">
                    <a:off x="2817720" y="5521320"/>
                    <a:ext cx="68400" cy="79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70" name=""/>
                  <p:cNvGrpSpPr/>
                  <p:nvPr/>
                </p:nvGrpSpPr>
                <p:grpSpPr>
                  <a:xfrm>
                    <a:off x="2762280" y="5613480"/>
                    <a:ext cx="101520" cy="93600"/>
                    <a:chOff x="2762280" y="5613480"/>
                    <a:chExt cx="101520" cy="93600"/>
                  </a:xfrm>
                </p:grpSpPr>
                <p:sp>
                  <p:nvSpPr>
                    <p:cNvPr id="771" name=""/>
                    <p:cNvSpPr/>
                    <p:nvPr/>
                  </p:nvSpPr>
                  <p:spPr>
                    <a:xfrm flipH="1">
                      <a:off x="2762280" y="5613480"/>
                      <a:ext cx="68400" cy="81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2" name=""/>
                    <p:cNvSpPr/>
                    <p:nvPr/>
                  </p:nvSpPr>
                  <p:spPr>
                    <a:xfrm flipV="1">
                      <a:off x="2774880" y="5659560"/>
                      <a:ext cx="88920" cy="475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73" name=""/>
                <p:cNvGrpSpPr/>
                <p:nvPr/>
              </p:nvGrpSpPr>
              <p:grpSpPr>
                <a:xfrm>
                  <a:off x="2852640" y="5628960"/>
                  <a:ext cx="127080" cy="191880"/>
                  <a:chOff x="2852640" y="5628960"/>
                  <a:chExt cx="127080" cy="191880"/>
                </a:xfrm>
              </p:grpSpPr>
              <p:sp>
                <p:nvSpPr>
                  <p:cNvPr id="774" name=""/>
                  <p:cNvSpPr/>
                  <p:nvPr/>
                </p:nvSpPr>
                <p:spPr>
                  <a:xfrm flipV="1">
                    <a:off x="2876400" y="5628960"/>
                    <a:ext cx="90720" cy="428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 flipH="1">
                    <a:off x="2908440" y="5641920"/>
                    <a:ext cx="71280" cy="745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76" name=""/>
                  <p:cNvGrpSpPr/>
                  <p:nvPr/>
                </p:nvGrpSpPr>
                <p:grpSpPr>
                  <a:xfrm>
                    <a:off x="2852640" y="5729400"/>
                    <a:ext cx="103320" cy="91440"/>
                    <a:chOff x="2852640" y="5729400"/>
                    <a:chExt cx="103320" cy="91440"/>
                  </a:xfrm>
                </p:grpSpPr>
                <p:sp>
                  <p:nvSpPr>
                    <p:cNvPr id="777" name=""/>
                    <p:cNvSpPr/>
                    <p:nvPr/>
                  </p:nvSpPr>
                  <p:spPr>
                    <a:xfrm flipH="1">
                      <a:off x="2852640" y="5729400"/>
                      <a:ext cx="68400" cy="792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"/>
                    <p:cNvSpPr/>
                    <p:nvPr/>
                  </p:nvSpPr>
                  <p:spPr>
                    <a:xfrm flipV="1">
                      <a:off x="2865600" y="5778000"/>
                      <a:ext cx="90360" cy="428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79" name=""/>
              <p:cNvGrpSpPr/>
              <p:nvPr/>
            </p:nvGrpSpPr>
            <p:grpSpPr>
              <a:xfrm>
                <a:off x="2946240" y="5745240"/>
                <a:ext cx="215640" cy="310680"/>
                <a:chOff x="2946240" y="5745240"/>
                <a:chExt cx="215640" cy="310680"/>
              </a:xfrm>
            </p:grpSpPr>
            <p:grpSp>
              <p:nvGrpSpPr>
                <p:cNvPr id="780" name=""/>
                <p:cNvGrpSpPr/>
                <p:nvPr/>
              </p:nvGrpSpPr>
              <p:grpSpPr>
                <a:xfrm>
                  <a:off x="2946240" y="5745240"/>
                  <a:ext cx="123480" cy="196560"/>
                  <a:chOff x="2946240" y="5745240"/>
                  <a:chExt cx="123480" cy="196560"/>
                </a:xfrm>
              </p:grpSpPr>
              <p:sp>
                <p:nvSpPr>
                  <p:cNvPr id="781" name=""/>
                  <p:cNvSpPr/>
                  <p:nvPr/>
                </p:nvSpPr>
                <p:spPr>
                  <a:xfrm flipV="1">
                    <a:off x="2968560" y="5745240"/>
                    <a:ext cx="88920" cy="460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 flipH="1">
                    <a:off x="3001680" y="5757840"/>
                    <a:ext cx="68040" cy="777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83" name=""/>
                  <p:cNvGrpSpPr/>
                  <p:nvPr/>
                </p:nvGrpSpPr>
                <p:grpSpPr>
                  <a:xfrm>
                    <a:off x="2946240" y="5848200"/>
                    <a:ext cx="100080" cy="93600"/>
                    <a:chOff x="2946240" y="5848200"/>
                    <a:chExt cx="100080" cy="93600"/>
                  </a:xfrm>
                </p:grpSpPr>
                <p:sp>
                  <p:nvSpPr>
                    <p:cNvPr id="784" name=""/>
                    <p:cNvSpPr/>
                    <p:nvPr/>
                  </p:nvSpPr>
                  <p:spPr>
                    <a:xfrm flipH="1">
                      <a:off x="2946240" y="5848200"/>
                      <a:ext cx="68400" cy="81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5" name=""/>
                    <p:cNvSpPr/>
                    <p:nvPr/>
                  </p:nvSpPr>
                  <p:spPr>
                    <a:xfrm flipV="1">
                      <a:off x="2959200" y="5892480"/>
                      <a:ext cx="87120" cy="493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86" name=""/>
                <p:cNvGrpSpPr/>
                <p:nvPr/>
              </p:nvGrpSpPr>
              <p:grpSpPr>
                <a:xfrm>
                  <a:off x="3036960" y="5860800"/>
                  <a:ext cx="124920" cy="195120"/>
                  <a:chOff x="3036960" y="5860800"/>
                  <a:chExt cx="124920" cy="195120"/>
                </a:xfrm>
              </p:grpSpPr>
              <p:sp>
                <p:nvSpPr>
                  <p:cNvPr id="787" name=""/>
                  <p:cNvSpPr/>
                  <p:nvPr/>
                </p:nvSpPr>
                <p:spPr>
                  <a:xfrm flipV="1">
                    <a:off x="3059280" y="5860800"/>
                    <a:ext cx="90360" cy="442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 flipH="1">
                    <a:off x="3095280" y="5873760"/>
                    <a:ext cx="66600" cy="824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89" name=""/>
                  <p:cNvGrpSpPr/>
                  <p:nvPr/>
                </p:nvGrpSpPr>
                <p:grpSpPr>
                  <a:xfrm>
                    <a:off x="3036960" y="5969160"/>
                    <a:ext cx="102960" cy="86760"/>
                    <a:chOff x="3036960" y="5969160"/>
                    <a:chExt cx="102960" cy="86760"/>
                  </a:xfrm>
                </p:grpSpPr>
                <p:sp>
                  <p:nvSpPr>
                    <p:cNvPr id="790" name=""/>
                    <p:cNvSpPr/>
                    <p:nvPr/>
                  </p:nvSpPr>
                  <p:spPr>
                    <a:xfrm flipH="1">
                      <a:off x="3036960" y="5969160"/>
                      <a:ext cx="71280" cy="745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1" name=""/>
                    <p:cNvSpPr/>
                    <p:nvPr/>
                  </p:nvSpPr>
                  <p:spPr>
                    <a:xfrm flipV="1">
                      <a:off x="3049560" y="6013080"/>
                      <a:ext cx="90360" cy="428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792" name=""/>
              <p:cNvSpPr/>
              <p:nvPr/>
            </p:nvSpPr>
            <p:spPr>
              <a:xfrm flipH="1" flipV="1">
                <a:off x="2334960" y="4983120"/>
                <a:ext cx="82440" cy="1015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 flipV="1">
                <a:off x="3139560" y="6013080"/>
                <a:ext cx="79560" cy="982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4" name=""/>
            <p:cNvSpPr/>
            <p:nvPr/>
          </p:nvSpPr>
          <p:spPr>
            <a:xfrm rot="8520000">
              <a:off x="3220920" y="6116400"/>
              <a:ext cx="20880" cy="39600"/>
            </a:xfrm>
            <a:prstGeom prst="ellipse">
              <a:avLst/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2325600" y="4983120"/>
            <a:ext cx="63720" cy="63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521080" y="4807080"/>
            <a:ext cx="444240" cy="44424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6117840" y="4993920"/>
            <a:ext cx="214200" cy="1171800"/>
            <a:chOff x="6117840" y="4993920"/>
            <a:chExt cx="214200" cy="1171800"/>
          </a:xfrm>
        </p:grpSpPr>
        <p:grpSp>
          <p:nvGrpSpPr>
            <p:cNvPr id="798" name=""/>
            <p:cNvGrpSpPr/>
            <p:nvPr/>
          </p:nvGrpSpPr>
          <p:grpSpPr>
            <a:xfrm>
              <a:off x="6117840" y="4993920"/>
              <a:ext cx="214200" cy="1138680"/>
              <a:chOff x="6117840" y="4993920"/>
              <a:chExt cx="214200" cy="1138680"/>
            </a:xfrm>
          </p:grpSpPr>
          <p:grpSp>
            <p:nvGrpSpPr>
              <p:cNvPr id="799" name=""/>
              <p:cNvGrpSpPr/>
              <p:nvPr/>
            </p:nvGrpSpPr>
            <p:grpSpPr>
              <a:xfrm>
                <a:off x="6117840" y="5097600"/>
                <a:ext cx="214200" cy="225360"/>
                <a:chOff x="6117840" y="5097600"/>
                <a:chExt cx="214200" cy="225360"/>
              </a:xfrm>
            </p:grpSpPr>
            <p:grpSp>
              <p:nvGrpSpPr>
                <p:cNvPr id="800" name=""/>
                <p:cNvGrpSpPr/>
                <p:nvPr/>
              </p:nvGrpSpPr>
              <p:grpSpPr>
                <a:xfrm>
                  <a:off x="6117840" y="5097600"/>
                  <a:ext cx="214200" cy="104760"/>
                  <a:chOff x="6117840" y="5097600"/>
                  <a:chExt cx="214200" cy="104760"/>
                </a:xfrm>
              </p:grpSpPr>
              <p:sp>
                <p:nvSpPr>
                  <p:cNvPr id="801" name=""/>
                  <p:cNvSpPr/>
                  <p:nvPr/>
                </p:nvSpPr>
                <p:spPr>
                  <a:xfrm>
                    <a:off x="6230880" y="5097600"/>
                    <a:ext cx="88920" cy="158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 flipH="1">
                    <a:off x="6217920" y="5126040"/>
                    <a:ext cx="114120" cy="17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03" name=""/>
                  <p:cNvGrpSpPr/>
                  <p:nvPr/>
                </p:nvGrpSpPr>
                <p:grpSpPr>
                  <a:xfrm>
                    <a:off x="6117840" y="5156280"/>
                    <a:ext cx="112680" cy="46080"/>
                    <a:chOff x="6117840" y="5156280"/>
                    <a:chExt cx="112680" cy="46080"/>
                  </a:xfrm>
                </p:grpSpPr>
                <p:sp>
                  <p:nvSpPr>
                    <p:cNvPr id="804" name=""/>
                    <p:cNvSpPr/>
                    <p:nvPr/>
                  </p:nvSpPr>
                  <p:spPr>
                    <a:xfrm flipH="1">
                      <a:off x="6117840" y="5156280"/>
                      <a:ext cx="112680" cy="190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5" name=""/>
                    <p:cNvSpPr/>
                    <p:nvPr/>
                  </p:nvSpPr>
                  <p:spPr>
                    <a:xfrm>
                      <a:off x="6130800" y="5187960"/>
                      <a:ext cx="87480" cy="144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06" name=""/>
                <p:cNvGrpSpPr/>
                <p:nvPr/>
              </p:nvGrpSpPr>
              <p:grpSpPr>
                <a:xfrm>
                  <a:off x="6117840" y="5214960"/>
                  <a:ext cx="214200" cy="108000"/>
                  <a:chOff x="6117840" y="5214960"/>
                  <a:chExt cx="214200" cy="108000"/>
                </a:xfrm>
              </p:grpSpPr>
              <p:sp>
                <p:nvSpPr>
                  <p:cNvPr id="807" name=""/>
                  <p:cNvSpPr/>
                  <p:nvPr/>
                </p:nvSpPr>
                <p:spPr>
                  <a:xfrm>
                    <a:off x="6230880" y="5214960"/>
                    <a:ext cx="88920" cy="190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 flipH="1">
                    <a:off x="6217920" y="5246640"/>
                    <a:ext cx="114120" cy="144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09" name=""/>
                  <p:cNvGrpSpPr/>
                  <p:nvPr/>
                </p:nvGrpSpPr>
                <p:grpSpPr>
                  <a:xfrm>
                    <a:off x="6117840" y="5273640"/>
                    <a:ext cx="112680" cy="49320"/>
                    <a:chOff x="6117840" y="5273640"/>
                    <a:chExt cx="112680" cy="49320"/>
                  </a:xfrm>
                </p:grpSpPr>
                <p:sp>
                  <p:nvSpPr>
                    <p:cNvPr id="810" name=""/>
                    <p:cNvSpPr/>
                    <p:nvPr/>
                  </p:nvSpPr>
                  <p:spPr>
                    <a:xfrm flipH="1">
                      <a:off x="6117840" y="5273640"/>
                      <a:ext cx="112680" cy="190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1" name=""/>
                    <p:cNvSpPr/>
                    <p:nvPr/>
                  </p:nvSpPr>
                  <p:spPr>
                    <a:xfrm>
                      <a:off x="6130800" y="5305320"/>
                      <a:ext cx="87480" cy="17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12" name=""/>
              <p:cNvGrpSpPr/>
              <p:nvPr/>
            </p:nvGrpSpPr>
            <p:grpSpPr>
              <a:xfrm>
                <a:off x="6117840" y="5335560"/>
                <a:ext cx="214200" cy="222120"/>
                <a:chOff x="6117840" y="5335560"/>
                <a:chExt cx="214200" cy="222120"/>
              </a:xfrm>
            </p:grpSpPr>
            <p:grpSp>
              <p:nvGrpSpPr>
                <p:cNvPr id="813" name=""/>
                <p:cNvGrpSpPr/>
                <p:nvPr/>
              </p:nvGrpSpPr>
              <p:grpSpPr>
                <a:xfrm>
                  <a:off x="6117840" y="5335560"/>
                  <a:ext cx="214200" cy="103320"/>
                  <a:chOff x="6117840" y="5335560"/>
                  <a:chExt cx="214200" cy="103320"/>
                </a:xfrm>
              </p:grpSpPr>
              <p:sp>
                <p:nvSpPr>
                  <p:cNvPr id="814" name=""/>
                  <p:cNvSpPr/>
                  <p:nvPr/>
                </p:nvSpPr>
                <p:spPr>
                  <a:xfrm>
                    <a:off x="6230880" y="5335560"/>
                    <a:ext cx="88920" cy="158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 flipH="1">
                    <a:off x="6217920" y="5364000"/>
                    <a:ext cx="114120" cy="17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16" name=""/>
                  <p:cNvGrpSpPr/>
                  <p:nvPr/>
                </p:nvGrpSpPr>
                <p:grpSpPr>
                  <a:xfrm>
                    <a:off x="6117840" y="5394240"/>
                    <a:ext cx="112680" cy="44640"/>
                    <a:chOff x="6117840" y="5394240"/>
                    <a:chExt cx="112680" cy="44640"/>
                  </a:xfrm>
                </p:grpSpPr>
                <p:sp>
                  <p:nvSpPr>
                    <p:cNvPr id="817" name=""/>
                    <p:cNvSpPr/>
                    <p:nvPr/>
                  </p:nvSpPr>
                  <p:spPr>
                    <a:xfrm flipH="1">
                      <a:off x="6117840" y="5394240"/>
                      <a:ext cx="112680" cy="158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8" name=""/>
                    <p:cNvSpPr/>
                    <p:nvPr/>
                  </p:nvSpPr>
                  <p:spPr>
                    <a:xfrm>
                      <a:off x="6130800" y="5423040"/>
                      <a:ext cx="87480" cy="158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19" name=""/>
                <p:cNvGrpSpPr/>
                <p:nvPr/>
              </p:nvGrpSpPr>
              <p:grpSpPr>
                <a:xfrm>
                  <a:off x="6117840" y="5451480"/>
                  <a:ext cx="214200" cy="106200"/>
                  <a:chOff x="6117840" y="5451480"/>
                  <a:chExt cx="214200" cy="106200"/>
                </a:xfrm>
              </p:grpSpPr>
              <p:sp>
                <p:nvSpPr>
                  <p:cNvPr id="820" name=""/>
                  <p:cNvSpPr/>
                  <p:nvPr/>
                </p:nvSpPr>
                <p:spPr>
                  <a:xfrm>
                    <a:off x="6230880" y="5451480"/>
                    <a:ext cx="88920" cy="172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 flipH="1">
                    <a:off x="6217920" y="5481720"/>
                    <a:ext cx="114120" cy="172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22" name=""/>
                  <p:cNvGrpSpPr/>
                  <p:nvPr/>
                </p:nvGrpSpPr>
                <p:grpSpPr>
                  <a:xfrm>
                    <a:off x="6117840" y="5511960"/>
                    <a:ext cx="112680" cy="45720"/>
                    <a:chOff x="6117840" y="5511960"/>
                    <a:chExt cx="112680" cy="45720"/>
                  </a:xfrm>
                </p:grpSpPr>
                <p:sp>
                  <p:nvSpPr>
                    <p:cNvPr id="823" name=""/>
                    <p:cNvSpPr/>
                    <p:nvPr/>
                  </p:nvSpPr>
                  <p:spPr>
                    <a:xfrm flipH="1">
                      <a:off x="6117840" y="5511960"/>
                      <a:ext cx="112680" cy="158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4" name=""/>
                    <p:cNvSpPr/>
                    <p:nvPr/>
                  </p:nvSpPr>
                  <p:spPr>
                    <a:xfrm>
                      <a:off x="6130800" y="5540400"/>
                      <a:ext cx="87480" cy="172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25" name=""/>
              <p:cNvGrpSpPr/>
              <p:nvPr/>
            </p:nvGrpSpPr>
            <p:grpSpPr>
              <a:xfrm>
                <a:off x="6117840" y="5570640"/>
                <a:ext cx="214200" cy="225360"/>
                <a:chOff x="6117840" y="5570640"/>
                <a:chExt cx="214200" cy="225360"/>
              </a:xfrm>
            </p:grpSpPr>
            <p:grpSp>
              <p:nvGrpSpPr>
                <p:cNvPr id="826" name=""/>
                <p:cNvGrpSpPr/>
                <p:nvPr/>
              </p:nvGrpSpPr>
              <p:grpSpPr>
                <a:xfrm>
                  <a:off x="6117840" y="5570640"/>
                  <a:ext cx="214200" cy="104760"/>
                  <a:chOff x="6117840" y="5570640"/>
                  <a:chExt cx="214200" cy="104760"/>
                </a:xfrm>
              </p:grpSpPr>
              <p:sp>
                <p:nvSpPr>
                  <p:cNvPr id="827" name=""/>
                  <p:cNvSpPr/>
                  <p:nvPr/>
                </p:nvSpPr>
                <p:spPr>
                  <a:xfrm>
                    <a:off x="6230880" y="5570640"/>
                    <a:ext cx="88920" cy="158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 flipH="1">
                    <a:off x="6217920" y="5599080"/>
                    <a:ext cx="114120" cy="17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29" name=""/>
                  <p:cNvGrpSpPr/>
                  <p:nvPr/>
                </p:nvGrpSpPr>
                <p:grpSpPr>
                  <a:xfrm>
                    <a:off x="6117840" y="5629320"/>
                    <a:ext cx="112680" cy="46080"/>
                    <a:chOff x="6117840" y="5629320"/>
                    <a:chExt cx="112680" cy="46080"/>
                  </a:xfrm>
                </p:grpSpPr>
                <p:sp>
                  <p:nvSpPr>
                    <p:cNvPr id="830" name=""/>
                    <p:cNvSpPr/>
                    <p:nvPr/>
                  </p:nvSpPr>
                  <p:spPr>
                    <a:xfrm flipH="1">
                      <a:off x="6117840" y="5629320"/>
                      <a:ext cx="112680" cy="190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1" name=""/>
                    <p:cNvSpPr/>
                    <p:nvPr/>
                  </p:nvSpPr>
                  <p:spPr>
                    <a:xfrm>
                      <a:off x="6130800" y="5661000"/>
                      <a:ext cx="87480" cy="144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32" name=""/>
                <p:cNvGrpSpPr/>
                <p:nvPr/>
              </p:nvGrpSpPr>
              <p:grpSpPr>
                <a:xfrm>
                  <a:off x="6117840" y="5688000"/>
                  <a:ext cx="214200" cy="108000"/>
                  <a:chOff x="6117840" y="5688000"/>
                  <a:chExt cx="214200" cy="108000"/>
                </a:xfrm>
              </p:grpSpPr>
              <p:sp>
                <p:nvSpPr>
                  <p:cNvPr id="833" name=""/>
                  <p:cNvSpPr/>
                  <p:nvPr/>
                </p:nvSpPr>
                <p:spPr>
                  <a:xfrm>
                    <a:off x="6230880" y="5688000"/>
                    <a:ext cx="88920" cy="190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 flipH="1">
                    <a:off x="6217920" y="5719680"/>
                    <a:ext cx="114120" cy="144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35" name=""/>
                  <p:cNvGrpSpPr/>
                  <p:nvPr/>
                </p:nvGrpSpPr>
                <p:grpSpPr>
                  <a:xfrm>
                    <a:off x="6117840" y="5746680"/>
                    <a:ext cx="112680" cy="49320"/>
                    <a:chOff x="6117840" y="5746680"/>
                    <a:chExt cx="112680" cy="49320"/>
                  </a:xfrm>
                </p:grpSpPr>
                <p:sp>
                  <p:nvSpPr>
                    <p:cNvPr id="836" name=""/>
                    <p:cNvSpPr/>
                    <p:nvPr/>
                  </p:nvSpPr>
                  <p:spPr>
                    <a:xfrm flipH="1">
                      <a:off x="6117840" y="5746680"/>
                      <a:ext cx="112680" cy="17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7" name=""/>
                    <p:cNvSpPr/>
                    <p:nvPr/>
                  </p:nvSpPr>
                  <p:spPr>
                    <a:xfrm>
                      <a:off x="6130800" y="5776920"/>
                      <a:ext cx="87480" cy="190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38" name=""/>
              <p:cNvGrpSpPr/>
              <p:nvPr/>
            </p:nvGrpSpPr>
            <p:grpSpPr>
              <a:xfrm>
                <a:off x="6117840" y="5808600"/>
                <a:ext cx="214200" cy="223920"/>
                <a:chOff x="6117840" y="5808600"/>
                <a:chExt cx="214200" cy="223920"/>
              </a:xfrm>
            </p:grpSpPr>
            <p:grpSp>
              <p:nvGrpSpPr>
                <p:cNvPr id="839" name=""/>
                <p:cNvGrpSpPr/>
                <p:nvPr/>
              </p:nvGrpSpPr>
              <p:grpSpPr>
                <a:xfrm>
                  <a:off x="6117840" y="5808600"/>
                  <a:ext cx="214200" cy="103320"/>
                  <a:chOff x="6117840" y="5808600"/>
                  <a:chExt cx="214200" cy="103320"/>
                </a:xfrm>
              </p:grpSpPr>
              <p:sp>
                <p:nvSpPr>
                  <p:cNvPr id="840" name=""/>
                  <p:cNvSpPr/>
                  <p:nvPr/>
                </p:nvSpPr>
                <p:spPr>
                  <a:xfrm>
                    <a:off x="6230880" y="5808600"/>
                    <a:ext cx="88920" cy="158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 flipH="1">
                    <a:off x="6217920" y="5837400"/>
                    <a:ext cx="114120" cy="158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42" name=""/>
                  <p:cNvGrpSpPr/>
                  <p:nvPr/>
                </p:nvGrpSpPr>
                <p:grpSpPr>
                  <a:xfrm>
                    <a:off x="6117840" y="5865840"/>
                    <a:ext cx="112680" cy="46080"/>
                    <a:chOff x="6117840" y="5865840"/>
                    <a:chExt cx="112680" cy="46080"/>
                  </a:xfrm>
                </p:grpSpPr>
                <p:sp>
                  <p:nvSpPr>
                    <p:cNvPr id="843" name=""/>
                    <p:cNvSpPr/>
                    <p:nvPr/>
                  </p:nvSpPr>
                  <p:spPr>
                    <a:xfrm flipH="1">
                      <a:off x="6117840" y="5865840"/>
                      <a:ext cx="112680" cy="190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4" name=""/>
                    <p:cNvSpPr/>
                    <p:nvPr/>
                  </p:nvSpPr>
                  <p:spPr>
                    <a:xfrm>
                      <a:off x="6130800" y="5897520"/>
                      <a:ext cx="87480" cy="144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45" name=""/>
                <p:cNvGrpSpPr/>
                <p:nvPr/>
              </p:nvGrpSpPr>
              <p:grpSpPr>
                <a:xfrm>
                  <a:off x="6117840" y="5924520"/>
                  <a:ext cx="214200" cy="108000"/>
                  <a:chOff x="6117840" y="5924520"/>
                  <a:chExt cx="214200" cy="108000"/>
                </a:xfrm>
              </p:grpSpPr>
              <p:sp>
                <p:nvSpPr>
                  <p:cNvPr id="846" name=""/>
                  <p:cNvSpPr/>
                  <p:nvPr/>
                </p:nvSpPr>
                <p:spPr>
                  <a:xfrm>
                    <a:off x="6230880" y="5924520"/>
                    <a:ext cx="88920" cy="17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 flipH="1">
                    <a:off x="6217920" y="5954760"/>
                    <a:ext cx="114120" cy="190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48" name=""/>
                  <p:cNvGrpSpPr/>
                  <p:nvPr/>
                </p:nvGrpSpPr>
                <p:grpSpPr>
                  <a:xfrm>
                    <a:off x="6117840" y="5986440"/>
                    <a:ext cx="112680" cy="46080"/>
                    <a:chOff x="6117840" y="5986440"/>
                    <a:chExt cx="112680" cy="46080"/>
                  </a:xfrm>
                </p:grpSpPr>
                <p:sp>
                  <p:nvSpPr>
                    <p:cNvPr id="849" name=""/>
                    <p:cNvSpPr/>
                    <p:nvPr/>
                  </p:nvSpPr>
                  <p:spPr>
                    <a:xfrm flipH="1">
                      <a:off x="6117840" y="5986440"/>
                      <a:ext cx="112680" cy="144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0" name=""/>
                    <p:cNvSpPr/>
                    <p:nvPr/>
                  </p:nvSpPr>
                  <p:spPr>
                    <a:xfrm>
                      <a:off x="6130800" y="6013440"/>
                      <a:ext cx="87480" cy="190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851" name=""/>
              <p:cNvSpPr/>
              <p:nvPr/>
            </p:nvSpPr>
            <p:spPr>
              <a:xfrm flipV="1">
                <a:off x="6224760" y="4993920"/>
                <a:ext cx="0" cy="1033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V="1">
                <a:off x="6224760" y="6032520"/>
                <a:ext cx="0" cy="1000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3" name=""/>
            <p:cNvSpPr/>
            <p:nvPr/>
          </p:nvSpPr>
          <p:spPr>
            <a:xfrm>
              <a:off x="6210360" y="6137280"/>
              <a:ext cx="20520" cy="28440"/>
            </a:xfrm>
            <a:prstGeom prst="ellipse">
              <a:avLst/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6117840" y="3863880"/>
            <a:ext cx="214200" cy="1158840"/>
            <a:chOff x="6117840" y="3863880"/>
            <a:chExt cx="214200" cy="1158840"/>
          </a:xfrm>
        </p:grpSpPr>
        <p:grpSp>
          <p:nvGrpSpPr>
            <p:cNvPr id="855" name=""/>
            <p:cNvGrpSpPr/>
            <p:nvPr/>
          </p:nvGrpSpPr>
          <p:grpSpPr>
            <a:xfrm>
              <a:off x="6117840" y="3909960"/>
              <a:ext cx="214200" cy="1112760"/>
              <a:chOff x="6117840" y="3909960"/>
              <a:chExt cx="214200" cy="1112760"/>
            </a:xfrm>
          </p:grpSpPr>
          <p:grpSp>
            <p:nvGrpSpPr>
              <p:cNvPr id="856" name=""/>
              <p:cNvGrpSpPr/>
              <p:nvPr/>
            </p:nvGrpSpPr>
            <p:grpSpPr>
              <a:xfrm>
                <a:off x="6117840" y="4694040"/>
                <a:ext cx="214200" cy="250920"/>
                <a:chOff x="6117840" y="4694040"/>
                <a:chExt cx="214200" cy="250920"/>
              </a:xfrm>
            </p:grpSpPr>
            <p:grpSp>
              <p:nvGrpSpPr>
                <p:cNvPr id="857" name=""/>
                <p:cNvGrpSpPr/>
                <p:nvPr/>
              </p:nvGrpSpPr>
              <p:grpSpPr>
                <a:xfrm>
                  <a:off x="6117840" y="4815000"/>
                  <a:ext cx="214200" cy="129960"/>
                  <a:chOff x="6117840" y="4815000"/>
                  <a:chExt cx="214200" cy="129960"/>
                </a:xfrm>
              </p:grpSpPr>
              <p:sp>
                <p:nvSpPr>
                  <p:cNvPr id="858" name=""/>
                  <p:cNvSpPr/>
                  <p:nvPr/>
                </p:nvSpPr>
                <p:spPr>
                  <a:xfrm flipV="1">
                    <a:off x="6230880" y="4903920"/>
                    <a:ext cx="88920" cy="410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 flipH="1" flipV="1">
                    <a:off x="6217920" y="4873320"/>
                    <a:ext cx="114120" cy="428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0" name=""/>
                  <p:cNvGrpSpPr/>
                  <p:nvPr/>
                </p:nvGrpSpPr>
                <p:grpSpPr>
                  <a:xfrm>
                    <a:off x="6117840" y="4815000"/>
                    <a:ext cx="112680" cy="70920"/>
                    <a:chOff x="6117840" y="4815000"/>
                    <a:chExt cx="112680" cy="70920"/>
                  </a:xfrm>
                </p:grpSpPr>
                <p:sp>
                  <p:nvSpPr>
                    <p:cNvPr id="861" name=""/>
                    <p:cNvSpPr/>
                    <p:nvPr/>
                  </p:nvSpPr>
                  <p:spPr>
                    <a:xfrm flipH="1" flipV="1">
                      <a:off x="6117840" y="4841640"/>
                      <a:ext cx="112680" cy="442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2" name=""/>
                    <p:cNvSpPr/>
                    <p:nvPr/>
                  </p:nvSpPr>
                  <p:spPr>
                    <a:xfrm flipV="1">
                      <a:off x="6130800" y="4815000"/>
                      <a:ext cx="87480" cy="396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63" name=""/>
                <p:cNvGrpSpPr/>
                <p:nvPr/>
              </p:nvGrpSpPr>
              <p:grpSpPr>
                <a:xfrm>
                  <a:off x="6117840" y="4694040"/>
                  <a:ext cx="214200" cy="133560"/>
                  <a:chOff x="6117840" y="4694040"/>
                  <a:chExt cx="214200" cy="133560"/>
                </a:xfrm>
              </p:grpSpPr>
              <p:sp>
                <p:nvSpPr>
                  <p:cNvPr id="864" name=""/>
                  <p:cNvSpPr/>
                  <p:nvPr/>
                </p:nvSpPr>
                <p:spPr>
                  <a:xfrm flipV="1">
                    <a:off x="6230880" y="4782960"/>
                    <a:ext cx="88920" cy="44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 flipH="1" flipV="1">
                    <a:off x="6217920" y="4756320"/>
                    <a:ext cx="114120" cy="396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6" name=""/>
                  <p:cNvGrpSpPr/>
                  <p:nvPr/>
                </p:nvGrpSpPr>
                <p:grpSpPr>
                  <a:xfrm>
                    <a:off x="6117840" y="4694040"/>
                    <a:ext cx="112680" cy="74880"/>
                    <a:chOff x="6117840" y="4694040"/>
                    <a:chExt cx="112680" cy="74880"/>
                  </a:xfrm>
                </p:grpSpPr>
                <p:sp>
                  <p:nvSpPr>
                    <p:cNvPr id="867" name=""/>
                    <p:cNvSpPr/>
                    <p:nvPr/>
                  </p:nvSpPr>
                  <p:spPr>
                    <a:xfrm flipH="1" flipV="1">
                      <a:off x="6117840" y="4724280"/>
                      <a:ext cx="112680" cy="44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8" name=""/>
                    <p:cNvSpPr/>
                    <p:nvPr/>
                  </p:nvSpPr>
                  <p:spPr>
                    <a:xfrm flipV="1">
                      <a:off x="6130800" y="4694040"/>
                      <a:ext cx="87480" cy="428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69" name=""/>
              <p:cNvGrpSpPr/>
              <p:nvPr/>
            </p:nvGrpSpPr>
            <p:grpSpPr>
              <a:xfrm>
                <a:off x="6117840" y="4458960"/>
                <a:ext cx="214200" cy="247680"/>
                <a:chOff x="6117840" y="4458960"/>
                <a:chExt cx="214200" cy="247680"/>
              </a:xfrm>
            </p:grpSpPr>
            <p:grpSp>
              <p:nvGrpSpPr>
                <p:cNvPr id="870" name=""/>
                <p:cNvGrpSpPr/>
                <p:nvPr/>
              </p:nvGrpSpPr>
              <p:grpSpPr>
                <a:xfrm>
                  <a:off x="6117840" y="4578480"/>
                  <a:ext cx="214200" cy="128160"/>
                  <a:chOff x="6117840" y="4578480"/>
                  <a:chExt cx="214200" cy="128160"/>
                </a:xfrm>
              </p:grpSpPr>
              <p:sp>
                <p:nvSpPr>
                  <p:cNvPr id="871" name=""/>
                  <p:cNvSpPr/>
                  <p:nvPr/>
                </p:nvSpPr>
                <p:spPr>
                  <a:xfrm flipV="1">
                    <a:off x="6230880" y="4665240"/>
                    <a:ext cx="88920" cy="414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 flipH="1" flipV="1">
                    <a:off x="6217920" y="4635000"/>
                    <a:ext cx="114120" cy="428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73" name=""/>
                  <p:cNvGrpSpPr/>
                  <p:nvPr/>
                </p:nvGrpSpPr>
                <p:grpSpPr>
                  <a:xfrm>
                    <a:off x="6117840" y="4578480"/>
                    <a:ext cx="112680" cy="69480"/>
                    <a:chOff x="6117840" y="4578480"/>
                    <a:chExt cx="112680" cy="69480"/>
                  </a:xfrm>
                </p:grpSpPr>
                <p:sp>
                  <p:nvSpPr>
                    <p:cNvPr id="874" name=""/>
                    <p:cNvSpPr/>
                    <p:nvPr/>
                  </p:nvSpPr>
                  <p:spPr>
                    <a:xfrm flipH="1" flipV="1">
                      <a:off x="6117840" y="4606560"/>
                      <a:ext cx="112680" cy="414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5" name=""/>
                    <p:cNvSpPr/>
                    <p:nvPr/>
                  </p:nvSpPr>
                  <p:spPr>
                    <a:xfrm flipV="1">
                      <a:off x="6130800" y="4578480"/>
                      <a:ext cx="87480" cy="410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76" name=""/>
                <p:cNvGrpSpPr/>
                <p:nvPr/>
              </p:nvGrpSpPr>
              <p:grpSpPr>
                <a:xfrm>
                  <a:off x="6117840" y="4458960"/>
                  <a:ext cx="214200" cy="131760"/>
                  <a:chOff x="6117840" y="4458960"/>
                  <a:chExt cx="214200" cy="131760"/>
                </a:xfrm>
              </p:grpSpPr>
              <p:sp>
                <p:nvSpPr>
                  <p:cNvPr id="877" name=""/>
                  <p:cNvSpPr/>
                  <p:nvPr/>
                </p:nvSpPr>
                <p:spPr>
                  <a:xfrm flipV="1">
                    <a:off x="6230880" y="4547880"/>
                    <a:ext cx="88920" cy="428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 flipH="1" flipV="1">
                    <a:off x="6217920" y="4517640"/>
                    <a:ext cx="114120" cy="428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79" name=""/>
                  <p:cNvGrpSpPr/>
                  <p:nvPr/>
                </p:nvGrpSpPr>
                <p:grpSpPr>
                  <a:xfrm>
                    <a:off x="6117840" y="4458960"/>
                    <a:ext cx="112680" cy="71640"/>
                    <a:chOff x="6117840" y="4458960"/>
                    <a:chExt cx="112680" cy="71640"/>
                  </a:xfrm>
                </p:grpSpPr>
                <p:sp>
                  <p:nvSpPr>
                    <p:cNvPr id="880" name=""/>
                    <p:cNvSpPr/>
                    <p:nvPr/>
                  </p:nvSpPr>
                  <p:spPr>
                    <a:xfrm flipH="1" flipV="1">
                      <a:off x="6117840" y="4489560"/>
                      <a:ext cx="112680" cy="410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1" name=""/>
                    <p:cNvSpPr/>
                    <p:nvPr/>
                  </p:nvSpPr>
                  <p:spPr>
                    <a:xfrm flipV="1">
                      <a:off x="6130800" y="4458960"/>
                      <a:ext cx="87480" cy="428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82" name=""/>
              <p:cNvGrpSpPr/>
              <p:nvPr/>
            </p:nvGrpSpPr>
            <p:grpSpPr>
              <a:xfrm>
                <a:off x="6117840" y="4221000"/>
                <a:ext cx="214200" cy="250920"/>
                <a:chOff x="6117840" y="4221000"/>
                <a:chExt cx="214200" cy="250920"/>
              </a:xfrm>
            </p:grpSpPr>
            <p:grpSp>
              <p:nvGrpSpPr>
                <p:cNvPr id="883" name=""/>
                <p:cNvGrpSpPr/>
                <p:nvPr/>
              </p:nvGrpSpPr>
              <p:grpSpPr>
                <a:xfrm>
                  <a:off x="6117840" y="4341960"/>
                  <a:ext cx="214200" cy="129960"/>
                  <a:chOff x="6117840" y="4341960"/>
                  <a:chExt cx="214200" cy="129960"/>
                </a:xfrm>
              </p:grpSpPr>
              <p:sp>
                <p:nvSpPr>
                  <p:cNvPr id="884" name=""/>
                  <p:cNvSpPr/>
                  <p:nvPr/>
                </p:nvSpPr>
                <p:spPr>
                  <a:xfrm flipV="1">
                    <a:off x="6230880" y="4430880"/>
                    <a:ext cx="88920" cy="410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 flipH="1" flipV="1">
                    <a:off x="6217920" y="4400280"/>
                    <a:ext cx="114120" cy="428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86" name=""/>
                  <p:cNvGrpSpPr/>
                  <p:nvPr/>
                </p:nvGrpSpPr>
                <p:grpSpPr>
                  <a:xfrm>
                    <a:off x="6117840" y="4341960"/>
                    <a:ext cx="112680" cy="70920"/>
                    <a:chOff x="6117840" y="4341960"/>
                    <a:chExt cx="112680" cy="70920"/>
                  </a:xfrm>
                </p:grpSpPr>
                <p:sp>
                  <p:nvSpPr>
                    <p:cNvPr id="887" name=""/>
                    <p:cNvSpPr/>
                    <p:nvPr/>
                  </p:nvSpPr>
                  <p:spPr>
                    <a:xfrm flipH="1" flipV="1">
                      <a:off x="6117840" y="4368600"/>
                      <a:ext cx="112680" cy="442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8" name=""/>
                    <p:cNvSpPr/>
                    <p:nvPr/>
                  </p:nvSpPr>
                  <p:spPr>
                    <a:xfrm flipV="1">
                      <a:off x="6130800" y="4341960"/>
                      <a:ext cx="87480" cy="396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89" name=""/>
                <p:cNvGrpSpPr/>
                <p:nvPr/>
              </p:nvGrpSpPr>
              <p:grpSpPr>
                <a:xfrm>
                  <a:off x="6117840" y="4221000"/>
                  <a:ext cx="214200" cy="133560"/>
                  <a:chOff x="6117840" y="4221000"/>
                  <a:chExt cx="214200" cy="133560"/>
                </a:xfrm>
              </p:grpSpPr>
              <p:sp>
                <p:nvSpPr>
                  <p:cNvPr id="890" name=""/>
                  <p:cNvSpPr/>
                  <p:nvPr/>
                </p:nvSpPr>
                <p:spPr>
                  <a:xfrm flipV="1">
                    <a:off x="6230880" y="4309920"/>
                    <a:ext cx="88920" cy="44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 flipH="1" flipV="1">
                    <a:off x="6217920" y="4282560"/>
                    <a:ext cx="114120" cy="399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92" name=""/>
                  <p:cNvGrpSpPr/>
                  <p:nvPr/>
                </p:nvGrpSpPr>
                <p:grpSpPr>
                  <a:xfrm>
                    <a:off x="6117840" y="4221000"/>
                    <a:ext cx="112680" cy="74520"/>
                    <a:chOff x="6117840" y="4221000"/>
                    <a:chExt cx="112680" cy="74520"/>
                  </a:xfrm>
                </p:grpSpPr>
                <p:sp>
                  <p:nvSpPr>
                    <p:cNvPr id="893" name=""/>
                    <p:cNvSpPr/>
                    <p:nvPr/>
                  </p:nvSpPr>
                  <p:spPr>
                    <a:xfrm flipH="1" flipV="1">
                      <a:off x="6117840" y="4252680"/>
                      <a:ext cx="112680" cy="428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4" name=""/>
                    <p:cNvSpPr/>
                    <p:nvPr/>
                  </p:nvSpPr>
                  <p:spPr>
                    <a:xfrm flipV="1">
                      <a:off x="6130800" y="4221000"/>
                      <a:ext cx="87480" cy="44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95" name=""/>
              <p:cNvGrpSpPr/>
              <p:nvPr/>
            </p:nvGrpSpPr>
            <p:grpSpPr>
              <a:xfrm>
                <a:off x="6117840" y="3984480"/>
                <a:ext cx="214200" cy="249120"/>
                <a:chOff x="6117840" y="3984480"/>
                <a:chExt cx="214200" cy="249120"/>
              </a:xfrm>
            </p:grpSpPr>
            <p:grpSp>
              <p:nvGrpSpPr>
                <p:cNvPr id="896" name=""/>
                <p:cNvGrpSpPr/>
                <p:nvPr/>
              </p:nvGrpSpPr>
              <p:grpSpPr>
                <a:xfrm>
                  <a:off x="6117840" y="4105440"/>
                  <a:ext cx="214200" cy="128160"/>
                  <a:chOff x="6117840" y="4105440"/>
                  <a:chExt cx="214200" cy="128160"/>
                </a:xfrm>
              </p:grpSpPr>
              <p:sp>
                <p:nvSpPr>
                  <p:cNvPr id="897" name=""/>
                  <p:cNvSpPr/>
                  <p:nvPr/>
                </p:nvSpPr>
                <p:spPr>
                  <a:xfrm flipV="1">
                    <a:off x="6230880" y="4192200"/>
                    <a:ext cx="88920" cy="414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 flipH="1" flipV="1">
                    <a:off x="6217920" y="4164120"/>
                    <a:ext cx="114120" cy="410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99" name=""/>
                  <p:cNvGrpSpPr/>
                  <p:nvPr/>
                </p:nvGrpSpPr>
                <p:grpSpPr>
                  <a:xfrm>
                    <a:off x="6117840" y="4105440"/>
                    <a:ext cx="112680" cy="70920"/>
                    <a:chOff x="6117840" y="4105440"/>
                    <a:chExt cx="112680" cy="70920"/>
                  </a:xfrm>
                </p:grpSpPr>
                <p:sp>
                  <p:nvSpPr>
                    <p:cNvPr id="900" name=""/>
                    <p:cNvSpPr/>
                    <p:nvPr/>
                  </p:nvSpPr>
                  <p:spPr>
                    <a:xfrm flipH="1" flipV="1">
                      <a:off x="6117840" y="4132080"/>
                      <a:ext cx="112680" cy="442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1" name=""/>
                    <p:cNvSpPr/>
                    <p:nvPr/>
                  </p:nvSpPr>
                  <p:spPr>
                    <a:xfrm flipV="1">
                      <a:off x="6130800" y="4105440"/>
                      <a:ext cx="87480" cy="396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02" name=""/>
                <p:cNvGrpSpPr/>
                <p:nvPr/>
              </p:nvGrpSpPr>
              <p:grpSpPr>
                <a:xfrm>
                  <a:off x="6117840" y="3984480"/>
                  <a:ext cx="214200" cy="133200"/>
                  <a:chOff x="6117840" y="3984480"/>
                  <a:chExt cx="214200" cy="133200"/>
                </a:xfrm>
              </p:grpSpPr>
              <p:sp>
                <p:nvSpPr>
                  <p:cNvPr id="903" name=""/>
                  <p:cNvSpPr/>
                  <p:nvPr/>
                </p:nvSpPr>
                <p:spPr>
                  <a:xfrm flipV="1">
                    <a:off x="6230880" y="4074840"/>
                    <a:ext cx="88920" cy="428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 flipH="1" flipV="1">
                    <a:off x="6217920" y="4043160"/>
                    <a:ext cx="114120" cy="442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05" name=""/>
                  <p:cNvGrpSpPr/>
                  <p:nvPr/>
                </p:nvGrpSpPr>
                <p:grpSpPr>
                  <a:xfrm>
                    <a:off x="6117840" y="3984480"/>
                    <a:ext cx="112680" cy="71640"/>
                    <a:chOff x="6117840" y="3984480"/>
                    <a:chExt cx="112680" cy="71640"/>
                  </a:xfrm>
                </p:grpSpPr>
                <p:sp>
                  <p:nvSpPr>
                    <p:cNvPr id="906" name=""/>
                    <p:cNvSpPr/>
                    <p:nvPr/>
                  </p:nvSpPr>
                  <p:spPr>
                    <a:xfrm flipH="1" flipV="1">
                      <a:off x="6117840" y="4016520"/>
                      <a:ext cx="112680" cy="396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7" name=""/>
                    <p:cNvSpPr/>
                    <p:nvPr/>
                  </p:nvSpPr>
                  <p:spPr>
                    <a:xfrm flipV="1">
                      <a:off x="6130800" y="3984480"/>
                      <a:ext cx="87480" cy="44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908" name=""/>
              <p:cNvSpPr/>
              <p:nvPr/>
            </p:nvSpPr>
            <p:spPr>
              <a:xfrm>
                <a:off x="6224760" y="4944960"/>
                <a:ext cx="0" cy="777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6224760" y="3909960"/>
                <a:ext cx="0" cy="745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0" name=""/>
            <p:cNvSpPr/>
            <p:nvPr/>
          </p:nvSpPr>
          <p:spPr>
            <a:xfrm>
              <a:off x="6210360" y="3863880"/>
              <a:ext cx="20520" cy="28800"/>
            </a:xfrm>
            <a:prstGeom prst="ellipse">
              <a:avLst/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6192720" y="4997520"/>
            <a:ext cx="63720" cy="633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559560" y="4807080"/>
            <a:ext cx="444600" cy="44424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169040" y="5029200"/>
            <a:ext cx="52092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938280" y="508320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253960" y="484344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290640" y="482904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671200" y="4854600"/>
            <a:ext cx="1460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t r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سئله : پرتاب با فنر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فقط نیروها پایستار حضور دارند لذا انرژی مکانیک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+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پایستار اس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 = -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s</a:t>
            </a:r>
            <a:r>
              <a:rPr b="0" i="1" lang="fa-IR" sz="2000" spc="-1" strike="noStrike" baseline="-25000">
                <a:solidFill>
                  <a:srgbClr val="fafd00"/>
                </a:solidFill>
                <a:latin typeface="Arial"/>
                <a:ea typeface="Arial"/>
              </a:rPr>
              <a:t>                                                 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E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765520" y="2219400"/>
            <a:ext cx="520560" cy="139680"/>
          </a:xfrm>
          <a:prstGeom prst="rightArrow">
            <a:avLst>
              <a:gd name="adj1" fmla="val 50000"/>
              <a:gd name="adj2" fmla="val 18635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6117840" y="4993920"/>
            <a:ext cx="214200" cy="1171800"/>
            <a:chOff x="6117840" y="4993920"/>
            <a:chExt cx="214200" cy="1171800"/>
          </a:xfrm>
        </p:grpSpPr>
        <p:grpSp>
          <p:nvGrpSpPr>
            <p:cNvPr id="924" name=""/>
            <p:cNvGrpSpPr/>
            <p:nvPr/>
          </p:nvGrpSpPr>
          <p:grpSpPr>
            <a:xfrm>
              <a:off x="6117840" y="4993920"/>
              <a:ext cx="214200" cy="1138680"/>
              <a:chOff x="6117840" y="4993920"/>
              <a:chExt cx="214200" cy="1138680"/>
            </a:xfrm>
          </p:grpSpPr>
          <p:grpSp>
            <p:nvGrpSpPr>
              <p:cNvPr id="925" name=""/>
              <p:cNvGrpSpPr/>
              <p:nvPr/>
            </p:nvGrpSpPr>
            <p:grpSpPr>
              <a:xfrm>
                <a:off x="6117840" y="5097600"/>
                <a:ext cx="214200" cy="225360"/>
                <a:chOff x="6117840" y="5097600"/>
                <a:chExt cx="214200" cy="225360"/>
              </a:xfrm>
            </p:grpSpPr>
            <p:grpSp>
              <p:nvGrpSpPr>
                <p:cNvPr id="926" name=""/>
                <p:cNvGrpSpPr/>
                <p:nvPr/>
              </p:nvGrpSpPr>
              <p:grpSpPr>
                <a:xfrm>
                  <a:off x="6117840" y="5097600"/>
                  <a:ext cx="214200" cy="104760"/>
                  <a:chOff x="6117840" y="5097600"/>
                  <a:chExt cx="214200" cy="104760"/>
                </a:xfrm>
              </p:grpSpPr>
              <p:sp>
                <p:nvSpPr>
                  <p:cNvPr id="927" name=""/>
                  <p:cNvSpPr/>
                  <p:nvPr/>
                </p:nvSpPr>
                <p:spPr>
                  <a:xfrm>
                    <a:off x="6230880" y="5097600"/>
                    <a:ext cx="88920" cy="158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 flipH="1">
                    <a:off x="6217920" y="5126040"/>
                    <a:ext cx="114120" cy="17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29" name=""/>
                  <p:cNvGrpSpPr/>
                  <p:nvPr/>
                </p:nvGrpSpPr>
                <p:grpSpPr>
                  <a:xfrm>
                    <a:off x="6117840" y="5156280"/>
                    <a:ext cx="112680" cy="46080"/>
                    <a:chOff x="6117840" y="5156280"/>
                    <a:chExt cx="112680" cy="46080"/>
                  </a:xfrm>
                </p:grpSpPr>
                <p:sp>
                  <p:nvSpPr>
                    <p:cNvPr id="930" name=""/>
                    <p:cNvSpPr/>
                    <p:nvPr/>
                  </p:nvSpPr>
                  <p:spPr>
                    <a:xfrm flipH="1">
                      <a:off x="6117840" y="5156280"/>
                      <a:ext cx="112680" cy="190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"/>
                    <p:cNvSpPr/>
                    <p:nvPr/>
                  </p:nvSpPr>
                  <p:spPr>
                    <a:xfrm>
                      <a:off x="6130800" y="5187960"/>
                      <a:ext cx="87480" cy="144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32" name=""/>
                <p:cNvGrpSpPr/>
                <p:nvPr/>
              </p:nvGrpSpPr>
              <p:grpSpPr>
                <a:xfrm>
                  <a:off x="6117840" y="5214960"/>
                  <a:ext cx="214200" cy="108000"/>
                  <a:chOff x="6117840" y="5214960"/>
                  <a:chExt cx="214200" cy="108000"/>
                </a:xfrm>
              </p:grpSpPr>
              <p:sp>
                <p:nvSpPr>
                  <p:cNvPr id="933" name=""/>
                  <p:cNvSpPr/>
                  <p:nvPr/>
                </p:nvSpPr>
                <p:spPr>
                  <a:xfrm>
                    <a:off x="6230880" y="5214960"/>
                    <a:ext cx="88920" cy="190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 flipH="1">
                    <a:off x="6217920" y="5246640"/>
                    <a:ext cx="114120" cy="144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35" name=""/>
                  <p:cNvGrpSpPr/>
                  <p:nvPr/>
                </p:nvGrpSpPr>
                <p:grpSpPr>
                  <a:xfrm>
                    <a:off x="6117840" y="5273640"/>
                    <a:ext cx="112680" cy="49320"/>
                    <a:chOff x="6117840" y="5273640"/>
                    <a:chExt cx="112680" cy="49320"/>
                  </a:xfrm>
                </p:grpSpPr>
                <p:sp>
                  <p:nvSpPr>
                    <p:cNvPr id="936" name=""/>
                    <p:cNvSpPr/>
                    <p:nvPr/>
                  </p:nvSpPr>
                  <p:spPr>
                    <a:xfrm flipH="1">
                      <a:off x="6117840" y="5273640"/>
                      <a:ext cx="112680" cy="190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7" name=""/>
                    <p:cNvSpPr/>
                    <p:nvPr/>
                  </p:nvSpPr>
                  <p:spPr>
                    <a:xfrm>
                      <a:off x="6130800" y="5305320"/>
                      <a:ext cx="87480" cy="17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38" name=""/>
              <p:cNvGrpSpPr/>
              <p:nvPr/>
            </p:nvGrpSpPr>
            <p:grpSpPr>
              <a:xfrm>
                <a:off x="6117840" y="5335560"/>
                <a:ext cx="214200" cy="222120"/>
                <a:chOff x="6117840" y="5335560"/>
                <a:chExt cx="214200" cy="222120"/>
              </a:xfrm>
            </p:grpSpPr>
            <p:grpSp>
              <p:nvGrpSpPr>
                <p:cNvPr id="939" name=""/>
                <p:cNvGrpSpPr/>
                <p:nvPr/>
              </p:nvGrpSpPr>
              <p:grpSpPr>
                <a:xfrm>
                  <a:off x="6117840" y="5335560"/>
                  <a:ext cx="214200" cy="103320"/>
                  <a:chOff x="6117840" y="5335560"/>
                  <a:chExt cx="214200" cy="103320"/>
                </a:xfrm>
              </p:grpSpPr>
              <p:sp>
                <p:nvSpPr>
                  <p:cNvPr id="940" name=""/>
                  <p:cNvSpPr/>
                  <p:nvPr/>
                </p:nvSpPr>
                <p:spPr>
                  <a:xfrm>
                    <a:off x="6230880" y="5335560"/>
                    <a:ext cx="88920" cy="158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 flipH="1">
                    <a:off x="6217920" y="5364000"/>
                    <a:ext cx="114120" cy="17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42" name=""/>
                  <p:cNvGrpSpPr/>
                  <p:nvPr/>
                </p:nvGrpSpPr>
                <p:grpSpPr>
                  <a:xfrm>
                    <a:off x="6117840" y="5394240"/>
                    <a:ext cx="112680" cy="44640"/>
                    <a:chOff x="6117840" y="5394240"/>
                    <a:chExt cx="112680" cy="44640"/>
                  </a:xfrm>
                </p:grpSpPr>
                <p:sp>
                  <p:nvSpPr>
                    <p:cNvPr id="943" name=""/>
                    <p:cNvSpPr/>
                    <p:nvPr/>
                  </p:nvSpPr>
                  <p:spPr>
                    <a:xfrm flipH="1">
                      <a:off x="6117840" y="5394240"/>
                      <a:ext cx="112680" cy="158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4" name=""/>
                    <p:cNvSpPr/>
                    <p:nvPr/>
                  </p:nvSpPr>
                  <p:spPr>
                    <a:xfrm>
                      <a:off x="6130800" y="5423040"/>
                      <a:ext cx="87480" cy="158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45" name=""/>
                <p:cNvGrpSpPr/>
                <p:nvPr/>
              </p:nvGrpSpPr>
              <p:grpSpPr>
                <a:xfrm>
                  <a:off x="6117840" y="5451480"/>
                  <a:ext cx="214200" cy="106200"/>
                  <a:chOff x="6117840" y="5451480"/>
                  <a:chExt cx="214200" cy="106200"/>
                </a:xfrm>
              </p:grpSpPr>
              <p:sp>
                <p:nvSpPr>
                  <p:cNvPr id="946" name=""/>
                  <p:cNvSpPr/>
                  <p:nvPr/>
                </p:nvSpPr>
                <p:spPr>
                  <a:xfrm>
                    <a:off x="6230880" y="5451480"/>
                    <a:ext cx="88920" cy="172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 flipH="1">
                    <a:off x="6217920" y="5481720"/>
                    <a:ext cx="114120" cy="172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48" name=""/>
                  <p:cNvGrpSpPr/>
                  <p:nvPr/>
                </p:nvGrpSpPr>
                <p:grpSpPr>
                  <a:xfrm>
                    <a:off x="6117840" y="5511960"/>
                    <a:ext cx="112680" cy="45720"/>
                    <a:chOff x="6117840" y="5511960"/>
                    <a:chExt cx="112680" cy="45720"/>
                  </a:xfrm>
                </p:grpSpPr>
                <p:sp>
                  <p:nvSpPr>
                    <p:cNvPr id="949" name=""/>
                    <p:cNvSpPr/>
                    <p:nvPr/>
                  </p:nvSpPr>
                  <p:spPr>
                    <a:xfrm flipH="1">
                      <a:off x="6117840" y="5511960"/>
                      <a:ext cx="112680" cy="158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"/>
                    <p:cNvSpPr/>
                    <p:nvPr/>
                  </p:nvSpPr>
                  <p:spPr>
                    <a:xfrm>
                      <a:off x="6130800" y="5540400"/>
                      <a:ext cx="87480" cy="172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51" name=""/>
              <p:cNvGrpSpPr/>
              <p:nvPr/>
            </p:nvGrpSpPr>
            <p:grpSpPr>
              <a:xfrm>
                <a:off x="6117840" y="5570640"/>
                <a:ext cx="214200" cy="225360"/>
                <a:chOff x="6117840" y="5570640"/>
                <a:chExt cx="214200" cy="225360"/>
              </a:xfrm>
            </p:grpSpPr>
            <p:grpSp>
              <p:nvGrpSpPr>
                <p:cNvPr id="952" name=""/>
                <p:cNvGrpSpPr/>
                <p:nvPr/>
              </p:nvGrpSpPr>
              <p:grpSpPr>
                <a:xfrm>
                  <a:off x="6117840" y="5570640"/>
                  <a:ext cx="214200" cy="104760"/>
                  <a:chOff x="6117840" y="5570640"/>
                  <a:chExt cx="214200" cy="104760"/>
                </a:xfrm>
              </p:grpSpPr>
              <p:sp>
                <p:nvSpPr>
                  <p:cNvPr id="953" name=""/>
                  <p:cNvSpPr/>
                  <p:nvPr/>
                </p:nvSpPr>
                <p:spPr>
                  <a:xfrm>
                    <a:off x="6230880" y="5570640"/>
                    <a:ext cx="88920" cy="158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 flipH="1">
                    <a:off x="6217920" y="5599080"/>
                    <a:ext cx="114120" cy="17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55" name=""/>
                  <p:cNvGrpSpPr/>
                  <p:nvPr/>
                </p:nvGrpSpPr>
                <p:grpSpPr>
                  <a:xfrm>
                    <a:off x="6117840" y="5629320"/>
                    <a:ext cx="112680" cy="46080"/>
                    <a:chOff x="6117840" y="5629320"/>
                    <a:chExt cx="112680" cy="46080"/>
                  </a:xfrm>
                </p:grpSpPr>
                <p:sp>
                  <p:nvSpPr>
                    <p:cNvPr id="956" name=""/>
                    <p:cNvSpPr/>
                    <p:nvPr/>
                  </p:nvSpPr>
                  <p:spPr>
                    <a:xfrm flipH="1">
                      <a:off x="6117840" y="5629320"/>
                      <a:ext cx="112680" cy="190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"/>
                    <p:cNvSpPr/>
                    <p:nvPr/>
                  </p:nvSpPr>
                  <p:spPr>
                    <a:xfrm>
                      <a:off x="6130800" y="5661000"/>
                      <a:ext cx="87480" cy="144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58" name=""/>
                <p:cNvGrpSpPr/>
                <p:nvPr/>
              </p:nvGrpSpPr>
              <p:grpSpPr>
                <a:xfrm>
                  <a:off x="6117840" y="5688000"/>
                  <a:ext cx="214200" cy="108000"/>
                  <a:chOff x="6117840" y="5688000"/>
                  <a:chExt cx="214200" cy="108000"/>
                </a:xfrm>
              </p:grpSpPr>
              <p:sp>
                <p:nvSpPr>
                  <p:cNvPr id="959" name=""/>
                  <p:cNvSpPr/>
                  <p:nvPr/>
                </p:nvSpPr>
                <p:spPr>
                  <a:xfrm>
                    <a:off x="6230880" y="5688000"/>
                    <a:ext cx="88920" cy="190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 flipH="1">
                    <a:off x="6217920" y="5719680"/>
                    <a:ext cx="114120" cy="144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61" name=""/>
                  <p:cNvGrpSpPr/>
                  <p:nvPr/>
                </p:nvGrpSpPr>
                <p:grpSpPr>
                  <a:xfrm>
                    <a:off x="6117840" y="5746680"/>
                    <a:ext cx="112680" cy="49320"/>
                    <a:chOff x="6117840" y="5746680"/>
                    <a:chExt cx="112680" cy="49320"/>
                  </a:xfrm>
                </p:grpSpPr>
                <p:sp>
                  <p:nvSpPr>
                    <p:cNvPr id="962" name=""/>
                    <p:cNvSpPr/>
                    <p:nvPr/>
                  </p:nvSpPr>
                  <p:spPr>
                    <a:xfrm flipH="1">
                      <a:off x="6117840" y="5746680"/>
                      <a:ext cx="112680" cy="17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3" name=""/>
                    <p:cNvSpPr/>
                    <p:nvPr/>
                  </p:nvSpPr>
                  <p:spPr>
                    <a:xfrm>
                      <a:off x="6130800" y="5776920"/>
                      <a:ext cx="87480" cy="190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64" name=""/>
              <p:cNvGrpSpPr/>
              <p:nvPr/>
            </p:nvGrpSpPr>
            <p:grpSpPr>
              <a:xfrm>
                <a:off x="6117840" y="5808600"/>
                <a:ext cx="214200" cy="223920"/>
                <a:chOff x="6117840" y="5808600"/>
                <a:chExt cx="214200" cy="223920"/>
              </a:xfrm>
            </p:grpSpPr>
            <p:grpSp>
              <p:nvGrpSpPr>
                <p:cNvPr id="965" name=""/>
                <p:cNvGrpSpPr/>
                <p:nvPr/>
              </p:nvGrpSpPr>
              <p:grpSpPr>
                <a:xfrm>
                  <a:off x="6117840" y="5808600"/>
                  <a:ext cx="214200" cy="103320"/>
                  <a:chOff x="6117840" y="5808600"/>
                  <a:chExt cx="214200" cy="103320"/>
                </a:xfrm>
              </p:grpSpPr>
              <p:sp>
                <p:nvSpPr>
                  <p:cNvPr id="966" name=""/>
                  <p:cNvSpPr/>
                  <p:nvPr/>
                </p:nvSpPr>
                <p:spPr>
                  <a:xfrm>
                    <a:off x="6230880" y="5808600"/>
                    <a:ext cx="88920" cy="158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 flipH="1">
                    <a:off x="6217920" y="5837400"/>
                    <a:ext cx="114120" cy="158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68" name=""/>
                  <p:cNvGrpSpPr/>
                  <p:nvPr/>
                </p:nvGrpSpPr>
                <p:grpSpPr>
                  <a:xfrm>
                    <a:off x="6117840" y="5865840"/>
                    <a:ext cx="112680" cy="46080"/>
                    <a:chOff x="6117840" y="5865840"/>
                    <a:chExt cx="112680" cy="46080"/>
                  </a:xfrm>
                </p:grpSpPr>
                <p:sp>
                  <p:nvSpPr>
                    <p:cNvPr id="969" name=""/>
                    <p:cNvSpPr/>
                    <p:nvPr/>
                  </p:nvSpPr>
                  <p:spPr>
                    <a:xfrm flipH="1">
                      <a:off x="6117840" y="5865840"/>
                      <a:ext cx="112680" cy="190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0" name=""/>
                    <p:cNvSpPr/>
                    <p:nvPr/>
                  </p:nvSpPr>
                  <p:spPr>
                    <a:xfrm>
                      <a:off x="6130800" y="5897520"/>
                      <a:ext cx="87480" cy="144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71" name=""/>
                <p:cNvGrpSpPr/>
                <p:nvPr/>
              </p:nvGrpSpPr>
              <p:grpSpPr>
                <a:xfrm>
                  <a:off x="6117840" y="5924520"/>
                  <a:ext cx="214200" cy="108000"/>
                  <a:chOff x="6117840" y="5924520"/>
                  <a:chExt cx="214200" cy="108000"/>
                </a:xfrm>
              </p:grpSpPr>
              <p:sp>
                <p:nvSpPr>
                  <p:cNvPr id="972" name=""/>
                  <p:cNvSpPr/>
                  <p:nvPr/>
                </p:nvSpPr>
                <p:spPr>
                  <a:xfrm>
                    <a:off x="6230880" y="5924520"/>
                    <a:ext cx="88920" cy="17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 flipH="1">
                    <a:off x="6217920" y="5954760"/>
                    <a:ext cx="114120" cy="190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74" name=""/>
                  <p:cNvGrpSpPr/>
                  <p:nvPr/>
                </p:nvGrpSpPr>
                <p:grpSpPr>
                  <a:xfrm>
                    <a:off x="6117840" y="5986440"/>
                    <a:ext cx="112680" cy="46080"/>
                    <a:chOff x="6117840" y="5986440"/>
                    <a:chExt cx="112680" cy="46080"/>
                  </a:xfrm>
                </p:grpSpPr>
                <p:sp>
                  <p:nvSpPr>
                    <p:cNvPr id="975" name=""/>
                    <p:cNvSpPr/>
                    <p:nvPr/>
                  </p:nvSpPr>
                  <p:spPr>
                    <a:xfrm flipH="1">
                      <a:off x="6117840" y="5986440"/>
                      <a:ext cx="112680" cy="144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6" name=""/>
                    <p:cNvSpPr/>
                    <p:nvPr/>
                  </p:nvSpPr>
                  <p:spPr>
                    <a:xfrm>
                      <a:off x="6130800" y="6013440"/>
                      <a:ext cx="87480" cy="190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977" name=""/>
              <p:cNvSpPr/>
              <p:nvPr/>
            </p:nvSpPr>
            <p:spPr>
              <a:xfrm flipV="1">
                <a:off x="6224760" y="4993920"/>
                <a:ext cx="0" cy="1033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flipV="1">
                <a:off x="6224760" y="6032520"/>
                <a:ext cx="0" cy="1000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9" name=""/>
            <p:cNvSpPr/>
            <p:nvPr/>
          </p:nvSpPr>
          <p:spPr>
            <a:xfrm>
              <a:off x="6210360" y="6137280"/>
              <a:ext cx="20520" cy="28440"/>
            </a:xfrm>
            <a:prstGeom prst="ellipse">
              <a:avLst/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6117840" y="3863880"/>
            <a:ext cx="214200" cy="1158840"/>
            <a:chOff x="6117840" y="3863880"/>
            <a:chExt cx="214200" cy="1158840"/>
          </a:xfrm>
        </p:grpSpPr>
        <p:grpSp>
          <p:nvGrpSpPr>
            <p:cNvPr id="981" name=""/>
            <p:cNvGrpSpPr/>
            <p:nvPr/>
          </p:nvGrpSpPr>
          <p:grpSpPr>
            <a:xfrm>
              <a:off x="6117840" y="3909960"/>
              <a:ext cx="214200" cy="1112760"/>
              <a:chOff x="6117840" y="3909960"/>
              <a:chExt cx="214200" cy="1112760"/>
            </a:xfrm>
          </p:grpSpPr>
          <p:grpSp>
            <p:nvGrpSpPr>
              <p:cNvPr id="982" name=""/>
              <p:cNvGrpSpPr/>
              <p:nvPr/>
            </p:nvGrpSpPr>
            <p:grpSpPr>
              <a:xfrm>
                <a:off x="6117840" y="4694040"/>
                <a:ext cx="214200" cy="250920"/>
                <a:chOff x="6117840" y="4694040"/>
                <a:chExt cx="214200" cy="250920"/>
              </a:xfrm>
            </p:grpSpPr>
            <p:grpSp>
              <p:nvGrpSpPr>
                <p:cNvPr id="983" name=""/>
                <p:cNvGrpSpPr/>
                <p:nvPr/>
              </p:nvGrpSpPr>
              <p:grpSpPr>
                <a:xfrm>
                  <a:off x="6117840" y="4815000"/>
                  <a:ext cx="214200" cy="129960"/>
                  <a:chOff x="6117840" y="4815000"/>
                  <a:chExt cx="214200" cy="129960"/>
                </a:xfrm>
              </p:grpSpPr>
              <p:sp>
                <p:nvSpPr>
                  <p:cNvPr id="984" name=""/>
                  <p:cNvSpPr/>
                  <p:nvPr/>
                </p:nvSpPr>
                <p:spPr>
                  <a:xfrm flipV="1">
                    <a:off x="6230880" y="4903920"/>
                    <a:ext cx="88920" cy="410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 flipH="1" flipV="1">
                    <a:off x="6217920" y="4873320"/>
                    <a:ext cx="114120" cy="428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86" name=""/>
                  <p:cNvGrpSpPr/>
                  <p:nvPr/>
                </p:nvGrpSpPr>
                <p:grpSpPr>
                  <a:xfrm>
                    <a:off x="6117840" y="4815000"/>
                    <a:ext cx="112680" cy="70920"/>
                    <a:chOff x="6117840" y="4815000"/>
                    <a:chExt cx="112680" cy="70920"/>
                  </a:xfrm>
                </p:grpSpPr>
                <p:sp>
                  <p:nvSpPr>
                    <p:cNvPr id="987" name=""/>
                    <p:cNvSpPr/>
                    <p:nvPr/>
                  </p:nvSpPr>
                  <p:spPr>
                    <a:xfrm flipH="1" flipV="1">
                      <a:off x="6117840" y="4841640"/>
                      <a:ext cx="112680" cy="442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8" name=""/>
                    <p:cNvSpPr/>
                    <p:nvPr/>
                  </p:nvSpPr>
                  <p:spPr>
                    <a:xfrm flipV="1">
                      <a:off x="6130800" y="4815000"/>
                      <a:ext cx="87480" cy="396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89" name=""/>
                <p:cNvGrpSpPr/>
                <p:nvPr/>
              </p:nvGrpSpPr>
              <p:grpSpPr>
                <a:xfrm>
                  <a:off x="6117840" y="4694040"/>
                  <a:ext cx="214200" cy="133560"/>
                  <a:chOff x="6117840" y="4694040"/>
                  <a:chExt cx="214200" cy="133560"/>
                </a:xfrm>
              </p:grpSpPr>
              <p:sp>
                <p:nvSpPr>
                  <p:cNvPr id="990" name=""/>
                  <p:cNvSpPr/>
                  <p:nvPr/>
                </p:nvSpPr>
                <p:spPr>
                  <a:xfrm flipV="1">
                    <a:off x="6230880" y="4782960"/>
                    <a:ext cx="88920" cy="44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 flipH="1" flipV="1">
                    <a:off x="6217920" y="4756320"/>
                    <a:ext cx="114120" cy="396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92" name=""/>
                  <p:cNvGrpSpPr/>
                  <p:nvPr/>
                </p:nvGrpSpPr>
                <p:grpSpPr>
                  <a:xfrm>
                    <a:off x="6117840" y="4694040"/>
                    <a:ext cx="112680" cy="74880"/>
                    <a:chOff x="6117840" y="4694040"/>
                    <a:chExt cx="112680" cy="74880"/>
                  </a:xfrm>
                </p:grpSpPr>
                <p:sp>
                  <p:nvSpPr>
                    <p:cNvPr id="993" name=""/>
                    <p:cNvSpPr/>
                    <p:nvPr/>
                  </p:nvSpPr>
                  <p:spPr>
                    <a:xfrm flipH="1" flipV="1">
                      <a:off x="6117840" y="4724280"/>
                      <a:ext cx="112680" cy="44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"/>
                    <p:cNvSpPr/>
                    <p:nvPr/>
                  </p:nvSpPr>
                  <p:spPr>
                    <a:xfrm flipV="1">
                      <a:off x="6130800" y="4694040"/>
                      <a:ext cx="87480" cy="428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95" name=""/>
              <p:cNvGrpSpPr/>
              <p:nvPr/>
            </p:nvGrpSpPr>
            <p:grpSpPr>
              <a:xfrm>
                <a:off x="6117840" y="4458960"/>
                <a:ext cx="214200" cy="247680"/>
                <a:chOff x="6117840" y="4458960"/>
                <a:chExt cx="214200" cy="247680"/>
              </a:xfrm>
            </p:grpSpPr>
            <p:grpSp>
              <p:nvGrpSpPr>
                <p:cNvPr id="996" name=""/>
                <p:cNvGrpSpPr/>
                <p:nvPr/>
              </p:nvGrpSpPr>
              <p:grpSpPr>
                <a:xfrm>
                  <a:off x="6117840" y="4578480"/>
                  <a:ext cx="214200" cy="128160"/>
                  <a:chOff x="6117840" y="4578480"/>
                  <a:chExt cx="214200" cy="128160"/>
                </a:xfrm>
              </p:grpSpPr>
              <p:sp>
                <p:nvSpPr>
                  <p:cNvPr id="997" name=""/>
                  <p:cNvSpPr/>
                  <p:nvPr/>
                </p:nvSpPr>
                <p:spPr>
                  <a:xfrm flipV="1">
                    <a:off x="6230880" y="4665240"/>
                    <a:ext cx="88920" cy="414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 flipH="1" flipV="1">
                    <a:off x="6217920" y="4635000"/>
                    <a:ext cx="114120" cy="428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99" name=""/>
                  <p:cNvGrpSpPr/>
                  <p:nvPr/>
                </p:nvGrpSpPr>
                <p:grpSpPr>
                  <a:xfrm>
                    <a:off x="6117840" y="4578480"/>
                    <a:ext cx="112680" cy="69480"/>
                    <a:chOff x="6117840" y="4578480"/>
                    <a:chExt cx="112680" cy="69480"/>
                  </a:xfrm>
                </p:grpSpPr>
                <p:sp>
                  <p:nvSpPr>
                    <p:cNvPr id="1000" name=""/>
                    <p:cNvSpPr/>
                    <p:nvPr/>
                  </p:nvSpPr>
                  <p:spPr>
                    <a:xfrm flipH="1" flipV="1">
                      <a:off x="6117840" y="4606560"/>
                      <a:ext cx="112680" cy="414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"/>
                    <p:cNvSpPr/>
                    <p:nvPr/>
                  </p:nvSpPr>
                  <p:spPr>
                    <a:xfrm flipV="1">
                      <a:off x="6130800" y="4578480"/>
                      <a:ext cx="87480" cy="410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02" name=""/>
                <p:cNvGrpSpPr/>
                <p:nvPr/>
              </p:nvGrpSpPr>
              <p:grpSpPr>
                <a:xfrm>
                  <a:off x="6117840" y="4458960"/>
                  <a:ext cx="214200" cy="131760"/>
                  <a:chOff x="6117840" y="4458960"/>
                  <a:chExt cx="214200" cy="131760"/>
                </a:xfrm>
              </p:grpSpPr>
              <p:sp>
                <p:nvSpPr>
                  <p:cNvPr id="1003" name=""/>
                  <p:cNvSpPr/>
                  <p:nvPr/>
                </p:nvSpPr>
                <p:spPr>
                  <a:xfrm flipV="1">
                    <a:off x="6230880" y="4547880"/>
                    <a:ext cx="88920" cy="428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 flipH="1" flipV="1">
                    <a:off x="6217920" y="4517640"/>
                    <a:ext cx="114120" cy="428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05" name=""/>
                  <p:cNvGrpSpPr/>
                  <p:nvPr/>
                </p:nvGrpSpPr>
                <p:grpSpPr>
                  <a:xfrm>
                    <a:off x="6117840" y="4458960"/>
                    <a:ext cx="112680" cy="71640"/>
                    <a:chOff x="6117840" y="4458960"/>
                    <a:chExt cx="112680" cy="71640"/>
                  </a:xfrm>
                </p:grpSpPr>
                <p:sp>
                  <p:nvSpPr>
                    <p:cNvPr id="1006" name=""/>
                    <p:cNvSpPr/>
                    <p:nvPr/>
                  </p:nvSpPr>
                  <p:spPr>
                    <a:xfrm flipH="1" flipV="1">
                      <a:off x="6117840" y="4489560"/>
                      <a:ext cx="112680" cy="410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7" name=""/>
                    <p:cNvSpPr/>
                    <p:nvPr/>
                  </p:nvSpPr>
                  <p:spPr>
                    <a:xfrm flipV="1">
                      <a:off x="6130800" y="4458960"/>
                      <a:ext cx="87480" cy="428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08" name=""/>
              <p:cNvGrpSpPr/>
              <p:nvPr/>
            </p:nvGrpSpPr>
            <p:grpSpPr>
              <a:xfrm>
                <a:off x="6117840" y="4221000"/>
                <a:ext cx="214200" cy="250920"/>
                <a:chOff x="6117840" y="4221000"/>
                <a:chExt cx="214200" cy="250920"/>
              </a:xfrm>
            </p:grpSpPr>
            <p:grpSp>
              <p:nvGrpSpPr>
                <p:cNvPr id="1009" name=""/>
                <p:cNvGrpSpPr/>
                <p:nvPr/>
              </p:nvGrpSpPr>
              <p:grpSpPr>
                <a:xfrm>
                  <a:off x="6117840" y="4341960"/>
                  <a:ext cx="214200" cy="129960"/>
                  <a:chOff x="6117840" y="4341960"/>
                  <a:chExt cx="214200" cy="129960"/>
                </a:xfrm>
              </p:grpSpPr>
              <p:sp>
                <p:nvSpPr>
                  <p:cNvPr id="1010" name=""/>
                  <p:cNvSpPr/>
                  <p:nvPr/>
                </p:nvSpPr>
                <p:spPr>
                  <a:xfrm flipV="1">
                    <a:off x="6230880" y="4430880"/>
                    <a:ext cx="88920" cy="410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 flipH="1" flipV="1">
                    <a:off x="6217920" y="4400280"/>
                    <a:ext cx="114120" cy="428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12" name=""/>
                  <p:cNvGrpSpPr/>
                  <p:nvPr/>
                </p:nvGrpSpPr>
                <p:grpSpPr>
                  <a:xfrm>
                    <a:off x="6117840" y="4341960"/>
                    <a:ext cx="112680" cy="70920"/>
                    <a:chOff x="6117840" y="4341960"/>
                    <a:chExt cx="112680" cy="70920"/>
                  </a:xfrm>
                </p:grpSpPr>
                <p:sp>
                  <p:nvSpPr>
                    <p:cNvPr id="1013" name=""/>
                    <p:cNvSpPr/>
                    <p:nvPr/>
                  </p:nvSpPr>
                  <p:spPr>
                    <a:xfrm flipH="1" flipV="1">
                      <a:off x="6117840" y="4368600"/>
                      <a:ext cx="112680" cy="442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4" name=""/>
                    <p:cNvSpPr/>
                    <p:nvPr/>
                  </p:nvSpPr>
                  <p:spPr>
                    <a:xfrm flipV="1">
                      <a:off x="6130800" y="4341960"/>
                      <a:ext cx="87480" cy="396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15" name=""/>
                <p:cNvGrpSpPr/>
                <p:nvPr/>
              </p:nvGrpSpPr>
              <p:grpSpPr>
                <a:xfrm>
                  <a:off x="6117840" y="4221000"/>
                  <a:ext cx="214200" cy="133560"/>
                  <a:chOff x="6117840" y="4221000"/>
                  <a:chExt cx="214200" cy="133560"/>
                </a:xfrm>
              </p:grpSpPr>
              <p:sp>
                <p:nvSpPr>
                  <p:cNvPr id="1016" name=""/>
                  <p:cNvSpPr/>
                  <p:nvPr/>
                </p:nvSpPr>
                <p:spPr>
                  <a:xfrm flipV="1">
                    <a:off x="6230880" y="4309920"/>
                    <a:ext cx="88920" cy="44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 flipH="1" flipV="1">
                    <a:off x="6217920" y="4282560"/>
                    <a:ext cx="114120" cy="399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18" name=""/>
                  <p:cNvGrpSpPr/>
                  <p:nvPr/>
                </p:nvGrpSpPr>
                <p:grpSpPr>
                  <a:xfrm>
                    <a:off x="6117840" y="4221000"/>
                    <a:ext cx="112680" cy="74520"/>
                    <a:chOff x="6117840" y="4221000"/>
                    <a:chExt cx="112680" cy="74520"/>
                  </a:xfrm>
                </p:grpSpPr>
                <p:sp>
                  <p:nvSpPr>
                    <p:cNvPr id="1019" name=""/>
                    <p:cNvSpPr/>
                    <p:nvPr/>
                  </p:nvSpPr>
                  <p:spPr>
                    <a:xfrm flipH="1" flipV="1">
                      <a:off x="6117840" y="4252680"/>
                      <a:ext cx="112680" cy="428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0" name=""/>
                    <p:cNvSpPr/>
                    <p:nvPr/>
                  </p:nvSpPr>
                  <p:spPr>
                    <a:xfrm flipV="1">
                      <a:off x="6130800" y="4221000"/>
                      <a:ext cx="87480" cy="44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21" name=""/>
              <p:cNvGrpSpPr/>
              <p:nvPr/>
            </p:nvGrpSpPr>
            <p:grpSpPr>
              <a:xfrm>
                <a:off x="6117840" y="3984480"/>
                <a:ext cx="214200" cy="249120"/>
                <a:chOff x="6117840" y="3984480"/>
                <a:chExt cx="214200" cy="249120"/>
              </a:xfrm>
            </p:grpSpPr>
            <p:grpSp>
              <p:nvGrpSpPr>
                <p:cNvPr id="1022" name=""/>
                <p:cNvGrpSpPr/>
                <p:nvPr/>
              </p:nvGrpSpPr>
              <p:grpSpPr>
                <a:xfrm>
                  <a:off x="6117840" y="4105440"/>
                  <a:ext cx="214200" cy="128160"/>
                  <a:chOff x="6117840" y="4105440"/>
                  <a:chExt cx="214200" cy="128160"/>
                </a:xfrm>
              </p:grpSpPr>
              <p:sp>
                <p:nvSpPr>
                  <p:cNvPr id="1023" name=""/>
                  <p:cNvSpPr/>
                  <p:nvPr/>
                </p:nvSpPr>
                <p:spPr>
                  <a:xfrm flipV="1">
                    <a:off x="6230880" y="4192200"/>
                    <a:ext cx="88920" cy="414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 flipH="1" flipV="1">
                    <a:off x="6217920" y="4164120"/>
                    <a:ext cx="114120" cy="410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25" name=""/>
                  <p:cNvGrpSpPr/>
                  <p:nvPr/>
                </p:nvGrpSpPr>
                <p:grpSpPr>
                  <a:xfrm>
                    <a:off x="6117840" y="4105440"/>
                    <a:ext cx="112680" cy="70920"/>
                    <a:chOff x="6117840" y="4105440"/>
                    <a:chExt cx="112680" cy="70920"/>
                  </a:xfrm>
                </p:grpSpPr>
                <p:sp>
                  <p:nvSpPr>
                    <p:cNvPr id="1026" name=""/>
                    <p:cNvSpPr/>
                    <p:nvPr/>
                  </p:nvSpPr>
                  <p:spPr>
                    <a:xfrm flipH="1" flipV="1">
                      <a:off x="6117840" y="4132080"/>
                      <a:ext cx="112680" cy="442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7" name=""/>
                    <p:cNvSpPr/>
                    <p:nvPr/>
                  </p:nvSpPr>
                  <p:spPr>
                    <a:xfrm flipV="1">
                      <a:off x="6130800" y="4105440"/>
                      <a:ext cx="87480" cy="396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28" name=""/>
                <p:cNvGrpSpPr/>
                <p:nvPr/>
              </p:nvGrpSpPr>
              <p:grpSpPr>
                <a:xfrm>
                  <a:off x="6117840" y="3984480"/>
                  <a:ext cx="214200" cy="133200"/>
                  <a:chOff x="6117840" y="3984480"/>
                  <a:chExt cx="214200" cy="133200"/>
                </a:xfrm>
              </p:grpSpPr>
              <p:sp>
                <p:nvSpPr>
                  <p:cNvPr id="1029" name=""/>
                  <p:cNvSpPr/>
                  <p:nvPr/>
                </p:nvSpPr>
                <p:spPr>
                  <a:xfrm flipV="1">
                    <a:off x="6230880" y="4074840"/>
                    <a:ext cx="88920" cy="428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 flipH="1" flipV="1">
                    <a:off x="6217920" y="4043160"/>
                    <a:ext cx="114120" cy="442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31" name=""/>
                  <p:cNvGrpSpPr/>
                  <p:nvPr/>
                </p:nvGrpSpPr>
                <p:grpSpPr>
                  <a:xfrm>
                    <a:off x="6117840" y="3984480"/>
                    <a:ext cx="112680" cy="71640"/>
                    <a:chOff x="6117840" y="3984480"/>
                    <a:chExt cx="112680" cy="71640"/>
                  </a:xfrm>
                </p:grpSpPr>
                <p:sp>
                  <p:nvSpPr>
                    <p:cNvPr id="1032" name=""/>
                    <p:cNvSpPr/>
                    <p:nvPr/>
                  </p:nvSpPr>
                  <p:spPr>
                    <a:xfrm flipH="1" flipV="1">
                      <a:off x="6117840" y="4016520"/>
                      <a:ext cx="112680" cy="396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"/>
                    <p:cNvSpPr/>
                    <p:nvPr/>
                  </p:nvSpPr>
                  <p:spPr>
                    <a:xfrm flipV="1">
                      <a:off x="6130800" y="3984480"/>
                      <a:ext cx="87480" cy="44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034" name=""/>
              <p:cNvSpPr/>
              <p:nvPr/>
            </p:nvSpPr>
            <p:spPr>
              <a:xfrm>
                <a:off x="6224760" y="4944960"/>
                <a:ext cx="0" cy="777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224760" y="3909960"/>
                <a:ext cx="0" cy="745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6" name=""/>
            <p:cNvSpPr/>
            <p:nvPr/>
          </p:nvSpPr>
          <p:spPr>
            <a:xfrm>
              <a:off x="6210360" y="3863880"/>
              <a:ext cx="20520" cy="28800"/>
            </a:xfrm>
            <a:prstGeom prst="ellipse">
              <a:avLst/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6192720" y="4997520"/>
            <a:ext cx="63720" cy="633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559560" y="4807080"/>
            <a:ext cx="444600" cy="44424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7169040" y="5029200"/>
            <a:ext cx="52092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938280" y="508320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2275920" y="3857040"/>
            <a:ext cx="975960" cy="2301480"/>
            <a:chOff x="2275920" y="3857040"/>
            <a:chExt cx="975960" cy="2301480"/>
          </a:xfrm>
        </p:grpSpPr>
        <p:grpSp>
          <p:nvGrpSpPr>
            <p:cNvPr id="1042" name=""/>
            <p:cNvGrpSpPr/>
            <p:nvPr/>
          </p:nvGrpSpPr>
          <p:grpSpPr>
            <a:xfrm>
              <a:off x="2334960" y="3857040"/>
              <a:ext cx="916920" cy="1161000"/>
              <a:chOff x="2334960" y="3857040"/>
              <a:chExt cx="916920" cy="1161000"/>
            </a:xfrm>
          </p:grpSpPr>
          <p:grpSp>
            <p:nvGrpSpPr>
              <p:cNvPr id="1043" name=""/>
              <p:cNvGrpSpPr/>
              <p:nvPr/>
            </p:nvGrpSpPr>
            <p:grpSpPr>
              <a:xfrm>
                <a:off x="2334960" y="3914640"/>
                <a:ext cx="884160" cy="1103400"/>
                <a:chOff x="2334960" y="3914640"/>
                <a:chExt cx="884160" cy="1103400"/>
              </a:xfrm>
            </p:grpSpPr>
            <p:grpSp>
              <p:nvGrpSpPr>
                <p:cNvPr id="1044" name=""/>
                <p:cNvGrpSpPr/>
                <p:nvPr/>
              </p:nvGrpSpPr>
              <p:grpSpPr>
                <a:xfrm>
                  <a:off x="2395080" y="4660560"/>
                  <a:ext cx="217800" cy="314280"/>
                  <a:chOff x="2395080" y="4660560"/>
                  <a:chExt cx="217800" cy="314280"/>
                </a:xfrm>
              </p:grpSpPr>
              <p:grpSp>
                <p:nvGrpSpPr>
                  <p:cNvPr id="1045" name=""/>
                  <p:cNvGrpSpPr/>
                  <p:nvPr/>
                </p:nvGrpSpPr>
                <p:grpSpPr>
                  <a:xfrm>
                    <a:off x="2395080" y="4776480"/>
                    <a:ext cx="124200" cy="198360"/>
                    <a:chOff x="2395080" y="4776480"/>
                    <a:chExt cx="124200" cy="198360"/>
                  </a:xfrm>
                </p:grpSpPr>
                <p:sp>
                  <p:nvSpPr>
                    <p:cNvPr id="1046" name=""/>
                    <p:cNvSpPr/>
                    <p:nvPr/>
                  </p:nvSpPr>
                  <p:spPr>
                    <a:xfrm>
                      <a:off x="2417760" y="4941720"/>
                      <a:ext cx="88920" cy="208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7" name=""/>
                    <p:cNvSpPr/>
                    <p:nvPr/>
                  </p:nvSpPr>
                  <p:spPr>
                    <a:xfrm flipH="1" flipV="1">
                      <a:off x="2449440" y="4870080"/>
                      <a:ext cx="69840" cy="1047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48" name=""/>
                    <p:cNvGrpSpPr/>
                    <p:nvPr/>
                  </p:nvGrpSpPr>
                  <p:grpSpPr>
                    <a:xfrm>
                      <a:off x="2395080" y="4776480"/>
                      <a:ext cx="100440" cy="106200"/>
                      <a:chOff x="2395080" y="4776480"/>
                      <a:chExt cx="100440" cy="106200"/>
                    </a:xfrm>
                  </p:grpSpPr>
                  <p:sp>
                    <p:nvSpPr>
                      <p:cNvPr id="1049" name=""/>
                      <p:cNvSpPr/>
                      <p:nvPr/>
                    </p:nvSpPr>
                    <p:spPr>
                      <a:xfrm flipH="1" flipV="1">
                        <a:off x="2395080" y="4776480"/>
                        <a:ext cx="66600" cy="106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0" name=""/>
                      <p:cNvSpPr/>
                      <p:nvPr/>
                    </p:nvSpPr>
                    <p:spPr>
                      <a:xfrm>
                        <a:off x="2408400" y="4789440"/>
                        <a:ext cx="87120" cy="2232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051" name=""/>
                  <p:cNvGrpSpPr/>
                  <p:nvPr/>
                </p:nvGrpSpPr>
                <p:grpSpPr>
                  <a:xfrm>
                    <a:off x="2487240" y="4660560"/>
                    <a:ext cx="125640" cy="195480"/>
                    <a:chOff x="2487240" y="4660560"/>
                    <a:chExt cx="125640" cy="195480"/>
                  </a:xfrm>
                </p:grpSpPr>
                <p:sp>
                  <p:nvSpPr>
                    <p:cNvPr id="1052" name=""/>
                    <p:cNvSpPr/>
                    <p:nvPr/>
                  </p:nvSpPr>
                  <p:spPr>
                    <a:xfrm>
                      <a:off x="2508120" y="4824360"/>
                      <a:ext cx="92160" cy="190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3" name=""/>
                    <p:cNvSpPr/>
                    <p:nvPr/>
                  </p:nvSpPr>
                  <p:spPr>
                    <a:xfrm flipH="1" flipV="1">
                      <a:off x="2541600" y="4753080"/>
                      <a:ext cx="71280" cy="1029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54" name=""/>
                    <p:cNvGrpSpPr/>
                    <p:nvPr/>
                  </p:nvGrpSpPr>
                  <p:grpSpPr>
                    <a:xfrm>
                      <a:off x="2487240" y="4660560"/>
                      <a:ext cx="101880" cy="104760"/>
                      <a:chOff x="2487240" y="4660560"/>
                      <a:chExt cx="101880" cy="104760"/>
                    </a:xfrm>
                  </p:grpSpPr>
                  <p:sp>
                    <p:nvSpPr>
                      <p:cNvPr id="1055" name=""/>
                      <p:cNvSpPr/>
                      <p:nvPr/>
                    </p:nvSpPr>
                    <p:spPr>
                      <a:xfrm flipH="1" flipV="1">
                        <a:off x="2487240" y="4660560"/>
                        <a:ext cx="66600" cy="10476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6" name=""/>
                      <p:cNvSpPr/>
                      <p:nvPr/>
                    </p:nvSpPr>
                    <p:spPr>
                      <a:xfrm>
                        <a:off x="2500200" y="4673520"/>
                        <a:ext cx="88920" cy="19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057" name=""/>
                <p:cNvGrpSpPr/>
                <p:nvPr/>
              </p:nvGrpSpPr>
              <p:grpSpPr>
                <a:xfrm>
                  <a:off x="2577960" y="4427640"/>
                  <a:ext cx="217800" cy="310680"/>
                  <a:chOff x="2577960" y="4427640"/>
                  <a:chExt cx="217800" cy="310680"/>
                </a:xfrm>
              </p:grpSpPr>
              <p:grpSp>
                <p:nvGrpSpPr>
                  <p:cNvPr id="1058" name=""/>
                  <p:cNvGrpSpPr/>
                  <p:nvPr/>
                </p:nvGrpSpPr>
                <p:grpSpPr>
                  <a:xfrm>
                    <a:off x="2577960" y="4543200"/>
                    <a:ext cx="127080" cy="195120"/>
                    <a:chOff x="2577960" y="4543200"/>
                    <a:chExt cx="127080" cy="195120"/>
                  </a:xfrm>
                </p:grpSpPr>
                <p:sp>
                  <p:nvSpPr>
                    <p:cNvPr id="1059" name=""/>
                    <p:cNvSpPr/>
                    <p:nvPr/>
                  </p:nvSpPr>
                  <p:spPr>
                    <a:xfrm>
                      <a:off x="2602080" y="4705200"/>
                      <a:ext cx="90360" cy="208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0" name=""/>
                    <p:cNvSpPr/>
                    <p:nvPr/>
                  </p:nvSpPr>
                  <p:spPr>
                    <a:xfrm flipH="1" flipV="1">
                      <a:off x="2635200" y="4635000"/>
                      <a:ext cx="69840" cy="1033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61" name=""/>
                    <p:cNvGrpSpPr/>
                    <p:nvPr/>
                  </p:nvGrpSpPr>
                  <p:grpSpPr>
                    <a:xfrm>
                      <a:off x="2577960" y="4543200"/>
                      <a:ext cx="101880" cy="104760"/>
                      <a:chOff x="2577960" y="4543200"/>
                      <a:chExt cx="101880" cy="104760"/>
                    </a:xfrm>
                  </p:grpSpPr>
                  <p:sp>
                    <p:nvSpPr>
                      <p:cNvPr id="1062" name=""/>
                      <p:cNvSpPr/>
                      <p:nvPr/>
                    </p:nvSpPr>
                    <p:spPr>
                      <a:xfrm flipH="1" flipV="1">
                        <a:off x="2577960" y="4543200"/>
                        <a:ext cx="69840" cy="10476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63" name=""/>
                      <p:cNvSpPr/>
                      <p:nvPr/>
                    </p:nvSpPr>
                    <p:spPr>
                      <a:xfrm>
                        <a:off x="2590920" y="4556160"/>
                        <a:ext cx="88920" cy="20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064" name=""/>
                  <p:cNvGrpSpPr/>
                  <p:nvPr/>
                </p:nvGrpSpPr>
                <p:grpSpPr>
                  <a:xfrm>
                    <a:off x="2668680" y="4427640"/>
                    <a:ext cx="127080" cy="193320"/>
                    <a:chOff x="2668680" y="4427640"/>
                    <a:chExt cx="127080" cy="193320"/>
                  </a:xfrm>
                </p:grpSpPr>
                <p:sp>
                  <p:nvSpPr>
                    <p:cNvPr id="1065" name=""/>
                    <p:cNvSpPr/>
                    <p:nvPr/>
                  </p:nvSpPr>
                  <p:spPr>
                    <a:xfrm>
                      <a:off x="2692440" y="4589640"/>
                      <a:ext cx="90360" cy="187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6" name=""/>
                    <p:cNvSpPr/>
                    <p:nvPr/>
                  </p:nvSpPr>
                  <p:spPr>
                    <a:xfrm flipH="1" flipV="1">
                      <a:off x="2727360" y="4516200"/>
                      <a:ext cx="68400" cy="1047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67" name=""/>
                    <p:cNvGrpSpPr/>
                    <p:nvPr/>
                  </p:nvGrpSpPr>
                  <p:grpSpPr>
                    <a:xfrm>
                      <a:off x="2668680" y="4427640"/>
                      <a:ext cx="102960" cy="101520"/>
                      <a:chOff x="2668680" y="4427640"/>
                      <a:chExt cx="102960" cy="101520"/>
                    </a:xfrm>
                  </p:grpSpPr>
                  <p:sp>
                    <p:nvSpPr>
                      <p:cNvPr id="1068" name=""/>
                      <p:cNvSpPr/>
                      <p:nvPr/>
                    </p:nvSpPr>
                    <p:spPr>
                      <a:xfrm flipH="1" flipV="1">
                        <a:off x="2668680" y="4427640"/>
                        <a:ext cx="71280" cy="101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69" name=""/>
                      <p:cNvSpPr/>
                      <p:nvPr/>
                    </p:nvSpPr>
                    <p:spPr>
                      <a:xfrm>
                        <a:off x="2681280" y="4440240"/>
                        <a:ext cx="90360" cy="19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070" name=""/>
                <p:cNvGrpSpPr/>
                <p:nvPr/>
              </p:nvGrpSpPr>
              <p:grpSpPr>
                <a:xfrm>
                  <a:off x="2762280" y="4192200"/>
                  <a:ext cx="217440" cy="312840"/>
                  <a:chOff x="2762280" y="4192200"/>
                  <a:chExt cx="217440" cy="312840"/>
                </a:xfrm>
              </p:grpSpPr>
              <p:grpSp>
                <p:nvGrpSpPr>
                  <p:cNvPr id="1071" name=""/>
                  <p:cNvGrpSpPr/>
                  <p:nvPr/>
                </p:nvGrpSpPr>
                <p:grpSpPr>
                  <a:xfrm>
                    <a:off x="2762280" y="4306680"/>
                    <a:ext cx="123840" cy="198360"/>
                    <a:chOff x="2762280" y="4306680"/>
                    <a:chExt cx="123840" cy="198360"/>
                  </a:xfrm>
                </p:grpSpPr>
                <p:sp>
                  <p:nvSpPr>
                    <p:cNvPr id="1072" name=""/>
                    <p:cNvSpPr/>
                    <p:nvPr/>
                  </p:nvSpPr>
                  <p:spPr>
                    <a:xfrm>
                      <a:off x="2784600" y="4471920"/>
                      <a:ext cx="88920" cy="208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3" name=""/>
                    <p:cNvSpPr/>
                    <p:nvPr/>
                  </p:nvSpPr>
                  <p:spPr>
                    <a:xfrm flipH="1" flipV="1">
                      <a:off x="2817720" y="4400280"/>
                      <a:ext cx="68400" cy="1047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74" name=""/>
                    <p:cNvGrpSpPr/>
                    <p:nvPr/>
                  </p:nvGrpSpPr>
                  <p:grpSpPr>
                    <a:xfrm>
                      <a:off x="2762280" y="4306680"/>
                      <a:ext cx="101520" cy="106200"/>
                      <a:chOff x="2762280" y="4306680"/>
                      <a:chExt cx="101520" cy="106200"/>
                    </a:xfrm>
                  </p:grpSpPr>
                  <p:sp>
                    <p:nvSpPr>
                      <p:cNvPr id="1075" name=""/>
                      <p:cNvSpPr/>
                      <p:nvPr/>
                    </p:nvSpPr>
                    <p:spPr>
                      <a:xfrm flipH="1" flipV="1">
                        <a:off x="2762280" y="4306680"/>
                        <a:ext cx="68400" cy="106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6" name=""/>
                      <p:cNvSpPr/>
                      <p:nvPr/>
                    </p:nvSpPr>
                    <p:spPr>
                      <a:xfrm>
                        <a:off x="2774880" y="4319640"/>
                        <a:ext cx="88920" cy="2232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077" name=""/>
                  <p:cNvGrpSpPr/>
                  <p:nvPr/>
                </p:nvGrpSpPr>
                <p:grpSpPr>
                  <a:xfrm>
                    <a:off x="2852640" y="4192200"/>
                    <a:ext cx="127080" cy="192600"/>
                    <a:chOff x="2852640" y="4192200"/>
                    <a:chExt cx="127080" cy="192600"/>
                  </a:xfrm>
                </p:grpSpPr>
                <p:sp>
                  <p:nvSpPr>
                    <p:cNvPr id="1078" name=""/>
                    <p:cNvSpPr/>
                    <p:nvPr/>
                  </p:nvSpPr>
                  <p:spPr>
                    <a:xfrm>
                      <a:off x="2876400" y="4354560"/>
                      <a:ext cx="90720" cy="172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9" name=""/>
                    <p:cNvSpPr/>
                    <p:nvPr/>
                  </p:nvSpPr>
                  <p:spPr>
                    <a:xfrm flipH="1" flipV="1">
                      <a:off x="2908440" y="4284720"/>
                      <a:ext cx="71280" cy="1000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80" name=""/>
                    <p:cNvGrpSpPr/>
                    <p:nvPr/>
                  </p:nvGrpSpPr>
                  <p:grpSpPr>
                    <a:xfrm>
                      <a:off x="2852640" y="4192200"/>
                      <a:ext cx="103320" cy="104760"/>
                      <a:chOff x="2852640" y="4192200"/>
                      <a:chExt cx="103320" cy="104760"/>
                    </a:xfrm>
                  </p:grpSpPr>
                  <p:sp>
                    <p:nvSpPr>
                      <p:cNvPr id="1081" name=""/>
                      <p:cNvSpPr/>
                      <p:nvPr/>
                    </p:nvSpPr>
                    <p:spPr>
                      <a:xfrm flipH="1" flipV="1">
                        <a:off x="2852640" y="4192200"/>
                        <a:ext cx="68400" cy="10476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2" name=""/>
                      <p:cNvSpPr/>
                      <p:nvPr/>
                    </p:nvSpPr>
                    <p:spPr>
                      <a:xfrm>
                        <a:off x="2865600" y="4205160"/>
                        <a:ext cx="90360" cy="17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083" name=""/>
                <p:cNvGrpSpPr/>
                <p:nvPr/>
              </p:nvGrpSpPr>
              <p:grpSpPr>
                <a:xfrm>
                  <a:off x="2946240" y="3957480"/>
                  <a:ext cx="215640" cy="311040"/>
                  <a:chOff x="2946240" y="3957480"/>
                  <a:chExt cx="215640" cy="311040"/>
                </a:xfrm>
              </p:grpSpPr>
              <p:grpSp>
                <p:nvGrpSpPr>
                  <p:cNvPr id="1084" name=""/>
                  <p:cNvGrpSpPr/>
                  <p:nvPr/>
                </p:nvGrpSpPr>
                <p:grpSpPr>
                  <a:xfrm>
                    <a:off x="2946240" y="4071600"/>
                    <a:ext cx="123480" cy="196920"/>
                    <a:chOff x="2946240" y="4071600"/>
                    <a:chExt cx="123480" cy="196920"/>
                  </a:xfrm>
                </p:grpSpPr>
                <p:sp>
                  <p:nvSpPr>
                    <p:cNvPr id="1085" name=""/>
                    <p:cNvSpPr/>
                    <p:nvPr/>
                  </p:nvSpPr>
                  <p:spPr>
                    <a:xfrm>
                      <a:off x="2968560" y="4235400"/>
                      <a:ext cx="88920" cy="205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6" name=""/>
                    <p:cNvSpPr/>
                    <p:nvPr/>
                  </p:nvSpPr>
                  <p:spPr>
                    <a:xfrm flipH="1" flipV="1">
                      <a:off x="3001680" y="4165200"/>
                      <a:ext cx="68040" cy="1033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87" name=""/>
                    <p:cNvGrpSpPr/>
                    <p:nvPr/>
                  </p:nvGrpSpPr>
                  <p:grpSpPr>
                    <a:xfrm>
                      <a:off x="2946240" y="4071600"/>
                      <a:ext cx="100080" cy="106200"/>
                      <a:chOff x="2946240" y="4071600"/>
                      <a:chExt cx="100080" cy="106200"/>
                    </a:xfrm>
                  </p:grpSpPr>
                  <p:sp>
                    <p:nvSpPr>
                      <p:cNvPr id="1088" name=""/>
                      <p:cNvSpPr/>
                      <p:nvPr/>
                    </p:nvSpPr>
                    <p:spPr>
                      <a:xfrm flipH="1" flipV="1">
                        <a:off x="2946240" y="4071600"/>
                        <a:ext cx="68400" cy="106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9" name=""/>
                      <p:cNvSpPr/>
                      <p:nvPr/>
                    </p:nvSpPr>
                    <p:spPr>
                      <a:xfrm>
                        <a:off x="2959200" y="4084560"/>
                        <a:ext cx="87120" cy="2376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090" name=""/>
                  <p:cNvGrpSpPr/>
                  <p:nvPr/>
                </p:nvGrpSpPr>
                <p:grpSpPr>
                  <a:xfrm>
                    <a:off x="3036960" y="3957480"/>
                    <a:ext cx="124920" cy="195480"/>
                    <a:chOff x="3036960" y="3957480"/>
                    <a:chExt cx="124920" cy="195480"/>
                  </a:xfrm>
                </p:grpSpPr>
                <p:sp>
                  <p:nvSpPr>
                    <p:cNvPr id="1091" name=""/>
                    <p:cNvSpPr/>
                    <p:nvPr/>
                  </p:nvSpPr>
                  <p:spPr>
                    <a:xfrm>
                      <a:off x="3059280" y="4121280"/>
                      <a:ext cx="90360" cy="190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2" name=""/>
                    <p:cNvSpPr/>
                    <p:nvPr/>
                  </p:nvSpPr>
                  <p:spPr>
                    <a:xfrm flipH="1" flipV="1">
                      <a:off x="3095280" y="4044960"/>
                      <a:ext cx="66600" cy="108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93" name=""/>
                    <p:cNvGrpSpPr/>
                    <p:nvPr/>
                  </p:nvGrpSpPr>
                  <p:grpSpPr>
                    <a:xfrm>
                      <a:off x="3036960" y="3957480"/>
                      <a:ext cx="102960" cy="100080"/>
                      <a:chOff x="3036960" y="3957480"/>
                      <a:chExt cx="102960" cy="100080"/>
                    </a:xfrm>
                  </p:grpSpPr>
                  <p:sp>
                    <p:nvSpPr>
                      <p:cNvPr id="1094" name=""/>
                      <p:cNvSpPr/>
                      <p:nvPr/>
                    </p:nvSpPr>
                    <p:spPr>
                      <a:xfrm flipH="1" flipV="1">
                        <a:off x="3036960" y="3957480"/>
                        <a:ext cx="71280" cy="100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95" name=""/>
                      <p:cNvSpPr/>
                      <p:nvPr/>
                    </p:nvSpPr>
                    <p:spPr>
                      <a:xfrm>
                        <a:off x="3049560" y="3970440"/>
                        <a:ext cx="90360" cy="1728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096" name=""/>
                <p:cNvSpPr/>
                <p:nvPr/>
              </p:nvSpPr>
              <p:spPr>
                <a:xfrm flipH="1">
                  <a:off x="2334960" y="4941720"/>
                  <a:ext cx="82440" cy="7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 flipH="1">
                  <a:off x="3139560" y="3914640"/>
                  <a:ext cx="79560" cy="7308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8" name=""/>
              <p:cNvSpPr/>
              <p:nvPr/>
            </p:nvSpPr>
            <p:spPr>
              <a:xfrm rot="2280000">
                <a:off x="3220560" y="3859200"/>
                <a:ext cx="20880" cy="39600"/>
              </a:xfrm>
              <a:prstGeom prst="ellipse">
                <a:avLst/>
              </a:prstGeom>
              <a:noFill/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9" name=""/>
            <p:cNvGrpSpPr/>
            <p:nvPr/>
          </p:nvGrpSpPr>
          <p:grpSpPr>
            <a:xfrm>
              <a:off x="2334960" y="4983120"/>
              <a:ext cx="916920" cy="1175400"/>
              <a:chOff x="2334960" y="4983120"/>
              <a:chExt cx="916920" cy="1175400"/>
            </a:xfrm>
          </p:grpSpPr>
          <p:grpSp>
            <p:nvGrpSpPr>
              <p:cNvPr id="1100" name=""/>
              <p:cNvGrpSpPr/>
              <p:nvPr/>
            </p:nvGrpSpPr>
            <p:grpSpPr>
              <a:xfrm>
                <a:off x="2334960" y="4983120"/>
                <a:ext cx="884160" cy="1128240"/>
                <a:chOff x="2334960" y="4983120"/>
                <a:chExt cx="884160" cy="1128240"/>
              </a:xfrm>
            </p:grpSpPr>
            <p:grpSp>
              <p:nvGrpSpPr>
                <p:cNvPr id="1101" name=""/>
                <p:cNvGrpSpPr/>
                <p:nvPr/>
              </p:nvGrpSpPr>
              <p:grpSpPr>
                <a:xfrm>
                  <a:off x="2395080" y="5038560"/>
                  <a:ext cx="217800" cy="314640"/>
                  <a:chOff x="2395080" y="5038560"/>
                  <a:chExt cx="217800" cy="314640"/>
                </a:xfrm>
              </p:grpSpPr>
              <p:grpSp>
                <p:nvGrpSpPr>
                  <p:cNvPr id="1102" name=""/>
                  <p:cNvGrpSpPr/>
                  <p:nvPr/>
                </p:nvGrpSpPr>
                <p:grpSpPr>
                  <a:xfrm>
                    <a:off x="2395080" y="5038560"/>
                    <a:ext cx="124200" cy="198360"/>
                    <a:chOff x="2395080" y="5038560"/>
                    <a:chExt cx="124200" cy="198360"/>
                  </a:xfrm>
                </p:grpSpPr>
                <p:sp>
                  <p:nvSpPr>
                    <p:cNvPr id="1103" name=""/>
                    <p:cNvSpPr/>
                    <p:nvPr/>
                  </p:nvSpPr>
                  <p:spPr>
                    <a:xfrm flipV="1">
                      <a:off x="2417760" y="5038560"/>
                      <a:ext cx="88920" cy="460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4" name=""/>
                    <p:cNvSpPr/>
                    <p:nvPr/>
                  </p:nvSpPr>
                  <p:spPr>
                    <a:xfrm flipH="1">
                      <a:off x="2449440" y="5051520"/>
                      <a:ext cx="69840" cy="792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105" name=""/>
                    <p:cNvGrpSpPr/>
                    <p:nvPr/>
                  </p:nvGrpSpPr>
                  <p:grpSpPr>
                    <a:xfrm>
                      <a:off x="2395080" y="5143680"/>
                      <a:ext cx="100440" cy="93240"/>
                      <a:chOff x="2395080" y="5143680"/>
                      <a:chExt cx="100440" cy="93240"/>
                    </a:xfrm>
                  </p:grpSpPr>
                  <p:sp>
                    <p:nvSpPr>
                      <p:cNvPr id="1106" name=""/>
                      <p:cNvSpPr/>
                      <p:nvPr/>
                    </p:nvSpPr>
                    <p:spPr>
                      <a:xfrm flipH="1">
                        <a:off x="2395080" y="5143680"/>
                        <a:ext cx="66600" cy="80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840" bIns="338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07" name=""/>
                      <p:cNvSpPr/>
                      <p:nvPr/>
                    </p:nvSpPr>
                    <p:spPr>
                      <a:xfrm flipV="1">
                        <a:off x="2408400" y="5189040"/>
                        <a:ext cx="87120" cy="4788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80" bIns="10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108" name=""/>
                  <p:cNvGrpSpPr/>
                  <p:nvPr/>
                </p:nvGrpSpPr>
                <p:grpSpPr>
                  <a:xfrm>
                    <a:off x="2487240" y="5157720"/>
                    <a:ext cx="125640" cy="195480"/>
                    <a:chOff x="2487240" y="5157720"/>
                    <a:chExt cx="125640" cy="195480"/>
                  </a:xfrm>
                </p:grpSpPr>
                <p:sp>
                  <p:nvSpPr>
                    <p:cNvPr id="1109" name=""/>
                    <p:cNvSpPr/>
                    <p:nvPr/>
                  </p:nvSpPr>
                  <p:spPr>
                    <a:xfrm flipV="1">
                      <a:off x="2508120" y="5157720"/>
                      <a:ext cx="92160" cy="44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0" name=""/>
                    <p:cNvSpPr/>
                    <p:nvPr/>
                  </p:nvSpPr>
                  <p:spPr>
                    <a:xfrm flipH="1">
                      <a:off x="2541600" y="5170320"/>
                      <a:ext cx="71280" cy="781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320" bIns="31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111" name=""/>
                    <p:cNvGrpSpPr/>
                    <p:nvPr/>
                  </p:nvGrpSpPr>
                  <p:grpSpPr>
                    <a:xfrm>
                      <a:off x="2487240" y="5261040"/>
                      <a:ext cx="101880" cy="92160"/>
                      <a:chOff x="2487240" y="5261040"/>
                      <a:chExt cx="101880" cy="92160"/>
                    </a:xfrm>
                  </p:grpSpPr>
                  <p:sp>
                    <p:nvSpPr>
                      <p:cNvPr id="1112" name=""/>
                      <p:cNvSpPr/>
                      <p:nvPr/>
                    </p:nvSpPr>
                    <p:spPr>
                      <a:xfrm flipH="1">
                        <a:off x="2487240" y="5261040"/>
                        <a:ext cx="66600" cy="79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400" bIns="324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13" name=""/>
                      <p:cNvSpPr/>
                      <p:nvPr/>
                    </p:nvSpPr>
                    <p:spPr>
                      <a:xfrm flipV="1">
                        <a:off x="2500200" y="5308560"/>
                        <a:ext cx="88920" cy="44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114" name=""/>
                <p:cNvGrpSpPr/>
                <p:nvPr/>
              </p:nvGrpSpPr>
              <p:grpSpPr>
                <a:xfrm>
                  <a:off x="2577960" y="5275080"/>
                  <a:ext cx="217800" cy="311400"/>
                  <a:chOff x="2577960" y="5275080"/>
                  <a:chExt cx="217800" cy="311400"/>
                </a:xfrm>
              </p:grpSpPr>
              <p:grpSp>
                <p:nvGrpSpPr>
                  <p:cNvPr id="1115" name=""/>
                  <p:cNvGrpSpPr/>
                  <p:nvPr/>
                </p:nvGrpSpPr>
                <p:grpSpPr>
                  <a:xfrm>
                    <a:off x="2577960" y="5275080"/>
                    <a:ext cx="127080" cy="195480"/>
                    <a:chOff x="2577960" y="5275080"/>
                    <a:chExt cx="127080" cy="195480"/>
                  </a:xfrm>
                </p:grpSpPr>
                <p:sp>
                  <p:nvSpPr>
                    <p:cNvPr id="1116" name=""/>
                    <p:cNvSpPr/>
                    <p:nvPr/>
                  </p:nvSpPr>
                  <p:spPr>
                    <a:xfrm flipV="1">
                      <a:off x="2602080" y="5275080"/>
                      <a:ext cx="90360" cy="457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7" name=""/>
                    <p:cNvSpPr/>
                    <p:nvPr/>
                  </p:nvSpPr>
                  <p:spPr>
                    <a:xfrm flipH="1">
                      <a:off x="2635200" y="5288040"/>
                      <a:ext cx="69840" cy="777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960" bIns="30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118" name=""/>
                    <p:cNvGrpSpPr/>
                    <p:nvPr/>
                  </p:nvGrpSpPr>
                  <p:grpSpPr>
                    <a:xfrm>
                      <a:off x="2577960" y="5378400"/>
                      <a:ext cx="101880" cy="92160"/>
                      <a:chOff x="2577960" y="5378400"/>
                      <a:chExt cx="101880" cy="92160"/>
                    </a:xfrm>
                  </p:grpSpPr>
                  <p:sp>
                    <p:nvSpPr>
                      <p:cNvPr id="1119" name=""/>
                      <p:cNvSpPr/>
                      <p:nvPr/>
                    </p:nvSpPr>
                    <p:spPr>
                      <a:xfrm flipH="1">
                        <a:off x="2577960" y="5378400"/>
                        <a:ext cx="69840" cy="79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760" bIns="327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0" name=""/>
                      <p:cNvSpPr/>
                      <p:nvPr/>
                    </p:nvSpPr>
                    <p:spPr>
                      <a:xfrm flipV="1">
                        <a:off x="2590920" y="5424480"/>
                        <a:ext cx="88920" cy="46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121" name=""/>
                  <p:cNvGrpSpPr/>
                  <p:nvPr/>
                </p:nvGrpSpPr>
                <p:grpSpPr>
                  <a:xfrm>
                    <a:off x="2668680" y="5392440"/>
                    <a:ext cx="127080" cy="194040"/>
                    <a:chOff x="2668680" y="5392440"/>
                    <a:chExt cx="127080" cy="194040"/>
                  </a:xfrm>
                </p:grpSpPr>
                <p:sp>
                  <p:nvSpPr>
                    <p:cNvPr id="1122" name=""/>
                    <p:cNvSpPr/>
                    <p:nvPr/>
                  </p:nvSpPr>
                  <p:spPr>
                    <a:xfrm flipV="1">
                      <a:off x="2692440" y="5392440"/>
                      <a:ext cx="90360" cy="442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3" name=""/>
                    <p:cNvSpPr/>
                    <p:nvPr/>
                  </p:nvSpPr>
                  <p:spPr>
                    <a:xfrm flipH="1">
                      <a:off x="2727360" y="5405400"/>
                      <a:ext cx="68400" cy="795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760" bIns="327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124" name=""/>
                    <p:cNvGrpSpPr/>
                    <p:nvPr/>
                  </p:nvGrpSpPr>
                  <p:grpSpPr>
                    <a:xfrm>
                      <a:off x="2668680" y="5497560"/>
                      <a:ext cx="102960" cy="88920"/>
                      <a:chOff x="2668680" y="5497560"/>
                      <a:chExt cx="102960" cy="88920"/>
                    </a:xfrm>
                  </p:grpSpPr>
                  <p:sp>
                    <p:nvSpPr>
                      <p:cNvPr id="1125" name=""/>
                      <p:cNvSpPr/>
                      <p:nvPr/>
                    </p:nvSpPr>
                    <p:spPr>
                      <a:xfrm flipH="1">
                        <a:off x="2668680" y="5497560"/>
                        <a:ext cx="71280" cy="7632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6" name=""/>
                      <p:cNvSpPr/>
                      <p:nvPr/>
                    </p:nvSpPr>
                    <p:spPr>
                      <a:xfrm flipV="1">
                        <a:off x="2681280" y="5541840"/>
                        <a:ext cx="90360" cy="44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127" name=""/>
                <p:cNvGrpSpPr/>
                <p:nvPr/>
              </p:nvGrpSpPr>
              <p:grpSpPr>
                <a:xfrm>
                  <a:off x="2762280" y="5508720"/>
                  <a:ext cx="217440" cy="312120"/>
                  <a:chOff x="2762280" y="5508720"/>
                  <a:chExt cx="217440" cy="312120"/>
                </a:xfrm>
              </p:grpSpPr>
              <p:grpSp>
                <p:nvGrpSpPr>
                  <p:cNvPr id="1128" name=""/>
                  <p:cNvGrpSpPr/>
                  <p:nvPr/>
                </p:nvGrpSpPr>
                <p:grpSpPr>
                  <a:xfrm>
                    <a:off x="2762280" y="5508720"/>
                    <a:ext cx="123840" cy="198360"/>
                    <a:chOff x="2762280" y="5508720"/>
                    <a:chExt cx="123840" cy="198360"/>
                  </a:xfrm>
                </p:grpSpPr>
                <p:sp>
                  <p:nvSpPr>
                    <p:cNvPr id="1129" name=""/>
                    <p:cNvSpPr/>
                    <p:nvPr/>
                  </p:nvSpPr>
                  <p:spPr>
                    <a:xfrm flipV="1">
                      <a:off x="2784600" y="5508720"/>
                      <a:ext cx="88920" cy="460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0" name=""/>
                    <p:cNvSpPr/>
                    <p:nvPr/>
                  </p:nvSpPr>
                  <p:spPr>
                    <a:xfrm flipH="1">
                      <a:off x="2817720" y="5521320"/>
                      <a:ext cx="68400" cy="795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760" bIns="327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131" name=""/>
                    <p:cNvGrpSpPr/>
                    <p:nvPr/>
                  </p:nvGrpSpPr>
                  <p:grpSpPr>
                    <a:xfrm>
                      <a:off x="2762280" y="5613480"/>
                      <a:ext cx="101520" cy="93600"/>
                      <a:chOff x="2762280" y="5613480"/>
                      <a:chExt cx="101520" cy="93600"/>
                    </a:xfrm>
                  </p:grpSpPr>
                  <p:sp>
                    <p:nvSpPr>
                      <p:cNvPr id="1132" name=""/>
                      <p:cNvSpPr/>
                      <p:nvPr/>
                    </p:nvSpPr>
                    <p:spPr>
                      <a:xfrm flipH="1">
                        <a:off x="2762280" y="5613480"/>
                        <a:ext cx="68400" cy="8100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33" name=""/>
                      <p:cNvSpPr/>
                      <p:nvPr/>
                    </p:nvSpPr>
                    <p:spPr>
                      <a:xfrm flipV="1">
                        <a:off x="2774880" y="5659560"/>
                        <a:ext cx="88920" cy="47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" bIns="7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134" name=""/>
                  <p:cNvGrpSpPr/>
                  <p:nvPr/>
                </p:nvGrpSpPr>
                <p:grpSpPr>
                  <a:xfrm>
                    <a:off x="2852640" y="5628960"/>
                    <a:ext cx="127080" cy="191880"/>
                    <a:chOff x="2852640" y="5628960"/>
                    <a:chExt cx="127080" cy="191880"/>
                  </a:xfrm>
                </p:grpSpPr>
                <p:sp>
                  <p:nvSpPr>
                    <p:cNvPr id="1135" name=""/>
                    <p:cNvSpPr/>
                    <p:nvPr/>
                  </p:nvSpPr>
                  <p:spPr>
                    <a:xfrm flipV="1">
                      <a:off x="2876400" y="5628960"/>
                      <a:ext cx="90720" cy="428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6" name=""/>
                    <p:cNvSpPr/>
                    <p:nvPr/>
                  </p:nvSpPr>
                  <p:spPr>
                    <a:xfrm flipH="1">
                      <a:off x="2908440" y="5641920"/>
                      <a:ext cx="71280" cy="745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137" name=""/>
                    <p:cNvGrpSpPr/>
                    <p:nvPr/>
                  </p:nvGrpSpPr>
                  <p:grpSpPr>
                    <a:xfrm>
                      <a:off x="2852640" y="5729400"/>
                      <a:ext cx="103320" cy="91440"/>
                      <a:chOff x="2852640" y="5729400"/>
                      <a:chExt cx="103320" cy="91440"/>
                    </a:xfrm>
                  </p:grpSpPr>
                  <p:sp>
                    <p:nvSpPr>
                      <p:cNvPr id="1138" name=""/>
                      <p:cNvSpPr/>
                      <p:nvPr/>
                    </p:nvSpPr>
                    <p:spPr>
                      <a:xfrm flipH="1">
                        <a:off x="2852640" y="5729400"/>
                        <a:ext cx="68400" cy="79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400" bIns="324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39" name=""/>
                      <p:cNvSpPr/>
                      <p:nvPr/>
                    </p:nvSpPr>
                    <p:spPr>
                      <a:xfrm flipV="1">
                        <a:off x="2865600" y="5778000"/>
                        <a:ext cx="90360" cy="42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140" name=""/>
                <p:cNvGrpSpPr/>
                <p:nvPr/>
              </p:nvGrpSpPr>
              <p:grpSpPr>
                <a:xfrm>
                  <a:off x="2946240" y="5745240"/>
                  <a:ext cx="215640" cy="310680"/>
                  <a:chOff x="2946240" y="5745240"/>
                  <a:chExt cx="215640" cy="310680"/>
                </a:xfrm>
              </p:grpSpPr>
              <p:grpSp>
                <p:nvGrpSpPr>
                  <p:cNvPr id="1141" name=""/>
                  <p:cNvGrpSpPr/>
                  <p:nvPr/>
                </p:nvGrpSpPr>
                <p:grpSpPr>
                  <a:xfrm>
                    <a:off x="2946240" y="5745240"/>
                    <a:ext cx="123480" cy="196560"/>
                    <a:chOff x="2946240" y="5745240"/>
                    <a:chExt cx="123480" cy="196560"/>
                  </a:xfrm>
                </p:grpSpPr>
                <p:sp>
                  <p:nvSpPr>
                    <p:cNvPr id="1142" name=""/>
                    <p:cNvSpPr/>
                    <p:nvPr/>
                  </p:nvSpPr>
                  <p:spPr>
                    <a:xfrm flipV="1">
                      <a:off x="2968560" y="5745240"/>
                      <a:ext cx="88920" cy="460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3" name=""/>
                    <p:cNvSpPr/>
                    <p:nvPr/>
                  </p:nvSpPr>
                  <p:spPr>
                    <a:xfrm flipH="1">
                      <a:off x="3001680" y="5757840"/>
                      <a:ext cx="68040" cy="777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960" bIns="30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144" name=""/>
                    <p:cNvGrpSpPr/>
                    <p:nvPr/>
                  </p:nvGrpSpPr>
                  <p:grpSpPr>
                    <a:xfrm>
                      <a:off x="2946240" y="5848200"/>
                      <a:ext cx="100080" cy="93600"/>
                      <a:chOff x="2946240" y="5848200"/>
                      <a:chExt cx="100080" cy="93600"/>
                    </a:xfrm>
                  </p:grpSpPr>
                  <p:sp>
                    <p:nvSpPr>
                      <p:cNvPr id="1145" name=""/>
                      <p:cNvSpPr/>
                      <p:nvPr/>
                    </p:nvSpPr>
                    <p:spPr>
                      <a:xfrm flipH="1">
                        <a:off x="2946240" y="5848200"/>
                        <a:ext cx="68400" cy="8100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46" name=""/>
                      <p:cNvSpPr/>
                      <p:nvPr/>
                    </p:nvSpPr>
                    <p:spPr>
                      <a:xfrm flipV="1">
                        <a:off x="2959200" y="5892480"/>
                        <a:ext cx="87120" cy="4932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20" bIns="25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147" name=""/>
                  <p:cNvGrpSpPr/>
                  <p:nvPr/>
                </p:nvGrpSpPr>
                <p:grpSpPr>
                  <a:xfrm>
                    <a:off x="3036960" y="5860800"/>
                    <a:ext cx="124920" cy="195120"/>
                    <a:chOff x="3036960" y="5860800"/>
                    <a:chExt cx="124920" cy="195120"/>
                  </a:xfrm>
                </p:grpSpPr>
                <p:sp>
                  <p:nvSpPr>
                    <p:cNvPr id="1148" name=""/>
                    <p:cNvSpPr/>
                    <p:nvPr/>
                  </p:nvSpPr>
                  <p:spPr>
                    <a:xfrm flipV="1">
                      <a:off x="3059280" y="5860800"/>
                      <a:ext cx="90360" cy="442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9" name=""/>
                    <p:cNvSpPr/>
                    <p:nvPr/>
                  </p:nvSpPr>
                  <p:spPr>
                    <a:xfrm flipH="1">
                      <a:off x="3095280" y="5873760"/>
                      <a:ext cx="66600" cy="824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150" name=""/>
                    <p:cNvGrpSpPr/>
                    <p:nvPr/>
                  </p:nvGrpSpPr>
                  <p:grpSpPr>
                    <a:xfrm>
                      <a:off x="3036960" y="5969160"/>
                      <a:ext cx="102960" cy="86760"/>
                      <a:chOff x="3036960" y="5969160"/>
                      <a:chExt cx="102960" cy="86760"/>
                    </a:xfrm>
                  </p:grpSpPr>
                  <p:sp>
                    <p:nvSpPr>
                      <p:cNvPr id="1151" name=""/>
                      <p:cNvSpPr/>
                      <p:nvPr/>
                    </p:nvSpPr>
                    <p:spPr>
                      <a:xfrm flipH="1">
                        <a:off x="3036960" y="5969160"/>
                        <a:ext cx="71280" cy="74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720" bIns="277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52" name=""/>
                      <p:cNvSpPr/>
                      <p:nvPr/>
                    </p:nvSpPr>
                    <p:spPr>
                      <a:xfrm flipV="1">
                        <a:off x="3049560" y="6013080"/>
                        <a:ext cx="90360" cy="42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153" name=""/>
                <p:cNvSpPr/>
                <p:nvPr/>
              </p:nvSpPr>
              <p:spPr>
                <a:xfrm flipH="1" flipV="1">
                  <a:off x="2334960" y="4983120"/>
                  <a:ext cx="82440" cy="1015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 flipH="1" flipV="1">
                  <a:off x="3139560" y="6013080"/>
                  <a:ext cx="79560" cy="9828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5" name=""/>
              <p:cNvSpPr/>
              <p:nvPr/>
            </p:nvSpPr>
            <p:spPr>
              <a:xfrm rot="8520000">
                <a:off x="3220920" y="6116400"/>
                <a:ext cx="20880" cy="39600"/>
              </a:xfrm>
              <a:prstGeom prst="ellipse">
                <a:avLst/>
              </a:prstGeom>
              <a:noFill/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6" name=""/>
            <p:cNvSpPr/>
            <p:nvPr/>
          </p:nvSpPr>
          <p:spPr>
            <a:xfrm>
              <a:off x="2325600" y="4983120"/>
              <a:ext cx="63720" cy="637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521080" y="4807080"/>
              <a:ext cx="444240" cy="44424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275920" y="4838760"/>
              <a:ext cx="964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9" name=""/>
          <p:cNvSpPr/>
          <p:nvPr/>
        </p:nvSpPr>
        <p:spPr>
          <a:xfrm>
            <a:off x="6297120" y="483876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2716200" y="2671920"/>
                <a:ext cx="37022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5T02:20:39Z</dcterms:created>
  <dc:creator/>
  <dc:description/>
  <cp:keywords/>
  <dc:language>en-US</dc:language>
  <cp:lastModifiedBy>janubi</cp:lastModifiedBy>
  <dcterms:modified xsi:type="dcterms:W3CDTF">2006-04-15T02:20:39Z</dcterms:modified>
  <cp:revision>71</cp:revision>
  <dc:subject>Work &amp; Energy</dc:subject>
  <dc:title>Physics 106P: Lecture 13 No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\\Phyugwww\WWW\courses\phys111\fall02\Lecture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