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280" y="6516720"/>
            <a:ext cx="303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55480" y="573120"/>
            <a:ext cx="536760" cy="73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sp>
          <p:nvSpPr>
            <p:cNvPr id="44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نزدیک شدن دوجسم قبل از برخورد کشسان برابر با سرعت دورشدن آنها بعداز برخورد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2600" y="2316240"/>
            <a:ext cx="7706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توپ بولینگ بسیار سنگین تراز سرعت گلف است بنابراین سرع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در هردو حالت تغییر زیادی نخواهدک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464184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8464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02272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6760" y="5227560"/>
            <a:ext cx="99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6080" y="56088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6418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410832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3276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8400" y="5456160"/>
            <a:ext cx="99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12800" y="56088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8080" y="3809880"/>
            <a:ext cx="3111480" cy="21970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54440" y="3809880"/>
            <a:ext cx="3111480" cy="21970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1760" y="1757520"/>
            <a:ext cx="9200160" cy="4284000"/>
            <a:chOff x="41760" y="1757520"/>
            <a:chExt cx="9200160" cy="4284000"/>
          </a:xfrm>
        </p:grpSpPr>
        <p:sp>
          <p:nvSpPr>
            <p:cNvPr id="173" name=""/>
            <p:cNvSpPr/>
            <p:nvPr/>
          </p:nvSpPr>
          <p:spPr>
            <a:xfrm>
              <a:off x="1752480" y="4676760"/>
              <a:ext cx="152640" cy="15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19560"/>
              <a:ext cx="1066680" cy="10663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16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3880" y="5057640"/>
              <a:ext cx="6858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8160" y="5262480"/>
              <a:ext cx="996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7480" y="564336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9480" y="3844800"/>
              <a:ext cx="3111480" cy="219672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60" y="1757520"/>
              <a:ext cx="920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درحالت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توپ بولینگ تقریبا ساکن می ماند ولی توپ گلف با سرعت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</a:t>
              </a:r>
              <a:r>
                <a:rPr b="0" i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رمی گردد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5438520"/>
              <a:ext cx="1522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06280" y="2567160"/>
            <a:ext cx="7295400" cy="3439800"/>
            <a:chOff x="1106280" y="2567160"/>
            <a:chExt cx="7295400" cy="3439800"/>
          </a:xfrm>
        </p:grpSpPr>
        <p:sp>
          <p:nvSpPr>
            <p:cNvPr id="182" name=""/>
            <p:cNvSpPr/>
            <p:nvPr/>
          </p:nvSpPr>
          <p:spPr>
            <a:xfrm>
              <a:off x="7467480" y="46418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10832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16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5000" y="5327640"/>
              <a:ext cx="6858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9280" y="5456160"/>
              <a:ext cx="996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70000" y="560880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7960" y="3809880"/>
              <a:ext cx="2959200" cy="219708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6600" y="5022720"/>
              <a:ext cx="99072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9480" y="5227560"/>
              <a:ext cx="113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06280" y="2567160"/>
              <a:ext cx="7295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درحالت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توپ بولینگ با سرعت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r>
                <a:rPr b="0" i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ه حرکت  خود ادامه می ده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 توپ گلف سرعت آن</a:t>
              </a:r>
              <a:r>
                <a:rPr b="0" i="1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2V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r>
                <a:rPr b="0" i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ی شود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دو جسم در دو بع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سرعت های قبل از برخورد رابدا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خواهیم اطلاعاتی در وضعیت بعد از برخورد بدست آوری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کمیت هار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x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,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y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,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x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,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y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 می خواهیم پیدا ک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اطلاعات را نیز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برخورد کشسان انرژی جنبشی و نیز تکانه سیستم 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سه معادله زیر را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f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غیر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x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,f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ه معادله و چهار مجهول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طلاعات بیشتری مثلا زاویه پراکندگی و جرم ها نیاز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396600" y="4052880"/>
            <a:ext cx="964800" cy="520560"/>
            <a:chOff x="3396600" y="4052880"/>
            <a:chExt cx="964800" cy="520560"/>
          </a:xfrm>
        </p:grpSpPr>
        <p:sp>
          <p:nvSpPr>
            <p:cNvPr id="196" name=""/>
            <p:cNvSpPr/>
            <p:nvPr/>
          </p:nvSpPr>
          <p:spPr>
            <a:xfrm>
              <a:off x="3639960" y="4052880"/>
              <a:ext cx="520560" cy="520560"/>
            </a:xfrm>
            <a:prstGeom prst="ellipse">
              <a:avLst/>
            </a:prstGeom>
            <a:solidFill>
              <a:srgbClr val="9498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96600" y="41497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دوبعدی 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راکندگی هسته ا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53080" cy="2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1000"/>
          </a:bodyPr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ذره ای به جرم نامعی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درحال سکون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ذر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تکانه اول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رف آن پرتاب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 تکانه ذره پرتابی برابر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دازه گیری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1760" indent="-478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قد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رحس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یدا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36760" y="4505400"/>
            <a:ext cx="6336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43720" y="4545000"/>
            <a:ext cx="983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80600" y="3645000"/>
            <a:ext cx="146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85000" y="5089680"/>
            <a:ext cx="409680" cy="328320"/>
          </a:xfrm>
          <a:prstGeom prst="line">
            <a:avLst/>
          </a:prstGeom>
          <a:ln w="25560">
            <a:solidFill>
              <a:srgbClr val="a764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04080" y="3528720"/>
            <a:ext cx="252360" cy="4302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19760" y="48499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76401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a76401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77000" y="369720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30080" y="4316400"/>
            <a:ext cx="964800" cy="363240"/>
            <a:chOff x="1630080" y="4316400"/>
            <a:chExt cx="964800" cy="363240"/>
          </a:xfrm>
        </p:grpSpPr>
        <p:sp>
          <p:nvSpPr>
            <p:cNvPr id="210" name=""/>
            <p:cNvSpPr/>
            <p:nvPr/>
          </p:nvSpPr>
          <p:spPr>
            <a:xfrm>
              <a:off x="1963800" y="4344840"/>
              <a:ext cx="291960" cy="2923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30080" y="43164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224040" y="4768920"/>
            <a:ext cx="964800" cy="363240"/>
            <a:chOff x="6224040" y="4768920"/>
            <a:chExt cx="964800" cy="363240"/>
          </a:xfrm>
        </p:grpSpPr>
        <p:sp>
          <p:nvSpPr>
            <p:cNvPr id="213" name=""/>
            <p:cNvSpPr/>
            <p:nvPr/>
          </p:nvSpPr>
          <p:spPr>
            <a:xfrm>
              <a:off x="6559200" y="4797360"/>
              <a:ext cx="291960" cy="2923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24040" y="47689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76160" y="3906720"/>
            <a:ext cx="964800" cy="520920"/>
            <a:chOff x="6176160" y="3906720"/>
            <a:chExt cx="964800" cy="520920"/>
          </a:xfrm>
        </p:grpSpPr>
        <p:sp>
          <p:nvSpPr>
            <p:cNvPr id="216" name=""/>
            <p:cNvSpPr/>
            <p:nvPr/>
          </p:nvSpPr>
          <p:spPr>
            <a:xfrm>
              <a:off x="6421320" y="3906720"/>
              <a:ext cx="520560" cy="520920"/>
            </a:xfrm>
            <a:prstGeom prst="ellipse">
              <a:avLst/>
            </a:prstGeom>
            <a:solidFill>
              <a:srgbClr val="9498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6160" y="4016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13960" y="5294160"/>
            <a:ext cx="1332360" cy="363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84840" y="5902200"/>
            <a:ext cx="1219320" cy="363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54280" y="3368520"/>
            <a:ext cx="2806560" cy="18925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54600" y="3359160"/>
            <a:ext cx="1868400" cy="250200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دوبعدی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راکندگی هسته ا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5240" y="1671480"/>
            <a:ext cx="5227560" cy="4238640"/>
            <a:chOff x="615240" y="1671480"/>
            <a:chExt cx="5227560" cy="4238640"/>
          </a:xfrm>
        </p:grpSpPr>
        <p:sp>
          <p:nvSpPr>
            <p:cNvPr id="225" name=""/>
            <p:cNvSpPr/>
            <p:nvPr/>
          </p:nvSpPr>
          <p:spPr>
            <a:xfrm>
              <a:off x="3525840" y="5343120"/>
              <a:ext cx="291960" cy="231840"/>
            </a:xfrm>
            <a:prstGeom prst="line">
              <a:avLst/>
            </a:prstGeom>
            <a:ln w="25560">
              <a:solidFill>
                <a:srgbClr val="a764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38440" y="4162320"/>
              <a:ext cx="174600" cy="333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87600" y="5081400"/>
              <a:ext cx="99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a76401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a76401"/>
                  </a:solidFill>
                  <a:latin typeface="Arial"/>
                </a:rPr>
                <a:t>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43320" y="4284360"/>
              <a:ext cx="92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5119560"/>
              <a:ext cx="215640" cy="2142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73400" y="4454280"/>
              <a:ext cx="385920" cy="385920"/>
            </a:xfrm>
            <a:prstGeom prst="ellipse">
              <a:avLst/>
            </a:prstGeom>
            <a:solidFill>
              <a:srgbClr val="9498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068200" y="1671480"/>
              <a:ext cx="3206880" cy="1829880"/>
              <a:chOff x="2068200" y="1671480"/>
              <a:chExt cx="3206880" cy="1829880"/>
            </a:xfrm>
          </p:grpSpPr>
          <p:sp>
            <p:nvSpPr>
              <p:cNvPr id="232" name=""/>
              <p:cNvSpPr/>
              <p:nvPr/>
            </p:nvSpPr>
            <p:spPr>
              <a:xfrm>
                <a:off x="2738520" y="2518920"/>
                <a:ext cx="460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18480" y="2538000"/>
                <a:ext cx="983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p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i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124440" y="1865160"/>
                <a:ext cx="2150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afd00"/>
                    </a:solidFill>
                    <a:latin typeface="Arial"/>
                    <a:cs typeface="Arial"/>
                  </a:rPr>
                  <a:t>درحال سکون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06920" y="2172960"/>
                <a:ext cx="385560" cy="385920"/>
              </a:xfrm>
              <a:prstGeom prst="ellipse">
                <a:avLst/>
              </a:prstGeom>
              <a:solidFill>
                <a:srgbClr val="9498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55920" y="2401560"/>
                <a:ext cx="214200" cy="21420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76720" y="3138120"/>
                <a:ext cx="2341080" cy="363240"/>
              </a:xfrm>
              <a:prstGeom prst="rect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a-IR" sz="2000" spc="-1" strike="noStrike">
                    <a:solidFill>
                      <a:srgbClr val="00ff00"/>
                    </a:solidFill>
                    <a:latin typeface="Arial"/>
                    <a:cs typeface="Arial"/>
                  </a:rPr>
                  <a:t>حالت ابتدایی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98600" y="1671480"/>
                <a:ext cx="2094120" cy="1411200"/>
              </a:xfrm>
              <a:prstGeom prst="rect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68200" y="259992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17480" y="257148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661560" y="5527440"/>
              <a:ext cx="2181240" cy="36324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حالت نهای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2560" y="4044600"/>
              <a:ext cx="1392480" cy="186552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15240" y="1895040"/>
              <a:ext cx="1490400" cy="1123920"/>
              <a:chOff x="615240" y="1895040"/>
              <a:chExt cx="1490400" cy="1123920"/>
            </a:xfrm>
          </p:grpSpPr>
          <p:sp>
            <p:nvSpPr>
              <p:cNvPr id="244" name=""/>
              <p:cNvSpPr/>
              <p:nvPr/>
            </p:nvSpPr>
            <p:spPr>
              <a:xfrm>
                <a:off x="1220400" y="2006280"/>
                <a:ext cx="0" cy="5828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34800" y="2601720"/>
                <a:ext cx="50616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5240" y="189504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24360" y="26557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3041640" y="1844640"/>
            <a:ext cx="56530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قادیر زیر را می دانیم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fe9b03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مقادیر را می خواهیم پیدا کن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ه معادله داری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ی تکانه در راست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ی تکانه در راست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بودن انرژی ک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0040" y="592920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ی توانیم مسئله را حل کن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25880" y="6002280"/>
            <a:ext cx="3465720" cy="3542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جنبی : انرژی جنبش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17960" y="2401920"/>
            <a:ext cx="47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را می توان برحسب تکانه بیان ک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55920" y="3157560"/>
            <a:ext cx="129672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i="1" lang="en-US" sz="2000" spc="-1" strike="noStrike" baseline="30000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092560" y="4697280"/>
          <a:ext cx="1016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2560" y="4697280"/>
                    <a:ext cx="1016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3772080" y="4809960"/>
            <a:ext cx="457200" cy="408240"/>
          </a:xfrm>
          <a:prstGeom prst="rightArrow">
            <a:avLst>
              <a:gd name="adj1" fmla="val 50000"/>
              <a:gd name="adj2" fmla="val 2799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8640" y="4184640"/>
            <a:ext cx="618840" cy="1440"/>
          </a:xfrm>
          <a:prstGeom prst="line">
            <a:avLst/>
          </a:prstGeom>
          <a:ln w="64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5840" y="421308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90320" y="4213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94800" y="3860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72600" y="386064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59680" y="383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01200" y="383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0960" y="39924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843200" y="4689360"/>
                <a:ext cx="1104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2379240" y="465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03440" y="2279520"/>
            <a:ext cx="4502160" cy="730440"/>
          </a:xfrm>
          <a:prstGeom prst="bevel">
            <a:avLst>
              <a:gd name="adj" fmla="val 12500"/>
            </a:avLst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دوبعدی : پراکندگی هسته ا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53080" cy="2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1000"/>
          </a:bodyPr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پایستاربودن تکان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a76401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a76401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a764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1760" indent="-478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                 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a76401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a76401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a764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4280" y="1378080"/>
            <a:ext cx="1797120" cy="1011960"/>
            <a:chOff x="1214280" y="1378080"/>
            <a:chExt cx="1797120" cy="1011960"/>
          </a:xfrm>
        </p:grpSpPr>
        <p:sp>
          <p:nvSpPr>
            <p:cNvPr id="274" name=""/>
            <p:cNvSpPr/>
            <p:nvPr/>
          </p:nvSpPr>
          <p:spPr>
            <a:xfrm>
              <a:off x="1671480" y="1968480"/>
              <a:ext cx="8856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80040" y="1989360"/>
              <a:ext cx="98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618920" y="1487160"/>
              <a:ext cx="405000" cy="5065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76120" y="1538280"/>
              <a:ext cx="480960" cy="405000"/>
            </a:xfrm>
            <a:prstGeom prst="line">
              <a:avLst/>
            </a:prstGeom>
            <a:ln w="25560">
              <a:solidFill>
                <a:srgbClr val="a764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4280" y="1432080"/>
              <a:ext cx="92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20320" y="1378080"/>
              <a:ext cx="99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a76401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a76401"/>
                  </a:solidFill>
                  <a:latin typeface="Arial"/>
                </a:rPr>
                <a:t>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325520" y="3111480"/>
            <a:ext cx="1792800" cy="710280"/>
            <a:chOff x="1325520" y="3111480"/>
            <a:chExt cx="1792800" cy="710280"/>
          </a:xfrm>
        </p:grpSpPr>
        <p:sp>
          <p:nvSpPr>
            <p:cNvPr id="281" name=""/>
            <p:cNvSpPr/>
            <p:nvPr/>
          </p:nvSpPr>
          <p:spPr>
            <a:xfrm>
              <a:off x="1325520" y="3484440"/>
              <a:ext cx="39060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21040" y="3484440"/>
              <a:ext cx="39024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87760" y="3484440"/>
              <a:ext cx="40644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2360" y="3159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45480" y="3516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9920" y="3159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76401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39200" y="3516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06840" y="31622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05920" y="3516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57000" y="3289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7520" y="3289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a76401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5720" y="3112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70880" y="311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53440" y="3116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6000" y="3516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79720" y="3516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7880" y="3516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41400" y="329724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87240" y="32972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268880" y="3119400"/>
            <a:ext cx="2405520" cy="710280"/>
            <a:chOff x="4268880" y="3119400"/>
            <a:chExt cx="2405520" cy="710280"/>
          </a:xfrm>
        </p:grpSpPr>
        <p:sp>
          <p:nvSpPr>
            <p:cNvPr id="301" name=""/>
            <p:cNvSpPr/>
            <p:nvPr/>
          </p:nvSpPr>
          <p:spPr>
            <a:xfrm>
              <a:off x="5442120" y="3492360"/>
              <a:ext cx="39204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08840" y="3492360"/>
              <a:ext cx="39204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68880" y="3330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25320" y="33307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38960" y="316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62080" y="35244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49520" y="316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76401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8800" y="35244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73240" y="3297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95320" y="32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a76401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17280" y="328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1960" y="312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868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67280" y="3330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02240" y="3524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68960" y="3524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41560" y="33051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03720" y="33051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91720" y="31194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91720" y="35193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91720" y="331632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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86920" y="31194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86920" y="35193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86920" y="331632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511440" y="3282840"/>
            <a:ext cx="444600" cy="368280"/>
          </a:xfrm>
          <a:prstGeom prst="rightArrow">
            <a:avLst>
              <a:gd name="adj1" fmla="val 50000"/>
              <a:gd name="adj2" fmla="val 60378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90520" y="2749680"/>
            <a:ext cx="491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پایستاربودن انرژی جنبسش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89200" y="4543560"/>
            <a:ext cx="6816240" cy="1643040"/>
            <a:chOff x="889200" y="4543560"/>
            <a:chExt cx="6816240" cy="1643040"/>
          </a:xfrm>
        </p:grpSpPr>
        <p:grpSp>
          <p:nvGrpSpPr>
            <p:cNvPr id="328" name=""/>
            <p:cNvGrpSpPr/>
            <p:nvPr/>
          </p:nvGrpSpPr>
          <p:grpSpPr>
            <a:xfrm>
              <a:off x="2943000" y="4543560"/>
              <a:ext cx="1618560" cy="418320"/>
              <a:chOff x="2943000" y="4543560"/>
              <a:chExt cx="1618560" cy="418320"/>
            </a:xfrm>
          </p:grpSpPr>
          <p:sp>
            <p:nvSpPr>
              <p:cNvPr id="329" name=""/>
              <p:cNvSpPr/>
              <p:nvPr/>
            </p:nvSpPr>
            <p:spPr>
              <a:xfrm>
                <a:off x="3521520" y="4543560"/>
                <a:ext cx="124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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67880" y="4543560"/>
                <a:ext cx="124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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000" y="46227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900" spc="-1" strike="noStrike">
                    <a:solidFill>
                      <a:srgbClr val="00ffff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82520" y="47484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63120" y="47484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a76401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33080" y="457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61840" y="455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03360" y="4597560"/>
                <a:ext cx="192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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39840" y="4597560"/>
                <a:ext cx="81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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25200" y="46227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fafd00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4720" y="46227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a76401"/>
                    </a:solidFill>
                    <a:latin typeface="Arial"/>
                  </a:rPr>
                  <a:t>p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889200" y="4576680"/>
              <a:ext cx="2309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با استفاده از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52480" y="4965840"/>
              <a:ext cx="2010600" cy="835200"/>
              <a:chOff x="5352480" y="4965840"/>
              <a:chExt cx="2010600" cy="835200"/>
            </a:xfrm>
          </p:grpSpPr>
          <p:sp>
            <p:nvSpPr>
              <p:cNvPr id="342" name=""/>
              <p:cNvSpPr/>
              <p:nvPr/>
            </p:nvSpPr>
            <p:spPr>
              <a:xfrm>
                <a:off x="6179040" y="4965840"/>
                <a:ext cx="124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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26840" y="4965840"/>
                <a:ext cx="124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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88040" y="5381640"/>
                <a:ext cx="1074600" cy="1440"/>
              </a:xfrm>
              <a:prstGeom prst="line">
                <a:avLst/>
              </a:prstGeom>
              <a:ln w="64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52480" y="521640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49280" y="521640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15840" y="543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47920" y="543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76401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41480" y="517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22080" y="517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a76401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67040" y="55609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998400" y="55609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14920" y="5192640"/>
                <a:ext cx="20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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00240" y="502128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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83040" y="540720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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93720" y="497700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93720" y="549576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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93720" y="522144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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93720" y="545472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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90720" y="497700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90720" y="549576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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90720" y="522144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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90720" y="5454720"/>
                <a:ext cx="7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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82720" y="5045040"/>
                <a:ext cx="15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64040" y="5045040"/>
                <a:ext cx="15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a76401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22240" y="498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74600" y="5386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06680" y="5386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5064120" y="4611600"/>
              <a:ext cx="2641320" cy="1575000"/>
            </a:xfrm>
            <a:prstGeom prst="roundRect">
              <a:avLst>
                <a:gd name="adj" fmla="val 12486"/>
              </a:avLst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0760" y="5138640"/>
              <a:ext cx="1739880" cy="444600"/>
            </a:xfrm>
            <a:prstGeom prst="rightArrow">
              <a:avLst>
                <a:gd name="adj1" fmla="val 50000"/>
                <a:gd name="adj2" fmla="val 195722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برخورد کشسان در د و بعد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188640" indent="-1886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متحرکی در جهت نشان داده شده در شکل زیر حرکت می کند و با توپ مشابهی برخورد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15084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 جهت این توپ های برخورد کننده را چگونه پیش بینی می کنید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27000" y="4711680"/>
            <a:ext cx="1778040" cy="723960"/>
            <a:chOff x="927000" y="4711680"/>
            <a:chExt cx="1778040" cy="723960"/>
          </a:xfrm>
        </p:grpSpPr>
        <p:sp>
          <p:nvSpPr>
            <p:cNvPr id="374" name=""/>
            <p:cNvSpPr/>
            <p:nvPr/>
          </p:nvSpPr>
          <p:spPr>
            <a:xfrm>
              <a:off x="198108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700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08360" y="4711680"/>
            <a:ext cx="1778040" cy="723960"/>
            <a:chOff x="3708360" y="4711680"/>
            <a:chExt cx="1778040" cy="723960"/>
          </a:xfrm>
        </p:grpSpPr>
        <p:sp>
          <p:nvSpPr>
            <p:cNvPr id="377" name=""/>
            <p:cNvSpPr/>
            <p:nvPr/>
          </p:nvSpPr>
          <p:spPr>
            <a:xfrm>
              <a:off x="476244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0836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13400" y="4711680"/>
            <a:ext cx="1778040" cy="723960"/>
            <a:chOff x="6413400" y="4711680"/>
            <a:chExt cx="1778040" cy="723960"/>
          </a:xfrm>
        </p:grpSpPr>
        <p:sp>
          <p:nvSpPr>
            <p:cNvPr id="380" name=""/>
            <p:cNvSpPr/>
            <p:nvPr/>
          </p:nvSpPr>
          <p:spPr>
            <a:xfrm>
              <a:off x="746748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13400" y="47116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811680" y="2886120"/>
            <a:ext cx="723960" cy="723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67360" y="3241800"/>
            <a:ext cx="20923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6840" y="429264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36760" y="5079960"/>
            <a:ext cx="4680" cy="743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116680" y="4511160"/>
            <a:ext cx="671400" cy="606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743880" y="4374720"/>
            <a:ext cx="660240" cy="692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70080" y="4584240"/>
            <a:ext cx="463320" cy="482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69880" y="5410080"/>
            <a:ext cx="8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59680" y="3119400"/>
            <a:ext cx="723600" cy="723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35760" y="5067360"/>
            <a:ext cx="662040" cy="5936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441600" y="4476600"/>
            <a:ext cx="627120" cy="570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68400" indent="-6840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گزین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زاویه بین توپ ه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fa-I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fa-I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-6840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گزین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هیچ مولف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مولفه ه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به سمت بالا را خنثی کند وجود ن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373040" y="2274840"/>
            <a:ext cx="1778040" cy="723960"/>
            <a:chOff x="1373040" y="2274840"/>
            <a:chExt cx="1778040" cy="723960"/>
          </a:xfrm>
        </p:grpSpPr>
        <p:sp>
          <p:nvSpPr>
            <p:cNvPr id="396" name=""/>
            <p:cNvSpPr/>
            <p:nvPr/>
          </p:nvSpPr>
          <p:spPr>
            <a:xfrm>
              <a:off x="2427120" y="227484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3040" y="227484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782800" y="2643120"/>
            <a:ext cx="4680" cy="743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16120" y="2147400"/>
            <a:ext cx="463680" cy="482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64000" y="2616120"/>
            <a:ext cx="4680" cy="743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462560" y="2133720"/>
            <a:ext cx="463320" cy="48240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506600" y="4699080"/>
            <a:ext cx="1778040" cy="723960"/>
            <a:chOff x="1506600" y="4699080"/>
            <a:chExt cx="1778040" cy="723960"/>
          </a:xfrm>
        </p:grpSpPr>
        <p:sp>
          <p:nvSpPr>
            <p:cNvPr id="403" name=""/>
            <p:cNvSpPr/>
            <p:nvPr/>
          </p:nvSpPr>
          <p:spPr>
            <a:xfrm>
              <a:off x="2560680" y="46990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06600" y="46990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V="1">
            <a:off x="2914560" y="4498560"/>
            <a:ext cx="671760" cy="606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239840" y="4463640"/>
            <a:ext cx="627120" cy="569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527800" y="4602240"/>
            <a:ext cx="658800" cy="6681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905360" y="4716000"/>
            <a:ext cx="627120" cy="569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9000"/>
          </a:bodyPr>
          <a:p>
            <a:pPr marL="54000" indent="-5400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گزین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ولفه ه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دیگر را خنثی می کنندو زاو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ن بردارهای نهایی وجود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گزین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عیارهای برای پاسخ درست را دربر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63560" y="2855880"/>
            <a:ext cx="1778040" cy="723960"/>
            <a:chOff x="1663560" y="2855880"/>
            <a:chExt cx="1778040" cy="723960"/>
          </a:xfrm>
        </p:grpSpPr>
        <p:sp>
          <p:nvSpPr>
            <p:cNvPr id="412" name=""/>
            <p:cNvSpPr/>
            <p:nvPr/>
          </p:nvSpPr>
          <p:spPr>
            <a:xfrm>
              <a:off x="2717640" y="28558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63560" y="2855880"/>
              <a:ext cx="723960" cy="72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 flipV="1">
            <a:off x="1994040" y="2518920"/>
            <a:ext cx="660240" cy="692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86280" y="3211560"/>
            <a:ext cx="599760" cy="6681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678640" y="2495160"/>
            <a:ext cx="660240" cy="692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70720" y="3198960"/>
            <a:ext cx="650880" cy="618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 flipV="1">
            <a:off x="7066080" y="2522520"/>
            <a:ext cx="258480" cy="349200"/>
          </a:xfrm>
          <a:prstGeom prst="line">
            <a:avLst/>
          </a:prstGeom>
          <a:ln w="25560">
            <a:solidFill>
              <a:srgbClr val="a764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29360" y="2401560"/>
            <a:ext cx="1287360" cy="1695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قیاس زمانی“ برخور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ها معمولا در زمان بسیارکوتاهی صورت می گیر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62400" y="3276720"/>
            <a:ext cx="752400" cy="75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71880" y="3728880"/>
            <a:ext cx="757440" cy="75744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92560" y="277344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76401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a76401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2880" y="3276720"/>
            <a:ext cx="752400" cy="75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14480" y="3728880"/>
            <a:ext cx="757440" cy="75744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22280" y="3657600"/>
            <a:ext cx="6336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76760" y="3179880"/>
            <a:ext cx="96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94400" y="4351320"/>
            <a:ext cx="252360" cy="176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16400" y="451800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36960" y="3112920"/>
            <a:ext cx="2766960" cy="2068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61280" y="2793960"/>
            <a:ext cx="752400" cy="75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08640" y="4033800"/>
            <a:ext cx="757440" cy="75744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20000" y="446076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37280" y="4691160"/>
            <a:ext cx="395280" cy="2840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7240" y="5016600"/>
            <a:ext cx="208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حالت ابتد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46120" y="5016600"/>
            <a:ext cx="200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حالت نهایی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58080" y="3929040"/>
            <a:ext cx="1598400" cy="1247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10480" y="5450040"/>
            <a:ext cx="69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وتوب به مدت زمان بسیار کوتاهی با هم تماس پیدامی کنند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9680000">
            <a:off x="3395880" y="4042800"/>
            <a:ext cx="1803240" cy="166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427" swAng="5387374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427" swAng="5387374"/>
              </a:path>
            </a:pathLst>
          </a:custGeom>
          <a:noFill/>
          <a:ln cap="rnd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344800">
            <a:off x="6211440" y="3929040"/>
            <a:ext cx="190440" cy="16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قیاس زمانی“ برخور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مدت زمان برخورد نیروهای برخورد بسیار بزرگی رد وبدل می ش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44560" y="3282840"/>
            <a:ext cx="1362240" cy="1282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68440" y="3511440"/>
            <a:ext cx="1362240" cy="11304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16360" y="3664080"/>
            <a:ext cx="1511280" cy="9777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2880" y="3511440"/>
            <a:ext cx="1361880" cy="11304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16760" y="3282840"/>
            <a:ext cx="1362240" cy="1282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467532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467532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4675320"/>
            <a:ext cx="0" cy="124272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23880" y="3989520"/>
            <a:ext cx="0" cy="556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3379680"/>
            <a:ext cx="0" cy="55728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48120" y="4141800"/>
            <a:ext cx="0" cy="328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72200" y="3760920"/>
            <a:ext cx="0" cy="3283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9120" y="4648320"/>
            <a:ext cx="7719840" cy="0"/>
          </a:xfrm>
          <a:prstGeom prst="line">
            <a:avLst/>
          </a:prstGeom>
          <a:ln w="2556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77480" y="2874960"/>
            <a:ext cx="905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03880" y="3027240"/>
            <a:ext cx="94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50760" y="2874960"/>
            <a:ext cx="94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26520" y="3103560"/>
            <a:ext cx="94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26320" y="3179880"/>
            <a:ext cx="94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6200" y="2895480"/>
            <a:ext cx="31734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19120" y="257004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77840" y="34830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27920" y="37116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50560" y="409248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97000" y="3940200"/>
            <a:ext cx="139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50760" y="39402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7920" y="523548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52160" y="59976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50560" y="523548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c0000"/>
                </a:solidFill>
                <a:latin typeface="Arial"/>
                <a:cs typeface="Arial"/>
              </a:rPr>
              <a:t>نیرو و تکان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908760" y="3244680"/>
            <a:ext cx="10789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216840" y="3629160"/>
            <a:ext cx="675720" cy="1285560"/>
            <a:chOff x="6216840" y="3629160"/>
            <a:chExt cx="675720" cy="1285560"/>
          </a:xfrm>
        </p:grpSpPr>
        <p:sp>
          <p:nvSpPr>
            <p:cNvPr id="479" name=""/>
            <p:cNvSpPr/>
            <p:nvPr/>
          </p:nvSpPr>
          <p:spPr>
            <a:xfrm>
              <a:off x="6216840" y="3629160"/>
              <a:ext cx="67248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19720" y="3629160"/>
              <a:ext cx="67284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512" swAng="5375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512" swAng="5375296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098680" y="3244680"/>
            <a:ext cx="10796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334120" y="2890800"/>
            <a:ext cx="0" cy="25639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6680" y="277812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53040" y="50641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76840" y="4229280"/>
            <a:ext cx="1805040" cy="992160"/>
          </a:xfrm>
          <a:custGeom>
            <a:avLst/>
            <a:gdLst/>
            <a:ahLst/>
            <a:rect l="l" t="t" r="r" b="b"/>
            <a:pathLst>
              <a:path w="1137" h="625">
                <a:moveTo>
                  <a:pt x="320" y="0"/>
                </a:moveTo>
                <a:lnTo>
                  <a:pt x="328" y="12"/>
                </a:lnTo>
                <a:lnTo>
                  <a:pt x="324" y="24"/>
                </a:lnTo>
                <a:lnTo>
                  <a:pt x="324" y="36"/>
                </a:lnTo>
                <a:lnTo>
                  <a:pt x="324" y="48"/>
                </a:lnTo>
                <a:lnTo>
                  <a:pt x="324" y="60"/>
                </a:lnTo>
                <a:lnTo>
                  <a:pt x="320" y="72"/>
                </a:lnTo>
                <a:lnTo>
                  <a:pt x="320" y="84"/>
                </a:lnTo>
                <a:lnTo>
                  <a:pt x="320" y="96"/>
                </a:lnTo>
                <a:lnTo>
                  <a:pt x="320" y="108"/>
                </a:lnTo>
                <a:lnTo>
                  <a:pt x="320" y="120"/>
                </a:lnTo>
                <a:lnTo>
                  <a:pt x="316" y="132"/>
                </a:lnTo>
                <a:lnTo>
                  <a:pt x="316" y="144"/>
                </a:lnTo>
                <a:lnTo>
                  <a:pt x="312" y="156"/>
                </a:lnTo>
                <a:lnTo>
                  <a:pt x="308" y="168"/>
                </a:lnTo>
                <a:lnTo>
                  <a:pt x="308" y="180"/>
                </a:lnTo>
                <a:lnTo>
                  <a:pt x="308" y="192"/>
                </a:lnTo>
                <a:lnTo>
                  <a:pt x="308" y="204"/>
                </a:lnTo>
                <a:lnTo>
                  <a:pt x="304" y="216"/>
                </a:lnTo>
                <a:lnTo>
                  <a:pt x="304" y="228"/>
                </a:lnTo>
                <a:lnTo>
                  <a:pt x="300" y="240"/>
                </a:lnTo>
                <a:lnTo>
                  <a:pt x="300" y="252"/>
                </a:lnTo>
                <a:lnTo>
                  <a:pt x="292" y="264"/>
                </a:lnTo>
                <a:lnTo>
                  <a:pt x="288" y="276"/>
                </a:lnTo>
                <a:lnTo>
                  <a:pt x="288" y="288"/>
                </a:lnTo>
                <a:lnTo>
                  <a:pt x="284" y="300"/>
                </a:lnTo>
                <a:lnTo>
                  <a:pt x="284" y="312"/>
                </a:lnTo>
                <a:lnTo>
                  <a:pt x="276" y="324"/>
                </a:lnTo>
                <a:lnTo>
                  <a:pt x="272" y="336"/>
                </a:lnTo>
                <a:lnTo>
                  <a:pt x="268" y="348"/>
                </a:lnTo>
                <a:lnTo>
                  <a:pt x="264" y="360"/>
                </a:lnTo>
                <a:lnTo>
                  <a:pt x="256" y="372"/>
                </a:lnTo>
                <a:lnTo>
                  <a:pt x="252" y="384"/>
                </a:lnTo>
                <a:lnTo>
                  <a:pt x="244" y="396"/>
                </a:lnTo>
                <a:lnTo>
                  <a:pt x="240" y="408"/>
                </a:lnTo>
                <a:lnTo>
                  <a:pt x="236" y="420"/>
                </a:lnTo>
                <a:lnTo>
                  <a:pt x="232" y="432"/>
                </a:lnTo>
                <a:lnTo>
                  <a:pt x="224" y="444"/>
                </a:lnTo>
                <a:lnTo>
                  <a:pt x="216" y="456"/>
                </a:lnTo>
                <a:lnTo>
                  <a:pt x="208" y="468"/>
                </a:lnTo>
                <a:lnTo>
                  <a:pt x="200" y="480"/>
                </a:lnTo>
                <a:lnTo>
                  <a:pt x="192" y="492"/>
                </a:lnTo>
                <a:lnTo>
                  <a:pt x="184" y="504"/>
                </a:lnTo>
                <a:lnTo>
                  <a:pt x="172" y="512"/>
                </a:lnTo>
                <a:lnTo>
                  <a:pt x="164" y="524"/>
                </a:lnTo>
                <a:lnTo>
                  <a:pt x="156" y="536"/>
                </a:lnTo>
                <a:lnTo>
                  <a:pt x="156" y="548"/>
                </a:lnTo>
                <a:lnTo>
                  <a:pt x="144" y="552"/>
                </a:lnTo>
                <a:lnTo>
                  <a:pt x="156" y="540"/>
                </a:lnTo>
                <a:lnTo>
                  <a:pt x="144" y="540"/>
                </a:lnTo>
                <a:lnTo>
                  <a:pt x="132" y="548"/>
                </a:lnTo>
                <a:lnTo>
                  <a:pt x="120" y="556"/>
                </a:lnTo>
                <a:lnTo>
                  <a:pt x="112" y="568"/>
                </a:lnTo>
                <a:lnTo>
                  <a:pt x="100" y="572"/>
                </a:lnTo>
                <a:lnTo>
                  <a:pt x="88" y="576"/>
                </a:lnTo>
                <a:lnTo>
                  <a:pt x="80" y="588"/>
                </a:lnTo>
                <a:lnTo>
                  <a:pt x="68" y="588"/>
                </a:lnTo>
                <a:lnTo>
                  <a:pt x="60" y="600"/>
                </a:lnTo>
                <a:lnTo>
                  <a:pt x="48" y="604"/>
                </a:lnTo>
                <a:lnTo>
                  <a:pt x="36" y="608"/>
                </a:lnTo>
                <a:lnTo>
                  <a:pt x="24" y="616"/>
                </a:lnTo>
                <a:lnTo>
                  <a:pt x="12" y="620"/>
                </a:lnTo>
                <a:lnTo>
                  <a:pt x="0" y="620"/>
                </a:lnTo>
                <a:lnTo>
                  <a:pt x="1136" y="620"/>
                </a:lnTo>
                <a:lnTo>
                  <a:pt x="1136" y="624"/>
                </a:lnTo>
                <a:lnTo>
                  <a:pt x="1124" y="620"/>
                </a:lnTo>
                <a:lnTo>
                  <a:pt x="1112" y="620"/>
                </a:lnTo>
                <a:lnTo>
                  <a:pt x="1100" y="620"/>
                </a:lnTo>
                <a:lnTo>
                  <a:pt x="1088" y="616"/>
                </a:lnTo>
                <a:lnTo>
                  <a:pt x="1076" y="608"/>
                </a:lnTo>
                <a:lnTo>
                  <a:pt x="1064" y="604"/>
                </a:lnTo>
                <a:lnTo>
                  <a:pt x="1052" y="604"/>
                </a:lnTo>
                <a:lnTo>
                  <a:pt x="1040" y="600"/>
                </a:lnTo>
                <a:lnTo>
                  <a:pt x="1028" y="596"/>
                </a:lnTo>
                <a:lnTo>
                  <a:pt x="1016" y="588"/>
                </a:lnTo>
                <a:lnTo>
                  <a:pt x="1004" y="580"/>
                </a:lnTo>
                <a:lnTo>
                  <a:pt x="992" y="572"/>
                </a:lnTo>
                <a:lnTo>
                  <a:pt x="980" y="564"/>
                </a:lnTo>
                <a:lnTo>
                  <a:pt x="968" y="556"/>
                </a:lnTo>
                <a:lnTo>
                  <a:pt x="960" y="544"/>
                </a:lnTo>
                <a:lnTo>
                  <a:pt x="948" y="536"/>
                </a:lnTo>
                <a:lnTo>
                  <a:pt x="940" y="524"/>
                </a:lnTo>
                <a:lnTo>
                  <a:pt x="928" y="520"/>
                </a:lnTo>
                <a:lnTo>
                  <a:pt x="920" y="508"/>
                </a:lnTo>
                <a:lnTo>
                  <a:pt x="912" y="496"/>
                </a:lnTo>
                <a:lnTo>
                  <a:pt x="904" y="484"/>
                </a:lnTo>
                <a:lnTo>
                  <a:pt x="900" y="472"/>
                </a:lnTo>
                <a:lnTo>
                  <a:pt x="896" y="460"/>
                </a:lnTo>
                <a:lnTo>
                  <a:pt x="888" y="448"/>
                </a:lnTo>
                <a:lnTo>
                  <a:pt x="884" y="436"/>
                </a:lnTo>
                <a:lnTo>
                  <a:pt x="876" y="424"/>
                </a:lnTo>
                <a:lnTo>
                  <a:pt x="868" y="412"/>
                </a:lnTo>
                <a:lnTo>
                  <a:pt x="860" y="400"/>
                </a:lnTo>
                <a:lnTo>
                  <a:pt x="852" y="388"/>
                </a:lnTo>
                <a:lnTo>
                  <a:pt x="848" y="376"/>
                </a:lnTo>
                <a:lnTo>
                  <a:pt x="844" y="364"/>
                </a:lnTo>
                <a:lnTo>
                  <a:pt x="840" y="352"/>
                </a:lnTo>
                <a:lnTo>
                  <a:pt x="836" y="340"/>
                </a:lnTo>
                <a:lnTo>
                  <a:pt x="832" y="328"/>
                </a:lnTo>
                <a:lnTo>
                  <a:pt x="828" y="316"/>
                </a:lnTo>
                <a:lnTo>
                  <a:pt x="824" y="304"/>
                </a:lnTo>
                <a:lnTo>
                  <a:pt x="820" y="292"/>
                </a:lnTo>
                <a:lnTo>
                  <a:pt x="812" y="280"/>
                </a:lnTo>
                <a:lnTo>
                  <a:pt x="808" y="268"/>
                </a:lnTo>
                <a:lnTo>
                  <a:pt x="808" y="256"/>
                </a:lnTo>
                <a:lnTo>
                  <a:pt x="804" y="244"/>
                </a:lnTo>
                <a:lnTo>
                  <a:pt x="800" y="232"/>
                </a:lnTo>
                <a:lnTo>
                  <a:pt x="800" y="220"/>
                </a:lnTo>
                <a:lnTo>
                  <a:pt x="800" y="208"/>
                </a:lnTo>
                <a:lnTo>
                  <a:pt x="796" y="196"/>
                </a:lnTo>
                <a:lnTo>
                  <a:pt x="796" y="184"/>
                </a:lnTo>
                <a:lnTo>
                  <a:pt x="792" y="172"/>
                </a:lnTo>
                <a:lnTo>
                  <a:pt x="792" y="160"/>
                </a:lnTo>
                <a:lnTo>
                  <a:pt x="792" y="148"/>
                </a:lnTo>
                <a:lnTo>
                  <a:pt x="788" y="136"/>
                </a:lnTo>
                <a:lnTo>
                  <a:pt x="784" y="124"/>
                </a:lnTo>
                <a:lnTo>
                  <a:pt x="784" y="112"/>
                </a:lnTo>
                <a:lnTo>
                  <a:pt x="784" y="100"/>
                </a:lnTo>
                <a:lnTo>
                  <a:pt x="780" y="88"/>
                </a:lnTo>
                <a:lnTo>
                  <a:pt x="780" y="76"/>
                </a:lnTo>
                <a:lnTo>
                  <a:pt x="780" y="64"/>
                </a:lnTo>
                <a:lnTo>
                  <a:pt x="780" y="52"/>
                </a:lnTo>
                <a:lnTo>
                  <a:pt x="780" y="40"/>
                </a:lnTo>
                <a:lnTo>
                  <a:pt x="776" y="28"/>
                </a:lnTo>
                <a:lnTo>
                  <a:pt x="776" y="16"/>
                </a:lnTo>
                <a:lnTo>
                  <a:pt x="776" y="4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57760" y="536724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536724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05440" y="5467320"/>
            <a:ext cx="6876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81520" y="5467320"/>
            <a:ext cx="6876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47000" y="561672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12520" y="563580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998720" y="3724200"/>
                <a:ext cx="1144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6100200" y="531180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نمودار زیر تغییر نیرو را برحسب زمان برخورد مشاهده می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داری است که به صورت انتگرال  نیرو در برخوردبه شکل زیر  تعریف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69440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48360" y="469440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543720" y="3641760"/>
            <a:ext cx="0" cy="15336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19560" y="5224320"/>
            <a:ext cx="3021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4560" y="4707000"/>
            <a:ext cx="401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کان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طح زیراین  منحن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755880" y="4051080"/>
            <a:ext cx="2386080" cy="618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06480" y="3613320"/>
            <a:ext cx="1559160" cy="631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2960" y="5675400"/>
            <a:ext cx="355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 دارای یکای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s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69840" y="5613480"/>
            <a:ext cx="3165480" cy="506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08760" y="3244680"/>
            <a:ext cx="10789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216840" y="3629160"/>
            <a:ext cx="675720" cy="1285560"/>
            <a:chOff x="6216840" y="3629160"/>
            <a:chExt cx="675720" cy="1285560"/>
          </a:xfrm>
        </p:grpSpPr>
        <p:sp>
          <p:nvSpPr>
            <p:cNvPr id="509" name=""/>
            <p:cNvSpPr/>
            <p:nvPr/>
          </p:nvSpPr>
          <p:spPr>
            <a:xfrm>
              <a:off x="6216840" y="3629160"/>
              <a:ext cx="67248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9720" y="3629160"/>
              <a:ext cx="67284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512" swAng="5375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512" swAng="5375296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98680" y="3244680"/>
            <a:ext cx="10796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2890800"/>
            <a:ext cx="0" cy="25639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33880" y="277956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853040" y="50641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76840" y="4229280"/>
            <a:ext cx="1805040" cy="992160"/>
          </a:xfrm>
          <a:custGeom>
            <a:avLst/>
            <a:gdLst/>
            <a:ahLst/>
            <a:rect l="l" t="t" r="r" b="b"/>
            <a:pathLst>
              <a:path w="1137" h="625">
                <a:moveTo>
                  <a:pt x="320" y="0"/>
                </a:moveTo>
                <a:lnTo>
                  <a:pt x="328" y="12"/>
                </a:lnTo>
                <a:lnTo>
                  <a:pt x="324" y="24"/>
                </a:lnTo>
                <a:lnTo>
                  <a:pt x="324" y="36"/>
                </a:lnTo>
                <a:lnTo>
                  <a:pt x="324" y="48"/>
                </a:lnTo>
                <a:lnTo>
                  <a:pt x="324" y="60"/>
                </a:lnTo>
                <a:lnTo>
                  <a:pt x="320" y="72"/>
                </a:lnTo>
                <a:lnTo>
                  <a:pt x="320" y="84"/>
                </a:lnTo>
                <a:lnTo>
                  <a:pt x="320" y="96"/>
                </a:lnTo>
                <a:lnTo>
                  <a:pt x="320" y="108"/>
                </a:lnTo>
                <a:lnTo>
                  <a:pt x="320" y="120"/>
                </a:lnTo>
                <a:lnTo>
                  <a:pt x="316" y="132"/>
                </a:lnTo>
                <a:lnTo>
                  <a:pt x="316" y="144"/>
                </a:lnTo>
                <a:lnTo>
                  <a:pt x="312" y="156"/>
                </a:lnTo>
                <a:lnTo>
                  <a:pt x="308" y="168"/>
                </a:lnTo>
                <a:lnTo>
                  <a:pt x="308" y="180"/>
                </a:lnTo>
                <a:lnTo>
                  <a:pt x="308" y="192"/>
                </a:lnTo>
                <a:lnTo>
                  <a:pt x="308" y="204"/>
                </a:lnTo>
                <a:lnTo>
                  <a:pt x="304" y="216"/>
                </a:lnTo>
                <a:lnTo>
                  <a:pt x="304" y="228"/>
                </a:lnTo>
                <a:lnTo>
                  <a:pt x="300" y="240"/>
                </a:lnTo>
                <a:lnTo>
                  <a:pt x="300" y="252"/>
                </a:lnTo>
                <a:lnTo>
                  <a:pt x="292" y="264"/>
                </a:lnTo>
                <a:lnTo>
                  <a:pt x="288" y="276"/>
                </a:lnTo>
                <a:lnTo>
                  <a:pt x="288" y="288"/>
                </a:lnTo>
                <a:lnTo>
                  <a:pt x="284" y="300"/>
                </a:lnTo>
                <a:lnTo>
                  <a:pt x="284" y="312"/>
                </a:lnTo>
                <a:lnTo>
                  <a:pt x="276" y="324"/>
                </a:lnTo>
                <a:lnTo>
                  <a:pt x="272" y="336"/>
                </a:lnTo>
                <a:lnTo>
                  <a:pt x="268" y="348"/>
                </a:lnTo>
                <a:lnTo>
                  <a:pt x="264" y="360"/>
                </a:lnTo>
                <a:lnTo>
                  <a:pt x="256" y="372"/>
                </a:lnTo>
                <a:lnTo>
                  <a:pt x="252" y="384"/>
                </a:lnTo>
                <a:lnTo>
                  <a:pt x="244" y="396"/>
                </a:lnTo>
                <a:lnTo>
                  <a:pt x="240" y="408"/>
                </a:lnTo>
                <a:lnTo>
                  <a:pt x="236" y="420"/>
                </a:lnTo>
                <a:lnTo>
                  <a:pt x="232" y="432"/>
                </a:lnTo>
                <a:lnTo>
                  <a:pt x="224" y="444"/>
                </a:lnTo>
                <a:lnTo>
                  <a:pt x="216" y="456"/>
                </a:lnTo>
                <a:lnTo>
                  <a:pt x="208" y="468"/>
                </a:lnTo>
                <a:lnTo>
                  <a:pt x="200" y="480"/>
                </a:lnTo>
                <a:lnTo>
                  <a:pt x="192" y="492"/>
                </a:lnTo>
                <a:lnTo>
                  <a:pt x="184" y="504"/>
                </a:lnTo>
                <a:lnTo>
                  <a:pt x="172" y="512"/>
                </a:lnTo>
                <a:lnTo>
                  <a:pt x="164" y="524"/>
                </a:lnTo>
                <a:lnTo>
                  <a:pt x="156" y="536"/>
                </a:lnTo>
                <a:lnTo>
                  <a:pt x="156" y="548"/>
                </a:lnTo>
                <a:lnTo>
                  <a:pt x="144" y="552"/>
                </a:lnTo>
                <a:lnTo>
                  <a:pt x="156" y="540"/>
                </a:lnTo>
                <a:lnTo>
                  <a:pt x="144" y="540"/>
                </a:lnTo>
                <a:lnTo>
                  <a:pt x="132" y="548"/>
                </a:lnTo>
                <a:lnTo>
                  <a:pt x="120" y="556"/>
                </a:lnTo>
                <a:lnTo>
                  <a:pt x="112" y="568"/>
                </a:lnTo>
                <a:lnTo>
                  <a:pt x="100" y="572"/>
                </a:lnTo>
                <a:lnTo>
                  <a:pt x="88" y="576"/>
                </a:lnTo>
                <a:lnTo>
                  <a:pt x="80" y="588"/>
                </a:lnTo>
                <a:lnTo>
                  <a:pt x="68" y="588"/>
                </a:lnTo>
                <a:lnTo>
                  <a:pt x="60" y="600"/>
                </a:lnTo>
                <a:lnTo>
                  <a:pt x="48" y="604"/>
                </a:lnTo>
                <a:lnTo>
                  <a:pt x="36" y="608"/>
                </a:lnTo>
                <a:lnTo>
                  <a:pt x="24" y="616"/>
                </a:lnTo>
                <a:lnTo>
                  <a:pt x="12" y="620"/>
                </a:lnTo>
                <a:lnTo>
                  <a:pt x="0" y="620"/>
                </a:lnTo>
                <a:lnTo>
                  <a:pt x="1136" y="620"/>
                </a:lnTo>
                <a:lnTo>
                  <a:pt x="1136" y="624"/>
                </a:lnTo>
                <a:lnTo>
                  <a:pt x="1124" y="620"/>
                </a:lnTo>
                <a:lnTo>
                  <a:pt x="1112" y="620"/>
                </a:lnTo>
                <a:lnTo>
                  <a:pt x="1100" y="620"/>
                </a:lnTo>
                <a:lnTo>
                  <a:pt x="1088" y="616"/>
                </a:lnTo>
                <a:lnTo>
                  <a:pt x="1076" y="608"/>
                </a:lnTo>
                <a:lnTo>
                  <a:pt x="1064" y="604"/>
                </a:lnTo>
                <a:lnTo>
                  <a:pt x="1052" y="604"/>
                </a:lnTo>
                <a:lnTo>
                  <a:pt x="1040" y="600"/>
                </a:lnTo>
                <a:lnTo>
                  <a:pt x="1028" y="596"/>
                </a:lnTo>
                <a:lnTo>
                  <a:pt x="1016" y="588"/>
                </a:lnTo>
                <a:lnTo>
                  <a:pt x="1004" y="580"/>
                </a:lnTo>
                <a:lnTo>
                  <a:pt x="992" y="572"/>
                </a:lnTo>
                <a:lnTo>
                  <a:pt x="980" y="564"/>
                </a:lnTo>
                <a:lnTo>
                  <a:pt x="968" y="556"/>
                </a:lnTo>
                <a:lnTo>
                  <a:pt x="960" y="544"/>
                </a:lnTo>
                <a:lnTo>
                  <a:pt x="948" y="536"/>
                </a:lnTo>
                <a:lnTo>
                  <a:pt x="940" y="524"/>
                </a:lnTo>
                <a:lnTo>
                  <a:pt x="928" y="520"/>
                </a:lnTo>
                <a:lnTo>
                  <a:pt x="920" y="508"/>
                </a:lnTo>
                <a:lnTo>
                  <a:pt x="912" y="496"/>
                </a:lnTo>
                <a:lnTo>
                  <a:pt x="904" y="484"/>
                </a:lnTo>
                <a:lnTo>
                  <a:pt x="900" y="472"/>
                </a:lnTo>
                <a:lnTo>
                  <a:pt x="896" y="460"/>
                </a:lnTo>
                <a:lnTo>
                  <a:pt x="888" y="448"/>
                </a:lnTo>
                <a:lnTo>
                  <a:pt x="884" y="436"/>
                </a:lnTo>
                <a:lnTo>
                  <a:pt x="876" y="424"/>
                </a:lnTo>
                <a:lnTo>
                  <a:pt x="868" y="412"/>
                </a:lnTo>
                <a:lnTo>
                  <a:pt x="860" y="400"/>
                </a:lnTo>
                <a:lnTo>
                  <a:pt x="852" y="388"/>
                </a:lnTo>
                <a:lnTo>
                  <a:pt x="848" y="376"/>
                </a:lnTo>
                <a:lnTo>
                  <a:pt x="844" y="364"/>
                </a:lnTo>
                <a:lnTo>
                  <a:pt x="840" y="352"/>
                </a:lnTo>
                <a:lnTo>
                  <a:pt x="836" y="340"/>
                </a:lnTo>
                <a:lnTo>
                  <a:pt x="832" y="328"/>
                </a:lnTo>
                <a:lnTo>
                  <a:pt x="828" y="316"/>
                </a:lnTo>
                <a:lnTo>
                  <a:pt x="824" y="304"/>
                </a:lnTo>
                <a:lnTo>
                  <a:pt x="820" y="292"/>
                </a:lnTo>
                <a:lnTo>
                  <a:pt x="812" y="280"/>
                </a:lnTo>
                <a:lnTo>
                  <a:pt x="808" y="268"/>
                </a:lnTo>
                <a:lnTo>
                  <a:pt x="808" y="256"/>
                </a:lnTo>
                <a:lnTo>
                  <a:pt x="804" y="244"/>
                </a:lnTo>
                <a:lnTo>
                  <a:pt x="800" y="232"/>
                </a:lnTo>
                <a:lnTo>
                  <a:pt x="800" y="220"/>
                </a:lnTo>
                <a:lnTo>
                  <a:pt x="800" y="208"/>
                </a:lnTo>
                <a:lnTo>
                  <a:pt x="796" y="196"/>
                </a:lnTo>
                <a:lnTo>
                  <a:pt x="796" y="184"/>
                </a:lnTo>
                <a:lnTo>
                  <a:pt x="792" y="172"/>
                </a:lnTo>
                <a:lnTo>
                  <a:pt x="792" y="160"/>
                </a:lnTo>
                <a:lnTo>
                  <a:pt x="792" y="148"/>
                </a:lnTo>
                <a:lnTo>
                  <a:pt x="788" y="136"/>
                </a:lnTo>
                <a:lnTo>
                  <a:pt x="784" y="124"/>
                </a:lnTo>
                <a:lnTo>
                  <a:pt x="784" y="112"/>
                </a:lnTo>
                <a:lnTo>
                  <a:pt x="784" y="100"/>
                </a:lnTo>
                <a:lnTo>
                  <a:pt x="780" y="88"/>
                </a:lnTo>
                <a:lnTo>
                  <a:pt x="780" y="76"/>
                </a:lnTo>
                <a:lnTo>
                  <a:pt x="780" y="64"/>
                </a:lnTo>
                <a:lnTo>
                  <a:pt x="780" y="52"/>
                </a:lnTo>
                <a:lnTo>
                  <a:pt x="780" y="40"/>
                </a:lnTo>
                <a:lnTo>
                  <a:pt x="776" y="28"/>
                </a:lnTo>
                <a:lnTo>
                  <a:pt x="776" y="16"/>
                </a:lnTo>
                <a:lnTo>
                  <a:pt x="776" y="4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57760" y="536724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536724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05440" y="5467320"/>
            <a:ext cx="6876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1520" y="5467320"/>
            <a:ext cx="68760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47000" y="561672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12520" y="563580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57280" y="1709640"/>
                <a:ext cx="852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6100200" y="531180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6480" y="1914480"/>
            <a:ext cx="1598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استفاده ا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469440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4694400"/>
            <a:ext cx="0" cy="480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43720" y="3641760"/>
            <a:ext cx="0" cy="15336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19560" y="5224320"/>
            <a:ext cx="3021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54360" y="3060720"/>
                <a:ext cx="2452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P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565360" y="4587840"/>
                <a:ext cx="7984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186640" y="2563920"/>
            <a:ext cx="315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 برابر می شود با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6160" y="5396040"/>
            <a:ext cx="276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کان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غییر تکانه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06800" y="4403880"/>
            <a:ext cx="1473120" cy="630000"/>
          </a:xfrm>
          <a:prstGeom prst="roundRect">
            <a:avLst>
              <a:gd name="adj" fmla="val 12486"/>
            </a:avLst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6440" y="4951440"/>
            <a:ext cx="3628800" cy="1068480"/>
          </a:xfrm>
          <a:prstGeom prst="irregularSeal2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برخورد متفاوت می توانند تکان یکسان داشته باشند زیر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 به تغیر تکانه دارد و نه ماهیت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85960" y="4243320"/>
            <a:ext cx="955440" cy="762120"/>
            <a:chOff x="1785960" y="4243320"/>
            <a:chExt cx="955440" cy="762120"/>
          </a:xfrm>
        </p:grpSpPr>
        <p:sp>
          <p:nvSpPr>
            <p:cNvPr id="540" name=""/>
            <p:cNvSpPr/>
            <p:nvPr/>
          </p:nvSpPr>
          <p:spPr>
            <a:xfrm>
              <a:off x="178596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6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628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8920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0"/>
                  </a:moveTo>
                  <a:arcTo wR="10800" hR="10800" stAng="-10771353" swAng="5359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0"/>
                  </a:moveTo>
                  <a:arcTo wR="10800" hR="10800" stAng="-10771353" swAng="5359894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047600" y="4595760"/>
            <a:ext cx="2500560" cy="603360"/>
          </a:xfrm>
          <a:custGeom>
            <a:avLst/>
            <a:gdLst/>
            <a:ahLst/>
            <a:rect l="l" t="t" r="r" b="b"/>
            <a:pathLst>
              <a:path w="1575" h="380">
                <a:moveTo>
                  <a:pt x="443" y="0"/>
                </a:moveTo>
                <a:lnTo>
                  <a:pt x="454" y="7"/>
                </a:lnTo>
                <a:lnTo>
                  <a:pt x="449" y="15"/>
                </a:lnTo>
                <a:lnTo>
                  <a:pt x="449" y="22"/>
                </a:lnTo>
                <a:lnTo>
                  <a:pt x="449" y="29"/>
                </a:lnTo>
                <a:lnTo>
                  <a:pt x="449" y="36"/>
                </a:lnTo>
                <a:lnTo>
                  <a:pt x="443" y="44"/>
                </a:lnTo>
                <a:lnTo>
                  <a:pt x="443" y="51"/>
                </a:lnTo>
                <a:lnTo>
                  <a:pt x="443" y="58"/>
                </a:lnTo>
                <a:lnTo>
                  <a:pt x="443" y="66"/>
                </a:lnTo>
                <a:lnTo>
                  <a:pt x="443" y="73"/>
                </a:lnTo>
                <a:lnTo>
                  <a:pt x="438" y="80"/>
                </a:lnTo>
                <a:lnTo>
                  <a:pt x="438" y="87"/>
                </a:lnTo>
                <a:lnTo>
                  <a:pt x="432" y="95"/>
                </a:lnTo>
                <a:lnTo>
                  <a:pt x="427" y="102"/>
                </a:lnTo>
                <a:lnTo>
                  <a:pt x="427" y="109"/>
                </a:lnTo>
                <a:lnTo>
                  <a:pt x="427" y="117"/>
                </a:lnTo>
                <a:lnTo>
                  <a:pt x="427" y="124"/>
                </a:lnTo>
                <a:lnTo>
                  <a:pt x="421" y="131"/>
                </a:lnTo>
                <a:lnTo>
                  <a:pt x="421" y="138"/>
                </a:lnTo>
                <a:lnTo>
                  <a:pt x="416" y="146"/>
                </a:lnTo>
                <a:lnTo>
                  <a:pt x="416" y="153"/>
                </a:lnTo>
                <a:lnTo>
                  <a:pt x="405" y="160"/>
                </a:lnTo>
                <a:lnTo>
                  <a:pt x="399" y="168"/>
                </a:lnTo>
                <a:lnTo>
                  <a:pt x="399" y="175"/>
                </a:lnTo>
                <a:lnTo>
                  <a:pt x="394" y="182"/>
                </a:lnTo>
                <a:lnTo>
                  <a:pt x="394" y="190"/>
                </a:lnTo>
                <a:lnTo>
                  <a:pt x="382" y="197"/>
                </a:lnTo>
                <a:lnTo>
                  <a:pt x="377" y="204"/>
                </a:lnTo>
                <a:lnTo>
                  <a:pt x="371" y="211"/>
                </a:lnTo>
                <a:lnTo>
                  <a:pt x="366" y="219"/>
                </a:lnTo>
                <a:lnTo>
                  <a:pt x="355" y="226"/>
                </a:lnTo>
                <a:lnTo>
                  <a:pt x="349" y="233"/>
                </a:lnTo>
                <a:lnTo>
                  <a:pt x="338" y="241"/>
                </a:lnTo>
                <a:lnTo>
                  <a:pt x="333" y="248"/>
                </a:lnTo>
                <a:lnTo>
                  <a:pt x="327" y="255"/>
                </a:lnTo>
                <a:lnTo>
                  <a:pt x="321" y="262"/>
                </a:lnTo>
                <a:lnTo>
                  <a:pt x="310" y="270"/>
                </a:lnTo>
                <a:lnTo>
                  <a:pt x="299" y="277"/>
                </a:lnTo>
                <a:lnTo>
                  <a:pt x="288" y="284"/>
                </a:lnTo>
                <a:lnTo>
                  <a:pt x="277" y="292"/>
                </a:lnTo>
                <a:lnTo>
                  <a:pt x="266" y="299"/>
                </a:lnTo>
                <a:lnTo>
                  <a:pt x="255" y="306"/>
                </a:lnTo>
                <a:lnTo>
                  <a:pt x="238" y="311"/>
                </a:lnTo>
                <a:lnTo>
                  <a:pt x="227" y="318"/>
                </a:lnTo>
                <a:lnTo>
                  <a:pt x="216" y="326"/>
                </a:lnTo>
                <a:lnTo>
                  <a:pt x="216" y="333"/>
                </a:lnTo>
                <a:lnTo>
                  <a:pt x="200" y="335"/>
                </a:lnTo>
                <a:lnTo>
                  <a:pt x="216" y="328"/>
                </a:lnTo>
                <a:lnTo>
                  <a:pt x="200" y="328"/>
                </a:lnTo>
                <a:lnTo>
                  <a:pt x="183" y="333"/>
                </a:lnTo>
                <a:lnTo>
                  <a:pt x="166" y="338"/>
                </a:lnTo>
                <a:lnTo>
                  <a:pt x="155" y="345"/>
                </a:lnTo>
                <a:lnTo>
                  <a:pt x="139" y="347"/>
                </a:lnTo>
                <a:lnTo>
                  <a:pt x="122" y="350"/>
                </a:lnTo>
                <a:lnTo>
                  <a:pt x="111" y="357"/>
                </a:lnTo>
                <a:lnTo>
                  <a:pt x="94" y="357"/>
                </a:lnTo>
                <a:lnTo>
                  <a:pt x="83" y="364"/>
                </a:lnTo>
                <a:lnTo>
                  <a:pt x="67" y="367"/>
                </a:lnTo>
                <a:lnTo>
                  <a:pt x="50" y="369"/>
                </a:lnTo>
                <a:lnTo>
                  <a:pt x="33" y="374"/>
                </a:lnTo>
                <a:lnTo>
                  <a:pt x="17" y="377"/>
                </a:lnTo>
                <a:lnTo>
                  <a:pt x="0" y="377"/>
                </a:lnTo>
                <a:lnTo>
                  <a:pt x="1574" y="377"/>
                </a:lnTo>
                <a:lnTo>
                  <a:pt x="1574" y="379"/>
                </a:lnTo>
                <a:lnTo>
                  <a:pt x="1557" y="377"/>
                </a:lnTo>
                <a:lnTo>
                  <a:pt x="1541" y="377"/>
                </a:lnTo>
                <a:lnTo>
                  <a:pt x="1524" y="377"/>
                </a:lnTo>
                <a:lnTo>
                  <a:pt x="1507" y="374"/>
                </a:lnTo>
                <a:lnTo>
                  <a:pt x="1491" y="369"/>
                </a:lnTo>
                <a:lnTo>
                  <a:pt x="1474" y="367"/>
                </a:lnTo>
                <a:lnTo>
                  <a:pt x="1458" y="367"/>
                </a:lnTo>
                <a:lnTo>
                  <a:pt x="1441" y="364"/>
                </a:lnTo>
                <a:lnTo>
                  <a:pt x="1424" y="362"/>
                </a:lnTo>
                <a:lnTo>
                  <a:pt x="1408" y="357"/>
                </a:lnTo>
                <a:lnTo>
                  <a:pt x="1391" y="352"/>
                </a:lnTo>
                <a:lnTo>
                  <a:pt x="1374" y="347"/>
                </a:lnTo>
                <a:lnTo>
                  <a:pt x="1358" y="343"/>
                </a:lnTo>
                <a:lnTo>
                  <a:pt x="1341" y="338"/>
                </a:lnTo>
                <a:lnTo>
                  <a:pt x="1330" y="330"/>
                </a:lnTo>
                <a:lnTo>
                  <a:pt x="1314" y="326"/>
                </a:lnTo>
                <a:lnTo>
                  <a:pt x="1302" y="318"/>
                </a:lnTo>
                <a:lnTo>
                  <a:pt x="1286" y="316"/>
                </a:lnTo>
                <a:lnTo>
                  <a:pt x="1275" y="309"/>
                </a:lnTo>
                <a:lnTo>
                  <a:pt x="1264" y="301"/>
                </a:lnTo>
                <a:lnTo>
                  <a:pt x="1253" y="294"/>
                </a:lnTo>
                <a:lnTo>
                  <a:pt x="1247" y="287"/>
                </a:lnTo>
                <a:lnTo>
                  <a:pt x="1241" y="279"/>
                </a:lnTo>
                <a:lnTo>
                  <a:pt x="1230" y="272"/>
                </a:lnTo>
                <a:lnTo>
                  <a:pt x="1225" y="265"/>
                </a:lnTo>
                <a:lnTo>
                  <a:pt x="1214" y="258"/>
                </a:lnTo>
                <a:lnTo>
                  <a:pt x="1203" y="250"/>
                </a:lnTo>
                <a:lnTo>
                  <a:pt x="1192" y="243"/>
                </a:lnTo>
                <a:lnTo>
                  <a:pt x="1181" y="236"/>
                </a:lnTo>
                <a:lnTo>
                  <a:pt x="1175" y="228"/>
                </a:lnTo>
                <a:lnTo>
                  <a:pt x="1169" y="221"/>
                </a:lnTo>
                <a:lnTo>
                  <a:pt x="1164" y="214"/>
                </a:lnTo>
                <a:lnTo>
                  <a:pt x="1158" y="207"/>
                </a:lnTo>
                <a:lnTo>
                  <a:pt x="1153" y="199"/>
                </a:lnTo>
                <a:lnTo>
                  <a:pt x="1147" y="192"/>
                </a:lnTo>
                <a:lnTo>
                  <a:pt x="1142" y="185"/>
                </a:lnTo>
                <a:lnTo>
                  <a:pt x="1136" y="177"/>
                </a:lnTo>
                <a:lnTo>
                  <a:pt x="1125" y="170"/>
                </a:lnTo>
                <a:lnTo>
                  <a:pt x="1120" y="163"/>
                </a:lnTo>
                <a:lnTo>
                  <a:pt x="1120" y="155"/>
                </a:lnTo>
                <a:lnTo>
                  <a:pt x="1114" y="148"/>
                </a:lnTo>
                <a:lnTo>
                  <a:pt x="1108" y="141"/>
                </a:lnTo>
                <a:lnTo>
                  <a:pt x="1108" y="134"/>
                </a:lnTo>
                <a:lnTo>
                  <a:pt x="1108" y="126"/>
                </a:lnTo>
                <a:lnTo>
                  <a:pt x="1103" y="119"/>
                </a:lnTo>
                <a:lnTo>
                  <a:pt x="1103" y="112"/>
                </a:lnTo>
                <a:lnTo>
                  <a:pt x="1097" y="104"/>
                </a:lnTo>
                <a:lnTo>
                  <a:pt x="1097" y="97"/>
                </a:lnTo>
                <a:lnTo>
                  <a:pt x="1097" y="90"/>
                </a:lnTo>
                <a:lnTo>
                  <a:pt x="1092" y="83"/>
                </a:lnTo>
                <a:lnTo>
                  <a:pt x="1086" y="75"/>
                </a:lnTo>
                <a:lnTo>
                  <a:pt x="1086" y="68"/>
                </a:lnTo>
                <a:lnTo>
                  <a:pt x="1086" y="61"/>
                </a:lnTo>
                <a:lnTo>
                  <a:pt x="1081" y="53"/>
                </a:lnTo>
                <a:lnTo>
                  <a:pt x="1081" y="46"/>
                </a:lnTo>
                <a:lnTo>
                  <a:pt x="1081" y="39"/>
                </a:lnTo>
                <a:lnTo>
                  <a:pt x="1081" y="32"/>
                </a:lnTo>
                <a:lnTo>
                  <a:pt x="1081" y="24"/>
                </a:lnTo>
                <a:lnTo>
                  <a:pt x="1075" y="17"/>
                </a:lnTo>
                <a:lnTo>
                  <a:pt x="1075" y="10"/>
                </a:lnTo>
                <a:lnTo>
                  <a:pt x="1075" y="2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2240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0676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4940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7240" y="542124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83480" y="543240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80560" y="523728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334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098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49640" y="4249800"/>
            <a:ext cx="0" cy="9111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04760" y="3753000"/>
            <a:ext cx="0" cy="17017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6320" y="365760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25480" y="518328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6160" y="5234040"/>
            <a:ext cx="3021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300360" y="1614600"/>
            <a:ext cx="225360" cy="2974680"/>
            <a:chOff x="6300360" y="1614600"/>
            <a:chExt cx="225360" cy="2974680"/>
          </a:xfrm>
        </p:grpSpPr>
        <p:sp>
          <p:nvSpPr>
            <p:cNvPr id="558" name=""/>
            <p:cNvSpPr/>
            <p:nvPr/>
          </p:nvSpPr>
          <p:spPr>
            <a:xfrm>
              <a:off x="6300360" y="1614600"/>
              <a:ext cx="22248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6" y="1"/>
                  </a:moveTo>
                  <a:arcTo wR="10800" hR="10800" stAng="-5449107" swAng="5449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6" y="1"/>
                  </a:moveTo>
                  <a:arcTo wR="10800" hR="10800" stAng="-5449107" swAng="5449107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00720" y="1614600"/>
              <a:ext cx="22500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8"/>
                  </a:moveTo>
                  <a:arcTo wR="10800" hR="10800" stAng="-10796333" swAng="53479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8"/>
                  </a:moveTo>
                  <a:arcTo wR="10800" hR="10800" stAng="-10796333" swAng="5347943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6075360" y="3008160"/>
            <a:ext cx="689040" cy="2244960"/>
          </a:xfrm>
          <a:custGeom>
            <a:avLst/>
            <a:gdLst/>
            <a:ahLst/>
            <a:rect l="l" t="t" r="r" b="b"/>
            <a:pathLst>
              <a:path w="434" h="1414">
                <a:moveTo>
                  <a:pt x="122" y="0"/>
                </a:moveTo>
                <a:lnTo>
                  <a:pt x="125" y="27"/>
                </a:lnTo>
                <a:lnTo>
                  <a:pt x="123" y="54"/>
                </a:lnTo>
                <a:lnTo>
                  <a:pt x="123" y="82"/>
                </a:lnTo>
                <a:lnTo>
                  <a:pt x="123" y="109"/>
                </a:lnTo>
                <a:lnTo>
                  <a:pt x="123" y="136"/>
                </a:lnTo>
                <a:lnTo>
                  <a:pt x="122" y="163"/>
                </a:lnTo>
                <a:lnTo>
                  <a:pt x="122" y="190"/>
                </a:lnTo>
                <a:lnTo>
                  <a:pt x="122" y="217"/>
                </a:lnTo>
                <a:lnTo>
                  <a:pt x="122" y="245"/>
                </a:lnTo>
                <a:lnTo>
                  <a:pt x="122" y="272"/>
                </a:lnTo>
                <a:lnTo>
                  <a:pt x="120" y="299"/>
                </a:lnTo>
                <a:lnTo>
                  <a:pt x="120" y="326"/>
                </a:lnTo>
                <a:lnTo>
                  <a:pt x="119" y="353"/>
                </a:lnTo>
                <a:lnTo>
                  <a:pt x="117" y="380"/>
                </a:lnTo>
                <a:lnTo>
                  <a:pt x="117" y="408"/>
                </a:lnTo>
                <a:lnTo>
                  <a:pt x="117" y="435"/>
                </a:lnTo>
                <a:lnTo>
                  <a:pt x="117" y="462"/>
                </a:lnTo>
                <a:lnTo>
                  <a:pt x="116" y="489"/>
                </a:lnTo>
                <a:lnTo>
                  <a:pt x="116" y="516"/>
                </a:lnTo>
                <a:lnTo>
                  <a:pt x="114" y="543"/>
                </a:lnTo>
                <a:lnTo>
                  <a:pt x="114" y="571"/>
                </a:lnTo>
                <a:lnTo>
                  <a:pt x="111" y="598"/>
                </a:lnTo>
                <a:lnTo>
                  <a:pt x="110" y="625"/>
                </a:lnTo>
                <a:lnTo>
                  <a:pt x="110" y="652"/>
                </a:lnTo>
                <a:lnTo>
                  <a:pt x="108" y="679"/>
                </a:lnTo>
                <a:lnTo>
                  <a:pt x="108" y="707"/>
                </a:lnTo>
                <a:lnTo>
                  <a:pt x="105" y="734"/>
                </a:lnTo>
                <a:lnTo>
                  <a:pt x="104" y="761"/>
                </a:lnTo>
                <a:lnTo>
                  <a:pt x="102" y="788"/>
                </a:lnTo>
                <a:lnTo>
                  <a:pt x="101" y="815"/>
                </a:lnTo>
                <a:lnTo>
                  <a:pt x="98" y="842"/>
                </a:lnTo>
                <a:lnTo>
                  <a:pt x="96" y="870"/>
                </a:lnTo>
                <a:lnTo>
                  <a:pt x="93" y="897"/>
                </a:lnTo>
                <a:lnTo>
                  <a:pt x="91" y="924"/>
                </a:lnTo>
                <a:lnTo>
                  <a:pt x="90" y="951"/>
                </a:lnTo>
                <a:lnTo>
                  <a:pt x="88" y="978"/>
                </a:lnTo>
                <a:lnTo>
                  <a:pt x="85" y="1005"/>
                </a:lnTo>
                <a:lnTo>
                  <a:pt x="82" y="1033"/>
                </a:lnTo>
                <a:lnTo>
                  <a:pt x="79" y="1060"/>
                </a:lnTo>
                <a:lnTo>
                  <a:pt x="76" y="1087"/>
                </a:lnTo>
                <a:lnTo>
                  <a:pt x="73" y="1114"/>
                </a:lnTo>
                <a:lnTo>
                  <a:pt x="70" y="1141"/>
                </a:lnTo>
                <a:lnTo>
                  <a:pt x="66" y="1159"/>
                </a:lnTo>
                <a:lnTo>
                  <a:pt x="63" y="1187"/>
                </a:lnTo>
                <a:lnTo>
                  <a:pt x="59" y="1214"/>
                </a:lnTo>
                <a:lnTo>
                  <a:pt x="59" y="1241"/>
                </a:lnTo>
                <a:lnTo>
                  <a:pt x="55" y="1250"/>
                </a:lnTo>
                <a:lnTo>
                  <a:pt x="59" y="1223"/>
                </a:lnTo>
                <a:lnTo>
                  <a:pt x="55" y="1223"/>
                </a:lnTo>
                <a:lnTo>
                  <a:pt x="50" y="1241"/>
                </a:lnTo>
                <a:lnTo>
                  <a:pt x="46" y="1259"/>
                </a:lnTo>
                <a:lnTo>
                  <a:pt x="43" y="1286"/>
                </a:lnTo>
                <a:lnTo>
                  <a:pt x="38" y="1295"/>
                </a:lnTo>
                <a:lnTo>
                  <a:pt x="34" y="1304"/>
                </a:lnTo>
                <a:lnTo>
                  <a:pt x="30" y="1331"/>
                </a:lnTo>
                <a:lnTo>
                  <a:pt x="26" y="1331"/>
                </a:lnTo>
                <a:lnTo>
                  <a:pt x="23" y="1359"/>
                </a:lnTo>
                <a:lnTo>
                  <a:pt x="18" y="1368"/>
                </a:lnTo>
                <a:lnTo>
                  <a:pt x="14" y="1377"/>
                </a:lnTo>
                <a:lnTo>
                  <a:pt x="9" y="1395"/>
                </a:lnTo>
                <a:lnTo>
                  <a:pt x="5" y="1404"/>
                </a:lnTo>
                <a:lnTo>
                  <a:pt x="0" y="1404"/>
                </a:lnTo>
                <a:lnTo>
                  <a:pt x="433" y="1404"/>
                </a:lnTo>
                <a:lnTo>
                  <a:pt x="433" y="1413"/>
                </a:lnTo>
                <a:lnTo>
                  <a:pt x="428" y="1404"/>
                </a:lnTo>
                <a:lnTo>
                  <a:pt x="424" y="1404"/>
                </a:lnTo>
                <a:lnTo>
                  <a:pt x="419" y="1404"/>
                </a:lnTo>
                <a:lnTo>
                  <a:pt x="415" y="1395"/>
                </a:lnTo>
                <a:lnTo>
                  <a:pt x="410" y="1377"/>
                </a:lnTo>
                <a:lnTo>
                  <a:pt x="406" y="1368"/>
                </a:lnTo>
                <a:lnTo>
                  <a:pt x="401" y="1368"/>
                </a:lnTo>
                <a:lnTo>
                  <a:pt x="396" y="1359"/>
                </a:lnTo>
                <a:lnTo>
                  <a:pt x="392" y="1350"/>
                </a:lnTo>
                <a:lnTo>
                  <a:pt x="387" y="1331"/>
                </a:lnTo>
                <a:lnTo>
                  <a:pt x="383" y="1313"/>
                </a:lnTo>
                <a:lnTo>
                  <a:pt x="378" y="1295"/>
                </a:lnTo>
                <a:lnTo>
                  <a:pt x="374" y="1277"/>
                </a:lnTo>
                <a:lnTo>
                  <a:pt x="369" y="1259"/>
                </a:lnTo>
                <a:lnTo>
                  <a:pt x="366" y="1232"/>
                </a:lnTo>
                <a:lnTo>
                  <a:pt x="361" y="1214"/>
                </a:lnTo>
                <a:lnTo>
                  <a:pt x="358" y="1187"/>
                </a:lnTo>
                <a:lnTo>
                  <a:pt x="354" y="1178"/>
                </a:lnTo>
                <a:lnTo>
                  <a:pt x="351" y="1150"/>
                </a:lnTo>
                <a:lnTo>
                  <a:pt x="348" y="1123"/>
                </a:lnTo>
                <a:lnTo>
                  <a:pt x="345" y="1096"/>
                </a:lnTo>
                <a:lnTo>
                  <a:pt x="343" y="1069"/>
                </a:lnTo>
                <a:lnTo>
                  <a:pt x="342" y="1042"/>
                </a:lnTo>
                <a:lnTo>
                  <a:pt x="338" y="1014"/>
                </a:lnTo>
                <a:lnTo>
                  <a:pt x="337" y="987"/>
                </a:lnTo>
                <a:lnTo>
                  <a:pt x="334" y="960"/>
                </a:lnTo>
                <a:lnTo>
                  <a:pt x="331" y="933"/>
                </a:lnTo>
                <a:lnTo>
                  <a:pt x="328" y="906"/>
                </a:lnTo>
                <a:lnTo>
                  <a:pt x="325" y="879"/>
                </a:lnTo>
                <a:lnTo>
                  <a:pt x="323" y="851"/>
                </a:lnTo>
                <a:lnTo>
                  <a:pt x="322" y="824"/>
                </a:lnTo>
                <a:lnTo>
                  <a:pt x="320" y="797"/>
                </a:lnTo>
                <a:lnTo>
                  <a:pt x="319" y="770"/>
                </a:lnTo>
                <a:lnTo>
                  <a:pt x="317" y="743"/>
                </a:lnTo>
                <a:lnTo>
                  <a:pt x="316" y="716"/>
                </a:lnTo>
                <a:lnTo>
                  <a:pt x="314" y="688"/>
                </a:lnTo>
                <a:lnTo>
                  <a:pt x="313" y="661"/>
                </a:lnTo>
                <a:lnTo>
                  <a:pt x="310" y="634"/>
                </a:lnTo>
                <a:lnTo>
                  <a:pt x="308" y="607"/>
                </a:lnTo>
                <a:lnTo>
                  <a:pt x="308" y="580"/>
                </a:lnTo>
                <a:lnTo>
                  <a:pt x="306" y="553"/>
                </a:lnTo>
                <a:lnTo>
                  <a:pt x="305" y="525"/>
                </a:lnTo>
                <a:lnTo>
                  <a:pt x="305" y="498"/>
                </a:lnTo>
                <a:lnTo>
                  <a:pt x="305" y="471"/>
                </a:lnTo>
                <a:lnTo>
                  <a:pt x="303" y="444"/>
                </a:lnTo>
                <a:lnTo>
                  <a:pt x="303" y="417"/>
                </a:lnTo>
                <a:lnTo>
                  <a:pt x="302" y="389"/>
                </a:lnTo>
                <a:lnTo>
                  <a:pt x="302" y="362"/>
                </a:lnTo>
                <a:lnTo>
                  <a:pt x="302" y="335"/>
                </a:lnTo>
                <a:lnTo>
                  <a:pt x="300" y="308"/>
                </a:lnTo>
                <a:lnTo>
                  <a:pt x="299" y="281"/>
                </a:lnTo>
                <a:lnTo>
                  <a:pt x="299" y="254"/>
                </a:lnTo>
                <a:lnTo>
                  <a:pt x="299" y="226"/>
                </a:lnTo>
                <a:lnTo>
                  <a:pt x="297" y="199"/>
                </a:lnTo>
                <a:lnTo>
                  <a:pt x="297" y="172"/>
                </a:lnTo>
                <a:lnTo>
                  <a:pt x="297" y="145"/>
                </a:lnTo>
                <a:lnTo>
                  <a:pt x="297" y="118"/>
                </a:lnTo>
                <a:lnTo>
                  <a:pt x="297" y="91"/>
                </a:lnTo>
                <a:lnTo>
                  <a:pt x="296" y="63"/>
                </a:lnTo>
                <a:lnTo>
                  <a:pt x="296" y="36"/>
                </a:lnTo>
                <a:lnTo>
                  <a:pt x="296" y="9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643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5595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05480" y="1644480"/>
            <a:ext cx="0" cy="35388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914720" y="2832120"/>
            <a:ext cx="3642480" cy="2674800"/>
            <a:chOff x="4914720" y="2832120"/>
            <a:chExt cx="3642480" cy="2674800"/>
          </a:xfrm>
        </p:grpSpPr>
        <p:sp>
          <p:nvSpPr>
            <p:cNvPr id="565" name=""/>
            <p:cNvSpPr/>
            <p:nvPr/>
          </p:nvSpPr>
          <p:spPr>
            <a:xfrm>
              <a:off x="5214960" y="2943360"/>
              <a:ext cx="0" cy="256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14720" y="28321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33880" y="511668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0760" y="5276880"/>
              <a:ext cx="30207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046920" y="5530680"/>
            <a:ext cx="0" cy="113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19840" y="551664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619960" y="565956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20240" y="565632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32080" y="538956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65600" y="3635280"/>
            <a:ext cx="195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am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586400" y="3458880"/>
            <a:ext cx="1573200" cy="352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746440" y="3843360"/>
            <a:ext cx="366480" cy="401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74160" y="5678640"/>
            <a:ext cx="261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97040" y="5973840"/>
            <a:ext cx="254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785960" y="4243320"/>
            <a:ext cx="955440" cy="762120"/>
            <a:chOff x="1785960" y="4243320"/>
            <a:chExt cx="955440" cy="762120"/>
          </a:xfrm>
        </p:grpSpPr>
        <p:sp>
          <p:nvSpPr>
            <p:cNvPr id="583" name=""/>
            <p:cNvSpPr/>
            <p:nvPr/>
          </p:nvSpPr>
          <p:spPr>
            <a:xfrm>
              <a:off x="178596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6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628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8920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0"/>
                  </a:moveTo>
                  <a:arcTo wR="10800" hR="10800" stAng="-10771353" swAng="5359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0"/>
                  </a:moveTo>
                  <a:arcTo wR="10800" hR="10800" stAng="-10771353" swAng="5359894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047600" y="4595760"/>
            <a:ext cx="2500560" cy="603360"/>
          </a:xfrm>
          <a:custGeom>
            <a:avLst/>
            <a:gdLst/>
            <a:ahLst/>
            <a:rect l="l" t="t" r="r" b="b"/>
            <a:pathLst>
              <a:path w="1575" h="380">
                <a:moveTo>
                  <a:pt x="443" y="0"/>
                </a:moveTo>
                <a:lnTo>
                  <a:pt x="454" y="7"/>
                </a:lnTo>
                <a:lnTo>
                  <a:pt x="449" y="15"/>
                </a:lnTo>
                <a:lnTo>
                  <a:pt x="449" y="22"/>
                </a:lnTo>
                <a:lnTo>
                  <a:pt x="449" y="29"/>
                </a:lnTo>
                <a:lnTo>
                  <a:pt x="449" y="36"/>
                </a:lnTo>
                <a:lnTo>
                  <a:pt x="443" y="44"/>
                </a:lnTo>
                <a:lnTo>
                  <a:pt x="443" y="51"/>
                </a:lnTo>
                <a:lnTo>
                  <a:pt x="443" y="58"/>
                </a:lnTo>
                <a:lnTo>
                  <a:pt x="443" y="66"/>
                </a:lnTo>
                <a:lnTo>
                  <a:pt x="443" y="73"/>
                </a:lnTo>
                <a:lnTo>
                  <a:pt x="438" y="80"/>
                </a:lnTo>
                <a:lnTo>
                  <a:pt x="438" y="87"/>
                </a:lnTo>
                <a:lnTo>
                  <a:pt x="432" y="95"/>
                </a:lnTo>
                <a:lnTo>
                  <a:pt x="427" y="102"/>
                </a:lnTo>
                <a:lnTo>
                  <a:pt x="427" y="109"/>
                </a:lnTo>
                <a:lnTo>
                  <a:pt x="427" y="117"/>
                </a:lnTo>
                <a:lnTo>
                  <a:pt x="427" y="124"/>
                </a:lnTo>
                <a:lnTo>
                  <a:pt x="421" y="131"/>
                </a:lnTo>
                <a:lnTo>
                  <a:pt x="421" y="138"/>
                </a:lnTo>
                <a:lnTo>
                  <a:pt x="416" y="146"/>
                </a:lnTo>
                <a:lnTo>
                  <a:pt x="416" y="153"/>
                </a:lnTo>
                <a:lnTo>
                  <a:pt x="405" y="160"/>
                </a:lnTo>
                <a:lnTo>
                  <a:pt x="399" y="168"/>
                </a:lnTo>
                <a:lnTo>
                  <a:pt x="399" y="175"/>
                </a:lnTo>
                <a:lnTo>
                  <a:pt x="394" y="182"/>
                </a:lnTo>
                <a:lnTo>
                  <a:pt x="394" y="190"/>
                </a:lnTo>
                <a:lnTo>
                  <a:pt x="382" y="197"/>
                </a:lnTo>
                <a:lnTo>
                  <a:pt x="377" y="204"/>
                </a:lnTo>
                <a:lnTo>
                  <a:pt x="371" y="211"/>
                </a:lnTo>
                <a:lnTo>
                  <a:pt x="366" y="219"/>
                </a:lnTo>
                <a:lnTo>
                  <a:pt x="355" y="226"/>
                </a:lnTo>
                <a:lnTo>
                  <a:pt x="349" y="233"/>
                </a:lnTo>
                <a:lnTo>
                  <a:pt x="338" y="241"/>
                </a:lnTo>
                <a:lnTo>
                  <a:pt x="333" y="248"/>
                </a:lnTo>
                <a:lnTo>
                  <a:pt x="327" y="255"/>
                </a:lnTo>
                <a:lnTo>
                  <a:pt x="321" y="262"/>
                </a:lnTo>
                <a:lnTo>
                  <a:pt x="310" y="270"/>
                </a:lnTo>
                <a:lnTo>
                  <a:pt x="299" y="277"/>
                </a:lnTo>
                <a:lnTo>
                  <a:pt x="288" y="284"/>
                </a:lnTo>
                <a:lnTo>
                  <a:pt x="277" y="292"/>
                </a:lnTo>
                <a:lnTo>
                  <a:pt x="266" y="299"/>
                </a:lnTo>
                <a:lnTo>
                  <a:pt x="255" y="306"/>
                </a:lnTo>
                <a:lnTo>
                  <a:pt x="238" y="311"/>
                </a:lnTo>
                <a:lnTo>
                  <a:pt x="227" y="318"/>
                </a:lnTo>
                <a:lnTo>
                  <a:pt x="216" y="326"/>
                </a:lnTo>
                <a:lnTo>
                  <a:pt x="216" y="333"/>
                </a:lnTo>
                <a:lnTo>
                  <a:pt x="200" y="335"/>
                </a:lnTo>
                <a:lnTo>
                  <a:pt x="216" y="328"/>
                </a:lnTo>
                <a:lnTo>
                  <a:pt x="200" y="328"/>
                </a:lnTo>
                <a:lnTo>
                  <a:pt x="183" y="333"/>
                </a:lnTo>
                <a:lnTo>
                  <a:pt x="166" y="338"/>
                </a:lnTo>
                <a:lnTo>
                  <a:pt x="155" y="345"/>
                </a:lnTo>
                <a:lnTo>
                  <a:pt x="139" y="347"/>
                </a:lnTo>
                <a:lnTo>
                  <a:pt x="122" y="350"/>
                </a:lnTo>
                <a:lnTo>
                  <a:pt x="111" y="357"/>
                </a:lnTo>
                <a:lnTo>
                  <a:pt x="94" y="357"/>
                </a:lnTo>
                <a:lnTo>
                  <a:pt x="83" y="364"/>
                </a:lnTo>
                <a:lnTo>
                  <a:pt x="67" y="367"/>
                </a:lnTo>
                <a:lnTo>
                  <a:pt x="50" y="369"/>
                </a:lnTo>
                <a:lnTo>
                  <a:pt x="33" y="374"/>
                </a:lnTo>
                <a:lnTo>
                  <a:pt x="17" y="377"/>
                </a:lnTo>
                <a:lnTo>
                  <a:pt x="0" y="377"/>
                </a:lnTo>
                <a:lnTo>
                  <a:pt x="1574" y="377"/>
                </a:lnTo>
                <a:lnTo>
                  <a:pt x="1574" y="379"/>
                </a:lnTo>
                <a:lnTo>
                  <a:pt x="1557" y="377"/>
                </a:lnTo>
                <a:lnTo>
                  <a:pt x="1541" y="377"/>
                </a:lnTo>
                <a:lnTo>
                  <a:pt x="1524" y="377"/>
                </a:lnTo>
                <a:lnTo>
                  <a:pt x="1507" y="374"/>
                </a:lnTo>
                <a:lnTo>
                  <a:pt x="1491" y="369"/>
                </a:lnTo>
                <a:lnTo>
                  <a:pt x="1474" y="367"/>
                </a:lnTo>
                <a:lnTo>
                  <a:pt x="1458" y="367"/>
                </a:lnTo>
                <a:lnTo>
                  <a:pt x="1441" y="364"/>
                </a:lnTo>
                <a:lnTo>
                  <a:pt x="1424" y="362"/>
                </a:lnTo>
                <a:lnTo>
                  <a:pt x="1408" y="357"/>
                </a:lnTo>
                <a:lnTo>
                  <a:pt x="1391" y="352"/>
                </a:lnTo>
                <a:lnTo>
                  <a:pt x="1374" y="347"/>
                </a:lnTo>
                <a:lnTo>
                  <a:pt x="1358" y="343"/>
                </a:lnTo>
                <a:lnTo>
                  <a:pt x="1341" y="338"/>
                </a:lnTo>
                <a:lnTo>
                  <a:pt x="1330" y="330"/>
                </a:lnTo>
                <a:lnTo>
                  <a:pt x="1314" y="326"/>
                </a:lnTo>
                <a:lnTo>
                  <a:pt x="1302" y="318"/>
                </a:lnTo>
                <a:lnTo>
                  <a:pt x="1286" y="316"/>
                </a:lnTo>
                <a:lnTo>
                  <a:pt x="1275" y="309"/>
                </a:lnTo>
                <a:lnTo>
                  <a:pt x="1264" y="301"/>
                </a:lnTo>
                <a:lnTo>
                  <a:pt x="1253" y="294"/>
                </a:lnTo>
                <a:lnTo>
                  <a:pt x="1247" y="287"/>
                </a:lnTo>
                <a:lnTo>
                  <a:pt x="1241" y="279"/>
                </a:lnTo>
                <a:lnTo>
                  <a:pt x="1230" y="272"/>
                </a:lnTo>
                <a:lnTo>
                  <a:pt x="1225" y="265"/>
                </a:lnTo>
                <a:lnTo>
                  <a:pt x="1214" y="258"/>
                </a:lnTo>
                <a:lnTo>
                  <a:pt x="1203" y="250"/>
                </a:lnTo>
                <a:lnTo>
                  <a:pt x="1192" y="243"/>
                </a:lnTo>
                <a:lnTo>
                  <a:pt x="1181" y="236"/>
                </a:lnTo>
                <a:lnTo>
                  <a:pt x="1175" y="228"/>
                </a:lnTo>
                <a:lnTo>
                  <a:pt x="1169" y="221"/>
                </a:lnTo>
                <a:lnTo>
                  <a:pt x="1164" y="214"/>
                </a:lnTo>
                <a:lnTo>
                  <a:pt x="1158" y="207"/>
                </a:lnTo>
                <a:lnTo>
                  <a:pt x="1153" y="199"/>
                </a:lnTo>
                <a:lnTo>
                  <a:pt x="1147" y="192"/>
                </a:lnTo>
                <a:lnTo>
                  <a:pt x="1142" y="185"/>
                </a:lnTo>
                <a:lnTo>
                  <a:pt x="1136" y="177"/>
                </a:lnTo>
                <a:lnTo>
                  <a:pt x="1125" y="170"/>
                </a:lnTo>
                <a:lnTo>
                  <a:pt x="1120" y="163"/>
                </a:lnTo>
                <a:lnTo>
                  <a:pt x="1120" y="155"/>
                </a:lnTo>
                <a:lnTo>
                  <a:pt x="1114" y="148"/>
                </a:lnTo>
                <a:lnTo>
                  <a:pt x="1108" y="141"/>
                </a:lnTo>
                <a:lnTo>
                  <a:pt x="1108" y="134"/>
                </a:lnTo>
                <a:lnTo>
                  <a:pt x="1108" y="126"/>
                </a:lnTo>
                <a:lnTo>
                  <a:pt x="1103" y="119"/>
                </a:lnTo>
                <a:lnTo>
                  <a:pt x="1103" y="112"/>
                </a:lnTo>
                <a:lnTo>
                  <a:pt x="1097" y="104"/>
                </a:lnTo>
                <a:lnTo>
                  <a:pt x="1097" y="97"/>
                </a:lnTo>
                <a:lnTo>
                  <a:pt x="1097" y="90"/>
                </a:lnTo>
                <a:lnTo>
                  <a:pt x="1092" y="83"/>
                </a:lnTo>
                <a:lnTo>
                  <a:pt x="1086" y="75"/>
                </a:lnTo>
                <a:lnTo>
                  <a:pt x="1086" y="68"/>
                </a:lnTo>
                <a:lnTo>
                  <a:pt x="1086" y="61"/>
                </a:lnTo>
                <a:lnTo>
                  <a:pt x="1081" y="53"/>
                </a:lnTo>
                <a:lnTo>
                  <a:pt x="1081" y="46"/>
                </a:lnTo>
                <a:lnTo>
                  <a:pt x="1081" y="39"/>
                </a:lnTo>
                <a:lnTo>
                  <a:pt x="1081" y="32"/>
                </a:lnTo>
                <a:lnTo>
                  <a:pt x="1081" y="24"/>
                </a:lnTo>
                <a:lnTo>
                  <a:pt x="1075" y="17"/>
                </a:lnTo>
                <a:lnTo>
                  <a:pt x="1075" y="10"/>
                </a:lnTo>
                <a:lnTo>
                  <a:pt x="1075" y="2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2240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128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0676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940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240" y="542124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83480" y="543240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80560" y="523728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334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098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49640" y="4249800"/>
            <a:ext cx="0" cy="9111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04760" y="3753000"/>
            <a:ext cx="0" cy="17017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6320" y="365760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25480" y="518328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90560" y="5229360"/>
            <a:ext cx="3021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300360" y="1614600"/>
            <a:ext cx="225360" cy="2974680"/>
            <a:chOff x="6300360" y="1614600"/>
            <a:chExt cx="225360" cy="2974680"/>
          </a:xfrm>
        </p:grpSpPr>
        <p:sp>
          <p:nvSpPr>
            <p:cNvPr id="601" name=""/>
            <p:cNvSpPr/>
            <p:nvPr/>
          </p:nvSpPr>
          <p:spPr>
            <a:xfrm>
              <a:off x="6300360" y="1614600"/>
              <a:ext cx="22248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6" y="1"/>
                  </a:moveTo>
                  <a:arcTo wR="10800" hR="10800" stAng="-5449107" swAng="5449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6" y="1"/>
                  </a:moveTo>
                  <a:arcTo wR="10800" hR="10800" stAng="-5449107" swAng="5449107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00720" y="1614600"/>
              <a:ext cx="22500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8"/>
                  </a:moveTo>
                  <a:arcTo wR="10800" hR="10800" stAng="-10796333" swAng="53479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8"/>
                  </a:moveTo>
                  <a:arcTo wR="10800" hR="10800" stAng="-10796333" swAng="5347943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075360" y="3008160"/>
            <a:ext cx="689040" cy="2244960"/>
          </a:xfrm>
          <a:custGeom>
            <a:avLst/>
            <a:gdLst/>
            <a:ahLst/>
            <a:rect l="l" t="t" r="r" b="b"/>
            <a:pathLst>
              <a:path w="434" h="1414">
                <a:moveTo>
                  <a:pt x="122" y="0"/>
                </a:moveTo>
                <a:lnTo>
                  <a:pt x="125" y="27"/>
                </a:lnTo>
                <a:lnTo>
                  <a:pt x="123" y="54"/>
                </a:lnTo>
                <a:lnTo>
                  <a:pt x="123" y="82"/>
                </a:lnTo>
                <a:lnTo>
                  <a:pt x="123" y="109"/>
                </a:lnTo>
                <a:lnTo>
                  <a:pt x="123" y="136"/>
                </a:lnTo>
                <a:lnTo>
                  <a:pt x="122" y="163"/>
                </a:lnTo>
                <a:lnTo>
                  <a:pt x="122" y="190"/>
                </a:lnTo>
                <a:lnTo>
                  <a:pt x="122" y="217"/>
                </a:lnTo>
                <a:lnTo>
                  <a:pt x="122" y="245"/>
                </a:lnTo>
                <a:lnTo>
                  <a:pt x="122" y="272"/>
                </a:lnTo>
                <a:lnTo>
                  <a:pt x="120" y="299"/>
                </a:lnTo>
                <a:lnTo>
                  <a:pt x="120" y="326"/>
                </a:lnTo>
                <a:lnTo>
                  <a:pt x="119" y="353"/>
                </a:lnTo>
                <a:lnTo>
                  <a:pt x="117" y="380"/>
                </a:lnTo>
                <a:lnTo>
                  <a:pt x="117" y="408"/>
                </a:lnTo>
                <a:lnTo>
                  <a:pt x="117" y="435"/>
                </a:lnTo>
                <a:lnTo>
                  <a:pt x="117" y="462"/>
                </a:lnTo>
                <a:lnTo>
                  <a:pt x="116" y="489"/>
                </a:lnTo>
                <a:lnTo>
                  <a:pt x="116" y="516"/>
                </a:lnTo>
                <a:lnTo>
                  <a:pt x="114" y="543"/>
                </a:lnTo>
                <a:lnTo>
                  <a:pt x="114" y="571"/>
                </a:lnTo>
                <a:lnTo>
                  <a:pt x="111" y="598"/>
                </a:lnTo>
                <a:lnTo>
                  <a:pt x="110" y="625"/>
                </a:lnTo>
                <a:lnTo>
                  <a:pt x="110" y="652"/>
                </a:lnTo>
                <a:lnTo>
                  <a:pt x="108" y="679"/>
                </a:lnTo>
                <a:lnTo>
                  <a:pt x="108" y="707"/>
                </a:lnTo>
                <a:lnTo>
                  <a:pt x="105" y="734"/>
                </a:lnTo>
                <a:lnTo>
                  <a:pt x="104" y="761"/>
                </a:lnTo>
                <a:lnTo>
                  <a:pt x="102" y="788"/>
                </a:lnTo>
                <a:lnTo>
                  <a:pt x="101" y="815"/>
                </a:lnTo>
                <a:lnTo>
                  <a:pt x="98" y="842"/>
                </a:lnTo>
                <a:lnTo>
                  <a:pt x="96" y="870"/>
                </a:lnTo>
                <a:lnTo>
                  <a:pt x="93" y="897"/>
                </a:lnTo>
                <a:lnTo>
                  <a:pt x="91" y="924"/>
                </a:lnTo>
                <a:lnTo>
                  <a:pt x="90" y="951"/>
                </a:lnTo>
                <a:lnTo>
                  <a:pt x="88" y="978"/>
                </a:lnTo>
                <a:lnTo>
                  <a:pt x="85" y="1005"/>
                </a:lnTo>
                <a:lnTo>
                  <a:pt x="82" y="1033"/>
                </a:lnTo>
                <a:lnTo>
                  <a:pt x="79" y="1060"/>
                </a:lnTo>
                <a:lnTo>
                  <a:pt x="76" y="1087"/>
                </a:lnTo>
                <a:lnTo>
                  <a:pt x="73" y="1114"/>
                </a:lnTo>
                <a:lnTo>
                  <a:pt x="70" y="1141"/>
                </a:lnTo>
                <a:lnTo>
                  <a:pt x="66" y="1159"/>
                </a:lnTo>
                <a:lnTo>
                  <a:pt x="63" y="1187"/>
                </a:lnTo>
                <a:lnTo>
                  <a:pt x="59" y="1214"/>
                </a:lnTo>
                <a:lnTo>
                  <a:pt x="59" y="1241"/>
                </a:lnTo>
                <a:lnTo>
                  <a:pt x="55" y="1250"/>
                </a:lnTo>
                <a:lnTo>
                  <a:pt x="59" y="1223"/>
                </a:lnTo>
                <a:lnTo>
                  <a:pt x="55" y="1223"/>
                </a:lnTo>
                <a:lnTo>
                  <a:pt x="50" y="1241"/>
                </a:lnTo>
                <a:lnTo>
                  <a:pt x="46" y="1259"/>
                </a:lnTo>
                <a:lnTo>
                  <a:pt x="43" y="1286"/>
                </a:lnTo>
                <a:lnTo>
                  <a:pt x="38" y="1295"/>
                </a:lnTo>
                <a:lnTo>
                  <a:pt x="34" y="1304"/>
                </a:lnTo>
                <a:lnTo>
                  <a:pt x="30" y="1331"/>
                </a:lnTo>
                <a:lnTo>
                  <a:pt x="26" y="1331"/>
                </a:lnTo>
                <a:lnTo>
                  <a:pt x="23" y="1359"/>
                </a:lnTo>
                <a:lnTo>
                  <a:pt x="18" y="1368"/>
                </a:lnTo>
                <a:lnTo>
                  <a:pt x="14" y="1377"/>
                </a:lnTo>
                <a:lnTo>
                  <a:pt x="9" y="1395"/>
                </a:lnTo>
                <a:lnTo>
                  <a:pt x="5" y="1404"/>
                </a:lnTo>
                <a:lnTo>
                  <a:pt x="0" y="1404"/>
                </a:lnTo>
                <a:lnTo>
                  <a:pt x="433" y="1404"/>
                </a:lnTo>
                <a:lnTo>
                  <a:pt x="433" y="1413"/>
                </a:lnTo>
                <a:lnTo>
                  <a:pt x="428" y="1404"/>
                </a:lnTo>
                <a:lnTo>
                  <a:pt x="424" y="1404"/>
                </a:lnTo>
                <a:lnTo>
                  <a:pt x="419" y="1404"/>
                </a:lnTo>
                <a:lnTo>
                  <a:pt x="415" y="1395"/>
                </a:lnTo>
                <a:lnTo>
                  <a:pt x="410" y="1377"/>
                </a:lnTo>
                <a:lnTo>
                  <a:pt x="406" y="1368"/>
                </a:lnTo>
                <a:lnTo>
                  <a:pt x="401" y="1368"/>
                </a:lnTo>
                <a:lnTo>
                  <a:pt x="396" y="1359"/>
                </a:lnTo>
                <a:lnTo>
                  <a:pt x="392" y="1350"/>
                </a:lnTo>
                <a:lnTo>
                  <a:pt x="387" y="1331"/>
                </a:lnTo>
                <a:lnTo>
                  <a:pt x="383" y="1313"/>
                </a:lnTo>
                <a:lnTo>
                  <a:pt x="378" y="1295"/>
                </a:lnTo>
                <a:lnTo>
                  <a:pt x="374" y="1277"/>
                </a:lnTo>
                <a:lnTo>
                  <a:pt x="369" y="1259"/>
                </a:lnTo>
                <a:lnTo>
                  <a:pt x="366" y="1232"/>
                </a:lnTo>
                <a:lnTo>
                  <a:pt x="361" y="1214"/>
                </a:lnTo>
                <a:lnTo>
                  <a:pt x="358" y="1187"/>
                </a:lnTo>
                <a:lnTo>
                  <a:pt x="354" y="1178"/>
                </a:lnTo>
                <a:lnTo>
                  <a:pt x="351" y="1150"/>
                </a:lnTo>
                <a:lnTo>
                  <a:pt x="348" y="1123"/>
                </a:lnTo>
                <a:lnTo>
                  <a:pt x="345" y="1096"/>
                </a:lnTo>
                <a:lnTo>
                  <a:pt x="343" y="1069"/>
                </a:lnTo>
                <a:lnTo>
                  <a:pt x="342" y="1042"/>
                </a:lnTo>
                <a:lnTo>
                  <a:pt x="338" y="1014"/>
                </a:lnTo>
                <a:lnTo>
                  <a:pt x="337" y="987"/>
                </a:lnTo>
                <a:lnTo>
                  <a:pt x="334" y="960"/>
                </a:lnTo>
                <a:lnTo>
                  <a:pt x="331" y="933"/>
                </a:lnTo>
                <a:lnTo>
                  <a:pt x="328" y="906"/>
                </a:lnTo>
                <a:lnTo>
                  <a:pt x="325" y="879"/>
                </a:lnTo>
                <a:lnTo>
                  <a:pt x="323" y="851"/>
                </a:lnTo>
                <a:lnTo>
                  <a:pt x="322" y="824"/>
                </a:lnTo>
                <a:lnTo>
                  <a:pt x="320" y="797"/>
                </a:lnTo>
                <a:lnTo>
                  <a:pt x="319" y="770"/>
                </a:lnTo>
                <a:lnTo>
                  <a:pt x="317" y="743"/>
                </a:lnTo>
                <a:lnTo>
                  <a:pt x="316" y="716"/>
                </a:lnTo>
                <a:lnTo>
                  <a:pt x="314" y="688"/>
                </a:lnTo>
                <a:lnTo>
                  <a:pt x="313" y="661"/>
                </a:lnTo>
                <a:lnTo>
                  <a:pt x="310" y="634"/>
                </a:lnTo>
                <a:lnTo>
                  <a:pt x="308" y="607"/>
                </a:lnTo>
                <a:lnTo>
                  <a:pt x="308" y="580"/>
                </a:lnTo>
                <a:lnTo>
                  <a:pt x="306" y="553"/>
                </a:lnTo>
                <a:lnTo>
                  <a:pt x="305" y="525"/>
                </a:lnTo>
                <a:lnTo>
                  <a:pt x="305" y="498"/>
                </a:lnTo>
                <a:lnTo>
                  <a:pt x="305" y="471"/>
                </a:lnTo>
                <a:lnTo>
                  <a:pt x="303" y="444"/>
                </a:lnTo>
                <a:lnTo>
                  <a:pt x="303" y="417"/>
                </a:lnTo>
                <a:lnTo>
                  <a:pt x="302" y="389"/>
                </a:lnTo>
                <a:lnTo>
                  <a:pt x="302" y="362"/>
                </a:lnTo>
                <a:lnTo>
                  <a:pt x="302" y="335"/>
                </a:lnTo>
                <a:lnTo>
                  <a:pt x="300" y="308"/>
                </a:lnTo>
                <a:lnTo>
                  <a:pt x="299" y="281"/>
                </a:lnTo>
                <a:lnTo>
                  <a:pt x="299" y="254"/>
                </a:lnTo>
                <a:lnTo>
                  <a:pt x="299" y="226"/>
                </a:lnTo>
                <a:lnTo>
                  <a:pt x="297" y="199"/>
                </a:lnTo>
                <a:lnTo>
                  <a:pt x="297" y="172"/>
                </a:lnTo>
                <a:lnTo>
                  <a:pt x="297" y="145"/>
                </a:lnTo>
                <a:lnTo>
                  <a:pt x="297" y="118"/>
                </a:lnTo>
                <a:lnTo>
                  <a:pt x="297" y="91"/>
                </a:lnTo>
                <a:lnTo>
                  <a:pt x="296" y="63"/>
                </a:lnTo>
                <a:lnTo>
                  <a:pt x="296" y="36"/>
                </a:lnTo>
                <a:lnTo>
                  <a:pt x="296" y="9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643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95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05480" y="1644480"/>
            <a:ext cx="0" cy="35388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929120" y="2817720"/>
            <a:ext cx="3642480" cy="2675160"/>
            <a:chOff x="4929120" y="2817720"/>
            <a:chExt cx="3642480" cy="2675160"/>
          </a:xfrm>
        </p:grpSpPr>
        <p:sp>
          <p:nvSpPr>
            <p:cNvPr id="608" name=""/>
            <p:cNvSpPr/>
            <p:nvPr/>
          </p:nvSpPr>
          <p:spPr>
            <a:xfrm>
              <a:off x="5229360" y="2928960"/>
              <a:ext cx="0" cy="2563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29120" y="28177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48280" y="510228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4800" y="5262480"/>
              <a:ext cx="30211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6046920" y="5530680"/>
            <a:ext cx="0" cy="113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19840" y="551664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19960" y="565956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20240" y="565632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32080" y="538956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74160" y="5678640"/>
            <a:ext cx="261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6680" y="5973840"/>
            <a:ext cx="261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35240" y="1749600"/>
            <a:ext cx="48708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2957400"/>
            <a:ext cx="14684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2008080"/>
            <a:ext cx="0" cy="63360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008080"/>
            <a:ext cx="0" cy="633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54800" y="1825560"/>
            <a:ext cx="487440" cy="4446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3033720"/>
            <a:ext cx="14684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084400"/>
            <a:ext cx="0" cy="6332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10280" y="2084400"/>
            <a:ext cx="0" cy="633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25440" y="2265480"/>
            <a:ext cx="159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نر نرم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03040" y="4092480"/>
            <a:ext cx="185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نر سخت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481880" y="3188880"/>
            <a:ext cx="49320" cy="8622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2198160" y="2655720"/>
            <a:ext cx="862200" cy="100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318080" y="2239560"/>
            <a:ext cx="581400" cy="587520"/>
            <a:chOff x="7318080" y="2239560"/>
            <a:chExt cx="581400" cy="587520"/>
          </a:xfrm>
        </p:grpSpPr>
        <p:grpSp>
          <p:nvGrpSpPr>
            <p:cNvPr id="632" name=""/>
            <p:cNvGrpSpPr/>
            <p:nvPr/>
          </p:nvGrpSpPr>
          <p:grpSpPr>
            <a:xfrm>
              <a:off x="7318080" y="2531520"/>
              <a:ext cx="581400" cy="295560"/>
              <a:chOff x="7318080" y="2531520"/>
              <a:chExt cx="581400" cy="295560"/>
            </a:xfrm>
          </p:grpSpPr>
          <p:sp>
            <p:nvSpPr>
              <p:cNvPr id="633" name=""/>
              <p:cNvSpPr/>
              <p:nvPr/>
            </p:nvSpPr>
            <p:spPr>
              <a:xfrm flipH="1" flipV="1">
                <a:off x="7318080" y="2749320"/>
                <a:ext cx="290520" cy="777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7318440" y="2675880"/>
                <a:ext cx="290520" cy="730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7608600" y="2531520"/>
                <a:ext cx="290880" cy="144720"/>
                <a:chOff x="7608600" y="2531520"/>
                <a:chExt cx="290880" cy="144720"/>
              </a:xfrm>
            </p:grpSpPr>
            <p:sp>
              <p:nvSpPr>
                <p:cNvPr id="636" name=""/>
                <p:cNvSpPr/>
                <p:nvPr/>
              </p:nvSpPr>
              <p:spPr>
                <a:xfrm flipV="1">
                  <a:off x="7608960" y="2603520"/>
                  <a:ext cx="290520" cy="727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>
                  <a:off x="7608600" y="2531520"/>
                  <a:ext cx="290520" cy="71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7318080" y="2239560"/>
              <a:ext cx="581400" cy="291960"/>
              <a:chOff x="7318080" y="2239560"/>
              <a:chExt cx="581400" cy="291960"/>
            </a:xfrm>
          </p:grpSpPr>
          <p:sp>
            <p:nvSpPr>
              <p:cNvPr id="639" name=""/>
              <p:cNvSpPr/>
              <p:nvPr/>
            </p:nvSpPr>
            <p:spPr>
              <a:xfrm flipH="1" flipV="1">
                <a:off x="7318080" y="2458440"/>
                <a:ext cx="290520" cy="730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7318440" y="2386080"/>
                <a:ext cx="290520" cy="727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7608600" y="2239560"/>
                <a:ext cx="290880" cy="146160"/>
                <a:chOff x="7608600" y="2239560"/>
                <a:chExt cx="290880" cy="146160"/>
              </a:xfrm>
            </p:grpSpPr>
            <p:sp>
              <p:nvSpPr>
                <p:cNvPr id="642" name=""/>
                <p:cNvSpPr/>
                <p:nvPr/>
              </p:nvSpPr>
              <p:spPr>
                <a:xfrm flipV="1">
                  <a:off x="7608960" y="2312640"/>
                  <a:ext cx="290520" cy="7308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7608600" y="2239560"/>
                  <a:ext cx="290520" cy="7308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4" name=""/>
          <p:cNvGrpSpPr/>
          <p:nvPr/>
        </p:nvGrpSpPr>
        <p:grpSpPr>
          <a:xfrm>
            <a:off x="1261800" y="2187360"/>
            <a:ext cx="581400" cy="605520"/>
            <a:chOff x="1261800" y="2187360"/>
            <a:chExt cx="581400" cy="605520"/>
          </a:xfrm>
        </p:grpSpPr>
        <p:grpSp>
          <p:nvGrpSpPr>
            <p:cNvPr id="645" name=""/>
            <p:cNvGrpSpPr/>
            <p:nvPr/>
          </p:nvGrpSpPr>
          <p:grpSpPr>
            <a:xfrm>
              <a:off x="1261800" y="2187360"/>
              <a:ext cx="581400" cy="300600"/>
              <a:chOff x="1261800" y="2187360"/>
              <a:chExt cx="581400" cy="3006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1261800" y="2337840"/>
                <a:ext cx="581400" cy="150120"/>
                <a:chOff x="1261800" y="2337840"/>
                <a:chExt cx="581400" cy="150120"/>
              </a:xfrm>
            </p:grpSpPr>
            <p:sp>
              <p:nvSpPr>
                <p:cNvPr id="647" name=""/>
                <p:cNvSpPr/>
                <p:nvPr/>
              </p:nvSpPr>
              <p:spPr>
                <a:xfrm flipH="1" flipV="1">
                  <a:off x="1261800" y="2448720"/>
                  <a:ext cx="2905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262160" y="241056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1552320" y="2337840"/>
                  <a:ext cx="290880" cy="72720"/>
                  <a:chOff x="1552320" y="2337840"/>
                  <a:chExt cx="290880" cy="727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V="1">
                    <a:off x="1552680" y="2374560"/>
                    <a:ext cx="290520" cy="3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flipV="1">
                    <a:off x="1552320" y="2337840"/>
                    <a:ext cx="290520" cy="363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"/>
              <p:cNvGrpSpPr/>
              <p:nvPr/>
            </p:nvGrpSpPr>
            <p:grpSpPr>
              <a:xfrm>
                <a:off x="1261800" y="2187360"/>
                <a:ext cx="581400" cy="150120"/>
                <a:chOff x="1261800" y="2187360"/>
                <a:chExt cx="581400" cy="150120"/>
              </a:xfrm>
            </p:grpSpPr>
            <p:sp>
              <p:nvSpPr>
                <p:cNvPr id="653" name=""/>
                <p:cNvSpPr/>
                <p:nvPr/>
              </p:nvSpPr>
              <p:spPr>
                <a:xfrm flipH="1" flipV="1">
                  <a:off x="1261800" y="229968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1262160" y="2263680"/>
                  <a:ext cx="2905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1552320" y="2187360"/>
                  <a:ext cx="290880" cy="75600"/>
                  <a:chOff x="1552320" y="2187360"/>
                  <a:chExt cx="290880" cy="756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V="1">
                    <a:off x="1552680" y="222516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>
                    <a:off x="1552320" y="218736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8" name=""/>
            <p:cNvGrpSpPr/>
            <p:nvPr/>
          </p:nvGrpSpPr>
          <p:grpSpPr>
            <a:xfrm>
              <a:off x="1261800" y="2491920"/>
              <a:ext cx="581400" cy="300960"/>
              <a:chOff x="1261800" y="2491920"/>
              <a:chExt cx="581400" cy="30096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1261800" y="2642760"/>
                <a:ext cx="581400" cy="150120"/>
                <a:chOff x="1261800" y="2642760"/>
                <a:chExt cx="581400" cy="150120"/>
              </a:xfrm>
            </p:grpSpPr>
            <p:sp>
              <p:nvSpPr>
                <p:cNvPr id="660" name=""/>
                <p:cNvSpPr/>
                <p:nvPr/>
              </p:nvSpPr>
              <p:spPr>
                <a:xfrm flipH="1" flipV="1">
                  <a:off x="1261800" y="2753280"/>
                  <a:ext cx="290520" cy="39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1262160" y="2715480"/>
                  <a:ext cx="2905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1552320" y="2642760"/>
                  <a:ext cx="290880" cy="72000"/>
                  <a:chOff x="1552320" y="2642760"/>
                  <a:chExt cx="290880" cy="7200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V="1">
                    <a:off x="1552680" y="2678400"/>
                    <a:ext cx="290520" cy="363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flipV="1">
                    <a:off x="1552320" y="2642760"/>
                    <a:ext cx="290520" cy="3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1261800" y="2491920"/>
                <a:ext cx="581400" cy="150120"/>
                <a:chOff x="1261800" y="2491920"/>
                <a:chExt cx="581400" cy="150120"/>
              </a:xfrm>
            </p:grpSpPr>
            <p:sp>
              <p:nvSpPr>
                <p:cNvPr id="666" name=""/>
                <p:cNvSpPr/>
                <p:nvPr/>
              </p:nvSpPr>
              <p:spPr>
                <a:xfrm flipH="1" flipV="1">
                  <a:off x="1261800" y="260424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1262160" y="2567520"/>
                  <a:ext cx="290520" cy="363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1552320" y="2491920"/>
                  <a:ext cx="290880" cy="75600"/>
                  <a:chOff x="1552320" y="2491920"/>
                  <a:chExt cx="290880" cy="7560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V="1">
                    <a:off x="1552680" y="2530080"/>
                    <a:ext cx="290520" cy="37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 flipV="1">
                    <a:off x="1552320" y="249192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r>
              <a:rPr b="1" i="1" lang="fa-IR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62720" indent="-16272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جعبه یکی سنگین تر از دیگری روی یک سطح تخت بدون اصطکاک قرار دارندو به مدت یک ثانیه تحت تاثیر نیرو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رار می گیر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8200" indent="-12996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 از اثر این نیرو کدام یک تکانه بیشتری دارا خواهند ب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50990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450440" y="469440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78080" y="4343400"/>
            <a:ext cx="3111480" cy="17398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54440" y="4343400"/>
            <a:ext cx="3111480" cy="17398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444760" y="4876920"/>
            <a:ext cx="673200" cy="4442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5327640"/>
            <a:ext cx="2819520" cy="76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29200" y="50990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27160" y="469440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721480" y="4648320"/>
            <a:ext cx="825480" cy="6728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800600" y="5327640"/>
            <a:ext cx="2819520" cy="76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94480" y="4923000"/>
            <a:ext cx="134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ب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24400" y="4846680"/>
            <a:ext cx="145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نگی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31370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 – سنگین تر          ب- سبک تر                 ج- یکسا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50990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50440" y="469440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54440" y="4343400"/>
            <a:ext cx="3111480" cy="17398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444760" y="4876920"/>
            <a:ext cx="673200" cy="4442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5327640"/>
            <a:ext cx="2819520" cy="76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0990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27160" y="469440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21480" y="4648320"/>
            <a:ext cx="825480" cy="6728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00600" y="5327640"/>
            <a:ext cx="2819520" cy="76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094840" y="4923000"/>
            <a:ext cx="127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ب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24400" y="4846680"/>
            <a:ext cx="145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نگی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78080" y="4343400"/>
            <a:ext cx="3111480" cy="17398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4995720" y="2001960"/>
                <a:ext cx="10144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6478560" y="2122560"/>
            <a:ext cx="118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2119320" y="2347920"/>
                <a:ext cx="1206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"/>
          <p:cNvSpPr/>
          <p:nvPr/>
        </p:nvSpPr>
        <p:spPr>
          <a:xfrm>
            <a:off x="3436200" y="2193840"/>
            <a:ext cx="16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49400" y="2184480"/>
            <a:ext cx="1435320" cy="520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83720" y="2975040"/>
            <a:ext cx="61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مسئ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هر دو جعبه یکسان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220920" y="3695760"/>
            <a:ext cx="5037120" cy="366840"/>
            <a:chOff x="3220920" y="3695760"/>
            <a:chExt cx="5037120" cy="366840"/>
          </a:xfrm>
        </p:grpSpPr>
        <p:sp>
          <p:nvSpPr>
            <p:cNvPr id="706" name=""/>
            <p:cNvSpPr/>
            <p:nvPr/>
          </p:nvSpPr>
          <p:spPr>
            <a:xfrm>
              <a:off x="3322440" y="3695760"/>
              <a:ext cx="4935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لذا دو جعبه تکانه مساوی خواهند داشت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20920" y="3725640"/>
              <a:ext cx="672840" cy="292320"/>
            </a:xfrm>
            <a:prstGeom prst="rightArrow">
              <a:avLst>
                <a:gd name="adj1" fmla="val 50000"/>
                <a:gd name="adj2" fmla="val 115097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32440" y="3092760"/>
            <a:ext cx="107964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140880" y="3057480"/>
            <a:ext cx="675000" cy="2123640"/>
            <a:chOff x="6140880" y="3057480"/>
            <a:chExt cx="675000" cy="2123640"/>
          </a:xfrm>
        </p:grpSpPr>
        <p:sp>
          <p:nvSpPr>
            <p:cNvPr id="712" name=""/>
            <p:cNvSpPr/>
            <p:nvPr/>
          </p:nvSpPr>
          <p:spPr>
            <a:xfrm>
              <a:off x="6140880" y="3057480"/>
              <a:ext cx="672480" cy="21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43760" y="3057480"/>
              <a:ext cx="672120" cy="21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4"/>
                  </a:moveTo>
                  <a:arcTo wR="10800" hR="10800" stAng="-10794861" swAng="5378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4"/>
                  </a:moveTo>
                  <a:arcTo wR="10800" hR="10800" stAng="-10794861" swAng="5378645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023080" y="3092760"/>
            <a:ext cx="107892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7800" y="2738520"/>
            <a:ext cx="0" cy="25635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43600" y="5086440"/>
            <a:ext cx="30207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7560" y="26272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6720" y="491184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581800" y="521496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29680" y="5214960"/>
            <a:ext cx="0" cy="2016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29480" y="5315040"/>
            <a:ext cx="6872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05560" y="5315040"/>
            <a:ext cx="68724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68520" y="5464080"/>
            <a:ext cx="85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036200" y="548316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00880" y="4076640"/>
            <a:ext cx="1804680" cy="992160"/>
          </a:xfrm>
          <a:custGeom>
            <a:avLst/>
            <a:gdLst/>
            <a:ahLst/>
            <a:rect l="l" t="t" r="r" b="b"/>
            <a:pathLst>
              <a:path w="1137" h="625">
                <a:moveTo>
                  <a:pt x="320" y="0"/>
                </a:moveTo>
                <a:lnTo>
                  <a:pt x="328" y="12"/>
                </a:lnTo>
                <a:lnTo>
                  <a:pt x="324" y="24"/>
                </a:lnTo>
                <a:lnTo>
                  <a:pt x="324" y="36"/>
                </a:lnTo>
                <a:lnTo>
                  <a:pt x="324" y="48"/>
                </a:lnTo>
                <a:lnTo>
                  <a:pt x="324" y="60"/>
                </a:lnTo>
                <a:lnTo>
                  <a:pt x="320" y="72"/>
                </a:lnTo>
                <a:lnTo>
                  <a:pt x="320" y="84"/>
                </a:lnTo>
                <a:lnTo>
                  <a:pt x="320" y="96"/>
                </a:lnTo>
                <a:lnTo>
                  <a:pt x="320" y="108"/>
                </a:lnTo>
                <a:lnTo>
                  <a:pt x="320" y="120"/>
                </a:lnTo>
                <a:lnTo>
                  <a:pt x="316" y="132"/>
                </a:lnTo>
                <a:lnTo>
                  <a:pt x="316" y="144"/>
                </a:lnTo>
                <a:lnTo>
                  <a:pt x="312" y="156"/>
                </a:lnTo>
                <a:lnTo>
                  <a:pt x="308" y="168"/>
                </a:lnTo>
                <a:lnTo>
                  <a:pt x="308" y="180"/>
                </a:lnTo>
                <a:lnTo>
                  <a:pt x="308" y="192"/>
                </a:lnTo>
                <a:lnTo>
                  <a:pt x="308" y="204"/>
                </a:lnTo>
                <a:lnTo>
                  <a:pt x="304" y="216"/>
                </a:lnTo>
                <a:lnTo>
                  <a:pt x="304" y="228"/>
                </a:lnTo>
                <a:lnTo>
                  <a:pt x="300" y="240"/>
                </a:lnTo>
                <a:lnTo>
                  <a:pt x="300" y="252"/>
                </a:lnTo>
                <a:lnTo>
                  <a:pt x="292" y="264"/>
                </a:lnTo>
                <a:lnTo>
                  <a:pt x="288" y="276"/>
                </a:lnTo>
                <a:lnTo>
                  <a:pt x="288" y="288"/>
                </a:lnTo>
                <a:lnTo>
                  <a:pt x="284" y="300"/>
                </a:lnTo>
                <a:lnTo>
                  <a:pt x="284" y="312"/>
                </a:lnTo>
                <a:lnTo>
                  <a:pt x="276" y="324"/>
                </a:lnTo>
                <a:lnTo>
                  <a:pt x="272" y="336"/>
                </a:lnTo>
                <a:lnTo>
                  <a:pt x="268" y="348"/>
                </a:lnTo>
                <a:lnTo>
                  <a:pt x="264" y="360"/>
                </a:lnTo>
                <a:lnTo>
                  <a:pt x="256" y="372"/>
                </a:lnTo>
                <a:lnTo>
                  <a:pt x="252" y="384"/>
                </a:lnTo>
                <a:lnTo>
                  <a:pt x="244" y="396"/>
                </a:lnTo>
                <a:lnTo>
                  <a:pt x="240" y="408"/>
                </a:lnTo>
                <a:lnTo>
                  <a:pt x="236" y="420"/>
                </a:lnTo>
                <a:lnTo>
                  <a:pt x="232" y="432"/>
                </a:lnTo>
                <a:lnTo>
                  <a:pt x="224" y="444"/>
                </a:lnTo>
                <a:lnTo>
                  <a:pt x="216" y="456"/>
                </a:lnTo>
                <a:lnTo>
                  <a:pt x="208" y="468"/>
                </a:lnTo>
                <a:lnTo>
                  <a:pt x="200" y="480"/>
                </a:lnTo>
                <a:lnTo>
                  <a:pt x="192" y="492"/>
                </a:lnTo>
                <a:lnTo>
                  <a:pt x="184" y="504"/>
                </a:lnTo>
                <a:lnTo>
                  <a:pt x="172" y="512"/>
                </a:lnTo>
                <a:lnTo>
                  <a:pt x="164" y="524"/>
                </a:lnTo>
                <a:lnTo>
                  <a:pt x="156" y="536"/>
                </a:lnTo>
                <a:lnTo>
                  <a:pt x="156" y="548"/>
                </a:lnTo>
                <a:lnTo>
                  <a:pt x="144" y="552"/>
                </a:lnTo>
                <a:lnTo>
                  <a:pt x="156" y="540"/>
                </a:lnTo>
                <a:lnTo>
                  <a:pt x="144" y="540"/>
                </a:lnTo>
                <a:lnTo>
                  <a:pt x="132" y="548"/>
                </a:lnTo>
                <a:lnTo>
                  <a:pt x="120" y="556"/>
                </a:lnTo>
                <a:lnTo>
                  <a:pt x="112" y="568"/>
                </a:lnTo>
                <a:lnTo>
                  <a:pt x="100" y="572"/>
                </a:lnTo>
                <a:lnTo>
                  <a:pt x="88" y="576"/>
                </a:lnTo>
                <a:lnTo>
                  <a:pt x="80" y="588"/>
                </a:lnTo>
                <a:lnTo>
                  <a:pt x="68" y="588"/>
                </a:lnTo>
                <a:lnTo>
                  <a:pt x="60" y="600"/>
                </a:lnTo>
                <a:lnTo>
                  <a:pt x="48" y="604"/>
                </a:lnTo>
                <a:lnTo>
                  <a:pt x="36" y="608"/>
                </a:lnTo>
                <a:lnTo>
                  <a:pt x="24" y="616"/>
                </a:lnTo>
                <a:lnTo>
                  <a:pt x="12" y="620"/>
                </a:lnTo>
                <a:lnTo>
                  <a:pt x="0" y="620"/>
                </a:lnTo>
                <a:lnTo>
                  <a:pt x="1136" y="620"/>
                </a:lnTo>
                <a:lnTo>
                  <a:pt x="1136" y="624"/>
                </a:lnTo>
                <a:lnTo>
                  <a:pt x="1124" y="620"/>
                </a:lnTo>
                <a:lnTo>
                  <a:pt x="1112" y="620"/>
                </a:lnTo>
                <a:lnTo>
                  <a:pt x="1100" y="620"/>
                </a:lnTo>
                <a:lnTo>
                  <a:pt x="1088" y="616"/>
                </a:lnTo>
                <a:lnTo>
                  <a:pt x="1076" y="608"/>
                </a:lnTo>
                <a:lnTo>
                  <a:pt x="1064" y="604"/>
                </a:lnTo>
                <a:lnTo>
                  <a:pt x="1052" y="604"/>
                </a:lnTo>
                <a:lnTo>
                  <a:pt x="1040" y="600"/>
                </a:lnTo>
                <a:lnTo>
                  <a:pt x="1028" y="596"/>
                </a:lnTo>
                <a:lnTo>
                  <a:pt x="1016" y="588"/>
                </a:lnTo>
                <a:lnTo>
                  <a:pt x="1004" y="580"/>
                </a:lnTo>
                <a:lnTo>
                  <a:pt x="992" y="572"/>
                </a:lnTo>
                <a:lnTo>
                  <a:pt x="980" y="564"/>
                </a:lnTo>
                <a:lnTo>
                  <a:pt x="968" y="556"/>
                </a:lnTo>
                <a:lnTo>
                  <a:pt x="960" y="544"/>
                </a:lnTo>
                <a:lnTo>
                  <a:pt x="948" y="536"/>
                </a:lnTo>
                <a:lnTo>
                  <a:pt x="940" y="524"/>
                </a:lnTo>
                <a:lnTo>
                  <a:pt x="928" y="520"/>
                </a:lnTo>
                <a:lnTo>
                  <a:pt x="920" y="508"/>
                </a:lnTo>
                <a:lnTo>
                  <a:pt x="912" y="496"/>
                </a:lnTo>
                <a:lnTo>
                  <a:pt x="904" y="484"/>
                </a:lnTo>
                <a:lnTo>
                  <a:pt x="900" y="472"/>
                </a:lnTo>
                <a:lnTo>
                  <a:pt x="896" y="460"/>
                </a:lnTo>
                <a:lnTo>
                  <a:pt x="888" y="448"/>
                </a:lnTo>
                <a:lnTo>
                  <a:pt x="884" y="436"/>
                </a:lnTo>
                <a:lnTo>
                  <a:pt x="876" y="424"/>
                </a:lnTo>
                <a:lnTo>
                  <a:pt x="868" y="412"/>
                </a:lnTo>
                <a:lnTo>
                  <a:pt x="860" y="400"/>
                </a:lnTo>
                <a:lnTo>
                  <a:pt x="852" y="388"/>
                </a:lnTo>
                <a:lnTo>
                  <a:pt x="848" y="376"/>
                </a:lnTo>
                <a:lnTo>
                  <a:pt x="844" y="364"/>
                </a:lnTo>
                <a:lnTo>
                  <a:pt x="840" y="352"/>
                </a:lnTo>
                <a:lnTo>
                  <a:pt x="836" y="340"/>
                </a:lnTo>
                <a:lnTo>
                  <a:pt x="832" y="328"/>
                </a:lnTo>
                <a:lnTo>
                  <a:pt x="828" y="316"/>
                </a:lnTo>
                <a:lnTo>
                  <a:pt x="824" y="304"/>
                </a:lnTo>
                <a:lnTo>
                  <a:pt x="820" y="292"/>
                </a:lnTo>
                <a:lnTo>
                  <a:pt x="812" y="280"/>
                </a:lnTo>
                <a:lnTo>
                  <a:pt x="808" y="268"/>
                </a:lnTo>
                <a:lnTo>
                  <a:pt x="808" y="256"/>
                </a:lnTo>
                <a:lnTo>
                  <a:pt x="804" y="244"/>
                </a:lnTo>
                <a:lnTo>
                  <a:pt x="800" y="232"/>
                </a:lnTo>
                <a:lnTo>
                  <a:pt x="800" y="220"/>
                </a:lnTo>
                <a:lnTo>
                  <a:pt x="800" y="208"/>
                </a:lnTo>
                <a:lnTo>
                  <a:pt x="796" y="196"/>
                </a:lnTo>
                <a:lnTo>
                  <a:pt x="796" y="184"/>
                </a:lnTo>
                <a:lnTo>
                  <a:pt x="792" y="172"/>
                </a:lnTo>
                <a:lnTo>
                  <a:pt x="792" y="160"/>
                </a:lnTo>
                <a:lnTo>
                  <a:pt x="792" y="148"/>
                </a:lnTo>
                <a:lnTo>
                  <a:pt x="788" y="136"/>
                </a:lnTo>
                <a:lnTo>
                  <a:pt x="784" y="124"/>
                </a:lnTo>
                <a:lnTo>
                  <a:pt x="784" y="112"/>
                </a:lnTo>
                <a:lnTo>
                  <a:pt x="784" y="100"/>
                </a:lnTo>
                <a:lnTo>
                  <a:pt x="780" y="88"/>
                </a:lnTo>
                <a:lnTo>
                  <a:pt x="780" y="76"/>
                </a:lnTo>
                <a:lnTo>
                  <a:pt x="780" y="64"/>
                </a:lnTo>
                <a:lnTo>
                  <a:pt x="780" y="52"/>
                </a:lnTo>
                <a:lnTo>
                  <a:pt x="780" y="40"/>
                </a:lnTo>
                <a:lnTo>
                  <a:pt x="776" y="28"/>
                </a:lnTo>
                <a:lnTo>
                  <a:pt x="776" y="16"/>
                </a:lnTo>
                <a:lnTo>
                  <a:pt x="776" y="4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246280" y="4349880"/>
            <a:ext cx="3351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60840" y="4137120"/>
            <a:ext cx="1073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49160" y="2724120"/>
            <a:ext cx="41468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انگین زمانی نیرو در مدت زم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است با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628640" y="3821040"/>
                <a:ext cx="2160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2042640" y="5168880"/>
            <a:ext cx="1026000" cy="659160"/>
            <a:chOff x="2042640" y="5168880"/>
            <a:chExt cx="1026000" cy="659160"/>
          </a:xfrm>
        </p:grpSpPr>
        <p:sp>
          <p:nvSpPr>
            <p:cNvPr id="731" name=""/>
            <p:cNvSpPr/>
            <p:nvPr/>
          </p:nvSpPr>
          <p:spPr>
            <a:xfrm>
              <a:off x="2923920" y="55227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51840" y="5522760"/>
              <a:ext cx="17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85960" y="5494320"/>
              <a:ext cx="382680" cy="144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2880" y="5168880"/>
              <a:ext cx="17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86640" y="54831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afd00"/>
                  </a:solidFill>
                  <a:latin typeface="Arial"/>
                </a:rPr>
                <a:t>a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3520" y="5168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42640" y="53276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36840" y="53020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677880" y="525456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557680" y="4349880"/>
            <a:ext cx="1833480" cy="734760"/>
            <a:chOff x="5557680" y="4349880"/>
            <a:chExt cx="1833480" cy="734760"/>
          </a:xfrm>
        </p:grpSpPr>
        <p:sp>
          <p:nvSpPr>
            <p:cNvPr id="741" name=""/>
            <p:cNvSpPr/>
            <p:nvPr/>
          </p:nvSpPr>
          <p:spPr>
            <a:xfrm>
              <a:off x="5568840" y="4349880"/>
              <a:ext cx="1816200" cy="73476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208640" y="4910040"/>
              <a:ext cx="182520" cy="1317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973920" y="4700520"/>
              <a:ext cx="411120" cy="3603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745320" y="4491000"/>
              <a:ext cx="620640" cy="5698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523200" y="4383000"/>
              <a:ext cx="722160" cy="6717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6306840" y="4389480"/>
              <a:ext cx="703080" cy="65232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084720" y="4376880"/>
              <a:ext cx="709920" cy="6588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868720" y="4395960"/>
              <a:ext cx="677880" cy="6267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614560" y="4383000"/>
              <a:ext cx="716040" cy="6652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570280" y="4376880"/>
              <a:ext cx="538200" cy="4870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57680" y="4389480"/>
              <a:ext cx="309600" cy="25884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564160" y="4363920"/>
              <a:ext cx="100080" cy="4932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مفهوم تکان استفاده کرده و نیروی متوسط راکه  اصل مفیدی است تعریف می کن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08400" y="516096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58800" y="3673440"/>
            <a:ext cx="2400480" cy="1052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744560" y="5110200"/>
            <a:ext cx="1657440" cy="779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 و تک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785960" y="4243320"/>
            <a:ext cx="955440" cy="762120"/>
            <a:chOff x="1785960" y="4243320"/>
            <a:chExt cx="955440" cy="762120"/>
          </a:xfrm>
        </p:grpSpPr>
        <p:sp>
          <p:nvSpPr>
            <p:cNvPr id="762" name=""/>
            <p:cNvSpPr/>
            <p:nvPr/>
          </p:nvSpPr>
          <p:spPr>
            <a:xfrm>
              <a:off x="178596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6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628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89200" y="4243320"/>
              <a:ext cx="9522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0"/>
                  </a:moveTo>
                  <a:arcTo wR="10800" hR="10800" stAng="-10771353" swAng="5359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0"/>
                  </a:moveTo>
                  <a:arcTo wR="10800" hR="10800" stAng="-10771353" swAng="5359894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047600" y="4595760"/>
            <a:ext cx="2500560" cy="603360"/>
          </a:xfrm>
          <a:custGeom>
            <a:avLst/>
            <a:gdLst/>
            <a:ahLst/>
            <a:rect l="l" t="t" r="r" b="b"/>
            <a:pathLst>
              <a:path w="1575" h="380">
                <a:moveTo>
                  <a:pt x="443" y="0"/>
                </a:moveTo>
                <a:lnTo>
                  <a:pt x="454" y="7"/>
                </a:lnTo>
                <a:lnTo>
                  <a:pt x="449" y="15"/>
                </a:lnTo>
                <a:lnTo>
                  <a:pt x="449" y="22"/>
                </a:lnTo>
                <a:lnTo>
                  <a:pt x="449" y="29"/>
                </a:lnTo>
                <a:lnTo>
                  <a:pt x="449" y="36"/>
                </a:lnTo>
                <a:lnTo>
                  <a:pt x="443" y="44"/>
                </a:lnTo>
                <a:lnTo>
                  <a:pt x="443" y="51"/>
                </a:lnTo>
                <a:lnTo>
                  <a:pt x="443" y="58"/>
                </a:lnTo>
                <a:lnTo>
                  <a:pt x="443" y="66"/>
                </a:lnTo>
                <a:lnTo>
                  <a:pt x="443" y="73"/>
                </a:lnTo>
                <a:lnTo>
                  <a:pt x="438" y="80"/>
                </a:lnTo>
                <a:lnTo>
                  <a:pt x="438" y="87"/>
                </a:lnTo>
                <a:lnTo>
                  <a:pt x="432" y="95"/>
                </a:lnTo>
                <a:lnTo>
                  <a:pt x="427" y="102"/>
                </a:lnTo>
                <a:lnTo>
                  <a:pt x="427" y="109"/>
                </a:lnTo>
                <a:lnTo>
                  <a:pt x="427" y="117"/>
                </a:lnTo>
                <a:lnTo>
                  <a:pt x="427" y="124"/>
                </a:lnTo>
                <a:lnTo>
                  <a:pt x="421" y="131"/>
                </a:lnTo>
                <a:lnTo>
                  <a:pt x="421" y="138"/>
                </a:lnTo>
                <a:lnTo>
                  <a:pt x="416" y="146"/>
                </a:lnTo>
                <a:lnTo>
                  <a:pt x="416" y="153"/>
                </a:lnTo>
                <a:lnTo>
                  <a:pt x="405" y="160"/>
                </a:lnTo>
                <a:lnTo>
                  <a:pt x="399" y="168"/>
                </a:lnTo>
                <a:lnTo>
                  <a:pt x="399" y="175"/>
                </a:lnTo>
                <a:lnTo>
                  <a:pt x="394" y="182"/>
                </a:lnTo>
                <a:lnTo>
                  <a:pt x="394" y="190"/>
                </a:lnTo>
                <a:lnTo>
                  <a:pt x="382" y="197"/>
                </a:lnTo>
                <a:lnTo>
                  <a:pt x="377" y="204"/>
                </a:lnTo>
                <a:lnTo>
                  <a:pt x="371" y="211"/>
                </a:lnTo>
                <a:lnTo>
                  <a:pt x="366" y="219"/>
                </a:lnTo>
                <a:lnTo>
                  <a:pt x="355" y="226"/>
                </a:lnTo>
                <a:lnTo>
                  <a:pt x="349" y="233"/>
                </a:lnTo>
                <a:lnTo>
                  <a:pt x="338" y="241"/>
                </a:lnTo>
                <a:lnTo>
                  <a:pt x="333" y="248"/>
                </a:lnTo>
                <a:lnTo>
                  <a:pt x="327" y="255"/>
                </a:lnTo>
                <a:lnTo>
                  <a:pt x="321" y="262"/>
                </a:lnTo>
                <a:lnTo>
                  <a:pt x="310" y="270"/>
                </a:lnTo>
                <a:lnTo>
                  <a:pt x="299" y="277"/>
                </a:lnTo>
                <a:lnTo>
                  <a:pt x="288" y="284"/>
                </a:lnTo>
                <a:lnTo>
                  <a:pt x="277" y="292"/>
                </a:lnTo>
                <a:lnTo>
                  <a:pt x="266" y="299"/>
                </a:lnTo>
                <a:lnTo>
                  <a:pt x="255" y="306"/>
                </a:lnTo>
                <a:lnTo>
                  <a:pt x="238" y="311"/>
                </a:lnTo>
                <a:lnTo>
                  <a:pt x="227" y="318"/>
                </a:lnTo>
                <a:lnTo>
                  <a:pt x="216" y="326"/>
                </a:lnTo>
                <a:lnTo>
                  <a:pt x="216" y="333"/>
                </a:lnTo>
                <a:lnTo>
                  <a:pt x="200" y="335"/>
                </a:lnTo>
                <a:lnTo>
                  <a:pt x="216" y="328"/>
                </a:lnTo>
                <a:lnTo>
                  <a:pt x="200" y="328"/>
                </a:lnTo>
                <a:lnTo>
                  <a:pt x="183" y="333"/>
                </a:lnTo>
                <a:lnTo>
                  <a:pt x="166" y="338"/>
                </a:lnTo>
                <a:lnTo>
                  <a:pt x="155" y="345"/>
                </a:lnTo>
                <a:lnTo>
                  <a:pt x="139" y="347"/>
                </a:lnTo>
                <a:lnTo>
                  <a:pt x="122" y="350"/>
                </a:lnTo>
                <a:lnTo>
                  <a:pt x="111" y="357"/>
                </a:lnTo>
                <a:lnTo>
                  <a:pt x="94" y="357"/>
                </a:lnTo>
                <a:lnTo>
                  <a:pt x="83" y="364"/>
                </a:lnTo>
                <a:lnTo>
                  <a:pt x="67" y="367"/>
                </a:lnTo>
                <a:lnTo>
                  <a:pt x="50" y="369"/>
                </a:lnTo>
                <a:lnTo>
                  <a:pt x="33" y="374"/>
                </a:lnTo>
                <a:lnTo>
                  <a:pt x="17" y="377"/>
                </a:lnTo>
                <a:lnTo>
                  <a:pt x="0" y="377"/>
                </a:lnTo>
                <a:lnTo>
                  <a:pt x="1574" y="377"/>
                </a:lnTo>
                <a:lnTo>
                  <a:pt x="1574" y="379"/>
                </a:lnTo>
                <a:lnTo>
                  <a:pt x="1557" y="377"/>
                </a:lnTo>
                <a:lnTo>
                  <a:pt x="1541" y="377"/>
                </a:lnTo>
                <a:lnTo>
                  <a:pt x="1524" y="377"/>
                </a:lnTo>
                <a:lnTo>
                  <a:pt x="1507" y="374"/>
                </a:lnTo>
                <a:lnTo>
                  <a:pt x="1491" y="369"/>
                </a:lnTo>
                <a:lnTo>
                  <a:pt x="1474" y="367"/>
                </a:lnTo>
                <a:lnTo>
                  <a:pt x="1458" y="367"/>
                </a:lnTo>
                <a:lnTo>
                  <a:pt x="1441" y="364"/>
                </a:lnTo>
                <a:lnTo>
                  <a:pt x="1424" y="362"/>
                </a:lnTo>
                <a:lnTo>
                  <a:pt x="1408" y="357"/>
                </a:lnTo>
                <a:lnTo>
                  <a:pt x="1391" y="352"/>
                </a:lnTo>
                <a:lnTo>
                  <a:pt x="1374" y="347"/>
                </a:lnTo>
                <a:lnTo>
                  <a:pt x="1358" y="343"/>
                </a:lnTo>
                <a:lnTo>
                  <a:pt x="1341" y="338"/>
                </a:lnTo>
                <a:lnTo>
                  <a:pt x="1330" y="330"/>
                </a:lnTo>
                <a:lnTo>
                  <a:pt x="1314" y="326"/>
                </a:lnTo>
                <a:lnTo>
                  <a:pt x="1302" y="318"/>
                </a:lnTo>
                <a:lnTo>
                  <a:pt x="1286" y="316"/>
                </a:lnTo>
                <a:lnTo>
                  <a:pt x="1275" y="309"/>
                </a:lnTo>
                <a:lnTo>
                  <a:pt x="1264" y="301"/>
                </a:lnTo>
                <a:lnTo>
                  <a:pt x="1253" y="294"/>
                </a:lnTo>
                <a:lnTo>
                  <a:pt x="1247" y="287"/>
                </a:lnTo>
                <a:lnTo>
                  <a:pt x="1241" y="279"/>
                </a:lnTo>
                <a:lnTo>
                  <a:pt x="1230" y="272"/>
                </a:lnTo>
                <a:lnTo>
                  <a:pt x="1225" y="265"/>
                </a:lnTo>
                <a:lnTo>
                  <a:pt x="1214" y="258"/>
                </a:lnTo>
                <a:lnTo>
                  <a:pt x="1203" y="250"/>
                </a:lnTo>
                <a:lnTo>
                  <a:pt x="1192" y="243"/>
                </a:lnTo>
                <a:lnTo>
                  <a:pt x="1181" y="236"/>
                </a:lnTo>
                <a:lnTo>
                  <a:pt x="1175" y="228"/>
                </a:lnTo>
                <a:lnTo>
                  <a:pt x="1169" y="221"/>
                </a:lnTo>
                <a:lnTo>
                  <a:pt x="1164" y="214"/>
                </a:lnTo>
                <a:lnTo>
                  <a:pt x="1158" y="207"/>
                </a:lnTo>
                <a:lnTo>
                  <a:pt x="1153" y="199"/>
                </a:lnTo>
                <a:lnTo>
                  <a:pt x="1147" y="192"/>
                </a:lnTo>
                <a:lnTo>
                  <a:pt x="1142" y="185"/>
                </a:lnTo>
                <a:lnTo>
                  <a:pt x="1136" y="177"/>
                </a:lnTo>
                <a:lnTo>
                  <a:pt x="1125" y="170"/>
                </a:lnTo>
                <a:lnTo>
                  <a:pt x="1120" y="163"/>
                </a:lnTo>
                <a:lnTo>
                  <a:pt x="1120" y="155"/>
                </a:lnTo>
                <a:lnTo>
                  <a:pt x="1114" y="148"/>
                </a:lnTo>
                <a:lnTo>
                  <a:pt x="1108" y="141"/>
                </a:lnTo>
                <a:lnTo>
                  <a:pt x="1108" y="134"/>
                </a:lnTo>
                <a:lnTo>
                  <a:pt x="1108" y="126"/>
                </a:lnTo>
                <a:lnTo>
                  <a:pt x="1103" y="119"/>
                </a:lnTo>
                <a:lnTo>
                  <a:pt x="1103" y="112"/>
                </a:lnTo>
                <a:lnTo>
                  <a:pt x="1097" y="104"/>
                </a:lnTo>
                <a:lnTo>
                  <a:pt x="1097" y="97"/>
                </a:lnTo>
                <a:lnTo>
                  <a:pt x="1097" y="90"/>
                </a:lnTo>
                <a:lnTo>
                  <a:pt x="1092" y="83"/>
                </a:lnTo>
                <a:lnTo>
                  <a:pt x="1086" y="75"/>
                </a:lnTo>
                <a:lnTo>
                  <a:pt x="1086" y="68"/>
                </a:lnTo>
                <a:lnTo>
                  <a:pt x="1086" y="61"/>
                </a:lnTo>
                <a:lnTo>
                  <a:pt x="1081" y="53"/>
                </a:lnTo>
                <a:lnTo>
                  <a:pt x="1081" y="46"/>
                </a:lnTo>
                <a:lnTo>
                  <a:pt x="1081" y="39"/>
                </a:lnTo>
                <a:lnTo>
                  <a:pt x="1081" y="32"/>
                </a:lnTo>
                <a:lnTo>
                  <a:pt x="1081" y="24"/>
                </a:lnTo>
                <a:lnTo>
                  <a:pt x="1075" y="17"/>
                </a:lnTo>
                <a:lnTo>
                  <a:pt x="1075" y="10"/>
                </a:lnTo>
                <a:lnTo>
                  <a:pt x="1075" y="2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2240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581280" y="529272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0676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9400" y="5348160"/>
            <a:ext cx="961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97240" y="542124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83480" y="543240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80560" y="523728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7334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09800" y="4889520"/>
            <a:ext cx="0" cy="27144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249640" y="4249800"/>
            <a:ext cx="0" cy="9111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004760" y="3753000"/>
            <a:ext cx="0" cy="17017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6320" y="365760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525480" y="518328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90560" y="5229360"/>
            <a:ext cx="3021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6300360" y="1614600"/>
            <a:ext cx="225360" cy="2974680"/>
            <a:chOff x="6300360" y="1614600"/>
            <a:chExt cx="225360" cy="2974680"/>
          </a:xfrm>
        </p:grpSpPr>
        <p:sp>
          <p:nvSpPr>
            <p:cNvPr id="780" name=""/>
            <p:cNvSpPr/>
            <p:nvPr/>
          </p:nvSpPr>
          <p:spPr>
            <a:xfrm>
              <a:off x="6300360" y="1614600"/>
              <a:ext cx="22248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6" y="1"/>
                  </a:moveTo>
                  <a:arcTo wR="10800" hR="10800" stAng="-5449107" swAng="5449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6" y="1"/>
                  </a:moveTo>
                  <a:arcTo wR="10800" hR="10800" stAng="-5449107" swAng="5449107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00720" y="1614600"/>
              <a:ext cx="225000" cy="297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8"/>
                  </a:moveTo>
                  <a:arcTo wR="10800" hR="10800" stAng="-10796333" swAng="53479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8"/>
                  </a:moveTo>
                  <a:arcTo wR="10800" hR="10800" stAng="-10796333" swAng="5347943"/>
                </a:path>
              </a:pathLst>
            </a:custGeom>
            <a:solidFill>
              <a:srgbClr val="fde3ba"/>
            </a:solidFill>
            <a:ln cap="rnd"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075360" y="3008160"/>
            <a:ext cx="689040" cy="2244960"/>
          </a:xfrm>
          <a:custGeom>
            <a:avLst/>
            <a:gdLst/>
            <a:ahLst/>
            <a:rect l="l" t="t" r="r" b="b"/>
            <a:pathLst>
              <a:path w="434" h="1414">
                <a:moveTo>
                  <a:pt x="122" y="0"/>
                </a:moveTo>
                <a:lnTo>
                  <a:pt x="125" y="27"/>
                </a:lnTo>
                <a:lnTo>
                  <a:pt x="123" y="54"/>
                </a:lnTo>
                <a:lnTo>
                  <a:pt x="123" y="82"/>
                </a:lnTo>
                <a:lnTo>
                  <a:pt x="123" y="109"/>
                </a:lnTo>
                <a:lnTo>
                  <a:pt x="123" y="136"/>
                </a:lnTo>
                <a:lnTo>
                  <a:pt x="122" y="163"/>
                </a:lnTo>
                <a:lnTo>
                  <a:pt x="122" y="190"/>
                </a:lnTo>
                <a:lnTo>
                  <a:pt x="122" y="217"/>
                </a:lnTo>
                <a:lnTo>
                  <a:pt x="122" y="245"/>
                </a:lnTo>
                <a:lnTo>
                  <a:pt x="122" y="272"/>
                </a:lnTo>
                <a:lnTo>
                  <a:pt x="120" y="299"/>
                </a:lnTo>
                <a:lnTo>
                  <a:pt x="120" y="326"/>
                </a:lnTo>
                <a:lnTo>
                  <a:pt x="119" y="353"/>
                </a:lnTo>
                <a:lnTo>
                  <a:pt x="117" y="380"/>
                </a:lnTo>
                <a:lnTo>
                  <a:pt x="117" y="408"/>
                </a:lnTo>
                <a:lnTo>
                  <a:pt x="117" y="435"/>
                </a:lnTo>
                <a:lnTo>
                  <a:pt x="117" y="462"/>
                </a:lnTo>
                <a:lnTo>
                  <a:pt x="116" y="489"/>
                </a:lnTo>
                <a:lnTo>
                  <a:pt x="116" y="516"/>
                </a:lnTo>
                <a:lnTo>
                  <a:pt x="114" y="543"/>
                </a:lnTo>
                <a:lnTo>
                  <a:pt x="114" y="571"/>
                </a:lnTo>
                <a:lnTo>
                  <a:pt x="111" y="598"/>
                </a:lnTo>
                <a:lnTo>
                  <a:pt x="110" y="625"/>
                </a:lnTo>
                <a:lnTo>
                  <a:pt x="110" y="652"/>
                </a:lnTo>
                <a:lnTo>
                  <a:pt x="108" y="679"/>
                </a:lnTo>
                <a:lnTo>
                  <a:pt x="108" y="707"/>
                </a:lnTo>
                <a:lnTo>
                  <a:pt x="105" y="734"/>
                </a:lnTo>
                <a:lnTo>
                  <a:pt x="104" y="761"/>
                </a:lnTo>
                <a:lnTo>
                  <a:pt x="102" y="788"/>
                </a:lnTo>
                <a:lnTo>
                  <a:pt x="101" y="815"/>
                </a:lnTo>
                <a:lnTo>
                  <a:pt x="98" y="842"/>
                </a:lnTo>
                <a:lnTo>
                  <a:pt x="96" y="870"/>
                </a:lnTo>
                <a:lnTo>
                  <a:pt x="93" y="897"/>
                </a:lnTo>
                <a:lnTo>
                  <a:pt x="91" y="924"/>
                </a:lnTo>
                <a:lnTo>
                  <a:pt x="90" y="951"/>
                </a:lnTo>
                <a:lnTo>
                  <a:pt x="88" y="978"/>
                </a:lnTo>
                <a:lnTo>
                  <a:pt x="85" y="1005"/>
                </a:lnTo>
                <a:lnTo>
                  <a:pt x="82" y="1033"/>
                </a:lnTo>
                <a:lnTo>
                  <a:pt x="79" y="1060"/>
                </a:lnTo>
                <a:lnTo>
                  <a:pt x="76" y="1087"/>
                </a:lnTo>
                <a:lnTo>
                  <a:pt x="73" y="1114"/>
                </a:lnTo>
                <a:lnTo>
                  <a:pt x="70" y="1141"/>
                </a:lnTo>
                <a:lnTo>
                  <a:pt x="66" y="1159"/>
                </a:lnTo>
                <a:lnTo>
                  <a:pt x="63" y="1187"/>
                </a:lnTo>
                <a:lnTo>
                  <a:pt x="59" y="1214"/>
                </a:lnTo>
                <a:lnTo>
                  <a:pt x="59" y="1241"/>
                </a:lnTo>
                <a:lnTo>
                  <a:pt x="55" y="1250"/>
                </a:lnTo>
                <a:lnTo>
                  <a:pt x="59" y="1223"/>
                </a:lnTo>
                <a:lnTo>
                  <a:pt x="55" y="1223"/>
                </a:lnTo>
                <a:lnTo>
                  <a:pt x="50" y="1241"/>
                </a:lnTo>
                <a:lnTo>
                  <a:pt x="46" y="1259"/>
                </a:lnTo>
                <a:lnTo>
                  <a:pt x="43" y="1286"/>
                </a:lnTo>
                <a:lnTo>
                  <a:pt x="38" y="1295"/>
                </a:lnTo>
                <a:lnTo>
                  <a:pt x="34" y="1304"/>
                </a:lnTo>
                <a:lnTo>
                  <a:pt x="30" y="1331"/>
                </a:lnTo>
                <a:lnTo>
                  <a:pt x="26" y="1331"/>
                </a:lnTo>
                <a:lnTo>
                  <a:pt x="23" y="1359"/>
                </a:lnTo>
                <a:lnTo>
                  <a:pt x="18" y="1368"/>
                </a:lnTo>
                <a:lnTo>
                  <a:pt x="14" y="1377"/>
                </a:lnTo>
                <a:lnTo>
                  <a:pt x="9" y="1395"/>
                </a:lnTo>
                <a:lnTo>
                  <a:pt x="5" y="1404"/>
                </a:lnTo>
                <a:lnTo>
                  <a:pt x="0" y="1404"/>
                </a:lnTo>
                <a:lnTo>
                  <a:pt x="433" y="1404"/>
                </a:lnTo>
                <a:lnTo>
                  <a:pt x="433" y="1413"/>
                </a:lnTo>
                <a:lnTo>
                  <a:pt x="428" y="1404"/>
                </a:lnTo>
                <a:lnTo>
                  <a:pt x="424" y="1404"/>
                </a:lnTo>
                <a:lnTo>
                  <a:pt x="419" y="1404"/>
                </a:lnTo>
                <a:lnTo>
                  <a:pt x="415" y="1395"/>
                </a:lnTo>
                <a:lnTo>
                  <a:pt x="410" y="1377"/>
                </a:lnTo>
                <a:lnTo>
                  <a:pt x="406" y="1368"/>
                </a:lnTo>
                <a:lnTo>
                  <a:pt x="401" y="1368"/>
                </a:lnTo>
                <a:lnTo>
                  <a:pt x="396" y="1359"/>
                </a:lnTo>
                <a:lnTo>
                  <a:pt x="392" y="1350"/>
                </a:lnTo>
                <a:lnTo>
                  <a:pt x="387" y="1331"/>
                </a:lnTo>
                <a:lnTo>
                  <a:pt x="383" y="1313"/>
                </a:lnTo>
                <a:lnTo>
                  <a:pt x="378" y="1295"/>
                </a:lnTo>
                <a:lnTo>
                  <a:pt x="374" y="1277"/>
                </a:lnTo>
                <a:lnTo>
                  <a:pt x="369" y="1259"/>
                </a:lnTo>
                <a:lnTo>
                  <a:pt x="366" y="1232"/>
                </a:lnTo>
                <a:lnTo>
                  <a:pt x="361" y="1214"/>
                </a:lnTo>
                <a:lnTo>
                  <a:pt x="358" y="1187"/>
                </a:lnTo>
                <a:lnTo>
                  <a:pt x="354" y="1178"/>
                </a:lnTo>
                <a:lnTo>
                  <a:pt x="351" y="1150"/>
                </a:lnTo>
                <a:lnTo>
                  <a:pt x="348" y="1123"/>
                </a:lnTo>
                <a:lnTo>
                  <a:pt x="345" y="1096"/>
                </a:lnTo>
                <a:lnTo>
                  <a:pt x="343" y="1069"/>
                </a:lnTo>
                <a:lnTo>
                  <a:pt x="342" y="1042"/>
                </a:lnTo>
                <a:lnTo>
                  <a:pt x="338" y="1014"/>
                </a:lnTo>
                <a:lnTo>
                  <a:pt x="337" y="987"/>
                </a:lnTo>
                <a:lnTo>
                  <a:pt x="334" y="960"/>
                </a:lnTo>
                <a:lnTo>
                  <a:pt x="331" y="933"/>
                </a:lnTo>
                <a:lnTo>
                  <a:pt x="328" y="906"/>
                </a:lnTo>
                <a:lnTo>
                  <a:pt x="325" y="879"/>
                </a:lnTo>
                <a:lnTo>
                  <a:pt x="323" y="851"/>
                </a:lnTo>
                <a:lnTo>
                  <a:pt x="322" y="824"/>
                </a:lnTo>
                <a:lnTo>
                  <a:pt x="320" y="797"/>
                </a:lnTo>
                <a:lnTo>
                  <a:pt x="319" y="770"/>
                </a:lnTo>
                <a:lnTo>
                  <a:pt x="317" y="743"/>
                </a:lnTo>
                <a:lnTo>
                  <a:pt x="316" y="716"/>
                </a:lnTo>
                <a:lnTo>
                  <a:pt x="314" y="688"/>
                </a:lnTo>
                <a:lnTo>
                  <a:pt x="313" y="661"/>
                </a:lnTo>
                <a:lnTo>
                  <a:pt x="310" y="634"/>
                </a:lnTo>
                <a:lnTo>
                  <a:pt x="308" y="607"/>
                </a:lnTo>
                <a:lnTo>
                  <a:pt x="308" y="580"/>
                </a:lnTo>
                <a:lnTo>
                  <a:pt x="306" y="553"/>
                </a:lnTo>
                <a:lnTo>
                  <a:pt x="305" y="525"/>
                </a:lnTo>
                <a:lnTo>
                  <a:pt x="305" y="498"/>
                </a:lnTo>
                <a:lnTo>
                  <a:pt x="305" y="471"/>
                </a:lnTo>
                <a:lnTo>
                  <a:pt x="303" y="444"/>
                </a:lnTo>
                <a:lnTo>
                  <a:pt x="303" y="417"/>
                </a:lnTo>
                <a:lnTo>
                  <a:pt x="302" y="389"/>
                </a:lnTo>
                <a:lnTo>
                  <a:pt x="302" y="362"/>
                </a:lnTo>
                <a:lnTo>
                  <a:pt x="302" y="335"/>
                </a:lnTo>
                <a:lnTo>
                  <a:pt x="300" y="308"/>
                </a:lnTo>
                <a:lnTo>
                  <a:pt x="299" y="281"/>
                </a:lnTo>
                <a:lnTo>
                  <a:pt x="299" y="254"/>
                </a:lnTo>
                <a:lnTo>
                  <a:pt x="299" y="226"/>
                </a:lnTo>
                <a:lnTo>
                  <a:pt x="297" y="199"/>
                </a:lnTo>
                <a:lnTo>
                  <a:pt x="297" y="172"/>
                </a:lnTo>
                <a:lnTo>
                  <a:pt x="297" y="145"/>
                </a:lnTo>
                <a:lnTo>
                  <a:pt x="297" y="118"/>
                </a:lnTo>
                <a:lnTo>
                  <a:pt x="297" y="91"/>
                </a:lnTo>
                <a:lnTo>
                  <a:pt x="296" y="63"/>
                </a:lnTo>
                <a:lnTo>
                  <a:pt x="296" y="36"/>
                </a:lnTo>
                <a:lnTo>
                  <a:pt x="296" y="9"/>
                </a:lnTo>
              </a:path>
            </a:pathLst>
          </a:custGeom>
          <a:solidFill>
            <a:srgbClr val="fde3ba"/>
          </a:solidFill>
          <a:ln cap="rnd" w="255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643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559560" y="4027320"/>
            <a:ext cx="0" cy="115596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05480" y="1644480"/>
            <a:ext cx="0" cy="35388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929120" y="2832120"/>
            <a:ext cx="3642480" cy="2674800"/>
            <a:chOff x="4929120" y="2832120"/>
            <a:chExt cx="3642480" cy="2674800"/>
          </a:xfrm>
        </p:grpSpPr>
        <p:sp>
          <p:nvSpPr>
            <p:cNvPr id="787" name=""/>
            <p:cNvSpPr/>
            <p:nvPr/>
          </p:nvSpPr>
          <p:spPr>
            <a:xfrm>
              <a:off x="5229360" y="2943360"/>
              <a:ext cx="0" cy="2563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9120" y="28321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48280" y="511668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14800" y="5276880"/>
              <a:ext cx="30211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046920" y="5530680"/>
            <a:ext cx="0" cy="1130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819840" y="5516640"/>
            <a:ext cx="0" cy="112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619960" y="5659560"/>
            <a:ext cx="89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420240" y="5656320"/>
            <a:ext cx="86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932080" y="5389560"/>
            <a:ext cx="10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83880" y="5678640"/>
            <a:ext cx="27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306760" y="5973840"/>
            <a:ext cx="2777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35240" y="1749600"/>
            <a:ext cx="487080" cy="44424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957400"/>
            <a:ext cx="14684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057400" y="2008080"/>
            <a:ext cx="0" cy="63360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90720" y="2008080"/>
            <a:ext cx="0" cy="633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354800" y="1825560"/>
            <a:ext cx="487440" cy="4446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3033720"/>
            <a:ext cx="14684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077320" y="2084400"/>
            <a:ext cx="0" cy="6332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10280" y="2084400"/>
            <a:ext cx="0" cy="633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25440" y="2265480"/>
            <a:ext cx="159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نر نرم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03040" y="4092480"/>
            <a:ext cx="185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نر سخت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7481880" y="3188880"/>
            <a:ext cx="49320" cy="8622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2198160" y="2655720"/>
            <a:ext cx="862200" cy="100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086160" y="3511440"/>
            <a:ext cx="627480" cy="1754280"/>
            <a:chOff x="6086160" y="3511440"/>
            <a:chExt cx="627480" cy="1754280"/>
          </a:xfrm>
        </p:grpSpPr>
        <p:sp>
          <p:nvSpPr>
            <p:cNvPr id="811" name=""/>
            <p:cNvSpPr/>
            <p:nvPr/>
          </p:nvSpPr>
          <p:spPr>
            <a:xfrm>
              <a:off x="6102360" y="3511440"/>
              <a:ext cx="596880" cy="175428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637320" y="4822920"/>
              <a:ext cx="76320" cy="3474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559200" y="4329000"/>
              <a:ext cx="152280" cy="8874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483240" y="3835440"/>
              <a:ext cx="222480" cy="13809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408720" y="3576600"/>
              <a:ext cx="257040" cy="16257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337440" y="3595680"/>
              <a:ext cx="249120" cy="157464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262560" y="3562200"/>
              <a:ext cx="252720" cy="159552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191280" y="3608280"/>
              <a:ext cx="241200" cy="15192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105600" y="3576600"/>
              <a:ext cx="255600" cy="16128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090840" y="3562200"/>
              <a:ext cx="195480" cy="11908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086160" y="3595680"/>
              <a:ext cx="119160" cy="6444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089760" y="3532320"/>
              <a:ext cx="48960" cy="1569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064880" y="4730760"/>
            <a:ext cx="2511720" cy="506520"/>
            <a:chOff x="1064880" y="4730760"/>
            <a:chExt cx="2511720" cy="506520"/>
          </a:xfrm>
        </p:grpSpPr>
        <p:sp>
          <p:nvSpPr>
            <p:cNvPr id="824" name=""/>
            <p:cNvSpPr/>
            <p:nvPr/>
          </p:nvSpPr>
          <p:spPr>
            <a:xfrm>
              <a:off x="1073160" y="4730760"/>
              <a:ext cx="2502000" cy="50652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335400" y="5121360"/>
              <a:ext cx="241200" cy="838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011400" y="4976640"/>
              <a:ext cx="557280" cy="2415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697120" y="4832280"/>
              <a:ext cx="844560" cy="38592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392200" y="4756320"/>
              <a:ext cx="984240" cy="4572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095200" y="4761000"/>
              <a:ext cx="957240" cy="44424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788840" y="4751280"/>
              <a:ext cx="966600" cy="4492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491840" y="4764240"/>
              <a:ext cx="924120" cy="4269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143000" y="4756320"/>
              <a:ext cx="976320" cy="45396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1082160" y="4751280"/>
              <a:ext cx="730440" cy="33048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064880" y="4761000"/>
              <a:ext cx="415800" cy="16992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72800" y="4741920"/>
              <a:ext cx="128520" cy="270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70640" y="4549680"/>
            <a:ext cx="111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284000" y="3330720"/>
            <a:ext cx="111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119560" y="3505320"/>
            <a:ext cx="735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8800" y="4724280"/>
            <a:ext cx="734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318080" y="2239560"/>
            <a:ext cx="581400" cy="587520"/>
            <a:chOff x="7318080" y="2239560"/>
            <a:chExt cx="581400" cy="587520"/>
          </a:xfrm>
        </p:grpSpPr>
        <p:grpSp>
          <p:nvGrpSpPr>
            <p:cNvPr id="841" name=""/>
            <p:cNvGrpSpPr/>
            <p:nvPr/>
          </p:nvGrpSpPr>
          <p:grpSpPr>
            <a:xfrm>
              <a:off x="7318080" y="2531520"/>
              <a:ext cx="581400" cy="295560"/>
              <a:chOff x="7318080" y="2531520"/>
              <a:chExt cx="581400" cy="295560"/>
            </a:xfrm>
          </p:grpSpPr>
          <p:sp>
            <p:nvSpPr>
              <p:cNvPr id="842" name=""/>
              <p:cNvSpPr/>
              <p:nvPr/>
            </p:nvSpPr>
            <p:spPr>
              <a:xfrm flipH="1" flipV="1">
                <a:off x="7318080" y="2749320"/>
                <a:ext cx="290520" cy="777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7318440" y="2675880"/>
                <a:ext cx="290520" cy="730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7608600" y="2531520"/>
                <a:ext cx="290880" cy="144720"/>
                <a:chOff x="7608600" y="2531520"/>
                <a:chExt cx="290880" cy="144720"/>
              </a:xfrm>
            </p:grpSpPr>
            <p:sp>
              <p:nvSpPr>
                <p:cNvPr id="845" name=""/>
                <p:cNvSpPr/>
                <p:nvPr/>
              </p:nvSpPr>
              <p:spPr>
                <a:xfrm flipV="1">
                  <a:off x="7608960" y="2603520"/>
                  <a:ext cx="290520" cy="7272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flipV="1">
                  <a:off x="7608600" y="2531520"/>
                  <a:ext cx="290520" cy="7164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7318080" y="2239560"/>
              <a:ext cx="581400" cy="291960"/>
              <a:chOff x="7318080" y="2239560"/>
              <a:chExt cx="581400" cy="291960"/>
            </a:xfrm>
          </p:grpSpPr>
          <p:sp>
            <p:nvSpPr>
              <p:cNvPr id="848" name=""/>
              <p:cNvSpPr/>
              <p:nvPr/>
            </p:nvSpPr>
            <p:spPr>
              <a:xfrm flipH="1" flipV="1">
                <a:off x="7318080" y="2458440"/>
                <a:ext cx="290520" cy="730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7318440" y="2386080"/>
                <a:ext cx="290520" cy="727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7608600" y="2239560"/>
                <a:ext cx="290880" cy="146160"/>
                <a:chOff x="7608600" y="2239560"/>
                <a:chExt cx="290880" cy="146160"/>
              </a:xfrm>
            </p:grpSpPr>
            <p:sp>
              <p:nvSpPr>
                <p:cNvPr id="851" name=""/>
                <p:cNvSpPr/>
                <p:nvPr/>
              </p:nvSpPr>
              <p:spPr>
                <a:xfrm flipV="1">
                  <a:off x="7608960" y="2312640"/>
                  <a:ext cx="290520" cy="7308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7608600" y="2239560"/>
                  <a:ext cx="290520" cy="7308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3" name=""/>
          <p:cNvGrpSpPr/>
          <p:nvPr/>
        </p:nvGrpSpPr>
        <p:grpSpPr>
          <a:xfrm>
            <a:off x="1261800" y="2187360"/>
            <a:ext cx="581400" cy="605520"/>
            <a:chOff x="1261800" y="2187360"/>
            <a:chExt cx="581400" cy="605520"/>
          </a:xfrm>
        </p:grpSpPr>
        <p:grpSp>
          <p:nvGrpSpPr>
            <p:cNvPr id="854" name=""/>
            <p:cNvGrpSpPr/>
            <p:nvPr/>
          </p:nvGrpSpPr>
          <p:grpSpPr>
            <a:xfrm>
              <a:off x="1261800" y="2187360"/>
              <a:ext cx="581400" cy="300600"/>
              <a:chOff x="1261800" y="2187360"/>
              <a:chExt cx="581400" cy="300600"/>
            </a:xfrm>
          </p:grpSpPr>
          <p:grpSp>
            <p:nvGrpSpPr>
              <p:cNvPr id="855" name=""/>
              <p:cNvGrpSpPr/>
              <p:nvPr/>
            </p:nvGrpSpPr>
            <p:grpSpPr>
              <a:xfrm>
                <a:off x="1261800" y="2337840"/>
                <a:ext cx="581400" cy="150120"/>
                <a:chOff x="1261800" y="2337840"/>
                <a:chExt cx="581400" cy="150120"/>
              </a:xfrm>
            </p:grpSpPr>
            <p:sp>
              <p:nvSpPr>
                <p:cNvPr id="856" name=""/>
                <p:cNvSpPr/>
                <p:nvPr/>
              </p:nvSpPr>
              <p:spPr>
                <a:xfrm flipH="1" flipV="1">
                  <a:off x="1261800" y="2448720"/>
                  <a:ext cx="2905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1262160" y="241056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1552320" y="2337840"/>
                  <a:ext cx="290880" cy="72720"/>
                  <a:chOff x="1552320" y="2337840"/>
                  <a:chExt cx="290880" cy="7272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flipV="1">
                    <a:off x="1552680" y="2374560"/>
                    <a:ext cx="290520" cy="3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 flipV="1">
                    <a:off x="1552320" y="2337840"/>
                    <a:ext cx="290520" cy="363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1" name=""/>
              <p:cNvGrpSpPr/>
              <p:nvPr/>
            </p:nvGrpSpPr>
            <p:grpSpPr>
              <a:xfrm>
                <a:off x="1261800" y="2187360"/>
                <a:ext cx="581400" cy="150120"/>
                <a:chOff x="1261800" y="2187360"/>
                <a:chExt cx="581400" cy="150120"/>
              </a:xfrm>
            </p:grpSpPr>
            <p:sp>
              <p:nvSpPr>
                <p:cNvPr id="862" name=""/>
                <p:cNvSpPr/>
                <p:nvPr/>
              </p:nvSpPr>
              <p:spPr>
                <a:xfrm flipH="1" flipV="1">
                  <a:off x="1261800" y="229968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262160" y="2263680"/>
                  <a:ext cx="2905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1552320" y="2187360"/>
                  <a:ext cx="290880" cy="75600"/>
                  <a:chOff x="1552320" y="2187360"/>
                  <a:chExt cx="290880" cy="756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>
                    <a:off x="1552680" y="222516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 flipV="1">
                    <a:off x="1552320" y="218736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7" name=""/>
            <p:cNvGrpSpPr/>
            <p:nvPr/>
          </p:nvGrpSpPr>
          <p:grpSpPr>
            <a:xfrm>
              <a:off x="1261800" y="2491920"/>
              <a:ext cx="581400" cy="300960"/>
              <a:chOff x="1261800" y="2491920"/>
              <a:chExt cx="581400" cy="300960"/>
            </a:xfrm>
          </p:grpSpPr>
          <p:grpSp>
            <p:nvGrpSpPr>
              <p:cNvPr id="868" name=""/>
              <p:cNvGrpSpPr/>
              <p:nvPr/>
            </p:nvGrpSpPr>
            <p:grpSpPr>
              <a:xfrm>
                <a:off x="1261800" y="2642760"/>
                <a:ext cx="581400" cy="150120"/>
                <a:chOff x="1261800" y="2642760"/>
                <a:chExt cx="581400" cy="150120"/>
              </a:xfrm>
            </p:grpSpPr>
            <p:sp>
              <p:nvSpPr>
                <p:cNvPr id="869" name=""/>
                <p:cNvSpPr/>
                <p:nvPr/>
              </p:nvSpPr>
              <p:spPr>
                <a:xfrm flipH="1" flipV="1">
                  <a:off x="1261800" y="2753280"/>
                  <a:ext cx="290520" cy="39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1262160" y="2715480"/>
                  <a:ext cx="2905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1552320" y="2642760"/>
                  <a:ext cx="290880" cy="72000"/>
                  <a:chOff x="1552320" y="2642760"/>
                  <a:chExt cx="290880" cy="7200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flipV="1">
                    <a:off x="1552680" y="2678400"/>
                    <a:ext cx="290520" cy="363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 flipV="1">
                    <a:off x="1552320" y="2642760"/>
                    <a:ext cx="290520" cy="3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4" name=""/>
              <p:cNvGrpSpPr/>
              <p:nvPr/>
            </p:nvGrpSpPr>
            <p:grpSpPr>
              <a:xfrm>
                <a:off x="1261800" y="2491920"/>
                <a:ext cx="581400" cy="150120"/>
                <a:chOff x="1261800" y="2491920"/>
                <a:chExt cx="581400" cy="150120"/>
              </a:xfrm>
            </p:grpSpPr>
            <p:sp>
              <p:nvSpPr>
                <p:cNvPr id="875" name=""/>
                <p:cNvSpPr/>
                <p:nvPr/>
              </p:nvSpPr>
              <p:spPr>
                <a:xfrm flipH="1" flipV="1">
                  <a:off x="1261800" y="2604240"/>
                  <a:ext cx="290520" cy="37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1262160" y="2567520"/>
                  <a:ext cx="290520" cy="363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7" name=""/>
                <p:cNvGrpSpPr/>
                <p:nvPr/>
              </p:nvGrpSpPr>
              <p:grpSpPr>
                <a:xfrm>
                  <a:off x="1552320" y="2491920"/>
                  <a:ext cx="290880" cy="75600"/>
                  <a:chOff x="1552320" y="2491920"/>
                  <a:chExt cx="290880" cy="7560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flipV="1">
                    <a:off x="1552680" y="2530080"/>
                    <a:ext cx="290520" cy="37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flipV="1">
                    <a:off x="1552320" y="2491920"/>
                    <a:ext cx="2905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 وتکان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بیس بال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817560" y="1433520"/>
            <a:ext cx="2815920" cy="3698640"/>
            <a:chOff x="817560" y="1433520"/>
            <a:chExt cx="2815920" cy="3698640"/>
          </a:xfrm>
        </p:grpSpPr>
        <p:graphicFrame>
          <p:nvGraphicFramePr>
            <p:cNvPr id="884" name=""/>
            <p:cNvGraphicFramePr/>
            <p:nvPr/>
          </p:nvGraphicFramePr>
          <p:xfrm>
            <a:off x="817560" y="1433520"/>
            <a:ext cx="2334960" cy="369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560" y="1433520"/>
                      <a:ext cx="2334960" cy="36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3389040" y="3101760"/>
            <a:ext cx="244440" cy="24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89040" y="3101760"/>
                      <a:ext cx="2444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8" name=""/>
          <p:cNvSpPr/>
          <p:nvPr/>
        </p:nvSpPr>
        <p:spPr>
          <a:xfrm>
            <a:off x="3867120" y="2144880"/>
            <a:ext cx="454680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زیکنی توپ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.7 kg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4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m/h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حرکت است می ز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ب بازی مد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0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نیه با توپ تماس برقرار می کند و با سرع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9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m/h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را ترک می  ک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زمانی متوسط وارد برتوپ را پیدا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بیس با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00720" y="1814400"/>
            <a:ext cx="519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سرعت ها را به متر بر ثانیه تبدیل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271960" y="2271600"/>
            <a:ext cx="32922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45 km/hr = 40.28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90 km/hr = 52.78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743760" y="3095640"/>
            <a:ext cx="7673400" cy="1313280"/>
            <a:chOff x="743760" y="3095640"/>
            <a:chExt cx="7673400" cy="1313280"/>
          </a:xfrm>
        </p:grpSpPr>
        <p:sp>
          <p:nvSpPr>
            <p:cNvPr id="895" name=""/>
            <p:cNvSpPr/>
            <p:nvPr/>
          </p:nvSpPr>
          <p:spPr>
            <a:xfrm>
              <a:off x="743760" y="3095640"/>
              <a:ext cx="755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سپس تغیییر تکانه که مساوی با تکان وارده است را محاسبه کنید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47920" y="3627360"/>
              <a:ext cx="6069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i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.7 kg)(52.78 m/s) - (.7 kg)(-40.28 m/s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57640" y="4008240"/>
              <a:ext cx="313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65.14 kg-m/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246200" y="4498920"/>
            <a:ext cx="488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انجام نیروی متوسط را محاسبه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839960" y="5126040"/>
                <a:ext cx="4173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14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1758960" y="5035680"/>
            <a:ext cx="4338720" cy="82548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82040" cy="26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دو بع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( پراکندگی هسته ای وتوپ بیلیار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 و نیروی متوسط تک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لب کتاب درسی را مطالعه نموده و با حل مسائل آن خود را بیازمایید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071880" y="711360"/>
            <a:ext cx="2467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cc00"/>
                </a:solidFill>
                <a:latin typeface="2  Koodak Outline"/>
              </a:rPr>
              <a:t>یادآوری نهایی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cc00"/>
              </a:solidFill>
              <a:latin typeface="2  Koodak Outline"/>
              <a:ea typeface="2  Koodak Outlin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afd00"/>
                </a:solidFill>
                <a:latin typeface="Arial"/>
                <a:cs typeface="Arial"/>
              </a:rPr>
              <a:t>ادامه فصل دهم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4880" y="3390840"/>
            <a:ext cx="5599080" cy="19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89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c0000"/>
                </a:solidFill>
                <a:latin typeface="Arial"/>
                <a:cs typeface="Arial"/>
              </a:rPr>
              <a:t>تکا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65520" indent="-65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دو بع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520" indent="-65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( پراکندگی هسته ای وتوپ بیلیار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5520" indent="-65520" algn="r" rtl="1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c0000"/>
                </a:solidFill>
                <a:latin typeface="Arial"/>
                <a:cs typeface="Arial"/>
              </a:rPr>
              <a:t>تکان و نیروی متوسط تک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17720" y="1828800"/>
            <a:ext cx="6357960" cy="1062000"/>
          </a:xfrm>
          <a:prstGeom prst="leftArrowCallout">
            <a:avLst>
              <a:gd name="adj1" fmla="val 25002"/>
              <a:gd name="adj2" fmla="val 25000"/>
              <a:gd name="adj3" fmla="val 99780"/>
              <a:gd name="adj4" fmla="val 6667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2079720"/>
            <a:ext cx="1090440" cy="56016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مطالعه اختی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9120" y="58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دو جسم در دو بع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3120" y="4138560"/>
            <a:ext cx="309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2739960"/>
            <a:ext cx="380880" cy="38124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76360" y="4565520"/>
            <a:ext cx="533520" cy="533520"/>
          </a:xfrm>
          <a:prstGeom prst="ellipse">
            <a:avLst/>
          </a:prstGeom>
          <a:solidFill>
            <a:srgbClr val="9498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58960" y="4414320"/>
            <a:ext cx="1086120" cy="4273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67880" y="26128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5040" y="46753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498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9498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59400" y="4656240"/>
            <a:ext cx="105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03880" y="2733840"/>
            <a:ext cx="105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68600" y="4089240"/>
            <a:ext cx="100080" cy="100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17840" y="4089240"/>
            <a:ext cx="201600" cy="100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48600" y="373536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58280" y="4168800"/>
            <a:ext cx="115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5480" y="1952640"/>
            <a:ext cx="221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71880" y="4138560"/>
            <a:ext cx="364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5080" y="4102200"/>
            <a:ext cx="100080" cy="100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394320" y="4102200"/>
            <a:ext cx="201600" cy="100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36240" y="374796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080" y="4162320"/>
            <a:ext cx="115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97360" y="513864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1400" y="262728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14360" y="26780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9520" y="47466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498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9498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78840" y="1971720"/>
            <a:ext cx="2149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 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8560" y="1820880"/>
            <a:ext cx="7902720" cy="41320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27360" y="4140360"/>
            <a:ext cx="709560" cy="2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75480" y="4130640"/>
            <a:ext cx="712800" cy="158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920" y="5506920"/>
            <a:ext cx="4654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زیر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40480" y="2733840"/>
            <a:ext cx="380880" cy="38088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67480" y="4548240"/>
            <a:ext cx="533520" cy="533520"/>
          </a:xfrm>
          <a:prstGeom prst="ellipse">
            <a:avLst/>
          </a:prstGeom>
          <a:solidFill>
            <a:srgbClr val="9498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58960" y="2873520"/>
            <a:ext cx="1368360" cy="1268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29480" y="2895480"/>
            <a:ext cx="1044360" cy="19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60400" y="4138200"/>
            <a:ext cx="2397240" cy="685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9880" y="2901960"/>
            <a:ext cx="505080" cy="347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13280" y="2521080"/>
            <a:ext cx="443160" cy="387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1520" y="4829040"/>
            <a:ext cx="1046160" cy="4064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666880" y="4145040"/>
            <a:ext cx="1791000" cy="691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44920" y="2901960"/>
            <a:ext cx="7920" cy="1959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37000" y="2895480"/>
            <a:ext cx="1822320" cy="1246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159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در برخوردهای کشس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94200" y="5572080"/>
                <a:ext cx="3695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720880" y="64944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82880" y="5456160"/>
            <a:ext cx="4219560" cy="568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0280" y="1662120"/>
            <a:ext cx="548424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درس قبل بیاد بیاو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این در یک بعد به این معنا اس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v*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i    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حرکت دو ویا چند بعد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3520" y="2414520"/>
                <a:ext cx="1422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>
                      <m:e>
                        <m:r>
                          <m:t xml:space="preserve">∗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v</m:t>
                    </m:r>
                    <m:sSub>
                      <m:e>
                        <m:r>
                          <m:t xml:space="preserve">∗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های کشس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ی بینیم 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98480" y="1790640"/>
                <a:ext cx="3695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846680" y="265104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ارچوب مرجع مرکز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71600" y="2548440"/>
            <a:ext cx="4267800" cy="2994840"/>
            <a:chOff x="2271600" y="2548440"/>
            <a:chExt cx="4267800" cy="2994840"/>
          </a:xfrm>
        </p:grpSpPr>
        <p:sp>
          <p:nvSpPr>
            <p:cNvPr id="110" name=""/>
            <p:cNvSpPr/>
            <p:nvPr/>
          </p:nvSpPr>
          <p:spPr>
            <a:xfrm>
              <a:off x="2271600" y="2668680"/>
              <a:ext cx="1186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,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83000" y="5038560"/>
              <a:ext cx="1256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,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931840" y="2548440"/>
              <a:ext cx="2755800" cy="2994840"/>
              <a:chOff x="2931840" y="2548440"/>
              <a:chExt cx="2755800" cy="29948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931840" y="2548440"/>
                <a:ext cx="2755800" cy="2994840"/>
                <a:chOff x="2931840" y="2548440"/>
                <a:chExt cx="2755800" cy="2994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27200" y="3153600"/>
                  <a:ext cx="1657800" cy="179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52400">
                  <a:off x="3247560" y="2953800"/>
                  <a:ext cx="292320" cy="292320"/>
                </a:xfrm>
                <a:prstGeom prst="ellipse">
                  <a:avLst/>
                </a:prstGeom>
                <a:solidFill>
                  <a:srgbClr val="fc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52400">
                  <a:off x="5005080" y="4836600"/>
                  <a:ext cx="490320" cy="463680"/>
                </a:xfrm>
                <a:prstGeom prst="ellipse">
                  <a:avLst/>
                </a:prstGeom>
                <a:solidFill>
                  <a:srgbClr val="7679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5423400" y="5235840"/>
                  <a:ext cx="264240" cy="3074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2931840" y="2548440"/>
                  <a:ext cx="373680" cy="433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 flipH="1" rot="19491600">
                <a:off x="4169160" y="3890160"/>
                <a:ext cx="634680" cy="64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8" y="972"/>
                    </a:moveTo>
                    <a:arcTo wR="10800" hR="10800" stAng="-3930335" swAng="71298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8" y="972"/>
                    </a:moveTo>
                    <a:arcTo wR="10800" hR="10800" stAng="-3930335" swAng="7129800"/>
                  </a:path>
                </a:pathLst>
              </a:custGeom>
              <a:noFill/>
              <a:ln w="1260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65680" y="4103640"/>
                <a:ext cx="31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3110760" y="5719680"/>
            <a:ext cx="24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“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اویه پراکندگ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521520" y="2739960"/>
            <a:ext cx="1943280" cy="2623680"/>
            <a:chOff x="3521520" y="2739960"/>
            <a:chExt cx="1943280" cy="2623680"/>
          </a:xfrm>
        </p:grpSpPr>
        <p:grpSp>
          <p:nvGrpSpPr>
            <p:cNvPr id="123" name=""/>
            <p:cNvGrpSpPr/>
            <p:nvPr/>
          </p:nvGrpSpPr>
          <p:grpSpPr>
            <a:xfrm>
              <a:off x="3521520" y="2739960"/>
              <a:ext cx="1943280" cy="2623680"/>
              <a:chOff x="3521520" y="2739960"/>
              <a:chExt cx="1943280" cy="2623680"/>
            </a:xfrm>
          </p:grpSpPr>
          <p:sp>
            <p:nvSpPr>
              <p:cNvPr id="124" name=""/>
              <p:cNvSpPr/>
              <p:nvPr/>
            </p:nvSpPr>
            <p:spPr>
              <a:xfrm>
                <a:off x="4508280" y="2873160"/>
                <a:ext cx="0" cy="222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86520" y="3088800"/>
                <a:ext cx="1178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*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1,i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1520" y="4511520"/>
                <a:ext cx="1178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*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2,i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54200" y="2739960"/>
                <a:ext cx="291960" cy="29196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1073200">
                <a:off x="4254120" y="4865400"/>
                <a:ext cx="490320" cy="463320"/>
              </a:xfrm>
              <a:prstGeom prst="ellipse">
                <a:avLst/>
              </a:prstGeom>
              <a:solidFill>
                <a:srgbClr val="7679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07560" y="3011400"/>
                <a:ext cx="720" cy="57456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514760" y="4461480"/>
                <a:ext cx="720" cy="40896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459320" y="4275000"/>
              <a:ext cx="100080" cy="100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408560" y="4275000"/>
              <a:ext cx="201600" cy="100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07760" y="3959280"/>
              <a:ext cx="1149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مرین: برخوردهای کشس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62720" indent="-16272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برخورد کشسان زیر را 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وپ گلف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 و به طور رودررو به یک توپ ساکن برخورد می کن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وپ بولینگ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 وبا یک توپ گلف برخورد می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8200" indent="-12996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حالت بعداز برخورد توپ گلف سرعت بیشتری دارد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33520" y="3519360"/>
            <a:ext cx="6020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سان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487044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41324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525132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6760" y="5456160"/>
            <a:ext cx="99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6080" y="5837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8704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33692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16a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555624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8400" y="5684760"/>
            <a:ext cx="99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2800" y="5837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8080" y="4038480"/>
            <a:ext cx="3111480" cy="21970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038480"/>
            <a:ext cx="3111480" cy="21970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33692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4640" y="456084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19400" y="464184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4560" y="475128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00720" y="448956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5480" y="457056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00640" y="4680000"/>
            <a:ext cx="1047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29Z</dcterms:created>
  <dc:creator>Authorized Gateway Customer</dc:creator>
  <dc:description/>
  <cp:keywords/>
  <dc:language>en-US</dc:language>
  <cp:lastModifiedBy>janubi</cp:lastModifiedBy>
  <dcterms:modified xsi:type="dcterms:W3CDTF">2006-04-15T02:20:30Z</dcterms:modified>
  <cp:revision>66</cp:revision>
  <dc:subject>Elastic Collisions &amp; Review</dc:subject>
  <dc:title>Lecture 19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