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27160" y="6573960"/>
            <a:ext cx="264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5320" y="615960"/>
            <a:ext cx="43668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ریف ک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00" y="1727280"/>
            <a:ext cx="591696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عناصر موثر در کار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: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جابه جای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4546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92880" y="3584520"/>
            <a:ext cx="1873080" cy="151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780240" y="2701440"/>
            <a:ext cx="203040" cy="107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3280" y="2502000"/>
            <a:ext cx="3178080" cy="2906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19320" y="307512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160" y="26128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0160" y="307008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26320" y="26258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865840" y="2930400"/>
            <a:ext cx="1879560" cy="1549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3629160"/>
            <a:ext cx="533520" cy="342720"/>
          </a:xfrm>
          <a:prstGeom prst="ellipse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260000">
            <a:off x="6307920" y="4579560"/>
            <a:ext cx="185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11280" y="3295800"/>
            <a:ext cx="998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762600" y="3174840"/>
            <a:ext cx="685800" cy="57816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97680" y="2730600"/>
            <a:ext cx="463680" cy="444240"/>
          </a:xfrm>
          <a:prstGeom prst="line">
            <a:avLst/>
          </a:prstGeom>
          <a:ln w="1260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960" y="4778280"/>
            <a:ext cx="262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ضرب نقطه ای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530360" y="4107960"/>
            <a:ext cx="139680" cy="622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82200"/>
            <a:ext cx="7162560" cy="7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ریف ک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مولف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متداد جابه جایی کار انجام می ده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طار روی ری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22720" y="3560760"/>
            <a:ext cx="3066840" cy="254016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1640" y="3309840"/>
            <a:ext cx="3067200" cy="254016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171600" y="5436360"/>
            <a:ext cx="558720" cy="539280"/>
            <a:chOff x="3171600" y="5436360"/>
            <a:chExt cx="558720" cy="539280"/>
          </a:xfrm>
        </p:grpSpPr>
        <p:sp>
          <p:nvSpPr>
            <p:cNvPr id="136" name=""/>
            <p:cNvSpPr/>
            <p:nvPr/>
          </p:nvSpPr>
          <p:spPr>
            <a:xfrm rot="19100400">
              <a:off x="3428280" y="546768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100400">
              <a:off x="3400560" y="586188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100400">
              <a:off x="3207960" y="565740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100400">
              <a:off x="3618000" y="566424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100400">
              <a:off x="3197520" y="5570280"/>
              <a:ext cx="506520" cy="27144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38600" y="3486960"/>
            <a:ext cx="558720" cy="539280"/>
            <a:chOff x="5538600" y="3486960"/>
            <a:chExt cx="558720" cy="539280"/>
          </a:xfrm>
        </p:grpSpPr>
        <p:sp>
          <p:nvSpPr>
            <p:cNvPr id="142" name=""/>
            <p:cNvSpPr/>
            <p:nvPr/>
          </p:nvSpPr>
          <p:spPr>
            <a:xfrm rot="19100400">
              <a:off x="5795280" y="351828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100400">
              <a:off x="5767560" y="391248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100400">
              <a:off x="5574960" y="370800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100400">
              <a:off x="5985000" y="3714840"/>
              <a:ext cx="85680" cy="745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100400">
              <a:off x="5564520" y="3620880"/>
              <a:ext cx="506520" cy="27144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V="1">
            <a:off x="4448160" y="3421080"/>
            <a:ext cx="263520" cy="1395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3000" y="328464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7920" y="4087800"/>
            <a:ext cx="107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93960" y="3948120"/>
            <a:ext cx="1879920" cy="1549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89640" y="4081320"/>
            <a:ext cx="717480" cy="59400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6080" y="3440160"/>
            <a:ext cx="569880" cy="6555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80680" y="4601520"/>
            <a:ext cx="558720" cy="539640"/>
            <a:chOff x="4180680" y="4601520"/>
            <a:chExt cx="558720" cy="539640"/>
          </a:xfrm>
        </p:grpSpPr>
        <p:sp>
          <p:nvSpPr>
            <p:cNvPr id="154" name=""/>
            <p:cNvSpPr/>
            <p:nvPr/>
          </p:nvSpPr>
          <p:spPr>
            <a:xfrm rot="19100400">
              <a:off x="4436640" y="4633560"/>
              <a:ext cx="8532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100400">
              <a:off x="4409280" y="5027400"/>
              <a:ext cx="85320" cy="745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100400">
              <a:off x="4217760" y="4824000"/>
              <a:ext cx="8532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100400">
              <a:off x="4627080" y="4830480"/>
              <a:ext cx="85680" cy="745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100400">
              <a:off x="4206960" y="4735440"/>
              <a:ext cx="506160" cy="27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92800" y="414036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7200" y="4560840"/>
            <a:ext cx="157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جه یاد آوری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ضرب نقطه ای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(یا ضرب نرده ای 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5600" y="1459080"/>
            <a:ext cx="68749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ریف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]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] 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خاصی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(q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q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رده ای اس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+ 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دار اس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اصل ضرب نرده ای بردارهای عمود برهم صفر اس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775040" y="2886120"/>
            <a:ext cx="2265840" cy="1681560"/>
            <a:chOff x="4775040" y="2886120"/>
            <a:chExt cx="2265840" cy="1681560"/>
          </a:xfrm>
        </p:grpSpPr>
        <p:sp>
          <p:nvSpPr>
            <p:cNvPr id="167" name=""/>
            <p:cNvSpPr/>
            <p:nvPr/>
          </p:nvSpPr>
          <p:spPr>
            <a:xfrm flipV="1">
              <a:off x="4775040" y="3076560"/>
              <a:ext cx="1441440" cy="11397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775040" y="3996720"/>
              <a:ext cx="1914480" cy="219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2040" y="379548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2960" y="3087720"/>
              <a:ext cx="90360" cy="9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238800" y="3963960"/>
              <a:ext cx="698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38800" y="3975120"/>
              <a:ext cx="468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79720" y="4128840"/>
              <a:ext cx="1522440" cy="169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76320" y="28861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97600" y="4167000"/>
              <a:ext cx="101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b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2240" y="41209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73960" y="1368360"/>
            <a:ext cx="2332080" cy="1598400"/>
            <a:chOff x="4773960" y="1368360"/>
            <a:chExt cx="2332080" cy="1598400"/>
          </a:xfrm>
        </p:grpSpPr>
        <p:sp>
          <p:nvSpPr>
            <p:cNvPr id="178" name=""/>
            <p:cNvSpPr/>
            <p:nvPr/>
          </p:nvSpPr>
          <p:spPr>
            <a:xfrm flipV="1">
              <a:off x="4840200" y="1558440"/>
              <a:ext cx="1441440" cy="11401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840200" y="2479320"/>
              <a:ext cx="1914480" cy="219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7200" y="227808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049440" y="1728720"/>
              <a:ext cx="722520" cy="76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049800" y="1805040"/>
              <a:ext cx="7632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991120" y="1778040"/>
              <a:ext cx="6984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774680" y="1700280"/>
              <a:ext cx="1211400" cy="888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41480" y="13683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97400" y="26035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73960" y="1793880"/>
              <a:ext cx="101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b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هایی ا ز ضرب نرده ا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9680" y="4127400"/>
            <a:ext cx="180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فرض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0040" y="3992400"/>
            <a:ext cx="1844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راینصورت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81520" y="4871880"/>
            <a:ext cx="270072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3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i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5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6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4000" y="4805280"/>
            <a:ext cx="399420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x4 +   2x(-5)   + 3x6 =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x1 +      2x2    + 3x3 =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15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x4 + (-5)x(-5) + 6x6  = 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61280" y="1793880"/>
            <a:ext cx="30816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k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 </a:t>
            </a:r>
            <a:r>
              <a:rPr b="0" lang="en-US" sz="5400" spc="-1" strike="noStrike" baseline="8000">
                <a:solidFill>
                  <a:srgbClr val="fafd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24120" y="1523880"/>
            <a:ext cx="2696400" cy="2088360"/>
            <a:chOff x="5424120" y="1523880"/>
            <a:chExt cx="2696400" cy="2088360"/>
          </a:xfrm>
        </p:grpSpPr>
        <p:sp>
          <p:nvSpPr>
            <p:cNvPr id="197" name=""/>
            <p:cNvSpPr/>
            <p:nvPr/>
          </p:nvSpPr>
          <p:spPr>
            <a:xfrm flipV="1">
              <a:off x="6486480" y="1595520"/>
              <a:ext cx="0" cy="1231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92600" y="2820960"/>
              <a:ext cx="12826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641560" y="2827440"/>
              <a:ext cx="85068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86480" y="2185920"/>
              <a:ext cx="0" cy="6350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99080" y="2820960"/>
              <a:ext cx="584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1720" y="2820960"/>
              <a:ext cx="371520" cy="247680"/>
            </a:xfrm>
            <a:custGeom>
              <a:avLst/>
              <a:gdLst/>
              <a:ahLst/>
              <a:rect l="l" t="t" r="r" b="b"/>
              <a:pathLst>
                <a:path w="234" h="156">
                  <a:moveTo>
                    <a:pt x="234" y="0"/>
                  </a:moveTo>
                  <a:lnTo>
                    <a:pt x="0" y="156"/>
                  </a:lnTo>
                </a:path>
              </a:pathLst>
            </a:custGeom>
            <a:noFill/>
            <a:ln w="2556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52920" y="281952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85880" y="1523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4120" y="327672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2960" y="2895480"/>
              <a:ext cx="2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8160" y="218916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3480" y="3048120"/>
              <a:ext cx="317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2" idx="0"/>
              <a:endCxn id="202" idx="1"/>
            </p:cNvCxnSpPr>
            <p:nvPr/>
          </p:nvCxnSpPr>
          <p:spPr>
            <a:xfrm>
              <a:off x="6495480" y="2820600"/>
              <a:ext cx="1080" cy="1080"/>
            </a:xfrm>
            <a:prstGeom prst="straightConnector1">
              <a:avLst/>
            </a:prstGeom>
            <a:ln w="12600">
              <a:solidFill>
                <a:srgbClr val="fafd00"/>
              </a:solidFill>
              <a:miter/>
            </a:ln>
          </p:spPr>
        </p:cxnSp>
        <p:sp>
          <p:nvSpPr>
            <p:cNvPr id="210" name=""/>
            <p:cNvSpPr/>
            <p:nvPr/>
          </p:nvSpPr>
          <p:spPr>
            <a:xfrm flipH="1">
              <a:off x="6085800" y="2921040"/>
              <a:ext cx="273240" cy="17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خواص ضرب نرده ا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86696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ts val="1599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|a|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a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ts val="1599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ts val="1599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+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+ 2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فیثاغورث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82320" y="4824000"/>
            <a:ext cx="1964160" cy="1458360"/>
            <a:chOff x="1282320" y="4824000"/>
            <a:chExt cx="1964160" cy="1458360"/>
          </a:xfrm>
        </p:grpSpPr>
        <p:sp>
          <p:nvSpPr>
            <p:cNvPr id="216" name=""/>
            <p:cNvSpPr/>
            <p:nvPr/>
          </p:nvSpPr>
          <p:spPr>
            <a:xfrm flipV="1">
              <a:off x="1443240" y="4824000"/>
              <a:ext cx="1117440" cy="1016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73280" y="4843440"/>
              <a:ext cx="0" cy="97812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36760" y="5827680"/>
              <a:ext cx="11304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82320" y="50436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7160" y="588168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77000" y="519588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432960" y="5302080"/>
            <a:ext cx="1756800" cy="887040"/>
            <a:chOff x="3432960" y="5302080"/>
            <a:chExt cx="1756800" cy="887040"/>
          </a:xfrm>
        </p:grpSpPr>
        <p:sp>
          <p:nvSpPr>
            <p:cNvPr id="223" name=""/>
            <p:cNvSpPr/>
            <p:nvPr/>
          </p:nvSpPr>
          <p:spPr>
            <a:xfrm>
              <a:off x="4366440" y="582588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32960" y="5302080"/>
              <a:ext cx="96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133520" y="5331960"/>
              <a:ext cx="0" cy="546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000" y="5871960"/>
              <a:ext cx="5205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خواص ضرب نقطه ا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لفه ه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ts val="16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(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,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, 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 =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5400" spc="-1" strike="noStrike" baseline="8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تق ه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ورد سرع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اگ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باش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92400" y="3076560"/>
                <a:ext cx="2625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4524480"/>
                <a:ext cx="430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4880" y="5467320"/>
                <a:ext cx="18385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736640" y="2022480"/>
            <a:ext cx="6510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ه تعریف کار برگردی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88640" y="1498680"/>
            <a:ext cx="59515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جابه جای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44546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80240" y="2701440"/>
            <a:ext cx="203040" cy="107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5040" y="2390760"/>
            <a:ext cx="3112920" cy="288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26128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09800" y="3070080"/>
            <a:ext cx="107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26320" y="26258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865840" y="2930400"/>
            <a:ext cx="1879560" cy="1549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81800" y="3629160"/>
            <a:ext cx="533520" cy="342720"/>
          </a:xfrm>
          <a:prstGeom prst="ellipse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1455480" y="4597560"/>
            <a:ext cx="14040" cy="70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کار وانرژ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25720" indent="-22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شکل زی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جسمی را به وسیله وزنه و قرقره بالا می بری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نیر و کار انجام می ده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46440" y="3330720"/>
            <a:ext cx="198180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44560" y="4621320"/>
            <a:ext cx="3873600" cy="173988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440000">
            <a:off x="3776760" y="5041800"/>
            <a:ext cx="811080" cy="6397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79880" y="4711680"/>
            <a:ext cx="457200" cy="228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714320" y="4381200"/>
            <a:ext cx="2035080" cy="91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6120" y="4346640"/>
            <a:ext cx="419040" cy="4190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30480" y="5295960"/>
            <a:ext cx="434880" cy="76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0840" y="5132520"/>
            <a:ext cx="0" cy="576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240" y="1676520"/>
            <a:ext cx="3124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37240" indent="-237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اگرام جسم آزاد را بکش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76760" y="2600280"/>
            <a:ext cx="3873600" cy="1739880"/>
          </a:xfrm>
          <a:prstGeom prst="rtTriangl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800240" y="2285640"/>
            <a:ext cx="1523880" cy="6858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3429000"/>
            <a:ext cx="838440" cy="38088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781680" y="1676160"/>
            <a:ext cx="457200" cy="11430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440000">
            <a:off x="6289560" y="2817360"/>
            <a:ext cx="811440" cy="6397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3429000"/>
            <a:ext cx="0" cy="167652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89120" y="1500120"/>
            <a:ext cx="101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46680" y="363384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5240" y="4700520"/>
            <a:ext cx="12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0840" y="188136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3000" y="1728720"/>
            <a:ext cx="6296400" cy="900360"/>
            <a:chOff x="333000" y="1728720"/>
            <a:chExt cx="6296400" cy="900360"/>
          </a:xfrm>
        </p:grpSpPr>
        <p:sp>
          <p:nvSpPr>
            <p:cNvPr id="271" name=""/>
            <p:cNvSpPr/>
            <p:nvPr/>
          </p:nvSpPr>
          <p:spPr>
            <a:xfrm flipH="1" flipV="1">
              <a:off x="5638680" y="1981080"/>
              <a:ext cx="990720" cy="4572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3000" y="2262240"/>
              <a:ext cx="453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جهت حر کت جعبه را مشخص کنی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1200" y="172872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2000" y="2755800"/>
            <a:ext cx="47692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ر نیرویی که عمود برجهت حرک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نباشد کار انجام می ده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0280" y="3862440"/>
            <a:ext cx="44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ی انجام نمی ده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ود ب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4160" y="4307040"/>
            <a:ext cx="310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مثبت انجام می ده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160" y="4840200"/>
            <a:ext cx="302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منفی انجام می ده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09680" y="3430440"/>
            <a:ext cx="6997680" cy="2295720"/>
            <a:chOff x="409680" y="3430440"/>
            <a:chExt cx="6997680" cy="2295720"/>
          </a:xfrm>
        </p:grpSpPr>
        <p:sp>
          <p:nvSpPr>
            <p:cNvPr id="279" name=""/>
            <p:cNvSpPr/>
            <p:nvPr/>
          </p:nvSpPr>
          <p:spPr>
            <a:xfrm>
              <a:off x="409680" y="5359320"/>
              <a:ext cx="331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کار منفی انجام می ده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69080" y="3430440"/>
              <a:ext cx="638280" cy="3146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787800" y="3754440"/>
              <a:ext cx="609480" cy="12762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24440" y="4691160"/>
            <a:ext cx="3089520" cy="1422360"/>
            <a:chOff x="4024440" y="4691160"/>
            <a:chExt cx="3089520" cy="1422360"/>
          </a:xfrm>
        </p:grpSpPr>
        <p:sp>
          <p:nvSpPr>
            <p:cNvPr id="283" name=""/>
            <p:cNvSpPr/>
            <p:nvPr/>
          </p:nvSpPr>
          <p:spPr>
            <a:xfrm>
              <a:off x="4024440" y="4691160"/>
              <a:ext cx="368280" cy="1422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89040" y="5124600"/>
              <a:ext cx="282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3</a:t>
              </a: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نیرو کار انجام می دهن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 وانرژی:مثا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= 10 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 جعبه ای روی سطح افقی بدون اصطکاک قرار دارد وارد می شود و مسافت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= 5 m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می پیما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30360" y="3892680"/>
            <a:ext cx="570240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63880" y="3054240"/>
            <a:ext cx="1054080" cy="825480"/>
          </a:xfrm>
          <a:prstGeom prst="rect">
            <a:avLst/>
          </a:prstGeom>
          <a:noFill/>
          <a:ln w="1908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70000" y="4267080"/>
            <a:ext cx="32511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3880" y="4473720"/>
            <a:ext cx="105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40240" y="305424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49200" y="350532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40040" y="302724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2960" y="4983120"/>
            <a:ext cx="643248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6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زیر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از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0 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x (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5 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50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Joules (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اه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98400" y="3822840"/>
            <a:ext cx="7818480" cy="2065320"/>
            <a:chOff x="698400" y="3822840"/>
            <a:chExt cx="7818480" cy="2065320"/>
          </a:xfrm>
        </p:grpSpPr>
        <p:sp>
          <p:nvSpPr>
            <p:cNvPr id="303" name=""/>
            <p:cNvSpPr/>
            <p:nvPr/>
          </p:nvSpPr>
          <p:spPr>
            <a:xfrm>
              <a:off x="698400" y="3822840"/>
              <a:ext cx="7747200" cy="5540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8400" y="3822840"/>
              <a:ext cx="2565360" cy="206532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9320" y="3822840"/>
              <a:ext cx="1955880" cy="206532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70400" y="3822840"/>
              <a:ext cx="3175200" cy="206532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9120" y="4540320"/>
              <a:ext cx="2085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N-m (Joul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7360" y="4495680"/>
              <a:ext cx="23839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Dyne-cm (erg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10</a:t>
              </a:r>
              <a:r>
                <a:rPr b="0" lang="en-US" sz="2000" spc="-1" strike="noStrike" baseline="30000">
                  <a:solidFill>
                    <a:srgbClr val="fafd00"/>
                  </a:solidFill>
                  <a:latin typeface="Arial"/>
                </a:rPr>
                <a:t>-7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67440" y="4406760"/>
              <a:ext cx="334944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TU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1054 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calorie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4.184 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foot-l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1.356 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V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1.6x10</a:t>
              </a:r>
              <a:r>
                <a:rPr b="0" lang="en-US" sz="2000" spc="-1" strike="noStrike" baseline="30000">
                  <a:solidFill>
                    <a:srgbClr val="fafd00"/>
                  </a:solidFill>
                  <a:latin typeface="Arial"/>
                </a:rPr>
                <a:t>-19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86320" y="3886200"/>
              <a:ext cx="115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cg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61200" y="3886200"/>
              <a:ext cx="199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afd00"/>
                  </a:solidFill>
                  <a:latin typeface="Arial"/>
                  <a:cs typeface="Arial"/>
                </a:rPr>
                <a:t>دیگرواحده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52600" y="3886200"/>
              <a:ext cx="122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28880" y="179028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78760" y="2494080"/>
            <a:ext cx="20167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نیوت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[M][L] / [T]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67360" y="2494080"/>
            <a:ext cx="28306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متر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ژ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[L]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[M][L]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/ [T]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16200000">
            <a:off x="3549600" y="2025720"/>
            <a:ext cx="292320" cy="5205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16200000">
            <a:off x="4692600" y="2025720"/>
            <a:ext cx="292320" cy="5205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rot="16200000">
            <a:off x="5835600" y="2025720"/>
            <a:ext cx="292320" cy="5205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کار وانرژی جنبش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= 10 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عبه ای که روی سطح بدون اصطکاکی قرار دارد وارد می شودو به انداز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= 5 m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جابه جا 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جعبه قبل از اعمال نیر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بعد از اعمال آ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6680" y="5416560"/>
            <a:ext cx="570204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39840" y="4578480"/>
            <a:ext cx="1054080" cy="825480"/>
          </a:xfrm>
          <a:prstGeom prst="rect">
            <a:avLst/>
          </a:prstGeom>
          <a:noFill/>
          <a:ln w="2844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46320" y="5791320"/>
            <a:ext cx="32511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0200" y="5997600"/>
            <a:ext cx="105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16560" y="45784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25520" y="502920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16360" y="45496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20120" y="41688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95040" y="416880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01960" y="4343400"/>
            <a:ext cx="2919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54640" y="434340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78880" y="5943600"/>
            <a:ext cx="67284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48120" y="56167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90720" y="47782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کار و انرژی جنبش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خواهد ب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شتاب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        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ضرب در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06680" y="4168800"/>
            <a:ext cx="5702040" cy="2192040"/>
            <a:chOff x="1606680" y="4168800"/>
            <a:chExt cx="5702040" cy="2192040"/>
          </a:xfrm>
        </p:grpSpPr>
        <p:sp>
          <p:nvSpPr>
            <p:cNvPr id="344" name=""/>
            <p:cNvSpPr/>
            <p:nvPr/>
          </p:nvSpPr>
          <p:spPr>
            <a:xfrm>
              <a:off x="1606680" y="5416560"/>
              <a:ext cx="5702040" cy="139680"/>
            </a:xfrm>
            <a:prstGeom prst="rect">
              <a:avLst/>
            </a:prstGeom>
            <a:solidFill>
              <a:srgbClr val="7679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9840" y="4578480"/>
              <a:ext cx="1054080" cy="825480"/>
            </a:xfrm>
            <a:prstGeom prst="rect">
              <a:avLst/>
            </a:prstGeom>
            <a:noFill/>
            <a:ln w="19080">
              <a:solidFill>
                <a:srgbClr val="f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5645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10080" y="5645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46320" y="5791320"/>
              <a:ext cx="32511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30200" y="5997600"/>
              <a:ext cx="105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6560" y="4578480"/>
              <a:ext cx="1054080" cy="8254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025520" y="5029200"/>
              <a:ext cx="1397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16360" y="45496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20120" y="416880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95040" y="416880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1960" y="4343400"/>
              <a:ext cx="291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54640" y="434340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794640" y="4952880"/>
            <a:ext cx="43164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78880" y="5943600"/>
            <a:ext cx="67284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14600" y="4778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48120" y="56167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90720" y="47782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64200" y="2809800"/>
            <a:ext cx="693720" cy="365040"/>
          </a:xfrm>
          <a:prstGeom prst="leftArrow">
            <a:avLst>
              <a:gd name="adj1" fmla="val 50000"/>
              <a:gd name="adj2" fmla="val 475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84600" y="2541600"/>
            <a:ext cx="493920" cy="277920"/>
          </a:xfrm>
          <a:prstGeom prst="leftArrow">
            <a:avLst>
              <a:gd name="adj1" fmla="val 50000"/>
              <a:gd name="adj2" fmla="val 44430"/>
            </a:avLst>
          </a:prstGeom>
          <a:solidFill>
            <a:srgbClr val="fafd00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26000" y="2917800"/>
            <a:ext cx="493560" cy="277920"/>
          </a:xfrm>
          <a:prstGeom prst="leftArrow">
            <a:avLst>
              <a:gd name="adj1" fmla="val 50000"/>
              <a:gd name="adj2" fmla="val 44398"/>
            </a:avLst>
          </a:prstGeom>
          <a:solidFill>
            <a:srgbClr val="fafd00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کار و انرژی جنبش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پیداکرد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= F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   =   W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                        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در نظر گرفتن انرژی جنبشی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 = 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K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W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    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           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ضیه کار وانرژی جنبشی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6680" y="4168800"/>
            <a:ext cx="5702040" cy="2192040"/>
            <a:chOff x="1606680" y="4168800"/>
            <a:chExt cx="5702040" cy="2192040"/>
          </a:xfrm>
        </p:grpSpPr>
        <p:sp>
          <p:nvSpPr>
            <p:cNvPr id="370" name=""/>
            <p:cNvSpPr/>
            <p:nvPr/>
          </p:nvSpPr>
          <p:spPr>
            <a:xfrm>
              <a:off x="1606680" y="5416560"/>
              <a:ext cx="5702040" cy="139680"/>
            </a:xfrm>
            <a:prstGeom prst="rect">
              <a:avLst/>
            </a:prstGeom>
            <a:solidFill>
              <a:srgbClr val="7679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9840" y="4578480"/>
              <a:ext cx="1054080" cy="825480"/>
            </a:xfrm>
            <a:prstGeom prst="rect">
              <a:avLst/>
            </a:prstGeom>
            <a:noFill/>
            <a:ln w="19080">
              <a:solidFill>
                <a:srgbClr val="f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645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10080" y="5645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6320" y="5791320"/>
              <a:ext cx="32511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30200" y="5997600"/>
              <a:ext cx="105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6560" y="4578480"/>
              <a:ext cx="1054080" cy="8254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025520" y="5029200"/>
              <a:ext cx="13971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16360" y="45496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02000" y="4168800"/>
              <a:ext cx="180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76920" y="4168800"/>
              <a:ext cx="181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1960" y="4343400"/>
              <a:ext cx="2919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4640" y="434340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794640" y="4952880"/>
            <a:ext cx="431640" cy="0"/>
          </a:xfrm>
          <a:prstGeom prst="line">
            <a:avLst/>
          </a:prstGeom>
          <a:ln w="2556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78880" y="5943600"/>
            <a:ext cx="67284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14600" y="4778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48120" y="56167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90720" y="47782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25640" y="3448080"/>
            <a:ext cx="4398840" cy="7365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35120" y="4292640"/>
            <a:ext cx="319320" cy="22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91160" y="4097160"/>
            <a:ext cx="97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79440" y="4137120"/>
            <a:ext cx="97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ضیه کار و انرژی جنبش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99920" y="17521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ار خالص انجام شده روی یک جسم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{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غییر انرژی جنبشی جسم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154400" y="3270240"/>
                <a:ext cx="11415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870360" y="3079800"/>
            <a:ext cx="1695240" cy="6811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811680" y="4021200"/>
                <a:ext cx="1027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808440" y="4519440"/>
                <a:ext cx="1990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905120" y="5618160"/>
            <a:ext cx="53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2000"/>
          </a:bodyPr>
          <a:p>
            <a:pPr marL="205560" indent="-205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ین رابطه را برای کارنیروی متغییر بعدا اثبات می ک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کار وانرژ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040" y="17143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168480" indent="-168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جسم به جرمه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 مفروض است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ها روی سطح بدون اصطکاکی می لغزند و دارای انرژی جنبشی مساوی هستند. اگر وار د یک سطح خش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e.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وند قبل از توقف کدام یک مسافت بیشتری طی خواهند کر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82640" y="4883040"/>
            <a:ext cx="593100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7560" y="4197240"/>
            <a:ext cx="977760" cy="6732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12320" y="43959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82840" y="4883040"/>
            <a:ext cx="4330800" cy="6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4343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82640" y="6026040"/>
            <a:ext cx="593100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87560" y="5568840"/>
            <a:ext cx="825480" cy="4446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12320" y="561492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82840" y="6026040"/>
            <a:ext cx="4330800" cy="6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84360" y="3232080"/>
            <a:ext cx="63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س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168480" indent="-168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کار و انرژی جنبشی می گوید که برای هر جسمی  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ادق است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8480" indent="-168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ین مسئله فقط نیروی اصطکاک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می دهد (زی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ود بر جهت حرکت هستند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82640" y="5111640"/>
            <a:ext cx="593100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21280" y="4425840"/>
            <a:ext cx="977760" cy="6732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41000" y="462456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82840" y="5111640"/>
            <a:ext cx="4330800" cy="6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495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581280" y="4876920"/>
            <a:ext cx="5335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648320" y="3580920"/>
            <a:ext cx="0" cy="83844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48320" y="5105520"/>
            <a:ext cx="0" cy="838080"/>
          </a:xfrm>
          <a:prstGeom prst="line">
            <a:avLst/>
          </a:prstGeom>
          <a:ln w="5076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0640" y="447192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21880" y="3633840"/>
            <a:ext cx="101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98560" y="5538960"/>
            <a:ext cx="12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m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28800" y="609480"/>
            <a:ext cx="7377120" cy="6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7360" y="1162080"/>
            <a:ext cx="770544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کار و انرژی جنبشی می گوید که برای هر جسمی  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ادق است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ین مسئله فقط نیروی اصطکاک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می دهد (زی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ود بر جهت حرکت هستند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خالص انجام شده روی جعبه برابر است ب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D 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gD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82640" y="5111640"/>
            <a:ext cx="593100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02360" y="4425840"/>
            <a:ext cx="977760" cy="67320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22080" y="462456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82840" y="5111640"/>
            <a:ext cx="4330800" cy="6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5562720"/>
            <a:ext cx="38098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98560" y="561492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92480" y="4425840"/>
            <a:ext cx="977760" cy="6732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42670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095720" y="3409920"/>
            <a:ext cx="449136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کار انرژی را از جعبه می گی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 -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96640" y="1587240"/>
            <a:ext cx="6985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6000"/>
          </a:bodyPr>
          <a:p>
            <a:pPr marL="102600" indent="-102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خالص انجام شده برای توقف جعبه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D 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D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6600" indent="-82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کار انرژی جنبشی جعبه را می گی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46600" indent="-82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 -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این کار برای هردو جعبه که انرژی جنبشی مساوی دارند برابر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225440" y="3328920"/>
            <a:ext cx="3288960" cy="404280"/>
            <a:chOff x="1225440" y="3328920"/>
            <a:chExt cx="3288960" cy="404280"/>
          </a:xfrm>
        </p:grpSpPr>
        <p:sp>
          <p:nvSpPr>
            <p:cNvPr id="441" name=""/>
            <p:cNvSpPr/>
            <p:nvPr/>
          </p:nvSpPr>
          <p:spPr>
            <a:xfrm>
              <a:off x="1225440" y="3359160"/>
              <a:ext cx="596880" cy="368280"/>
            </a:xfrm>
            <a:prstGeom prst="rightArrow">
              <a:avLst>
                <a:gd name="adj1" fmla="val 50000"/>
                <a:gd name="adj2" fmla="val 81044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0920" y="3328920"/>
              <a:ext cx="29134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gD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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gD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83040" y="3328920"/>
            <a:ext cx="2865960" cy="404280"/>
            <a:chOff x="4883040" y="3328920"/>
            <a:chExt cx="2865960" cy="404280"/>
          </a:xfrm>
        </p:grpSpPr>
        <p:sp>
          <p:nvSpPr>
            <p:cNvPr id="444" name=""/>
            <p:cNvSpPr/>
            <p:nvPr/>
          </p:nvSpPr>
          <p:spPr>
            <a:xfrm>
              <a:off x="5411880" y="3328920"/>
              <a:ext cx="23371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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83040" y="3359160"/>
              <a:ext cx="596880" cy="368280"/>
            </a:xfrm>
            <a:prstGeom prst="rightArrow">
              <a:avLst>
                <a:gd name="adj1" fmla="val 50000"/>
                <a:gd name="adj2" fmla="val 81044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162080" y="5778360"/>
            <a:ext cx="3289320" cy="73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9560" y="5397480"/>
            <a:ext cx="53676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32960" y="54291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0920" y="5778360"/>
            <a:ext cx="2400480" cy="30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44800" y="599292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20480" y="6056280"/>
            <a:ext cx="10234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00120" y="5397480"/>
            <a:ext cx="538200" cy="36828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20720" y="530712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896000" y="5307120"/>
            <a:ext cx="3289320" cy="1153440"/>
            <a:chOff x="4896000" y="5307120"/>
            <a:chExt cx="3289320" cy="1153440"/>
          </a:xfrm>
        </p:grpSpPr>
        <p:sp>
          <p:nvSpPr>
            <p:cNvPr id="455" name=""/>
            <p:cNvSpPr/>
            <p:nvPr/>
          </p:nvSpPr>
          <p:spPr>
            <a:xfrm>
              <a:off x="4896000" y="5778360"/>
              <a:ext cx="3289320" cy="73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1920" y="5397480"/>
              <a:ext cx="536400" cy="3682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05320" y="5429160"/>
              <a:ext cx="10508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84840" y="5778360"/>
              <a:ext cx="2400480" cy="30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78720" y="6026040"/>
              <a:ext cx="21160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35280" y="6056280"/>
              <a:ext cx="10234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34040" y="5397480"/>
              <a:ext cx="538200" cy="368280"/>
            </a:xfrm>
            <a:prstGeom prst="rect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54640" y="5307120"/>
              <a:ext cx="33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843120" y="4192560"/>
            <a:ext cx="6408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 ملاحظه می کنیم 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4079880"/>
            <a:ext cx="1206720" cy="6364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622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کاربرد ساده 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 نیروی جاذبه روی جسمی که سقوط می کن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سمی از حالت سکون سقوط کند بعد از طی مساف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سرعت ان چقدر خواهد ش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g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ااستفاده از قضیه کاروانرؤی جنبشی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H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88160" y="2597040"/>
            <a:ext cx="887400" cy="601920"/>
          </a:xfrm>
          <a:prstGeom prst="rect">
            <a:avLst/>
          </a:prstGeom>
          <a:solidFill>
            <a:srgbClr val="00ff00"/>
          </a:solidFill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55720" y="355428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00200" y="332568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72360" y="2936880"/>
            <a:ext cx="0" cy="10224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32600" y="2598840"/>
            <a:ext cx="3240" cy="30398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7480" y="37972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8960" y="2639880"/>
            <a:ext cx="4680" cy="29973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44760" y="3411360"/>
            <a:ext cx="1530360" cy="5018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8001000" y="3193560"/>
            <a:ext cx="0" cy="10033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700400" y="340668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7440" y="2684520"/>
            <a:ext cx="1465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=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80960" y="5645160"/>
            <a:ext cx="95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914560" y="5557680"/>
                <a:ext cx="1876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2720880" y="5478480"/>
            <a:ext cx="1744920" cy="573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06360" y="5535720"/>
            <a:ext cx="1101960" cy="444240"/>
          </a:xfrm>
          <a:prstGeom prst="rightArrow">
            <a:avLst>
              <a:gd name="adj1" fmla="val 50000"/>
              <a:gd name="adj2" fmla="val 124039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5568840"/>
            <a:ext cx="0" cy="749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88160" y="5645160"/>
            <a:ext cx="887400" cy="601560"/>
          </a:xfrm>
          <a:prstGeom prst="rect">
            <a:avLst/>
          </a:prstGeom>
          <a:noFill/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یا این قضیه اگر چند نیرو برجسمی وارد شود صادق است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96880" y="1352520"/>
            <a:ext cx="369900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جابه جای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انجام شده به وسیله هر نیرو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ffff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TOT</a:t>
            </a:r>
            <a:r>
              <a:rPr b="1" i="1" lang="en-US" sz="12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بنابراین نیروی برایند مورد نظر است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64000" y="44546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06880" y="2340000"/>
            <a:ext cx="3354480" cy="306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01920" y="2728800"/>
            <a:ext cx="1204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10160" y="307008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726320" y="2625840"/>
            <a:ext cx="520920" cy="330120"/>
          </a:xfrm>
          <a:prstGeom prst="ellipse">
            <a:avLst/>
          </a:prstGeom>
          <a:noFill/>
          <a:ln w="12600">
            <a:solidFill>
              <a:srgbClr val="ff50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865840" y="2930400"/>
            <a:ext cx="1879560" cy="1549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81800" y="3629160"/>
            <a:ext cx="533520" cy="342720"/>
          </a:xfrm>
          <a:prstGeom prst="ellipse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5516280" y="2572920"/>
            <a:ext cx="1253880" cy="1197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23080" y="3780000"/>
            <a:ext cx="1407960" cy="1504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91120" y="29653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03400" y="404496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780240" y="2701440"/>
            <a:ext cx="203040" cy="107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28880" y="201888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25560" indent="-25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اصله زمانی مهم نیست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20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پله ها تند ویا آرام بالا بروید مقدار کار انجام شده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سان اس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0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است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-25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ی انجام نمی شود اگ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20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20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20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9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ضیح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18800" y="148068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0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ی انجام نمی گیرد اگ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9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1" i="1" lang="fa-IR" sz="20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یچ کاری به وسیل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جام نمی شود</a:t>
            </a:r>
            <a:r>
              <a:rPr b="1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یچ کاری به وسی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0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  انجام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20760" y="316404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20800" y="1648080"/>
            <a:ext cx="2350440" cy="2320200"/>
            <a:chOff x="820800" y="1648080"/>
            <a:chExt cx="2350440" cy="2320200"/>
          </a:xfrm>
        </p:grpSpPr>
        <p:grpSp>
          <p:nvGrpSpPr>
            <p:cNvPr id="512" name=""/>
            <p:cNvGrpSpPr/>
            <p:nvPr/>
          </p:nvGrpSpPr>
          <p:grpSpPr>
            <a:xfrm>
              <a:off x="820800" y="1648080"/>
              <a:ext cx="2350440" cy="1967760"/>
              <a:chOff x="820800" y="1648080"/>
              <a:chExt cx="2350440" cy="1967760"/>
            </a:xfrm>
          </p:grpSpPr>
          <p:sp>
            <p:nvSpPr>
              <p:cNvPr id="513" name=""/>
              <p:cNvSpPr/>
              <p:nvPr/>
            </p:nvSpPr>
            <p:spPr>
              <a:xfrm>
                <a:off x="822240" y="1648080"/>
                <a:ext cx="2349000" cy="196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20800" y="1648080"/>
                <a:ext cx="2349000" cy="196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H="1">
              <a:off x="1222200" y="2657520"/>
              <a:ext cx="774720" cy="749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82520" y="3267000"/>
              <a:ext cx="291960" cy="2923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1241280" y="3042720"/>
              <a:ext cx="341280" cy="38268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4800" y="3419640"/>
              <a:ext cx="368280" cy="291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52080" y="360504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365120" y="3367080"/>
            <a:ext cx="54000" cy="4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374480" y="3459240"/>
            <a:ext cx="65160" cy="5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058400" y="4260240"/>
            <a:ext cx="2575440" cy="1383480"/>
            <a:chOff x="1058400" y="4260240"/>
            <a:chExt cx="2575440" cy="1383480"/>
          </a:xfrm>
        </p:grpSpPr>
        <p:sp>
          <p:nvSpPr>
            <p:cNvPr id="523" name=""/>
            <p:cNvSpPr/>
            <p:nvPr/>
          </p:nvSpPr>
          <p:spPr>
            <a:xfrm>
              <a:off x="1146240" y="4442040"/>
              <a:ext cx="2487600" cy="1201680"/>
            </a:xfrm>
            <a:prstGeom prst="rtTriangle">
              <a:avLst/>
            </a:prstGeom>
            <a:solidFill>
              <a:srgbClr val="767900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560000">
              <a:off x="1765440" y="4366800"/>
              <a:ext cx="596880" cy="4762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1625040" y="4830840"/>
              <a:ext cx="311400" cy="5205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8200" y="4808520"/>
              <a:ext cx="443160" cy="195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58720" y="46278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58400" y="4942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5280" y="1778040"/>
            <a:ext cx="1303200" cy="501480"/>
          </a:xfrm>
          <a:prstGeom prst="roundRect">
            <a:avLst>
              <a:gd name="adj" fmla="val 12495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کار و انرژی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7665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02680" indent="-20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سطح شیبدار دارای شتاب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 ی روی این سطح بوسیله نیروی اصطکاک نگهداشته شده است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نیرو براین جعبه کار انجام می ده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90280" y="3419640"/>
            <a:ext cx="4216320" cy="1801800"/>
            <a:chOff x="2690280" y="3419640"/>
            <a:chExt cx="4216320" cy="1801800"/>
          </a:xfrm>
        </p:grpSpPr>
        <p:sp>
          <p:nvSpPr>
            <p:cNvPr id="533" name=""/>
            <p:cNvSpPr/>
            <p:nvPr/>
          </p:nvSpPr>
          <p:spPr>
            <a:xfrm>
              <a:off x="6008040" y="399744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689920" y="3419640"/>
              <a:ext cx="2883240" cy="1663560"/>
            </a:xfrm>
            <a:prstGeom prst="rtTriangle">
              <a:avLst/>
            </a:prstGeom>
            <a:solidFill>
              <a:srgbClr val="037c03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9800000">
              <a:off x="3681000" y="3676320"/>
              <a:ext cx="609480" cy="6094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41720" y="5032440"/>
              <a:ext cx="189000" cy="1890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83200" y="5032440"/>
              <a:ext cx="189000" cy="1890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02200" y="4419720"/>
              <a:ext cx="13557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46160" y="5767560"/>
            <a:ext cx="5627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39600" y="786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کلیه نیروهای وارد برآن را رسم کنید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571840" y="3000240"/>
            <a:ext cx="3984480" cy="2435400"/>
            <a:chOff x="2571840" y="3000240"/>
            <a:chExt cx="3984480" cy="2435400"/>
          </a:xfrm>
        </p:grpSpPr>
        <p:sp>
          <p:nvSpPr>
            <p:cNvPr id="543" name=""/>
            <p:cNvSpPr/>
            <p:nvPr/>
          </p:nvSpPr>
          <p:spPr>
            <a:xfrm flipH="1">
              <a:off x="2571840" y="3000240"/>
              <a:ext cx="3603600" cy="2284560"/>
            </a:xfrm>
            <a:prstGeom prst="rtTriangle">
              <a:avLst/>
            </a:prstGeom>
            <a:solidFill>
              <a:srgbClr val="037c03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84080" y="378144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9637400">
              <a:off x="3719520" y="3306600"/>
              <a:ext cx="866880" cy="881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7320" y="5175360"/>
              <a:ext cx="236520" cy="2584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83240" y="5176800"/>
              <a:ext cx="236520" cy="25884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00560" y="4246560"/>
              <a:ext cx="13557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257280" y="3201840"/>
            <a:ext cx="2181600" cy="1951200"/>
            <a:chOff x="3257280" y="3201840"/>
            <a:chExt cx="2181600" cy="1951200"/>
          </a:xfrm>
        </p:grpSpPr>
        <p:sp>
          <p:nvSpPr>
            <p:cNvPr id="550" name=""/>
            <p:cNvSpPr/>
            <p:nvPr/>
          </p:nvSpPr>
          <p:spPr>
            <a:xfrm>
              <a:off x="4165560" y="3767040"/>
              <a:ext cx="0" cy="1386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383000" y="4113000"/>
              <a:ext cx="620640" cy="966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743360" y="3406680"/>
              <a:ext cx="663840" cy="4190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57280" y="46116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02160" y="44784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7200" y="3201840"/>
              <a:ext cx="100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 flipH="1">
            <a:off x="2571840" y="3000240"/>
            <a:ext cx="3603600" cy="2284560"/>
          </a:xfrm>
          <a:prstGeom prst="rtTriangle">
            <a:avLst/>
          </a:prstGeom>
          <a:solidFill>
            <a:srgbClr val="037c0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84080" y="37814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9637400">
            <a:off x="3719520" y="3306600"/>
            <a:ext cx="866880" cy="881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27320" y="5175360"/>
            <a:ext cx="236520" cy="2584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83240" y="5176800"/>
            <a:ext cx="236520" cy="2588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00560" y="4246560"/>
            <a:ext cx="135576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65560" y="3767040"/>
            <a:ext cx="0" cy="138600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4383000" y="4113000"/>
            <a:ext cx="620640" cy="96660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743360" y="3406680"/>
            <a:ext cx="663840" cy="41904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57280" y="46116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02160" y="4478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5480" y="1599840"/>
            <a:ext cx="71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داشته باشید 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1000" spc="-1" strike="noStrike">
                <a:solidFill>
                  <a:srgbClr val="fafd00"/>
                </a:solidFill>
                <a:latin typeface="Marlett"/>
                <a:ea typeface="Marlett"/>
              </a:rPr>
              <a:t></a:t>
            </a:r>
            <a:r>
              <a:rPr b="1" i="1" lang="en-US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Δ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است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قط نیروهایی که در راستای سطح شیبدار هستند کار انجام می دهن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17200" y="3201840"/>
            <a:ext cx="100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387320" y="3452760"/>
            <a:ext cx="1011600" cy="1625760"/>
            <a:chOff x="4387320" y="3452760"/>
            <a:chExt cx="1011600" cy="1625760"/>
          </a:xfrm>
        </p:grpSpPr>
        <p:sp>
          <p:nvSpPr>
            <p:cNvPr id="571" name=""/>
            <p:cNvSpPr/>
            <p:nvPr/>
          </p:nvSpPr>
          <p:spPr>
            <a:xfrm flipH="1">
              <a:off x="4387320" y="5078520"/>
              <a:ext cx="6066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87680" y="4246560"/>
              <a:ext cx="0" cy="83196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4240" y="3452760"/>
              <a:ext cx="0" cy="38088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41920" y="3833640"/>
              <a:ext cx="6570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915840" y="5667480"/>
            <a:ext cx="71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پاسخ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است .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 آوری درس امروز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وانرژ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ح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عری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رب نقطه 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نیروی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کار- قضیه کار وانرژی جنبش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های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فسی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تاب درسی و مسائل آن را فراموش نکنید!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afd00"/>
                </a:solidFill>
                <a:latin typeface="Arial"/>
                <a:cs typeface="Arial"/>
              </a:rPr>
              <a:t>فصل هفتم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9400" y="2876400"/>
            <a:ext cx="7237440" cy="14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"/>
                <a:cs typeface="Arial"/>
              </a:rPr>
              <a:t>کار وانرژ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4400" y="187596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0000"/>
          </a:bodyPr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وانرژ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-22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ح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-22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عری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رب نقطه 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نیروی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-22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کار- قضیه کار وانرژی جنبش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 نیروهای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فسی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 وا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همترین اصل در فیز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قریب جا یگزینی به مکان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اربردهای خارج از محدوده مکان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ارت(حرکت گرما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کانیک کوانتم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زار بسیار مف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راههای جدید برای حل مسائل(گاهی بسیار ساده تر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کلهای مختلف انرژ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جنبش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نرژی مربوط به حرک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ی که حرکت می کند دارای انرژی جنبشی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ید این انرژی را از اتومبیل بگیریم تا متوقف ش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ترمزهای اتومبیل  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داغ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 این راهی برای تبدیل یک نوع انرژی به نوع دیگر است ( به انرژی حرارتی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508120" y="3048120"/>
            <a:ext cx="2216160" cy="466560"/>
            <a:chOff x="2508120" y="3048120"/>
            <a:chExt cx="2216160" cy="4665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3357720" y="3048120"/>
              <a:ext cx="136656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flipH="1">
              <a:off x="2736360" y="3124080"/>
              <a:ext cx="5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508120" y="3200400"/>
              <a:ext cx="47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117960" y="3352680"/>
              <a:ext cx="31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736720" y="3276720"/>
              <a:ext cx="39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جرم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رژی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Arial"/>
              </a:rPr>
              <a:t>(ولی نه در فیزیک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Arial"/>
              </a:rPr>
              <a:t>1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7400" y="163836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یزیک ذرا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184040" y="2577960"/>
            <a:ext cx="6878880" cy="1242720"/>
            <a:chOff x="1184040" y="2577960"/>
            <a:chExt cx="6878880" cy="1242720"/>
          </a:xfrm>
        </p:grpSpPr>
        <p:grpSp>
          <p:nvGrpSpPr>
            <p:cNvPr id="73" name=""/>
            <p:cNvGrpSpPr/>
            <p:nvPr/>
          </p:nvGrpSpPr>
          <p:grpSpPr>
            <a:xfrm>
              <a:off x="1184040" y="2577960"/>
              <a:ext cx="3343680" cy="1242720"/>
              <a:chOff x="1184040" y="2577960"/>
              <a:chExt cx="3343680" cy="1242720"/>
            </a:xfrm>
          </p:grpSpPr>
          <p:sp>
            <p:nvSpPr>
              <p:cNvPr id="74" name=""/>
              <p:cNvSpPr/>
              <p:nvPr/>
            </p:nvSpPr>
            <p:spPr>
              <a:xfrm>
                <a:off x="2101680" y="2946240"/>
                <a:ext cx="2426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95760" y="3035160"/>
                <a:ext cx="0" cy="279720"/>
              </a:xfrm>
              <a:prstGeom prst="line">
                <a:avLst/>
              </a:prstGeom>
              <a:ln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62040" y="2577960"/>
                <a:ext cx="0" cy="736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95760" y="2577960"/>
                <a:ext cx="0" cy="279720"/>
              </a:xfrm>
              <a:prstGeom prst="line">
                <a:avLst/>
              </a:prstGeom>
              <a:ln w="255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84040" y="3457440"/>
                <a:ext cx="2839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+ 5,000,000,000 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78200" y="2909880"/>
                <a:ext cx="63360" cy="633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57720" y="2954160"/>
                <a:ext cx="980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e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772160" y="2577960"/>
              <a:ext cx="3290760" cy="1242720"/>
              <a:chOff x="4772160" y="2577960"/>
              <a:chExt cx="3290760" cy="124272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4772160" y="2946240"/>
                <a:ext cx="245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16720" y="3035160"/>
                <a:ext cx="0" cy="27972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50080" y="2577960"/>
                <a:ext cx="0" cy="736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16720" y="2577960"/>
                <a:ext cx="0" cy="27972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287320" y="3457440"/>
                <a:ext cx="2775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- 5,000,000,000 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0920" y="2909880"/>
                <a:ext cx="63360" cy="6336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774840" y="2952720"/>
                <a:ext cx="10443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e+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258840" y="274788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6640" y="3990960"/>
            <a:ext cx="106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2160" y="4083120"/>
            <a:ext cx="254160" cy="2538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000" y="5261040"/>
            <a:ext cx="105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5680" y="2405160"/>
            <a:ext cx="201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= 1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10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63360" y="405432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48520" y="4029120"/>
            <a:ext cx="1690560" cy="36324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E = MC</a:t>
            </a:r>
            <a:r>
              <a:rPr b="0" i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29040" y="4667040"/>
            <a:ext cx="3009960" cy="1409760"/>
            <a:chOff x="3029040" y="4667040"/>
            <a:chExt cx="3009960" cy="1409760"/>
          </a:xfrm>
        </p:grpSpPr>
        <p:sp>
          <p:nvSpPr>
            <p:cNvPr id="97" name=""/>
            <p:cNvSpPr/>
            <p:nvPr/>
          </p:nvSpPr>
          <p:spPr>
            <a:xfrm>
              <a:off x="4502160" y="5289480"/>
              <a:ext cx="254160" cy="254160"/>
            </a:xfrm>
            <a:prstGeom prst="ellipse">
              <a:avLst/>
            </a:prstGeom>
            <a:noFill/>
            <a:ln w="3816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7080" y="5009760"/>
              <a:ext cx="1054080" cy="3301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718160" y="4793760"/>
              <a:ext cx="457200" cy="444600"/>
            </a:xfrm>
            <a:prstGeom prst="line">
              <a:avLst/>
            </a:prstGeom>
            <a:ln w="381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3740040" y="5010120"/>
              <a:ext cx="736560" cy="317520"/>
            </a:xfrm>
            <a:prstGeom prst="line">
              <a:avLst/>
            </a:prstGeom>
            <a:ln w="381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029040" y="5518080"/>
              <a:ext cx="1295280" cy="152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83040" y="5416200"/>
              <a:ext cx="559080" cy="50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19680" y="5581800"/>
              <a:ext cx="1219320" cy="304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18160" y="5670720"/>
              <a:ext cx="152280" cy="406080"/>
            </a:xfrm>
            <a:prstGeom prst="line">
              <a:avLst/>
            </a:prstGeom>
            <a:ln w="38160">
              <a:solidFill>
                <a:srgbClr val="f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083120" y="5581800"/>
              <a:ext cx="457200" cy="253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247640" y="4667040"/>
              <a:ext cx="304920" cy="507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پایستاری انرژ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5098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از بین نرفته و ایجاد ن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از یک حالت به حالت دیگر تبدیل 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گوییم که انرژی پایسته می ما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هر سیتم بسته درست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یعنی وقتی ترمز می گیریم انرژی جنبشی اتومبیل در ترمزها دراثر اصطکاک به حرارت تبدیل می شو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کل ” اتومبیل – ترمز – جاده و اتمسفر” ثابت می ماند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اتومبیل به تنهایی پایسته نمی ما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-18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لکه به وسیله ترمز کردن کاهش می یاب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نجام کار روی یک سیستم منزوی انرژی آن تغییر می کند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45Z</dcterms:created>
  <dc:creator>Mats A. Selen</dc:creator>
  <dc:description/>
  <cp:keywords/>
  <dc:language>en-US</dc:language>
  <cp:lastModifiedBy>janubi</cp:lastModifiedBy>
  <dcterms:modified xsi:type="dcterms:W3CDTF">2006-04-15T02:20:46Z</dcterms:modified>
  <cp:revision>65</cp:revision>
  <dc:subject>Work &amp; Energy</dc:subject>
  <dc:title>Physics 106P: Lecture 10 Notes</dc:title>
</cp:coreProperties>
</file>