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27160" y="6573960"/>
            <a:ext cx="264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ر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9880" y="617400"/>
            <a:ext cx="493920" cy="6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د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نامیک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j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o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92680" y="4883040"/>
            <a:ext cx="825480" cy="7495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94040" y="563868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9040" y="51814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174480" y="5638680"/>
            <a:ext cx="7369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54760" y="5257800"/>
            <a:ext cx="101592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71240" y="50832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24240" y="4778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535932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292640"/>
            <a:ext cx="0" cy="711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3040" y="5921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29000" y="43210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238880" y="44128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5360" y="49528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4080" y="48546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7400" y="42451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5120" y="576900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73360" y="3130560"/>
            <a:ext cx="2120760" cy="520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ها و حرکت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7000"/>
          </a:bodyPr>
          <a:p>
            <a:pPr marL="77040" indent="-77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ب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1.5 k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وسیله طنابی که دارای کش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= 90 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شیده می شود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.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جسم روی جسمی دیگری به جرم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3 k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قرارداردکه آن هم روی یک یک سطح بدون اصطکاک قرار گرفته است ضریب اصطکاک بین این دو جسم برابر با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0.5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69560" indent="-61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جسم دوم چقدر است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7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 = 0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b)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 = 2.5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(c)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 = 3.0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6254640"/>
            <a:ext cx="8064720" cy="139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01960" y="5568840"/>
            <a:ext cx="25020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91360" y="5767560"/>
            <a:ext cx="1091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21280" y="4959360"/>
            <a:ext cx="749160" cy="596880"/>
          </a:xfrm>
          <a:prstGeom prst="rect">
            <a:avLst/>
          </a:prstGeom>
          <a:solidFill>
            <a:srgbClr val="996633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18960" y="5257800"/>
            <a:ext cx="28954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040" y="5081760"/>
            <a:ext cx="91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9720" y="508176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038120" y="4724280"/>
            <a:ext cx="6858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80560" y="508176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05000" y="5005440"/>
            <a:ext cx="3801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ضریب اصطکا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0.51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6120" y="5184360"/>
            <a:ext cx="1066680" cy="61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497746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4977460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7840" y="5945040"/>
            <a:ext cx="1066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90080" y="5767560"/>
            <a:ext cx="228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دون اصطکا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5867280"/>
            <a:ext cx="99036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4600" y="5691240"/>
            <a:ext cx="132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 =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نمودار جسم آزادرابرای جسم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را بکش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16360" y="4121280"/>
            <a:ext cx="2502000" cy="672840"/>
          </a:xfrm>
          <a:prstGeom prst="rect">
            <a:avLst/>
          </a:prstGeom>
          <a:noFill/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30760" y="3511440"/>
            <a:ext cx="749160" cy="596880"/>
          </a:xfrm>
          <a:prstGeom prst="rect">
            <a:avLst/>
          </a:prstGeom>
          <a:solidFill>
            <a:srgbClr val="996633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9200" y="363384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05520" y="2514600"/>
            <a:ext cx="0" cy="99072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05520" y="4114440"/>
            <a:ext cx="0" cy="106668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57960" y="4076640"/>
            <a:ext cx="6094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99036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84120" y="2871720"/>
            <a:ext cx="10234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0080" y="4929120"/>
            <a:ext cx="1192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4680" y="3710160"/>
            <a:ext cx="91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53960" y="3914640"/>
            <a:ext cx="259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188640" indent="-188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سوم نیوتن می گوید که نیرویی که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سم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به جسم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وارد می کند برابر است با نیروی که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سم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به جسم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وارد می کند ولی در</a:t>
            </a:r>
            <a:r>
              <a:rPr b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خلاف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جهت آ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16240" y="5113440"/>
            <a:ext cx="10479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71960" y="5302080"/>
            <a:ext cx="60948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3520" y="4680000"/>
            <a:ext cx="25020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62920" y="4802040"/>
            <a:ext cx="1091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100400"/>
            <a:ext cx="749160" cy="596880"/>
          </a:xfrm>
          <a:prstGeom prst="rect">
            <a:avLst/>
          </a:prstGeom>
          <a:solidFill>
            <a:srgbClr val="996633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04600" y="419400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42040" y="4665600"/>
            <a:ext cx="6094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53040" y="4413240"/>
            <a:ext cx="498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56280" y="2874960"/>
            <a:ext cx="460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نیرو ناشی از اصطکاک است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6720" y="4443480"/>
            <a:ext cx="16574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9280" y="13111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نمودار آزاد را برای جسم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در نظر بگیر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16360" y="4121280"/>
            <a:ext cx="250200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30760" y="3511440"/>
            <a:ext cx="749160" cy="596880"/>
          </a:xfrm>
          <a:prstGeom prst="rect">
            <a:avLst/>
          </a:prstGeom>
          <a:noFill/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5760" y="4243320"/>
            <a:ext cx="1091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28840" y="4756320"/>
            <a:ext cx="60984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35400" y="4552920"/>
            <a:ext cx="1965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57800" y="4800600"/>
            <a:ext cx="0" cy="99072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952880" y="4800240"/>
            <a:ext cx="0" cy="152388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93400" y="5919840"/>
            <a:ext cx="1192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181480" y="1676160"/>
            <a:ext cx="0" cy="24382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36760" y="1805040"/>
            <a:ext cx="10234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6400" y="5538960"/>
            <a:ext cx="1192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4807080"/>
            <a:ext cx="8064720" cy="139680"/>
          </a:xfrm>
          <a:prstGeom prst="rect">
            <a:avLst/>
          </a:prstGeom>
          <a:noFill/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قانون دوم نیوتن ر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افقی بکا رب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6360" y="4121280"/>
            <a:ext cx="250200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30760" y="3511440"/>
            <a:ext cx="749160" cy="5968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5760" y="4243320"/>
            <a:ext cx="10918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4419720"/>
            <a:ext cx="609480" cy="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9080" y="4243320"/>
            <a:ext cx="1989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,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4807080"/>
            <a:ext cx="8064720" cy="139680"/>
          </a:xfrm>
          <a:prstGeom prst="rect">
            <a:avLst/>
          </a:prstGeom>
          <a:noFill/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73160" y="2490840"/>
            <a:ext cx="2477160" cy="404280"/>
            <a:chOff x="1073160" y="2490840"/>
            <a:chExt cx="2477160" cy="404280"/>
          </a:xfrm>
        </p:grpSpPr>
        <p:sp>
          <p:nvSpPr>
            <p:cNvPr id="205" name=""/>
            <p:cNvSpPr/>
            <p:nvPr/>
          </p:nvSpPr>
          <p:spPr>
            <a:xfrm>
              <a:off x="1387080" y="2490840"/>
              <a:ext cx="21632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K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g = 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73160" y="2521080"/>
              <a:ext cx="520560" cy="215640"/>
            </a:xfrm>
            <a:prstGeom prst="rightArrow">
              <a:avLst>
                <a:gd name="adj1" fmla="val 50000"/>
                <a:gd name="adj2" fmla="val 120712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40040" y="2325600"/>
            <a:ext cx="1865520" cy="663840"/>
            <a:chOff x="3740040" y="2325600"/>
            <a:chExt cx="1865520" cy="66384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359240" y="2325600"/>
                  <a:ext cx="124632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"/>
            <p:cNvSpPr/>
            <p:nvPr/>
          </p:nvSpPr>
          <p:spPr>
            <a:xfrm>
              <a:off x="3740040" y="2521080"/>
              <a:ext cx="520920" cy="215640"/>
            </a:xfrm>
            <a:prstGeom prst="rightArrow">
              <a:avLst>
                <a:gd name="adj1" fmla="val 50000"/>
                <a:gd name="adj2" fmla="val 120796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653080" y="2327400"/>
                <a:ext cx="28670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m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920880" y="3130560"/>
            <a:ext cx="2512800" cy="596880"/>
            <a:chOff x="920880" y="3130560"/>
            <a:chExt cx="2512800" cy="596880"/>
          </a:xfrm>
        </p:grpSpPr>
        <p:sp>
          <p:nvSpPr>
            <p:cNvPr id="212" name=""/>
            <p:cNvSpPr/>
            <p:nvPr/>
          </p:nvSpPr>
          <p:spPr>
            <a:xfrm>
              <a:off x="1073160" y="3282840"/>
              <a:ext cx="520560" cy="216000"/>
            </a:xfrm>
            <a:prstGeom prst="rightArrow">
              <a:avLst>
                <a:gd name="adj1" fmla="val 50000"/>
                <a:gd name="adj2" fmla="val 120511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20880" y="3130560"/>
              <a:ext cx="227952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57480" y="3184560"/>
              <a:ext cx="21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 = 2.5 m/s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طح اصطکاک شیبدار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زاد را بکش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860000">
            <a:off x="2896920" y="3220560"/>
            <a:ext cx="67284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82800" y="4145040"/>
            <a:ext cx="4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211400" y="4325760"/>
            <a:ext cx="482400" cy="6829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25440" y="5010120"/>
            <a:ext cx="682560" cy="457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3120" y="554184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62240" y="4017960"/>
            <a:ext cx="54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216160" y="3822840"/>
            <a:ext cx="844560" cy="137448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3822840"/>
            <a:ext cx="0" cy="18604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5880" y="442116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63760" y="411624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32440" y="2889360"/>
            <a:ext cx="417240" cy="260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51240" y="3441600"/>
            <a:ext cx="2946240" cy="17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511000" y="3311280"/>
            <a:ext cx="406440" cy="2538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59000" y="2954160"/>
            <a:ext cx="88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73640" y="268272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07040" y="4830840"/>
            <a:ext cx="40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032000" y="5181480"/>
            <a:ext cx="1307880" cy="0"/>
          </a:xfrm>
          <a:prstGeom prst="line">
            <a:avLst/>
          </a:prstGeom>
          <a:ln w="126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8960" y="2749680"/>
            <a:ext cx="2502000" cy="2349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280" y="555480"/>
            <a:ext cx="7529400" cy="6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               سطح اصطکاک شیبدار</a:t>
            </a:r>
            <a:br>
              <a:rPr sz="2000"/>
            </a:b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ولفه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j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نیروها را درنظر بگیرید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: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11640" y="1682640"/>
            <a:ext cx="1816200" cy="520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860000">
            <a:off x="2896920" y="3220560"/>
            <a:ext cx="67284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82800" y="4145040"/>
            <a:ext cx="4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211400" y="4325760"/>
            <a:ext cx="482400" cy="6829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25440" y="5010120"/>
            <a:ext cx="682560" cy="457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43120" y="554184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62240" y="4017960"/>
            <a:ext cx="54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216160" y="3822840"/>
            <a:ext cx="844560" cy="137448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3822840"/>
            <a:ext cx="0" cy="18604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6040" y="495468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63760" y="411624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51240" y="3441600"/>
            <a:ext cx="2946240" cy="17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07040" y="4830840"/>
            <a:ext cx="40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2000" y="5181480"/>
            <a:ext cx="1307880" cy="0"/>
          </a:xfrm>
          <a:prstGeom prst="line">
            <a:avLst/>
          </a:prstGeom>
          <a:ln w="126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79800" y="3803760"/>
            <a:ext cx="417600" cy="260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511000" y="3311280"/>
            <a:ext cx="406440" cy="2538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59000" y="2954160"/>
            <a:ext cx="88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16440" y="336852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35400" y="2320920"/>
            <a:ext cx="3321360" cy="400680"/>
            <a:chOff x="5135400" y="2320920"/>
            <a:chExt cx="3321360" cy="400680"/>
          </a:xfrm>
        </p:grpSpPr>
        <p:sp>
          <p:nvSpPr>
            <p:cNvPr id="260" name=""/>
            <p:cNvSpPr/>
            <p:nvPr/>
          </p:nvSpPr>
          <p:spPr>
            <a:xfrm>
              <a:off x="5492880" y="2444760"/>
              <a:ext cx="291960" cy="139680"/>
            </a:xfrm>
            <a:prstGeom prst="rightArrow">
              <a:avLst>
                <a:gd name="adj1" fmla="val 50000"/>
                <a:gd name="adj2" fmla="val 10452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35400" y="2320920"/>
              <a:ext cx="33213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i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       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 sin</a:t>
              </a:r>
              <a:r>
                <a:rPr b="0" i="1" lang="en-US" sz="2000" spc="-1" strike="noStrike">
                  <a:solidFill>
                    <a:srgbClr val="ef91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ef91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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K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ma</a:t>
              </a:r>
              <a:r>
                <a:rPr b="0" i="1" lang="en-US" sz="2000" spc="-1" strike="noStrike">
                  <a:solidFill>
                    <a:srgbClr val="f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216160" y="5187960"/>
            <a:ext cx="825480" cy="520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0240" y="5716440"/>
            <a:ext cx="129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 sin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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122800" y="2811600"/>
            <a:ext cx="2629080" cy="363240"/>
            <a:chOff x="5122800" y="2811600"/>
            <a:chExt cx="2629080" cy="363240"/>
          </a:xfrm>
        </p:grpSpPr>
        <p:sp>
          <p:nvSpPr>
            <p:cNvPr id="265" name=""/>
            <p:cNvSpPr/>
            <p:nvPr/>
          </p:nvSpPr>
          <p:spPr>
            <a:xfrm>
              <a:off x="5492880" y="2901960"/>
              <a:ext cx="291960" cy="139680"/>
            </a:xfrm>
            <a:prstGeom prst="rightArrow">
              <a:avLst>
                <a:gd name="adj1" fmla="val 50000"/>
                <a:gd name="adj2" fmla="val 10452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2800" y="2811600"/>
              <a:ext cx="26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         N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 cos </a:t>
              </a:r>
              <a:r>
                <a:rPr b="0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3054240" y="4336920"/>
            <a:ext cx="825480" cy="138456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8160" y="5259240"/>
            <a:ext cx="1292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 cos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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968720" y="3265560"/>
            <a:ext cx="3656160" cy="780120"/>
            <a:chOff x="4968720" y="3265560"/>
            <a:chExt cx="3656160" cy="780120"/>
          </a:xfrm>
        </p:grpSpPr>
        <p:sp>
          <p:nvSpPr>
            <p:cNvPr id="270" name=""/>
            <p:cNvSpPr/>
            <p:nvPr/>
          </p:nvSpPr>
          <p:spPr>
            <a:xfrm>
              <a:off x="4968720" y="3645000"/>
              <a:ext cx="3656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 sin</a:t>
              </a:r>
              <a:r>
                <a:rPr b="0" i="1" lang="en-US" sz="2000" spc="-1" strike="noStrike">
                  <a:solidFill>
                    <a:srgbClr val="ef91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ef91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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K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r>
                <a:rPr b="0" lang="en-US" sz="2000" spc="-1" strike="noStrike">
                  <a:solidFill>
                    <a:srgbClr val="ef91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cos </a:t>
              </a:r>
              <a:r>
                <a:rPr b="0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ef91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ma</a:t>
              </a:r>
              <a:r>
                <a:rPr b="0" i="1" lang="en-US" sz="2000" spc="-1" strike="noStrike">
                  <a:solidFill>
                    <a:srgbClr val="f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6126120" y="3022560"/>
              <a:ext cx="257040" cy="74304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659560" y="4659480"/>
            <a:ext cx="3025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 / g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sin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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cos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64160" y="4592520"/>
            <a:ext cx="2859120" cy="51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rot="16200000">
            <a:off x="6093000" y="3859200"/>
            <a:ext cx="257040" cy="74304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ایستای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92680" y="4883040"/>
            <a:ext cx="825480" cy="7495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94040" y="563868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489040" y="51814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489040" y="56386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4240" y="4778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535932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4292640"/>
            <a:ext cx="0" cy="711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5921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29000" y="43210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238880" y="44128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45360" y="49528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4080" y="48546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57400" y="42451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25680" y="576900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0200" y="1752120"/>
            <a:ext cx="7872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1000"/>
          </a:bodyPr>
          <a:p>
            <a:pPr marL="59760" indent="-5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اکنون اصطکاک بین دوجسم که نسبت به هم در حرکت هستند را در نظر گرفتی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00" indent="-478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نیرو وقتی که دو جسم با همدیگر نیز حرکت کنند یعنی در حالت ”ایستایی ” نیز وجود دارد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60" indent="-5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حالت نیروی اصطکاک به دیگر نیروها که به قسمتهای مختلف سیستم وارد می شود نیز بستگی دا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ایستایی..</a:t>
            </a:r>
            <a:br>
              <a:rPr sz="2400"/>
            </a:b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fa-IR" sz="1800" spc="-1" strike="noStrike">
                <a:solidFill>
                  <a:srgbClr val="fafd00"/>
                </a:solidFill>
                <a:latin typeface="Arial"/>
                <a:cs typeface="Arial"/>
              </a:rPr>
              <a:t>یکی از سطوح ساکن  است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24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نند حالت قبل به جز این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 = 0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92680" y="4984920"/>
            <a:ext cx="825480" cy="74916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574056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89040" y="528336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489040" y="574056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24240" y="487980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546084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439416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602280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29000" y="442260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238880" y="451440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45360" y="505476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4080" y="495612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57400" y="43466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25680" y="587052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63720" y="3081240"/>
            <a:ext cx="71625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الی که جسم ساکن است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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92680" y="4984920"/>
            <a:ext cx="825480" cy="74916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4040" y="574056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489040" y="528336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89040" y="574056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24240" y="487980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546084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439416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53040" y="602280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29000" y="442260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238880" y="451440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45360" y="505476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24080" y="495612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7400" y="43466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25680" y="587052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ترین نیروی اصطکاک بین دو جس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ضریب اصطکاک ایستایی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نابراین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وقت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فزایش  می یاب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ز زیاد می شود ت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رد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جسم شروع به حرکت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99640" y="816120"/>
            <a:ext cx="35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صطکاک ایستایی..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(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یکی از سطوح ساکن 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ایستای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افزایش می دهیم تا جسم شروع به حرکت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صورت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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j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i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92680" y="4883040"/>
            <a:ext cx="825480" cy="7495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4040" y="563868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489040" y="51814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489040" y="56386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24240" y="477828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535932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4292640"/>
            <a:ext cx="0" cy="711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53040" y="5921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29000" y="43210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238880" y="44128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45360" y="49528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4080" y="48546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7400" y="42451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05120" y="576900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81120" y="3303720"/>
            <a:ext cx="2535480" cy="75564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ها وحرکت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28440" y="1752480"/>
            <a:ext cx="7605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5000"/>
          </a:bodyPr>
          <a:p>
            <a:pPr marL="71280" indent="-712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ای ب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 =10.21 k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کف اتاق قرار دا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ضریب اصطککاک بین این جسم و کف اتاق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0.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1280" indent="-712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ی به این جسم بسته ایم و آنرا تحت زاوی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3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لای افق می کشیم درصورتی که کشش نخ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ensi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= 40 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اشد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1360" indent="-568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یا این جسم حرکت می ک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12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لی          (ب) خیر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6880" y="6254640"/>
            <a:ext cx="5244840" cy="139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54440" y="5416560"/>
            <a:ext cx="901800" cy="825480"/>
          </a:xfrm>
          <a:prstGeom prst="rect">
            <a:avLst/>
          </a:prstGeom>
          <a:solidFill>
            <a:srgbClr val="3366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562720" y="5257800"/>
            <a:ext cx="213336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94040" y="5005440"/>
            <a:ext cx="91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4520" y="569124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638680" y="5943600"/>
            <a:ext cx="13716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80760" y="5081760"/>
            <a:ext cx="8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0360" y="5767560"/>
            <a:ext cx="3979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ایستای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.4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05320" y="5945040"/>
            <a:ext cx="10663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18280" y="5614920"/>
            <a:ext cx="10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5884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حورهای مختصات را انتخاب کرده و نمودار جسم آزاد را بکش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54680" y="5111640"/>
            <a:ext cx="3644640" cy="13968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49960" y="4273560"/>
            <a:ext cx="901800" cy="825480"/>
          </a:xfrm>
          <a:prstGeom prst="rect">
            <a:avLst/>
          </a:prstGeom>
          <a:solidFill>
            <a:srgbClr val="3366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157880" y="4191120"/>
            <a:ext cx="1447920" cy="60948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22880" y="3786120"/>
            <a:ext cx="91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69680" y="454824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234200" y="4800600"/>
            <a:ext cx="13716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32920" y="4471920"/>
            <a:ext cx="10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700680" y="5105520"/>
            <a:ext cx="0" cy="12189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00680" y="3048120"/>
            <a:ext cx="0" cy="121896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948200" y="4724280"/>
            <a:ext cx="12952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51280" y="302436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74240" y="5691240"/>
            <a:ext cx="11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936480" y="738360"/>
            <a:ext cx="1722960" cy="1281240"/>
            <a:chOff x="6936480" y="738360"/>
            <a:chExt cx="1722960" cy="1281240"/>
          </a:xfrm>
        </p:grpSpPr>
        <p:sp>
          <p:nvSpPr>
            <p:cNvPr id="377" name=""/>
            <p:cNvSpPr/>
            <p:nvPr/>
          </p:nvSpPr>
          <p:spPr>
            <a:xfrm>
              <a:off x="7391520" y="1828800"/>
              <a:ext cx="6858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391520" y="1218960"/>
              <a:ext cx="0" cy="609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36480" y="73836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74560" y="165276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93960" y="2185920"/>
            <a:ext cx="16963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7360" y="2795760"/>
            <a:ext cx="41054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: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 + T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mg = m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3560" y="3252960"/>
            <a:ext cx="256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= mg - T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821320" y="3206880"/>
            <a:ext cx="1514160" cy="444240"/>
            <a:chOff x="2821320" y="3206880"/>
            <a:chExt cx="1514160" cy="444240"/>
          </a:xfrm>
        </p:grpSpPr>
        <p:sp>
          <p:nvSpPr>
            <p:cNvPr id="385" name=""/>
            <p:cNvSpPr/>
            <p:nvPr/>
          </p:nvSpPr>
          <p:spPr>
            <a:xfrm>
              <a:off x="2821320" y="3252960"/>
              <a:ext cx="151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80 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30560" y="320688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96720" y="4014720"/>
            <a:ext cx="3172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: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56080" y="4548240"/>
            <a:ext cx="2780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حرکت می کند اگر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&gt; 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8610480" y="419076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24520" y="4548240"/>
            <a:ext cx="10234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54680" y="5111640"/>
            <a:ext cx="3644640" cy="13968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49960" y="4273560"/>
            <a:ext cx="901800" cy="825480"/>
          </a:xfrm>
          <a:prstGeom prst="rect">
            <a:avLst/>
          </a:prstGeom>
          <a:solidFill>
            <a:srgbClr val="3366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157880" y="4191120"/>
            <a:ext cx="1447920" cy="60948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922880" y="3786120"/>
            <a:ext cx="91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69680" y="4548240"/>
            <a:ext cx="96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234200" y="4800600"/>
            <a:ext cx="13716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0680" y="5105520"/>
            <a:ext cx="0" cy="12189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00680" y="3048120"/>
            <a:ext cx="0" cy="121896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948200" y="4724280"/>
            <a:ext cx="12952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15480" y="4167360"/>
            <a:ext cx="1837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51280" y="302436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74240" y="5691240"/>
            <a:ext cx="11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936480" y="738360"/>
            <a:ext cx="1722960" cy="1281240"/>
            <a:chOff x="6936480" y="738360"/>
            <a:chExt cx="1722960" cy="1281240"/>
          </a:xfrm>
        </p:grpSpPr>
        <p:sp>
          <p:nvSpPr>
            <p:cNvPr id="405" name=""/>
            <p:cNvSpPr/>
            <p:nvPr/>
          </p:nvSpPr>
          <p:spPr>
            <a:xfrm>
              <a:off x="7391520" y="1828800"/>
              <a:ext cx="6858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391520" y="1218960"/>
              <a:ext cx="0" cy="609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36480" y="73836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74560" y="165276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20400" y="2262240"/>
            <a:ext cx="3172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: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8520" y="1728720"/>
            <a:ext cx="21657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: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 = 80 N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9760" y="2795760"/>
            <a:ext cx="278064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حرکت می کند اگر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&gt; 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15960" y="3786120"/>
            <a:ext cx="2766600" cy="366840"/>
            <a:chOff x="615960" y="3786120"/>
            <a:chExt cx="2766600" cy="366840"/>
          </a:xfrm>
        </p:grpSpPr>
        <p:sp>
          <p:nvSpPr>
            <p:cNvPr id="413" name=""/>
            <p:cNvSpPr/>
            <p:nvPr/>
          </p:nvSpPr>
          <p:spPr>
            <a:xfrm>
              <a:off x="760680" y="3786120"/>
              <a:ext cx="2621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 cos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34.6 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5960" y="3816360"/>
              <a:ext cx="444600" cy="216000"/>
            </a:xfrm>
            <a:prstGeom prst="rightArrow">
              <a:avLst>
                <a:gd name="adj1" fmla="val 50000"/>
                <a:gd name="adj2" fmla="val 102926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15960" y="4243320"/>
            <a:ext cx="3956040" cy="466920"/>
            <a:chOff x="615960" y="4243320"/>
            <a:chExt cx="3956040" cy="466920"/>
          </a:xfrm>
        </p:grpSpPr>
        <p:sp>
          <p:nvSpPr>
            <p:cNvPr id="416" name=""/>
            <p:cNvSpPr/>
            <p:nvPr/>
          </p:nvSpPr>
          <p:spPr>
            <a:xfrm>
              <a:off x="1122480" y="4243320"/>
              <a:ext cx="34495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MA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afd00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 = (.4)(80N) = 32 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5960" y="4273560"/>
              <a:ext cx="444600" cy="216000"/>
            </a:xfrm>
            <a:prstGeom prst="rightArrow">
              <a:avLst>
                <a:gd name="adj1" fmla="val 50000"/>
                <a:gd name="adj2" fmla="val 102926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63240" y="5340240"/>
            <a:ext cx="5621040" cy="596880"/>
            <a:chOff x="363240" y="5340240"/>
            <a:chExt cx="5621040" cy="596880"/>
          </a:xfrm>
        </p:grpSpPr>
        <p:sp>
          <p:nvSpPr>
            <p:cNvPr id="419" name=""/>
            <p:cNvSpPr/>
            <p:nvPr/>
          </p:nvSpPr>
          <p:spPr>
            <a:xfrm>
              <a:off x="363240" y="5462640"/>
              <a:ext cx="56210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چون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 cos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&gt; 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MAX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 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ست پس جعبه حرکت نمی کند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2280" y="5340240"/>
              <a:ext cx="494028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432920" y="4471920"/>
            <a:ext cx="10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8610480" y="419076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960000">
            <a:off x="2415960" y="2824200"/>
            <a:ext cx="695160" cy="3682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ایستای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00200" y="1752120"/>
            <a:ext cx="7872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0000"/>
          </a:bodyPr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ایستای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شیبدار هم بررسی می کن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حالت نیروی اصطکاک به زاویه سطح شیبدا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تگی دا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97000" y="2971800"/>
            <a:ext cx="3078360" cy="892080"/>
          </a:xfrm>
          <a:prstGeom prst="rtTriangle">
            <a:avLst/>
          </a:prstGeom>
          <a:solidFill>
            <a:srgbClr val="037c03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28480" y="347184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ایستای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860000">
            <a:off x="2896920" y="3220560"/>
            <a:ext cx="67284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82800" y="4145040"/>
            <a:ext cx="4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216160" y="3822840"/>
            <a:ext cx="844560" cy="137448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8120" y="3822840"/>
            <a:ext cx="0" cy="18604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5880" y="442116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63760" y="411624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51240" y="3441600"/>
            <a:ext cx="2946240" cy="17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2111400" y="3073320"/>
            <a:ext cx="830160" cy="5112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97320" y="3139920"/>
            <a:ext cx="36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a = 0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جسم حرکت نمی ک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7720" y="1747800"/>
            <a:ext cx="78724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اصطکا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تگی ب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cs typeface="Symbol"/>
              </a:rPr>
              <a:t>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07040" y="4830840"/>
            <a:ext cx="40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32000" y="5181480"/>
            <a:ext cx="1307880" cy="0"/>
          </a:xfrm>
          <a:prstGeom prst="line">
            <a:avLst/>
          </a:prstGeom>
          <a:ln w="126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31040" y="2693880"/>
            <a:ext cx="913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78520" y="3749760"/>
            <a:ext cx="20826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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02160" y="381636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90920" y="4245120"/>
            <a:ext cx="4799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دوم نیوتن درامتدا سطح شیبدا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211400" y="4017960"/>
            <a:ext cx="1077840" cy="1887120"/>
            <a:chOff x="1211400" y="4017960"/>
            <a:chExt cx="1077840" cy="1887120"/>
          </a:xfrm>
        </p:grpSpPr>
        <p:sp>
          <p:nvSpPr>
            <p:cNvPr id="450" name=""/>
            <p:cNvSpPr/>
            <p:nvPr/>
          </p:nvSpPr>
          <p:spPr>
            <a:xfrm flipH="1">
              <a:off x="1211400" y="4325760"/>
              <a:ext cx="482400" cy="682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25440" y="5010120"/>
              <a:ext cx="682560" cy="457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43120" y="5541840"/>
              <a:ext cx="54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62240" y="4017960"/>
              <a:ext cx="54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07960" y="6453360"/>
            <a:ext cx="20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ایستای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1595520"/>
            <a:ext cx="761976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افت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یب سطح را کم کم زیاد می کنیم تا جسم شروع به حرکت ک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860000">
            <a:off x="2820960" y="3678120"/>
            <a:ext cx="673200" cy="5968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78240" y="4906800"/>
            <a:ext cx="796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139840" y="4280040"/>
            <a:ext cx="844560" cy="137448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71800" y="4280040"/>
            <a:ext cx="0" cy="18604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560" y="487836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7440" y="457344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374920" y="3898800"/>
            <a:ext cx="2946240" cy="17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034720" y="3530520"/>
            <a:ext cx="830520" cy="5112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9360" y="3649680"/>
            <a:ext cx="88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23960" y="2976480"/>
            <a:ext cx="196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مور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0720" y="5288040"/>
            <a:ext cx="4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56040" y="5638680"/>
            <a:ext cx="1308240" cy="0"/>
          </a:xfrm>
          <a:prstGeom prst="line">
            <a:avLst/>
          </a:prstGeom>
          <a:ln w="126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68960" y="4054320"/>
            <a:ext cx="408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sin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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cos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16600" y="5149800"/>
            <a:ext cx="1658880" cy="4874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64200" y="5226120"/>
            <a:ext cx="16588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a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rot="16200000">
            <a:off x="6480000" y="4500360"/>
            <a:ext cx="358920" cy="6285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211400" y="4017960"/>
            <a:ext cx="1077840" cy="1887120"/>
            <a:chOff x="1211400" y="4017960"/>
            <a:chExt cx="1077840" cy="1887120"/>
          </a:xfrm>
        </p:grpSpPr>
        <p:sp>
          <p:nvSpPr>
            <p:cNvPr id="476" name=""/>
            <p:cNvSpPr/>
            <p:nvPr/>
          </p:nvSpPr>
          <p:spPr>
            <a:xfrm flipH="1">
              <a:off x="1211400" y="4325760"/>
              <a:ext cx="482400" cy="682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25440" y="5010120"/>
              <a:ext cx="682560" cy="457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43120" y="5541840"/>
              <a:ext cx="54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62240" y="4017960"/>
              <a:ext cx="54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708440" y="2525760"/>
            <a:ext cx="208296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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32440" y="259236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47328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53000" y="3394080"/>
            <a:ext cx="3295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cos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05440" y="415764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417760" y="1312920"/>
            <a:ext cx="41004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Arial"/>
              </a:rPr>
              <a:t>نیروی اصطکاک ایستایی و جنبش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rial"/>
                <a:cs typeface="Arial"/>
              </a:rPr>
              <a:t>روی انیمیشن زیر کلیک کرده و به تفاوت نیروی اصطکاک ایستایی 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rial"/>
                <a:cs typeface="Arial"/>
              </a:rPr>
              <a:t>جنبشی توجه کنید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071720" y="3630600"/>
            <a:ext cx="3441600" cy="2581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729320" y="3591000"/>
            <a:ext cx="3458880" cy="259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3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طالب بیشتری درمورد اصطکا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22720" y="2660760"/>
            <a:ext cx="1447920" cy="59364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49400" y="1927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ا توجه به رابطه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نیروی اصطکاک بستگی به سطح تماس ندارد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رابطه    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رای هر سیستمی صحیح است ).  درباره آن اندکی فکر کنید...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48200" y="1889280"/>
            <a:ext cx="1266840" cy="52992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وجه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نحن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یروی اصطکاک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ب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یروی واردشد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0" y="3594240"/>
            <a:ext cx="0" cy="218412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298600" y="5791320"/>
            <a:ext cx="378468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0" y="4038480"/>
            <a:ext cx="3125880" cy="1754280"/>
          </a:xfrm>
          <a:custGeom>
            <a:avLst/>
            <a:gdLst/>
            <a:ahLst/>
            <a:rect l="l" t="t" r="r" b="b"/>
            <a:pathLst>
              <a:path w="1969" h="1105">
                <a:moveTo>
                  <a:pt x="0" y="1104"/>
                </a:moveTo>
                <a:lnTo>
                  <a:pt x="912" y="0"/>
                </a:lnTo>
                <a:lnTo>
                  <a:pt x="912" y="240"/>
                </a:lnTo>
                <a:lnTo>
                  <a:pt x="1968" y="24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03800" y="4092480"/>
            <a:ext cx="913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49960" y="5845320"/>
            <a:ext cx="1007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45880" y="4930920"/>
            <a:ext cx="1428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= F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3041640" y="5099040"/>
            <a:ext cx="393840" cy="3938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75920" y="3635280"/>
            <a:ext cx="1603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022360" y="3816360"/>
            <a:ext cx="546120" cy="4446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77520" y="3103560"/>
            <a:ext cx="1603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54240" y="3435480"/>
            <a:ext cx="596880" cy="5205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جعبه روی کف کامیو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28720" y="1752480"/>
            <a:ext cx="7534080" cy="13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جسمی به جر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روی کف کامیونی قراردارد.  ضریب اصطکاک بین کف کامیون و این جسم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یشینه شتاب کامیون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تا جسم روی کف کامیون نلغز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484360" y="3905280"/>
          <a:ext cx="441648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905280"/>
                    <a:ext cx="44164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768920" y="4305240"/>
            <a:ext cx="520560" cy="401760"/>
          </a:xfrm>
          <a:prstGeom prst="rect">
            <a:avLst/>
          </a:prstGeom>
          <a:solidFill>
            <a:srgbClr val="037c0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68400" y="43639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45280" y="4248000"/>
            <a:ext cx="99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358960" y="4491000"/>
            <a:ext cx="405000" cy="192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910520" y="4508640"/>
            <a:ext cx="368280" cy="182520"/>
          </a:xfrm>
          <a:prstGeom prst="rightArrow">
            <a:avLst>
              <a:gd name="adj1" fmla="val 50000"/>
              <a:gd name="adj2" fmla="val 100897"/>
            </a:avLst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71120" y="476424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جعبه روی کف کامیو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نمودار جسم آزاد را برای جعبه بکشی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حالتی را در نظر بگیریدکه در آن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بیشینه است..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یعنی اگر شتاب بیشتر باشد جعبه می لغزد (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54640" y="4330800"/>
            <a:ext cx="1244520" cy="1044360"/>
          </a:xfrm>
          <a:prstGeom prst="rect">
            <a:avLst/>
          </a:prstGeom>
          <a:solidFill>
            <a:srgbClr val="037c0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943600" y="3720960"/>
            <a:ext cx="0" cy="7113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5270400"/>
            <a:ext cx="0" cy="6606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559040" y="5334120"/>
            <a:ext cx="8636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95640" y="36352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76560" y="5540400"/>
            <a:ext cx="1702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95280" y="56167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778880" y="51814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8305920" y="46414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81800" y="500868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143920" y="424656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پاسخ مسئل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ابکاربردن رابطه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رای مولفه های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دار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N 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MAX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54640" y="4330800"/>
            <a:ext cx="1244520" cy="1044360"/>
          </a:xfrm>
          <a:prstGeom prst="rect">
            <a:avLst/>
          </a:prstGeom>
          <a:solidFill>
            <a:srgbClr val="037c03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943600" y="3720960"/>
            <a:ext cx="0" cy="7113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43600" y="5270400"/>
            <a:ext cx="0" cy="6606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4559040" y="5334120"/>
            <a:ext cx="8636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640" y="36352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76560" y="5540400"/>
            <a:ext cx="1702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795280" y="56167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340080" y="4495680"/>
            <a:ext cx="1015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00120" y="4626000"/>
            <a:ext cx="1216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778880" y="51814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8305920" y="46414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381800" y="500868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143920" y="424656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9680" y="3511440"/>
            <a:ext cx="1511280" cy="520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rot="16200000">
            <a:off x="3397320" y="2863800"/>
            <a:ext cx="216000" cy="59688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1004600">
            <a:off x="5965560" y="2314080"/>
            <a:ext cx="368280" cy="139680"/>
          </a:xfrm>
          <a:prstGeom prst="rightArrow">
            <a:avLst>
              <a:gd name="adj1" fmla="val 50000"/>
              <a:gd name="adj2" fmla="val 131842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6008400" y="2597040"/>
            <a:ext cx="368280" cy="139680"/>
          </a:xfrm>
          <a:prstGeom prst="rightArrow">
            <a:avLst>
              <a:gd name="adj1" fmla="val 50000"/>
              <a:gd name="adj2" fmla="val 131842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نیروها و حرکت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سطح شیبداری دارای شتاب ثابت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اا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جعبه ای روی این سطح به وسیله نیروی اصطکاک نگهداشته شده است. جهت این نیرو چگونه است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97160" y="6006960"/>
            <a:ext cx="74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b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03960" y="4584240"/>
            <a:ext cx="2390760" cy="14551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061880" y="5351400"/>
            <a:ext cx="549720" cy="330120"/>
          </a:xfrm>
          <a:prstGeom prst="line">
            <a:avLst/>
          </a:prstGeom>
          <a:ln w="25560">
            <a:solidFill>
              <a:srgbClr val="ff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927760" y="4641480"/>
            <a:ext cx="2442600" cy="136620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353360" y="5257440"/>
            <a:ext cx="647640" cy="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27280" y="4609800"/>
            <a:ext cx="2410200" cy="142308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282400" y="4758840"/>
            <a:ext cx="553320" cy="336600"/>
          </a:xfrm>
          <a:prstGeom prst="line">
            <a:avLst/>
          </a:prstGeom>
          <a:ln w="25560">
            <a:solidFill>
              <a:srgbClr val="ff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97080" y="4610160"/>
            <a:ext cx="9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051440" y="5079960"/>
            <a:ext cx="90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67480" y="5283360"/>
            <a:ext cx="9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4428600">
            <a:off x="2506320" y="1728360"/>
            <a:ext cx="1806120" cy="177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274323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2743234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90920" y="30481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09600" y="316404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743200" y="2689200"/>
            <a:ext cx="2602080" cy="1400040"/>
          </a:xfrm>
          <a:prstGeom prst="rtTriangle">
            <a:avLst/>
          </a:prstGeom>
          <a:solidFill>
            <a:srgbClr val="037c0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9872600">
            <a:off x="3637080" y="2895120"/>
            <a:ext cx="550800" cy="513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49640" y="4035600"/>
            <a:ext cx="171360" cy="1584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02120" y="4035600"/>
            <a:ext cx="171360" cy="1584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29040" y="3519360"/>
            <a:ext cx="12240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19800000">
            <a:off x="1647360" y="4818240"/>
            <a:ext cx="550800" cy="512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9800000">
            <a:off x="4497120" y="4761000"/>
            <a:ext cx="550800" cy="512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9800000">
            <a:off x="6867000" y="4768560"/>
            <a:ext cx="551160" cy="512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پاسخ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720" y="1866600"/>
            <a:ext cx="716256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ابتدا حالتی را در نظر بگیرید که سطح شتاب نداشته باش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019160" y="4954680"/>
            <a:ext cx="5691240" cy="1307520"/>
            <a:chOff x="1019160" y="4954680"/>
            <a:chExt cx="5691240" cy="1307520"/>
          </a:xfrm>
        </p:grpSpPr>
        <p:grpSp>
          <p:nvGrpSpPr>
            <p:cNvPr id="582" name=""/>
            <p:cNvGrpSpPr/>
            <p:nvPr/>
          </p:nvGrpSpPr>
          <p:grpSpPr>
            <a:xfrm>
              <a:off x="5521320" y="4954680"/>
              <a:ext cx="1189080" cy="1307520"/>
              <a:chOff x="5521320" y="4954680"/>
              <a:chExt cx="1189080" cy="1307520"/>
            </a:xfrm>
          </p:grpSpPr>
          <p:sp>
            <p:nvSpPr>
              <p:cNvPr id="583" name=""/>
              <p:cNvSpPr/>
              <p:nvPr/>
            </p:nvSpPr>
            <p:spPr>
              <a:xfrm flipH="1" flipV="1">
                <a:off x="6146640" y="4954680"/>
                <a:ext cx="415800" cy="73800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6154920" y="5714640"/>
                <a:ext cx="444240" cy="2602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29360" y="4988160"/>
                <a:ext cx="0" cy="1020600"/>
              </a:xfrm>
              <a:prstGeom prst="line">
                <a:avLst/>
              </a:prstGeom>
              <a:ln w="2232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21320" y="5375520"/>
                <a:ext cx="58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48520" y="5856480"/>
                <a:ext cx="393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00ff"/>
                    </a:solidFill>
                    <a:latin typeface="Arial"/>
                  </a:rPr>
                  <a:t>F</a:t>
                </a:r>
                <a:r>
                  <a:rPr b="0" i="1" lang="en-US" sz="2000" spc="-1" strike="noStrike" baseline="-25000">
                    <a:solidFill>
                      <a:srgbClr val="ff00ff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308640" y="49975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019160" y="5202360"/>
              <a:ext cx="40705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برایند کلیه نیروها صفر است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rot="19800000">
            <a:off x="3796920" y="3316320"/>
            <a:ext cx="550800" cy="512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2883240" y="3175560"/>
            <a:ext cx="2413080" cy="14180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18120" y="3768840"/>
            <a:ext cx="0" cy="1020600"/>
          </a:xfrm>
          <a:prstGeom prst="line">
            <a:avLst/>
          </a:prstGeom>
          <a:ln w="22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27560" y="404496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3790800" y="3018960"/>
            <a:ext cx="416160" cy="738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78280" y="28400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206960" y="3493800"/>
            <a:ext cx="444240" cy="260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62480" y="31161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276800" y="5275440"/>
            <a:ext cx="750960" cy="274320"/>
          </a:xfrm>
          <a:prstGeom prst="rightArrow">
            <a:avLst>
              <a:gd name="adj1" fmla="val 50000"/>
              <a:gd name="adj2" fmla="val 68438"/>
            </a:avLst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 rot="19800000">
            <a:off x="3796920" y="3316320"/>
            <a:ext cx="550800" cy="512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883240" y="3175560"/>
            <a:ext cx="2413080" cy="14180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8120" y="3768840"/>
            <a:ext cx="0" cy="1020600"/>
          </a:xfrm>
          <a:prstGeom prst="line">
            <a:avLst/>
          </a:prstGeom>
          <a:ln w="22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327560" y="404496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78280" y="28400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206960" y="3341160"/>
            <a:ext cx="717480" cy="412920"/>
          </a:xfrm>
          <a:prstGeom prst="line">
            <a:avLst/>
          </a:prstGeom>
          <a:ln w="1908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62480" y="31161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3882600" y="3214800"/>
            <a:ext cx="322200" cy="55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پاسخ مسئله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 algn="r" rtl="1">
              <a:lnSpc>
                <a:spcPct val="8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سطح شیبدار دارای شتاب است و نیروی اصطکاک افزایش ونیروی قائم کاهش می یابد ولی نیروی اصطکاک همچنان در امتداد سطح شیبدار قرار خواهد داشت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25120" y="344808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40360" y="3914640"/>
            <a:ext cx="6667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019160" y="4941720"/>
            <a:ext cx="6409440" cy="1281960"/>
            <a:chOff x="1019160" y="4941720"/>
            <a:chExt cx="6409440" cy="1281960"/>
          </a:xfrm>
        </p:grpSpPr>
        <p:sp>
          <p:nvSpPr>
            <p:cNvPr id="612" name=""/>
            <p:cNvSpPr/>
            <p:nvPr/>
          </p:nvSpPr>
          <p:spPr>
            <a:xfrm>
              <a:off x="1019160" y="5163840"/>
              <a:ext cx="40705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39000"/>
            </a:bodyPr>
            <a:p>
              <a:pPr marL="111240" indent="-111240" algn="r" rtl="1">
                <a:lnSpc>
                  <a:spcPct val="90000"/>
                </a:lnSpc>
                <a:spcBef>
                  <a:spcPts val="751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برایندنیروها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!  است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67120" indent="-88920" algn="r" rtl="1">
                <a:lnSpc>
                  <a:spcPct val="90000"/>
                </a:lnSpc>
                <a:spcBef>
                  <a:spcPts val="751"/>
                </a:spcBef>
                <a:buClr>
                  <a:srgbClr val="fafd00"/>
                </a:buClr>
                <a:buFont typeface="Monotype Sorts" charset="2"/>
                <a:buChar char="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67120" indent="-88920" algn="r" rtl="1">
                <a:lnSpc>
                  <a:spcPct val="90000"/>
                </a:lnSpc>
                <a:spcBef>
                  <a:spcPts val="751"/>
                </a:spcBef>
                <a:buClr>
                  <a:srgbClr val="fafd00"/>
                </a:buClr>
                <a:buFont typeface="Monotype Sorts" charset="2"/>
                <a:buChar char="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پاسخ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الف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اس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29360" y="4949640"/>
              <a:ext cx="0" cy="1020960"/>
            </a:xfrm>
            <a:prstGeom prst="line">
              <a:avLst/>
            </a:prstGeom>
            <a:ln w="2232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21320" y="533700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8520" y="5817960"/>
              <a:ext cx="39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8640" y="4959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flipV="1">
              <a:off x="6143400" y="4941720"/>
              <a:ext cx="322200" cy="558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64160" y="5511600"/>
              <a:ext cx="336600" cy="0"/>
            </a:xfrm>
            <a:prstGeom prst="line">
              <a:avLst/>
            </a:prstGeom>
            <a:ln w="19080">
              <a:solidFill>
                <a:srgbClr val="00ffff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130800" y="5531760"/>
              <a:ext cx="717840" cy="412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2680" y="51688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مسئل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48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ترمزهای ضد قفل شدن براساس اطمینان از نلغزیدن چرخها وغلتیدن آ  نها کار می کنند   واین سبب بیشینه شدن نیروی اصطکاک می شود زیرا: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راننده ای با سرعت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حرکت کرده و ترمز می گیرد.  ضریب اصطکاک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است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فاصله توقف اتومبیل چقدر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ست ؟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چ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78680" y="5559480"/>
            <a:ext cx="143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45560" y="4343400"/>
            <a:ext cx="5449680" cy="1877760"/>
            <a:chOff x="1645560" y="4343400"/>
            <a:chExt cx="5449680" cy="1877760"/>
          </a:xfrm>
        </p:grpSpPr>
        <p:pic>
          <p:nvPicPr>
            <p:cNvPr id="626" name="" descr=""/>
            <p:cNvPicPr/>
            <p:nvPr/>
          </p:nvPicPr>
          <p:blipFill>
            <a:blip r:embed="rId1"/>
            <a:stretch/>
          </p:blipFill>
          <p:spPr>
            <a:xfrm>
              <a:off x="2303640" y="4343400"/>
              <a:ext cx="10173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"/>
            <a:stretch/>
          </p:blipFill>
          <p:spPr>
            <a:xfrm>
              <a:off x="5424480" y="5176800"/>
              <a:ext cx="101772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3384720" y="452916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59280" y="4727520"/>
              <a:ext cx="1384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52680" y="4654440"/>
              <a:ext cx="0" cy="120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7120" y="5492880"/>
              <a:ext cx="0" cy="368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236680" y="4759200"/>
              <a:ext cx="35424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45560" y="463716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71160" y="440532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82680" y="4791240"/>
              <a:ext cx="131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839960" y="4389480"/>
              <a:ext cx="4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1669680" y="4435560"/>
              <a:ext cx="35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2124000" y="4529160"/>
              <a:ext cx="239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839960" y="4481640"/>
              <a:ext cx="29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59160" y="5791320"/>
              <a:ext cx="311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36560" y="585792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رمز گرفت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070240" y="5156280"/>
            <a:ext cx="8636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795640" y="332424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76560" y="5229360"/>
            <a:ext cx="1702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95280" y="53053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384880" y="3949560"/>
            <a:ext cx="1125360" cy="1219320"/>
            <a:chOff x="5384880" y="3949560"/>
            <a:chExt cx="1125360" cy="1219320"/>
          </a:xfrm>
        </p:grpSpPr>
        <p:sp>
          <p:nvSpPr>
            <p:cNvPr id="648" name=""/>
            <p:cNvSpPr/>
            <p:nvPr/>
          </p:nvSpPr>
          <p:spPr>
            <a:xfrm>
              <a:off x="5384880" y="3949560"/>
              <a:ext cx="1125360" cy="12193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56480" y="4738680"/>
              <a:ext cx="195120" cy="258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0" y="151"/>
                  </a:moveTo>
                  <a:lnTo>
                    <a:pt x="48" y="0"/>
                  </a:lnTo>
                  <a:lnTo>
                    <a:pt x="78" y="0"/>
                  </a:lnTo>
                  <a:lnTo>
                    <a:pt x="123" y="157"/>
                  </a:lnTo>
                  <a:lnTo>
                    <a:pt x="63" y="163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45320" y="4113000"/>
              <a:ext cx="199800" cy="258840"/>
            </a:xfrm>
            <a:custGeom>
              <a:avLst/>
              <a:gdLst/>
              <a:ahLst/>
              <a:rect l="l" t="t" r="r" b="b"/>
              <a:pathLst>
                <a:path w="126" h="163">
                  <a:moveTo>
                    <a:pt x="0" y="12"/>
                  </a:moveTo>
                  <a:lnTo>
                    <a:pt x="51" y="163"/>
                  </a:lnTo>
                  <a:lnTo>
                    <a:pt x="79" y="163"/>
                  </a:lnTo>
                  <a:lnTo>
                    <a:pt x="126" y="7"/>
                  </a:lnTo>
                  <a:lnTo>
                    <a:pt x="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13520" y="4444920"/>
              <a:ext cx="239760" cy="209520"/>
            </a:xfrm>
            <a:custGeom>
              <a:avLst/>
              <a:gdLst/>
              <a:ahLst/>
              <a:rect l="l" t="t" r="r" b="b"/>
              <a:pathLst>
                <a:path w="151" h="132">
                  <a:moveTo>
                    <a:pt x="140" y="0"/>
                  </a:moveTo>
                  <a:lnTo>
                    <a:pt x="0" y="52"/>
                  </a:lnTo>
                  <a:lnTo>
                    <a:pt x="0" y="84"/>
                  </a:lnTo>
                  <a:lnTo>
                    <a:pt x="144" y="132"/>
                  </a:lnTo>
                  <a:lnTo>
                    <a:pt x="151" y="69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37160" y="4444920"/>
              <a:ext cx="243000" cy="20952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11" y="0"/>
                  </a:moveTo>
                  <a:lnTo>
                    <a:pt x="153" y="52"/>
                  </a:lnTo>
                  <a:lnTo>
                    <a:pt x="153" y="84"/>
                  </a:lnTo>
                  <a:lnTo>
                    <a:pt x="6" y="132"/>
                  </a:lnTo>
                  <a:lnTo>
                    <a:pt x="0" y="6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37160" y="4108320"/>
              <a:ext cx="811440" cy="8827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5789520" y="4381200"/>
              <a:ext cx="309600" cy="339840"/>
              <a:chOff x="5789520" y="4381200"/>
              <a:chExt cx="309600" cy="339840"/>
            </a:xfrm>
          </p:grpSpPr>
          <p:sp>
            <p:nvSpPr>
              <p:cNvPr id="655" name=""/>
              <p:cNvSpPr/>
              <p:nvPr/>
            </p:nvSpPr>
            <p:spPr>
              <a:xfrm>
                <a:off x="5789520" y="4381200"/>
                <a:ext cx="309600" cy="3398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53240" y="4451040"/>
                <a:ext cx="177840" cy="2001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5943600" y="4959360"/>
            <a:ext cx="0" cy="660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943600" y="3431880"/>
            <a:ext cx="0" cy="7110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رابط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مولفه ه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فاده کنی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N 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340080" y="4495680"/>
            <a:ext cx="1015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93720" y="46036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78880" y="51814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8305920" y="46414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81800" y="500868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43920" y="4246560"/>
            <a:ext cx="54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9680" y="3511440"/>
            <a:ext cx="1511280" cy="520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16200000">
            <a:off x="3397320" y="2863800"/>
            <a:ext cx="216000" cy="59688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39840" y="2216160"/>
            <a:ext cx="368280" cy="139680"/>
          </a:xfrm>
          <a:prstGeom prst="rightArrow">
            <a:avLst>
              <a:gd name="adj1" fmla="val 50000"/>
              <a:gd name="adj2" fmla="val 131842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139840" y="2597040"/>
            <a:ext cx="368280" cy="139680"/>
          </a:xfrm>
          <a:prstGeom prst="rightArrow">
            <a:avLst>
              <a:gd name="adj1" fmla="val 50000"/>
              <a:gd name="adj2" fmla="val 131842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پاسخ 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143000" y="19051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مانند مثال قبل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با استفاده معادله سینماتیک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 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2a( 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0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دراین مسئله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2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 D )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2303640" y="4343400"/>
            <a:ext cx="1017360" cy="2840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5424480" y="5176800"/>
            <a:ext cx="1017720" cy="2826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384720" y="452916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59280" y="4727520"/>
            <a:ext cx="138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352680" y="4654440"/>
            <a:ext cx="0" cy="1206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78680" y="5559480"/>
            <a:ext cx="143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77120" y="5492880"/>
            <a:ext cx="0" cy="368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236680" y="4759200"/>
            <a:ext cx="35424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645560" y="46371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71160" y="440532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82680" y="479124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839960" y="4389480"/>
            <a:ext cx="40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669680" y="4435560"/>
            <a:ext cx="35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124000" y="4529160"/>
            <a:ext cx="23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839960" y="4481640"/>
            <a:ext cx="29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59160" y="5791320"/>
            <a:ext cx="3111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336560" y="58579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92560" y="3278160"/>
            <a:ext cx="744480" cy="372960"/>
          </a:xfrm>
          <a:prstGeom prst="rightArrow">
            <a:avLst>
              <a:gd name="adj1" fmla="val 50000"/>
              <a:gd name="adj2" fmla="val 99816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afd00"/>
                </a:solidFill>
                <a:latin typeface="Arial"/>
                <a:cs typeface="Arial"/>
              </a:rPr>
              <a:t>فصل ششم</a:t>
            </a: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93680" y="2607840"/>
            <a:ext cx="695808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7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  <a:cs typeface="Arial"/>
              </a:rPr>
              <a:t>دینامیک ذر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"/>
              </a:rPr>
              <a:t>قسمت دوم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"/>
              </a:rPr>
              <a:t>اصطکا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ادامه پاسخ مسئل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157400" y="1676520"/>
            <a:ext cx="716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دراین مسئله 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2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 D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حل می کنی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b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جاگذار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645560" y="4343400"/>
            <a:ext cx="5969520" cy="1877760"/>
            <a:chOff x="1645560" y="4343400"/>
            <a:chExt cx="5969520" cy="187776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tretch/>
          </p:blipFill>
          <p:spPr>
            <a:xfrm>
              <a:off x="2303640" y="4343400"/>
              <a:ext cx="10173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2"/>
            <a:stretch/>
          </p:blipFill>
          <p:spPr>
            <a:xfrm>
              <a:off x="5424480" y="5176800"/>
              <a:ext cx="101772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384720" y="452916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59280" y="4727520"/>
              <a:ext cx="1384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52680" y="4654440"/>
              <a:ext cx="0" cy="1206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78680" y="5559480"/>
              <a:ext cx="1436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77120" y="5492880"/>
              <a:ext cx="0" cy="368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236680" y="4759200"/>
              <a:ext cx="35424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45560" y="463716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71160" y="4405320"/>
              <a:ext cx="963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82680" y="4791240"/>
              <a:ext cx="131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v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1839960" y="4389480"/>
              <a:ext cx="4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1669680" y="4435560"/>
              <a:ext cx="35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124000" y="4529160"/>
              <a:ext cx="239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1839960" y="4481640"/>
              <a:ext cx="29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59160" y="5791320"/>
              <a:ext cx="311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336560" y="585792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4092480" y="2378160"/>
            <a:ext cx="444600" cy="415800"/>
          </a:xfrm>
          <a:prstGeom prst="rightArrow">
            <a:avLst>
              <a:gd name="adj1" fmla="val 50000"/>
              <a:gd name="adj2" fmla="val 53468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4978440" y="2262240"/>
                <a:ext cx="920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8" name=""/>
          <p:cNvGrpSpPr/>
          <p:nvPr/>
        </p:nvGrpSpPr>
        <p:grpSpPr>
          <a:xfrm>
            <a:off x="4541760" y="3346560"/>
            <a:ext cx="2444760" cy="1051920"/>
            <a:chOff x="4541760" y="3346560"/>
            <a:chExt cx="2444760" cy="1051920"/>
          </a:xfrm>
        </p:grpSpPr>
        <p:sp>
          <p:nvSpPr>
            <p:cNvPr id="719" name=""/>
            <p:cNvSpPr/>
            <p:nvPr/>
          </p:nvSpPr>
          <p:spPr>
            <a:xfrm>
              <a:off x="5160960" y="3346560"/>
              <a:ext cx="1378080" cy="9396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41760" y="3479760"/>
              <a:ext cx="444600" cy="415440"/>
            </a:xfrm>
            <a:prstGeom prst="rightArrow">
              <a:avLst>
                <a:gd name="adj1" fmla="val 50000"/>
                <a:gd name="adj2" fmla="val 53514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1" name=""/>
                <p:cNvSpPr txBox="1"/>
                <p:nvPr/>
              </p:nvSpPr>
              <p:spPr>
                <a:xfrm>
                  <a:off x="5330880" y="3440160"/>
                  <a:ext cx="1655640" cy="95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یاد آوری نهای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اصطکا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اصطکاک چیست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چگونه آنرا تشخیص می دهیم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مدل اصطکا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اصطکاک ایستایی و جنبش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چند مسئله در مورد اصطکا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جعبه روی کامیون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فاصله ترم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8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مسائل کتاب را حل کنید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چیست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گونه آنرا تشخیص می دهیم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دل اصطکا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-24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ایستایی و جنبش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20" indent="-3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سئله در مورد اصطکا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چکار می کند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ا حرکت مخالفت می ک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گونه آنرا به گونه ای که می شناسیم بیان کنیم 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صطکا ک سبب ایجاد نیرویی در جهت خلاف  سرعت نسبی می شود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92680" y="4883040"/>
            <a:ext cx="825480" cy="7495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94040" y="563868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89040" y="51814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174480" y="5638680"/>
            <a:ext cx="7369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54760" y="5257800"/>
            <a:ext cx="101592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71240" y="50832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240" y="477828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cs typeface="Arial"/>
              </a:rPr>
              <a:t>اعمالی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4240" y="5692680"/>
            <a:ext cx="123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cs typeface="Arial"/>
              </a:rPr>
              <a:t>اصطکا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35932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4292640"/>
            <a:ext cx="0" cy="711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53040" y="5921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29000" y="43210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238880" y="44128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5360" y="49528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4080" y="48546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7400" y="42451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2480" y="5340240"/>
            <a:ext cx="1815840" cy="901800"/>
          </a:xfrm>
          <a:prstGeom prst="ellipse">
            <a:avLst/>
          </a:prstGeom>
          <a:noFill/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سطح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 از اثر میکروسکپی بین دو سطح ایجاد می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94000" y="4987800"/>
            <a:ext cx="1498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8400" y="4065480"/>
            <a:ext cx="901800" cy="90180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0800" y="4903920"/>
            <a:ext cx="140040" cy="137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806560" y="4567320"/>
            <a:ext cx="1225800" cy="355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57720" y="3613320"/>
            <a:ext cx="3197160" cy="604800"/>
          </a:xfrm>
          <a:custGeom>
            <a:avLst/>
            <a:gdLst/>
            <a:ahLst/>
            <a:rect l="l" t="t" r="r" b="b"/>
            <a:pathLst>
              <a:path w="2014" h="381">
                <a:moveTo>
                  <a:pt x="11" y="321"/>
                </a:moveTo>
                <a:lnTo>
                  <a:pt x="22" y="0"/>
                </a:lnTo>
                <a:lnTo>
                  <a:pt x="2013" y="0"/>
                </a:lnTo>
                <a:lnTo>
                  <a:pt x="2013" y="321"/>
                </a:lnTo>
                <a:lnTo>
                  <a:pt x="2002" y="292"/>
                </a:lnTo>
                <a:lnTo>
                  <a:pt x="1991" y="263"/>
                </a:lnTo>
                <a:lnTo>
                  <a:pt x="1968" y="233"/>
                </a:lnTo>
                <a:lnTo>
                  <a:pt x="1968" y="204"/>
                </a:lnTo>
                <a:lnTo>
                  <a:pt x="1946" y="233"/>
                </a:lnTo>
                <a:lnTo>
                  <a:pt x="1934" y="263"/>
                </a:lnTo>
                <a:lnTo>
                  <a:pt x="1901" y="292"/>
                </a:lnTo>
                <a:lnTo>
                  <a:pt x="1878" y="321"/>
                </a:lnTo>
                <a:lnTo>
                  <a:pt x="1844" y="302"/>
                </a:lnTo>
                <a:lnTo>
                  <a:pt x="1811" y="302"/>
                </a:lnTo>
                <a:lnTo>
                  <a:pt x="1777" y="292"/>
                </a:lnTo>
                <a:lnTo>
                  <a:pt x="1743" y="312"/>
                </a:lnTo>
                <a:lnTo>
                  <a:pt x="1721" y="253"/>
                </a:lnTo>
                <a:lnTo>
                  <a:pt x="1698" y="214"/>
                </a:lnTo>
                <a:lnTo>
                  <a:pt x="1687" y="136"/>
                </a:lnTo>
                <a:lnTo>
                  <a:pt x="1664" y="175"/>
                </a:lnTo>
                <a:lnTo>
                  <a:pt x="1653" y="204"/>
                </a:lnTo>
                <a:lnTo>
                  <a:pt x="1653" y="263"/>
                </a:lnTo>
                <a:lnTo>
                  <a:pt x="1631" y="341"/>
                </a:lnTo>
                <a:lnTo>
                  <a:pt x="1586" y="282"/>
                </a:lnTo>
                <a:lnTo>
                  <a:pt x="1563" y="243"/>
                </a:lnTo>
                <a:lnTo>
                  <a:pt x="1541" y="273"/>
                </a:lnTo>
                <a:lnTo>
                  <a:pt x="1518" y="302"/>
                </a:lnTo>
                <a:lnTo>
                  <a:pt x="1518" y="273"/>
                </a:lnTo>
                <a:lnTo>
                  <a:pt x="1507" y="331"/>
                </a:lnTo>
                <a:lnTo>
                  <a:pt x="1473" y="341"/>
                </a:lnTo>
                <a:lnTo>
                  <a:pt x="1462" y="263"/>
                </a:lnTo>
                <a:lnTo>
                  <a:pt x="1439" y="204"/>
                </a:lnTo>
                <a:lnTo>
                  <a:pt x="1428" y="263"/>
                </a:lnTo>
                <a:lnTo>
                  <a:pt x="1383" y="243"/>
                </a:lnTo>
                <a:lnTo>
                  <a:pt x="1316" y="273"/>
                </a:lnTo>
                <a:lnTo>
                  <a:pt x="1293" y="302"/>
                </a:lnTo>
                <a:lnTo>
                  <a:pt x="1260" y="273"/>
                </a:lnTo>
                <a:lnTo>
                  <a:pt x="1226" y="302"/>
                </a:lnTo>
                <a:lnTo>
                  <a:pt x="1192" y="341"/>
                </a:lnTo>
                <a:lnTo>
                  <a:pt x="1181" y="312"/>
                </a:lnTo>
                <a:lnTo>
                  <a:pt x="1158" y="243"/>
                </a:lnTo>
                <a:lnTo>
                  <a:pt x="1125" y="331"/>
                </a:lnTo>
                <a:lnTo>
                  <a:pt x="1102" y="282"/>
                </a:lnTo>
                <a:lnTo>
                  <a:pt x="1113" y="204"/>
                </a:lnTo>
                <a:lnTo>
                  <a:pt x="1080" y="292"/>
                </a:lnTo>
                <a:lnTo>
                  <a:pt x="1057" y="351"/>
                </a:lnTo>
                <a:lnTo>
                  <a:pt x="1046" y="282"/>
                </a:lnTo>
                <a:lnTo>
                  <a:pt x="1001" y="312"/>
                </a:lnTo>
                <a:lnTo>
                  <a:pt x="1001" y="214"/>
                </a:lnTo>
                <a:lnTo>
                  <a:pt x="922" y="273"/>
                </a:lnTo>
                <a:lnTo>
                  <a:pt x="911" y="175"/>
                </a:lnTo>
                <a:lnTo>
                  <a:pt x="821" y="214"/>
                </a:lnTo>
                <a:lnTo>
                  <a:pt x="798" y="155"/>
                </a:lnTo>
                <a:lnTo>
                  <a:pt x="720" y="224"/>
                </a:lnTo>
                <a:lnTo>
                  <a:pt x="686" y="243"/>
                </a:lnTo>
                <a:lnTo>
                  <a:pt x="664" y="321"/>
                </a:lnTo>
                <a:lnTo>
                  <a:pt x="596" y="380"/>
                </a:lnTo>
                <a:lnTo>
                  <a:pt x="585" y="351"/>
                </a:lnTo>
                <a:lnTo>
                  <a:pt x="585" y="233"/>
                </a:lnTo>
                <a:lnTo>
                  <a:pt x="574" y="292"/>
                </a:lnTo>
                <a:lnTo>
                  <a:pt x="506" y="370"/>
                </a:lnTo>
                <a:lnTo>
                  <a:pt x="506" y="312"/>
                </a:lnTo>
                <a:lnTo>
                  <a:pt x="506" y="233"/>
                </a:lnTo>
                <a:lnTo>
                  <a:pt x="495" y="292"/>
                </a:lnTo>
                <a:lnTo>
                  <a:pt x="472" y="351"/>
                </a:lnTo>
                <a:lnTo>
                  <a:pt x="472" y="282"/>
                </a:lnTo>
                <a:lnTo>
                  <a:pt x="461" y="253"/>
                </a:lnTo>
                <a:lnTo>
                  <a:pt x="427" y="292"/>
                </a:lnTo>
                <a:lnTo>
                  <a:pt x="427" y="194"/>
                </a:lnTo>
                <a:lnTo>
                  <a:pt x="394" y="263"/>
                </a:lnTo>
                <a:lnTo>
                  <a:pt x="371" y="321"/>
                </a:lnTo>
                <a:lnTo>
                  <a:pt x="371" y="292"/>
                </a:lnTo>
                <a:lnTo>
                  <a:pt x="337" y="370"/>
                </a:lnTo>
                <a:lnTo>
                  <a:pt x="337" y="292"/>
                </a:lnTo>
                <a:lnTo>
                  <a:pt x="349" y="233"/>
                </a:lnTo>
                <a:lnTo>
                  <a:pt x="315" y="302"/>
                </a:lnTo>
                <a:lnTo>
                  <a:pt x="326" y="224"/>
                </a:lnTo>
                <a:lnTo>
                  <a:pt x="292" y="282"/>
                </a:lnTo>
                <a:lnTo>
                  <a:pt x="292" y="233"/>
                </a:lnTo>
                <a:lnTo>
                  <a:pt x="292" y="175"/>
                </a:lnTo>
                <a:lnTo>
                  <a:pt x="270" y="224"/>
                </a:lnTo>
                <a:lnTo>
                  <a:pt x="247" y="253"/>
                </a:lnTo>
                <a:lnTo>
                  <a:pt x="202" y="273"/>
                </a:lnTo>
                <a:lnTo>
                  <a:pt x="169" y="273"/>
                </a:lnTo>
                <a:lnTo>
                  <a:pt x="157" y="243"/>
                </a:lnTo>
                <a:lnTo>
                  <a:pt x="135" y="282"/>
                </a:lnTo>
                <a:lnTo>
                  <a:pt x="101" y="292"/>
                </a:lnTo>
                <a:lnTo>
                  <a:pt x="67" y="312"/>
                </a:lnTo>
                <a:lnTo>
                  <a:pt x="34" y="331"/>
                </a:lnTo>
                <a:lnTo>
                  <a:pt x="0" y="321"/>
                </a:lnTo>
              </a:path>
            </a:pathLst>
          </a:custGeom>
          <a:solidFill>
            <a:srgbClr val="fc0000"/>
          </a:solidFill>
          <a:ln cap="rnd" w="12600">
            <a:solidFill>
              <a:srgbClr val="f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975120"/>
            <a:ext cx="3197520" cy="519120"/>
          </a:xfrm>
          <a:custGeom>
            <a:avLst/>
            <a:gdLst/>
            <a:ahLst/>
            <a:rect l="l" t="t" r="r" b="b"/>
            <a:pathLst>
              <a:path w="2014" h="327">
                <a:moveTo>
                  <a:pt x="0" y="105"/>
                </a:moveTo>
                <a:lnTo>
                  <a:pt x="10" y="326"/>
                </a:lnTo>
                <a:lnTo>
                  <a:pt x="2013" y="326"/>
                </a:lnTo>
                <a:lnTo>
                  <a:pt x="2013" y="96"/>
                </a:lnTo>
                <a:lnTo>
                  <a:pt x="1982" y="96"/>
                </a:lnTo>
                <a:lnTo>
                  <a:pt x="1971" y="123"/>
                </a:lnTo>
                <a:lnTo>
                  <a:pt x="1940" y="140"/>
                </a:lnTo>
                <a:lnTo>
                  <a:pt x="1930" y="114"/>
                </a:lnTo>
                <a:lnTo>
                  <a:pt x="1909" y="140"/>
                </a:lnTo>
                <a:lnTo>
                  <a:pt x="1878" y="176"/>
                </a:lnTo>
                <a:lnTo>
                  <a:pt x="1847" y="185"/>
                </a:lnTo>
                <a:lnTo>
                  <a:pt x="1826" y="211"/>
                </a:lnTo>
                <a:lnTo>
                  <a:pt x="1816" y="149"/>
                </a:lnTo>
                <a:lnTo>
                  <a:pt x="1805" y="96"/>
                </a:lnTo>
                <a:lnTo>
                  <a:pt x="1774" y="132"/>
                </a:lnTo>
                <a:lnTo>
                  <a:pt x="1754" y="96"/>
                </a:lnTo>
                <a:lnTo>
                  <a:pt x="1712" y="123"/>
                </a:lnTo>
                <a:lnTo>
                  <a:pt x="1681" y="132"/>
                </a:lnTo>
                <a:lnTo>
                  <a:pt x="1650" y="123"/>
                </a:lnTo>
                <a:lnTo>
                  <a:pt x="1619" y="132"/>
                </a:lnTo>
                <a:lnTo>
                  <a:pt x="1577" y="158"/>
                </a:lnTo>
                <a:lnTo>
                  <a:pt x="1546" y="167"/>
                </a:lnTo>
                <a:lnTo>
                  <a:pt x="1536" y="105"/>
                </a:lnTo>
                <a:lnTo>
                  <a:pt x="1505" y="167"/>
                </a:lnTo>
                <a:lnTo>
                  <a:pt x="1473" y="193"/>
                </a:lnTo>
                <a:lnTo>
                  <a:pt x="1453" y="105"/>
                </a:lnTo>
                <a:lnTo>
                  <a:pt x="1422" y="123"/>
                </a:lnTo>
                <a:lnTo>
                  <a:pt x="1390" y="140"/>
                </a:lnTo>
                <a:lnTo>
                  <a:pt x="1370" y="114"/>
                </a:lnTo>
                <a:lnTo>
                  <a:pt x="1349" y="140"/>
                </a:lnTo>
                <a:lnTo>
                  <a:pt x="1318" y="132"/>
                </a:lnTo>
                <a:lnTo>
                  <a:pt x="1287" y="149"/>
                </a:lnTo>
                <a:lnTo>
                  <a:pt x="1256" y="167"/>
                </a:lnTo>
                <a:lnTo>
                  <a:pt x="1245" y="132"/>
                </a:lnTo>
                <a:lnTo>
                  <a:pt x="1204" y="158"/>
                </a:lnTo>
                <a:lnTo>
                  <a:pt x="1193" y="132"/>
                </a:lnTo>
                <a:lnTo>
                  <a:pt x="1162" y="158"/>
                </a:lnTo>
                <a:lnTo>
                  <a:pt x="1152" y="123"/>
                </a:lnTo>
                <a:lnTo>
                  <a:pt x="1121" y="123"/>
                </a:lnTo>
                <a:lnTo>
                  <a:pt x="1090" y="70"/>
                </a:lnTo>
                <a:lnTo>
                  <a:pt x="1079" y="96"/>
                </a:lnTo>
                <a:lnTo>
                  <a:pt x="1048" y="70"/>
                </a:lnTo>
                <a:lnTo>
                  <a:pt x="1027" y="96"/>
                </a:lnTo>
                <a:lnTo>
                  <a:pt x="996" y="105"/>
                </a:lnTo>
                <a:lnTo>
                  <a:pt x="996" y="52"/>
                </a:lnTo>
                <a:lnTo>
                  <a:pt x="996" y="0"/>
                </a:lnTo>
                <a:lnTo>
                  <a:pt x="986" y="43"/>
                </a:lnTo>
                <a:lnTo>
                  <a:pt x="923" y="96"/>
                </a:lnTo>
                <a:lnTo>
                  <a:pt x="903" y="123"/>
                </a:lnTo>
                <a:lnTo>
                  <a:pt x="872" y="176"/>
                </a:lnTo>
                <a:lnTo>
                  <a:pt x="861" y="229"/>
                </a:lnTo>
                <a:lnTo>
                  <a:pt x="830" y="255"/>
                </a:lnTo>
                <a:lnTo>
                  <a:pt x="820" y="193"/>
                </a:lnTo>
                <a:lnTo>
                  <a:pt x="809" y="87"/>
                </a:lnTo>
                <a:lnTo>
                  <a:pt x="809" y="123"/>
                </a:lnTo>
                <a:lnTo>
                  <a:pt x="789" y="158"/>
                </a:lnTo>
                <a:lnTo>
                  <a:pt x="789" y="105"/>
                </a:lnTo>
                <a:lnTo>
                  <a:pt x="747" y="114"/>
                </a:lnTo>
                <a:lnTo>
                  <a:pt x="737" y="140"/>
                </a:lnTo>
                <a:lnTo>
                  <a:pt x="716" y="193"/>
                </a:lnTo>
                <a:lnTo>
                  <a:pt x="685" y="176"/>
                </a:lnTo>
                <a:lnTo>
                  <a:pt x="664" y="202"/>
                </a:lnTo>
                <a:lnTo>
                  <a:pt x="602" y="255"/>
                </a:lnTo>
                <a:lnTo>
                  <a:pt x="581" y="202"/>
                </a:lnTo>
                <a:lnTo>
                  <a:pt x="560" y="167"/>
                </a:lnTo>
                <a:lnTo>
                  <a:pt x="529" y="167"/>
                </a:lnTo>
                <a:lnTo>
                  <a:pt x="508" y="114"/>
                </a:lnTo>
                <a:lnTo>
                  <a:pt x="477" y="132"/>
                </a:lnTo>
                <a:lnTo>
                  <a:pt x="436" y="140"/>
                </a:lnTo>
                <a:lnTo>
                  <a:pt x="394" y="167"/>
                </a:lnTo>
                <a:lnTo>
                  <a:pt x="384" y="140"/>
                </a:lnTo>
                <a:lnTo>
                  <a:pt x="363" y="167"/>
                </a:lnTo>
                <a:lnTo>
                  <a:pt x="353" y="140"/>
                </a:lnTo>
                <a:lnTo>
                  <a:pt x="322" y="158"/>
                </a:lnTo>
                <a:lnTo>
                  <a:pt x="291" y="149"/>
                </a:lnTo>
                <a:lnTo>
                  <a:pt x="259" y="140"/>
                </a:lnTo>
                <a:lnTo>
                  <a:pt x="249" y="114"/>
                </a:lnTo>
                <a:lnTo>
                  <a:pt x="218" y="132"/>
                </a:lnTo>
                <a:lnTo>
                  <a:pt x="208" y="105"/>
                </a:lnTo>
                <a:lnTo>
                  <a:pt x="208" y="79"/>
                </a:lnTo>
                <a:lnTo>
                  <a:pt x="176" y="105"/>
                </a:lnTo>
                <a:lnTo>
                  <a:pt x="145" y="105"/>
                </a:lnTo>
                <a:lnTo>
                  <a:pt x="125" y="140"/>
                </a:lnTo>
                <a:lnTo>
                  <a:pt x="104" y="114"/>
                </a:lnTo>
                <a:lnTo>
                  <a:pt x="73" y="132"/>
                </a:lnTo>
                <a:lnTo>
                  <a:pt x="52" y="105"/>
                </a:lnTo>
                <a:lnTo>
                  <a:pt x="42" y="132"/>
                </a:lnTo>
                <a:lnTo>
                  <a:pt x="10" y="132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670200"/>
            <a:ext cx="68040" cy="462240"/>
          </a:xfrm>
          <a:custGeom>
            <a:avLst/>
            <a:gdLst/>
            <a:ahLst/>
            <a:rect l="l" t="t" r="r" b="b"/>
            <a:pathLst>
              <a:path w="43" h="291">
                <a:moveTo>
                  <a:pt x="42" y="0"/>
                </a:moveTo>
                <a:lnTo>
                  <a:pt x="31" y="0"/>
                </a:lnTo>
                <a:lnTo>
                  <a:pt x="27" y="8"/>
                </a:lnTo>
                <a:lnTo>
                  <a:pt x="27" y="16"/>
                </a:lnTo>
                <a:lnTo>
                  <a:pt x="26" y="25"/>
                </a:lnTo>
                <a:lnTo>
                  <a:pt x="24" y="34"/>
                </a:lnTo>
                <a:lnTo>
                  <a:pt x="20" y="42"/>
                </a:lnTo>
                <a:lnTo>
                  <a:pt x="18" y="51"/>
                </a:lnTo>
                <a:lnTo>
                  <a:pt x="16" y="60"/>
                </a:lnTo>
                <a:lnTo>
                  <a:pt x="16" y="68"/>
                </a:lnTo>
                <a:lnTo>
                  <a:pt x="15" y="77"/>
                </a:lnTo>
                <a:lnTo>
                  <a:pt x="15" y="85"/>
                </a:lnTo>
                <a:lnTo>
                  <a:pt x="13" y="94"/>
                </a:lnTo>
                <a:lnTo>
                  <a:pt x="11" y="103"/>
                </a:lnTo>
                <a:lnTo>
                  <a:pt x="11" y="111"/>
                </a:lnTo>
                <a:lnTo>
                  <a:pt x="9" y="120"/>
                </a:lnTo>
                <a:lnTo>
                  <a:pt x="9" y="129"/>
                </a:lnTo>
                <a:lnTo>
                  <a:pt x="7" y="137"/>
                </a:lnTo>
                <a:lnTo>
                  <a:pt x="5" y="146"/>
                </a:lnTo>
                <a:lnTo>
                  <a:pt x="5" y="155"/>
                </a:lnTo>
                <a:lnTo>
                  <a:pt x="5" y="163"/>
                </a:lnTo>
                <a:lnTo>
                  <a:pt x="5" y="172"/>
                </a:lnTo>
                <a:lnTo>
                  <a:pt x="5" y="181"/>
                </a:lnTo>
                <a:lnTo>
                  <a:pt x="5" y="189"/>
                </a:lnTo>
                <a:lnTo>
                  <a:pt x="5" y="198"/>
                </a:lnTo>
                <a:lnTo>
                  <a:pt x="4" y="206"/>
                </a:lnTo>
                <a:lnTo>
                  <a:pt x="4" y="215"/>
                </a:lnTo>
                <a:lnTo>
                  <a:pt x="4" y="224"/>
                </a:lnTo>
                <a:lnTo>
                  <a:pt x="4" y="232"/>
                </a:lnTo>
                <a:lnTo>
                  <a:pt x="4" y="241"/>
                </a:lnTo>
                <a:lnTo>
                  <a:pt x="2" y="250"/>
                </a:lnTo>
                <a:lnTo>
                  <a:pt x="2" y="258"/>
                </a:lnTo>
                <a:lnTo>
                  <a:pt x="0" y="267"/>
                </a:lnTo>
                <a:lnTo>
                  <a:pt x="0" y="276"/>
                </a:lnTo>
                <a:lnTo>
                  <a:pt x="4" y="284"/>
                </a:lnTo>
                <a:lnTo>
                  <a:pt x="9" y="287"/>
                </a:lnTo>
                <a:lnTo>
                  <a:pt x="15" y="287"/>
                </a:lnTo>
                <a:lnTo>
                  <a:pt x="20" y="284"/>
                </a:lnTo>
                <a:lnTo>
                  <a:pt x="26" y="287"/>
                </a:lnTo>
                <a:lnTo>
                  <a:pt x="31" y="290"/>
                </a:lnTo>
              </a:path>
            </a:pathLst>
          </a:custGeom>
          <a:solidFill>
            <a:srgbClr val="fc0000"/>
          </a:solidFill>
          <a:ln cap="rnd" w="12600">
            <a:solidFill>
              <a:srgbClr val="f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0200" y="4173480"/>
            <a:ext cx="87120" cy="320760"/>
          </a:xfrm>
          <a:custGeom>
            <a:avLst/>
            <a:gdLst/>
            <a:ahLst/>
            <a:rect l="l" t="t" r="r" b="b"/>
            <a:pathLst>
              <a:path w="55" h="202">
                <a:moveTo>
                  <a:pt x="41" y="3"/>
                </a:moveTo>
                <a:lnTo>
                  <a:pt x="32" y="0"/>
                </a:lnTo>
                <a:lnTo>
                  <a:pt x="24" y="0"/>
                </a:lnTo>
                <a:lnTo>
                  <a:pt x="16" y="3"/>
                </a:lnTo>
                <a:lnTo>
                  <a:pt x="8" y="0"/>
                </a:lnTo>
                <a:lnTo>
                  <a:pt x="0" y="6"/>
                </a:lnTo>
                <a:lnTo>
                  <a:pt x="0" y="15"/>
                </a:lnTo>
                <a:lnTo>
                  <a:pt x="5" y="24"/>
                </a:lnTo>
                <a:lnTo>
                  <a:pt x="8" y="33"/>
                </a:lnTo>
                <a:lnTo>
                  <a:pt x="8" y="42"/>
                </a:lnTo>
                <a:lnTo>
                  <a:pt x="11" y="51"/>
                </a:lnTo>
                <a:lnTo>
                  <a:pt x="11" y="60"/>
                </a:lnTo>
                <a:lnTo>
                  <a:pt x="11" y="69"/>
                </a:lnTo>
                <a:lnTo>
                  <a:pt x="11" y="78"/>
                </a:lnTo>
                <a:lnTo>
                  <a:pt x="11" y="87"/>
                </a:lnTo>
                <a:lnTo>
                  <a:pt x="14" y="96"/>
                </a:lnTo>
                <a:lnTo>
                  <a:pt x="19" y="105"/>
                </a:lnTo>
                <a:lnTo>
                  <a:pt x="22" y="114"/>
                </a:lnTo>
                <a:lnTo>
                  <a:pt x="22" y="123"/>
                </a:lnTo>
                <a:lnTo>
                  <a:pt x="22" y="132"/>
                </a:lnTo>
                <a:lnTo>
                  <a:pt x="24" y="141"/>
                </a:lnTo>
                <a:lnTo>
                  <a:pt x="24" y="150"/>
                </a:lnTo>
                <a:lnTo>
                  <a:pt x="27" y="159"/>
                </a:lnTo>
                <a:lnTo>
                  <a:pt x="30" y="168"/>
                </a:lnTo>
                <a:lnTo>
                  <a:pt x="38" y="174"/>
                </a:lnTo>
                <a:lnTo>
                  <a:pt x="41" y="183"/>
                </a:lnTo>
                <a:lnTo>
                  <a:pt x="46" y="192"/>
                </a:lnTo>
                <a:lnTo>
                  <a:pt x="54" y="201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58120" y="3665520"/>
            <a:ext cx="77760" cy="461880"/>
          </a:xfrm>
          <a:custGeom>
            <a:avLst/>
            <a:gdLst/>
            <a:ahLst/>
            <a:rect l="l" t="t" r="r" b="b"/>
            <a:pathLst>
              <a:path w="49" h="291">
                <a:moveTo>
                  <a:pt x="0" y="0"/>
                </a:moveTo>
                <a:lnTo>
                  <a:pt x="9" y="5"/>
                </a:lnTo>
                <a:lnTo>
                  <a:pt x="9" y="14"/>
                </a:lnTo>
                <a:lnTo>
                  <a:pt x="12" y="23"/>
                </a:lnTo>
                <a:lnTo>
                  <a:pt x="12" y="32"/>
                </a:lnTo>
                <a:lnTo>
                  <a:pt x="21" y="41"/>
                </a:lnTo>
                <a:lnTo>
                  <a:pt x="24" y="50"/>
                </a:lnTo>
                <a:lnTo>
                  <a:pt x="24" y="59"/>
                </a:lnTo>
                <a:lnTo>
                  <a:pt x="27" y="68"/>
                </a:lnTo>
                <a:lnTo>
                  <a:pt x="30" y="77"/>
                </a:lnTo>
                <a:lnTo>
                  <a:pt x="30" y="86"/>
                </a:lnTo>
                <a:lnTo>
                  <a:pt x="33" y="95"/>
                </a:lnTo>
                <a:lnTo>
                  <a:pt x="36" y="104"/>
                </a:lnTo>
                <a:lnTo>
                  <a:pt x="36" y="113"/>
                </a:lnTo>
                <a:lnTo>
                  <a:pt x="39" y="122"/>
                </a:lnTo>
                <a:lnTo>
                  <a:pt x="39" y="131"/>
                </a:lnTo>
                <a:lnTo>
                  <a:pt x="42" y="140"/>
                </a:lnTo>
                <a:lnTo>
                  <a:pt x="45" y="149"/>
                </a:lnTo>
                <a:lnTo>
                  <a:pt x="45" y="158"/>
                </a:lnTo>
                <a:lnTo>
                  <a:pt x="45" y="167"/>
                </a:lnTo>
                <a:lnTo>
                  <a:pt x="45" y="176"/>
                </a:lnTo>
                <a:lnTo>
                  <a:pt x="45" y="185"/>
                </a:lnTo>
                <a:lnTo>
                  <a:pt x="45" y="194"/>
                </a:lnTo>
                <a:lnTo>
                  <a:pt x="45" y="203"/>
                </a:lnTo>
                <a:lnTo>
                  <a:pt x="48" y="212"/>
                </a:lnTo>
                <a:lnTo>
                  <a:pt x="48" y="221"/>
                </a:lnTo>
                <a:lnTo>
                  <a:pt x="48" y="230"/>
                </a:lnTo>
                <a:lnTo>
                  <a:pt x="48" y="239"/>
                </a:lnTo>
                <a:lnTo>
                  <a:pt x="48" y="248"/>
                </a:lnTo>
                <a:lnTo>
                  <a:pt x="48" y="257"/>
                </a:lnTo>
                <a:lnTo>
                  <a:pt x="48" y="266"/>
                </a:lnTo>
                <a:lnTo>
                  <a:pt x="45" y="275"/>
                </a:lnTo>
                <a:lnTo>
                  <a:pt x="45" y="284"/>
                </a:lnTo>
                <a:lnTo>
                  <a:pt x="36" y="290"/>
                </a:lnTo>
                <a:lnTo>
                  <a:pt x="27" y="284"/>
                </a:lnTo>
                <a:lnTo>
                  <a:pt x="18" y="290"/>
                </a:lnTo>
                <a:lnTo>
                  <a:pt x="9" y="290"/>
                </a:lnTo>
                <a:lnTo>
                  <a:pt x="0" y="290"/>
                </a:lnTo>
              </a:path>
            </a:pathLst>
          </a:custGeom>
          <a:solidFill>
            <a:srgbClr val="fc0000"/>
          </a:solidFill>
          <a:ln cap="rnd" w="12600">
            <a:solidFill>
              <a:srgbClr val="f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3440" y="4125960"/>
            <a:ext cx="72720" cy="358560"/>
          </a:xfrm>
          <a:custGeom>
            <a:avLst/>
            <a:gdLst/>
            <a:ahLst/>
            <a:rect l="l" t="t" r="r" b="b"/>
            <a:pathLst>
              <a:path w="46" h="226">
                <a:moveTo>
                  <a:pt x="3" y="0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40" y="9"/>
                </a:lnTo>
                <a:lnTo>
                  <a:pt x="42" y="18"/>
                </a:lnTo>
                <a:lnTo>
                  <a:pt x="45" y="27"/>
                </a:lnTo>
                <a:lnTo>
                  <a:pt x="42" y="36"/>
                </a:lnTo>
                <a:lnTo>
                  <a:pt x="42" y="45"/>
                </a:lnTo>
                <a:lnTo>
                  <a:pt x="42" y="54"/>
                </a:lnTo>
                <a:lnTo>
                  <a:pt x="40" y="63"/>
                </a:lnTo>
                <a:lnTo>
                  <a:pt x="37" y="72"/>
                </a:lnTo>
                <a:lnTo>
                  <a:pt x="34" y="81"/>
                </a:lnTo>
                <a:lnTo>
                  <a:pt x="32" y="90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29" y="126"/>
                </a:lnTo>
                <a:lnTo>
                  <a:pt x="29" y="135"/>
                </a:lnTo>
                <a:lnTo>
                  <a:pt x="29" y="144"/>
                </a:lnTo>
                <a:lnTo>
                  <a:pt x="26" y="153"/>
                </a:lnTo>
                <a:lnTo>
                  <a:pt x="24" y="162"/>
                </a:lnTo>
                <a:lnTo>
                  <a:pt x="21" y="171"/>
                </a:lnTo>
                <a:lnTo>
                  <a:pt x="19" y="180"/>
                </a:lnTo>
                <a:lnTo>
                  <a:pt x="16" y="189"/>
                </a:lnTo>
                <a:lnTo>
                  <a:pt x="13" y="198"/>
                </a:lnTo>
                <a:lnTo>
                  <a:pt x="8" y="207"/>
                </a:lnTo>
                <a:lnTo>
                  <a:pt x="5" y="216"/>
                </a:lnTo>
                <a:lnTo>
                  <a:pt x="0" y="225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7720" y="2624040"/>
            <a:ext cx="3173400" cy="1019160"/>
          </a:xfrm>
          <a:custGeom>
            <a:avLst/>
            <a:gdLst/>
            <a:ahLst/>
            <a:rect l="l" t="t" r="r" b="b"/>
            <a:pathLst>
              <a:path w="1999" h="642">
                <a:moveTo>
                  <a:pt x="0" y="641"/>
                </a:moveTo>
                <a:lnTo>
                  <a:pt x="9" y="635"/>
                </a:lnTo>
                <a:lnTo>
                  <a:pt x="9" y="626"/>
                </a:lnTo>
                <a:lnTo>
                  <a:pt x="12" y="618"/>
                </a:lnTo>
                <a:lnTo>
                  <a:pt x="15" y="609"/>
                </a:lnTo>
                <a:lnTo>
                  <a:pt x="21" y="600"/>
                </a:lnTo>
                <a:lnTo>
                  <a:pt x="24" y="591"/>
                </a:lnTo>
                <a:lnTo>
                  <a:pt x="30" y="582"/>
                </a:lnTo>
                <a:lnTo>
                  <a:pt x="36" y="574"/>
                </a:lnTo>
                <a:lnTo>
                  <a:pt x="39" y="565"/>
                </a:lnTo>
                <a:lnTo>
                  <a:pt x="39" y="556"/>
                </a:lnTo>
                <a:lnTo>
                  <a:pt x="45" y="547"/>
                </a:lnTo>
                <a:lnTo>
                  <a:pt x="48" y="538"/>
                </a:lnTo>
                <a:lnTo>
                  <a:pt x="54" y="530"/>
                </a:lnTo>
                <a:lnTo>
                  <a:pt x="60" y="521"/>
                </a:lnTo>
                <a:lnTo>
                  <a:pt x="66" y="512"/>
                </a:lnTo>
                <a:lnTo>
                  <a:pt x="72" y="503"/>
                </a:lnTo>
                <a:lnTo>
                  <a:pt x="75" y="494"/>
                </a:lnTo>
                <a:lnTo>
                  <a:pt x="81" y="486"/>
                </a:lnTo>
                <a:lnTo>
                  <a:pt x="90" y="474"/>
                </a:lnTo>
                <a:lnTo>
                  <a:pt x="96" y="465"/>
                </a:lnTo>
                <a:lnTo>
                  <a:pt x="102" y="456"/>
                </a:lnTo>
                <a:lnTo>
                  <a:pt x="108" y="448"/>
                </a:lnTo>
                <a:lnTo>
                  <a:pt x="114" y="439"/>
                </a:lnTo>
                <a:lnTo>
                  <a:pt x="123" y="433"/>
                </a:lnTo>
                <a:lnTo>
                  <a:pt x="129" y="424"/>
                </a:lnTo>
                <a:lnTo>
                  <a:pt x="132" y="415"/>
                </a:lnTo>
                <a:lnTo>
                  <a:pt x="138" y="406"/>
                </a:lnTo>
                <a:lnTo>
                  <a:pt x="144" y="398"/>
                </a:lnTo>
                <a:lnTo>
                  <a:pt x="153" y="392"/>
                </a:lnTo>
                <a:lnTo>
                  <a:pt x="156" y="383"/>
                </a:lnTo>
                <a:lnTo>
                  <a:pt x="162" y="374"/>
                </a:lnTo>
                <a:lnTo>
                  <a:pt x="171" y="368"/>
                </a:lnTo>
                <a:lnTo>
                  <a:pt x="177" y="360"/>
                </a:lnTo>
                <a:lnTo>
                  <a:pt x="186" y="354"/>
                </a:lnTo>
                <a:lnTo>
                  <a:pt x="192" y="345"/>
                </a:lnTo>
                <a:lnTo>
                  <a:pt x="201" y="336"/>
                </a:lnTo>
                <a:lnTo>
                  <a:pt x="210" y="330"/>
                </a:lnTo>
                <a:lnTo>
                  <a:pt x="219" y="321"/>
                </a:lnTo>
                <a:lnTo>
                  <a:pt x="228" y="316"/>
                </a:lnTo>
                <a:lnTo>
                  <a:pt x="237" y="310"/>
                </a:lnTo>
                <a:lnTo>
                  <a:pt x="240" y="301"/>
                </a:lnTo>
                <a:lnTo>
                  <a:pt x="249" y="292"/>
                </a:lnTo>
                <a:lnTo>
                  <a:pt x="252" y="283"/>
                </a:lnTo>
                <a:lnTo>
                  <a:pt x="255" y="275"/>
                </a:lnTo>
                <a:lnTo>
                  <a:pt x="264" y="272"/>
                </a:lnTo>
                <a:lnTo>
                  <a:pt x="270" y="263"/>
                </a:lnTo>
                <a:lnTo>
                  <a:pt x="279" y="260"/>
                </a:lnTo>
                <a:lnTo>
                  <a:pt x="288" y="254"/>
                </a:lnTo>
                <a:lnTo>
                  <a:pt x="297" y="248"/>
                </a:lnTo>
                <a:lnTo>
                  <a:pt x="303" y="239"/>
                </a:lnTo>
                <a:lnTo>
                  <a:pt x="312" y="236"/>
                </a:lnTo>
                <a:lnTo>
                  <a:pt x="321" y="231"/>
                </a:lnTo>
                <a:lnTo>
                  <a:pt x="330" y="228"/>
                </a:lnTo>
                <a:lnTo>
                  <a:pt x="338" y="222"/>
                </a:lnTo>
                <a:lnTo>
                  <a:pt x="347" y="216"/>
                </a:lnTo>
                <a:lnTo>
                  <a:pt x="356" y="210"/>
                </a:lnTo>
                <a:lnTo>
                  <a:pt x="365" y="201"/>
                </a:lnTo>
                <a:lnTo>
                  <a:pt x="371" y="192"/>
                </a:lnTo>
                <a:lnTo>
                  <a:pt x="380" y="187"/>
                </a:lnTo>
                <a:lnTo>
                  <a:pt x="389" y="181"/>
                </a:lnTo>
                <a:lnTo>
                  <a:pt x="398" y="178"/>
                </a:lnTo>
                <a:lnTo>
                  <a:pt x="407" y="172"/>
                </a:lnTo>
                <a:lnTo>
                  <a:pt x="416" y="166"/>
                </a:lnTo>
                <a:lnTo>
                  <a:pt x="425" y="160"/>
                </a:lnTo>
                <a:lnTo>
                  <a:pt x="431" y="151"/>
                </a:lnTo>
                <a:lnTo>
                  <a:pt x="440" y="149"/>
                </a:lnTo>
                <a:lnTo>
                  <a:pt x="449" y="143"/>
                </a:lnTo>
                <a:lnTo>
                  <a:pt x="455" y="134"/>
                </a:lnTo>
                <a:lnTo>
                  <a:pt x="464" y="134"/>
                </a:lnTo>
                <a:lnTo>
                  <a:pt x="473" y="128"/>
                </a:lnTo>
                <a:lnTo>
                  <a:pt x="482" y="122"/>
                </a:lnTo>
                <a:lnTo>
                  <a:pt x="491" y="119"/>
                </a:lnTo>
                <a:lnTo>
                  <a:pt x="500" y="116"/>
                </a:lnTo>
                <a:lnTo>
                  <a:pt x="509" y="110"/>
                </a:lnTo>
                <a:lnTo>
                  <a:pt x="518" y="107"/>
                </a:lnTo>
                <a:lnTo>
                  <a:pt x="527" y="102"/>
                </a:lnTo>
                <a:lnTo>
                  <a:pt x="536" y="99"/>
                </a:lnTo>
                <a:lnTo>
                  <a:pt x="545" y="96"/>
                </a:lnTo>
                <a:lnTo>
                  <a:pt x="554" y="93"/>
                </a:lnTo>
                <a:lnTo>
                  <a:pt x="563" y="90"/>
                </a:lnTo>
                <a:lnTo>
                  <a:pt x="572" y="87"/>
                </a:lnTo>
                <a:lnTo>
                  <a:pt x="581" y="87"/>
                </a:lnTo>
                <a:lnTo>
                  <a:pt x="590" y="81"/>
                </a:lnTo>
                <a:lnTo>
                  <a:pt x="599" y="75"/>
                </a:lnTo>
                <a:lnTo>
                  <a:pt x="608" y="72"/>
                </a:lnTo>
                <a:lnTo>
                  <a:pt x="617" y="66"/>
                </a:lnTo>
                <a:lnTo>
                  <a:pt x="626" y="63"/>
                </a:lnTo>
                <a:lnTo>
                  <a:pt x="635" y="61"/>
                </a:lnTo>
                <a:lnTo>
                  <a:pt x="644" y="61"/>
                </a:lnTo>
                <a:lnTo>
                  <a:pt x="656" y="55"/>
                </a:lnTo>
                <a:lnTo>
                  <a:pt x="665" y="52"/>
                </a:lnTo>
                <a:lnTo>
                  <a:pt x="674" y="49"/>
                </a:lnTo>
                <a:lnTo>
                  <a:pt x="683" y="46"/>
                </a:lnTo>
                <a:lnTo>
                  <a:pt x="692" y="46"/>
                </a:lnTo>
                <a:lnTo>
                  <a:pt x="716" y="43"/>
                </a:lnTo>
                <a:lnTo>
                  <a:pt x="725" y="43"/>
                </a:lnTo>
                <a:lnTo>
                  <a:pt x="737" y="40"/>
                </a:lnTo>
                <a:lnTo>
                  <a:pt x="746" y="34"/>
                </a:lnTo>
                <a:lnTo>
                  <a:pt x="755" y="31"/>
                </a:lnTo>
                <a:lnTo>
                  <a:pt x="764" y="28"/>
                </a:lnTo>
                <a:lnTo>
                  <a:pt x="773" y="28"/>
                </a:lnTo>
                <a:lnTo>
                  <a:pt x="782" y="25"/>
                </a:lnTo>
                <a:lnTo>
                  <a:pt x="791" y="20"/>
                </a:lnTo>
                <a:lnTo>
                  <a:pt x="800" y="17"/>
                </a:lnTo>
                <a:lnTo>
                  <a:pt x="809" y="17"/>
                </a:lnTo>
                <a:lnTo>
                  <a:pt x="818" y="17"/>
                </a:lnTo>
                <a:lnTo>
                  <a:pt x="842" y="20"/>
                </a:lnTo>
                <a:lnTo>
                  <a:pt x="854" y="20"/>
                </a:lnTo>
                <a:lnTo>
                  <a:pt x="860" y="11"/>
                </a:lnTo>
                <a:lnTo>
                  <a:pt x="869" y="5"/>
                </a:lnTo>
                <a:lnTo>
                  <a:pt x="878" y="2"/>
                </a:lnTo>
                <a:lnTo>
                  <a:pt x="887" y="8"/>
                </a:lnTo>
                <a:lnTo>
                  <a:pt x="896" y="5"/>
                </a:lnTo>
                <a:lnTo>
                  <a:pt x="905" y="5"/>
                </a:lnTo>
                <a:lnTo>
                  <a:pt x="914" y="5"/>
                </a:lnTo>
                <a:lnTo>
                  <a:pt x="923" y="2"/>
                </a:lnTo>
                <a:lnTo>
                  <a:pt x="932" y="2"/>
                </a:lnTo>
                <a:lnTo>
                  <a:pt x="941" y="0"/>
                </a:lnTo>
                <a:lnTo>
                  <a:pt x="950" y="0"/>
                </a:lnTo>
                <a:lnTo>
                  <a:pt x="959" y="2"/>
                </a:lnTo>
                <a:lnTo>
                  <a:pt x="968" y="5"/>
                </a:lnTo>
                <a:lnTo>
                  <a:pt x="977" y="5"/>
                </a:lnTo>
                <a:lnTo>
                  <a:pt x="986" y="5"/>
                </a:lnTo>
                <a:lnTo>
                  <a:pt x="998" y="5"/>
                </a:lnTo>
                <a:lnTo>
                  <a:pt x="1009" y="5"/>
                </a:lnTo>
                <a:lnTo>
                  <a:pt x="1018" y="5"/>
                </a:lnTo>
                <a:lnTo>
                  <a:pt x="1027" y="5"/>
                </a:lnTo>
                <a:lnTo>
                  <a:pt x="1036" y="5"/>
                </a:lnTo>
                <a:lnTo>
                  <a:pt x="1045" y="5"/>
                </a:lnTo>
                <a:lnTo>
                  <a:pt x="1054" y="5"/>
                </a:lnTo>
                <a:lnTo>
                  <a:pt x="1063" y="5"/>
                </a:lnTo>
                <a:lnTo>
                  <a:pt x="1072" y="5"/>
                </a:lnTo>
                <a:lnTo>
                  <a:pt x="1081" y="5"/>
                </a:lnTo>
                <a:lnTo>
                  <a:pt x="1090" y="5"/>
                </a:lnTo>
                <a:lnTo>
                  <a:pt x="1102" y="5"/>
                </a:lnTo>
                <a:lnTo>
                  <a:pt x="1120" y="8"/>
                </a:lnTo>
                <a:lnTo>
                  <a:pt x="1129" y="8"/>
                </a:lnTo>
                <a:lnTo>
                  <a:pt x="1138" y="11"/>
                </a:lnTo>
                <a:lnTo>
                  <a:pt x="1147" y="14"/>
                </a:lnTo>
                <a:lnTo>
                  <a:pt x="1156" y="17"/>
                </a:lnTo>
                <a:lnTo>
                  <a:pt x="1165" y="17"/>
                </a:lnTo>
                <a:lnTo>
                  <a:pt x="1174" y="20"/>
                </a:lnTo>
                <a:lnTo>
                  <a:pt x="1183" y="20"/>
                </a:lnTo>
                <a:lnTo>
                  <a:pt x="1192" y="20"/>
                </a:lnTo>
                <a:lnTo>
                  <a:pt x="1201" y="22"/>
                </a:lnTo>
                <a:lnTo>
                  <a:pt x="1210" y="25"/>
                </a:lnTo>
                <a:lnTo>
                  <a:pt x="1219" y="25"/>
                </a:lnTo>
                <a:lnTo>
                  <a:pt x="1228" y="28"/>
                </a:lnTo>
                <a:lnTo>
                  <a:pt x="1237" y="28"/>
                </a:lnTo>
                <a:lnTo>
                  <a:pt x="1246" y="31"/>
                </a:lnTo>
                <a:lnTo>
                  <a:pt x="1255" y="31"/>
                </a:lnTo>
                <a:lnTo>
                  <a:pt x="1264" y="37"/>
                </a:lnTo>
                <a:lnTo>
                  <a:pt x="1276" y="40"/>
                </a:lnTo>
                <a:lnTo>
                  <a:pt x="1285" y="40"/>
                </a:lnTo>
                <a:lnTo>
                  <a:pt x="1294" y="43"/>
                </a:lnTo>
                <a:lnTo>
                  <a:pt x="1303" y="46"/>
                </a:lnTo>
                <a:lnTo>
                  <a:pt x="1312" y="49"/>
                </a:lnTo>
                <a:lnTo>
                  <a:pt x="1321" y="49"/>
                </a:lnTo>
                <a:lnTo>
                  <a:pt x="1333" y="52"/>
                </a:lnTo>
                <a:lnTo>
                  <a:pt x="1342" y="52"/>
                </a:lnTo>
                <a:lnTo>
                  <a:pt x="1351" y="55"/>
                </a:lnTo>
                <a:lnTo>
                  <a:pt x="1360" y="61"/>
                </a:lnTo>
                <a:lnTo>
                  <a:pt x="1369" y="61"/>
                </a:lnTo>
                <a:lnTo>
                  <a:pt x="1378" y="63"/>
                </a:lnTo>
                <a:lnTo>
                  <a:pt x="1387" y="69"/>
                </a:lnTo>
                <a:lnTo>
                  <a:pt x="1396" y="72"/>
                </a:lnTo>
                <a:lnTo>
                  <a:pt x="1405" y="75"/>
                </a:lnTo>
                <a:lnTo>
                  <a:pt x="1414" y="81"/>
                </a:lnTo>
                <a:lnTo>
                  <a:pt x="1426" y="84"/>
                </a:lnTo>
                <a:lnTo>
                  <a:pt x="1438" y="87"/>
                </a:lnTo>
                <a:lnTo>
                  <a:pt x="1447" y="90"/>
                </a:lnTo>
                <a:lnTo>
                  <a:pt x="1456" y="96"/>
                </a:lnTo>
                <a:lnTo>
                  <a:pt x="1465" y="99"/>
                </a:lnTo>
                <a:lnTo>
                  <a:pt x="1474" y="102"/>
                </a:lnTo>
                <a:lnTo>
                  <a:pt x="1486" y="107"/>
                </a:lnTo>
                <a:lnTo>
                  <a:pt x="1495" y="110"/>
                </a:lnTo>
                <a:lnTo>
                  <a:pt x="1504" y="116"/>
                </a:lnTo>
                <a:lnTo>
                  <a:pt x="1513" y="119"/>
                </a:lnTo>
                <a:lnTo>
                  <a:pt x="1525" y="122"/>
                </a:lnTo>
                <a:lnTo>
                  <a:pt x="1534" y="125"/>
                </a:lnTo>
                <a:lnTo>
                  <a:pt x="1558" y="131"/>
                </a:lnTo>
                <a:lnTo>
                  <a:pt x="1576" y="131"/>
                </a:lnTo>
                <a:lnTo>
                  <a:pt x="1585" y="134"/>
                </a:lnTo>
                <a:lnTo>
                  <a:pt x="1594" y="137"/>
                </a:lnTo>
                <a:lnTo>
                  <a:pt x="1600" y="146"/>
                </a:lnTo>
                <a:lnTo>
                  <a:pt x="1603" y="154"/>
                </a:lnTo>
                <a:lnTo>
                  <a:pt x="1609" y="163"/>
                </a:lnTo>
                <a:lnTo>
                  <a:pt x="1618" y="172"/>
                </a:lnTo>
                <a:lnTo>
                  <a:pt x="1627" y="181"/>
                </a:lnTo>
                <a:lnTo>
                  <a:pt x="1636" y="190"/>
                </a:lnTo>
                <a:lnTo>
                  <a:pt x="1645" y="195"/>
                </a:lnTo>
                <a:lnTo>
                  <a:pt x="1654" y="204"/>
                </a:lnTo>
                <a:lnTo>
                  <a:pt x="1663" y="213"/>
                </a:lnTo>
                <a:lnTo>
                  <a:pt x="1671" y="216"/>
                </a:lnTo>
                <a:lnTo>
                  <a:pt x="1680" y="225"/>
                </a:lnTo>
                <a:lnTo>
                  <a:pt x="1689" y="228"/>
                </a:lnTo>
                <a:lnTo>
                  <a:pt x="1698" y="234"/>
                </a:lnTo>
                <a:lnTo>
                  <a:pt x="1710" y="239"/>
                </a:lnTo>
                <a:lnTo>
                  <a:pt x="1719" y="248"/>
                </a:lnTo>
                <a:lnTo>
                  <a:pt x="1728" y="254"/>
                </a:lnTo>
                <a:lnTo>
                  <a:pt x="1734" y="263"/>
                </a:lnTo>
                <a:lnTo>
                  <a:pt x="1743" y="266"/>
                </a:lnTo>
                <a:lnTo>
                  <a:pt x="1749" y="275"/>
                </a:lnTo>
                <a:lnTo>
                  <a:pt x="1758" y="280"/>
                </a:lnTo>
                <a:lnTo>
                  <a:pt x="1767" y="286"/>
                </a:lnTo>
                <a:lnTo>
                  <a:pt x="1776" y="295"/>
                </a:lnTo>
                <a:lnTo>
                  <a:pt x="1785" y="301"/>
                </a:lnTo>
                <a:lnTo>
                  <a:pt x="1794" y="310"/>
                </a:lnTo>
                <a:lnTo>
                  <a:pt x="1803" y="316"/>
                </a:lnTo>
                <a:lnTo>
                  <a:pt x="1812" y="324"/>
                </a:lnTo>
                <a:lnTo>
                  <a:pt x="1821" y="333"/>
                </a:lnTo>
                <a:lnTo>
                  <a:pt x="1827" y="342"/>
                </a:lnTo>
                <a:lnTo>
                  <a:pt x="1836" y="348"/>
                </a:lnTo>
                <a:lnTo>
                  <a:pt x="1842" y="357"/>
                </a:lnTo>
                <a:lnTo>
                  <a:pt x="1851" y="363"/>
                </a:lnTo>
                <a:lnTo>
                  <a:pt x="1857" y="371"/>
                </a:lnTo>
                <a:lnTo>
                  <a:pt x="1866" y="380"/>
                </a:lnTo>
                <a:lnTo>
                  <a:pt x="1872" y="389"/>
                </a:lnTo>
                <a:lnTo>
                  <a:pt x="1881" y="398"/>
                </a:lnTo>
                <a:lnTo>
                  <a:pt x="1890" y="406"/>
                </a:lnTo>
                <a:lnTo>
                  <a:pt x="1893" y="415"/>
                </a:lnTo>
                <a:lnTo>
                  <a:pt x="1899" y="424"/>
                </a:lnTo>
                <a:lnTo>
                  <a:pt x="1905" y="433"/>
                </a:lnTo>
                <a:lnTo>
                  <a:pt x="1914" y="442"/>
                </a:lnTo>
                <a:lnTo>
                  <a:pt x="1920" y="450"/>
                </a:lnTo>
                <a:lnTo>
                  <a:pt x="1926" y="459"/>
                </a:lnTo>
                <a:lnTo>
                  <a:pt x="1932" y="468"/>
                </a:lnTo>
                <a:lnTo>
                  <a:pt x="1938" y="477"/>
                </a:lnTo>
                <a:lnTo>
                  <a:pt x="1941" y="486"/>
                </a:lnTo>
                <a:lnTo>
                  <a:pt x="1947" y="494"/>
                </a:lnTo>
                <a:lnTo>
                  <a:pt x="1950" y="503"/>
                </a:lnTo>
                <a:lnTo>
                  <a:pt x="1956" y="512"/>
                </a:lnTo>
                <a:lnTo>
                  <a:pt x="1959" y="521"/>
                </a:lnTo>
                <a:lnTo>
                  <a:pt x="1962" y="530"/>
                </a:lnTo>
                <a:lnTo>
                  <a:pt x="1968" y="538"/>
                </a:lnTo>
                <a:lnTo>
                  <a:pt x="1974" y="547"/>
                </a:lnTo>
                <a:lnTo>
                  <a:pt x="1977" y="556"/>
                </a:lnTo>
                <a:lnTo>
                  <a:pt x="1983" y="568"/>
                </a:lnTo>
                <a:lnTo>
                  <a:pt x="1986" y="577"/>
                </a:lnTo>
                <a:lnTo>
                  <a:pt x="1989" y="585"/>
                </a:lnTo>
                <a:lnTo>
                  <a:pt x="1989" y="594"/>
                </a:lnTo>
                <a:lnTo>
                  <a:pt x="1992" y="603"/>
                </a:lnTo>
                <a:lnTo>
                  <a:pt x="1995" y="612"/>
                </a:lnTo>
                <a:lnTo>
                  <a:pt x="1998" y="620"/>
                </a:lnTo>
              </a:path>
            </a:pathLst>
          </a:custGeom>
          <a:solidFill>
            <a:srgbClr val="fc0000"/>
          </a:solidFill>
          <a:ln cap="rnd" w="12600">
            <a:solidFill>
              <a:srgbClr val="f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05240" y="4473720"/>
            <a:ext cx="3125880" cy="1009440"/>
          </a:xfrm>
          <a:custGeom>
            <a:avLst/>
            <a:gdLst/>
            <a:ahLst/>
            <a:rect l="l" t="t" r="r" b="b"/>
            <a:pathLst>
              <a:path w="1969" h="636">
                <a:moveTo>
                  <a:pt x="0" y="0"/>
                </a:moveTo>
                <a:lnTo>
                  <a:pt x="6" y="8"/>
                </a:lnTo>
                <a:lnTo>
                  <a:pt x="12" y="17"/>
                </a:lnTo>
                <a:lnTo>
                  <a:pt x="12" y="26"/>
                </a:lnTo>
                <a:lnTo>
                  <a:pt x="12" y="35"/>
                </a:lnTo>
                <a:lnTo>
                  <a:pt x="15" y="44"/>
                </a:lnTo>
                <a:lnTo>
                  <a:pt x="18" y="53"/>
                </a:lnTo>
                <a:lnTo>
                  <a:pt x="21" y="62"/>
                </a:lnTo>
                <a:lnTo>
                  <a:pt x="24" y="71"/>
                </a:lnTo>
                <a:lnTo>
                  <a:pt x="27" y="80"/>
                </a:lnTo>
                <a:lnTo>
                  <a:pt x="33" y="89"/>
                </a:lnTo>
                <a:lnTo>
                  <a:pt x="36" y="98"/>
                </a:lnTo>
                <a:lnTo>
                  <a:pt x="42" y="107"/>
                </a:lnTo>
                <a:lnTo>
                  <a:pt x="48" y="116"/>
                </a:lnTo>
                <a:lnTo>
                  <a:pt x="54" y="125"/>
                </a:lnTo>
                <a:lnTo>
                  <a:pt x="60" y="134"/>
                </a:lnTo>
                <a:lnTo>
                  <a:pt x="66" y="143"/>
                </a:lnTo>
                <a:lnTo>
                  <a:pt x="72" y="152"/>
                </a:lnTo>
                <a:lnTo>
                  <a:pt x="78" y="161"/>
                </a:lnTo>
                <a:lnTo>
                  <a:pt x="84" y="170"/>
                </a:lnTo>
                <a:lnTo>
                  <a:pt x="87" y="179"/>
                </a:lnTo>
                <a:lnTo>
                  <a:pt x="93" y="188"/>
                </a:lnTo>
                <a:lnTo>
                  <a:pt x="99" y="197"/>
                </a:lnTo>
                <a:lnTo>
                  <a:pt x="102" y="206"/>
                </a:lnTo>
                <a:lnTo>
                  <a:pt x="105" y="215"/>
                </a:lnTo>
                <a:lnTo>
                  <a:pt x="111" y="224"/>
                </a:lnTo>
                <a:lnTo>
                  <a:pt x="123" y="233"/>
                </a:lnTo>
                <a:lnTo>
                  <a:pt x="132" y="242"/>
                </a:lnTo>
                <a:lnTo>
                  <a:pt x="141" y="248"/>
                </a:lnTo>
                <a:lnTo>
                  <a:pt x="147" y="257"/>
                </a:lnTo>
                <a:lnTo>
                  <a:pt x="156" y="266"/>
                </a:lnTo>
                <a:lnTo>
                  <a:pt x="162" y="275"/>
                </a:lnTo>
                <a:lnTo>
                  <a:pt x="171" y="281"/>
                </a:lnTo>
                <a:lnTo>
                  <a:pt x="180" y="287"/>
                </a:lnTo>
                <a:lnTo>
                  <a:pt x="183" y="296"/>
                </a:lnTo>
                <a:lnTo>
                  <a:pt x="192" y="302"/>
                </a:lnTo>
                <a:lnTo>
                  <a:pt x="195" y="311"/>
                </a:lnTo>
                <a:lnTo>
                  <a:pt x="204" y="317"/>
                </a:lnTo>
                <a:lnTo>
                  <a:pt x="213" y="326"/>
                </a:lnTo>
                <a:lnTo>
                  <a:pt x="219" y="335"/>
                </a:lnTo>
                <a:lnTo>
                  <a:pt x="228" y="338"/>
                </a:lnTo>
                <a:lnTo>
                  <a:pt x="234" y="347"/>
                </a:lnTo>
                <a:lnTo>
                  <a:pt x="243" y="350"/>
                </a:lnTo>
                <a:lnTo>
                  <a:pt x="246" y="359"/>
                </a:lnTo>
                <a:lnTo>
                  <a:pt x="255" y="365"/>
                </a:lnTo>
                <a:lnTo>
                  <a:pt x="261" y="374"/>
                </a:lnTo>
                <a:lnTo>
                  <a:pt x="270" y="380"/>
                </a:lnTo>
                <a:lnTo>
                  <a:pt x="279" y="383"/>
                </a:lnTo>
                <a:lnTo>
                  <a:pt x="288" y="389"/>
                </a:lnTo>
                <a:lnTo>
                  <a:pt x="294" y="398"/>
                </a:lnTo>
                <a:lnTo>
                  <a:pt x="303" y="404"/>
                </a:lnTo>
                <a:lnTo>
                  <a:pt x="312" y="410"/>
                </a:lnTo>
                <a:lnTo>
                  <a:pt x="321" y="419"/>
                </a:lnTo>
                <a:lnTo>
                  <a:pt x="330" y="422"/>
                </a:lnTo>
                <a:lnTo>
                  <a:pt x="339" y="428"/>
                </a:lnTo>
                <a:lnTo>
                  <a:pt x="348" y="434"/>
                </a:lnTo>
                <a:lnTo>
                  <a:pt x="354" y="443"/>
                </a:lnTo>
                <a:lnTo>
                  <a:pt x="363" y="446"/>
                </a:lnTo>
                <a:lnTo>
                  <a:pt x="372" y="452"/>
                </a:lnTo>
                <a:lnTo>
                  <a:pt x="384" y="458"/>
                </a:lnTo>
                <a:lnTo>
                  <a:pt x="393" y="464"/>
                </a:lnTo>
                <a:lnTo>
                  <a:pt x="402" y="467"/>
                </a:lnTo>
                <a:lnTo>
                  <a:pt x="411" y="473"/>
                </a:lnTo>
                <a:lnTo>
                  <a:pt x="420" y="479"/>
                </a:lnTo>
                <a:lnTo>
                  <a:pt x="429" y="482"/>
                </a:lnTo>
                <a:lnTo>
                  <a:pt x="438" y="491"/>
                </a:lnTo>
                <a:lnTo>
                  <a:pt x="447" y="494"/>
                </a:lnTo>
                <a:lnTo>
                  <a:pt x="456" y="500"/>
                </a:lnTo>
                <a:lnTo>
                  <a:pt x="465" y="503"/>
                </a:lnTo>
                <a:lnTo>
                  <a:pt x="474" y="509"/>
                </a:lnTo>
                <a:lnTo>
                  <a:pt x="483" y="515"/>
                </a:lnTo>
                <a:lnTo>
                  <a:pt x="492" y="518"/>
                </a:lnTo>
                <a:lnTo>
                  <a:pt x="501" y="524"/>
                </a:lnTo>
                <a:lnTo>
                  <a:pt x="510" y="527"/>
                </a:lnTo>
                <a:lnTo>
                  <a:pt x="519" y="530"/>
                </a:lnTo>
                <a:lnTo>
                  <a:pt x="528" y="536"/>
                </a:lnTo>
                <a:lnTo>
                  <a:pt x="537" y="539"/>
                </a:lnTo>
                <a:lnTo>
                  <a:pt x="546" y="542"/>
                </a:lnTo>
                <a:lnTo>
                  <a:pt x="555" y="542"/>
                </a:lnTo>
                <a:lnTo>
                  <a:pt x="564" y="545"/>
                </a:lnTo>
                <a:lnTo>
                  <a:pt x="573" y="548"/>
                </a:lnTo>
                <a:lnTo>
                  <a:pt x="582" y="551"/>
                </a:lnTo>
                <a:lnTo>
                  <a:pt x="591" y="554"/>
                </a:lnTo>
                <a:lnTo>
                  <a:pt x="600" y="557"/>
                </a:lnTo>
                <a:lnTo>
                  <a:pt x="609" y="563"/>
                </a:lnTo>
                <a:lnTo>
                  <a:pt x="618" y="566"/>
                </a:lnTo>
                <a:lnTo>
                  <a:pt x="627" y="572"/>
                </a:lnTo>
                <a:lnTo>
                  <a:pt x="636" y="575"/>
                </a:lnTo>
                <a:lnTo>
                  <a:pt x="645" y="575"/>
                </a:lnTo>
                <a:lnTo>
                  <a:pt x="654" y="581"/>
                </a:lnTo>
                <a:lnTo>
                  <a:pt x="663" y="584"/>
                </a:lnTo>
                <a:lnTo>
                  <a:pt x="672" y="587"/>
                </a:lnTo>
                <a:lnTo>
                  <a:pt x="681" y="590"/>
                </a:lnTo>
                <a:lnTo>
                  <a:pt x="690" y="590"/>
                </a:lnTo>
                <a:lnTo>
                  <a:pt x="699" y="593"/>
                </a:lnTo>
                <a:lnTo>
                  <a:pt x="708" y="596"/>
                </a:lnTo>
                <a:lnTo>
                  <a:pt x="717" y="599"/>
                </a:lnTo>
                <a:lnTo>
                  <a:pt x="726" y="599"/>
                </a:lnTo>
                <a:lnTo>
                  <a:pt x="735" y="599"/>
                </a:lnTo>
                <a:lnTo>
                  <a:pt x="744" y="602"/>
                </a:lnTo>
                <a:lnTo>
                  <a:pt x="753" y="605"/>
                </a:lnTo>
                <a:lnTo>
                  <a:pt x="762" y="608"/>
                </a:lnTo>
                <a:lnTo>
                  <a:pt x="771" y="608"/>
                </a:lnTo>
                <a:lnTo>
                  <a:pt x="780" y="611"/>
                </a:lnTo>
                <a:lnTo>
                  <a:pt x="789" y="611"/>
                </a:lnTo>
                <a:lnTo>
                  <a:pt x="798" y="614"/>
                </a:lnTo>
                <a:lnTo>
                  <a:pt x="807" y="617"/>
                </a:lnTo>
                <a:lnTo>
                  <a:pt x="816" y="620"/>
                </a:lnTo>
                <a:lnTo>
                  <a:pt x="825" y="623"/>
                </a:lnTo>
                <a:lnTo>
                  <a:pt x="834" y="623"/>
                </a:lnTo>
                <a:lnTo>
                  <a:pt x="843" y="626"/>
                </a:lnTo>
                <a:lnTo>
                  <a:pt x="852" y="626"/>
                </a:lnTo>
                <a:lnTo>
                  <a:pt x="861" y="626"/>
                </a:lnTo>
                <a:lnTo>
                  <a:pt x="870" y="626"/>
                </a:lnTo>
                <a:lnTo>
                  <a:pt x="879" y="626"/>
                </a:lnTo>
                <a:lnTo>
                  <a:pt x="888" y="626"/>
                </a:lnTo>
                <a:lnTo>
                  <a:pt x="900" y="626"/>
                </a:lnTo>
                <a:lnTo>
                  <a:pt x="912" y="632"/>
                </a:lnTo>
                <a:lnTo>
                  <a:pt x="921" y="632"/>
                </a:lnTo>
                <a:lnTo>
                  <a:pt x="930" y="632"/>
                </a:lnTo>
                <a:lnTo>
                  <a:pt x="939" y="635"/>
                </a:lnTo>
                <a:lnTo>
                  <a:pt x="948" y="635"/>
                </a:lnTo>
                <a:lnTo>
                  <a:pt x="957" y="635"/>
                </a:lnTo>
                <a:lnTo>
                  <a:pt x="969" y="635"/>
                </a:lnTo>
                <a:lnTo>
                  <a:pt x="978" y="632"/>
                </a:lnTo>
                <a:lnTo>
                  <a:pt x="987" y="632"/>
                </a:lnTo>
                <a:lnTo>
                  <a:pt x="996" y="629"/>
                </a:lnTo>
                <a:lnTo>
                  <a:pt x="1005" y="629"/>
                </a:lnTo>
                <a:lnTo>
                  <a:pt x="1014" y="629"/>
                </a:lnTo>
                <a:lnTo>
                  <a:pt x="1023" y="626"/>
                </a:lnTo>
                <a:lnTo>
                  <a:pt x="1032" y="626"/>
                </a:lnTo>
                <a:lnTo>
                  <a:pt x="1044" y="629"/>
                </a:lnTo>
                <a:lnTo>
                  <a:pt x="1053" y="629"/>
                </a:lnTo>
                <a:lnTo>
                  <a:pt x="1062" y="629"/>
                </a:lnTo>
                <a:lnTo>
                  <a:pt x="1071" y="629"/>
                </a:lnTo>
                <a:lnTo>
                  <a:pt x="1080" y="629"/>
                </a:lnTo>
                <a:lnTo>
                  <a:pt x="1089" y="629"/>
                </a:lnTo>
                <a:lnTo>
                  <a:pt x="1098" y="626"/>
                </a:lnTo>
                <a:lnTo>
                  <a:pt x="1107" y="626"/>
                </a:lnTo>
                <a:lnTo>
                  <a:pt x="1116" y="626"/>
                </a:lnTo>
                <a:lnTo>
                  <a:pt x="1125" y="623"/>
                </a:lnTo>
                <a:lnTo>
                  <a:pt x="1134" y="623"/>
                </a:lnTo>
                <a:lnTo>
                  <a:pt x="1143" y="623"/>
                </a:lnTo>
                <a:lnTo>
                  <a:pt x="1152" y="617"/>
                </a:lnTo>
                <a:lnTo>
                  <a:pt x="1161" y="614"/>
                </a:lnTo>
                <a:lnTo>
                  <a:pt x="1170" y="611"/>
                </a:lnTo>
                <a:lnTo>
                  <a:pt x="1179" y="608"/>
                </a:lnTo>
                <a:lnTo>
                  <a:pt x="1188" y="608"/>
                </a:lnTo>
                <a:lnTo>
                  <a:pt x="1200" y="605"/>
                </a:lnTo>
                <a:lnTo>
                  <a:pt x="1209" y="602"/>
                </a:lnTo>
                <a:lnTo>
                  <a:pt x="1218" y="599"/>
                </a:lnTo>
                <a:lnTo>
                  <a:pt x="1227" y="599"/>
                </a:lnTo>
                <a:lnTo>
                  <a:pt x="1236" y="599"/>
                </a:lnTo>
                <a:lnTo>
                  <a:pt x="1245" y="599"/>
                </a:lnTo>
                <a:lnTo>
                  <a:pt x="1254" y="599"/>
                </a:lnTo>
                <a:lnTo>
                  <a:pt x="1263" y="596"/>
                </a:lnTo>
                <a:lnTo>
                  <a:pt x="1272" y="593"/>
                </a:lnTo>
                <a:lnTo>
                  <a:pt x="1281" y="590"/>
                </a:lnTo>
                <a:lnTo>
                  <a:pt x="1290" y="587"/>
                </a:lnTo>
                <a:lnTo>
                  <a:pt x="1299" y="584"/>
                </a:lnTo>
                <a:lnTo>
                  <a:pt x="1308" y="581"/>
                </a:lnTo>
                <a:lnTo>
                  <a:pt x="1317" y="578"/>
                </a:lnTo>
                <a:lnTo>
                  <a:pt x="1326" y="575"/>
                </a:lnTo>
                <a:lnTo>
                  <a:pt x="1335" y="572"/>
                </a:lnTo>
                <a:lnTo>
                  <a:pt x="1347" y="569"/>
                </a:lnTo>
                <a:lnTo>
                  <a:pt x="1356" y="563"/>
                </a:lnTo>
                <a:lnTo>
                  <a:pt x="1365" y="560"/>
                </a:lnTo>
                <a:lnTo>
                  <a:pt x="1374" y="554"/>
                </a:lnTo>
                <a:lnTo>
                  <a:pt x="1383" y="551"/>
                </a:lnTo>
                <a:lnTo>
                  <a:pt x="1392" y="548"/>
                </a:lnTo>
                <a:lnTo>
                  <a:pt x="1401" y="545"/>
                </a:lnTo>
                <a:lnTo>
                  <a:pt x="1410" y="545"/>
                </a:lnTo>
                <a:lnTo>
                  <a:pt x="1419" y="542"/>
                </a:lnTo>
                <a:lnTo>
                  <a:pt x="1428" y="539"/>
                </a:lnTo>
                <a:lnTo>
                  <a:pt x="1437" y="536"/>
                </a:lnTo>
                <a:lnTo>
                  <a:pt x="1446" y="530"/>
                </a:lnTo>
                <a:lnTo>
                  <a:pt x="1455" y="527"/>
                </a:lnTo>
                <a:lnTo>
                  <a:pt x="1464" y="521"/>
                </a:lnTo>
                <a:lnTo>
                  <a:pt x="1473" y="515"/>
                </a:lnTo>
                <a:lnTo>
                  <a:pt x="1482" y="512"/>
                </a:lnTo>
                <a:lnTo>
                  <a:pt x="1491" y="506"/>
                </a:lnTo>
                <a:lnTo>
                  <a:pt x="1500" y="503"/>
                </a:lnTo>
                <a:lnTo>
                  <a:pt x="1512" y="500"/>
                </a:lnTo>
                <a:lnTo>
                  <a:pt x="1524" y="494"/>
                </a:lnTo>
                <a:lnTo>
                  <a:pt x="1533" y="491"/>
                </a:lnTo>
                <a:lnTo>
                  <a:pt x="1542" y="482"/>
                </a:lnTo>
                <a:lnTo>
                  <a:pt x="1551" y="479"/>
                </a:lnTo>
                <a:lnTo>
                  <a:pt x="1560" y="476"/>
                </a:lnTo>
                <a:lnTo>
                  <a:pt x="1572" y="467"/>
                </a:lnTo>
                <a:lnTo>
                  <a:pt x="1581" y="464"/>
                </a:lnTo>
                <a:lnTo>
                  <a:pt x="1590" y="455"/>
                </a:lnTo>
                <a:lnTo>
                  <a:pt x="1599" y="452"/>
                </a:lnTo>
                <a:lnTo>
                  <a:pt x="1608" y="443"/>
                </a:lnTo>
                <a:lnTo>
                  <a:pt x="1617" y="440"/>
                </a:lnTo>
                <a:lnTo>
                  <a:pt x="1623" y="431"/>
                </a:lnTo>
                <a:lnTo>
                  <a:pt x="1632" y="425"/>
                </a:lnTo>
                <a:lnTo>
                  <a:pt x="1641" y="419"/>
                </a:lnTo>
                <a:lnTo>
                  <a:pt x="1650" y="410"/>
                </a:lnTo>
                <a:lnTo>
                  <a:pt x="1659" y="404"/>
                </a:lnTo>
                <a:lnTo>
                  <a:pt x="1668" y="395"/>
                </a:lnTo>
                <a:lnTo>
                  <a:pt x="1677" y="389"/>
                </a:lnTo>
                <a:lnTo>
                  <a:pt x="1686" y="383"/>
                </a:lnTo>
                <a:lnTo>
                  <a:pt x="1695" y="374"/>
                </a:lnTo>
                <a:lnTo>
                  <a:pt x="1704" y="368"/>
                </a:lnTo>
                <a:lnTo>
                  <a:pt x="1710" y="359"/>
                </a:lnTo>
                <a:lnTo>
                  <a:pt x="1719" y="359"/>
                </a:lnTo>
                <a:lnTo>
                  <a:pt x="1728" y="350"/>
                </a:lnTo>
                <a:lnTo>
                  <a:pt x="1737" y="347"/>
                </a:lnTo>
                <a:lnTo>
                  <a:pt x="1743" y="338"/>
                </a:lnTo>
                <a:lnTo>
                  <a:pt x="1752" y="332"/>
                </a:lnTo>
                <a:lnTo>
                  <a:pt x="1755" y="323"/>
                </a:lnTo>
                <a:lnTo>
                  <a:pt x="1764" y="323"/>
                </a:lnTo>
                <a:lnTo>
                  <a:pt x="1770" y="314"/>
                </a:lnTo>
                <a:lnTo>
                  <a:pt x="1779" y="308"/>
                </a:lnTo>
                <a:lnTo>
                  <a:pt x="1782" y="299"/>
                </a:lnTo>
                <a:lnTo>
                  <a:pt x="1791" y="293"/>
                </a:lnTo>
                <a:lnTo>
                  <a:pt x="1797" y="284"/>
                </a:lnTo>
                <a:lnTo>
                  <a:pt x="1806" y="275"/>
                </a:lnTo>
                <a:lnTo>
                  <a:pt x="1815" y="272"/>
                </a:lnTo>
                <a:lnTo>
                  <a:pt x="1818" y="263"/>
                </a:lnTo>
                <a:lnTo>
                  <a:pt x="1827" y="254"/>
                </a:lnTo>
                <a:lnTo>
                  <a:pt x="1833" y="245"/>
                </a:lnTo>
                <a:lnTo>
                  <a:pt x="1839" y="236"/>
                </a:lnTo>
                <a:lnTo>
                  <a:pt x="1845" y="227"/>
                </a:lnTo>
                <a:lnTo>
                  <a:pt x="1851" y="215"/>
                </a:lnTo>
                <a:lnTo>
                  <a:pt x="1857" y="206"/>
                </a:lnTo>
                <a:lnTo>
                  <a:pt x="1863" y="197"/>
                </a:lnTo>
                <a:lnTo>
                  <a:pt x="1872" y="191"/>
                </a:lnTo>
                <a:lnTo>
                  <a:pt x="1878" y="182"/>
                </a:lnTo>
                <a:lnTo>
                  <a:pt x="1887" y="173"/>
                </a:lnTo>
                <a:lnTo>
                  <a:pt x="1893" y="164"/>
                </a:lnTo>
                <a:lnTo>
                  <a:pt x="1899" y="155"/>
                </a:lnTo>
                <a:lnTo>
                  <a:pt x="1902" y="146"/>
                </a:lnTo>
                <a:lnTo>
                  <a:pt x="1908" y="137"/>
                </a:lnTo>
                <a:lnTo>
                  <a:pt x="1911" y="128"/>
                </a:lnTo>
                <a:lnTo>
                  <a:pt x="1914" y="119"/>
                </a:lnTo>
                <a:lnTo>
                  <a:pt x="1920" y="110"/>
                </a:lnTo>
                <a:lnTo>
                  <a:pt x="1926" y="98"/>
                </a:lnTo>
                <a:lnTo>
                  <a:pt x="1935" y="89"/>
                </a:lnTo>
                <a:lnTo>
                  <a:pt x="1938" y="80"/>
                </a:lnTo>
                <a:lnTo>
                  <a:pt x="1941" y="71"/>
                </a:lnTo>
                <a:lnTo>
                  <a:pt x="1944" y="62"/>
                </a:lnTo>
                <a:lnTo>
                  <a:pt x="1947" y="53"/>
                </a:lnTo>
                <a:lnTo>
                  <a:pt x="1953" y="44"/>
                </a:lnTo>
                <a:lnTo>
                  <a:pt x="1956" y="35"/>
                </a:lnTo>
                <a:lnTo>
                  <a:pt x="1959" y="26"/>
                </a:lnTo>
                <a:lnTo>
                  <a:pt x="1962" y="17"/>
                </a:lnTo>
                <a:lnTo>
                  <a:pt x="1965" y="8"/>
                </a:lnTo>
                <a:lnTo>
                  <a:pt x="1968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2616120"/>
            <a:ext cx="3301920" cy="2859120"/>
          </a:xfrm>
          <a:prstGeom prst="ellipse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1200" y="6461280"/>
            <a:ext cx="18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صطکاک سطح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اصطکاک در خلاف جهت حرکت نسبی اثر می کند 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وازی با سطح 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عمود بر نیروی قائ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92680" y="4883040"/>
            <a:ext cx="825480" cy="7495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94040" y="5638680"/>
            <a:ext cx="5003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89040" y="5181480"/>
            <a:ext cx="142272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174480" y="5638680"/>
            <a:ext cx="73692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54760" y="5257800"/>
            <a:ext cx="101592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71240" y="50832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78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33720" y="5692680"/>
            <a:ext cx="622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359320"/>
            <a:ext cx="0" cy="71136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92640"/>
            <a:ext cx="0" cy="711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9212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29000" y="4321080"/>
            <a:ext cx="12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238880" y="4412880"/>
            <a:ext cx="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5360" y="495288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4080" y="48546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7400" y="42451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6520" y="6516720"/>
            <a:ext cx="191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دل اصطکا ک لغزش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هت نیروی اصطکاک عمود بر نیروی قائ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ی نیروی اصطکاک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تناسب با بزرگی نیروی قائ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|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   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ثال قبل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هرچه جسم </a:t>
            </a:r>
            <a:r>
              <a:rPr b="1" lang="fa-IR" sz="2000" spc="-1" strike="noStrike">
                <a:solidFill>
                  <a:srgbClr val="fc0000"/>
                </a:solidFill>
                <a:latin typeface="Arial"/>
                <a:cs typeface="Arial"/>
              </a:rPr>
              <a:t>سنگینتر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شد نیروی اصطکاک بیشتر خواهد بو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 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“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ضریب اصطکاک جنبشی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”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می نام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49Z</dcterms:created>
  <dc:creator>Mats A. Selen</dc:creator>
  <dc:description/>
  <cp:keywords/>
  <dc:language>en-US</dc:language>
  <cp:lastModifiedBy>janubi</cp:lastModifiedBy>
  <dcterms:modified xsi:type="dcterms:W3CDTF">2006-04-15T02:20:51Z</dcterms:modified>
  <cp:revision>85</cp:revision>
  <dc:subject>Friction</dc:subject>
  <dc:title>Physics 106P: Lecture 8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