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3680" y="463680"/>
            <a:ext cx="8216640" cy="60069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97280" y="6516720"/>
            <a:ext cx="303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دانشگاه پیام نور – فیزیک پایه </a:t>
            </a:r>
            <a:r>
              <a:rPr b="0" lang="fa-IR" sz="1400" spc="-1" strike="noStrike">
                <a:solidFill>
                  <a:srgbClr val="fafd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2720" y="588960"/>
            <a:ext cx="493920" cy="679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0400" y="13716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Arial"/>
              </a:rPr>
              <a:t>فیزیک پایه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Arial"/>
              </a:rPr>
              <a:t>( مکانیک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4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 واح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های ریاضی ، شیمی و کامپی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درس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احدی (حذف فصل 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2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cs typeface="Arial"/>
              </a:rPr>
              <a:t>و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13</a:t>
            </a:r>
            <a:r>
              <a:rPr b="1" lang="fa-IR" sz="1600" spc="-1" strike="noStrike">
                <a:solidFill>
                  <a:srgbClr val="fc0128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cs typeface="Arial"/>
              </a:rPr>
              <a:t>رشته کامپبوتر</a:t>
            </a:r>
            <a:r>
              <a:rPr b="1" lang="fa-IR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هریس بنس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afd00"/>
                </a:solidFill>
                <a:latin typeface="Arial"/>
                <a:cs typeface="Arial"/>
              </a:rPr>
              <a:t>ترجمه و تدوین: محمد رضا بهار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39625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ff00"/>
                </a:solidFill>
                <a:latin typeface="Arial"/>
                <a:cs typeface="B Koodak"/>
              </a:rPr>
              <a:t>تهیه پاورپوینت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B Kooda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محمود جنو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e9b03"/>
                </a:solidFill>
                <a:latin typeface="Arial"/>
                <a:cs typeface="B Koodak"/>
              </a:rPr>
              <a:t>عضوهیئت علمی – مرکز اروم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43000" y="4191120"/>
            <a:ext cx="3200400" cy="2097000"/>
            <a:chOff x="1143000" y="4191120"/>
            <a:chExt cx="3200400" cy="2097000"/>
          </a:xfrm>
        </p:grpSpPr>
        <p:sp>
          <p:nvSpPr>
            <p:cNvPr id="45" name=""/>
            <p:cNvSpPr/>
            <p:nvPr/>
          </p:nvSpPr>
          <p:spPr>
            <a:xfrm>
              <a:off x="1143000" y="4191120"/>
              <a:ext cx="3200400" cy="2057400"/>
            </a:xfrm>
            <a:prstGeom prst="rect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شتاور ناشی  ا ز جاذبه زمی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گونه که می دان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 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ست</a:t>
            </a:r>
            <a:r>
              <a:rPr b="0" i="1" lang="fa-IR" sz="2000" spc="-1" strike="noStrike" baseline="-25000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4400" y="5495760"/>
            <a:ext cx="1800" cy="682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9760" y="5788080"/>
            <a:ext cx="1440" cy="504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50000" y="4141800"/>
            <a:ext cx="1800" cy="517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74000" y="4308480"/>
            <a:ext cx="1440" cy="7272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872320" y="4102200"/>
            <a:ext cx="820440" cy="1025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97520" y="5159520"/>
            <a:ext cx="874800" cy="4348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919840" y="4403520"/>
            <a:ext cx="1977840" cy="74268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10120" y="5159520"/>
            <a:ext cx="501840" cy="2538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11760" y="5565600"/>
            <a:ext cx="216000" cy="2160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080" y="3921120"/>
            <a:ext cx="216000" cy="2160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86400" y="5362560"/>
            <a:ext cx="216000" cy="21600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72480" y="4264200"/>
            <a:ext cx="216000" cy="21564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9760" y="5086440"/>
            <a:ext cx="117360" cy="950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0320" y="467532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5760" y="523872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2360" y="535464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84400" y="4172040"/>
            <a:ext cx="93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16120" y="36036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84640" y="418608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98560" y="529740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1480" y="5475240"/>
            <a:ext cx="104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57960" y="475128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78360" y="586908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8760" y="4292640"/>
            <a:ext cx="143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fa-IR" sz="2000" spc="-1" strike="noStrike">
                <a:solidFill>
                  <a:srgbClr val="00ffff"/>
                </a:solidFill>
                <a:latin typeface="Arial"/>
                <a:cs typeface="Arial"/>
              </a:rPr>
              <a:t>محو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4280" y="41101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597060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48720" y="2736720"/>
            <a:ext cx="0" cy="9273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4080" y="272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886280" y="1596960"/>
                <a:ext cx="949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rot="18480000">
            <a:off x="5691240" y="4498920"/>
            <a:ext cx="6001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6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63"/>
              </a:path>
            </a:pathLst>
          </a:custGeom>
          <a:noFill/>
          <a:ln cap="rnd"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240" y="2187720"/>
            <a:ext cx="755028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ور دوران را درراستای محو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رده و به خاطر بیاورید ک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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Z,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,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,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,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(-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g) -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79440" y="4067280"/>
                <a:ext cx="2967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g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54840" y="3657600"/>
            <a:ext cx="6732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81280" y="371160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7560" y="4606920"/>
            <a:ext cx="3146040" cy="1486080"/>
            <a:chOff x="727560" y="4606920"/>
            <a:chExt cx="3146040" cy="148608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057400" y="5343480"/>
                  <a:ext cx="181620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765000" y="4721400"/>
              <a:ext cx="1105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لذا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7560" y="5345280"/>
              <a:ext cx="94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و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2000" y="4606920"/>
              <a:ext cx="2830680" cy="14302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57240" y="4751280"/>
                <a:ext cx="1417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شتاور ناشی ا ز 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05560" indent="-205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همان عبارتی است که اگر می خواستیم مرکز جرم را بدست آوریم به آن می رسید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865840" y="4108320"/>
            <a:ext cx="833400" cy="10130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3280" y="5153040"/>
            <a:ext cx="862200" cy="4478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913360" y="4409640"/>
            <a:ext cx="1990800" cy="73044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04000" y="5153040"/>
            <a:ext cx="514440" cy="2667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11760" y="5565600"/>
            <a:ext cx="216000" cy="2160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4080" y="3921120"/>
            <a:ext cx="216000" cy="2160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86400" y="5362560"/>
            <a:ext cx="216000" cy="2160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72480" y="4264200"/>
            <a:ext cx="216000" cy="215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9760" y="5086440"/>
            <a:ext cx="117360" cy="950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848720" y="2736720"/>
            <a:ext cx="0" cy="9273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4080" y="272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57400" y="5343480"/>
                <a:ext cx="1816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77880" y="4606920"/>
            <a:ext cx="2044800" cy="1430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300720" y="4524480"/>
            <a:ext cx="279360" cy="279360"/>
            <a:chOff x="6300720" y="4524480"/>
            <a:chExt cx="279360" cy="279360"/>
          </a:xfrm>
        </p:grpSpPr>
        <p:sp>
          <p:nvSpPr>
            <p:cNvPr id="185" name=""/>
            <p:cNvSpPr/>
            <p:nvPr/>
          </p:nvSpPr>
          <p:spPr>
            <a:xfrm>
              <a:off x="6300720" y="4664160"/>
              <a:ext cx="2793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40400" y="4524480"/>
              <a:ext cx="0" cy="2793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25400" y="4340160"/>
            <a:ext cx="114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886360" y="4654080"/>
            <a:ext cx="540000" cy="489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97120" y="4808520"/>
                <a:ext cx="173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69040" y="4498920"/>
            <a:ext cx="355680" cy="355680"/>
          </a:xfrm>
          <a:prstGeom prst="ellipse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92840" y="5130720"/>
            <a:ext cx="539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886360" y="4654080"/>
            <a:ext cx="540000" cy="4892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گشتاور ناشی ا ز جاذب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فرض کنید که همه جرم درآن نقطه متمرکز ب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19760" y="5086440"/>
            <a:ext cx="117360" cy="950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639200" y="4122360"/>
            <a:ext cx="0" cy="92700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14560" y="41083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24040" y="4511520"/>
            <a:ext cx="1050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38960" y="4673520"/>
            <a:ext cx="0" cy="10954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4160" y="5052960"/>
            <a:ext cx="107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39880" y="416880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19000" y="534024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057400" y="5343480"/>
                <a:ext cx="1816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47800" y="4797360"/>
                <a:ext cx="17337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577880" y="4606920"/>
            <a:ext cx="2044800" cy="1430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2560" y="240048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ابراین برای یافتن گشتاور ناشی از جاذبه فرض می کنیم که همه جرم جسم در یک نقطه بنام مرکز جرم متمرکز اس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afd00"/>
                </a:solidFill>
                <a:latin typeface="Arial"/>
                <a:cs typeface="Arial"/>
              </a:rPr>
              <a:t>بحث جدید – ایستایی شناسی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 گونه که از اسم آن بر می آ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“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ستاتی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طالعه سیستم هایی است که حرکت نمی کن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ثال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ه نیروهایی بر اتومببیلی که روی یک سطح شیبدار قرارد ارد وارد می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710240" y="4100400"/>
            <a:ext cx="1276560" cy="1141560"/>
            <a:chOff x="4710240" y="4100400"/>
            <a:chExt cx="1276560" cy="1141560"/>
          </a:xfrm>
        </p:grpSpPr>
        <p:sp>
          <p:nvSpPr>
            <p:cNvPr id="214" name=""/>
            <p:cNvSpPr/>
            <p:nvPr/>
          </p:nvSpPr>
          <p:spPr>
            <a:xfrm rot="19380000">
              <a:off x="4676400" y="4570200"/>
              <a:ext cx="135900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9380000">
              <a:off x="4668840" y="4395600"/>
              <a:ext cx="1054080" cy="215280"/>
            </a:xfrm>
            <a:custGeom>
              <a:avLst/>
              <a:gdLst>
                <a:gd name="textAreaLeft" fmla="*/ 231840 w 1054080"/>
                <a:gd name="textAreaRight" fmla="*/ 822240 w 1054080"/>
                <a:gd name="textAreaTop" fmla="*/ 47160 h 215280"/>
                <a:gd name="textAreaBottom" fmla="*/ 16812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380000">
              <a:off x="5059440" y="4876560"/>
              <a:ext cx="291960" cy="291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380000">
              <a:off x="5606640" y="4463640"/>
              <a:ext cx="292320" cy="29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rot="16200000">
            <a:off x="4502160" y="3511080"/>
            <a:ext cx="2120760" cy="2882880"/>
          </a:xfrm>
          <a:prstGeom prst="rtTriangl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09360" y="3278160"/>
            <a:ext cx="1756080" cy="490320"/>
            <a:chOff x="6309360" y="3278160"/>
            <a:chExt cx="1756080" cy="490320"/>
          </a:xfrm>
        </p:grpSpPr>
        <p:grpSp>
          <p:nvGrpSpPr>
            <p:cNvPr id="220" name=""/>
            <p:cNvGrpSpPr/>
            <p:nvPr/>
          </p:nvGrpSpPr>
          <p:grpSpPr>
            <a:xfrm>
              <a:off x="6807240" y="3343320"/>
              <a:ext cx="701640" cy="425160"/>
              <a:chOff x="6807240" y="3343320"/>
              <a:chExt cx="701640" cy="42516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7118280" y="3455640"/>
                <a:ext cx="390600" cy="3128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6807240" y="3343320"/>
                <a:ext cx="311040" cy="4176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84160" y="32781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09360" y="33004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380840" y="560700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4660920"/>
            <a:ext cx="0" cy="10414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21040" y="3854160"/>
            <a:ext cx="510840" cy="711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870520" y="4359240"/>
            <a:ext cx="460440" cy="387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00040" y="39974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23960" y="544500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28480" y="44164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تومبیل روی تپه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88560" indent="-8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قانون دوم نیوتن را در نظر بگیرید  :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M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CM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560" indent="-885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را به مولفه ه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جزیه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710240" y="4100400"/>
            <a:ext cx="1276560" cy="1141560"/>
            <a:chOff x="4710240" y="4100400"/>
            <a:chExt cx="1276560" cy="1141560"/>
          </a:xfrm>
        </p:grpSpPr>
        <p:sp>
          <p:nvSpPr>
            <p:cNvPr id="237" name=""/>
            <p:cNvSpPr/>
            <p:nvPr/>
          </p:nvSpPr>
          <p:spPr>
            <a:xfrm rot="19380000">
              <a:off x="4676400" y="4570200"/>
              <a:ext cx="1359000" cy="29196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 rot="19380000">
              <a:off x="4668840" y="4395600"/>
              <a:ext cx="1054080" cy="215280"/>
            </a:xfrm>
            <a:custGeom>
              <a:avLst/>
              <a:gdLst>
                <a:gd name="textAreaLeft" fmla="*/ 231840 w 1054080"/>
                <a:gd name="textAreaRight" fmla="*/ 822240 w 1054080"/>
                <a:gd name="textAreaTop" fmla="*/ 47160 h 215280"/>
                <a:gd name="textAreaBottom" fmla="*/ 16812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9380000">
              <a:off x="5059440" y="4876560"/>
              <a:ext cx="291960" cy="291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9380000">
              <a:off x="5606640" y="4463640"/>
              <a:ext cx="292320" cy="29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rot="16200000">
            <a:off x="4502160" y="3511080"/>
            <a:ext cx="2120760" cy="2882880"/>
          </a:xfrm>
          <a:prstGeom prst="rtTriangle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309360" y="3278160"/>
            <a:ext cx="1756080" cy="490320"/>
            <a:chOff x="6309360" y="3278160"/>
            <a:chExt cx="1756080" cy="490320"/>
          </a:xfrm>
        </p:grpSpPr>
        <p:grpSp>
          <p:nvGrpSpPr>
            <p:cNvPr id="243" name=""/>
            <p:cNvGrpSpPr/>
            <p:nvPr/>
          </p:nvGrpSpPr>
          <p:grpSpPr>
            <a:xfrm>
              <a:off x="6807240" y="3343320"/>
              <a:ext cx="701640" cy="425160"/>
              <a:chOff x="6807240" y="3343320"/>
              <a:chExt cx="701640" cy="42516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7118280" y="3455640"/>
                <a:ext cx="390600" cy="3128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6807240" y="3343320"/>
                <a:ext cx="311040" cy="4176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184160" y="32781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09360" y="33004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380840" y="5607000"/>
            <a:ext cx="88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4660920"/>
            <a:ext cx="0" cy="10414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721040" y="3854160"/>
            <a:ext cx="510840" cy="711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70520" y="4359240"/>
            <a:ext cx="484200" cy="3873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00040" y="3997440"/>
            <a:ext cx="10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23960" y="544500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28480" y="44164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46080" y="1684440"/>
            <a:ext cx="1174680" cy="60300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35240" y="1854360"/>
            <a:ext cx="272880" cy="253800"/>
          </a:xfrm>
          <a:prstGeom prst="rightArrow">
            <a:avLst>
              <a:gd name="adj1" fmla="val 50000"/>
              <a:gd name="adj2" fmla="val 5376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39760" y="1828800"/>
                <a:ext cx="8748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359000" y="3321000"/>
            <a:ext cx="272880" cy="254160"/>
          </a:xfrm>
          <a:prstGeom prst="rightArrow">
            <a:avLst>
              <a:gd name="adj1" fmla="val 50000"/>
              <a:gd name="adj2" fmla="val 53687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03240" y="3213000"/>
            <a:ext cx="1683000" cy="520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3400" y="2570040"/>
            <a:ext cx="322632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- mg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= mg sin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8080" y="4840200"/>
            <a:ext cx="272880" cy="254160"/>
          </a:xfrm>
          <a:prstGeom prst="rightArrow">
            <a:avLst>
              <a:gd name="adj1" fmla="val 50000"/>
              <a:gd name="adj2" fmla="val 53687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92160" y="4699080"/>
            <a:ext cx="1683000" cy="520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3040" y="4038480"/>
            <a:ext cx="341820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- mg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 = mg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برد گشتا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خته ای به جر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وسیله دو طناب آویزان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ش هر طناب را حساب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15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4440" y="3816360"/>
            <a:ext cx="372132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54440" y="4343400"/>
            <a:ext cx="18925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61880" y="43974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9560" y="4343400"/>
            <a:ext cx="8254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23920" y="45403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09960" y="3816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384480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 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97000" y="3103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38760" y="3103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648320" y="3263400"/>
            <a:ext cx="0" cy="559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391520" y="3035160"/>
            <a:ext cx="0" cy="787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24640" y="4051440"/>
            <a:ext cx="0" cy="1269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04800" y="53499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319160" y="5083200"/>
            <a:ext cx="1338480" cy="1049040"/>
            <a:chOff x="7319160" y="5083200"/>
            <a:chExt cx="1338480" cy="1049040"/>
          </a:xfrm>
        </p:grpSpPr>
        <p:sp>
          <p:nvSpPr>
            <p:cNvPr id="284" name=""/>
            <p:cNvSpPr/>
            <p:nvPr/>
          </p:nvSpPr>
          <p:spPr>
            <a:xfrm flipV="1">
              <a:off x="7848720" y="5327280"/>
              <a:ext cx="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54840" y="579132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9160" y="5083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76360" y="5769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54200" y="3025800"/>
            <a:ext cx="2414520" cy="1573200"/>
            <a:chOff x="754200" y="3025800"/>
            <a:chExt cx="2414520" cy="1573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2293920" y="3048120"/>
                  <a:ext cx="8748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754200" y="3025800"/>
              <a:ext cx="2117160" cy="15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+ T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8000" y="4321080"/>
            <a:ext cx="4737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این معادله نمی توان مسئله را حل ک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عادله و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جهول داریم!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به معلومات بیشتری نیاز است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برد گشتا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طلاعات بیشتری دراین مورد داری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 تخته نمی چرخ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36840" y="3060720"/>
            <a:ext cx="1269720" cy="73656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5000" y="4702320"/>
            <a:ext cx="4313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ند کلیه گشتاورها صفر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ین درمورد هر محور که انتخاب کنی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ست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54440" y="3816360"/>
            <a:ext cx="372132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54440" y="4343400"/>
            <a:ext cx="18925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61880" y="43974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9560" y="4343400"/>
            <a:ext cx="8254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23920" y="45403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09960" y="3816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4720" y="384480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 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97000" y="3103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38760" y="3103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648320" y="3263400"/>
            <a:ext cx="0" cy="559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3035160"/>
            <a:ext cx="0" cy="787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24640" y="4051440"/>
            <a:ext cx="0" cy="1269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04800" y="53499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319160" y="5083200"/>
            <a:ext cx="1338480" cy="1049040"/>
            <a:chOff x="7319160" y="5083200"/>
            <a:chExt cx="1338480" cy="1049040"/>
          </a:xfrm>
        </p:grpSpPr>
        <p:sp>
          <p:nvSpPr>
            <p:cNvPr id="314" name=""/>
            <p:cNvSpPr/>
            <p:nvPr/>
          </p:nvSpPr>
          <p:spPr>
            <a:xfrm flipV="1">
              <a:off x="7848720" y="5327280"/>
              <a:ext cx="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54840" y="579132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19160" y="5083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6360" y="5769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68320" y="3252960"/>
                <a:ext cx="836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برد گشتا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حور چرخش را محو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از مرکز جرم گذشته و به طرف خارج صفحه انتخاب کنی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54440" y="3816360"/>
            <a:ext cx="372132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54440" y="4343400"/>
            <a:ext cx="18925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61880" y="43974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9560" y="4343400"/>
            <a:ext cx="8254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23920" y="45403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09960" y="3816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84720" y="384480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 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0" y="270972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8760" y="3103560"/>
            <a:ext cx="99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648320" y="3263400"/>
            <a:ext cx="0" cy="559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391520" y="3035160"/>
            <a:ext cx="0" cy="787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24640" y="4051440"/>
            <a:ext cx="0" cy="1269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04800" y="534996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319160" y="5083200"/>
            <a:ext cx="1338480" cy="1049040"/>
            <a:chOff x="7319160" y="5083200"/>
            <a:chExt cx="1338480" cy="1049040"/>
          </a:xfrm>
        </p:grpSpPr>
        <p:sp>
          <p:nvSpPr>
            <p:cNvPr id="339" name=""/>
            <p:cNvSpPr/>
            <p:nvPr/>
          </p:nvSpPr>
          <p:spPr>
            <a:xfrm flipV="1">
              <a:off x="7848720" y="5327280"/>
              <a:ext cx="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54840" y="579132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9160" y="5083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76360" y="57690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-65160" y="2722680"/>
            <a:ext cx="6194520" cy="1444320"/>
            <a:chOff x="-65160" y="2722680"/>
            <a:chExt cx="6194520" cy="144432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139840" y="3487680"/>
                  <a:ext cx="153180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"/>
            <p:cNvSpPr/>
            <p:nvPr/>
          </p:nvSpPr>
          <p:spPr>
            <a:xfrm>
              <a:off x="-65160" y="2722680"/>
              <a:ext cx="619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گشتاو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ناشی از طناب سمت راست حول این محو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6240" y="4854600"/>
            <a:ext cx="5532120" cy="1535040"/>
            <a:chOff x="66240" y="4854600"/>
            <a:chExt cx="5532120" cy="153504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1886040" y="5467320"/>
                  <a:ext cx="1887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-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66240" y="4854600"/>
              <a:ext cx="553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23920" indent="-22392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گشتاور ناشی از طناب سمت چپ حول این محور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876760" y="5862600"/>
            <a:ext cx="446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جاذبه گشتاوری حول محور ایجاد نمی کند</a:t>
            </a:r>
            <a:r>
              <a:rPr b="0" lang="fa-IR" sz="2000" spc="-1" strike="noStrike">
                <a:solidFill>
                  <a:srgbClr val="00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8160" y="5781600"/>
            <a:ext cx="3672000" cy="520920"/>
          </a:xfrm>
          <a:prstGeom prst="flowChartProcess">
            <a:avLst/>
          </a:prstGeom>
          <a:noFill/>
          <a:ln w="381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کاربرد گشتاور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برایند کلیه گشتاورها باید صفر با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54440" y="3816360"/>
            <a:ext cx="3721320" cy="3682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54440" y="4343400"/>
            <a:ext cx="189252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61880" y="43974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59560" y="4343400"/>
            <a:ext cx="8254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23920" y="45403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2673360"/>
            <a:ext cx="0" cy="11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09960" y="381636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72360" y="3844800"/>
            <a:ext cx="785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4160" y="2371680"/>
            <a:ext cx="6834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96960" y="825480"/>
            <a:ext cx="542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درمورد تعادل این پرنده روی نکش فکر کنی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این تعادل چگونه برقرار شده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15200" y="5892840"/>
            <a:ext cx="1873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روی شکل کلیک کنی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41320" y="1639800"/>
            <a:ext cx="5562720" cy="379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944720" y="885960"/>
            <a:ext cx="5342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Arial"/>
              </a:rPr>
              <a:t>ویا تعادل این اس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15200" y="5892840"/>
            <a:ext cx="1873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rial"/>
                <a:cs typeface="Arial"/>
              </a:rPr>
              <a:t>روی شکل کلیک کنی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305080" y="1989000"/>
            <a:ext cx="5205240" cy="354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146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یستایی شناس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94320" indent="-9432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وپ به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نتهای میله ای به 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ویزان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سیستم در نقطه ای به فاصل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.2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نقطه ای که جرم به آن آویزان شده است درتعادل است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7360" indent="-7524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رم میله چقدر است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21040" y="3141720"/>
            <a:ext cx="5065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.5 k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1 k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2 k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4495680"/>
            <a:ext cx="304920" cy="99072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82840" y="4425840"/>
            <a:ext cx="74952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4496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07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92480" y="4807080"/>
            <a:ext cx="444240" cy="444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5486400"/>
            <a:ext cx="71625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51080" y="4853160"/>
            <a:ext cx="123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4114800"/>
            <a:ext cx="304812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07040" y="3938760"/>
            <a:ext cx="1180440" cy="366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146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کل حول محور باید صفر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495680"/>
            <a:ext cx="304920" cy="99072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21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82840" y="4425840"/>
            <a:ext cx="74952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4496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07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92480" y="4807080"/>
            <a:ext cx="444240" cy="444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5486400"/>
            <a:ext cx="71625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87440" y="4853160"/>
            <a:ext cx="123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63040" y="2130480"/>
            <a:ext cx="73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رکز جرم میله در مرکز آ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.25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راست محوراتکا قرار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25640" y="4122720"/>
            <a:ext cx="9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2760" y="4503600"/>
            <a:ext cx="232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Arial"/>
                <a:cs typeface="Arial"/>
              </a:rPr>
              <a:t>مرکز جرم میل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32240" y="4375080"/>
            <a:ext cx="30456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-194400" y="2900520"/>
            <a:ext cx="9875520" cy="3224160"/>
            <a:chOff x="-194400" y="2900520"/>
            <a:chExt cx="9875520" cy="3224160"/>
          </a:xfrm>
        </p:grpSpPr>
        <p:grpSp>
          <p:nvGrpSpPr>
            <p:cNvPr id="401" name=""/>
            <p:cNvGrpSpPr/>
            <p:nvPr/>
          </p:nvGrpSpPr>
          <p:grpSpPr>
            <a:xfrm>
              <a:off x="-194400" y="2900520"/>
              <a:ext cx="9875520" cy="3224160"/>
              <a:chOff x="-194400" y="2900520"/>
              <a:chExt cx="9875520" cy="3224160"/>
            </a:xfrm>
          </p:grpSpPr>
          <p:sp>
            <p:nvSpPr>
              <p:cNvPr id="402" name=""/>
              <p:cNvSpPr/>
              <p:nvPr/>
            </p:nvSpPr>
            <p:spPr>
              <a:xfrm>
                <a:off x="-194400" y="2900520"/>
                <a:ext cx="9875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 algn="r" rtl="1">
                  <a:lnSpc>
                    <a:spcPct val="90000"/>
                  </a:lnSpc>
                  <a:spcBef>
                    <a:spcPts val="1250"/>
                  </a:spcBef>
                  <a:buClr>
                    <a:srgbClr val="00ff00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برای تعادل با توپ که به همین فاصله سمت چپ محور قرارد ارد جرمها باید مساوی باشند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!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1933920" y="3738960"/>
                <a:ext cx="2297520" cy="2385720"/>
                <a:chOff x="1933920" y="3738960"/>
                <a:chExt cx="2297520" cy="2385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485800" y="414360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85800" y="4372200"/>
                  <a:ext cx="0" cy="17524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009680" y="4372200"/>
                  <a:ext cx="0" cy="17524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247920" y="414360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933920" y="3738960"/>
                  <a:ext cx="22975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a-IR" sz="2000" spc="-1" strike="noStrike">
                      <a:solidFill>
                        <a:srgbClr val="00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i="1" lang="fa-IR" sz="2000" spc="-1" strike="noStrike">
                      <a:solidFill>
                        <a:srgbClr val="00ffff"/>
                      </a:solidFill>
                      <a:latin typeface="Arial"/>
                      <a:cs typeface="Arial"/>
                    </a:rPr>
                    <a:t>فاصله مساوی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9" name=""/>
            <p:cNvSpPr/>
            <p:nvPr/>
          </p:nvSpPr>
          <p:spPr>
            <a:xfrm>
              <a:off x="5325120" y="3891240"/>
              <a:ext cx="20671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ROD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1 k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146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199800" indent="-19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سیستم نمی چرخد مختص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مرکز جرم  باید به یک فاصله از محور دوران قرار داشته 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4495680"/>
            <a:ext cx="304920" cy="99072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21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82840" y="4425840"/>
            <a:ext cx="74952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4496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07080" y="4425840"/>
            <a:ext cx="749160" cy="6372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92480" y="4807080"/>
            <a:ext cx="444240" cy="444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5486400"/>
            <a:ext cx="71625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8480" y="4840200"/>
            <a:ext cx="123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1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720" y="2338560"/>
            <a:ext cx="8505720" cy="2728800"/>
            <a:chOff x="144720" y="2338560"/>
            <a:chExt cx="8505720" cy="2728800"/>
          </a:xfrm>
        </p:grpSpPr>
        <p:grpSp>
          <p:nvGrpSpPr>
            <p:cNvPr id="422" name=""/>
            <p:cNvGrpSpPr/>
            <p:nvPr/>
          </p:nvGrpSpPr>
          <p:grpSpPr>
            <a:xfrm>
              <a:off x="144720" y="2338560"/>
              <a:ext cx="8505720" cy="2728800"/>
              <a:chOff x="144720" y="2338560"/>
              <a:chExt cx="8505720" cy="2728800"/>
            </a:xfrm>
          </p:grpSpPr>
          <p:sp>
            <p:nvSpPr>
              <p:cNvPr id="423" name=""/>
              <p:cNvSpPr/>
              <p:nvPr/>
            </p:nvSpPr>
            <p:spPr>
              <a:xfrm>
                <a:off x="144720" y="2338560"/>
                <a:ext cx="8505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 algn="r" rtl="1">
                  <a:lnSpc>
                    <a:spcPct val="90000"/>
                  </a:lnSpc>
                  <a:spcBef>
                    <a:spcPts val="1250"/>
                  </a:spcBef>
                  <a:buClr>
                    <a:srgbClr val="00ff00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مرکز جرم میله در مرکز آن بوده و به فاصله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0.25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راست محور قرارد ارد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.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84520" y="4319640"/>
                <a:ext cx="925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46040" y="4700520"/>
                <a:ext cx="2199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00ff00"/>
                    </a:solidFill>
                    <a:latin typeface="Arial"/>
                    <a:cs typeface="Arial"/>
                  </a:rPr>
                  <a:t>مکز جرم میله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191120" y="4571640"/>
                <a:ext cx="304560" cy="1522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354480" y="3938760"/>
              <a:ext cx="139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.25 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276720" y="6172200"/>
            <a:ext cx="114300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16960" y="599616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019920"/>
            <a:ext cx="0" cy="3045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03400" y="3024360"/>
            <a:ext cx="8811720" cy="1281240"/>
            <a:chOff x="203400" y="3024360"/>
            <a:chExt cx="8811720" cy="1281240"/>
          </a:xfrm>
        </p:grpSpPr>
        <p:grpSp>
          <p:nvGrpSpPr>
            <p:cNvPr id="432" name=""/>
            <p:cNvGrpSpPr/>
            <p:nvPr/>
          </p:nvGrpSpPr>
          <p:grpSpPr>
            <a:xfrm>
              <a:off x="203400" y="3024360"/>
              <a:ext cx="8811720" cy="1242360"/>
              <a:chOff x="203400" y="3024360"/>
              <a:chExt cx="8811720" cy="1242360"/>
            </a:xfrm>
          </p:grpSpPr>
          <p:sp>
            <p:nvSpPr>
              <p:cNvPr id="433" name=""/>
              <p:cNvSpPr/>
              <p:nvPr/>
            </p:nvSpPr>
            <p:spPr>
              <a:xfrm>
                <a:off x="203400" y="3024360"/>
                <a:ext cx="8811720" cy="83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 algn="r" rtl="1">
                  <a:lnSpc>
                    <a:spcPct val="90000"/>
                  </a:lnSpc>
                  <a:spcBef>
                    <a:spcPts val="1250"/>
                  </a:spcBef>
                  <a:buClr>
                    <a:srgbClr val="00ff00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چون مرکز جرم توپ در فاصله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0.25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سمت چپ محور قرار دارد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جرم میله باید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 rtl="1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kg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باشد تا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CM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 = 0</a:t>
                </a:r>
                <a:r>
                  <a:rPr b="0" i="1" lang="fa-IR" sz="20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شو</a:t>
                </a:r>
                <a:r>
                  <a:rPr b="0" i="1" lang="fa-IR" sz="2000" spc="-1" strike="noStrike">
                    <a:solidFill>
                      <a:srgbClr val="fafd00"/>
                    </a:solidFill>
                    <a:latin typeface="Arial"/>
                    <a:cs typeface="Arial"/>
                  </a:rPr>
                  <a:t>د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.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53920" y="3862440"/>
                <a:ext cx="206712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m</a:t>
                </a:r>
                <a:r>
                  <a:rPr b="0" i="1" lang="en-US" sz="2000" spc="-1" strike="noStrike" baseline="-25000">
                    <a:solidFill>
                      <a:srgbClr val="fafd00"/>
                    </a:solidFill>
                    <a:latin typeface="Arial"/>
                  </a:rPr>
                  <a:t>ROD</a:t>
                </a: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 = 1 k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753920" y="3938760"/>
              <a:ext cx="147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-.25 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لامپ آویز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امپی به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انتهای میله ای به جر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طو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i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ویزان شده است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انتها ی میله به دیوار قائمی لولا شده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انتهای دیگر آن به طناب بدون جرمی بسته شده است که زاو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له می سازد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(لولا نیرویی برای نگهداشتن میله وارد می 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شش طناب چقدر است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ولا چه نیروهایی به میله وارد می کن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223960" y="3733920"/>
            <a:ext cx="3808080" cy="2438280"/>
            <a:chOff x="5223960" y="3733920"/>
            <a:chExt cx="3808080" cy="2438280"/>
          </a:xfrm>
        </p:grpSpPr>
        <p:sp>
          <p:nvSpPr>
            <p:cNvPr id="441" name=""/>
            <p:cNvSpPr/>
            <p:nvPr/>
          </p:nvSpPr>
          <p:spPr>
            <a:xfrm>
              <a:off x="7848720" y="3733920"/>
              <a:ext cx="152280" cy="243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48720" y="3746520"/>
              <a:ext cx="0" cy="24130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721480" y="3803760"/>
              <a:ext cx="2120760" cy="1155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92880" y="5645160"/>
              <a:ext cx="444240" cy="5205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4959360"/>
              <a:ext cx="0" cy="673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21480" y="4959360"/>
              <a:ext cx="2120760" cy="2350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85000" y="5013360"/>
              <a:ext cx="127080" cy="127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55760" y="526104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hi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23960" y="574992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95640" y="491184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21480" y="5410080"/>
              <a:ext cx="20444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28800" y="54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0920" y="4606920"/>
              <a:ext cx="101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87560" y="294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لامپ آویز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06120" y="139968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68400" indent="-684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در راستا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ویس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87720" y="2981160"/>
            <a:ext cx="2955960" cy="3441600"/>
            <a:chOff x="387720" y="2981160"/>
            <a:chExt cx="2955960" cy="3441600"/>
          </a:xfrm>
        </p:grpSpPr>
        <p:sp>
          <p:nvSpPr>
            <p:cNvPr id="459" name=""/>
            <p:cNvSpPr/>
            <p:nvPr/>
          </p:nvSpPr>
          <p:spPr>
            <a:xfrm flipV="1">
              <a:off x="838080" y="4019760"/>
              <a:ext cx="1634040" cy="97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2040" y="5570280"/>
              <a:ext cx="342000" cy="4381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33040" y="4992840"/>
              <a:ext cx="0" cy="56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8080" y="4992840"/>
              <a:ext cx="1634040" cy="19764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28200" y="5038200"/>
              <a:ext cx="97920" cy="106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7720" y="56595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4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7640" y="49528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59960" y="5372280"/>
              <a:ext cx="8121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92280" y="54180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87120" y="4697280"/>
              <a:ext cx="101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55640" y="5094360"/>
              <a:ext cx="3913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477160" y="4527000"/>
              <a:ext cx="0" cy="4705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60520" y="5161320"/>
              <a:ext cx="98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86280" y="4582440"/>
              <a:ext cx="983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842760" y="4398840"/>
              <a:ext cx="978480" cy="598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4160" y="426456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54920" y="5126400"/>
              <a:ext cx="0" cy="555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5372280"/>
              <a:ext cx="8121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0400" y="54180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3040" y="5960880"/>
              <a:ext cx="0" cy="3632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240" y="605952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81520" y="573876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062440" y="2981160"/>
              <a:ext cx="1233360" cy="941760"/>
              <a:chOff x="2062440" y="2981160"/>
              <a:chExt cx="1233360" cy="941760"/>
            </a:xfrm>
          </p:grpSpPr>
          <p:sp>
            <p:nvSpPr>
              <p:cNvPr id="482" name=""/>
              <p:cNvSpPr/>
              <p:nvPr/>
            </p:nvSpPr>
            <p:spPr>
              <a:xfrm flipV="1">
                <a:off x="2535840" y="3185640"/>
                <a:ext cx="0" cy="3952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40880" y="3575880"/>
                <a:ext cx="34236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62440" y="29811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14520" y="35596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430960" y="1355760"/>
                <a:ext cx="15476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2615040" y="1411200"/>
            <a:ext cx="48106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co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sin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- 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248520" y="2585880"/>
                <a:ext cx="1679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2013480" y="2695680"/>
            <a:ext cx="71733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در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نوبس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می کنیم که محورچرخش از لولا می گذرددراین صور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معادله گشتاور وارد نمی شو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202280" y="4327560"/>
                <a:ext cx="2662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g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-LTsi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3432240" y="561960"/>
            <a:ext cx="2392200" cy="592200"/>
          </a:xfrm>
          <a:prstGeom prst="flowChartProcess">
            <a:avLst/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لامپ آویزان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لذا سه معادله و سه مجهول داری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 sin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- mg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721480" y="3575160"/>
            <a:ext cx="2120760" cy="115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92880" y="5416560"/>
            <a:ext cx="444240" cy="520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473076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21480" y="4730760"/>
            <a:ext cx="2120760" cy="235080"/>
          </a:xfrm>
          <a:prstGeom prst="rect">
            <a:avLst/>
          </a:prstGeom>
          <a:solidFill>
            <a:srgbClr val="f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85000" y="4784760"/>
            <a:ext cx="127080" cy="127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23960" y="552132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95640" y="4683240"/>
            <a:ext cx="96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8160" y="5181480"/>
            <a:ext cx="10540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85640" y="523548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10920" y="4378320"/>
            <a:ext cx="101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950240" y="4851360"/>
            <a:ext cx="5079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848720" y="4177800"/>
            <a:ext cx="0" cy="559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781040" y="4930920"/>
            <a:ext cx="983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52440" y="4245120"/>
            <a:ext cx="983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727600" y="4025880"/>
            <a:ext cx="1270080" cy="711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00560" y="3863880"/>
            <a:ext cx="90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4889520"/>
            <a:ext cx="0" cy="6602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1480" y="5181480"/>
            <a:ext cx="1054080" cy="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18960" y="523548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5880240"/>
            <a:ext cx="0" cy="431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4040" y="599760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52480" y="561672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395480" y="2341440"/>
            <a:ext cx="1338480" cy="1049040"/>
            <a:chOff x="7395480" y="2341440"/>
            <a:chExt cx="1338480" cy="1049040"/>
          </a:xfrm>
        </p:grpSpPr>
        <p:sp>
          <p:nvSpPr>
            <p:cNvPr id="519" name=""/>
            <p:cNvSpPr/>
            <p:nvPr/>
          </p:nvSpPr>
          <p:spPr>
            <a:xfrm flipV="1">
              <a:off x="7924680" y="2584080"/>
              <a:ext cx="0" cy="46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31160" y="3048120"/>
              <a:ext cx="444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5480" y="23414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52680" y="30272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488960" y="2879640"/>
                <a:ext cx="2660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g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-LTsi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649240" y="3417840"/>
            <a:ext cx="245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حل آنها داریم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760400" y="4006800"/>
                <a:ext cx="17877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717560" y="4811760"/>
                <a:ext cx="2216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746360" y="5619600"/>
                <a:ext cx="20080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1454040" y="3892680"/>
            <a:ext cx="2502000" cy="2501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05520" y="55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مسئله : ایستایی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2000"/>
          </a:bodyPr>
          <a:p>
            <a:pPr marL="91440" indent="-914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جعبه ای مطابق شکل زیر روی یک سطح شیبدار قرار دارد و مرکز جرم آن به وسیله یک نقطه در شکل زیر مشخص شده است . نیروی اصطکاک سبب می شود که جعبه نلغز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00880" indent="-73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کدام حالت جعبه ممکن است واژگون شود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44720" y="3179880"/>
            <a:ext cx="54468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all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2 &amp; 3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on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098720" y="5351400"/>
            <a:ext cx="2387520" cy="9414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260000">
            <a:off x="2003040" y="4908600"/>
            <a:ext cx="552600" cy="8748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260000">
            <a:off x="2214360" y="5613120"/>
            <a:ext cx="7596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40800" y="543708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76680" y="5364000"/>
            <a:ext cx="2387520" cy="941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12060000">
            <a:off x="4573080" y="4919040"/>
            <a:ext cx="552600" cy="8744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2060000">
            <a:off x="4749480" y="5011200"/>
            <a:ext cx="74520" cy="7488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18760" y="54500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16480" y="5376960"/>
            <a:ext cx="2387880" cy="941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2060000">
            <a:off x="7114680" y="4930200"/>
            <a:ext cx="552600" cy="8744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2060000">
            <a:off x="7602120" y="5122440"/>
            <a:ext cx="9360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46320" y="5373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45320" cy="196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دیم گشتاور نیروی جاذبه چنان عمل می کند گویی که تمام جرم جسم در مرکز جرم آن قرا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098720" y="5351400"/>
            <a:ext cx="2387520" cy="9414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6680" y="5364000"/>
            <a:ext cx="2387520" cy="941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16480" y="5376960"/>
            <a:ext cx="2387880" cy="941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47840" y="4076640"/>
            <a:ext cx="0" cy="259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8000" y="4051440"/>
            <a:ext cx="0" cy="259056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56480" y="4064040"/>
            <a:ext cx="0" cy="259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429560" y="2378160"/>
            <a:ext cx="7766280" cy="3537000"/>
            <a:chOff x="1429560" y="2378160"/>
            <a:chExt cx="7766280" cy="3537000"/>
          </a:xfrm>
        </p:grpSpPr>
        <p:sp>
          <p:nvSpPr>
            <p:cNvPr id="554" name=""/>
            <p:cNvSpPr/>
            <p:nvPr/>
          </p:nvSpPr>
          <p:spPr>
            <a:xfrm>
              <a:off x="1429560" y="2378160"/>
              <a:ext cx="7766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85840" indent="-285840" algn="r" rtl="1">
                <a:lnSpc>
                  <a:spcPct val="90000"/>
                </a:lnSpc>
                <a:spcBef>
                  <a:spcPts val="1250"/>
                </a:spcBef>
                <a:buClr>
                  <a:srgbClr val="00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ffffff"/>
                  </a:solidFill>
                  <a:latin typeface="Arial"/>
                  <a:cs typeface="Arial"/>
                </a:rPr>
                <a:t>فرض کنید که گوشه سمت راست وپایین جعبه مانند یک محور عمل کند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43560" y="5813640"/>
              <a:ext cx="73080" cy="73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15040" y="5828040"/>
              <a:ext cx="73080" cy="73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767800" y="5842080"/>
              <a:ext cx="73080" cy="73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-463320" y="2832120"/>
            <a:ext cx="987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عبه به تواند به گونه ای دوران کند که مرکز جرم آن پایین بیاید جعبه واژگون خواهد 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260000">
            <a:off x="2003040" y="4908600"/>
            <a:ext cx="552600" cy="8748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260000">
            <a:off x="2214360" y="5613120"/>
            <a:ext cx="7596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440800" y="543708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2060000">
            <a:off x="4573080" y="4919040"/>
            <a:ext cx="552600" cy="8744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2060000">
            <a:off x="4749480" y="5011200"/>
            <a:ext cx="74520" cy="7488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18760" y="54500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2060000">
            <a:off x="7114680" y="4930200"/>
            <a:ext cx="552600" cy="8744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2060000">
            <a:off x="7602120" y="5122440"/>
            <a:ext cx="9360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46320" y="537372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928800"/>
            <a:ext cx="6229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afd00"/>
                </a:solidFill>
                <a:latin typeface="Tahoma"/>
                <a:cs typeface="Tahoma"/>
              </a:rPr>
              <a:t>هدفهای کلی درس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ff00"/>
                </a:solidFill>
                <a:latin typeface="Tahoma"/>
                <a:cs typeface="Tahoma"/>
              </a:rPr>
              <a:t>آشنایی با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فیزیک ، مفهوم، مدل ، قانون ونظری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بردارها: ضرب نرده ای وبردار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 نواع حرکت: یک بعدی و دوبعد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سقوطی آزاد و دایره ا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رکت نسب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ذره : قوانین نیوتن و اصطکا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مفاهیم کار ، انرژی وتوا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پایستگی انرژِ ی : نیروهای پایستارو غیر پایستا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انرژی جنبشی و پتانسی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تکانه خطی و قانون پایستگی تکانه خط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سیستم ذرات : مرکز جرم ، حرکت مرکز جر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وران جسم صلب حول محورثابت : سینماتیک دوران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دینامیک دورانی :تکانه زاویه ای و پایستگی آ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گرانش : قانون گرانش نیوت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حل مسائل فیزیک مکانی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afd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ادامه 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41120" y="1676520"/>
            <a:ext cx="7645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199800" indent="-19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یدیم گشتاور نیروی جاذبه چنان عمل می کند گویی که تمام جرم جسم در مرکز جرم آن قرار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40520" y="2235240"/>
            <a:ext cx="776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گوشه سمت راست وپایین جعبه مانند یک محور عمل ک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280800" y="2676600"/>
            <a:ext cx="9875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عبه به تواند به گونه ای دوران کند که مرکز جرم آن پایین بیاید جعبه واژگون خواهد 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98720" y="5351400"/>
            <a:ext cx="2387520" cy="9414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676680" y="5364000"/>
            <a:ext cx="2387520" cy="941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16480" y="5376960"/>
            <a:ext cx="2387880" cy="941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47840" y="4076640"/>
            <a:ext cx="0" cy="259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051440"/>
            <a:ext cx="0" cy="259056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66080" y="3878280"/>
            <a:ext cx="0" cy="259092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260000">
            <a:off x="2003040" y="4908600"/>
            <a:ext cx="552600" cy="8748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260000">
            <a:off x="2214360" y="5613120"/>
            <a:ext cx="7596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40800" y="543708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2060000">
            <a:off x="4573080" y="4919040"/>
            <a:ext cx="552600" cy="8744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2060000">
            <a:off x="4749480" y="5011200"/>
            <a:ext cx="74520" cy="7488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18760" y="5450040"/>
            <a:ext cx="8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3554000">
            <a:off x="7297920" y="4918320"/>
            <a:ext cx="552600" cy="8748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3505400">
            <a:off x="7910280" y="5182920"/>
            <a:ext cx="93600" cy="74520"/>
          </a:xfrm>
          <a:prstGeom prst="ellipse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00840" y="5248440"/>
            <a:ext cx="8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539720" y="4627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نردبان و دیوار صاف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حم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ه جرم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 نردبانی به طو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جرم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دیوارصافی تکیه داده شده است و بین دیوارو نردبان اصطکاکی وجود ندارد بالا می رو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یروی اصطکا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کف زمین وجو د دارد  و مانع لغزش آن می ش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اویه بین دیوار و نردب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fa-IR" sz="2000" spc="-1" strike="noStrike">
                <a:solidFill>
                  <a:srgbClr val="ffffff"/>
                </a:solidFill>
                <a:latin typeface="Symbol"/>
                <a:cs typeface="Symbol"/>
              </a:rPr>
              <a:t>است</a:t>
            </a:r>
            <a:r>
              <a:rPr b="0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زرگ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حسب فاصله ای که احمد بالا می رود چگونه است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728600" y="2368440"/>
            <a:ext cx="3628800" cy="3763800"/>
            <a:chOff x="4728600" y="2368440"/>
            <a:chExt cx="3628800" cy="3763800"/>
          </a:xfrm>
        </p:grpSpPr>
        <p:sp>
          <p:nvSpPr>
            <p:cNvPr id="592" name=""/>
            <p:cNvSpPr/>
            <p:nvPr/>
          </p:nvSpPr>
          <p:spPr>
            <a:xfrm>
              <a:off x="8077320" y="2368440"/>
              <a:ext cx="0" cy="356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937120" y="5943600"/>
              <a:ext cx="214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527520" y="2616120"/>
              <a:ext cx="1498680" cy="3301920"/>
            </a:xfrm>
            <a:prstGeom prst="line">
              <a:avLst/>
            </a:prstGeom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71800" y="302724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18320" y="5083200"/>
              <a:ext cx="126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2000" spc="-1" strike="noStrike">
                  <a:solidFill>
                    <a:srgbClr val="00ff00"/>
                  </a:solidFill>
                  <a:latin typeface="Arial"/>
                  <a:cs typeface="Arial"/>
                </a:rPr>
                <a:t>احم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19240" y="37702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29080" y="38163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342120" y="2511360"/>
              <a:ext cx="1455840" cy="3344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397480" y="5943600"/>
              <a:ext cx="11685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28600" y="5769000"/>
              <a:ext cx="978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F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6582960" y="3911760"/>
              <a:ext cx="668160" cy="1441800"/>
              <a:chOff x="6582960" y="3911760"/>
              <a:chExt cx="668160" cy="1441800"/>
            </a:xfrm>
          </p:grpSpPr>
          <p:sp>
            <p:nvSpPr>
              <p:cNvPr id="603" name=""/>
              <p:cNvSpPr/>
              <p:nvPr/>
            </p:nvSpPr>
            <p:spPr>
              <a:xfrm flipH="1">
                <a:off x="6812640" y="4218120"/>
                <a:ext cx="438120" cy="162000"/>
              </a:xfrm>
              <a:custGeom>
                <a:avLst/>
                <a:gdLst/>
                <a:ahLst/>
                <a:rect l="l" t="t" r="r" b="b"/>
                <a:pathLst>
                  <a:path w="337" h="145">
                    <a:moveTo>
                      <a:pt x="336" y="144"/>
                    </a:moveTo>
                    <a:lnTo>
                      <a:pt x="144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613200" y="3962520"/>
                <a:ext cx="301680" cy="260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675120" y="4232520"/>
                <a:ext cx="177840" cy="582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750720" y="4432320"/>
                <a:ext cx="500040" cy="109800"/>
              </a:xfrm>
              <a:custGeom>
                <a:avLst/>
                <a:gdLst/>
                <a:ahLst/>
                <a:rect l="l" t="t" r="r" b="b"/>
                <a:pathLst>
                  <a:path w="385" h="97">
                    <a:moveTo>
                      <a:pt x="384" y="0"/>
                    </a:moveTo>
                    <a:lnTo>
                      <a:pt x="192" y="96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rot="4683600">
                <a:off x="6509520" y="5017680"/>
                <a:ext cx="544680" cy="100080"/>
              </a:xfrm>
              <a:custGeom>
                <a:avLst/>
                <a:gdLst/>
                <a:ahLst/>
                <a:rect l="l" t="t" r="r" b="b"/>
                <a:pathLst>
                  <a:path w="481" h="97">
                    <a:moveTo>
                      <a:pt x="480" y="0"/>
                    </a:moveTo>
                    <a:lnTo>
                      <a:pt x="0" y="9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rot="5434200">
                <a:off x="6512040" y="4989240"/>
                <a:ext cx="608040" cy="118800"/>
              </a:xfrm>
              <a:custGeom>
                <a:avLst/>
                <a:gdLst/>
                <a:ahLst/>
                <a:rect l="l" t="t" r="r" b="b"/>
                <a:pathLst>
                  <a:path w="529" h="97">
                    <a:moveTo>
                      <a:pt x="528" y="96"/>
                    </a:move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6895080" y="4029120"/>
                <a:ext cx="55800" cy="10980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2" y="0"/>
                    </a:moveTo>
                    <a:lnTo>
                      <a:pt x="39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27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5" y="63"/>
                    </a:lnTo>
                    <a:lnTo>
                      <a:pt x="12" y="72"/>
                    </a:lnTo>
                    <a:lnTo>
                      <a:pt x="3" y="81"/>
                    </a:lnTo>
                    <a:lnTo>
                      <a:pt x="0" y="90"/>
                    </a:lnTo>
                    <a:lnTo>
                      <a:pt x="9" y="96"/>
                    </a:lnTo>
                    <a:lnTo>
                      <a:pt x="18" y="96"/>
                    </a:lnTo>
                    <a:lnTo>
                      <a:pt x="27" y="96"/>
                    </a:lnTo>
                    <a:lnTo>
                      <a:pt x="36" y="96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6803280" y="4024440"/>
                <a:ext cx="36360" cy="27000"/>
              </a:xfrm>
              <a:prstGeom prst="ellipse">
                <a:avLst/>
              </a:prstGeom>
              <a:solidFill>
                <a:srgbClr val="00004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780960" y="41133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54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4"/>
                    </a:lnTo>
                    <a:lnTo>
                      <a:pt x="63" y="48"/>
                    </a:lnTo>
                    <a:lnTo>
                      <a:pt x="69" y="39"/>
                    </a:lnTo>
                    <a:lnTo>
                      <a:pt x="75" y="30"/>
                    </a:lnTo>
                    <a:lnTo>
                      <a:pt x="78" y="21"/>
                    </a:lnTo>
                    <a:lnTo>
                      <a:pt x="81" y="9"/>
                    </a:lnTo>
                    <a:lnTo>
                      <a:pt x="81" y="0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582600" y="3911760"/>
                <a:ext cx="290520" cy="28080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6" y="72"/>
                    </a:moveTo>
                    <a:lnTo>
                      <a:pt x="9" y="81"/>
                    </a:lnTo>
                    <a:lnTo>
                      <a:pt x="9" y="72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99"/>
                    </a:lnTo>
                    <a:lnTo>
                      <a:pt x="6" y="84"/>
                    </a:lnTo>
                    <a:lnTo>
                      <a:pt x="24" y="78"/>
                    </a:lnTo>
                    <a:lnTo>
                      <a:pt x="45" y="54"/>
                    </a:lnTo>
                    <a:lnTo>
                      <a:pt x="51" y="45"/>
                    </a:lnTo>
                    <a:lnTo>
                      <a:pt x="45" y="72"/>
                    </a:lnTo>
                    <a:lnTo>
                      <a:pt x="45" y="54"/>
                    </a:lnTo>
                    <a:lnTo>
                      <a:pt x="51" y="24"/>
                    </a:lnTo>
                    <a:lnTo>
                      <a:pt x="54" y="0"/>
                    </a:lnTo>
                    <a:lnTo>
                      <a:pt x="15" y="42"/>
                    </a:lnTo>
                    <a:lnTo>
                      <a:pt x="9" y="60"/>
                    </a:lnTo>
                    <a:lnTo>
                      <a:pt x="6" y="30"/>
                    </a:lnTo>
                    <a:lnTo>
                      <a:pt x="6" y="45"/>
                    </a:lnTo>
                    <a:lnTo>
                      <a:pt x="6" y="75"/>
                    </a:lnTo>
                    <a:lnTo>
                      <a:pt x="6" y="93"/>
                    </a:lnTo>
                    <a:lnTo>
                      <a:pt x="45" y="69"/>
                    </a:lnTo>
                    <a:lnTo>
                      <a:pt x="69" y="33"/>
                    </a:lnTo>
                    <a:lnTo>
                      <a:pt x="51" y="69"/>
                    </a:lnTo>
                    <a:lnTo>
                      <a:pt x="48" y="42"/>
                    </a:lnTo>
                    <a:lnTo>
                      <a:pt x="51" y="33"/>
                    </a:lnTo>
                    <a:lnTo>
                      <a:pt x="33" y="63"/>
                    </a:lnTo>
                    <a:lnTo>
                      <a:pt x="54" y="30"/>
                    </a:lnTo>
                    <a:lnTo>
                      <a:pt x="60" y="54"/>
                    </a:lnTo>
                    <a:lnTo>
                      <a:pt x="60" y="84"/>
                    </a:lnTo>
                    <a:lnTo>
                      <a:pt x="75" y="66"/>
                    </a:lnTo>
                    <a:lnTo>
                      <a:pt x="81" y="42"/>
                    </a:lnTo>
                    <a:lnTo>
                      <a:pt x="75" y="72"/>
                    </a:lnTo>
                    <a:lnTo>
                      <a:pt x="93" y="48"/>
                    </a:lnTo>
                    <a:lnTo>
                      <a:pt x="99" y="30"/>
                    </a:lnTo>
                    <a:lnTo>
                      <a:pt x="99" y="54"/>
                    </a:lnTo>
                    <a:lnTo>
                      <a:pt x="93" y="72"/>
                    </a:lnTo>
                    <a:lnTo>
                      <a:pt x="111" y="54"/>
                    </a:lnTo>
                    <a:lnTo>
                      <a:pt x="129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44" y="42"/>
                    </a:lnTo>
                    <a:lnTo>
                      <a:pt x="150" y="24"/>
                    </a:lnTo>
                    <a:lnTo>
                      <a:pt x="132" y="54"/>
                    </a:lnTo>
                    <a:lnTo>
                      <a:pt x="126" y="72"/>
                    </a:lnTo>
                    <a:lnTo>
                      <a:pt x="129" y="42"/>
                    </a:lnTo>
                    <a:lnTo>
                      <a:pt x="105" y="75"/>
                    </a:lnTo>
                    <a:lnTo>
                      <a:pt x="81" y="93"/>
                    </a:lnTo>
                    <a:lnTo>
                      <a:pt x="105" y="63"/>
                    </a:lnTo>
                    <a:lnTo>
                      <a:pt x="105" y="81"/>
                    </a:lnTo>
                    <a:lnTo>
                      <a:pt x="102" y="99"/>
                    </a:lnTo>
                    <a:lnTo>
                      <a:pt x="126" y="78"/>
                    </a:lnTo>
                    <a:lnTo>
                      <a:pt x="102" y="108"/>
                    </a:lnTo>
                    <a:lnTo>
                      <a:pt x="84" y="126"/>
                    </a:lnTo>
                    <a:lnTo>
                      <a:pt x="120" y="78"/>
                    </a:lnTo>
                    <a:lnTo>
                      <a:pt x="123" y="60"/>
                    </a:lnTo>
                    <a:lnTo>
                      <a:pt x="105" y="96"/>
                    </a:lnTo>
                    <a:lnTo>
                      <a:pt x="99" y="114"/>
                    </a:lnTo>
                    <a:lnTo>
                      <a:pt x="138" y="87"/>
                    </a:lnTo>
                    <a:lnTo>
                      <a:pt x="123" y="108"/>
                    </a:lnTo>
                    <a:lnTo>
                      <a:pt x="144" y="78"/>
                    </a:lnTo>
                    <a:lnTo>
                      <a:pt x="129" y="108"/>
                    </a:lnTo>
                    <a:lnTo>
                      <a:pt x="132" y="87"/>
                    </a:lnTo>
                    <a:lnTo>
                      <a:pt x="156" y="57"/>
                    </a:lnTo>
                    <a:lnTo>
                      <a:pt x="144" y="84"/>
                    </a:lnTo>
                    <a:lnTo>
                      <a:pt x="120" y="114"/>
                    </a:lnTo>
                    <a:lnTo>
                      <a:pt x="135" y="96"/>
                    </a:lnTo>
                    <a:lnTo>
                      <a:pt x="141" y="78"/>
                    </a:lnTo>
                    <a:lnTo>
                      <a:pt x="144" y="93"/>
                    </a:lnTo>
                    <a:lnTo>
                      <a:pt x="141" y="111"/>
                    </a:lnTo>
                    <a:lnTo>
                      <a:pt x="177" y="93"/>
                    </a:lnTo>
                    <a:lnTo>
                      <a:pt x="195" y="75"/>
                    </a:lnTo>
                    <a:lnTo>
                      <a:pt x="174" y="102"/>
                    </a:lnTo>
                    <a:lnTo>
                      <a:pt x="156" y="132"/>
                    </a:lnTo>
                    <a:lnTo>
                      <a:pt x="171" y="108"/>
                    </a:lnTo>
                    <a:lnTo>
                      <a:pt x="195" y="78"/>
                    </a:lnTo>
                    <a:lnTo>
                      <a:pt x="150" y="108"/>
                    </a:lnTo>
                    <a:lnTo>
                      <a:pt x="126" y="144"/>
                    </a:lnTo>
                    <a:lnTo>
                      <a:pt x="162" y="66"/>
                    </a:lnTo>
                    <a:lnTo>
                      <a:pt x="168" y="30"/>
                    </a:lnTo>
                    <a:lnTo>
                      <a:pt x="165" y="66"/>
                    </a:lnTo>
                    <a:lnTo>
                      <a:pt x="162" y="84"/>
                    </a:lnTo>
                    <a:lnTo>
                      <a:pt x="174" y="78"/>
                    </a:lnTo>
                    <a:lnTo>
                      <a:pt x="168" y="102"/>
                    </a:lnTo>
                    <a:lnTo>
                      <a:pt x="132" y="144"/>
                    </a:lnTo>
                    <a:lnTo>
                      <a:pt x="150" y="141"/>
                    </a:lnTo>
                    <a:lnTo>
                      <a:pt x="168" y="111"/>
                    </a:lnTo>
                    <a:lnTo>
                      <a:pt x="138" y="162"/>
                    </a:lnTo>
                    <a:lnTo>
                      <a:pt x="183" y="93"/>
                    </a:lnTo>
                    <a:lnTo>
                      <a:pt x="153" y="141"/>
                    </a:lnTo>
                    <a:lnTo>
                      <a:pt x="147" y="159"/>
                    </a:lnTo>
                    <a:lnTo>
                      <a:pt x="174" y="135"/>
                    </a:lnTo>
                    <a:lnTo>
                      <a:pt x="192" y="105"/>
                    </a:lnTo>
                    <a:lnTo>
                      <a:pt x="162" y="156"/>
                    </a:lnTo>
                    <a:lnTo>
                      <a:pt x="159" y="180"/>
                    </a:lnTo>
                    <a:lnTo>
                      <a:pt x="195" y="138"/>
                    </a:lnTo>
                    <a:lnTo>
                      <a:pt x="159" y="186"/>
                    </a:lnTo>
                    <a:lnTo>
                      <a:pt x="153" y="210"/>
                    </a:lnTo>
                    <a:lnTo>
                      <a:pt x="183" y="186"/>
                    </a:lnTo>
                    <a:lnTo>
                      <a:pt x="159" y="219"/>
                    </a:lnTo>
                    <a:lnTo>
                      <a:pt x="186" y="195"/>
                    </a:lnTo>
                    <a:lnTo>
                      <a:pt x="168" y="219"/>
                    </a:lnTo>
                    <a:lnTo>
                      <a:pt x="189" y="207"/>
                    </a:lnTo>
                    <a:lnTo>
                      <a:pt x="189" y="219"/>
                    </a:lnTo>
                    <a:lnTo>
                      <a:pt x="171" y="249"/>
                    </a:lnTo>
                    <a:lnTo>
                      <a:pt x="186" y="234"/>
                    </a:lnTo>
                    <a:lnTo>
                      <a:pt x="204" y="210"/>
                    </a:lnTo>
                    <a:lnTo>
                      <a:pt x="186" y="237"/>
                    </a:lnTo>
                    <a:lnTo>
                      <a:pt x="198" y="210"/>
                    </a:lnTo>
                    <a:lnTo>
                      <a:pt x="216" y="180"/>
                    </a:lnTo>
                    <a:lnTo>
                      <a:pt x="222" y="141"/>
                    </a:lnTo>
                    <a:lnTo>
                      <a:pt x="201" y="165"/>
                    </a:lnTo>
                    <a:lnTo>
                      <a:pt x="165" y="201"/>
                    </a:lnTo>
                    <a:lnTo>
                      <a:pt x="180" y="174"/>
                    </a:lnTo>
                    <a:lnTo>
                      <a:pt x="198" y="138"/>
                    </a:lnTo>
                    <a:lnTo>
                      <a:pt x="201" y="114"/>
                    </a:lnTo>
                    <a:lnTo>
                      <a:pt x="195" y="132"/>
                    </a:lnTo>
                    <a:lnTo>
                      <a:pt x="171" y="168"/>
                    </a:lnTo>
                    <a:lnTo>
                      <a:pt x="174" y="153"/>
                    </a:lnTo>
                    <a:lnTo>
                      <a:pt x="204" y="87"/>
                    </a:lnTo>
                    <a:lnTo>
                      <a:pt x="207" y="57"/>
                    </a:lnTo>
                    <a:lnTo>
                      <a:pt x="201" y="75"/>
                    </a:lnTo>
                    <a:lnTo>
                      <a:pt x="177" y="111"/>
                    </a:lnTo>
                    <a:lnTo>
                      <a:pt x="198" y="72"/>
                    </a:lnTo>
                    <a:lnTo>
                      <a:pt x="201" y="54"/>
                    </a:lnTo>
                    <a:lnTo>
                      <a:pt x="174" y="78"/>
                    </a:lnTo>
                    <a:lnTo>
                      <a:pt x="156" y="96"/>
                    </a:lnTo>
                    <a:lnTo>
                      <a:pt x="159" y="72"/>
                    </a:lnTo>
                    <a:lnTo>
                      <a:pt x="165" y="48"/>
                    </a:lnTo>
                    <a:lnTo>
                      <a:pt x="135" y="72"/>
                    </a:lnTo>
                    <a:lnTo>
                      <a:pt x="135" y="60"/>
                    </a:lnTo>
                    <a:lnTo>
                      <a:pt x="138" y="42"/>
                    </a:lnTo>
                    <a:lnTo>
                      <a:pt x="102" y="63"/>
                    </a:lnTo>
                    <a:lnTo>
                      <a:pt x="108" y="39"/>
                    </a:lnTo>
                    <a:lnTo>
                      <a:pt x="90" y="39"/>
                    </a:lnTo>
                    <a:lnTo>
                      <a:pt x="72" y="45"/>
                    </a:lnTo>
                    <a:lnTo>
                      <a:pt x="75" y="36"/>
                    </a:lnTo>
                    <a:lnTo>
                      <a:pt x="69" y="45"/>
                    </a:lnTo>
                    <a:lnTo>
                      <a:pt x="48" y="63"/>
                    </a:lnTo>
                    <a:lnTo>
                      <a:pt x="48" y="51"/>
                    </a:lnTo>
                    <a:lnTo>
                      <a:pt x="39" y="57"/>
                    </a:lnTo>
                    <a:lnTo>
                      <a:pt x="75" y="60"/>
                    </a:lnTo>
                    <a:lnTo>
                      <a:pt x="117" y="42"/>
                    </a:lnTo>
                    <a:lnTo>
                      <a:pt x="135" y="39"/>
                    </a:lnTo>
                    <a:lnTo>
                      <a:pt x="141" y="48"/>
                    </a:lnTo>
                    <a:lnTo>
                      <a:pt x="141" y="72"/>
                    </a:lnTo>
                    <a:lnTo>
                      <a:pt x="150" y="57"/>
                    </a:lnTo>
                    <a:lnTo>
                      <a:pt x="147" y="93"/>
                    </a:lnTo>
                    <a:lnTo>
                      <a:pt x="141" y="129"/>
                    </a:lnTo>
                    <a:lnTo>
                      <a:pt x="168" y="123"/>
                    </a:lnTo>
                    <a:lnTo>
                      <a:pt x="165" y="147"/>
                    </a:lnTo>
                    <a:lnTo>
                      <a:pt x="159" y="171"/>
                    </a:lnTo>
                    <a:lnTo>
                      <a:pt x="177" y="168"/>
                    </a:lnTo>
                    <a:lnTo>
                      <a:pt x="171" y="198"/>
                    </a:lnTo>
                    <a:lnTo>
                      <a:pt x="186" y="195"/>
                    </a:lnTo>
                    <a:lnTo>
                      <a:pt x="186" y="204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نردبان و دیوار صاف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لیه نیروهای وارد را بکش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ذشته از نیروی جاذبه نیروها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ه به ترتیب به وسیله کف و دیوار وارد می شوند وجود دار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ی دانیم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NET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در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صادق اس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+ m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796000" y="1274760"/>
            <a:ext cx="3031200" cy="5199840"/>
            <a:chOff x="5796000" y="1274760"/>
            <a:chExt cx="3031200" cy="5199840"/>
          </a:xfrm>
        </p:grpSpPr>
        <p:sp>
          <p:nvSpPr>
            <p:cNvPr id="618" name=""/>
            <p:cNvSpPr/>
            <p:nvPr/>
          </p:nvSpPr>
          <p:spPr>
            <a:xfrm>
              <a:off x="8077320" y="2368440"/>
              <a:ext cx="0" cy="356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37120" y="5943600"/>
              <a:ext cx="214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527520" y="2616120"/>
              <a:ext cx="1498680" cy="3301920"/>
            </a:xfrm>
            <a:prstGeom prst="line">
              <a:avLst/>
            </a:prstGeom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71800" y="302724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33360" y="55404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375240" y="5287680"/>
              <a:ext cx="295560" cy="603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86000" y="52671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52440" y="29988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29080" y="38163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8840" y="5943600"/>
              <a:ext cx="431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6000" y="59976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9840" y="5423040"/>
              <a:ext cx="0" cy="43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108560" y="2611440"/>
              <a:ext cx="679320" cy="1568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38880" y="4356000"/>
              <a:ext cx="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8280" y="477828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89920" y="2590920"/>
              <a:ext cx="5079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83200" y="2722680"/>
              <a:ext cx="104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N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5956200"/>
              <a:ext cx="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55360" y="6073920"/>
              <a:ext cx="978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N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7395480" y="1274760"/>
              <a:ext cx="1338480" cy="1049040"/>
              <a:chOff x="7395480" y="1274760"/>
              <a:chExt cx="1338480" cy="104904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7924680" y="1517400"/>
                <a:ext cx="0" cy="469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31160" y="1981080"/>
                <a:ext cx="4446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95480" y="12747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52680" y="196056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6582960" y="3911760"/>
              <a:ext cx="668160" cy="1441800"/>
              <a:chOff x="6582960" y="3911760"/>
              <a:chExt cx="668160" cy="1441800"/>
            </a:xfrm>
          </p:grpSpPr>
          <p:sp>
            <p:nvSpPr>
              <p:cNvPr id="643" name=""/>
              <p:cNvSpPr/>
              <p:nvPr/>
            </p:nvSpPr>
            <p:spPr>
              <a:xfrm flipH="1">
                <a:off x="6812640" y="4218120"/>
                <a:ext cx="438120" cy="162000"/>
              </a:xfrm>
              <a:custGeom>
                <a:avLst/>
                <a:gdLst/>
                <a:ahLst/>
                <a:rect l="l" t="t" r="r" b="b"/>
                <a:pathLst>
                  <a:path w="337" h="145">
                    <a:moveTo>
                      <a:pt x="336" y="144"/>
                    </a:moveTo>
                    <a:lnTo>
                      <a:pt x="144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613200" y="3962520"/>
                <a:ext cx="301680" cy="260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675120" y="4232520"/>
                <a:ext cx="177840" cy="582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750720" y="4432320"/>
                <a:ext cx="500040" cy="109800"/>
              </a:xfrm>
              <a:custGeom>
                <a:avLst/>
                <a:gdLst/>
                <a:ahLst/>
                <a:rect l="l" t="t" r="r" b="b"/>
                <a:pathLst>
                  <a:path w="385" h="97">
                    <a:moveTo>
                      <a:pt x="384" y="0"/>
                    </a:moveTo>
                    <a:lnTo>
                      <a:pt x="192" y="96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4683600">
                <a:off x="6509520" y="5017680"/>
                <a:ext cx="544680" cy="100080"/>
              </a:xfrm>
              <a:custGeom>
                <a:avLst/>
                <a:gdLst/>
                <a:ahLst/>
                <a:rect l="l" t="t" r="r" b="b"/>
                <a:pathLst>
                  <a:path w="481" h="97">
                    <a:moveTo>
                      <a:pt x="480" y="0"/>
                    </a:moveTo>
                    <a:lnTo>
                      <a:pt x="0" y="9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rot="5434200">
                <a:off x="6512040" y="4989240"/>
                <a:ext cx="608040" cy="118800"/>
              </a:xfrm>
              <a:custGeom>
                <a:avLst/>
                <a:gdLst/>
                <a:ahLst/>
                <a:rect l="l" t="t" r="r" b="b"/>
                <a:pathLst>
                  <a:path w="529" h="97">
                    <a:moveTo>
                      <a:pt x="528" y="96"/>
                    </a:move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6895080" y="4029120"/>
                <a:ext cx="55800" cy="10980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2" y="0"/>
                    </a:moveTo>
                    <a:lnTo>
                      <a:pt x="39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27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5" y="63"/>
                    </a:lnTo>
                    <a:lnTo>
                      <a:pt x="12" y="72"/>
                    </a:lnTo>
                    <a:lnTo>
                      <a:pt x="3" y="81"/>
                    </a:lnTo>
                    <a:lnTo>
                      <a:pt x="0" y="90"/>
                    </a:lnTo>
                    <a:lnTo>
                      <a:pt x="9" y="96"/>
                    </a:lnTo>
                    <a:lnTo>
                      <a:pt x="18" y="96"/>
                    </a:lnTo>
                    <a:lnTo>
                      <a:pt x="27" y="96"/>
                    </a:lnTo>
                    <a:lnTo>
                      <a:pt x="36" y="96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6803280" y="4024440"/>
                <a:ext cx="36360" cy="27000"/>
              </a:xfrm>
              <a:prstGeom prst="ellipse">
                <a:avLst/>
              </a:prstGeom>
              <a:solidFill>
                <a:srgbClr val="00004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6780960" y="41133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54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4"/>
                    </a:lnTo>
                    <a:lnTo>
                      <a:pt x="63" y="48"/>
                    </a:lnTo>
                    <a:lnTo>
                      <a:pt x="69" y="39"/>
                    </a:lnTo>
                    <a:lnTo>
                      <a:pt x="75" y="30"/>
                    </a:lnTo>
                    <a:lnTo>
                      <a:pt x="78" y="21"/>
                    </a:lnTo>
                    <a:lnTo>
                      <a:pt x="81" y="9"/>
                    </a:lnTo>
                    <a:lnTo>
                      <a:pt x="81" y="0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6582600" y="3911760"/>
                <a:ext cx="290520" cy="28080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6" y="72"/>
                    </a:moveTo>
                    <a:lnTo>
                      <a:pt x="9" y="81"/>
                    </a:lnTo>
                    <a:lnTo>
                      <a:pt x="9" y="72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99"/>
                    </a:lnTo>
                    <a:lnTo>
                      <a:pt x="6" y="84"/>
                    </a:lnTo>
                    <a:lnTo>
                      <a:pt x="24" y="78"/>
                    </a:lnTo>
                    <a:lnTo>
                      <a:pt x="45" y="54"/>
                    </a:lnTo>
                    <a:lnTo>
                      <a:pt x="51" y="45"/>
                    </a:lnTo>
                    <a:lnTo>
                      <a:pt x="45" y="72"/>
                    </a:lnTo>
                    <a:lnTo>
                      <a:pt x="45" y="54"/>
                    </a:lnTo>
                    <a:lnTo>
                      <a:pt x="51" y="24"/>
                    </a:lnTo>
                    <a:lnTo>
                      <a:pt x="54" y="0"/>
                    </a:lnTo>
                    <a:lnTo>
                      <a:pt x="15" y="42"/>
                    </a:lnTo>
                    <a:lnTo>
                      <a:pt x="9" y="60"/>
                    </a:lnTo>
                    <a:lnTo>
                      <a:pt x="6" y="30"/>
                    </a:lnTo>
                    <a:lnTo>
                      <a:pt x="6" y="45"/>
                    </a:lnTo>
                    <a:lnTo>
                      <a:pt x="6" y="75"/>
                    </a:lnTo>
                    <a:lnTo>
                      <a:pt x="6" y="93"/>
                    </a:lnTo>
                    <a:lnTo>
                      <a:pt x="45" y="69"/>
                    </a:lnTo>
                    <a:lnTo>
                      <a:pt x="69" y="33"/>
                    </a:lnTo>
                    <a:lnTo>
                      <a:pt x="51" y="69"/>
                    </a:lnTo>
                    <a:lnTo>
                      <a:pt x="48" y="42"/>
                    </a:lnTo>
                    <a:lnTo>
                      <a:pt x="51" y="33"/>
                    </a:lnTo>
                    <a:lnTo>
                      <a:pt x="33" y="63"/>
                    </a:lnTo>
                    <a:lnTo>
                      <a:pt x="54" y="30"/>
                    </a:lnTo>
                    <a:lnTo>
                      <a:pt x="60" y="54"/>
                    </a:lnTo>
                    <a:lnTo>
                      <a:pt x="60" y="84"/>
                    </a:lnTo>
                    <a:lnTo>
                      <a:pt x="75" y="66"/>
                    </a:lnTo>
                    <a:lnTo>
                      <a:pt x="81" y="42"/>
                    </a:lnTo>
                    <a:lnTo>
                      <a:pt x="75" y="72"/>
                    </a:lnTo>
                    <a:lnTo>
                      <a:pt x="93" y="48"/>
                    </a:lnTo>
                    <a:lnTo>
                      <a:pt x="99" y="30"/>
                    </a:lnTo>
                    <a:lnTo>
                      <a:pt x="99" y="54"/>
                    </a:lnTo>
                    <a:lnTo>
                      <a:pt x="93" y="72"/>
                    </a:lnTo>
                    <a:lnTo>
                      <a:pt x="111" y="54"/>
                    </a:lnTo>
                    <a:lnTo>
                      <a:pt x="129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44" y="42"/>
                    </a:lnTo>
                    <a:lnTo>
                      <a:pt x="150" y="24"/>
                    </a:lnTo>
                    <a:lnTo>
                      <a:pt x="132" y="54"/>
                    </a:lnTo>
                    <a:lnTo>
                      <a:pt x="126" y="72"/>
                    </a:lnTo>
                    <a:lnTo>
                      <a:pt x="129" y="42"/>
                    </a:lnTo>
                    <a:lnTo>
                      <a:pt x="105" y="75"/>
                    </a:lnTo>
                    <a:lnTo>
                      <a:pt x="81" y="93"/>
                    </a:lnTo>
                    <a:lnTo>
                      <a:pt x="105" y="63"/>
                    </a:lnTo>
                    <a:lnTo>
                      <a:pt x="105" y="81"/>
                    </a:lnTo>
                    <a:lnTo>
                      <a:pt x="102" y="99"/>
                    </a:lnTo>
                    <a:lnTo>
                      <a:pt x="126" y="78"/>
                    </a:lnTo>
                    <a:lnTo>
                      <a:pt x="102" y="108"/>
                    </a:lnTo>
                    <a:lnTo>
                      <a:pt x="84" y="126"/>
                    </a:lnTo>
                    <a:lnTo>
                      <a:pt x="120" y="78"/>
                    </a:lnTo>
                    <a:lnTo>
                      <a:pt x="123" y="60"/>
                    </a:lnTo>
                    <a:lnTo>
                      <a:pt x="105" y="96"/>
                    </a:lnTo>
                    <a:lnTo>
                      <a:pt x="99" y="114"/>
                    </a:lnTo>
                    <a:lnTo>
                      <a:pt x="138" y="87"/>
                    </a:lnTo>
                    <a:lnTo>
                      <a:pt x="123" y="108"/>
                    </a:lnTo>
                    <a:lnTo>
                      <a:pt x="144" y="78"/>
                    </a:lnTo>
                    <a:lnTo>
                      <a:pt x="129" y="108"/>
                    </a:lnTo>
                    <a:lnTo>
                      <a:pt x="132" y="87"/>
                    </a:lnTo>
                    <a:lnTo>
                      <a:pt x="156" y="57"/>
                    </a:lnTo>
                    <a:lnTo>
                      <a:pt x="144" y="84"/>
                    </a:lnTo>
                    <a:lnTo>
                      <a:pt x="120" y="114"/>
                    </a:lnTo>
                    <a:lnTo>
                      <a:pt x="135" y="96"/>
                    </a:lnTo>
                    <a:lnTo>
                      <a:pt x="141" y="78"/>
                    </a:lnTo>
                    <a:lnTo>
                      <a:pt x="144" y="93"/>
                    </a:lnTo>
                    <a:lnTo>
                      <a:pt x="141" y="111"/>
                    </a:lnTo>
                    <a:lnTo>
                      <a:pt x="177" y="93"/>
                    </a:lnTo>
                    <a:lnTo>
                      <a:pt x="195" y="75"/>
                    </a:lnTo>
                    <a:lnTo>
                      <a:pt x="174" y="102"/>
                    </a:lnTo>
                    <a:lnTo>
                      <a:pt x="156" y="132"/>
                    </a:lnTo>
                    <a:lnTo>
                      <a:pt x="171" y="108"/>
                    </a:lnTo>
                    <a:lnTo>
                      <a:pt x="195" y="78"/>
                    </a:lnTo>
                    <a:lnTo>
                      <a:pt x="150" y="108"/>
                    </a:lnTo>
                    <a:lnTo>
                      <a:pt x="126" y="144"/>
                    </a:lnTo>
                    <a:lnTo>
                      <a:pt x="162" y="66"/>
                    </a:lnTo>
                    <a:lnTo>
                      <a:pt x="168" y="30"/>
                    </a:lnTo>
                    <a:lnTo>
                      <a:pt x="165" y="66"/>
                    </a:lnTo>
                    <a:lnTo>
                      <a:pt x="162" y="84"/>
                    </a:lnTo>
                    <a:lnTo>
                      <a:pt x="174" y="78"/>
                    </a:lnTo>
                    <a:lnTo>
                      <a:pt x="168" y="102"/>
                    </a:lnTo>
                    <a:lnTo>
                      <a:pt x="132" y="144"/>
                    </a:lnTo>
                    <a:lnTo>
                      <a:pt x="150" y="141"/>
                    </a:lnTo>
                    <a:lnTo>
                      <a:pt x="168" y="111"/>
                    </a:lnTo>
                    <a:lnTo>
                      <a:pt x="138" y="162"/>
                    </a:lnTo>
                    <a:lnTo>
                      <a:pt x="183" y="93"/>
                    </a:lnTo>
                    <a:lnTo>
                      <a:pt x="153" y="141"/>
                    </a:lnTo>
                    <a:lnTo>
                      <a:pt x="147" y="159"/>
                    </a:lnTo>
                    <a:lnTo>
                      <a:pt x="174" y="135"/>
                    </a:lnTo>
                    <a:lnTo>
                      <a:pt x="192" y="105"/>
                    </a:lnTo>
                    <a:lnTo>
                      <a:pt x="162" y="156"/>
                    </a:lnTo>
                    <a:lnTo>
                      <a:pt x="159" y="180"/>
                    </a:lnTo>
                    <a:lnTo>
                      <a:pt x="195" y="138"/>
                    </a:lnTo>
                    <a:lnTo>
                      <a:pt x="159" y="186"/>
                    </a:lnTo>
                    <a:lnTo>
                      <a:pt x="153" y="210"/>
                    </a:lnTo>
                    <a:lnTo>
                      <a:pt x="183" y="186"/>
                    </a:lnTo>
                    <a:lnTo>
                      <a:pt x="159" y="219"/>
                    </a:lnTo>
                    <a:lnTo>
                      <a:pt x="186" y="195"/>
                    </a:lnTo>
                    <a:lnTo>
                      <a:pt x="168" y="219"/>
                    </a:lnTo>
                    <a:lnTo>
                      <a:pt x="189" y="207"/>
                    </a:lnTo>
                    <a:lnTo>
                      <a:pt x="189" y="219"/>
                    </a:lnTo>
                    <a:lnTo>
                      <a:pt x="171" y="249"/>
                    </a:lnTo>
                    <a:lnTo>
                      <a:pt x="186" y="234"/>
                    </a:lnTo>
                    <a:lnTo>
                      <a:pt x="204" y="210"/>
                    </a:lnTo>
                    <a:lnTo>
                      <a:pt x="186" y="237"/>
                    </a:lnTo>
                    <a:lnTo>
                      <a:pt x="198" y="210"/>
                    </a:lnTo>
                    <a:lnTo>
                      <a:pt x="216" y="180"/>
                    </a:lnTo>
                    <a:lnTo>
                      <a:pt x="222" y="141"/>
                    </a:lnTo>
                    <a:lnTo>
                      <a:pt x="201" y="165"/>
                    </a:lnTo>
                    <a:lnTo>
                      <a:pt x="165" y="201"/>
                    </a:lnTo>
                    <a:lnTo>
                      <a:pt x="180" y="174"/>
                    </a:lnTo>
                    <a:lnTo>
                      <a:pt x="198" y="138"/>
                    </a:lnTo>
                    <a:lnTo>
                      <a:pt x="201" y="114"/>
                    </a:lnTo>
                    <a:lnTo>
                      <a:pt x="195" y="132"/>
                    </a:lnTo>
                    <a:lnTo>
                      <a:pt x="171" y="168"/>
                    </a:lnTo>
                    <a:lnTo>
                      <a:pt x="174" y="153"/>
                    </a:lnTo>
                    <a:lnTo>
                      <a:pt x="204" y="87"/>
                    </a:lnTo>
                    <a:lnTo>
                      <a:pt x="207" y="57"/>
                    </a:lnTo>
                    <a:lnTo>
                      <a:pt x="201" y="75"/>
                    </a:lnTo>
                    <a:lnTo>
                      <a:pt x="177" y="111"/>
                    </a:lnTo>
                    <a:lnTo>
                      <a:pt x="198" y="72"/>
                    </a:lnTo>
                    <a:lnTo>
                      <a:pt x="201" y="54"/>
                    </a:lnTo>
                    <a:lnTo>
                      <a:pt x="174" y="78"/>
                    </a:lnTo>
                    <a:lnTo>
                      <a:pt x="156" y="96"/>
                    </a:lnTo>
                    <a:lnTo>
                      <a:pt x="159" y="72"/>
                    </a:lnTo>
                    <a:lnTo>
                      <a:pt x="165" y="48"/>
                    </a:lnTo>
                    <a:lnTo>
                      <a:pt x="135" y="72"/>
                    </a:lnTo>
                    <a:lnTo>
                      <a:pt x="135" y="60"/>
                    </a:lnTo>
                    <a:lnTo>
                      <a:pt x="138" y="42"/>
                    </a:lnTo>
                    <a:lnTo>
                      <a:pt x="102" y="63"/>
                    </a:lnTo>
                    <a:lnTo>
                      <a:pt x="108" y="39"/>
                    </a:lnTo>
                    <a:lnTo>
                      <a:pt x="90" y="39"/>
                    </a:lnTo>
                    <a:lnTo>
                      <a:pt x="72" y="45"/>
                    </a:lnTo>
                    <a:lnTo>
                      <a:pt x="75" y="36"/>
                    </a:lnTo>
                    <a:lnTo>
                      <a:pt x="69" y="45"/>
                    </a:lnTo>
                    <a:lnTo>
                      <a:pt x="48" y="63"/>
                    </a:lnTo>
                    <a:lnTo>
                      <a:pt x="48" y="51"/>
                    </a:lnTo>
                    <a:lnTo>
                      <a:pt x="39" y="57"/>
                    </a:lnTo>
                    <a:lnTo>
                      <a:pt x="75" y="60"/>
                    </a:lnTo>
                    <a:lnTo>
                      <a:pt x="117" y="42"/>
                    </a:lnTo>
                    <a:lnTo>
                      <a:pt x="135" y="39"/>
                    </a:lnTo>
                    <a:lnTo>
                      <a:pt x="141" y="48"/>
                    </a:lnTo>
                    <a:lnTo>
                      <a:pt x="141" y="72"/>
                    </a:lnTo>
                    <a:lnTo>
                      <a:pt x="150" y="57"/>
                    </a:lnTo>
                    <a:lnTo>
                      <a:pt x="147" y="93"/>
                    </a:lnTo>
                    <a:lnTo>
                      <a:pt x="141" y="129"/>
                    </a:lnTo>
                    <a:lnTo>
                      <a:pt x="168" y="123"/>
                    </a:lnTo>
                    <a:lnTo>
                      <a:pt x="165" y="147"/>
                    </a:lnTo>
                    <a:lnTo>
                      <a:pt x="159" y="171"/>
                    </a:lnTo>
                    <a:lnTo>
                      <a:pt x="177" y="168"/>
                    </a:lnTo>
                    <a:lnTo>
                      <a:pt x="171" y="198"/>
                    </a:lnTo>
                    <a:lnTo>
                      <a:pt x="186" y="195"/>
                    </a:lnTo>
                    <a:lnTo>
                      <a:pt x="186" y="204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61560" y="550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نردبان و دیوار صاف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180000" indent="-1800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فرض کنید ک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w</a:t>
            </a:r>
            <a:r>
              <a:rPr b="0" lang="fa-IR" sz="2000" spc="-1" strike="noStrike" baseline="-25000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ورد نظر مان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ها را حول محوری که از انتهای بالای نردبان ودر جه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ساب کنی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27040" y="2793960"/>
                <a:ext cx="6199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n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-Lsin</m:t>
                    </m:r>
                    <m:r>
                      <m:t xml:space="preserve">φ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643040" y="5280120"/>
                <a:ext cx="2698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m>
                      <m:m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d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1549440" y="5079960"/>
            <a:ext cx="2870280" cy="104148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84840" y="4029120"/>
            <a:ext cx="5037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ا جاگذاری د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 + m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ح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داریم: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052680" y="5629320"/>
            <a:ext cx="446040" cy="990720"/>
          </a:xfrm>
          <a:prstGeom prst="line">
            <a:avLst/>
          </a:prstGeom>
          <a:ln w="38160">
            <a:solidFill>
              <a:srgbClr val="f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5469120" y="4491720"/>
            <a:ext cx="1649160" cy="200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92" y="291"/>
                </a:moveTo>
                <a:arcTo wR="10800" hR="10800" stAng="-4599491" swAng="4261869"/>
                <a:lnTo>
                  <a:pt x="10800" y="10800"/>
                </a:lnTo>
                <a:close/>
              </a:path>
              <a:path fill="none" w="21600" h="21600">
                <a:moveTo>
                  <a:pt x="13292" y="291"/>
                </a:moveTo>
                <a:arcTo wR="10800" hR="10800" stAng="-4599491" swAng="4261869"/>
              </a:path>
            </a:pathLst>
          </a:custGeom>
          <a:noFill/>
          <a:ln w="1260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894560" y="919080"/>
            <a:ext cx="3932640" cy="5790960"/>
            <a:chOff x="4894560" y="919080"/>
            <a:chExt cx="3932640" cy="5790960"/>
          </a:xfrm>
        </p:grpSpPr>
        <p:sp>
          <p:nvSpPr>
            <p:cNvPr id="664" name=""/>
            <p:cNvSpPr/>
            <p:nvPr/>
          </p:nvSpPr>
          <p:spPr>
            <a:xfrm>
              <a:off x="8077320" y="2013120"/>
              <a:ext cx="0" cy="356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937120" y="5587920"/>
              <a:ext cx="214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527520" y="2260440"/>
              <a:ext cx="1498680" cy="3302280"/>
            </a:xfrm>
            <a:prstGeom prst="line">
              <a:avLst/>
            </a:prstGeom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71800" y="267192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7040" y="501156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52440" y="264312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29080" y="346068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08840" y="5587920"/>
              <a:ext cx="431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6000" y="564192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19840" y="5067360"/>
              <a:ext cx="0" cy="43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108560" y="2255760"/>
              <a:ext cx="679320" cy="1568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38880" y="4000680"/>
              <a:ext cx="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8280" y="4422600"/>
              <a:ext cx="110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89920" y="2235240"/>
              <a:ext cx="5079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83200" y="2367000"/>
              <a:ext cx="10440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N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553080" y="5600880"/>
              <a:ext cx="0" cy="507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55360" y="5718240"/>
              <a:ext cx="978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N</a:t>
              </a:r>
              <a:r>
                <a:rPr b="0" lang="en-US" sz="2000" spc="-1" strike="noStrike" baseline="-25000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7395480" y="919080"/>
              <a:ext cx="1338480" cy="1049040"/>
              <a:chOff x="7395480" y="919080"/>
              <a:chExt cx="1338480" cy="1049040"/>
            </a:xfrm>
          </p:grpSpPr>
          <p:sp>
            <p:nvSpPr>
              <p:cNvPr id="682" name=""/>
              <p:cNvSpPr/>
              <p:nvPr/>
            </p:nvSpPr>
            <p:spPr>
              <a:xfrm flipV="1">
                <a:off x="7924680" y="1161720"/>
                <a:ext cx="0" cy="469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931160" y="1625400"/>
                <a:ext cx="4446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395480" y="9190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852680" y="160488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7924680" y="215892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14560" y="1833480"/>
              <a:ext cx="130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ffff"/>
                  </a:solidFill>
                  <a:latin typeface="Arial"/>
                  <a:cs typeface="Arial"/>
                </a:rPr>
                <a:t>محو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50280" y="2013120"/>
              <a:ext cx="291960" cy="139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375240" y="4932360"/>
              <a:ext cx="295560" cy="603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86000" y="491184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6582960" y="3556080"/>
              <a:ext cx="668160" cy="1441800"/>
              <a:chOff x="6582960" y="3556080"/>
              <a:chExt cx="668160" cy="1441800"/>
            </a:xfrm>
          </p:grpSpPr>
          <p:sp>
            <p:nvSpPr>
              <p:cNvPr id="692" name=""/>
              <p:cNvSpPr/>
              <p:nvPr/>
            </p:nvSpPr>
            <p:spPr>
              <a:xfrm flipH="1">
                <a:off x="6812640" y="3862440"/>
                <a:ext cx="438120" cy="162000"/>
              </a:xfrm>
              <a:custGeom>
                <a:avLst/>
                <a:gdLst/>
                <a:ahLst/>
                <a:rect l="l" t="t" r="r" b="b"/>
                <a:pathLst>
                  <a:path w="337" h="145">
                    <a:moveTo>
                      <a:pt x="336" y="144"/>
                    </a:moveTo>
                    <a:lnTo>
                      <a:pt x="144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613200" y="3606840"/>
                <a:ext cx="301680" cy="260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675120" y="3876840"/>
                <a:ext cx="177840" cy="582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750720" y="4076640"/>
                <a:ext cx="500040" cy="109800"/>
              </a:xfrm>
              <a:custGeom>
                <a:avLst/>
                <a:gdLst/>
                <a:ahLst/>
                <a:rect l="l" t="t" r="r" b="b"/>
                <a:pathLst>
                  <a:path w="385" h="97">
                    <a:moveTo>
                      <a:pt x="384" y="0"/>
                    </a:moveTo>
                    <a:lnTo>
                      <a:pt x="192" y="96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rot="4683600">
                <a:off x="6509520" y="4662000"/>
                <a:ext cx="544680" cy="100080"/>
              </a:xfrm>
              <a:custGeom>
                <a:avLst/>
                <a:gdLst/>
                <a:ahLst/>
                <a:rect l="l" t="t" r="r" b="b"/>
                <a:pathLst>
                  <a:path w="481" h="97">
                    <a:moveTo>
                      <a:pt x="480" y="0"/>
                    </a:moveTo>
                    <a:lnTo>
                      <a:pt x="0" y="9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5434200">
                <a:off x="6512040" y="4633560"/>
                <a:ext cx="608040" cy="118800"/>
              </a:xfrm>
              <a:custGeom>
                <a:avLst/>
                <a:gdLst/>
                <a:ahLst/>
                <a:rect l="l" t="t" r="r" b="b"/>
                <a:pathLst>
                  <a:path w="529" h="97">
                    <a:moveTo>
                      <a:pt x="528" y="96"/>
                    </a:move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95080" y="3673440"/>
                <a:ext cx="55800" cy="10980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2" y="0"/>
                    </a:moveTo>
                    <a:lnTo>
                      <a:pt x="39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27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5" y="63"/>
                    </a:lnTo>
                    <a:lnTo>
                      <a:pt x="12" y="72"/>
                    </a:lnTo>
                    <a:lnTo>
                      <a:pt x="3" y="81"/>
                    </a:lnTo>
                    <a:lnTo>
                      <a:pt x="0" y="90"/>
                    </a:lnTo>
                    <a:lnTo>
                      <a:pt x="9" y="96"/>
                    </a:lnTo>
                    <a:lnTo>
                      <a:pt x="18" y="96"/>
                    </a:lnTo>
                    <a:lnTo>
                      <a:pt x="27" y="96"/>
                    </a:lnTo>
                    <a:lnTo>
                      <a:pt x="36" y="96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803280" y="3668760"/>
                <a:ext cx="36360" cy="27000"/>
              </a:xfrm>
              <a:prstGeom prst="ellipse">
                <a:avLst/>
              </a:prstGeom>
              <a:solidFill>
                <a:srgbClr val="00004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780960" y="375768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54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4"/>
                    </a:lnTo>
                    <a:lnTo>
                      <a:pt x="63" y="48"/>
                    </a:lnTo>
                    <a:lnTo>
                      <a:pt x="69" y="39"/>
                    </a:lnTo>
                    <a:lnTo>
                      <a:pt x="75" y="30"/>
                    </a:lnTo>
                    <a:lnTo>
                      <a:pt x="78" y="21"/>
                    </a:lnTo>
                    <a:lnTo>
                      <a:pt x="81" y="9"/>
                    </a:lnTo>
                    <a:lnTo>
                      <a:pt x="81" y="0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582600" y="3556080"/>
                <a:ext cx="290520" cy="28080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6" y="72"/>
                    </a:moveTo>
                    <a:lnTo>
                      <a:pt x="9" y="81"/>
                    </a:lnTo>
                    <a:lnTo>
                      <a:pt x="9" y="72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99"/>
                    </a:lnTo>
                    <a:lnTo>
                      <a:pt x="6" y="84"/>
                    </a:lnTo>
                    <a:lnTo>
                      <a:pt x="24" y="78"/>
                    </a:lnTo>
                    <a:lnTo>
                      <a:pt x="45" y="54"/>
                    </a:lnTo>
                    <a:lnTo>
                      <a:pt x="51" y="45"/>
                    </a:lnTo>
                    <a:lnTo>
                      <a:pt x="45" y="72"/>
                    </a:lnTo>
                    <a:lnTo>
                      <a:pt x="45" y="54"/>
                    </a:lnTo>
                    <a:lnTo>
                      <a:pt x="51" y="24"/>
                    </a:lnTo>
                    <a:lnTo>
                      <a:pt x="54" y="0"/>
                    </a:lnTo>
                    <a:lnTo>
                      <a:pt x="15" y="42"/>
                    </a:lnTo>
                    <a:lnTo>
                      <a:pt x="9" y="60"/>
                    </a:lnTo>
                    <a:lnTo>
                      <a:pt x="6" y="30"/>
                    </a:lnTo>
                    <a:lnTo>
                      <a:pt x="6" y="45"/>
                    </a:lnTo>
                    <a:lnTo>
                      <a:pt x="6" y="75"/>
                    </a:lnTo>
                    <a:lnTo>
                      <a:pt x="6" y="93"/>
                    </a:lnTo>
                    <a:lnTo>
                      <a:pt x="45" y="69"/>
                    </a:lnTo>
                    <a:lnTo>
                      <a:pt x="69" y="33"/>
                    </a:lnTo>
                    <a:lnTo>
                      <a:pt x="51" y="69"/>
                    </a:lnTo>
                    <a:lnTo>
                      <a:pt x="48" y="42"/>
                    </a:lnTo>
                    <a:lnTo>
                      <a:pt x="51" y="33"/>
                    </a:lnTo>
                    <a:lnTo>
                      <a:pt x="33" y="63"/>
                    </a:lnTo>
                    <a:lnTo>
                      <a:pt x="54" y="30"/>
                    </a:lnTo>
                    <a:lnTo>
                      <a:pt x="60" y="54"/>
                    </a:lnTo>
                    <a:lnTo>
                      <a:pt x="60" y="84"/>
                    </a:lnTo>
                    <a:lnTo>
                      <a:pt x="75" y="66"/>
                    </a:lnTo>
                    <a:lnTo>
                      <a:pt x="81" y="42"/>
                    </a:lnTo>
                    <a:lnTo>
                      <a:pt x="75" y="72"/>
                    </a:lnTo>
                    <a:lnTo>
                      <a:pt x="93" y="48"/>
                    </a:lnTo>
                    <a:lnTo>
                      <a:pt x="99" y="30"/>
                    </a:lnTo>
                    <a:lnTo>
                      <a:pt x="99" y="54"/>
                    </a:lnTo>
                    <a:lnTo>
                      <a:pt x="93" y="72"/>
                    </a:lnTo>
                    <a:lnTo>
                      <a:pt x="111" y="54"/>
                    </a:lnTo>
                    <a:lnTo>
                      <a:pt x="129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44" y="42"/>
                    </a:lnTo>
                    <a:lnTo>
                      <a:pt x="150" y="24"/>
                    </a:lnTo>
                    <a:lnTo>
                      <a:pt x="132" y="54"/>
                    </a:lnTo>
                    <a:lnTo>
                      <a:pt x="126" y="72"/>
                    </a:lnTo>
                    <a:lnTo>
                      <a:pt x="129" y="42"/>
                    </a:lnTo>
                    <a:lnTo>
                      <a:pt x="105" y="75"/>
                    </a:lnTo>
                    <a:lnTo>
                      <a:pt x="81" y="93"/>
                    </a:lnTo>
                    <a:lnTo>
                      <a:pt x="105" y="63"/>
                    </a:lnTo>
                    <a:lnTo>
                      <a:pt x="105" y="81"/>
                    </a:lnTo>
                    <a:lnTo>
                      <a:pt x="102" y="99"/>
                    </a:lnTo>
                    <a:lnTo>
                      <a:pt x="126" y="78"/>
                    </a:lnTo>
                    <a:lnTo>
                      <a:pt x="102" y="108"/>
                    </a:lnTo>
                    <a:lnTo>
                      <a:pt x="84" y="126"/>
                    </a:lnTo>
                    <a:lnTo>
                      <a:pt x="120" y="78"/>
                    </a:lnTo>
                    <a:lnTo>
                      <a:pt x="123" y="60"/>
                    </a:lnTo>
                    <a:lnTo>
                      <a:pt x="105" y="96"/>
                    </a:lnTo>
                    <a:lnTo>
                      <a:pt x="99" y="114"/>
                    </a:lnTo>
                    <a:lnTo>
                      <a:pt x="138" y="87"/>
                    </a:lnTo>
                    <a:lnTo>
                      <a:pt x="123" y="108"/>
                    </a:lnTo>
                    <a:lnTo>
                      <a:pt x="144" y="78"/>
                    </a:lnTo>
                    <a:lnTo>
                      <a:pt x="129" y="108"/>
                    </a:lnTo>
                    <a:lnTo>
                      <a:pt x="132" y="87"/>
                    </a:lnTo>
                    <a:lnTo>
                      <a:pt x="156" y="57"/>
                    </a:lnTo>
                    <a:lnTo>
                      <a:pt x="144" y="84"/>
                    </a:lnTo>
                    <a:lnTo>
                      <a:pt x="120" y="114"/>
                    </a:lnTo>
                    <a:lnTo>
                      <a:pt x="135" y="96"/>
                    </a:lnTo>
                    <a:lnTo>
                      <a:pt x="141" y="78"/>
                    </a:lnTo>
                    <a:lnTo>
                      <a:pt x="144" y="93"/>
                    </a:lnTo>
                    <a:lnTo>
                      <a:pt x="141" y="111"/>
                    </a:lnTo>
                    <a:lnTo>
                      <a:pt x="177" y="93"/>
                    </a:lnTo>
                    <a:lnTo>
                      <a:pt x="195" y="75"/>
                    </a:lnTo>
                    <a:lnTo>
                      <a:pt x="174" y="102"/>
                    </a:lnTo>
                    <a:lnTo>
                      <a:pt x="156" y="132"/>
                    </a:lnTo>
                    <a:lnTo>
                      <a:pt x="171" y="108"/>
                    </a:lnTo>
                    <a:lnTo>
                      <a:pt x="195" y="78"/>
                    </a:lnTo>
                    <a:lnTo>
                      <a:pt x="150" y="108"/>
                    </a:lnTo>
                    <a:lnTo>
                      <a:pt x="126" y="144"/>
                    </a:lnTo>
                    <a:lnTo>
                      <a:pt x="162" y="66"/>
                    </a:lnTo>
                    <a:lnTo>
                      <a:pt x="168" y="30"/>
                    </a:lnTo>
                    <a:lnTo>
                      <a:pt x="165" y="66"/>
                    </a:lnTo>
                    <a:lnTo>
                      <a:pt x="162" y="84"/>
                    </a:lnTo>
                    <a:lnTo>
                      <a:pt x="174" y="78"/>
                    </a:lnTo>
                    <a:lnTo>
                      <a:pt x="168" y="102"/>
                    </a:lnTo>
                    <a:lnTo>
                      <a:pt x="132" y="144"/>
                    </a:lnTo>
                    <a:lnTo>
                      <a:pt x="150" y="141"/>
                    </a:lnTo>
                    <a:lnTo>
                      <a:pt x="168" y="111"/>
                    </a:lnTo>
                    <a:lnTo>
                      <a:pt x="138" y="162"/>
                    </a:lnTo>
                    <a:lnTo>
                      <a:pt x="183" y="93"/>
                    </a:lnTo>
                    <a:lnTo>
                      <a:pt x="153" y="141"/>
                    </a:lnTo>
                    <a:lnTo>
                      <a:pt x="147" y="159"/>
                    </a:lnTo>
                    <a:lnTo>
                      <a:pt x="174" y="135"/>
                    </a:lnTo>
                    <a:lnTo>
                      <a:pt x="192" y="105"/>
                    </a:lnTo>
                    <a:lnTo>
                      <a:pt x="162" y="156"/>
                    </a:lnTo>
                    <a:lnTo>
                      <a:pt x="159" y="180"/>
                    </a:lnTo>
                    <a:lnTo>
                      <a:pt x="195" y="138"/>
                    </a:lnTo>
                    <a:lnTo>
                      <a:pt x="159" y="186"/>
                    </a:lnTo>
                    <a:lnTo>
                      <a:pt x="153" y="210"/>
                    </a:lnTo>
                    <a:lnTo>
                      <a:pt x="183" y="186"/>
                    </a:lnTo>
                    <a:lnTo>
                      <a:pt x="159" y="219"/>
                    </a:lnTo>
                    <a:lnTo>
                      <a:pt x="186" y="195"/>
                    </a:lnTo>
                    <a:lnTo>
                      <a:pt x="168" y="219"/>
                    </a:lnTo>
                    <a:lnTo>
                      <a:pt x="189" y="207"/>
                    </a:lnTo>
                    <a:lnTo>
                      <a:pt x="189" y="219"/>
                    </a:lnTo>
                    <a:lnTo>
                      <a:pt x="171" y="249"/>
                    </a:lnTo>
                    <a:lnTo>
                      <a:pt x="186" y="234"/>
                    </a:lnTo>
                    <a:lnTo>
                      <a:pt x="204" y="210"/>
                    </a:lnTo>
                    <a:lnTo>
                      <a:pt x="186" y="237"/>
                    </a:lnTo>
                    <a:lnTo>
                      <a:pt x="198" y="210"/>
                    </a:lnTo>
                    <a:lnTo>
                      <a:pt x="216" y="180"/>
                    </a:lnTo>
                    <a:lnTo>
                      <a:pt x="222" y="141"/>
                    </a:lnTo>
                    <a:lnTo>
                      <a:pt x="201" y="165"/>
                    </a:lnTo>
                    <a:lnTo>
                      <a:pt x="165" y="201"/>
                    </a:lnTo>
                    <a:lnTo>
                      <a:pt x="180" y="174"/>
                    </a:lnTo>
                    <a:lnTo>
                      <a:pt x="198" y="138"/>
                    </a:lnTo>
                    <a:lnTo>
                      <a:pt x="201" y="114"/>
                    </a:lnTo>
                    <a:lnTo>
                      <a:pt x="195" y="132"/>
                    </a:lnTo>
                    <a:lnTo>
                      <a:pt x="171" y="168"/>
                    </a:lnTo>
                    <a:lnTo>
                      <a:pt x="174" y="153"/>
                    </a:lnTo>
                    <a:lnTo>
                      <a:pt x="204" y="87"/>
                    </a:lnTo>
                    <a:lnTo>
                      <a:pt x="207" y="57"/>
                    </a:lnTo>
                    <a:lnTo>
                      <a:pt x="201" y="75"/>
                    </a:lnTo>
                    <a:lnTo>
                      <a:pt x="177" y="111"/>
                    </a:lnTo>
                    <a:lnTo>
                      <a:pt x="198" y="72"/>
                    </a:lnTo>
                    <a:lnTo>
                      <a:pt x="201" y="54"/>
                    </a:lnTo>
                    <a:lnTo>
                      <a:pt x="174" y="78"/>
                    </a:lnTo>
                    <a:lnTo>
                      <a:pt x="156" y="96"/>
                    </a:lnTo>
                    <a:lnTo>
                      <a:pt x="159" y="72"/>
                    </a:lnTo>
                    <a:lnTo>
                      <a:pt x="165" y="48"/>
                    </a:lnTo>
                    <a:lnTo>
                      <a:pt x="135" y="72"/>
                    </a:lnTo>
                    <a:lnTo>
                      <a:pt x="135" y="60"/>
                    </a:lnTo>
                    <a:lnTo>
                      <a:pt x="138" y="42"/>
                    </a:lnTo>
                    <a:lnTo>
                      <a:pt x="102" y="63"/>
                    </a:lnTo>
                    <a:lnTo>
                      <a:pt x="108" y="39"/>
                    </a:lnTo>
                    <a:lnTo>
                      <a:pt x="90" y="39"/>
                    </a:lnTo>
                    <a:lnTo>
                      <a:pt x="72" y="45"/>
                    </a:lnTo>
                    <a:lnTo>
                      <a:pt x="75" y="36"/>
                    </a:lnTo>
                    <a:lnTo>
                      <a:pt x="69" y="45"/>
                    </a:lnTo>
                    <a:lnTo>
                      <a:pt x="48" y="63"/>
                    </a:lnTo>
                    <a:lnTo>
                      <a:pt x="48" y="51"/>
                    </a:lnTo>
                    <a:lnTo>
                      <a:pt x="39" y="57"/>
                    </a:lnTo>
                    <a:lnTo>
                      <a:pt x="75" y="60"/>
                    </a:lnTo>
                    <a:lnTo>
                      <a:pt x="117" y="42"/>
                    </a:lnTo>
                    <a:lnTo>
                      <a:pt x="135" y="39"/>
                    </a:lnTo>
                    <a:lnTo>
                      <a:pt x="141" y="48"/>
                    </a:lnTo>
                    <a:lnTo>
                      <a:pt x="141" y="72"/>
                    </a:lnTo>
                    <a:lnTo>
                      <a:pt x="150" y="57"/>
                    </a:lnTo>
                    <a:lnTo>
                      <a:pt x="147" y="93"/>
                    </a:lnTo>
                    <a:lnTo>
                      <a:pt x="141" y="129"/>
                    </a:lnTo>
                    <a:lnTo>
                      <a:pt x="168" y="123"/>
                    </a:lnTo>
                    <a:lnTo>
                      <a:pt x="165" y="147"/>
                    </a:lnTo>
                    <a:lnTo>
                      <a:pt x="159" y="171"/>
                    </a:lnTo>
                    <a:lnTo>
                      <a:pt x="177" y="168"/>
                    </a:lnTo>
                    <a:lnTo>
                      <a:pt x="171" y="198"/>
                    </a:lnTo>
                    <a:lnTo>
                      <a:pt x="186" y="195"/>
                    </a:lnTo>
                    <a:lnTo>
                      <a:pt x="186" y="204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 flipH="1" flipV="1">
              <a:off x="5011200" y="5595480"/>
              <a:ext cx="1086120" cy="1800"/>
            </a:xfrm>
            <a:prstGeom prst="line">
              <a:avLst/>
            </a:prstGeom>
            <a:ln w="38160">
              <a:solidFill>
                <a:srgbClr val="f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 rot="10800000">
              <a:off x="5931360" y="4703400"/>
              <a:ext cx="1649160" cy="20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92" y="291"/>
                  </a:moveTo>
                  <a:arcTo wR="10800" hR="10800" stAng="-4599491" swAng="42618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92" y="291"/>
                  </a:moveTo>
                  <a:arcTo wR="10800" hR="10800" stAng="-4599491" swAng="4261869"/>
                </a:path>
              </a:pathLst>
            </a:custGeom>
            <a:noFill/>
            <a:ln w="1260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94560" y="58770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70840" y="48006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367160" y="3254400"/>
            <a:ext cx="1800" cy="147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41680" y="3259080"/>
            <a:ext cx="1800" cy="147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68760" y="32734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مثال : نردبان و دیوار صاف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4120" y="15289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کنون حساب کردیم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ه ازای یک ضریب اصطکاک معی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000"/>
            </a:b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یشینه نیروی اصطکا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یجادشده برابر اس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ب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afd00"/>
                </a:solidFill>
                <a:latin typeface="Arial"/>
              </a:rPr>
              <a:t>M + 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نردبان می لغزد اگ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زاین مقدار تجاوزک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احتیا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239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ه نردبان را درصورت امکان ببندید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2392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زاوی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خیلی بزرگ نباش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060560" y="1468440"/>
                <a:ext cx="2698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m>
                      <m:m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d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>
            <a:off x="519120" y="6554880"/>
            <a:ext cx="4248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796000" y="2368440"/>
            <a:ext cx="2561400" cy="3992400"/>
            <a:chOff x="5796000" y="2368440"/>
            <a:chExt cx="2561400" cy="3992400"/>
          </a:xfrm>
        </p:grpSpPr>
        <p:sp>
          <p:nvSpPr>
            <p:cNvPr id="716" name=""/>
            <p:cNvSpPr/>
            <p:nvPr/>
          </p:nvSpPr>
          <p:spPr>
            <a:xfrm>
              <a:off x="8077320" y="2368440"/>
              <a:ext cx="0" cy="356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937120" y="5943600"/>
              <a:ext cx="2146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527520" y="2616120"/>
              <a:ext cx="1498680" cy="3301920"/>
            </a:xfrm>
            <a:prstGeom prst="line">
              <a:avLst/>
            </a:prstGeom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71800" y="302724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29080" y="38163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08840" y="5943600"/>
              <a:ext cx="431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6000" y="5997600"/>
              <a:ext cx="90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6375240" y="5287680"/>
              <a:ext cx="295560" cy="603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86000" y="526716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6582960" y="3911760"/>
              <a:ext cx="668160" cy="1441800"/>
              <a:chOff x="6582960" y="3911760"/>
              <a:chExt cx="668160" cy="1441800"/>
            </a:xfrm>
          </p:grpSpPr>
          <p:sp>
            <p:nvSpPr>
              <p:cNvPr id="726" name=""/>
              <p:cNvSpPr/>
              <p:nvPr/>
            </p:nvSpPr>
            <p:spPr>
              <a:xfrm flipH="1">
                <a:off x="6812640" y="4218120"/>
                <a:ext cx="438120" cy="162000"/>
              </a:xfrm>
              <a:custGeom>
                <a:avLst/>
                <a:gdLst/>
                <a:ahLst/>
                <a:rect l="l" t="t" r="r" b="b"/>
                <a:pathLst>
                  <a:path w="337" h="145">
                    <a:moveTo>
                      <a:pt x="336" y="144"/>
                    </a:moveTo>
                    <a:lnTo>
                      <a:pt x="144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613200" y="3962520"/>
                <a:ext cx="301680" cy="2602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675120" y="4232520"/>
                <a:ext cx="177840" cy="5824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750720" y="4432320"/>
                <a:ext cx="500040" cy="109800"/>
              </a:xfrm>
              <a:custGeom>
                <a:avLst/>
                <a:gdLst/>
                <a:ahLst/>
                <a:rect l="l" t="t" r="r" b="b"/>
                <a:pathLst>
                  <a:path w="385" h="97">
                    <a:moveTo>
                      <a:pt x="384" y="0"/>
                    </a:moveTo>
                    <a:lnTo>
                      <a:pt x="192" y="96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2556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rot="4683600">
                <a:off x="6509520" y="5017680"/>
                <a:ext cx="544680" cy="100080"/>
              </a:xfrm>
              <a:custGeom>
                <a:avLst/>
                <a:gdLst/>
                <a:ahLst/>
                <a:rect l="l" t="t" r="r" b="b"/>
                <a:pathLst>
                  <a:path w="481" h="97">
                    <a:moveTo>
                      <a:pt x="480" y="0"/>
                    </a:moveTo>
                    <a:lnTo>
                      <a:pt x="0" y="9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5434200">
                <a:off x="6512040" y="4989240"/>
                <a:ext cx="608040" cy="118800"/>
              </a:xfrm>
              <a:custGeom>
                <a:avLst/>
                <a:gdLst/>
                <a:ahLst/>
                <a:rect l="l" t="t" r="r" b="b"/>
                <a:pathLst>
                  <a:path w="529" h="97">
                    <a:moveTo>
                      <a:pt x="528" y="96"/>
                    </a:move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895080" y="4029120"/>
                <a:ext cx="55800" cy="10980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2" y="0"/>
                    </a:moveTo>
                    <a:lnTo>
                      <a:pt x="39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27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5" y="63"/>
                    </a:lnTo>
                    <a:lnTo>
                      <a:pt x="12" y="72"/>
                    </a:lnTo>
                    <a:lnTo>
                      <a:pt x="3" y="81"/>
                    </a:lnTo>
                    <a:lnTo>
                      <a:pt x="0" y="90"/>
                    </a:lnTo>
                    <a:lnTo>
                      <a:pt x="9" y="96"/>
                    </a:lnTo>
                    <a:lnTo>
                      <a:pt x="18" y="96"/>
                    </a:lnTo>
                    <a:lnTo>
                      <a:pt x="27" y="96"/>
                    </a:lnTo>
                    <a:lnTo>
                      <a:pt x="36" y="96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803280" y="4024440"/>
                <a:ext cx="36360" cy="27000"/>
              </a:xfrm>
              <a:prstGeom prst="ellipse">
                <a:avLst/>
              </a:prstGeom>
              <a:solidFill>
                <a:srgbClr val="00004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780960" y="41133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54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4"/>
                    </a:lnTo>
                    <a:lnTo>
                      <a:pt x="63" y="48"/>
                    </a:lnTo>
                    <a:lnTo>
                      <a:pt x="69" y="39"/>
                    </a:lnTo>
                    <a:lnTo>
                      <a:pt x="75" y="30"/>
                    </a:lnTo>
                    <a:lnTo>
                      <a:pt x="78" y="21"/>
                    </a:lnTo>
                    <a:lnTo>
                      <a:pt x="81" y="9"/>
                    </a:lnTo>
                    <a:lnTo>
                      <a:pt x="81" y="0"/>
                    </a:lnTo>
                  </a:path>
                </a:pathLst>
              </a:custGeom>
              <a:noFill/>
              <a:ln cap="rnd" w="1260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582600" y="3911760"/>
                <a:ext cx="290520" cy="280800"/>
              </a:xfrm>
              <a:custGeom>
                <a:avLst/>
                <a:gdLst/>
                <a:ahLst/>
                <a:rect l="l" t="t" r="r" b="b"/>
                <a:pathLst>
                  <a:path w="223" h="250">
                    <a:moveTo>
                      <a:pt x="6" y="72"/>
                    </a:moveTo>
                    <a:lnTo>
                      <a:pt x="9" y="81"/>
                    </a:lnTo>
                    <a:lnTo>
                      <a:pt x="9" y="72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99"/>
                    </a:lnTo>
                    <a:lnTo>
                      <a:pt x="6" y="84"/>
                    </a:lnTo>
                    <a:lnTo>
                      <a:pt x="24" y="78"/>
                    </a:lnTo>
                    <a:lnTo>
                      <a:pt x="45" y="54"/>
                    </a:lnTo>
                    <a:lnTo>
                      <a:pt x="51" y="45"/>
                    </a:lnTo>
                    <a:lnTo>
                      <a:pt x="45" y="72"/>
                    </a:lnTo>
                    <a:lnTo>
                      <a:pt x="45" y="54"/>
                    </a:lnTo>
                    <a:lnTo>
                      <a:pt x="51" y="24"/>
                    </a:lnTo>
                    <a:lnTo>
                      <a:pt x="54" y="0"/>
                    </a:lnTo>
                    <a:lnTo>
                      <a:pt x="15" y="42"/>
                    </a:lnTo>
                    <a:lnTo>
                      <a:pt x="9" y="60"/>
                    </a:lnTo>
                    <a:lnTo>
                      <a:pt x="6" y="30"/>
                    </a:lnTo>
                    <a:lnTo>
                      <a:pt x="6" y="45"/>
                    </a:lnTo>
                    <a:lnTo>
                      <a:pt x="6" y="75"/>
                    </a:lnTo>
                    <a:lnTo>
                      <a:pt x="6" y="93"/>
                    </a:lnTo>
                    <a:lnTo>
                      <a:pt x="45" y="69"/>
                    </a:lnTo>
                    <a:lnTo>
                      <a:pt x="69" y="33"/>
                    </a:lnTo>
                    <a:lnTo>
                      <a:pt x="51" y="69"/>
                    </a:lnTo>
                    <a:lnTo>
                      <a:pt x="48" y="42"/>
                    </a:lnTo>
                    <a:lnTo>
                      <a:pt x="51" y="33"/>
                    </a:lnTo>
                    <a:lnTo>
                      <a:pt x="33" y="63"/>
                    </a:lnTo>
                    <a:lnTo>
                      <a:pt x="54" y="30"/>
                    </a:lnTo>
                    <a:lnTo>
                      <a:pt x="60" y="54"/>
                    </a:lnTo>
                    <a:lnTo>
                      <a:pt x="60" y="84"/>
                    </a:lnTo>
                    <a:lnTo>
                      <a:pt x="75" y="66"/>
                    </a:lnTo>
                    <a:lnTo>
                      <a:pt x="81" y="42"/>
                    </a:lnTo>
                    <a:lnTo>
                      <a:pt x="75" y="72"/>
                    </a:lnTo>
                    <a:lnTo>
                      <a:pt x="93" y="48"/>
                    </a:lnTo>
                    <a:lnTo>
                      <a:pt x="99" y="30"/>
                    </a:lnTo>
                    <a:lnTo>
                      <a:pt x="99" y="54"/>
                    </a:lnTo>
                    <a:lnTo>
                      <a:pt x="93" y="72"/>
                    </a:lnTo>
                    <a:lnTo>
                      <a:pt x="111" y="54"/>
                    </a:lnTo>
                    <a:lnTo>
                      <a:pt x="129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44" y="42"/>
                    </a:lnTo>
                    <a:lnTo>
                      <a:pt x="150" y="24"/>
                    </a:lnTo>
                    <a:lnTo>
                      <a:pt x="132" y="54"/>
                    </a:lnTo>
                    <a:lnTo>
                      <a:pt x="126" y="72"/>
                    </a:lnTo>
                    <a:lnTo>
                      <a:pt x="129" y="42"/>
                    </a:lnTo>
                    <a:lnTo>
                      <a:pt x="105" y="75"/>
                    </a:lnTo>
                    <a:lnTo>
                      <a:pt x="81" y="93"/>
                    </a:lnTo>
                    <a:lnTo>
                      <a:pt x="105" y="63"/>
                    </a:lnTo>
                    <a:lnTo>
                      <a:pt x="105" y="81"/>
                    </a:lnTo>
                    <a:lnTo>
                      <a:pt x="102" y="99"/>
                    </a:lnTo>
                    <a:lnTo>
                      <a:pt x="126" y="78"/>
                    </a:lnTo>
                    <a:lnTo>
                      <a:pt x="102" y="108"/>
                    </a:lnTo>
                    <a:lnTo>
                      <a:pt x="84" y="126"/>
                    </a:lnTo>
                    <a:lnTo>
                      <a:pt x="120" y="78"/>
                    </a:lnTo>
                    <a:lnTo>
                      <a:pt x="123" y="60"/>
                    </a:lnTo>
                    <a:lnTo>
                      <a:pt x="105" y="96"/>
                    </a:lnTo>
                    <a:lnTo>
                      <a:pt x="99" y="114"/>
                    </a:lnTo>
                    <a:lnTo>
                      <a:pt x="138" y="87"/>
                    </a:lnTo>
                    <a:lnTo>
                      <a:pt x="123" y="108"/>
                    </a:lnTo>
                    <a:lnTo>
                      <a:pt x="144" y="78"/>
                    </a:lnTo>
                    <a:lnTo>
                      <a:pt x="129" y="108"/>
                    </a:lnTo>
                    <a:lnTo>
                      <a:pt x="132" y="87"/>
                    </a:lnTo>
                    <a:lnTo>
                      <a:pt x="156" y="57"/>
                    </a:lnTo>
                    <a:lnTo>
                      <a:pt x="144" y="84"/>
                    </a:lnTo>
                    <a:lnTo>
                      <a:pt x="120" y="114"/>
                    </a:lnTo>
                    <a:lnTo>
                      <a:pt x="135" y="96"/>
                    </a:lnTo>
                    <a:lnTo>
                      <a:pt x="141" y="78"/>
                    </a:lnTo>
                    <a:lnTo>
                      <a:pt x="144" y="93"/>
                    </a:lnTo>
                    <a:lnTo>
                      <a:pt x="141" y="111"/>
                    </a:lnTo>
                    <a:lnTo>
                      <a:pt x="177" y="93"/>
                    </a:lnTo>
                    <a:lnTo>
                      <a:pt x="195" y="75"/>
                    </a:lnTo>
                    <a:lnTo>
                      <a:pt x="174" y="102"/>
                    </a:lnTo>
                    <a:lnTo>
                      <a:pt x="156" y="132"/>
                    </a:lnTo>
                    <a:lnTo>
                      <a:pt x="171" y="108"/>
                    </a:lnTo>
                    <a:lnTo>
                      <a:pt x="195" y="78"/>
                    </a:lnTo>
                    <a:lnTo>
                      <a:pt x="150" y="108"/>
                    </a:lnTo>
                    <a:lnTo>
                      <a:pt x="126" y="144"/>
                    </a:lnTo>
                    <a:lnTo>
                      <a:pt x="162" y="66"/>
                    </a:lnTo>
                    <a:lnTo>
                      <a:pt x="168" y="30"/>
                    </a:lnTo>
                    <a:lnTo>
                      <a:pt x="165" y="66"/>
                    </a:lnTo>
                    <a:lnTo>
                      <a:pt x="162" y="84"/>
                    </a:lnTo>
                    <a:lnTo>
                      <a:pt x="174" y="78"/>
                    </a:lnTo>
                    <a:lnTo>
                      <a:pt x="168" y="102"/>
                    </a:lnTo>
                    <a:lnTo>
                      <a:pt x="132" y="144"/>
                    </a:lnTo>
                    <a:lnTo>
                      <a:pt x="150" y="141"/>
                    </a:lnTo>
                    <a:lnTo>
                      <a:pt x="168" y="111"/>
                    </a:lnTo>
                    <a:lnTo>
                      <a:pt x="138" y="162"/>
                    </a:lnTo>
                    <a:lnTo>
                      <a:pt x="183" y="93"/>
                    </a:lnTo>
                    <a:lnTo>
                      <a:pt x="153" y="141"/>
                    </a:lnTo>
                    <a:lnTo>
                      <a:pt x="147" y="159"/>
                    </a:lnTo>
                    <a:lnTo>
                      <a:pt x="174" y="135"/>
                    </a:lnTo>
                    <a:lnTo>
                      <a:pt x="192" y="105"/>
                    </a:lnTo>
                    <a:lnTo>
                      <a:pt x="162" y="156"/>
                    </a:lnTo>
                    <a:lnTo>
                      <a:pt x="159" y="180"/>
                    </a:lnTo>
                    <a:lnTo>
                      <a:pt x="195" y="138"/>
                    </a:lnTo>
                    <a:lnTo>
                      <a:pt x="159" y="186"/>
                    </a:lnTo>
                    <a:lnTo>
                      <a:pt x="153" y="210"/>
                    </a:lnTo>
                    <a:lnTo>
                      <a:pt x="183" y="186"/>
                    </a:lnTo>
                    <a:lnTo>
                      <a:pt x="159" y="219"/>
                    </a:lnTo>
                    <a:lnTo>
                      <a:pt x="186" y="195"/>
                    </a:lnTo>
                    <a:lnTo>
                      <a:pt x="168" y="219"/>
                    </a:lnTo>
                    <a:lnTo>
                      <a:pt x="189" y="207"/>
                    </a:lnTo>
                    <a:lnTo>
                      <a:pt x="189" y="219"/>
                    </a:lnTo>
                    <a:lnTo>
                      <a:pt x="171" y="249"/>
                    </a:lnTo>
                    <a:lnTo>
                      <a:pt x="186" y="234"/>
                    </a:lnTo>
                    <a:lnTo>
                      <a:pt x="204" y="210"/>
                    </a:lnTo>
                    <a:lnTo>
                      <a:pt x="186" y="237"/>
                    </a:lnTo>
                    <a:lnTo>
                      <a:pt x="198" y="210"/>
                    </a:lnTo>
                    <a:lnTo>
                      <a:pt x="216" y="180"/>
                    </a:lnTo>
                    <a:lnTo>
                      <a:pt x="222" y="141"/>
                    </a:lnTo>
                    <a:lnTo>
                      <a:pt x="201" y="165"/>
                    </a:lnTo>
                    <a:lnTo>
                      <a:pt x="165" y="201"/>
                    </a:lnTo>
                    <a:lnTo>
                      <a:pt x="180" y="174"/>
                    </a:lnTo>
                    <a:lnTo>
                      <a:pt x="198" y="138"/>
                    </a:lnTo>
                    <a:lnTo>
                      <a:pt x="201" y="114"/>
                    </a:lnTo>
                    <a:lnTo>
                      <a:pt x="195" y="132"/>
                    </a:lnTo>
                    <a:lnTo>
                      <a:pt x="171" y="168"/>
                    </a:lnTo>
                    <a:lnTo>
                      <a:pt x="174" y="153"/>
                    </a:lnTo>
                    <a:lnTo>
                      <a:pt x="204" y="87"/>
                    </a:lnTo>
                    <a:lnTo>
                      <a:pt x="207" y="57"/>
                    </a:lnTo>
                    <a:lnTo>
                      <a:pt x="201" y="75"/>
                    </a:lnTo>
                    <a:lnTo>
                      <a:pt x="177" y="111"/>
                    </a:lnTo>
                    <a:lnTo>
                      <a:pt x="198" y="72"/>
                    </a:lnTo>
                    <a:lnTo>
                      <a:pt x="201" y="54"/>
                    </a:lnTo>
                    <a:lnTo>
                      <a:pt x="174" y="78"/>
                    </a:lnTo>
                    <a:lnTo>
                      <a:pt x="156" y="96"/>
                    </a:lnTo>
                    <a:lnTo>
                      <a:pt x="159" y="72"/>
                    </a:lnTo>
                    <a:lnTo>
                      <a:pt x="165" y="48"/>
                    </a:lnTo>
                    <a:lnTo>
                      <a:pt x="135" y="72"/>
                    </a:lnTo>
                    <a:lnTo>
                      <a:pt x="135" y="60"/>
                    </a:lnTo>
                    <a:lnTo>
                      <a:pt x="138" y="42"/>
                    </a:lnTo>
                    <a:lnTo>
                      <a:pt x="102" y="63"/>
                    </a:lnTo>
                    <a:lnTo>
                      <a:pt x="108" y="39"/>
                    </a:lnTo>
                    <a:lnTo>
                      <a:pt x="90" y="39"/>
                    </a:lnTo>
                    <a:lnTo>
                      <a:pt x="72" y="45"/>
                    </a:lnTo>
                    <a:lnTo>
                      <a:pt x="75" y="36"/>
                    </a:lnTo>
                    <a:lnTo>
                      <a:pt x="69" y="45"/>
                    </a:lnTo>
                    <a:lnTo>
                      <a:pt x="48" y="63"/>
                    </a:lnTo>
                    <a:lnTo>
                      <a:pt x="48" y="51"/>
                    </a:lnTo>
                    <a:lnTo>
                      <a:pt x="39" y="57"/>
                    </a:lnTo>
                    <a:lnTo>
                      <a:pt x="75" y="60"/>
                    </a:lnTo>
                    <a:lnTo>
                      <a:pt x="117" y="42"/>
                    </a:lnTo>
                    <a:lnTo>
                      <a:pt x="135" y="39"/>
                    </a:lnTo>
                    <a:lnTo>
                      <a:pt x="141" y="48"/>
                    </a:lnTo>
                    <a:lnTo>
                      <a:pt x="141" y="72"/>
                    </a:lnTo>
                    <a:lnTo>
                      <a:pt x="150" y="57"/>
                    </a:lnTo>
                    <a:lnTo>
                      <a:pt x="147" y="93"/>
                    </a:lnTo>
                    <a:lnTo>
                      <a:pt x="141" y="129"/>
                    </a:lnTo>
                    <a:lnTo>
                      <a:pt x="168" y="123"/>
                    </a:lnTo>
                    <a:lnTo>
                      <a:pt x="165" y="147"/>
                    </a:lnTo>
                    <a:lnTo>
                      <a:pt x="159" y="171"/>
                    </a:lnTo>
                    <a:lnTo>
                      <a:pt x="177" y="168"/>
                    </a:lnTo>
                    <a:lnTo>
                      <a:pt x="171" y="198"/>
                    </a:lnTo>
                    <a:lnTo>
                      <a:pt x="186" y="195"/>
                    </a:lnTo>
                    <a:lnTo>
                      <a:pt x="186" y="204"/>
                    </a:lnTo>
                  </a:path>
                </a:pathLst>
              </a:custGeom>
              <a:noFill/>
              <a:ln cap="rnd"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>
            <a:off x="1603440" y="4375080"/>
            <a:ext cx="4206960" cy="1392480"/>
          </a:xfrm>
          <a:prstGeom prst="flowChartProcess">
            <a:avLst/>
          </a:prstGeom>
          <a:noFill/>
          <a:ln w="5724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درس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ناشی از جاذب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دآوری دور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یستای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 روی تپ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ات تعادل ایست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26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تیر آویز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26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لامپ آویز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2608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نردب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مطالب کتاب درسی و مسائل آنرا مرور کنید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afd00"/>
                </a:solidFill>
                <a:latin typeface="Arial"/>
                <a:cs typeface="Arial"/>
              </a:rPr>
              <a:t>فصل دوازدهم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3536640"/>
            <a:ext cx="735336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rial"/>
              </a:rPr>
              <a:t>تکانه زاویه ای ، تعادل اجسام صل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درس امروز ما</a:t>
            </a:r>
            <a:r>
              <a:rPr b="1" lang="fa-IR" sz="2400" spc="-1" strike="noStrike">
                <a:solidFill>
                  <a:srgbClr val="fafd00"/>
                </a:solidFill>
                <a:latin typeface="Arial"/>
                <a:ea typeface="Arial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472160" cy="40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ناشی از جاذب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ادآوری دور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ایستای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تومبیل روی تپ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ادلات تعادل ایستای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ند مثا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تیر آویز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لامپ آویز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 algn="r" rtl="1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سئله نردب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یش آزمون : دوران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8000"/>
          </a:bodyPr>
          <a:p>
            <a:pPr marL="108360" indent="-1083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یک توپ و یک جعبه روی سطح افقی با سرعت یکسان  حرکت می کن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بدون لغزش و جعبه بدون اصطکاک رو ی سطح می لغز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آنها با یک سطح شیبدار برخورد کرده واز آن بالا می رون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کدام یک قبل از توقف مسافت بیشتری بالا می رود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46440" y="3332160"/>
            <a:ext cx="62924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توپ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جعبه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)  </a:t>
            </a:r>
            <a:r>
              <a:rPr b="0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مساوی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i="1" lang="en-US" sz="2000" spc="-1" strike="noStrike" baseline="-25000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29160" y="5643720"/>
            <a:ext cx="441360" cy="44100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647960" y="4773240"/>
            <a:ext cx="527040" cy="2575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6323040"/>
            <a:ext cx="4066920" cy="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76360" y="6175440"/>
            <a:ext cx="1306800" cy="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83160" y="5983200"/>
            <a:ext cx="766440" cy="1922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4647960" y="3401640"/>
            <a:ext cx="527040" cy="25750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951440"/>
            <a:ext cx="4066920" cy="10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6360" y="4803840"/>
            <a:ext cx="1306800" cy="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83160" y="4611600"/>
            <a:ext cx="766440" cy="1922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880000">
            <a:off x="4495680" y="4267080"/>
            <a:ext cx="45720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199800" indent="-19980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توپ وجعبه وقتی انرژی جنبشی خود را تبدیل به انرژی پتانسیل کردند متوقف می شون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95440" y="5872320"/>
            <a:ext cx="441360" cy="44100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647960" y="4773240"/>
            <a:ext cx="527040" cy="2575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6323040"/>
            <a:ext cx="4066920" cy="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647960" y="3401640"/>
            <a:ext cx="527040" cy="25750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951440"/>
            <a:ext cx="4066920" cy="10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4495680"/>
            <a:ext cx="45720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84480" y="2455920"/>
            <a:ext cx="30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اولیه جعب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60640" y="4660920"/>
            <a:ext cx="6094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34200" y="425592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33520" y="2406600"/>
                <a:ext cx="1095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895480" y="6095880"/>
            <a:ext cx="60984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9040" y="5691240"/>
            <a:ext cx="9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11480" y="5716440"/>
            <a:ext cx="7614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56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5677"/>
              </a:path>
            </a:pathLst>
          </a:custGeom>
          <a:noFill/>
          <a:ln cap="rnd" w="12600">
            <a:solidFill>
              <a:srgbClr val="00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6400" y="5691240"/>
            <a:ext cx="9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32040" y="3135240"/>
                <a:ext cx="844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I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606680" y="3130560"/>
                <a:ext cx="109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97440" y="3193920"/>
            <a:ext cx="238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 rtl="1">
              <a:lnSpc>
                <a:spcPct val="90000"/>
              </a:lnSpc>
              <a:spcBef>
                <a:spcPts val="1250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نرژی جنبشی اولیه تو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6480" y="3220920"/>
            <a:ext cx="231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afd00"/>
                </a:solidFill>
                <a:latin typeface="Arial"/>
                <a:cs typeface="Arial"/>
              </a:rPr>
              <a:t>بزرگتر است</a:t>
            </a:r>
            <a:r>
              <a:rPr b="1" lang="fa-IR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00"/>
                </a:solidFill>
                <a:latin typeface="Arial"/>
                <a:cs typeface="Arial"/>
              </a:rPr>
              <a:t>پاسخ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Arial"/>
              </a:rPr>
              <a:t>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19960" indent="-21996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چون توپ انرژی جنبشی بیتشری دارد بنابراین بیشتر بالا می رو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5491080"/>
            <a:ext cx="441360" cy="441360"/>
          </a:xfrm>
          <a:prstGeom prst="ellipse">
            <a:avLst/>
          </a:prstGeom>
          <a:gradFill rotWithShape="0">
            <a:gsLst>
              <a:gs pos="0">
                <a:srgbClr val="fc0000"/>
              </a:gs>
              <a:gs pos="100000">
                <a:srgbClr val="e1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4647960" y="4773240"/>
            <a:ext cx="527040" cy="2575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6323040"/>
            <a:ext cx="4066920" cy="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76360" y="6175440"/>
            <a:ext cx="1306800" cy="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683160" y="5790960"/>
            <a:ext cx="1650960" cy="38412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647960" y="3401640"/>
            <a:ext cx="527040" cy="25750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951440"/>
            <a:ext cx="4066920" cy="10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76360" y="4803840"/>
            <a:ext cx="1306800" cy="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83160" y="4611600"/>
            <a:ext cx="766440" cy="192240"/>
          </a:xfrm>
          <a:prstGeom prst="line">
            <a:avLst/>
          </a:prstGeom>
          <a:ln w="2556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880000">
            <a:off x="4495680" y="4267080"/>
            <a:ext cx="45720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9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afd00"/>
                </a:solidFill>
                <a:latin typeface="Arial"/>
                <a:cs typeface="Arial"/>
              </a:rPr>
              <a:t>یادآوری دوران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5320" y="2103120"/>
            <a:ext cx="7458120" cy="437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حول یک محور دوران همواره می توان رابط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را نوشت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گشتاور لخت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شتاب زاویه ای است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برای سیستم ذره ا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طبق قضیه محورهای موازی اگر گشتاور لختی حول مرکز جر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C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معلوم باشد می توانیم لختی دورانی حول محور موازی با آن را ا ز قضیه محورهای موازی حساب کنیم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 algn="r" rtl="1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Arial"/>
                <a:cs typeface="Arial"/>
              </a:rPr>
              <a:t>اگر جسم دارای شتاب باشدبازهم می توانیم از رابط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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استفاده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کنیم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به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شرط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اینکه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چرخش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حول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محور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مرکز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جرم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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cs typeface="Symbol"/>
              </a:rPr>
              <a:t>باشد</a:t>
            </a:r>
            <a:r>
              <a:rPr b="1" lang="fa-IR" sz="2000" spc="-1" strike="noStrike">
                <a:solidFill>
                  <a:srgbClr val="fafd00"/>
                </a:solidFill>
                <a:latin typeface="Symbol"/>
                <a:ea typeface="Symbol"/>
              </a:rPr>
              <a:t>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07800" y="3854520"/>
            <a:ext cx="6352560" cy="1567440"/>
            <a:chOff x="1207800" y="3854520"/>
            <a:chExt cx="6352560" cy="1567440"/>
          </a:xfrm>
        </p:grpSpPr>
        <p:sp>
          <p:nvSpPr>
            <p:cNvPr id="104" name=""/>
            <p:cNvSpPr/>
            <p:nvPr/>
          </p:nvSpPr>
          <p:spPr>
            <a:xfrm>
              <a:off x="1207800" y="4340160"/>
              <a:ext cx="3002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ARALLEL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CM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+ MD</a:t>
              </a:r>
              <a:r>
                <a:rPr b="0" i="1" lang="en-US" sz="2000" spc="-1" strike="noStrike" baseline="30000">
                  <a:solidFill>
                    <a:srgbClr val="fafd00"/>
                  </a:solidFill>
                  <a:latin typeface="Arial"/>
                </a:rPr>
                <a:t>2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673600" y="4869000"/>
              <a:ext cx="473040" cy="117360"/>
              <a:chOff x="5673600" y="4869000"/>
              <a:chExt cx="473040" cy="11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5673600" y="4869000"/>
                <a:ext cx="473040" cy="115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26240" y="4986360"/>
                <a:ext cx="1252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302000" y="4854600"/>
              <a:ext cx="473040" cy="117360"/>
              <a:chOff x="4302000" y="4854600"/>
              <a:chExt cx="473040" cy="117360"/>
            </a:xfrm>
          </p:grpSpPr>
          <p:sp>
            <p:nvSpPr>
              <p:cNvPr id="109" name=""/>
              <p:cNvSpPr/>
              <p:nvPr/>
            </p:nvSpPr>
            <p:spPr>
              <a:xfrm>
                <a:off x="4302000" y="4854600"/>
                <a:ext cx="473040" cy="115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54640" y="4971960"/>
                <a:ext cx="1252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905440" y="3997440"/>
              <a:ext cx="0" cy="90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40320" y="4378320"/>
              <a:ext cx="2730600" cy="139680"/>
            </a:xfrm>
            <a:prstGeom prst="rect">
              <a:avLst/>
            </a:prstGeom>
            <a:solidFill>
              <a:srgbClr val="fc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0320" y="4676760"/>
              <a:ext cx="273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23960" y="470232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0320" y="4219560"/>
              <a:ext cx="13590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0880" y="385452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3840" y="3997440"/>
              <a:ext cx="0" cy="901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5560" y="4044960"/>
              <a:ext cx="964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5960" y="4264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4000" y="4145040"/>
              <a:ext cx="1028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ff00"/>
                  </a:solidFill>
                  <a:latin typeface="Arial"/>
                </a:rPr>
                <a:t>C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360" y="4997520"/>
              <a:ext cx="1068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29840" y="5021280"/>
              <a:ext cx="1629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PARALLE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2:20:18Z</dcterms:created>
  <dc:creator>Mats A. Selen</dc:creator>
  <dc:description/>
  <cp:keywords/>
  <dc:language>en-US</dc:language>
  <cp:lastModifiedBy>janubi</cp:lastModifiedBy>
  <dcterms:modified xsi:type="dcterms:W3CDTF">2006-04-15T02:20:18Z</dcterms:modified>
  <cp:revision>58</cp:revision>
  <dc:subject>Rotation Recap, Statics</dc:subject>
  <dc:title>Physics 106P Lecture 24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Phyugwww\WWW\courses\phys111\fall02\Lectur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