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26440" y="6516720"/>
            <a:ext cx="2732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 – فیریک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12640" y="504720"/>
            <a:ext cx="549360" cy="75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143000" y="4191120"/>
              <a:ext cx="3200400" cy="209700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45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740560" y="2459160"/>
            <a:ext cx="2151000" cy="3593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 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16640" y="3489480"/>
            <a:ext cx="582480" cy="5634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415200" y="1228680"/>
            <a:ext cx="1753920" cy="1181160"/>
          </a:xfrm>
          <a:prstGeom prst="wedgeEllipseCallout">
            <a:avLst>
              <a:gd name="adj1" fmla="val 22032"/>
              <a:gd name="adj2" fmla="val 10765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ی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قدر سبک است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441324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 وزن فضانورد و توپ کمتر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برداشتن توپ در کره ماه ساده تر از کره زمین است  زیرا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96560" y="3355920"/>
            <a:ext cx="38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W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Moon             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Moon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&lt; g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یاگرام جسم آزاد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انون دوم نیوتن می گوید که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کته اصلی دراینجا این است که این رابطه  برای </a:t>
            </a:r>
            <a:r>
              <a:rPr b="1" lang="fa-IR" sz="2000" spc="-1" strike="noStrike" u="sng">
                <a:solidFill>
                  <a:srgbClr val="00ff00"/>
                </a:solidFill>
                <a:uFillTx/>
                <a:latin typeface="Arial"/>
                <a:cs typeface="Arial"/>
              </a:rPr>
              <a:t>یک جسم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است.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قبل از به کاربردن رابط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مورد یک جسم نیروهای وارد برا آن را مشخص می کنیم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05520" y="13176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یاگرام جسم آزاد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ورد زیر را در نظر بگیر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چه نیروهایی براین الوار وارد می شو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و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و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زمی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01720" y="5181480"/>
            <a:ext cx="58420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332160" y="2901960"/>
            <a:ext cx="3642120" cy="3193560"/>
            <a:chOff x="3332160" y="2901960"/>
            <a:chExt cx="3642120" cy="3193560"/>
          </a:xfrm>
        </p:grpSpPr>
        <p:sp>
          <p:nvSpPr>
            <p:cNvPr id="176" name=""/>
            <p:cNvSpPr/>
            <p:nvPr/>
          </p:nvSpPr>
          <p:spPr>
            <a:xfrm flipV="1">
              <a:off x="4327560" y="5114880"/>
              <a:ext cx="192240" cy="638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83120" y="5397480"/>
              <a:ext cx="0" cy="698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44160" y="3759480"/>
              <a:ext cx="1230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W,P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543480" y="2901960"/>
              <a:ext cx="2784240" cy="2301840"/>
              <a:chOff x="3543480" y="2901960"/>
              <a:chExt cx="2784240" cy="2301840"/>
            </a:xfrm>
          </p:grpSpPr>
          <p:sp>
            <p:nvSpPr>
              <p:cNvPr id="180" name=""/>
              <p:cNvSpPr/>
              <p:nvPr/>
            </p:nvSpPr>
            <p:spPr>
              <a:xfrm rot="2040000">
                <a:off x="4934160" y="3440160"/>
                <a:ext cx="191880" cy="1767240"/>
              </a:xfrm>
              <a:prstGeom prst="rect">
                <a:avLst/>
              </a:prstGeom>
              <a:solidFill>
                <a:srgbClr val="fc0000"/>
              </a:solidFill>
              <a:ln w="1260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25080" y="2901960"/>
                <a:ext cx="87120" cy="22129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28080" y="5130000"/>
                <a:ext cx="2184120" cy="7380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982400" y="4327920"/>
                <a:ext cx="0" cy="698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4536720" y="4469040"/>
                <a:ext cx="191880" cy="6386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5104800" y="3585240"/>
                <a:ext cx="602640" cy="59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5725080" y="3637080"/>
                <a:ext cx="602640" cy="59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77520" y="3137400"/>
                <a:ext cx="12301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afd00"/>
                    </a:solidFill>
                    <a:latin typeface="Arial"/>
                  </a:rPr>
                  <a:t>F</a:t>
                </a:r>
                <a:r>
                  <a:rPr b="0" i="1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P,W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43480" y="4383360"/>
                <a:ext cx="11800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afd00"/>
                    </a:solidFill>
                    <a:latin typeface="Arial"/>
                  </a:rPr>
                  <a:t>F</a:t>
                </a:r>
                <a:r>
                  <a:rPr b="0" i="1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P,F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93680" y="4472640"/>
                <a:ext cx="11890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afd00"/>
                    </a:solidFill>
                    <a:latin typeface="Arial"/>
                  </a:rPr>
                  <a:t>F</a:t>
                </a:r>
                <a:r>
                  <a:rPr b="0" i="1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P,E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3332160" y="5363640"/>
              <a:ext cx="1180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F,P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94040" y="5631120"/>
              <a:ext cx="1189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E,P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دیاگرام جسم آزاد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ورد زیر را در نظر بگیر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چه نیروهایی براین الوار وارد می شو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65120" y="5181480"/>
            <a:ext cx="58420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340000">
            <a:off x="4419360" y="3276720"/>
            <a:ext cx="1145880" cy="20476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7480" y="2722680"/>
            <a:ext cx="3824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الوار را از بقیه جهان جداکیند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21080" y="3435480"/>
            <a:ext cx="977760" cy="21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251160" y="2916360"/>
            <a:ext cx="3642120" cy="3193560"/>
            <a:chOff x="3251160" y="2916360"/>
            <a:chExt cx="3642120" cy="3193560"/>
          </a:xfrm>
        </p:grpSpPr>
        <p:sp>
          <p:nvSpPr>
            <p:cNvPr id="201" name=""/>
            <p:cNvSpPr/>
            <p:nvPr/>
          </p:nvSpPr>
          <p:spPr>
            <a:xfrm flipV="1">
              <a:off x="4246560" y="5129280"/>
              <a:ext cx="192240" cy="638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02120" y="5411880"/>
              <a:ext cx="0" cy="698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63160" y="3773880"/>
              <a:ext cx="1230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W,P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62480" y="2916360"/>
              <a:ext cx="2784240" cy="2301840"/>
              <a:chOff x="3462480" y="2916360"/>
              <a:chExt cx="2784240" cy="2301840"/>
            </a:xfrm>
          </p:grpSpPr>
          <p:sp>
            <p:nvSpPr>
              <p:cNvPr id="205" name=""/>
              <p:cNvSpPr/>
              <p:nvPr/>
            </p:nvSpPr>
            <p:spPr>
              <a:xfrm rot="2040000">
                <a:off x="4853160" y="3454560"/>
                <a:ext cx="191880" cy="1767240"/>
              </a:xfrm>
              <a:prstGeom prst="rect">
                <a:avLst/>
              </a:prstGeom>
              <a:solidFill>
                <a:srgbClr val="fc0000"/>
              </a:solidFill>
              <a:ln w="1260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44080" y="2916360"/>
                <a:ext cx="87120" cy="22129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47080" y="5144400"/>
                <a:ext cx="2184120" cy="7380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01400" y="4342320"/>
                <a:ext cx="0" cy="698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4455720" y="4483440"/>
                <a:ext cx="191880" cy="6386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5023800" y="3599640"/>
                <a:ext cx="602640" cy="59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5644080" y="3651480"/>
                <a:ext cx="602640" cy="59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96520" y="3151800"/>
                <a:ext cx="12301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afd00"/>
                    </a:solidFill>
                    <a:latin typeface="Arial"/>
                  </a:rPr>
                  <a:t>F</a:t>
                </a:r>
                <a:r>
                  <a:rPr b="0" i="1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P,W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62480" y="4397760"/>
                <a:ext cx="11800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afd00"/>
                    </a:solidFill>
                    <a:latin typeface="Arial"/>
                  </a:rPr>
                  <a:t>F</a:t>
                </a:r>
                <a:r>
                  <a:rPr b="0" i="1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P,F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12680" y="4487040"/>
                <a:ext cx="11890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afd00"/>
                    </a:solidFill>
                    <a:latin typeface="Arial"/>
                  </a:rPr>
                  <a:t>F</a:t>
                </a:r>
                <a:r>
                  <a:rPr b="0" i="1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P,E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3251160" y="5378040"/>
              <a:ext cx="1180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F,P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13040" y="5645520"/>
              <a:ext cx="1189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E,P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دیاگرام جسم آزاد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های وارد بر الوار خود را نشان می دهن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120480" y="2895480"/>
            <a:ext cx="2277360" cy="1977120"/>
            <a:chOff x="3120480" y="2895480"/>
            <a:chExt cx="2277360" cy="1977120"/>
          </a:xfrm>
        </p:grpSpPr>
        <p:sp>
          <p:nvSpPr>
            <p:cNvPr id="222" name=""/>
            <p:cNvSpPr/>
            <p:nvPr/>
          </p:nvSpPr>
          <p:spPr>
            <a:xfrm rot="2040000">
              <a:off x="4451040" y="3198960"/>
              <a:ext cx="181440" cy="177408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96400" y="4090320"/>
              <a:ext cx="0" cy="70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075560" y="4231440"/>
              <a:ext cx="181440" cy="64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4611600" y="3344400"/>
              <a:ext cx="569160" cy="59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16360" y="2895480"/>
              <a:ext cx="1230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P,W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20480" y="4146120"/>
              <a:ext cx="1180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P,F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08760" y="4235400"/>
              <a:ext cx="1189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P,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گذشته از ای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 مثال الوار حرکت نمی ک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400" indent="-2145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طمئنا شتاب نخواهد داش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400" indent="-2145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 در رابط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=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خواهیم داشت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NET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400" indent="-2145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 این نظریه اساسی مطرح در </a:t>
            </a:r>
            <a:r>
              <a:rPr b="0" lang="fa-IR" sz="2000" spc="-1" strike="noStrike">
                <a:solidFill>
                  <a:srgbClr val="ff00ff"/>
                </a:solidFill>
                <a:latin typeface="Arial"/>
                <a:cs typeface="Arial"/>
              </a:rPr>
              <a:t>استاتیک (ایستایی شناسی )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51000" y="3635280"/>
            <a:ext cx="2893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P,W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+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P,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+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P,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701440" y="3103560"/>
            <a:ext cx="2277360" cy="1976760"/>
            <a:chOff x="2701440" y="3103560"/>
            <a:chExt cx="2277360" cy="1976760"/>
          </a:xfrm>
        </p:grpSpPr>
        <p:sp>
          <p:nvSpPr>
            <p:cNvPr id="235" name=""/>
            <p:cNvSpPr/>
            <p:nvPr/>
          </p:nvSpPr>
          <p:spPr>
            <a:xfrm rot="2040000">
              <a:off x="4031640" y="3406680"/>
              <a:ext cx="181440" cy="177372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77360" y="4298040"/>
              <a:ext cx="0" cy="70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656520" y="4439520"/>
              <a:ext cx="181440" cy="640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4192560" y="3552120"/>
              <a:ext cx="569160" cy="59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97320" y="3103560"/>
              <a:ext cx="1230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P,W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01440" y="4353840"/>
              <a:ext cx="1180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P,F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9720" y="4443480"/>
              <a:ext cx="1189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P,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مثال از دینامیک: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عبه ای به جرم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 = 2 kg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وی سطح افقی بدون اصطکاک می لغزدو نیروی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x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10 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جهت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آن واردمی شود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جعبه چقدرا 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16360" y="4273560"/>
            <a:ext cx="673200" cy="520560"/>
          </a:xfrm>
          <a:prstGeom prst="roundRect">
            <a:avLst>
              <a:gd name="adj" fmla="val 12495"/>
            </a:avLst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39840" y="4807080"/>
            <a:ext cx="4940280" cy="63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01960" y="4572000"/>
            <a:ext cx="9018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30600" y="3884760"/>
            <a:ext cx="1155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  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56240" y="3940200"/>
            <a:ext cx="1338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=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63360" y="434016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35680" y="4495680"/>
            <a:ext cx="5968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397640" y="4419720"/>
            <a:ext cx="5968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391520" y="3803760"/>
            <a:ext cx="0" cy="6220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38280" y="340668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00400" y="424512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موداری بکشید که کلیه نیروهای وارد بر جعبه رانشان می ده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16360" y="4273560"/>
            <a:ext cx="673200" cy="520560"/>
          </a:xfrm>
          <a:prstGeom prst="roundRect">
            <a:avLst>
              <a:gd name="adj" fmla="val 12495"/>
            </a:avLst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01960" y="4572000"/>
            <a:ext cx="9018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06560" y="4037040"/>
            <a:ext cx="56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943440" y="3949560"/>
            <a:ext cx="0" cy="8510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943440" y="4863960"/>
            <a:ext cx="0" cy="8510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133880" y="5537160"/>
            <a:ext cx="0" cy="8510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87720" y="3751200"/>
            <a:ext cx="736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B,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82840" y="5181480"/>
            <a:ext cx="679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,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72120" y="5046840"/>
            <a:ext cx="1288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B,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09920" y="5770440"/>
            <a:ext cx="793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,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39840" y="4807080"/>
            <a:ext cx="4940280" cy="63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97640" y="4419720"/>
            <a:ext cx="5968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391520" y="3803760"/>
            <a:ext cx="0" cy="6220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38280" y="340668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00400" y="424512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05520" y="13176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133880" y="4546440"/>
            <a:ext cx="0" cy="8510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5000"/>
          </a:bodyPr>
          <a:p>
            <a:pPr marL="128520" indent="-1285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صویری بکشید که همه نیروها وارد مشخص باشد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های وارد برجسم را جداکن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97640" y="4419720"/>
            <a:ext cx="5968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3803760"/>
            <a:ext cx="0" cy="6220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38280" y="340668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700400" y="424512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139840" y="2540160"/>
            <a:ext cx="4940280" cy="3848040"/>
            <a:chOff x="2139840" y="2540160"/>
            <a:chExt cx="4940280" cy="3848040"/>
          </a:xfrm>
        </p:grpSpPr>
        <p:sp>
          <p:nvSpPr>
            <p:cNvPr id="287" name=""/>
            <p:cNvSpPr/>
            <p:nvPr/>
          </p:nvSpPr>
          <p:spPr>
            <a:xfrm>
              <a:off x="3816360" y="4273560"/>
              <a:ext cx="673200" cy="520560"/>
            </a:xfrm>
            <a:prstGeom prst="roundRect">
              <a:avLst>
                <a:gd name="adj" fmla="val 12495"/>
              </a:avLst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01960" y="4572000"/>
              <a:ext cx="901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06560" y="4037040"/>
              <a:ext cx="565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943440" y="3949560"/>
              <a:ext cx="0" cy="851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943440" y="4863960"/>
              <a:ext cx="0" cy="851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133880" y="5537160"/>
              <a:ext cx="0" cy="851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87720" y="3751200"/>
              <a:ext cx="8128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B,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2840" y="5122800"/>
              <a:ext cx="755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F,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72120" y="5046840"/>
              <a:ext cx="128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B,E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= m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09920" y="5770440"/>
              <a:ext cx="793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E,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16400" y="3778200"/>
              <a:ext cx="1396800" cy="1359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63760" y="2540160"/>
              <a:ext cx="540000" cy="120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39840" y="4807080"/>
              <a:ext cx="4940280" cy="633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133880" y="4546440"/>
              <a:ext cx="0" cy="851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8000"/>
          </a:bodyPr>
          <a:p>
            <a:pPr marL="79920" indent="-7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صویری بکشید که همه نیروها وارد مشخص باشد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9920" indent="-7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های وارد برجسم را جداکن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9920" indent="-7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مودار جسم آزاد را بکش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806560" y="3751200"/>
            <a:ext cx="2070360" cy="1658880"/>
            <a:chOff x="2806560" y="3751200"/>
            <a:chExt cx="2070360" cy="1658880"/>
          </a:xfrm>
        </p:grpSpPr>
        <p:sp>
          <p:nvSpPr>
            <p:cNvPr id="306" name=""/>
            <p:cNvSpPr/>
            <p:nvPr/>
          </p:nvSpPr>
          <p:spPr>
            <a:xfrm>
              <a:off x="3816360" y="4273560"/>
              <a:ext cx="673200" cy="520560"/>
            </a:xfrm>
            <a:prstGeom prst="roundRect">
              <a:avLst>
                <a:gd name="adj" fmla="val 12495"/>
              </a:avLst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01960" y="4572000"/>
              <a:ext cx="901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06560" y="4037040"/>
              <a:ext cx="565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943440" y="3879720"/>
              <a:ext cx="0" cy="851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133880" y="4546440"/>
              <a:ext cx="0" cy="851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87720" y="3751200"/>
              <a:ext cx="8892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B,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73560" y="5046840"/>
              <a:ext cx="565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7397640" y="4038480"/>
            <a:ext cx="5968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391520" y="3422160"/>
            <a:ext cx="0" cy="6224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38280" y="302724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00400" y="38638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3000"/>
          </a:bodyPr>
          <a:p>
            <a:pPr marL="37080" indent="-37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صویری بکشید که همه نیروها وارد مشخص باشد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080" indent="-37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های وارد برجسم را جداکن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080" indent="-37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مودار جسم آزاد را بکش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080" indent="-37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عادلات نیوتن را برای هر مولفه حل کنید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920" indent="-2952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= m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920" indent="-2952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,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- mg  = m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730600" y="4056120"/>
            <a:ext cx="2031840" cy="1658520"/>
            <a:chOff x="2730600" y="4056120"/>
            <a:chExt cx="2031840" cy="1658520"/>
          </a:xfrm>
        </p:grpSpPr>
        <p:sp>
          <p:nvSpPr>
            <p:cNvPr id="322" name=""/>
            <p:cNvSpPr/>
            <p:nvPr/>
          </p:nvSpPr>
          <p:spPr>
            <a:xfrm>
              <a:off x="3740040" y="4578480"/>
              <a:ext cx="673200" cy="520560"/>
            </a:xfrm>
            <a:prstGeom prst="roundRect">
              <a:avLst>
                <a:gd name="adj" fmla="val 12495"/>
              </a:avLst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25640" y="4876920"/>
              <a:ext cx="901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30600" y="4341960"/>
              <a:ext cx="565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867120" y="4184640"/>
              <a:ext cx="0" cy="851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057560" y="4851360"/>
              <a:ext cx="0" cy="851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11760" y="4056120"/>
              <a:ext cx="8125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B,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97240" y="5351400"/>
              <a:ext cx="565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7397640" y="4038480"/>
            <a:ext cx="5968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391520" y="3422160"/>
            <a:ext cx="0" cy="6224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38280" y="302724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700400" y="38638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"/>
          </a:bodyPr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= m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-158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= 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/ m = (10 N)/(2 kg) = 5 m/s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B,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- mg  = m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-15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چون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-15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لذا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B,F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-19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ولفه قائم نیروی واردبرجس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,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اغلب نیروی قائم می گویند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-19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Y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لذا دراین مورد</a:t>
            </a:r>
            <a:r>
              <a:rPr b="1" lang="fa-IR" sz="2000" spc="-1" strike="noStrike">
                <a:solidFill>
                  <a:srgbClr val="fc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 = m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20720" y="2438280"/>
            <a:ext cx="3723480" cy="1981080"/>
            <a:chOff x="720720" y="2438280"/>
            <a:chExt cx="3723480" cy="1981080"/>
          </a:xfrm>
        </p:grpSpPr>
        <p:sp>
          <p:nvSpPr>
            <p:cNvPr id="338" name=""/>
            <p:cNvSpPr/>
            <p:nvPr/>
          </p:nvSpPr>
          <p:spPr>
            <a:xfrm>
              <a:off x="1852560" y="3081240"/>
              <a:ext cx="673200" cy="520920"/>
            </a:xfrm>
            <a:prstGeom prst="roundRect">
              <a:avLst>
                <a:gd name="adj" fmla="val 12495"/>
              </a:avLst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66760" y="3340080"/>
              <a:ext cx="901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0720" y="2898720"/>
              <a:ext cx="5652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158920" y="2438280"/>
              <a:ext cx="0" cy="851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146320" y="3308040"/>
              <a:ext cx="0" cy="85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47840" y="2467080"/>
              <a:ext cx="565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22360" y="4056120"/>
              <a:ext cx="565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30440" y="3849840"/>
              <a:ext cx="5968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2917080" y="2825640"/>
              <a:ext cx="1035000" cy="1017360"/>
              <a:chOff x="2917080" y="2825640"/>
              <a:chExt cx="1035000" cy="1017360"/>
            </a:xfrm>
          </p:grpSpPr>
          <p:sp>
            <p:nvSpPr>
              <p:cNvPr id="347" name=""/>
              <p:cNvSpPr/>
              <p:nvPr/>
            </p:nvSpPr>
            <p:spPr>
              <a:xfrm flipV="1">
                <a:off x="3370320" y="3220560"/>
                <a:ext cx="0" cy="62244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17080" y="2825640"/>
                <a:ext cx="10350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 </a:t>
                </a:r>
                <a:r>
                  <a:rPr b="1" i="1" lang="en-US" sz="2000" spc="-1" strike="noStrike">
                    <a:solidFill>
                      <a:srgbClr val="00ffff"/>
                    </a:solidFill>
                    <a:latin typeface="Arial"/>
                  </a:rPr>
                  <a:t>y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479400" y="397044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x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519120" y="6554880"/>
            <a:ext cx="5149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ادآوری مثال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014800" y="3274920"/>
            <a:ext cx="1917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/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835280" y="2679480"/>
            <a:ext cx="4406760" cy="1775160"/>
            <a:chOff x="1835280" y="2679480"/>
            <a:chExt cx="4406760" cy="1775160"/>
          </a:xfrm>
        </p:grpSpPr>
        <p:sp>
          <p:nvSpPr>
            <p:cNvPr id="356" name=""/>
            <p:cNvSpPr/>
            <p:nvPr/>
          </p:nvSpPr>
          <p:spPr>
            <a:xfrm>
              <a:off x="3664080" y="3282840"/>
              <a:ext cx="672840" cy="520920"/>
            </a:xfrm>
            <a:prstGeom prst="roundRect">
              <a:avLst>
                <a:gd name="adj" fmla="val 12495"/>
              </a:avLst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49680" y="3581280"/>
              <a:ext cx="90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54280" y="3048120"/>
              <a:ext cx="5652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4010040" y="2679480"/>
              <a:ext cx="0" cy="85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4010040" y="3603600"/>
              <a:ext cx="0" cy="851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38560" y="2762280"/>
              <a:ext cx="104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N = 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21280" y="4056120"/>
              <a:ext cx="565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35280" y="3816360"/>
              <a:ext cx="4406760" cy="633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54440" y="3429000"/>
              <a:ext cx="3682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7397640" y="4038480"/>
            <a:ext cx="5968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7391520" y="3422160"/>
            <a:ext cx="0" cy="6224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38280" y="302724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700400" y="38638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نیروی قائم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عبه ای به جر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وی کف آسانسوری که به سمت بالا دارای شتاب است قراردارد. رابطه بین نیروی گرانشی و نیروی قائم وارد برجعبه  چیست 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800600" y="2971800"/>
            <a:ext cx="2590920" cy="2666880"/>
            <a:chOff x="4800600" y="2971800"/>
            <a:chExt cx="2590920" cy="2666880"/>
          </a:xfrm>
        </p:grpSpPr>
        <p:sp>
          <p:nvSpPr>
            <p:cNvPr id="372" name=""/>
            <p:cNvSpPr/>
            <p:nvPr/>
          </p:nvSpPr>
          <p:spPr>
            <a:xfrm>
              <a:off x="6248520" y="3505320"/>
              <a:ext cx="1143000" cy="1828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00600" y="2971800"/>
              <a:ext cx="2362320" cy="266688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86400" y="5003640"/>
              <a:ext cx="914400" cy="60984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15000" y="51562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523880" y="3429000"/>
            <a:ext cx="27432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cs typeface="Arial"/>
              </a:rPr>
              <a:t>ال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N &gt; 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N = 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cs typeface="Arial"/>
              </a:rPr>
              <a:t>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057400" y="4495680"/>
            <a:ext cx="1447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N &lt; 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7696080" y="3657240"/>
            <a:ext cx="762120" cy="1143000"/>
            <a:chOff x="7696080" y="3657240"/>
            <a:chExt cx="762120" cy="1143000"/>
          </a:xfrm>
        </p:grpSpPr>
        <p:sp>
          <p:nvSpPr>
            <p:cNvPr id="379" name=""/>
            <p:cNvSpPr/>
            <p:nvPr/>
          </p:nvSpPr>
          <p:spPr>
            <a:xfrm flipV="1">
              <a:off x="7696080" y="3657240"/>
              <a:ext cx="0" cy="11430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24680" y="4038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019920" y="2437920"/>
            <a:ext cx="0" cy="83844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828800"/>
            <a:ext cx="45720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لیه نیروهای وارد برجسم درامتداد قائم هستن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tota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N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- m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m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 &gt; mg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562720" y="2666880"/>
            <a:ext cx="1447560" cy="2057400"/>
            <a:chOff x="5562720" y="2666880"/>
            <a:chExt cx="1447560" cy="2057400"/>
          </a:xfrm>
        </p:grpSpPr>
        <p:sp>
          <p:nvSpPr>
            <p:cNvPr id="386" name=""/>
            <p:cNvSpPr/>
            <p:nvPr/>
          </p:nvSpPr>
          <p:spPr>
            <a:xfrm>
              <a:off x="5562720" y="3124080"/>
              <a:ext cx="914400" cy="60984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19920" y="3657600"/>
              <a:ext cx="1440" cy="1066680"/>
            </a:xfrm>
            <a:custGeom>
              <a:avLst/>
              <a:gdLst/>
              <a:ahLst/>
              <a:rect l="l" t="t" r="r" b="b"/>
              <a:pathLst>
                <a:path w="1" h="672">
                  <a:moveTo>
                    <a:pt x="0" y="0"/>
                  </a:moveTo>
                  <a:lnTo>
                    <a:pt x="1" y="672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19920" y="2666880"/>
              <a:ext cx="8380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72200" y="3962520"/>
              <a:ext cx="762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7010280" y="2819160"/>
              <a:ext cx="0" cy="11430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723888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بزار : طناب و فنر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11320" indent="-21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کشیدن یک جسم از یک فاصله بکار می رو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1320" indent="-211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ش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یک نقطه از طناب برابر با 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بزرگی نیرویی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است که به یک سطح مقطع از طناب در یک نقطه وارد می شو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240" indent="-168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نیرو را احساس خواهید کرد اگر بخواهید با کشیدن طناب ازدوسر آن پاره کنی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240" indent="-168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جفت نیروی عمل و عکس العمل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695760" y="3940200"/>
            <a:ext cx="3276720" cy="2301840"/>
            <a:chOff x="3695760" y="3940200"/>
            <a:chExt cx="3276720" cy="2301840"/>
          </a:xfrm>
        </p:grpSpPr>
        <p:sp>
          <p:nvSpPr>
            <p:cNvPr id="397" name=""/>
            <p:cNvSpPr/>
            <p:nvPr/>
          </p:nvSpPr>
          <p:spPr>
            <a:xfrm>
              <a:off x="3695760" y="4419720"/>
              <a:ext cx="2895480" cy="0"/>
            </a:xfrm>
            <a:prstGeom prst="line">
              <a:avLst/>
            </a:prstGeom>
            <a:ln w="7632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52960" y="5638680"/>
              <a:ext cx="1371600" cy="0"/>
            </a:xfrm>
            <a:prstGeom prst="line">
              <a:avLst/>
            </a:prstGeom>
            <a:ln w="7632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00880" y="5943600"/>
              <a:ext cx="1371600" cy="0"/>
            </a:xfrm>
            <a:prstGeom prst="line">
              <a:avLst/>
            </a:prstGeom>
            <a:ln w="7632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340240"/>
              <a:ext cx="0" cy="9018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86160" y="4951440"/>
              <a:ext cx="1058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8840" y="5638680"/>
              <a:ext cx="5968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59360" y="5943600"/>
              <a:ext cx="5968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48080" y="576900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71960" y="546408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3000" y="394020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11640" y="4578480"/>
              <a:ext cx="368280" cy="67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بزار : طناب و فنر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تکه کوچک افقی از طنابی به جر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درنظر بگیری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077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مودار جسم آزاد را بکشی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نیروی جاذبه صرفنطر کنید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-25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استفاده از قانون دوم نیوت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جهت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  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= T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- T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-25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 اگ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 = 0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عنی اگر طناب سبک  باش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صور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</a:t>
            </a:r>
            <a:r>
              <a:rPr b="1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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87960" y="3200400"/>
            <a:ext cx="9018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736720" y="3200400"/>
            <a:ext cx="9273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96800" y="333072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72080" y="333072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8280" y="27226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21280" y="3505320"/>
            <a:ext cx="7491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68280" y="348300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016760" y="3657600"/>
            <a:ext cx="7491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471800" y="348300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64080" y="3054240"/>
            <a:ext cx="1511280" cy="29232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54040" y="3054240"/>
            <a:ext cx="2197080" cy="29232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87960" y="3054240"/>
            <a:ext cx="2197080" cy="29232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بزار : طناب و فنر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طناب آرمان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دون جر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طولش دارای کشش ثابتی خواهد ب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طناب دارای جرم باشد کشش در طول آن متغییر خواهد ب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ثلا در مورد یک طناب سنگین آویزان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ا بیشتر با طناب آرمانی سروکارداری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311120" y="3882960"/>
            <a:ext cx="2349720" cy="13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362320" y="4094280"/>
            <a:ext cx="0" cy="1041120"/>
          </a:xfrm>
          <a:prstGeom prst="line">
            <a:avLst/>
          </a:prstGeom>
          <a:ln w="10152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516040" y="4847760"/>
            <a:ext cx="749520" cy="241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44840" y="4162320"/>
            <a:ext cx="749160" cy="21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02000" y="4184640"/>
            <a:ext cx="1003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= T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00320" y="4746600"/>
            <a:ext cx="1339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247760" y="4056120"/>
            <a:ext cx="250200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202360" y="2728800"/>
            <a:ext cx="901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750760" y="272880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06520" y="286056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581440" y="286056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78120" y="2583000"/>
            <a:ext cx="1511280" cy="29196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68440" y="2583000"/>
            <a:ext cx="2197080" cy="29196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02360" y="2583000"/>
            <a:ext cx="2197080" cy="29196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بزار : طناب و فنر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هت نیرویی که طناب وارد می کند در طول طناب خواهد بو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1905120" y="3124080"/>
            <a:ext cx="1600560" cy="2931840"/>
            <a:chOff x="1905120" y="3124080"/>
            <a:chExt cx="1600560" cy="2931840"/>
          </a:xfrm>
        </p:grpSpPr>
        <p:sp>
          <p:nvSpPr>
            <p:cNvPr id="447" name=""/>
            <p:cNvSpPr/>
            <p:nvPr/>
          </p:nvSpPr>
          <p:spPr>
            <a:xfrm>
              <a:off x="2291400" y="569268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97040" y="378792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14600" y="3390840"/>
              <a:ext cx="0" cy="1116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05120" y="3124080"/>
              <a:ext cx="129528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11240" y="3352680"/>
              <a:ext cx="12826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39840" y="4502160"/>
              <a:ext cx="749520" cy="74916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666880" y="3727080"/>
              <a:ext cx="0" cy="546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2514600" y="5327280"/>
              <a:ext cx="0" cy="546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63160" y="470232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361320" y="3944880"/>
            <a:ext cx="5323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 جعبه حرکت نمی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8240" y="4778280"/>
            <a:ext cx="162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= m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09880" y="4724280"/>
            <a:ext cx="1447920" cy="533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نیرو و شتاب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177120" indent="-1771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وسیله یک نخ ماهیگیری که می تواند کش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180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تحمل کند یک ماهی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را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گیریم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قتی که ماهی برای رهایی خود    شتاب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12.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/s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جاد می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کک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کند نخ ماهی گیری پاره می شود. وزن ماهی چقدراست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1640" y="4776840"/>
            <a:ext cx="228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 = 12.2 m/s</a:t>
            </a:r>
            <a:r>
              <a:rPr b="0" i="1" lang="en-US" sz="2000" spc="-1" strike="noStrike" baseline="30000">
                <a:solidFill>
                  <a:srgbClr val="00ff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90720" y="5880240"/>
            <a:ext cx="3697200" cy="191880"/>
          </a:xfrm>
          <a:custGeom>
            <a:avLst/>
            <a:gdLst/>
            <a:ahLst/>
            <a:rect l="l" t="t" r="r" b="b"/>
            <a:pathLst>
              <a:path w="2329" h="121">
                <a:moveTo>
                  <a:pt x="0" y="40"/>
                </a:moveTo>
                <a:lnTo>
                  <a:pt x="40" y="16"/>
                </a:lnTo>
                <a:lnTo>
                  <a:pt x="64" y="8"/>
                </a:lnTo>
                <a:lnTo>
                  <a:pt x="88" y="0"/>
                </a:lnTo>
                <a:lnTo>
                  <a:pt x="120" y="0"/>
                </a:lnTo>
                <a:lnTo>
                  <a:pt x="192" y="16"/>
                </a:lnTo>
                <a:lnTo>
                  <a:pt x="240" y="24"/>
                </a:lnTo>
                <a:lnTo>
                  <a:pt x="272" y="40"/>
                </a:lnTo>
                <a:lnTo>
                  <a:pt x="336" y="48"/>
                </a:lnTo>
                <a:lnTo>
                  <a:pt x="360" y="48"/>
                </a:lnTo>
                <a:lnTo>
                  <a:pt x="440" y="48"/>
                </a:lnTo>
                <a:lnTo>
                  <a:pt x="488" y="48"/>
                </a:lnTo>
                <a:lnTo>
                  <a:pt x="552" y="48"/>
                </a:lnTo>
                <a:lnTo>
                  <a:pt x="616" y="40"/>
                </a:lnTo>
                <a:lnTo>
                  <a:pt x="680" y="40"/>
                </a:lnTo>
                <a:lnTo>
                  <a:pt x="728" y="40"/>
                </a:lnTo>
                <a:lnTo>
                  <a:pt x="776" y="40"/>
                </a:lnTo>
                <a:lnTo>
                  <a:pt x="832" y="40"/>
                </a:lnTo>
                <a:lnTo>
                  <a:pt x="896" y="72"/>
                </a:lnTo>
                <a:lnTo>
                  <a:pt x="944" y="88"/>
                </a:lnTo>
                <a:lnTo>
                  <a:pt x="976" y="104"/>
                </a:lnTo>
                <a:lnTo>
                  <a:pt x="1040" y="112"/>
                </a:lnTo>
                <a:lnTo>
                  <a:pt x="1088" y="112"/>
                </a:lnTo>
                <a:lnTo>
                  <a:pt x="1168" y="112"/>
                </a:lnTo>
                <a:lnTo>
                  <a:pt x="1232" y="104"/>
                </a:lnTo>
                <a:lnTo>
                  <a:pt x="1296" y="104"/>
                </a:lnTo>
                <a:lnTo>
                  <a:pt x="1344" y="96"/>
                </a:lnTo>
                <a:lnTo>
                  <a:pt x="1408" y="80"/>
                </a:lnTo>
                <a:lnTo>
                  <a:pt x="1456" y="80"/>
                </a:lnTo>
                <a:lnTo>
                  <a:pt x="1520" y="80"/>
                </a:lnTo>
                <a:lnTo>
                  <a:pt x="1552" y="88"/>
                </a:lnTo>
                <a:lnTo>
                  <a:pt x="1576" y="104"/>
                </a:lnTo>
                <a:lnTo>
                  <a:pt x="1656" y="120"/>
                </a:lnTo>
                <a:lnTo>
                  <a:pt x="1704" y="120"/>
                </a:lnTo>
                <a:lnTo>
                  <a:pt x="1736" y="120"/>
                </a:lnTo>
                <a:lnTo>
                  <a:pt x="1784" y="112"/>
                </a:lnTo>
                <a:lnTo>
                  <a:pt x="1864" y="80"/>
                </a:lnTo>
                <a:lnTo>
                  <a:pt x="1944" y="64"/>
                </a:lnTo>
                <a:lnTo>
                  <a:pt x="1992" y="56"/>
                </a:lnTo>
                <a:lnTo>
                  <a:pt x="2056" y="56"/>
                </a:lnTo>
                <a:lnTo>
                  <a:pt x="2136" y="56"/>
                </a:lnTo>
                <a:lnTo>
                  <a:pt x="2184" y="56"/>
                </a:lnTo>
                <a:lnTo>
                  <a:pt x="2248" y="64"/>
                </a:lnTo>
                <a:lnTo>
                  <a:pt x="2296" y="80"/>
                </a:lnTo>
                <a:lnTo>
                  <a:pt x="2328" y="88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  <a:effectLst>
            <a:outerShdw dist="107932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749840" y="3710160"/>
            <a:ext cx="23083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لف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.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.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.2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133720" y="2486160"/>
            <a:ext cx="4344120" cy="3306600"/>
            <a:chOff x="2133720" y="2486160"/>
            <a:chExt cx="4344120" cy="3306600"/>
          </a:xfrm>
        </p:grpSpPr>
        <p:grpSp>
          <p:nvGrpSpPr>
            <p:cNvPr id="465" name=""/>
            <p:cNvGrpSpPr/>
            <p:nvPr/>
          </p:nvGrpSpPr>
          <p:grpSpPr>
            <a:xfrm>
              <a:off x="2333520" y="4422600"/>
              <a:ext cx="487440" cy="1370160"/>
              <a:chOff x="2333520" y="4422600"/>
              <a:chExt cx="487440" cy="1370160"/>
            </a:xfrm>
          </p:grpSpPr>
          <p:sp>
            <p:nvSpPr>
              <p:cNvPr id="466" name=""/>
              <p:cNvSpPr/>
              <p:nvPr/>
            </p:nvSpPr>
            <p:spPr>
              <a:xfrm>
                <a:off x="2649600" y="4768920"/>
                <a:ext cx="131760" cy="162000"/>
              </a:xfrm>
              <a:custGeom>
                <a:avLst/>
                <a:gdLst/>
                <a:ahLst/>
                <a:rect l="l" t="t" r="r" b="b"/>
                <a:pathLst>
                  <a:path w="83" h="102">
                    <a:moveTo>
                      <a:pt x="0" y="0"/>
                    </a:moveTo>
                    <a:lnTo>
                      <a:pt x="8" y="3"/>
                    </a:lnTo>
                    <a:lnTo>
                      <a:pt x="17" y="8"/>
                    </a:lnTo>
                    <a:lnTo>
                      <a:pt x="25" y="14"/>
                    </a:lnTo>
                    <a:lnTo>
                      <a:pt x="33" y="20"/>
                    </a:lnTo>
                    <a:lnTo>
                      <a:pt x="42" y="28"/>
                    </a:lnTo>
                    <a:lnTo>
                      <a:pt x="51" y="36"/>
                    </a:lnTo>
                    <a:lnTo>
                      <a:pt x="58" y="42"/>
                    </a:lnTo>
                    <a:lnTo>
                      <a:pt x="64" y="49"/>
                    </a:lnTo>
                    <a:lnTo>
                      <a:pt x="69" y="56"/>
                    </a:lnTo>
                    <a:lnTo>
                      <a:pt x="73" y="64"/>
                    </a:lnTo>
                    <a:lnTo>
                      <a:pt x="77" y="72"/>
                    </a:lnTo>
                    <a:lnTo>
                      <a:pt x="80" y="80"/>
                    </a:lnTo>
                    <a:lnTo>
                      <a:pt x="82" y="89"/>
                    </a:lnTo>
                    <a:lnTo>
                      <a:pt x="82" y="97"/>
                    </a:lnTo>
                    <a:lnTo>
                      <a:pt x="81" y="101"/>
                    </a:lnTo>
                    <a:lnTo>
                      <a:pt x="76" y="96"/>
                    </a:lnTo>
                    <a:lnTo>
                      <a:pt x="68" y="90"/>
                    </a:lnTo>
                    <a:lnTo>
                      <a:pt x="61" y="85"/>
                    </a:lnTo>
                    <a:lnTo>
                      <a:pt x="53" y="79"/>
                    </a:lnTo>
                    <a:lnTo>
                      <a:pt x="44" y="74"/>
                    </a:lnTo>
                    <a:lnTo>
                      <a:pt x="36" y="70"/>
                    </a:lnTo>
                    <a:lnTo>
                      <a:pt x="29" y="68"/>
                    </a:lnTo>
                    <a:lnTo>
                      <a:pt x="17" y="65"/>
                    </a:lnTo>
                    <a:lnTo>
                      <a:pt x="8" y="65"/>
                    </a:lnTo>
                    <a:lnTo>
                      <a:pt x="1" y="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33520" y="4422600"/>
                <a:ext cx="422280" cy="1370160"/>
              </a:xfrm>
              <a:custGeom>
                <a:avLst/>
                <a:gdLst/>
                <a:ahLst/>
                <a:rect l="l" t="t" r="r" b="b"/>
                <a:pathLst>
                  <a:path w="266" h="863">
                    <a:moveTo>
                      <a:pt x="165" y="0"/>
                    </a:moveTo>
                    <a:lnTo>
                      <a:pt x="162" y="3"/>
                    </a:lnTo>
                    <a:lnTo>
                      <a:pt x="158" y="9"/>
                    </a:lnTo>
                    <a:lnTo>
                      <a:pt x="153" y="19"/>
                    </a:lnTo>
                    <a:lnTo>
                      <a:pt x="151" y="27"/>
                    </a:lnTo>
                    <a:lnTo>
                      <a:pt x="147" y="35"/>
                    </a:lnTo>
                    <a:lnTo>
                      <a:pt x="142" y="49"/>
                    </a:lnTo>
                    <a:lnTo>
                      <a:pt x="138" y="63"/>
                    </a:lnTo>
                    <a:lnTo>
                      <a:pt x="134" y="75"/>
                    </a:lnTo>
                    <a:lnTo>
                      <a:pt x="131" y="88"/>
                    </a:lnTo>
                    <a:lnTo>
                      <a:pt x="128" y="102"/>
                    </a:lnTo>
                    <a:lnTo>
                      <a:pt x="125" y="117"/>
                    </a:lnTo>
                    <a:lnTo>
                      <a:pt x="122" y="132"/>
                    </a:lnTo>
                    <a:lnTo>
                      <a:pt x="119" y="146"/>
                    </a:lnTo>
                    <a:lnTo>
                      <a:pt x="117" y="159"/>
                    </a:lnTo>
                    <a:lnTo>
                      <a:pt x="114" y="171"/>
                    </a:lnTo>
                    <a:lnTo>
                      <a:pt x="111" y="188"/>
                    </a:lnTo>
                    <a:lnTo>
                      <a:pt x="108" y="202"/>
                    </a:lnTo>
                    <a:lnTo>
                      <a:pt x="106" y="215"/>
                    </a:lnTo>
                    <a:lnTo>
                      <a:pt x="104" y="227"/>
                    </a:lnTo>
                    <a:lnTo>
                      <a:pt x="101" y="237"/>
                    </a:lnTo>
                    <a:lnTo>
                      <a:pt x="97" y="246"/>
                    </a:lnTo>
                    <a:lnTo>
                      <a:pt x="94" y="252"/>
                    </a:lnTo>
                    <a:lnTo>
                      <a:pt x="89" y="257"/>
                    </a:lnTo>
                    <a:lnTo>
                      <a:pt x="83" y="263"/>
                    </a:lnTo>
                    <a:lnTo>
                      <a:pt x="76" y="270"/>
                    </a:lnTo>
                    <a:lnTo>
                      <a:pt x="68" y="278"/>
                    </a:lnTo>
                    <a:lnTo>
                      <a:pt x="57" y="287"/>
                    </a:lnTo>
                    <a:lnTo>
                      <a:pt x="47" y="297"/>
                    </a:lnTo>
                    <a:lnTo>
                      <a:pt x="37" y="307"/>
                    </a:lnTo>
                    <a:lnTo>
                      <a:pt x="27" y="316"/>
                    </a:lnTo>
                    <a:lnTo>
                      <a:pt x="19" y="326"/>
                    </a:lnTo>
                    <a:lnTo>
                      <a:pt x="10" y="337"/>
                    </a:lnTo>
                    <a:lnTo>
                      <a:pt x="0" y="350"/>
                    </a:lnTo>
                    <a:lnTo>
                      <a:pt x="17" y="354"/>
                    </a:lnTo>
                    <a:lnTo>
                      <a:pt x="32" y="359"/>
                    </a:lnTo>
                    <a:lnTo>
                      <a:pt x="48" y="364"/>
                    </a:lnTo>
                    <a:lnTo>
                      <a:pt x="65" y="368"/>
                    </a:lnTo>
                    <a:lnTo>
                      <a:pt x="79" y="371"/>
                    </a:lnTo>
                    <a:lnTo>
                      <a:pt x="88" y="370"/>
                    </a:lnTo>
                    <a:lnTo>
                      <a:pt x="95" y="365"/>
                    </a:lnTo>
                    <a:lnTo>
                      <a:pt x="98" y="379"/>
                    </a:lnTo>
                    <a:lnTo>
                      <a:pt x="100" y="392"/>
                    </a:lnTo>
                    <a:lnTo>
                      <a:pt x="103" y="409"/>
                    </a:lnTo>
                    <a:lnTo>
                      <a:pt x="106" y="428"/>
                    </a:lnTo>
                    <a:lnTo>
                      <a:pt x="111" y="448"/>
                    </a:lnTo>
                    <a:lnTo>
                      <a:pt x="114" y="463"/>
                    </a:lnTo>
                    <a:lnTo>
                      <a:pt x="116" y="479"/>
                    </a:lnTo>
                    <a:lnTo>
                      <a:pt x="118" y="493"/>
                    </a:lnTo>
                    <a:lnTo>
                      <a:pt x="119" y="506"/>
                    </a:lnTo>
                    <a:lnTo>
                      <a:pt x="116" y="516"/>
                    </a:lnTo>
                    <a:lnTo>
                      <a:pt x="111" y="526"/>
                    </a:lnTo>
                    <a:lnTo>
                      <a:pt x="104" y="535"/>
                    </a:lnTo>
                    <a:lnTo>
                      <a:pt x="108" y="557"/>
                    </a:lnTo>
                    <a:lnTo>
                      <a:pt x="114" y="579"/>
                    </a:lnTo>
                    <a:lnTo>
                      <a:pt x="117" y="599"/>
                    </a:lnTo>
                    <a:lnTo>
                      <a:pt x="130" y="587"/>
                    </a:lnTo>
                    <a:lnTo>
                      <a:pt x="132" y="594"/>
                    </a:lnTo>
                    <a:lnTo>
                      <a:pt x="136" y="605"/>
                    </a:lnTo>
                    <a:lnTo>
                      <a:pt x="139" y="617"/>
                    </a:lnTo>
                    <a:lnTo>
                      <a:pt x="141" y="631"/>
                    </a:lnTo>
                    <a:lnTo>
                      <a:pt x="140" y="643"/>
                    </a:lnTo>
                    <a:lnTo>
                      <a:pt x="138" y="656"/>
                    </a:lnTo>
                    <a:lnTo>
                      <a:pt x="136" y="670"/>
                    </a:lnTo>
                    <a:lnTo>
                      <a:pt x="131" y="683"/>
                    </a:lnTo>
                    <a:lnTo>
                      <a:pt x="123" y="696"/>
                    </a:lnTo>
                    <a:lnTo>
                      <a:pt x="111" y="713"/>
                    </a:lnTo>
                    <a:lnTo>
                      <a:pt x="99" y="725"/>
                    </a:lnTo>
                    <a:lnTo>
                      <a:pt x="84" y="741"/>
                    </a:lnTo>
                    <a:lnTo>
                      <a:pt x="65" y="757"/>
                    </a:lnTo>
                    <a:lnTo>
                      <a:pt x="50" y="777"/>
                    </a:lnTo>
                    <a:lnTo>
                      <a:pt x="38" y="793"/>
                    </a:lnTo>
                    <a:lnTo>
                      <a:pt x="29" y="810"/>
                    </a:lnTo>
                    <a:lnTo>
                      <a:pt x="23" y="826"/>
                    </a:lnTo>
                    <a:lnTo>
                      <a:pt x="20" y="845"/>
                    </a:lnTo>
                    <a:lnTo>
                      <a:pt x="21" y="862"/>
                    </a:lnTo>
                    <a:lnTo>
                      <a:pt x="29" y="853"/>
                    </a:lnTo>
                    <a:lnTo>
                      <a:pt x="35" y="848"/>
                    </a:lnTo>
                    <a:lnTo>
                      <a:pt x="41" y="845"/>
                    </a:lnTo>
                    <a:lnTo>
                      <a:pt x="59" y="832"/>
                    </a:lnTo>
                    <a:lnTo>
                      <a:pt x="68" y="823"/>
                    </a:lnTo>
                    <a:lnTo>
                      <a:pt x="77" y="811"/>
                    </a:lnTo>
                    <a:lnTo>
                      <a:pt x="89" y="801"/>
                    </a:lnTo>
                    <a:lnTo>
                      <a:pt x="100" y="793"/>
                    </a:lnTo>
                    <a:lnTo>
                      <a:pt x="111" y="786"/>
                    </a:lnTo>
                    <a:lnTo>
                      <a:pt x="122" y="779"/>
                    </a:lnTo>
                    <a:lnTo>
                      <a:pt x="131" y="774"/>
                    </a:lnTo>
                    <a:lnTo>
                      <a:pt x="142" y="771"/>
                    </a:lnTo>
                    <a:lnTo>
                      <a:pt x="153" y="770"/>
                    </a:lnTo>
                    <a:lnTo>
                      <a:pt x="165" y="774"/>
                    </a:lnTo>
                    <a:lnTo>
                      <a:pt x="177" y="779"/>
                    </a:lnTo>
                    <a:lnTo>
                      <a:pt x="188" y="787"/>
                    </a:lnTo>
                    <a:lnTo>
                      <a:pt x="199" y="795"/>
                    </a:lnTo>
                    <a:lnTo>
                      <a:pt x="207" y="803"/>
                    </a:lnTo>
                    <a:lnTo>
                      <a:pt x="215" y="812"/>
                    </a:lnTo>
                    <a:lnTo>
                      <a:pt x="224" y="821"/>
                    </a:lnTo>
                    <a:lnTo>
                      <a:pt x="234" y="832"/>
                    </a:lnTo>
                    <a:lnTo>
                      <a:pt x="240" y="838"/>
                    </a:lnTo>
                    <a:lnTo>
                      <a:pt x="245" y="845"/>
                    </a:lnTo>
                    <a:lnTo>
                      <a:pt x="249" y="851"/>
                    </a:lnTo>
                    <a:lnTo>
                      <a:pt x="255" y="855"/>
                    </a:lnTo>
                    <a:lnTo>
                      <a:pt x="255" y="845"/>
                    </a:lnTo>
                    <a:lnTo>
                      <a:pt x="255" y="834"/>
                    </a:lnTo>
                    <a:lnTo>
                      <a:pt x="256" y="823"/>
                    </a:lnTo>
                    <a:lnTo>
                      <a:pt x="255" y="813"/>
                    </a:lnTo>
                    <a:lnTo>
                      <a:pt x="253" y="801"/>
                    </a:lnTo>
                    <a:lnTo>
                      <a:pt x="250" y="792"/>
                    </a:lnTo>
                    <a:lnTo>
                      <a:pt x="246" y="784"/>
                    </a:lnTo>
                    <a:lnTo>
                      <a:pt x="243" y="775"/>
                    </a:lnTo>
                    <a:lnTo>
                      <a:pt x="238" y="765"/>
                    </a:lnTo>
                    <a:lnTo>
                      <a:pt x="232" y="757"/>
                    </a:lnTo>
                    <a:lnTo>
                      <a:pt x="219" y="740"/>
                    </a:lnTo>
                    <a:lnTo>
                      <a:pt x="212" y="728"/>
                    </a:lnTo>
                    <a:lnTo>
                      <a:pt x="202" y="711"/>
                    </a:lnTo>
                    <a:lnTo>
                      <a:pt x="199" y="695"/>
                    </a:lnTo>
                    <a:lnTo>
                      <a:pt x="200" y="679"/>
                    </a:lnTo>
                    <a:lnTo>
                      <a:pt x="197" y="656"/>
                    </a:lnTo>
                    <a:lnTo>
                      <a:pt x="200" y="635"/>
                    </a:lnTo>
                    <a:lnTo>
                      <a:pt x="201" y="612"/>
                    </a:lnTo>
                    <a:lnTo>
                      <a:pt x="206" y="588"/>
                    </a:lnTo>
                    <a:lnTo>
                      <a:pt x="212" y="563"/>
                    </a:lnTo>
                    <a:lnTo>
                      <a:pt x="217" y="549"/>
                    </a:lnTo>
                    <a:lnTo>
                      <a:pt x="223" y="546"/>
                    </a:lnTo>
                    <a:lnTo>
                      <a:pt x="228" y="549"/>
                    </a:lnTo>
                    <a:lnTo>
                      <a:pt x="236" y="560"/>
                    </a:lnTo>
                    <a:lnTo>
                      <a:pt x="244" y="532"/>
                    </a:lnTo>
                    <a:lnTo>
                      <a:pt x="255" y="491"/>
                    </a:lnTo>
                    <a:lnTo>
                      <a:pt x="247" y="483"/>
                    </a:lnTo>
                    <a:lnTo>
                      <a:pt x="242" y="472"/>
                    </a:lnTo>
                    <a:lnTo>
                      <a:pt x="239" y="461"/>
                    </a:lnTo>
                    <a:lnTo>
                      <a:pt x="238" y="444"/>
                    </a:lnTo>
                    <a:lnTo>
                      <a:pt x="259" y="421"/>
                    </a:lnTo>
                    <a:lnTo>
                      <a:pt x="244" y="402"/>
                    </a:lnTo>
                    <a:lnTo>
                      <a:pt x="264" y="261"/>
                    </a:lnTo>
                    <a:lnTo>
                      <a:pt x="265" y="233"/>
                    </a:lnTo>
                    <a:lnTo>
                      <a:pt x="263" y="207"/>
                    </a:lnTo>
                    <a:lnTo>
                      <a:pt x="261" y="180"/>
                    </a:lnTo>
                    <a:lnTo>
                      <a:pt x="254" y="125"/>
                    </a:lnTo>
                    <a:lnTo>
                      <a:pt x="241" y="76"/>
                    </a:lnTo>
                    <a:lnTo>
                      <a:pt x="231" y="49"/>
                    </a:lnTo>
                    <a:lnTo>
                      <a:pt x="221" y="31"/>
                    </a:lnTo>
                    <a:lnTo>
                      <a:pt x="216" y="51"/>
                    </a:lnTo>
                    <a:lnTo>
                      <a:pt x="209" y="38"/>
                    </a:lnTo>
                    <a:lnTo>
                      <a:pt x="203" y="31"/>
                    </a:lnTo>
                    <a:lnTo>
                      <a:pt x="191" y="17"/>
                    </a:lnTo>
                    <a:lnTo>
                      <a:pt x="188" y="14"/>
                    </a:lnTo>
                    <a:lnTo>
                      <a:pt x="183" y="9"/>
                    </a:lnTo>
                    <a:lnTo>
                      <a:pt x="180" y="7"/>
                    </a:lnTo>
                    <a:lnTo>
                      <a:pt x="173" y="5"/>
                    </a:lnTo>
                    <a:lnTo>
                      <a:pt x="169" y="2"/>
                    </a:lnTo>
                    <a:lnTo>
                      <a:pt x="165" y="0"/>
                    </a:lnTo>
                  </a:path>
                </a:pathLst>
              </a:custGeom>
              <a:solidFill>
                <a:srgbClr val="7f7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2606760" y="4541760"/>
                <a:ext cx="31320" cy="33120"/>
                <a:chOff x="2606760" y="4541760"/>
                <a:chExt cx="31320" cy="33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2606760" y="4541760"/>
                  <a:ext cx="30240" cy="30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607840" y="4545000"/>
                  <a:ext cx="30240" cy="29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55" y="7697"/>
                      </a:moveTo>
                      <a:arcTo wR="10800" hR="10800" stAng="-9798045" swAng="183858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55" y="7697"/>
                      </a:moveTo>
                      <a:arcTo wR="10800" hR="10800" stAng="-9798045" swAng="18385851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2635200" y="4613400"/>
                <a:ext cx="82080" cy="104400"/>
                <a:chOff x="2635200" y="4613400"/>
                <a:chExt cx="82080" cy="10440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2635200" y="4629240"/>
                  <a:ext cx="8208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374" y="8601"/>
                      </a:moveTo>
                      <a:arcTo wR="10800" hR="10800" stAng="-704999" swAng="115049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374" y="8601"/>
                      </a:moveTo>
                      <a:arcTo wR="10800" hR="10800" stAng="-704999" swAng="1150499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635200" y="4613400"/>
                  <a:ext cx="8208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53" y="7724"/>
                      </a:moveTo>
                      <a:arcTo wR="10800" hR="10800" stAng="-992936" swAng="121193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53" y="7724"/>
                      </a:moveTo>
                      <a:arcTo wR="10800" hR="10800" stAng="-992936" swAng="1211935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635200" y="4647240"/>
                  <a:ext cx="82080" cy="33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394" y="8701"/>
                      </a:moveTo>
                      <a:arcTo wR="10800" hR="10800" stAng="-672297" swAng="1179871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394" y="8701"/>
                      </a:moveTo>
                      <a:arcTo wR="10800" hR="10800" stAng="-672297" swAng="11798718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635200" y="4665960"/>
                  <a:ext cx="82080" cy="30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2" y="9683"/>
                      </a:moveTo>
                      <a:arcTo wR="10800" hR="10800" stAng="-356245" swAng="111562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2" y="9683"/>
                      </a:moveTo>
                      <a:arcTo wR="10800" hR="10800" stAng="-356245" swAng="1115624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635200" y="4686480"/>
                  <a:ext cx="8208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374" y="8601"/>
                      </a:moveTo>
                      <a:arcTo wR="10800" hR="10800" stAng="-704999" swAng="115049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374" y="8601"/>
                      </a:moveTo>
                      <a:arcTo wR="10800" hR="10800" stAng="-704999" swAng="1150499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2336760" y="4424400"/>
                <a:ext cx="287280" cy="1365120"/>
              </a:xfrm>
              <a:custGeom>
                <a:avLst/>
                <a:gdLst/>
                <a:ahLst/>
                <a:rect l="l" t="t" r="r" b="b"/>
                <a:pathLst>
                  <a:path w="181" h="860">
                    <a:moveTo>
                      <a:pt x="162" y="0"/>
                    </a:moveTo>
                    <a:lnTo>
                      <a:pt x="159" y="4"/>
                    </a:lnTo>
                    <a:lnTo>
                      <a:pt x="156" y="11"/>
                    </a:lnTo>
                    <a:lnTo>
                      <a:pt x="152" y="18"/>
                    </a:lnTo>
                    <a:lnTo>
                      <a:pt x="149" y="26"/>
                    </a:lnTo>
                    <a:lnTo>
                      <a:pt x="146" y="34"/>
                    </a:lnTo>
                    <a:lnTo>
                      <a:pt x="142" y="47"/>
                    </a:lnTo>
                    <a:lnTo>
                      <a:pt x="137" y="58"/>
                    </a:lnTo>
                    <a:lnTo>
                      <a:pt x="134" y="72"/>
                    </a:lnTo>
                    <a:lnTo>
                      <a:pt x="130" y="86"/>
                    </a:lnTo>
                    <a:lnTo>
                      <a:pt x="126" y="100"/>
                    </a:lnTo>
                    <a:lnTo>
                      <a:pt x="123" y="115"/>
                    </a:lnTo>
                    <a:lnTo>
                      <a:pt x="121" y="129"/>
                    </a:lnTo>
                    <a:lnTo>
                      <a:pt x="119" y="144"/>
                    </a:lnTo>
                    <a:lnTo>
                      <a:pt x="115" y="158"/>
                    </a:lnTo>
                    <a:lnTo>
                      <a:pt x="112" y="172"/>
                    </a:lnTo>
                    <a:lnTo>
                      <a:pt x="110" y="184"/>
                    </a:lnTo>
                    <a:lnTo>
                      <a:pt x="107" y="200"/>
                    </a:lnTo>
                    <a:lnTo>
                      <a:pt x="104" y="214"/>
                    </a:lnTo>
                    <a:lnTo>
                      <a:pt x="102" y="227"/>
                    </a:lnTo>
                    <a:lnTo>
                      <a:pt x="99" y="237"/>
                    </a:lnTo>
                    <a:lnTo>
                      <a:pt x="96" y="246"/>
                    </a:lnTo>
                    <a:lnTo>
                      <a:pt x="91" y="253"/>
                    </a:lnTo>
                    <a:lnTo>
                      <a:pt x="87" y="258"/>
                    </a:lnTo>
                    <a:lnTo>
                      <a:pt x="81" y="264"/>
                    </a:lnTo>
                    <a:lnTo>
                      <a:pt x="74" y="270"/>
                    </a:lnTo>
                    <a:lnTo>
                      <a:pt x="64" y="278"/>
                    </a:lnTo>
                    <a:lnTo>
                      <a:pt x="55" y="287"/>
                    </a:lnTo>
                    <a:lnTo>
                      <a:pt x="46" y="296"/>
                    </a:lnTo>
                    <a:lnTo>
                      <a:pt x="36" y="306"/>
                    </a:lnTo>
                    <a:lnTo>
                      <a:pt x="25" y="316"/>
                    </a:lnTo>
                    <a:lnTo>
                      <a:pt x="16" y="327"/>
                    </a:lnTo>
                    <a:lnTo>
                      <a:pt x="7" y="338"/>
                    </a:lnTo>
                    <a:lnTo>
                      <a:pt x="0" y="348"/>
                    </a:lnTo>
                    <a:lnTo>
                      <a:pt x="15" y="352"/>
                    </a:lnTo>
                    <a:lnTo>
                      <a:pt x="31" y="357"/>
                    </a:lnTo>
                    <a:lnTo>
                      <a:pt x="48" y="362"/>
                    </a:lnTo>
                    <a:lnTo>
                      <a:pt x="63" y="366"/>
                    </a:lnTo>
                    <a:lnTo>
                      <a:pt x="70" y="367"/>
                    </a:lnTo>
                    <a:lnTo>
                      <a:pt x="77" y="369"/>
                    </a:lnTo>
                    <a:lnTo>
                      <a:pt x="85" y="367"/>
                    </a:lnTo>
                    <a:lnTo>
                      <a:pt x="93" y="362"/>
                    </a:lnTo>
                    <a:lnTo>
                      <a:pt x="96" y="377"/>
                    </a:lnTo>
                    <a:lnTo>
                      <a:pt x="98" y="391"/>
                    </a:lnTo>
                    <a:lnTo>
                      <a:pt x="102" y="408"/>
                    </a:lnTo>
                    <a:lnTo>
                      <a:pt x="105" y="427"/>
                    </a:lnTo>
                    <a:lnTo>
                      <a:pt x="109" y="447"/>
                    </a:lnTo>
                    <a:lnTo>
                      <a:pt x="112" y="461"/>
                    </a:lnTo>
                    <a:lnTo>
                      <a:pt x="114" y="477"/>
                    </a:lnTo>
                    <a:lnTo>
                      <a:pt x="116" y="492"/>
                    </a:lnTo>
                    <a:lnTo>
                      <a:pt x="117" y="504"/>
                    </a:lnTo>
                    <a:lnTo>
                      <a:pt x="114" y="515"/>
                    </a:lnTo>
                    <a:lnTo>
                      <a:pt x="109" y="524"/>
                    </a:lnTo>
                    <a:lnTo>
                      <a:pt x="102" y="534"/>
                    </a:lnTo>
                    <a:lnTo>
                      <a:pt x="106" y="555"/>
                    </a:lnTo>
                    <a:lnTo>
                      <a:pt x="112" y="578"/>
                    </a:lnTo>
                    <a:lnTo>
                      <a:pt x="116" y="596"/>
                    </a:lnTo>
                    <a:lnTo>
                      <a:pt x="127" y="584"/>
                    </a:lnTo>
                    <a:lnTo>
                      <a:pt x="131" y="593"/>
                    </a:lnTo>
                    <a:lnTo>
                      <a:pt x="135" y="604"/>
                    </a:lnTo>
                    <a:lnTo>
                      <a:pt x="137" y="616"/>
                    </a:lnTo>
                    <a:lnTo>
                      <a:pt x="139" y="629"/>
                    </a:lnTo>
                    <a:lnTo>
                      <a:pt x="138" y="641"/>
                    </a:lnTo>
                    <a:lnTo>
                      <a:pt x="137" y="655"/>
                    </a:lnTo>
                    <a:lnTo>
                      <a:pt x="135" y="668"/>
                    </a:lnTo>
                    <a:lnTo>
                      <a:pt x="130" y="682"/>
                    </a:lnTo>
                    <a:lnTo>
                      <a:pt x="121" y="696"/>
                    </a:lnTo>
                    <a:lnTo>
                      <a:pt x="109" y="712"/>
                    </a:lnTo>
                    <a:lnTo>
                      <a:pt x="97" y="725"/>
                    </a:lnTo>
                    <a:lnTo>
                      <a:pt x="82" y="740"/>
                    </a:lnTo>
                    <a:lnTo>
                      <a:pt x="75" y="746"/>
                    </a:lnTo>
                    <a:lnTo>
                      <a:pt x="63" y="757"/>
                    </a:lnTo>
                    <a:lnTo>
                      <a:pt x="55" y="766"/>
                    </a:lnTo>
                    <a:lnTo>
                      <a:pt x="48" y="775"/>
                    </a:lnTo>
                    <a:lnTo>
                      <a:pt x="42" y="785"/>
                    </a:lnTo>
                    <a:lnTo>
                      <a:pt x="36" y="793"/>
                    </a:lnTo>
                    <a:lnTo>
                      <a:pt x="31" y="802"/>
                    </a:lnTo>
                    <a:lnTo>
                      <a:pt x="27" y="810"/>
                    </a:lnTo>
                    <a:lnTo>
                      <a:pt x="24" y="817"/>
                    </a:lnTo>
                    <a:lnTo>
                      <a:pt x="21" y="825"/>
                    </a:lnTo>
                    <a:lnTo>
                      <a:pt x="20" y="833"/>
                    </a:lnTo>
                    <a:lnTo>
                      <a:pt x="19" y="843"/>
                    </a:lnTo>
                    <a:lnTo>
                      <a:pt x="19" y="859"/>
                    </a:lnTo>
                    <a:lnTo>
                      <a:pt x="25" y="852"/>
                    </a:lnTo>
                    <a:lnTo>
                      <a:pt x="33" y="846"/>
                    </a:lnTo>
                    <a:lnTo>
                      <a:pt x="38" y="842"/>
                    </a:lnTo>
                    <a:lnTo>
                      <a:pt x="48" y="836"/>
                    </a:lnTo>
                    <a:lnTo>
                      <a:pt x="56" y="830"/>
                    </a:lnTo>
                    <a:lnTo>
                      <a:pt x="64" y="822"/>
                    </a:lnTo>
                    <a:lnTo>
                      <a:pt x="72" y="811"/>
                    </a:lnTo>
                    <a:lnTo>
                      <a:pt x="78" y="806"/>
                    </a:lnTo>
                    <a:lnTo>
                      <a:pt x="84" y="801"/>
                    </a:lnTo>
                    <a:lnTo>
                      <a:pt x="91" y="795"/>
                    </a:lnTo>
                    <a:lnTo>
                      <a:pt x="96" y="792"/>
                    </a:lnTo>
                    <a:lnTo>
                      <a:pt x="102" y="788"/>
                    </a:lnTo>
                    <a:lnTo>
                      <a:pt x="107" y="784"/>
                    </a:lnTo>
                    <a:lnTo>
                      <a:pt x="113" y="781"/>
                    </a:lnTo>
                    <a:lnTo>
                      <a:pt x="119" y="778"/>
                    </a:lnTo>
                    <a:lnTo>
                      <a:pt x="123" y="775"/>
                    </a:lnTo>
                    <a:lnTo>
                      <a:pt x="129" y="772"/>
                    </a:lnTo>
                    <a:lnTo>
                      <a:pt x="135" y="770"/>
                    </a:lnTo>
                    <a:lnTo>
                      <a:pt x="139" y="769"/>
                    </a:lnTo>
                    <a:lnTo>
                      <a:pt x="145" y="769"/>
                    </a:lnTo>
                    <a:lnTo>
                      <a:pt x="151" y="768"/>
                    </a:lnTo>
                    <a:lnTo>
                      <a:pt x="148" y="763"/>
                    </a:lnTo>
                    <a:lnTo>
                      <a:pt x="147" y="756"/>
                    </a:lnTo>
                    <a:lnTo>
                      <a:pt x="146" y="750"/>
                    </a:lnTo>
                    <a:lnTo>
                      <a:pt x="147" y="744"/>
                    </a:lnTo>
                    <a:lnTo>
                      <a:pt x="149" y="738"/>
                    </a:lnTo>
                    <a:lnTo>
                      <a:pt x="151" y="733"/>
                    </a:lnTo>
                    <a:lnTo>
                      <a:pt x="152" y="728"/>
                    </a:lnTo>
                    <a:lnTo>
                      <a:pt x="154" y="722"/>
                    </a:lnTo>
                    <a:lnTo>
                      <a:pt x="155" y="716"/>
                    </a:lnTo>
                    <a:lnTo>
                      <a:pt x="154" y="708"/>
                    </a:lnTo>
                    <a:lnTo>
                      <a:pt x="152" y="701"/>
                    </a:lnTo>
                    <a:lnTo>
                      <a:pt x="151" y="696"/>
                    </a:lnTo>
                    <a:lnTo>
                      <a:pt x="149" y="690"/>
                    </a:lnTo>
                    <a:lnTo>
                      <a:pt x="150" y="684"/>
                    </a:lnTo>
                    <a:lnTo>
                      <a:pt x="151" y="676"/>
                    </a:lnTo>
                    <a:lnTo>
                      <a:pt x="152" y="668"/>
                    </a:lnTo>
                    <a:lnTo>
                      <a:pt x="152" y="663"/>
                    </a:lnTo>
                    <a:lnTo>
                      <a:pt x="152" y="655"/>
                    </a:lnTo>
                    <a:lnTo>
                      <a:pt x="150" y="647"/>
                    </a:lnTo>
                    <a:lnTo>
                      <a:pt x="150" y="639"/>
                    </a:lnTo>
                    <a:lnTo>
                      <a:pt x="152" y="632"/>
                    </a:lnTo>
                    <a:lnTo>
                      <a:pt x="153" y="622"/>
                    </a:lnTo>
                    <a:lnTo>
                      <a:pt x="153" y="615"/>
                    </a:lnTo>
                    <a:lnTo>
                      <a:pt x="152" y="606"/>
                    </a:lnTo>
                    <a:lnTo>
                      <a:pt x="151" y="598"/>
                    </a:lnTo>
                    <a:lnTo>
                      <a:pt x="152" y="589"/>
                    </a:lnTo>
                    <a:lnTo>
                      <a:pt x="156" y="582"/>
                    </a:lnTo>
                    <a:lnTo>
                      <a:pt x="157" y="572"/>
                    </a:lnTo>
                    <a:lnTo>
                      <a:pt x="158" y="565"/>
                    </a:lnTo>
                    <a:lnTo>
                      <a:pt x="159" y="556"/>
                    </a:lnTo>
                    <a:lnTo>
                      <a:pt x="160" y="549"/>
                    </a:lnTo>
                    <a:lnTo>
                      <a:pt x="158" y="540"/>
                    </a:lnTo>
                    <a:lnTo>
                      <a:pt x="156" y="531"/>
                    </a:lnTo>
                    <a:lnTo>
                      <a:pt x="158" y="522"/>
                    </a:lnTo>
                    <a:lnTo>
                      <a:pt x="159" y="515"/>
                    </a:lnTo>
                    <a:lnTo>
                      <a:pt x="159" y="508"/>
                    </a:lnTo>
                    <a:lnTo>
                      <a:pt x="158" y="500"/>
                    </a:lnTo>
                    <a:lnTo>
                      <a:pt x="158" y="493"/>
                    </a:lnTo>
                    <a:lnTo>
                      <a:pt x="159" y="485"/>
                    </a:lnTo>
                    <a:lnTo>
                      <a:pt x="162" y="478"/>
                    </a:lnTo>
                    <a:lnTo>
                      <a:pt x="164" y="471"/>
                    </a:lnTo>
                    <a:lnTo>
                      <a:pt x="167" y="463"/>
                    </a:lnTo>
                    <a:lnTo>
                      <a:pt x="169" y="455"/>
                    </a:lnTo>
                    <a:lnTo>
                      <a:pt x="171" y="446"/>
                    </a:lnTo>
                    <a:lnTo>
                      <a:pt x="172" y="437"/>
                    </a:lnTo>
                    <a:lnTo>
                      <a:pt x="170" y="426"/>
                    </a:lnTo>
                    <a:lnTo>
                      <a:pt x="169" y="415"/>
                    </a:lnTo>
                    <a:lnTo>
                      <a:pt x="170" y="409"/>
                    </a:lnTo>
                    <a:lnTo>
                      <a:pt x="171" y="398"/>
                    </a:lnTo>
                    <a:lnTo>
                      <a:pt x="171" y="391"/>
                    </a:lnTo>
                    <a:lnTo>
                      <a:pt x="172" y="383"/>
                    </a:lnTo>
                    <a:lnTo>
                      <a:pt x="172" y="376"/>
                    </a:lnTo>
                    <a:lnTo>
                      <a:pt x="172" y="365"/>
                    </a:lnTo>
                    <a:lnTo>
                      <a:pt x="169" y="356"/>
                    </a:lnTo>
                    <a:lnTo>
                      <a:pt x="166" y="350"/>
                    </a:lnTo>
                    <a:lnTo>
                      <a:pt x="166" y="343"/>
                    </a:lnTo>
                    <a:lnTo>
                      <a:pt x="166" y="335"/>
                    </a:lnTo>
                    <a:lnTo>
                      <a:pt x="167" y="327"/>
                    </a:lnTo>
                    <a:lnTo>
                      <a:pt x="169" y="319"/>
                    </a:lnTo>
                    <a:lnTo>
                      <a:pt x="170" y="311"/>
                    </a:lnTo>
                    <a:lnTo>
                      <a:pt x="170" y="305"/>
                    </a:lnTo>
                    <a:lnTo>
                      <a:pt x="168" y="300"/>
                    </a:lnTo>
                    <a:lnTo>
                      <a:pt x="166" y="292"/>
                    </a:lnTo>
                    <a:lnTo>
                      <a:pt x="166" y="286"/>
                    </a:lnTo>
                    <a:lnTo>
                      <a:pt x="166" y="278"/>
                    </a:lnTo>
                    <a:lnTo>
                      <a:pt x="167" y="272"/>
                    </a:lnTo>
                    <a:lnTo>
                      <a:pt x="168" y="263"/>
                    </a:lnTo>
                    <a:lnTo>
                      <a:pt x="170" y="253"/>
                    </a:lnTo>
                    <a:lnTo>
                      <a:pt x="170" y="245"/>
                    </a:lnTo>
                    <a:lnTo>
                      <a:pt x="169" y="237"/>
                    </a:lnTo>
                    <a:lnTo>
                      <a:pt x="171" y="228"/>
                    </a:lnTo>
                    <a:lnTo>
                      <a:pt x="172" y="220"/>
                    </a:lnTo>
                    <a:lnTo>
                      <a:pt x="175" y="210"/>
                    </a:lnTo>
                    <a:lnTo>
                      <a:pt x="177" y="202"/>
                    </a:lnTo>
                    <a:lnTo>
                      <a:pt x="179" y="190"/>
                    </a:lnTo>
                    <a:lnTo>
                      <a:pt x="180" y="176"/>
                    </a:lnTo>
                    <a:lnTo>
                      <a:pt x="180" y="162"/>
                    </a:lnTo>
                    <a:lnTo>
                      <a:pt x="179" y="149"/>
                    </a:lnTo>
                    <a:lnTo>
                      <a:pt x="180" y="133"/>
                    </a:lnTo>
                    <a:lnTo>
                      <a:pt x="180" y="125"/>
                    </a:lnTo>
                    <a:lnTo>
                      <a:pt x="179" y="118"/>
                    </a:lnTo>
                    <a:lnTo>
                      <a:pt x="180" y="109"/>
                    </a:lnTo>
                    <a:lnTo>
                      <a:pt x="179" y="99"/>
                    </a:lnTo>
                    <a:lnTo>
                      <a:pt x="173" y="84"/>
                    </a:lnTo>
                    <a:lnTo>
                      <a:pt x="174" y="73"/>
                    </a:lnTo>
                    <a:lnTo>
                      <a:pt x="175" y="64"/>
                    </a:lnTo>
                    <a:lnTo>
                      <a:pt x="175" y="54"/>
                    </a:lnTo>
                    <a:lnTo>
                      <a:pt x="175" y="45"/>
                    </a:lnTo>
                    <a:lnTo>
                      <a:pt x="174" y="35"/>
                    </a:lnTo>
                    <a:lnTo>
                      <a:pt x="172" y="26"/>
                    </a:lnTo>
                    <a:lnTo>
                      <a:pt x="169" y="16"/>
                    </a:lnTo>
                    <a:lnTo>
                      <a:pt x="167" y="9"/>
                    </a:lnTo>
                    <a:lnTo>
                      <a:pt x="164" y="0"/>
                    </a:lnTo>
                    <a:lnTo>
                      <a:pt x="162" y="0"/>
                    </a:lnTo>
                  </a:path>
                </a:pathLst>
              </a:custGeom>
              <a:solidFill>
                <a:srgbClr val="5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2670120" y="4699080"/>
                <a:ext cx="150840" cy="195120"/>
                <a:chOff x="2670120" y="4699080"/>
                <a:chExt cx="150840" cy="1951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690640" y="4699080"/>
                  <a:ext cx="130320" cy="195120"/>
                </a:xfrm>
                <a:custGeom>
                  <a:avLst/>
                  <a:gdLst/>
                  <a:ahLst/>
                  <a:rect l="l" t="t" r="r" b="b"/>
                  <a:pathLst>
                    <a:path w="82" h="123">
                      <a:moveTo>
                        <a:pt x="72" y="114"/>
                      </a:moveTo>
                      <a:lnTo>
                        <a:pt x="65" y="108"/>
                      </a:lnTo>
                      <a:lnTo>
                        <a:pt x="60" y="104"/>
                      </a:lnTo>
                      <a:lnTo>
                        <a:pt x="56" y="100"/>
                      </a:lnTo>
                      <a:lnTo>
                        <a:pt x="52" y="97"/>
                      </a:lnTo>
                      <a:lnTo>
                        <a:pt x="47" y="94"/>
                      </a:lnTo>
                      <a:lnTo>
                        <a:pt x="43" y="91"/>
                      </a:lnTo>
                      <a:lnTo>
                        <a:pt x="38" y="87"/>
                      </a:lnTo>
                      <a:lnTo>
                        <a:pt x="32" y="85"/>
                      </a:lnTo>
                      <a:lnTo>
                        <a:pt x="26" y="83"/>
                      </a:lnTo>
                      <a:lnTo>
                        <a:pt x="20" y="81"/>
                      </a:lnTo>
                      <a:lnTo>
                        <a:pt x="14" y="79"/>
                      </a:lnTo>
                      <a:lnTo>
                        <a:pt x="8" y="79"/>
                      </a:lnTo>
                      <a:lnTo>
                        <a:pt x="0" y="79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11" y="6"/>
                      </a:lnTo>
                      <a:lnTo>
                        <a:pt x="17" y="10"/>
                      </a:lnTo>
                      <a:lnTo>
                        <a:pt x="23" y="14"/>
                      </a:lnTo>
                      <a:lnTo>
                        <a:pt x="29" y="20"/>
                      </a:lnTo>
                      <a:lnTo>
                        <a:pt x="35" y="26"/>
                      </a:lnTo>
                      <a:lnTo>
                        <a:pt x="41" y="32"/>
                      </a:lnTo>
                      <a:lnTo>
                        <a:pt x="46" y="38"/>
                      </a:lnTo>
                      <a:lnTo>
                        <a:pt x="52" y="46"/>
                      </a:lnTo>
                      <a:lnTo>
                        <a:pt x="59" y="54"/>
                      </a:lnTo>
                      <a:lnTo>
                        <a:pt x="63" y="61"/>
                      </a:lnTo>
                      <a:lnTo>
                        <a:pt x="67" y="68"/>
                      </a:lnTo>
                      <a:lnTo>
                        <a:pt x="69" y="74"/>
                      </a:lnTo>
                      <a:lnTo>
                        <a:pt x="72" y="81"/>
                      </a:lnTo>
                      <a:lnTo>
                        <a:pt x="75" y="88"/>
                      </a:lnTo>
                      <a:lnTo>
                        <a:pt x="77" y="96"/>
                      </a:lnTo>
                      <a:lnTo>
                        <a:pt x="78" y="104"/>
                      </a:lnTo>
                      <a:lnTo>
                        <a:pt x="79" y="111"/>
                      </a:lnTo>
                      <a:lnTo>
                        <a:pt x="80" y="117"/>
                      </a:lnTo>
                      <a:lnTo>
                        <a:pt x="81" y="122"/>
                      </a:lnTo>
                      <a:lnTo>
                        <a:pt x="72" y="114"/>
                      </a:lnTo>
                    </a:path>
                  </a:pathLst>
                </a:custGeom>
                <a:solidFill>
                  <a:srgbClr val="7f7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670120" y="4700520"/>
                  <a:ext cx="27000" cy="123840"/>
                </a:xfrm>
                <a:custGeom>
                  <a:avLst/>
                  <a:gdLst/>
                  <a:ahLst/>
                  <a:rect l="l" t="t" r="r" b="b"/>
                  <a:pathLst>
                    <a:path w="17" h="78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6" y="1"/>
                      </a:lnTo>
                      <a:lnTo>
                        <a:pt x="16" y="77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1" name=""/>
            <p:cNvSpPr/>
            <p:nvPr/>
          </p:nvSpPr>
          <p:spPr>
            <a:xfrm>
              <a:off x="2668680" y="3201840"/>
              <a:ext cx="380916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35"/>
                </a:path>
              </a:pathLst>
            </a:custGeom>
            <a:noFill/>
            <a:ln cap="rnd"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66880" y="4038480"/>
              <a:ext cx="0" cy="45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41160" y="4929120"/>
              <a:ext cx="1399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2133720" y="4495320"/>
              <a:ext cx="0" cy="838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350532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66880" y="3886200"/>
              <a:ext cx="7308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0"/>
                  </a:moveTo>
                  <a:lnTo>
                    <a:pt x="0" y="12"/>
                  </a:lnTo>
                  <a:lnTo>
                    <a:pt x="3" y="21"/>
                  </a:lnTo>
                  <a:lnTo>
                    <a:pt x="12" y="27"/>
                  </a:lnTo>
                  <a:lnTo>
                    <a:pt x="21" y="33"/>
                  </a:lnTo>
                  <a:lnTo>
                    <a:pt x="30" y="36"/>
                  </a:lnTo>
                  <a:lnTo>
                    <a:pt x="39" y="36"/>
                  </a:lnTo>
                  <a:lnTo>
                    <a:pt x="45" y="27"/>
                  </a:lnTo>
                  <a:lnTo>
                    <a:pt x="45" y="18"/>
                  </a:lnTo>
                  <a:lnTo>
                    <a:pt x="39" y="9"/>
                  </a:lnTo>
                  <a:lnTo>
                    <a:pt x="30" y="9"/>
                  </a:lnTo>
                  <a:lnTo>
                    <a:pt x="27" y="18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00280" y="3952800"/>
              <a:ext cx="68400" cy="8748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54"/>
                  </a:moveTo>
                  <a:lnTo>
                    <a:pt x="42" y="42"/>
                  </a:lnTo>
                  <a:lnTo>
                    <a:pt x="42" y="33"/>
                  </a:lnTo>
                  <a:lnTo>
                    <a:pt x="33" y="27"/>
                  </a:lnTo>
                  <a:lnTo>
                    <a:pt x="24" y="21"/>
                  </a:lnTo>
                  <a:lnTo>
                    <a:pt x="15" y="18"/>
                  </a:lnTo>
                  <a:lnTo>
                    <a:pt x="6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44760" y="3740040"/>
              <a:ext cx="444600" cy="444600"/>
            </a:xfrm>
            <a:custGeom>
              <a:avLst/>
              <a:gdLst>
                <a:gd name="textAreaLeft" fmla="*/ 101520 w 444600"/>
                <a:gd name="textAreaRight" fmla="*/ 343080 w 444600"/>
                <a:gd name="textAreaTop" fmla="*/ 101520 h 444600"/>
                <a:gd name="textAreaBottom" fmla="*/ 343080 h 44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94520" y="3654360"/>
              <a:ext cx="1265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 Narrow"/>
                </a:rPr>
                <a:t>snap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8420000">
              <a:off x="3933000" y="2759760"/>
              <a:ext cx="1066680" cy="76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5"/>
                  </a:moveTo>
                  <a:arcTo wR="10800" hR="10800" stAng="-10785706" swAng="537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5"/>
                  </a:moveTo>
                  <a:arcTo wR="10800" hR="10800" stAng="-10785706" swAng="5375496"/>
                </a:path>
              </a:pathLst>
            </a:custGeom>
            <a:noFill/>
            <a:ln cap="rnd" w="12600">
              <a:solidFill>
                <a:srgbClr val="00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59040" y="2406240"/>
            <a:ext cx="3824280" cy="3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اگرام جسم آزاد را بکشی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79440" y="4019400"/>
            <a:ext cx="213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g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58960" y="4567320"/>
            <a:ext cx="330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m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073160" y="5380200"/>
            <a:ext cx="1738440" cy="650880"/>
            <a:chOff x="1073160" y="5380200"/>
            <a:chExt cx="1738440" cy="650880"/>
          </a:xfrm>
        </p:grpSpPr>
        <mc:AlternateContent>
          <mc:Choice xmlns:a14="http://schemas.microsoft.com/office/drawing/2010/main" Requires="a14">
            <p:sp>
              <p:nvSpPr>
                <p:cNvPr id="496" name=""/>
                <p:cNvSpPr txBox="1"/>
                <p:nvPr/>
              </p:nvSpPr>
              <p:spPr>
                <a:xfrm>
                  <a:off x="1741320" y="5380200"/>
                  <a:ext cx="10702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97" name=""/>
            <p:cNvSpPr/>
            <p:nvPr/>
          </p:nvSpPr>
          <p:spPr>
            <a:xfrm>
              <a:off x="1073160" y="5568840"/>
              <a:ext cx="444600" cy="292320"/>
            </a:xfrm>
            <a:prstGeom prst="rightArrow">
              <a:avLst>
                <a:gd name="adj1" fmla="val 50000"/>
                <a:gd name="adj2" fmla="val 76054"/>
              </a:avLst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816360" y="5451480"/>
            <a:ext cx="4570560" cy="642960"/>
            <a:chOff x="3816360" y="5451480"/>
            <a:chExt cx="4570560" cy="642960"/>
          </a:xfrm>
        </p:grpSpPr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4448160" y="5451480"/>
                  <a:ext cx="393876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  <m:r>
                            <m:t xml:space="preserve">N</m:t>
                          </m:r>
                        </m:num>
                        <m:den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9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m</m:t>
                          </m:r>
                          <m:r>
                            <m:t xml:space="preserve">/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k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0" name=""/>
            <p:cNvSpPr/>
            <p:nvPr/>
          </p:nvSpPr>
          <p:spPr>
            <a:xfrm>
              <a:off x="3816360" y="5568840"/>
              <a:ext cx="444600" cy="292320"/>
            </a:xfrm>
            <a:prstGeom prst="rightArrow">
              <a:avLst>
                <a:gd name="adj1" fmla="val 50000"/>
                <a:gd name="adj2" fmla="val 76054"/>
              </a:avLst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600280" y="3160800"/>
            <a:ext cx="0" cy="1218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623680" y="2606760"/>
            <a:ext cx="139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=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298600" y="727200"/>
            <a:ext cx="1397520" cy="3470400"/>
            <a:chOff x="2298600" y="727200"/>
            <a:chExt cx="1397520" cy="3470400"/>
          </a:xfrm>
        </p:grpSpPr>
        <p:sp>
          <p:nvSpPr>
            <p:cNvPr id="504" name=""/>
            <p:cNvSpPr/>
            <p:nvPr/>
          </p:nvSpPr>
          <p:spPr>
            <a:xfrm>
              <a:off x="2813040" y="1065240"/>
              <a:ext cx="409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355840" y="2035080"/>
              <a:ext cx="487440" cy="1369800"/>
              <a:chOff x="2355840" y="2035080"/>
              <a:chExt cx="487440" cy="1369800"/>
            </a:xfrm>
          </p:grpSpPr>
          <p:sp>
            <p:nvSpPr>
              <p:cNvPr id="506" name=""/>
              <p:cNvSpPr/>
              <p:nvPr/>
            </p:nvSpPr>
            <p:spPr>
              <a:xfrm>
                <a:off x="2671560" y="2381040"/>
                <a:ext cx="132120" cy="162000"/>
              </a:xfrm>
              <a:custGeom>
                <a:avLst/>
                <a:gdLst/>
                <a:ahLst/>
                <a:rect l="l" t="t" r="r" b="b"/>
                <a:pathLst>
                  <a:path w="83" h="102">
                    <a:moveTo>
                      <a:pt x="0" y="0"/>
                    </a:moveTo>
                    <a:lnTo>
                      <a:pt x="8" y="3"/>
                    </a:lnTo>
                    <a:lnTo>
                      <a:pt x="17" y="8"/>
                    </a:lnTo>
                    <a:lnTo>
                      <a:pt x="25" y="14"/>
                    </a:lnTo>
                    <a:lnTo>
                      <a:pt x="33" y="20"/>
                    </a:lnTo>
                    <a:lnTo>
                      <a:pt x="42" y="28"/>
                    </a:lnTo>
                    <a:lnTo>
                      <a:pt x="51" y="36"/>
                    </a:lnTo>
                    <a:lnTo>
                      <a:pt x="58" y="42"/>
                    </a:lnTo>
                    <a:lnTo>
                      <a:pt x="64" y="49"/>
                    </a:lnTo>
                    <a:lnTo>
                      <a:pt x="69" y="56"/>
                    </a:lnTo>
                    <a:lnTo>
                      <a:pt x="73" y="64"/>
                    </a:lnTo>
                    <a:lnTo>
                      <a:pt x="77" y="72"/>
                    </a:lnTo>
                    <a:lnTo>
                      <a:pt x="80" y="80"/>
                    </a:lnTo>
                    <a:lnTo>
                      <a:pt x="82" y="89"/>
                    </a:lnTo>
                    <a:lnTo>
                      <a:pt x="82" y="97"/>
                    </a:lnTo>
                    <a:lnTo>
                      <a:pt x="81" y="101"/>
                    </a:lnTo>
                    <a:lnTo>
                      <a:pt x="76" y="96"/>
                    </a:lnTo>
                    <a:lnTo>
                      <a:pt x="68" y="90"/>
                    </a:lnTo>
                    <a:lnTo>
                      <a:pt x="61" y="85"/>
                    </a:lnTo>
                    <a:lnTo>
                      <a:pt x="53" y="79"/>
                    </a:lnTo>
                    <a:lnTo>
                      <a:pt x="44" y="74"/>
                    </a:lnTo>
                    <a:lnTo>
                      <a:pt x="36" y="70"/>
                    </a:lnTo>
                    <a:lnTo>
                      <a:pt x="29" y="68"/>
                    </a:lnTo>
                    <a:lnTo>
                      <a:pt x="17" y="65"/>
                    </a:lnTo>
                    <a:lnTo>
                      <a:pt x="8" y="65"/>
                    </a:lnTo>
                    <a:lnTo>
                      <a:pt x="1" y="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355840" y="2035080"/>
                <a:ext cx="422280" cy="1369800"/>
              </a:xfrm>
              <a:custGeom>
                <a:avLst/>
                <a:gdLst/>
                <a:ahLst/>
                <a:rect l="l" t="t" r="r" b="b"/>
                <a:pathLst>
                  <a:path w="266" h="863">
                    <a:moveTo>
                      <a:pt x="165" y="0"/>
                    </a:moveTo>
                    <a:lnTo>
                      <a:pt x="162" y="3"/>
                    </a:lnTo>
                    <a:lnTo>
                      <a:pt x="158" y="9"/>
                    </a:lnTo>
                    <a:lnTo>
                      <a:pt x="153" y="19"/>
                    </a:lnTo>
                    <a:lnTo>
                      <a:pt x="151" y="27"/>
                    </a:lnTo>
                    <a:lnTo>
                      <a:pt x="147" y="35"/>
                    </a:lnTo>
                    <a:lnTo>
                      <a:pt x="142" y="49"/>
                    </a:lnTo>
                    <a:lnTo>
                      <a:pt x="138" y="63"/>
                    </a:lnTo>
                    <a:lnTo>
                      <a:pt x="134" y="75"/>
                    </a:lnTo>
                    <a:lnTo>
                      <a:pt x="131" y="88"/>
                    </a:lnTo>
                    <a:lnTo>
                      <a:pt x="128" y="102"/>
                    </a:lnTo>
                    <a:lnTo>
                      <a:pt x="125" y="117"/>
                    </a:lnTo>
                    <a:lnTo>
                      <a:pt x="122" y="132"/>
                    </a:lnTo>
                    <a:lnTo>
                      <a:pt x="119" y="146"/>
                    </a:lnTo>
                    <a:lnTo>
                      <a:pt x="117" y="159"/>
                    </a:lnTo>
                    <a:lnTo>
                      <a:pt x="114" y="171"/>
                    </a:lnTo>
                    <a:lnTo>
                      <a:pt x="111" y="188"/>
                    </a:lnTo>
                    <a:lnTo>
                      <a:pt x="108" y="202"/>
                    </a:lnTo>
                    <a:lnTo>
                      <a:pt x="106" y="215"/>
                    </a:lnTo>
                    <a:lnTo>
                      <a:pt x="104" y="227"/>
                    </a:lnTo>
                    <a:lnTo>
                      <a:pt x="101" y="237"/>
                    </a:lnTo>
                    <a:lnTo>
                      <a:pt x="97" y="246"/>
                    </a:lnTo>
                    <a:lnTo>
                      <a:pt x="94" y="252"/>
                    </a:lnTo>
                    <a:lnTo>
                      <a:pt x="89" y="257"/>
                    </a:lnTo>
                    <a:lnTo>
                      <a:pt x="83" y="263"/>
                    </a:lnTo>
                    <a:lnTo>
                      <a:pt x="76" y="270"/>
                    </a:lnTo>
                    <a:lnTo>
                      <a:pt x="68" y="278"/>
                    </a:lnTo>
                    <a:lnTo>
                      <a:pt x="57" y="287"/>
                    </a:lnTo>
                    <a:lnTo>
                      <a:pt x="47" y="297"/>
                    </a:lnTo>
                    <a:lnTo>
                      <a:pt x="37" y="307"/>
                    </a:lnTo>
                    <a:lnTo>
                      <a:pt x="27" y="316"/>
                    </a:lnTo>
                    <a:lnTo>
                      <a:pt x="19" y="326"/>
                    </a:lnTo>
                    <a:lnTo>
                      <a:pt x="10" y="337"/>
                    </a:lnTo>
                    <a:lnTo>
                      <a:pt x="0" y="350"/>
                    </a:lnTo>
                    <a:lnTo>
                      <a:pt x="17" y="354"/>
                    </a:lnTo>
                    <a:lnTo>
                      <a:pt x="32" y="359"/>
                    </a:lnTo>
                    <a:lnTo>
                      <a:pt x="48" y="364"/>
                    </a:lnTo>
                    <a:lnTo>
                      <a:pt x="65" y="368"/>
                    </a:lnTo>
                    <a:lnTo>
                      <a:pt x="79" y="371"/>
                    </a:lnTo>
                    <a:lnTo>
                      <a:pt x="88" y="370"/>
                    </a:lnTo>
                    <a:lnTo>
                      <a:pt x="95" y="365"/>
                    </a:lnTo>
                    <a:lnTo>
                      <a:pt x="98" y="379"/>
                    </a:lnTo>
                    <a:lnTo>
                      <a:pt x="100" y="392"/>
                    </a:lnTo>
                    <a:lnTo>
                      <a:pt x="103" y="409"/>
                    </a:lnTo>
                    <a:lnTo>
                      <a:pt x="106" y="428"/>
                    </a:lnTo>
                    <a:lnTo>
                      <a:pt x="111" y="448"/>
                    </a:lnTo>
                    <a:lnTo>
                      <a:pt x="114" y="463"/>
                    </a:lnTo>
                    <a:lnTo>
                      <a:pt x="116" y="479"/>
                    </a:lnTo>
                    <a:lnTo>
                      <a:pt x="118" y="493"/>
                    </a:lnTo>
                    <a:lnTo>
                      <a:pt x="119" y="506"/>
                    </a:lnTo>
                    <a:lnTo>
                      <a:pt x="116" y="516"/>
                    </a:lnTo>
                    <a:lnTo>
                      <a:pt x="111" y="526"/>
                    </a:lnTo>
                    <a:lnTo>
                      <a:pt x="104" y="535"/>
                    </a:lnTo>
                    <a:lnTo>
                      <a:pt x="108" y="557"/>
                    </a:lnTo>
                    <a:lnTo>
                      <a:pt x="114" y="579"/>
                    </a:lnTo>
                    <a:lnTo>
                      <a:pt x="117" y="599"/>
                    </a:lnTo>
                    <a:lnTo>
                      <a:pt x="130" y="587"/>
                    </a:lnTo>
                    <a:lnTo>
                      <a:pt x="132" y="594"/>
                    </a:lnTo>
                    <a:lnTo>
                      <a:pt x="136" y="605"/>
                    </a:lnTo>
                    <a:lnTo>
                      <a:pt x="139" y="617"/>
                    </a:lnTo>
                    <a:lnTo>
                      <a:pt x="141" y="631"/>
                    </a:lnTo>
                    <a:lnTo>
                      <a:pt x="140" y="643"/>
                    </a:lnTo>
                    <a:lnTo>
                      <a:pt x="138" y="656"/>
                    </a:lnTo>
                    <a:lnTo>
                      <a:pt x="136" y="670"/>
                    </a:lnTo>
                    <a:lnTo>
                      <a:pt x="131" y="683"/>
                    </a:lnTo>
                    <a:lnTo>
                      <a:pt x="123" y="696"/>
                    </a:lnTo>
                    <a:lnTo>
                      <a:pt x="111" y="713"/>
                    </a:lnTo>
                    <a:lnTo>
                      <a:pt x="99" y="725"/>
                    </a:lnTo>
                    <a:lnTo>
                      <a:pt x="84" y="741"/>
                    </a:lnTo>
                    <a:lnTo>
                      <a:pt x="65" y="757"/>
                    </a:lnTo>
                    <a:lnTo>
                      <a:pt x="50" y="777"/>
                    </a:lnTo>
                    <a:lnTo>
                      <a:pt x="38" y="793"/>
                    </a:lnTo>
                    <a:lnTo>
                      <a:pt x="29" y="810"/>
                    </a:lnTo>
                    <a:lnTo>
                      <a:pt x="23" y="826"/>
                    </a:lnTo>
                    <a:lnTo>
                      <a:pt x="20" y="845"/>
                    </a:lnTo>
                    <a:lnTo>
                      <a:pt x="21" y="862"/>
                    </a:lnTo>
                    <a:lnTo>
                      <a:pt x="29" y="853"/>
                    </a:lnTo>
                    <a:lnTo>
                      <a:pt x="35" y="848"/>
                    </a:lnTo>
                    <a:lnTo>
                      <a:pt x="41" y="845"/>
                    </a:lnTo>
                    <a:lnTo>
                      <a:pt x="59" y="832"/>
                    </a:lnTo>
                    <a:lnTo>
                      <a:pt x="68" y="823"/>
                    </a:lnTo>
                    <a:lnTo>
                      <a:pt x="77" y="811"/>
                    </a:lnTo>
                    <a:lnTo>
                      <a:pt x="89" y="801"/>
                    </a:lnTo>
                    <a:lnTo>
                      <a:pt x="100" y="793"/>
                    </a:lnTo>
                    <a:lnTo>
                      <a:pt x="111" y="786"/>
                    </a:lnTo>
                    <a:lnTo>
                      <a:pt x="122" y="779"/>
                    </a:lnTo>
                    <a:lnTo>
                      <a:pt x="131" y="774"/>
                    </a:lnTo>
                    <a:lnTo>
                      <a:pt x="142" y="771"/>
                    </a:lnTo>
                    <a:lnTo>
                      <a:pt x="153" y="770"/>
                    </a:lnTo>
                    <a:lnTo>
                      <a:pt x="165" y="774"/>
                    </a:lnTo>
                    <a:lnTo>
                      <a:pt x="177" y="779"/>
                    </a:lnTo>
                    <a:lnTo>
                      <a:pt x="188" y="787"/>
                    </a:lnTo>
                    <a:lnTo>
                      <a:pt x="199" y="795"/>
                    </a:lnTo>
                    <a:lnTo>
                      <a:pt x="207" y="803"/>
                    </a:lnTo>
                    <a:lnTo>
                      <a:pt x="215" y="812"/>
                    </a:lnTo>
                    <a:lnTo>
                      <a:pt x="224" y="821"/>
                    </a:lnTo>
                    <a:lnTo>
                      <a:pt x="234" y="832"/>
                    </a:lnTo>
                    <a:lnTo>
                      <a:pt x="240" y="838"/>
                    </a:lnTo>
                    <a:lnTo>
                      <a:pt x="245" y="845"/>
                    </a:lnTo>
                    <a:lnTo>
                      <a:pt x="249" y="851"/>
                    </a:lnTo>
                    <a:lnTo>
                      <a:pt x="255" y="855"/>
                    </a:lnTo>
                    <a:lnTo>
                      <a:pt x="255" y="845"/>
                    </a:lnTo>
                    <a:lnTo>
                      <a:pt x="255" y="834"/>
                    </a:lnTo>
                    <a:lnTo>
                      <a:pt x="256" y="823"/>
                    </a:lnTo>
                    <a:lnTo>
                      <a:pt x="255" y="813"/>
                    </a:lnTo>
                    <a:lnTo>
                      <a:pt x="253" y="801"/>
                    </a:lnTo>
                    <a:lnTo>
                      <a:pt x="250" y="792"/>
                    </a:lnTo>
                    <a:lnTo>
                      <a:pt x="246" y="784"/>
                    </a:lnTo>
                    <a:lnTo>
                      <a:pt x="243" y="775"/>
                    </a:lnTo>
                    <a:lnTo>
                      <a:pt x="238" y="765"/>
                    </a:lnTo>
                    <a:lnTo>
                      <a:pt x="232" y="757"/>
                    </a:lnTo>
                    <a:lnTo>
                      <a:pt x="219" y="740"/>
                    </a:lnTo>
                    <a:lnTo>
                      <a:pt x="212" y="728"/>
                    </a:lnTo>
                    <a:lnTo>
                      <a:pt x="202" y="711"/>
                    </a:lnTo>
                    <a:lnTo>
                      <a:pt x="199" y="695"/>
                    </a:lnTo>
                    <a:lnTo>
                      <a:pt x="200" y="679"/>
                    </a:lnTo>
                    <a:lnTo>
                      <a:pt x="197" y="656"/>
                    </a:lnTo>
                    <a:lnTo>
                      <a:pt x="200" y="635"/>
                    </a:lnTo>
                    <a:lnTo>
                      <a:pt x="201" y="612"/>
                    </a:lnTo>
                    <a:lnTo>
                      <a:pt x="206" y="588"/>
                    </a:lnTo>
                    <a:lnTo>
                      <a:pt x="212" y="563"/>
                    </a:lnTo>
                    <a:lnTo>
                      <a:pt x="217" y="549"/>
                    </a:lnTo>
                    <a:lnTo>
                      <a:pt x="223" y="546"/>
                    </a:lnTo>
                    <a:lnTo>
                      <a:pt x="228" y="549"/>
                    </a:lnTo>
                    <a:lnTo>
                      <a:pt x="236" y="560"/>
                    </a:lnTo>
                    <a:lnTo>
                      <a:pt x="244" y="532"/>
                    </a:lnTo>
                    <a:lnTo>
                      <a:pt x="255" y="491"/>
                    </a:lnTo>
                    <a:lnTo>
                      <a:pt x="247" y="483"/>
                    </a:lnTo>
                    <a:lnTo>
                      <a:pt x="242" y="472"/>
                    </a:lnTo>
                    <a:lnTo>
                      <a:pt x="239" y="461"/>
                    </a:lnTo>
                    <a:lnTo>
                      <a:pt x="238" y="444"/>
                    </a:lnTo>
                    <a:lnTo>
                      <a:pt x="259" y="421"/>
                    </a:lnTo>
                    <a:lnTo>
                      <a:pt x="244" y="402"/>
                    </a:lnTo>
                    <a:lnTo>
                      <a:pt x="264" y="261"/>
                    </a:lnTo>
                    <a:lnTo>
                      <a:pt x="265" y="233"/>
                    </a:lnTo>
                    <a:lnTo>
                      <a:pt x="263" y="207"/>
                    </a:lnTo>
                    <a:lnTo>
                      <a:pt x="261" y="180"/>
                    </a:lnTo>
                    <a:lnTo>
                      <a:pt x="254" y="125"/>
                    </a:lnTo>
                    <a:lnTo>
                      <a:pt x="241" y="76"/>
                    </a:lnTo>
                    <a:lnTo>
                      <a:pt x="231" y="49"/>
                    </a:lnTo>
                    <a:lnTo>
                      <a:pt x="221" y="31"/>
                    </a:lnTo>
                    <a:lnTo>
                      <a:pt x="216" y="51"/>
                    </a:lnTo>
                    <a:lnTo>
                      <a:pt x="209" y="38"/>
                    </a:lnTo>
                    <a:lnTo>
                      <a:pt x="203" y="31"/>
                    </a:lnTo>
                    <a:lnTo>
                      <a:pt x="191" y="17"/>
                    </a:lnTo>
                    <a:lnTo>
                      <a:pt x="188" y="14"/>
                    </a:lnTo>
                    <a:lnTo>
                      <a:pt x="183" y="9"/>
                    </a:lnTo>
                    <a:lnTo>
                      <a:pt x="180" y="7"/>
                    </a:lnTo>
                    <a:lnTo>
                      <a:pt x="173" y="5"/>
                    </a:lnTo>
                    <a:lnTo>
                      <a:pt x="169" y="2"/>
                    </a:lnTo>
                    <a:lnTo>
                      <a:pt x="165" y="0"/>
                    </a:lnTo>
                  </a:path>
                </a:pathLst>
              </a:custGeom>
              <a:solidFill>
                <a:srgbClr val="7f7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2628720" y="2154240"/>
                <a:ext cx="31680" cy="32760"/>
                <a:chOff x="2628720" y="2154240"/>
                <a:chExt cx="31680" cy="327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2628720" y="2154240"/>
                  <a:ext cx="3024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630160" y="2157120"/>
                  <a:ext cx="30240" cy="29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55" y="7697"/>
                      </a:moveTo>
                      <a:arcTo wR="10800" hR="10800" stAng="-9798045" swAng="183858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55" y="7697"/>
                      </a:moveTo>
                      <a:arcTo wR="10800" hR="10800" stAng="-9798045" swAng="18385851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2657520" y="2225520"/>
                <a:ext cx="82080" cy="104400"/>
                <a:chOff x="2657520" y="2225520"/>
                <a:chExt cx="82080" cy="10440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2657520" y="2241360"/>
                  <a:ext cx="8208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374" y="8601"/>
                      </a:moveTo>
                      <a:arcTo wR="10800" hR="10800" stAng="-704999" swAng="115049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374" y="8601"/>
                      </a:moveTo>
                      <a:arcTo wR="10800" hR="10800" stAng="-704999" swAng="1150499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657520" y="2225520"/>
                  <a:ext cx="8208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53" y="7724"/>
                      </a:moveTo>
                      <a:arcTo wR="10800" hR="10800" stAng="-992936" swAng="1211935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53" y="7724"/>
                      </a:moveTo>
                      <a:arcTo wR="10800" hR="10800" stAng="-992936" swAng="1211935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657520" y="2259000"/>
                  <a:ext cx="82080" cy="3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394" y="8701"/>
                      </a:moveTo>
                      <a:arcTo wR="10800" hR="10800" stAng="-672297" swAng="1179871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394" y="8701"/>
                      </a:moveTo>
                      <a:arcTo wR="10800" hR="10800" stAng="-672297" swAng="11798718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57520" y="2278080"/>
                  <a:ext cx="8208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2" y="9683"/>
                      </a:moveTo>
                      <a:arcTo wR="10800" hR="10800" stAng="-356245" swAng="111562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2" y="9683"/>
                      </a:moveTo>
                      <a:arcTo wR="10800" hR="10800" stAng="-356245" swAng="1115624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57520" y="2298600"/>
                  <a:ext cx="8208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374" y="8601"/>
                      </a:moveTo>
                      <a:arcTo wR="10800" hR="10800" stAng="-704999" swAng="115049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374" y="8601"/>
                      </a:moveTo>
                      <a:arcTo wR="10800" hR="10800" stAng="-704999" swAng="1150499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"/>
              <p:cNvSpPr/>
              <p:nvPr/>
            </p:nvSpPr>
            <p:spPr>
              <a:xfrm>
                <a:off x="2359080" y="2036520"/>
                <a:ext cx="287280" cy="1365480"/>
              </a:xfrm>
              <a:custGeom>
                <a:avLst/>
                <a:gdLst/>
                <a:ahLst/>
                <a:rect l="l" t="t" r="r" b="b"/>
                <a:pathLst>
                  <a:path w="181" h="860">
                    <a:moveTo>
                      <a:pt x="162" y="0"/>
                    </a:moveTo>
                    <a:lnTo>
                      <a:pt x="159" y="4"/>
                    </a:lnTo>
                    <a:lnTo>
                      <a:pt x="156" y="11"/>
                    </a:lnTo>
                    <a:lnTo>
                      <a:pt x="152" y="18"/>
                    </a:lnTo>
                    <a:lnTo>
                      <a:pt x="149" y="26"/>
                    </a:lnTo>
                    <a:lnTo>
                      <a:pt x="146" y="34"/>
                    </a:lnTo>
                    <a:lnTo>
                      <a:pt x="142" y="47"/>
                    </a:lnTo>
                    <a:lnTo>
                      <a:pt x="137" y="58"/>
                    </a:lnTo>
                    <a:lnTo>
                      <a:pt x="134" y="72"/>
                    </a:lnTo>
                    <a:lnTo>
                      <a:pt x="130" y="86"/>
                    </a:lnTo>
                    <a:lnTo>
                      <a:pt x="126" y="100"/>
                    </a:lnTo>
                    <a:lnTo>
                      <a:pt x="123" y="115"/>
                    </a:lnTo>
                    <a:lnTo>
                      <a:pt x="121" y="129"/>
                    </a:lnTo>
                    <a:lnTo>
                      <a:pt x="119" y="144"/>
                    </a:lnTo>
                    <a:lnTo>
                      <a:pt x="115" y="158"/>
                    </a:lnTo>
                    <a:lnTo>
                      <a:pt x="112" y="172"/>
                    </a:lnTo>
                    <a:lnTo>
                      <a:pt x="110" y="184"/>
                    </a:lnTo>
                    <a:lnTo>
                      <a:pt x="107" y="200"/>
                    </a:lnTo>
                    <a:lnTo>
                      <a:pt x="104" y="214"/>
                    </a:lnTo>
                    <a:lnTo>
                      <a:pt x="102" y="227"/>
                    </a:lnTo>
                    <a:lnTo>
                      <a:pt x="99" y="237"/>
                    </a:lnTo>
                    <a:lnTo>
                      <a:pt x="96" y="246"/>
                    </a:lnTo>
                    <a:lnTo>
                      <a:pt x="91" y="253"/>
                    </a:lnTo>
                    <a:lnTo>
                      <a:pt x="87" y="258"/>
                    </a:lnTo>
                    <a:lnTo>
                      <a:pt x="81" y="264"/>
                    </a:lnTo>
                    <a:lnTo>
                      <a:pt x="74" y="270"/>
                    </a:lnTo>
                    <a:lnTo>
                      <a:pt x="64" y="278"/>
                    </a:lnTo>
                    <a:lnTo>
                      <a:pt x="55" y="287"/>
                    </a:lnTo>
                    <a:lnTo>
                      <a:pt x="46" y="296"/>
                    </a:lnTo>
                    <a:lnTo>
                      <a:pt x="36" y="306"/>
                    </a:lnTo>
                    <a:lnTo>
                      <a:pt x="25" y="316"/>
                    </a:lnTo>
                    <a:lnTo>
                      <a:pt x="16" y="327"/>
                    </a:lnTo>
                    <a:lnTo>
                      <a:pt x="7" y="338"/>
                    </a:lnTo>
                    <a:lnTo>
                      <a:pt x="0" y="348"/>
                    </a:lnTo>
                    <a:lnTo>
                      <a:pt x="15" y="352"/>
                    </a:lnTo>
                    <a:lnTo>
                      <a:pt x="31" y="357"/>
                    </a:lnTo>
                    <a:lnTo>
                      <a:pt x="48" y="362"/>
                    </a:lnTo>
                    <a:lnTo>
                      <a:pt x="63" y="366"/>
                    </a:lnTo>
                    <a:lnTo>
                      <a:pt x="70" y="367"/>
                    </a:lnTo>
                    <a:lnTo>
                      <a:pt x="77" y="369"/>
                    </a:lnTo>
                    <a:lnTo>
                      <a:pt x="85" y="367"/>
                    </a:lnTo>
                    <a:lnTo>
                      <a:pt x="93" y="362"/>
                    </a:lnTo>
                    <a:lnTo>
                      <a:pt x="96" y="377"/>
                    </a:lnTo>
                    <a:lnTo>
                      <a:pt x="98" y="391"/>
                    </a:lnTo>
                    <a:lnTo>
                      <a:pt x="102" y="408"/>
                    </a:lnTo>
                    <a:lnTo>
                      <a:pt x="105" y="427"/>
                    </a:lnTo>
                    <a:lnTo>
                      <a:pt x="109" y="447"/>
                    </a:lnTo>
                    <a:lnTo>
                      <a:pt x="112" y="461"/>
                    </a:lnTo>
                    <a:lnTo>
                      <a:pt x="114" y="477"/>
                    </a:lnTo>
                    <a:lnTo>
                      <a:pt x="116" y="492"/>
                    </a:lnTo>
                    <a:lnTo>
                      <a:pt x="117" y="504"/>
                    </a:lnTo>
                    <a:lnTo>
                      <a:pt x="114" y="515"/>
                    </a:lnTo>
                    <a:lnTo>
                      <a:pt x="109" y="524"/>
                    </a:lnTo>
                    <a:lnTo>
                      <a:pt x="102" y="534"/>
                    </a:lnTo>
                    <a:lnTo>
                      <a:pt x="106" y="555"/>
                    </a:lnTo>
                    <a:lnTo>
                      <a:pt x="112" y="578"/>
                    </a:lnTo>
                    <a:lnTo>
                      <a:pt x="116" y="596"/>
                    </a:lnTo>
                    <a:lnTo>
                      <a:pt x="127" y="584"/>
                    </a:lnTo>
                    <a:lnTo>
                      <a:pt x="131" y="593"/>
                    </a:lnTo>
                    <a:lnTo>
                      <a:pt x="135" y="604"/>
                    </a:lnTo>
                    <a:lnTo>
                      <a:pt x="137" y="616"/>
                    </a:lnTo>
                    <a:lnTo>
                      <a:pt x="139" y="629"/>
                    </a:lnTo>
                    <a:lnTo>
                      <a:pt x="138" y="641"/>
                    </a:lnTo>
                    <a:lnTo>
                      <a:pt x="137" y="655"/>
                    </a:lnTo>
                    <a:lnTo>
                      <a:pt x="135" y="668"/>
                    </a:lnTo>
                    <a:lnTo>
                      <a:pt x="130" y="682"/>
                    </a:lnTo>
                    <a:lnTo>
                      <a:pt x="121" y="696"/>
                    </a:lnTo>
                    <a:lnTo>
                      <a:pt x="109" y="712"/>
                    </a:lnTo>
                    <a:lnTo>
                      <a:pt x="97" y="725"/>
                    </a:lnTo>
                    <a:lnTo>
                      <a:pt x="82" y="740"/>
                    </a:lnTo>
                    <a:lnTo>
                      <a:pt x="75" y="746"/>
                    </a:lnTo>
                    <a:lnTo>
                      <a:pt x="63" y="757"/>
                    </a:lnTo>
                    <a:lnTo>
                      <a:pt x="55" y="766"/>
                    </a:lnTo>
                    <a:lnTo>
                      <a:pt x="48" y="775"/>
                    </a:lnTo>
                    <a:lnTo>
                      <a:pt x="42" y="785"/>
                    </a:lnTo>
                    <a:lnTo>
                      <a:pt x="36" y="793"/>
                    </a:lnTo>
                    <a:lnTo>
                      <a:pt x="31" y="802"/>
                    </a:lnTo>
                    <a:lnTo>
                      <a:pt x="27" y="810"/>
                    </a:lnTo>
                    <a:lnTo>
                      <a:pt x="24" y="817"/>
                    </a:lnTo>
                    <a:lnTo>
                      <a:pt x="21" y="825"/>
                    </a:lnTo>
                    <a:lnTo>
                      <a:pt x="20" y="833"/>
                    </a:lnTo>
                    <a:lnTo>
                      <a:pt x="19" y="843"/>
                    </a:lnTo>
                    <a:lnTo>
                      <a:pt x="19" y="859"/>
                    </a:lnTo>
                    <a:lnTo>
                      <a:pt x="25" y="852"/>
                    </a:lnTo>
                    <a:lnTo>
                      <a:pt x="33" y="846"/>
                    </a:lnTo>
                    <a:lnTo>
                      <a:pt x="38" y="842"/>
                    </a:lnTo>
                    <a:lnTo>
                      <a:pt x="48" y="836"/>
                    </a:lnTo>
                    <a:lnTo>
                      <a:pt x="56" y="830"/>
                    </a:lnTo>
                    <a:lnTo>
                      <a:pt x="64" y="822"/>
                    </a:lnTo>
                    <a:lnTo>
                      <a:pt x="72" y="811"/>
                    </a:lnTo>
                    <a:lnTo>
                      <a:pt x="78" y="806"/>
                    </a:lnTo>
                    <a:lnTo>
                      <a:pt x="84" y="801"/>
                    </a:lnTo>
                    <a:lnTo>
                      <a:pt x="91" y="795"/>
                    </a:lnTo>
                    <a:lnTo>
                      <a:pt x="96" y="792"/>
                    </a:lnTo>
                    <a:lnTo>
                      <a:pt x="102" y="788"/>
                    </a:lnTo>
                    <a:lnTo>
                      <a:pt x="107" y="784"/>
                    </a:lnTo>
                    <a:lnTo>
                      <a:pt x="113" y="781"/>
                    </a:lnTo>
                    <a:lnTo>
                      <a:pt x="119" y="778"/>
                    </a:lnTo>
                    <a:lnTo>
                      <a:pt x="123" y="775"/>
                    </a:lnTo>
                    <a:lnTo>
                      <a:pt x="129" y="772"/>
                    </a:lnTo>
                    <a:lnTo>
                      <a:pt x="135" y="770"/>
                    </a:lnTo>
                    <a:lnTo>
                      <a:pt x="139" y="769"/>
                    </a:lnTo>
                    <a:lnTo>
                      <a:pt x="145" y="769"/>
                    </a:lnTo>
                    <a:lnTo>
                      <a:pt x="151" y="768"/>
                    </a:lnTo>
                    <a:lnTo>
                      <a:pt x="148" y="763"/>
                    </a:lnTo>
                    <a:lnTo>
                      <a:pt x="147" y="756"/>
                    </a:lnTo>
                    <a:lnTo>
                      <a:pt x="146" y="750"/>
                    </a:lnTo>
                    <a:lnTo>
                      <a:pt x="147" y="744"/>
                    </a:lnTo>
                    <a:lnTo>
                      <a:pt x="149" y="738"/>
                    </a:lnTo>
                    <a:lnTo>
                      <a:pt x="151" y="733"/>
                    </a:lnTo>
                    <a:lnTo>
                      <a:pt x="152" y="728"/>
                    </a:lnTo>
                    <a:lnTo>
                      <a:pt x="154" y="722"/>
                    </a:lnTo>
                    <a:lnTo>
                      <a:pt x="155" y="716"/>
                    </a:lnTo>
                    <a:lnTo>
                      <a:pt x="154" y="708"/>
                    </a:lnTo>
                    <a:lnTo>
                      <a:pt x="152" y="701"/>
                    </a:lnTo>
                    <a:lnTo>
                      <a:pt x="151" y="696"/>
                    </a:lnTo>
                    <a:lnTo>
                      <a:pt x="149" y="690"/>
                    </a:lnTo>
                    <a:lnTo>
                      <a:pt x="150" y="684"/>
                    </a:lnTo>
                    <a:lnTo>
                      <a:pt x="151" y="676"/>
                    </a:lnTo>
                    <a:lnTo>
                      <a:pt x="152" y="668"/>
                    </a:lnTo>
                    <a:lnTo>
                      <a:pt x="152" y="663"/>
                    </a:lnTo>
                    <a:lnTo>
                      <a:pt x="152" y="655"/>
                    </a:lnTo>
                    <a:lnTo>
                      <a:pt x="150" y="647"/>
                    </a:lnTo>
                    <a:lnTo>
                      <a:pt x="150" y="639"/>
                    </a:lnTo>
                    <a:lnTo>
                      <a:pt x="152" y="632"/>
                    </a:lnTo>
                    <a:lnTo>
                      <a:pt x="153" y="622"/>
                    </a:lnTo>
                    <a:lnTo>
                      <a:pt x="153" y="615"/>
                    </a:lnTo>
                    <a:lnTo>
                      <a:pt x="152" y="606"/>
                    </a:lnTo>
                    <a:lnTo>
                      <a:pt x="151" y="598"/>
                    </a:lnTo>
                    <a:lnTo>
                      <a:pt x="152" y="589"/>
                    </a:lnTo>
                    <a:lnTo>
                      <a:pt x="156" y="582"/>
                    </a:lnTo>
                    <a:lnTo>
                      <a:pt x="157" y="572"/>
                    </a:lnTo>
                    <a:lnTo>
                      <a:pt x="158" y="565"/>
                    </a:lnTo>
                    <a:lnTo>
                      <a:pt x="159" y="556"/>
                    </a:lnTo>
                    <a:lnTo>
                      <a:pt x="160" y="549"/>
                    </a:lnTo>
                    <a:lnTo>
                      <a:pt x="158" y="540"/>
                    </a:lnTo>
                    <a:lnTo>
                      <a:pt x="156" y="531"/>
                    </a:lnTo>
                    <a:lnTo>
                      <a:pt x="158" y="522"/>
                    </a:lnTo>
                    <a:lnTo>
                      <a:pt x="159" y="515"/>
                    </a:lnTo>
                    <a:lnTo>
                      <a:pt x="159" y="508"/>
                    </a:lnTo>
                    <a:lnTo>
                      <a:pt x="158" y="500"/>
                    </a:lnTo>
                    <a:lnTo>
                      <a:pt x="158" y="493"/>
                    </a:lnTo>
                    <a:lnTo>
                      <a:pt x="159" y="485"/>
                    </a:lnTo>
                    <a:lnTo>
                      <a:pt x="162" y="478"/>
                    </a:lnTo>
                    <a:lnTo>
                      <a:pt x="164" y="471"/>
                    </a:lnTo>
                    <a:lnTo>
                      <a:pt x="167" y="463"/>
                    </a:lnTo>
                    <a:lnTo>
                      <a:pt x="169" y="455"/>
                    </a:lnTo>
                    <a:lnTo>
                      <a:pt x="171" y="446"/>
                    </a:lnTo>
                    <a:lnTo>
                      <a:pt x="172" y="437"/>
                    </a:lnTo>
                    <a:lnTo>
                      <a:pt x="170" y="426"/>
                    </a:lnTo>
                    <a:lnTo>
                      <a:pt x="169" y="415"/>
                    </a:lnTo>
                    <a:lnTo>
                      <a:pt x="170" y="409"/>
                    </a:lnTo>
                    <a:lnTo>
                      <a:pt x="171" y="398"/>
                    </a:lnTo>
                    <a:lnTo>
                      <a:pt x="171" y="391"/>
                    </a:lnTo>
                    <a:lnTo>
                      <a:pt x="172" y="383"/>
                    </a:lnTo>
                    <a:lnTo>
                      <a:pt x="172" y="376"/>
                    </a:lnTo>
                    <a:lnTo>
                      <a:pt x="172" y="365"/>
                    </a:lnTo>
                    <a:lnTo>
                      <a:pt x="169" y="356"/>
                    </a:lnTo>
                    <a:lnTo>
                      <a:pt x="166" y="350"/>
                    </a:lnTo>
                    <a:lnTo>
                      <a:pt x="166" y="343"/>
                    </a:lnTo>
                    <a:lnTo>
                      <a:pt x="166" y="335"/>
                    </a:lnTo>
                    <a:lnTo>
                      <a:pt x="167" y="327"/>
                    </a:lnTo>
                    <a:lnTo>
                      <a:pt x="169" y="319"/>
                    </a:lnTo>
                    <a:lnTo>
                      <a:pt x="170" y="311"/>
                    </a:lnTo>
                    <a:lnTo>
                      <a:pt x="170" y="305"/>
                    </a:lnTo>
                    <a:lnTo>
                      <a:pt x="168" y="300"/>
                    </a:lnTo>
                    <a:lnTo>
                      <a:pt x="166" y="292"/>
                    </a:lnTo>
                    <a:lnTo>
                      <a:pt x="166" y="286"/>
                    </a:lnTo>
                    <a:lnTo>
                      <a:pt x="166" y="278"/>
                    </a:lnTo>
                    <a:lnTo>
                      <a:pt x="167" y="272"/>
                    </a:lnTo>
                    <a:lnTo>
                      <a:pt x="168" y="263"/>
                    </a:lnTo>
                    <a:lnTo>
                      <a:pt x="170" y="253"/>
                    </a:lnTo>
                    <a:lnTo>
                      <a:pt x="170" y="245"/>
                    </a:lnTo>
                    <a:lnTo>
                      <a:pt x="169" y="237"/>
                    </a:lnTo>
                    <a:lnTo>
                      <a:pt x="171" y="228"/>
                    </a:lnTo>
                    <a:lnTo>
                      <a:pt x="172" y="220"/>
                    </a:lnTo>
                    <a:lnTo>
                      <a:pt x="175" y="210"/>
                    </a:lnTo>
                    <a:lnTo>
                      <a:pt x="177" y="202"/>
                    </a:lnTo>
                    <a:lnTo>
                      <a:pt x="179" y="190"/>
                    </a:lnTo>
                    <a:lnTo>
                      <a:pt x="180" y="176"/>
                    </a:lnTo>
                    <a:lnTo>
                      <a:pt x="180" y="162"/>
                    </a:lnTo>
                    <a:lnTo>
                      <a:pt x="179" y="149"/>
                    </a:lnTo>
                    <a:lnTo>
                      <a:pt x="180" y="133"/>
                    </a:lnTo>
                    <a:lnTo>
                      <a:pt x="180" y="125"/>
                    </a:lnTo>
                    <a:lnTo>
                      <a:pt x="179" y="118"/>
                    </a:lnTo>
                    <a:lnTo>
                      <a:pt x="180" y="109"/>
                    </a:lnTo>
                    <a:lnTo>
                      <a:pt x="179" y="99"/>
                    </a:lnTo>
                    <a:lnTo>
                      <a:pt x="173" y="84"/>
                    </a:lnTo>
                    <a:lnTo>
                      <a:pt x="174" y="73"/>
                    </a:lnTo>
                    <a:lnTo>
                      <a:pt x="175" y="64"/>
                    </a:lnTo>
                    <a:lnTo>
                      <a:pt x="175" y="54"/>
                    </a:lnTo>
                    <a:lnTo>
                      <a:pt x="175" y="45"/>
                    </a:lnTo>
                    <a:lnTo>
                      <a:pt x="174" y="35"/>
                    </a:lnTo>
                    <a:lnTo>
                      <a:pt x="172" y="26"/>
                    </a:lnTo>
                    <a:lnTo>
                      <a:pt x="169" y="16"/>
                    </a:lnTo>
                    <a:lnTo>
                      <a:pt x="167" y="9"/>
                    </a:lnTo>
                    <a:lnTo>
                      <a:pt x="164" y="0"/>
                    </a:lnTo>
                    <a:lnTo>
                      <a:pt x="162" y="0"/>
                    </a:lnTo>
                  </a:path>
                </a:pathLst>
              </a:custGeom>
              <a:solidFill>
                <a:srgbClr val="5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2692440" y="2311200"/>
                <a:ext cx="150840" cy="195480"/>
                <a:chOff x="2692440" y="2311200"/>
                <a:chExt cx="150840" cy="1954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712960" y="2311200"/>
                  <a:ext cx="130320" cy="195480"/>
                </a:xfrm>
                <a:custGeom>
                  <a:avLst/>
                  <a:gdLst/>
                  <a:ahLst/>
                  <a:rect l="l" t="t" r="r" b="b"/>
                  <a:pathLst>
                    <a:path w="82" h="123">
                      <a:moveTo>
                        <a:pt x="72" y="114"/>
                      </a:moveTo>
                      <a:lnTo>
                        <a:pt x="65" y="108"/>
                      </a:lnTo>
                      <a:lnTo>
                        <a:pt x="60" y="104"/>
                      </a:lnTo>
                      <a:lnTo>
                        <a:pt x="56" y="100"/>
                      </a:lnTo>
                      <a:lnTo>
                        <a:pt x="52" y="97"/>
                      </a:lnTo>
                      <a:lnTo>
                        <a:pt x="47" y="94"/>
                      </a:lnTo>
                      <a:lnTo>
                        <a:pt x="43" y="91"/>
                      </a:lnTo>
                      <a:lnTo>
                        <a:pt x="38" y="87"/>
                      </a:lnTo>
                      <a:lnTo>
                        <a:pt x="32" y="85"/>
                      </a:lnTo>
                      <a:lnTo>
                        <a:pt x="26" y="83"/>
                      </a:lnTo>
                      <a:lnTo>
                        <a:pt x="20" y="81"/>
                      </a:lnTo>
                      <a:lnTo>
                        <a:pt x="14" y="79"/>
                      </a:lnTo>
                      <a:lnTo>
                        <a:pt x="8" y="79"/>
                      </a:lnTo>
                      <a:lnTo>
                        <a:pt x="0" y="79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11" y="6"/>
                      </a:lnTo>
                      <a:lnTo>
                        <a:pt x="17" y="10"/>
                      </a:lnTo>
                      <a:lnTo>
                        <a:pt x="23" y="14"/>
                      </a:lnTo>
                      <a:lnTo>
                        <a:pt x="29" y="20"/>
                      </a:lnTo>
                      <a:lnTo>
                        <a:pt x="35" y="26"/>
                      </a:lnTo>
                      <a:lnTo>
                        <a:pt x="41" y="32"/>
                      </a:lnTo>
                      <a:lnTo>
                        <a:pt x="46" y="38"/>
                      </a:lnTo>
                      <a:lnTo>
                        <a:pt x="52" y="46"/>
                      </a:lnTo>
                      <a:lnTo>
                        <a:pt x="59" y="54"/>
                      </a:lnTo>
                      <a:lnTo>
                        <a:pt x="63" y="61"/>
                      </a:lnTo>
                      <a:lnTo>
                        <a:pt x="67" y="68"/>
                      </a:lnTo>
                      <a:lnTo>
                        <a:pt x="69" y="74"/>
                      </a:lnTo>
                      <a:lnTo>
                        <a:pt x="72" y="81"/>
                      </a:lnTo>
                      <a:lnTo>
                        <a:pt x="75" y="88"/>
                      </a:lnTo>
                      <a:lnTo>
                        <a:pt x="77" y="96"/>
                      </a:lnTo>
                      <a:lnTo>
                        <a:pt x="78" y="104"/>
                      </a:lnTo>
                      <a:lnTo>
                        <a:pt x="79" y="111"/>
                      </a:lnTo>
                      <a:lnTo>
                        <a:pt x="80" y="117"/>
                      </a:lnTo>
                      <a:lnTo>
                        <a:pt x="81" y="122"/>
                      </a:lnTo>
                      <a:lnTo>
                        <a:pt x="72" y="114"/>
                      </a:lnTo>
                    </a:path>
                  </a:pathLst>
                </a:custGeom>
                <a:solidFill>
                  <a:srgbClr val="7f7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692440" y="2313000"/>
                  <a:ext cx="27000" cy="123480"/>
                </a:xfrm>
                <a:custGeom>
                  <a:avLst/>
                  <a:gdLst/>
                  <a:ahLst/>
                  <a:rect l="l" t="t" r="r" b="b"/>
                  <a:pathLst>
                    <a:path w="17" h="78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6" y="1"/>
                      </a:lnTo>
                      <a:lnTo>
                        <a:pt x="16" y="77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1" name=""/>
            <p:cNvSpPr/>
            <p:nvPr/>
          </p:nvSpPr>
          <p:spPr>
            <a:xfrm>
              <a:off x="2558520" y="3830760"/>
              <a:ext cx="1137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52840" y="727200"/>
              <a:ext cx="0" cy="121896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2298600" y="2335320"/>
              <a:ext cx="0" cy="838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64160" y="2670120"/>
            <a:ext cx="228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 = 12.2 m/s</a:t>
            </a:r>
            <a:r>
              <a:rPr b="0" i="1" lang="en-US" sz="2000" spc="-1" strike="noStrike" baseline="30000">
                <a:solidFill>
                  <a:srgbClr val="00ff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21160" y="1822320"/>
            <a:ext cx="40244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قانون دوم نیوتن را در جهت قائم بکاربرید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بزا ر: قرقر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تغییر جهت نیرو بکار می ر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قرقره آرمانی بدون تغییر بزرگی نیرو جهت نیرو را تغییر می ده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708920" y="3809880"/>
            <a:ext cx="3320280" cy="1670040"/>
            <a:chOff x="1708920" y="3809880"/>
            <a:chExt cx="3320280" cy="1670040"/>
          </a:xfrm>
        </p:grpSpPr>
        <p:sp>
          <p:nvSpPr>
            <p:cNvPr id="531" name=""/>
            <p:cNvSpPr/>
            <p:nvPr/>
          </p:nvSpPr>
          <p:spPr>
            <a:xfrm>
              <a:off x="4692600" y="3854520"/>
              <a:ext cx="292320" cy="2919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2781000" y="38098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29200" y="4000680"/>
              <a:ext cx="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25000" y="3817800"/>
              <a:ext cx="3038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2279160" y="3809880"/>
              <a:ext cx="546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29200" y="4959360"/>
              <a:ext cx="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91880" y="3940200"/>
              <a:ext cx="1061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1708920" y="3989160"/>
              <a:ext cx="2777760" cy="741960"/>
              <a:chOff x="1708920" y="3989160"/>
              <a:chExt cx="2777760" cy="741960"/>
            </a:xfrm>
          </p:grpSpPr>
          <p:sp>
            <p:nvSpPr>
              <p:cNvPr id="539" name=""/>
              <p:cNvSpPr/>
              <p:nvPr/>
            </p:nvSpPr>
            <p:spPr>
              <a:xfrm>
                <a:off x="1708920" y="4367880"/>
                <a:ext cx="26064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0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یک قرقره آرمانی</a:t>
                </a:r>
                <a:r>
                  <a:rPr b="0" lang="fa-IR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700080" y="3989160"/>
                <a:ext cx="7866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1" name=""/>
          <p:cNvSpPr/>
          <p:nvPr/>
        </p:nvSpPr>
        <p:spPr>
          <a:xfrm>
            <a:off x="4809960" y="5083200"/>
            <a:ext cx="1061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887440" y="4245120"/>
            <a:ext cx="2003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|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| = |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بزا ر: قرقر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تغییر جهت نیرو بکار می ر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قرقره آرمانی بدون تغییر بزرگی نیرو جهت نیرو را تغییر می دهد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2590920" y="3422520"/>
            <a:ext cx="4443840" cy="3020760"/>
            <a:chOff x="2590920" y="3422520"/>
            <a:chExt cx="4443840" cy="3020760"/>
          </a:xfrm>
        </p:grpSpPr>
        <p:sp>
          <p:nvSpPr>
            <p:cNvPr id="548" name=""/>
            <p:cNvSpPr/>
            <p:nvPr/>
          </p:nvSpPr>
          <p:spPr>
            <a:xfrm>
              <a:off x="4692600" y="3854520"/>
              <a:ext cx="292320" cy="2919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2781000" y="38098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29200" y="4000680"/>
              <a:ext cx="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25000" y="3817800"/>
              <a:ext cx="3038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4569480" y="4114440"/>
              <a:ext cx="1442520" cy="2328840"/>
              <a:chOff x="4569480" y="4114440"/>
              <a:chExt cx="1442520" cy="2328840"/>
            </a:xfrm>
          </p:grpSpPr>
          <p:sp>
            <p:nvSpPr>
              <p:cNvPr id="553" name=""/>
              <p:cNvSpPr/>
              <p:nvPr/>
            </p:nvSpPr>
            <p:spPr>
              <a:xfrm>
                <a:off x="4798080" y="6080040"/>
                <a:ext cx="1106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103360" y="4175280"/>
                <a:ext cx="908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648320" y="4889520"/>
                <a:ext cx="749160" cy="749160"/>
              </a:xfrm>
              <a:prstGeom prst="rect">
                <a:avLst/>
              </a:prstGeom>
              <a:solidFill>
                <a:srgbClr val="fc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5175000" y="4114440"/>
                <a:ext cx="0" cy="546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5022720" y="5714640"/>
                <a:ext cx="0" cy="546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569480" y="5089680"/>
                <a:ext cx="964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5412960" y="5083200"/>
              <a:ext cx="1621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 = mg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590920" y="3505320"/>
              <a:ext cx="228600" cy="1981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819520" y="3422520"/>
              <a:ext cx="0" cy="2146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610360" y="4168800"/>
              <a:ext cx="1902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W,S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mg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01960" y="4038480"/>
              <a:ext cx="520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فنره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ff00"/>
                </a:solidFill>
                <a:latin typeface="Arial"/>
                <a:cs typeface="Arial"/>
              </a:rPr>
              <a:t>قانون هوک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ی که یک فنر وارد می کند متناسب با طول کشیده و متراکم شده فنر نسبت به وضعیت آرامش آ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= -k x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ابه جایی فنر از وضعیت آرامش فنر است و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سختی یا تناسب فنر 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911240" y="4265640"/>
            <a:ext cx="5755680" cy="1790280"/>
            <a:chOff x="1911240" y="4265640"/>
            <a:chExt cx="5755680" cy="1790280"/>
          </a:xfrm>
        </p:grpSpPr>
        <p:grpSp>
          <p:nvGrpSpPr>
            <p:cNvPr id="569" name=""/>
            <p:cNvGrpSpPr/>
            <p:nvPr/>
          </p:nvGrpSpPr>
          <p:grpSpPr>
            <a:xfrm>
              <a:off x="1974600" y="5175360"/>
              <a:ext cx="2146320" cy="469800"/>
              <a:chOff x="1974600" y="5175360"/>
              <a:chExt cx="2146320" cy="4698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2157480" y="5175360"/>
                <a:ext cx="436320" cy="469800"/>
                <a:chOff x="2157480" y="5175360"/>
                <a:chExt cx="436320" cy="46980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2157480" y="5175360"/>
                  <a:ext cx="212760" cy="469800"/>
                  <a:chOff x="2157480" y="5175360"/>
                  <a:chExt cx="212760" cy="4698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flipV="1">
                    <a:off x="215748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21292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2268360" y="5403960"/>
                    <a:ext cx="101880" cy="241200"/>
                    <a:chOff x="2268360" y="5403960"/>
                    <a:chExt cx="101880" cy="24120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268360" y="5416560"/>
                      <a:ext cx="4608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flipV="1">
                      <a:off x="23274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77" name=""/>
                <p:cNvGrpSpPr/>
                <p:nvPr/>
              </p:nvGrpSpPr>
              <p:grpSpPr>
                <a:xfrm>
                  <a:off x="2382840" y="5175360"/>
                  <a:ext cx="210960" cy="469800"/>
                  <a:chOff x="2382840" y="5175360"/>
                  <a:chExt cx="210960" cy="46980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 flipV="1">
                    <a:off x="238284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43828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2494080" y="5403960"/>
                    <a:ext cx="99720" cy="241200"/>
                    <a:chOff x="2494080" y="5403960"/>
                    <a:chExt cx="99720" cy="24120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249408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flipV="1">
                      <a:off x="2549520" y="5403960"/>
                      <a:ext cx="44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3" name=""/>
              <p:cNvGrpSpPr/>
              <p:nvPr/>
            </p:nvGrpSpPr>
            <p:grpSpPr>
              <a:xfrm>
                <a:off x="2606760" y="5175360"/>
                <a:ext cx="434880" cy="469800"/>
                <a:chOff x="2606760" y="5175360"/>
                <a:chExt cx="434880" cy="469800"/>
              </a:xfrm>
            </p:grpSpPr>
            <p:grpSp>
              <p:nvGrpSpPr>
                <p:cNvPr id="584" name=""/>
                <p:cNvGrpSpPr/>
                <p:nvPr/>
              </p:nvGrpSpPr>
              <p:grpSpPr>
                <a:xfrm>
                  <a:off x="2606760" y="5175360"/>
                  <a:ext cx="209520" cy="469800"/>
                  <a:chOff x="2606760" y="5175360"/>
                  <a:chExt cx="209520" cy="46980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flipV="1">
                    <a:off x="260676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66220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2717640" y="5403960"/>
                    <a:ext cx="98640" cy="241200"/>
                    <a:chOff x="2717640" y="5403960"/>
                    <a:chExt cx="98640" cy="24120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2717640" y="5416560"/>
                      <a:ext cx="4320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flipV="1">
                      <a:off x="277344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2828880" y="5175360"/>
                  <a:ext cx="212760" cy="469800"/>
                  <a:chOff x="2828880" y="5175360"/>
                  <a:chExt cx="212760" cy="46980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flipV="1">
                    <a:off x="282888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884320" y="5187960"/>
                    <a:ext cx="4608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2943360" y="5403960"/>
                    <a:ext cx="98280" cy="241200"/>
                    <a:chOff x="2943360" y="5403960"/>
                    <a:chExt cx="98280" cy="24120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294336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flipV="1">
                      <a:off x="29988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6" name=""/>
              <p:cNvGrpSpPr/>
              <p:nvPr/>
            </p:nvGrpSpPr>
            <p:grpSpPr>
              <a:xfrm>
                <a:off x="3054240" y="5175360"/>
                <a:ext cx="436680" cy="469800"/>
                <a:chOff x="3054240" y="5175360"/>
                <a:chExt cx="436680" cy="469800"/>
              </a:xfrm>
            </p:grpSpPr>
            <p:grpSp>
              <p:nvGrpSpPr>
                <p:cNvPr id="597" name=""/>
                <p:cNvGrpSpPr/>
                <p:nvPr/>
              </p:nvGrpSpPr>
              <p:grpSpPr>
                <a:xfrm>
                  <a:off x="3054240" y="5175360"/>
                  <a:ext cx="212760" cy="469800"/>
                  <a:chOff x="3054240" y="5175360"/>
                  <a:chExt cx="212760" cy="46980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flipV="1">
                    <a:off x="305424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311004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3165480" y="5403960"/>
                    <a:ext cx="101520" cy="241200"/>
                    <a:chOff x="3165480" y="5403960"/>
                    <a:chExt cx="101520" cy="241200"/>
                  </a:xfrm>
                </p:grpSpPr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3165480" y="5416560"/>
                      <a:ext cx="4608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 flipV="1">
                      <a:off x="322416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3279600" y="5175360"/>
                  <a:ext cx="211320" cy="469800"/>
                  <a:chOff x="3279600" y="5175360"/>
                  <a:chExt cx="211320" cy="46980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 flipV="1">
                    <a:off x="3279600" y="5175360"/>
                    <a:ext cx="4320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333540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3390840" y="5403960"/>
                    <a:ext cx="100080" cy="241200"/>
                    <a:chOff x="3390840" y="5403960"/>
                    <a:chExt cx="100080" cy="24120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339084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 flipV="1">
                      <a:off x="3446640" y="5403960"/>
                      <a:ext cx="44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09" name=""/>
              <p:cNvGrpSpPr/>
              <p:nvPr/>
            </p:nvGrpSpPr>
            <p:grpSpPr>
              <a:xfrm>
                <a:off x="3503520" y="5175360"/>
                <a:ext cx="435240" cy="469800"/>
                <a:chOff x="3503520" y="5175360"/>
                <a:chExt cx="435240" cy="469800"/>
              </a:xfrm>
            </p:grpSpPr>
            <p:grpSp>
              <p:nvGrpSpPr>
                <p:cNvPr id="610" name=""/>
                <p:cNvGrpSpPr/>
                <p:nvPr/>
              </p:nvGrpSpPr>
              <p:grpSpPr>
                <a:xfrm>
                  <a:off x="3503520" y="5175360"/>
                  <a:ext cx="209520" cy="469800"/>
                  <a:chOff x="3503520" y="5175360"/>
                  <a:chExt cx="209520" cy="46980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 flipV="1">
                    <a:off x="350352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355932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3" name=""/>
                  <p:cNvGrpSpPr/>
                  <p:nvPr/>
                </p:nvGrpSpPr>
                <p:grpSpPr>
                  <a:xfrm>
                    <a:off x="3614760" y="5403960"/>
                    <a:ext cx="98280" cy="241200"/>
                    <a:chOff x="3614760" y="5403960"/>
                    <a:chExt cx="98280" cy="241200"/>
                  </a:xfrm>
                </p:grpSpPr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361476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 flipV="1">
                      <a:off x="36702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3726000" y="5175360"/>
                  <a:ext cx="212760" cy="469800"/>
                  <a:chOff x="3726000" y="5175360"/>
                  <a:chExt cx="212760" cy="46980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 flipV="1">
                    <a:off x="372600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3781440" y="5187960"/>
                    <a:ext cx="4608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9" name=""/>
                  <p:cNvGrpSpPr/>
                  <p:nvPr/>
                </p:nvGrpSpPr>
                <p:grpSpPr>
                  <a:xfrm>
                    <a:off x="3840120" y="5403960"/>
                    <a:ext cx="98640" cy="241200"/>
                    <a:chOff x="3840120" y="5403960"/>
                    <a:chExt cx="98640" cy="241200"/>
                  </a:xfrm>
                </p:grpSpPr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384012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 flipV="1">
                      <a:off x="3895560" y="5403960"/>
                      <a:ext cx="4320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622" name=""/>
              <p:cNvSpPr/>
              <p:nvPr/>
            </p:nvSpPr>
            <p:spPr>
              <a:xfrm flipH="1">
                <a:off x="1974600" y="54100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3938400" y="54100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1911240" y="4959360"/>
              <a:ext cx="63720" cy="673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911240" y="5645160"/>
              <a:ext cx="3645000" cy="63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14800" y="5035680"/>
              <a:ext cx="0" cy="825480"/>
            </a:xfrm>
            <a:prstGeom prst="line">
              <a:avLst/>
            </a:prstGeom>
            <a:ln w="1260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57600" y="4265640"/>
              <a:ext cx="2619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ff00"/>
                  </a:solidFill>
                  <a:latin typeface="Arial"/>
                  <a:cs typeface="Arial"/>
                </a:rPr>
                <a:t>وضعیت آرمش فن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122720" y="4427640"/>
              <a:ext cx="901080" cy="74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89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895"/>
                </a:path>
              </a:pathLst>
            </a:custGeom>
            <a:noFill/>
            <a:ln cap="rnd" w="1260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47120" y="5235480"/>
              <a:ext cx="1438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30640" y="538812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07280" y="5638680"/>
              <a:ext cx="90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85640" y="56926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فنره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انون هو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ی که یک فنر وارد می کند متناسب با طول کشیده و متراکم شده فنر نسبت به وضعیت آرامش آ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= -k 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ابه جایی فنر از وضعیت آرامش فنر است و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سختی یا تناسب فنر 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07960" y="6377040"/>
            <a:ext cx="20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911240" y="4265640"/>
            <a:ext cx="5832000" cy="1963440"/>
            <a:chOff x="1911240" y="4265640"/>
            <a:chExt cx="5832000" cy="1963440"/>
          </a:xfrm>
        </p:grpSpPr>
        <p:sp>
          <p:nvSpPr>
            <p:cNvPr id="639" name=""/>
            <p:cNvSpPr/>
            <p:nvPr/>
          </p:nvSpPr>
          <p:spPr>
            <a:xfrm>
              <a:off x="1911240" y="4959360"/>
              <a:ext cx="63720" cy="673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11240" y="5645160"/>
              <a:ext cx="3645000" cy="63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14800" y="5035680"/>
              <a:ext cx="0" cy="825480"/>
            </a:xfrm>
            <a:prstGeom prst="line">
              <a:avLst/>
            </a:prstGeom>
            <a:ln w="1260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57600" y="4265640"/>
              <a:ext cx="2671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ff00"/>
                  </a:solidFill>
                  <a:latin typeface="Arial"/>
                  <a:cs typeface="Arial"/>
                </a:rPr>
                <a:t>وضعیت آرامش فن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22720" y="4427640"/>
              <a:ext cx="901080" cy="74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89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895"/>
                </a:path>
              </a:pathLst>
            </a:custGeom>
            <a:noFill/>
            <a:ln cap="rnd" w="1260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50400" y="4930920"/>
              <a:ext cx="2139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f00ff"/>
                  </a:solidFill>
                  <a:latin typeface="Arial"/>
                </a:rPr>
                <a:t>X</a:t>
              </a: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 = -kx &gt; 0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1974960" y="5175360"/>
              <a:ext cx="1143000" cy="469800"/>
              <a:chOff x="1974960" y="5175360"/>
              <a:chExt cx="1143000" cy="46980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1974960" y="5175360"/>
                <a:ext cx="1111320" cy="469800"/>
                <a:chOff x="1974960" y="5175360"/>
                <a:chExt cx="1111320" cy="469800"/>
              </a:xfrm>
            </p:grpSpPr>
            <p:grpSp>
              <p:nvGrpSpPr>
                <p:cNvPr id="647" name=""/>
                <p:cNvGrpSpPr/>
                <p:nvPr/>
              </p:nvGrpSpPr>
              <p:grpSpPr>
                <a:xfrm>
                  <a:off x="2075040" y="5175360"/>
                  <a:ext cx="218880" cy="469800"/>
                  <a:chOff x="2075040" y="5175360"/>
                  <a:chExt cx="218880" cy="469800"/>
                </a:xfrm>
              </p:grpSpPr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2075040" y="5175360"/>
                    <a:ext cx="102960" cy="469800"/>
                    <a:chOff x="2075040" y="5175360"/>
                    <a:chExt cx="102960" cy="46980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flipV="1">
                      <a:off x="2075040" y="51753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2103480" y="51879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51" name=""/>
                    <p:cNvGrpSpPr/>
                    <p:nvPr/>
                  </p:nvGrpSpPr>
                  <p:grpSpPr>
                    <a:xfrm>
                      <a:off x="2131920" y="5403960"/>
                      <a:ext cx="46080" cy="241200"/>
                      <a:chOff x="2131920" y="5403960"/>
                      <a:chExt cx="46080" cy="241200"/>
                    </a:xfrm>
                  </p:grpSpPr>
                  <p:sp>
                    <p:nvSpPr>
                      <p:cNvPr id="652" name=""/>
                      <p:cNvSpPr/>
                      <p:nvPr/>
                    </p:nvSpPr>
                    <p:spPr>
                      <a:xfrm>
                        <a:off x="2131920" y="5416560"/>
                        <a:ext cx="17640" cy="2160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3" name=""/>
                      <p:cNvSpPr/>
                      <p:nvPr/>
                    </p:nvSpPr>
                    <p:spPr>
                      <a:xfrm flipV="1">
                        <a:off x="2162160" y="5403960"/>
                        <a:ext cx="15840" cy="2412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2190600" y="5175360"/>
                    <a:ext cx="103320" cy="469800"/>
                    <a:chOff x="2190600" y="5175360"/>
                    <a:chExt cx="103320" cy="46980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 flipV="1">
                      <a:off x="2190600" y="5175360"/>
                      <a:ext cx="1620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2219400" y="51879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57" name=""/>
                    <p:cNvGrpSpPr/>
                    <p:nvPr/>
                  </p:nvGrpSpPr>
                  <p:grpSpPr>
                    <a:xfrm>
                      <a:off x="2247840" y="5403960"/>
                      <a:ext cx="46080" cy="241200"/>
                      <a:chOff x="2247840" y="5403960"/>
                      <a:chExt cx="46080" cy="241200"/>
                    </a:xfrm>
                  </p:grpSpPr>
                  <p:sp>
                    <p:nvSpPr>
                      <p:cNvPr id="658" name=""/>
                      <p:cNvSpPr/>
                      <p:nvPr/>
                    </p:nvSpPr>
                    <p:spPr>
                      <a:xfrm>
                        <a:off x="2247840" y="5416560"/>
                        <a:ext cx="15840" cy="2160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9" name=""/>
                      <p:cNvSpPr/>
                      <p:nvPr/>
                    </p:nvSpPr>
                    <p:spPr>
                      <a:xfrm flipV="1">
                        <a:off x="2276640" y="5403960"/>
                        <a:ext cx="17280" cy="2412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60" name=""/>
                <p:cNvGrpSpPr/>
                <p:nvPr/>
              </p:nvGrpSpPr>
              <p:grpSpPr>
                <a:xfrm>
                  <a:off x="2306520" y="5175360"/>
                  <a:ext cx="217440" cy="469800"/>
                  <a:chOff x="2306520" y="5175360"/>
                  <a:chExt cx="217440" cy="469800"/>
                </a:xfrm>
              </p:grpSpPr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2306520" y="5175360"/>
                    <a:ext cx="101880" cy="469800"/>
                    <a:chOff x="2306520" y="5175360"/>
                    <a:chExt cx="101880" cy="46980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flipV="1">
                      <a:off x="2306520" y="51753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2335320" y="51879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64" name=""/>
                    <p:cNvGrpSpPr/>
                    <p:nvPr/>
                  </p:nvGrpSpPr>
                  <p:grpSpPr>
                    <a:xfrm>
                      <a:off x="2363760" y="5403960"/>
                      <a:ext cx="44640" cy="241200"/>
                      <a:chOff x="2363760" y="5403960"/>
                      <a:chExt cx="44640" cy="241200"/>
                    </a:xfrm>
                  </p:grpSpPr>
                  <p:sp>
                    <p:nvSpPr>
                      <p:cNvPr id="665" name=""/>
                      <p:cNvSpPr/>
                      <p:nvPr/>
                    </p:nvSpPr>
                    <p:spPr>
                      <a:xfrm>
                        <a:off x="2363760" y="5416560"/>
                        <a:ext cx="15840" cy="2160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6" name=""/>
                      <p:cNvSpPr/>
                      <p:nvPr/>
                    </p:nvSpPr>
                    <p:spPr>
                      <a:xfrm flipV="1">
                        <a:off x="2392200" y="5403960"/>
                        <a:ext cx="16200" cy="2412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2421000" y="5175360"/>
                    <a:ext cx="102960" cy="469800"/>
                    <a:chOff x="2421000" y="5175360"/>
                    <a:chExt cx="102960" cy="46980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V="1">
                      <a:off x="2421000" y="51753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2449440" y="5187960"/>
                      <a:ext cx="176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70" name=""/>
                    <p:cNvGrpSpPr/>
                    <p:nvPr/>
                  </p:nvGrpSpPr>
                  <p:grpSpPr>
                    <a:xfrm>
                      <a:off x="2479680" y="5403960"/>
                      <a:ext cx="44280" cy="241200"/>
                      <a:chOff x="2479680" y="5403960"/>
                      <a:chExt cx="44280" cy="241200"/>
                    </a:xfrm>
                  </p:grpSpPr>
                  <p:sp>
                    <p:nvSpPr>
                      <p:cNvPr id="671" name=""/>
                      <p:cNvSpPr/>
                      <p:nvPr/>
                    </p:nvSpPr>
                    <p:spPr>
                      <a:xfrm>
                        <a:off x="2479680" y="5416560"/>
                        <a:ext cx="15840" cy="2160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2" name=""/>
                      <p:cNvSpPr/>
                      <p:nvPr/>
                    </p:nvSpPr>
                    <p:spPr>
                      <a:xfrm flipV="1">
                        <a:off x="2508120" y="5403960"/>
                        <a:ext cx="15840" cy="2412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2536920" y="5175360"/>
                  <a:ext cx="218880" cy="469800"/>
                  <a:chOff x="2536920" y="5175360"/>
                  <a:chExt cx="218880" cy="469800"/>
                </a:xfrm>
              </p:grpSpPr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2536920" y="5175360"/>
                    <a:ext cx="102960" cy="469800"/>
                    <a:chOff x="2536920" y="5175360"/>
                    <a:chExt cx="102960" cy="46980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 flipV="1">
                      <a:off x="2536920" y="51753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2565360" y="51879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77" name=""/>
                    <p:cNvGrpSpPr/>
                    <p:nvPr/>
                  </p:nvGrpSpPr>
                  <p:grpSpPr>
                    <a:xfrm>
                      <a:off x="2593800" y="5403960"/>
                      <a:ext cx="46080" cy="241200"/>
                      <a:chOff x="2593800" y="5403960"/>
                      <a:chExt cx="46080" cy="241200"/>
                    </a:xfrm>
                  </p:grpSpPr>
                  <p:sp>
                    <p:nvSpPr>
                      <p:cNvPr id="678" name=""/>
                      <p:cNvSpPr/>
                      <p:nvPr/>
                    </p:nvSpPr>
                    <p:spPr>
                      <a:xfrm>
                        <a:off x="2593800" y="5416560"/>
                        <a:ext cx="17640" cy="2160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9" name=""/>
                      <p:cNvSpPr/>
                      <p:nvPr/>
                    </p:nvSpPr>
                    <p:spPr>
                      <a:xfrm flipV="1">
                        <a:off x="2624040" y="5403960"/>
                        <a:ext cx="15840" cy="2412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2652840" y="5175360"/>
                    <a:ext cx="102960" cy="469800"/>
                    <a:chOff x="2652840" y="5175360"/>
                    <a:chExt cx="102960" cy="469800"/>
                  </a:xfrm>
                </p:grpSpPr>
                <p:sp>
                  <p:nvSpPr>
                    <p:cNvPr id="681" name=""/>
                    <p:cNvSpPr/>
                    <p:nvPr/>
                  </p:nvSpPr>
                  <p:spPr>
                    <a:xfrm flipV="1">
                      <a:off x="2652840" y="51753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2681280" y="51879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83" name=""/>
                    <p:cNvGrpSpPr/>
                    <p:nvPr/>
                  </p:nvGrpSpPr>
                  <p:grpSpPr>
                    <a:xfrm>
                      <a:off x="2709720" y="5403960"/>
                      <a:ext cx="46080" cy="241200"/>
                      <a:chOff x="2709720" y="5403960"/>
                      <a:chExt cx="46080" cy="241200"/>
                    </a:xfrm>
                  </p:grpSpPr>
                  <p:sp>
                    <p:nvSpPr>
                      <p:cNvPr id="684" name=""/>
                      <p:cNvSpPr/>
                      <p:nvPr/>
                    </p:nvSpPr>
                    <p:spPr>
                      <a:xfrm>
                        <a:off x="2709720" y="5416560"/>
                        <a:ext cx="15840" cy="2160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5" name=""/>
                      <p:cNvSpPr/>
                      <p:nvPr/>
                    </p:nvSpPr>
                    <p:spPr>
                      <a:xfrm flipV="1">
                        <a:off x="2738520" y="5403960"/>
                        <a:ext cx="17280" cy="2412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86" name=""/>
                <p:cNvGrpSpPr/>
                <p:nvPr/>
              </p:nvGrpSpPr>
              <p:grpSpPr>
                <a:xfrm>
                  <a:off x="2768760" y="5175360"/>
                  <a:ext cx="217440" cy="469800"/>
                  <a:chOff x="2768760" y="5175360"/>
                  <a:chExt cx="217440" cy="469800"/>
                </a:xfrm>
              </p:grpSpPr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2768760" y="5175360"/>
                    <a:ext cx="101520" cy="469800"/>
                    <a:chOff x="2768760" y="5175360"/>
                    <a:chExt cx="101520" cy="469800"/>
                  </a:xfrm>
                </p:grpSpPr>
                <p:sp>
                  <p:nvSpPr>
                    <p:cNvPr id="688" name=""/>
                    <p:cNvSpPr/>
                    <p:nvPr/>
                  </p:nvSpPr>
                  <p:spPr>
                    <a:xfrm flipV="1">
                      <a:off x="2768760" y="51753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2797200" y="51879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90" name=""/>
                    <p:cNvGrpSpPr/>
                    <p:nvPr/>
                  </p:nvGrpSpPr>
                  <p:grpSpPr>
                    <a:xfrm>
                      <a:off x="2825640" y="5403960"/>
                      <a:ext cx="44640" cy="241200"/>
                      <a:chOff x="2825640" y="5403960"/>
                      <a:chExt cx="44640" cy="241200"/>
                    </a:xfrm>
                  </p:grpSpPr>
                  <p:sp>
                    <p:nvSpPr>
                      <p:cNvPr id="691" name=""/>
                      <p:cNvSpPr/>
                      <p:nvPr/>
                    </p:nvSpPr>
                    <p:spPr>
                      <a:xfrm>
                        <a:off x="2825640" y="5416560"/>
                        <a:ext cx="15840" cy="2160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2" name=""/>
                      <p:cNvSpPr/>
                      <p:nvPr/>
                    </p:nvSpPr>
                    <p:spPr>
                      <a:xfrm flipV="1">
                        <a:off x="2854440" y="5403960"/>
                        <a:ext cx="15840" cy="2412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2882880" y="5175360"/>
                    <a:ext cx="103320" cy="469800"/>
                    <a:chOff x="2882880" y="5175360"/>
                    <a:chExt cx="103320" cy="46980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 flipV="1">
                      <a:off x="2882880" y="51753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2911320" y="5187960"/>
                      <a:ext cx="176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96" name=""/>
                    <p:cNvGrpSpPr/>
                    <p:nvPr/>
                  </p:nvGrpSpPr>
                  <p:grpSpPr>
                    <a:xfrm>
                      <a:off x="2941560" y="5403960"/>
                      <a:ext cx="44640" cy="241200"/>
                      <a:chOff x="2941560" y="5403960"/>
                      <a:chExt cx="44640" cy="241200"/>
                    </a:xfrm>
                  </p:grpSpPr>
                  <p:sp>
                    <p:nvSpPr>
                      <p:cNvPr id="697" name=""/>
                      <p:cNvSpPr/>
                      <p:nvPr/>
                    </p:nvSpPr>
                    <p:spPr>
                      <a:xfrm>
                        <a:off x="2941560" y="5416560"/>
                        <a:ext cx="15840" cy="2160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8" name=""/>
                      <p:cNvSpPr/>
                      <p:nvPr/>
                    </p:nvSpPr>
                    <p:spPr>
                      <a:xfrm flipV="1">
                        <a:off x="2970360" y="5403960"/>
                        <a:ext cx="15840" cy="2412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99" name=""/>
                <p:cNvSpPr/>
                <p:nvPr/>
              </p:nvSpPr>
              <p:spPr>
                <a:xfrm flipH="1">
                  <a:off x="1974960" y="5410080"/>
                  <a:ext cx="100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H="1">
                  <a:off x="2986200" y="5410080"/>
                  <a:ext cx="100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3090960" y="5388120"/>
                <a:ext cx="27000" cy="63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6407280" y="5638680"/>
              <a:ext cx="90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61960" y="56167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048120" y="5035680"/>
              <a:ext cx="0" cy="825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06560" y="5865840"/>
              <a:ext cx="19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lvl="1" marL="685800" indent="-22860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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6040" y="5864400"/>
              <a:ext cx="1052280" cy="4680"/>
            </a:xfrm>
            <a:custGeom>
              <a:avLst/>
              <a:gdLst/>
              <a:ahLst/>
              <a:rect l="l" t="t" r="r" b="b"/>
              <a:pathLst>
                <a:path w="663" h="3">
                  <a:moveTo>
                    <a:pt x="0" y="0"/>
                  </a:moveTo>
                  <a:lnTo>
                    <a:pt x="663" y="3"/>
                  </a:lnTo>
                </a:path>
              </a:pathLst>
            </a:custGeom>
            <a:noFill/>
            <a:ln w="12600">
              <a:solidFill>
                <a:srgbClr val="fafd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30560" y="5410080"/>
              <a:ext cx="67320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3048120" y="58672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فنره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انون هو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ی که یک فنر وارد می کند متناسب با طول کشیده و متراکم شده فنر نسبت به وضعیت آرامش آ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= -k 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ابه جایی فنر از وضعیت آرامش فنر است و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سختی یا تناسب فنر 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71800" y="5942160"/>
            <a:ext cx="191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19120" y="6516720"/>
            <a:ext cx="2243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1911240" y="4265640"/>
            <a:ext cx="5755680" cy="1790280"/>
            <a:chOff x="1911240" y="4265640"/>
            <a:chExt cx="5755680" cy="1790280"/>
          </a:xfrm>
        </p:grpSpPr>
        <p:sp>
          <p:nvSpPr>
            <p:cNvPr id="716" name=""/>
            <p:cNvSpPr/>
            <p:nvPr/>
          </p:nvSpPr>
          <p:spPr>
            <a:xfrm>
              <a:off x="4122720" y="4427640"/>
              <a:ext cx="901080" cy="74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89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895"/>
                </a:path>
              </a:pathLst>
            </a:custGeom>
            <a:noFill/>
            <a:ln cap="rnd" w="1260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96040" y="4875120"/>
              <a:ext cx="1612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f00ff"/>
                  </a:solidFill>
                  <a:latin typeface="Arial"/>
                </a:rPr>
                <a:t>X</a:t>
              </a: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 = - kx &lt;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07280" y="5638680"/>
              <a:ext cx="90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785640" y="56926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6560" y="5410080"/>
              <a:ext cx="82548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1911240" y="4952880"/>
              <a:ext cx="3645000" cy="914040"/>
              <a:chOff x="1911240" y="4952880"/>
              <a:chExt cx="3645000" cy="914040"/>
            </a:xfrm>
          </p:grpSpPr>
          <p:sp>
            <p:nvSpPr>
              <p:cNvPr id="722" name=""/>
              <p:cNvSpPr/>
              <p:nvPr/>
            </p:nvSpPr>
            <p:spPr>
              <a:xfrm>
                <a:off x="1911240" y="4952880"/>
                <a:ext cx="63720" cy="6778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911240" y="5643360"/>
                <a:ext cx="3645000" cy="637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1974600" y="5169960"/>
                <a:ext cx="3429360" cy="471600"/>
                <a:chOff x="1974600" y="5169960"/>
                <a:chExt cx="3429360" cy="471600"/>
              </a:xfrm>
            </p:grpSpPr>
            <p:grpSp>
              <p:nvGrpSpPr>
                <p:cNvPr id="725" name=""/>
                <p:cNvGrpSpPr/>
                <p:nvPr/>
              </p:nvGrpSpPr>
              <p:grpSpPr>
                <a:xfrm>
                  <a:off x="1974600" y="5169960"/>
                  <a:ext cx="3308400" cy="471600"/>
                  <a:chOff x="1974600" y="5169960"/>
                  <a:chExt cx="3308400" cy="471600"/>
                </a:xfrm>
              </p:grpSpPr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2249640" y="5169960"/>
                    <a:ext cx="682560" cy="471600"/>
                    <a:chOff x="2249640" y="5169960"/>
                    <a:chExt cx="682560" cy="471600"/>
                  </a:xfrm>
                </p:grpSpPr>
                <p:grpSp>
                  <p:nvGrpSpPr>
                    <p:cNvPr id="727" name=""/>
                    <p:cNvGrpSpPr/>
                    <p:nvPr/>
                  </p:nvGrpSpPr>
                  <p:grpSpPr>
                    <a:xfrm>
                      <a:off x="2249640" y="5169960"/>
                      <a:ext cx="334800" cy="471600"/>
                      <a:chOff x="2249640" y="5169960"/>
                      <a:chExt cx="334800" cy="471600"/>
                    </a:xfrm>
                  </p:grpSpPr>
                  <p:sp>
                    <p:nvSpPr>
                      <p:cNvPr id="728" name=""/>
                      <p:cNvSpPr/>
                      <p:nvPr/>
                    </p:nvSpPr>
                    <p:spPr>
                      <a:xfrm flipV="1">
                        <a:off x="2249640" y="5169960"/>
                        <a:ext cx="72720" cy="2422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9" name=""/>
                      <p:cNvSpPr/>
                      <p:nvPr/>
                    </p:nvSpPr>
                    <p:spPr>
                      <a:xfrm>
                        <a:off x="2335320" y="5182920"/>
                        <a:ext cx="73080" cy="2167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30" name=""/>
                      <p:cNvGrpSpPr/>
                      <p:nvPr/>
                    </p:nvGrpSpPr>
                    <p:grpSpPr>
                      <a:xfrm>
                        <a:off x="2421000" y="5399640"/>
                        <a:ext cx="163440" cy="241920"/>
                        <a:chOff x="2421000" y="5399640"/>
                        <a:chExt cx="163440" cy="241920"/>
                      </a:xfrm>
                    </p:grpSpPr>
                    <p:sp>
                      <p:nvSpPr>
                        <p:cNvPr id="731" name=""/>
                        <p:cNvSpPr/>
                        <p:nvPr/>
                      </p:nvSpPr>
                      <p:spPr>
                        <a:xfrm>
                          <a:off x="2421000" y="5412240"/>
                          <a:ext cx="77760" cy="21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2" name=""/>
                        <p:cNvSpPr/>
                        <p:nvPr/>
                      </p:nvSpPr>
                      <p:spPr>
                        <a:xfrm flipV="1">
                          <a:off x="2511360" y="5399640"/>
                          <a:ext cx="73080" cy="24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33" name=""/>
                    <p:cNvGrpSpPr/>
                    <p:nvPr/>
                  </p:nvGrpSpPr>
                  <p:grpSpPr>
                    <a:xfrm>
                      <a:off x="2597040" y="5169960"/>
                      <a:ext cx="335160" cy="471600"/>
                      <a:chOff x="2597040" y="5169960"/>
                      <a:chExt cx="335160" cy="471600"/>
                    </a:xfrm>
                  </p:grpSpPr>
                  <p:sp>
                    <p:nvSpPr>
                      <p:cNvPr id="734" name=""/>
                      <p:cNvSpPr/>
                      <p:nvPr/>
                    </p:nvSpPr>
                    <p:spPr>
                      <a:xfrm flipV="1">
                        <a:off x="2597040" y="5169960"/>
                        <a:ext cx="73080" cy="2422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"/>
                      <p:cNvSpPr/>
                      <p:nvPr/>
                    </p:nvSpPr>
                    <p:spPr>
                      <a:xfrm>
                        <a:off x="2682720" y="5182920"/>
                        <a:ext cx="73080" cy="2167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36" name=""/>
                      <p:cNvGrpSpPr/>
                      <p:nvPr/>
                    </p:nvGrpSpPr>
                    <p:grpSpPr>
                      <a:xfrm>
                        <a:off x="2768760" y="5399640"/>
                        <a:ext cx="163440" cy="241920"/>
                        <a:chOff x="2768760" y="5399640"/>
                        <a:chExt cx="163440" cy="241920"/>
                      </a:xfrm>
                    </p:grpSpPr>
                    <p:sp>
                      <p:nvSpPr>
                        <p:cNvPr id="737" name=""/>
                        <p:cNvSpPr/>
                        <p:nvPr/>
                      </p:nvSpPr>
                      <p:spPr>
                        <a:xfrm>
                          <a:off x="2768760" y="5412240"/>
                          <a:ext cx="72720" cy="21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8" name=""/>
                        <p:cNvSpPr/>
                        <p:nvPr/>
                      </p:nvSpPr>
                      <p:spPr>
                        <a:xfrm flipV="1">
                          <a:off x="2854440" y="5399640"/>
                          <a:ext cx="77760" cy="24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39" name=""/>
                  <p:cNvGrpSpPr/>
                  <p:nvPr/>
                </p:nvGrpSpPr>
                <p:grpSpPr>
                  <a:xfrm>
                    <a:off x="2944800" y="5169960"/>
                    <a:ext cx="677880" cy="471600"/>
                    <a:chOff x="2944800" y="5169960"/>
                    <a:chExt cx="677880" cy="471600"/>
                  </a:xfrm>
                </p:grpSpPr>
                <p:grpSp>
                  <p:nvGrpSpPr>
                    <p:cNvPr id="740" name=""/>
                    <p:cNvGrpSpPr/>
                    <p:nvPr/>
                  </p:nvGrpSpPr>
                  <p:grpSpPr>
                    <a:xfrm>
                      <a:off x="2944800" y="5169960"/>
                      <a:ext cx="330120" cy="471600"/>
                      <a:chOff x="2944800" y="5169960"/>
                      <a:chExt cx="330120" cy="471600"/>
                    </a:xfrm>
                  </p:grpSpPr>
                  <p:sp>
                    <p:nvSpPr>
                      <p:cNvPr id="741" name=""/>
                      <p:cNvSpPr/>
                      <p:nvPr/>
                    </p:nvSpPr>
                    <p:spPr>
                      <a:xfrm flipV="1">
                        <a:off x="2944800" y="5169960"/>
                        <a:ext cx="73080" cy="2422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2" name=""/>
                      <p:cNvSpPr/>
                      <p:nvPr/>
                    </p:nvSpPr>
                    <p:spPr>
                      <a:xfrm>
                        <a:off x="3030480" y="5182920"/>
                        <a:ext cx="73080" cy="2167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43" name=""/>
                      <p:cNvGrpSpPr/>
                      <p:nvPr/>
                    </p:nvGrpSpPr>
                    <p:grpSpPr>
                      <a:xfrm>
                        <a:off x="3116160" y="5399640"/>
                        <a:ext cx="158760" cy="241920"/>
                        <a:chOff x="3116160" y="5399640"/>
                        <a:chExt cx="158760" cy="241920"/>
                      </a:xfrm>
                    </p:grpSpPr>
                    <p:sp>
                      <p:nvSpPr>
                        <p:cNvPr id="744" name=""/>
                        <p:cNvSpPr/>
                        <p:nvPr/>
                      </p:nvSpPr>
                      <p:spPr>
                        <a:xfrm>
                          <a:off x="3116160" y="5412240"/>
                          <a:ext cx="73080" cy="21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5" name=""/>
                        <p:cNvSpPr/>
                        <p:nvPr/>
                      </p:nvSpPr>
                      <p:spPr>
                        <a:xfrm flipV="1">
                          <a:off x="3201840" y="5399640"/>
                          <a:ext cx="73080" cy="24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46" name=""/>
                    <p:cNvGrpSpPr/>
                    <p:nvPr/>
                  </p:nvGrpSpPr>
                  <p:grpSpPr>
                    <a:xfrm>
                      <a:off x="3287880" y="5169960"/>
                      <a:ext cx="334800" cy="471600"/>
                      <a:chOff x="3287880" y="5169960"/>
                      <a:chExt cx="334800" cy="471600"/>
                    </a:xfrm>
                  </p:grpSpPr>
                  <p:sp>
                    <p:nvSpPr>
                      <p:cNvPr id="747" name=""/>
                      <p:cNvSpPr/>
                      <p:nvPr/>
                    </p:nvSpPr>
                    <p:spPr>
                      <a:xfrm flipV="1">
                        <a:off x="3287880" y="5169960"/>
                        <a:ext cx="72720" cy="2422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"/>
                      <p:cNvSpPr/>
                      <p:nvPr/>
                    </p:nvSpPr>
                    <p:spPr>
                      <a:xfrm>
                        <a:off x="3373560" y="5182920"/>
                        <a:ext cx="77760" cy="2167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49" name=""/>
                      <p:cNvGrpSpPr/>
                      <p:nvPr/>
                    </p:nvGrpSpPr>
                    <p:grpSpPr>
                      <a:xfrm>
                        <a:off x="3463920" y="5399640"/>
                        <a:ext cx="158760" cy="241920"/>
                        <a:chOff x="3463920" y="5399640"/>
                        <a:chExt cx="158760" cy="241920"/>
                      </a:xfrm>
                    </p:grpSpPr>
                    <p:sp>
                      <p:nvSpPr>
                        <p:cNvPr id="750" name=""/>
                        <p:cNvSpPr/>
                        <p:nvPr/>
                      </p:nvSpPr>
                      <p:spPr>
                        <a:xfrm>
                          <a:off x="3463920" y="5412240"/>
                          <a:ext cx="73080" cy="21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1" name=""/>
                        <p:cNvSpPr/>
                        <p:nvPr/>
                      </p:nvSpPr>
                      <p:spPr>
                        <a:xfrm flipV="1">
                          <a:off x="3549600" y="5399640"/>
                          <a:ext cx="73080" cy="24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3635280" y="5169960"/>
                    <a:ext cx="682560" cy="471600"/>
                    <a:chOff x="3635280" y="5169960"/>
                    <a:chExt cx="682560" cy="471600"/>
                  </a:xfrm>
                </p:grpSpPr>
                <p:grpSp>
                  <p:nvGrpSpPr>
                    <p:cNvPr id="753" name=""/>
                    <p:cNvGrpSpPr/>
                    <p:nvPr/>
                  </p:nvGrpSpPr>
                  <p:grpSpPr>
                    <a:xfrm>
                      <a:off x="3635280" y="5169960"/>
                      <a:ext cx="335160" cy="471600"/>
                      <a:chOff x="3635280" y="5169960"/>
                      <a:chExt cx="335160" cy="471600"/>
                    </a:xfrm>
                  </p:grpSpPr>
                  <p:sp>
                    <p:nvSpPr>
                      <p:cNvPr id="754" name=""/>
                      <p:cNvSpPr/>
                      <p:nvPr/>
                    </p:nvSpPr>
                    <p:spPr>
                      <a:xfrm flipV="1">
                        <a:off x="3635280" y="5169960"/>
                        <a:ext cx="73080" cy="2422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5" name=""/>
                      <p:cNvSpPr/>
                      <p:nvPr/>
                    </p:nvSpPr>
                    <p:spPr>
                      <a:xfrm>
                        <a:off x="3720960" y="5182920"/>
                        <a:ext cx="73080" cy="2167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56" name=""/>
                      <p:cNvGrpSpPr/>
                      <p:nvPr/>
                    </p:nvGrpSpPr>
                    <p:grpSpPr>
                      <a:xfrm>
                        <a:off x="3807000" y="5399640"/>
                        <a:ext cx="163440" cy="241920"/>
                        <a:chOff x="3807000" y="5399640"/>
                        <a:chExt cx="163440" cy="241920"/>
                      </a:xfrm>
                    </p:grpSpPr>
                    <p:sp>
                      <p:nvSpPr>
                        <p:cNvPr id="757" name=""/>
                        <p:cNvSpPr/>
                        <p:nvPr/>
                      </p:nvSpPr>
                      <p:spPr>
                        <a:xfrm>
                          <a:off x="3807000" y="5412240"/>
                          <a:ext cx="77760" cy="21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8" name=""/>
                        <p:cNvSpPr/>
                        <p:nvPr/>
                      </p:nvSpPr>
                      <p:spPr>
                        <a:xfrm flipV="1">
                          <a:off x="3897360" y="5399640"/>
                          <a:ext cx="73080" cy="24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9" name=""/>
                    <p:cNvGrpSpPr/>
                    <p:nvPr/>
                  </p:nvGrpSpPr>
                  <p:grpSpPr>
                    <a:xfrm>
                      <a:off x="3983040" y="5169960"/>
                      <a:ext cx="334800" cy="471600"/>
                      <a:chOff x="3983040" y="5169960"/>
                      <a:chExt cx="334800" cy="471600"/>
                    </a:xfrm>
                  </p:grpSpPr>
                  <p:sp>
                    <p:nvSpPr>
                      <p:cNvPr id="760" name=""/>
                      <p:cNvSpPr/>
                      <p:nvPr/>
                    </p:nvSpPr>
                    <p:spPr>
                      <a:xfrm flipV="1">
                        <a:off x="3983040" y="5169960"/>
                        <a:ext cx="73080" cy="2422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"/>
                      <p:cNvSpPr/>
                      <p:nvPr/>
                    </p:nvSpPr>
                    <p:spPr>
                      <a:xfrm>
                        <a:off x="4068720" y="5182920"/>
                        <a:ext cx="73080" cy="2167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62" name=""/>
                      <p:cNvGrpSpPr/>
                      <p:nvPr/>
                    </p:nvGrpSpPr>
                    <p:grpSpPr>
                      <a:xfrm>
                        <a:off x="4154400" y="5399640"/>
                        <a:ext cx="163440" cy="241920"/>
                        <a:chOff x="4154400" y="5399640"/>
                        <a:chExt cx="163440" cy="241920"/>
                      </a:xfrm>
                    </p:grpSpPr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>
                          <a:off x="4154400" y="5412240"/>
                          <a:ext cx="73080" cy="21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4" name=""/>
                        <p:cNvSpPr/>
                        <p:nvPr/>
                      </p:nvSpPr>
                      <p:spPr>
                        <a:xfrm flipV="1">
                          <a:off x="4240080" y="5399640"/>
                          <a:ext cx="77760" cy="24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4330800" y="5169960"/>
                    <a:ext cx="677880" cy="471600"/>
                    <a:chOff x="4330800" y="5169960"/>
                    <a:chExt cx="677880" cy="471600"/>
                  </a:xfrm>
                </p:grpSpPr>
                <p:grpSp>
                  <p:nvGrpSpPr>
                    <p:cNvPr id="766" name=""/>
                    <p:cNvGrpSpPr/>
                    <p:nvPr/>
                  </p:nvGrpSpPr>
                  <p:grpSpPr>
                    <a:xfrm>
                      <a:off x="4330800" y="5169960"/>
                      <a:ext cx="330120" cy="471600"/>
                      <a:chOff x="4330800" y="5169960"/>
                      <a:chExt cx="330120" cy="471600"/>
                    </a:xfrm>
                  </p:grpSpPr>
                  <p:sp>
                    <p:nvSpPr>
                      <p:cNvPr id="767" name=""/>
                      <p:cNvSpPr/>
                      <p:nvPr/>
                    </p:nvSpPr>
                    <p:spPr>
                      <a:xfrm flipV="1">
                        <a:off x="4330800" y="5169960"/>
                        <a:ext cx="73080" cy="2422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4416480" y="5182920"/>
                        <a:ext cx="73080" cy="2167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69" name=""/>
                      <p:cNvGrpSpPr/>
                      <p:nvPr/>
                    </p:nvGrpSpPr>
                    <p:grpSpPr>
                      <a:xfrm>
                        <a:off x="4502160" y="5399640"/>
                        <a:ext cx="158760" cy="241920"/>
                        <a:chOff x="4502160" y="5399640"/>
                        <a:chExt cx="158760" cy="241920"/>
                      </a:xfrm>
                    </p:grpSpPr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>
                          <a:off x="4502160" y="5412240"/>
                          <a:ext cx="73080" cy="21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flipV="1">
                          <a:off x="4587840" y="5399640"/>
                          <a:ext cx="73080" cy="24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72" name=""/>
                    <p:cNvGrpSpPr/>
                    <p:nvPr/>
                  </p:nvGrpSpPr>
                  <p:grpSpPr>
                    <a:xfrm>
                      <a:off x="4673520" y="5169960"/>
                      <a:ext cx="335160" cy="471600"/>
                      <a:chOff x="4673520" y="5169960"/>
                      <a:chExt cx="335160" cy="471600"/>
                    </a:xfrm>
                  </p:grpSpPr>
                  <p:sp>
                    <p:nvSpPr>
                      <p:cNvPr id="773" name=""/>
                      <p:cNvSpPr/>
                      <p:nvPr/>
                    </p:nvSpPr>
                    <p:spPr>
                      <a:xfrm flipV="1">
                        <a:off x="4673520" y="5169960"/>
                        <a:ext cx="73080" cy="2422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4759200" y="5182920"/>
                        <a:ext cx="77760" cy="2167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75" name=""/>
                      <p:cNvGrpSpPr/>
                      <p:nvPr/>
                    </p:nvGrpSpPr>
                    <p:grpSpPr>
                      <a:xfrm>
                        <a:off x="4849920" y="5399640"/>
                        <a:ext cx="158760" cy="241920"/>
                        <a:chOff x="4849920" y="5399640"/>
                        <a:chExt cx="158760" cy="241920"/>
                      </a:xfrm>
                    </p:grpSpPr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>
                          <a:off x="4849920" y="5412240"/>
                          <a:ext cx="73080" cy="216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 flipV="1">
                          <a:off x="4935600" y="5399640"/>
                          <a:ext cx="73080" cy="24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778" name=""/>
                  <p:cNvSpPr/>
                  <p:nvPr/>
                </p:nvSpPr>
                <p:spPr>
                  <a:xfrm flipH="1">
                    <a:off x="1974600" y="5406120"/>
                    <a:ext cx="274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>
                    <a:off x="5008320" y="5406120"/>
                    <a:ext cx="274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0" name=""/>
                <p:cNvSpPr/>
                <p:nvPr/>
              </p:nvSpPr>
              <p:spPr>
                <a:xfrm>
                  <a:off x="5297400" y="5384520"/>
                  <a:ext cx="106560" cy="63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"/>
              <p:cNvSpPr/>
              <p:nvPr/>
            </p:nvSpPr>
            <p:spPr>
              <a:xfrm>
                <a:off x="5257800" y="5029560"/>
                <a:ext cx="0" cy="83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114800" y="5866920"/>
                <a:ext cx="11430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114800" y="5029560"/>
                <a:ext cx="0" cy="831240"/>
              </a:xfrm>
              <a:prstGeom prst="line">
                <a:avLst/>
              </a:prstGeom>
              <a:ln w="12600">
                <a:solidFill>
                  <a:srgbClr val="00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4557600" y="4265640"/>
              <a:ext cx="2671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ff00"/>
                  </a:solidFill>
                  <a:latin typeface="Arial"/>
                  <a:cs typeface="Arial"/>
                </a:rPr>
                <a:t>وضعیت آرامش فن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رازوی فنر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90720" y="1535040"/>
            <a:ext cx="7162560" cy="433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نر را برای اندازه گیری نیروی اعمالی می توان مدرج کر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توانیم ترازوی  فنری را برحسب نیوتن مدرج بکنیم و یا..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ترازوها را اغلب برحسب نیوتن یا پوند مدرج می کنن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370400" y="4273560"/>
            <a:ext cx="87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370400" y="4498920"/>
            <a:ext cx="87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370400" y="4724280"/>
            <a:ext cx="87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370400" y="4951440"/>
            <a:ext cx="87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370400" y="5176800"/>
            <a:ext cx="87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5059440" y="2781360"/>
            <a:ext cx="1030320" cy="3163680"/>
            <a:chOff x="5059440" y="2781360"/>
            <a:chExt cx="1030320" cy="3163680"/>
          </a:xfrm>
        </p:grpSpPr>
        <p:sp>
          <p:nvSpPr>
            <p:cNvPr id="795" name=""/>
            <p:cNvSpPr/>
            <p:nvPr/>
          </p:nvSpPr>
          <p:spPr>
            <a:xfrm>
              <a:off x="5330880" y="2781360"/>
              <a:ext cx="758880" cy="44280"/>
            </a:xfrm>
            <a:prstGeom prst="rect">
              <a:avLst/>
            </a:prstGeom>
            <a:solidFill>
              <a:srgbClr val="000040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072040" y="2781360"/>
              <a:ext cx="246240" cy="2698560"/>
            </a:xfrm>
            <a:prstGeom prst="rect">
              <a:avLst/>
            </a:prstGeom>
            <a:solidFill>
              <a:srgbClr val="000040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5059440" y="4413240"/>
              <a:ext cx="27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059440" y="4525920"/>
              <a:ext cx="27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059440" y="4638600"/>
              <a:ext cx="27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5059440" y="4751280"/>
              <a:ext cx="27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5059440" y="5091120"/>
              <a:ext cx="27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5059440" y="4978440"/>
              <a:ext cx="27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5059440" y="4865760"/>
              <a:ext cx="27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5059440" y="5429160"/>
              <a:ext cx="27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059440" y="5316480"/>
              <a:ext cx="27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5059440" y="5203800"/>
              <a:ext cx="271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5318280" y="2970360"/>
              <a:ext cx="524880" cy="334800"/>
              <a:chOff x="5318280" y="2970360"/>
              <a:chExt cx="524880" cy="33480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5318280" y="2970360"/>
                <a:ext cx="524880" cy="160200"/>
                <a:chOff x="5318280" y="2970360"/>
                <a:chExt cx="524880" cy="16020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5589720" y="2970360"/>
                  <a:ext cx="241200" cy="29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H="1">
                  <a:off x="5576400" y="3013200"/>
                  <a:ext cx="266760" cy="29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11" name=""/>
                <p:cNvGrpSpPr/>
                <p:nvPr/>
              </p:nvGrpSpPr>
              <p:grpSpPr>
                <a:xfrm>
                  <a:off x="5318280" y="3056040"/>
                  <a:ext cx="271440" cy="74520"/>
                  <a:chOff x="5318280" y="3056040"/>
                  <a:chExt cx="271440" cy="74520"/>
                </a:xfrm>
              </p:grpSpPr>
              <p:sp>
                <p:nvSpPr>
                  <p:cNvPr id="812" name=""/>
                  <p:cNvSpPr/>
                  <p:nvPr/>
                </p:nvSpPr>
                <p:spPr>
                  <a:xfrm flipH="1">
                    <a:off x="5318280" y="3056040"/>
                    <a:ext cx="271440" cy="31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5330880" y="3100320"/>
                    <a:ext cx="245880" cy="30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"/>
              <p:cNvGrpSpPr/>
              <p:nvPr/>
            </p:nvGrpSpPr>
            <p:grpSpPr>
              <a:xfrm>
                <a:off x="5318280" y="3143160"/>
                <a:ext cx="524880" cy="162000"/>
                <a:chOff x="5318280" y="3143160"/>
                <a:chExt cx="524880" cy="16200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5589720" y="3143160"/>
                  <a:ext cx="241200" cy="31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>
                  <a:off x="5576400" y="3187800"/>
                  <a:ext cx="266760" cy="3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17" name=""/>
                <p:cNvGrpSpPr/>
                <p:nvPr/>
              </p:nvGrpSpPr>
              <p:grpSpPr>
                <a:xfrm>
                  <a:off x="5318280" y="3230640"/>
                  <a:ext cx="271440" cy="74520"/>
                  <a:chOff x="5318280" y="3230640"/>
                  <a:chExt cx="271440" cy="7452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 flipH="1">
                    <a:off x="5318280" y="3230640"/>
                    <a:ext cx="271440" cy="30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5330880" y="3273480"/>
                    <a:ext cx="245880" cy="31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20" name=""/>
            <p:cNvGrpSpPr/>
            <p:nvPr/>
          </p:nvGrpSpPr>
          <p:grpSpPr>
            <a:xfrm>
              <a:off x="5318280" y="3317760"/>
              <a:ext cx="524880" cy="335160"/>
              <a:chOff x="5318280" y="3317760"/>
              <a:chExt cx="524880" cy="33516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5318280" y="3317760"/>
                <a:ext cx="524880" cy="158760"/>
                <a:chOff x="5318280" y="3317760"/>
                <a:chExt cx="524880" cy="15876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5589720" y="3317760"/>
                  <a:ext cx="241200" cy="3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>
                  <a:off x="5576400" y="3360600"/>
                  <a:ext cx="266760" cy="32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4" name=""/>
                <p:cNvGrpSpPr/>
                <p:nvPr/>
              </p:nvGrpSpPr>
              <p:grpSpPr>
                <a:xfrm>
                  <a:off x="5318280" y="3405240"/>
                  <a:ext cx="271440" cy="71280"/>
                  <a:chOff x="5318280" y="3405240"/>
                  <a:chExt cx="271440" cy="7128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 flipH="1">
                    <a:off x="5318280" y="3405240"/>
                    <a:ext cx="271440" cy="30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5330880" y="3448080"/>
                    <a:ext cx="245880" cy="28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7" name=""/>
              <p:cNvGrpSpPr/>
              <p:nvPr/>
            </p:nvGrpSpPr>
            <p:grpSpPr>
              <a:xfrm>
                <a:off x="5318280" y="3489480"/>
                <a:ext cx="524880" cy="163440"/>
                <a:chOff x="5318280" y="3489480"/>
                <a:chExt cx="524880" cy="16344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5589720" y="3489480"/>
                  <a:ext cx="241200" cy="29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>
                  <a:off x="5576400" y="3532320"/>
                  <a:ext cx="266760" cy="33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0" name=""/>
                <p:cNvGrpSpPr/>
                <p:nvPr/>
              </p:nvGrpSpPr>
              <p:grpSpPr>
                <a:xfrm>
                  <a:off x="5318280" y="3578400"/>
                  <a:ext cx="271440" cy="74520"/>
                  <a:chOff x="5318280" y="3578400"/>
                  <a:chExt cx="271440" cy="74520"/>
                </a:xfrm>
              </p:grpSpPr>
              <p:sp>
                <p:nvSpPr>
                  <p:cNvPr id="831" name=""/>
                  <p:cNvSpPr/>
                  <p:nvPr/>
                </p:nvSpPr>
                <p:spPr>
                  <a:xfrm flipH="1">
                    <a:off x="5318280" y="3578400"/>
                    <a:ext cx="271440" cy="31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5330880" y="3622680"/>
                    <a:ext cx="245880" cy="30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3" name=""/>
            <p:cNvGrpSpPr/>
            <p:nvPr/>
          </p:nvGrpSpPr>
          <p:grpSpPr>
            <a:xfrm>
              <a:off x="5318280" y="3665520"/>
              <a:ext cx="524880" cy="335160"/>
              <a:chOff x="5318280" y="3665520"/>
              <a:chExt cx="524880" cy="335160"/>
            </a:xfrm>
          </p:grpSpPr>
          <p:grpSp>
            <p:nvGrpSpPr>
              <p:cNvPr id="834" name=""/>
              <p:cNvGrpSpPr/>
              <p:nvPr/>
            </p:nvGrpSpPr>
            <p:grpSpPr>
              <a:xfrm>
                <a:off x="5318280" y="3665520"/>
                <a:ext cx="524880" cy="162000"/>
                <a:chOff x="5318280" y="3665520"/>
                <a:chExt cx="524880" cy="16200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5589720" y="3665520"/>
                  <a:ext cx="241200" cy="3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>
                  <a:off x="5576400" y="3708360"/>
                  <a:ext cx="266760" cy="3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5318280" y="3751200"/>
                  <a:ext cx="271440" cy="76320"/>
                  <a:chOff x="5318280" y="3751200"/>
                  <a:chExt cx="271440" cy="7632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 flipH="1">
                    <a:off x="5318280" y="3751200"/>
                    <a:ext cx="271440" cy="31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5330880" y="3795840"/>
                    <a:ext cx="245880" cy="31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0" name=""/>
              <p:cNvGrpSpPr/>
              <p:nvPr/>
            </p:nvGrpSpPr>
            <p:grpSpPr>
              <a:xfrm>
                <a:off x="5318280" y="3840120"/>
                <a:ext cx="524880" cy="160560"/>
                <a:chOff x="5318280" y="3840120"/>
                <a:chExt cx="524880" cy="16056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5589720" y="3840120"/>
                  <a:ext cx="241200" cy="3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5576400" y="3882960"/>
                  <a:ext cx="266760" cy="3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5318280" y="3925800"/>
                  <a:ext cx="271440" cy="74880"/>
                  <a:chOff x="5318280" y="3925800"/>
                  <a:chExt cx="271440" cy="748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 flipH="1">
                    <a:off x="5318280" y="3925800"/>
                    <a:ext cx="271440" cy="30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5330880" y="3968640"/>
                    <a:ext cx="245880" cy="320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46" name=""/>
            <p:cNvGrpSpPr/>
            <p:nvPr/>
          </p:nvGrpSpPr>
          <p:grpSpPr>
            <a:xfrm>
              <a:off x="5318280" y="4013280"/>
              <a:ext cx="524880" cy="334800"/>
              <a:chOff x="5318280" y="4013280"/>
              <a:chExt cx="524880" cy="334800"/>
            </a:xfrm>
          </p:grpSpPr>
          <p:grpSp>
            <p:nvGrpSpPr>
              <p:cNvPr id="847" name=""/>
              <p:cNvGrpSpPr/>
              <p:nvPr/>
            </p:nvGrpSpPr>
            <p:grpSpPr>
              <a:xfrm>
                <a:off x="5318280" y="4013280"/>
                <a:ext cx="524880" cy="158760"/>
                <a:chOff x="5318280" y="4013280"/>
                <a:chExt cx="524880" cy="15876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5589720" y="4013280"/>
                  <a:ext cx="24120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>
                  <a:off x="5576400" y="4054320"/>
                  <a:ext cx="266760" cy="32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0" name=""/>
                <p:cNvGrpSpPr/>
                <p:nvPr/>
              </p:nvGrpSpPr>
              <p:grpSpPr>
                <a:xfrm>
                  <a:off x="5318280" y="4098960"/>
                  <a:ext cx="271440" cy="73080"/>
                  <a:chOff x="5318280" y="4098960"/>
                  <a:chExt cx="271440" cy="7308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 flipH="1">
                    <a:off x="5318280" y="4098960"/>
                    <a:ext cx="271440" cy="30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5330880" y="4141800"/>
                    <a:ext cx="245880" cy="30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5318280" y="4184640"/>
                <a:ext cx="524880" cy="163440"/>
                <a:chOff x="5318280" y="4184640"/>
                <a:chExt cx="524880" cy="16344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589720" y="4184640"/>
                  <a:ext cx="241200" cy="3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5576400" y="4227480"/>
                  <a:ext cx="266760" cy="33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6" name=""/>
                <p:cNvGrpSpPr/>
                <p:nvPr/>
              </p:nvGrpSpPr>
              <p:grpSpPr>
                <a:xfrm>
                  <a:off x="5318280" y="4273560"/>
                  <a:ext cx="271440" cy="74520"/>
                  <a:chOff x="5318280" y="4273560"/>
                  <a:chExt cx="271440" cy="7452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 flipH="1">
                    <a:off x="5318280" y="4273560"/>
                    <a:ext cx="271440" cy="31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5330880" y="4317840"/>
                    <a:ext cx="245880" cy="30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59" name=""/>
            <p:cNvSpPr/>
            <p:nvPr/>
          </p:nvSpPr>
          <p:spPr>
            <a:xfrm flipV="1">
              <a:off x="5583240" y="2825640"/>
              <a:ext cx="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583240" y="4347720"/>
              <a:ext cx="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5211360" y="4648320"/>
              <a:ext cx="39708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502240" y="4551480"/>
              <a:ext cx="158760" cy="104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5383080" y="4575240"/>
              <a:ext cx="486000" cy="1369800"/>
              <a:chOff x="5383080" y="4575240"/>
              <a:chExt cx="486000" cy="1369800"/>
            </a:xfrm>
          </p:grpSpPr>
          <p:sp>
            <p:nvSpPr>
              <p:cNvPr id="864" name=""/>
              <p:cNvSpPr/>
              <p:nvPr/>
            </p:nvSpPr>
            <p:spPr>
              <a:xfrm>
                <a:off x="5421240" y="4921200"/>
                <a:ext cx="131760" cy="162000"/>
              </a:xfrm>
              <a:custGeom>
                <a:avLst/>
                <a:gdLst/>
                <a:ahLst/>
                <a:rect l="l" t="t" r="r" b="b"/>
                <a:pathLst>
                  <a:path w="83" h="102">
                    <a:moveTo>
                      <a:pt x="82" y="0"/>
                    </a:moveTo>
                    <a:lnTo>
                      <a:pt x="74" y="3"/>
                    </a:lnTo>
                    <a:lnTo>
                      <a:pt x="65" y="8"/>
                    </a:lnTo>
                    <a:lnTo>
                      <a:pt x="56" y="14"/>
                    </a:lnTo>
                    <a:lnTo>
                      <a:pt x="48" y="20"/>
                    </a:lnTo>
                    <a:lnTo>
                      <a:pt x="39" y="28"/>
                    </a:lnTo>
                    <a:lnTo>
                      <a:pt x="30" y="36"/>
                    </a:lnTo>
                    <a:lnTo>
                      <a:pt x="23" y="42"/>
                    </a:lnTo>
                    <a:lnTo>
                      <a:pt x="17" y="49"/>
                    </a:lnTo>
                    <a:lnTo>
                      <a:pt x="12" y="56"/>
                    </a:lnTo>
                    <a:lnTo>
                      <a:pt x="8" y="64"/>
                    </a:lnTo>
                    <a:lnTo>
                      <a:pt x="4" y="72"/>
                    </a:lnTo>
                    <a:lnTo>
                      <a:pt x="1" y="80"/>
                    </a:lnTo>
                    <a:lnTo>
                      <a:pt x="0" y="88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6" y="96"/>
                    </a:lnTo>
                    <a:lnTo>
                      <a:pt x="13" y="90"/>
                    </a:lnTo>
                    <a:lnTo>
                      <a:pt x="20" y="85"/>
                    </a:lnTo>
                    <a:lnTo>
                      <a:pt x="29" y="79"/>
                    </a:lnTo>
                    <a:lnTo>
                      <a:pt x="37" y="74"/>
                    </a:lnTo>
                    <a:lnTo>
                      <a:pt x="45" y="70"/>
                    </a:lnTo>
                    <a:lnTo>
                      <a:pt x="53" y="68"/>
                    </a:lnTo>
                    <a:lnTo>
                      <a:pt x="64" y="65"/>
                    </a:lnTo>
                    <a:lnTo>
                      <a:pt x="74" y="65"/>
                    </a:lnTo>
                    <a:lnTo>
                      <a:pt x="80" y="65"/>
                    </a:lnTo>
                    <a:lnTo>
                      <a:pt x="82" y="0"/>
                    </a:lnTo>
                  </a:path>
                </a:pathLst>
              </a:custGeom>
              <a:solidFill>
                <a:srgbClr val="5f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446800" y="4575240"/>
                <a:ext cx="422280" cy="1369800"/>
              </a:xfrm>
              <a:custGeom>
                <a:avLst/>
                <a:gdLst/>
                <a:ahLst/>
                <a:rect l="l" t="t" r="r" b="b"/>
                <a:pathLst>
                  <a:path w="266" h="863">
                    <a:moveTo>
                      <a:pt x="100" y="0"/>
                    </a:moveTo>
                    <a:lnTo>
                      <a:pt x="103" y="2"/>
                    </a:lnTo>
                    <a:lnTo>
                      <a:pt x="107" y="9"/>
                    </a:lnTo>
                    <a:lnTo>
                      <a:pt x="111" y="19"/>
                    </a:lnTo>
                    <a:lnTo>
                      <a:pt x="114" y="26"/>
                    </a:lnTo>
                    <a:lnTo>
                      <a:pt x="118" y="35"/>
                    </a:lnTo>
                    <a:lnTo>
                      <a:pt x="123" y="49"/>
                    </a:lnTo>
                    <a:lnTo>
                      <a:pt x="127" y="62"/>
                    </a:lnTo>
                    <a:lnTo>
                      <a:pt x="131" y="75"/>
                    </a:lnTo>
                    <a:lnTo>
                      <a:pt x="134" y="88"/>
                    </a:lnTo>
                    <a:lnTo>
                      <a:pt x="137" y="101"/>
                    </a:lnTo>
                    <a:lnTo>
                      <a:pt x="140" y="117"/>
                    </a:lnTo>
                    <a:lnTo>
                      <a:pt x="143" y="132"/>
                    </a:lnTo>
                    <a:lnTo>
                      <a:pt x="146" y="145"/>
                    </a:lnTo>
                    <a:lnTo>
                      <a:pt x="148" y="158"/>
                    </a:lnTo>
                    <a:lnTo>
                      <a:pt x="150" y="170"/>
                    </a:lnTo>
                    <a:lnTo>
                      <a:pt x="154" y="187"/>
                    </a:lnTo>
                    <a:lnTo>
                      <a:pt x="156" y="201"/>
                    </a:lnTo>
                    <a:lnTo>
                      <a:pt x="159" y="215"/>
                    </a:lnTo>
                    <a:lnTo>
                      <a:pt x="161" y="226"/>
                    </a:lnTo>
                    <a:lnTo>
                      <a:pt x="164" y="237"/>
                    </a:lnTo>
                    <a:lnTo>
                      <a:pt x="168" y="245"/>
                    </a:lnTo>
                    <a:lnTo>
                      <a:pt x="171" y="251"/>
                    </a:lnTo>
                    <a:lnTo>
                      <a:pt x="176" y="257"/>
                    </a:lnTo>
                    <a:lnTo>
                      <a:pt x="182" y="263"/>
                    </a:lnTo>
                    <a:lnTo>
                      <a:pt x="189" y="269"/>
                    </a:lnTo>
                    <a:lnTo>
                      <a:pt x="197" y="277"/>
                    </a:lnTo>
                    <a:lnTo>
                      <a:pt x="208" y="287"/>
                    </a:lnTo>
                    <a:lnTo>
                      <a:pt x="217" y="296"/>
                    </a:lnTo>
                    <a:lnTo>
                      <a:pt x="228" y="306"/>
                    </a:lnTo>
                    <a:lnTo>
                      <a:pt x="237" y="316"/>
                    </a:lnTo>
                    <a:lnTo>
                      <a:pt x="246" y="326"/>
                    </a:lnTo>
                    <a:lnTo>
                      <a:pt x="255" y="337"/>
                    </a:lnTo>
                    <a:lnTo>
                      <a:pt x="265" y="349"/>
                    </a:lnTo>
                    <a:lnTo>
                      <a:pt x="248" y="354"/>
                    </a:lnTo>
                    <a:lnTo>
                      <a:pt x="232" y="358"/>
                    </a:lnTo>
                    <a:lnTo>
                      <a:pt x="217" y="363"/>
                    </a:lnTo>
                    <a:lnTo>
                      <a:pt x="200" y="368"/>
                    </a:lnTo>
                    <a:lnTo>
                      <a:pt x="186" y="370"/>
                    </a:lnTo>
                    <a:lnTo>
                      <a:pt x="177" y="370"/>
                    </a:lnTo>
                    <a:lnTo>
                      <a:pt x="170" y="364"/>
                    </a:lnTo>
                    <a:lnTo>
                      <a:pt x="167" y="378"/>
                    </a:lnTo>
                    <a:lnTo>
                      <a:pt x="165" y="392"/>
                    </a:lnTo>
                    <a:lnTo>
                      <a:pt x="162" y="409"/>
                    </a:lnTo>
                    <a:lnTo>
                      <a:pt x="158" y="428"/>
                    </a:lnTo>
                    <a:lnTo>
                      <a:pt x="154" y="447"/>
                    </a:lnTo>
                    <a:lnTo>
                      <a:pt x="151" y="462"/>
                    </a:lnTo>
                    <a:lnTo>
                      <a:pt x="149" y="478"/>
                    </a:lnTo>
                    <a:lnTo>
                      <a:pt x="147" y="493"/>
                    </a:lnTo>
                    <a:lnTo>
                      <a:pt x="146" y="506"/>
                    </a:lnTo>
                    <a:lnTo>
                      <a:pt x="149" y="516"/>
                    </a:lnTo>
                    <a:lnTo>
                      <a:pt x="154" y="525"/>
                    </a:lnTo>
                    <a:lnTo>
                      <a:pt x="161" y="535"/>
                    </a:lnTo>
                    <a:lnTo>
                      <a:pt x="157" y="556"/>
                    </a:lnTo>
                    <a:lnTo>
                      <a:pt x="151" y="579"/>
                    </a:lnTo>
                    <a:lnTo>
                      <a:pt x="148" y="598"/>
                    </a:lnTo>
                    <a:lnTo>
                      <a:pt x="135" y="587"/>
                    </a:lnTo>
                    <a:lnTo>
                      <a:pt x="133" y="594"/>
                    </a:lnTo>
                    <a:lnTo>
                      <a:pt x="129" y="605"/>
                    </a:lnTo>
                    <a:lnTo>
                      <a:pt x="126" y="617"/>
                    </a:lnTo>
                    <a:lnTo>
                      <a:pt x="124" y="630"/>
                    </a:lnTo>
                    <a:lnTo>
                      <a:pt x="125" y="642"/>
                    </a:lnTo>
                    <a:lnTo>
                      <a:pt x="126" y="655"/>
                    </a:lnTo>
                    <a:lnTo>
                      <a:pt x="129" y="669"/>
                    </a:lnTo>
                    <a:lnTo>
                      <a:pt x="134" y="683"/>
                    </a:lnTo>
                    <a:lnTo>
                      <a:pt x="142" y="696"/>
                    </a:lnTo>
                    <a:lnTo>
                      <a:pt x="154" y="712"/>
                    </a:lnTo>
                    <a:lnTo>
                      <a:pt x="165" y="725"/>
                    </a:lnTo>
                    <a:lnTo>
                      <a:pt x="181" y="740"/>
                    </a:lnTo>
                    <a:lnTo>
                      <a:pt x="200" y="757"/>
                    </a:lnTo>
                    <a:lnTo>
                      <a:pt x="215" y="776"/>
                    </a:lnTo>
                    <a:lnTo>
                      <a:pt x="227" y="793"/>
                    </a:lnTo>
                    <a:lnTo>
                      <a:pt x="236" y="809"/>
                    </a:lnTo>
                    <a:lnTo>
                      <a:pt x="242" y="825"/>
                    </a:lnTo>
                    <a:lnTo>
                      <a:pt x="245" y="845"/>
                    </a:lnTo>
                    <a:lnTo>
                      <a:pt x="244" y="862"/>
                    </a:lnTo>
                    <a:lnTo>
                      <a:pt x="236" y="853"/>
                    </a:lnTo>
                    <a:lnTo>
                      <a:pt x="229" y="847"/>
                    </a:lnTo>
                    <a:lnTo>
                      <a:pt x="224" y="844"/>
                    </a:lnTo>
                    <a:lnTo>
                      <a:pt x="205" y="831"/>
                    </a:lnTo>
                    <a:lnTo>
                      <a:pt x="197" y="822"/>
                    </a:lnTo>
                    <a:lnTo>
                      <a:pt x="187" y="811"/>
                    </a:lnTo>
                    <a:lnTo>
                      <a:pt x="176" y="801"/>
                    </a:lnTo>
                    <a:lnTo>
                      <a:pt x="165" y="793"/>
                    </a:lnTo>
                    <a:lnTo>
                      <a:pt x="154" y="786"/>
                    </a:lnTo>
                    <a:lnTo>
                      <a:pt x="143" y="779"/>
                    </a:lnTo>
                    <a:lnTo>
                      <a:pt x="133" y="774"/>
                    </a:lnTo>
                    <a:lnTo>
                      <a:pt x="123" y="771"/>
                    </a:lnTo>
                    <a:lnTo>
                      <a:pt x="112" y="770"/>
                    </a:lnTo>
                    <a:lnTo>
                      <a:pt x="100" y="774"/>
                    </a:lnTo>
                    <a:lnTo>
                      <a:pt x="87" y="779"/>
                    </a:lnTo>
                    <a:lnTo>
                      <a:pt x="77" y="786"/>
                    </a:lnTo>
                    <a:lnTo>
                      <a:pt x="66" y="795"/>
                    </a:lnTo>
                    <a:lnTo>
                      <a:pt x="58" y="803"/>
                    </a:lnTo>
                    <a:lnTo>
                      <a:pt x="50" y="811"/>
                    </a:lnTo>
                    <a:lnTo>
                      <a:pt x="41" y="821"/>
                    </a:lnTo>
                    <a:lnTo>
                      <a:pt x="31" y="831"/>
                    </a:lnTo>
                    <a:lnTo>
                      <a:pt x="25" y="837"/>
                    </a:lnTo>
                    <a:lnTo>
                      <a:pt x="20" y="844"/>
                    </a:lnTo>
                    <a:lnTo>
                      <a:pt x="15" y="851"/>
                    </a:lnTo>
                    <a:lnTo>
                      <a:pt x="10" y="855"/>
                    </a:lnTo>
                    <a:lnTo>
                      <a:pt x="10" y="845"/>
                    </a:lnTo>
                    <a:lnTo>
                      <a:pt x="10" y="833"/>
                    </a:lnTo>
                    <a:lnTo>
                      <a:pt x="9" y="822"/>
                    </a:lnTo>
                    <a:lnTo>
                      <a:pt x="10" y="812"/>
                    </a:lnTo>
                    <a:lnTo>
                      <a:pt x="12" y="801"/>
                    </a:lnTo>
                    <a:lnTo>
                      <a:pt x="15" y="792"/>
                    </a:lnTo>
                    <a:lnTo>
                      <a:pt x="18" y="783"/>
                    </a:lnTo>
                    <a:lnTo>
                      <a:pt x="22" y="775"/>
                    </a:lnTo>
                    <a:lnTo>
                      <a:pt x="27" y="765"/>
                    </a:lnTo>
                    <a:lnTo>
                      <a:pt x="33" y="756"/>
                    </a:lnTo>
                    <a:lnTo>
                      <a:pt x="46" y="739"/>
                    </a:lnTo>
                    <a:lnTo>
                      <a:pt x="53" y="728"/>
                    </a:lnTo>
                    <a:lnTo>
                      <a:pt x="63" y="711"/>
                    </a:lnTo>
                    <a:lnTo>
                      <a:pt x="65" y="695"/>
                    </a:lnTo>
                    <a:lnTo>
                      <a:pt x="65" y="678"/>
                    </a:lnTo>
                    <a:lnTo>
                      <a:pt x="67" y="655"/>
                    </a:lnTo>
                    <a:lnTo>
                      <a:pt x="65" y="634"/>
                    </a:lnTo>
                    <a:lnTo>
                      <a:pt x="64" y="612"/>
                    </a:lnTo>
                    <a:lnTo>
                      <a:pt x="59" y="588"/>
                    </a:lnTo>
                    <a:lnTo>
                      <a:pt x="53" y="563"/>
                    </a:lnTo>
                    <a:lnTo>
                      <a:pt x="47" y="548"/>
                    </a:lnTo>
                    <a:lnTo>
                      <a:pt x="42" y="545"/>
                    </a:lnTo>
                    <a:lnTo>
                      <a:pt x="37" y="548"/>
                    </a:lnTo>
                    <a:lnTo>
                      <a:pt x="28" y="560"/>
                    </a:lnTo>
                    <a:lnTo>
                      <a:pt x="21" y="531"/>
                    </a:lnTo>
                    <a:lnTo>
                      <a:pt x="10" y="491"/>
                    </a:lnTo>
                    <a:lnTo>
                      <a:pt x="18" y="482"/>
                    </a:lnTo>
                    <a:lnTo>
                      <a:pt x="23" y="471"/>
                    </a:lnTo>
                    <a:lnTo>
                      <a:pt x="26" y="460"/>
                    </a:lnTo>
                    <a:lnTo>
                      <a:pt x="27" y="443"/>
                    </a:lnTo>
                    <a:lnTo>
                      <a:pt x="6" y="421"/>
                    </a:lnTo>
                    <a:lnTo>
                      <a:pt x="21" y="402"/>
                    </a:lnTo>
                    <a:lnTo>
                      <a:pt x="1" y="261"/>
                    </a:lnTo>
                    <a:lnTo>
                      <a:pt x="0" y="233"/>
                    </a:lnTo>
                    <a:lnTo>
                      <a:pt x="1" y="206"/>
                    </a:lnTo>
                    <a:lnTo>
                      <a:pt x="4" y="179"/>
                    </a:lnTo>
                    <a:lnTo>
                      <a:pt x="11" y="125"/>
                    </a:lnTo>
                    <a:lnTo>
                      <a:pt x="24" y="76"/>
                    </a:lnTo>
                    <a:lnTo>
                      <a:pt x="34" y="49"/>
                    </a:lnTo>
                    <a:lnTo>
                      <a:pt x="44" y="30"/>
                    </a:lnTo>
                    <a:lnTo>
                      <a:pt x="48" y="50"/>
                    </a:lnTo>
                    <a:lnTo>
                      <a:pt x="56" y="38"/>
                    </a:lnTo>
                    <a:lnTo>
                      <a:pt x="62" y="30"/>
                    </a:lnTo>
                    <a:lnTo>
                      <a:pt x="74" y="16"/>
                    </a:lnTo>
                    <a:lnTo>
                      <a:pt x="77" y="13"/>
                    </a:lnTo>
                    <a:lnTo>
                      <a:pt x="82" y="9"/>
                    </a:lnTo>
                    <a:lnTo>
                      <a:pt x="85" y="6"/>
                    </a:lnTo>
                    <a:lnTo>
                      <a:pt x="92" y="4"/>
                    </a:lnTo>
                    <a:lnTo>
                      <a:pt x="96" y="1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7f7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6" name=""/>
              <p:cNvGrpSpPr/>
              <p:nvPr/>
            </p:nvGrpSpPr>
            <p:grpSpPr>
              <a:xfrm>
                <a:off x="5564160" y="4694400"/>
                <a:ext cx="30240" cy="32760"/>
                <a:chOff x="5564160" y="4694400"/>
                <a:chExt cx="30240" cy="3276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5564160" y="4694400"/>
                  <a:ext cx="3024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564160" y="4697280"/>
                  <a:ext cx="28800" cy="29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437" y="18437"/>
                      </a:moveTo>
                      <a:arcTo wR="10800" hR="10800" stAng="2700000" swAng="1766663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437" y="18437"/>
                      </a:moveTo>
                      <a:arcTo wR="10800" hR="10800" stAng="2700000" swAng="17666637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5492880" y="4771440"/>
                <a:ext cx="69480" cy="93960"/>
                <a:chOff x="5492880" y="4771440"/>
                <a:chExt cx="69480" cy="9396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5492880" y="4789440"/>
                  <a:ext cx="69480" cy="1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136774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136774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492880" y="4771440"/>
                  <a:ext cx="69480" cy="19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474" y="9158"/>
                      </a:moveTo>
                      <a:arcTo wR="10800" hR="10800" stAng="-524769" swAng="1235093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474" y="9158"/>
                      </a:moveTo>
                      <a:arcTo wR="10800" hR="10800" stAng="-524769" swAng="1235093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492880" y="4808160"/>
                  <a:ext cx="69480" cy="1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474" y="9158"/>
                      </a:moveTo>
                      <a:arcTo wR="10800" hR="10800" stAng="-524769" swAng="1235093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474" y="9158"/>
                      </a:moveTo>
                      <a:arcTo wR="10800" hR="10800" stAng="-524769" swAng="1235093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492880" y="4826520"/>
                  <a:ext cx="69480" cy="1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136774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136774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492880" y="4846680"/>
                  <a:ext cx="69480" cy="1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136774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136774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5578560" y="4576680"/>
                <a:ext cx="287280" cy="1365480"/>
              </a:xfrm>
              <a:custGeom>
                <a:avLst/>
                <a:gdLst/>
                <a:ahLst/>
                <a:rect l="l" t="t" r="r" b="b"/>
                <a:pathLst>
                  <a:path w="181" h="860">
                    <a:moveTo>
                      <a:pt x="17" y="0"/>
                    </a:moveTo>
                    <a:lnTo>
                      <a:pt x="21" y="4"/>
                    </a:lnTo>
                    <a:lnTo>
                      <a:pt x="24" y="11"/>
                    </a:lnTo>
                    <a:lnTo>
                      <a:pt x="27" y="18"/>
                    </a:lnTo>
                    <a:lnTo>
                      <a:pt x="30" y="26"/>
                    </a:lnTo>
                    <a:lnTo>
                      <a:pt x="34" y="34"/>
                    </a:lnTo>
                    <a:lnTo>
                      <a:pt x="38" y="47"/>
                    </a:lnTo>
                    <a:lnTo>
                      <a:pt x="42" y="58"/>
                    </a:lnTo>
                    <a:lnTo>
                      <a:pt x="46" y="72"/>
                    </a:lnTo>
                    <a:lnTo>
                      <a:pt x="50" y="86"/>
                    </a:lnTo>
                    <a:lnTo>
                      <a:pt x="53" y="100"/>
                    </a:lnTo>
                    <a:lnTo>
                      <a:pt x="56" y="115"/>
                    </a:lnTo>
                    <a:lnTo>
                      <a:pt x="58" y="129"/>
                    </a:lnTo>
                    <a:lnTo>
                      <a:pt x="61" y="144"/>
                    </a:lnTo>
                    <a:lnTo>
                      <a:pt x="64" y="158"/>
                    </a:lnTo>
                    <a:lnTo>
                      <a:pt x="67" y="172"/>
                    </a:lnTo>
                    <a:lnTo>
                      <a:pt x="69" y="184"/>
                    </a:lnTo>
                    <a:lnTo>
                      <a:pt x="72" y="200"/>
                    </a:lnTo>
                    <a:lnTo>
                      <a:pt x="75" y="214"/>
                    </a:lnTo>
                    <a:lnTo>
                      <a:pt x="77" y="227"/>
                    </a:lnTo>
                    <a:lnTo>
                      <a:pt x="80" y="237"/>
                    </a:lnTo>
                    <a:lnTo>
                      <a:pt x="84" y="246"/>
                    </a:lnTo>
                    <a:lnTo>
                      <a:pt x="88" y="253"/>
                    </a:lnTo>
                    <a:lnTo>
                      <a:pt x="93" y="258"/>
                    </a:lnTo>
                    <a:lnTo>
                      <a:pt x="99" y="264"/>
                    </a:lnTo>
                    <a:lnTo>
                      <a:pt x="105" y="270"/>
                    </a:lnTo>
                    <a:lnTo>
                      <a:pt x="115" y="278"/>
                    </a:lnTo>
                    <a:lnTo>
                      <a:pt x="124" y="287"/>
                    </a:lnTo>
                    <a:lnTo>
                      <a:pt x="134" y="296"/>
                    </a:lnTo>
                    <a:lnTo>
                      <a:pt x="143" y="306"/>
                    </a:lnTo>
                    <a:lnTo>
                      <a:pt x="154" y="316"/>
                    </a:lnTo>
                    <a:lnTo>
                      <a:pt x="163" y="327"/>
                    </a:lnTo>
                    <a:lnTo>
                      <a:pt x="173" y="338"/>
                    </a:lnTo>
                    <a:lnTo>
                      <a:pt x="180" y="348"/>
                    </a:lnTo>
                    <a:lnTo>
                      <a:pt x="164" y="352"/>
                    </a:lnTo>
                    <a:lnTo>
                      <a:pt x="148" y="357"/>
                    </a:lnTo>
                    <a:lnTo>
                      <a:pt x="132" y="362"/>
                    </a:lnTo>
                    <a:lnTo>
                      <a:pt x="116" y="366"/>
                    </a:lnTo>
                    <a:lnTo>
                      <a:pt x="109" y="367"/>
                    </a:lnTo>
                    <a:lnTo>
                      <a:pt x="102" y="369"/>
                    </a:lnTo>
                    <a:lnTo>
                      <a:pt x="94" y="367"/>
                    </a:lnTo>
                    <a:lnTo>
                      <a:pt x="86" y="362"/>
                    </a:lnTo>
                    <a:lnTo>
                      <a:pt x="83" y="377"/>
                    </a:lnTo>
                    <a:lnTo>
                      <a:pt x="81" y="391"/>
                    </a:lnTo>
                    <a:lnTo>
                      <a:pt x="77" y="408"/>
                    </a:lnTo>
                    <a:lnTo>
                      <a:pt x="74" y="427"/>
                    </a:lnTo>
                    <a:lnTo>
                      <a:pt x="70" y="447"/>
                    </a:lnTo>
                    <a:lnTo>
                      <a:pt x="67" y="461"/>
                    </a:lnTo>
                    <a:lnTo>
                      <a:pt x="65" y="477"/>
                    </a:lnTo>
                    <a:lnTo>
                      <a:pt x="63" y="492"/>
                    </a:lnTo>
                    <a:lnTo>
                      <a:pt x="62" y="504"/>
                    </a:lnTo>
                    <a:lnTo>
                      <a:pt x="65" y="515"/>
                    </a:lnTo>
                    <a:lnTo>
                      <a:pt x="70" y="524"/>
                    </a:lnTo>
                    <a:lnTo>
                      <a:pt x="77" y="534"/>
                    </a:lnTo>
                    <a:lnTo>
                      <a:pt x="73" y="555"/>
                    </a:lnTo>
                    <a:lnTo>
                      <a:pt x="67" y="578"/>
                    </a:lnTo>
                    <a:lnTo>
                      <a:pt x="63" y="596"/>
                    </a:lnTo>
                    <a:lnTo>
                      <a:pt x="52" y="584"/>
                    </a:lnTo>
                    <a:lnTo>
                      <a:pt x="48" y="593"/>
                    </a:lnTo>
                    <a:lnTo>
                      <a:pt x="45" y="604"/>
                    </a:lnTo>
                    <a:lnTo>
                      <a:pt x="42" y="616"/>
                    </a:lnTo>
                    <a:lnTo>
                      <a:pt x="40" y="629"/>
                    </a:lnTo>
                    <a:lnTo>
                      <a:pt x="41" y="641"/>
                    </a:lnTo>
                    <a:lnTo>
                      <a:pt x="42" y="655"/>
                    </a:lnTo>
                    <a:lnTo>
                      <a:pt x="45" y="668"/>
                    </a:lnTo>
                    <a:lnTo>
                      <a:pt x="50" y="682"/>
                    </a:lnTo>
                    <a:lnTo>
                      <a:pt x="58" y="696"/>
                    </a:lnTo>
                    <a:lnTo>
                      <a:pt x="70" y="712"/>
                    </a:lnTo>
                    <a:lnTo>
                      <a:pt x="82" y="725"/>
                    </a:lnTo>
                    <a:lnTo>
                      <a:pt x="97" y="740"/>
                    </a:lnTo>
                    <a:lnTo>
                      <a:pt x="104" y="746"/>
                    </a:lnTo>
                    <a:lnTo>
                      <a:pt x="116" y="757"/>
                    </a:lnTo>
                    <a:lnTo>
                      <a:pt x="124" y="766"/>
                    </a:lnTo>
                    <a:lnTo>
                      <a:pt x="131" y="775"/>
                    </a:lnTo>
                    <a:lnTo>
                      <a:pt x="137" y="785"/>
                    </a:lnTo>
                    <a:lnTo>
                      <a:pt x="143" y="793"/>
                    </a:lnTo>
                    <a:lnTo>
                      <a:pt x="148" y="802"/>
                    </a:lnTo>
                    <a:lnTo>
                      <a:pt x="152" y="810"/>
                    </a:lnTo>
                    <a:lnTo>
                      <a:pt x="155" y="817"/>
                    </a:lnTo>
                    <a:lnTo>
                      <a:pt x="158" y="825"/>
                    </a:lnTo>
                    <a:lnTo>
                      <a:pt x="159" y="833"/>
                    </a:lnTo>
                    <a:lnTo>
                      <a:pt x="160" y="843"/>
                    </a:lnTo>
                    <a:lnTo>
                      <a:pt x="160" y="859"/>
                    </a:lnTo>
                    <a:lnTo>
                      <a:pt x="154" y="852"/>
                    </a:lnTo>
                    <a:lnTo>
                      <a:pt x="147" y="846"/>
                    </a:lnTo>
                    <a:lnTo>
                      <a:pt x="141" y="842"/>
                    </a:lnTo>
                    <a:lnTo>
                      <a:pt x="132" y="836"/>
                    </a:lnTo>
                    <a:lnTo>
                      <a:pt x="123" y="830"/>
                    </a:lnTo>
                    <a:lnTo>
                      <a:pt x="116" y="822"/>
                    </a:lnTo>
                    <a:lnTo>
                      <a:pt x="107" y="811"/>
                    </a:lnTo>
                    <a:lnTo>
                      <a:pt x="102" y="806"/>
                    </a:lnTo>
                    <a:lnTo>
                      <a:pt x="95" y="801"/>
                    </a:lnTo>
                    <a:lnTo>
                      <a:pt x="89" y="795"/>
                    </a:lnTo>
                    <a:lnTo>
                      <a:pt x="84" y="792"/>
                    </a:lnTo>
                    <a:lnTo>
                      <a:pt x="78" y="788"/>
                    </a:lnTo>
                    <a:lnTo>
                      <a:pt x="72" y="784"/>
                    </a:lnTo>
                    <a:lnTo>
                      <a:pt x="66" y="781"/>
                    </a:lnTo>
                    <a:lnTo>
                      <a:pt x="61" y="778"/>
                    </a:lnTo>
                    <a:lnTo>
                      <a:pt x="56" y="775"/>
                    </a:lnTo>
                    <a:lnTo>
                      <a:pt x="51" y="772"/>
                    </a:lnTo>
                    <a:lnTo>
                      <a:pt x="45" y="770"/>
                    </a:lnTo>
                    <a:lnTo>
                      <a:pt x="40" y="769"/>
                    </a:lnTo>
                    <a:lnTo>
                      <a:pt x="34" y="769"/>
                    </a:lnTo>
                    <a:lnTo>
                      <a:pt x="29" y="768"/>
                    </a:lnTo>
                    <a:lnTo>
                      <a:pt x="31" y="763"/>
                    </a:lnTo>
                    <a:lnTo>
                      <a:pt x="33" y="756"/>
                    </a:lnTo>
                    <a:lnTo>
                      <a:pt x="34" y="750"/>
                    </a:lnTo>
                    <a:lnTo>
                      <a:pt x="33" y="744"/>
                    </a:lnTo>
                    <a:lnTo>
                      <a:pt x="31" y="738"/>
                    </a:lnTo>
                    <a:lnTo>
                      <a:pt x="29" y="733"/>
                    </a:lnTo>
                    <a:lnTo>
                      <a:pt x="27" y="728"/>
                    </a:lnTo>
                    <a:lnTo>
                      <a:pt x="25" y="722"/>
                    </a:lnTo>
                    <a:lnTo>
                      <a:pt x="24" y="716"/>
                    </a:lnTo>
                    <a:lnTo>
                      <a:pt x="26" y="708"/>
                    </a:lnTo>
                    <a:lnTo>
                      <a:pt x="27" y="701"/>
                    </a:lnTo>
                    <a:lnTo>
                      <a:pt x="28" y="696"/>
                    </a:lnTo>
                    <a:lnTo>
                      <a:pt x="30" y="690"/>
                    </a:lnTo>
                    <a:lnTo>
                      <a:pt x="30" y="684"/>
                    </a:lnTo>
                    <a:lnTo>
                      <a:pt x="28" y="676"/>
                    </a:lnTo>
                    <a:lnTo>
                      <a:pt x="27" y="668"/>
                    </a:lnTo>
                    <a:lnTo>
                      <a:pt x="27" y="663"/>
                    </a:lnTo>
                    <a:lnTo>
                      <a:pt x="28" y="655"/>
                    </a:lnTo>
                    <a:lnTo>
                      <a:pt x="30" y="647"/>
                    </a:lnTo>
                    <a:lnTo>
                      <a:pt x="30" y="639"/>
                    </a:lnTo>
                    <a:lnTo>
                      <a:pt x="28" y="632"/>
                    </a:lnTo>
                    <a:lnTo>
                      <a:pt x="26" y="622"/>
                    </a:lnTo>
                    <a:lnTo>
                      <a:pt x="26" y="615"/>
                    </a:lnTo>
                    <a:lnTo>
                      <a:pt x="28" y="606"/>
                    </a:lnTo>
                    <a:lnTo>
                      <a:pt x="28" y="598"/>
                    </a:lnTo>
                    <a:lnTo>
                      <a:pt x="27" y="589"/>
                    </a:lnTo>
                    <a:lnTo>
                      <a:pt x="24" y="582"/>
                    </a:lnTo>
                    <a:lnTo>
                      <a:pt x="22" y="572"/>
                    </a:lnTo>
                    <a:lnTo>
                      <a:pt x="21" y="565"/>
                    </a:lnTo>
                    <a:lnTo>
                      <a:pt x="20" y="556"/>
                    </a:lnTo>
                    <a:lnTo>
                      <a:pt x="20" y="549"/>
                    </a:lnTo>
                    <a:lnTo>
                      <a:pt x="21" y="540"/>
                    </a:lnTo>
                    <a:lnTo>
                      <a:pt x="23" y="531"/>
                    </a:lnTo>
                    <a:lnTo>
                      <a:pt x="21" y="522"/>
                    </a:lnTo>
                    <a:lnTo>
                      <a:pt x="21" y="515"/>
                    </a:lnTo>
                    <a:lnTo>
                      <a:pt x="20" y="508"/>
                    </a:lnTo>
                    <a:lnTo>
                      <a:pt x="21" y="500"/>
                    </a:lnTo>
                    <a:lnTo>
                      <a:pt x="21" y="493"/>
                    </a:lnTo>
                    <a:lnTo>
                      <a:pt x="20" y="485"/>
                    </a:lnTo>
                    <a:lnTo>
                      <a:pt x="17" y="478"/>
                    </a:lnTo>
                    <a:lnTo>
                      <a:pt x="15" y="471"/>
                    </a:lnTo>
                    <a:lnTo>
                      <a:pt x="12" y="463"/>
                    </a:lnTo>
                    <a:lnTo>
                      <a:pt x="11" y="455"/>
                    </a:lnTo>
                    <a:lnTo>
                      <a:pt x="9" y="446"/>
                    </a:lnTo>
                    <a:lnTo>
                      <a:pt x="8" y="437"/>
                    </a:lnTo>
                    <a:lnTo>
                      <a:pt x="9" y="426"/>
                    </a:lnTo>
                    <a:lnTo>
                      <a:pt x="10" y="415"/>
                    </a:lnTo>
                    <a:lnTo>
                      <a:pt x="9" y="409"/>
                    </a:lnTo>
                    <a:lnTo>
                      <a:pt x="8" y="398"/>
                    </a:lnTo>
                    <a:lnTo>
                      <a:pt x="8" y="391"/>
                    </a:lnTo>
                    <a:lnTo>
                      <a:pt x="7" y="383"/>
                    </a:lnTo>
                    <a:lnTo>
                      <a:pt x="7" y="376"/>
                    </a:lnTo>
                    <a:lnTo>
                      <a:pt x="8" y="365"/>
                    </a:lnTo>
                    <a:lnTo>
                      <a:pt x="11" y="356"/>
                    </a:lnTo>
                    <a:lnTo>
                      <a:pt x="13" y="350"/>
                    </a:lnTo>
                    <a:lnTo>
                      <a:pt x="13" y="343"/>
                    </a:lnTo>
                    <a:lnTo>
                      <a:pt x="14" y="335"/>
                    </a:lnTo>
                    <a:lnTo>
                      <a:pt x="12" y="327"/>
                    </a:lnTo>
                    <a:lnTo>
                      <a:pt x="10" y="319"/>
                    </a:lnTo>
                    <a:lnTo>
                      <a:pt x="9" y="311"/>
                    </a:lnTo>
                    <a:lnTo>
                      <a:pt x="9" y="305"/>
                    </a:lnTo>
                    <a:lnTo>
                      <a:pt x="11" y="300"/>
                    </a:lnTo>
                    <a:lnTo>
                      <a:pt x="13" y="292"/>
                    </a:lnTo>
                    <a:lnTo>
                      <a:pt x="14" y="286"/>
                    </a:lnTo>
                    <a:lnTo>
                      <a:pt x="13" y="278"/>
                    </a:lnTo>
                    <a:lnTo>
                      <a:pt x="12" y="272"/>
                    </a:lnTo>
                    <a:lnTo>
                      <a:pt x="11" y="263"/>
                    </a:lnTo>
                    <a:lnTo>
                      <a:pt x="9" y="253"/>
                    </a:lnTo>
                    <a:lnTo>
                      <a:pt x="9" y="245"/>
                    </a:lnTo>
                    <a:lnTo>
                      <a:pt x="10" y="237"/>
                    </a:lnTo>
                    <a:lnTo>
                      <a:pt x="9" y="228"/>
                    </a:lnTo>
                    <a:lnTo>
                      <a:pt x="7" y="220"/>
                    </a:lnTo>
                    <a:lnTo>
                      <a:pt x="5" y="210"/>
                    </a:lnTo>
                    <a:lnTo>
                      <a:pt x="2" y="202"/>
                    </a:lnTo>
                    <a:lnTo>
                      <a:pt x="0" y="190"/>
                    </a:lnTo>
                    <a:lnTo>
                      <a:pt x="0" y="176"/>
                    </a:lnTo>
                    <a:lnTo>
                      <a:pt x="0" y="162"/>
                    </a:lnTo>
                    <a:lnTo>
                      <a:pt x="0" y="149"/>
                    </a:lnTo>
                    <a:lnTo>
                      <a:pt x="0" y="133"/>
                    </a:lnTo>
                    <a:lnTo>
                      <a:pt x="0" y="125"/>
                    </a:lnTo>
                    <a:lnTo>
                      <a:pt x="1" y="118"/>
                    </a:lnTo>
                    <a:lnTo>
                      <a:pt x="0" y="109"/>
                    </a:lnTo>
                    <a:lnTo>
                      <a:pt x="0" y="99"/>
                    </a:lnTo>
                    <a:lnTo>
                      <a:pt x="6" y="84"/>
                    </a:lnTo>
                    <a:lnTo>
                      <a:pt x="5" y="73"/>
                    </a:lnTo>
                    <a:lnTo>
                      <a:pt x="4" y="64"/>
                    </a:lnTo>
                    <a:lnTo>
                      <a:pt x="4" y="54"/>
                    </a:lnTo>
                    <a:lnTo>
                      <a:pt x="4" y="45"/>
                    </a:lnTo>
                    <a:lnTo>
                      <a:pt x="5" y="35"/>
                    </a:lnTo>
                    <a:lnTo>
                      <a:pt x="7" y="26"/>
                    </a:lnTo>
                    <a:lnTo>
                      <a:pt x="10" y="16"/>
                    </a:lnTo>
                    <a:lnTo>
                      <a:pt x="13" y="9"/>
                    </a:lnTo>
                    <a:lnTo>
                      <a:pt x="15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5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6" name=""/>
              <p:cNvGrpSpPr/>
              <p:nvPr/>
            </p:nvGrpSpPr>
            <p:grpSpPr>
              <a:xfrm>
                <a:off x="5383080" y="4851360"/>
                <a:ext cx="149400" cy="195480"/>
                <a:chOff x="5383080" y="4851360"/>
                <a:chExt cx="149400" cy="19548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5383080" y="4851360"/>
                  <a:ext cx="130320" cy="195480"/>
                </a:xfrm>
                <a:custGeom>
                  <a:avLst/>
                  <a:gdLst/>
                  <a:ahLst/>
                  <a:rect l="l" t="t" r="r" b="b"/>
                  <a:pathLst>
                    <a:path w="82" h="123">
                      <a:moveTo>
                        <a:pt x="8" y="114"/>
                      </a:moveTo>
                      <a:lnTo>
                        <a:pt x="15" y="107"/>
                      </a:lnTo>
                      <a:lnTo>
                        <a:pt x="20" y="103"/>
                      </a:lnTo>
                      <a:lnTo>
                        <a:pt x="24" y="99"/>
                      </a:lnTo>
                      <a:lnTo>
                        <a:pt x="28" y="96"/>
                      </a:lnTo>
                      <a:lnTo>
                        <a:pt x="33" y="93"/>
                      </a:lnTo>
                      <a:lnTo>
                        <a:pt x="37" y="90"/>
                      </a:lnTo>
                      <a:lnTo>
                        <a:pt x="42" y="87"/>
                      </a:lnTo>
                      <a:lnTo>
                        <a:pt x="48" y="84"/>
                      </a:lnTo>
                      <a:lnTo>
                        <a:pt x="54" y="82"/>
                      </a:lnTo>
                      <a:lnTo>
                        <a:pt x="60" y="80"/>
                      </a:lnTo>
                      <a:lnTo>
                        <a:pt x="66" y="79"/>
                      </a:lnTo>
                      <a:lnTo>
                        <a:pt x="72" y="79"/>
                      </a:lnTo>
                      <a:lnTo>
                        <a:pt x="81" y="78"/>
                      </a:lnTo>
                      <a:lnTo>
                        <a:pt x="80" y="0"/>
                      </a:lnTo>
                      <a:lnTo>
                        <a:pt x="75" y="2"/>
                      </a:lnTo>
                      <a:lnTo>
                        <a:pt x="69" y="6"/>
                      </a:lnTo>
                      <a:lnTo>
                        <a:pt x="63" y="10"/>
                      </a:lnTo>
                      <a:lnTo>
                        <a:pt x="57" y="14"/>
                      </a:lnTo>
                      <a:lnTo>
                        <a:pt x="51" y="19"/>
                      </a:lnTo>
                      <a:lnTo>
                        <a:pt x="45" y="25"/>
                      </a:lnTo>
                      <a:lnTo>
                        <a:pt x="39" y="31"/>
                      </a:lnTo>
                      <a:lnTo>
                        <a:pt x="34" y="38"/>
                      </a:lnTo>
                      <a:lnTo>
                        <a:pt x="28" y="45"/>
                      </a:lnTo>
                      <a:lnTo>
                        <a:pt x="21" y="54"/>
                      </a:lnTo>
                      <a:lnTo>
                        <a:pt x="17" y="61"/>
                      </a:lnTo>
                      <a:lnTo>
                        <a:pt x="13" y="67"/>
                      </a:lnTo>
                      <a:lnTo>
                        <a:pt x="11" y="73"/>
                      </a:lnTo>
                      <a:lnTo>
                        <a:pt x="8" y="80"/>
                      </a:lnTo>
                      <a:lnTo>
                        <a:pt x="5" y="87"/>
                      </a:lnTo>
                      <a:lnTo>
                        <a:pt x="3" y="95"/>
                      </a:lnTo>
                      <a:lnTo>
                        <a:pt x="2" y="103"/>
                      </a:lnTo>
                      <a:lnTo>
                        <a:pt x="1" y="110"/>
                      </a:lnTo>
                      <a:lnTo>
                        <a:pt x="0" y="116"/>
                      </a:lnTo>
                      <a:lnTo>
                        <a:pt x="0" y="122"/>
                      </a:lnTo>
                      <a:lnTo>
                        <a:pt x="8" y="114"/>
                      </a:lnTo>
                    </a:path>
                  </a:pathLst>
                </a:custGeom>
                <a:solidFill>
                  <a:srgbClr val="7f7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505480" y="4853160"/>
                  <a:ext cx="27000" cy="123480"/>
                </a:xfrm>
                <a:custGeom>
                  <a:avLst/>
                  <a:gdLst/>
                  <a:ahLst/>
                  <a:rect l="l" t="t" r="r" b="b"/>
                  <a:pathLst>
                    <a:path w="17" h="78">
                      <a:moveTo>
                        <a:pt x="16" y="0"/>
                      </a:moveTo>
                      <a:lnTo>
                        <a:pt x="10" y="0"/>
                      </a:lnTo>
                      <a:lnTo>
                        <a:pt x="0" y="1"/>
                      </a:lnTo>
                      <a:lnTo>
                        <a:pt x="0" y="77"/>
                      </a:lnTo>
                      <a:lnTo>
                        <a:pt x="16" y="77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9" name=""/>
          <p:cNvSpPr/>
          <p:nvPr/>
        </p:nvSpPr>
        <p:spPr>
          <a:xfrm>
            <a:off x="1761480" y="4220280"/>
            <a:ext cx="22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1 lb = 4.45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970200" y="5718240"/>
            <a:ext cx="7439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N.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4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N 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8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N.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762120" y="3035160"/>
            <a:ext cx="7596720" cy="2349720"/>
            <a:chOff x="762120" y="3035160"/>
            <a:chExt cx="7596720" cy="2349720"/>
          </a:xfrm>
        </p:grpSpPr>
        <p:sp>
          <p:nvSpPr>
            <p:cNvPr id="882" name=""/>
            <p:cNvSpPr/>
            <p:nvPr/>
          </p:nvSpPr>
          <p:spPr>
            <a:xfrm>
              <a:off x="2881440" y="3406680"/>
              <a:ext cx="295200" cy="2523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953640" y="3368520"/>
              <a:ext cx="2151000" cy="1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220920" y="3533760"/>
              <a:ext cx="1800" cy="787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13840" y="3376440"/>
              <a:ext cx="30672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62120" y="3106800"/>
              <a:ext cx="230040" cy="1708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992160" y="3035160"/>
              <a:ext cx="1440" cy="1851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054080" y="367812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67040" y="4294080"/>
              <a:ext cx="755640" cy="64620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758680" y="444348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5231520" y="3406680"/>
              <a:ext cx="295560" cy="2523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303880" y="3368520"/>
              <a:ext cx="2151000" cy="1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186520" y="3533760"/>
              <a:ext cx="1440" cy="787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5187960" y="3376440"/>
              <a:ext cx="30744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7174080" y="3678120"/>
              <a:ext cx="180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785480" y="4294080"/>
              <a:ext cx="755640" cy="64620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4685400" y="444348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16800" y="3406680"/>
              <a:ext cx="295200" cy="2523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589360" y="3368520"/>
              <a:ext cx="2151000" cy="1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856640" y="3533760"/>
              <a:ext cx="1440" cy="787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548840" y="3376440"/>
              <a:ext cx="30744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9440" y="367812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02400" y="4294080"/>
              <a:ext cx="755640" cy="64620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4040" y="444348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866960" y="5016600"/>
              <a:ext cx="148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1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362640" y="5003640"/>
              <a:ext cx="14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673280" y="3078000"/>
              <a:ext cx="628560" cy="611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06640" y="3389400"/>
              <a:ext cx="179280" cy="1713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4040" y="3124080"/>
              <a:ext cx="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2127240" y="3207240"/>
              <a:ext cx="3960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809720" y="3194640"/>
              <a:ext cx="3960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7188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752480" y="33656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94040" y="3581280"/>
              <a:ext cx="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1822320" y="3499200"/>
              <a:ext cx="396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6181560" y="3052800"/>
              <a:ext cx="702000" cy="610920"/>
              <a:chOff x="6181560" y="3052800"/>
              <a:chExt cx="702000" cy="610920"/>
            </a:xfrm>
          </p:grpSpPr>
          <p:sp>
            <p:nvSpPr>
              <p:cNvPr id="917" name=""/>
              <p:cNvSpPr/>
              <p:nvPr/>
            </p:nvSpPr>
            <p:spPr>
              <a:xfrm>
                <a:off x="6181560" y="3052800"/>
                <a:ext cx="628920" cy="610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502320" y="3098520"/>
                <a:ext cx="0" cy="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6635880" y="3181680"/>
                <a:ext cx="3960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318360" y="3169080"/>
                <a:ext cx="3960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680160" y="33271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261120" y="334008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502320" y="3555720"/>
                <a:ext cx="0" cy="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6330600" y="3473640"/>
                <a:ext cx="3996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343560" y="3201840"/>
                <a:ext cx="54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Arial"/>
                  </a:rPr>
                  <a:t>?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661080" y="3461040"/>
                <a:ext cx="396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7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شکل (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) ترازوی فنری نیروی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نیوتن را نشان میدهد . در شکل (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) چه نیرویی را نشان می ده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title"/>
          </p:nvPr>
        </p:nvSpPr>
        <p:spPr>
          <a:xfrm>
            <a:off x="990720" y="650880"/>
            <a:ext cx="6951600" cy="110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شتاب و نیرو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39620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مودار جسم آ زاد را برا ی جسم بکشی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6840" y="2427120"/>
            <a:ext cx="350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انون دوم نیوتن را بکار برید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467720" y="4344840"/>
            <a:ext cx="16380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TOT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434960" y="4827600"/>
            <a:ext cx="192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33880" y="5361120"/>
            <a:ext cx="245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4 lb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6144840" y="1952640"/>
            <a:ext cx="2490120" cy="2268360"/>
            <a:chOff x="6144840" y="1952640"/>
            <a:chExt cx="2490120" cy="2268360"/>
          </a:xfrm>
        </p:grpSpPr>
        <p:sp>
          <p:nvSpPr>
            <p:cNvPr id="936" name=""/>
            <p:cNvSpPr/>
            <p:nvPr/>
          </p:nvSpPr>
          <p:spPr>
            <a:xfrm>
              <a:off x="6398280" y="385776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03920" y="195264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248520" y="2666880"/>
              <a:ext cx="749160" cy="74952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6627960" y="2133360"/>
              <a:ext cx="7920" cy="53316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6622920" y="3416040"/>
              <a:ext cx="0" cy="546120"/>
            </a:xfrm>
            <a:prstGeom prst="line">
              <a:avLst/>
            </a:prstGeom>
            <a:ln w="2232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144840" y="284148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013160" y="2860560"/>
              <a:ext cx="1621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mg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1714680" y="321300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زیرا جسم در حالت سکون 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928800" y="1925280"/>
            <a:ext cx="7408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هر دو حالت طناب کشش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40 N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نشان می دهد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762120" y="3233880"/>
            <a:ext cx="7817040" cy="2077920"/>
            <a:chOff x="762120" y="3233880"/>
            <a:chExt cx="7817040" cy="2077920"/>
          </a:xfrm>
        </p:grpSpPr>
        <p:sp>
          <p:nvSpPr>
            <p:cNvPr id="947" name=""/>
            <p:cNvSpPr/>
            <p:nvPr/>
          </p:nvSpPr>
          <p:spPr>
            <a:xfrm>
              <a:off x="2881440" y="3778200"/>
              <a:ext cx="295200" cy="2523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953640" y="3740040"/>
              <a:ext cx="21510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913840" y="3747960"/>
              <a:ext cx="30672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62120" y="3478320"/>
              <a:ext cx="230040" cy="1708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992160" y="3406680"/>
              <a:ext cx="1440" cy="1851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54080" y="404964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867040" y="4665600"/>
              <a:ext cx="755640" cy="64620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758680" y="481500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5231520" y="3778200"/>
              <a:ext cx="295560" cy="2523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5186520" y="3905280"/>
              <a:ext cx="1440" cy="787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5187960" y="3747960"/>
              <a:ext cx="30744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7174080" y="4049640"/>
              <a:ext cx="180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4785480" y="4665600"/>
              <a:ext cx="755640" cy="64620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4685400" y="481500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16800" y="3778200"/>
              <a:ext cx="295200" cy="2523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5341680" y="3740040"/>
              <a:ext cx="23986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856640" y="3905280"/>
              <a:ext cx="1440" cy="787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548840" y="3747960"/>
              <a:ext cx="30744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89440" y="404964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502400" y="4665600"/>
              <a:ext cx="755640" cy="64620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394040" y="481500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1673280" y="3449520"/>
              <a:ext cx="628560" cy="611280"/>
              <a:chOff x="1673280" y="3449520"/>
              <a:chExt cx="628560" cy="611280"/>
            </a:xfrm>
          </p:grpSpPr>
          <p:sp>
            <p:nvSpPr>
              <p:cNvPr id="969" name=""/>
              <p:cNvSpPr/>
              <p:nvPr/>
            </p:nvSpPr>
            <p:spPr>
              <a:xfrm>
                <a:off x="1673280" y="3449520"/>
                <a:ext cx="628560" cy="611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006640" y="3760920"/>
                <a:ext cx="179280" cy="17136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994040" y="3495600"/>
                <a:ext cx="0" cy="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2127240" y="3578760"/>
                <a:ext cx="3960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809720" y="3566160"/>
                <a:ext cx="3960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171880" y="372420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752480" y="37368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994040" y="3952800"/>
                <a:ext cx="0" cy="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1822320" y="3870720"/>
                <a:ext cx="396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3216240" y="3922560"/>
              <a:ext cx="0" cy="74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6216480" y="3452760"/>
              <a:ext cx="628560" cy="611280"/>
              <a:chOff x="6216480" y="3452760"/>
              <a:chExt cx="628560" cy="611280"/>
            </a:xfrm>
          </p:grpSpPr>
          <p:sp>
            <p:nvSpPr>
              <p:cNvPr id="980" name=""/>
              <p:cNvSpPr/>
              <p:nvPr/>
            </p:nvSpPr>
            <p:spPr>
              <a:xfrm>
                <a:off x="6216480" y="3452760"/>
                <a:ext cx="628560" cy="611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549840" y="3764160"/>
                <a:ext cx="179280" cy="17136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537240" y="3498840"/>
                <a:ext cx="0" cy="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6670440" y="3582000"/>
                <a:ext cx="3960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352920" y="3569400"/>
                <a:ext cx="3960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715080" y="372744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295680" y="374004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537240" y="3956040"/>
                <a:ext cx="0" cy="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6365520" y="3873960"/>
                <a:ext cx="396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9" name=""/>
            <p:cNvSpPr/>
            <p:nvPr/>
          </p:nvSpPr>
          <p:spPr>
            <a:xfrm flipH="1">
              <a:off x="1174320" y="3736800"/>
              <a:ext cx="482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5730480" y="3740040"/>
              <a:ext cx="482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19480" y="3741840"/>
              <a:ext cx="4824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850080" y="3733920"/>
              <a:ext cx="482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19480" y="3948840"/>
              <a:ext cx="0" cy="482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178600" y="3952080"/>
              <a:ext cx="0" cy="482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54840" y="3955320"/>
              <a:ext cx="0" cy="482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25280" y="325116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077920" y="325296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33920" y="324324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602400" y="323388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670520" y="394164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84440" y="394344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003480" y="394488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afd00"/>
                </a:solidFill>
                <a:latin typeface="Arial"/>
                <a:cs typeface="Arial"/>
              </a:rPr>
              <a:t>فصل پنجم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9040" y="2562120"/>
            <a:ext cx="6926040" cy="23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Arial"/>
                <a:cs typeface="Arial"/>
              </a:rPr>
              <a:t>دینامیک ذره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Arial"/>
              </a:rPr>
              <a:t>قسمت او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062000" y="1076400"/>
            <a:ext cx="715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Arial"/>
                <a:cs typeface="Arial"/>
              </a:rPr>
              <a:t>در روزهای آرام که هیچ بادی نمی وزد قایق بادبانی کوچکی را با استفاده از پنکه بزرگی (در داخل خود قایق ) ک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Arial"/>
                <a:cs typeface="Arial"/>
              </a:rPr>
              <a:t>باد آن به بادبان می خورد به حرکت درآورد؟ آیاشما راه بهتری برای به حرکت درآوردن این قایق با همین پنکه سرا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Arial"/>
                <a:cs typeface="Arial"/>
              </a:rPr>
              <a:t>دارید؟ برای بررسی جواب خود به روی انیمشن کلیک کنید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333600" y="560520"/>
            <a:ext cx="34513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یک آزمای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657600" y="5737320"/>
            <a:ext cx="40845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ی تصویر کلیک کنی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00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00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ادآوری نهای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878040" y="2006640"/>
            <a:ext cx="723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286000" y="19224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حث بیشتری در مورد دینامی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یادآوری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a-IR" sz="2400" spc="-1" strike="noStrike">
                <a:solidFill>
                  <a:srgbClr val="00ff00"/>
                </a:solidFill>
                <a:latin typeface="Times New Roman"/>
              </a:rPr>
              <a:t>دیاگرام جسم آزا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ابزاری برای طرح مسئله و حل آ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طناب و قرقره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کش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انون هوک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نره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رس امروز م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8840" y="2182680"/>
            <a:ext cx="49838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حث بیشتری در مورد دینامی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ادآور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دیاگرام جسم آزا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بزاری برای طرح مسئله و حل آ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ناب و قرقره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ش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انون هو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نرها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رور قوانین نیوت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قانون اول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به جسمی ازخارج نیرو وارد نشود و اگر از یک چارچوب مرجع لخت به آن نگاه کنیم ساکن می ماند و یا حرکت مستقیم الخط یکنواخت خواهد داشت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قانون دوم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یک جسم :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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قانون سوم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ها به صورت جفت روی می ده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 ,B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= -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 ,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         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 ی هر عملی  عکس العملی مساوی ودرخلاف جهت وجود دارد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 ,B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 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نیرویی است که جسم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A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به جسم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وارد می کند و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 ,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نیرویی است که جسم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به جسم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A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وارد می ک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05520" y="13176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ک مسئله در مورد جاذب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ه نیرویی از طرف زمین بردانشجویی که روی صتدلی نشسته است وارد می شو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جرم دانشجو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 = 55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 = 9.8 m/s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mg = (55 kg)x(9.8 m/s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539 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            </a:t>
            </a:r>
            <a:br>
              <a:rPr sz="2000"/>
            </a:b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3392640"/>
            <a:ext cx="0" cy="162540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75280" y="4606920"/>
            <a:ext cx="5765760" cy="431640"/>
            <a:chOff x="575280" y="4606920"/>
            <a:chExt cx="5765760" cy="431640"/>
          </a:xfrm>
        </p:grpSpPr>
        <p:sp>
          <p:nvSpPr>
            <p:cNvPr id="65" name=""/>
            <p:cNvSpPr/>
            <p:nvPr/>
          </p:nvSpPr>
          <p:spPr>
            <a:xfrm>
              <a:off x="576360" y="4606920"/>
              <a:ext cx="5764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810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8107"/>
                </a:path>
              </a:pathLst>
            </a:custGeom>
            <a:noFill/>
            <a:ln cap="rnd" w="255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5280" y="4606920"/>
              <a:ext cx="5764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990720" y="5275440"/>
            <a:ext cx="7162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9000"/>
          </a:bodyPr>
          <a:p>
            <a:pPr marL="140040" indent="-140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جاذبه وارد بر اجسام همان </a:t>
            </a:r>
            <a:r>
              <a:rPr b="0" lang="fa-IR" sz="2000" spc="-1" strike="noStrike">
                <a:solidFill>
                  <a:srgbClr val="ff00ff"/>
                </a:solidFill>
                <a:latin typeface="Arial"/>
                <a:cs typeface="Arial"/>
              </a:rPr>
              <a:t>وزن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جسام نامیده 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0040" indent="-140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0040" indent="-140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539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35120" y="2650680"/>
            <a:ext cx="2993760" cy="2586960"/>
            <a:chOff x="735120" y="2650680"/>
            <a:chExt cx="2993760" cy="2586960"/>
          </a:xfrm>
        </p:grpSpPr>
        <p:sp>
          <p:nvSpPr>
            <p:cNvPr id="69" name=""/>
            <p:cNvSpPr/>
            <p:nvPr/>
          </p:nvSpPr>
          <p:spPr>
            <a:xfrm>
              <a:off x="1869840" y="4836960"/>
              <a:ext cx="428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735120" y="2650680"/>
              <a:ext cx="2993760" cy="2065320"/>
              <a:chOff x="735120" y="2650680"/>
              <a:chExt cx="2993760" cy="206532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2487600" y="4482360"/>
                <a:ext cx="73080" cy="38880"/>
                <a:chOff x="2487600" y="4482360"/>
                <a:chExt cx="73080" cy="38880"/>
              </a:xfrm>
            </p:grpSpPr>
            <p:grpSp>
              <p:nvGrpSpPr>
                <p:cNvPr id="72" name=""/>
                <p:cNvGrpSpPr/>
                <p:nvPr/>
              </p:nvGrpSpPr>
              <p:grpSpPr>
                <a:xfrm>
                  <a:off x="2487600" y="4482360"/>
                  <a:ext cx="73080" cy="38880"/>
                  <a:chOff x="2487600" y="4482360"/>
                  <a:chExt cx="73080" cy="3888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2487600" y="4482360"/>
                    <a:ext cx="73080" cy="3888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008200"/>
                      </a:gs>
                      <a:gs pos="50000">
                        <a:srgbClr val="00ff00"/>
                      </a:gs>
                      <a:gs pos="100000">
                        <a:srgbClr val="008200"/>
                      </a:gs>
                    </a:gsLst>
                    <a:lin ang="5400000"/>
                  </a:gradFill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" name=""/>
                  <p:cNvGrpSpPr/>
                  <p:nvPr/>
                </p:nvGrpSpPr>
                <p:grpSpPr>
                  <a:xfrm>
                    <a:off x="2489040" y="4483080"/>
                    <a:ext cx="69840" cy="38160"/>
                    <a:chOff x="2489040" y="4483080"/>
                    <a:chExt cx="69840" cy="38160"/>
                  </a:xfrm>
                </p:grpSpPr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2489040" y="4483800"/>
                      <a:ext cx="69840" cy="37440"/>
                    </a:xfrm>
                    <a:prstGeom prst="plus">
                      <a:avLst>
                        <a:gd name="adj" fmla="val 25000"/>
                      </a:avLst>
                    </a:prstGeom>
                    <a:solidFill>
                      <a:srgbClr val="00ffff"/>
                    </a:solidFill>
                    <a:ln w="763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"/>
                    <p:cNvSpPr txBox="1"/>
                    <p:nvPr/>
                  </p:nvSpPr>
                  <p:spPr>
                    <a:xfrm>
                      <a:off x="2499480" y="4483080"/>
                      <a:ext cx="48240" cy="37440"/>
                    </a:xfrm>
                    <a:prstGeom prst="rect">
                      <a:avLst/>
                    </a:prstGeom>
                  </p:spPr>
                  <p:txBody>
                    <a:bodyPr wrap="none" lIns="90000" rIns="90000" tIns="-9000" bIns="-90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gradFill rotWithShape="0">
                            <a:gsLst>
                              <a:gs pos="0">
                                <a:srgbClr val="ff3300"/>
                              </a:gs>
                              <a:gs pos="100000">
                                <a:srgbClr val="ffff00"/>
                              </a:gs>
                            </a:gsLst>
                            <a:lin ang="5400000"/>
                          </a:gradFill>
                          <a:latin typeface="Arial Black"/>
                        </a:rPr>
                        <a:t>KIPKE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3300"/>
                            </a:gs>
                            <a:gs pos="100000">
                              <a:srgbClr val="ffff00"/>
                            </a:gs>
                          </a:gsLst>
                          <a:lin ang="5400000"/>
                        </a:gra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77" name=""/>
                    <p:cNvSpPr txBox="1"/>
                    <p:nvPr/>
                  </p:nvSpPr>
                  <p:spPr>
                    <a:xfrm>
                      <a:off x="2489040" y="4493160"/>
                      <a:ext cx="69840" cy="16200"/>
                    </a:xfrm>
                    <a:prstGeom prst="rect">
                      <a:avLst/>
                    </a:prstGeom>
                  </p:spPr>
                  <p:txBody>
                    <a:bodyPr wrap="none" lIns="90000" rIns="90000" tIns="-30240" bIns="-3024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gradFill rotWithShape="0">
                            <a:gsLst>
                              <a:gs pos="0">
                                <a:srgbClr val="ffff00"/>
                              </a:gs>
                              <a:gs pos="100000">
                                <a:srgbClr val="ff3300"/>
                              </a:gs>
                            </a:gsLst>
                            <a:lin ang="5400000"/>
                          </a:gradFill>
                          <a:latin typeface="Arial Black"/>
                        </a:rPr>
                        <a:t>GRAPHICS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ff00"/>
                            </a:gs>
                            <a:gs pos="100000">
                              <a:srgbClr val="ff3300"/>
                            </a:gs>
                          </a:gsLst>
                          <a:lin ang="5400000"/>
                        </a:gra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78" name=""/>
                    <p:cNvSpPr txBox="1"/>
                    <p:nvPr/>
                  </p:nvSpPr>
                  <p:spPr>
                    <a:xfrm>
                      <a:off x="2499480" y="4483080"/>
                      <a:ext cx="48240" cy="11880"/>
                    </a:xfrm>
                    <a:prstGeom prst="rect">
                      <a:avLst/>
                    </a:prstGeom>
                  </p:spPr>
                  <p:txBody>
                    <a:bodyPr wrap="none" lIns="90000" rIns="90000" tIns="-34560" bIns="-3456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gradFill rotWithShape="0">
                            <a:gsLst>
                              <a:gs pos="0">
                                <a:srgbClr val="ffff00"/>
                              </a:gs>
                              <a:gs pos="100000">
                                <a:srgbClr val="ff3300"/>
                              </a:gs>
                            </a:gsLst>
                            <a:lin ang="5400000"/>
                          </a:gradFill>
                          <a:latin typeface="Arial Black"/>
                        </a:rPr>
                        <a:t>BOB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ff00"/>
                            </a:gs>
                            <a:gs pos="100000">
                              <a:srgbClr val="ff3300"/>
                            </a:gs>
                          </a:gsLst>
                          <a:lin ang="5400000"/>
                        </a:gra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79" name=""/>
                    <p:cNvSpPr txBox="1"/>
                    <p:nvPr/>
                  </p:nvSpPr>
                  <p:spPr>
                    <a:xfrm>
                      <a:off x="2498040" y="4511520"/>
                      <a:ext cx="48240" cy="6840"/>
                    </a:xfrm>
                    <a:prstGeom prst="rect">
                      <a:avLst/>
                    </a:prstGeom>
                  </p:spPr>
                  <p:txBody>
                    <a:bodyPr wrap="none" lIns="90000" rIns="90000" tIns="-39600" bIns="-396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gradFill rotWithShape="0">
                            <a:gsLst>
                              <a:gs pos="0">
                                <a:srgbClr val="ff3300"/>
                              </a:gs>
                              <a:gs pos="100000">
                                <a:srgbClr val="ffff00"/>
                              </a:gs>
                            </a:gsLst>
                            <a:lin ang="5400000"/>
                          </a:gradFill>
                          <a:latin typeface="Arial Black"/>
                        </a:rPr>
                        <a:t>2001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3300"/>
                            </a:gs>
                            <a:gs pos="100000">
                              <a:srgbClr val="ffff00"/>
                            </a:gs>
                          </a:gsLst>
                          <a:lin ang="5400000"/>
                        </a:gradFill>
                        <a:latin typeface="Arial Black"/>
                        <a:ea typeface="Arial Black"/>
                      </a:endParaRPr>
                    </a:p>
                  </p:txBody>
                </p:sp>
              </p:grp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2559240" y="4499280"/>
                  <a:ext cx="1440" cy="1440"/>
                  <a:chOff x="2559240" y="4499280"/>
                  <a:chExt cx="1440" cy="14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2559240" y="4499280"/>
                    <a:ext cx="1440" cy="14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008200"/>
                      </a:gs>
                      <a:gs pos="50000">
                        <a:srgbClr val="00ff00"/>
                      </a:gs>
                      <a:gs pos="100000">
                        <a:srgbClr val="008200"/>
                      </a:gs>
                    </a:gsLst>
                    <a:lin ang="5400000"/>
                  </a:gradFill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2559240" y="4499280"/>
                    <a:ext cx="1440" cy="1440"/>
                    <a:chOff x="2559240" y="4499280"/>
                    <a:chExt cx="1440" cy="144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2559240" y="4499280"/>
                      <a:ext cx="1440" cy="1440"/>
                    </a:xfrm>
                    <a:prstGeom prst="plus">
                      <a:avLst>
                        <a:gd name="adj" fmla="val 25000"/>
                      </a:avLst>
                    </a:prstGeom>
                    <a:solidFill>
                      <a:srgbClr val="00ffff"/>
                    </a:solidFill>
                    <a:ln w="763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6080" bIns="-46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 txBox="1"/>
                    <p:nvPr/>
                  </p:nvSpPr>
                  <p:spPr>
                    <a:xfrm>
                      <a:off x="2559240" y="4499280"/>
                      <a:ext cx="1080" cy="1440"/>
                    </a:xfrm>
                    <a:prstGeom prst="rect">
                      <a:avLst/>
                    </a:prstGeom>
                  </p:spPr>
                  <p:txBody>
                    <a:bodyPr wrap="none" lIns="90000" rIns="90000" tIns="-45000" bIns="-450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gradFill rotWithShape="0">
                            <a:gsLst>
                              <a:gs pos="0">
                                <a:srgbClr val="ff3300"/>
                              </a:gs>
                              <a:gs pos="100000">
                                <a:srgbClr val="ffff00"/>
                              </a:gs>
                            </a:gsLst>
                            <a:lin ang="5400000"/>
                          </a:gradFill>
                          <a:latin typeface="Arial Black"/>
                        </a:rPr>
                        <a:t>KIPKE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3300"/>
                            </a:gs>
                            <a:gs pos="100000">
                              <a:srgbClr val="ffff00"/>
                            </a:gs>
                          </a:gsLst>
                          <a:lin ang="5400000"/>
                        </a:gra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85" name=""/>
                    <p:cNvSpPr txBox="1"/>
                    <p:nvPr/>
                  </p:nvSpPr>
                  <p:spPr>
                    <a:xfrm>
                      <a:off x="2559240" y="4499640"/>
                      <a:ext cx="1440" cy="720"/>
                    </a:xfrm>
                    <a:prstGeom prst="rect">
                      <a:avLst/>
                    </a:prstGeom>
                  </p:spPr>
                  <p:txBody>
                    <a:bodyPr wrap="none" lIns="90000" rIns="90000" tIns="-45720" bIns="-4572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gradFill rotWithShape="0">
                            <a:gsLst>
                              <a:gs pos="0">
                                <a:srgbClr val="ffff00"/>
                              </a:gs>
                              <a:gs pos="100000">
                                <a:srgbClr val="ff3300"/>
                              </a:gs>
                            </a:gsLst>
                            <a:lin ang="5400000"/>
                          </a:gradFill>
                          <a:latin typeface="Arial Black"/>
                        </a:rPr>
                        <a:t>GRAPHICS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ff00"/>
                            </a:gs>
                            <a:gs pos="100000">
                              <a:srgbClr val="ff3300"/>
                            </a:gs>
                          </a:gsLst>
                          <a:lin ang="5400000"/>
                        </a:gra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86" name=""/>
                    <p:cNvSpPr txBox="1"/>
                    <p:nvPr/>
                  </p:nvSpPr>
                  <p:spPr>
                    <a:xfrm>
                      <a:off x="2559240" y="4499280"/>
                      <a:ext cx="1080" cy="360"/>
                    </a:xfrm>
                    <a:prstGeom prst="rect">
                      <a:avLst/>
                    </a:prstGeom>
                  </p:spPr>
                  <p:txBody>
                    <a:bodyPr wrap="none" lIns="90000" rIns="90000" tIns="-46080" bIns="-4608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gradFill rotWithShape="0">
                            <a:gsLst>
                              <a:gs pos="0">
                                <a:srgbClr val="ffff00"/>
                              </a:gs>
                              <a:gs pos="100000">
                                <a:srgbClr val="ff3300"/>
                              </a:gs>
                            </a:gsLst>
                            <a:lin ang="5400000"/>
                          </a:gradFill>
                          <a:latin typeface="Arial Black"/>
                        </a:rPr>
                        <a:t>BOB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ff00"/>
                            </a:gs>
                            <a:gs pos="100000">
                              <a:srgbClr val="ff3300"/>
                            </a:gs>
                          </a:gsLst>
                          <a:lin ang="5400000"/>
                        </a:gra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87" name=""/>
                    <p:cNvSpPr txBox="1"/>
                    <p:nvPr/>
                  </p:nvSpPr>
                  <p:spPr>
                    <a:xfrm>
                      <a:off x="2559240" y="4500360"/>
                      <a:ext cx="1080" cy="360"/>
                    </a:xfrm>
                    <a:prstGeom prst="rect">
                      <a:avLst/>
                    </a:prstGeom>
                  </p:spPr>
                  <p:txBody>
                    <a:bodyPr wrap="none" lIns="90000" rIns="90000" tIns="-46080" bIns="-4608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gradFill rotWithShape="0">
                            <a:gsLst>
                              <a:gs pos="0">
                                <a:srgbClr val="ff3300"/>
                              </a:gs>
                              <a:gs pos="100000">
                                <a:srgbClr val="ffff00"/>
                              </a:gs>
                            </a:gsLst>
                            <a:lin ang="5400000"/>
                          </a:gradFill>
                          <a:latin typeface="Arial Black"/>
                        </a:rPr>
                        <a:t>2000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3300"/>
                            </a:gs>
                            <a:gs pos="100000">
                              <a:srgbClr val="ffff00"/>
                            </a:gs>
                          </a:gsLst>
                          <a:lin ang="5400000"/>
                        </a:gradFill>
                        <a:latin typeface="Arial Black"/>
                        <a:ea typeface="Arial Black"/>
                      </a:endParaRPr>
                    </a:p>
                  </p:txBody>
                </p:sp>
              </p:grpSp>
            </p:grpSp>
          </p:grpSp>
          <p:sp>
            <p:nvSpPr>
              <p:cNvPr id="88" name=""/>
              <p:cNvSpPr/>
              <p:nvPr/>
            </p:nvSpPr>
            <p:spPr>
              <a:xfrm>
                <a:off x="735120" y="2884680"/>
                <a:ext cx="2993760" cy="1831320"/>
              </a:xfrm>
              <a:custGeom>
                <a:avLst/>
                <a:gdLst/>
                <a:ahLst/>
                <a:rect l="l" t="t" r="r" b="b"/>
                <a:pathLst>
                  <a:path w="1968" h="2256">
                    <a:moveTo>
                      <a:pt x="1104" y="0"/>
                    </a:moveTo>
                    <a:lnTo>
                      <a:pt x="0" y="2064"/>
                    </a:lnTo>
                    <a:lnTo>
                      <a:pt x="864" y="2256"/>
                    </a:lnTo>
                    <a:lnTo>
                      <a:pt x="1728" y="2112"/>
                    </a:lnTo>
                    <a:lnTo>
                      <a:pt x="1968" y="1680"/>
                    </a:lnTo>
                    <a:lnTo>
                      <a:pt x="110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694880" y="3625200"/>
                <a:ext cx="876240" cy="623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694880" y="4443840"/>
                <a:ext cx="876240" cy="3852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96760" y="4100040"/>
                <a:ext cx="660240" cy="164880"/>
              </a:xfrm>
              <a:custGeom>
                <a:avLst/>
                <a:gdLst/>
                <a:ahLst/>
                <a:rect l="l" t="t" r="r" b="b"/>
                <a:pathLst>
                  <a:path w="434" h="203">
                    <a:moveTo>
                      <a:pt x="110" y="0"/>
                    </a:moveTo>
                    <a:cubicBezTo>
                      <a:pt x="89" y="14"/>
                      <a:pt x="68" y="34"/>
                      <a:pt x="44" y="42"/>
                    </a:cubicBezTo>
                    <a:cubicBezTo>
                      <a:pt x="36" y="50"/>
                      <a:pt x="17" y="63"/>
                      <a:pt x="17" y="63"/>
                    </a:cubicBezTo>
                    <a:cubicBezTo>
                      <a:pt x="0" y="88"/>
                      <a:pt x="2" y="78"/>
                      <a:pt x="8" y="117"/>
                    </a:cubicBezTo>
                    <a:cubicBezTo>
                      <a:pt x="18" y="175"/>
                      <a:pt x="70" y="166"/>
                      <a:pt x="119" y="171"/>
                    </a:cubicBezTo>
                    <a:cubicBezTo>
                      <a:pt x="126" y="172"/>
                      <a:pt x="133" y="173"/>
                      <a:pt x="140" y="174"/>
                    </a:cubicBezTo>
                    <a:cubicBezTo>
                      <a:pt x="150" y="175"/>
                      <a:pt x="160" y="176"/>
                      <a:pt x="170" y="177"/>
                    </a:cubicBezTo>
                    <a:cubicBezTo>
                      <a:pt x="186" y="178"/>
                      <a:pt x="202" y="179"/>
                      <a:pt x="218" y="180"/>
                    </a:cubicBezTo>
                    <a:cubicBezTo>
                      <a:pt x="381" y="177"/>
                      <a:pt x="348" y="203"/>
                      <a:pt x="422" y="153"/>
                    </a:cubicBezTo>
                    <a:cubicBezTo>
                      <a:pt x="425" y="143"/>
                      <a:pt x="431" y="136"/>
                      <a:pt x="434" y="126"/>
                    </a:cubicBezTo>
                    <a:cubicBezTo>
                      <a:pt x="433" y="116"/>
                      <a:pt x="434" y="106"/>
                      <a:pt x="431" y="96"/>
                    </a:cubicBezTo>
                    <a:cubicBezTo>
                      <a:pt x="430" y="93"/>
                      <a:pt x="425" y="93"/>
                      <a:pt x="422" y="90"/>
                    </a:cubicBezTo>
                    <a:cubicBezTo>
                      <a:pt x="394" y="62"/>
                      <a:pt x="354" y="63"/>
                      <a:pt x="314" y="60"/>
                    </a:cubicBezTo>
                    <a:cubicBezTo>
                      <a:pt x="283" y="52"/>
                      <a:pt x="319" y="61"/>
                      <a:pt x="254" y="54"/>
                    </a:cubicBezTo>
                    <a:cubicBezTo>
                      <a:pt x="214" y="50"/>
                      <a:pt x="174" y="39"/>
                      <a:pt x="134" y="33"/>
                    </a:cubicBezTo>
                    <a:cubicBezTo>
                      <a:pt x="124" y="30"/>
                      <a:pt x="107" y="18"/>
                      <a:pt x="107" y="18"/>
                    </a:cubicBezTo>
                    <a:cubicBezTo>
                      <a:pt x="103" y="6"/>
                      <a:pt x="102" y="12"/>
                      <a:pt x="110" y="0"/>
                    </a:cubicBez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576440" y="3688560"/>
                <a:ext cx="296280" cy="201240"/>
              </a:xfrm>
              <a:custGeom>
                <a:avLst/>
                <a:gdLst/>
                <a:ahLst/>
                <a:rect l="l" t="t" r="r" b="b"/>
                <a:pathLst>
                  <a:path w="195" h="248">
                    <a:moveTo>
                      <a:pt x="150" y="0"/>
                    </a:moveTo>
                    <a:cubicBezTo>
                      <a:pt x="140" y="7"/>
                      <a:pt x="134" y="14"/>
                      <a:pt x="123" y="18"/>
                    </a:cubicBezTo>
                    <a:cubicBezTo>
                      <a:pt x="112" y="34"/>
                      <a:pt x="120" y="24"/>
                      <a:pt x="99" y="45"/>
                    </a:cubicBezTo>
                    <a:cubicBezTo>
                      <a:pt x="96" y="48"/>
                      <a:pt x="90" y="54"/>
                      <a:pt x="90" y="54"/>
                    </a:cubicBezTo>
                    <a:cubicBezTo>
                      <a:pt x="84" y="72"/>
                      <a:pt x="49" y="116"/>
                      <a:pt x="33" y="126"/>
                    </a:cubicBezTo>
                    <a:cubicBezTo>
                      <a:pt x="22" y="143"/>
                      <a:pt x="7" y="160"/>
                      <a:pt x="0" y="180"/>
                    </a:cubicBezTo>
                    <a:cubicBezTo>
                      <a:pt x="2" y="195"/>
                      <a:pt x="3" y="221"/>
                      <a:pt x="18" y="231"/>
                    </a:cubicBezTo>
                    <a:cubicBezTo>
                      <a:pt x="32" y="241"/>
                      <a:pt x="24" y="236"/>
                      <a:pt x="45" y="243"/>
                    </a:cubicBezTo>
                    <a:cubicBezTo>
                      <a:pt x="48" y="244"/>
                      <a:pt x="54" y="246"/>
                      <a:pt x="54" y="246"/>
                    </a:cubicBezTo>
                    <a:cubicBezTo>
                      <a:pt x="83" y="244"/>
                      <a:pt x="93" y="248"/>
                      <a:pt x="114" y="234"/>
                    </a:cubicBezTo>
                    <a:cubicBezTo>
                      <a:pt x="127" y="214"/>
                      <a:pt x="148" y="191"/>
                      <a:pt x="171" y="183"/>
                    </a:cubicBezTo>
                    <a:cubicBezTo>
                      <a:pt x="180" y="174"/>
                      <a:pt x="186" y="165"/>
                      <a:pt x="195" y="156"/>
                    </a:cubicBezTo>
                    <a:cubicBezTo>
                      <a:pt x="193" y="137"/>
                      <a:pt x="189" y="118"/>
                      <a:pt x="183" y="99"/>
                    </a:cubicBezTo>
                    <a:cubicBezTo>
                      <a:pt x="177" y="58"/>
                      <a:pt x="165" y="37"/>
                      <a:pt x="150" y="0"/>
                    </a:cubicBez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71120" y="4014720"/>
                <a:ext cx="145800" cy="54540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86840" y="3547080"/>
                <a:ext cx="291960" cy="7776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14120" y="3274560"/>
                <a:ext cx="438120" cy="3114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05200" y="3379320"/>
                <a:ext cx="117000" cy="54720"/>
              </a:xfrm>
              <a:custGeom>
                <a:avLst/>
                <a:gdLst/>
                <a:ahLst/>
                <a:rect l="l" t="t" r="r" b="b"/>
                <a:pathLst>
                  <a:path w="77" h="68">
                    <a:moveTo>
                      <a:pt x="0" y="45"/>
                    </a:moveTo>
                    <a:cubicBezTo>
                      <a:pt x="5" y="30"/>
                      <a:pt x="0" y="37"/>
                      <a:pt x="21" y="30"/>
                    </a:cubicBezTo>
                    <a:cubicBezTo>
                      <a:pt x="38" y="24"/>
                      <a:pt x="48" y="6"/>
                      <a:pt x="66" y="0"/>
                    </a:cubicBezTo>
                    <a:cubicBezTo>
                      <a:pt x="65" y="3"/>
                      <a:pt x="62" y="6"/>
                      <a:pt x="63" y="9"/>
                    </a:cubicBezTo>
                    <a:cubicBezTo>
                      <a:pt x="65" y="16"/>
                      <a:pt x="75" y="27"/>
                      <a:pt x="75" y="27"/>
                    </a:cubicBezTo>
                    <a:cubicBezTo>
                      <a:pt x="72" y="61"/>
                      <a:pt x="77" y="68"/>
                      <a:pt x="45" y="63"/>
                    </a:cubicBezTo>
                    <a:cubicBezTo>
                      <a:pt x="24" y="49"/>
                      <a:pt x="30" y="54"/>
                      <a:pt x="21" y="36"/>
                    </a:cubicBezTo>
                    <a:lnTo>
                      <a:pt x="36" y="15"/>
                    </a:lnTo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2150280" y="3375000"/>
                <a:ext cx="117000" cy="55080"/>
              </a:xfrm>
              <a:custGeom>
                <a:avLst/>
                <a:gdLst/>
                <a:ahLst/>
                <a:rect l="l" t="t" r="r" b="b"/>
                <a:pathLst>
                  <a:path w="77" h="68">
                    <a:moveTo>
                      <a:pt x="0" y="45"/>
                    </a:moveTo>
                    <a:cubicBezTo>
                      <a:pt x="5" y="30"/>
                      <a:pt x="0" y="37"/>
                      <a:pt x="21" y="30"/>
                    </a:cubicBezTo>
                    <a:cubicBezTo>
                      <a:pt x="38" y="24"/>
                      <a:pt x="48" y="6"/>
                      <a:pt x="66" y="0"/>
                    </a:cubicBezTo>
                    <a:cubicBezTo>
                      <a:pt x="65" y="3"/>
                      <a:pt x="62" y="6"/>
                      <a:pt x="63" y="9"/>
                    </a:cubicBezTo>
                    <a:cubicBezTo>
                      <a:pt x="65" y="16"/>
                      <a:pt x="75" y="27"/>
                      <a:pt x="75" y="27"/>
                    </a:cubicBezTo>
                    <a:cubicBezTo>
                      <a:pt x="72" y="61"/>
                      <a:pt x="77" y="68"/>
                      <a:pt x="45" y="63"/>
                    </a:cubicBezTo>
                    <a:cubicBezTo>
                      <a:pt x="24" y="49"/>
                      <a:pt x="30" y="54"/>
                      <a:pt x="21" y="36"/>
                    </a:cubicBezTo>
                    <a:lnTo>
                      <a:pt x="36" y="15"/>
                    </a:lnTo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119320" y="3405960"/>
                <a:ext cx="68040" cy="7056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18" y="0"/>
                    </a:moveTo>
                    <a:cubicBezTo>
                      <a:pt x="20" y="13"/>
                      <a:pt x="22" y="36"/>
                      <a:pt x="30" y="48"/>
                    </a:cubicBezTo>
                    <a:cubicBezTo>
                      <a:pt x="44" y="69"/>
                      <a:pt x="40" y="59"/>
                      <a:pt x="45" y="75"/>
                    </a:cubicBezTo>
                    <a:cubicBezTo>
                      <a:pt x="30" y="78"/>
                      <a:pt x="15" y="87"/>
                      <a:pt x="0" y="87"/>
                    </a:cubicBezTo>
                  </a:path>
                </a:pathLst>
              </a:custGeom>
              <a:solidFill>
                <a:srgbClr val="00004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4840" bIns="24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32560" y="3505680"/>
                <a:ext cx="177840" cy="12240"/>
              </a:xfrm>
              <a:custGeom>
                <a:avLst/>
                <a:gdLst/>
                <a:ahLst/>
                <a:rect l="l" t="t" r="r" b="b"/>
                <a:pathLst>
                  <a:path w="117" h="15">
                    <a:moveTo>
                      <a:pt x="117" y="0"/>
                    </a:moveTo>
                    <a:cubicBezTo>
                      <a:pt x="98" y="6"/>
                      <a:pt x="64" y="2"/>
                      <a:pt x="45" y="3"/>
                    </a:cubicBezTo>
                    <a:cubicBezTo>
                      <a:pt x="30" y="5"/>
                      <a:pt x="14" y="8"/>
                      <a:pt x="0" y="15"/>
                    </a:cubicBezTo>
                    <a:lnTo>
                      <a:pt x="18" y="3"/>
                    </a:lnTo>
                  </a:path>
                </a:pathLst>
              </a:custGeom>
              <a:solidFill>
                <a:srgbClr val="fc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3480" bIns="-33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1841040" y="3430080"/>
                <a:ext cx="145800" cy="38880"/>
                <a:chOff x="1841040" y="3430080"/>
                <a:chExt cx="145800" cy="38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841040" y="3430080"/>
                  <a:ext cx="72720" cy="38880"/>
                </a:xfrm>
                <a:prstGeom prst="ellipse">
                  <a:avLst/>
                </a:prstGeom>
                <a:solidFill>
                  <a:srgbClr val="ff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16200000">
                  <a:off x="1894320" y="3376440"/>
                  <a:ext cx="38880" cy="14580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278800" y="3430080"/>
                <a:ext cx="145800" cy="38880"/>
                <a:chOff x="2278800" y="3430080"/>
                <a:chExt cx="145800" cy="38880"/>
              </a:xfrm>
            </p:grpSpPr>
            <p:sp>
              <p:nvSpPr>
                <p:cNvPr id="104" name=""/>
                <p:cNvSpPr/>
                <p:nvPr/>
              </p:nvSpPr>
              <p:spPr>
                <a:xfrm flipH="1">
                  <a:off x="2351880" y="3430080"/>
                  <a:ext cx="72720" cy="38880"/>
                </a:xfrm>
                <a:prstGeom prst="ellipse">
                  <a:avLst/>
                </a:prstGeom>
                <a:solidFill>
                  <a:srgbClr val="ff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 rot="5400000">
                  <a:off x="2331720" y="3376440"/>
                  <a:ext cx="38880" cy="14580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1895760" y="3263760"/>
                <a:ext cx="451440" cy="190800"/>
              </a:xfrm>
              <a:custGeom>
                <a:avLst/>
                <a:gdLst/>
                <a:ahLst/>
                <a:rect l="l" t="t" r="r" b="b"/>
                <a:pathLst>
                  <a:path w="297" h="235">
                    <a:moveTo>
                      <a:pt x="84" y="73"/>
                    </a:moveTo>
                    <a:cubicBezTo>
                      <a:pt x="90" y="90"/>
                      <a:pt x="95" y="92"/>
                      <a:pt x="111" y="103"/>
                    </a:cubicBezTo>
                    <a:cubicBezTo>
                      <a:pt x="114" y="105"/>
                      <a:pt x="120" y="109"/>
                      <a:pt x="120" y="109"/>
                    </a:cubicBezTo>
                    <a:cubicBezTo>
                      <a:pt x="136" y="133"/>
                      <a:pt x="119" y="98"/>
                      <a:pt x="117" y="91"/>
                    </a:cubicBezTo>
                    <a:cubicBezTo>
                      <a:pt x="115" y="85"/>
                      <a:pt x="130" y="93"/>
                      <a:pt x="135" y="97"/>
                    </a:cubicBezTo>
                    <a:cubicBezTo>
                      <a:pt x="148" y="106"/>
                      <a:pt x="162" y="114"/>
                      <a:pt x="177" y="118"/>
                    </a:cubicBezTo>
                    <a:cubicBezTo>
                      <a:pt x="180" y="120"/>
                      <a:pt x="183" y="122"/>
                      <a:pt x="186" y="124"/>
                    </a:cubicBezTo>
                    <a:cubicBezTo>
                      <a:pt x="210" y="136"/>
                      <a:pt x="175" y="98"/>
                      <a:pt x="171" y="91"/>
                    </a:cubicBezTo>
                    <a:cubicBezTo>
                      <a:pt x="169" y="87"/>
                      <a:pt x="167" y="83"/>
                      <a:pt x="165" y="79"/>
                    </a:cubicBezTo>
                    <a:cubicBezTo>
                      <a:pt x="164" y="76"/>
                      <a:pt x="159" y="70"/>
                      <a:pt x="162" y="70"/>
                    </a:cubicBezTo>
                    <a:cubicBezTo>
                      <a:pt x="166" y="70"/>
                      <a:pt x="168" y="76"/>
                      <a:pt x="171" y="79"/>
                    </a:cubicBezTo>
                    <a:cubicBezTo>
                      <a:pt x="179" y="85"/>
                      <a:pt x="180" y="85"/>
                      <a:pt x="189" y="88"/>
                    </a:cubicBezTo>
                    <a:cubicBezTo>
                      <a:pt x="203" y="102"/>
                      <a:pt x="194" y="95"/>
                      <a:pt x="216" y="109"/>
                    </a:cubicBezTo>
                    <a:cubicBezTo>
                      <a:pt x="219" y="111"/>
                      <a:pt x="225" y="115"/>
                      <a:pt x="225" y="115"/>
                    </a:cubicBezTo>
                    <a:cubicBezTo>
                      <a:pt x="218" y="93"/>
                      <a:pt x="213" y="95"/>
                      <a:pt x="231" y="100"/>
                    </a:cubicBezTo>
                    <a:cubicBezTo>
                      <a:pt x="240" y="109"/>
                      <a:pt x="250" y="111"/>
                      <a:pt x="258" y="121"/>
                    </a:cubicBezTo>
                    <a:cubicBezTo>
                      <a:pt x="260" y="124"/>
                      <a:pt x="262" y="127"/>
                      <a:pt x="264" y="130"/>
                    </a:cubicBezTo>
                    <a:cubicBezTo>
                      <a:pt x="267" y="133"/>
                      <a:pt x="273" y="143"/>
                      <a:pt x="273" y="139"/>
                    </a:cubicBezTo>
                    <a:cubicBezTo>
                      <a:pt x="273" y="135"/>
                      <a:pt x="258" y="121"/>
                      <a:pt x="255" y="118"/>
                    </a:cubicBezTo>
                    <a:cubicBezTo>
                      <a:pt x="272" y="112"/>
                      <a:pt x="279" y="122"/>
                      <a:pt x="288" y="136"/>
                    </a:cubicBezTo>
                    <a:cubicBezTo>
                      <a:pt x="289" y="126"/>
                      <a:pt x="297" y="82"/>
                      <a:pt x="285" y="67"/>
                    </a:cubicBezTo>
                    <a:cubicBezTo>
                      <a:pt x="257" y="31"/>
                      <a:pt x="227" y="11"/>
                      <a:pt x="183" y="4"/>
                    </a:cubicBezTo>
                    <a:cubicBezTo>
                      <a:pt x="143" y="6"/>
                      <a:pt x="94" y="0"/>
                      <a:pt x="63" y="31"/>
                    </a:cubicBezTo>
                    <a:cubicBezTo>
                      <a:pt x="58" y="45"/>
                      <a:pt x="68" y="46"/>
                      <a:pt x="54" y="55"/>
                    </a:cubicBezTo>
                    <a:cubicBezTo>
                      <a:pt x="46" y="68"/>
                      <a:pt x="31" y="70"/>
                      <a:pt x="24" y="85"/>
                    </a:cubicBezTo>
                    <a:cubicBezTo>
                      <a:pt x="14" y="108"/>
                      <a:pt x="6" y="135"/>
                      <a:pt x="0" y="160"/>
                    </a:cubicBezTo>
                    <a:cubicBezTo>
                      <a:pt x="5" y="224"/>
                      <a:pt x="3" y="206"/>
                      <a:pt x="9" y="181"/>
                    </a:cubicBezTo>
                    <a:cubicBezTo>
                      <a:pt x="16" y="202"/>
                      <a:pt x="12" y="225"/>
                      <a:pt x="33" y="235"/>
                    </a:cubicBezTo>
                    <a:cubicBezTo>
                      <a:pt x="23" y="205"/>
                      <a:pt x="18" y="160"/>
                      <a:pt x="42" y="136"/>
                    </a:cubicBezTo>
                    <a:cubicBezTo>
                      <a:pt x="46" y="125"/>
                      <a:pt x="49" y="100"/>
                      <a:pt x="60" y="91"/>
                    </a:cubicBezTo>
                    <a:cubicBezTo>
                      <a:pt x="72" y="81"/>
                      <a:pt x="79" y="88"/>
                      <a:pt x="84" y="73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64600" y="3403440"/>
                <a:ext cx="62280" cy="2160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18" y="0"/>
                    </a:moveTo>
                    <a:cubicBezTo>
                      <a:pt x="1" y="11"/>
                      <a:pt x="0" y="20"/>
                      <a:pt x="21" y="27"/>
                    </a:cubicBezTo>
                    <a:cubicBezTo>
                      <a:pt x="41" y="20"/>
                      <a:pt x="27" y="9"/>
                      <a:pt x="18" y="0"/>
                    </a:cubicBezTo>
                    <a:close/>
                  </a:path>
                </a:pathLst>
              </a:custGeom>
              <a:solidFill>
                <a:srgbClr val="00004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4120" bIns="-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43440" y="3408480"/>
                <a:ext cx="62280" cy="2160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18" y="0"/>
                    </a:moveTo>
                    <a:cubicBezTo>
                      <a:pt x="1" y="11"/>
                      <a:pt x="0" y="20"/>
                      <a:pt x="21" y="27"/>
                    </a:cubicBezTo>
                    <a:cubicBezTo>
                      <a:pt x="41" y="20"/>
                      <a:pt x="27" y="9"/>
                      <a:pt x="18" y="0"/>
                    </a:cubicBezTo>
                    <a:close/>
                  </a:path>
                </a:pathLst>
              </a:custGeom>
              <a:solidFill>
                <a:srgbClr val="00004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4120" bIns="-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757160" y="3625200"/>
                <a:ext cx="756000" cy="564840"/>
              </a:xfrm>
              <a:custGeom>
                <a:avLst/>
                <a:gdLst/>
                <a:ahLst/>
                <a:rect l="l" t="t" r="r" b="b"/>
                <a:pathLst>
                  <a:path w="497" h="696">
                    <a:moveTo>
                      <a:pt x="487" y="48"/>
                    </a:moveTo>
                    <a:lnTo>
                      <a:pt x="343" y="0"/>
                    </a:lnTo>
                    <a:lnTo>
                      <a:pt x="151" y="0"/>
                    </a:lnTo>
                    <a:cubicBezTo>
                      <a:pt x="103" y="32"/>
                      <a:pt x="55" y="63"/>
                      <a:pt x="7" y="96"/>
                    </a:cubicBezTo>
                    <a:cubicBezTo>
                      <a:pt x="0" y="101"/>
                      <a:pt x="21" y="81"/>
                      <a:pt x="28" y="84"/>
                    </a:cubicBezTo>
                    <a:cubicBezTo>
                      <a:pt x="30" y="85"/>
                      <a:pt x="40" y="135"/>
                      <a:pt x="52" y="147"/>
                    </a:cubicBezTo>
                    <a:cubicBezTo>
                      <a:pt x="61" y="174"/>
                      <a:pt x="68" y="202"/>
                      <a:pt x="79" y="228"/>
                    </a:cubicBezTo>
                    <a:cubicBezTo>
                      <a:pt x="84" y="239"/>
                      <a:pt x="81" y="239"/>
                      <a:pt x="85" y="252"/>
                    </a:cubicBezTo>
                    <a:cubicBezTo>
                      <a:pt x="87" y="258"/>
                      <a:pt x="91" y="270"/>
                      <a:pt x="91" y="270"/>
                    </a:cubicBezTo>
                    <a:cubicBezTo>
                      <a:pt x="93" y="287"/>
                      <a:pt x="100" y="299"/>
                      <a:pt x="103" y="315"/>
                    </a:cubicBezTo>
                    <a:cubicBezTo>
                      <a:pt x="111" y="363"/>
                      <a:pt x="120" y="411"/>
                      <a:pt x="127" y="459"/>
                    </a:cubicBezTo>
                    <a:cubicBezTo>
                      <a:pt x="128" y="489"/>
                      <a:pt x="128" y="519"/>
                      <a:pt x="130" y="549"/>
                    </a:cubicBezTo>
                    <a:cubicBezTo>
                      <a:pt x="134" y="619"/>
                      <a:pt x="155" y="612"/>
                      <a:pt x="208" y="630"/>
                    </a:cubicBezTo>
                    <a:cubicBezTo>
                      <a:pt x="293" y="629"/>
                      <a:pt x="436" y="696"/>
                      <a:pt x="463" y="615"/>
                    </a:cubicBezTo>
                    <a:cubicBezTo>
                      <a:pt x="461" y="487"/>
                      <a:pt x="438" y="328"/>
                      <a:pt x="481" y="198"/>
                    </a:cubicBezTo>
                    <a:cubicBezTo>
                      <a:pt x="486" y="149"/>
                      <a:pt x="497" y="97"/>
                      <a:pt x="487" y="48"/>
                    </a:cubicBez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76000" y="3975840"/>
                <a:ext cx="291600" cy="3852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48720" y="4014720"/>
                <a:ext cx="146160" cy="5454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cc99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21800" y="4248720"/>
                <a:ext cx="1022040" cy="777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98040" y="3975840"/>
                <a:ext cx="291960" cy="3852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70680" y="3671280"/>
                <a:ext cx="324000" cy="304200"/>
              </a:xfrm>
              <a:custGeom>
                <a:avLst/>
                <a:gdLst/>
                <a:ahLst/>
                <a:rect l="l" t="t" r="r" b="b"/>
                <a:pathLst>
                  <a:path w="213" h="375">
                    <a:moveTo>
                      <a:pt x="27" y="0"/>
                    </a:moveTo>
                    <a:cubicBezTo>
                      <a:pt x="54" y="27"/>
                      <a:pt x="63" y="46"/>
                      <a:pt x="81" y="78"/>
                    </a:cubicBezTo>
                    <a:cubicBezTo>
                      <a:pt x="85" y="84"/>
                      <a:pt x="91" y="89"/>
                      <a:pt x="93" y="96"/>
                    </a:cubicBezTo>
                    <a:cubicBezTo>
                      <a:pt x="107" y="137"/>
                      <a:pt x="124" y="181"/>
                      <a:pt x="150" y="216"/>
                    </a:cubicBezTo>
                    <a:cubicBezTo>
                      <a:pt x="167" y="267"/>
                      <a:pt x="174" y="333"/>
                      <a:pt x="213" y="372"/>
                    </a:cubicBezTo>
                    <a:lnTo>
                      <a:pt x="66" y="375"/>
                    </a:lnTo>
                    <a:cubicBezTo>
                      <a:pt x="50" y="343"/>
                      <a:pt x="30" y="313"/>
                      <a:pt x="18" y="279"/>
                    </a:cubicBezTo>
                    <a:cubicBezTo>
                      <a:pt x="17" y="275"/>
                      <a:pt x="28" y="279"/>
                      <a:pt x="30" y="276"/>
                    </a:cubicBezTo>
                    <a:cubicBezTo>
                      <a:pt x="32" y="273"/>
                      <a:pt x="29" y="270"/>
                      <a:pt x="27" y="267"/>
                    </a:cubicBezTo>
                    <a:cubicBezTo>
                      <a:pt x="14" y="244"/>
                      <a:pt x="15" y="247"/>
                      <a:pt x="9" y="222"/>
                    </a:cubicBezTo>
                    <a:cubicBezTo>
                      <a:pt x="7" y="213"/>
                      <a:pt x="0" y="195"/>
                      <a:pt x="0" y="195"/>
                    </a:cubicBezTo>
                    <a:cubicBezTo>
                      <a:pt x="3" y="172"/>
                      <a:pt x="11" y="152"/>
                      <a:pt x="15" y="129"/>
                    </a:cubicBezTo>
                    <a:cubicBezTo>
                      <a:pt x="22" y="85"/>
                      <a:pt x="24" y="46"/>
                      <a:pt x="27" y="0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411640" y="3938760"/>
                <a:ext cx="387720" cy="156600"/>
              </a:xfrm>
              <a:custGeom>
                <a:avLst/>
                <a:gdLst/>
                <a:ahLst/>
                <a:rect l="l" t="t" r="r" b="b"/>
                <a:pathLst>
                  <a:path w="255" h="193">
                    <a:moveTo>
                      <a:pt x="99" y="22"/>
                    </a:moveTo>
                    <a:cubicBezTo>
                      <a:pt x="104" y="40"/>
                      <a:pt x="105" y="58"/>
                      <a:pt x="111" y="76"/>
                    </a:cubicBezTo>
                    <a:cubicBezTo>
                      <a:pt x="116" y="113"/>
                      <a:pt x="114" y="171"/>
                      <a:pt x="147" y="193"/>
                    </a:cubicBezTo>
                    <a:cubicBezTo>
                      <a:pt x="193" y="188"/>
                      <a:pt x="171" y="191"/>
                      <a:pt x="189" y="163"/>
                    </a:cubicBezTo>
                    <a:cubicBezTo>
                      <a:pt x="195" y="165"/>
                      <a:pt x="202" y="167"/>
                      <a:pt x="207" y="172"/>
                    </a:cubicBezTo>
                    <a:cubicBezTo>
                      <a:pt x="212" y="177"/>
                      <a:pt x="219" y="190"/>
                      <a:pt x="219" y="190"/>
                    </a:cubicBezTo>
                    <a:cubicBezTo>
                      <a:pt x="234" y="185"/>
                      <a:pt x="241" y="166"/>
                      <a:pt x="246" y="151"/>
                    </a:cubicBezTo>
                    <a:cubicBezTo>
                      <a:pt x="248" y="112"/>
                      <a:pt x="249" y="87"/>
                      <a:pt x="255" y="52"/>
                    </a:cubicBezTo>
                    <a:cubicBezTo>
                      <a:pt x="254" y="44"/>
                      <a:pt x="255" y="36"/>
                      <a:pt x="252" y="28"/>
                    </a:cubicBezTo>
                    <a:cubicBezTo>
                      <a:pt x="246" y="12"/>
                      <a:pt x="186" y="3"/>
                      <a:pt x="171" y="1"/>
                    </a:cubicBezTo>
                    <a:cubicBezTo>
                      <a:pt x="118" y="3"/>
                      <a:pt x="120" y="0"/>
                      <a:pt x="87" y="7"/>
                    </a:cubicBezTo>
                    <a:cubicBezTo>
                      <a:pt x="74" y="10"/>
                      <a:pt x="48" y="19"/>
                      <a:pt x="48" y="19"/>
                    </a:cubicBezTo>
                    <a:cubicBezTo>
                      <a:pt x="33" y="34"/>
                      <a:pt x="17" y="44"/>
                      <a:pt x="3" y="58"/>
                    </a:cubicBezTo>
                    <a:cubicBezTo>
                      <a:pt x="8" y="91"/>
                      <a:pt x="0" y="97"/>
                      <a:pt x="36" y="85"/>
                    </a:cubicBezTo>
                    <a:cubicBezTo>
                      <a:pt x="38" y="82"/>
                      <a:pt x="39" y="79"/>
                      <a:pt x="42" y="76"/>
                    </a:cubicBezTo>
                    <a:cubicBezTo>
                      <a:pt x="45" y="73"/>
                      <a:pt x="49" y="73"/>
                      <a:pt x="51" y="70"/>
                    </a:cubicBezTo>
                    <a:cubicBezTo>
                      <a:pt x="58" y="61"/>
                      <a:pt x="49" y="59"/>
                      <a:pt x="60" y="52"/>
                    </a:cubicBezTo>
                    <a:cubicBezTo>
                      <a:pt x="70" y="45"/>
                      <a:pt x="87" y="43"/>
                      <a:pt x="99" y="43"/>
                    </a:cubicBezTo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70960" y="3644640"/>
                <a:ext cx="278280" cy="299520"/>
              </a:xfrm>
              <a:custGeom>
                <a:avLst/>
                <a:gdLst/>
                <a:ahLst/>
                <a:rect l="l" t="t" r="r" b="b"/>
                <a:pathLst>
                  <a:path w="183" h="369">
                    <a:moveTo>
                      <a:pt x="132" y="0"/>
                    </a:moveTo>
                    <a:cubicBezTo>
                      <a:pt x="89" y="14"/>
                      <a:pt x="73" y="53"/>
                      <a:pt x="60" y="93"/>
                    </a:cubicBezTo>
                    <a:cubicBezTo>
                      <a:pt x="40" y="152"/>
                      <a:pt x="12" y="209"/>
                      <a:pt x="0" y="270"/>
                    </a:cubicBezTo>
                    <a:cubicBezTo>
                      <a:pt x="0" y="274"/>
                      <a:pt x="1" y="300"/>
                      <a:pt x="6" y="309"/>
                    </a:cubicBezTo>
                    <a:cubicBezTo>
                      <a:pt x="29" y="350"/>
                      <a:pt x="83" y="360"/>
                      <a:pt x="126" y="369"/>
                    </a:cubicBezTo>
                    <a:cubicBezTo>
                      <a:pt x="145" y="367"/>
                      <a:pt x="153" y="367"/>
                      <a:pt x="168" y="357"/>
                    </a:cubicBezTo>
                    <a:cubicBezTo>
                      <a:pt x="172" y="335"/>
                      <a:pt x="176" y="317"/>
                      <a:pt x="183" y="297"/>
                    </a:cubicBezTo>
                    <a:cubicBezTo>
                      <a:pt x="180" y="269"/>
                      <a:pt x="177" y="248"/>
                      <a:pt x="162" y="225"/>
                    </a:cubicBezTo>
                    <a:cubicBezTo>
                      <a:pt x="157" y="203"/>
                      <a:pt x="155" y="181"/>
                      <a:pt x="150" y="159"/>
                    </a:cubicBezTo>
                    <a:cubicBezTo>
                      <a:pt x="149" y="146"/>
                      <a:pt x="150" y="133"/>
                      <a:pt x="147" y="120"/>
                    </a:cubicBezTo>
                    <a:cubicBezTo>
                      <a:pt x="144" y="110"/>
                      <a:pt x="129" y="93"/>
                      <a:pt x="129" y="93"/>
                    </a:cubicBezTo>
                    <a:cubicBezTo>
                      <a:pt x="124" y="75"/>
                      <a:pt x="122" y="58"/>
                      <a:pt x="120" y="39"/>
                    </a:cubicBezTo>
                    <a:cubicBezTo>
                      <a:pt x="122" y="22"/>
                      <a:pt x="120" y="12"/>
                      <a:pt x="132" y="0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40160" y="4041720"/>
                <a:ext cx="462240" cy="506520"/>
              </a:xfrm>
              <a:custGeom>
                <a:avLst/>
                <a:gdLst/>
                <a:ahLst/>
                <a:rect l="l" t="t" r="r" b="b"/>
                <a:pathLst>
                  <a:path w="304" h="624">
                    <a:moveTo>
                      <a:pt x="21" y="0"/>
                    </a:moveTo>
                    <a:cubicBezTo>
                      <a:pt x="0" y="85"/>
                      <a:pt x="23" y="180"/>
                      <a:pt x="75" y="249"/>
                    </a:cubicBezTo>
                    <a:cubicBezTo>
                      <a:pt x="83" y="272"/>
                      <a:pt x="77" y="262"/>
                      <a:pt x="90" y="279"/>
                    </a:cubicBezTo>
                    <a:cubicBezTo>
                      <a:pt x="93" y="308"/>
                      <a:pt x="105" y="333"/>
                      <a:pt x="114" y="360"/>
                    </a:cubicBezTo>
                    <a:cubicBezTo>
                      <a:pt x="116" y="366"/>
                      <a:pt x="125" y="383"/>
                      <a:pt x="126" y="387"/>
                    </a:cubicBezTo>
                    <a:cubicBezTo>
                      <a:pt x="127" y="390"/>
                      <a:pt x="129" y="396"/>
                      <a:pt x="129" y="396"/>
                    </a:cubicBezTo>
                    <a:cubicBezTo>
                      <a:pt x="135" y="441"/>
                      <a:pt x="134" y="483"/>
                      <a:pt x="129" y="528"/>
                    </a:cubicBezTo>
                    <a:cubicBezTo>
                      <a:pt x="125" y="559"/>
                      <a:pt x="125" y="560"/>
                      <a:pt x="114" y="582"/>
                    </a:cubicBezTo>
                    <a:cubicBezTo>
                      <a:pt x="109" y="591"/>
                      <a:pt x="99" y="609"/>
                      <a:pt x="99" y="609"/>
                    </a:cubicBezTo>
                    <a:cubicBezTo>
                      <a:pt x="144" y="624"/>
                      <a:pt x="195" y="613"/>
                      <a:pt x="243" y="618"/>
                    </a:cubicBezTo>
                    <a:cubicBezTo>
                      <a:pt x="304" y="614"/>
                      <a:pt x="289" y="623"/>
                      <a:pt x="279" y="582"/>
                    </a:cubicBezTo>
                    <a:cubicBezTo>
                      <a:pt x="282" y="554"/>
                      <a:pt x="287" y="529"/>
                      <a:pt x="282" y="501"/>
                    </a:cubicBezTo>
                    <a:cubicBezTo>
                      <a:pt x="277" y="473"/>
                      <a:pt x="263" y="446"/>
                      <a:pt x="258" y="417"/>
                    </a:cubicBezTo>
                    <a:cubicBezTo>
                      <a:pt x="247" y="359"/>
                      <a:pt x="242" y="300"/>
                      <a:pt x="225" y="243"/>
                    </a:cubicBezTo>
                    <a:cubicBezTo>
                      <a:pt x="218" y="220"/>
                      <a:pt x="202" y="202"/>
                      <a:pt x="195" y="180"/>
                    </a:cubicBezTo>
                    <a:cubicBezTo>
                      <a:pt x="190" y="148"/>
                      <a:pt x="176" y="88"/>
                      <a:pt x="147" y="69"/>
                    </a:cubicBezTo>
                    <a:cubicBezTo>
                      <a:pt x="123" y="33"/>
                      <a:pt x="77" y="28"/>
                      <a:pt x="39" y="15"/>
                    </a:cubicBezTo>
                    <a:cubicBezTo>
                      <a:pt x="34" y="16"/>
                      <a:pt x="21" y="18"/>
                      <a:pt x="18" y="24"/>
                    </a:cubicBezTo>
                    <a:cubicBezTo>
                      <a:pt x="14" y="31"/>
                      <a:pt x="12" y="48"/>
                      <a:pt x="12" y="48"/>
                    </a:cubicBezTo>
                    <a:cubicBezTo>
                      <a:pt x="13" y="57"/>
                      <a:pt x="13" y="66"/>
                      <a:pt x="15" y="75"/>
                    </a:cubicBezTo>
                    <a:cubicBezTo>
                      <a:pt x="16" y="83"/>
                      <a:pt x="21" y="99"/>
                      <a:pt x="21" y="99"/>
                    </a:cubicBezTo>
                    <a:lnTo>
                      <a:pt x="36" y="111"/>
                    </a:ln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17040" y="4538520"/>
                <a:ext cx="561240" cy="107640"/>
              </a:xfrm>
              <a:custGeom>
                <a:avLst/>
                <a:gdLst/>
                <a:ahLst/>
                <a:rect l="l" t="t" r="r" b="b"/>
                <a:pathLst>
                  <a:path w="369" h="133">
                    <a:moveTo>
                      <a:pt x="213" y="3"/>
                    </a:moveTo>
                    <a:cubicBezTo>
                      <a:pt x="192" y="17"/>
                      <a:pt x="174" y="19"/>
                      <a:pt x="150" y="24"/>
                    </a:cubicBezTo>
                    <a:cubicBezTo>
                      <a:pt x="118" y="30"/>
                      <a:pt x="88" y="40"/>
                      <a:pt x="57" y="48"/>
                    </a:cubicBezTo>
                    <a:cubicBezTo>
                      <a:pt x="47" y="55"/>
                      <a:pt x="43" y="62"/>
                      <a:pt x="33" y="69"/>
                    </a:cubicBezTo>
                    <a:cubicBezTo>
                      <a:pt x="0" y="119"/>
                      <a:pt x="81" y="127"/>
                      <a:pt x="108" y="132"/>
                    </a:cubicBezTo>
                    <a:cubicBezTo>
                      <a:pt x="129" y="131"/>
                      <a:pt x="150" y="133"/>
                      <a:pt x="171" y="129"/>
                    </a:cubicBezTo>
                    <a:cubicBezTo>
                      <a:pt x="191" y="125"/>
                      <a:pt x="183" y="116"/>
                      <a:pt x="198" y="111"/>
                    </a:cubicBezTo>
                    <a:cubicBezTo>
                      <a:pt x="204" y="109"/>
                      <a:pt x="216" y="105"/>
                      <a:pt x="216" y="105"/>
                    </a:cubicBezTo>
                    <a:cubicBezTo>
                      <a:pt x="252" y="69"/>
                      <a:pt x="305" y="55"/>
                      <a:pt x="354" y="51"/>
                    </a:cubicBezTo>
                    <a:cubicBezTo>
                      <a:pt x="361" y="44"/>
                      <a:pt x="369" y="24"/>
                      <a:pt x="369" y="24"/>
                    </a:cubicBezTo>
                    <a:cubicBezTo>
                      <a:pt x="363" y="0"/>
                      <a:pt x="320" y="8"/>
                      <a:pt x="300" y="6"/>
                    </a:cubicBezTo>
                    <a:cubicBezTo>
                      <a:pt x="272" y="7"/>
                      <a:pt x="244" y="7"/>
                      <a:pt x="216" y="9"/>
                    </a:cubicBezTo>
                    <a:cubicBezTo>
                      <a:pt x="213" y="9"/>
                      <a:pt x="208" y="15"/>
                      <a:pt x="207" y="12"/>
                    </a:cubicBezTo>
                    <a:cubicBezTo>
                      <a:pt x="205" y="9"/>
                      <a:pt x="211" y="6"/>
                      <a:pt x="213" y="3"/>
                    </a:cubicBez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315520" y="4545720"/>
                <a:ext cx="603720" cy="95760"/>
              </a:xfrm>
              <a:custGeom>
                <a:avLst/>
                <a:gdLst/>
                <a:ahLst/>
                <a:rect l="l" t="t" r="r" b="b"/>
                <a:pathLst>
                  <a:path w="397" h="118">
                    <a:moveTo>
                      <a:pt x="132" y="99"/>
                    </a:moveTo>
                    <a:cubicBezTo>
                      <a:pt x="189" y="105"/>
                      <a:pt x="238" y="115"/>
                      <a:pt x="297" y="117"/>
                    </a:cubicBezTo>
                    <a:cubicBezTo>
                      <a:pt x="333" y="115"/>
                      <a:pt x="349" y="118"/>
                      <a:pt x="378" y="108"/>
                    </a:cubicBezTo>
                    <a:cubicBezTo>
                      <a:pt x="384" y="102"/>
                      <a:pt x="397" y="98"/>
                      <a:pt x="396" y="90"/>
                    </a:cubicBezTo>
                    <a:cubicBezTo>
                      <a:pt x="395" y="81"/>
                      <a:pt x="397" y="71"/>
                      <a:pt x="393" y="63"/>
                    </a:cubicBezTo>
                    <a:cubicBezTo>
                      <a:pt x="390" y="57"/>
                      <a:pt x="381" y="55"/>
                      <a:pt x="375" y="51"/>
                    </a:cubicBezTo>
                    <a:cubicBezTo>
                      <a:pt x="348" y="33"/>
                      <a:pt x="308" y="28"/>
                      <a:pt x="276" y="24"/>
                    </a:cubicBezTo>
                    <a:cubicBezTo>
                      <a:pt x="245" y="14"/>
                      <a:pt x="201" y="5"/>
                      <a:pt x="168" y="0"/>
                    </a:cubicBezTo>
                    <a:cubicBezTo>
                      <a:pt x="121" y="2"/>
                      <a:pt x="81" y="4"/>
                      <a:pt x="36" y="15"/>
                    </a:cubicBezTo>
                    <a:cubicBezTo>
                      <a:pt x="28" y="38"/>
                      <a:pt x="14" y="64"/>
                      <a:pt x="0" y="84"/>
                    </a:cubicBezTo>
                    <a:cubicBezTo>
                      <a:pt x="28" y="98"/>
                      <a:pt x="59" y="97"/>
                      <a:pt x="90" y="102"/>
                    </a:cubicBezTo>
                    <a:cubicBezTo>
                      <a:pt x="97" y="81"/>
                      <a:pt x="116" y="95"/>
                      <a:pt x="132" y="99"/>
                    </a:cubicBezTo>
                    <a:cubicBezTo>
                      <a:pt x="137" y="100"/>
                      <a:pt x="147" y="102"/>
                      <a:pt x="147" y="102"/>
                    </a:cubicBezTo>
                    <a:cubicBezTo>
                      <a:pt x="147" y="102"/>
                      <a:pt x="137" y="100"/>
                      <a:pt x="132" y="99"/>
                    </a:cubicBez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91040" y="4114800"/>
                <a:ext cx="352800" cy="457560"/>
              </a:xfrm>
              <a:custGeom>
                <a:avLst/>
                <a:gdLst/>
                <a:ahLst/>
                <a:rect l="l" t="t" r="r" b="b"/>
                <a:pathLst>
                  <a:path w="232" h="564">
                    <a:moveTo>
                      <a:pt x="49" y="540"/>
                    </a:moveTo>
                    <a:cubicBezTo>
                      <a:pt x="44" y="541"/>
                      <a:pt x="20" y="548"/>
                      <a:pt x="16" y="540"/>
                    </a:cubicBezTo>
                    <a:cubicBezTo>
                      <a:pt x="12" y="533"/>
                      <a:pt x="34" y="500"/>
                      <a:pt x="37" y="495"/>
                    </a:cubicBezTo>
                    <a:cubicBezTo>
                      <a:pt x="43" y="464"/>
                      <a:pt x="34" y="428"/>
                      <a:pt x="31" y="396"/>
                    </a:cubicBezTo>
                    <a:cubicBezTo>
                      <a:pt x="34" y="348"/>
                      <a:pt x="35" y="300"/>
                      <a:pt x="25" y="252"/>
                    </a:cubicBezTo>
                    <a:cubicBezTo>
                      <a:pt x="24" y="224"/>
                      <a:pt x="0" y="49"/>
                      <a:pt x="37" y="24"/>
                    </a:cubicBezTo>
                    <a:cubicBezTo>
                      <a:pt x="53" y="0"/>
                      <a:pt x="76" y="13"/>
                      <a:pt x="106" y="15"/>
                    </a:cubicBezTo>
                    <a:cubicBezTo>
                      <a:pt x="129" y="21"/>
                      <a:pt x="146" y="28"/>
                      <a:pt x="163" y="45"/>
                    </a:cubicBezTo>
                    <a:cubicBezTo>
                      <a:pt x="170" y="66"/>
                      <a:pt x="160" y="41"/>
                      <a:pt x="175" y="63"/>
                    </a:cubicBezTo>
                    <a:cubicBezTo>
                      <a:pt x="182" y="74"/>
                      <a:pt x="187" y="89"/>
                      <a:pt x="190" y="102"/>
                    </a:cubicBezTo>
                    <a:cubicBezTo>
                      <a:pt x="188" y="126"/>
                      <a:pt x="184" y="150"/>
                      <a:pt x="181" y="174"/>
                    </a:cubicBezTo>
                    <a:cubicBezTo>
                      <a:pt x="179" y="226"/>
                      <a:pt x="174" y="279"/>
                      <a:pt x="184" y="330"/>
                    </a:cubicBezTo>
                    <a:cubicBezTo>
                      <a:pt x="186" y="420"/>
                      <a:pt x="184" y="475"/>
                      <a:pt x="232" y="546"/>
                    </a:cubicBezTo>
                    <a:cubicBezTo>
                      <a:pt x="179" y="564"/>
                      <a:pt x="219" y="551"/>
                      <a:pt x="82" y="546"/>
                    </a:cubicBezTo>
                    <a:cubicBezTo>
                      <a:pt x="71" y="546"/>
                      <a:pt x="58" y="531"/>
                      <a:pt x="49" y="540"/>
                    </a:cubicBez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79160" y="3586320"/>
                <a:ext cx="145800" cy="155880"/>
              </a:xfrm>
              <a:custGeom>
                <a:avLst/>
                <a:gdLst/>
                <a:ahLst/>
                <a:rect l="l" t="t" r="r" b="b"/>
                <a:pathLst>
                  <a:path w="96" h="192">
                    <a:moveTo>
                      <a:pt x="0" y="0"/>
                    </a:moveTo>
                    <a:lnTo>
                      <a:pt x="96" y="96"/>
                    </a:lnTo>
                    <a:lnTo>
                      <a:pt x="48" y="192"/>
                    </a:ln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986840" y="3625200"/>
                <a:ext cx="291960" cy="7776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0" y="0"/>
                    </a:moveTo>
                    <a:lnTo>
                      <a:pt x="96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9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2040" bIns="32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914120" y="3586320"/>
                <a:ext cx="145800" cy="155880"/>
              </a:xfrm>
              <a:custGeom>
                <a:avLst/>
                <a:gdLst/>
                <a:ahLst/>
                <a:rect l="l" t="t" r="r" b="b"/>
                <a:pathLst>
                  <a:path w="96" h="192">
                    <a:moveTo>
                      <a:pt x="96" y="96"/>
                    </a:moveTo>
                    <a:lnTo>
                      <a:pt x="48" y="192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48" y="48"/>
                    </a:lnTo>
                    <a:lnTo>
                      <a:pt x="96" y="96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53480" y="3576600"/>
                <a:ext cx="347040" cy="165600"/>
              </a:xfrm>
              <a:custGeom>
                <a:avLst/>
                <a:gdLst/>
                <a:ahLst/>
                <a:rect l="l" t="t" r="r" b="b"/>
                <a:pathLst>
                  <a:path w="228" h="204">
                    <a:moveTo>
                      <a:pt x="228" y="63"/>
                    </a:moveTo>
                    <a:cubicBezTo>
                      <a:pt x="220" y="39"/>
                      <a:pt x="192" y="29"/>
                      <a:pt x="171" y="18"/>
                    </a:cubicBezTo>
                    <a:cubicBezTo>
                      <a:pt x="165" y="14"/>
                      <a:pt x="160" y="8"/>
                      <a:pt x="153" y="6"/>
                    </a:cubicBezTo>
                    <a:cubicBezTo>
                      <a:pt x="147" y="4"/>
                      <a:pt x="135" y="0"/>
                      <a:pt x="135" y="0"/>
                    </a:cubicBezTo>
                    <a:cubicBezTo>
                      <a:pt x="102" y="4"/>
                      <a:pt x="109" y="13"/>
                      <a:pt x="84" y="21"/>
                    </a:cubicBezTo>
                    <a:cubicBezTo>
                      <a:pt x="57" y="41"/>
                      <a:pt x="40" y="68"/>
                      <a:pt x="12" y="87"/>
                    </a:cubicBezTo>
                    <a:cubicBezTo>
                      <a:pt x="5" y="97"/>
                      <a:pt x="3" y="105"/>
                      <a:pt x="0" y="117"/>
                    </a:cubicBezTo>
                    <a:cubicBezTo>
                      <a:pt x="1" y="130"/>
                      <a:pt x="0" y="168"/>
                      <a:pt x="9" y="183"/>
                    </a:cubicBezTo>
                    <a:cubicBezTo>
                      <a:pt x="15" y="194"/>
                      <a:pt x="42" y="204"/>
                      <a:pt x="42" y="204"/>
                    </a:cubicBezTo>
                    <a:cubicBezTo>
                      <a:pt x="81" y="200"/>
                      <a:pt x="113" y="181"/>
                      <a:pt x="153" y="177"/>
                    </a:cubicBezTo>
                    <a:cubicBezTo>
                      <a:pt x="167" y="167"/>
                      <a:pt x="161" y="174"/>
                      <a:pt x="168" y="153"/>
                    </a:cubicBezTo>
                    <a:cubicBezTo>
                      <a:pt x="169" y="150"/>
                      <a:pt x="171" y="144"/>
                      <a:pt x="171" y="144"/>
                    </a:cubicBezTo>
                    <a:cubicBezTo>
                      <a:pt x="171" y="143"/>
                      <a:pt x="164" y="72"/>
                      <a:pt x="171" y="63"/>
                    </a:cubicBezTo>
                    <a:cubicBezTo>
                      <a:pt x="175" y="58"/>
                      <a:pt x="210" y="82"/>
                      <a:pt x="216" y="84"/>
                    </a:cubicBezTo>
                    <a:cubicBezTo>
                      <a:pt x="228" y="80"/>
                      <a:pt x="228" y="76"/>
                      <a:pt x="228" y="63"/>
                    </a:cubicBez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00520" y="3671280"/>
                <a:ext cx="112320" cy="372600"/>
              </a:xfrm>
              <a:custGeom>
                <a:avLst/>
                <a:gdLst/>
                <a:ahLst/>
                <a:rect l="l" t="t" r="r" b="b"/>
                <a:pathLst>
                  <a:path w="74" h="459">
                    <a:moveTo>
                      <a:pt x="39" y="0"/>
                    </a:moveTo>
                    <a:cubicBezTo>
                      <a:pt x="31" y="8"/>
                      <a:pt x="26" y="17"/>
                      <a:pt x="21" y="27"/>
                    </a:cubicBezTo>
                    <a:cubicBezTo>
                      <a:pt x="18" y="33"/>
                      <a:pt x="15" y="45"/>
                      <a:pt x="15" y="45"/>
                    </a:cubicBezTo>
                    <a:cubicBezTo>
                      <a:pt x="22" y="84"/>
                      <a:pt x="17" y="69"/>
                      <a:pt x="24" y="90"/>
                    </a:cubicBezTo>
                    <a:cubicBezTo>
                      <a:pt x="26" y="110"/>
                      <a:pt x="30" y="131"/>
                      <a:pt x="36" y="150"/>
                    </a:cubicBezTo>
                    <a:cubicBezTo>
                      <a:pt x="34" y="193"/>
                      <a:pt x="31" y="213"/>
                      <a:pt x="24" y="249"/>
                    </a:cubicBezTo>
                    <a:cubicBezTo>
                      <a:pt x="25" y="261"/>
                      <a:pt x="25" y="273"/>
                      <a:pt x="27" y="285"/>
                    </a:cubicBezTo>
                    <a:cubicBezTo>
                      <a:pt x="28" y="291"/>
                      <a:pt x="33" y="303"/>
                      <a:pt x="33" y="303"/>
                    </a:cubicBezTo>
                    <a:cubicBezTo>
                      <a:pt x="29" y="324"/>
                      <a:pt x="20" y="338"/>
                      <a:pt x="12" y="357"/>
                    </a:cubicBezTo>
                    <a:cubicBezTo>
                      <a:pt x="8" y="366"/>
                      <a:pt x="6" y="375"/>
                      <a:pt x="3" y="384"/>
                    </a:cubicBezTo>
                    <a:cubicBezTo>
                      <a:pt x="2" y="387"/>
                      <a:pt x="0" y="393"/>
                      <a:pt x="0" y="393"/>
                    </a:cubicBezTo>
                    <a:cubicBezTo>
                      <a:pt x="1" y="414"/>
                      <a:pt x="3" y="435"/>
                      <a:pt x="3" y="456"/>
                    </a:cubicBezTo>
                    <a:cubicBezTo>
                      <a:pt x="3" y="459"/>
                      <a:pt x="0" y="450"/>
                      <a:pt x="0" y="447"/>
                    </a:cubicBezTo>
                    <a:cubicBezTo>
                      <a:pt x="0" y="434"/>
                      <a:pt x="7" y="425"/>
                      <a:pt x="15" y="417"/>
                    </a:cubicBezTo>
                    <a:cubicBezTo>
                      <a:pt x="19" y="405"/>
                      <a:pt x="24" y="399"/>
                      <a:pt x="33" y="390"/>
                    </a:cubicBezTo>
                    <a:cubicBezTo>
                      <a:pt x="43" y="360"/>
                      <a:pt x="57" y="331"/>
                      <a:pt x="63" y="300"/>
                    </a:cubicBezTo>
                    <a:cubicBezTo>
                      <a:pt x="59" y="249"/>
                      <a:pt x="59" y="194"/>
                      <a:pt x="72" y="144"/>
                    </a:cubicBezTo>
                    <a:cubicBezTo>
                      <a:pt x="72" y="143"/>
                      <a:pt x="74" y="97"/>
                      <a:pt x="66" y="81"/>
                    </a:cubicBezTo>
                    <a:cubicBezTo>
                      <a:pt x="52" y="53"/>
                      <a:pt x="33" y="33"/>
                      <a:pt x="39" y="0"/>
                    </a:cubicBezTo>
                    <a:close/>
                  </a:path>
                </a:pathLst>
              </a:custGeom>
              <a:solidFill>
                <a:srgbClr val="00004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190600" y="3666600"/>
                <a:ext cx="215640" cy="415440"/>
              </a:xfrm>
              <a:custGeom>
                <a:avLst/>
                <a:gdLst/>
                <a:ahLst/>
                <a:rect l="l" t="t" r="r" b="b"/>
                <a:pathLst>
                  <a:path w="142" h="512">
                    <a:moveTo>
                      <a:pt x="52" y="0"/>
                    </a:moveTo>
                    <a:cubicBezTo>
                      <a:pt x="43" y="28"/>
                      <a:pt x="28" y="53"/>
                      <a:pt x="19" y="81"/>
                    </a:cubicBezTo>
                    <a:cubicBezTo>
                      <a:pt x="16" y="90"/>
                      <a:pt x="13" y="99"/>
                      <a:pt x="10" y="108"/>
                    </a:cubicBezTo>
                    <a:cubicBezTo>
                      <a:pt x="9" y="111"/>
                      <a:pt x="7" y="117"/>
                      <a:pt x="7" y="117"/>
                    </a:cubicBezTo>
                    <a:cubicBezTo>
                      <a:pt x="0" y="198"/>
                      <a:pt x="18" y="273"/>
                      <a:pt x="37" y="351"/>
                    </a:cubicBezTo>
                    <a:cubicBezTo>
                      <a:pt x="45" y="385"/>
                      <a:pt x="46" y="415"/>
                      <a:pt x="76" y="435"/>
                    </a:cubicBezTo>
                    <a:cubicBezTo>
                      <a:pt x="87" y="451"/>
                      <a:pt x="107" y="472"/>
                      <a:pt x="124" y="483"/>
                    </a:cubicBezTo>
                    <a:cubicBezTo>
                      <a:pt x="131" y="512"/>
                      <a:pt x="124" y="489"/>
                      <a:pt x="130" y="453"/>
                    </a:cubicBezTo>
                    <a:cubicBezTo>
                      <a:pt x="132" y="442"/>
                      <a:pt x="142" y="423"/>
                      <a:pt x="142" y="423"/>
                    </a:cubicBezTo>
                    <a:cubicBezTo>
                      <a:pt x="141" y="415"/>
                      <a:pt x="142" y="406"/>
                      <a:pt x="139" y="399"/>
                    </a:cubicBezTo>
                    <a:cubicBezTo>
                      <a:pt x="138" y="396"/>
                      <a:pt x="132" y="396"/>
                      <a:pt x="130" y="393"/>
                    </a:cubicBezTo>
                    <a:cubicBezTo>
                      <a:pt x="117" y="379"/>
                      <a:pt x="118" y="374"/>
                      <a:pt x="112" y="357"/>
                    </a:cubicBezTo>
                    <a:cubicBezTo>
                      <a:pt x="109" y="348"/>
                      <a:pt x="106" y="339"/>
                      <a:pt x="103" y="330"/>
                    </a:cubicBezTo>
                    <a:cubicBezTo>
                      <a:pt x="102" y="327"/>
                      <a:pt x="100" y="321"/>
                      <a:pt x="100" y="321"/>
                    </a:cubicBezTo>
                    <a:cubicBezTo>
                      <a:pt x="92" y="266"/>
                      <a:pt x="55" y="223"/>
                      <a:pt x="46" y="168"/>
                    </a:cubicBezTo>
                    <a:cubicBezTo>
                      <a:pt x="49" y="63"/>
                      <a:pt x="46" y="84"/>
                      <a:pt x="67" y="21"/>
                    </a:cubicBezTo>
                    <a:cubicBezTo>
                      <a:pt x="62" y="7"/>
                      <a:pt x="66" y="14"/>
                      <a:pt x="52" y="0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33000" y="3708000"/>
                <a:ext cx="49680" cy="430920"/>
              </a:xfrm>
              <a:custGeom>
                <a:avLst/>
                <a:gdLst/>
                <a:ahLst/>
                <a:rect l="l" t="t" r="r" b="b"/>
                <a:pathLst>
                  <a:path w="33" h="531">
                    <a:moveTo>
                      <a:pt x="18" y="0"/>
                    </a:moveTo>
                    <a:cubicBezTo>
                      <a:pt x="22" y="13"/>
                      <a:pt x="26" y="26"/>
                      <a:pt x="30" y="39"/>
                    </a:cubicBezTo>
                    <a:cubicBezTo>
                      <a:pt x="31" y="42"/>
                      <a:pt x="33" y="48"/>
                      <a:pt x="33" y="48"/>
                    </a:cubicBezTo>
                    <a:cubicBezTo>
                      <a:pt x="31" y="111"/>
                      <a:pt x="26" y="174"/>
                      <a:pt x="24" y="237"/>
                    </a:cubicBezTo>
                    <a:cubicBezTo>
                      <a:pt x="28" y="335"/>
                      <a:pt x="21" y="433"/>
                      <a:pt x="21" y="531"/>
                    </a:cubicBezTo>
                    <a:lnTo>
                      <a:pt x="0" y="522"/>
                    </a:ln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388600" y="3341880"/>
                <a:ext cx="105120" cy="39600"/>
              </a:xfrm>
              <a:custGeom>
                <a:avLst/>
                <a:gdLst/>
                <a:ahLst/>
                <a:rect l="l" t="t" r="r" b="b"/>
                <a:pathLst>
                  <a:path w="69" h="49">
                    <a:moveTo>
                      <a:pt x="0" y="25"/>
                    </a:moveTo>
                    <a:cubicBezTo>
                      <a:pt x="13" y="16"/>
                      <a:pt x="13" y="7"/>
                      <a:pt x="30" y="1"/>
                    </a:cubicBezTo>
                    <a:cubicBezTo>
                      <a:pt x="39" y="2"/>
                      <a:pt x="49" y="0"/>
                      <a:pt x="57" y="4"/>
                    </a:cubicBezTo>
                    <a:cubicBezTo>
                      <a:pt x="63" y="7"/>
                      <a:pt x="69" y="22"/>
                      <a:pt x="69" y="22"/>
                    </a:cubicBezTo>
                    <a:cubicBezTo>
                      <a:pt x="62" y="49"/>
                      <a:pt x="30" y="31"/>
                      <a:pt x="9" y="28"/>
                    </a:cubicBezTo>
                    <a:cubicBezTo>
                      <a:pt x="2" y="17"/>
                      <a:pt x="5" y="16"/>
                      <a:pt x="0" y="25"/>
                    </a:cubicBez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122560" y="2884680"/>
                <a:ext cx="583920" cy="311400"/>
              </a:xfrm>
              <a:prstGeom prst="triangle">
                <a:avLst>
                  <a:gd name="adj" fmla="val 50000"/>
                </a:avLst>
              </a:prstGeom>
              <a:solidFill>
                <a:srgbClr val="808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341440" y="2845800"/>
                <a:ext cx="145800" cy="777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b3b75"/>
                  </a:gs>
                  <a:gs pos="50000">
                    <a:srgbClr val="8080ff"/>
                  </a:gs>
                  <a:gs pos="100000">
                    <a:srgbClr val="3b3b75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2414160" y="2650680"/>
                <a:ext cx="0" cy="19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14160" y="2923560"/>
                <a:ext cx="218880" cy="272520"/>
              </a:xfrm>
              <a:custGeom>
                <a:avLst/>
                <a:gdLst/>
                <a:ahLst/>
                <a:rect l="l" t="t" r="r" b="b"/>
                <a:pathLst>
                  <a:path w="144" h="336">
                    <a:moveTo>
                      <a:pt x="0" y="0"/>
                    </a:moveTo>
                    <a:lnTo>
                      <a:pt x="48" y="336"/>
                    </a:lnTo>
                    <a:lnTo>
                      <a:pt x="144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14160" y="3241800"/>
                <a:ext cx="13356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0" y="40"/>
                    </a:moveTo>
                    <a:cubicBezTo>
                      <a:pt x="10" y="25"/>
                      <a:pt x="12" y="15"/>
                      <a:pt x="28" y="8"/>
                    </a:cubicBezTo>
                    <a:cubicBezTo>
                      <a:pt x="36" y="5"/>
                      <a:pt x="52" y="0"/>
                      <a:pt x="52" y="0"/>
                    </a:cubicBezTo>
                    <a:cubicBezTo>
                      <a:pt x="61" y="1"/>
                      <a:pt x="72" y="0"/>
                      <a:pt x="80" y="4"/>
                    </a:cubicBezTo>
                    <a:cubicBezTo>
                      <a:pt x="88" y="8"/>
                      <a:pt x="83" y="24"/>
                      <a:pt x="80" y="28"/>
                    </a:cubicBezTo>
                    <a:cubicBezTo>
                      <a:pt x="69" y="42"/>
                      <a:pt x="0" y="59"/>
                      <a:pt x="0" y="40"/>
                    </a:cubicBez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800" bIns="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26920" y="3354120"/>
                <a:ext cx="121680" cy="3852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80" y="14"/>
                    </a:moveTo>
                    <a:cubicBezTo>
                      <a:pt x="59" y="0"/>
                      <a:pt x="55" y="2"/>
                      <a:pt x="28" y="6"/>
                    </a:cubicBezTo>
                    <a:cubicBezTo>
                      <a:pt x="12" y="11"/>
                      <a:pt x="5" y="14"/>
                      <a:pt x="0" y="30"/>
                    </a:cubicBezTo>
                    <a:cubicBezTo>
                      <a:pt x="27" y="48"/>
                      <a:pt x="50" y="14"/>
                      <a:pt x="80" y="14"/>
                    </a:cubicBez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7200" bIns="-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20800" y="3483000"/>
                <a:ext cx="124200" cy="49320"/>
              </a:xfrm>
              <a:custGeom>
                <a:avLst/>
                <a:gdLst/>
                <a:ahLst/>
                <a:rect l="l" t="t" r="r" b="b"/>
                <a:pathLst>
                  <a:path w="82" h="61">
                    <a:moveTo>
                      <a:pt x="72" y="11"/>
                    </a:moveTo>
                    <a:cubicBezTo>
                      <a:pt x="39" y="0"/>
                      <a:pt x="17" y="17"/>
                      <a:pt x="0" y="43"/>
                    </a:cubicBezTo>
                    <a:cubicBezTo>
                      <a:pt x="5" y="58"/>
                      <a:pt x="2" y="61"/>
                      <a:pt x="24" y="51"/>
                    </a:cubicBezTo>
                    <a:cubicBezTo>
                      <a:pt x="33" y="47"/>
                      <a:pt x="48" y="35"/>
                      <a:pt x="48" y="35"/>
                    </a:cubicBezTo>
                    <a:cubicBezTo>
                      <a:pt x="61" y="15"/>
                      <a:pt x="70" y="21"/>
                      <a:pt x="80" y="11"/>
                    </a:cubicBezTo>
                    <a:cubicBezTo>
                      <a:pt x="82" y="9"/>
                      <a:pt x="75" y="11"/>
                      <a:pt x="72" y="11"/>
                    </a:cubicBez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600" bIns="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372040" y="3506760"/>
                <a:ext cx="112320" cy="4680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0" y="10"/>
                    </a:moveTo>
                    <a:cubicBezTo>
                      <a:pt x="20" y="23"/>
                      <a:pt x="24" y="51"/>
                      <a:pt x="44" y="58"/>
                    </a:cubicBezTo>
                    <a:cubicBezTo>
                      <a:pt x="74" y="48"/>
                      <a:pt x="55" y="23"/>
                      <a:pt x="36" y="14"/>
                    </a:cubicBezTo>
                    <a:cubicBezTo>
                      <a:pt x="27" y="9"/>
                      <a:pt x="20" y="0"/>
                      <a:pt x="8" y="2"/>
                    </a:cubicBezTo>
                    <a:cubicBezTo>
                      <a:pt x="4" y="3"/>
                      <a:pt x="3" y="7"/>
                      <a:pt x="0" y="10"/>
                    </a:cubicBez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263680" y="3971880"/>
              <a:ext cx="13680" cy="10015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435040" y="2916000"/>
              <a:ext cx="0" cy="1074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2485800" y="2908080"/>
            <a:ext cx="488520" cy="52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85800" y="2908080"/>
                      <a:ext cx="48852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جرم و وزن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174240" indent="-174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ضانوردی به توپ بولینگ در روی کره زمین لگد می زند و پایش درد می گیرد همین فضانورد با نیروی مساوی به همین توپ در روی کره ماه لگد می زند دراینصورت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ایش درد می گیرد: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5960" y="3503520"/>
            <a:ext cx="325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یشتر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  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کمتر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  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ه همان ا نداز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264280" y="2979720"/>
            <a:ext cx="2862000" cy="3331800"/>
            <a:chOff x="5264280" y="2979720"/>
            <a:chExt cx="2862000" cy="3331800"/>
          </a:xfrm>
        </p:grpSpPr>
        <p:graphicFrame>
          <p:nvGraphicFramePr>
            <p:cNvPr id="145" name=""/>
            <p:cNvGraphicFramePr/>
            <p:nvPr/>
          </p:nvGraphicFramePr>
          <p:xfrm>
            <a:off x="5500080" y="4548240"/>
            <a:ext cx="2325240" cy="1763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00080" y="4548240"/>
                      <a:ext cx="2325240" cy="176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"/>
            <p:cNvGraphicFramePr/>
            <p:nvPr/>
          </p:nvGraphicFramePr>
          <p:xfrm>
            <a:off x="5264280" y="2979720"/>
            <a:ext cx="2862000" cy="29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64280" y="2979720"/>
                      <a:ext cx="2862000" cy="29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5771160" y="5316480"/>
              <a:ext cx="513000" cy="43380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>
            <a:off x="5297400" y="3165480"/>
            <a:ext cx="938160" cy="471600"/>
          </a:xfrm>
          <a:prstGeom prst="wedgeEllipseCallout">
            <a:avLst>
              <a:gd name="adj1" fmla="val -56939"/>
              <a:gd name="adj2" fmla="val 18009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وخ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527800" y="4022640"/>
          <a:ext cx="2641320" cy="22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7800" y="4022640"/>
                    <a:ext cx="264132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273640" y="1971720"/>
          <a:ext cx="3251160" cy="38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73640" y="1971720"/>
                    <a:ext cx="325116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5835600" y="5019840"/>
            <a:ext cx="582840" cy="5634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695920" y="2454120"/>
            <a:ext cx="938160" cy="40356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وخ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413240" cy="12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جرم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پ در هر دو جا یکسان است لذا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مقا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قاومت توپ در مقابل لگد یکسان بوده و پای او به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همان اندازه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درد می گیرد!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55Z</dcterms:created>
  <dc:creator>Mats A. Selen</dc:creator>
  <dc:description/>
  <cp:keywords/>
  <dc:language>en-US</dc:language>
  <cp:lastModifiedBy>janubi</cp:lastModifiedBy>
  <dcterms:modified xsi:type="dcterms:W3CDTF">2006-04-15T02:20:55Z</dcterms:modified>
  <cp:revision>70</cp:revision>
  <dc:subject>Dynamics</dc:subject>
  <dc:title>Physics 106P: Lecture 6 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