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280" y="6516720"/>
            <a:ext cx="303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9560" y="603360"/>
            <a:ext cx="54936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اد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90800" y="183816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-dU/dx = -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شی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= 0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شیب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متناظر با حالت بیشینه یا کمینه انرژی پتانسی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(x)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این حالت تعادل جسم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سم را در وضعی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رار دهیم جسم حرکت نخواهد کر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70040" y="1406880"/>
            <a:ext cx="3774240" cy="4552560"/>
            <a:chOff x="770040" y="1406880"/>
            <a:chExt cx="3774240" cy="4552560"/>
          </a:xfrm>
        </p:grpSpPr>
        <p:grpSp>
          <p:nvGrpSpPr>
            <p:cNvPr id="337" name=""/>
            <p:cNvGrpSpPr/>
            <p:nvPr/>
          </p:nvGrpSpPr>
          <p:grpSpPr>
            <a:xfrm>
              <a:off x="833400" y="2329920"/>
              <a:ext cx="1689120" cy="517320"/>
              <a:chOff x="833400" y="2329920"/>
              <a:chExt cx="1689120" cy="517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979560" y="2329920"/>
                <a:ext cx="339480" cy="517320"/>
                <a:chOff x="979560" y="2329920"/>
                <a:chExt cx="339480" cy="5173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979560" y="2329920"/>
                  <a:ext cx="163440" cy="517320"/>
                  <a:chOff x="979560" y="2329920"/>
                  <a:chExt cx="163440" cy="517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V="1">
                    <a:off x="979560" y="232992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022400" y="234252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1071360" y="2582280"/>
                    <a:ext cx="71640" cy="264960"/>
                    <a:chOff x="1071360" y="2582280"/>
                    <a:chExt cx="71640" cy="2649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071360" y="2594520"/>
                      <a:ext cx="288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1112760" y="258228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1155600" y="2329920"/>
                  <a:ext cx="163440" cy="517320"/>
                  <a:chOff x="1155600" y="2329920"/>
                  <a:chExt cx="163440" cy="5173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V="1">
                    <a:off x="1155600" y="232992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198440" y="2342520"/>
                    <a:ext cx="288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1239840" y="2582280"/>
                    <a:ext cx="79200" cy="264960"/>
                    <a:chOff x="1239840" y="2582280"/>
                    <a:chExt cx="79200" cy="2649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1239840" y="259452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1289160" y="2582280"/>
                      <a:ext cx="298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1332000" y="2329920"/>
                <a:ext cx="341280" cy="517320"/>
                <a:chOff x="1332000" y="2329920"/>
                <a:chExt cx="341280" cy="517320"/>
              </a:xfrm>
            </p:grpSpPr>
            <p:grpSp>
              <p:nvGrpSpPr>
                <p:cNvPr id="352" name=""/>
                <p:cNvGrpSpPr/>
                <p:nvPr/>
              </p:nvGrpSpPr>
              <p:grpSpPr>
                <a:xfrm>
                  <a:off x="1332000" y="2329920"/>
                  <a:ext cx="163440" cy="517320"/>
                  <a:chOff x="1332000" y="2329920"/>
                  <a:chExt cx="163440" cy="5173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V="1">
                    <a:off x="1332000" y="232992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1373040" y="2342520"/>
                    <a:ext cx="302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415880" y="2582280"/>
                    <a:ext cx="79560" cy="264960"/>
                    <a:chOff x="1415880" y="2582280"/>
                    <a:chExt cx="79560" cy="2649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415880" y="2594520"/>
                      <a:ext cx="3672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V="1">
                      <a:off x="1465200" y="258228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508040" y="2329920"/>
                  <a:ext cx="165240" cy="517320"/>
                  <a:chOff x="1508040" y="2329920"/>
                  <a:chExt cx="165240" cy="517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V="1">
                    <a:off x="1508040" y="2329920"/>
                    <a:ext cx="2880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549440" y="2342520"/>
                    <a:ext cx="302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1592280" y="2582280"/>
                    <a:ext cx="81000" cy="264960"/>
                    <a:chOff x="1592280" y="2582280"/>
                    <a:chExt cx="81000" cy="26496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1592280" y="259452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V="1">
                      <a:off x="1641600" y="258228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1685880" y="2329920"/>
                <a:ext cx="338040" cy="517320"/>
                <a:chOff x="1685880" y="2329920"/>
                <a:chExt cx="338040" cy="51732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1685880" y="2329920"/>
                  <a:ext cx="163440" cy="517320"/>
                  <a:chOff x="1685880" y="2329920"/>
                  <a:chExt cx="163440" cy="5173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V="1">
                    <a:off x="1685880" y="232992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727280" y="234252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1776240" y="2582280"/>
                    <a:ext cx="73080" cy="264960"/>
                    <a:chOff x="1776240" y="2582280"/>
                    <a:chExt cx="73080" cy="2649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776240" y="2594520"/>
                      <a:ext cx="302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V="1">
                      <a:off x="1819080" y="258228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1862280" y="2329920"/>
                  <a:ext cx="161640" cy="517320"/>
                  <a:chOff x="1862280" y="2329920"/>
                  <a:chExt cx="161640" cy="5173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V="1">
                    <a:off x="1862280" y="232992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903320" y="2342520"/>
                    <a:ext cx="3672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1952640" y="2582280"/>
                    <a:ext cx="71280" cy="264960"/>
                    <a:chOff x="1952640" y="2582280"/>
                    <a:chExt cx="71280" cy="2649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1952640" y="2594520"/>
                      <a:ext cx="302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V="1">
                      <a:off x="1995480" y="2582280"/>
                      <a:ext cx="284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2036880" y="2329920"/>
                <a:ext cx="339480" cy="517320"/>
                <a:chOff x="2036880" y="2329920"/>
                <a:chExt cx="339480" cy="51732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036880" y="2329920"/>
                  <a:ext cx="163440" cy="517320"/>
                  <a:chOff x="2036880" y="2329920"/>
                  <a:chExt cx="163440" cy="5173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V="1">
                    <a:off x="2036880" y="2329920"/>
                    <a:ext cx="2988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079720" y="234252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2128680" y="2582280"/>
                    <a:ext cx="71640" cy="264960"/>
                    <a:chOff x="2128680" y="2582280"/>
                    <a:chExt cx="71640" cy="2649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2128680" y="2594520"/>
                      <a:ext cx="288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V="1">
                      <a:off x="2170080" y="258228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2212920" y="2329920"/>
                  <a:ext cx="163440" cy="517320"/>
                  <a:chOff x="2212920" y="2329920"/>
                  <a:chExt cx="163440" cy="5173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V="1">
                    <a:off x="2212920" y="232992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255760" y="2342520"/>
                    <a:ext cx="288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297160" y="2582280"/>
                    <a:ext cx="79200" cy="264960"/>
                    <a:chOff x="2297160" y="2582280"/>
                    <a:chExt cx="79200" cy="2649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97160" y="259452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V="1">
                      <a:off x="2346120" y="258228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90" name=""/>
              <p:cNvSpPr/>
              <p:nvPr/>
            </p:nvSpPr>
            <p:spPr>
              <a:xfrm flipH="1">
                <a:off x="833400" y="2588760"/>
                <a:ext cx="1461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2376360" y="2588760"/>
                <a:ext cx="1461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1233720" y="1406880"/>
              <a:ext cx="2413800" cy="3935880"/>
              <a:chOff x="1233720" y="1406880"/>
              <a:chExt cx="2413800" cy="3935880"/>
            </a:xfrm>
          </p:grpSpPr>
          <p:sp>
            <p:nvSpPr>
              <p:cNvPr id="393" name=""/>
              <p:cNvSpPr/>
              <p:nvPr/>
            </p:nvSpPr>
            <p:spPr>
              <a:xfrm>
                <a:off x="1233720" y="1406880"/>
                <a:ext cx="2412360" cy="39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35160" y="1406880"/>
                <a:ext cx="2412360" cy="39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074600" y="535608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440080" y="3368520"/>
              <a:ext cx="0" cy="199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7200" y="53337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63000" y="51814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58600" y="350496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28920" y="2430360"/>
              <a:ext cx="461880" cy="4806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4520" y="2209680"/>
              <a:ext cx="0" cy="720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817200" y="2252520"/>
              <a:ext cx="57240" cy="653760"/>
              <a:chOff x="817200" y="2252520"/>
              <a:chExt cx="57240" cy="653760"/>
            </a:xfrm>
          </p:grpSpPr>
          <p:sp>
            <p:nvSpPr>
              <p:cNvPr id="403" name=""/>
              <p:cNvSpPr/>
              <p:nvPr/>
            </p:nvSpPr>
            <p:spPr>
              <a:xfrm>
                <a:off x="868320" y="2252520"/>
                <a:ext cx="0" cy="65376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17200" y="2285640"/>
                <a:ext cx="57240" cy="295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17200" y="237132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17200" y="245700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17200" y="254268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17200" y="2630160"/>
                <a:ext cx="57240" cy="280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17200" y="2714040"/>
                <a:ext cx="57240" cy="313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817200" y="2799720"/>
                <a:ext cx="57240" cy="31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2482920" y="2496960"/>
              <a:ext cx="48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0040" y="1781280"/>
              <a:ext cx="3644640" cy="41781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0040" y="1781280"/>
              <a:ext cx="3644640" cy="14349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63000" y="28969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6000" y="2917800"/>
              <a:ext cx="326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65200" y="5186160"/>
              <a:ext cx="139680" cy="1393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ادل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4080" y="179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ابه جایی از وضعیت تعادل سبب ایجاد نیرویی شود که بخواهد جسم ر ا به وضعیت تعادل برگرداند این نوع تعادل ر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پایدار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گویند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متناظر با حالت کمینه انرژی پتانسی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وضعبت تعادل جسم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زبان ریاضی درحال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پایدا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حنا مثبت ( مشتق دوم منحنی) مثبت است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12880" y="1462320"/>
            <a:ext cx="3774240" cy="4552560"/>
            <a:chOff x="812880" y="1462320"/>
            <a:chExt cx="3774240" cy="4552560"/>
          </a:xfrm>
        </p:grpSpPr>
        <p:grpSp>
          <p:nvGrpSpPr>
            <p:cNvPr id="422" name=""/>
            <p:cNvGrpSpPr/>
            <p:nvPr/>
          </p:nvGrpSpPr>
          <p:grpSpPr>
            <a:xfrm>
              <a:off x="875880" y="2385360"/>
              <a:ext cx="1765800" cy="517320"/>
              <a:chOff x="875880" y="2385360"/>
              <a:chExt cx="1765800" cy="5173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028520" y="2385360"/>
                <a:ext cx="355680" cy="517320"/>
                <a:chOff x="1028520" y="2385360"/>
                <a:chExt cx="355680" cy="51732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1028520" y="2385360"/>
                  <a:ext cx="171720" cy="517320"/>
                  <a:chOff x="1028520" y="2385360"/>
                  <a:chExt cx="171720" cy="5173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V="1">
                    <a:off x="1028520" y="2385360"/>
                    <a:ext cx="320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1073160" y="2397960"/>
                    <a:ext cx="396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1125360" y="2637720"/>
                    <a:ext cx="74880" cy="264960"/>
                    <a:chOff x="1125360" y="2637720"/>
                    <a:chExt cx="74880" cy="2649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1125360" y="2649960"/>
                      <a:ext cx="302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V="1">
                      <a:off x="1168200" y="2637720"/>
                      <a:ext cx="320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1212840" y="2385360"/>
                  <a:ext cx="171360" cy="517320"/>
                  <a:chOff x="1212840" y="2385360"/>
                  <a:chExt cx="171360" cy="5173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V="1">
                    <a:off x="1212840" y="2385360"/>
                    <a:ext cx="3168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257120" y="2397960"/>
                    <a:ext cx="302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1299960" y="2637720"/>
                    <a:ext cx="84240" cy="264960"/>
                    <a:chOff x="1299960" y="2637720"/>
                    <a:chExt cx="84240" cy="2649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1299960" y="2649960"/>
                      <a:ext cx="399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V="1">
                      <a:off x="1352520" y="263772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1396800" y="2385360"/>
                <a:ext cx="357480" cy="517320"/>
                <a:chOff x="1396800" y="2385360"/>
                <a:chExt cx="357480" cy="51732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1396800" y="2385360"/>
                  <a:ext cx="171720" cy="517320"/>
                  <a:chOff x="1396800" y="2385360"/>
                  <a:chExt cx="171720" cy="5173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>
                    <a:off x="1396800" y="238536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1439640" y="2397960"/>
                    <a:ext cx="320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1484280" y="2637720"/>
                    <a:ext cx="84240" cy="264960"/>
                    <a:chOff x="1484280" y="2637720"/>
                    <a:chExt cx="84240" cy="26496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1484280" y="2649960"/>
                      <a:ext cx="396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V="1">
                      <a:off x="1536480" y="2637720"/>
                      <a:ext cx="320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1581120" y="2385360"/>
                  <a:ext cx="173160" cy="517320"/>
                  <a:chOff x="1581120" y="2385360"/>
                  <a:chExt cx="173160" cy="5173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V="1">
                    <a:off x="1581120" y="238536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623960" y="2397960"/>
                    <a:ext cx="3168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1668240" y="2637720"/>
                    <a:ext cx="86040" cy="264960"/>
                    <a:chOff x="1668240" y="2637720"/>
                    <a:chExt cx="86040" cy="26496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1668240" y="2649960"/>
                      <a:ext cx="399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V="1">
                      <a:off x="1720800" y="2637720"/>
                      <a:ext cx="334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1766880" y="2385360"/>
                <a:ext cx="353880" cy="517320"/>
                <a:chOff x="1766880" y="2385360"/>
                <a:chExt cx="353880" cy="51732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1766880" y="2385360"/>
                  <a:ext cx="171360" cy="517320"/>
                  <a:chOff x="1766880" y="2385360"/>
                  <a:chExt cx="171360" cy="5173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V="1">
                    <a:off x="1766880" y="238536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809720" y="2397960"/>
                    <a:ext cx="396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1861920" y="2637720"/>
                    <a:ext cx="76320" cy="264960"/>
                    <a:chOff x="1861920" y="2637720"/>
                    <a:chExt cx="76320" cy="2649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1861920" y="2649960"/>
                      <a:ext cx="320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V="1">
                      <a:off x="1906560" y="263772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1950840" y="2385360"/>
                  <a:ext cx="169920" cy="517320"/>
                  <a:chOff x="1950840" y="2385360"/>
                  <a:chExt cx="169920" cy="51732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V="1">
                    <a:off x="1950840" y="238536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993680" y="2397960"/>
                    <a:ext cx="399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2046240" y="2637720"/>
                    <a:ext cx="74520" cy="264960"/>
                    <a:chOff x="2046240" y="2637720"/>
                    <a:chExt cx="74520" cy="26496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2046240" y="2649960"/>
                      <a:ext cx="3168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090520" y="263772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2133720" y="2385360"/>
                <a:ext cx="355320" cy="517320"/>
                <a:chOff x="2133720" y="2385360"/>
                <a:chExt cx="355320" cy="51732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2133720" y="2385360"/>
                  <a:ext cx="171360" cy="517320"/>
                  <a:chOff x="2133720" y="2385360"/>
                  <a:chExt cx="171360" cy="5173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V="1">
                    <a:off x="2133720" y="2385360"/>
                    <a:ext cx="3168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78000" y="2397960"/>
                    <a:ext cx="396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230560" y="2637720"/>
                    <a:ext cx="74520" cy="264960"/>
                    <a:chOff x="2230560" y="2637720"/>
                    <a:chExt cx="74520" cy="26496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2230560" y="2649960"/>
                      <a:ext cx="2988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273400" y="263772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2317680" y="2385360"/>
                  <a:ext cx="171360" cy="517320"/>
                  <a:chOff x="2317680" y="2385360"/>
                  <a:chExt cx="171360" cy="5173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2317680" y="2385360"/>
                    <a:ext cx="3168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362320" y="2397960"/>
                    <a:ext cx="2988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405160" y="2637720"/>
                    <a:ext cx="83880" cy="264960"/>
                    <a:chOff x="2405160" y="2637720"/>
                    <a:chExt cx="83880" cy="2649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2405160" y="2649960"/>
                      <a:ext cx="396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457360" y="263772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75" name=""/>
              <p:cNvSpPr/>
              <p:nvPr/>
            </p:nvSpPr>
            <p:spPr>
              <a:xfrm flipH="1">
                <a:off x="875880" y="2644200"/>
                <a:ext cx="1522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489040" y="2644200"/>
                <a:ext cx="1526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276560" y="1462320"/>
              <a:ext cx="2413800" cy="3935880"/>
              <a:chOff x="1276560" y="1462320"/>
              <a:chExt cx="2413800" cy="393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276560" y="1462320"/>
                <a:ext cx="2412360" cy="39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78000" y="1462320"/>
                <a:ext cx="2412360" cy="39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1117440" y="541152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482920" y="3423960"/>
              <a:ext cx="0" cy="199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30040" y="53892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05840" y="52369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01440" y="35604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860040" y="2307960"/>
              <a:ext cx="57240" cy="653760"/>
              <a:chOff x="860040" y="2307960"/>
              <a:chExt cx="57240" cy="653760"/>
            </a:xfrm>
          </p:grpSpPr>
          <p:sp>
            <p:nvSpPr>
              <p:cNvPr id="486" name=""/>
              <p:cNvSpPr/>
              <p:nvPr/>
            </p:nvSpPr>
            <p:spPr>
              <a:xfrm>
                <a:off x="911160" y="2307960"/>
                <a:ext cx="0" cy="65376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860040" y="2341080"/>
                <a:ext cx="57240" cy="295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860040" y="242676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860040" y="251244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860040" y="259812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860040" y="2685600"/>
                <a:ext cx="57240" cy="280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860040" y="2769480"/>
                <a:ext cx="57240" cy="313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860040" y="2855160"/>
                <a:ext cx="57240" cy="31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624040" y="2485800"/>
              <a:ext cx="461880" cy="4806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35200" y="2217600"/>
              <a:ext cx="0" cy="28062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8040" y="2552400"/>
              <a:ext cx="48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2880" y="1836720"/>
              <a:ext cx="3644640" cy="41781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2880" y="1836720"/>
              <a:ext cx="3644640" cy="14349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05840" y="2952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8840" y="2987280"/>
              <a:ext cx="326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0580000">
              <a:off x="2592360" y="5203080"/>
              <a:ext cx="139680" cy="1393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11280" y="19620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323800" y="2058840"/>
              <a:ext cx="3934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400120" y="5036760"/>
              <a:ext cx="470160" cy="139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7600" y="47034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ادل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842000" y="2146320"/>
            <a:ext cx="3581280" cy="40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تابع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U(x)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چنین باشد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ین دو وضعیت تعادل دارد یکی پایدار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نحنای )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ویکی ناپایدار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نحنای -) است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جسم کوچکی را در نظر بگیردید که روی سطح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U(x)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1600"/>
            </a:b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می لغز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گر بعد از تکان کوچکی به آن بخواهد به لغزش خود ادامه بدهد دراینصورت تعادل آن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00ff00"/>
                </a:solidFill>
                <a:latin typeface="Arial"/>
                <a:cs typeface="Arial"/>
              </a:rPr>
              <a:t>ناپایدار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گر بعداز یک ضربه آرام بخواهد به وضعیت تعادل بگردد می گوییم که تعادش </a:t>
            </a:r>
            <a:r>
              <a:rPr b="1" lang="fa-IR" sz="1600" spc="-1" strike="noStrike">
                <a:solidFill>
                  <a:srgbClr val="00ff00"/>
                </a:solidFill>
                <a:latin typeface="Arial"/>
                <a:cs typeface="Arial"/>
              </a:rPr>
              <a:t>پایدار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6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اگر انحنا صفر باشد (سطح تخت ) در اینصورت تعادل خنثی خواهد بود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2571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34720" y="2220480"/>
            <a:ext cx="5007960" cy="2621880"/>
            <a:chOff x="234720" y="2220480"/>
            <a:chExt cx="5007960" cy="2621880"/>
          </a:xfrm>
        </p:grpSpPr>
        <p:sp>
          <p:nvSpPr>
            <p:cNvPr id="511" name=""/>
            <p:cNvSpPr/>
            <p:nvPr/>
          </p:nvSpPr>
          <p:spPr>
            <a:xfrm>
              <a:off x="914400" y="236700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4720" y="22636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01320" y="2830320"/>
              <a:ext cx="107964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64880" y="2220480"/>
              <a:ext cx="138816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132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215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8120" y="2614320"/>
              <a:ext cx="138420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739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73948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79760" y="3471840"/>
              <a:ext cx="507960" cy="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069360" y="2601000"/>
              <a:ext cx="1846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18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18165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78080" y="3732120"/>
              <a:ext cx="8254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63880" y="2817720"/>
              <a:ext cx="8254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94080" y="3477960"/>
              <a:ext cx="714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70280" y="37861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557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4400" y="236700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4720" y="22636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01320" y="2830320"/>
              <a:ext cx="107964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70280" y="37861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069360" y="2601000"/>
              <a:ext cx="1846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18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18165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57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14400" y="236700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4720" y="22636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01320" y="2830320"/>
              <a:ext cx="107964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70280" y="37861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01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78120" y="2614320"/>
              <a:ext cx="138420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739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73948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069360" y="2601000"/>
              <a:ext cx="1846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18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18165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01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78120" y="2614320"/>
              <a:ext cx="138420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739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73948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69360" y="2601000"/>
              <a:ext cx="1846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18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18165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701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7720" y="43052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2280" y="44798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47720" y="43052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2280" y="44798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14400" y="236700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47720" y="43052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2280" y="44798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64880" y="2220480"/>
              <a:ext cx="138816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0280" y="37861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14400" y="236700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7360" y="44924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47720" y="43052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2280" y="44798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01320" y="2845080"/>
              <a:ext cx="1079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64880" y="2235240"/>
              <a:ext cx="1388160" cy="14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70280" y="3800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4400" y="238104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7360" y="45068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01320" y="2845080"/>
              <a:ext cx="1079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64880" y="2235240"/>
              <a:ext cx="1388160" cy="14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70280" y="3800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4400" y="238104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7360" y="45068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01320" y="2845080"/>
              <a:ext cx="1079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64880" y="2235240"/>
              <a:ext cx="1388160" cy="14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70280" y="3800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14400" y="238104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7360" y="45068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01320" y="2845080"/>
              <a:ext cx="1079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64880" y="2235240"/>
              <a:ext cx="1388160" cy="14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70280" y="3800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14400" y="238104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7360" y="45068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069360" y="2601000"/>
              <a:ext cx="184608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818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818165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70120" y="2415960"/>
              <a:ext cx="171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un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5040" y="3038400"/>
              <a:ext cx="153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neut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35960" y="2836800"/>
              <a:ext cx="5857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24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24016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95360" y="2832120"/>
              <a:ext cx="47916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2845080"/>
              <a:ext cx="107964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64880" y="2235240"/>
              <a:ext cx="1388160" cy="14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197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197849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70280" y="3800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4400" y="2381040"/>
              <a:ext cx="0" cy="242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7360" y="4506840"/>
              <a:ext cx="87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47720" y="43196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2280" y="4494240"/>
              <a:ext cx="3949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چند ذره ا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کنون رفتارسیستم های بسیار ساده (متشکل از یک یا دو ذره ) را بررسی کرد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سیستم های حقیقی بسیار جالب تر  هست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ا یک دیسک چرخنده را در نظر بگیر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جسم گسترده صلب را می توان فرض کرد که از چند قسمت تشکیل شده است دراین صورت حرکت هرقسمت بستگی به این دارد که کجا قرار گرفته است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616120" y="3322800"/>
            <a:ext cx="3568680" cy="1547640"/>
            <a:chOff x="2616120" y="3322800"/>
            <a:chExt cx="3568680" cy="1547640"/>
          </a:xfrm>
        </p:grpSpPr>
        <p:sp>
          <p:nvSpPr>
            <p:cNvPr id="629" name=""/>
            <p:cNvSpPr/>
            <p:nvPr/>
          </p:nvSpPr>
          <p:spPr>
            <a:xfrm>
              <a:off x="2616120" y="3751200"/>
              <a:ext cx="3568680" cy="7430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16120" y="3643200"/>
              <a:ext cx="3568680" cy="743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92640" y="3483000"/>
              <a:ext cx="139680" cy="47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92640" y="4506840"/>
              <a:ext cx="139680" cy="363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5480" y="3322800"/>
              <a:ext cx="59652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9"/>
                  </a:moveTo>
                  <a:arcTo wR="10800" hR="10800" stAng="-10764742" swAng="5346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9"/>
                  </a:moveTo>
                  <a:arcTo wR="10800" hR="10800" stAng="-10764742" swAng="534655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4040" y="3322800"/>
              <a:ext cx="59652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4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474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416560" y="4081320"/>
              <a:ext cx="635040" cy="4064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730400" y="4027320"/>
              <a:ext cx="330120" cy="19080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81760" y="3989520"/>
              <a:ext cx="139680" cy="950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10120" y="3932280"/>
              <a:ext cx="139680" cy="8892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چند ذره ای : تعریف مرکز جر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”وضعیت ” یک جسم متشکل از چند قسمت را چگونه توصیف کنیم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رکز جرم را تعریف کنید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(وضعیت میانگین 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ذره مشابه و جدا ازهم که جرم و موقعیت آنها را می دان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889280" y="3467160"/>
                <a:ext cx="15732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4" name=""/>
          <p:cNvGrpSpPr/>
          <p:nvPr/>
        </p:nvGrpSpPr>
        <p:grpSpPr>
          <a:xfrm>
            <a:off x="3965040" y="2971800"/>
            <a:ext cx="3864960" cy="2682360"/>
            <a:chOff x="3965040" y="2971800"/>
            <a:chExt cx="3864960" cy="2682360"/>
          </a:xfrm>
        </p:grpSpPr>
        <p:sp>
          <p:nvSpPr>
            <p:cNvPr id="645" name=""/>
            <p:cNvSpPr/>
            <p:nvPr/>
          </p:nvSpPr>
          <p:spPr>
            <a:xfrm>
              <a:off x="4494240" y="350028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87920" y="309384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840" y="410976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0200" y="464328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78480" y="4109760"/>
              <a:ext cx="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84600" y="456084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3320" y="4025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06480" y="455904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4557240" y="3563280"/>
              <a:ext cx="927000" cy="1003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633560" y="4566960"/>
              <a:ext cx="850680" cy="139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484600" y="3179520"/>
              <a:ext cx="1051200" cy="1387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484600" y="4173120"/>
              <a:ext cx="158760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91840" y="370044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15880" y="32432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1880" y="42336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86240" y="3514680"/>
              <a:ext cx="371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78280" y="4690800"/>
              <a:ext cx="371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65040" y="46148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295320" y="29718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2760" y="40050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8360" y="3805200"/>
              <a:ext cx="1167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c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5491080" y="4124160"/>
              <a:ext cx="111240" cy="44928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66640" y="5290920"/>
              <a:ext cx="298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دراین حالت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 = 4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چند ذره ای : تعریف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سیستم فقط از دو ذره تشکیل شده باشددراین صور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782640" y="2254320"/>
                <a:ext cx="3157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3" name=""/>
          <p:cNvGrpSpPr/>
          <p:nvPr/>
        </p:nvGrpSpPr>
        <p:grpSpPr>
          <a:xfrm>
            <a:off x="4695120" y="2263680"/>
            <a:ext cx="3714480" cy="2337480"/>
            <a:chOff x="4695120" y="2263680"/>
            <a:chExt cx="3714480" cy="2337480"/>
          </a:xfrm>
        </p:grpSpPr>
        <p:sp>
          <p:nvSpPr>
            <p:cNvPr id="674" name=""/>
            <p:cNvSpPr/>
            <p:nvPr/>
          </p:nvSpPr>
          <p:spPr>
            <a:xfrm>
              <a:off x="7664400" y="252108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02080" y="274968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29120" y="3816360"/>
              <a:ext cx="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35600" y="426708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23960" y="373212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57480" y="426564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5365440" y="2812680"/>
              <a:ext cx="469800" cy="1460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835600" y="2584440"/>
              <a:ext cx="1892160" cy="1689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5160" y="30258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23720" y="317808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95120" y="27972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62360" y="25686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9440" y="2867040"/>
              <a:ext cx="1167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c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842080" y="2730600"/>
              <a:ext cx="660240" cy="15494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378400" y="2584440"/>
              <a:ext cx="2349360" cy="2412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92320" y="2263680"/>
              <a:ext cx="131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c0000"/>
                  </a:solidFill>
                  <a:latin typeface="Arial"/>
                </a:rPr>
                <a:t>2 </a:t>
              </a: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-</a:t>
              </a: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 r</a:t>
              </a:r>
              <a:r>
                <a:rPr b="0" lang="en-US" sz="2000" spc="-1" strike="noStrike" baseline="-25000">
                  <a:solidFill>
                    <a:srgbClr val="f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144440" y="3825720"/>
                <a:ext cx="29433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4897440" y="4938840"/>
                <a:ext cx="2448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4471200" y="5703840"/>
            <a:ext cx="2602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که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85320" y="4235400"/>
            <a:ext cx="180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چند ذره ای : تعریف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سیستم فقط از دو ذره تشکیل شده باش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931160" y="4349880"/>
            <a:ext cx="13968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68840" y="4578480"/>
            <a:ext cx="13968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5645160"/>
            <a:ext cx="0" cy="4446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02360" y="6095880"/>
            <a:ext cx="4446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90720" y="55609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24240" y="609444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632200" y="4641480"/>
            <a:ext cx="469800" cy="1460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102360" y="4413240"/>
            <a:ext cx="1892160" cy="16891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171920" y="485460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90480" y="500688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61880" y="46260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629120" y="43974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06200" y="4695840"/>
            <a:ext cx="116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c00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108840" y="4559400"/>
            <a:ext cx="660240" cy="1549440"/>
          </a:xfrm>
          <a:prstGeom prst="line">
            <a:avLst/>
          </a:prstGeom>
          <a:ln w="2556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645160" y="4413240"/>
            <a:ext cx="2349360" cy="241200"/>
          </a:xfrm>
          <a:prstGeom prst="line">
            <a:avLst/>
          </a:prstGeom>
          <a:ln w="1260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959080" y="4092480"/>
            <a:ext cx="1312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c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r</a:t>
            </a:r>
            <a:r>
              <a:rPr b="0" lang="en-US" sz="2000" spc="-1" strike="noStrike" baseline="-25000">
                <a:solidFill>
                  <a:srgbClr val="f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24120" y="2984400"/>
            <a:ext cx="247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313680" y="4302000"/>
            <a:ext cx="960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320840" y="2260440"/>
                <a:ext cx="2448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227160" y="3578400"/>
            <a:ext cx="5943960" cy="1753560"/>
            <a:chOff x="227160" y="3578400"/>
            <a:chExt cx="5943960" cy="1753560"/>
          </a:xfrm>
        </p:grpSpPr>
        <p:sp>
          <p:nvSpPr>
            <p:cNvPr id="718" name=""/>
            <p:cNvSpPr/>
            <p:nvPr/>
          </p:nvSpPr>
          <p:spPr>
            <a:xfrm>
              <a:off x="768600" y="3578400"/>
              <a:ext cx="222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اگ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7160" y="4968720"/>
              <a:ext cx="594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رکز جرم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سط بین دوجسم قرار دا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"/>
                <p:cNvSpPr txBox="1"/>
                <p:nvPr/>
              </p:nvSpPr>
              <p:spPr>
                <a:xfrm>
                  <a:off x="1316160" y="4165560"/>
                  <a:ext cx="22366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چند ذره ای : تعریف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سیستم فقط از دو ذره تشکیل شده باش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024240" y="609444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172040" y="3379680"/>
            <a:ext cx="24080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204120" y="2124000"/>
            <a:ext cx="3790440" cy="2016000"/>
            <a:chOff x="204120" y="2124000"/>
            <a:chExt cx="3790440" cy="2016000"/>
          </a:xfrm>
        </p:grpSpPr>
        <p:sp>
          <p:nvSpPr>
            <p:cNvPr id="728" name=""/>
            <p:cNvSpPr/>
            <p:nvPr/>
          </p:nvSpPr>
          <p:spPr>
            <a:xfrm>
              <a:off x="3249360" y="238140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1360" y="2524320"/>
              <a:ext cx="311040" cy="311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14080" y="3676680"/>
              <a:ext cx="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20560" y="412740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8920" y="359244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950400" y="2673000"/>
              <a:ext cx="469800" cy="1460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1420560" y="2444760"/>
              <a:ext cx="1892160" cy="1689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90120" y="288612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8680" y="303840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4120" y="27338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47320" y="24289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67200" y="2879640"/>
              <a:ext cx="1167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c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1427040" y="2619000"/>
              <a:ext cx="98280" cy="152100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076040" y="2444760"/>
              <a:ext cx="2349360" cy="24120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77280" y="2124000"/>
              <a:ext cx="131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c0000"/>
                  </a:solidFill>
                  <a:latin typeface="Arial"/>
                </a:rPr>
                <a:t>2 </a:t>
              </a: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-</a:t>
              </a: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 r</a:t>
              </a:r>
              <a:r>
                <a:rPr b="0" lang="en-US" sz="2000" spc="-1" strike="noStrike" baseline="-25000">
                  <a:solidFill>
                    <a:srgbClr val="f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66680" y="2422440"/>
              <a:ext cx="960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079880" y="3887640"/>
            <a:ext cx="2863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3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ش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8720" y="5432400"/>
            <a:ext cx="620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رم سنگین نزدیک تر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246560" y="2668680"/>
                <a:ext cx="2448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313080" y="4419720"/>
                <a:ext cx="22366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924200"/>
            <a:ext cx="73533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جایی است که در آ ن سیستم درتعادل است 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2600" indent="-102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شکل زیر به مرکز جرم توجه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115640" y="3990960"/>
            <a:ext cx="7408080" cy="1668600"/>
            <a:chOff x="1115640" y="3990960"/>
            <a:chExt cx="7408080" cy="1668600"/>
          </a:xfrm>
        </p:grpSpPr>
        <p:grpSp>
          <p:nvGrpSpPr>
            <p:cNvPr id="753" name=""/>
            <p:cNvGrpSpPr/>
            <p:nvPr/>
          </p:nvGrpSpPr>
          <p:grpSpPr>
            <a:xfrm>
              <a:off x="4657320" y="3990960"/>
              <a:ext cx="3866400" cy="1630440"/>
              <a:chOff x="4657320" y="3990960"/>
              <a:chExt cx="3866400" cy="1630440"/>
            </a:xfrm>
          </p:grpSpPr>
          <p:sp>
            <p:nvSpPr>
              <p:cNvPr id="754" name=""/>
              <p:cNvSpPr/>
              <p:nvPr/>
            </p:nvSpPr>
            <p:spPr>
              <a:xfrm>
                <a:off x="5254560" y="4035600"/>
                <a:ext cx="311040" cy="3110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657320" y="4245120"/>
                <a:ext cx="10472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7476480" y="4121280"/>
                <a:ext cx="1047240" cy="448200"/>
                <a:chOff x="7476480" y="4121280"/>
                <a:chExt cx="1047240" cy="448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78880" y="4121280"/>
                  <a:ext cx="139680" cy="139680"/>
                </a:xfrm>
                <a:prstGeom prst="ellipse">
                  <a:avLst/>
                </a:prstGeom>
                <a:solidFill>
                  <a:srgbClr val="00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476480" y="4168800"/>
                  <a:ext cx="10472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00"/>
                      </a:solidFill>
                      <a:latin typeface="Arial"/>
                    </a:rPr>
                    <a:t>m</a:t>
                  </a:r>
                  <a:r>
                    <a:rPr b="0" lang="en-US" sz="2000" spc="-1" strike="noStrike" baseline="-25000">
                      <a:solidFill>
                        <a:srgbClr val="00ff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16560" y="4191120"/>
                <a:ext cx="2425680" cy="0"/>
              </a:xfrm>
              <a:prstGeom prst="line">
                <a:avLst/>
              </a:prstGeom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519880" y="3990960"/>
                <a:ext cx="9604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ff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761" name=""/>
              <p:cNvGraphicFramePr/>
              <p:nvPr/>
            </p:nvGraphicFramePr>
            <p:xfrm>
              <a:off x="5877000" y="4210200"/>
              <a:ext cx="685800" cy="1411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877000" y="4210200"/>
                        <a:ext cx="685800" cy="141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63" name=""/>
            <p:cNvGrpSpPr/>
            <p:nvPr/>
          </p:nvGrpSpPr>
          <p:grpSpPr>
            <a:xfrm>
              <a:off x="1115640" y="4029120"/>
              <a:ext cx="3866400" cy="654480"/>
              <a:chOff x="1115640" y="4029120"/>
              <a:chExt cx="3866400" cy="654480"/>
            </a:xfrm>
          </p:grpSpPr>
          <p:sp>
            <p:nvSpPr>
              <p:cNvPr id="764" name=""/>
              <p:cNvSpPr/>
              <p:nvPr/>
            </p:nvSpPr>
            <p:spPr>
              <a:xfrm>
                <a:off x="1758960" y="412128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15640" y="4282920"/>
                <a:ext cx="10472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97240" y="412128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34800" y="4282920"/>
                <a:ext cx="10472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873080" y="4229280"/>
                <a:ext cx="2426040" cy="0"/>
              </a:xfrm>
              <a:prstGeom prst="line">
                <a:avLst/>
              </a:prstGeom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587680" y="4029120"/>
                <a:ext cx="9604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ff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0" name=""/>
            <p:cNvGraphicFramePr/>
            <p:nvPr/>
          </p:nvGraphicFramePr>
          <p:xfrm>
            <a:off x="2943360" y="4248000"/>
            <a:ext cx="685800" cy="141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3360" y="4248000"/>
                      <a:ext cx="685800" cy="141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738360" y="1398600"/>
            <a:ext cx="7424640" cy="49496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568600" y="646200"/>
            <a:ext cx="4451400" cy="792000"/>
          </a:xfrm>
          <a:prstGeom prst="ellipse">
            <a:avLst/>
          </a:prstGeom>
          <a:solidFill>
            <a:srgbClr val="00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حرکت سر بالا ! چرا؟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لفه های مرکزجرم ر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جداگانه در نظر بگیر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295280" y="2381400"/>
                <a:ext cx="67960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049280" y="3745080"/>
            <a:ext cx="3864960" cy="2682360"/>
            <a:chOff x="4049280" y="3745080"/>
            <a:chExt cx="3864960" cy="2682360"/>
          </a:xfrm>
        </p:grpSpPr>
        <p:sp>
          <p:nvSpPr>
            <p:cNvPr id="781" name=""/>
            <p:cNvSpPr/>
            <p:nvPr/>
          </p:nvSpPr>
          <p:spPr>
            <a:xfrm>
              <a:off x="4578480" y="427356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72160" y="386712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93080" y="488304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54440" y="541656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62720" y="4883040"/>
              <a:ext cx="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68840" y="533412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57560" y="47991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90720" y="533232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4641480" y="4336560"/>
              <a:ext cx="927000" cy="1003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717800" y="5340240"/>
              <a:ext cx="850680" cy="139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568840" y="3952800"/>
              <a:ext cx="1051200" cy="1387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568840" y="4946400"/>
              <a:ext cx="158760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76080" y="447372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00120" y="40165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86120" y="5006880"/>
              <a:ext cx="93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70480" y="4287960"/>
              <a:ext cx="371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62520" y="5464080"/>
              <a:ext cx="371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49280" y="53881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9560" y="37450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67000" y="47782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42600" y="4578480"/>
              <a:ext cx="1167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c00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75320" y="4897440"/>
              <a:ext cx="111240" cy="44928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90560" y="6064200"/>
              <a:ext cx="284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دراین حالت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 = 4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مثال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زیع جرم زیر را در نظر بگیر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81040" y="4778280"/>
            <a:ext cx="141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24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19200" y="2309760"/>
                <a:ext cx="4676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560520" y="3338640"/>
                <a:ext cx="4335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5183280" y="3054240"/>
            <a:ext cx="0" cy="15541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89400" y="4614840"/>
            <a:ext cx="31863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65560" y="4503600"/>
            <a:ext cx="233640" cy="220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43200" y="4702320"/>
            <a:ext cx="127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96040" y="3344760"/>
            <a:ext cx="233280" cy="2192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50560" y="3618000"/>
            <a:ext cx="156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12,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466040" y="4503600"/>
            <a:ext cx="233280" cy="220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55760" y="4241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99720" y="323388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67160" y="42195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43560" y="4006800"/>
            <a:ext cx="13968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80640" y="5654520"/>
            <a:ext cx="2122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(12,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72080" y="4167360"/>
            <a:ext cx="793800" cy="14983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146240" y="3057480"/>
            <a:ext cx="342720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76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047600" y="2959200"/>
            <a:ext cx="342756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5247720" y="3044880"/>
            <a:ext cx="2824200" cy="745560"/>
            <a:chOff x="5247720" y="3044880"/>
            <a:chExt cx="2824200" cy="745560"/>
          </a:xfrm>
        </p:grpSpPr>
        <p:sp>
          <p:nvSpPr>
            <p:cNvPr id="829" name=""/>
            <p:cNvSpPr/>
            <p:nvPr/>
          </p:nvSpPr>
          <p:spPr>
            <a:xfrm>
              <a:off x="6308640" y="3409920"/>
              <a:ext cx="601920" cy="144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94600" y="3409920"/>
              <a:ext cx="603360" cy="144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47720" y="3244680"/>
              <a:ext cx="75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62120" y="3059280"/>
              <a:ext cx="67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047720" y="3059280"/>
              <a:ext cx="67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29160" y="337500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afd00"/>
                  </a:solidFill>
                  <a:latin typeface="Arial"/>
                </a:rPr>
                <a:t>C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58600" y="305928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06400" y="343836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46000" y="305928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90560" y="3438360"/>
              <a:ext cx="78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80160" y="32209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65760" y="32209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87520" y="30448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41520" y="342432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74920" y="30448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مورد یک جسم صلب از انتگرال استفاده می کن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6480" y="3995640"/>
            <a:ext cx="0" cy="39528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082960" y="4397400"/>
            <a:ext cx="3934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499760" y="39178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74600" y="43927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037600" y="31608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25360" y="3692520"/>
            <a:ext cx="85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345920" y="3978360"/>
            <a:ext cx="46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عنصر کوچک از جرم اس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16160" y="3130560"/>
            <a:ext cx="139680" cy="13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082960" y="3270240"/>
            <a:ext cx="196560" cy="11304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392120" y="2422440"/>
          <a:ext cx="648828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422440"/>
                    <a:ext cx="648828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7" name=""/>
          <p:cNvSpPr/>
          <p:nvPr/>
        </p:nvSpPr>
        <p:spPr>
          <a:xfrm>
            <a:off x="2743200" y="752400"/>
            <a:ext cx="53830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مولفه های مرکزجرم یک جسم صل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در واقع ” مرکز ” جسم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146240" y="3057480"/>
            <a:ext cx="342720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76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47600" y="2959200"/>
            <a:ext cx="342756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076480" y="3995640"/>
            <a:ext cx="0" cy="39528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082960" y="4397400"/>
            <a:ext cx="3934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99760" y="39178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74600" y="43927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089080" y="3720600"/>
            <a:ext cx="336600" cy="6858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076840" y="3940200"/>
            <a:ext cx="116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68440" y="364500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46240" y="3057480"/>
            <a:ext cx="342720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767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047600" y="2959200"/>
            <a:ext cx="3427560" cy="1973160"/>
          </a:xfrm>
          <a:custGeom>
            <a:avLst/>
            <a:gdLst/>
            <a:ahLst/>
            <a:rect l="l" t="t" r="r" b="b"/>
            <a:pathLst>
              <a:path w="2159" h="1243">
                <a:moveTo>
                  <a:pt x="78" y="1118"/>
                </a:moveTo>
                <a:lnTo>
                  <a:pt x="93" y="1071"/>
                </a:lnTo>
                <a:lnTo>
                  <a:pt x="62" y="1025"/>
                </a:lnTo>
                <a:lnTo>
                  <a:pt x="31" y="978"/>
                </a:lnTo>
                <a:lnTo>
                  <a:pt x="31" y="932"/>
                </a:lnTo>
                <a:lnTo>
                  <a:pt x="16" y="869"/>
                </a:lnTo>
                <a:lnTo>
                  <a:pt x="0" y="823"/>
                </a:lnTo>
                <a:lnTo>
                  <a:pt x="0" y="776"/>
                </a:lnTo>
                <a:lnTo>
                  <a:pt x="0" y="730"/>
                </a:lnTo>
                <a:lnTo>
                  <a:pt x="16" y="668"/>
                </a:lnTo>
                <a:lnTo>
                  <a:pt x="16" y="621"/>
                </a:lnTo>
                <a:lnTo>
                  <a:pt x="31" y="574"/>
                </a:lnTo>
                <a:lnTo>
                  <a:pt x="47" y="512"/>
                </a:lnTo>
                <a:lnTo>
                  <a:pt x="62" y="466"/>
                </a:lnTo>
                <a:lnTo>
                  <a:pt x="62" y="419"/>
                </a:lnTo>
                <a:lnTo>
                  <a:pt x="78" y="373"/>
                </a:lnTo>
                <a:lnTo>
                  <a:pt x="93" y="264"/>
                </a:lnTo>
                <a:lnTo>
                  <a:pt x="124" y="202"/>
                </a:lnTo>
                <a:lnTo>
                  <a:pt x="155" y="155"/>
                </a:lnTo>
                <a:lnTo>
                  <a:pt x="217" y="93"/>
                </a:lnTo>
                <a:lnTo>
                  <a:pt x="279" y="47"/>
                </a:lnTo>
                <a:lnTo>
                  <a:pt x="326" y="16"/>
                </a:lnTo>
                <a:lnTo>
                  <a:pt x="373" y="16"/>
                </a:lnTo>
                <a:lnTo>
                  <a:pt x="435" y="31"/>
                </a:lnTo>
                <a:lnTo>
                  <a:pt x="481" y="47"/>
                </a:lnTo>
                <a:lnTo>
                  <a:pt x="528" y="47"/>
                </a:lnTo>
                <a:lnTo>
                  <a:pt x="574" y="62"/>
                </a:lnTo>
                <a:lnTo>
                  <a:pt x="621" y="62"/>
                </a:lnTo>
                <a:lnTo>
                  <a:pt x="668" y="62"/>
                </a:lnTo>
                <a:lnTo>
                  <a:pt x="714" y="62"/>
                </a:lnTo>
                <a:lnTo>
                  <a:pt x="761" y="62"/>
                </a:lnTo>
                <a:lnTo>
                  <a:pt x="807" y="47"/>
                </a:lnTo>
                <a:lnTo>
                  <a:pt x="854" y="31"/>
                </a:lnTo>
                <a:lnTo>
                  <a:pt x="900" y="16"/>
                </a:lnTo>
                <a:lnTo>
                  <a:pt x="963" y="16"/>
                </a:lnTo>
                <a:lnTo>
                  <a:pt x="1009" y="16"/>
                </a:lnTo>
                <a:lnTo>
                  <a:pt x="1056" y="16"/>
                </a:lnTo>
                <a:lnTo>
                  <a:pt x="1102" y="31"/>
                </a:lnTo>
                <a:lnTo>
                  <a:pt x="1149" y="31"/>
                </a:lnTo>
                <a:lnTo>
                  <a:pt x="1211" y="47"/>
                </a:lnTo>
                <a:lnTo>
                  <a:pt x="1273" y="47"/>
                </a:lnTo>
                <a:lnTo>
                  <a:pt x="1335" y="47"/>
                </a:lnTo>
                <a:lnTo>
                  <a:pt x="1490" y="47"/>
                </a:lnTo>
                <a:lnTo>
                  <a:pt x="1646" y="31"/>
                </a:lnTo>
                <a:lnTo>
                  <a:pt x="1692" y="31"/>
                </a:lnTo>
                <a:lnTo>
                  <a:pt x="1801" y="16"/>
                </a:lnTo>
                <a:lnTo>
                  <a:pt x="1847" y="16"/>
                </a:lnTo>
                <a:lnTo>
                  <a:pt x="2003" y="0"/>
                </a:lnTo>
                <a:lnTo>
                  <a:pt x="2049" y="0"/>
                </a:lnTo>
                <a:lnTo>
                  <a:pt x="2096" y="16"/>
                </a:lnTo>
                <a:lnTo>
                  <a:pt x="2127" y="62"/>
                </a:lnTo>
                <a:lnTo>
                  <a:pt x="2127" y="109"/>
                </a:lnTo>
                <a:lnTo>
                  <a:pt x="2142" y="171"/>
                </a:lnTo>
                <a:lnTo>
                  <a:pt x="2158" y="279"/>
                </a:lnTo>
                <a:lnTo>
                  <a:pt x="2142" y="342"/>
                </a:lnTo>
                <a:lnTo>
                  <a:pt x="2127" y="404"/>
                </a:lnTo>
                <a:lnTo>
                  <a:pt x="2096" y="450"/>
                </a:lnTo>
                <a:lnTo>
                  <a:pt x="2049" y="512"/>
                </a:lnTo>
                <a:lnTo>
                  <a:pt x="2003" y="528"/>
                </a:lnTo>
                <a:lnTo>
                  <a:pt x="1941" y="543"/>
                </a:lnTo>
                <a:lnTo>
                  <a:pt x="1879" y="543"/>
                </a:lnTo>
                <a:lnTo>
                  <a:pt x="1816" y="543"/>
                </a:lnTo>
                <a:lnTo>
                  <a:pt x="1770" y="543"/>
                </a:lnTo>
                <a:lnTo>
                  <a:pt x="1723" y="543"/>
                </a:lnTo>
                <a:lnTo>
                  <a:pt x="1677" y="559"/>
                </a:lnTo>
                <a:lnTo>
                  <a:pt x="1630" y="574"/>
                </a:lnTo>
                <a:lnTo>
                  <a:pt x="1584" y="605"/>
                </a:lnTo>
                <a:lnTo>
                  <a:pt x="1568" y="652"/>
                </a:lnTo>
                <a:lnTo>
                  <a:pt x="1537" y="699"/>
                </a:lnTo>
                <a:lnTo>
                  <a:pt x="1521" y="745"/>
                </a:lnTo>
                <a:lnTo>
                  <a:pt x="1506" y="807"/>
                </a:lnTo>
                <a:lnTo>
                  <a:pt x="1490" y="854"/>
                </a:lnTo>
                <a:lnTo>
                  <a:pt x="1459" y="900"/>
                </a:lnTo>
                <a:lnTo>
                  <a:pt x="1428" y="947"/>
                </a:lnTo>
                <a:lnTo>
                  <a:pt x="1382" y="994"/>
                </a:lnTo>
                <a:lnTo>
                  <a:pt x="1320" y="1056"/>
                </a:lnTo>
                <a:lnTo>
                  <a:pt x="1273" y="1102"/>
                </a:lnTo>
                <a:lnTo>
                  <a:pt x="1226" y="1118"/>
                </a:lnTo>
                <a:lnTo>
                  <a:pt x="1180" y="1133"/>
                </a:lnTo>
                <a:lnTo>
                  <a:pt x="1133" y="1149"/>
                </a:lnTo>
                <a:lnTo>
                  <a:pt x="1087" y="1149"/>
                </a:lnTo>
                <a:lnTo>
                  <a:pt x="1040" y="1149"/>
                </a:lnTo>
                <a:lnTo>
                  <a:pt x="978" y="1164"/>
                </a:lnTo>
                <a:lnTo>
                  <a:pt x="932" y="1164"/>
                </a:lnTo>
                <a:lnTo>
                  <a:pt x="885" y="1164"/>
                </a:lnTo>
                <a:lnTo>
                  <a:pt x="838" y="1180"/>
                </a:lnTo>
                <a:lnTo>
                  <a:pt x="792" y="1195"/>
                </a:lnTo>
                <a:lnTo>
                  <a:pt x="745" y="1226"/>
                </a:lnTo>
                <a:lnTo>
                  <a:pt x="699" y="1226"/>
                </a:lnTo>
                <a:lnTo>
                  <a:pt x="652" y="1242"/>
                </a:lnTo>
                <a:lnTo>
                  <a:pt x="605" y="1242"/>
                </a:lnTo>
                <a:lnTo>
                  <a:pt x="559" y="1242"/>
                </a:lnTo>
                <a:lnTo>
                  <a:pt x="512" y="1242"/>
                </a:lnTo>
                <a:lnTo>
                  <a:pt x="450" y="1242"/>
                </a:lnTo>
                <a:lnTo>
                  <a:pt x="404" y="1242"/>
                </a:lnTo>
                <a:lnTo>
                  <a:pt x="357" y="1226"/>
                </a:lnTo>
                <a:lnTo>
                  <a:pt x="311" y="1195"/>
                </a:lnTo>
                <a:lnTo>
                  <a:pt x="264" y="1180"/>
                </a:lnTo>
                <a:lnTo>
                  <a:pt x="217" y="1164"/>
                </a:lnTo>
                <a:lnTo>
                  <a:pt x="171" y="1133"/>
                </a:lnTo>
                <a:lnTo>
                  <a:pt x="124" y="1102"/>
                </a:lnTo>
                <a:lnTo>
                  <a:pt x="78" y="1087"/>
                </a:lnTo>
                <a:lnTo>
                  <a:pt x="47" y="104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368440" y="364500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446720" y="2959200"/>
            <a:ext cx="40431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ff00"/>
                </a:solidFill>
                <a:latin typeface="Arial"/>
                <a:cs typeface="Arial"/>
              </a:rPr>
              <a:t>موقعیت مرکز جرم یک خصیت ذاتی جسم است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بستگی به انتخاب دستگاه مختصتات ندارد!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2947680" y="3062160"/>
            <a:ext cx="1342080" cy="808560"/>
            <a:chOff x="2947680" y="3062160"/>
            <a:chExt cx="1342080" cy="808560"/>
          </a:xfrm>
        </p:grpSpPr>
        <p:sp>
          <p:nvSpPr>
            <p:cNvPr id="879" name=""/>
            <p:cNvSpPr/>
            <p:nvPr/>
          </p:nvSpPr>
          <p:spPr>
            <a:xfrm>
              <a:off x="3524400" y="3138480"/>
              <a:ext cx="0" cy="395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30520" y="3540240"/>
              <a:ext cx="393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47680" y="30621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22160" y="35352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H="1">
            <a:off x="2425320" y="3556080"/>
            <a:ext cx="1111320" cy="164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591280" y="3692520"/>
            <a:ext cx="116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 مرکز جرم یک جسم ” مرکز ” جسم است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02888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قدرت ابتکار خود برای یافتن مرکز جرم یک جسم استفاده می ک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بر مرکز هندسی جسم منطبق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54040" y="2844720"/>
            <a:ext cx="1397160" cy="1282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86520" y="3292560"/>
            <a:ext cx="11494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c03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197240" y="2730600"/>
            <a:ext cx="1511280" cy="1511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09000" y="335124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635880" y="2825640"/>
            <a:ext cx="1473120" cy="1244880"/>
          </a:xfrm>
          <a:prstGeom prst="hexagon">
            <a:avLst>
              <a:gd name="adj" fmla="val 29578"/>
              <a:gd name="vf" fmla="val 11547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091280" y="328788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835280" y="4330800"/>
            <a:ext cx="596880" cy="2006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680120" y="515160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692600" y="4711680"/>
            <a:ext cx="558720" cy="1511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24840" y="531180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254640" y="4940280"/>
            <a:ext cx="2254320" cy="825480"/>
          </a:xfrm>
          <a:prstGeom prst="hexagon">
            <a:avLst>
              <a:gd name="adj" fmla="val 68260"/>
              <a:gd name="vf" fmla="val 11547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07120" y="518472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ترکیبی از اشیا برابر با میانگین مراکز جرم آن اشیا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358800" y="6113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052960" y="2370240"/>
                <a:ext cx="222876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  <m:e/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08" name=""/>
          <p:cNvGrpSpPr/>
          <p:nvPr/>
        </p:nvGrpSpPr>
        <p:grpSpPr>
          <a:xfrm>
            <a:off x="1591560" y="2959560"/>
            <a:ext cx="3001680" cy="3168360"/>
            <a:chOff x="1591560" y="2959560"/>
            <a:chExt cx="3001680" cy="3168360"/>
          </a:xfrm>
        </p:grpSpPr>
        <p:grpSp>
          <p:nvGrpSpPr>
            <p:cNvPr id="909" name=""/>
            <p:cNvGrpSpPr/>
            <p:nvPr/>
          </p:nvGrpSpPr>
          <p:grpSpPr>
            <a:xfrm>
              <a:off x="1667160" y="3683160"/>
              <a:ext cx="902520" cy="2006280"/>
              <a:chOff x="1667160" y="3683160"/>
              <a:chExt cx="902520" cy="2006280"/>
            </a:xfrm>
          </p:grpSpPr>
          <p:sp>
            <p:nvSpPr>
              <p:cNvPr id="910" name=""/>
              <p:cNvSpPr/>
              <p:nvPr/>
            </p:nvSpPr>
            <p:spPr>
              <a:xfrm>
                <a:off x="1797120" y="3683160"/>
                <a:ext cx="596880" cy="2006280"/>
              </a:xfrm>
              <a:prstGeom prst="rect">
                <a:avLst/>
              </a:prstGeom>
              <a:solidFill>
                <a:srgbClr val="a86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667160" y="4503600"/>
                <a:ext cx="902520" cy="363240"/>
              </a:xfrm>
              <a:prstGeom prst="rect">
                <a:avLst/>
              </a:prstGeom>
              <a:solidFill>
                <a:srgbClr val="a8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2387520" y="2959560"/>
              <a:ext cx="2006640" cy="902520"/>
              <a:chOff x="2387520" y="2959560"/>
              <a:chExt cx="2006640" cy="902520"/>
            </a:xfrm>
          </p:grpSpPr>
          <p:sp>
            <p:nvSpPr>
              <p:cNvPr id="913" name=""/>
              <p:cNvSpPr/>
              <p:nvPr/>
            </p:nvSpPr>
            <p:spPr>
              <a:xfrm>
                <a:off x="2387520" y="3092400"/>
                <a:ext cx="2006640" cy="596880"/>
              </a:xfrm>
              <a:prstGeom prst="rect">
                <a:avLst/>
              </a:prstGeom>
              <a:solidFill>
                <a:srgbClr val="a86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5400000">
                <a:off x="3013560" y="3229200"/>
                <a:ext cx="902520" cy="363240"/>
              </a:xfrm>
              <a:prstGeom prst="rect">
                <a:avLst/>
              </a:prstGeom>
              <a:solidFill>
                <a:srgbClr val="a8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429000" y="5664240"/>
              <a:ext cx="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35480" y="6114960"/>
              <a:ext cx="444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25280" y="55800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2107800" y="4651200"/>
              <a:ext cx="1327320" cy="1470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3393720" y="3403440"/>
              <a:ext cx="41400" cy="2718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97080" y="3882960"/>
              <a:ext cx="1019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58840" y="5127480"/>
              <a:ext cx="1019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85160" y="4206960"/>
              <a:ext cx="1167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2739600" y="4054320"/>
              <a:ext cx="701640" cy="20736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120760" y="3403440"/>
              <a:ext cx="1273320" cy="1270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91560" y="51786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3560" y="3218040"/>
              <a:ext cx="1129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44600" y="3827520"/>
              <a:ext cx="9907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33440" y="3616200"/>
              <a:ext cx="1100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 R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026960" y="4016520"/>
            <a:ext cx="382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در مورد دو شی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586480" y="5535720"/>
                <a:ext cx="2136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043600" y="722160"/>
            <a:ext cx="2935080" cy="8416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چند مثا 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35080" y="1873080"/>
            <a:ext cx="7137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چهار جرم نقطه ای که در شکل زیر نشان داده شده است محاسبه کن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536920" y="2314440"/>
            <a:ext cx="0" cy="3081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969840" y="2335320"/>
            <a:ext cx="3878280" cy="2330280"/>
            <a:chOff x="969840" y="2335320"/>
            <a:chExt cx="3878280" cy="2330280"/>
          </a:xfrm>
        </p:grpSpPr>
        <p:sp>
          <p:nvSpPr>
            <p:cNvPr id="935" name=""/>
            <p:cNvSpPr/>
            <p:nvPr/>
          </p:nvSpPr>
          <p:spPr>
            <a:xfrm>
              <a:off x="987480" y="3790800"/>
              <a:ext cx="3289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36920" y="3568680"/>
              <a:ext cx="162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22520" y="3333600"/>
              <a:ext cx="162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36920" y="2919240"/>
              <a:ext cx="176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67160" y="3200400"/>
              <a:ext cx="14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550960" y="3141720"/>
              <a:ext cx="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81200" y="3111480"/>
              <a:ext cx="117720" cy="30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22520" y="3127320"/>
              <a:ext cx="190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87480" y="3805200"/>
              <a:ext cx="44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2757600" y="3760560"/>
              <a:ext cx="58680" cy="29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84520" y="38052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831760" y="3627360"/>
              <a:ext cx="28440" cy="163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170160" y="3730320"/>
              <a:ext cx="15840" cy="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flipV="1">
              <a:off x="3168720" y="3625920"/>
              <a:ext cx="1440" cy="177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362400" y="362736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97080" y="3954600"/>
              <a:ext cx="146160" cy="147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536920" y="3967200"/>
              <a:ext cx="16200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565360" y="4040280"/>
              <a:ext cx="176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21080" y="4240080"/>
              <a:ext cx="176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35120" y="4429080"/>
              <a:ext cx="176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49520" y="4619520"/>
              <a:ext cx="176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40120" y="361008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2751120" y="359568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2316240" y="362592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2039760" y="361008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820880" y="3623760"/>
              <a:ext cx="0" cy="16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604880" y="3625920"/>
              <a:ext cx="0" cy="163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98680" y="2849400"/>
              <a:ext cx="145800" cy="1479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98680" y="3255840"/>
              <a:ext cx="146160" cy="147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800" y="4127400"/>
              <a:ext cx="146160" cy="147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40160" y="3627360"/>
              <a:ext cx="507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(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98840" y="2335320"/>
              <a:ext cx="507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y(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57600" y="3786120"/>
              <a:ext cx="377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4040" y="3755880"/>
              <a:ext cx="3920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92120" y="3827520"/>
              <a:ext cx="392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41400" y="3813120"/>
              <a:ext cx="3920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1" name=""/>
            <p:cNvGraphicFramePr/>
            <p:nvPr/>
          </p:nvGraphicFramePr>
          <p:xfrm>
            <a:off x="3459240" y="3144960"/>
            <a:ext cx="898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9240" y="3144960"/>
                      <a:ext cx="898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3" name=""/>
            <p:cNvGraphicFramePr/>
            <p:nvPr/>
          </p:nvGraphicFramePr>
          <p:xfrm>
            <a:off x="969840" y="2550960"/>
            <a:ext cx="906480" cy="3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69840" y="2550960"/>
                      <a:ext cx="90648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5" name=""/>
            <p:cNvGraphicFramePr/>
            <p:nvPr/>
          </p:nvGraphicFramePr>
          <p:xfrm>
            <a:off x="3189240" y="4146480"/>
            <a:ext cx="766800" cy="287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9240" y="4146480"/>
                      <a:ext cx="7668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7" name=""/>
            <p:cNvGraphicFramePr/>
            <p:nvPr/>
          </p:nvGraphicFramePr>
          <p:xfrm>
            <a:off x="1433520" y="4292640"/>
            <a:ext cx="995400" cy="37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33520" y="4292640"/>
                      <a:ext cx="9954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79" name=""/>
          <p:cNvGraphicFramePr/>
          <p:nvPr/>
        </p:nvGraphicFramePr>
        <p:xfrm>
          <a:off x="4776840" y="2695680"/>
          <a:ext cx="3813120" cy="11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76840" y="2695680"/>
                    <a:ext cx="381312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4695840" y="4103640"/>
          <a:ext cx="3619440" cy="108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95840" y="4103640"/>
                    <a:ext cx="36194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4330800" y="5484960"/>
          <a:ext cx="2971800" cy="66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30800" y="5484960"/>
                    <a:ext cx="29718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106640" y="1062000"/>
            <a:ext cx="73594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میله باریکی به طول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را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در یک سوم طولش مطابق شکل خم کرده ایم . محل مرکز جر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را نسبت به راس زاویه پیدا کنید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را برابر با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1.2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متر بگیرید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925560" y="2419200"/>
            <a:ext cx="2052720" cy="3597480"/>
            <a:chOff x="925560" y="2419200"/>
            <a:chExt cx="2052720" cy="3597480"/>
          </a:xfrm>
        </p:grpSpPr>
        <p:sp>
          <p:nvSpPr>
            <p:cNvPr id="987" name=""/>
            <p:cNvSpPr/>
            <p:nvPr/>
          </p:nvSpPr>
          <p:spPr>
            <a:xfrm>
              <a:off x="1592280" y="2432160"/>
              <a:ext cx="119160" cy="305424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576440" y="5427720"/>
              <a:ext cx="1401840" cy="8892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77880" y="3819600"/>
              <a:ext cx="88920" cy="889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36680" y="5451480"/>
              <a:ext cx="88920" cy="889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36560" y="3878280"/>
              <a:ext cx="635040" cy="1593720"/>
            </a:xfrm>
            <a:prstGeom prst="line">
              <a:avLst/>
            </a:prstGeom>
            <a:ln w="38160">
              <a:solidFill>
                <a:srgbClr val="f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57240" y="4513320"/>
              <a:ext cx="88920" cy="8892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77880" y="566244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1401840" y="2419200"/>
              <a:ext cx="0" cy="308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62000" y="5707080"/>
              <a:ext cx="457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25560" y="3755880"/>
              <a:ext cx="457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57320" y="4375080"/>
              <a:ext cx="457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98" name=""/>
          <p:cNvGraphicFramePr/>
          <p:nvPr/>
        </p:nvGraphicFramePr>
        <p:xfrm>
          <a:off x="3940200" y="2343240"/>
          <a:ext cx="368280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343240"/>
                    <a:ext cx="36828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1592280" y="973080"/>
            <a:ext cx="6651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3-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له باریک و یکنواختی به چگالی خطی         کیلوگرم بر متر را خم کرد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به صورت نیمدایره ای به شعاع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آورده ایم . مرکز جرم این میله ر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یداکنید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3990960" y="969840"/>
          <a:ext cx="4334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0960" y="969840"/>
                    <a:ext cx="433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3" name=""/>
          <p:cNvGrpSpPr/>
          <p:nvPr/>
        </p:nvGrpSpPr>
        <p:grpSpPr>
          <a:xfrm>
            <a:off x="485640" y="1976400"/>
            <a:ext cx="4322880" cy="2611440"/>
            <a:chOff x="485640" y="1976400"/>
            <a:chExt cx="4322880" cy="2611440"/>
          </a:xfrm>
        </p:grpSpPr>
        <p:sp>
          <p:nvSpPr>
            <p:cNvPr id="1004" name=""/>
            <p:cNvSpPr/>
            <p:nvPr/>
          </p:nvSpPr>
          <p:spPr>
            <a:xfrm>
              <a:off x="960120" y="2583000"/>
              <a:ext cx="2829240" cy="2004840"/>
            </a:xfrm>
            <a:prstGeom prst="blockArc">
              <a:avLst>
                <a:gd name="adj1" fmla="val 10274226"/>
                <a:gd name="adj2" fmla="val 525774"/>
                <a:gd name="adj3" fmla="val 6606"/>
              </a:avLst>
            </a:prstGeom>
            <a:solidFill>
              <a:srgbClr val="fc00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5640" y="3716280"/>
              <a:ext cx="40114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06" name=""/>
            <p:cNvCxnSpPr>
              <a:stCxn id="1007" idx="0"/>
            </p:cNvCxnSpPr>
            <p:nvPr/>
          </p:nvCxnSpPr>
          <p:spPr>
            <a:xfrm flipH="1" rot="16200000">
              <a:off x="3817800" y="2036520"/>
              <a:ext cx="132480" cy="1459440"/>
            </a:xfrm>
            <a:prstGeom prst="curvedConnector5">
              <a:avLst>
                <a:gd name="adj1" fmla="val -174659"/>
                <a:gd name="adj2" fmla="val 24969"/>
                <a:gd name="adj3" fmla="val -174659"/>
              </a:avLst>
            </a:prstGeom>
            <a:ln w="0">
              <a:noFill/>
            </a:ln>
          </p:spPr>
        </p:cxnSp>
        <p:sp>
          <p:nvSpPr>
            <p:cNvPr id="1008" name=""/>
            <p:cNvSpPr/>
            <p:nvPr/>
          </p:nvSpPr>
          <p:spPr>
            <a:xfrm>
              <a:off x="3041640" y="2729160"/>
              <a:ext cx="366480" cy="27612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73" y="8"/>
                  </a:moveTo>
                  <a:cubicBezTo>
                    <a:pt x="115" y="16"/>
                    <a:pt x="249" y="91"/>
                    <a:pt x="268" y="120"/>
                  </a:cubicBezTo>
                  <a:cubicBezTo>
                    <a:pt x="287" y="149"/>
                    <a:pt x="227" y="193"/>
                    <a:pt x="185" y="185"/>
                  </a:cubicBezTo>
                  <a:cubicBezTo>
                    <a:pt x="143" y="177"/>
                    <a:pt x="34" y="104"/>
                    <a:pt x="17" y="73"/>
                  </a:cubicBezTo>
                  <a:cubicBezTo>
                    <a:pt x="0" y="42"/>
                    <a:pt x="31" y="0"/>
                    <a:pt x="73" y="8"/>
                  </a:cubicBez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2241360" y="2904840"/>
              <a:ext cx="1209600" cy="82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2239920" y="2698560"/>
              <a:ext cx="914400" cy="98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2269800" y="1976400"/>
              <a:ext cx="0" cy="172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55760" y="3702240"/>
              <a:ext cx="2360520" cy="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13" name=""/>
            <p:cNvGraphicFramePr/>
            <p:nvPr/>
          </p:nvGraphicFramePr>
          <p:xfrm>
            <a:off x="2512800" y="3205440"/>
            <a:ext cx="320760" cy="26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2800" y="3205440"/>
                      <a:ext cx="32076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5" name=""/>
            <p:cNvSpPr/>
            <p:nvPr/>
          </p:nvSpPr>
          <p:spPr>
            <a:xfrm>
              <a:off x="2462040" y="3465720"/>
              <a:ext cx="44640" cy="730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0"/>
                  </a:moveTo>
                  <a:cubicBezTo>
                    <a:pt x="12" y="20"/>
                    <a:pt x="25" y="40"/>
                    <a:pt x="28" y="4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3193920" y="2557440"/>
            <a:ext cx="360360" cy="26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93920" y="2557440"/>
                      <a:ext cx="36036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612880" y="2886120"/>
            <a:ext cx="25416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2880" y="2886120"/>
                      <a:ext cx="2541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4292280" y="3376800"/>
              <a:ext cx="5162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0920" y="2030400"/>
              <a:ext cx="515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22" name=""/>
          <p:cNvGraphicFramePr/>
          <p:nvPr/>
        </p:nvGraphicFramePr>
        <p:xfrm>
          <a:off x="4794120" y="2284560"/>
          <a:ext cx="3633840" cy="369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4120" y="2284560"/>
                    <a:ext cx="363384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مرین مرکز جرم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45440" indent="-145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سک شک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ضوح مرکز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در مرکزش قرار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5440" indent="-145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این دیسک را به دو قسمت تقسیم کرده و مطابق شکل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روی هم قرار ده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400" indent="-1162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مقایسه با شک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بق با کدام گزینه است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343400" y="3124080"/>
            <a:ext cx="1828800" cy="2737080"/>
            <a:chOff x="4343400" y="3124080"/>
            <a:chExt cx="1828800" cy="2737080"/>
          </a:xfrm>
        </p:grpSpPr>
        <p:grpSp>
          <p:nvGrpSpPr>
            <p:cNvPr id="1027" name=""/>
            <p:cNvGrpSpPr/>
            <p:nvPr/>
          </p:nvGrpSpPr>
          <p:grpSpPr>
            <a:xfrm>
              <a:off x="4343400" y="4038480"/>
              <a:ext cx="1828800" cy="1822680"/>
              <a:chOff x="4343400" y="4038480"/>
              <a:chExt cx="1828800" cy="1822680"/>
            </a:xfrm>
          </p:grpSpPr>
          <p:sp>
            <p:nvSpPr>
              <p:cNvPr id="1028" name=""/>
              <p:cNvSpPr/>
              <p:nvPr/>
            </p:nvSpPr>
            <p:spPr>
              <a:xfrm>
                <a:off x="4349880" y="4044960"/>
                <a:ext cx="1815840" cy="1816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343400" y="4038480"/>
                <a:ext cx="1828800" cy="9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43400" y="4952880"/>
                <a:ext cx="18288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4343400" y="3124080"/>
              <a:ext cx="1828800" cy="1822680"/>
              <a:chOff x="4343400" y="3124080"/>
              <a:chExt cx="1828800" cy="1822680"/>
            </a:xfrm>
          </p:grpSpPr>
          <p:sp>
            <p:nvSpPr>
              <p:cNvPr id="1032" name=""/>
              <p:cNvSpPr/>
              <p:nvPr/>
            </p:nvSpPr>
            <p:spPr>
              <a:xfrm>
                <a:off x="4349880" y="3130560"/>
                <a:ext cx="1815840" cy="1816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343400" y="3124080"/>
                <a:ext cx="1828800" cy="9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343400" y="4038480"/>
                <a:ext cx="18288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5" name=""/>
          <p:cNvSpPr/>
          <p:nvPr/>
        </p:nvSpPr>
        <p:spPr>
          <a:xfrm>
            <a:off x="833040" y="3143160"/>
            <a:ext cx="77623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لف -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لات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-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پائین ت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ج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سان است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118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7264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447920" y="4044960"/>
            <a:ext cx="6029280" cy="1816200"/>
            <a:chOff x="1447920" y="4044960"/>
            <a:chExt cx="6029280" cy="1816200"/>
          </a:xfrm>
        </p:grpSpPr>
        <p:sp>
          <p:nvSpPr>
            <p:cNvPr id="1039" name=""/>
            <p:cNvSpPr/>
            <p:nvPr/>
          </p:nvSpPr>
          <p:spPr>
            <a:xfrm>
              <a:off x="1835280" y="4044960"/>
              <a:ext cx="1815840" cy="181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47920" y="4952880"/>
              <a:ext cx="60195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88320" y="4786200"/>
              <a:ext cx="581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X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7280" y="5856120"/>
              <a:ext cx="6019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47560" y="16207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مه دیسک به قسمت تخت نزدیکتر از قسمت خمیده قرار دا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343400" y="3124080"/>
            <a:ext cx="1828800" cy="2737080"/>
            <a:chOff x="4343400" y="3124080"/>
            <a:chExt cx="1828800" cy="2737080"/>
          </a:xfrm>
        </p:grpSpPr>
        <p:grpSp>
          <p:nvGrpSpPr>
            <p:cNvPr id="1046" name=""/>
            <p:cNvGrpSpPr/>
            <p:nvPr/>
          </p:nvGrpSpPr>
          <p:grpSpPr>
            <a:xfrm>
              <a:off x="4343400" y="4038480"/>
              <a:ext cx="1828800" cy="1822680"/>
              <a:chOff x="4343400" y="4038480"/>
              <a:chExt cx="1828800" cy="1822680"/>
            </a:xfrm>
          </p:grpSpPr>
          <p:sp>
            <p:nvSpPr>
              <p:cNvPr id="1047" name=""/>
              <p:cNvSpPr/>
              <p:nvPr/>
            </p:nvSpPr>
            <p:spPr>
              <a:xfrm>
                <a:off x="4349880" y="4044960"/>
                <a:ext cx="1815840" cy="1816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343400" y="4038480"/>
                <a:ext cx="1828800" cy="9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43400" y="4952880"/>
                <a:ext cx="18288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343400" y="3124080"/>
              <a:ext cx="1828800" cy="1822680"/>
              <a:chOff x="4343400" y="3124080"/>
              <a:chExt cx="1828800" cy="1822680"/>
            </a:xfrm>
          </p:grpSpPr>
          <p:sp>
            <p:nvSpPr>
              <p:cNvPr id="1051" name=""/>
              <p:cNvSpPr/>
              <p:nvPr/>
            </p:nvSpPr>
            <p:spPr>
              <a:xfrm>
                <a:off x="4349880" y="3130560"/>
                <a:ext cx="1815840" cy="1816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343400" y="3124080"/>
                <a:ext cx="1828800" cy="9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343400" y="4038480"/>
                <a:ext cx="1828800" cy="0"/>
              </a:xfrm>
              <a:prstGeom prst="line">
                <a:avLst/>
              </a:prstGeom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"/>
          <p:cNvSpPr/>
          <p:nvPr/>
        </p:nvSpPr>
        <p:spPr>
          <a:xfrm>
            <a:off x="22118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264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-407520" y="2470320"/>
            <a:ext cx="9660600" cy="2558880"/>
            <a:chOff x="-407520" y="2470320"/>
            <a:chExt cx="9660600" cy="2558880"/>
          </a:xfrm>
        </p:grpSpPr>
        <p:sp>
          <p:nvSpPr>
            <p:cNvPr id="1057" name=""/>
            <p:cNvSpPr/>
            <p:nvPr/>
          </p:nvSpPr>
          <p:spPr>
            <a:xfrm>
              <a:off x="-407520" y="2470320"/>
              <a:ext cx="966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رکز جرم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ین شیئ مرکب درنیمه راه بین مراکز دو نیمه دیسک قرار دا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800600" y="466236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2136600" y="3144960"/>
            <a:ext cx="658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مرکز جرم بالاتراز مرکز جرم دیسک قراردار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1406520" y="4044960"/>
            <a:ext cx="6070680" cy="1816200"/>
            <a:chOff x="1406520" y="4044960"/>
            <a:chExt cx="6070680" cy="1816200"/>
          </a:xfrm>
        </p:grpSpPr>
        <p:sp>
          <p:nvSpPr>
            <p:cNvPr id="1061" name=""/>
            <p:cNvSpPr/>
            <p:nvPr/>
          </p:nvSpPr>
          <p:spPr>
            <a:xfrm>
              <a:off x="1835280" y="4044960"/>
              <a:ext cx="1815840" cy="181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86200" y="512460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94120" y="417996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06520" y="4938840"/>
              <a:ext cx="60199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46920" y="4772160"/>
              <a:ext cx="581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X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57280" y="5856120"/>
              <a:ext cx="6019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47800" y="1511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524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یک شیئ جایی است که آزادنه می توان شیئ را روی آن به طور متعادل قرار داد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524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نیروی جاذبه به مرکز جرم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یک جسم وارد می شود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بعدا نشان خواهیم دارد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524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اگر جسم را روی محور دیگری غیراز مرکز جرم قرار دهی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جسم طوری منحرف می شود که مرکز جرم پائین تراز آن محور قرار گیر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524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ازاین خاصیت برای یافتن مرکز جرم یک جسم می توان استفاده کرد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617440" y="4295880"/>
            <a:ext cx="1307880" cy="1989000"/>
            <a:chOff x="5617440" y="4295880"/>
            <a:chExt cx="1307880" cy="1989000"/>
          </a:xfrm>
        </p:grpSpPr>
        <p:sp>
          <p:nvSpPr>
            <p:cNvPr id="1072" name=""/>
            <p:cNvSpPr/>
            <p:nvPr/>
          </p:nvSpPr>
          <p:spPr>
            <a:xfrm>
              <a:off x="5729040" y="6054840"/>
              <a:ext cx="231840" cy="230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92760" y="4295880"/>
              <a:ext cx="101520" cy="103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844960" y="4338720"/>
              <a:ext cx="0" cy="183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5452560" y="5293440"/>
              <a:ext cx="11494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1640" y="5137200"/>
              <a:ext cx="203400" cy="203400"/>
            </a:xfrm>
            <a:prstGeom prst="ellipse">
              <a:avLst/>
            </a:prstGeom>
            <a:noFill/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617440" y="5060880"/>
              <a:ext cx="130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c0000"/>
                  </a:solidFill>
                  <a:latin typeface="Arial"/>
                  <a:cs typeface="Arial"/>
                </a:rPr>
                <a:t>محو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274760" y="3270240"/>
            <a:ext cx="1680120" cy="1905120"/>
            <a:chOff x="1274760" y="3270240"/>
            <a:chExt cx="1680120" cy="1905120"/>
          </a:xfrm>
        </p:grpSpPr>
        <p:sp>
          <p:nvSpPr>
            <p:cNvPr id="1080" name=""/>
            <p:cNvSpPr/>
            <p:nvPr/>
          </p:nvSpPr>
          <p:spPr>
            <a:xfrm>
              <a:off x="1274760" y="3270240"/>
              <a:ext cx="101520" cy="103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9667400">
              <a:off x="2171520" y="4753080"/>
              <a:ext cx="231840" cy="230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1312200" y="3317400"/>
              <a:ext cx="977400" cy="155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4267400">
              <a:off x="1722600" y="3952440"/>
              <a:ext cx="9025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9667400">
              <a:off x="1693800" y="3975120"/>
              <a:ext cx="203040" cy="203400"/>
            </a:xfrm>
            <a:prstGeom prst="ellipse">
              <a:avLst/>
            </a:prstGeom>
            <a:noFill/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69240" y="3775320"/>
              <a:ext cx="130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c0000"/>
                  </a:solidFill>
                  <a:latin typeface="Arial"/>
                  <a:cs typeface="Arial"/>
                </a:rPr>
                <a:t>محو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06120" y="4178520"/>
              <a:ext cx="114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003400" y="4573800"/>
              <a:ext cx="0" cy="6015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446120" y="4627800"/>
              <a:ext cx="7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495440" y="2200320"/>
            <a:ext cx="2027160" cy="1039320"/>
            <a:chOff x="1495440" y="2200320"/>
            <a:chExt cx="2027160" cy="1039320"/>
          </a:xfrm>
        </p:grpSpPr>
        <p:sp>
          <p:nvSpPr>
            <p:cNvPr id="1090" name=""/>
            <p:cNvSpPr/>
            <p:nvPr/>
          </p:nvSpPr>
          <p:spPr>
            <a:xfrm>
              <a:off x="1495440" y="2571840"/>
              <a:ext cx="230040" cy="231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17480" y="2687760"/>
              <a:ext cx="1811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562760" y="2506680"/>
              <a:ext cx="11494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14560" y="2597040"/>
              <a:ext cx="203040" cy="203400"/>
            </a:xfrm>
            <a:prstGeom prst="ellipse">
              <a:avLst/>
            </a:prstGeom>
            <a:noFill/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72560" y="2200320"/>
              <a:ext cx="130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c0000"/>
                  </a:solidFill>
                  <a:latin typeface="Arial"/>
                  <a:cs typeface="Arial"/>
                </a:rPr>
                <a:t>محو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19280" y="2638440"/>
              <a:ext cx="103320" cy="101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17480" y="2687760"/>
              <a:ext cx="1811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یستم ذرات : مرکز جرم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48960" y="16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را از چند محور مختلف آویزان کنید و خط شاقولی که از آن محور ها می گذرد رسم کنید محل تقاطح این خطوط شاقولی مرکز جرم جسم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076400" y="3573360"/>
            <a:ext cx="2125440" cy="1224000"/>
          </a:xfrm>
          <a:custGeom>
            <a:avLst/>
            <a:gdLst/>
            <a:ahLst/>
            <a:rect l="l" t="t" r="r" b="b"/>
            <a:pathLst>
              <a:path w="1339" h="771">
                <a:moveTo>
                  <a:pt x="48" y="693"/>
                </a:moveTo>
                <a:lnTo>
                  <a:pt x="58" y="664"/>
                </a:lnTo>
                <a:lnTo>
                  <a:pt x="39" y="635"/>
                </a:lnTo>
                <a:lnTo>
                  <a:pt x="19" y="606"/>
                </a:lnTo>
                <a:lnTo>
                  <a:pt x="19" y="578"/>
                </a:lnTo>
                <a:lnTo>
                  <a:pt x="10" y="539"/>
                </a:lnTo>
                <a:lnTo>
                  <a:pt x="0" y="510"/>
                </a:lnTo>
                <a:lnTo>
                  <a:pt x="0" y="481"/>
                </a:lnTo>
                <a:lnTo>
                  <a:pt x="0" y="452"/>
                </a:lnTo>
                <a:lnTo>
                  <a:pt x="10" y="414"/>
                </a:lnTo>
                <a:lnTo>
                  <a:pt x="10" y="385"/>
                </a:lnTo>
                <a:lnTo>
                  <a:pt x="19" y="356"/>
                </a:lnTo>
                <a:lnTo>
                  <a:pt x="29" y="318"/>
                </a:lnTo>
                <a:lnTo>
                  <a:pt x="39" y="289"/>
                </a:lnTo>
                <a:lnTo>
                  <a:pt x="39" y="260"/>
                </a:lnTo>
                <a:lnTo>
                  <a:pt x="48" y="231"/>
                </a:lnTo>
                <a:lnTo>
                  <a:pt x="58" y="164"/>
                </a:lnTo>
                <a:lnTo>
                  <a:pt x="77" y="125"/>
                </a:lnTo>
                <a:lnTo>
                  <a:pt x="96" y="96"/>
                </a:lnTo>
                <a:lnTo>
                  <a:pt x="135" y="58"/>
                </a:lnTo>
                <a:lnTo>
                  <a:pt x="173" y="29"/>
                </a:lnTo>
                <a:lnTo>
                  <a:pt x="202" y="10"/>
                </a:lnTo>
                <a:lnTo>
                  <a:pt x="231" y="10"/>
                </a:lnTo>
                <a:lnTo>
                  <a:pt x="270" y="19"/>
                </a:lnTo>
                <a:lnTo>
                  <a:pt x="298" y="29"/>
                </a:lnTo>
                <a:lnTo>
                  <a:pt x="327" y="29"/>
                </a:lnTo>
                <a:lnTo>
                  <a:pt x="356" y="39"/>
                </a:lnTo>
                <a:lnTo>
                  <a:pt x="385" y="39"/>
                </a:lnTo>
                <a:lnTo>
                  <a:pt x="414" y="39"/>
                </a:lnTo>
                <a:lnTo>
                  <a:pt x="443" y="39"/>
                </a:lnTo>
                <a:lnTo>
                  <a:pt x="472" y="39"/>
                </a:lnTo>
                <a:lnTo>
                  <a:pt x="501" y="29"/>
                </a:lnTo>
                <a:lnTo>
                  <a:pt x="529" y="19"/>
                </a:lnTo>
                <a:lnTo>
                  <a:pt x="558" y="10"/>
                </a:lnTo>
                <a:lnTo>
                  <a:pt x="597" y="10"/>
                </a:lnTo>
                <a:lnTo>
                  <a:pt x="626" y="10"/>
                </a:lnTo>
                <a:lnTo>
                  <a:pt x="655" y="10"/>
                </a:lnTo>
                <a:lnTo>
                  <a:pt x="683" y="19"/>
                </a:lnTo>
                <a:lnTo>
                  <a:pt x="712" y="19"/>
                </a:lnTo>
                <a:lnTo>
                  <a:pt x="751" y="29"/>
                </a:lnTo>
                <a:lnTo>
                  <a:pt x="789" y="29"/>
                </a:lnTo>
                <a:lnTo>
                  <a:pt x="828" y="29"/>
                </a:lnTo>
                <a:lnTo>
                  <a:pt x="924" y="29"/>
                </a:lnTo>
                <a:lnTo>
                  <a:pt x="1020" y="19"/>
                </a:lnTo>
                <a:lnTo>
                  <a:pt x="1049" y="19"/>
                </a:lnTo>
                <a:lnTo>
                  <a:pt x="1117" y="10"/>
                </a:lnTo>
                <a:lnTo>
                  <a:pt x="1145" y="10"/>
                </a:lnTo>
                <a:lnTo>
                  <a:pt x="1242" y="0"/>
                </a:lnTo>
                <a:lnTo>
                  <a:pt x="1271" y="0"/>
                </a:lnTo>
                <a:lnTo>
                  <a:pt x="1299" y="10"/>
                </a:lnTo>
                <a:lnTo>
                  <a:pt x="1319" y="39"/>
                </a:lnTo>
                <a:lnTo>
                  <a:pt x="1319" y="67"/>
                </a:lnTo>
                <a:lnTo>
                  <a:pt x="1328" y="106"/>
                </a:lnTo>
                <a:lnTo>
                  <a:pt x="1338" y="173"/>
                </a:lnTo>
                <a:lnTo>
                  <a:pt x="1328" y="212"/>
                </a:lnTo>
                <a:lnTo>
                  <a:pt x="1319" y="250"/>
                </a:lnTo>
                <a:lnTo>
                  <a:pt x="1299" y="279"/>
                </a:lnTo>
                <a:lnTo>
                  <a:pt x="1271" y="318"/>
                </a:lnTo>
                <a:lnTo>
                  <a:pt x="1242" y="327"/>
                </a:lnTo>
                <a:lnTo>
                  <a:pt x="1203" y="337"/>
                </a:lnTo>
                <a:lnTo>
                  <a:pt x="1165" y="337"/>
                </a:lnTo>
                <a:lnTo>
                  <a:pt x="1126" y="337"/>
                </a:lnTo>
                <a:lnTo>
                  <a:pt x="1097" y="337"/>
                </a:lnTo>
                <a:lnTo>
                  <a:pt x="1068" y="337"/>
                </a:lnTo>
                <a:lnTo>
                  <a:pt x="1040" y="347"/>
                </a:lnTo>
                <a:lnTo>
                  <a:pt x="1011" y="356"/>
                </a:lnTo>
                <a:lnTo>
                  <a:pt x="982" y="375"/>
                </a:lnTo>
                <a:lnTo>
                  <a:pt x="972" y="404"/>
                </a:lnTo>
                <a:lnTo>
                  <a:pt x="953" y="433"/>
                </a:lnTo>
                <a:lnTo>
                  <a:pt x="943" y="462"/>
                </a:lnTo>
                <a:lnTo>
                  <a:pt x="934" y="501"/>
                </a:lnTo>
                <a:lnTo>
                  <a:pt x="924" y="529"/>
                </a:lnTo>
                <a:lnTo>
                  <a:pt x="905" y="558"/>
                </a:lnTo>
                <a:lnTo>
                  <a:pt x="886" y="587"/>
                </a:lnTo>
                <a:lnTo>
                  <a:pt x="857" y="616"/>
                </a:lnTo>
                <a:lnTo>
                  <a:pt x="818" y="655"/>
                </a:lnTo>
                <a:lnTo>
                  <a:pt x="789" y="683"/>
                </a:lnTo>
                <a:lnTo>
                  <a:pt x="760" y="693"/>
                </a:lnTo>
                <a:lnTo>
                  <a:pt x="732" y="703"/>
                </a:lnTo>
                <a:lnTo>
                  <a:pt x="703" y="712"/>
                </a:lnTo>
                <a:lnTo>
                  <a:pt x="674" y="712"/>
                </a:lnTo>
                <a:lnTo>
                  <a:pt x="645" y="712"/>
                </a:lnTo>
                <a:lnTo>
                  <a:pt x="606" y="722"/>
                </a:lnTo>
                <a:lnTo>
                  <a:pt x="578" y="722"/>
                </a:lnTo>
                <a:lnTo>
                  <a:pt x="549" y="722"/>
                </a:lnTo>
                <a:lnTo>
                  <a:pt x="520" y="732"/>
                </a:lnTo>
                <a:lnTo>
                  <a:pt x="491" y="741"/>
                </a:lnTo>
                <a:lnTo>
                  <a:pt x="462" y="760"/>
                </a:lnTo>
                <a:lnTo>
                  <a:pt x="433" y="760"/>
                </a:lnTo>
                <a:lnTo>
                  <a:pt x="404" y="770"/>
                </a:lnTo>
                <a:lnTo>
                  <a:pt x="375" y="770"/>
                </a:lnTo>
                <a:lnTo>
                  <a:pt x="347" y="770"/>
                </a:lnTo>
                <a:lnTo>
                  <a:pt x="318" y="770"/>
                </a:lnTo>
                <a:lnTo>
                  <a:pt x="279" y="770"/>
                </a:lnTo>
                <a:lnTo>
                  <a:pt x="250" y="770"/>
                </a:lnTo>
                <a:lnTo>
                  <a:pt x="221" y="760"/>
                </a:lnTo>
                <a:lnTo>
                  <a:pt x="193" y="741"/>
                </a:lnTo>
                <a:lnTo>
                  <a:pt x="164" y="732"/>
                </a:lnTo>
                <a:lnTo>
                  <a:pt x="135" y="722"/>
                </a:lnTo>
                <a:lnTo>
                  <a:pt x="106" y="703"/>
                </a:lnTo>
                <a:lnTo>
                  <a:pt x="77" y="683"/>
                </a:lnTo>
                <a:lnTo>
                  <a:pt x="48" y="674"/>
                </a:lnTo>
                <a:lnTo>
                  <a:pt x="29" y="64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656880" y="2701800"/>
            <a:ext cx="129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000"/>
                </a:solidFill>
                <a:latin typeface="Arial"/>
              </a:rPr>
              <a:t>piv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1389960" y="2882880"/>
            <a:ext cx="6182280" cy="2583000"/>
            <a:chOff x="1389960" y="2882880"/>
            <a:chExt cx="6182280" cy="2583000"/>
          </a:xfrm>
        </p:grpSpPr>
        <p:sp>
          <p:nvSpPr>
            <p:cNvPr id="1104" name=""/>
            <p:cNvSpPr/>
            <p:nvPr/>
          </p:nvSpPr>
          <p:spPr>
            <a:xfrm>
              <a:off x="1389960" y="3178080"/>
              <a:ext cx="129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000"/>
                  </a:solidFill>
                  <a:latin typeface="Arial"/>
                </a:rPr>
                <a:t>pivo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73080" y="3532320"/>
              <a:ext cx="203400" cy="20304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86120" y="3621240"/>
              <a:ext cx="0" cy="144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3633840" y="3070080"/>
              <a:ext cx="1589040" cy="2254320"/>
              <a:chOff x="3633840" y="3070080"/>
              <a:chExt cx="1589040" cy="2254320"/>
            </a:xfrm>
          </p:grpSpPr>
          <p:sp>
            <p:nvSpPr>
              <p:cNvPr id="1108" name=""/>
              <p:cNvSpPr/>
              <p:nvPr/>
            </p:nvSpPr>
            <p:spPr>
              <a:xfrm>
                <a:off x="3633840" y="3070080"/>
                <a:ext cx="1324080" cy="2254320"/>
              </a:xfrm>
              <a:custGeom>
                <a:avLst/>
                <a:gdLst/>
                <a:ahLst/>
                <a:rect l="l" t="t" r="r" b="b"/>
                <a:pathLst>
                  <a:path w="834" h="1420">
                    <a:moveTo>
                      <a:pt x="590" y="1419"/>
                    </a:moveTo>
                    <a:lnTo>
                      <a:pt x="565" y="1399"/>
                    </a:lnTo>
                    <a:lnTo>
                      <a:pt x="532" y="1407"/>
                    </a:lnTo>
                    <a:lnTo>
                      <a:pt x="498" y="1416"/>
                    </a:lnTo>
                    <a:lnTo>
                      <a:pt x="472" y="1406"/>
                    </a:lnTo>
                    <a:lnTo>
                      <a:pt x="432" y="1401"/>
                    </a:lnTo>
                    <a:lnTo>
                      <a:pt x="401" y="1401"/>
                    </a:lnTo>
                    <a:lnTo>
                      <a:pt x="373" y="1391"/>
                    </a:lnTo>
                    <a:lnTo>
                      <a:pt x="346" y="1381"/>
                    </a:lnTo>
                    <a:lnTo>
                      <a:pt x="314" y="1358"/>
                    </a:lnTo>
                    <a:lnTo>
                      <a:pt x="287" y="1348"/>
                    </a:lnTo>
                    <a:lnTo>
                      <a:pt x="263" y="1330"/>
                    </a:lnTo>
                    <a:lnTo>
                      <a:pt x="230" y="1307"/>
                    </a:lnTo>
                    <a:lnTo>
                      <a:pt x="207" y="1288"/>
                    </a:lnTo>
                    <a:lnTo>
                      <a:pt x="180" y="1278"/>
                    </a:lnTo>
                    <a:lnTo>
                      <a:pt x="156" y="1261"/>
                    </a:lnTo>
                    <a:lnTo>
                      <a:pt x="96" y="1228"/>
                    </a:lnTo>
                    <a:lnTo>
                      <a:pt x="66" y="1196"/>
                    </a:lnTo>
                    <a:lnTo>
                      <a:pt x="45" y="1168"/>
                    </a:lnTo>
                    <a:lnTo>
                      <a:pt x="22" y="1119"/>
                    </a:lnTo>
                    <a:lnTo>
                      <a:pt x="8" y="1073"/>
                    </a:lnTo>
                    <a:lnTo>
                      <a:pt x="0" y="1040"/>
                    </a:lnTo>
                    <a:lnTo>
                      <a:pt x="10" y="1013"/>
                    </a:lnTo>
                    <a:lnTo>
                      <a:pt x="32" y="979"/>
                    </a:lnTo>
                    <a:lnTo>
                      <a:pt x="51" y="956"/>
                    </a:lnTo>
                    <a:lnTo>
                      <a:pt x="61" y="928"/>
                    </a:lnTo>
                    <a:lnTo>
                      <a:pt x="80" y="905"/>
                    </a:lnTo>
                    <a:lnTo>
                      <a:pt x="90" y="878"/>
                    </a:lnTo>
                    <a:lnTo>
                      <a:pt x="100" y="851"/>
                    </a:lnTo>
                    <a:lnTo>
                      <a:pt x="110" y="823"/>
                    </a:lnTo>
                    <a:lnTo>
                      <a:pt x="120" y="796"/>
                    </a:lnTo>
                    <a:lnTo>
                      <a:pt x="121" y="765"/>
                    </a:lnTo>
                    <a:lnTo>
                      <a:pt x="120" y="736"/>
                    </a:lnTo>
                    <a:lnTo>
                      <a:pt x="122" y="705"/>
                    </a:lnTo>
                    <a:lnTo>
                      <a:pt x="135" y="669"/>
                    </a:lnTo>
                    <a:lnTo>
                      <a:pt x="145" y="641"/>
                    </a:lnTo>
                    <a:lnTo>
                      <a:pt x="155" y="614"/>
                    </a:lnTo>
                    <a:lnTo>
                      <a:pt x="173" y="591"/>
                    </a:lnTo>
                    <a:lnTo>
                      <a:pt x="183" y="564"/>
                    </a:lnTo>
                    <a:lnTo>
                      <a:pt x="206" y="530"/>
                    </a:lnTo>
                    <a:lnTo>
                      <a:pt x="219" y="494"/>
                    </a:lnTo>
                    <a:lnTo>
                      <a:pt x="232" y="458"/>
                    </a:lnTo>
                    <a:lnTo>
                      <a:pt x="265" y="367"/>
                    </a:lnTo>
                    <a:lnTo>
                      <a:pt x="288" y="274"/>
                    </a:lnTo>
                    <a:lnTo>
                      <a:pt x="298" y="247"/>
                    </a:lnTo>
                    <a:lnTo>
                      <a:pt x="313" y="180"/>
                    </a:lnTo>
                    <a:lnTo>
                      <a:pt x="323" y="154"/>
                    </a:lnTo>
                    <a:lnTo>
                      <a:pt x="346" y="60"/>
                    </a:lnTo>
                    <a:lnTo>
                      <a:pt x="356" y="32"/>
                    </a:lnTo>
                    <a:lnTo>
                      <a:pt x="375" y="9"/>
                    </a:lnTo>
                    <a:lnTo>
                      <a:pt x="409" y="0"/>
                    </a:lnTo>
                    <a:lnTo>
                      <a:pt x="435" y="9"/>
                    </a:lnTo>
                    <a:lnTo>
                      <a:pt x="475" y="15"/>
                    </a:lnTo>
                    <a:lnTo>
                      <a:pt x="542" y="28"/>
                    </a:lnTo>
                    <a:lnTo>
                      <a:pt x="575" y="51"/>
                    </a:lnTo>
                    <a:lnTo>
                      <a:pt x="607" y="72"/>
                    </a:lnTo>
                    <a:lnTo>
                      <a:pt x="628" y="101"/>
                    </a:lnTo>
                    <a:lnTo>
                      <a:pt x="655" y="140"/>
                    </a:lnTo>
                    <a:lnTo>
                      <a:pt x="654" y="171"/>
                    </a:lnTo>
                    <a:lnTo>
                      <a:pt x="650" y="211"/>
                    </a:lnTo>
                    <a:lnTo>
                      <a:pt x="637" y="247"/>
                    </a:lnTo>
                    <a:lnTo>
                      <a:pt x="623" y="284"/>
                    </a:lnTo>
                    <a:lnTo>
                      <a:pt x="613" y="311"/>
                    </a:lnTo>
                    <a:lnTo>
                      <a:pt x="603" y="338"/>
                    </a:lnTo>
                    <a:lnTo>
                      <a:pt x="604" y="367"/>
                    </a:lnTo>
                    <a:lnTo>
                      <a:pt x="602" y="398"/>
                    </a:lnTo>
                    <a:lnTo>
                      <a:pt x="610" y="432"/>
                    </a:lnTo>
                    <a:lnTo>
                      <a:pt x="634" y="451"/>
                    </a:lnTo>
                    <a:lnTo>
                      <a:pt x="654" y="479"/>
                    </a:lnTo>
                    <a:lnTo>
                      <a:pt x="679" y="499"/>
                    </a:lnTo>
                    <a:lnTo>
                      <a:pt x="712" y="520"/>
                    </a:lnTo>
                    <a:lnTo>
                      <a:pt x="735" y="538"/>
                    </a:lnTo>
                    <a:lnTo>
                      <a:pt x="756" y="566"/>
                    </a:lnTo>
                    <a:lnTo>
                      <a:pt x="776" y="594"/>
                    </a:lnTo>
                    <a:lnTo>
                      <a:pt x="793" y="631"/>
                    </a:lnTo>
                    <a:lnTo>
                      <a:pt x="817" y="682"/>
                    </a:lnTo>
                    <a:lnTo>
                      <a:pt x="833" y="718"/>
                    </a:lnTo>
                    <a:lnTo>
                      <a:pt x="833" y="749"/>
                    </a:lnTo>
                    <a:lnTo>
                      <a:pt x="833" y="779"/>
                    </a:lnTo>
                    <a:lnTo>
                      <a:pt x="832" y="809"/>
                    </a:lnTo>
                    <a:lnTo>
                      <a:pt x="822" y="836"/>
                    </a:lnTo>
                    <a:lnTo>
                      <a:pt x="812" y="864"/>
                    </a:lnTo>
                    <a:lnTo>
                      <a:pt x="807" y="903"/>
                    </a:lnTo>
                    <a:lnTo>
                      <a:pt x="798" y="930"/>
                    </a:lnTo>
                    <a:lnTo>
                      <a:pt x="788" y="957"/>
                    </a:lnTo>
                    <a:lnTo>
                      <a:pt x="787" y="988"/>
                    </a:lnTo>
                    <a:lnTo>
                      <a:pt x="786" y="1018"/>
                    </a:lnTo>
                    <a:lnTo>
                      <a:pt x="794" y="1052"/>
                    </a:lnTo>
                    <a:lnTo>
                      <a:pt x="784" y="1079"/>
                    </a:lnTo>
                    <a:lnTo>
                      <a:pt x="783" y="1110"/>
                    </a:lnTo>
                    <a:lnTo>
                      <a:pt x="773" y="1137"/>
                    </a:lnTo>
                    <a:lnTo>
                      <a:pt x="764" y="1164"/>
                    </a:lnTo>
                    <a:lnTo>
                      <a:pt x="754" y="1191"/>
                    </a:lnTo>
                    <a:lnTo>
                      <a:pt x="741" y="1227"/>
                    </a:lnTo>
                    <a:lnTo>
                      <a:pt x="731" y="1255"/>
                    </a:lnTo>
                    <a:lnTo>
                      <a:pt x="712" y="1278"/>
                    </a:lnTo>
                    <a:lnTo>
                      <a:pt x="684" y="1298"/>
                    </a:lnTo>
                    <a:lnTo>
                      <a:pt x="665" y="1323"/>
                    </a:lnTo>
                    <a:lnTo>
                      <a:pt x="646" y="1346"/>
                    </a:lnTo>
                    <a:lnTo>
                      <a:pt x="618" y="1367"/>
                    </a:lnTo>
                    <a:lnTo>
                      <a:pt x="590" y="1387"/>
                    </a:lnTo>
                    <a:lnTo>
                      <a:pt x="572" y="1412"/>
                    </a:lnTo>
                    <a:lnTo>
                      <a:pt x="538" y="1419"/>
                    </a:lnTo>
                  </a:path>
                </a:pathLst>
              </a:cu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65680" y="4181400"/>
                <a:ext cx="1357200" cy="486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4183200" y="3013200"/>
              <a:ext cx="203040" cy="20304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86160" y="3121200"/>
              <a:ext cx="0" cy="23446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5678640" y="3313080"/>
              <a:ext cx="1893600" cy="1833480"/>
              <a:chOff x="5678640" y="3313080"/>
              <a:chExt cx="1893600" cy="1833480"/>
            </a:xfrm>
          </p:grpSpPr>
          <p:sp>
            <p:nvSpPr>
              <p:cNvPr id="1113" name=""/>
              <p:cNvSpPr/>
              <p:nvPr/>
            </p:nvSpPr>
            <p:spPr>
              <a:xfrm>
                <a:off x="5678640" y="3313080"/>
                <a:ext cx="1893600" cy="1833480"/>
              </a:xfrm>
              <a:custGeom>
                <a:avLst/>
                <a:gdLst/>
                <a:ahLst/>
                <a:rect l="l" t="t" r="r" b="b"/>
                <a:pathLst>
                  <a:path w="1193" h="1155">
                    <a:moveTo>
                      <a:pt x="0" y="239"/>
                    </a:moveTo>
                    <a:lnTo>
                      <a:pt x="32" y="235"/>
                    </a:lnTo>
                    <a:lnTo>
                      <a:pt x="48" y="204"/>
                    </a:lnTo>
                    <a:lnTo>
                      <a:pt x="65" y="173"/>
                    </a:lnTo>
                    <a:lnTo>
                      <a:pt x="89" y="161"/>
                    </a:lnTo>
                    <a:lnTo>
                      <a:pt x="120" y="134"/>
                    </a:lnTo>
                    <a:lnTo>
                      <a:pt x="141" y="111"/>
                    </a:lnTo>
                    <a:lnTo>
                      <a:pt x="166" y="97"/>
                    </a:lnTo>
                    <a:lnTo>
                      <a:pt x="192" y="84"/>
                    </a:lnTo>
                    <a:lnTo>
                      <a:pt x="231" y="75"/>
                    </a:lnTo>
                    <a:lnTo>
                      <a:pt x="256" y="62"/>
                    </a:lnTo>
                    <a:lnTo>
                      <a:pt x="285" y="56"/>
                    </a:lnTo>
                    <a:lnTo>
                      <a:pt x="325" y="47"/>
                    </a:lnTo>
                    <a:lnTo>
                      <a:pt x="354" y="43"/>
                    </a:lnTo>
                    <a:lnTo>
                      <a:pt x="379" y="30"/>
                    </a:lnTo>
                    <a:lnTo>
                      <a:pt x="409" y="23"/>
                    </a:lnTo>
                    <a:lnTo>
                      <a:pt x="473" y="0"/>
                    </a:lnTo>
                    <a:lnTo>
                      <a:pt x="517" y="0"/>
                    </a:lnTo>
                    <a:lnTo>
                      <a:pt x="552" y="2"/>
                    </a:lnTo>
                    <a:lnTo>
                      <a:pt x="603" y="18"/>
                    </a:lnTo>
                    <a:lnTo>
                      <a:pt x="647" y="39"/>
                    </a:lnTo>
                    <a:lnTo>
                      <a:pt x="677" y="55"/>
                    </a:lnTo>
                    <a:lnTo>
                      <a:pt x="690" y="80"/>
                    </a:lnTo>
                    <a:lnTo>
                      <a:pt x="700" y="120"/>
                    </a:lnTo>
                    <a:lnTo>
                      <a:pt x="705" y="149"/>
                    </a:lnTo>
                    <a:lnTo>
                      <a:pt x="719" y="175"/>
                    </a:lnTo>
                    <a:lnTo>
                      <a:pt x="723" y="204"/>
                    </a:lnTo>
                    <a:lnTo>
                      <a:pt x="737" y="230"/>
                    </a:lnTo>
                    <a:lnTo>
                      <a:pt x="750" y="255"/>
                    </a:lnTo>
                    <a:lnTo>
                      <a:pt x="764" y="282"/>
                    </a:lnTo>
                    <a:lnTo>
                      <a:pt x="778" y="307"/>
                    </a:lnTo>
                    <a:lnTo>
                      <a:pt x="800" y="329"/>
                    </a:lnTo>
                    <a:lnTo>
                      <a:pt x="823" y="347"/>
                    </a:lnTo>
                    <a:lnTo>
                      <a:pt x="844" y="370"/>
                    </a:lnTo>
                    <a:lnTo>
                      <a:pt x="863" y="403"/>
                    </a:lnTo>
                    <a:lnTo>
                      <a:pt x="876" y="430"/>
                    </a:lnTo>
                    <a:lnTo>
                      <a:pt x="890" y="455"/>
                    </a:lnTo>
                    <a:lnTo>
                      <a:pt x="895" y="484"/>
                    </a:lnTo>
                    <a:lnTo>
                      <a:pt x="908" y="509"/>
                    </a:lnTo>
                    <a:lnTo>
                      <a:pt x="918" y="549"/>
                    </a:lnTo>
                    <a:lnTo>
                      <a:pt x="936" y="583"/>
                    </a:lnTo>
                    <a:lnTo>
                      <a:pt x="954" y="616"/>
                    </a:lnTo>
                    <a:lnTo>
                      <a:pt x="1000" y="702"/>
                    </a:lnTo>
                    <a:lnTo>
                      <a:pt x="1053" y="782"/>
                    </a:lnTo>
                    <a:lnTo>
                      <a:pt x="1067" y="807"/>
                    </a:lnTo>
                    <a:lnTo>
                      <a:pt x="1106" y="863"/>
                    </a:lnTo>
                    <a:lnTo>
                      <a:pt x="1119" y="888"/>
                    </a:lnTo>
                    <a:lnTo>
                      <a:pt x="1173" y="968"/>
                    </a:lnTo>
                    <a:lnTo>
                      <a:pt x="1188" y="994"/>
                    </a:lnTo>
                    <a:lnTo>
                      <a:pt x="1192" y="1024"/>
                    </a:lnTo>
                    <a:lnTo>
                      <a:pt x="1176" y="1055"/>
                    </a:lnTo>
                    <a:lnTo>
                      <a:pt x="1152" y="1068"/>
                    </a:lnTo>
                    <a:lnTo>
                      <a:pt x="1121" y="1094"/>
                    </a:lnTo>
                    <a:lnTo>
                      <a:pt x="1066" y="1135"/>
                    </a:lnTo>
                    <a:lnTo>
                      <a:pt x="1027" y="1144"/>
                    </a:lnTo>
                    <a:lnTo>
                      <a:pt x="990" y="1154"/>
                    </a:lnTo>
                    <a:lnTo>
                      <a:pt x="955" y="1150"/>
                    </a:lnTo>
                    <a:lnTo>
                      <a:pt x="908" y="1144"/>
                    </a:lnTo>
                    <a:lnTo>
                      <a:pt x="885" y="1122"/>
                    </a:lnTo>
                    <a:lnTo>
                      <a:pt x="858" y="1093"/>
                    </a:lnTo>
                    <a:lnTo>
                      <a:pt x="840" y="1059"/>
                    </a:lnTo>
                    <a:lnTo>
                      <a:pt x="822" y="1024"/>
                    </a:lnTo>
                    <a:lnTo>
                      <a:pt x="809" y="998"/>
                    </a:lnTo>
                    <a:lnTo>
                      <a:pt x="795" y="973"/>
                    </a:lnTo>
                    <a:lnTo>
                      <a:pt x="773" y="954"/>
                    </a:lnTo>
                    <a:lnTo>
                      <a:pt x="751" y="932"/>
                    </a:lnTo>
                    <a:lnTo>
                      <a:pt x="721" y="915"/>
                    </a:lnTo>
                    <a:lnTo>
                      <a:pt x="691" y="920"/>
                    </a:lnTo>
                    <a:lnTo>
                      <a:pt x="656" y="916"/>
                    </a:lnTo>
                    <a:lnTo>
                      <a:pt x="625" y="922"/>
                    </a:lnTo>
                    <a:lnTo>
                      <a:pt x="586" y="932"/>
                    </a:lnTo>
                    <a:lnTo>
                      <a:pt x="558" y="937"/>
                    </a:lnTo>
                    <a:lnTo>
                      <a:pt x="523" y="934"/>
                    </a:lnTo>
                    <a:lnTo>
                      <a:pt x="489" y="930"/>
                    </a:lnTo>
                    <a:lnTo>
                      <a:pt x="450" y="918"/>
                    </a:lnTo>
                    <a:lnTo>
                      <a:pt x="396" y="902"/>
                    </a:lnTo>
                    <a:lnTo>
                      <a:pt x="359" y="889"/>
                    </a:lnTo>
                    <a:lnTo>
                      <a:pt x="336" y="869"/>
                    </a:lnTo>
                    <a:lnTo>
                      <a:pt x="314" y="849"/>
                    </a:lnTo>
                    <a:lnTo>
                      <a:pt x="292" y="828"/>
                    </a:lnTo>
                    <a:lnTo>
                      <a:pt x="279" y="802"/>
                    </a:lnTo>
                    <a:lnTo>
                      <a:pt x="265" y="776"/>
                    </a:lnTo>
                    <a:lnTo>
                      <a:pt x="239" y="747"/>
                    </a:lnTo>
                    <a:lnTo>
                      <a:pt x="225" y="722"/>
                    </a:lnTo>
                    <a:lnTo>
                      <a:pt x="212" y="697"/>
                    </a:lnTo>
                    <a:lnTo>
                      <a:pt x="189" y="675"/>
                    </a:lnTo>
                    <a:lnTo>
                      <a:pt x="167" y="654"/>
                    </a:lnTo>
                    <a:lnTo>
                      <a:pt x="137" y="637"/>
                    </a:lnTo>
                    <a:lnTo>
                      <a:pt x="123" y="612"/>
                    </a:lnTo>
                    <a:lnTo>
                      <a:pt x="101" y="590"/>
                    </a:lnTo>
                    <a:lnTo>
                      <a:pt x="88" y="564"/>
                    </a:lnTo>
                    <a:lnTo>
                      <a:pt x="74" y="540"/>
                    </a:lnTo>
                    <a:lnTo>
                      <a:pt x="60" y="514"/>
                    </a:lnTo>
                    <a:lnTo>
                      <a:pt x="42" y="481"/>
                    </a:lnTo>
                    <a:lnTo>
                      <a:pt x="28" y="454"/>
                    </a:lnTo>
                    <a:lnTo>
                      <a:pt x="23" y="425"/>
                    </a:lnTo>
                    <a:lnTo>
                      <a:pt x="27" y="390"/>
                    </a:lnTo>
                    <a:lnTo>
                      <a:pt x="22" y="360"/>
                    </a:lnTo>
                    <a:lnTo>
                      <a:pt x="18" y="330"/>
                    </a:lnTo>
                    <a:lnTo>
                      <a:pt x="20" y="295"/>
                    </a:lnTo>
                    <a:lnTo>
                      <a:pt x="24" y="261"/>
                    </a:lnTo>
                    <a:lnTo>
                      <a:pt x="18" y="231"/>
                    </a:lnTo>
                    <a:lnTo>
                      <a:pt x="35" y="201"/>
                    </a:lnTo>
                  </a:path>
                </a:pathLst>
              </a:cu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5713560" y="3938760"/>
                <a:ext cx="1301760" cy="672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 flipH="1" flipV="1">
              <a:off x="5751360" y="3374640"/>
              <a:ext cx="1765440" cy="1590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615000" y="3279600"/>
              <a:ext cx="0" cy="2027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521400" y="3208320"/>
              <a:ext cx="203400" cy="20304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50800" y="2882880"/>
              <a:ext cx="129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000"/>
                  </a:solidFill>
                  <a:latin typeface="Arial"/>
                </a:rPr>
                <a:t>pivo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41160" y="3990960"/>
              <a:ext cx="11494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1057680" y="5878440"/>
            <a:ext cx="63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محل تقاطع این خطوط دقیقا مرکز جرم جسم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574640" y="5584680"/>
            <a:ext cx="5191200" cy="8161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8280" y="645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رکز جرم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41040" y="22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از سه میله هم جرم که با هم زوایای مساوی تشکیل می دهند روی محوری مطابق شکل قرار می دهیم این جسم دارای چه نوع تعادلی است ؟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043960" y="3875040"/>
            <a:ext cx="2070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لف - پاید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- خنث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- ناپاید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1317600" y="3467160"/>
            <a:ext cx="2595960" cy="2655720"/>
            <a:chOff x="1317600" y="3467160"/>
            <a:chExt cx="2595960" cy="2655720"/>
          </a:xfrm>
        </p:grpSpPr>
        <p:sp>
          <p:nvSpPr>
            <p:cNvPr id="1126" name=""/>
            <p:cNvSpPr/>
            <p:nvPr/>
          </p:nvSpPr>
          <p:spPr>
            <a:xfrm>
              <a:off x="1317600" y="3922560"/>
              <a:ext cx="2592360" cy="220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62200" y="3467160"/>
              <a:ext cx="0" cy="1511280"/>
            </a:xfrm>
            <a:prstGeom prst="line">
              <a:avLst/>
            </a:prstGeom>
            <a:ln w="1522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1380240" y="4956840"/>
              <a:ext cx="1254600" cy="901440"/>
            </a:xfrm>
            <a:prstGeom prst="line">
              <a:avLst/>
            </a:prstGeom>
            <a:ln w="1522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645280" y="4950360"/>
              <a:ext cx="1268280" cy="903600"/>
            </a:xfrm>
            <a:prstGeom prst="line">
              <a:avLst/>
            </a:prstGeom>
            <a:ln w="1522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121360" y="156672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این شیئ دقیقا در مرکز و روی سیم قراردا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1560" y="1457280"/>
            <a:ext cx="40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سم را اندکی به راست یا چپ منحرف کنیم مرکز جرم آن بالای سیم قرار نداشته ونیروی جاذبه سبب افتادن آن می شو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840240" y="3317040"/>
            <a:ext cx="7205400" cy="3058200"/>
            <a:chOff x="840240" y="3317040"/>
            <a:chExt cx="7205400" cy="3058200"/>
          </a:xfrm>
        </p:grpSpPr>
        <p:grpSp>
          <p:nvGrpSpPr>
            <p:cNvPr id="1134" name=""/>
            <p:cNvGrpSpPr/>
            <p:nvPr/>
          </p:nvGrpSpPr>
          <p:grpSpPr>
            <a:xfrm>
              <a:off x="840240" y="3317040"/>
              <a:ext cx="2487600" cy="2584800"/>
              <a:chOff x="840240" y="3317040"/>
              <a:chExt cx="2487600" cy="2584800"/>
            </a:xfrm>
          </p:grpSpPr>
          <p:sp>
            <p:nvSpPr>
              <p:cNvPr id="1135" name=""/>
              <p:cNvSpPr/>
              <p:nvPr/>
            </p:nvSpPr>
            <p:spPr>
              <a:xfrm flipV="1">
                <a:off x="840240" y="4776840"/>
                <a:ext cx="1404000" cy="644760"/>
              </a:xfrm>
              <a:prstGeom prst="line">
                <a:avLst/>
              </a:prstGeom>
              <a:ln w="1396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2256120" y="4772160"/>
                <a:ext cx="1071720" cy="112968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37" name=""/>
              <p:cNvGrpSpPr/>
              <p:nvPr/>
            </p:nvGrpSpPr>
            <p:grpSpPr>
              <a:xfrm>
                <a:off x="2076480" y="3317040"/>
                <a:ext cx="1173240" cy="2179080"/>
                <a:chOff x="2076480" y="3317040"/>
                <a:chExt cx="1173240" cy="2179080"/>
              </a:xfrm>
            </p:grpSpPr>
            <p:sp>
              <p:nvSpPr>
                <p:cNvPr id="1138" name=""/>
                <p:cNvSpPr/>
                <p:nvPr/>
              </p:nvSpPr>
              <p:spPr>
                <a:xfrm flipH="1">
                  <a:off x="2242440" y="3317040"/>
                  <a:ext cx="302040" cy="1481040"/>
                </a:xfrm>
                <a:prstGeom prst="line">
                  <a:avLst/>
                </a:prstGeom>
                <a:ln w="1522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27600">
                  <a:off x="2077920" y="4571640"/>
                  <a:ext cx="407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afd00"/>
                      </a:solidFill>
                      <a:latin typeface="Arial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360520" y="4568760"/>
                  <a:ext cx="889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C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182680" y="4861080"/>
                  <a:ext cx="74520" cy="11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259000" y="4899240"/>
                  <a:ext cx="0" cy="59688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220840" y="5140440"/>
                  <a:ext cx="7621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ff00"/>
                      </a:solidFill>
                      <a:latin typeface="Arial"/>
                    </a:rPr>
                    <a:t>mg</a:t>
                  </a:r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5512680" y="3367080"/>
              <a:ext cx="2532960" cy="2391120"/>
              <a:chOff x="5512680" y="3367080"/>
              <a:chExt cx="2532960" cy="2391120"/>
            </a:xfrm>
          </p:grpSpPr>
          <p:sp>
            <p:nvSpPr>
              <p:cNvPr id="1145" name=""/>
              <p:cNvSpPr/>
              <p:nvPr/>
            </p:nvSpPr>
            <p:spPr>
              <a:xfrm flipH="1">
                <a:off x="6768720" y="3367080"/>
                <a:ext cx="2880" cy="151128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5512680" y="4856760"/>
                <a:ext cx="1254240" cy="90144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6777720" y="4850280"/>
                <a:ext cx="1267920" cy="9036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47000">
                <a:off x="6600240" y="4639680"/>
                <a:ext cx="40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857640" y="4636800"/>
                <a:ext cx="88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C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33800" y="4949640"/>
                <a:ext cx="7452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81680" y="4916520"/>
                <a:ext cx="0" cy="596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56120" y="5208480"/>
                <a:ext cx="7617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ff00"/>
                    </a:solidFill>
                    <a:latin typeface="Arial"/>
                  </a:rPr>
                  <a:t>mg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3873600" y="600696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نمای روبرو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1004400" y="1295280"/>
            <a:ext cx="7162920" cy="3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940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التی را در نظر بگیرید که در آن به انتهای دومیله دو جرم مساوی آویزان کرده ا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ح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489560" y="53514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مرکز جرم زیر میله قرار دا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98440" y="5297400"/>
            <a:ext cx="44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سم را اندکی منحرف کنیم نیروی جاذبه نیروی برگرداننده لازم برای برگرداندن جسم به وضعیت تعادل ایجاد می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801720" y="2090520"/>
            <a:ext cx="7810560" cy="3012840"/>
            <a:chOff x="801720" y="2090520"/>
            <a:chExt cx="7810560" cy="3012840"/>
          </a:xfrm>
        </p:grpSpPr>
        <p:grpSp>
          <p:nvGrpSpPr>
            <p:cNvPr id="1159" name=""/>
            <p:cNvGrpSpPr/>
            <p:nvPr/>
          </p:nvGrpSpPr>
          <p:grpSpPr>
            <a:xfrm>
              <a:off x="5243400" y="2100240"/>
              <a:ext cx="3368880" cy="2790360"/>
              <a:chOff x="5243400" y="2100240"/>
              <a:chExt cx="3368880" cy="2790360"/>
            </a:xfrm>
          </p:grpSpPr>
          <p:sp>
            <p:nvSpPr>
              <p:cNvPr id="1160" name=""/>
              <p:cNvSpPr/>
              <p:nvPr/>
            </p:nvSpPr>
            <p:spPr>
              <a:xfrm flipH="1">
                <a:off x="6923160" y="2100240"/>
                <a:ext cx="1440" cy="15300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654160" y="3607920"/>
                <a:ext cx="1253880" cy="9018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>
                <a:off x="6919200" y="3601800"/>
                <a:ext cx="1267920" cy="90396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1800">
                <a:off x="6729120" y="3798720"/>
                <a:ext cx="407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9480" y="3808080"/>
                <a:ext cx="88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C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872400" y="3693960"/>
                <a:ext cx="74520" cy="11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10560" y="4138200"/>
                <a:ext cx="0" cy="5965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85000" y="4430520"/>
                <a:ext cx="7621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ff00"/>
                    </a:solidFill>
                    <a:latin typeface="Arial"/>
                  </a:rPr>
                  <a:t>mg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43400" y="4404960"/>
                <a:ext cx="486000" cy="48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26280" y="4404960"/>
                <a:ext cx="486000" cy="48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801720" y="2090520"/>
              <a:ext cx="3330360" cy="3012840"/>
              <a:chOff x="801720" y="2090520"/>
              <a:chExt cx="3330360" cy="3012840"/>
            </a:xfrm>
          </p:grpSpPr>
          <p:sp>
            <p:nvSpPr>
              <p:cNvPr id="1171" name=""/>
              <p:cNvSpPr/>
              <p:nvPr/>
            </p:nvSpPr>
            <p:spPr>
              <a:xfrm>
                <a:off x="2633760" y="3627360"/>
                <a:ext cx="74520" cy="11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85880" y="4046400"/>
                <a:ext cx="0" cy="5965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608200" y="4249440"/>
                <a:ext cx="7621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ff00"/>
                    </a:solidFill>
                    <a:latin typeface="Arial"/>
                  </a:rPr>
                  <a:t>mg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2692440" y="2090520"/>
                <a:ext cx="361080" cy="14670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1254960" y="3534480"/>
                <a:ext cx="1428480" cy="5886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2695320" y="3531240"/>
                <a:ext cx="1024920" cy="1171800"/>
              </a:xfrm>
              <a:prstGeom prst="line">
                <a:avLst/>
              </a:prstGeom>
              <a:ln w="1522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54000">
                <a:off x="2407680" y="3731760"/>
                <a:ext cx="408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25480" y="3752640"/>
                <a:ext cx="88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C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1720" y="3970080"/>
                <a:ext cx="485640" cy="48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646440" y="4617720"/>
                <a:ext cx="485640" cy="48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رعت و شتاب مرکز جر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11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ذرات حرکت کنند مرکز جرم آن ذرات نیز حرکت خواهد ک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ردار موقعیت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 ذره از سیستم را بدانیم دراین صور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031840" y="2914560"/>
                <a:ext cx="1825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052720" y="3822840"/>
                <a:ext cx="42526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d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7" name=""/>
          <p:cNvSpPr/>
          <p:nvPr/>
        </p:nvSpPr>
        <p:spPr>
          <a:xfrm>
            <a:off x="6496920" y="3924360"/>
            <a:ext cx="173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021040" y="4757760"/>
                <a:ext cx="4325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617520" y="4921200"/>
            <a:ext cx="94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و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46280" y="5565600"/>
            <a:ext cx="7626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و شتاب مرکز جرم سیستم میانگین وزنی سرعت و شتاب ذرات سیستم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5216400" y="2932200"/>
                <a:ext cx="12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خط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عریف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ذره تکان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ین تعریف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903240" y="3855960"/>
            <a:ext cx="7162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قانون دوم نیوت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41520" y="4340160"/>
            <a:ext cx="1133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1847880" y="4748040"/>
                <a:ext cx="79524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8" name=""/>
          <p:cNvSpPr/>
          <p:nvPr/>
        </p:nvSpPr>
        <p:spPr>
          <a:xfrm>
            <a:off x="3457440" y="247968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056040" y="2368440"/>
            <a:ext cx="1793880" cy="693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179880" y="2306520"/>
            <a:ext cx="1608120" cy="82872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43400" y="2308320"/>
            <a:ext cx="334188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بردار است زیر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بردار است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174680" y="3309840"/>
            <a:ext cx="30560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غیر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257560" y="4716360"/>
            <a:ext cx="11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789280" y="4741920"/>
            <a:ext cx="1157400" cy="596880"/>
            <a:chOff x="2789280" y="4741920"/>
            <a:chExt cx="1157400" cy="596880"/>
          </a:xfrm>
        </p:grpSpPr>
        <mc:AlternateContent>
          <mc:Choice xmlns:a14="http://schemas.microsoft.com/office/drawing/2010/main" Requires="a14">
            <p:sp>
              <p:nvSpPr>
                <p:cNvPr id="1205" name=""/>
                <p:cNvSpPr txBox="1"/>
                <p:nvPr/>
              </p:nvSpPr>
              <p:spPr>
                <a:xfrm>
                  <a:off x="2789280" y="4741920"/>
                  <a:ext cx="114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6" name=""/>
            <p:cNvSpPr/>
            <p:nvPr/>
          </p:nvSpPr>
          <p:spPr>
            <a:xfrm>
              <a:off x="3583080" y="482904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087800" y="4595760"/>
            <a:ext cx="2840040" cy="844560"/>
            <a:chOff x="4087800" y="4595760"/>
            <a:chExt cx="2840040" cy="844560"/>
          </a:xfrm>
        </p:grpSpPr>
        <p:sp>
          <p:nvSpPr>
            <p:cNvPr id="1208" name=""/>
            <p:cNvSpPr/>
            <p:nvPr/>
          </p:nvSpPr>
          <p:spPr>
            <a:xfrm>
              <a:off x="5119560" y="4595760"/>
              <a:ext cx="1633680" cy="844560"/>
            </a:xfrm>
            <a:prstGeom prst="bevel">
              <a:avLst>
                <a:gd name="adj" fmla="val 12500"/>
              </a:avLst>
            </a:prstGeom>
            <a:noFill/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9" name=""/>
                <p:cNvSpPr txBox="1"/>
                <p:nvPr/>
              </p:nvSpPr>
              <p:spPr>
                <a:xfrm>
                  <a:off x="5475240" y="4732200"/>
                  <a:ext cx="935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0" name=""/>
            <p:cNvSpPr/>
            <p:nvPr/>
          </p:nvSpPr>
          <p:spPr>
            <a:xfrm>
              <a:off x="4087800" y="4836960"/>
              <a:ext cx="557280" cy="395280"/>
            </a:xfrm>
            <a:prstGeom prst="rightArrow">
              <a:avLst>
                <a:gd name="adj1" fmla="val 50000"/>
                <a:gd name="adj2" fmla="val 35246"/>
              </a:avLst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37200" y="4660560"/>
              <a:ext cx="8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708120" y="5678640"/>
            <a:ext cx="71625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ی تکانه خط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g m/s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afd00"/>
                </a:solidFill>
                <a:latin typeface="Arial"/>
                <a:cs typeface="Arial"/>
              </a:rPr>
              <a:t>فصل دهم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2520" y="2873160"/>
            <a:ext cx="7265880" cy="15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وتکانه خط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خط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3147840" y="2441520"/>
                <a:ext cx="2067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6" name=""/>
          <p:cNvSpPr/>
          <p:nvPr/>
        </p:nvSpPr>
        <p:spPr>
          <a:xfrm>
            <a:off x="289440" y="1822320"/>
            <a:ext cx="81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سیتم ذره ای تکانه خطی ک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مع بردار تکانه خطی ذرات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2759040" y="4043520"/>
                <a:ext cx="1749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8" name=""/>
          <p:cNvSpPr/>
          <p:nvPr/>
        </p:nvSpPr>
        <p:spPr>
          <a:xfrm>
            <a:off x="5643720" y="3390840"/>
            <a:ext cx="287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نشان دادیم ک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4070520" y="5224320"/>
                <a:ext cx="112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840280" y="5189400"/>
            <a:ext cx="149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923000" y="4122720"/>
                <a:ext cx="2038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2" name=""/>
          <p:cNvSpPr/>
          <p:nvPr/>
        </p:nvSpPr>
        <p:spPr>
          <a:xfrm>
            <a:off x="3971880" y="5046840"/>
            <a:ext cx="1459080" cy="668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631960" y="2292480"/>
            <a:ext cx="3571920" cy="9712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خط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تکانه کل یک سیتم ذره ای برابر است با جرم سیتستم در سرعت مرکز جرم آن سیست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ا به کمی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لاقمندیم لذا با ید                را محاسبه ک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825640" y="2521080"/>
            <a:ext cx="1587600" cy="67284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751120" y="3719520"/>
                <a:ext cx="45435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6308640" y="4435560"/>
                <a:ext cx="36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848040" y="4645080"/>
                <a:ext cx="8222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078000" y="2743200"/>
                <a:ext cx="112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خط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یک سیستم سه ذره ای که برهم اثر متقابل دارند داشته باشیم و بر ذره اول یک نیروی خارجی وارد شو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419080" y="2798640"/>
            <a:ext cx="2983680" cy="2979720"/>
            <a:chOff x="5419080" y="2798640"/>
            <a:chExt cx="2983680" cy="2979720"/>
          </a:xfrm>
        </p:grpSpPr>
        <p:sp>
          <p:nvSpPr>
            <p:cNvPr id="1238" name=""/>
            <p:cNvSpPr/>
            <p:nvPr/>
          </p:nvSpPr>
          <p:spPr>
            <a:xfrm>
              <a:off x="5797440" y="41212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6240" y="43498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64480" y="2978280"/>
              <a:ext cx="44424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026040" y="3193560"/>
              <a:ext cx="1054080" cy="115596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93080" y="3206880"/>
              <a:ext cx="749160" cy="135864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26040" y="4349880"/>
              <a:ext cx="1816200" cy="21564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32520" y="4356000"/>
              <a:ext cx="584280" cy="50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51840" y="4508640"/>
              <a:ext cx="583920" cy="50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19080" y="45496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67000" y="27986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324200" y="47023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032520" y="3873600"/>
              <a:ext cx="431640" cy="4824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642000" y="3187800"/>
              <a:ext cx="432000" cy="4824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099200" y="3213000"/>
              <a:ext cx="27936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flipV="1">
              <a:off x="7556400" y="4051080"/>
              <a:ext cx="27936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00800" y="378792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34320" y="310356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948720" y="325440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29600" y="394020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948720" y="454968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58000" y="447372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08840" y="4508640"/>
              <a:ext cx="736560" cy="126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6600" y="5083200"/>
              <a:ext cx="132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,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374840" y="2836800"/>
                <a:ext cx="304164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2" name=""/>
          <p:cNvSpPr/>
          <p:nvPr/>
        </p:nvSpPr>
        <p:spPr>
          <a:xfrm>
            <a:off x="2095560" y="4626000"/>
            <a:ext cx="3370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قانون سوم نیوتن نیروهای اثر متقابل همدیگر را خنثی می کن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29680" y="5616720"/>
            <a:ext cx="94294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لیه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یروهای داخلی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(نیروهای عمل و عکس العمل همدیگر) را خنثی می کنند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فقط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یروی خارجی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بر سیستم اثر می کند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2060640" y="841320"/>
            <a:ext cx="59068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با این انیمیشن کوتاه قانون پایستاری تکانه خط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را مورد بررسی قرار دهی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253040" y="5514840"/>
            <a:ext cx="1828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روی شکل  کلیک کنی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2692440" y="2284560"/>
            <a:ext cx="3646440" cy="298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4438800" y="722160"/>
            <a:ext cx="3127320" cy="811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آونگ نیوت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1155600" y="16606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26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26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089000" y="4305240"/>
            <a:ext cx="3067200" cy="102708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خط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نیروی خارجی کل وارد بر سیستم حائز اهمیت اس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5419080" y="2798640"/>
            <a:ext cx="2952360" cy="2979720"/>
            <a:chOff x="5419080" y="2798640"/>
            <a:chExt cx="2952360" cy="2979720"/>
          </a:xfrm>
        </p:grpSpPr>
        <p:sp>
          <p:nvSpPr>
            <p:cNvPr id="1275" name=""/>
            <p:cNvSpPr/>
            <p:nvPr/>
          </p:nvSpPr>
          <p:spPr>
            <a:xfrm>
              <a:off x="5797440" y="41212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26240" y="4349880"/>
              <a:ext cx="44460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864480" y="2978280"/>
              <a:ext cx="44424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6026040" y="3193560"/>
              <a:ext cx="1054080" cy="115596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93080" y="3206880"/>
              <a:ext cx="749160" cy="135864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26040" y="4349880"/>
              <a:ext cx="1816200" cy="21564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032520" y="4356000"/>
              <a:ext cx="584280" cy="50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51840" y="4508640"/>
              <a:ext cx="583920" cy="50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19080" y="45496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67000" y="27986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24200" y="470232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6032520" y="3873600"/>
              <a:ext cx="431640" cy="4824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6642000" y="3187800"/>
              <a:ext cx="432000" cy="4824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99200" y="3213000"/>
              <a:ext cx="27936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56400" y="4051440"/>
              <a:ext cx="27936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08840" y="4508640"/>
              <a:ext cx="736560" cy="126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76600" y="5083200"/>
              <a:ext cx="132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,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219400" y="2379600"/>
                <a:ext cx="26096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1758960" y="2216160"/>
            <a:ext cx="3340080" cy="1054080"/>
          </a:xfrm>
          <a:prstGeom prst="roundRect">
            <a:avLst>
              <a:gd name="adj" fmla="val 12495"/>
            </a:avLst>
          </a:prstGeom>
          <a:noFill/>
          <a:ln w="66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1436760" y="4498920"/>
                <a:ext cx="23479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3753000" y="3660840"/>
            <a:ext cx="1617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معادل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44600" y="5540400"/>
            <a:ext cx="64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دوم نیوتن در مورد این سیستم ها نیز کاربرد دا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مرکز جرم : یادآور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608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زیر را برای حرکت مرکز جرم داریم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دارای چند پیامد می باش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قانون می گوید که مرکز یک سیستم گسترده مانند یک جرم نقطه ای تحت تاثیر نیروهای خارجی حرکت می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رابطه نیر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ت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بق معمول به همدیگر مربوط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این رابطه ا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X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 تکانه کل سیستم تغییر نخواهد ک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کل سیستم پایستار می ماند اگر بر سیستم نیروی خارجی اثر نکند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73360" y="2139840"/>
            <a:ext cx="280656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3011400" y="2397240"/>
                <a:ext cx="2086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فضانورد و طناب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90720" y="150444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51200" indent="-151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فضانورد در فضا به وسیله طنابی به همدیگر متصلند و طناب را می کشند . این دو فضانورد در کجا به همدیگر می رس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1625760" y="3168720"/>
            <a:ext cx="5663880" cy="2616120"/>
            <a:chOff x="1625760" y="3168720"/>
            <a:chExt cx="5663880" cy="2616120"/>
          </a:xfrm>
        </p:grpSpPr>
        <p:sp>
          <p:nvSpPr>
            <p:cNvPr id="1308" name=""/>
            <p:cNvSpPr/>
            <p:nvPr/>
          </p:nvSpPr>
          <p:spPr>
            <a:xfrm>
              <a:off x="2765520" y="4648320"/>
              <a:ext cx="33940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1680" y="4648320"/>
              <a:ext cx="128520" cy="490320"/>
            </a:xfrm>
            <a:custGeom>
              <a:avLst/>
              <a:gdLst/>
              <a:ahLst/>
              <a:rect l="l" t="t" r="r" b="b"/>
              <a:pathLst>
                <a:path w="81" h="309">
                  <a:moveTo>
                    <a:pt x="80" y="0"/>
                  </a:moveTo>
                  <a:lnTo>
                    <a:pt x="68" y="8"/>
                  </a:lnTo>
                  <a:lnTo>
                    <a:pt x="60" y="20"/>
                  </a:lnTo>
                  <a:lnTo>
                    <a:pt x="56" y="32"/>
                  </a:lnTo>
                  <a:lnTo>
                    <a:pt x="48" y="44"/>
                  </a:lnTo>
                  <a:lnTo>
                    <a:pt x="40" y="60"/>
                  </a:lnTo>
                  <a:lnTo>
                    <a:pt x="40" y="72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108"/>
                  </a:lnTo>
                  <a:lnTo>
                    <a:pt x="40" y="136"/>
                  </a:lnTo>
                  <a:lnTo>
                    <a:pt x="40" y="148"/>
                  </a:lnTo>
                  <a:lnTo>
                    <a:pt x="40" y="164"/>
                  </a:lnTo>
                  <a:lnTo>
                    <a:pt x="44" y="180"/>
                  </a:lnTo>
                  <a:lnTo>
                    <a:pt x="44" y="196"/>
                  </a:lnTo>
                  <a:lnTo>
                    <a:pt x="44" y="220"/>
                  </a:lnTo>
                  <a:lnTo>
                    <a:pt x="44" y="248"/>
                  </a:lnTo>
                  <a:lnTo>
                    <a:pt x="48" y="260"/>
                  </a:lnTo>
                  <a:lnTo>
                    <a:pt x="48" y="272"/>
                  </a:lnTo>
                  <a:lnTo>
                    <a:pt x="36" y="280"/>
                  </a:lnTo>
                  <a:lnTo>
                    <a:pt x="24" y="288"/>
                  </a:lnTo>
                  <a:lnTo>
                    <a:pt x="12" y="296"/>
                  </a:lnTo>
                  <a:lnTo>
                    <a:pt x="0" y="308"/>
                  </a:lnTo>
                </a:path>
              </a:pathLst>
            </a:custGeom>
            <a:noFill/>
            <a:ln cap="rnd"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22960" y="4641840"/>
              <a:ext cx="128520" cy="490680"/>
            </a:xfrm>
            <a:custGeom>
              <a:avLst/>
              <a:gdLst/>
              <a:ahLst/>
              <a:rect l="l" t="t" r="r" b="b"/>
              <a:pathLst>
                <a:path w="81" h="309">
                  <a:moveTo>
                    <a:pt x="0" y="0"/>
                  </a:moveTo>
                  <a:lnTo>
                    <a:pt x="12" y="8"/>
                  </a:lnTo>
                  <a:lnTo>
                    <a:pt x="20" y="20"/>
                  </a:lnTo>
                  <a:lnTo>
                    <a:pt x="24" y="32"/>
                  </a:lnTo>
                  <a:lnTo>
                    <a:pt x="32" y="44"/>
                  </a:lnTo>
                  <a:lnTo>
                    <a:pt x="40" y="60"/>
                  </a:lnTo>
                  <a:lnTo>
                    <a:pt x="40" y="72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108"/>
                  </a:lnTo>
                  <a:lnTo>
                    <a:pt x="40" y="136"/>
                  </a:lnTo>
                  <a:lnTo>
                    <a:pt x="40" y="148"/>
                  </a:lnTo>
                  <a:lnTo>
                    <a:pt x="40" y="164"/>
                  </a:lnTo>
                  <a:lnTo>
                    <a:pt x="36" y="180"/>
                  </a:lnTo>
                  <a:lnTo>
                    <a:pt x="36" y="196"/>
                  </a:lnTo>
                  <a:lnTo>
                    <a:pt x="36" y="220"/>
                  </a:lnTo>
                  <a:lnTo>
                    <a:pt x="36" y="248"/>
                  </a:lnTo>
                  <a:lnTo>
                    <a:pt x="32" y="260"/>
                  </a:lnTo>
                  <a:lnTo>
                    <a:pt x="32" y="272"/>
                  </a:lnTo>
                  <a:lnTo>
                    <a:pt x="44" y="280"/>
                  </a:lnTo>
                  <a:lnTo>
                    <a:pt x="56" y="288"/>
                  </a:lnTo>
                  <a:lnTo>
                    <a:pt x="68" y="296"/>
                  </a:lnTo>
                  <a:lnTo>
                    <a:pt x="80" y="308"/>
                  </a:lnTo>
                </a:path>
              </a:pathLst>
            </a:custGeom>
            <a:noFill/>
            <a:ln cap="rnd"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68440" y="3726000"/>
              <a:ext cx="220680" cy="372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76440" y="4111560"/>
              <a:ext cx="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340000" y="4187880"/>
              <a:ext cx="2728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63840" y="4340160"/>
              <a:ext cx="6336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540160" y="4587840"/>
              <a:ext cx="23472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20800" y="4282920"/>
              <a:ext cx="14472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78120" y="4349880"/>
              <a:ext cx="44280" cy="23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463840" y="4921200"/>
              <a:ext cx="92160" cy="33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394000" y="5283360"/>
              <a:ext cx="16488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413080" y="4959360"/>
              <a:ext cx="108000" cy="2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222280" y="5226120"/>
              <a:ext cx="21276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78120" y="4654440"/>
              <a:ext cx="633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816280" y="458784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6130800" y="3720960"/>
              <a:ext cx="644760" cy="1787760"/>
              <a:chOff x="6130800" y="3720960"/>
              <a:chExt cx="644760" cy="1787760"/>
            </a:xfrm>
          </p:grpSpPr>
          <p:sp>
            <p:nvSpPr>
              <p:cNvPr id="1325" name=""/>
              <p:cNvSpPr/>
              <p:nvPr/>
            </p:nvSpPr>
            <p:spPr>
              <a:xfrm>
                <a:off x="6426360" y="3720960"/>
                <a:ext cx="21564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534000" y="4111560"/>
                <a:ext cx="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445080" y="4187880"/>
                <a:ext cx="177840" cy="749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6470280" y="4340160"/>
                <a:ext cx="88920" cy="235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6222600" y="4587840"/>
                <a:ext cx="260280" cy="10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6232680" y="4282920"/>
                <a:ext cx="20304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6175440" y="4349880"/>
                <a:ext cx="69840" cy="234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6442200" y="4921200"/>
                <a:ext cx="117360" cy="339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464160" y="5283360"/>
                <a:ext cx="139680" cy="22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502320" y="4959360"/>
                <a:ext cx="8280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588000" y="5226120"/>
                <a:ext cx="187560" cy="18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68960" y="4654440"/>
                <a:ext cx="6372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30800" y="458784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1699200" y="3387600"/>
              <a:ext cx="1819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 = 1.5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967000" y="3368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625760" y="3168720"/>
              <a:ext cx="5663880" cy="261612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فضانورد و طناب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826160" y="2081160"/>
            <a:ext cx="375588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ها از سکون شروع به حر کت می کنند لذ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CM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ثابت می ماند زیرا نیروی خارجی به سییتم وارد نمی ش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رکز جرم حرکت ن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آنها در مرکز جرم به همدیگر می رسند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817240" y="4395960"/>
            <a:ext cx="28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یافتن مرکز جرم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53040" y="4702320"/>
            <a:ext cx="585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فضانورد درسمت چپ و درنق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x = 0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7" name=""/>
              <p:cNvSpPr txBox="1"/>
              <p:nvPr/>
            </p:nvSpPr>
            <p:spPr>
              <a:xfrm>
                <a:off x="2671920" y="5300640"/>
                <a:ext cx="4457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8" name=""/>
          <p:cNvSpPr/>
          <p:nvPr/>
        </p:nvSpPr>
        <p:spPr>
          <a:xfrm>
            <a:off x="2502000" y="5207040"/>
            <a:ext cx="4044960" cy="768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702720" y="1857240"/>
            <a:ext cx="4042800" cy="2597040"/>
            <a:chOff x="702720" y="1857240"/>
            <a:chExt cx="4042800" cy="2597040"/>
          </a:xfrm>
        </p:grpSpPr>
        <p:sp>
          <p:nvSpPr>
            <p:cNvPr id="1350" name=""/>
            <p:cNvSpPr/>
            <p:nvPr/>
          </p:nvSpPr>
          <p:spPr>
            <a:xfrm>
              <a:off x="1279800" y="2250720"/>
              <a:ext cx="144360" cy="36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52880" y="26398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60720" y="2714400"/>
              <a:ext cx="179280" cy="745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44960" y="2866680"/>
              <a:ext cx="38160" cy="23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95720" y="3112920"/>
              <a:ext cx="15552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27400" y="2811240"/>
              <a:ext cx="11772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57720" y="2874600"/>
              <a:ext cx="27000" cy="23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344960" y="3443040"/>
              <a:ext cx="586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1292040" y="3801960"/>
              <a:ext cx="117720" cy="22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1305360" y="3479400"/>
              <a:ext cx="79200" cy="2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1176120" y="3744720"/>
              <a:ext cx="14940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57720" y="3179520"/>
              <a:ext cx="396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82920" y="3112920"/>
              <a:ext cx="399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3831120" y="2250720"/>
              <a:ext cx="433080" cy="1774800"/>
              <a:chOff x="3831120" y="2250720"/>
              <a:chExt cx="433080" cy="1774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4030920" y="2250720"/>
                <a:ext cx="142920" cy="36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102560" y="2639880"/>
                <a:ext cx="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042080" y="2714400"/>
                <a:ext cx="119160" cy="745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4054680" y="2866680"/>
                <a:ext cx="66960" cy="233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3889800" y="3112920"/>
                <a:ext cx="1778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3894120" y="2811240"/>
                <a:ext cx="14292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855960" y="2874600"/>
                <a:ext cx="50760" cy="233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4038840" y="3443040"/>
                <a:ext cx="82800" cy="33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56480" y="3801960"/>
                <a:ext cx="9036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83480" y="3479400"/>
                <a:ext cx="5076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40360" y="3744720"/>
                <a:ext cx="123840" cy="187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56320" y="3179520"/>
                <a:ext cx="3816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31120" y="3112920"/>
                <a:ext cx="3780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1545120" y="3173040"/>
              <a:ext cx="23032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4120" y="3173040"/>
              <a:ext cx="87120" cy="484200"/>
            </a:xfrm>
            <a:custGeom>
              <a:avLst/>
              <a:gdLst/>
              <a:ahLst/>
              <a:rect l="l" t="t" r="r" b="b"/>
              <a:pathLst>
                <a:path w="55" h="305">
                  <a:moveTo>
                    <a:pt x="54" y="0"/>
                  </a:moveTo>
                  <a:lnTo>
                    <a:pt x="46" y="8"/>
                  </a:lnTo>
                  <a:lnTo>
                    <a:pt x="41" y="20"/>
                  </a:lnTo>
                  <a:lnTo>
                    <a:pt x="38" y="32"/>
                  </a:lnTo>
                  <a:lnTo>
                    <a:pt x="32" y="43"/>
                  </a:lnTo>
                  <a:lnTo>
                    <a:pt x="27" y="59"/>
                  </a:lnTo>
                  <a:lnTo>
                    <a:pt x="27" y="71"/>
                  </a:lnTo>
                  <a:lnTo>
                    <a:pt x="27" y="83"/>
                  </a:lnTo>
                  <a:lnTo>
                    <a:pt x="27" y="95"/>
                  </a:lnTo>
                  <a:lnTo>
                    <a:pt x="27" y="107"/>
                  </a:lnTo>
                  <a:lnTo>
                    <a:pt x="27" y="134"/>
                  </a:lnTo>
                  <a:lnTo>
                    <a:pt x="27" y="146"/>
                  </a:lnTo>
                  <a:lnTo>
                    <a:pt x="27" y="162"/>
                  </a:lnTo>
                  <a:lnTo>
                    <a:pt x="30" y="178"/>
                  </a:lnTo>
                  <a:lnTo>
                    <a:pt x="30" y="193"/>
                  </a:lnTo>
                  <a:lnTo>
                    <a:pt x="30" y="217"/>
                  </a:lnTo>
                  <a:lnTo>
                    <a:pt x="30" y="245"/>
                  </a:lnTo>
                  <a:lnTo>
                    <a:pt x="32" y="257"/>
                  </a:lnTo>
                  <a:lnTo>
                    <a:pt x="32" y="268"/>
                  </a:lnTo>
                  <a:lnTo>
                    <a:pt x="24" y="276"/>
                  </a:lnTo>
                  <a:lnTo>
                    <a:pt x="16" y="284"/>
                  </a:lnTo>
                  <a:lnTo>
                    <a:pt x="8" y="292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93040" y="3165120"/>
              <a:ext cx="85680" cy="48888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0"/>
                  </a:moveTo>
                  <a:lnTo>
                    <a:pt x="8" y="8"/>
                  </a:lnTo>
                  <a:lnTo>
                    <a:pt x="13" y="20"/>
                  </a:lnTo>
                  <a:lnTo>
                    <a:pt x="16" y="32"/>
                  </a:lnTo>
                  <a:lnTo>
                    <a:pt x="21" y="44"/>
                  </a:lnTo>
                  <a:lnTo>
                    <a:pt x="27" y="60"/>
                  </a:lnTo>
                  <a:lnTo>
                    <a:pt x="27" y="72"/>
                  </a:lnTo>
                  <a:lnTo>
                    <a:pt x="27" y="84"/>
                  </a:lnTo>
                  <a:lnTo>
                    <a:pt x="27" y="96"/>
                  </a:lnTo>
                  <a:lnTo>
                    <a:pt x="27" y="108"/>
                  </a:lnTo>
                  <a:lnTo>
                    <a:pt x="27" y="136"/>
                  </a:lnTo>
                  <a:lnTo>
                    <a:pt x="27" y="148"/>
                  </a:lnTo>
                  <a:lnTo>
                    <a:pt x="27" y="163"/>
                  </a:lnTo>
                  <a:lnTo>
                    <a:pt x="24" y="179"/>
                  </a:lnTo>
                  <a:lnTo>
                    <a:pt x="24" y="195"/>
                  </a:lnTo>
                  <a:lnTo>
                    <a:pt x="24" y="219"/>
                  </a:lnTo>
                  <a:lnTo>
                    <a:pt x="24" y="247"/>
                  </a:lnTo>
                  <a:lnTo>
                    <a:pt x="21" y="259"/>
                  </a:lnTo>
                  <a:lnTo>
                    <a:pt x="21" y="271"/>
                  </a:lnTo>
                  <a:lnTo>
                    <a:pt x="29" y="279"/>
                  </a:lnTo>
                  <a:lnTo>
                    <a:pt x="37" y="287"/>
                  </a:lnTo>
                  <a:lnTo>
                    <a:pt x="45" y="295"/>
                  </a:lnTo>
                  <a:lnTo>
                    <a:pt x="53" y="307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02720" y="1922040"/>
              <a:ext cx="1819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 = 1.5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97120" y="19033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5960" y="1857240"/>
              <a:ext cx="3835440" cy="259704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17200" y="2804760"/>
              <a:ext cx="1149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2237040" y="3105000"/>
              <a:ext cx="8244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2224440" y="3101400"/>
              <a:ext cx="108000" cy="12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14960" y="3508200"/>
              <a:ext cx="22446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246040" y="34844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30160" y="397944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573360" y="396072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=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رکت مرکز جرم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784080" y="1618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42920" indent="-142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زن یک شخص باوزن قایق او به طول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 برابر است :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ابتدا در مرکز قایق و به فاصله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تر از ساحل ایستاده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به طرف ساحل حرکت می کند تا به انتهای قایق برس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4280" indent="-1141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فاصله او از ساحل چقدراست ؟(هیچ نیروی افقی از طرف آب به قایق وارد نمی شو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576840" y="3927600"/>
            <a:ext cx="17449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 –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 –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5/4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-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/94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مت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482760" y="3557520"/>
            <a:ext cx="5999760" cy="2919600"/>
            <a:chOff x="482760" y="3557520"/>
            <a:chExt cx="5999760" cy="2919600"/>
          </a:xfrm>
        </p:grpSpPr>
        <p:sp>
          <p:nvSpPr>
            <p:cNvPr id="1394" name=""/>
            <p:cNvSpPr/>
            <p:nvPr/>
          </p:nvSpPr>
          <p:spPr>
            <a:xfrm>
              <a:off x="3021120" y="5272200"/>
              <a:ext cx="166680" cy="188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98880" y="5467320"/>
              <a:ext cx="0" cy="3556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009600" y="5823000"/>
              <a:ext cx="8244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3092400" y="5816160"/>
              <a:ext cx="101520" cy="2415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3086280" y="5447880"/>
              <a:ext cx="183960" cy="1270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 rot="10800000">
              <a:off x="2925720" y="6027840"/>
              <a:ext cx="2930400" cy="233280"/>
            </a:xfrm>
            <a:custGeom>
              <a:avLst/>
              <a:gdLst>
                <a:gd name="textAreaLeft" fmla="*/ 644400 w 2930400"/>
                <a:gd name="textAreaRight" fmla="*/ 2286000 w 2930400"/>
                <a:gd name="textAreaTop" fmla="*/ 51120 h 233280"/>
                <a:gd name="textAreaBottom" fmla="*/ 182160 h 23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184400" y="6200640"/>
              <a:ext cx="4074840" cy="201600"/>
            </a:xfrm>
            <a:custGeom>
              <a:avLst/>
              <a:gdLst/>
              <a:ahLst/>
              <a:rect l="l" t="t" r="r" b="b"/>
              <a:pathLst>
                <a:path w="2567" h="127">
                  <a:moveTo>
                    <a:pt x="0" y="6"/>
                  </a:moveTo>
                  <a:lnTo>
                    <a:pt x="27" y="6"/>
                  </a:lnTo>
                  <a:lnTo>
                    <a:pt x="47" y="0"/>
                  </a:lnTo>
                  <a:lnTo>
                    <a:pt x="68" y="0"/>
                  </a:lnTo>
                  <a:lnTo>
                    <a:pt x="95" y="0"/>
                  </a:lnTo>
                  <a:lnTo>
                    <a:pt x="122" y="0"/>
                  </a:lnTo>
                  <a:lnTo>
                    <a:pt x="142" y="0"/>
                  </a:lnTo>
                  <a:lnTo>
                    <a:pt x="163" y="0"/>
                  </a:lnTo>
                  <a:lnTo>
                    <a:pt x="183" y="0"/>
                  </a:lnTo>
                  <a:lnTo>
                    <a:pt x="204" y="6"/>
                  </a:lnTo>
                  <a:lnTo>
                    <a:pt x="231" y="12"/>
                  </a:lnTo>
                  <a:lnTo>
                    <a:pt x="251" y="12"/>
                  </a:lnTo>
                  <a:lnTo>
                    <a:pt x="272" y="12"/>
                  </a:lnTo>
                  <a:lnTo>
                    <a:pt x="299" y="18"/>
                  </a:lnTo>
                  <a:lnTo>
                    <a:pt x="319" y="18"/>
                  </a:lnTo>
                  <a:lnTo>
                    <a:pt x="340" y="18"/>
                  </a:lnTo>
                  <a:lnTo>
                    <a:pt x="367" y="18"/>
                  </a:lnTo>
                  <a:lnTo>
                    <a:pt x="387" y="18"/>
                  </a:lnTo>
                  <a:lnTo>
                    <a:pt x="408" y="18"/>
                  </a:lnTo>
                  <a:lnTo>
                    <a:pt x="435" y="12"/>
                  </a:lnTo>
                  <a:lnTo>
                    <a:pt x="462" y="12"/>
                  </a:lnTo>
                  <a:lnTo>
                    <a:pt x="490" y="12"/>
                  </a:lnTo>
                  <a:lnTo>
                    <a:pt x="517" y="6"/>
                  </a:lnTo>
                  <a:lnTo>
                    <a:pt x="537" y="0"/>
                  </a:lnTo>
                  <a:lnTo>
                    <a:pt x="558" y="0"/>
                  </a:lnTo>
                  <a:lnTo>
                    <a:pt x="585" y="0"/>
                  </a:lnTo>
                  <a:lnTo>
                    <a:pt x="612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73" y="0"/>
                  </a:lnTo>
                  <a:lnTo>
                    <a:pt x="701" y="0"/>
                  </a:lnTo>
                  <a:lnTo>
                    <a:pt x="735" y="6"/>
                  </a:lnTo>
                  <a:lnTo>
                    <a:pt x="762" y="12"/>
                  </a:lnTo>
                  <a:lnTo>
                    <a:pt x="782" y="12"/>
                  </a:lnTo>
                  <a:lnTo>
                    <a:pt x="803" y="12"/>
                  </a:lnTo>
                  <a:lnTo>
                    <a:pt x="823" y="12"/>
                  </a:lnTo>
                  <a:lnTo>
                    <a:pt x="843" y="18"/>
                  </a:lnTo>
                  <a:lnTo>
                    <a:pt x="871" y="25"/>
                  </a:lnTo>
                  <a:lnTo>
                    <a:pt x="891" y="25"/>
                  </a:lnTo>
                  <a:lnTo>
                    <a:pt x="925" y="25"/>
                  </a:lnTo>
                  <a:lnTo>
                    <a:pt x="946" y="25"/>
                  </a:lnTo>
                  <a:lnTo>
                    <a:pt x="966" y="31"/>
                  </a:lnTo>
                  <a:lnTo>
                    <a:pt x="986" y="31"/>
                  </a:lnTo>
                  <a:lnTo>
                    <a:pt x="1014" y="31"/>
                  </a:lnTo>
                  <a:lnTo>
                    <a:pt x="1034" y="25"/>
                  </a:lnTo>
                  <a:lnTo>
                    <a:pt x="1054" y="18"/>
                  </a:lnTo>
                  <a:lnTo>
                    <a:pt x="1075" y="18"/>
                  </a:lnTo>
                  <a:lnTo>
                    <a:pt x="1102" y="12"/>
                  </a:lnTo>
                  <a:lnTo>
                    <a:pt x="1129" y="12"/>
                  </a:lnTo>
                  <a:lnTo>
                    <a:pt x="1150" y="0"/>
                  </a:lnTo>
                  <a:lnTo>
                    <a:pt x="1170" y="0"/>
                  </a:lnTo>
                  <a:lnTo>
                    <a:pt x="1197" y="0"/>
                  </a:lnTo>
                  <a:lnTo>
                    <a:pt x="1218" y="0"/>
                  </a:lnTo>
                  <a:lnTo>
                    <a:pt x="1238" y="0"/>
                  </a:lnTo>
                  <a:lnTo>
                    <a:pt x="1272" y="0"/>
                  </a:lnTo>
                  <a:lnTo>
                    <a:pt x="1300" y="0"/>
                  </a:lnTo>
                  <a:lnTo>
                    <a:pt x="1320" y="0"/>
                  </a:lnTo>
                  <a:lnTo>
                    <a:pt x="1347" y="0"/>
                  </a:lnTo>
                  <a:lnTo>
                    <a:pt x="1368" y="0"/>
                  </a:lnTo>
                  <a:lnTo>
                    <a:pt x="1388" y="0"/>
                  </a:lnTo>
                  <a:lnTo>
                    <a:pt x="1415" y="0"/>
                  </a:lnTo>
                  <a:lnTo>
                    <a:pt x="1442" y="0"/>
                  </a:lnTo>
                  <a:lnTo>
                    <a:pt x="1463" y="0"/>
                  </a:lnTo>
                  <a:lnTo>
                    <a:pt x="1483" y="0"/>
                  </a:lnTo>
                  <a:lnTo>
                    <a:pt x="1504" y="6"/>
                  </a:lnTo>
                  <a:lnTo>
                    <a:pt x="1524" y="6"/>
                  </a:lnTo>
                  <a:lnTo>
                    <a:pt x="1551" y="12"/>
                  </a:lnTo>
                  <a:lnTo>
                    <a:pt x="1579" y="12"/>
                  </a:lnTo>
                  <a:lnTo>
                    <a:pt x="1606" y="18"/>
                  </a:lnTo>
                  <a:lnTo>
                    <a:pt x="1626" y="25"/>
                  </a:lnTo>
                  <a:lnTo>
                    <a:pt x="1647" y="25"/>
                  </a:lnTo>
                  <a:lnTo>
                    <a:pt x="1667" y="25"/>
                  </a:lnTo>
                  <a:lnTo>
                    <a:pt x="1687" y="25"/>
                  </a:lnTo>
                  <a:lnTo>
                    <a:pt x="1708" y="25"/>
                  </a:lnTo>
                  <a:lnTo>
                    <a:pt x="1728" y="31"/>
                  </a:lnTo>
                  <a:lnTo>
                    <a:pt x="1762" y="37"/>
                  </a:lnTo>
                  <a:lnTo>
                    <a:pt x="1783" y="37"/>
                  </a:lnTo>
                  <a:lnTo>
                    <a:pt x="1803" y="37"/>
                  </a:lnTo>
                  <a:lnTo>
                    <a:pt x="1824" y="37"/>
                  </a:lnTo>
                  <a:lnTo>
                    <a:pt x="1844" y="25"/>
                  </a:lnTo>
                  <a:lnTo>
                    <a:pt x="1864" y="25"/>
                  </a:lnTo>
                  <a:lnTo>
                    <a:pt x="1885" y="25"/>
                  </a:lnTo>
                  <a:lnTo>
                    <a:pt x="1905" y="18"/>
                  </a:lnTo>
                  <a:lnTo>
                    <a:pt x="1926" y="18"/>
                  </a:lnTo>
                  <a:lnTo>
                    <a:pt x="1946" y="12"/>
                  </a:lnTo>
                  <a:lnTo>
                    <a:pt x="1973" y="12"/>
                  </a:lnTo>
                  <a:lnTo>
                    <a:pt x="2001" y="6"/>
                  </a:lnTo>
                  <a:lnTo>
                    <a:pt x="2021" y="6"/>
                  </a:lnTo>
                  <a:lnTo>
                    <a:pt x="2041" y="6"/>
                  </a:lnTo>
                  <a:lnTo>
                    <a:pt x="2062" y="6"/>
                  </a:lnTo>
                  <a:lnTo>
                    <a:pt x="2082" y="6"/>
                  </a:lnTo>
                  <a:lnTo>
                    <a:pt x="2109" y="6"/>
                  </a:lnTo>
                  <a:lnTo>
                    <a:pt x="2130" y="6"/>
                  </a:lnTo>
                  <a:lnTo>
                    <a:pt x="2150" y="6"/>
                  </a:lnTo>
                  <a:lnTo>
                    <a:pt x="2178" y="6"/>
                  </a:lnTo>
                  <a:lnTo>
                    <a:pt x="2198" y="6"/>
                  </a:lnTo>
                  <a:lnTo>
                    <a:pt x="2218" y="6"/>
                  </a:lnTo>
                  <a:lnTo>
                    <a:pt x="2239" y="6"/>
                  </a:lnTo>
                  <a:lnTo>
                    <a:pt x="2259" y="6"/>
                  </a:lnTo>
                  <a:lnTo>
                    <a:pt x="2286" y="6"/>
                  </a:lnTo>
                  <a:lnTo>
                    <a:pt x="2307" y="6"/>
                  </a:lnTo>
                  <a:lnTo>
                    <a:pt x="2334" y="6"/>
                  </a:lnTo>
                  <a:lnTo>
                    <a:pt x="2361" y="6"/>
                  </a:lnTo>
                  <a:lnTo>
                    <a:pt x="2395" y="6"/>
                  </a:lnTo>
                  <a:lnTo>
                    <a:pt x="2416" y="6"/>
                  </a:lnTo>
                  <a:lnTo>
                    <a:pt x="2436" y="6"/>
                  </a:lnTo>
                  <a:lnTo>
                    <a:pt x="2457" y="12"/>
                  </a:lnTo>
                  <a:lnTo>
                    <a:pt x="2477" y="12"/>
                  </a:lnTo>
                  <a:lnTo>
                    <a:pt x="2497" y="12"/>
                  </a:lnTo>
                  <a:lnTo>
                    <a:pt x="2518" y="18"/>
                  </a:lnTo>
                  <a:lnTo>
                    <a:pt x="2545" y="18"/>
                  </a:lnTo>
                  <a:lnTo>
                    <a:pt x="2566" y="18"/>
                  </a:lnTo>
                  <a:lnTo>
                    <a:pt x="2559" y="126"/>
                  </a:lnTo>
                  <a:lnTo>
                    <a:pt x="0" y="113"/>
                  </a:lnTo>
                  <a:lnTo>
                    <a:pt x="0" y="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7960" y="5695920"/>
              <a:ext cx="706320" cy="677880"/>
            </a:xfrm>
            <a:custGeom>
              <a:avLst/>
              <a:gdLst/>
              <a:ahLst/>
              <a:rect l="l" t="t" r="r" b="b"/>
              <a:pathLst>
                <a:path w="445" h="427">
                  <a:moveTo>
                    <a:pt x="444" y="426"/>
                  </a:moveTo>
                  <a:lnTo>
                    <a:pt x="444" y="402"/>
                  </a:lnTo>
                  <a:lnTo>
                    <a:pt x="438" y="384"/>
                  </a:lnTo>
                  <a:lnTo>
                    <a:pt x="432" y="360"/>
                  </a:lnTo>
                  <a:lnTo>
                    <a:pt x="426" y="342"/>
                  </a:lnTo>
                  <a:lnTo>
                    <a:pt x="420" y="318"/>
                  </a:lnTo>
                  <a:lnTo>
                    <a:pt x="408" y="300"/>
                  </a:lnTo>
                  <a:lnTo>
                    <a:pt x="396" y="276"/>
                  </a:lnTo>
                  <a:lnTo>
                    <a:pt x="384" y="252"/>
                  </a:lnTo>
                  <a:lnTo>
                    <a:pt x="372" y="228"/>
                  </a:lnTo>
                  <a:lnTo>
                    <a:pt x="360" y="210"/>
                  </a:lnTo>
                  <a:lnTo>
                    <a:pt x="348" y="192"/>
                  </a:lnTo>
                  <a:lnTo>
                    <a:pt x="336" y="174"/>
                  </a:lnTo>
                  <a:lnTo>
                    <a:pt x="324" y="156"/>
                  </a:lnTo>
                  <a:lnTo>
                    <a:pt x="312" y="138"/>
                  </a:lnTo>
                  <a:lnTo>
                    <a:pt x="294" y="120"/>
                  </a:lnTo>
                  <a:lnTo>
                    <a:pt x="276" y="102"/>
                  </a:lnTo>
                  <a:lnTo>
                    <a:pt x="264" y="84"/>
                  </a:lnTo>
                  <a:lnTo>
                    <a:pt x="246" y="72"/>
                  </a:lnTo>
                  <a:lnTo>
                    <a:pt x="228" y="60"/>
                  </a:lnTo>
                  <a:lnTo>
                    <a:pt x="204" y="48"/>
                  </a:lnTo>
                  <a:lnTo>
                    <a:pt x="180" y="42"/>
                  </a:lnTo>
                  <a:lnTo>
                    <a:pt x="162" y="30"/>
                  </a:lnTo>
                  <a:lnTo>
                    <a:pt x="144" y="24"/>
                  </a:lnTo>
                  <a:lnTo>
                    <a:pt x="126" y="18"/>
                  </a:lnTo>
                  <a:lnTo>
                    <a:pt x="108" y="12"/>
                  </a:lnTo>
                  <a:lnTo>
                    <a:pt x="90" y="12"/>
                  </a:lnTo>
                  <a:lnTo>
                    <a:pt x="72" y="6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444" y="426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32120" y="3557520"/>
              <a:ext cx="166680" cy="189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09880" y="3753000"/>
              <a:ext cx="0" cy="3553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720600" y="4083120"/>
              <a:ext cx="8892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3809520" y="4095360"/>
              <a:ext cx="95400" cy="222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3720960" y="3790800"/>
              <a:ext cx="203400" cy="1461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 rot="10800000">
              <a:off x="2405160" y="4313160"/>
              <a:ext cx="2930400" cy="233280"/>
            </a:xfrm>
            <a:custGeom>
              <a:avLst/>
              <a:gdLst>
                <a:gd name="textAreaLeft" fmla="*/ 644400 w 2930400"/>
                <a:gd name="textAreaRight" fmla="*/ 2286000 w 2930400"/>
                <a:gd name="textAreaTop" fmla="*/ 51120 h 233280"/>
                <a:gd name="textAreaBottom" fmla="*/ 182160 h 23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58840" y="4473720"/>
              <a:ext cx="4176720" cy="176040"/>
            </a:xfrm>
            <a:custGeom>
              <a:avLst/>
              <a:gdLst/>
              <a:ahLst/>
              <a:rect l="l" t="t" r="r" b="b"/>
              <a:pathLst>
                <a:path w="2631" h="111">
                  <a:moveTo>
                    <a:pt x="0" y="5"/>
                  </a:moveTo>
                  <a:lnTo>
                    <a:pt x="27" y="5"/>
                  </a:lnTo>
                  <a:lnTo>
                    <a:pt x="48" y="0"/>
                  </a:lnTo>
                  <a:lnTo>
                    <a:pt x="69" y="0"/>
                  </a:lnTo>
                  <a:lnTo>
                    <a:pt x="97" y="0"/>
                  </a:lnTo>
                  <a:lnTo>
                    <a:pt x="125" y="0"/>
                  </a:lnTo>
                  <a:lnTo>
                    <a:pt x="146" y="0"/>
                  </a:lnTo>
                  <a:lnTo>
                    <a:pt x="167" y="0"/>
                  </a:lnTo>
                  <a:lnTo>
                    <a:pt x="188" y="0"/>
                  </a:lnTo>
                  <a:lnTo>
                    <a:pt x="209" y="5"/>
                  </a:lnTo>
                  <a:lnTo>
                    <a:pt x="237" y="11"/>
                  </a:lnTo>
                  <a:lnTo>
                    <a:pt x="258" y="11"/>
                  </a:lnTo>
                  <a:lnTo>
                    <a:pt x="279" y="11"/>
                  </a:lnTo>
                  <a:lnTo>
                    <a:pt x="306" y="16"/>
                  </a:lnTo>
                  <a:lnTo>
                    <a:pt x="327" y="16"/>
                  </a:lnTo>
                  <a:lnTo>
                    <a:pt x="348" y="16"/>
                  </a:lnTo>
                  <a:lnTo>
                    <a:pt x="376" y="16"/>
                  </a:lnTo>
                  <a:lnTo>
                    <a:pt x="397" y="16"/>
                  </a:lnTo>
                  <a:lnTo>
                    <a:pt x="418" y="16"/>
                  </a:lnTo>
                  <a:lnTo>
                    <a:pt x="446" y="11"/>
                  </a:lnTo>
                  <a:lnTo>
                    <a:pt x="474" y="11"/>
                  </a:lnTo>
                  <a:lnTo>
                    <a:pt x="502" y="11"/>
                  </a:lnTo>
                  <a:lnTo>
                    <a:pt x="530" y="5"/>
                  </a:lnTo>
                  <a:lnTo>
                    <a:pt x="551" y="0"/>
                  </a:lnTo>
                  <a:lnTo>
                    <a:pt x="572" y="0"/>
                  </a:lnTo>
                  <a:lnTo>
                    <a:pt x="599" y="0"/>
                  </a:lnTo>
                  <a:lnTo>
                    <a:pt x="627" y="0"/>
                  </a:lnTo>
                  <a:lnTo>
                    <a:pt x="648" y="0"/>
                  </a:lnTo>
                  <a:lnTo>
                    <a:pt x="669" y="0"/>
                  </a:lnTo>
                  <a:lnTo>
                    <a:pt x="690" y="0"/>
                  </a:lnTo>
                  <a:lnTo>
                    <a:pt x="718" y="0"/>
                  </a:lnTo>
                  <a:lnTo>
                    <a:pt x="753" y="5"/>
                  </a:lnTo>
                  <a:lnTo>
                    <a:pt x="781" y="11"/>
                  </a:lnTo>
                  <a:lnTo>
                    <a:pt x="802" y="11"/>
                  </a:lnTo>
                  <a:lnTo>
                    <a:pt x="823" y="11"/>
                  </a:lnTo>
                  <a:lnTo>
                    <a:pt x="844" y="11"/>
                  </a:lnTo>
                  <a:lnTo>
                    <a:pt x="865" y="16"/>
                  </a:lnTo>
                  <a:lnTo>
                    <a:pt x="892" y="22"/>
                  </a:lnTo>
                  <a:lnTo>
                    <a:pt x="913" y="22"/>
                  </a:lnTo>
                  <a:lnTo>
                    <a:pt x="948" y="22"/>
                  </a:lnTo>
                  <a:lnTo>
                    <a:pt x="969" y="22"/>
                  </a:lnTo>
                  <a:lnTo>
                    <a:pt x="990" y="27"/>
                  </a:lnTo>
                  <a:lnTo>
                    <a:pt x="1011" y="27"/>
                  </a:lnTo>
                  <a:lnTo>
                    <a:pt x="1039" y="27"/>
                  </a:lnTo>
                  <a:lnTo>
                    <a:pt x="1060" y="22"/>
                  </a:lnTo>
                  <a:lnTo>
                    <a:pt x="1081" y="16"/>
                  </a:lnTo>
                  <a:lnTo>
                    <a:pt x="1102" y="16"/>
                  </a:lnTo>
                  <a:lnTo>
                    <a:pt x="1130" y="11"/>
                  </a:lnTo>
                  <a:lnTo>
                    <a:pt x="1158" y="11"/>
                  </a:lnTo>
                  <a:lnTo>
                    <a:pt x="1178" y="0"/>
                  </a:lnTo>
                  <a:lnTo>
                    <a:pt x="1199" y="0"/>
                  </a:lnTo>
                  <a:lnTo>
                    <a:pt x="1227" y="0"/>
                  </a:lnTo>
                  <a:lnTo>
                    <a:pt x="1248" y="0"/>
                  </a:lnTo>
                  <a:lnTo>
                    <a:pt x="1269" y="0"/>
                  </a:lnTo>
                  <a:lnTo>
                    <a:pt x="1304" y="0"/>
                  </a:lnTo>
                  <a:lnTo>
                    <a:pt x="1332" y="0"/>
                  </a:lnTo>
                  <a:lnTo>
                    <a:pt x="1353" y="0"/>
                  </a:lnTo>
                  <a:lnTo>
                    <a:pt x="1381" y="0"/>
                  </a:lnTo>
                  <a:lnTo>
                    <a:pt x="1402" y="0"/>
                  </a:lnTo>
                  <a:lnTo>
                    <a:pt x="1423" y="0"/>
                  </a:lnTo>
                  <a:lnTo>
                    <a:pt x="1451" y="0"/>
                  </a:lnTo>
                  <a:lnTo>
                    <a:pt x="1478" y="0"/>
                  </a:lnTo>
                  <a:lnTo>
                    <a:pt x="1499" y="0"/>
                  </a:lnTo>
                  <a:lnTo>
                    <a:pt x="1520" y="0"/>
                  </a:lnTo>
                  <a:lnTo>
                    <a:pt x="1541" y="5"/>
                  </a:lnTo>
                  <a:lnTo>
                    <a:pt x="1562" y="5"/>
                  </a:lnTo>
                  <a:lnTo>
                    <a:pt x="1590" y="11"/>
                  </a:lnTo>
                  <a:lnTo>
                    <a:pt x="1618" y="11"/>
                  </a:lnTo>
                  <a:lnTo>
                    <a:pt x="1646" y="16"/>
                  </a:lnTo>
                  <a:lnTo>
                    <a:pt x="1667" y="22"/>
                  </a:lnTo>
                  <a:lnTo>
                    <a:pt x="1688" y="22"/>
                  </a:lnTo>
                  <a:lnTo>
                    <a:pt x="1709" y="22"/>
                  </a:lnTo>
                  <a:lnTo>
                    <a:pt x="1730" y="22"/>
                  </a:lnTo>
                  <a:lnTo>
                    <a:pt x="1751" y="22"/>
                  </a:lnTo>
                  <a:lnTo>
                    <a:pt x="1771" y="27"/>
                  </a:lnTo>
                  <a:lnTo>
                    <a:pt x="1806" y="33"/>
                  </a:lnTo>
                  <a:lnTo>
                    <a:pt x="1827" y="33"/>
                  </a:lnTo>
                  <a:lnTo>
                    <a:pt x="1848" y="33"/>
                  </a:lnTo>
                  <a:lnTo>
                    <a:pt x="1869" y="33"/>
                  </a:lnTo>
                  <a:lnTo>
                    <a:pt x="1890" y="22"/>
                  </a:lnTo>
                  <a:lnTo>
                    <a:pt x="1911" y="22"/>
                  </a:lnTo>
                  <a:lnTo>
                    <a:pt x="1932" y="22"/>
                  </a:lnTo>
                  <a:lnTo>
                    <a:pt x="1953" y="16"/>
                  </a:lnTo>
                  <a:lnTo>
                    <a:pt x="1974" y="16"/>
                  </a:lnTo>
                  <a:lnTo>
                    <a:pt x="1995" y="11"/>
                  </a:lnTo>
                  <a:lnTo>
                    <a:pt x="2023" y="11"/>
                  </a:lnTo>
                  <a:lnTo>
                    <a:pt x="2050" y="5"/>
                  </a:lnTo>
                  <a:lnTo>
                    <a:pt x="2071" y="5"/>
                  </a:lnTo>
                  <a:lnTo>
                    <a:pt x="2092" y="5"/>
                  </a:lnTo>
                  <a:lnTo>
                    <a:pt x="2113" y="5"/>
                  </a:lnTo>
                  <a:lnTo>
                    <a:pt x="2134" y="5"/>
                  </a:lnTo>
                  <a:lnTo>
                    <a:pt x="2162" y="5"/>
                  </a:lnTo>
                  <a:lnTo>
                    <a:pt x="2183" y="5"/>
                  </a:lnTo>
                  <a:lnTo>
                    <a:pt x="2204" y="5"/>
                  </a:lnTo>
                  <a:lnTo>
                    <a:pt x="2232" y="5"/>
                  </a:lnTo>
                  <a:lnTo>
                    <a:pt x="2253" y="5"/>
                  </a:lnTo>
                  <a:lnTo>
                    <a:pt x="2274" y="5"/>
                  </a:lnTo>
                  <a:lnTo>
                    <a:pt x="2295" y="5"/>
                  </a:lnTo>
                  <a:lnTo>
                    <a:pt x="2316" y="5"/>
                  </a:lnTo>
                  <a:lnTo>
                    <a:pt x="2343" y="5"/>
                  </a:lnTo>
                  <a:lnTo>
                    <a:pt x="2364" y="5"/>
                  </a:lnTo>
                  <a:lnTo>
                    <a:pt x="2392" y="5"/>
                  </a:lnTo>
                  <a:lnTo>
                    <a:pt x="2420" y="5"/>
                  </a:lnTo>
                  <a:lnTo>
                    <a:pt x="2455" y="5"/>
                  </a:lnTo>
                  <a:lnTo>
                    <a:pt x="2476" y="5"/>
                  </a:lnTo>
                  <a:lnTo>
                    <a:pt x="2497" y="5"/>
                  </a:lnTo>
                  <a:lnTo>
                    <a:pt x="2518" y="11"/>
                  </a:lnTo>
                  <a:lnTo>
                    <a:pt x="2539" y="11"/>
                  </a:lnTo>
                  <a:lnTo>
                    <a:pt x="2560" y="11"/>
                  </a:lnTo>
                  <a:lnTo>
                    <a:pt x="2581" y="16"/>
                  </a:lnTo>
                  <a:lnTo>
                    <a:pt x="2609" y="16"/>
                  </a:lnTo>
                  <a:lnTo>
                    <a:pt x="2630" y="16"/>
                  </a:lnTo>
                  <a:lnTo>
                    <a:pt x="2623" y="110"/>
                  </a:lnTo>
                  <a:lnTo>
                    <a:pt x="0" y="99"/>
                  </a:lnTo>
                  <a:lnTo>
                    <a:pt x="0" y="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82760" y="3968640"/>
              <a:ext cx="706320" cy="677880"/>
            </a:xfrm>
            <a:custGeom>
              <a:avLst/>
              <a:gdLst/>
              <a:ahLst/>
              <a:rect l="l" t="t" r="r" b="b"/>
              <a:pathLst>
                <a:path w="445" h="427">
                  <a:moveTo>
                    <a:pt x="444" y="426"/>
                  </a:moveTo>
                  <a:lnTo>
                    <a:pt x="444" y="402"/>
                  </a:lnTo>
                  <a:lnTo>
                    <a:pt x="438" y="384"/>
                  </a:lnTo>
                  <a:lnTo>
                    <a:pt x="432" y="360"/>
                  </a:lnTo>
                  <a:lnTo>
                    <a:pt x="426" y="342"/>
                  </a:lnTo>
                  <a:lnTo>
                    <a:pt x="420" y="318"/>
                  </a:lnTo>
                  <a:lnTo>
                    <a:pt x="408" y="300"/>
                  </a:lnTo>
                  <a:lnTo>
                    <a:pt x="396" y="276"/>
                  </a:lnTo>
                  <a:lnTo>
                    <a:pt x="384" y="252"/>
                  </a:lnTo>
                  <a:lnTo>
                    <a:pt x="372" y="228"/>
                  </a:lnTo>
                  <a:lnTo>
                    <a:pt x="360" y="210"/>
                  </a:lnTo>
                  <a:lnTo>
                    <a:pt x="348" y="192"/>
                  </a:lnTo>
                  <a:lnTo>
                    <a:pt x="336" y="174"/>
                  </a:lnTo>
                  <a:lnTo>
                    <a:pt x="324" y="156"/>
                  </a:lnTo>
                  <a:lnTo>
                    <a:pt x="312" y="138"/>
                  </a:lnTo>
                  <a:lnTo>
                    <a:pt x="294" y="120"/>
                  </a:lnTo>
                  <a:lnTo>
                    <a:pt x="276" y="102"/>
                  </a:lnTo>
                  <a:lnTo>
                    <a:pt x="264" y="84"/>
                  </a:lnTo>
                  <a:lnTo>
                    <a:pt x="246" y="72"/>
                  </a:lnTo>
                  <a:lnTo>
                    <a:pt x="228" y="60"/>
                  </a:lnTo>
                  <a:lnTo>
                    <a:pt x="204" y="48"/>
                  </a:lnTo>
                  <a:lnTo>
                    <a:pt x="180" y="42"/>
                  </a:lnTo>
                  <a:lnTo>
                    <a:pt x="162" y="30"/>
                  </a:lnTo>
                  <a:lnTo>
                    <a:pt x="144" y="24"/>
                  </a:lnTo>
                  <a:lnTo>
                    <a:pt x="126" y="18"/>
                  </a:lnTo>
                  <a:lnTo>
                    <a:pt x="108" y="12"/>
                  </a:lnTo>
                  <a:lnTo>
                    <a:pt x="90" y="12"/>
                  </a:lnTo>
                  <a:lnTo>
                    <a:pt x="72" y="6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444" y="426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17920" y="3786120"/>
              <a:ext cx="1320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6 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1066680" y="5867280"/>
              <a:ext cx="198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7280" y="5462640"/>
              <a:ext cx="1244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514600" y="4876920"/>
              <a:ext cx="274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41800" y="4929120"/>
              <a:ext cx="1320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6 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1066680" y="4114800"/>
              <a:ext cx="274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21040" y="5435640"/>
              <a:ext cx="171360" cy="1332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245560" y="4395960"/>
              <a:ext cx="121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قبل</a:t>
              </a: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98200" y="6110280"/>
              <a:ext cx="10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ب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 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529400" cy="38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و نیرو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ذر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 و شتاب مرکز جر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نامیک مرکز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26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کانه خطی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822240" y="1859040"/>
            <a:ext cx="7350120" cy="3400920"/>
            <a:chOff x="822240" y="1859040"/>
            <a:chExt cx="7350120" cy="3400920"/>
          </a:xfrm>
        </p:grpSpPr>
        <p:sp>
          <p:nvSpPr>
            <p:cNvPr id="1421" name=""/>
            <p:cNvSpPr/>
            <p:nvPr/>
          </p:nvSpPr>
          <p:spPr>
            <a:xfrm>
              <a:off x="3493800" y="450684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93800" y="489312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22240" y="1859040"/>
              <a:ext cx="7350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چون جرم شخص و قایق برابر است بنابراین مرکز سیستم قایق + شخص در وسط مراکز جرم آنها قراردار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7162920" y="5181480"/>
            <a:ext cx="838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698240" y="500544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37640" y="2725560"/>
            <a:ext cx="640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بتدا مرکز سیستم در فاصله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ی از ساحل قرار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1397160" y="4167360"/>
            <a:ext cx="4852800" cy="2030400"/>
            <a:chOff x="1397160" y="4167360"/>
            <a:chExt cx="4852800" cy="2030400"/>
          </a:xfrm>
        </p:grpSpPr>
        <p:sp>
          <p:nvSpPr>
            <p:cNvPr id="1428" name=""/>
            <p:cNvSpPr/>
            <p:nvPr/>
          </p:nvSpPr>
          <p:spPr>
            <a:xfrm>
              <a:off x="4646520" y="4167360"/>
              <a:ext cx="166680" cy="188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24280" y="4362480"/>
              <a:ext cx="0" cy="3556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635000" y="4692600"/>
              <a:ext cx="8892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4723920" y="4705200"/>
              <a:ext cx="95400" cy="2224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635360" y="4400280"/>
              <a:ext cx="203400" cy="145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 rot="10800000">
              <a:off x="3319560" y="4923000"/>
              <a:ext cx="2930400" cy="233280"/>
            </a:xfrm>
            <a:custGeom>
              <a:avLst/>
              <a:gdLst>
                <a:gd name="textAreaLeft" fmla="*/ 644400 w 2930400"/>
                <a:gd name="textAreaRight" fmla="*/ 2286000 w 2930400"/>
                <a:gd name="textAreaTop" fmla="*/ 51120 h 233280"/>
                <a:gd name="textAreaBottom" fmla="*/ 182160 h 23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073240" y="5083200"/>
              <a:ext cx="4176720" cy="176040"/>
            </a:xfrm>
            <a:custGeom>
              <a:avLst/>
              <a:gdLst/>
              <a:ahLst/>
              <a:rect l="l" t="t" r="r" b="b"/>
              <a:pathLst>
                <a:path w="2631" h="111">
                  <a:moveTo>
                    <a:pt x="0" y="5"/>
                  </a:moveTo>
                  <a:lnTo>
                    <a:pt x="27" y="5"/>
                  </a:lnTo>
                  <a:lnTo>
                    <a:pt x="48" y="0"/>
                  </a:lnTo>
                  <a:lnTo>
                    <a:pt x="69" y="0"/>
                  </a:lnTo>
                  <a:lnTo>
                    <a:pt x="97" y="0"/>
                  </a:lnTo>
                  <a:lnTo>
                    <a:pt x="125" y="0"/>
                  </a:lnTo>
                  <a:lnTo>
                    <a:pt x="146" y="0"/>
                  </a:lnTo>
                  <a:lnTo>
                    <a:pt x="167" y="0"/>
                  </a:lnTo>
                  <a:lnTo>
                    <a:pt x="188" y="0"/>
                  </a:lnTo>
                  <a:lnTo>
                    <a:pt x="209" y="5"/>
                  </a:lnTo>
                  <a:lnTo>
                    <a:pt x="237" y="11"/>
                  </a:lnTo>
                  <a:lnTo>
                    <a:pt x="258" y="11"/>
                  </a:lnTo>
                  <a:lnTo>
                    <a:pt x="279" y="11"/>
                  </a:lnTo>
                  <a:lnTo>
                    <a:pt x="306" y="16"/>
                  </a:lnTo>
                  <a:lnTo>
                    <a:pt x="327" y="16"/>
                  </a:lnTo>
                  <a:lnTo>
                    <a:pt x="348" y="16"/>
                  </a:lnTo>
                  <a:lnTo>
                    <a:pt x="376" y="16"/>
                  </a:lnTo>
                  <a:lnTo>
                    <a:pt x="397" y="16"/>
                  </a:lnTo>
                  <a:lnTo>
                    <a:pt x="418" y="16"/>
                  </a:lnTo>
                  <a:lnTo>
                    <a:pt x="446" y="11"/>
                  </a:lnTo>
                  <a:lnTo>
                    <a:pt x="474" y="11"/>
                  </a:lnTo>
                  <a:lnTo>
                    <a:pt x="502" y="11"/>
                  </a:lnTo>
                  <a:lnTo>
                    <a:pt x="530" y="5"/>
                  </a:lnTo>
                  <a:lnTo>
                    <a:pt x="551" y="0"/>
                  </a:lnTo>
                  <a:lnTo>
                    <a:pt x="572" y="0"/>
                  </a:lnTo>
                  <a:lnTo>
                    <a:pt x="599" y="0"/>
                  </a:lnTo>
                  <a:lnTo>
                    <a:pt x="627" y="0"/>
                  </a:lnTo>
                  <a:lnTo>
                    <a:pt x="648" y="0"/>
                  </a:lnTo>
                  <a:lnTo>
                    <a:pt x="669" y="0"/>
                  </a:lnTo>
                  <a:lnTo>
                    <a:pt x="690" y="0"/>
                  </a:lnTo>
                  <a:lnTo>
                    <a:pt x="718" y="0"/>
                  </a:lnTo>
                  <a:lnTo>
                    <a:pt x="753" y="5"/>
                  </a:lnTo>
                  <a:lnTo>
                    <a:pt x="781" y="11"/>
                  </a:lnTo>
                  <a:lnTo>
                    <a:pt x="802" y="11"/>
                  </a:lnTo>
                  <a:lnTo>
                    <a:pt x="823" y="11"/>
                  </a:lnTo>
                  <a:lnTo>
                    <a:pt x="844" y="11"/>
                  </a:lnTo>
                  <a:lnTo>
                    <a:pt x="865" y="16"/>
                  </a:lnTo>
                  <a:lnTo>
                    <a:pt x="892" y="22"/>
                  </a:lnTo>
                  <a:lnTo>
                    <a:pt x="913" y="22"/>
                  </a:lnTo>
                  <a:lnTo>
                    <a:pt x="948" y="22"/>
                  </a:lnTo>
                  <a:lnTo>
                    <a:pt x="969" y="22"/>
                  </a:lnTo>
                  <a:lnTo>
                    <a:pt x="990" y="27"/>
                  </a:lnTo>
                  <a:lnTo>
                    <a:pt x="1011" y="27"/>
                  </a:lnTo>
                  <a:lnTo>
                    <a:pt x="1039" y="27"/>
                  </a:lnTo>
                  <a:lnTo>
                    <a:pt x="1060" y="22"/>
                  </a:lnTo>
                  <a:lnTo>
                    <a:pt x="1081" y="16"/>
                  </a:lnTo>
                  <a:lnTo>
                    <a:pt x="1102" y="16"/>
                  </a:lnTo>
                  <a:lnTo>
                    <a:pt x="1130" y="11"/>
                  </a:lnTo>
                  <a:lnTo>
                    <a:pt x="1158" y="11"/>
                  </a:lnTo>
                  <a:lnTo>
                    <a:pt x="1178" y="0"/>
                  </a:lnTo>
                  <a:lnTo>
                    <a:pt x="1199" y="0"/>
                  </a:lnTo>
                  <a:lnTo>
                    <a:pt x="1227" y="0"/>
                  </a:lnTo>
                  <a:lnTo>
                    <a:pt x="1248" y="0"/>
                  </a:lnTo>
                  <a:lnTo>
                    <a:pt x="1269" y="0"/>
                  </a:lnTo>
                  <a:lnTo>
                    <a:pt x="1304" y="0"/>
                  </a:lnTo>
                  <a:lnTo>
                    <a:pt x="1332" y="0"/>
                  </a:lnTo>
                  <a:lnTo>
                    <a:pt x="1353" y="0"/>
                  </a:lnTo>
                  <a:lnTo>
                    <a:pt x="1381" y="0"/>
                  </a:lnTo>
                  <a:lnTo>
                    <a:pt x="1402" y="0"/>
                  </a:lnTo>
                  <a:lnTo>
                    <a:pt x="1423" y="0"/>
                  </a:lnTo>
                  <a:lnTo>
                    <a:pt x="1451" y="0"/>
                  </a:lnTo>
                  <a:lnTo>
                    <a:pt x="1478" y="0"/>
                  </a:lnTo>
                  <a:lnTo>
                    <a:pt x="1499" y="0"/>
                  </a:lnTo>
                  <a:lnTo>
                    <a:pt x="1520" y="0"/>
                  </a:lnTo>
                  <a:lnTo>
                    <a:pt x="1541" y="5"/>
                  </a:lnTo>
                  <a:lnTo>
                    <a:pt x="1562" y="5"/>
                  </a:lnTo>
                  <a:lnTo>
                    <a:pt x="1590" y="11"/>
                  </a:lnTo>
                  <a:lnTo>
                    <a:pt x="1618" y="11"/>
                  </a:lnTo>
                  <a:lnTo>
                    <a:pt x="1646" y="16"/>
                  </a:lnTo>
                  <a:lnTo>
                    <a:pt x="1667" y="22"/>
                  </a:lnTo>
                  <a:lnTo>
                    <a:pt x="1688" y="22"/>
                  </a:lnTo>
                  <a:lnTo>
                    <a:pt x="1709" y="22"/>
                  </a:lnTo>
                  <a:lnTo>
                    <a:pt x="1730" y="22"/>
                  </a:lnTo>
                  <a:lnTo>
                    <a:pt x="1751" y="22"/>
                  </a:lnTo>
                  <a:lnTo>
                    <a:pt x="1771" y="27"/>
                  </a:lnTo>
                  <a:lnTo>
                    <a:pt x="1806" y="33"/>
                  </a:lnTo>
                  <a:lnTo>
                    <a:pt x="1827" y="33"/>
                  </a:lnTo>
                  <a:lnTo>
                    <a:pt x="1848" y="33"/>
                  </a:lnTo>
                  <a:lnTo>
                    <a:pt x="1869" y="33"/>
                  </a:lnTo>
                  <a:lnTo>
                    <a:pt x="1890" y="22"/>
                  </a:lnTo>
                  <a:lnTo>
                    <a:pt x="1911" y="22"/>
                  </a:lnTo>
                  <a:lnTo>
                    <a:pt x="1932" y="22"/>
                  </a:lnTo>
                  <a:lnTo>
                    <a:pt x="1953" y="16"/>
                  </a:lnTo>
                  <a:lnTo>
                    <a:pt x="1974" y="16"/>
                  </a:lnTo>
                  <a:lnTo>
                    <a:pt x="1995" y="11"/>
                  </a:lnTo>
                  <a:lnTo>
                    <a:pt x="2023" y="11"/>
                  </a:lnTo>
                  <a:lnTo>
                    <a:pt x="2050" y="5"/>
                  </a:lnTo>
                  <a:lnTo>
                    <a:pt x="2071" y="5"/>
                  </a:lnTo>
                  <a:lnTo>
                    <a:pt x="2092" y="5"/>
                  </a:lnTo>
                  <a:lnTo>
                    <a:pt x="2113" y="5"/>
                  </a:lnTo>
                  <a:lnTo>
                    <a:pt x="2134" y="5"/>
                  </a:lnTo>
                  <a:lnTo>
                    <a:pt x="2162" y="5"/>
                  </a:lnTo>
                  <a:lnTo>
                    <a:pt x="2183" y="5"/>
                  </a:lnTo>
                  <a:lnTo>
                    <a:pt x="2204" y="5"/>
                  </a:lnTo>
                  <a:lnTo>
                    <a:pt x="2232" y="5"/>
                  </a:lnTo>
                  <a:lnTo>
                    <a:pt x="2253" y="5"/>
                  </a:lnTo>
                  <a:lnTo>
                    <a:pt x="2274" y="5"/>
                  </a:lnTo>
                  <a:lnTo>
                    <a:pt x="2295" y="5"/>
                  </a:lnTo>
                  <a:lnTo>
                    <a:pt x="2316" y="5"/>
                  </a:lnTo>
                  <a:lnTo>
                    <a:pt x="2343" y="5"/>
                  </a:lnTo>
                  <a:lnTo>
                    <a:pt x="2364" y="5"/>
                  </a:lnTo>
                  <a:lnTo>
                    <a:pt x="2392" y="5"/>
                  </a:lnTo>
                  <a:lnTo>
                    <a:pt x="2420" y="5"/>
                  </a:lnTo>
                  <a:lnTo>
                    <a:pt x="2455" y="5"/>
                  </a:lnTo>
                  <a:lnTo>
                    <a:pt x="2476" y="5"/>
                  </a:lnTo>
                  <a:lnTo>
                    <a:pt x="2497" y="5"/>
                  </a:lnTo>
                  <a:lnTo>
                    <a:pt x="2518" y="11"/>
                  </a:lnTo>
                  <a:lnTo>
                    <a:pt x="2539" y="11"/>
                  </a:lnTo>
                  <a:lnTo>
                    <a:pt x="2560" y="11"/>
                  </a:lnTo>
                  <a:lnTo>
                    <a:pt x="2581" y="16"/>
                  </a:lnTo>
                  <a:lnTo>
                    <a:pt x="2609" y="16"/>
                  </a:lnTo>
                  <a:lnTo>
                    <a:pt x="2630" y="16"/>
                  </a:lnTo>
                  <a:lnTo>
                    <a:pt x="2623" y="110"/>
                  </a:lnTo>
                  <a:lnTo>
                    <a:pt x="0" y="99"/>
                  </a:lnTo>
                  <a:lnTo>
                    <a:pt x="0" y="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97160" y="4578480"/>
              <a:ext cx="706320" cy="677880"/>
            </a:xfrm>
            <a:custGeom>
              <a:avLst/>
              <a:gdLst/>
              <a:ahLst/>
              <a:rect l="l" t="t" r="r" b="b"/>
              <a:pathLst>
                <a:path w="445" h="427">
                  <a:moveTo>
                    <a:pt x="444" y="426"/>
                  </a:moveTo>
                  <a:lnTo>
                    <a:pt x="444" y="402"/>
                  </a:lnTo>
                  <a:lnTo>
                    <a:pt x="438" y="384"/>
                  </a:lnTo>
                  <a:lnTo>
                    <a:pt x="432" y="360"/>
                  </a:lnTo>
                  <a:lnTo>
                    <a:pt x="426" y="342"/>
                  </a:lnTo>
                  <a:lnTo>
                    <a:pt x="420" y="318"/>
                  </a:lnTo>
                  <a:lnTo>
                    <a:pt x="408" y="300"/>
                  </a:lnTo>
                  <a:lnTo>
                    <a:pt x="396" y="276"/>
                  </a:lnTo>
                  <a:lnTo>
                    <a:pt x="384" y="252"/>
                  </a:lnTo>
                  <a:lnTo>
                    <a:pt x="372" y="228"/>
                  </a:lnTo>
                  <a:lnTo>
                    <a:pt x="360" y="210"/>
                  </a:lnTo>
                  <a:lnTo>
                    <a:pt x="348" y="192"/>
                  </a:lnTo>
                  <a:lnTo>
                    <a:pt x="336" y="174"/>
                  </a:lnTo>
                  <a:lnTo>
                    <a:pt x="324" y="156"/>
                  </a:lnTo>
                  <a:lnTo>
                    <a:pt x="312" y="138"/>
                  </a:lnTo>
                  <a:lnTo>
                    <a:pt x="294" y="120"/>
                  </a:lnTo>
                  <a:lnTo>
                    <a:pt x="276" y="102"/>
                  </a:lnTo>
                  <a:lnTo>
                    <a:pt x="264" y="84"/>
                  </a:lnTo>
                  <a:lnTo>
                    <a:pt x="246" y="72"/>
                  </a:lnTo>
                  <a:lnTo>
                    <a:pt x="228" y="60"/>
                  </a:lnTo>
                  <a:lnTo>
                    <a:pt x="204" y="48"/>
                  </a:lnTo>
                  <a:lnTo>
                    <a:pt x="180" y="42"/>
                  </a:lnTo>
                  <a:lnTo>
                    <a:pt x="162" y="30"/>
                  </a:lnTo>
                  <a:lnTo>
                    <a:pt x="144" y="24"/>
                  </a:lnTo>
                  <a:lnTo>
                    <a:pt x="126" y="18"/>
                  </a:lnTo>
                  <a:lnTo>
                    <a:pt x="108" y="12"/>
                  </a:lnTo>
                  <a:lnTo>
                    <a:pt x="90" y="12"/>
                  </a:lnTo>
                  <a:lnTo>
                    <a:pt x="72" y="6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444" y="426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95880" y="5310360"/>
              <a:ext cx="1250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6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1844640" y="5638680"/>
              <a:ext cx="274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13400" y="5334120"/>
              <a:ext cx="0" cy="4572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32880" y="5830920"/>
              <a:ext cx="272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مرکز جرم سیستم</a:t>
              </a: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66800" y="1481040"/>
            <a:ext cx="727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هیچ نیرویی در جه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ه سیستم وارد نمی شود لذا مرکز جرم سیستم دراین راستا نمی توان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غییر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162920" y="5181480"/>
            <a:ext cx="838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698240" y="500544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749600" y="2149560"/>
            <a:ext cx="63482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شخص به فاصله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5/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 سمت چپ مرک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سیستم و مرکز جرم قایق به فاصله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5/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 در سمت راست مرکز جرم سیستم قرارد خواهد داش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1384200" y="4129200"/>
            <a:ext cx="5450040" cy="2093760"/>
            <a:chOff x="1384200" y="4129200"/>
            <a:chExt cx="5450040" cy="2093760"/>
          </a:xfrm>
        </p:grpSpPr>
        <p:sp>
          <p:nvSpPr>
            <p:cNvPr id="1446" name=""/>
            <p:cNvSpPr/>
            <p:nvPr/>
          </p:nvSpPr>
          <p:spPr>
            <a:xfrm>
              <a:off x="2606760" y="5310360"/>
              <a:ext cx="1250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6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955880" y="5638680"/>
              <a:ext cx="274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24280" y="5334120"/>
              <a:ext cx="0" cy="4572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98880" y="4129200"/>
              <a:ext cx="166680" cy="188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76640" y="4324320"/>
              <a:ext cx="0" cy="3556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987720" y="4680000"/>
              <a:ext cx="8280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4070520" y="4673160"/>
              <a:ext cx="101520" cy="2415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4064040" y="4304880"/>
              <a:ext cx="183960" cy="1270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 rot="10800000">
              <a:off x="3903840" y="4884840"/>
              <a:ext cx="2930400" cy="233280"/>
            </a:xfrm>
            <a:custGeom>
              <a:avLst/>
              <a:gdLst>
                <a:gd name="textAreaLeft" fmla="*/ 644400 w 2930400"/>
                <a:gd name="textAreaRight" fmla="*/ 2286000 w 2930400"/>
                <a:gd name="textAreaTop" fmla="*/ 51120 h 233280"/>
                <a:gd name="textAreaBottom" fmla="*/ 182160 h 23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060640" y="5070600"/>
              <a:ext cx="4075200" cy="201600"/>
            </a:xfrm>
            <a:custGeom>
              <a:avLst/>
              <a:gdLst/>
              <a:ahLst/>
              <a:rect l="l" t="t" r="r" b="b"/>
              <a:pathLst>
                <a:path w="2567" h="127">
                  <a:moveTo>
                    <a:pt x="0" y="6"/>
                  </a:moveTo>
                  <a:lnTo>
                    <a:pt x="27" y="6"/>
                  </a:lnTo>
                  <a:lnTo>
                    <a:pt x="47" y="0"/>
                  </a:lnTo>
                  <a:lnTo>
                    <a:pt x="68" y="0"/>
                  </a:lnTo>
                  <a:lnTo>
                    <a:pt x="95" y="0"/>
                  </a:lnTo>
                  <a:lnTo>
                    <a:pt x="122" y="0"/>
                  </a:lnTo>
                  <a:lnTo>
                    <a:pt x="142" y="0"/>
                  </a:lnTo>
                  <a:lnTo>
                    <a:pt x="163" y="0"/>
                  </a:lnTo>
                  <a:lnTo>
                    <a:pt x="183" y="0"/>
                  </a:lnTo>
                  <a:lnTo>
                    <a:pt x="204" y="6"/>
                  </a:lnTo>
                  <a:lnTo>
                    <a:pt x="231" y="12"/>
                  </a:lnTo>
                  <a:lnTo>
                    <a:pt x="251" y="12"/>
                  </a:lnTo>
                  <a:lnTo>
                    <a:pt x="272" y="12"/>
                  </a:lnTo>
                  <a:lnTo>
                    <a:pt x="299" y="18"/>
                  </a:lnTo>
                  <a:lnTo>
                    <a:pt x="319" y="18"/>
                  </a:lnTo>
                  <a:lnTo>
                    <a:pt x="340" y="18"/>
                  </a:lnTo>
                  <a:lnTo>
                    <a:pt x="367" y="18"/>
                  </a:lnTo>
                  <a:lnTo>
                    <a:pt x="387" y="18"/>
                  </a:lnTo>
                  <a:lnTo>
                    <a:pt x="408" y="18"/>
                  </a:lnTo>
                  <a:lnTo>
                    <a:pt x="435" y="12"/>
                  </a:lnTo>
                  <a:lnTo>
                    <a:pt x="462" y="12"/>
                  </a:lnTo>
                  <a:lnTo>
                    <a:pt x="490" y="12"/>
                  </a:lnTo>
                  <a:lnTo>
                    <a:pt x="517" y="6"/>
                  </a:lnTo>
                  <a:lnTo>
                    <a:pt x="537" y="0"/>
                  </a:lnTo>
                  <a:lnTo>
                    <a:pt x="558" y="0"/>
                  </a:lnTo>
                  <a:lnTo>
                    <a:pt x="585" y="0"/>
                  </a:lnTo>
                  <a:lnTo>
                    <a:pt x="612" y="0"/>
                  </a:lnTo>
                  <a:lnTo>
                    <a:pt x="632" y="0"/>
                  </a:lnTo>
                  <a:lnTo>
                    <a:pt x="653" y="0"/>
                  </a:lnTo>
                  <a:lnTo>
                    <a:pt x="673" y="0"/>
                  </a:lnTo>
                  <a:lnTo>
                    <a:pt x="701" y="0"/>
                  </a:lnTo>
                  <a:lnTo>
                    <a:pt x="735" y="6"/>
                  </a:lnTo>
                  <a:lnTo>
                    <a:pt x="762" y="12"/>
                  </a:lnTo>
                  <a:lnTo>
                    <a:pt x="782" y="12"/>
                  </a:lnTo>
                  <a:lnTo>
                    <a:pt x="803" y="12"/>
                  </a:lnTo>
                  <a:lnTo>
                    <a:pt x="823" y="12"/>
                  </a:lnTo>
                  <a:lnTo>
                    <a:pt x="843" y="18"/>
                  </a:lnTo>
                  <a:lnTo>
                    <a:pt x="871" y="25"/>
                  </a:lnTo>
                  <a:lnTo>
                    <a:pt x="891" y="25"/>
                  </a:lnTo>
                  <a:lnTo>
                    <a:pt x="925" y="25"/>
                  </a:lnTo>
                  <a:lnTo>
                    <a:pt x="946" y="25"/>
                  </a:lnTo>
                  <a:lnTo>
                    <a:pt x="966" y="31"/>
                  </a:lnTo>
                  <a:lnTo>
                    <a:pt x="986" y="31"/>
                  </a:lnTo>
                  <a:lnTo>
                    <a:pt x="1014" y="31"/>
                  </a:lnTo>
                  <a:lnTo>
                    <a:pt x="1034" y="25"/>
                  </a:lnTo>
                  <a:lnTo>
                    <a:pt x="1054" y="18"/>
                  </a:lnTo>
                  <a:lnTo>
                    <a:pt x="1075" y="18"/>
                  </a:lnTo>
                  <a:lnTo>
                    <a:pt x="1102" y="12"/>
                  </a:lnTo>
                  <a:lnTo>
                    <a:pt x="1129" y="12"/>
                  </a:lnTo>
                  <a:lnTo>
                    <a:pt x="1150" y="0"/>
                  </a:lnTo>
                  <a:lnTo>
                    <a:pt x="1170" y="0"/>
                  </a:lnTo>
                  <a:lnTo>
                    <a:pt x="1197" y="0"/>
                  </a:lnTo>
                  <a:lnTo>
                    <a:pt x="1218" y="0"/>
                  </a:lnTo>
                  <a:lnTo>
                    <a:pt x="1238" y="0"/>
                  </a:lnTo>
                  <a:lnTo>
                    <a:pt x="1272" y="0"/>
                  </a:lnTo>
                  <a:lnTo>
                    <a:pt x="1300" y="0"/>
                  </a:lnTo>
                  <a:lnTo>
                    <a:pt x="1320" y="0"/>
                  </a:lnTo>
                  <a:lnTo>
                    <a:pt x="1347" y="0"/>
                  </a:lnTo>
                  <a:lnTo>
                    <a:pt x="1368" y="0"/>
                  </a:lnTo>
                  <a:lnTo>
                    <a:pt x="1388" y="0"/>
                  </a:lnTo>
                  <a:lnTo>
                    <a:pt x="1415" y="0"/>
                  </a:lnTo>
                  <a:lnTo>
                    <a:pt x="1442" y="0"/>
                  </a:lnTo>
                  <a:lnTo>
                    <a:pt x="1463" y="0"/>
                  </a:lnTo>
                  <a:lnTo>
                    <a:pt x="1483" y="0"/>
                  </a:lnTo>
                  <a:lnTo>
                    <a:pt x="1504" y="6"/>
                  </a:lnTo>
                  <a:lnTo>
                    <a:pt x="1524" y="6"/>
                  </a:lnTo>
                  <a:lnTo>
                    <a:pt x="1551" y="12"/>
                  </a:lnTo>
                  <a:lnTo>
                    <a:pt x="1579" y="12"/>
                  </a:lnTo>
                  <a:lnTo>
                    <a:pt x="1606" y="18"/>
                  </a:lnTo>
                  <a:lnTo>
                    <a:pt x="1626" y="25"/>
                  </a:lnTo>
                  <a:lnTo>
                    <a:pt x="1647" y="25"/>
                  </a:lnTo>
                  <a:lnTo>
                    <a:pt x="1667" y="25"/>
                  </a:lnTo>
                  <a:lnTo>
                    <a:pt x="1687" y="25"/>
                  </a:lnTo>
                  <a:lnTo>
                    <a:pt x="1708" y="25"/>
                  </a:lnTo>
                  <a:lnTo>
                    <a:pt x="1728" y="31"/>
                  </a:lnTo>
                  <a:lnTo>
                    <a:pt x="1762" y="37"/>
                  </a:lnTo>
                  <a:lnTo>
                    <a:pt x="1783" y="37"/>
                  </a:lnTo>
                  <a:lnTo>
                    <a:pt x="1803" y="37"/>
                  </a:lnTo>
                  <a:lnTo>
                    <a:pt x="1824" y="37"/>
                  </a:lnTo>
                  <a:lnTo>
                    <a:pt x="1844" y="25"/>
                  </a:lnTo>
                  <a:lnTo>
                    <a:pt x="1864" y="25"/>
                  </a:lnTo>
                  <a:lnTo>
                    <a:pt x="1885" y="25"/>
                  </a:lnTo>
                  <a:lnTo>
                    <a:pt x="1905" y="18"/>
                  </a:lnTo>
                  <a:lnTo>
                    <a:pt x="1926" y="18"/>
                  </a:lnTo>
                  <a:lnTo>
                    <a:pt x="1946" y="12"/>
                  </a:lnTo>
                  <a:lnTo>
                    <a:pt x="1973" y="12"/>
                  </a:lnTo>
                  <a:lnTo>
                    <a:pt x="2001" y="6"/>
                  </a:lnTo>
                  <a:lnTo>
                    <a:pt x="2021" y="6"/>
                  </a:lnTo>
                  <a:lnTo>
                    <a:pt x="2041" y="6"/>
                  </a:lnTo>
                  <a:lnTo>
                    <a:pt x="2062" y="6"/>
                  </a:lnTo>
                  <a:lnTo>
                    <a:pt x="2082" y="6"/>
                  </a:lnTo>
                  <a:lnTo>
                    <a:pt x="2109" y="6"/>
                  </a:lnTo>
                  <a:lnTo>
                    <a:pt x="2130" y="6"/>
                  </a:lnTo>
                  <a:lnTo>
                    <a:pt x="2150" y="6"/>
                  </a:lnTo>
                  <a:lnTo>
                    <a:pt x="2178" y="6"/>
                  </a:lnTo>
                  <a:lnTo>
                    <a:pt x="2198" y="6"/>
                  </a:lnTo>
                  <a:lnTo>
                    <a:pt x="2218" y="6"/>
                  </a:lnTo>
                  <a:lnTo>
                    <a:pt x="2239" y="6"/>
                  </a:lnTo>
                  <a:lnTo>
                    <a:pt x="2259" y="6"/>
                  </a:lnTo>
                  <a:lnTo>
                    <a:pt x="2286" y="6"/>
                  </a:lnTo>
                  <a:lnTo>
                    <a:pt x="2307" y="6"/>
                  </a:lnTo>
                  <a:lnTo>
                    <a:pt x="2334" y="6"/>
                  </a:lnTo>
                  <a:lnTo>
                    <a:pt x="2361" y="6"/>
                  </a:lnTo>
                  <a:lnTo>
                    <a:pt x="2395" y="6"/>
                  </a:lnTo>
                  <a:lnTo>
                    <a:pt x="2416" y="6"/>
                  </a:lnTo>
                  <a:lnTo>
                    <a:pt x="2436" y="6"/>
                  </a:lnTo>
                  <a:lnTo>
                    <a:pt x="2457" y="12"/>
                  </a:lnTo>
                  <a:lnTo>
                    <a:pt x="2477" y="12"/>
                  </a:lnTo>
                  <a:lnTo>
                    <a:pt x="2497" y="12"/>
                  </a:lnTo>
                  <a:lnTo>
                    <a:pt x="2518" y="18"/>
                  </a:lnTo>
                  <a:lnTo>
                    <a:pt x="2545" y="18"/>
                  </a:lnTo>
                  <a:lnTo>
                    <a:pt x="2566" y="18"/>
                  </a:lnTo>
                  <a:lnTo>
                    <a:pt x="2559" y="126"/>
                  </a:lnTo>
                  <a:lnTo>
                    <a:pt x="0" y="113"/>
                  </a:lnTo>
                  <a:lnTo>
                    <a:pt x="0" y="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84200" y="4565520"/>
              <a:ext cx="706680" cy="677880"/>
            </a:xfrm>
            <a:custGeom>
              <a:avLst/>
              <a:gdLst/>
              <a:ahLst/>
              <a:rect l="l" t="t" r="r" b="b"/>
              <a:pathLst>
                <a:path w="445" h="427">
                  <a:moveTo>
                    <a:pt x="444" y="426"/>
                  </a:moveTo>
                  <a:lnTo>
                    <a:pt x="444" y="402"/>
                  </a:lnTo>
                  <a:lnTo>
                    <a:pt x="438" y="384"/>
                  </a:lnTo>
                  <a:lnTo>
                    <a:pt x="432" y="360"/>
                  </a:lnTo>
                  <a:lnTo>
                    <a:pt x="426" y="342"/>
                  </a:lnTo>
                  <a:lnTo>
                    <a:pt x="420" y="318"/>
                  </a:lnTo>
                  <a:lnTo>
                    <a:pt x="408" y="300"/>
                  </a:lnTo>
                  <a:lnTo>
                    <a:pt x="396" y="276"/>
                  </a:lnTo>
                  <a:lnTo>
                    <a:pt x="384" y="252"/>
                  </a:lnTo>
                  <a:lnTo>
                    <a:pt x="372" y="228"/>
                  </a:lnTo>
                  <a:lnTo>
                    <a:pt x="360" y="210"/>
                  </a:lnTo>
                  <a:lnTo>
                    <a:pt x="348" y="192"/>
                  </a:lnTo>
                  <a:lnTo>
                    <a:pt x="336" y="174"/>
                  </a:lnTo>
                  <a:lnTo>
                    <a:pt x="324" y="156"/>
                  </a:lnTo>
                  <a:lnTo>
                    <a:pt x="312" y="138"/>
                  </a:lnTo>
                  <a:lnTo>
                    <a:pt x="294" y="120"/>
                  </a:lnTo>
                  <a:lnTo>
                    <a:pt x="276" y="102"/>
                  </a:lnTo>
                  <a:lnTo>
                    <a:pt x="264" y="84"/>
                  </a:lnTo>
                  <a:lnTo>
                    <a:pt x="246" y="72"/>
                  </a:lnTo>
                  <a:lnTo>
                    <a:pt x="228" y="60"/>
                  </a:lnTo>
                  <a:lnTo>
                    <a:pt x="204" y="48"/>
                  </a:lnTo>
                  <a:lnTo>
                    <a:pt x="180" y="42"/>
                  </a:lnTo>
                  <a:lnTo>
                    <a:pt x="162" y="30"/>
                  </a:lnTo>
                  <a:lnTo>
                    <a:pt x="144" y="24"/>
                  </a:lnTo>
                  <a:lnTo>
                    <a:pt x="126" y="18"/>
                  </a:lnTo>
                  <a:lnTo>
                    <a:pt x="108" y="12"/>
                  </a:lnTo>
                  <a:lnTo>
                    <a:pt x="90" y="12"/>
                  </a:lnTo>
                  <a:lnTo>
                    <a:pt x="72" y="6"/>
                  </a:lnTo>
                  <a:lnTo>
                    <a:pt x="54" y="6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444" y="426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98800" y="4292640"/>
              <a:ext cx="171720" cy="1332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879800" y="482760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609720" y="4395960"/>
              <a:ext cx="92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96520" y="5856120"/>
              <a:ext cx="303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مرکز جرم سیستم</a:t>
              </a: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4067280" y="4205160"/>
              <a:ext cx="1826280" cy="1433520"/>
              <a:chOff x="4067280" y="4205160"/>
              <a:chExt cx="1826280" cy="143352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4152600" y="4559400"/>
                <a:ext cx="1168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067280" y="4205160"/>
                <a:ext cx="1250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3</a:t>
                </a:r>
                <a:r>
                  <a:rPr b="0" lang="fa-IR" sz="2000" spc="-1" strike="noStrike">
                    <a:solidFill>
                      <a:srgbClr val="fafd00"/>
                    </a:solidFill>
                    <a:latin typeface="Arial"/>
                    <a:cs typeface="Arial"/>
                  </a:rPr>
                  <a:t>مت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4724280" y="5638680"/>
                <a:ext cx="571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431240" y="5259240"/>
                <a:ext cx="1462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/1</a:t>
                </a:r>
                <a:r>
                  <a:rPr b="0" lang="fa-IR" sz="2000" spc="-1" strike="noStrike">
                    <a:solidFill>
                      <a:srgbClr val="fafd00"/>
                    </a:solidFill>
                    <a:latin typeface="Arial"/>
                    <a:cs typeface="Arial"/>
                  </a:rPr>
                  <a:t>مت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 flipH="1">
              <a:off x="1956960" y="4737240"/>
              <a:ext cx="20574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451600" y="4332240"/>
              <a:ext cx="153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5/4 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ت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3546360" y="3470400"/>
            <a:ext cx="540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با ساحل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5/4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تر فاصله خواهد داش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 وری درس ا 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30080" y="1752480"/>
            <a:ext cx="78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و نیرو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یستم ذرات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 و شتاب مرکز جر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دینامیک مرکز جرم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تکانه خطی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ffff"/>
                </a:solidFill>
                <a:latin typeface="Arial"/>
                <a:cs typeface="Arial"/>
              </a:rPr>
              <a:t>مطالب کتاب درسی و مساءل آن را مرور کنید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70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پتانسیل و نیرو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نیروی پایستار انرژی پتانسیل را اینگونه تعریف می کن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تابع انرژی پتانسیل را در نظر گرفته و نیرو را حساب کن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نر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جاذبه مجاور زمین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جاذبه نیوتن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168880" y="1927080"/>
                <a:ext cx="2144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417760" y="3406680"/>
                <a:ext cx="246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71920" y="4795920"/>
                <a:ext cx="229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99040" y="3533760"/>
                <a:ext cx="25970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929200" y="4643280"/>
                <a:ext cx="2675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67240" y="5557680"/>
                <a:ext cx="2295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896080" y="5516640"/>
                <a:ext cx="3004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913280" y="6113520"/>
            <a:ext cx="232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 u="sng">
                <a:solidFill>
                  <a:srgbClr val="fafd00"/>
                </a:solidFill>
                <a:uFillTx/>
                <a:latin typeface="Arial"/>
                <a:cs typeface="Arial"/>
              </a:rPr>
              <a:t>بسیار خوب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19440" y="2438280"/>
                <a:ext cx="1033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390920" y="2039760"/>
            <a:ext cx="507960" cy="284400"/>
          </a:xfrm>
          <a:prstGeom prst="rightArrow">
            <a:avLst>
              <a:gd name="adj1" fmla="val 50000"/>
              <a:gd name="adj2" fmla="val 44652"/>
            </a:avLst>
          </a:prstGeom>
          <a:solidFill>
            <a:srgbClr val="00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مودارهای انرژی پتانسیل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4080" y="1611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را در نظر بگیردید که روی یک سطح بدون اصطکاک می لغزد و به یک فنر آرمانی وصل شده است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451480" y="3068640"/>
                <a:ext cx="24620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895320" y="1671840"/>
            <a:ext cx="3774240" cy="4527360"/>
            <a:chOff x="895320" y="1671840"/>
            <a:chExt cx="3774240" cy="4527360"/>
          </a:xfrm>
        </p:grpSpPr>
        <p:grpSp>
          <p:nvGrpSpPr>
            <p:cNvPr id="73" name=""/>
            <p:cNvGrpSpPr/>
            <p:nvPr/>
          </p:nvGrpSpPr>
          <p:grpSpPr>
            <a:xfrm>
              <a:off x="958680" y="2569680"/>
              <a:ext cx="1689120" cy="517320"/>
              <a:chOff x="958680" y="2569680"/>
              <a:chExt cx="1689120" cy="51732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1104840" y="2569680"/>
                <a:ext cx="339480" cy="517320"/>
                <a:chOff x="1104840" y="2569680"/>
                <a:chExt cx="339480" cy="5173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1104840" y="2569680"/>
                  <a:ext cx="163440" cy="517320"/>
                  <a:chOff x="1104840" y="2569680"/>
                  <a:chExt cx="163440" cy="5173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flipV="1">
                    <a:off x="1104840" y="256968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147680" y="258228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1196640" y="2822040"/>
                    <a:ext cx="71640" cy="264960"/>
                    <a:chOff x="1196640" y="2822040"/>
                    <a:chExt cx="71640" cy="26496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1196640" y="2834280"/>
                      <a:ext cx="288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 flipV="1">
                      <a:off x="1238040" y="282204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1280880" y="2569680"/>
                  <a:ext cx="163440" cy="517320"/>
                  <a:chOff x="1280880" y="2569680"/>
                  <a:chExt cx="163440" cy="51732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 flipV="1">
                    <a:off x="1280880" y="256968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323720" y="2582280"/>
                    <a:ext cx="288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1365120" y="2822040"/>
                    <a:ext cx="79200" cy="264960"/>
                    <a:chOff x="1365120" y="2822040"/>
                    <a:chExt cx="79200" cy="26496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365120" y="283428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flipV="1">
                      <a:off x="1414440" y="2822040"/>
                      <a:ext cx="298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7" name=""/>
              <p:cNvGrpSpPr/>
              <p:nvPr/>
            </p:nvGrpSpPr>
            <p:grpSpPr>
              <a:xfrm>
                <a:off x="1457280" y="2569680"/>
                <a:ext cx="341280" cy="517320"/>
                <a:chOff x="1457280" y="2569680"/>
                <a:chExt cx="341280" cy="5173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1457280" y="2569680"/>
                  <a:ext cx="163440" cy="517320"/>
                  <a:chOff x="1457280" y="2569680"/>
                  <a:chExt cx="163440" cy="5173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flipV="1">
                    <a:off x="1457280" y="256968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498320" y="2582280"/>
                    <a:ext cx="302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541160" y="2822040"/>
                    <a:ext cx="79560" cy="264960"/>
                    <a:chOff x="1541160" y="2822040"/>
                    <a:chExt cx="79560" cy="2649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541160" y="2834280"/>
                      <a:ext cx="3672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V="1">
                      <a:off x="1590480" y="282204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1633320" y="2569680"/>
                  <a:ext cx="165240" cy="517320"/>
                  <a:chOff x="1633320" y="2569680"/>
                  <a:chExt cx="165240" cy="51732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flipV="1">
                    <a:off x="1633320" y="2569680"/>
                    <a:ext cx="2880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74720" y="2582280"/>
                    <a:ext cx="3024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717560" y="2822040"/>
                    <a:ext cx="81000" cy="264960"/>
                    <a:chOff x="1717560" y="2822040"/>
                    <a:chExt cx="81000" cy="2649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717560" y="283428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flipV="1">
                      <a:off x="1766880" y="2822040"/>
                      <a:ext cx="3168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1811160" y="2569680"/>
                <a:ext cx="338040" cy="517320"/>
                <a:chOff x="1811160" y="2569680"/>
                <a:chExt cx="338040" cy="51732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1811160" y="2569680"/>
                  <a:ext cx="163440" cy="517320"/>
                  <a:chOff x="1811160" y="2569680"/>
                  <a:chExt cx="163440" cy="5173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V="1">
                    <a:off x="1811160" y="256968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852560" y="258228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01520" y="2822040"/>
                    <a:ext cx="73080" cy="264960"/>
                    <a:chOff x="1901520" y="2822040"/>
                    <a:chExt cx="73080" cy="2649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901520" y="2834280"/>
                      <a:ext cx="302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flipV="1">
                      <a:off x="1944360" y="282204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987560" y="2569680"/>
                  <a:ext cx="161640" cy="517320"/>
                  <a:chOff x="1987560" y="2569680"/>
                  <a:chExt cx="161640" cy="5173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V="1">
                    <a:off x="1987560" y="2569680"/>
                    <a:ext cx="284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028600" y="2582280"/>
                    <a:ext cx="3672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2077920" y="2822040"/>
                    <a:ext cx="71280" cy="264960"/>
                    <a:chOff x="2077920" y="2822040"/>
                    <a:chExt cx="71280" cy="2649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2077920" y="2834280"/>
                      <a:ext cx="3024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2120760" y="2822040"/>
                      <a:ext cx="284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2162160" y="2569680"/>
                <a:ext cx="339480" cy="517320"/>
                <a:chOff x="2162160" y="2569680"/>
                <a:chExt cx="339480" cy="51732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162160" y="2569680"/>
                  <a:ext cx="163440" cy="517320"/>
                  <a:chOff x="2162160" y="2569680"/>
                  <a:chExt cx="163440" cy="51732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2162160" y="2569680"/>
                    <a:ext cx="2988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205000" y="2582280"/>
                    <a:ext cx="3636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253960" y="2822040"/>
                    <a:ext cx="71640" cy="264960"/>
                    <a:chOff x="2253960" y="2822040"/>
                    <a:chExt cx="71640" cy="2649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253960" y="2834280"/>
                      <a:ext cx="2880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flipV="1">
                      <a:off x="2295360" y="282204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2338200" y="2569680"/>
                  <a:ext cx="163440" cy="517320"/>
                  <a:chOff x="2338200" y="2569680"/>
                  <a:chExt cx="163440" cy="51732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flipV="1">
                    <a:off x="2338200" y="2569680"/>
                    <a:ext cx="30240" cy="264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381040" y="2582280"/>
                    <a:ext cx="28800" cy="239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2422440" y="2822040"/>
                    <a:ext cx="79200" cy="264960"/>
                    <a:chOff x="2422440" y="2822040"/>
                    <a:chExt cx="79200" cy="26496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422440" y="2834280"/>
                      <a:ext cx="36360" cy="239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V="1">
                      <a:off x="2471400" y="2822040"/>
                      <a:ext cx="30240" cy="264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6" name=""/>
              <p:cNvSpPr/>
              <p:nvPr/>
            </p:nvSpPr>
            <p:spPr>
              <a:xfrm flipH="1">
                <a:off x="958680" y="2828520"/>
                <a:ext cx="1461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501640" y="2828520"/>
                <a:ext cx="1461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199880" y="559584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565360" y="3608280"/>
              <a:ext cx="0" cy="199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2480" y="55735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8280" y="54212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83880" y="374472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4200" y="2670120"/>
              <a:ext cx="461880" cy="4806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9800" y="2449440"/>
              <a:ext cx="0" cy="720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942480" y="2492280"/>
              <a:ext cx="57240" cy="653760"/>
              <a:chOff x="942480" y="2492280"/>
              <a:chExt cx="57240" cy="653760"/>
            </a:xfrm>
          </p:grpSpPr>
          <p:sp>
            <p:nvSpPr>
              <p:cNvPr id="136" name=""/>
              <p:cNvSpPr/>
              <p:nvPr/>
            </p:nvSpPr>
            <p:spPr>
              <a:xfrm>
                <a:off x="993600" y="2492280"/>
                <a:ext cx="0" cy="65376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942480" y="2525400"/>
                <a:ext cx="57240" cy="295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942480" y="261108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942480" y="269676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942480" y="278244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42480" y="2869920"/>
                <a:ext cx="57240" cy="280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42480" y="2953800"/>
                <a:ext cx="57240" cy="313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942480" y="3039480"/>
                <a:ext cx="57240" cy="31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608200" y="2736720"/>
              <a:ext cx="48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95320" y="2021040"/>
              <a:ext cx="3644640" cy="417816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95320" y="2021040"/>
              <a:ext cx="3644640" cy="143496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8280" y="3136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6200" y="3544920"/>
              <a:ext cx="139680" cy="5202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4480" y="3544920"/>
              <a:ext cx="139680" cy="52020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71280" y="3157560"/>
              <a:ext cx="326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59000" y="1671840"/>
              <a:ext cx="2412360" cy="39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0440" y="1671840"/>
              <a:ext cx="2412360" cy="39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مودارهای ا نرژی پتانسی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2360" y="15969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را در نظر بگیردید که روی یک سطح بدون اصطکاک می لغزد و به یک فنر آرمانی وصل شده است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dU/dx = -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شی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8080" y="1491120"/>
            <a:ext cx="4004640" cy="4552560"/>
            <a:chOff x="568080" y="1491120"/>
            <a:chExt cx="4004640" cy="4552560"/>
          </a:xfrm>
        </p:grpSpPr>
        <p:grpSp>
          <p:nvGrpSpPr>
            <p:cNvPr id="158" name=""/>
            <p:cNvGrpSpPr/>
            <p:nvPr/>
          </p:nvGrpSpPr>
          <p:grpSpPr>
            <a:xfrm>
              <a:off x="861840" y="2414520"/>
              <a:ext cx="698040" cy="517320"/>
              <a:chOff x="861840" y="2414520"/>
              <a:chExt cx="698040" cy="5173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930240" y="2414520"/>
                <a:ext cx="131760" cy="517320"/>
                <a:chOff x="930240" y="2414520"/>
                <a:chExt cx="131760" cy="5173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930240" y="2414520"/>
                  <a:ext cx="58680" cy="517320"/>
                  <a:chOff x="930240" y="2414520"/>
                  <a:chExt cx="58680" cy="51732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930240" y="2414520"/>
                    <a:ext cx="61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949320" y="2427120"/>
                    <a:ext cx="4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966600" y="2666520"/>
                    <a:ext cx="22320" cy="265320"/>
                    <a:chOff x="966600" y="2666520"/>
                    <a:chExt cx="22320" cy="2653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966600" y="2679480"/>
                      <a:ext cx="64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V="1">
                      <a:off x="985680" y="2666520"/>
                      <a:ext cx="324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001520" y="2414520"/>
                  <a:ext cx="60480" cy="517320"/>
                  <a:chOff x="1001520" y="2414520"/>
                  <a:chExt cx="60480" cy="5173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V="1">
                    <a:off x="1001520" y="2414520"/>
                    <a:ext cx="468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019160" y="2427120"/>
                    <a:ext cx="4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1036440" y="2666520"/>
                    <a:ext cx="25560" cy="265320"/>
                    <a:chOff x="1036440" y="2666520"/>
                    <a:chExt cx="25560" cy="26532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1036440" y="2679480"/>
                      <a:ext cx="792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1056960" y="2666520"/>
                      <a:ext cx="504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1074600" y="2414520"/>
                <a:ext cx="130320" cy="517320"/>
                <a:chOff x="1074600" y="2414520"/>
                <a:chExt cx="130320" cy="51732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074600" y="2414520"/>
                  <a:ext cx="58680" cy="517320"/>
                  <a:chOff x="1074600" y="2414520"/>
                  <a:chExt cx="58680" cy="5173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V="1">
                    <a:off x="1074600" y="2414520"/>
                    <a:ext cx="324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090440" y="2427120"/>
                    <a:ext cx="4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1108080" y="2666520"/>
                    <a:ext cx="25200" cy="265320"/>
                    <a:chOff x="1108080" y="2666520"/>
                    <a:chExt cx="25200" cy="2653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108080" y="2679480"/>
                      <a:ext cx="792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flipV="1">
                      <a:off x="1128600" y="2666520"/>
                      <a:ext cx="46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145880" y="2414520"/>
                  <a:ext cx="59040" cy="517320"/>
                  <a:chOff x="1145880" y="2414520"/>
                  <a:chExt cx="59040" cy="5173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V="1">
                    <a:off x="1145880" y="2414520"/>
                    <a:ext cx="324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161720" y="2427120"/>
                    <a:ext cx="64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1180800" y="2666520"/>
                    <a:ext cx="24120" cy="265320"/>
                    <a:chOff x="1180800" y="2666520"/>
                    <a:chExt cx="24120" cy="2653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180800" y="2679480"/>
                      <a:ext cx="504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1198440" y="2666520"/>
                      <a:ext cx="64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1217520" y="2414520"/>
                <a:ext cx="131760" cy="517320"/>
                <a:chOff x="1217520" y="2414520"/>
                <a:chExt cx="131760" cy="5173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217520" y="2414520"/>
                  <a:ext cx="60120" cy="517320"/>
                  <a:chOff x="1217520" y="2414520"/>
                  <a:chExt cx="60120" cy="517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V="1">
                    <a:off x="1217520" y="2414520"/>
                    <a:ext cx="61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236600" y="2427120"/>
                    <a:ext cx="4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253880" y="2666520"/>
                    <a:ext cx="23760" cy="265320"/>
                    <a:chOff x="1253880" y="2666520"/>
                    <a:chExt cx="23760" cy="2653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253880" y="2679480"/>
                      <a:ext cx="64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V="1">
                      <a:off x="1272960" y="2666520"/>
                      <a:ext cx="46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1290600" y="2414520"/>
                  <a:ext cx="58680" cy="517320"/>
                  <a:chOff x="1290600" y="2414520"/>
                  <a:chExt cx="58680" cy="5173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V="1">
                    <a:off x="1290600" y="2414520"/>
                    <a:ext cx="288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306440" y="2427120"/>
                    <a:ext cx="79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326960" y="2666520"/>
                    <a:ext cx="22320" cy="265320"/>
                    <a:chOff x="1326960" y="2666520"/>
                    <a:chExt cx="22320" cy="2653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326960" y="2679480"/>
                      <a:ext cx="4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1344600" y="2666520"/>
                      <a:ext cx="46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1361880" y="2414520"/>
                <a:ext cx="130320" cy="517320"/>
                <a:chOff x="1361880" y="2414520"/>
                <a:chExt cx="130320" cy="51732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1361880" y="2414520"/>
                  <a:ext cx="58680" cy="517320"/>
                  <a:chOff x="1361880" y="2414520"/>
                  <a:chExt cx="58680" cy="517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V="1">
                    <a:off x="1361880" y="2414520"/>
                    <a:ext cx="324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377720" y="2427120"/>
                    <a:ext cx="79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1398600" y="2666520"/>
                    <a:ext cx="21960" cy="265320"/>
                    <a:chOff x="1398600" y="2666520"/>
                    <a:chExt cx="21960" cy="26532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1398600" y="2679480"/>
                      <a:ext cx="4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flipV="1">
                      <a:off x="1415880" y="2666520"/>
                      <a:ext cx="46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1433520" y="2414520"/>
                  <a:ext cx="58680" cy="517320"/>
                  <a:chOff x="1433520" y="2414520"/>
                  <a:chExt cx="58680" cy="5173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V="1">
                    <a:off x="1433520" y="2414520"/>
                    <a:ext cx="288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1449360" y="2427120"/>
                    <a:ext cx="61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1468440" y="2666520"/>
                    <a:ext cx="23760" cy="265320"/>
                    <a:chOff x="1468440" y="2666520"/>
                    <a:chExt cx="23760" cy="2653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468440" y="2679480"/>
                      <a:ext cx="4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V="1">
                      <a:off x="1485720" y="2666520"/>
                      <a:ext cx="648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" name=""/>
              <p:cNvSpPr/>
              <p:nvPr/>
            </p:nvSpPr>
            <p:spPr>
              <a:xfrm flipH="1">
                <a:off x="861840" y="2673360"/>
                <a:ext cx="68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91840" y="2673360"/>
                <a:ext cx="680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845640" y="2336760"/>
              <a:ext cx="57240" cy="654120"/>
              <a:chOff x="845640" y="2336760"/>
              <a:chExt cx="57240" cy="654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96760" y="2336760"/>
                <a:ext cx="0" cy="6541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45640" y="237024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45640" y="245592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45640" y="254160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845640" y="262728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845640" y="2714760"/>
                <a:ext cx="57240" cy="284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845640" y="2798640"/>
                <a:ext cx="57240" cy="31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45640" y="2884320"/>
                <a:ext cx="57240" cy="320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542960" y="2514600"/>
              <a:ext cx="542880" cy="480960"/>
              <a:chOff x="1542960" y="2514600"/>
              <a:chExt cx="542880" cy="480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542960" y="2514600"/>
                <a:ext cx="461880" cy="48096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96960" y="2581200"/>
                <a:ext cx="488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98480" y="1865160"/>
              <a:ext cx="3644640" cy="417852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8480" y="1865160"/>
              <a:ext cx="3644640" cy="143532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91440" y="29811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62160" y="1491120"/>
              <a:ext cx="2413800" cy="3936240"/>
              <a:chOff x="1262160" y="1491120"/>
              <a:chExt cx="2413800" cy="3936240"/>
            </a:xfrm>
          </p:grpSpPr>
          <p:sp>
            <p:nvSpPr>
              <p:cNvPr id="229" name=""/>
              <p:cNvSpPr/>
              <p:nvPr/>
            </p:nvSpPr>
            <p:spPr>
              <a:xfrm>
                <a:off x="1262160" y="1491120"/>
                <a:ext cx="2412360" cy="393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63600" y="1491120"/>
                <a:ext cx="2412360" cy="393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103040" y="544032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468520" y="3452400"/>
              <a:ext cx="0" cy="199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24560" y="5418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15640" y="54180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91440" y="52657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87040" y="35892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55680" y="4151160"/>
              <a:ext cx="520560" cy="1054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477800" y="3147840"/>
              <a:ext cx="0" cy="2298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80920" y="4602240"/>
              <a:ext cx="5079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8080" y="47322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5320" y="2239920"/>
              <a:ext cx="5079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77560" y="206676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4440" y="3002040"/>
              <a:ext cx="326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975200" y="4687920"/>
                <a:ext cx="2462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مودارهای ا نرژی پتانسیل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30440" y="1935000"/>
            <a:ext cx="4311720" cy="18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جسم مشابه انرژی پتانسیل جسمی است که درون ی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س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ی لغز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gy =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kx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U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57360" y="1548360"/>
            <a:ext cx="3774240" cy="4552560"/>
            <a:chOff x="657360" y="1548360"/>
            <a:chExt cx="3774240" cy="4552560"/>
          </a:xfrm>
        </p:grpSpPr>
        <p:grpSp>
          <p:nvGrpSpPr>
            <p:cNvPr id="250" name=""/>
            <p:cNvGrpSpPr/>
            <p:nvPr/>
          </p:nvGrpSpPr>
          <p:grpSpPr>
            <a:xfrm>
              <a:off x="1121040" y="1548360"/>
              <a:ext cx="2413800" cy="3936240"/>
              <a:chOff x="1121040" y="1548360"/>
              <a:chExt cx="2413800" cy="393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1121040" y="1548360"/>
                <a:ext cx="2412360" cy="393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22480" y="1548360"/>
                <a:ext cx="2412360" cy="393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961920" y="5497560"/>
              <a:ext cx="288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27400" y="3509640"/>
              <a:ext cx="0" cy="199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74520" y="54752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50320" y="5322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45920" y="36464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7360" y="1922400"/>
              <a:ext cx="3644640" cy="417852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7360" y="1922400"/>
              <a:ext cx="3644640" cy="143532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20360" y="2471760"/>
              <a:ext cx="2451600" cy="517320"/>
              <a:chOff x="720360" y="2471760"/>
              <a:chExt cx="2451600" cy="51732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927000" y="2471760"/>
                <a:ext cx="500040" cy="517320"/>
                <a:chOff x="927000" y="2471760"/>
                <a:chExt cx="500040" cy="51732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927000" y="2471760"/>
                  <a:ext cx="244440" cy="517320"/>
                  <a:chOff x="927000" y="2471760"/>
                  <a:chExt cx="244440" cy="517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V="1">
                    <a:off x="927000" y="2471760"/>
                    <a:ext cx="493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988920" y="2484360"/>
                    <a:ext cx="58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1060560" y="2723760"/>
                    <a:ext cx="110880" cy="265320"/>
                    <a:chOff x="1060560" y="2723760"/>
                    <a:chExt cx="110880" cy="26532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1060560" y="2736720"/>
                      <a:ext cx="4752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V="1">
                      <a:off x="1120680" y="2723760"/>
                      <a:ext cx="507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1184400" y="2471760"/>
                  <a:ext cx="242640" cy="517320"/>
                  <a:chOff x="1184400" y="2471760"/>
                  <a:chExt cx="242640" cy="5173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V="1">
                    <a:off x="1184400" y="2471760"/>
                    <a:ext cx="4896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246320" y="2484360"/>
                    <a:ext cx="475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1306440" y="2723760"/>
                    <a:ext cx="120600" cy="265320"/>
                    <a:chOff x="1306440" y="2723760"/>
                    <a:chExt cx="120600" cy="2653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306440" y="2736720"/>
                      <a:ext cx="58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1378080" y="2723760"/>
                      <a:ext cx="489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1440000" y="2471760"/>
                <a:ext cx="501480" cy="517320"/>
                <a:chOff x="1440000" y="2471760"/>
                <a:chExt cx="501480" cy="517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1440000" y="2471760"/>
                  <a:ext cx="244440" cy="517320"/>
                  <a:chOff x="1440000" y="2471760"/>
                  <a:chExt cx="244440" cy="5173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V="1">
                    <a:off x="1440000" y="2471760"/>
                    <a:ext cx="475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500120" y="2484360"/>
                    <a:ext cx="493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1562040" y="2723760"/>
                    <a:ext cx="122400" cy="265320"/>
                    <a:chOff x="1562040" y="2723760"/>
                    <a:chExt cx="122400" cy="2653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2736720"/>
                      <a:ext cx="58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1633680" y="2723760"/>
                      <a:ext cx="507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697040" y="2471760"/>
                  <a:ext cx="244440" cy="517320"/>
                  <a:chOff x="1697040" y="2471760"/>
                  <a:chExt cx="244440" cy="5173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V="1">
                    <a:off x="1697040" y="2471760"/>
                    <a:ext cx="4608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755720" y="2484360"/>
                    <a:ext cx="5076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1819440" y="2723760"/>
                    <a:ext cx="122040" cy="265320"/>
                    <a:chOff x="1819440" y="2723760"/>
                    <a:chExt cx="122040" cy="26532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1819440" y="2736720"/>
                      <a:ext cx="58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V="1">
                      <a:off x="1890720" y="2723760"/>
                      <a:ext cx="507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1954080" y="2471760"/>
                <a:ext cx="498600" cy="517320"/>
                <a:chOff x="1954080" y="2471760"/>
                <a:chExt cx="498600" cy="51732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1954080" y="2471760"/>
                  <a:ext cx="244440" cy="517320"/>
                  <a:chOff x="1954080" y="2471760"/>
                  <a:chExt cx="244440" cy="5173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1954080" y="2471760"/>
                    <a:ext cx="4788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14560" y="2484360"/>
                    <a:ext cx="58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2085840" y="2723760"/>
                    <a:ext cx="112680" cy="265320"/>
                    <a:chOff x="2085840" y="2723760"/>
                    <a:chExt cx="112680" cy="2653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2085840" y="2736720"/>
                      <a:ext cx="5112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V="1">
                      <a:off x="2149560" y="2723760"/>
                      <a:ext cx="489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211480" y="2471760"/>
                  <a:ext cx="241200" cy="517320"/>
                  <a:chOff x="2211480" y="2471760"/>
                  <a:chExt cx="241200" cy="5173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V="1">
                    <a:off x="2211480" y="2471760"/>
                    <a:ext cx="475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271600" y="2484360"/>
                    <a:ext cx="58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343240" y="2723760"/>
                    <a:ext cx="109440" cy="265320"/>
                    <a:chOff x="2343240" y="2723760"/>
                    <a:chExt cx="109440" cy="2653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2343240" y="2736720"/>
                      <a:ext cx="4896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V="1">
                      <a:off x="2405160" y="2723760"/>
                      <a:ext cx="4752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2465280" y="2471760"/>
                <a:ext cx="500040" cy="517320"/>
                <a:chOff x="2465280" y="2471760"/>
                <a:chExt cx="500040" cy="51732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465280" y="2471760"/>
                  <a:ext cx="244440" cy="517320"/>
                  <a:chOff x="2465280" y="2471760"/>
                  <a:chExt cx="244440" cy="5173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V="1">
                    <a:off x="2465280" y="2471760"/>
                    <a:ext cx="4932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527200" y="2484360"/>
                    <a:ext cx="5868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598840" y="2723760"/>
                    <a:ext cx="110880" cy="265320"/>
                    <a:chOff x="2598840" y="2723760"/>
                    <a:chExt cx="110880" cy="2653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2598840" y="2736720"/>
                      <a:ext cx="4752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2658960" y="2723760"/>
                      <a:ext cx="507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722680" y="2471760"/>
                  <a:ext cx="242640" cy="517320"/>
                  <a:chOff x="2722680" y="2471760"/>
                  <a:chExt cx="242640" cy="5173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V="1">
                    <a:off x="2722680" y="2471760"/>
                    <a:ext cx="48960" cy="264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784600" y="2484360"/>
                    <a:ext cx="47520" cy="239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44720" y="2723760"/>
                    <a:ext cx="120600" cy="265320"/>
                    <a:chOff x="2844720" y="2723760"/>
                    <a:chExt cx="120600" cy="265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2844720" y="2736720"/>
                      <a:ext cx="58680" cy="239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2916360" y="2723760"/>
                      <a:ext cx="48960" cy="265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3" name=""/>
              <p:cNvSpPr/>
              <p:nvPr/>
            </p:nvSpPr>
            <p:spPr>
              <a:xfrm flipH="1">
                <a:off x="720360" y="2730600"/>
                <a:ext cx="2062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65320" y="2730600"/>
                <a:ext cx="2066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733320" y="3059280"/>
              <a:ext cx="326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03560" y="2571840"/>
              <a:ext cx="461880" cy="480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04520" y="2394000"/>
              <a:ext cx="57240" cy="654120"/>
              <a:chOff x="704520" y="2394000"/>
              <a:chExt cx="57240" cy="654120"/>
            </a:xfrm>
          </p:grpSpPr>
          <p:sp>
            <p:nvSpPr>
              <p:cNvPr id="318" name=""/>
              <p:cNvSpPr/>
              <p:nvPr/>
            </p:nvSpPr>
            <p:spPr>
              <a:xfrm>
                <a:off x="755640" y="2394000"/>
                <a:ext cx="0" cy="6541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704520" y="2427480"/>
                <a:ext cx="57240" cy="298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704520" y="251316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04520" y="259884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04520" y="2684520"/>
                <a:ext cx="57240" cy="302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04520" y="2772000"/>
                <a:ext cx="57240" cy="284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04520" y="2855880"/>
                <a:ext cx="57240" cy="31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704520" y="2941560"/>
                <a:ext cx="57240" cy="320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157560" y="2638440"/>
              <a:ext cx="48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89160" y="2455920"/>
              <a:ext cx="0" cy="219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8300000">
              <a:off x="3019320" y="4818240"/>
              <a:ext cx="139680" cy="1396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990720" y="44197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900760" y="4335480"/>
                <a:ext cx="13431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4917960" y="520236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است با ا رتفاع جسم در وضعی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36Z</dcterms:created>
  <dc:creator>Mats A. Selen</dc:creator>
  <dc:description/>
  <cp:keywords/>
  <dc:language>en-US</dc:language>
  <cp:lastModifiedBy>janubi</cp:lastModifiedBy>
  <dcterms:modified xsi:type="dcterms:W3CDTF">2006-04-15T02:20:37Z</dcterms:modified>
  <cp:revision>97</cp:revision>
  <dc:subject>Simple Harmonic Motion, Momentum</dc:subject>
  <dc:title>Physics 106P: Lecture 16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