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APPLAUSE.WAV" ContentType="audio/x-wav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45520" y="6573960"/>
            <a:ext cx="2699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دانشگاه پیام نور – فیزیک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1280" y="546120"/>
            <a:ext cx="47916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دینامیک دو جسمی 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48320" indent="-148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جسمی به جر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روی سطح شیبدار خشنی قرار دارد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به آن ضربه آرامی می زنیم .این جسم شروع به حرکت با سرعت ثابت می کند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6520" indent="-1188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اگر جسم مشابهی با(مساوی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جرم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روی همان سطح قرار دهیم و به آن ضربه آرامی بزنیم در اینصور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4720" y="3328920"/>
            <a:ext cx="39355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ف-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متوقف می شود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ب -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شتاب پیدا می کند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ج-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باتندی ثابت حرکت می ک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2280" y="4578480"/>
            <a:ext cx="3873240" cy="173988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440000">
            <a:off x="1377720" y="4273560"/>
            <a:ext cx="749160" cy="749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7800" y="447192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800600"/>
            <a:ext cx="457200" cy="228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پاسخ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نمودار جسم آزاد را کشیده و نیروی برایند در راستای  سطح شیدار حساب کنی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60000">
            <a:off x="2287440" y="3373560"/>
            <a:ext cx="67320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71880" y="4295880"/>
            <a:ext cx="40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07680" y="4471920"/>
            <a:ext cx="469800" cy="695520"/>
          </a:xfrm>
          <a:prstGeom prst="line">
            <a:avLst/>
          </a:prstGeom>
          <a:ln w="12600">
            <a:solidFill>
              <a:srgbClr val="00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56280"/>
            <a:ext cx="695520" cy="46980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31840" y="5692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0960" y="416880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618920" y="3962520"/>
            <a:ext cx="819000" cy="14000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962520"/>
            <a:ext cx="0" cy="18856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10552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42670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581280"/>
            <a:ext cx="2971800" cy="17528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95760" y="4981680"/>
            <a:ext cx="4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9000" y="5334120"/>
            <a:ext cx="1295280" cy="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14480" y="3476160"/>
            <a:ext cx="380880" cy="228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47720" y="3105000"/>
            <a:ext cx="890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52680" y="2424240"/>
            <a:ext cx="4176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,X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g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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68580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58400" y="2871720"/>
            <a:ext cx="329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a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الت اول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71880" y="3405240"/>
            <a:ext cx="41464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ادوبرابر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دن جرم هردوجمله فوق دوبرابر می شوند ولی نیروی برایند بازهم صفر است لذا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سرعت بازهم ثابت می ماند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نیرو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صطکاک در سیالات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وقتی که یک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جس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در سیالی حرکت می کند یک نیروی ترمزی که سبب کندشد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حرکت جسم در سیال می شود به آن وارد می گر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102120" y="3880800"/>
            <a:ext cx="2732040" cy="1121400"/>
            <a:chOff x="3102120" y="3880800"/>
            <a:chExt cx="2732040" cy="1121400"/>
          </a:xfrm>
        </p:grpSpPr>
        <p:sp>
          <p:nvSpPr>
            <p:cNvPr id="151" name=""/>
            <p:cNvSpPr/>
            <p:nvPr/>
          </p:nvSpPr>
          <p:spPr>
            <a:xfrm>
              <a:off x="3294000" y="4367160"/>
              <a:ext cx="158760" cy="288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1840" y="4257720"/>
              <a:ext cx="414360" cy="35856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9160" y="4257720"/>
              <a:ext cx="1344600" cy="35064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20000">
              <a:off x="4936680" y="4557240"/>
              <a:ext cx="825480" cy="8748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760000">
              <a:off x="4952880" y="4245120"/>
              <a:ext cx="827280" cy="871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440000">
              <a:off x="3144600" y="4044600"/>
              <a:ext cx="825480" cy="8748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980000">
              <a:off x="3097080" y="4731840"/>
              <a:ext cx="825480" cy="8748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75480" y="3971880"/>
              <a:ext cx="58680" cy="2700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45240" y="4684680"/>
              <a:ext cx="57240" cy="2700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7000" y="4465800"/>
              <a:ext cx="79560" cy="79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5400" y="4616280"/>
              <a:ext cx="68040" cy="8604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52760" y="4484520"/>
              <a:ext cx="63720" cy="12888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16" y="80"/>
                  </a:moveTo>
                  <a:lnTo>
                    <a:pt x="10" y="74"/>
                  </a:lnTo>
                  <a:lnTo>
                    <a:pt x="8" y="69"/>
                  </a:lnTo>
                  <a:lnTo>
                    <a:pt x="6" y="63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39" y="0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02120" y="4267080"/>
              <a:ext cx="268200" cy="298440"/>
            </a:xfrm>
            <a:custGeom>
              <a:avLst/>
              <a:gdLst/>
              <a:ahLst/>
              <a:rect l="l" t="t" r="r" b="b"/>
              <a:pathLst>
                <a:path w="169" h="188">
                  <a:moveTo>
                    <a:pt x="115" y="0"/>
                  </a:moveTo>
                  <a:lnTo>
                    <a:pt x="125" y="0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8" y="0"/>
                  </a:lnTo>
                  <a:lnTo>
                    <a:pt x="149" y="2"/>
                  </a:lnTo>
                  <a:lnTo>
                    <a:pt x="123" y="2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92" y="0"/>
                  </a:lnTo>
                  <a:lnTo>
                    <a:pt x="111" y="4"/>
                  </a:lnTo>
                  <a:lnTo>
                    <a:pt x="126" y="6"/>
                  </a:lnTo>
                  <a:lnTo>
                    <a:pt x="134" y="8"/>
                  </a:lnTo>
                  <a:lnTo>
                    <a:pt x="115" y="8"/>
                  </a:lnTo>
                  <a:lnTo>
                    <a:pt x="100" y="8"/>
                  </a:lnTo>
                  <a:lnTo>
                    <a:pt x="85" y="8"/>
                  </a:lnTo>
                  <a:lnTo>
                    <a:pt x="62" y="11"/>
                  </a:lnTo>
                  <a:lnTo>
                    <a:pt x="51" y="11"/>
                  </a:lnTo>
                  <a:lnTo>
                    <a:pt x="83" y="27"/>
                  </a:lnTo>
                  <a:lnTo>
                    <a:pt x="132" y="42"/>
                  </a:lnTo>
                  <a:lnTo>
                    <a:pt x="147" y="44"/>
                  </a:lnTo>
                  <a:lnTo>
                    <a:pt x="113" y="42"/>
                  </a:lnTo>
                  <a:lnTo>
                    <a:pt x="60" y="31"/>
                  </a:lnTo>
                  <a:lnTo>
                    <a:pt x="30" y="29"/>
                  </a:lnTo>
                  <a:lnTo>
                    <a:pt x="8" y="29"/>
                  </a:lnTo>
                  <a:lnTo>
                    <a:pt x="51" y="32"/>
                  </a:lnTo>
                  <a:lnTo>
                    <a:pt x="104" y="48"/>
                  </a:lnTo>
                  <a:lnTo>
                    <a:pt x="119" y="48"/>
                  </a:lnTo>
                  <a:lnTo>
                    <a:pt x="108" y="48"/>
                  </a:lnTo>
                  <a:lnTo>
                    <a:pt x="62" y="48"/>
                  </a:lnTo>
                  <a:lnTo>
                    <a:pt x="32" y="48"/>
                  </a:lnTo>
                  <a:lnTo>
                    <a:pt x="55" y="48"/>
                  </a:lnTo>
                  <a:lnTo>
                    <a:pt x="85" y="48"/>
                  </a:lnTo>
                  <a:lnTo>
                    <a:pt x="111" y="48"/>
                  </a:lnTo>
                  <a:lnTo>
                    <a:pt x="83" y="48"/>
                  </a:lnTo>
                  <a:lnTo>
                    <a:pt x="15" y="48"/>
                  </a:lnTo>
                  <a:lnTo>
                    <a:pt x="23" y="48"/>
                  </a:lnTo>
                  <a:lnTo>
                    <a:pt x="53" y="48"/>
                  </a:lnTo>
                  <a:lnTo>
                    <a:pt x="94" y="50"/>
                  </a:lnTo>
                  <a:lnTo>
                    <a:pt x="74" y="53"/>
                  </a:lnTo>
                  <a:lnTo>
                    <a:pt x="47" y="55"/>
                  </a:lnTo>
                  <a:lnTo>
                    <a:pt x="85" y="61"/>
                  </a:lnTo>
                  <a:lnTo>
                    <a:pt x="138" y="73"/>
                  </a:lnTo>
                  <a:lnTo>
                    <a:pt x="128" y="74"/>
                  </a:lnTo>
                  <a:lnTo>
                    <a:pt x="76" y="78"/>
                  </a:lnTo>
                  <a:lnTo>
                    <a:pt x="8" y="78"/>
                  </a:lnTo>
                  <a:lnTo>
                    <a:pt x="23" y="78"/>
                  </a:lnTo>
                  <a:lnTo>
                    <a:pt x="45" y="78"/>
                  </a:lnTo>
                  <a:lnTo>
                    <a:pt x="23" y="78"/>
                  </a:lnTo>
                  <a:lnTo>
                    <a:pt x="0" y="80"/>
                  </a:lnTo>
                  <a:lnTo>
                    <a:pt x="11" y="80"/>
                  </a:lnTo>
                  <a:lnTo>
                    <a:pt x="64" y="84"/>
                  </a:lnTo>
                  <a:lnTo>
                    <a:pt x="117" y="86"/>
                  </a:lnTo>
                  <a:lnTo>
                    <a:pt x="89" y="88"/>
                  </a:lnTo>
                  <a:lnTo>
                    <a:pt x="47" y="88"/>
                  </a:lnTo>
                  <a:lnTo>
                    <a:pt x="64" y="90"/>
                  </a:lnTo>
                  <a:lnTo>
                    <a:pt x="51" y="90"/>
                  </a:lnTo>
                  <a:lnTo>
                    <a:pt x="36" y="94"/>
                  </a:lnTo>
                  <a:lnTo>
                    <a:pt x="53" y="94"/>
                  </a:lnTo>
                  <a:lnTo>
                    <a:pt x="76" y="94"/>
                  </a:lnTo>
                  <a:lnTo>
                    <a:pt x="51" y="107"/>
                  </a:lnTo>
                  <a:lnTo>
                    <a:pt x="6" y="109"/>
                  </a:lnTo>
                  <a:lnTo>
                    <a:pt x="47" y="111"/>
                  </a:lnTo>
                  <a:lnTo>
                    <a:pt x="77" y="111"/>
                  </a:lnTo>
                  <a:lnTo>
                    <a:pt x="83" y="113"/>
                  </a:lnTo>
                  <a:lnTo>
                    <a:pt x="106" y="116"/>
                  </a:lnTo>
                  <a:lnTo>
                    <a:pt x="91" y="118"/>
                  </a:lnTo>
                  <a:lnTo>
                    <a:pt x="68" y="120"/>
                  </a:lnTo>
                  <a:lnTo>
                    <a:pt x="57" y="120"/>
                  </a:lnTo>
                  <a:lnTo>
                    <a:pt x="42" y="122"/>
                  </a:lnTo>
                  <a:lnTo>
                    <a:pt x="60" y="122"/>
                  </a:lnTo>
                  <a:lnTo>
                    <a:pt x="72" y="122"/>
                  </a:lnTo>
                  <a:lnTo>
                    <a:pt x="60" y="122"/>
                  </a:lnTo>
                  <a:lnTo>
                    <a:pt x="38" y="122"/>
                  </a:lnTo>
                  <a:lnTo>
                    <a:pt x="32" y="124"/>
                  </a:lnTo>
                  <a:lnTo>
                    <a:pt x="47" y="126"/>
                  </a:lnTo>
                  <a:lnTo>
                    <a:pt x="100" y="141"/>
                  </a:lnTo>
                  <a:lnTo>
                    <a:pt x="111" y="143"/>
                  </a:lnTo>
                  <a:lnTo>
                    <a:pt x="85" y="147"/>
                  </a:lnTo>
                  <a:lnTo>
                    <a:pt x="62" y="147"/>
                  </a:lnTo>
                  <a:lnTo>
                    <a:pt x="43" y="147"/>
                  </a:lnTo>
                  <a:lnTo>
                    <a:pt x="64" y="147"/>
                  </a:lnTo>
                  <a:lnTo>
                    <a:pt x="49" y="153"/>
                  </a:lnTo>
                  <a:lnTo>
                    <a:pt x="23" y="155"/>
                  </a:lnTo>
                  <a:lnTo>
                    <a:pt x="8" y="156"/>
                  </a:lnTo>
                  <a:lnTo>
                    <a:pt x="19" y="156"/>
                  </a:lnTo>
                  <a:lnTo>
                    <a:pt x="87" y="168"/>
                  </a:lnTo>
                  <a:lnTo>
                    <a:pt x="102" y="170"/>
                  </a:lnTo>
                  <a:lnTo>
                    <a:pt x="83" y="176"/>
                  </a:lnTo>
                  <a:lnTo>
                    <a:pt x="68" y="179"/>
                  </a:lnTo>
                  <a:lnTo>
                    <a:pt x="49" y="179"/>
                  </a:lnTo>
                  <a:lnTo>
                    <a:pt x="47" y="185"/>
                  </a:lnTo>
                  <a:lnTo>
                    <a:pt x="53" y="187"/>
                  </a:lnTo>
                  <a:lnTo>
                    <a:pt x="60" y="187"/>
                  </a:lnTo>
                </a:path>
              </a:pathLst>
            </a:custGeom>
            <a:noFill/>
            <a:ln cap="rnd"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43400" y="4660920"/>
            <a:ext cx="0" cy="8128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3594240"/>
            <a:ext cx="0" cy="81252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66960" y="5616720"/>
            <a:ext cx="1634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00400" y="3179880"/>
            <a:ext cx="1689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DR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620120" y="4794120"/>
            <a:ext cx="0" cy="774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9160" y="4930920"/>
            <a:ext cx="103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264280"/>
            <a:ext cx="0" cy="5968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24920" y="5311800"/>
            <a:ext cx="95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52360" y="3220920"/>
          <a:ext cx="11512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3220920"/>
                    <a:ext cx="11512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254640" y="2959200"/>
            <a:ext cx="1351080" cy="1225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45240" y="3220920"/>
            <a:ext cx="2003400" cy="654120"/>
          </a:xfrm>
          <a:custGeom>
            <a:avLst/>
            <a:gdLst/>
            <a:ahLst/>
            <a:rect l="l" t="t" r="r" b="b"/>
            <a:pathLst>
              <a:path w="1065" h="329">
                <a:moveTo>
                  <a:pt x="24" y="88"/>
                </a:moveTo>
                <a:lnTo>
                  <a:pt x="0" y="80"/>
                </a:lnTo>
                <a:lnTo>
                  <a:pt x="8" y="56"/>
                </a:lnTo>
                <a:lnTo>
                  <a:pt x="24" y="32"/>
                </a:lnTo>
                <a:lnTo>
                  <a:pt x="48" y="24"/>
                </a:lnTo>
                <a:lnTo>
                  <a:pt x="72" y="16"/>
                </a:lnTo>
                <a:lnTo>
                  <a:pt x="104" y="8"/>
                </a:lnTo>
                <a:lnTo>
                  <a:pt x="128" y="8"/>
                </a:lnTo>
                <a:lnTo>
                  <a:pt x="152" y="16"/>
                </a:lnTo>
                <a:lnTo>
                  <a:pt x="160" y="40"/>
                </a:lnTo>
                <a:lnTo>
                  <a:pt x="160" y="64"/>
                </a:lnTo>
                <a:lnTo>
                  <a:pt x="184" y="64"/>
                </a:lnTo>
                <a:lnTo>
                  <a:pt x="208" y="56"/>
                </a:lnTo>
                <a:lnTo>
                  <a:pt x="232" y="32"/>
                </a:lnTo>
                <a:lnTo>
                  <a:pt x="256" y="16"/>
                </a:lnTo>
                <a:lnTo>
                  <a:pt x="288" y="8"/>
                </a:lnTo>
                <a:lnTo>
                  <a:pt x="320" y="8"/>
                </a:lnTo>
                <a:lnTo>
                  <a:pt x="344" y="8"/>
                </a:lnTo>
                <a:lnTo>
                  <a:pt x="368" y="0"/>
                </a:lnTo>
                <a:lnTo>
                  <a:pt x="392" y="0"/>
                </a:lnTo>
                <a:lnTo>
                  <a:pt x="400" y="24"/>
                </a:lnTo>
                <a:lnTo>
                  <a:pt x="400" y="56"/>
                </a:lnTo>
                <a:lnTo>
                  <a:pt x="464" y="64"/>
                </a:lnTo>
                <a:lnTo>
                  <a:pt x="512" y="64"/>
                </a:lnTo>
                <a:lnTo>
                  <a:pt x="560" y="64"/>
                </a:lnTo>
                <a:lnTo>
                  <a:pt x="624" y="64"/>
                </a:lnTo>
                <a:lnTo>
                  <a:pt x="688" y="64"/>
                </a:lnTo>
                <a:lnTo>
                  <a:pt x="752" y="64"/>
                </a:lnTo>
                <a:lnTo>
                  <a:pt x="800" y="64"/>
                </a:lnTo>
                <a:lnTo>
                  <a:pt x="848" y="64"/>
                </a:lnTo>
                <a:lnTo>
                  <a:pt x="880" y="80"/>
                </a:lnTo>
                <a:lnTo>
                  <a:pt x="896" y="104"/>
                </a:lnTo>
                <a:lnTo>
                  <a:pt x="912" y="128"/>
                </a:lnTo>
                <a:lnTo>
                  <a:pt x="920" y="152"/>
                </a:lnTo>
                <a:lnTo>
                  <a:pt x="920" y="176"/>
                </a:lnTo>
                <a:lnTo>
                  <a:pt x="984" y="192"/>
                </a:lnTo>
                <a:lnTo>
                  <a:pt x="1032" y="208"/>
                </a:lnTo>
                <a:lnTo>
                  <a:pt x="1056" y="232"/>
                </a:lnTo>
                <a:lnTo>
                  <a:pt x="1064" y="256"/>
                </a:lnTo>
                <a:lnTo>
                  <a:pt x="1064" y="280"/>
                </a:lnTo>
                <a:lnTo>
                  <a:pt x="1056" y="304"/>
                </a:lnTo>
                <a:lnTo>
                  <a:pt x="1032" y="320"/>
                </a:lnTo>
                <a:lnTo>
                  <a:pt x="1008" y="328"/>
                </a:lnTo>
                <a:lnTo>
                  <a:pt x="984" y="328"/>
                </a:lnTo>
                <a:lnTo>
                  <a:pt x="960" y="304"/>
                </a:lnTo>
                <a:lnTo>
                  <a:pt x="904" y="296"/>
                </a:lnTo>
                <a:lnTo>
                  <a:pt x="856" y="312"/>
                </a:lnTo>
                <a:lnTo>
                  <a:pt x="776" y="320"/>
                </a:lnTo>
                <a:lnTo>
                  <a:pt x="752" y="320"/>
                </a:lnTo>
                <a:lnTo>
                  <a:pt x="688" y="320"/>
                </a:lnTo>
                <a:lnTo>
                  <a:pt x="624" y="320"/>
                </a:lnTo>
                <a:lnTo>
                  <a:pt x="600" y="320"/>
                </a:lnTo>
                <a:lnTo>
                  <a:pt x="584" y="288"/>
                </a:lnTo>
                <a:lnTo>
                  <a:pt x="568" y="256"/>
                </a:lnTo>
                <a:lnTo>
                  <a:pt x="568" y="232"/>
                </a:lnTo>
                <a:lnTo>
                  <a:pt x="560" y="200"/>
                </a:lnTo>
                <a:lnTo>
                  <a:pt x="528" y="184"/>
                </a:lnTo>
                <a:lnTo>
                  <a:pt x="504" y="192"/>
                </a:lnTo>
                <a:lnTo>
                  <a:pt x="472" y="216"/>
                </a:lnTo>
                <a:lnTo>
                  <a:pt x="448" y="224"/>
                </a:lnTo>
                <a:lnTo>
                  <a:pt x="416" y="232"/>
                </a:lnTo>
                <a:lnTo>
                  <a:pt x="384" y="232"/>
                </a:lnTo>
                <a:lnTo>
                  <a:pt x="336" y="232"/>
                </a:lnTo>
                <a:lnTo>
                  <a:pt x="272" y="232"/>
                </a:lnTo>
                <a:lnTo>
                  <a:pt x="224" y="232"/>
                </a:lnTo>
                <a:lnTo>
                  <a:pt x="176" y="232"/>
                </a:lnTo>
                <a:lnTo>
                  <a:pt x="152" y="208"/>
                </a:lnTo>
                <a:lnTo>
                  <a:pt x="136" y="184"/>
                </a:lnTo>
                <a:lnTo>
                  <a:pt x="120" y="160"/>
                </a:lnTo>
                <a:lnTo>
                  <a:pt x="96" y="144"/>
                </a:lnTo>
                <a:lnTo>
                  <a:pt x="72" y="144"/>
                </a:lnTo>
                <a:lnTo>
                  <a:pt x="56" y="120"/>
                </a:lnTo>
                <a:lnTo>
                  <a:pt x="48" y="96"/>
                </a:lnTo>
                <a:lnTo>
                  <a:pt x="24" y="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نیروهای مقاومت ترمزی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این نیروی مقاومت درسیال سبب می شود که سرعت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جسم به یک توانی برسد و  سبب یک تندی نهایی و بیشینه می شود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02120" y="3880800"/>
            <a:ext cx="2732040" cy="1121400"/>
            <a:chOff x="3102120" y="3880800"/>
            <a:chExt cx="2732040" cy="1121400"/>
          </a:xfrm>
        </p:grpSpPr>
        <p:sp>
          <p:nvSpPr>
            <p:cNvPr id="181" name=""/>
            <p:cNvSpPr/>
            <p:nvPr/>
          </p:nvSpPr>
          <p:spPr>
            <a:xfrm>
              <a:off x="3294000" y="4367160"/>
              <a:ext cx="158760" cy="288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1840" y="4257720"/>
              <a:ext cx="414360" cy="35856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9160" y="4257720"/>
              <a:ext cx="1344600" cy="35064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20000">
              <a:off x="4936680" y="4557240"/>
              <a:ext cx="825480" cy="8748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760000">
              <a:off x="4952880" y="4245120"/>
              <a:ext cx="827280" cy="871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440000">
              <a:off x="3144600" y="4044600"/>
              <a:ext cx="825480" cy="8748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980000">
              <a:off x="3097080" y="4731840"/>
              <a:ext cx="825480" cy="8748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5480" y="3971880"/>
              <a:ext cx="58680" cy="2700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45240" y="4684680"/>
              <a:ext cx="57240" cy="2700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67000" y="4465800"/>
              <a:ext cx="79560" cy="7920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5400" y="4616280"/>
              <a:ext cx="68040" cy="8604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2760" y="4484520"/>
              <a:ext cx="63720" cy="12888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16" y="80"/>
                  </a:moveTo>
                  <a:lnTo>
                    <a:pt x="10" y="74"/>
                  </a:lnTo>
                  <a:lnTo>
                    <a:pt x="8" y="69"/>
                  </a:lnTo>
                  <a:lnTo>
                    <a:pt x="6" y="63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39" y="0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02120" y="4267080"/>
              <a:ext cx="268200" cy="298440"/>
            </a:xfrm>
            <a:custGeom>
              <a:avLst/>
              <a:gdLst/>
              <a:ahLst/>
              <a:rect l="l" t="t" r="r" b="b"/>
              <a:pathLst>
                <a:path w="169" h="188">
                  <a:moveTo>
                    <a:pt x="115" y="0"/>
                  </a:moveTo>
                  <a:lnTo>
                    <a:pt x="125" y="0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8" y="0"/>
                  </a:lnTo>
                  <a:lnTo>
                    <a:pt x="149" y="2"/>
                  </a:lnTo>
                  <a:lnTo>
                    <a:pt x="123" y="2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92" y="0"/>
                  </a:lnTo>
                  <a:lnTo>
                    <a:pt x="111" y="4"/>
                  </a:lnTo>
                  <a:lnTo>
                    <a:pt x="126" y="6"/>
                  </a:lnTo>
                  <a:lnTo>
                    <a:pt x="134" y="8"/>
                  </a:lnTo>
                  <a:lnTo>
                    <a:pt x="115" y="8"/>
                  </a:lnTo>
                  <a:lnTo>
                    <a:pt x="100" y="8"/>
                  </a:lnTo>
                  <a:lnTo>
                    <a:pt x="85" y="8"/>
                  </a:lnTo>
                  <a:lnTo>
                    <a:pt x="62" y="11"/>
                  </a:lnTo>
                  <a:lnTo>
                    <a:pt x="51" y="11"/>
                  </a:lnTo>
                  <a:lnTo>
                    <a:pt x="83" y="27"/>
                  </a:lnTo>
                  <a:lnTo>
                    <a:pt x="132" y="42"/>
                  </a:lnTo>
                  <a:lnTo>
                    <a:pt x="147" y="44"/>
                  </a:lnTo>
                  <a:lnTo>
                    <a:pt x="113" y="42"/>
                  </a:lnTo>
                  <a:lnTo>
                    <a:pt x="60" y="31"/>
                  </a:lnTo>
                  <a:lnTo>
                    <a:pt x="30" y="29"/>
                  </a:lnTo>
                  <a:lnTo>
                    <a:pt x="8" y="29"/>
                  </a:lnTo>
                  <a:lnTo>
                    <a:pt x="51" y="32"/>
                  </a:lnTo>
                  <a:lnTo>
                    <a:pt x="104" y="48"/>
                  </a:lnTo>
                  <a:lnTo>
                    <a:pt x="119" y="48"/>
                  </a:lnTo>
                  <a:lnTo>
                    <a:pt x="108" y="48"/>
                  </a:lnTo>
                  <a:lnTo>
                    <a:pt x="62" y="48"/>
                  </a:lnTo>
                  <a:lnTo>
                    <a:pt x="32" y="48"/>
                  </a:lnTo>
                  <a:lnTo>
                    <a:pt x="55" y="48"/>
                  </a:lnTo>
                  <a:lnTo>
                    <a:pt x="85" y="48"/>
                  </a:lnTo>
                  <a:lnTo>
                    <a:pt x="111" y="48"/>
                  </a:lnTo>
                  <a:lnTo>
                    <a:pt x="83" y="48"/>
                  </a:lnTo>
                  <a:lnTo>
                    <a:pt x="15" y="48"/>
                  </a:lnTo>
                  <a:lnTo>
                    <a:pt x="23" y="48"/>
                  </a:lnTo>
                  <a:lnTo>
                    <a:pt x="53" y="48"/>
                  </a:lnTo>
                  <a:lnTo>
                    <a:pt x="94" y="50"/>
                  </a:lnTo>
                  <a:lnTo>
                    <a:pt x="74" y="53"/>
                  </a:lnTo>
                  <a:lnTo>
                    <a:pt x="47" y="55"/>
                  </a:lnTo>
                  <a:lnTo>
                    <a:pt x="85" y="61"/>
                  </a:lnTo>
                  <a:lnTo>
                    <a:pt x="138" y="73"/>
                  </a:lnTo>
                  <a:lnTo>
                    <a:pt x="128" y="74"/>
                  </a:lnTo>
                  <a:lnTo>
                    <a:pt x="76" y="78"/>
                  </a:lnTo>
                  <a:lnTo>
                    <a:pt x="8" y="78"/>
                  </a:lnTo>
                  <a:lnTo>
                    <a:pt x="23" y="78"/>
                  </a:lnTo>
                  <a:lnTo>
                    <a:pt x="45" y="78"/>
                  </a:lnTo>
                  <a:lnTo>
                    <a:pt x="23" y="78"/>
                  </a:lnTo>
                  <a:lnTo>
                    <a:pt x="0" y="80"/>
                  </a:lnTo>
                  <a:lnTo>
                    <a:pt x="11" y="80"/>
                  </a:lnTo>
                  <a:lnTo>
                    <a:pt x="64" y="84"/>
                  </a:lnTo>
                  <a:lnTo>
                    <a:pt x="117" y="86"/>
                  </a:lnTo>
                  <a:lnTo>
                    <a:pt x="89" y="88"/>
                  </a:lnTo>
                  <a:lnTo>
                    <a:pt x="47" y="88"/>
                  </a:lnTo>
                  <a:lnTo>
                    <a:pt x="64" y="90"/>
                  </a:lnTo>
                  <a:lnTo>
                    <a:pt x="51" y="90"/>
                  </a:lnTo>
                  <a:lnTo>
                    <a:pt x="36" y="94"/>
                  </a:lnTo>
                  <a:lnTo>
                    <a:pt x="53" y="94"/>
                  </a:lnTo>
                  <a:lnTo>
                    <a:pt x="76" y="94"/>
                  </a:lnTo>
                  <a:lnTo>
                    <a:pt x="51" y="107"/>
                  </a:lnTo>
                  <a:lnTo>
                    <a:pt x="6" y="109"/>
                  </a:lnTo>
                  <a:lnTo>
                    <a:pt x="47" y="111"/>
                  </a:lnTo>
                  <a:lnTo>
                    <a:pt x="77" y="111"/>
                  </a:lnTo>
                  <a:lnTo>
                    <a:pt x="83" y="113"/>
                  </a:lnTo>
                  <a:lnTo>
                    <a:pt x="106" y="116"/>
                  </a:lnTo>
                  <a:lnTo>
                    <a:pt x="91" y="118"/>
                  </a:lnTo>
                  <a:lnTo>
                    <a:pt x="68" y="120"/>
                  </a:lnTo>
                  <a:lnTo>
                    <a:pt x="57" y="120"/>
                  </a:lnTo>
                  <a:lnTo>
                    <a:pt x="42" y="122"/>
                  </a:lnTo>
                  <a:lnTo>
                    <a:pt x="60" y="122"/>
                  </a:lnTo>
                  <a:lnTo>
                    <a:pt x="72" y="122"/>
                  </a:lnTo>
                  <a:lnTo>
                    <a:pt x="60" y="122"/>
                  </a:lnTo>
                  <a:lnTo>
                    <a:pt x="38" y="122"/>
                  </a:lnTo>
                  <a:lnTo>
                    <a:pt x="32" y="124"/>
                  </a:lnTo>
                  <a:lnTo>
                    <a:pt x="47" y="126"/>
                  </a:lnTo>
                  <a:lnTo>
                    <a:pt x="100" y="141"/>
                  </a:lnTo>
                  <a:lnTo>
                    <a:pt x="111" y="143"/>
                  </a:lnTo>
                  <a:lnTo>
                    <a:pt x="85" y="147"/>
                  </a:lnTo>
                  <a:lnTo>
                    <a:pt x="62" y="147"/>
                  </a:lnTo>
                  <a:lnTo>
                    <a:pt x="43" y="147"/>
                  </a:lnTo>
                  <a:lnTo>
                    <a:pt x="64" y="147"/>
                  </a:lnTo>
                  <a:lnTo>
                    <a:pt x="49" y="153"/>
                  </a:lnTo>
                  <a:lnTo>
                    <a:pt x="23" y="155"/>
                  </a:lnTo>
                  <a:lnTo>
                    <a:pt x="8" y="156"/>
                  </a:lnTo>
                  <a:lnTo>
                    <a:pt x="19" y="156"/>
                  </a:lnTo>
                  <a:lnTo>
                    <a:pt x="87" y="168"/>
                  </a:lnTo>
                  <a:lnTo>
                    <a:pt x="102" y="170"/>
                  </a:lnTo>
                  <a:lnTo>
                    <a:pt x="83" y="176"/>
                  </a:lnTo>
                  <a:lnTo>
                    <a:pt x="68" y="179"/>
                  </a:lnTo>
                  <a:lnTo>
                    <a:pt x="49" y="179"/>
                  </a:lnTo>
                  <a:lnTo>
                    <a:pt x="47" y="185"/>
                  </a:lnTo>
                  <a:lnTo>
                    <a:pt x="53" y="187"/>
                  </a:lnTo>
                  <a:lnTo>
                    <a:pt x="60" y="187"/>
                  </a:lnTo>
                </a:path>
              </a:pathLst>
            </a:custGeom>
            <a:noFill/>
            <a:ln cap="rnd"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43400" y="4660920"/>
            <a:ext cx="0" cy="8128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594240"/>
            <a:ext cx="0" cy="81252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54640" y="2959200"/>
            <a:ext cx="1351080" cy="1225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3200400"/>
            <a:ext cx="2743200" cy="674640"/>
          </a:xfrm>
          <a:custGeom>
            <a:avLst/>
            <a:gdLst/>
            <a:ahLst/>
            <a:rect l="l" t="t" r="r" b="b"/>
            <a:pathLst>
              <a:path w="1065" h="329">
                <a:moveTo>
                  <a:pt x="24" y="88"/>
                </a:moveTo>
                <a:lnTo>
                  <a:pt x="0" y="80"/>
                </a:lnTo>
                <a:lnTo>
                  <a:pt x="8" y="56"/>
                </a:lnTo>
                <a:lnTo>
                  <a:pt x="24" y="32"/>
                </a:lnTo>
                <a:lnTo>
                  <a:pt x="48" y="24"/>
                </a:lnTo>
                <a:lnTo>
                  <a:pt x="72" y="16"/>
                </a:lnTo>
                <a:lnTo>
                  <a:pt x="104" y="8"/>
                </a:lnTo>
                <a:lnTo>
                  <a:pt x="128" y="8"/>
                </a:lnTo>
                <a:lnTo>
                  <a:pt x="152" y="16"/>
                </a:lnTo>
                <a:lnTo>
                  <a:pt x="160" y="40"/>
                </a:lnTo>
                <a:lnTo>
                  <a:pt x="160" y="64"/>
                </a:lnTo>
                <a:lnTo>
                  <a:pt x="184" y="64"/>
                </a:lnTo>
                <a:lnTo>
                  <a:pt x="208" y="56"/>
                </a:lnTo>
                <a:lnTo>
                  <a:pt x="232" y="32"/>
                </a:lnTo>
                <a:lnTo>
                  <a:pt x="256" y="16"/>
                </a:lnTo>
                <a:lnTo>
                  <a:pt x="288" y="8"/>
                </a:lnTo>
                <a:lnTo>
                  <a:pt x="320" y="8"/>
                </a:lnTo>
                <a:lnTo>
                  <a:pt x="344" y="8"/>
                </a:lnTo>
                <a:lnTo>
                  <a:pt x="368" y="0"/>
                </a:lnTo>
                <a:lnTo>
                  <a:pt x="392" y="0"/>
                </a:lnTo>
                <a:lnTo>
                  <a:pt x="400" y="24"/>
                </a:lnTo>
                <a:lnTo>
                  <a:pt x="400" y="56"/>
                </a:lnTo>
                <a:lnTo>
                  <a:pt x="464" y="64"/>
                </a:lnTo>
                <a:lnTo>
                  <a:pt x="512" y="64"/>
                </a:lnTo>
                <a:lnTo>
                  <a:pt x="560" y="64"/>
                </a:lnTo>
                <a:lnTo>
                  <a:pt x="624" y="64"/>
                </a:lnTo>
                <a:lnTo>
                  <a:pt x="688" y="64"/>
                </a:lnTo>
                <a:lnTo>
                  <a:pt x="752" y="64"/>
                </a:lnTo>
                <a:lnTo>
                  <a:pt x="800" y="64"/>
                </a:lnTo>
                <a:lnTo>
                  <a:pt x="848" y="64"/>
                </a:lnTo>
                <a:lnTo>
                  <a:pt x="880" y="80"/>
                </a:lnTo>
                <a:lnTo>
                  <a:pt x="896" y="104"/>
                </a:lnTo>
                <a:lnTo>
                  <a:pt x="912" y="128"/>
                </a:lnTo>
                <a:lnTo>
                  <a:pt x="920" y="152"/>
                </a:lnTo>
                <a:lnTo>
                  <a:pt x="920" y="176"/>
                </a:lnTo>
                <a:lnTo>
                  <a:pt x="984" y="192"/>
                </a:lnTo>
                <a:lnTo>
                  <a:pt x="1032" y="208"/>
                </a:lnTo>
                <a:lnTo>
                  <a:pt x="1056" y="232"/>
                </a:lnTo>
                <a:lnTo>
                  <a:pt x="1064" y="256"/>
                </a:lnTo>
                <a:lnTo>
                  <a:pt x="1064" y="280"/>
                </a:lnTo>
                <a:lnTo>
                  <a:pt x="1056" y="304"/>
                </a:lnTo>
                <a:lnTo>
                  <a:pt x="1032" y="320"/>
                </a:lnTo>
                <a:lnTo>
                  <a:pt x="1008" y="328"/>
                </a:lnTo>
                <a:lnTo>
                  <a:pt x="984" y="328"/>
                </a:lnTo>
                <a:lnTo>
                  <a:pt x="960" y="304"/>
                </a:lnTo>
                <a:lnTo>
                  <a:pt x="904" y="296"/>
                </a:lnTo>
                <a:lnTo>
                  <a:pt x="856" y="312"/>
                </a:lnTo>
                <a:lnTo>
                  <a:pt x="776" y="320"/>
                </a:lnTo>
                <a:lnTo>
                  <a:pt x="752" y="320"/>
                </a:lnTo>
                <a:lnTo>
                  <a:pt x="688" y="320"/>
                </a:lnTo>
                <a:lnTo>
                  <a:pt x="624" y="320"/>
                </a:lnTo>
                <a:lnTo>
                  <a:pt x="600" y="320"/>
                </a:lnTo>
                <a:lnTo>
                  <a:pt x="584" y="288"/>
                </a:lnTo>
                <a:lnTo>
                  <a:pt x="568" y="256"/>
                </a:lnTo>
                <a:lnTo>
                  <a:pt x="568" y="232"/>
                </a:lnTo>
                <a:lnTo>
                  <a:pt x="560" y="200"/>
                </a:lnTo>
                <a:lnTo>
                  <a:pt x="528" y="184"/>
                </a:lnTo>
                <a:lnTo>
                  <a:pt x="504" y="192"/>
                </a:lnTo>
                <a:lnTo>
                  <a:pt x="472" y="216"/>
                </a:lnTo>
                <a:lnTo>
                  <a:pt x="448" y="224"/>
                </a:lnTo>
                <a:lnTo>
                  <a:pt x="416" y="232"/>
                </a:lnTo>
                <a:lnTo>
                  <a:pt x="384" y="232"/>
                </a:lnTo>
                <a:lnTo>
                  <a:pt x="336" y="232"/>
                </a:lnTo>
                <a:lnTo>
                  <a:pt x="272" y="232"/>
                </a:lnTo>
                <a:lnTo>
                  <a:pt x="224" y="232"/>
                </a:lnTo>
                <a:lnTo>
                  <a:pt x="176" y="232"/>
                </a:lnTo>
                <a:lnTo>
                  <a:pt x="152" y="208"/>
                </a:lnTo>
                <a:lnTo>
                  <a:pt x="136" y="184"/>
                </a:lnTo>
                <a:lnTo>
                  <a:pt x="120" y="160"/>
                </a:lnTo>
                <a:lnTo>
                  <a:pt x="96" y="144"/>
                </a:lnTo>
                <a:lnTo>
                  <a:pt x="72" y="144"/>
                </a:lnTo>
                <a:lnTo>
                  <a:pt x="56" y="120"/>
                </a:lnTo>
                <a:lnTo>
                  <a:pt x="48" y="96"/>
                </a:lnTo>
                <a:lnTo>
                  <a:pt x="24" y="8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66960" y="5616720"/>
            <a:ext cx="1634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00400" y="3179880"/>
            <a:ext cx="1689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D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b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620120" y="4794120"/>
            <a:ext cx="0" cy="774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19160" y="4930920"/>
            <a:ext cx="103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7200" y="470232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3200400"/>
          <a:ext cx="1150920" cy="66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200400"/>
                    <a:ext cx="11509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rot="10800000">
            <a:off x="485280" y="4807080"/>
            <a:ext cx="2916360" cy="596880"/>
          </a:xfrm>
          <a:custGeom>
            <a:avLst/>
            <a:gdLst>
              <a:gd name="textAreaLeft" fmla="*/ 108000 w 2916360"/>
              <a:gd name="textAreaRight" fmla="*/ 2808360 w 2916360"/>
              <a:gd name="textAreaTop" fmla="*/ 21960 h 596880"/>
              <a:gd name="textAreaBottom" fmla="*/ 476640 h 596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54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5264280"/>
            <a:ext cx="0" cy="5968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920" y="5311800"/>
            <a:ext cx="95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4760" y="5006880"/>
            <a:ext cx="368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احساس میکنم که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تندی حد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فرض کنید که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bv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cs typeface="Arial"/>
              </a:rPr>
              <a:t>باش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احمد از هواپیما بیرون می پرد وبعداز اندکی سقوط سرعتش به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می رس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05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عداز رسیدن به سرعت حد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چقدر ا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05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تندی حد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چقدر ا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 mg = ma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چو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bv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bv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50080" y="4156200"/>
            <a:ext cx="93600" cy="2052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4280" y="4068720"/>
            <a:ext cx="249480" cy="28404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4068720"/>
            <a:ext cx="822240" cy="27792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20000">
            <a:off x="6954480" y="4299120"/>
            <a:ext cx="503280" cy="6660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760000">
            <a:off x="6961320" y="4070520"/>
            <a:ext cx="503280" cy="6804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440000">
            <a:off x="5873400" y="3941640"/>
            <a:ext cx="503280" cy="6840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980000">
            <a:off x="5857920" y="4416480"/>
            <a:ext cx="503280" cy="6804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4880" y="3835440"/>
            <a:ext cx="30240" cy="21420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42280" y="4403880"/>
            <a:ext cx="30240" cy="21420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34240" y="4233960"/>
            <a:ext cx="42840" cy="6192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75280" y="4356000"/>
            <a:ext cx="38160" cy="65160"/>
          </a:xfrm>
          <a:prstGeom prst="ellipse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248000"/>
            <a:ext cx="39600" cy="103320"/>
          </a:xfrm>
          <a:custGeom>
            <a:avLst/>
            <a:gdLst/>
            <a:ahLst/>
            <a:rect l="l" t="t" r="r" b="b"/>
            <a:pathLst>
              <a:path w="25" h="65">
                <a:moveTo>
                  <a:pt x="10" y="64"/>
                </a:moveTo>
                <a:lnTo>
                  <a:pt x="6" y="59"/>
                </a:lnTo>
                <a:lnTo>
                  <a:pt x="5" y="55"/>
                </a:lnTo>
                <a:lnTo>
                  <a:pt x="4" y="50"/>
                </a:lnTo>
                <a:lnTo>
                  <a:pt x="2" y="46"/>
                </a:lnTo>
                <a:lnTo>
                  <a:pt x="1" y="41"/>
                </a:lnTo>
                <a:lnTo>
                  <a:pt x="0" y="37"/>
                </a:lnTo>
                <a:lnTo>
                  <a:pt x="0" y="32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4" y="14"/>
                </a:lnTo>
                <a:lnTo>
                  <a:pt x="6" y="9"/>
                </a:lnTo>
                <a:lnTo>
                  <a:pt x="10" y="6"/>
                </a:lnTo>
                <a:lnTo>
                  <a:pt x="13" y="3"/>
                </a:lnTo>
                <a:lnTo>
                  <a:pt x="17" y="2"/>
                </a:lnTo>
                <a:lnTo>
                  <a:pt x="20" y="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9480" y="4075200"/>
            <a:ext cx="166680" cy="237960"/>
          </a:xfrm>
          <a:custGeom>
            <a:avLst/>
            <a:gdLst/>
            <a:ahLst/>
            <a:rect l="l" t="t" r="r" b="b"/>
            <a:pathLst>
              <a:path w="105" h="150">
                <a:moveTo>
                  <a:pt x="71" y="0"/>
                </a:moveTo>
                <a:lnTo>
                  <a:pt x="77" y="0"/>
                </a:lnTo>
                <a:lnTo>
                  <a:pt x="86" y="0"/>
                </a:lnTo>
                <a:lnTo>
                  <a:pt x="95" y="0"/>
                </a:lnTo>
                <a:lnTo>
                  <a:pt x="104" y="0"/>
                </a:lnTo>
                <a:lnTo>
                  <a:pt x="92" y="2"/>
                </a:lnTo>
                <a:lnTo>
                  <a:pt x="76" y="2"/>
                </a:lnTo>
                <a:lnTo>
                  <a:pt x="67" y="0"/>
                </a:lnTo>
                <a:lnTo>
                  <a:pt x="62" y="0"/>
                </a:lnTo>
                <a:lnTo>
                  <a:pt x="53" y="0"/>
                </a:lnTo>
                <a:lnTo>
                  <a:pt x="48" y="0"/>
                </a:lnTo>
                <a:lnTo>
                  <a:pt x="57" y="0"/>
                </a:lnTo>
                <a:lnTo>
                  <a:pt x="69" y="3"/>
                </a:lnTo>
                <a:lnTo>
                  <a:pt x="78" y="5"/>
                </a:lnTo>
                <a:lnTo>
                  <a:pt x="83" y="6"/>
                </a:lnTo>
                <a:lnTo>
                  <a:pt x="71" y="6"/>
                </a:lnTo>
                <a:lnTo>
                  <a:pt x="62" y="6"/>
                </a:lnTo>
                <a:lnTo>
                  <a:pt x="53" y="6"/>
                </a:lnTo>
                <a:lnTo>
                  <a:pt x="39" y="9"/>
                </a:lnTo>
                <a:lnTo>
                  <a:pt x="32" y="9"/>
                </a:lnTo>
                <a:lnTo>
                  <a:pt x="51" y="21"/>
                </a:lnTo>
                <a:lnTo>
                  <a:pt x="82" y="33"/>
                </a:lnTo>
                <a:lnTo>
                  <a:pt x="91" y="35"/>
                </a:lnTo>
                <a:lnTo>
                  <a:pt x="70" y="33"/>
                </a:lnTo>
                <a:lnTo>
                  <a:pt x="37" y="24"/>
                </a:lnTo>
                <a:lnTo>
                  <a:pt x="19" y="23"/>
                </a:lnTo>
                <a:lnTo>
                  <a:pt x="5" y="23"/>
                </a:lnTo>
                <a:lnTo>
                  <a:pt x="32" y="26"/>
                </a:lnTo>
                <a:lnTo>
                  <a:pt x="64" y="38"/>
                </a:lnTo>
                <a:lnTo>
                  <a:pt x="74" y="38"/>
                </a:lnTo>
                <a:lnTo>
                  <a:pt x="67" y="38"/>
                </a:lnTo>
                <a:lnTo>
                  <a:pt x="39" y="38"/>
                </a:lnTo>
                <a:lnTo>
                  <a:pt x="20" y="38"/>
                </a:lnTo>
                <a:lnTo>
                  <a:pt x="34" y="38"/>
                </a:lnTo>
                <a:lnTo>
                  <a:pt x="53" y="38"/>
                </a:lnTo>
                <a:lnTo>
                  <a:pt x="69" y="38"/>
                </a:lnTo>
                <a:lnTo>
                  <a:pt x="51" y="38"/>
                </a:lnTo>
                <a:lnTo>
                  <a:pt x="9" y="38"/>
                </a:lnTo>
                <a:lnTo>
                  <a:pt x="14" y="38"/>
                </a:lnTo>
                <a:lnTo>
                  <a:pt x="33" y="38"/>
                </a:lnTo>
                <a:lnTo>
                  <a:pt x="58" y="40"/>
                </a:lnTo>
                <a:lnTo>
                  <a:pt x="46" y="43"/>
                </a:lnTo>
                <a:lnTo>
                  <a:pt x="29" y="44"/>
                </a:lnTo>
                <a:lnTo>
                  <a:pt x="53" y="49"/>
                </a:lnTo>
                <a:lnTo>
                  <a:pt x="85" y="58"/>
                </a:lnTo>
                <a:lnTo>
                  <a:pt x="79" y="59"/>
                </a:lnTo>
                <a:lnTo>
                  <a:pt x="47" y="62"/>
                </a:lnTo>
                <a:lnTo>
                  <a:pt x="5" y="62"/>
                </a:lnTo>
                <a:lnTo>
                  <a:pt x="14" y="62"/>
                </a:lnTo>
                <a:lnTo>
                  <a:pt x="28" y="62"/>
                </a:lnTo>
                <a:lnTo>
                  <a:pt x="14" y="62"/>
                </a:lnTo>
                <a:lnTo>
                  <a:pt x="0" y="64"/>
                </a:lnTo>
                <a:lnTo>
                  <a:pt x="7" y="64"/>
                </a:lnTo>
                <a:lnTo>
                  <a:pt x="40" y="67"/>
                </a:lnTo>
                <a:lnTo>
                  <a:pt x="72" y="68"/>
                </a:lnTo>
                <a:lnTo>
                  <a:pt x="55" y="70"/>
                </a:lnTo>
                <a:lnTo>
                  <a:pt x="29" y="70"/>
                </a:lnTo>
                <a:lnTo>
                  <a:pt x="40" y="71"/>
                </a:lnTo>
                <a:lnTo>
                  <a:pt x="32" y="71"/>
                </a:lnTo>
                <a:lnTo>
                  <a:pt x="22" y="75"/>
                </a:lnTo>
                <a:lnTo>
                  <a:pt x="33" y="75"/>
                </a:lnTo>
                <a:lnTo>
                  <a:pt x="47" y="75"/>
                </a:lnTo>
                <a:lnTo>
                  <a:pt x="32" y="85"/>
                </a:lnTo>
                <a:lnTo>
                  <a:pt x="4" y="87"/>
                </a:lnTo>
                <a:lnTo>
                  <a:pt x="29" y="88"/>
                </a:lnTo>
                <a:lnTo>
                  <a:pt x="48" y="88"/>
                </a:lnTo>
                <a:lnTo>
                  <a:pt x="51" y="90"/>
                </a:lnTo>
                <a:lnTo>
                  <a:pt x="65" y="93"/>
                </a:lnTo>
                <a:lnTo>
                  <a:pt x="56" y="94"/>
                </a:lnTo>
                <a:lnTo>
                  <a:pt x="42" y="96"/>
                </a:lnTo>
                <a:lnTo>
                  <a:pt x="35" y="96"/>
                </a:lnTo>
                <a:lnTo>
                  <a:pt x="26" y="97"/>
                </a:lnTo>
                <a:lnTo>
                  <a:pt x="37" y="97"/>
                </a:lnTo>
                <a:lnTo>
                  <a:pt x="44" y="97"/>
                </a:lnTo>
                <a:lnTo>
                  <a:pt x="37" y="97"/>
                </a:lnTo>
                <a:lnTo>
                  <a:pt x="23" y="97"/>
                </a:lnTo>
                <a:lnTo>
                  <a:pt x="20" y="99"/>
                </a:lnTo>
                <a:lnTo>
                  <a:pt x="29" y="100"/>
                </a:lnTo>
                <a:lnTo>
                  <a:pt x="62" y="113"/>
                </a:lnTo>
                <a:lnTo>
                  <a:pt x="69" y="114"/>
                </a:lnTo>
                <a:lnTo>
                  <a:pt x="53" y="117"/>
                </a:lnTo>
                <a:lnTo>
                  <a:pt x="39" y="117"/>
                </a:lnTo>
                <a:lnTo>
                  <a:pt x="27" y="117"/>
                </a:lnTo>
                <a:lnTo>
                  <a:pt x="40" y="117"/>
                </a:lnTo>
                <a:lnTo>
                  <a:pt x="30" y="122"/>
                </a:lnTo>
                <a:lnTo>
                  <a:pt x="14" y="123"/>
                </a:lnTo>
                <a:lnTo>
                  <a:pt x="5" y="125"/>
                </a:lnTo>
                <a:lnTo>
                  <a:pt x="12" y="125"/>
                </a:lnTo>
                <a:lnTo>
                  <a:pt x="54" y="134"/>
                </a:lnTo>
                <a:lnTo>
                  <a:pt x="63" y="135"/>
                </a:lnTo>
                <a:lnTo>
                  <a:pt x="51" y="140"/>
                </a:lnTo>
                <a:lnTo>
                  <a:pt x="42" y="143"/>
                </a:lnTo>
                <a:lnTo>
                  <a:pt x="30" y="143"/>
                </a:lnTo>
                <a:lnTo>
                  <a:pt x="29" y="147"/>
                </a:lnTo>
                <a:lnTo>
                  <a:pt x="33" y="149"/>
                </a:lnTo>
                <a:lnTo>
                  <a:pt x="37" y="14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93040" y="4392720"/>
            <a:ext cx="0" cy="645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3040" y="3537000"/>
            <a:ext cx="0" cy="64620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32520" y="5146560"/>
            <a:ext cx="1634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8720" y="3193920"/>
            <a:ext cx="1689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D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b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905600" y="4188960"/>
            <a:ext cx="0" cy="6238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2280" y="4414680"/>
            <a:ext cx="103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98600" y="441468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76800" y="4875120"/>
            <a:ext cx="0" cy="4748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12680" y="4902120"/>
            <a:ext cx="95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486400"/>
            <a:ext cx="1746000" cy="755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981080" y="5556240"/>
                <a:ext cx="1025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927080" y="4529160"/>
            <a:ext cx="470160" cy="415800"/>
          </a:xfrm>
          <a:prstGeom prst="rightArrow">
            <a:avLst>
              <a:gd name="adj1" fmla="val 50000"/>
              <a:gd name="adj2" fmla="val 28268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14840" y="4516560"/>
            <a:ext cx="485640" cy="469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93720" y="3548160"/>
            <a:ext cx="7507440" cy="2606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103400" y="741240"/>
            <a:ext cx="7386480" cy="268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afd00"/>
                </a:solidFill>
                <a:latin typeface="Arial"/>
                <a:cs typeface="Arial"/>
              </a:rPr>
              <a:t>سرعت حد: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چتربازی ا ز هلی کوپتر می پرد به حرکت او توجه کنید&gt;دونیرو به ا و وارد می شود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c0128"/>
                </a:solidFill>
                <a:latin typeface="Arial"/>
                <a:cs typeface="Arial"/>
              </a:rPr>
              <a:t>نیروی جاذبه زمین و نیروی مقاومت هوا. نیروی مقاومت هوانیز به دو عامل بستگی دارد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1- </a:t>
            </a:r>
            <a:r>
              <a:rPr b="1" lang="hi-IN" sz="1800" spc="-1" strike="noStrike">
                <a:solidFill>
                  <a:srgbClr val="fc0128"/>
                </a:solidFill>
                <a:latin typeface="Arial"/>
                <a:cs typeface="Arial"/>
              </a:rPr>
              <a:t>سرعت چترباز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- سطح مقطع ا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c0128"/>
                </a:solidFill>
                <a:latin typeface="Arial"/>
                <a:cs typeface="Arial"/>
              </a:rPr>
              <a:t>هنگام سقوط سرعت او زیاد می شود بنابراین مقاومت او هم زیاد می گردد.وقتی نیروی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c0128"/>
                </a:solidFill>
                <a:latin typeface="Arial"/>
                <a:cs typeface="Arial"/>
              </a:rPr>
              <a:t>مقاومت هوا با نیروی جاذبه برابر شد سرعت او یکنواخت و شتابش صفر می گرددو می گوییم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hi-IN" sz="1800" spc="-1" strike="noStrike">
                <a:solidFill>
                  <a:srgbClr val="fc0128"/>
                </a:solidFill>
                <a:latin typeface="Arial"/>
                <a:cs typeface="Arial"/>
              </a:rPr>
              <a:t>شخص به سرعت حد رسیده است . توجه کنید که با باز شدن چتر و تغییر سطح مقطع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c0128"/>
                </a:solidFill>
                <a:latin typeface="Arial"/>
                <a:cs typeface="Arial"/>
              </a:rPr>
              <a:t>نیروی مقاومت هوا چگونه تغییر می کن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76920" y="5776920"/>
            <a:ext cx="884520" cy="276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000"/>
                </a:solidFill>
                <a:latin typeface="Arial"/>
                <a:ea typeface="Arial"/>
              </a:rPr>
              <a:t>(</a:t>
            </a:r>
            <a:r>
              <a:rPr b="1" lang="hi-IN" sz="1600" spc="-1" strike="noStrike">
                <a:solidFill>
                  <a:srgbClr val="fc0000"/>
                </a:solidFill>
                <a:latin typeface="Arial"/>
                <a:cs typeface="Arial"/>
              </a:rPr>
              <a:t>پائین</a:t>
            </a:r>
            <a:r>
              <a:rPr b="1" lang="en-US" sz="1600" spc="-1" strike="noStrike">
                <a:solidFill>
                  <a:srgbClr val="fc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دینامیک چند جسمی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این سیستم ها از بیش ا ز یک جسم تشکیل می شو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این اجسام اغلب به همدیگر متصل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طناب و قرقره بوسیله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امرو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وسیله میله و فنر و غیره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بعدا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503600" y="2944800"/>
            <a:ext cx="687600" cy="187200"/>
          </a:xfrm>
          <a:prstGeom prst="rightArrow">
            <a:avLst>
              <a:gd name="adj1" fmla="val 50000"/>
              <a:gd name="adj2" fmla="val 183671"/>
            </a:avLst>
          </a:prstGeom>
          <a:solidFill>
            <a:srgbClr val="00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55440" y="3673440"/>
            <a:ext cx="687240" cy="187200"/>
          </a:xfrm>
          <a:prstGeom prst="rightArrow">
            <a:avLst>
              <a:gd name="adj1" fmla="val 50000"/>
              <a:gd name="adj2" fmla="val 183574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اشین آتوو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39052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marL="122760" indent="-122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شتاب 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دوجرم را پیداکن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2760" indent="-122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کشش نخ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چقدر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66760" y="1501920"/>
            <a:ext cx="7137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جرم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وسیله طناب بدون جرمی از یک قرقره آرمانی بدون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مطابق شکل آوایزان شده 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7080" y="2463840"/>
            <a:ext cx="3587760" cy="3454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2822400"/>
            <a:ext cx="942840" cy="100332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00840" y="4738680"/>
            <a:ext cx="342720" cy="63828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3376440"/>
            <a:ext cx="0" cy="13557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15040" y="3286080"/>
            <a:ext cx="0" cy="19018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50160" y="5200560"/>
            <a:ext cx="330120" cy="627120"/>
          </a:xfrm>
          <a:prstGeom prst="rect">
            <a:avLst/>
          </a:prstGeom>
          <a:solidFill>
            <a:srgbClr val="ff5008"/>
          </a:solidFill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05360" y="2502000"/>
            <a:ext cx="196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رقره ثابت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67400" y="4726080"/>
            <a:ext cx="484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81720" y="5272200"/>
            <a:ext cx="484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86400" y="3040200"/>
            <a:ext cx="514440" cy="546120"/>
          </a:xfrm>
          <a:prstGeom prst="ellipse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848720" y="3422520"/>
            <a:ext cx="0" cy="9273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75120" y="376236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33280" y="485460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05080" y="531180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924680" y="5175360"/>
            <a:ext cx="0" cy="62208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486400" y="4718160"/>
            <a:ext cx="0" cy="62208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95760" y="37879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69880" y="401652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دامه ماشین آتوود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360" y="14670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نمودار جسم آزاد را برای هر جرم بکش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قانون دوم نیوتن را بکار برید )   مولفه(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-180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-180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-226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u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T 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قرقره آرمانی است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" indent="-226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-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جرمها به وسیله نخ به همدیگر متصلن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59400" y="2451240"/>
            <a:ext cx="3797280" cy="3797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24560" y="4287960"/>
            <a:ext cx="342720" cy="63792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695920" y="3193920"/>
            <a:ext cx="0" cy="1092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553080" y="3193920"/>
            <a:ext cx="0" cy="1092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81720" y="4287960"/>
            <a:ext cx="343080" cy="63792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52560" y="505620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71440" y="507528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95920" y="4933800"/>
            <a:ext cx="0" cy="851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952880"/>
            <a:ext cx="0" cy="851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56600" y="2614680"/>
            <a:ext cx="246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نمودار جسم آز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19480" y="36241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57880" y="366228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848720" y="3962160"/>
            <a:ext cx="0" cy="927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75120" y="430200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04680" y="44038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14720" y="440388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934320" y="4266720"/>
            <a:ext cx="0" cy="622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57800" y="4266720"/>
            <a:ext cx="0" cy="622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56080" y="1558800"/>
            <a:ext cx="2030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70360" y="3700440"/>
            <a:ext cx="2344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43040" y="1467000"/>
            <a:ext cx="7486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"/>
          </a:bodyPr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-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 = -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-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 = 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و معادله و دو مجهو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این معادله را برای دو مجهول حل می کنی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(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تفریق میکنیم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(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 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جمع می کنیم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T - g(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+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= 2g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/ (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+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دامه ماشین آتوود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137200" y="5315040"/>
                <a:ext cx="1633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981080" y="4267080"/>
                <a:ext cx="1355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2116080" y="4165560"/>
            <a:ext cx="8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دامه ماشین آتوود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728600" y="2463840"/>
            <a:ext cx="3866760" cy="3454200"/>
            <a:chOff x="4728600" y="2463840"/>
            <a:chExt cx="3866760" cy="3454200"/>
          </a:xfrm>
        </p:grpSpPr>
        <p:sp>
          <p:nvSpPr>
            <p:cNvPr id="305" name=""/>
            <p:cNvSpPr/>
            <p:nvPr/>
          </p:nvSpPr>
          <p:spPr>
            <a:xfrm>
              <a:off x="4807080" y="2463840"/>
              <a:ext cx="3587760" cy="3454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2200" y="2822400"/>
              <a:ext cx="942840" cy="1003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00840" y="4738680"/>
              <a:ext cx="342720" cy="63828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2200" y="3376440"/>
              <a:ext cx="0" cy="1355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5040" y="3286080"/>
              <a:ext cx="0" cy="1901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0160" y="5200560"/>
              <a:ext cx="330120" cy="627120"/>
            </a:xfrm>
            <a:prstGeom prst="rect">
              <a:avLst/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7400" y="4726080"/>
              <a:ext cx="484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81720" y="5272200"/>
              <a:ext cx="484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86400" y="3040200"/>
              <a:ext cx="514440" cy="54612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848720" y="3422520"/>
              <a:ext cx="0" cy="927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75120" y="3762360"/>
              <a:ext cx="82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8600" y="48546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0400" y="53118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924680" y="5175360"/>
              <a:ext cx="0" cy="622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486400" y="4718160"/>
              <a:ext cx="0" cy="622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91080" y="37879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65200" y="4016520"/>
              <a:ext cx="949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بنابرای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486080" y="2857680"/>
                <a:ext cx="2476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92200" y="4097160"/>
                <a:ext cx="17845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26640" y="969480"/>
            <a:ext cx="59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آیا این نتایج قابل قبول است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062840" cy="24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-165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موارد خا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.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0 and T = mg.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O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i.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or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|a| = g and T= 0.  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O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-165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ماشین آتوود را می توان برای محاسبه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بکاربرد ) با اندازه گیری شتاب دو جرم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376440" y="5119560"/>
                <a:ext cx="1758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690480" y="2946240"/>
            <a:ext cx="520920" cy="140040"/>
          </a:xfrm>
          <a:prstGeom prst="rightArrow">
            <a:avLst>
              <a:gd name="adj1" fmla="val 50000"/>
              <a:gd name="adj2" fmla="val 18600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4240" y="3327480"/>
            <a:ext cx="520920" cy="139680"/>
          </a:xfrm>
          <a:prstGeom prst="rightArrow">
            <a:avLst>
              <a:gd name="adj1" fmla="val 50000"/>
              <a:gd name="adj2" fmla="val 186486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47760" y="5370480"/>
            <a:ext cx="8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348240" y="679320"/>
                <a:ext cx="22878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383160" y="1542960"/>
                <a:ext cx="16131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388120" y="1308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جسام متصل به هم روی سطح شیبدار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98680" y="5124600"/>
            <a:ext cx="6375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498680" y="2597040"/>
            <a:ext cx="1879560" cy="254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03440" y="2622600"/>
            <a:ext cx="4470480" cy="248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220000">
            <a:off x="1999800" y="3368520"/>
            <a:ext cx="451080" cy="74160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478240" y="2457000"/>
            <a:ext cx="744480" cy="10112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7200000">
            <a:off x="5419800" y="3204000"/>
            <a:ext cx="476280" cy="75420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98840" y="2416320"/>
            <a:ext cx="1816200" cy="10080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68720" y="2387520"/>
            <a:ext cx="444600" cy="44460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9440" y="4484520"/>
            <a:ext cx="825120" cy="128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0080" y="4579920"/>
            <a:ext cx="596520" cy="109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80160" y="5540400"/>
            <a:ext cx="42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کلیه سطوح بدون اصطکاک هست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86960" y="35593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4840" y="3387600"/>
            <a:ext cx="108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52800" y="1941480"/>
            <a:ext cx="306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قرقره بدون اصطکا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10640" y="4702320"/>
            <a:ext cx="968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09800" y="4702320"/>
            <a:ext cx="968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ین اجسام چگونه حرکت می کنند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9880" y="1695600"/>
            <a:ext cx="7461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نمودار جسم آزاد را می کشیم و دستگاه مختصات را برای هر جسم انتخاب می کنیم و قانون دوم نیوتن را بکار می بر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8440" y="2784600"/>
            <a:ext cx="313668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با در نظر گرفتن مولفه “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-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X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ولی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X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X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160880" y="3606840"/>
            <a:ext cx="1314360" cy="176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220000">
            <a:off x="4387320" y="4016160"/>
            <a:ext cx="451080" cy="74124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65760" y="3467160"/>
            <a:ext cx="431640" cy="630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81040" y="408636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3722760" y="3695760"/>
            <a:ext cx="730080" cy="5587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497480" y="2940120"/>
            <a:ext cx="449280" cy="6364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108320" y="3168360"/>
            <a:ext cx="509760" cy="3747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667400" y="4400280"/>
            <a:ext cx="846000" cy="641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67400" y="4425840"/>
            <a:ext cx="0" cy="11178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78520" y="4223160"/>
            <a:ext cx="97740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06840" y="2743200"/>
            <a:ext cx="2139840" cy="328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7040" y="29066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90080" y="275436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62240" y="321156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8320" y="40482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28400" y="547704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50080" y="3673440"/>
            <a:ext cx="2404800" cy="134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7140000">
            <a:off x="7039080" y="3750120"/>
            <a:ext cx="476280" cy="75420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41960" y="3511440"/>
            <a:ext cx="795240" cy="4334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238880" y="4133520"/>
            <a:ext cx="0" cy="102564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751800" y="4144680"/>
            <a:ext cx="480960" cy="826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75640" y="4691160"/>
            <a:ext cx="748440" cy="14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73919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73919"/>
              </a:path>
            </a:pathLst>
          </a:custGeom>
          <a:noFill/>
          <a:ln cap="rnd"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24240" y="399096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6349680" y="3045960"/>
            <a:ext cx="826920" cy="5065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396200" y="3352320"/>
            <a:ext cx="297000" cy="5590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28680" y="508644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68760" y="324000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272000" y="30592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75440" y="3073320"/>
            <a:ext cx="274680" cy="4888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5280" y="2830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33320" y="277344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59280" y="2743200"/>
            <a:ext cx="2692440" cy="328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5216400"/>
            <a:ext cx="231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28720" y="4676760"/>
            <a:ext cx="968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09960" y="4519440"/>
            <a:ext cx="968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حل معادلات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7320" y="1514520"/>
            <a:ext cx="753768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ا استفاده از روابط فوق معادلات را حل می کن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-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sin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-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-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sin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را از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کم میکن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sin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sin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(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+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55800" y="3062160"/>
            <a:ext cx="38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637720" y="4367160"/>
            <a:ext cx="3538440" cy="732600"/>
            <a:chOff x="2637720" y="4367160"/>
            <a:chExt cx="3538440" cy="732600"/>
          </a:xfrm>
        </p:grpSpPr>
        <p:sp>
          <p:nvSpPr>
            <p:cNvPr id="401" name=""/>
            <p:cNvSpPr/>
            <p:nvPr/>
          </p:nvSpPr>
          <p:spPr>
            <a:xfrm>
              <a:off x="4284720" y="4367160"/>
              <a:ext cx="65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637720" y="4367160"/>
              <a:ext cx="3538440" cy="732600"/>
              <a:chOff x="2637720" y="4367160"/>
              <a:chExt cx="3538440" cy="7326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2637720" y="4392720"/>
                <a:ext cx="3538440" cy="707040"/>
                <a:chOff x="2637720" y="4392720"/>
                <a:chExt cx="3538440" cy="7070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14880" y="4716360"/>
                  <a:ext cx="2327040" cy="1800"/>
                </a:xfrm>
                <a:prstGeom prst="line">
                  <a:avLst/>
                </a:prstGeom>
                <a:ln w="64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37720" y="455616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080880" y="439272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28360" y="439272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763440" y="47480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8000" y="47480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61920" y="455616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57520" y="4530600"/>
                  <a:ext cx="11592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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61960" y="4722840"/>
                  <a:ext cx="721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92200" y="449892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006440" y="449892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606560" y="449892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258880" y="449892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939840" y="48560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551120" y="48560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99560" y="439272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86920" y="439272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3890160" y="4367160"/>
                <a:ext cx="1994040" cy="305280"/>
                <a:chOff x="3890160" y="4367160"/>
                <a:chExt cx="1994040" cy="305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890160" y="436716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179320" y="436716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4" name=""/>
          <p:cNvSpPr/>
          <p:nvPr/>
        </p:nvSpPr>
        <p:spPr>
          <a:xfrm>
            <a:off x="2670120" y="4303800"/>
            <a:ext cx="3446640" cy="8269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92120" y="45864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4960" y="20952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حالت خاص ی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039680" y="790560"/>
            <a:ext cx="2605320" cy="1182600"/>
            <a:chOff x="1039680" y="790560"/>
            <a:chExt cx="2605320" cy="1182600"/>
          </a:xfrm>
        </p:grpSpPr>
        <p:sp>
          <p:nvSpPr>
            <p:cNvPr id="430" name=""/>
            <p:cNvSpPr/>
            <p:nvPr/>
          </p:nvSpPr>
          <p:spPr>
            <a:xfrm>
              <a:off x="1265400" y="1752480"/>
              <a:ext cx="237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265400" y="864720"/>
              <a:ext cx="690480" cy="90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81080" y="890640"/>
              <a:ext cx="1663920" cy="849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220000">
              <a:off x="1446120" y="1141200"/>
              <a:ext cx="168480" cy="25704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628640" y="820440"/>
              <a:ext cx="271440" cy="360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200000">
              <a:off x="2731680" y="1083960"/>
              <a:ext cx="179640" cy="26208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13120" y="814320"/>
              <a:ext cx="674640" cy="341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84240" y="800280"/>
              <a:ext cx="166680" cy="155520"/>
            </a:xfrm>
            <a:prstGeom prst="ellipse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81960" y="1535040"/>
              <a:ext cx="3002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71960" y="1568520"/>
              <a:ext cx="21492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49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49448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39680" y="860400"/>
              <a:ext cx="824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25640" y="790560"/>
              <a:ext cx="527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73200" y="137484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20800" y="1389240"/>
              <a:ext cx="744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308240" y="5029200"/>
            <a:ext cx="416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30360" y="4807080"/>
            <a:ext cx="444600" cy="2156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73560" y="4807080"/>
            <a:ext cx="444600" cy="2156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7560" y="4876920"/>
            <a:ext cx="2273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19200" y="4402080"/>
            <a:ext cx="824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89400" y="4389480"/>
            <a:ext cx="527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5640" y="5562720"/>
            <a:ext cx="409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اگر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555440" y="811080"/>
            <a:ext cx="3538440" cy="732600"/>
            <a:chOff x="4555440" y="811080"/>
            <a:chExt cx="3538440" cy="732600"/>
          </a:xfrm>
        </p:grpSpPr>
        <p:sp>
          <p:nvSpPr>
            <p:cNvPr id="452" name=""/>
            <p:cNvSpPr/>
            <p:nvPr/>
          </p:nvSpPr>
          <p:spPr>
            <a:xfrm>
              <a:off x="6202440" y="811080"/>
              <a:ext cx="65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555440" y="811080"/>
              <a:ext cx="3538440" cy="732600"/>
              <a:chOff x="4555440" y="811080"/>
              <a:chExt cx="3538440" cy="732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4555440" y="836640"/>
                <a:ext cx="3538440" cy="707040"/>
                <a:chOff x="4555440" y="836640"/>
                <a:chExt cx="3538440" cy="70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232600" y="1160280"/>
                  <a:ext cx="2327040" cy="1800"/>
                </a:xfrm>
                <a:prstGeom prst="line">
                  <a:avLst/>
                </a:prstGeom>
                <a:ln w="64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55440" y="100008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998600" y="8366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346080" y="8366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681160" y="119196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55720" y="119196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379640" y="100008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767120" y="974520"/>
                  <a:ext cx="775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79680" y="1166760"/>
                  <a:ext cx="721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20992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92416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2428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17660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57560" y="129996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468840" y="129996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17280" y="83664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04640" y="83664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5807880" y="811080"/>
                <a:ext cx="1994040" cy="305280"/>
                <a:chOff x="5807880" y="811080"/>
                <a:chExt cx="1994040" cy="3052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5807880" y="81108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097040" y="81108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5" name=""/>
          <p:cNvSpPr/>
          <p:nvPr/>
        </p:nvSpPr>
        <p:spPr>
          <a:xfrm>
            <a:off x="1843200" y="5529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25560" y="553716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04960" y="20952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حالت خاص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92240" y="5483160"/>
            <a:ext cx="24130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5067360" y="5372280"/>
                <a:ext cx="2476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2644920" y="3197160"/>
            <a:ext cx="614160" cy="6606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33680" y="4457880"/>
            <a:ext cx="223920" cy="42048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44920" y="3564000"/>
            <a:ext cx="0" cy="887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59080" y="3505320"/>
            <a:ext cx="0" cy="1245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54320" y="4764240"/>
            <a:ext cx="209520" cy="407880"/>
          </a:xfrm>
          <a:prstGeom prst="rect">
            <a:avLst/>
          </a:prstGeom>
          <a:solidFill>
            <a:srgbClr val="ff5008"/>
          </a:solidFill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3160" y="4718160"/>
            <a:ext cx="484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84600" y="3340080"/>
            <a:ext cx="334800" cy="360360"/>
          </a:xfrm>
          <a:prstGeom prst="ellipse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71440" y="381780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67840" y="3968640"/>
            <a:ext cx="949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65240" y="4489560"/>
            <a:ext cx="484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125960" y="3863880"/>
            <a:ext cx="202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ماشین آتو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039680" y="790560"/>
            <a:ext cx="2605320" cy="1182600"/>
            <a:chOff x="1039680" y="790560"/>
            <a:chExt cx="2605320" cy="1182600"/>
          </a:xfrm>
        </p:grpSpPr>
        <p:sp>
          <p:nvSpPr>
            <p:cNvPr id="494" name=""/>
            <p:cNvSpPr/>
            <p:nvPr/>
          </p:nvSpPr>
          <p:spPr>
            <a:xfrm>
              <a:off x="1265400" y="1752480"/>
              <a:ext cx="237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265400" y="864720"/>
              <a:ext cx="690480" cy="90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81080" y="890640"/>
              <a:ext cx="1663920" cy="849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220000">
              <a:off x="1446120" y="1141200"/>
              <a:ext cx="168480" cy="25704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628640" y="820440"/>
              <a:ext cx="271440" cy="360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200000">
              <a:off x="2731680" y="1083960"/>
              <a:ext cx="179640" cy="26208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13120" y="814320"/>
              <a:ext cx="674640" cy="341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84240" y="800280"/>
              <a:ext cx="166680" cy="155520"/>
            </a:xfrm>
            <a:prstGeom prst="ellipse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81960" y="1535040"/>
              <a:ext cx="3002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71960" y="1568520"/>
              <a:ext cx="21492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49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49448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39680" y="860400"/>
              <a:ext cx="824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25640" y="790560"/>
              <a:ext cx="527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73200" y="137484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20800" y="1389240"/>
              <a:ext cx="744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555440" y="811080"/>
            <a:ext cx="3538440" cy="732600"/>
            <a:chOff x="4555440" y="811080"/>
            <a:chExt cx="3538440" cy="732600"/>
          </a:xfrm>
        </p:grpSpPr>
        <p:sp>
          <p:nvSpPr>
            <p:cNvPr id="509" name=""/>
            <p:cNvSpPr/>
            <p:nvPr/>
          </p:nvSpPr>
          <p:spPr>
            <a:xfrm>
              <a:off x="6202440" y="811080"/>
              <a:ext cx="65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555440" y="811080"/>
              <a:ext cx="3538440" cy="732600"/>
              <a:chOff x="4555440" y="811080"/>
              <a:chExt cx="3538440" cy="73260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4555440" y="836640"/>
                <a:ext cx="3538440" cy="707040"/>
                <a:chOff x="4555440" y="836640"/>
                <a:chExt cx="3538440" cy="7070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5232600" y="1160280"/>
                  <a:ext cx="2327040" cy="1800"/>
                </a:xfrm>
                <a:prstGeom prst="line">
                  <a:avLst/>
                </a:prstGeom>
                <a:ln w="64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555440" y="100008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998600" y="8366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46080" y="8366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681160" y="119196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255720" y="119196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379640" y="100008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767120" y="974520"/>
                  <a:ext cx="775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79680" y="1166760"/>
                  <a:ext cx="721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20992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92416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52428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17660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857560" y="129996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468840" y="129996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417280" y="83664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704640" y="83664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5807880" y="811080"/>
                <a:ext cx="1994040" cy="305280"/>
                <a:chOff x="5807880" y="811080"/>
                <a:chExt cx="1994040" cy="3052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807880" y="81108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097040" y="81108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2" name=""/>
          <p:cNvSpPr/>
          <p:nvPr/>
        </p:nvSpPr>
        <p:spPr>
          <a:xfrm>
            <a:off x="3979800" y="5473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04960" y="20952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حالت خاص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1920" y="5497560"/>
            <a:ext cx="2586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067360" y="5410080"/>
                <a:ext cx="2476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570040" y="3344760"/>
            <a:ext cx="362160" cy="22716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0360" y="4384800"/>
            <a:ext cx="193680" cy="42228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5960" y="3578400"/>
            <a:ext cx="180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55880" y="3597120"/>
            <a:ext cx="0" cy="1452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16280" y="3456000"/>
            <a:ext cx="252360" cy="29520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46240" y="3452760"/>
            <a:ext cx="8906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967200" y="3578400"/>
            <a:ext cx="0" cy="8092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41000" y="29480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26800" y="44323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039680" y="790560"/>
            <a:ext cx="2605320" cy="1182600"/>
            <a:chOff x="1039680" y="790560"/>
            <a:chExt cx="2605320" cy="1182600"/>
          </a:xfrm>
        </p:grpSpPr>
        <p:sp>
          <p:nvSpPr>
            <p:cNvPr id="548" name=""/>
            <p:cNvSpPr/>
            <p:nvPr/>
          </p:nvSpPr>
          <p:spPr>
            <a:xfrm>
              <a:off x="1265400" y="1752480"/>
              <a:ext cx="237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265400" y="864720"/>
              <a:ext cx="690480" cy="90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1080" y="890640"/>
              <a:ext cx="1663920" cy="849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220000">
              <a:off x="1446120" y="1141200"/>
              <a:ext cx="168480" cy="25704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628640" y="820440"/>
              <a:ext cx="271440" cy="360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200000">
              <a:off x="2731680" y="1083960"/>
              <a:ext cx="179640" cy="262080"/>
            </a:xfrm>
            <a:prstGeom prst="rect">
              <a:avLst/>
            </a:pr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13120" y="814320"/>
              <a:ext cx="674640" cy="341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84240" y="800280"/>
              <a:ext cx="166680" cy="155520"/>
            </a:xfrm>
            <a:prstGeom prst="ellipse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81960" y="1535040"/>
              <a:ext cx="3002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71960" y="1568520"/>
              <a:ext cx="21492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49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49448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39680" y="860400"/>
              <a:ext cx="824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25640" y="790560"/>
              <a:ext cx="527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73200" y="137484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20800" y="1389240"/>
              <a:ext cx="744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263120" y="811080"/>
            <a:ext cx="3538440" cy="732600"/>
            <a:chOff x="4263120" y="811080"/>
            <a:chExt cx="3538440" cy="732600"/>
          </a:xfrm>
        </p:grpSpPr>
        <p:sp>
          <p:nvSpPr>
            <p:cNvPr id="563" name=""/>
            <p:cNvSpPr/>
            <p:nvPr/>
          </p:nvSpPr>
          <p:spPr>
            <a:xfrm>
              <a:off x="5910120" y="811080"/>
              <a:ext cx="65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4263120" y="811080"/>
              <a:ext cx="3538440" cy="732600"/>
              <a:chOff x="4263120" y="811080"/>
              <a:chExt cx="3538440" cy="73260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4263120" y="836640"/>
                <a:ext cx="3538440" cy="707040"/>
                <a:chOff x="4263120" y="836640"/>
                <a:chExt cx="3538440" cy="7070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940280" y="1160280"/>
                  <a:ext cx="2327040" cy="1800"/>
                </a:xfrm>
                <a:prstGeom prst="line">
                  <a:avLst/>
                </a:prstGeom>
                <a:ln w="64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263120" y="100008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706280" y="8366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053760" y="83664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388840" y="119196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963400" y="1191960"/>
                  <a:ext cx="784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087320" y="1000080"/>
                  <a:ext cx="714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74800" y="974520"/>
                  <a:ext cx="775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787360" y="1166760"/>
                  <a:ext cx="721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91760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63184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3196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884280" y="94284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565240" y="129996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176520" y="1299960"/>
                  <a:ext cx="685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124960" y="83664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412320" y="836640"/>
                  <a:ext cx="89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si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515560" y="811080"/>
                <a:ext cx="1994040" cy="305280"/>
                <a:chOff x="5515560" y="811080"/>
                <a:chExt cx="1994040" cy="3052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515560" y="81108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804720" y="811080"/>
                  <a:ext cx="704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6" name=""/>
          <p:cNvSpPr/>
          <p:nvPr/>
        </p:nvSpPr>
        <p:spPr>
          <a:xfrm>
            <a:off x="5339160" y="53276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51160" y="54021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دینامیک دوجسمی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177120" indent="-177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ر کدام حالت جس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شتاب بیشتری پیدا می کند? درحالت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جسم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زطنابی آویزان است.  درحالت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به وسیله دست نیروی ثابت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98.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به پایین وارد 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در هردوحالت طناب و قرقره بدون جرم هست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04000" y="2951280"/>
            <a:ext cx="3102840" cy="1365120"/>
            <a:chOff x="504000" y="2951280"/>
            <a:chExt cx="3102840" cy="1365120"/>
          </a:xfrm>
        </p:grpSpPr>
        <p:sp>
          <p:nvSpPr>
            <p:cNvPr id="591" name=""/>
            <p:cNvSpPr/>
            <p:nvPr/>
          </p:nvSpPr>
          <p:spPr>
            <a:xfrm>
              <a:off x="2759040" y="2951280"/>
              <a:ext cx="679320" cy="4442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13120" y="3414600"/>
              <a:ext cx="1593720" cy="1461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17600" y="3871800"/>
              <a:ext cx="617400" cy="4446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25760" y="31798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78040" y="31798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25760" y="333216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88400" y="299736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50760" y="3917880"/>
              <a:ext cx="131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10k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8040" y="3332160"/>
              <a:ext cx="380880" cy="15228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87280" y="348444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4000" y="361332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894360" y="2959200"/>
            <a:ext cx="679680" cy="4442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48440" y="3422520"/>
            <a:ext cx="1593720" cy="146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761080" y="3187800"/>
            <a:ext cx="304920" cy="3045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13360" y="31878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61080" y="33400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3720" y="300528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13360" y="3340080"/>
            <a:ext cx="381240" cy="1522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22960" y="3492360"/>
            <a:ext cx="0" cy="76212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39320" y="36212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640480" y="3714840"/>
            <a:ext cx="668160" cy="387360"/>
            <a:chOff x="5640480" y="3714840"/>
            <a:chExt cx="668160" cy="387360"/>
          </a:xfrm>
        </p:grpSpPr>
        <p:grpSp>
          <p:nvGrpSpPr>
            <p:cNvPr id="612" name=""/>
            <p:cNvGrpSpPr/>
            <p:nvPr/>
          </p:nvGrpSpPr>
          <p:grpSpPr>
            <a:xfrm>
              <a:off x="5640480" y="3807000"/>
              <a:ext cx="471240" cy="295200"/>
              <a:chOff x="5640480" y="3807000"/>
              <a:chExt cx="471240" cy="295200"/>
            </a:xfrm>
          </p:grpSpPr>
          <p:sp>
            <p:nvSpPr>
              <p:cNvPr id="613" name=""/>
              <p:cNvSpPr/>
              <p:nvPr/>
            </p:nvSpPr>
            <p:spPr>
              <a:xfrm flipH="1">
                <a:off x="5640120" y="3807000"/>
                <a:ext cx="471240" cy="295200"/>
              </a:xfrm>
              <a:custGeom>
                <a:avLst/>
                <a:gdLst/>
                <a:ahLst/>
                <a:rect l="l" t="t" r="r" b="b"/>
                <a:pathLst>
                  <a:path w="297" h="186">
                    <a:moveTo>
                      <a:pt x="62" y="14"/>
                    </a:moveTo>
                    <a:lnTo>
                      <a:pt x="120" y="29"/>
                    </a:lnTo>
                    <a:lnTo>
                      <a:pt x="129" y="29"/>
                    </a:lnTo>
                    <a:lnTo>
                      <a:pt x="137" y="28"/>
                    </a:lnTo>
                    <a:lnTo>
                      <a:pt x="164" y="25"/>
                    </a:lnTo>
                    <a:lnTo>
                      <a:pt x="182" y="25"/>
                    </a:lnTo>
                    <a:lnTo>
                      <a:pt x="196" y="29"/>
                    </a:lnTo>
                    <a:lnTo>
                      <a:pt x="218" y="42"/>
                    </a:lnTo>
                    <a:lnTo>
                      <a:pt x="233" y="49"/>
                    </a:lnTo>
                    <a:lnTo>
                      <a:pt x="238" y="51"/>
                    </a:lnTo>
                    <a:lnTo>
                      <a:pt x="275" y="84"/>
                    </a:lnTo>
                    <a:lnTo>
                      <a:pt x="289" y="96"/>
                    </a:lnTo>
                    <a:lnTo>
                      <a:pt x="292" y="103"/>
                    </a:lnTo>
                    <a:lnTo>
                      <a:pt x="295" y="127"/>
                    </a:lnTo>
                    <a:lnTo>
                      <a:pt x="296" y="134"/>
                    </a:lnTo>
                    <a:lnTo>
                      <a:pt x="291" y="139"/>
                    </a:lnTo>
                    <a:lnTo>
                      <a:pt x="288" y="142"/>
                    </a:lnTo>
                    <a:lnTo>
                      <a:pt x="284" y="145"/>
                    </a:lnTo>
                    <a:lnTo>
                      <a:pt x="279" y="145"/>
                    </a:lnTo>
                    <a:lnTo>
                      <a:pt x="273" y="145"/>
                    </a:lnTo>
                    <a:lnTo>
                      <a:pt x="268" y="143"/>
                    </a:lnTo>
                    <a:lnTo>
                      <a:pt x="260" y="131"/>
                    </a:lnTo>
                    <a:lnTo>
                      <a:pt x="261" y="118"/>
                    </a:lnTo>
                    <a:lnTo>
                      <a:pt x="245" y="101"/>
                    </a:lnTo>
                    <a:lnTo>
                      <a:pt x="235" y="91"/>
                    </a:lnTo>
                    <a:lnTo>
                      <a:pt x="241" y="102"/>
                    </a:lnTo>
                    <a:lnTo>
                      <a:pt x="246" y="110"/>
                    </a:lnTo>
                    <a:lnTo>
                      <a:pt x="255" y="123"/>
                    </a:lnTo>
                    <a:lnTo>
                      <a:pt x="265" y="139"/>
                    </a:lnTo>
                    <a:lnTo>
                      <a:pt x="264" y="145"/>
                    </a:lnTo>
                    <a:lnTo>
                      <a:pt x="263" y="150"/>
                    </a:lnTo>
                    <a:lnTo>
                      <a:pt x="259" y="154"/>
                    </a:lnTo>
                    <a:lnTo>
                      <a:pt x="252" y="157"/>
                    </a:lnTo>
                    <a:lnTo>
                      <a:pt x="247" y="158"/>
                    </a:lnTo>
                    <a:lnTo>
                      <a:pt x="242" y="160"/>
                    </a:lnTo>
                    <a:lnTo>
                      <a:pt x="237" y="161"/>
                    </a:lnTo>
                    <a:lnTo>
                      <a:pt x="225" y="169"/>
                    </a:lnTo>
                    <a:lnTo>
                      <a:pt x="218" y="172"/>
                    </a:lnTo>
                    <a:lnTo>
                      <a:pt x="211" y="169"/>
                    </a:lnTo>
                    <a:lnTo>
                      <a:pt x="208" y="175"/>
                    </a:lnTo>
                    <a:lnTo>
                      <a:pt x="202" y="181"/>
                    </a:lnTo>
                    <a:lnTo>
                      <a:pt x="193" y="185"/>
                    </a:lnTo>
                    <a:lnTo>
                      <a:pt x="184" y="183"/>
                    </a:lnTo>
                    <a:lnTo>
                      <a:pt x="175" y="179"/>
                    </a:lnTo>
                    <a:lnTo>
                      <a:pt x="160" y="169"/>
                    </a:lnTo>
                    <a:lnTo>
                      <a:pt x="128" y="140"/>
                    </a:lnTo>
                    <a:lnTo>
                      <a:pt x="106" y="120"/>
                    </a:lnTo>
                    <a:lnTo>
                      <a:pt x="93" y="105"/>
                    </a:lnTo>
                    <a:lnTo>
                      <a:pt x="84" y="100"/>
                    </a:lnTo>
                    <a:lnTo>
                      <a:pt x="75" y="96"/>
                    </a:lnTo>
                    <a:lnTo>
                      <a:pt x="55" y="91"/>
                    </a:lnTo>
                    <a:lnTo>
                      <a:pt x="43" y="86"/>
                    </a:lnTo>
                    <a:lnTo>
                      <a:pt x="0" y="71"/>
                    </a:lnTo>
                    <a:lnTo>
                      <a:pt x="23" y="0"/>
                    </a:lnTo>
                    <a:lnTo>
                      <a:pt x="62" y="14"/>
                    </a:lnTo>
                  </a:path>
                </a:pathLst>
              </a:custGeom>
              <a:solidFill>
                <a:srgbClr val="f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689440" y="3937320"/>
                <a:ext cx="51120" cy="982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7" y="21"/>
                    </a:lnTo>
                    <a:lnTo>
                      <a:pt x="14" y="31"/>
                    </a:lnTo>
                    <a:lnTo>
                      <a:pt x="20" y="40"/>
                    </a:lnTo>
                    <a:lnTo>
                      <a:pt x="26" y="50"/>
                    </a:lnTo>
                    <a:lnTo>
                      <a:pt x="29" y="54"/>
                    </a:lnTo>
                    <a:lnTo>
                      <a:pt x="31" y="58"/>
                    </a:lnTo>
                    <a:lnTo>
                      <a:pt x="30" y="6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641920" y="4010040"/>
                <a:ext cx="193680" cy="92160"/>
              </a:xfrm>
              <a:custGeom>
                <a:avLst/>
                <a:gdLst/>
                <a:ahLst/>
                <a:rect l="l" t="t" r="r" b="b"/>
                <a:pathLst>
                  <a:path w="122" h="58">
                    <a:moveTo>
                      <a:pt x="0" y="51"/>
                    </a:moveTo>
                    <a:lnTo>
                      <a:pt x="5" y="53"/>
                    </a:lnTo>
                    <a:lnTo>
                      <a:pt x="8" y="55"/>
                    </a:lnTo>
                    <a:lnTo>
                      <a:pt x="12" y="56"/>
                    </a:lnTo>
                    <a:lnTo>
                      <a:pt x="17" y="57"/>
                    </a:lnTo>
                    <a:lnTo>
                      <a:pt x="20" y="56"/>
                    </a:lnTo>
                    <a:lnTo>
                      <a:pt x="27" y="54"/>
                    </a:lnTo>
                    <a:lnTo>
                      <a:pt x="29" y="52"/>
                    </a:lnTo>
                    <a:lnTo>
                      <a:pt x="33" y="47"/>
                    </a:lnTo>
                    <a:lnTo>
                      <a:pt x="35" y="43"/>
                    </a:lnTo>
                    <a:lnTo>
                      <a:pt x="36" y="41"/>
                    </a:lnTo>
                    <a:lnTo>
                      <a:pt x="39" y="42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8" y="42"/>
                    </a:lnTo>
                    <a:lnTo>
                      <a:pt x="53" y="39"/>
                    </a:lnTo>
                    <a:lnTo>
                      <a:pt x="59" y="35"/>
                    </a:lnTo>
                    <a:lnTo>
                      <a:pt x="62" y="33"/>
                    </a:lnTo>
                    <a:lnTo>
                      <a:pt x="65" y="32"/>
                    </a:lnTo>
                    <a:lnTo>
                      <a:pt x="69" y="31"/>
                    </a:lnTo>
                    <a:lnTo>
                      <a:pt x="72" y="30"/>
                    </a:lnTo>
                    <a:lnTo>
                      <a:pt x="76" y="29"/>
                    </a:lnTo>
                    <a:lnTo>
                      <a:pt x="82" y="27"/>
                    </a:lnTo>
                    <a:lnTo>
                      <a:pt x="85" y="24"/>
                    </a:lnTo>
                    <a:lnTo>
                      <a:pt x="88" y="21"/>
                    </a:lnTo>
                    <a:lnTo>
                      <a:pt x="89" y="18"/>
                    </a:lnTo>
                    <a:lnTo>
                      <a:pt x="90" y="14"/>
                    </a:lnTo>
                    <a:lnTo>
                      <a:pt x="94" y="15"/>
                    </a:lnTo>
                    <a:lnTo>
                      <a:pt x="100" y="16"/>
                    </a:lnTo>
                    <a:lnTo>
                      <a:pt x="105" y="17"/>
                    </a:lnTo>
                    <a:lnTo>
                      <a:pt x="109" y="16"/>
                    </a:lnTo>
                    <a:lnTo>
                      <a:pt x="112" y="15"/>
                    </a:lnTo>
                    <a:lnTo>
                      <a:pt x="115" y="12"/>
                    </a:lnTo>
                    <a:lnTo>
                      <a:pt x="118" y="9"/>
                    </a:lnTo>
                    <a:lnTo>
                      <a:pt x="121" y="6"/>
                    </a:lnTo>
                    <a:lnTo>
                      <a:pt x="121" y="2"/>
                    </a:lnTo>
                    <a:lnTo>
                      <a:pt x="120" y="0"/>
                    </a:lnTo>
                    <a:lnTo>
                      <a:pt x="118" y="1"/>
                    </a:lnTo>
                    <a:lnTo>
                      <a:pt x="114" y="3"/>
                    </a:lnTo>
                    <a:lnTo>
                      <a:pt x="111" y="6"/>
                    </a:lnTo>
                    <a:lnTo>
                      <a:pt x="106" y="8"/>
                    </a:lnTo>
                    <a:lnTo>
                      <a:pt x="101" y="10"/>
                    </a:lnTo>
                    <a:lnTo>
                      <a:pt x="96" y="10"/>
                    </a:lnTo>
                    <a:lnTo>
                      <a:pt x="93" y="10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4"/>
                    </a:lnTo>
                    <a:lnTo>
                      <a:pt x="82" y="17"/>
                    </a:lnTo>
                    <a:lnTo>
                      <a:pt x="74" y="20"/>
                    </a:lnTo>
                    <a:lnTo>
                      <a:pt x="67" y="21"/>
                    </a:lnTo>
                    <a:lnTo>
                      <a:pt x="62" y="21"/>
                    </a:lnTo>
                    <a:lnTo>
                      <a:pt x="60" y="21"/>
                    </a:lnTo>
                    <a:lnTo>
                      <a:pt x="60" y="24"/>
                    </a:lnTo>
                    <a:lnTo>
                      <a:pt x="58" y="27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47" y="35"/>
                    </a:lnTo>
                    <a:lnTo>
                      <a:pt x="41" y="36"/>
                    </a:lnTo>
                    <a:lnTo>
                      <a:pt x="37" y="36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8" y="40"/>
                    </a:lnTo>
                    <a:lnTo>
                      <a:pt x="25" y="43"/>
                    </a:lnTo>
                    <a:lnTo>
                      <a:pt x="21" y="46"/>
                    </a:lnTo>
                    <a:lnTo>
                      <a:pt x="17" y="47"/>
                    </a:lnTo>
                    <a:lnTo>
                      <a:pt x="13" y="47"/>
                    </a:lnTo>
                    <a:lnTo>
                      <a:pt x="8" y="47"/>
                    </a:lnTo>
                    <a:lnTo>
                      <a:pt x="2" y="46"/>
                    </a:lnTo>
                    <a:lnTo>
                      <a:pt x="1" y="48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7f5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695920" y="395136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0" y="0"/>
                    </a:moveTo>
                    <a:lnTo>
                      <a:pt x="27" y="28"/>
                    </a:lnTo>
                    <a:lnTo>
                      <a:pt x="26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1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776920" y="40244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0"/>
                    </a:moveTo>
                    <a:lnTo>
                      <a:pt x="5" y="2"/>
                    </a:lnTo>
                    <a:lnTo>
                      <a:pt x="10" y="6"/>
                    </a:lnTo>
                    <a:lnTo>
                      <a:pt x="15" y="12"/>
                    </a:lnTo>
                    <a:lnTo>
                      <a:pt x="20" y="19"/>
                    </a:lnTo>
                    <a:lnTo>
                      <a:pt x="24" y="25"/>
                    </a:lnTo>
                    <a:lnTo>
                      <a:pt x="26" y="28"/>
                    </a:lnTo>
                    <a:lnTo>
                      <a:pt x="29" y="32"/>
                    </a:lnTo>
                    <a:lnTo>
                      <a:pt x="29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732280" y="4000680"/>
                <a:ext cx="35280" cy="6336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0" y="0"/>
                    </a:moveTo>
                    <a:lnTo>
                      <a:pt x="14" y="22"/>
                    </a:lnTo>
                    <a:lnTo>
                      <a:pt x="17" y="27"/>
                    </a:lnTo>
                    <a:lnTo>
                      <a:pt x="18" y="31"/>
                    </a:lnTo>
                    <a:lnTo>
                      <a:pt x="21" y="35"/>
                    </a:lnTo>
                    <a:lnTo>
                      <a:pt x="2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6006960" y="3714840"/>
              <a:ext cx="301680" cy="303120"/>
              <a:chOff x="6006960" y="3714840"/>
              <a:chExt cx="301680" cy="303120"/>
            </a:xfrm>
          </p:grpSpPr>
          <p:sp>
            <p:nvSpPr>
              <p:cNvPr id="620" name=""/>
              <p:cNvSpPr/>
              <p:nvPr/>
            </p:nvSpPr>
            <p:spPr>
              <a:xfrm flipH="1">
                <a:off x="6006600" y="3810240"/>
                <a:ext cx="103320" cy="189000"/>
              </a:xfrm>
              <a:custGeom>
                <a:avLst/>
                <a:gdLst/>
                <a:ahLst/>
                <a:rect l="l" t="t" r="r" b="b"/>
                <a:pathLst>
                  <a:path w="65" h="119">
                    <a:moveTo>
                      <a:pt x="40" y="0"/>
                    </a:moveTo>
                    <a:lnTo>
                      <a:pt x="64" y="9"/>
                    </a:lnTo>
                    <a:lnTo>
                      <a:pt x="62" y="23"/>
                    </a:lnTo>
                    <a:lnTo>
                      <a:pt x="60" y="41"/>
                    </a:lnTo>
                    <a:lnTo>
                      <a:pt x="59" y="57"/>
                    </a:lnTo>
                    <a:lnTo>
                      <a:pt x="57" y="65"/>
                    </a:lnTo>
                    <a:lnTo>
                      <a:pt x="48" y="82"/>
                    </a:lnTo>
                    <a:lnTo>
                      <a:pt x="40" y="93"/>
                    </a:lnTo>
                    <a:lnTo>
                      <a:pt x="35" y="98"/>
                    </a:lnTo>
                    <a:lnTo>
                      <a:pt x="33" y="105"/>
                    </a:lnTo>
                    <a:lnTo>
                      <a:pt x="31" y="110"/>
                    </a:lnTo>
                    <a:lnTo>
                      <a:pt x="26" y="113"/>
                    </a:lnTo>
                    <a:lnTo>
                      <a:pt x="20" y="118"/>
                    </a:lnTo>
                    <a:lnTo>
                      <a:pt x="0" y="11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041520" y="3714840"/>
                <a:ext cx="266760" cy="303120"/>
              </a:xfrm>
              <a:custGeom>
                <a:avLst/>
                <a:gdLst/>
                <a:ahLst/>
                <a:rect l="l" t="t" r="r" b="b"/>
                <a:pathLst>
                  <a:path w="168" h="191">
                    <a:moveTo>
                      <a:pt x="0" y="175"/>
                    </a:moveTo>
                    <a:lnTo>
                      <a:pt x="112" y="190"/>
                    </a:lnTo>
                    <a:lnTo>
                      <a:pt x="127" y="170"/>
                    </a:lnTo>
                    <a:lnTo>
                      <a:pt x="138" y="155"/>
                    </a:lnTo>
                    <a:lnTo>
                      <a:pt x="147" y="140"/>
                    </a:lnTo>
                    <a:lnTo>
                      <a:pt x="151" y="133"/>
                    </a:lnTo>
                    <a:lnTo>
                      <a:pt x="157" y="112"/>
                    </a:lnTo>
                    <a:lnTo>
                      <a:pt x="163" y="92"/>
                    </a:lnTo>
                    <a:lnTo>
                      <a:pt x="167" y="76"/>
                    </a:lnTo>
                    <a:lnTo>
                      <a:pt x="167" y="58"/>
                    </a:lnTo>
                    <a:lnTo>
                      <a:pt x="0" y="0"/>
                    </a:lnTo>
                    <a:lnTo>
                      <a:pt x="0" y="175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6031080" y="4172040"/>
            <a:ext cx="0" cy="691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44240" y="4262400"/>
            <a:ext cx="195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= 98.1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47080" y="50036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حالت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442840" y="50036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حالت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989440" y="5643720"/>
            <a:ext cx="46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الف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– حالت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ب- حالت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ج- مساو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پاسخ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295240" y="2514600"/>
            <a:ext cx="3102120" cy="1365120"/>
            <a:chOff x="5295240" y="2514600"/>
            <a:chExt cx="3102120" cy="1365120"/>
          </a:xfrm>
        </p:grpSpPr>
        <p:sp>
          <p:nvSpPr>
            <p:cNvPr id="629" name=""/>
            <p:cNvSpPr/>
            <p:nvPr/>
          </p:nvSpPr>
          <p:spPr>
            <a:xfrm>
              <a:off x="7549920" y="2514600"/>
              <a:ext cx="678960" cy="4442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04000" y="2977920"/>
              <a:ext cx="1593360" cy="1461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08480" y="3435120"/>
              <a:ext cx="617040" cy="4446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6640" y="2743200"/>
              <a:ext cx="304200" cy="3045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68920" y="2743200"/>
              <a:ext cx="99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1664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79280" y="256068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41640" y="3481200"/>
              <a:ext cx="131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10k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8920" y="2895480"/>
              <a:ext cx="380520" cy="15228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78160" y="304776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95240" y="317664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906480" y="3117960"/>
            <a:ext cx="365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+ (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7360" y="3586320"/>
            <a:ext cx="561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98.1 N = (m + 10kg)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249200" y="4154400"/>
                <a:ext cx="2095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1139760" y="4084560"/>
            <a:ext cx="2249640" cy="82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65800" y="5313240"/>
            <a:ext cx="365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توجه 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322280" y="5373720"/>
                <a:ext cx="3171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6" name=""/>
          <p:cNvGrpSpPr/>
          <p:nvPr/>
        </p:nvGrpSpPr>
        <p:grpSpPr>
          <a:xfrm>
            <a:off x="488520" y="1425600"/>
            <a:ext cx="7988400" cy="2903400"/>
            <a:chOff x="488520" y="1425600"/>
            <a:chExt cx="7988400" cy="2903400"/>
          </a:xfrm>
        </p:grpSpPr>
        <p:sp>
          <p:nvSpPr>
            <p:cNvPr id="647" name=""/>
            <p:cNvSpPr/>
            <p:nvPr/>
          </p:nvSpPr>
          <p:spPr>
            <a:xfrm>
              <a:off x="7412040" y="1744560"/>
              <a:ext cx="106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97720" y="3960720"/>
              <a:ext cx="106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8520" y="1852560"/>
              <a:ext cx="40982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10kg)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g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-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(10kg)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2080" y="2271600"/>
              <a:ext cx="1025640" cy="1025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08680" y="3174840"/>
              <a:ext cx="1025280" cy="1025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19080" y="1425600"/>
              <a:ext cx="729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 marL="251280" indent="-251280" algn="r" rtl="1">
                <a:lnSpc>
                  <a:spcPct val="90000"/>
                </a:lnSpc>
                <a:spcBef>
                  <a:spcPts val="751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در مورد حالت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) نمودار جسم آزاد را بکشید ورابطه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NET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 = m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را بکار برید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پاسخ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20880" y="5824440"/>
            <a:ext cx="413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پاسخ ب است      حالت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354560" y="184932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98.1 N = m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477800" y="1614600"/>
                <a:ext cx="1176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1346040" y="1576440"/>
            <a:ext cx="1501920" cy="735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64080" y="1814400"/>
            <a:ext cx="365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درمورد حالت 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874960" y="3541680"/>
            <a:ext cx="67932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128680" y="4005360"/>
            <a:ext cx="1594080" cy="145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3520" y="4462560"/>
            <a:ext cx="617400" cy="4442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41320" y="3770280"/>
            <a:ext cx="3049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93960" y="377028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41320" y="39225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04320" y="358776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81080" y="4508640"/>
            <a:ext cx="13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0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93960" y="3922560"/>
            <a:ext cx="380880" cy="15264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03200" y="4075200"/>
            <a:ext cx="0" cy="76176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9920" y="42037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010280" y="3549600"/>
            <a:ext cx="67968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64360" y="4013280"/>
            <a:ext cx="1593720" cy="145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877000" y="3778200"/>
            <a:ext cx="3045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29280" y="37782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877000" y="3930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39640" y="359568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29280" y="3930480"/>
            <a:ext cx="380880" cy="15264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38880" y="4083120"/>
            <a:ext cx="0" cy="76176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55240" y="42116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5756400" y="4305240"/>
            <a:ext cx="668160" cy="387360"/>
            <a:chOff x="5756400" y="4305240"/>
            <a:chExt cx="668160" cy="387360"/>
          </a:xfrm>
        </p:grpSpPr>
        <p:grpSp>
          <p:nvGrpSpPr>
            <p:cNvPr id="680" name=""/>
            <p:cNvGrpSpPr/>
            <p:nvPr/>
          </p:nvGrpSpPr>
          <p:grpSpPr>
            <a:xfrm>
              <a:off x="5756400" y="4397400"/>
              <a:ext cx="471240" cy="295200"/>
              <a:chOff x="5756400" y="4397400"/>
              <a:chExt cx="471240" cy="29520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5756040" y="4397400"/>
                <a:ext cx="471240" cy="295200"/>
              </a:xfrm>
              <a:custGeom>
                <a:avLst/>
                <a:gdLst/>
                <a:ahLst/>
                <a:rect l="l" t="t" r="r" b="b"/>
                <a:pathLst>
                  <a:path w="297" h="186">
                    <a:moveTo>
                      <a:pt x="62" y="14"/>
                    </a:moveTo>
                    <a:lnTo>
                      <a:pt x="120" y="29"/>
                    </a:lnTo>
                    <a:lnTo>
                      <a:pt x="129" y="29"/>
                    </a:lnTo>
                    <a:lnTo>
                      <a:pt x="137" y="28"/>
                    </a:lnTo>
                    <a:lnTo>
                      <a:pt x="164" y="25"/>
                    </a:lnTo>
                    <a:lnTo>
                      <a:pt x="182" y="25"/>
                    </a:lnTo>
                    <a:lnTo>
                      <a:pt x="196" y="29"/>
                    </a:lnTo>
                    <a:lnTo>
                      <a:pt x="218" y="42"/>
                    </a:lnTo>
                    <a:lnTo>
                      <a:pt x="233" y="49"/>
                    </a:lnTo>
                    <a:lnTo>
                      <a:pt x="238" y="51"/>
                    </a:lnTo>
                    <a:lnTo>
                      <a:pt x="275" y="84"/>
                    </a:lnTo>
                    <a:lnTo>
                      <a:pt x="289" y="96"/>
                    </a:lnTo>
                    <a:lnTo>
                      <a:pt x="292" y="103"/>
                    </a:lnTo>
                    <a:lnTo>
                      <a:pt x="295" y="127"/>
                    </a:lnTo>
                    <a:lnTo>
                      <a:pt x="296" y="134"/>
                    </a:lnTo>
                    <a:lnTo>
                      <a:pt x="291" y="139"/>
                    </a:lnTo>
                    <a:lnTo>
                      <a:pt x="288" y="142"/>
                    </a:lnTo>
                    <a:lnTo>
                      <a:pt x="284" y="145"/>
                    </a:lnTo>
                    <a:lnTo>
                      <a:pt x="279" y="145"/>
                    </a:lnTo>
                    <a:lnTo>
                      <a:pt x="273" y="145"/>
                    </a:lnTo>
                    <a:lnTo>
                      <a:pt x="268" y="143"/>
                    </a:lnTo>
                    <a:lnTo>
                      <a:pt x="260" y="131"/>
                    </a:lnTo>
                    <a:lnTo>
                      <a:pt x="261" y="118"/>
                    </a:lnTo>
                    <a:lnTo>
                      <a:pt x="245" y="101"/>
                    </a:lnTo>
                    <a:lnTo>
                      <a:pt x="235" y="91"/>
                    </a:lnTo>
                    <a:lnTo>
                      <a:pt x="241" y="102"/>
                    </a:lnTo>
                    <a:lnTo>
                      <a:pt x="246" y="110"/>
                    </a:lnTo>
                    <a:lnTo>
                      <a:pt x="255" y="123"/>
                    </a:lnTo>
                    <a:lnTo>
                      <a:pt x="265" y="139"/>
                    </a:lnTo>
                    <a:lnTo>
                      <a:pt x="264" y="145"/>
                    </a:lnTo>
                    <a:lnTo>
                      <a:pt x="263" y="150"/>
                    </a:lnTo>
                    <a:lnTo>
                      <a:pt x="259" y="154"/>
                    </a:lnTo>
                    <a:lnTo>
                      <a:pt x="252" y="157"/>
                    </a:lnTo>
                    <a:lnTo>
                      <a:pt x="247" y="158"/>
                    </a:lnTo>
                    <a:lnTo>
                      <a:pt x="242" y="160"/>
                    </a:lnTo>
                    <a:lnTo>
                      <a:pt x="237" y="161"/>
                    </a:lnTo>
                    <a:lnTo>
                      <a:pt x="225" y="169"/>
                    </a:lnTo>
                    <a:lnTo>
                      <a:pt x="218" y="172"/>
                    </a:lnTo>
                    <a:lnTo>
                      <a:pt x="211" y="169"/>
                    </a:lnTo>
                    <a:lnTo>
                      <a:pt x="208" y="175"/>
                    </a:lnTo>
                    <a:lnTo>
                      <a:pt x="202" y="181"/>
                    </a:lnTo>
                    <a:lnTo>
                      <a:pt x="193" y="185"/>
                    </a:lnTo>
                    <a:lnTo>
                      <a:pt x="184" y="183"/>
                    </a:lnTo>
                    <a:lnTo>
                      <a:pt x="175" y="179"/>
                    </a:lnTo>
                    <a:lnTo>
                      <a:pt x="160" y="169"/>
                    </a:lnTo>
                    <a:lnTo>
                      <a:pt x="128" y="140"/>
                    </a:lnTo>
                    <a:lnTo>
                      <a:pt x="106" y="120"/>
                    </a:lnTo>
                    <a:lnTo>
                      <a:pt x="93" y="105"/>
                    </a:lnTo>
                    <a:lnTo>
                      <a:pt x="84" y="100"/>
                    </a:lnTo>
                    <a:lnTo>
                      <a:pt x="75" y="96"/>
                    </a:lnTo>
                    <a:lnTo>
                      <a:pt x="55" y="91"/>
                    </a:lnTo>
                    <a:lnTo>
                      <a:pt x="43" y="86"/>
                    </a:lnTo>
                    <a:lnTo>
                      <a:pt x="0" y="71"/>
                    </a:lnTo>
                    <a:lnTo>
                      <a:pt x="23" y="0"/>
                    </a:lnTo>
                    <a:lnTo>
                      <a:pt x="62" y="14"/>
                    </a:lnTo>
                  </a:path>
                </a:pathLst>
              </a:custGeom>
              <a:solidFill>
                <a:srgbClr val="f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5805360" y="4527720"/>
                <a:ext cx="51120" cy="9828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7" y="21"/>
                    </a:lnTo>
                    <a:lnTo>
                      <a:pt x="14" y="31"/>
                    </a:lnTo>
                    <a:lnTo>
                      <a:pt x="20" y="40"/>
                    </a:lnTo>
                    <a:lnTo>
                      <a:pt x="26" y="50"/>
                    </a:lnTo>
                    <a:lnTo>
                      <a:pt x="29" y="54"/>
                    </a:lnTo>
                    <a:lnTo>
                      <a:pt x="31" y="58"/>
                    </a:lnTo>
                    <a:lnTo>
                      <a:pt x="30" y="6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757840" y="4600440"/>
                <a:ext cx="193680" cy="92160"/>
              </a:xfrm>
              <a:custGeom>
                <a:avLst/>
                <a:gdLst/>
                <a:ahLst/>
                <a:rect l="l" t="t" r="r" b="b"/>
                <a:pathLst>
                  <a:path w="122" h="58">
                    <a:moveTo>
                      <a:pt x="0" y="51"/>
                    </a:moveTo>
                    <a:lnTo>
                      <a:pt x="5" y="53"/>
                    </a:lnTo>
                    <a:lnTo>
                      <a:pt x="8" y="55"/>
                    </a:lnTo>
                    <a:lnTo>
                      <a:pt x="12" y="56"/>
                    </a:lnTo>
                    <a:lnTo>
                      <a:pt x="17" y="57"/>
                    </a:lnTo>
                    <a:lnTo>
                      <a:pt x="20" y="56"/>
                    </a:lnTo>
                    <a:lnTo>
                      <a:pt x="27" y="54"/>
                    </a:lnTo>
                    <a:lnTo>
                      <a:pt x="29" y="52"/>
                    </a:lnTo>
                    <a:lnTo>
                      <a:pt x="33" y="47"/>
                    </a:lnTo>
                    <a:lnTo>
                      <a:pt x="35" y="43"/>
                    </a:lnTo>
                    <a:lnTo>
                      <a:pt x="36" y="41"/>
                    </a:lnTo>
                    <a:lnTo>
                      <a:pt x="39" y="42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8" y="42"/>
                    </a:lnTo>
                    <a:lnTo>
                      <a:pt x="53" y="39"/>
                    </a:lnTo>
                    <a:lnTo>
                      <a:pt x="59" y="35"/>
                    </a:lnTo>
                    <a:lnTo>
                      <a:pt x="62" y="33"/>
                    </a:lnTo>
                    <a:lnTo>
                      <a:pt x="65" y="32"/>
                    </a:lnTo>
                    <a:lnTo>
                      <a:pt x="69" y="31"/>
                    </a:lnTo>
                    <a:lnTo>
                      <a:pt x="72" y="30"/>
                    </a:lnTo>
                    <a:lnTo>
                      <a:pt x="76" y="29"/>
                    </a:lnTo>
                    <a:lnTo>
                      <a:pt x="82" y="27"/>
                    </a:lnTo>
                    <a:lnTo>
                      <a:pt x="85" y="24"/>
                    </a:lnTo>
                    <a:lnTo>
                      <a:pt x="88" y="21"/>
                    </a:lnTo>
                    <a:lnTo>
                      <a:pt x="89" y="18"/>
                    </a:lnTo>
                    <a:lnTo>
                      <a:pt x="90" y="14"/>
                    </a:lnTo>
                    <a:lnTo>
                      <a:pt x="94" y="15"/>
                    </a:lnTo>
                    <a:lnTo>
                      <a:pt x="100" y="16"/>
                    </a:lnTo>
                    <a:lnTo>
                      <a:pt x="105" y="17"/>
                    </a:lnTo>
                    <a:lnTo>
                      <a:pt x="109" y="16"/>
                    </a:lnTo>
                    <a:lnTo>
                      <a:pt x="112" y="15"/>
                    </a:lnTo>
                    <a:lnTo>
                      <a:pt x="115" y="12"/>
                    </a:lnTo>
                    <a:lnTo>
                      <a:pt x="118" y="9"/>
                    </a:lnTo>
                    <a:lnTo>
                      <a:pt x="121" y="6"/>
                    </a:lnTo>
                    <a:lnTo>
                      <a:pt x="121" y="2"/>
                    </a:lnTo>
                    <a:lnTo>
                      <a:pt x="120" y="0"/>
                    </a:lnTo>
                    <a:lnTo>
                      <a:pt x="118" y="1"/>
                    </a:lnTo>
                    <a:lnTo>
                      <a:pt x="114" y="3"/>
                    </a:lnTo>
                    <a:lnTo>
                      <a:pt x="111" y="6"/>
                    </a:lnTo>
                    <a:lnTo>
                      <a:pt x="106" y="8"/>
                    </a:lnTo>
                    <a:lnTo>
                      <a:pt x="101" y="10"/>
                    </a:lnTo>
                    <a:lnTo>
                      <a:pt x="96" y="10"/>
                    </a:lnTo>
                    <a:lnTo>
                      <a:pt x="93" y="10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4"/>
                    </a:lnTo>
                    <a:lnTo>
                      <a:pt x="82" y="17"/>
                    </a:lnTo>
                    <a:lnTo>
                      <a:pt x="74" y="20"/>
                    </a:lnTo>
                    <a:lnTo>
                      <a:pt x="67" y="21"/>
                    </a:lnTo>
                    <a:lnTo>
                      <a:pt x="62" y="21"/>
                    </a:lnTo>
                    <a:lnTo>
                      <a:pt x="60" y="21"/>
                    </a:lnTo>
                    <a:lnTo>
                      <a:pt x="60" y="24"/>
                    </a:lnTo>
                    <a:lnTo>
                      <a:pt x="58" y="27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47" y="35"/>
                    </a:lnTo>
                    <a:lnTo>
                      <a:pt x="41" y="36"/>
                    </a:lnTo>
                    <a:lnTo>
                      <a:pt x="37" y="36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8" y="40"/>
                    </a:lnTo>
                    <a:lnTo>
                      <a:pt x="25" y="43"/>
                    </a:lnTo>
                    <a:lnTo>
                      <a:pt x="21" y="46"/>
                    </a:lnTo>
                    <a:lnTo>
                      <a:pt x="17" y="47"/>
                    </a:lnTo>
                    <a:lnTo>
                      <a:pt x="13" y="47"/>
                    </a:lnTo>
                    <a:lnTo>
                      <a:pt x="8" y="47"/>
                    </a:lnTo>
                    <a:lnTo>
                      <a:pt x="2" y="46"/>
                    </a:lnTo>
                    <a:lnTo>
                      <a:pt x="1" y="48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7f5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811840" y="454176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0" y="0"/>
                    </a:moveTo>
                    <a:lnTo>
                      <a:pt x="27" y="28"/>
                    </a:lnTo>
                    <a:lnTo>
                      <a:pt x="26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1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5892840" y="46148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0"/>
                    </a:moveTo>
                    <a:lnTo>
                      <a:pt x="5" y="2"/>
                    </a:lnTo>
                    <a:lnTo>
                      <a:pt x="10" y="6"/>
                    </a:lnTo>
                    <a:lnTo>
                      <a:pt x="15" y="12"/>
                    </a:lnTo>
                    <a:lnTo>
                      <a:pt x="20" y="19"/>
                    </a:lnTo>
                    <a:lnTo>
                      <a:pt x="24" y="25"/>
                    </a:lnTo>
                    <a:lnTo>
                      <a:pt x="26" y="28"/>
                    </a:lnTo>
                    <a:lnTo>
                      <a:pt x="29" y="32"/>
                    </a:lnTo>
                    <a:lnTo>
                      <a:pt x="29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848200" y="4591080"/>
                <a:ext cx="35280" cy="6336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0" y="0"/>
                    </a:moveTo>
                    <a:lnTo>
                      <a:pt x="14" y="22"/>
                    </a:lnTo>
                    <a:lnTo>
                      <a:pt x="17" y="27"/>
                    </a:lnTo>
                    <a:lnTo>
                      <a:pt x="18" y="31"/>
                    </a:lnTo>
                    <a:lnTo>
                      <a:pt x="21" y="35"/>
                    </a:lnTo>
                    <a:lnTo>
                      <a:pt x="20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122880" y="4305240"/>
              <a:ext cx="301680" cy="303120"/>
              <a:chOff x="6122880" y="4305240"/>
              <a:chExt cx="301680" cy="303120"/>
            </a:xfrm>
          </p:grpSpPr>
          <p:sp>
            <p:nvSpPr>
              <p:cNvPr id="688" name=""/>
              <p:cNvSpPr/>
              <p:nvPr/>
            </p:nvSpPr>
            <p:spPr>
              <a:xfrm flipH="1">
                <a:off x="6122520" y="4400640"/>
                <a:ext cx="103320" cy="189000"/>
              </a:xfrm>
              <a:custGeom>
                <a:avLst/>
                <a:gdLst/>
                <a:ahLst/>
                <a:rect l="l" t="t" r="r" b="b"/>
                <a:pathLst>
                  <a:path w="65" h="119">
                    <a:moveTo>
                      <a:pt x="40" y="0"/>
                    </a:moveTo>
                    <a:lnTo>
                      <a:pt x="64" y="9"/>
                    </a:lnTo>
                    <a:lnTo>
                      <a:pt x="62" y="23"/>
                    </a:lnTo>
                    <a:lnTo>
                      <a:pt x="60" y="41"/>
                    </a:lnTo>
                    <a:lnTo>
                      <a:pt x="59" y="57"/>
                    </a:lnTo>
                    <a:lnTo>
                      <a:pt x="57" y="65"/>
                    </a:lnTo>
                    <a:lnTo>
                      <a:pt x="48" y="82"/>
                    </a:lnTo>
                    <a:lnTo>
                      <a:pt x="40" y="93"/>
                    </a:lnTo>
                    <a:lnTo>
                      <a:pt x="35" y="98"/>
                    </a:lnTo>
                    <a:lnTo>
                      <a:pt x="33" y="105"/>
                    </a:lnTo>
                    <a:lnTo>
                      <a:pt x="31" y="110"/>
                    </a:lnTo>
                    <a:lnTo>
                      <a:pt x="26" y="113"/>
                    </a:lnTo>
                    <a:lnTo>
                      <a:pt x="20" y="118"/>
                    </a:lnTo>
                    <a:lnTo>
                      <a:pt x="0" y="11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157440" y="4305240"/>
                <a:ext cx="266760" cy="303120"/>
              </a:xfrm>
              <a:custGeom>
                <a:avLst/>
                <a:gdLst/>
                <a:ahLst/>
                <a:rect l="l" t="t" r="r" b="b"/>
                <a:pathLst>
                  <a:path w="168" h="191">
                    <a:moveTo>
                      <a:pt x="0" y="175"/>
                    </a:moveTo>
                    <a:lnTo>
                      <a:pt x="112" y="190"/>
                    </a:lnTo>
                    <a:lnTo>
                      <a:pt x="127" y="170"/>
                    </a:lnTo>
                    <a:lnTo>
                      <a:pt x="138" y="155"/>
                    </a:lnTo>
                    <a:lnTo>
                      <a:pt x="147" y="140"/>
                    </a:lnTo>
                    <a:lnTo>
                      <a:pt x="151" y="133"/>
                    </a:lnTo>
                    <a:lnTo>
                      <a:pt x="157" y="112"/>
                    </a:lnTo>
                    <a:lnTo>
                      <a:pt x="163" y="92"/>
                    </a:lnTo>
                    <a:lnTo>
                      <a:pt x="167" y="76"/>
                    </a:lnTo>
                    <a:lnTo>
                      <a:pt x="167" y="58"/>
                    </a:lnTo>
                    <a:lnTo>
                      <a:pt x="0" y="0"/>
                    </a:lnTo>
                    <a:lnTo>
                      <a:pt x="0" y="175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6118200" y="4648320"/>
            <a:ext cx="0" cy="691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917320" y="4795920"/>
            <a:ext cx="195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= 98.1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57240" y="53514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حالت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553000" y="53514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حالت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1752480" y="2803680"/>
                <a:ext cx="1519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6408720" y="2844720"/>
                <a:ext cx="1176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906480" y="2960640"/>
            <a:ext cx="676080" cy="331920"/>
          </a:xfrm>
          <a:prstGeom prst="rightArrow">
            <a:avLst>
              <a:gd name="adj1" fmla="val 50000"/>
              <a:gd name="adj2" fmla="val 101853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532480" y="2968560"/>
            <a:ext cx="676080" cy="331920"/>
          </a:xfrm>
          <a:prstGeom prst="rightArrow">
            <a:avLst>
              <a:gd name="adj1" fmla="val 50000"/>
              <a:gd name="adj2" fmla="val 101853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038400" y="1689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33560" y="495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مسئله دو جسم متصل به هم روی سطح افقی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55800" y="6172200"/>
            <a:ext cx="416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06880" y="5721480"/>
            <a:ext cx="444240" cy="4442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111640" y="5721480"/>
            <a:ext cx="444600" cy="4442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70200" y="5943600"/>
            <a:ext cx="14223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95720" y="5316480"/>
            <a:ext cx="823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26040" y="5303880"/>
            <a:ext cx="527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75320" y="5943600"/>
            <a:ext cx="9651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21040" y="554040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419440" y="554040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مفروضند مقدار 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چقدر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     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(a)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      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(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             a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737240" y="4952880"/>
            <a:ext cx="73656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38840" y="4549680"/>
            <a:ext cx="3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169040" y="5334120"/>
            <a:ext cx="8254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77120" y="4930920"/>
            <a:ext cx="3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3505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070600" y="3429000"/>
                <a:ext cx="115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033560" y="3352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3" marL="1714680" indent="-34308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با جاگذاری دررابطه :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057400" y="4514760"/>
                <a:ext cx="1722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2967120" y="286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ادامه دینامیک دو جسم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188640" indent="-188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سه جسم به جرم های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و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به وسیله طناب بدون جرم مطابق به همدیگر متصل هستند و با شتاب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حرکت می کنن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رابطه بین کشش  طناب ها چگونه است 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92160" y="4943520"/>
            <a:ext cx="7493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(b)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c)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704960" y="2827440"/>
            <a:ext cx="5307120" cy="1482480"/>
            <a:chOff x="1704960" y="2827440"/>
            <a:chExt cx="5307120" cy="1482480"/>
          </a:xfrm>
        </p:grpSpPr>
        <p:sp>
          <p:nvSpPr>
            <p:cNvPr id="725" name=""/>
            <p:cNvSpPr/>
            <p:nvPr/>
          </p:nvSpPr>
          <p:spPr>
            <a:xfrm>
              <a:off x="1704960" y="3438360"/>
              <a:ext cx="976320" cy="86688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27360" y="3701880"/>
              <a:ext cx="666720" cy="6080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24400" y="3879720"/>
              <a:ext cx="480960" cy="42228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06840" y="4059360"/>
              <a:ext cx="92700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9400" y="4059360"/>
              <a:ext cx="103968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11840" y="4059360"/>
              <a:ext cx="12002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0" y="3624120"/>
              <a:ext cx="60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29160" y="3641760"/>
              <a:ext cx="60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43680" y="3641760"/>
              <a:ext cx="60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17720" y="368928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3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95760" y="381636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46720" y="387972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49680" y="3238560"/>
              <a:ext cx="13860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57640" y="2827440"/>
              <a:ext cx="13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پاسخ 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دیاگرام جسم آزاد را بکشید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371600" y="2212920"/>
            <a:ext cx="5724360" cy="866880"/>
            <a:chOff x="1371600" y="2212920"/>
            <a:chExt cx="5724360" cy="866880"/>
          </a:xfrm>
        </p:grpSpPr>
        <p:sp>
          <p:nvSpPr>
            <p:cNvPr id="742" name=""/>
            <p:cNvSpPr/>
            <p:nvPr/>
          </p:nvSpPr>
          <p:spPr>
            <a:xfrm>
              <a:off x="5167080" y="2212920"/>
              <a:ext cx="976320" cy="86688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68960" y="2833560"/>
              <a:ext cx="92700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67320" y="2398680"/>
              <a:ext cx="606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79840" y="246384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3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71600" y="2556000"/>
              <a:ext cx="283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3m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1343160" y="3292560"/>
            <a:ext cx="6316560" cy="1346760"/>
            <a:chOff x="1343160" y="3292560"/>
            <a:chExt cx="6316560" cy="1346760"/>
          </a:xfrm>
        </p:grpSpPr>
        <p:sp>
          <p:nvSpPr>
            <p:cNvPr id="748" name=""/>
            <p:cNvSpPr/>
            <p:nvPr/>
          </p:nvSpPr>
          <p:spPr>
            <a:xfrm>
              <a:off x="5958000" y="3475080"/>
              <a:ext cx="666720" cy="6080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7120" y="3832200"/>
              <a:ext cx="92700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0040" y="3832200"/>
              <a:ext cx="103968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5480" y="3397320"/>
              <a:ext cx="606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9440" y="3414600"/>
              <a:ext cx="606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26040" y="358920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43160" y="3292560"/>
              <a:ext cx="3055680" cy="13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m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m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&gt;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333440" y="4603680"/>
            <a:ext cx="6453360" cy="1346760"/>
            <a:chOff x="1333440" y="4603680"/>
            <a:chExt cx="6453360" cy="1346760"/>
          </a:xfrm>
        </p:grpSpPr>
        <p:sp>
          <p:nvSpPr>
            <p:cNvPr id="756" name=""/>
            <p:cNvSpPr/>
            <p:nvPr/>
          </p:nvSpPr>
          <p:spPr>
            <a:xfrm>
              <a:off x="6099120" y="4871880"/>
              <a:ext cx="480960" cy="42228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64120" y="5051520"/>
              <a:ext cx="103968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86560" y="5051520"/>
              <a:ext cx="12002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03880" y="4633920"/>
              <a:ext cx="60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18400" y="4633920"/>
              <a:ext cx="60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21440" y="487188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33440" y="4603680"/>
              <a:ext cx="4329000" cy="13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&gt;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31960" y="5603760"/>
            <a:ext cx="581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387600" y="5734080"/>
            <a:ext cx="198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پاسخ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040" y="1638000"/>
            <a:ext cx="746748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راه حل دیگ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71440" y="1557360"/>
            <a:ext cx="8061120" cy="1606680"/>
            <a:chOff x="271440" y="1557360"/>
            <a:chExt cx="8061120" cy="1606680"/>
          </a:xfrm>
        </p:grpSpPr>
        <p:grpSp>
          <p:nvGrpSpPr>
            <p:cNvPr id="768" name=""/>
            <p:cNvGrpSpPr/>
            <p:nvPr/>
          </p:nvGrpSpPr>
          <p:grpSpPr>
            <a:xfrm>
              <a:off x="3975120" y="1557360"/>
              <a:ext cx="4357440" cy="1260360"/>
              <a:chOff x="3975120" y="1557360"/>
              <a:chExt cx="4357440" cy="1260360"/>
            </a:xfrm>
          </p:grpSpPr>
          <p:sp>
            <p:nvSpPr>
              <p:cNvPr id="769" name=""/>
              <p:cNvSpPr/>
              <p:nvPr/>
            </p:nvSpPr>
            <p:spPr>
              <a:xfrm>
                <a:off x="3975120" y="2074320"/>
                <a:ext cx="801360" cy="73368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553360" y="2297160"/>
                <a:ext cx="547200" cy="51444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6920" y="2447640"/>
                <a:ext cx="394920" cy="35712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2599920"/>
                <a:ext cx="7610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096960" y="2599920"/>
                <a:ext cx="8535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347240" y="2599920"/>
                <a:ext cx="98532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63320" y="2231280"/>
                <a:ext cx="49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96760" y="224748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537680" y="224748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49720" y="2285280"/>
                <a:ext cx="53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3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609520" y="2394000"/>
                <a:ext cx="53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2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64200" y="2449440"/>
                <a:ext cx="53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71720" y="1905120"/>
                <a:ext cx="113796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987880" y="1557360"/>
                <a:ext cx="114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37000" y="1774800"/>
              <a:ext cx="4098960" cy="1389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1440" y="2349360"/>
              <a:ext cx="3252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فرض کنید که 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هر سه جسم را بکش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87280" y="3132000"/>
            <a:ext cx="8045280" cy="1555920"/>
            <a:chOff x="287280" y="3132000"/>
            <a:chExt cx="8045280" cy="1555920"/>
          </a:xfrm>
        </p:grpSpPr>
        <p:grpSp>
          <p:nvGrpSpPr>
            <p:cNvPr id="786" name=""/>
            <p:cNvGrpSpPr/>
            <p:nvPr/>
          </p:nvGrpSpPr>
          <p:grpSpPr>
            <a:xfrm>
              <a:off x="3975120" y="3132000"/>
              <a:ext cx="4357440" cy="1260360"/>
              <a:chOff x="3975120" y="3132000"/>
              <a:chExt cx="4357440" cy="1260360"/>
            </a:xfrm>
          </p:grpSpPr>
          <p:sp>
            <p:nvSpPr>
              <p:cNvPr id="787" name=""/>
              <p:cNvSpPr/>
              <p:nvPr/>
            </p:nvSpPr>
            <p:spPr>
              <a:xfrm>
                <a:off x="3975120" y="3648960"/>
                <a:ext cx="801360" cy="73368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553360" y="3871800"/>
                <a:ext cx="547200" cy="51444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946920" y="4022280"/>
                <a:ext cx="394920" cy="35712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797720" y="4174560"/>
                <a:ext cx="7610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096960" y="4174560"/>
                <a:ext cx="8535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7240" y="4174560"/>
                <a:ext cx="98532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63320" y="3805920"/>
                <a:ext cx="49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96760" y="382212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537680" y="382212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149720" y="3859920"/>
                <a:ext cx="53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3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09520" y="3968640"/>
                <a:ext cx="53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2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964200" y="4024080"/>
                <a:ext cx="53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571720" y="3479760"/>
                <a:ext cx="113796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987880" y="3132000"/>
                <a:ext cx="114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3489480" y="3425760"/>
              <a:ext cx="3165480" cy="1262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280" y="3484440"/>
              <a:ext cx="28544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فقط جسم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و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را می کشد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99880" y="4516560"/>
            <a:ext cx="8032680" cy="1360440"/>
            <a:chOff x="299880" y="4516560"/>
            <a:chExt cx="8032680" cy="1360440"/>
          </a:xfrm>
        </p:grpSpPr>
        <p:grpSp>
          <p:nvGrpSpPr>
            <p:cNvPr id="804" name=""/>
            <p:cNvGrpSpPr/>
            <p:nvPr/>
          </p:nvGrpSpPr>
          <p:grpSpPr>
            <a:xfrm>
              <a:off x="3975120" y="4516560"/>
              <a:ext cx="4357440" cy="1260360"/>
              <a:chOff x="3975120" y="4516560"/>
              <a:chExt cx="4357440" cy="1260360"/>
            </a:xfrm>
          </p:grpSpPr>
          <p:sp>
            <p:nvSpPr>
              <p:cNvPr id="805" name=""/>
              <p:cNvSpPr/>
              <p:nvPr/>
            </p:nvSpPr>
            <p:spPr>
              <a:xfrm>
                <a:off x="3975120" y="5033520"/>
                <a:ext cx="801360" cy="73368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553360" y="5256360"/>
                <a:ext cx="547200" cy="51444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46920" y="5406840"/>
                <a:ext cx="394920" cy="35712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97720" y="5559120"/>
                <a:ext cx="7610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96960" y="5559120"/>
                <a:ext cx="8535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347240" y="5559120"/>
                <a:ext cx="98532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963320" y="5190480"/>
                <a:ext cx="49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296760" y="520668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537680" y="5206680"/>
                <a:ext cx="496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T</a:t>
                </a:r>
                <a:r>
                  <a:rPr b="0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149720" y="5244480"/>
                <a:ext cx="53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3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609520" y="5353200"/>
                <a:ext cx="53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2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4200" y="5408640"/>
                <a:ext cx="53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571720" y="4864320"/>
                <a:ext cx="113796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87880" y="4516560"/>
                <a:ext cx="114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3503520" y="4911840"/>
              <a:ext cx="1916280" cy="965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99880" y="5034240"/>
              <a:ext cx="28544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فقط جسم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m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را میکش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2300400" y="5838840"/>
            <a:ext cx="53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305160" y="5985000"/>
            <a:ext cx="198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33560" y="495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مسئله یک جسم چرخنده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14264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جر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روی یک مسیر دایره ای با تندی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روی یک میز افقی می چرخد.   این جسم بوسیله طنابی که از سوراخی دروسط میز به فاصله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ازآن به جسم دیگری به جرم که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آویزان است متصل است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63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کشش طناب  (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چقدر است 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63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تندی (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جسم چرخنده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987560" y="4587840"/>
            <a:ext cx="4178160" cy="1615320"/>
            <a:chOff x="1987560" y="4587840"/>
            <a:chExt cx="4178160" cy="1615320"/>
          </a:xfrm>
        </p:grpSpPr>
        <p:sp>
          <p:nvSpPr>
            <p:cNvPr id="828" name=""/>
            <p:cNvSpPr/>
            <p:nvPr/>
          </p:nvSpPr>
          <p:spPr>
            <a:xfrm>
              <a:off x="1987560" y="4654440"/>
              <a:ext cx="4178160" cy="978120"/>
            </a:xfrm>
            <a:prstGeom prst="parallelogram">
              <a:avLst>
                <a:gd name="adj" fmla="val 9965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30560" y="4883040"/>
              <a:ext cx="1892160" cy="520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54240" y="5035680"/>
              <a:ext cx="139680" cy="139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78360" y="5097600"/>
              <a:ext cx="63360" cy="63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06880" y="5095800"/>
              <a:ext cx="8017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48200" y="5130720"/>
              <a:ext cx="0" cy="782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06800" y="5925960"/>
              <a:ext cx="87480" cy="120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06160" y="49212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06160" y="58024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3182760" y="4737240"/>
              <a:ext cx="201960" cy="303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34480" y="458784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47920" y="4743360"/>
              <a:ext cx="149400" cy="111240"/>
            </a:xfrm>
            <a:custGeom>
              <a:avLst/>
              <a:gdLst/>
              <a:ahLst/>
              <a:rect l="l" t="t" r="r" b="b"/>
              <a:pathLst>
                <a:path w="94" h="70">
                  <a:moveTo>
                    <a:pt x="84" y="0"/>
                  </a:moveTo>
                  <a:lnTo>
                    <a:pt x="0" y="66"/>
                  </a:lnTo>
                  <a:lnTo>
                    <a:pt x="93" y="69"/>
                  </a:lnTo>
                  <a:lnTo>
                    <a:pt x="84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39560" y="509904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33560" y="495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حل مسئله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114264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56880" indent="-568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یاگرام جسم آزاد را برای جرم آویزان بکش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7160" indent="-45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چون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ثابت است  :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7160" indent="-45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7160" indent="-45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            :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لذ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57920" y="3228840"/>
            <a:ext cx="596880" cy="520920"/>
          </a:xfrm>
          <a:prstGeom prst="rect">
            <a:avLst/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229360" y="2600280"/>
            <a:ext cx="0" cy="6350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29360" y="3699000"/>
            <a:ext cx="0" cy="660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744440" y="32846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028480" y="397512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338800" y="2739960"/>
            <a:ext cx="33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395440" y="2763720"/>
            <a:ext cx="1206720" cy="49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987560" y="4587840"/>
            <a:ext cx="4178160" cy="1615320"/>
            <a:chOff x="1987560" y="4587840"/>
            <a:chExt cx="4178160" cy="1615320"/>
          </a:xfrm>
        </p:grpSpPr>
        <p:sp>
          <p:nvSpPr>
            <p:cNvPr id="853" name=""/>
            <p:cNvSpPr/>
            <p:nvPr/>
          </p:nvSpPr>
          <p:spPr>
            <a:xfrm>
              <a:off x="1987560" y="4654440"/>
              <a:ext cx="4178160" cy="978120"/>
            </a:xfrm>
            <a:prstGeom prst="parallelogram">
              <a:avLst>
                <a:gd name="adj" fmla="val 9965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30560" y="4883040"/>
              <a:ext cx="1892160" cy="520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54240" y="5035680"/>
              <a:ext cx="139680" cy="139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78360" y="5097600"/>
              <a:ext cx="63360" cy="63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6880" y="5095800"/>
              <a:ext cx="8017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48200" y="5130720"/>
              <a:ext cx="0" cy="782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006800" y="5925960"/>
              <a:ext cx="87480" cy="120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06160" y="49212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6160" y="58024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182760" y="4737240"/>
              <a:ext cx="201960" cy="303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34480" y="458784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7920" y="4743360"/>
              <a:ext cx="149400" cy="111240"/>
            </a:xfrm>
            <a:custGeom>
              <a:avLst/>
              <a:gdLst/>
              <a:ahLst/>
              <a:rect l="l" t="t" r="r" b="b"/>
              <a:pathLst>
                <a:path w="94" h="70">
                  <a:moveTo>
                    <a:pt x="84" y="0"/>
                  </a:moveTo>
                  <a:lnTo>
                    <a:pt x="0" y="66"/>
                  </a:lnTo>
                  <a:lnTo>
                    <a:pt x="93" y="69"/>
                  </a:lnTo>
                  <a:lnTo>
                    <a:pt x="84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39560" y="509904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49400" y="54673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33560" y="495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دامه مسئله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143000" y="1752120"/>
            <a:ext cx="2998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نمودار جسم آزاد را بکش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496200" y="2063880"/>
            <a:ext cx="596880" cy="520560"/>
          </a:xfrm>
          <a:prstGeom prst="rect">
            <a:avLst/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282720" y="213372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06760" y="1731960"/>
            <a:ext cx="1634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2286000"/>
            <a:ext cx="812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838760" y="3638520"/>
                <a:ext cx="2050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6" name=""/>
          <p:cNvSpPr/>
          <p:nvPr/>
        </p:nvSpPr>
        <p:spPr>
          <a:xfrm>
            <a:off x="3892680" y="3784680"/>
            <a:ext cx="520560" cy="368280"/>
          </a:xfrm>
          <a:prstGeom prst="rightArrow">
            <a:avLst>
              <a:gd name="adj1" fmla="val 50000"/>
              <a:gd name="adj2" fmla="val 70681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718160" y="3556080"/>
            <a:ext cx="1765080" cy="939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6769080" y="1523520"/>
            <a:ext cx="0" cy="5461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6769080" y="2590560"/>
            <a:ext cx="0" cy="54612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757120" y="2692440"/>
            <a:ext cx="1189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006600" y="15368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987560" y="4800600"/>
            <a:ext cx="4178160" cy="1615320"/>
            <a:chOff x="1987560" y="4800600"/>
            <a:chExt cx="4178160" cy="1615320"/>
          </a:xfrm>
        </p:grpSpPr>
        <p:sp>
          <p:nvSpPr>
            <p:cNvPr id="883" name=""/>
            <p:cNvSpPr/>
            <p:nvPr/>
          </p:nvSpPr>
          <p:spPr>
            <a:xfrm>
              <a:off x="1987560" y="4867200"/>
              <a:ext cx="4178160" cy="978120"/>
            </a:xfrm>
            <a:prstGeom prst="parallelogram">
              <a:avLst>
                <a:gd name="adj" fmla="val 9965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0560" y="5095800"/>
              <a:ext cx="1892160" cy="520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54240" y="5248440"/>
              <a:ext cx="139680" cy="139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78360" y="5310360"/>
              <a:ext cx="63360" cy="63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06880" y="5308560"/>
              <a:ext cx="80172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48200" y="5343480"/>
              <a:ext cx="0" cy="782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006800" y="6138720"/>
              <a:ext cx="87480" cy="120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06160" y="513396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06160" y="601524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182760" y="4950000"/>
              <a:ext cx="201960" cy="303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34480" y="48006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47920" y="4956120"/>
              <a:ext cx="149400" cy="111240"/>
            </a:xfrm>
            <a:custGeom>
              <a:avLst/>
              <a:gdLst/>
              <a:ahLst/>
              <a:rect l="l" t="t" r="r" b="b"/>
              <a:pathLst>
                <a:path w="94" h="70">
                  <a:moveTo>
                    <a:pt x="84" y="0"/>
                  </a:moveTo>
                  <a:lnTo>
                    <a:pt x="0" y="66"/>
                  </a:lnTo>
                  <a:lnTo>
                    <a:pt x="93" y="69"/>
                  </a:lnTo>
                  <a:lnTo>
                    <a:pt x="84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39560" y="531180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9400" y="568008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905120" y="2482920"/>
            <a:ext cx="3276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        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ک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752480" y="376884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887480" y="2125800"/>
            <a:ext cx="16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یادآوری نهایی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یاد آوری نیروی اصطکا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نیروها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سرعت ح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ینامیک سیستمهای چند جسم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ماشین آتو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حالت کلی دو جسم متصل به هم روی سطح شیبدا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چند مسئله جال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به متن کتاب و حل مسائل کتاب توجه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afd00"/>
                </a:solidFill>
                <a:latin typeface="Arial"/>
                <a:cs typeface="Arial"/>
              </a:rPr>
              <a:t>ادامه فصل ششم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93680" y="2814120"/>
            <a:ext cx="7134480" cy="20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دینامیک ذره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اصطکا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درس امروز ما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یاد آوری نیروی اصطکا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نیروها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سرعت ح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ینامیک سیستمهای چند جسم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ماشین آتو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حالت کلی دو جسم متصل به هم روی سطح شیبدا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چند مسئله جال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مرور نیروی اصطکاک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از اثر میکروسکپی بین دو سطح ایجاد می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ه متن کتاب درسی مراجعه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94000" y="2611440"/>
            <a:ext cx="6041880" cy="2871720"/>
            <a:chOff x="1494000" y="2611440"/>
            <a:chExt cx="6041880" cy="2871720"/>
          </a:xfrm>
        </p:grpSpPr>
        <p:sp>
          <p:nvSpPr>
            <p:cNvPr id="59" name=""/>
            <p:cNvSpPr/>
            <p:nvPr/>
          </p:nvSpPr>
          <p:spPr>
            <a:xfrm>
              <a:off x="1494000" y="4986360"/>
              <a:ext cx="14983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8400" y="4064040"/>
              <a:ext cx="901800" cy="9018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20800" y="4902120"/>
              <a:ext cx="140040" cy="1396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06560" y="4565520"/>
              <a:ext cx="1225800" cy="355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7720" y="3610080"/>
              <a:ext cx="3197160" cy="606240"/>
            </a:xfrm>
            <a:custGeom>
              <a:avLst/>
              <a:gdLst/>
              <a:ahLst/>
              <a:rect l="l" t="t" r="r" b="b"/>
              <a:pathLst>
                <a:path w="2014" h="382">
                  <a:moveTo>
                    <a:pt x="11" y="322"/>
                  </a:moveTo>
                  <a:lnTo>
                    <a:pt x="22" y="0"/>
                  </a:lnTo>
                  <a:lnTo>
                    <a:pt x="2013" y="0"/>
                  </a:lnTo>
                  <a:lnTo>
                    <a:pt x="2013" y="322"/>
                  </a:lnTo>
                  <a:lnTo>
                    <a:pt x="2002" y="293"/>
                  </a:lnTo>
                  <a:lnTo>
                    <a:pt x="1991" y="264"/>
                  </a:lnTo>
                  <a:lnTo>
                    <a:pt x="1968" y="234"/>
                  </a:lnTo>
                  <a:lnTo>
                    <a:pt x="1968" y="205"/>
                  </a:lnTo>
                  <a:lnTo>
                    <a:pt x="1946" y="234"/>
                  </a:lnTo>
                  <a:lnTo>
                    <a:pt x="1934" y="264"/>
                  </a:lnTo>
                  <a:lnTo>
                    <a:pt x="1901" y="293"/>
                  </a:lnTo>
                  <a:lnTo>
                    <a:pt x="1878" y="322"/>
                  </a:lnTo>
                  <a:lnTo>
                    <a:pt x="1844" y="303"/>
                  </a:lnTo>
                  <a:lnTo>
                    <a:pt x="1811" y="303"/>
                  </a:lnTo>
                  <a:lnTo>
                    <a:pt x="1777" y="293"/>
                  </a:lnTo>
                  <a:lnTo>
                    <a:pt x="1743" y="313"/>
                  </a:lnTo>
                  <a:lnTo>
                    <a:pt x="1721" y="254"/>
                  </a:lnTo>
                  <a:lnTo>
                    <a:pt x="1698" y="215"/>
                  </a:lnTo>
                  <a:lnTo>
                    <a:pt x="1687" y="137"/>
                  </a:lnTo>
                  <a:lnTo>
                    <a:pt x="1664" y="176"/>
                  </a:lnTo>
                  <a:lnTo>
                    <a:pt x="1653" y="205"/>
                  </a:lnTo>
                  <a:lnTo>
                    <a:pt x="1653" y="264"/>
                  </a:lnTo>
                  <a:lnTo>
                    <a:pt x="1631" y="342"/>
                  </a:lnTo>
                  <a:lnTo>
                    <a:pt x="1586" y="283"/>
                  </a:lnTo>
                  <a:lnTo>
                    <a:pt x="1563" y="244"/>
                  </a:lnTo>
                  <a:lnTo>
                    <a:pt x="1541" y="274"/>
                  </a:lnTo>
                  <a:lnTo>
                    <a:pt x="1518" y="303"/>
                  </a:lnTo>
                  <a:lnTo>
                    <a:pt x="1518" y="274"/>
                  </a:lnTo>
                  <a:lnTo>
                    <a:pt x="1507" y="332"/>
                  </a:lnTo>
                  <a:lnTo>
                    <a:pt x="1473" y="342"/>
                  </a:lnTo>
                  <a:lnTo>
                    <a:pt x="1462" y="264"/>
                  </a:lnTo>
                  <a:lnTo>
                    <a:pt x="1439" y="205"/>
                  </a:lnTo>
                  <a:lnTo>
                    <a:pt x="1428" y="264"/>
                  </a:lnTo>
                  <a:lnTo>
                    <a:pt x="1383" y="244"/>
                  </a:lnTo>
                  <a:lnTo>
                    <a:pt x="1316" y="274"/>
                  </a:lnTo>
                  <a:lnTo>
                    <a:pt x="1293" y="303"/>
                  </a:lnTo>
                  <a:lnTo>
                    <a:pt x="1260" y="274"/>
                  </a:lnTo>
                  <a:lnTo>
                    <a:pt x="1226" y="303"/>
                  </a:lnTo>
                  <a:lnTo>
                    <a:pt x="1192" y="342"/>
                  </a:lnTo>
                  <a:lnTo>
                    <a:pt x="1181" y="313"/>
                  </a:lnTo>
                  <a:lnTo>
                    <a:pt x="1158" y="244"/>
                  </a:lnTo>
                  <a:lnTo>
                    <a:pt x="1125" y="332"/>
                  </a:lnTo>
                  <a:lnTo>
                    <a:pt x="1102" y="283"/>
                  </a:lnTo>
                  <a:lnTo>
                    <a:pt x="1113" y="205"/>
                  </a:lnTo>
                  <a:lnTo>
                    <a:pt x="1080" y="293"/>
                  </a:lnTo>
                  <a:lnTo>
                    <a:pt x="1057" y="352"/>
                  </a:lnTo>
                  <a:lnTo>
                    <a:pt x="1046" y="283"/>
                  </a:lnTo>
                  <a:lnTo>
                    <a:pt x="1001" y="313"/>
                  </a:lnTo>
                  <a:lnTo>
                    <a:pt x="1001" y="215"/>
                  </a:lnTo>
                  <a:lnTo>
                    <a:pt x="922" y="274"/>
                  </a:lnTo>
                  <a:lnTo>
                    <a:pt x="911" y="176"/>
                  </a:lnTo>
                  <a:lnTo>
                    <a:pt x="821" y="215"/>
                  </a:lnTo>
                  <a:lnTo>
                    <a:pt x="798" y="156"/>
                  </a:lnTo>
                  <a:lnTo>
                    <a:pt x="720" y="225"/>
                  </a:lnTo>
                  <a:lnTo>
                    <a:pt x="686" y="244"/>
                  </a:lnTo>
                  <a:lnTo>
                    <a:pt x="664" y="322"/>
                  </a:lnTo>
                  <a:lnTo>
                    <a:pt x="596" y="381"/>
                  </a:lnTo>
                  <a:lnTo>
                    <a:pt x="585" y="352"/>
                  </a:lnTo>
                  <a:lnTo>
                    <a:pt x="585" y="234"/>
                  </a:lnTo>
                  <a:lnTo>
                    <a:pt x="574" y="293"/>
                  </a:lnTo>
                  <a:lnTo>
                    <a:pt x="506" y="371"/>
                  </a:lnTo>
                  <a:lnTo>
                    <a:pt x="506" y="313"/>
                  </a:lnTo>
                  <a:lnTo>
                    <a:pt x="506" y="234"/>
                  </a:lnTo>
                  <a:lnTo>
                    <a:pt x="495" y="293"/>
                  </a:lnTo>
                  <a:lnTo>
                    <a:pt x="472" y="352"/>
                  </a:lnTo>
                  <a:lnTo>
                    <a:pt x="472" y="283"/>
                  </a:lnTo>
                  <a:lnTo>
                    <a:pt x="461" y="254"/>
                  </a:lnTo>
                  <a:lnTo>
                    <a:pt x="427" y="293"/>
                  </a:lnTo>
                  <a:lnTo>
                    <a:pt x="427" y="195"/>
                  </a:lnTo>
                  <a:lnTo>
                    <a:pt x="394" y="264"/>
                  </a:lnTo>
                  <a:lnTo>
                    <a:pt x="371" y="322"/>
                  </a:lnTo>
                  <a:lnTo>
                    <a:pt x="371" y="293"/>
                  </a:lnTo>
                  <a:lnTo>
                    <a:pt x="337" y="371"/>
                  </a:lnTo>
                  <a:lnTo>
                    <a:pt x="337" y="293"/>
                  </a:lnTo>
                  <a:lnTo>
                    <a:pt x="349" y="234"/>
                  </a:lnTo>
                  <a:lnTo>
                    <a:pt x="315" y="303"/>
                  </a:lnTo>
                  <a:lnTo>
                    <a:pt x="326" y="225"/>
                  </a:lnTo>
                  <a:lnTo>
                    <a:pt x="292" y="283"/>
                  </a:lnTo>
                  <a:lnTo>
                    <a:pt x="292" y="234"/>
                  </a:lnTo>
                  <a:lnTo>
                    <a:pt x="292" y="176"/>
                  </a:lnTo>
                  <a:lnTo>
                    <a:pt x="270" y="225"/>
                  </a:lnTo>
                  <a:lnTo>
                    <a:pt x="247" y="254"/>
                  </a:lnTo>
                  <a:lnTo>
                    <a:pt x="202" y="274"/>
                  </a:lnTo>
                  <a:lnTo>
                    <a:pt x="169" y="274"/>
                  </a:lnTo>
                  <a:lnTo>
                    <a:pt x="157" y="244"/>
                  </a:lnTo>
                  <a:lnTo>
                    <a:pt x="135" y="283"/>
                  </a:lnTo>
                  <a:lnTo>
                    <a:pt x="101" y="293"/>
                  </a:lnTo>
                  <a:lnTo>
                    <a:pt x="67" y="313"/>
                  </a:lnTo>
                  <a:lnTo>
                    <a:pt x="34" y="332"/>
                  </a:lnTo>
                  <a:lnTo>
                    <a:pt x="0" y="322"/>
                  </a:lnTo>
                </a:path>
              </a:pathLst>
            </a:custGeom>
            <a:solidFill>
              <a:srgbClr val="fc0000"/>
            </a:solidFill>
            <a:ln cap="rnd" w="12600">
              <a:solidFill>
                <a:srgbClr val="f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67080" y="3971880"/>
              <a:ext cx="3197520" cy="520920"/>
            </a:xfrm>
            <a:custGeom>
              <a:avLst/>
              <a:gdLst/>
              <a:ahLst/>
              <a:rect l="l" t="t" r="r" b="b"/>
              <a:pathLst>
                <a:path w="2014" h="328">
                  <a:moveTo>
                    <a:pt x="0" y="106"/>
                  </a:moveTo>
                  <a:lnTo>
                    <a:pt x="10" y="327"/>
                  </a:lnTo>
                  <a:lnTo>
                    <a:pt x="2013" y="327"/>
                  </a:lnTo>
                  <a:lnTo>
                    <a:pt x="2013" y="97"/>
                  </a:lnTo>
                  <a:lnTo>
                    <a:pt x="1982" y="97"/>
                  </a:lnTo>
                  <a:lnTo>
                    <a:pt x="1971" y="124"/>
                  </a:lnTo>
                  <a:lnTo>
                    <a:pt x="1940" y="141"/>
                  </a:lnTo>
                  <a:lnTo>
                    <a:pt x="1930" y="115"/>
                  </a:lnTo>
                  <a:lnTo>
                    <a:pt x="1909" y="141"/>
                  </a:lnTo>
                  <a:lnTo>
                    <a:pt x="1878" y="177"/>
                  </a:lnTo>
                  <a:lnTo>
                    <a:pt x="1847" y="186"/>
                  </a:lnTo>
                  <a:lnTo>
                    <a:pt x="1826" y="212"/>
                  </a:lnTo>
                  <a:lnTo>
                    <a:pt x="1816" y="150"/>
                  </a:lnTo>
                  <a:lnTo>
                    <a:pt x="1805" y="97"/>
                  </a:lnTo>
                  <a:lnTo>
                    <a:pt x="1774" y="133"/>
                  </a:lnTo>
                  <a:lnTo>
                    <a:pt x="1754" y="97"/>
                  </a:lnTo>
                  <a:lnTo>
                    <a:pt x="1712" y="124"/>
                  </a:lnTo>
                  <a:lnTo>
                    <a:pt x="1681" y="133"/>
                  </a:lnTo>
                  <a:lnTo>
                    <a:pt x="1650" y="124"/>
                  </a:lnTo>
                  <a:lnTo>
                    <a:pt x="1619" y="133"/>
                  </a:lnTo>
                  <a:lnTo>
                    <a:pt x="1577" y="159"/>
                  </a:lnTo>
                  <a:lnTo>
                    <a:pt x="1546" y="168"/>
                  </a:lnTo>
                  <a:lnTo>
                    <a:pt x="1536" y="106"/>
                  </a:lnTo>
                  <a:lnTo>
                    <a:pt x="1505" y="168"/>
                  </a:lnTo>
                  <a:lnTo>
                    <a:pt x="1473" y="194"/>
                  </a:lnTo>
                  <a:lnTo>
                    <a:pt x="1453" y="106"/>
                  </a:lnTo>
                  <a:lnTo>
                    <a:pt x="1422" y="124"/>
                  </a:lnTo>
                  <a:lnTo>
                    <a:pt x="1390" y="141"/>
                  </a:lnTo>
                  <a:lnTo>
                    <a:pt x="1370" y="115"/>
                  </a:lnTo>
                  <a:lnTo>
                    <a:pt x="1349" y="141"/>
                  </a:lnTo>
                  <a:lnTo>
                    <a:pt x="1318" y="133"/>
                  </a:lnTo>
                  <a:lnTo>
                    <a:pt x="1287" y="150"/>
                  </a:lnTo>
                  <a:lnTo>
                    <a:pt x="1256" y="168"/>
                  </a:lnTo>
                  <a:lnTo>
                    <a:pt x="1245" y="133"/>
                  </a:lnTo>
                  <a:lnTo>
                    <a:pt x="1204" y="159"/>
                  </a:lnTo>
                  <a:lnTo>
                    <a:pt x="1193" y="133"/>
                  </a:lnTo>
                  <a:lnTo>
                    <a:pt x="1162" y="159"/>
                  </a:lnTo>
                  <a:lnTo>
                    <a:pt x="1152" y="124"/>
                  </a:lnTo>
                  <a:lnTo>
                    <a:pt x="1121" y="124"/>
                  </a:lnTo>
                  <a:lnTo>
                    <a:pt x="1090" y="71"/>
                  </a:lnTo>
                  <a:lnTo>
                    <a:pt x="1079" y="97"/>
                  </a:lnTo>
                  <a:lnTo>
                    <a:pt x="1048" y="71"/>
                  </a:lnTo>
                  <a:lnTo>
                    <a:pt x="1027" y="97"/>
                  </a:lnTo>
                  <a:lnTo>
                    <a:pt x="996" y="106"/>
                  </a:lnTo>
                  <a:lnTo>
                    <a:pt x="996" y="53"/>
                  </a:lnTo>
                  <a:lnTo>
                    <a:pt x="996" y="0"/>
                  </a:lnTo>
                  <a:lnTo>
                    <a:pt x="986" y="44"/>
                  </a:lnTo>
                  <a:lnTo>
                    <a:pt x="923" y="97"/>
                  </a:lnTo>
                  <a:lnTo>
                    <a:pt x="903" y="124"/>
                  </a:lnTo>
                  <a:lnTo>
                    <a:pt x="872" y="177"/>
                  </a:lnTo>
                  <a:lnTo>
                    <a:pt x="861" y="230"/>
                  </a:lnTo>
                  <a:lnTo>
                    <a:pt x="830" y="256"/>
                  </a:lnTo>
                  <a:lnTo>
                    <a:pt x="820" y="194"/>
                  </a:lnTo>
                  <a:lnTo>
                    <a:pt x="809" y="88"/>
                  </a:lnTo>
                  <a:lnTo>
                    <a:pt x="809" y="124"/>
                  </a:lnTo>
                  <a:lnTo>
                    <a:pt x="789" y="159"/>
                  </a:lnTo>
                  <a:lnTo>
                    <a:pt x="789" y="106"/>
                  </a:lnTo>
                  <a:lnTo>
                    <a:pt x="747" y="115"/>
                  </a:lnTo>
                  <a:lnTo>
                    <a:pt x="737" y="141"/>
                  </a:lnTo>
                  <a:lnTo>
                    <a:pt x="716" y="194"/>
                  </a:lnTo>
                  <a:lnTo>
                    <a:pt x="685" y="177"/>
                  </a:lnTo>
                  <a:lnTo>
                    <a:pt x="664" y="203"/>
                  </a:lnTo>
                  <a:lnTo>
                    <a:pt x="602" y="256"/>
                  </a:lnTo>
                  <a:lnTo>
                    <a:pt x="581" y="203"/>
                  </a:lnTo>
                  <a:lnTo>
                    <a:pt x="560" y="168"/>
                  </a:lnTo>
                  <a:lnTo>
                    <a:pt x="529" y="168"/>
                  </a:lnTo>
                  <a:lnTo>
                    <a:pt x="508" y="115"/>
                  </a:lnTo>
                  <a:lnTo>
                    <a:pt x="477" y="133"/>
                  </a:lnTo>
                  <a:lnTo>
                    <a:pt x="436" y="141"/>
                  </a:lnTo>
                  <a:lnTo>
                    <a:pt x="394" y="168"/>
                  </a:lnTo>
                  <a:lnTo>
                    <a:pt x="384" y="141"/>
                  </a:lnTo>
                  <a:lnTo>
                    <a:pt x="363" y="168"/>
                  </a:lnTo>
                  <a:lnTo>
                    <a:pt x="353" y="141"/>
                  </a:lnTo>
                  <a:lnTo>
                    <a:pt x="322" y="159"/>
                  </a:lnTo>
                  <a:lnTo>
                    <a:pt x="291" y="150"/>
                  </a:lnTo>
                  <a:lnTo>
                    <a:pt x="259" y="141"/>
                  </a:lnTo>
                  <a:lnTo>
                    <a:pt x="249" y="115"/>
                  </a:lnTo>
                  <a:lnTo>
                    <a:pt x="218" y="133"/>
                  </a:lnTo>
                  <a:lnTo>
                    <a:pt x="208" y="106"/>
                  </a:lnTo>
                  <a:lnTo>
                    <a:pt x="208" y="80"/>
                  </a:lnTo>
                  <a:lnTo>
                    <a:pt x="176" y="106"/>
                  </a:lnTo>
                  <a:lnTo>
                    <a:pt x="145" y="106"/>
                  </a:lnTo>
                  <a:lnTo>
                    <a:pt x="125" y="141"/>
                  </a:lnTo>
                  <a:lnTo>
                    <a:pt x="104" y="115"/>
                  </a:lnTo>
                  <a:lnTo>
                    <a:pt x="73" y="133"/>
                  </a:lnTo>
                  <a:lnTo>
                    <a:pt x="52" y="106"/>
                  </a:lnTo>
                  <a:lnTo>
                    <a:pt x="42" y="133"/>
                  </a:lnTo>
                  <a:lnTo>
                    <a:pt x="10" y="13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29280" y="3666960"/>
              <a:ext cx="68040" cy="463680"/>
            </a:xfrm>
            <a:custGeom>
              <a:avLst/>
              <a:gdLst/>
              <a:ahLst/>
              <a:rect l="l" t="t" r="r" b="b"/>
              <a:pathLst>
                <a:path w="43" h="292">
                  <a:moveTo>
                    <a:pt x="42" y="0"/>
                  </a:moveTo>
                  <a:lnTo>
                    <a:pt x="31" y="0"/>
                  </a:lnTo>
                  <a:lnTo>
                    <a:pt x="27" y="9"/>
                  </a:lnTo>
                  <a:lnTo>
                    <a:pt x="27" y="17"/>
                  </a:lnTo>
                  <a:lnTo>
                    <a:pt x="26" y="26"/>
                  </a:lnTo>
                  <a:lnTo>
                    <a:pt x="24" y="35"/>
                  </a:lnTo>
                  <a:lnTo>
                    <a:pt x="20" y="43"/>
                  </a:lnTo>
                  <a:lnTo>
                    <a:pt x="18" y="52"/>
                  </a:lnTo>
                  <a:lnTo>
                    <a:pt x="16" y="61"/>
                  </a:lnTo>
                  <a:lnTo>
                    <a:pt x="16" y="69"/>
                  </a:lnTo>
                  <a:lnTo>
                    <a:pt x="15" y="78"/>
                  </a:lnTo>
                  <a:lnTo>
                    <a:pt x="15" y="86"/>
                  </a:lnTo>
                  <a:lnTo>
                    <a:pt x="13" y="95"/>
                  </a:lnTo>
                  <a:lnTo>
                    <a:pt x="11" y="104"/>
                  </a:lnTo>
                  <a:lnTo>
                    <a:pt x="11" y="112"/>
                  </a:lnTo>
                  <a:lnTo>
                    <a:pt x="9" y="121"/>
                  </a:lnTo>
                  <a:lnTo>
                    <a:pt x="9" y="130"/>
                  </a:lnTo>
                  <a:lnTo>
                    <a:pt x="7" y="138"/>
                  </a:lnTo>
                  <a:lnTo>
                    <a:pt x="5" y="147"/>
                  </a:lnTo>
                  <a:lnTo>
                    <a:pt x="5" y="156"/>
                  </a:lnTo>
                  <a:lnTo>
                    <a:pt x="5" y="164"/>
                  </a:lnTo>
                  <a:lnTo>
                    <a:pt x="5" y="173"/>
                  </a:lnTo>
                  <a:lnTo>
                    <a:pt x="5" y="182"/>
                  </a:lnTo>
                  <a:lnTo>
                    <a:pt x="5" y="190"/>
                  </a:lnTo>
                  <a:lnTo>
                    <a:pt x="5" y="199"/>
                  </a:lnTo>
                  <a:lnTo>
                    <a:pt x="4" y="207"/>
                  </a:lnTo>
                  <a:lnTo>
                    <a:pt x="4" y="216"/>
                  </a:lnTo>
                  <a:lnTo>
                    <a:pt x="4" y="225"/>
                  </a:lnTo>
                  <a:lnTo>
                    <a:pt x="4" y="233"/>
                  </a:lnTo>
                  <a:lnTo>
                    <a:pt x="4" y="242"/>
                  </a:lnTo>
                  <a:lnTo>
                    <a:pt x="2" y="251"/>
                  </a:lnTo>
                  <a:lnTo>
                    <a:pt x="2" y="259"/>
                  </a:lnTo>
                  <a:lnTo>
                    <a:pt x="0" y="268"/>
                  </a:lnTo>
                  <a:lnTo>
                    <a:pt x="0" y="277"/>
                  </a:lnTo>
                  <a:lnTo>
                    <a:pt x="4" y="285"/>
                  </a:lnTo>
                  <a:lnTo>
                    <a:pt x="9" y="288"/>
                  </a:lnTo>
                  <a:lnTo>
                    <a:pt x="15" y="288"/>
                  </a:lnTo>
                  <a:lnTo>
                    <a:pt x="20" y="285"/>
                  </a:lnTo>
                  <a:lnTo>
                    <a:pt x="26" y="288"/>
                  </a:lnTo>
                  <a:lnTo>
                    <a:pt x="31" y="291"/>
                  </a:lnTo>
                </a:path>
              </a:pathLst>
            </a:custGeom>
            <a:solidFill>
              <a:srgbClr val="fc0000"/>
            </a:solidFill>
            <a:ln cap="rnd" w="12600">
              <a:solidFill>
                <a:srgbClr val="f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0200" y="4172040"/>
              <a:ext cx="87120" cy="320760"/>
            </a:xfrm>
            <a:custGeom>
              <a:avLst/>
              <a:gdLst/>
              <a:ahLst/>
              <a:rect l="l" t="t" r="r" b="b"/>
              <a:pathLst>
                <a:path w="55" h="202">
                  <a:moveTo>
                    <a:pt x="41" y="3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15"/>
                  </a:lnTo>
                  <a:lnTo>
                    <a:pt x="5" y="24"/>
                  </a:lnTo>
                  <a:lnTo>
                    <a:pt x="8" y="33"/>
                  </a:lnTo>
                  <a:lnTo>
                    <a:pt x="8" y="42"/>
                  </a:lnTo>
                  <a:lnTo>
                    <a:pt x="11" y="51"/>
                  </a:lnTo>
                  <a:lnTo>
                    <a:pt x="11" y="60"/>
                  </a:lnTo>
                  <a:lnTo>
                    <a:pt x="11" y="69"/>
                  </a:lnTo>
                  <a:lnTo>
                    <a:pt x="11" y="78"/>
                  </a:lnTo>
                  <a:lnTo>
                    <a:pt x="11" y="87"/>
                  </a:lnTo>
                  <a:lnTo>
                    <a:pt x="14" y="96"/>
                  </a:lnTo>
                  <a:lnTo>
                    <a:pt x="19" y="105"/>
                  </a:lnTo>
                  <a:lnTo>
                    <a:pt x="22" y="114"/>
                  </a:lnTo>
                  <a:lnTo>
                    <a:pt x="22" y="123"/>
                  </a:lnTo>
                  <a:lnTo>
                    <a:pt x="22" y="132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7" y="159"/>
                  </a:lnTo>
                  <a:lnTo>
                    <a:pt x="30" y="168"/>
                  </a:lnTo>
                  <a:lnTo>
                    <a:pt x="38" y="174"/>
                  </a:lnTo>
                  <a:lnTo>
                    <a:pt x="41" y="183"/>
                  </a:lnTo>
                  <a:lnTo>
                    <a:pt x="46" y="192"/>
                  </a:lnTo>
                  <a:lnTo>
                    <a:pt x="54" y="201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58120" y="3662280"/>
              <a:ext cx="77760" cy="463680"/>
            </a:xfrm>
            <a:custGeom>
              <a:avLst/>
              <a:gdLst/>
              <a:ahLst/>
              <a:rect l="l" t="t" r="r" b="b"/>
              <a:pathLst>
                <a:path w="49" h="292">
                  <a:moveTo>
                    <a:pt x="0" y="0"/>
                  </a:moveTo>
                  <a:lnTo>
                    <a:pt x="9" y="6"/>
                  </a:lnTo>
                  <a:lnTo>
                    <a:pt x="9" y="15"/>
                  </a:lnTo>
                  <a:lnTo>
                    <a:pt x="12" y="24"/>
                  </a:lnTo>
                  <a:lnTo>
                    <a:pt x="12" y="33"/>
                  </a:lnTo>
                  <a:lnTo>
                    <a:pt x="21" y="42"/>
                  </a:lnTo>
                  <a:lnTo>
                    <a:pt x="24" y="51"/>
                  </a:lnTo>
                  <a:lnTo>
                    <a:pt x="24" y="60"/>
                  </a:lnTo>
                  <a:lnTo>
                    <a:pt x="27" y="69"/>
                  </a:lnTo>
                  <a:lnTo>
                    <a:pt x="30" y="78"/>
                  </a:lnTo>
                  <a:lnTo>
                    <a:pt x="30" y="87"/>
                  </a:lnTo>
                  <a:lnTo>
                    <a:pt x="33" y="96"/>
                  </a:lnTo>
                  <a:lnTo>
                    <a:pt x="36" y="105"/>
                  </a:lnTo>
                  <a:lnTo>
                    <a:pt x="36" y="114"/>
                  </a:lnTo>
                  <a:lnTo>
                    <a:pt x="39" y="123"/>
                  </a:lnTo>
                  <a:lnTo>
                    <a:pt x="39" y="132"/>
                  </a:lnTo>
                  <a:lnTo>
                    <a:pt x="42" y="141"/>
                  </a:lnTo>
                  <a:lnTo>
                    <a:pt x="45" y="150"/>
                  </a:lnTo>
                  <a:lnTo>
                    <a:pt x="45" y="159"/>
                  </a:lnTo>
                  <a:lnTo>
                    <a:pt x="45" y="168"/>
                  </a:lnTo>
                  <a:lnTo>
                    <a:pt x="45" y="177"/>
                  </a:lnTo>
                  <a:lnTo>
                    <a:pt x="45" y="186"/>
                  </a:lnTo>
                  <a:lnTo>
                    <a:pt x="45" y="195"/>
                  </a:lnTo>
                  <a:lnTo>
                    <a:pt x="45" y="204"/>
                  </a:lnTo>
                  <a:lnTo>
                    <a:pt x="48" y="213"/>
                  </a:lnTo>
                  <a:lnTo>
                    <a:pt x="48" y="222"/>
                  </a:lnTo>
                  <a:lnTo>
                    <a:pt x="48" y="231"/>
                  </a:lnTo>
                  <a:lnTo>
                    <a:pt x="48" y="240"/>
                  </a:lnTo>
                  <a:lnTo>
                    <a:pt x="48" y="249"/>
                  </a:lnTo>
                  <a:lnTo>
                    <a:pt x="48" y="258"/>
                  </a:lnTo>
                  <a:lnTo>
                    <a:pt x="48" y="267"/>
                  </a:lnTo>
                  <a:lnTo>
                    <a:pt x="45" y="276"/>
                  </a:lnTo>
                  <a:lnTo>
                    <a:pt x="45" y="285"/>
                  </a:lnTo>
                  <a:lnTo>
                    <a:pt x="36" y="291"/>
                  </a:lnTo>
                  <a:lnTo>
                    <a:pt x="27" y="285"/>
                  </a:lnTo>
                  <a:lnTo>
                    <a:pt x="18" y="291"/>
                  </a:lnTo>
                  <a:lnTo>
                    <a:pt x="9" y="291"/>
                  </a:lnTo>
                  <a:lnTo>
                    <a:pt x="0" y="291"/>
                  </a:lnTo>
                </a:path>
              </a:pathLst>
            </a:custGeom>
            <a:solidFill>
              <a:srgbClr val="fc0000"/>
            </a:solidFill>
            <a:ln cap="rnd" w="12600">
              <a:solidFill>
                <a:srgbClr val="f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53440" y="4124160"/>
              <a:ext cx="72720" cy="358920"/>
            </a:xfrm>
            <a:custGeom>
              <a:avLst/>
              <a:gdLst/>
              <a:ahLst/>
              <a:rect l="l" t="t" r="r" b="b"/>
              <a:pathLst>
                <a:path w="46" h="226">
                  <a:moveTo>
                    <a:pt x="3" y="0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2" y="18"/>
                  </a:lnTo>
                  <a:lnTo>
                    <a:pt x="45" y="27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42" y="54"/>
                  </a:lnTo>
                  <a:lnTo>
                    <a:pt x="40" y="63"/>
                  </a:lnTo>
                  <a:lnTo>
                    <a:pt x="37" y="72"/>
                  </a:lnTo>
                  <a:lnTo>
                    <a:pt x="34" y="81"/>
                  </a:lnTo>
                  <a:lnTo>
                    <a:pt x="32" y="90"/>
                  </a:lnTo>
                  <a:lnTo>
                    <a:pt x="32" y="99"/>
                  </a:lnTo>
                  <a:lnTo>
                    <a:pt x="32" y="108"/>
                  </a:lnTo>
                  <a:lnTo>
                    <a:pt x="32" y="117"/>
                  </a:lnTo>
                  <a:lnTo>
                    <a:pt x="29" y="126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6" y="153"/>
                  </a:lnTo>
                  <a:lnTo>
                    <a:pt x="24" y="162"/>
                  </a:lnTo>
                  <a:lnTo>
                    <a:pt x="21" y="171"/>
                  </a:lnTo>
                  <a:lnTo>
                    <a:pt x="19" y="180"/>
                  </a:lnTo>
                  <a:lnTo>
                    <a:pt x="16" y="189"/>
                  </a:lnTo>
                  <a:lnTo>
                    <a:pt x="13" y="198"/>
                  </a:lnTo>
                  <a:lnTo>
                    <a:pt x="8" y="207"/>
                  </a:lnTo>
                  <a:lnTo>
                    <a:pt x="5" y="216"/>
                  </a:lnTo>
                  <a:lnTo>
                    <a:pt x="0" y="225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57720" y="2619360"/>
              <a:ext cx="3173400" cy="1020600"/>
            </a:xfrm>
            <a:custGeom>
              <a:avLst/>
              <a:gdLst/>
              <a:ahLst/>
              <a:rect l="l" t="t" r="r" b="b"/>
              <a:pathLst>
                <a:path w="1999" h="643">
                  <a:moveTo>
                    <a:pt x="0" y="642"/>
                  </a:moveTo>
                  <a:lnTo>
                    <a:pt x="9" y="636"/>
                  </a:lnTo>
                  <a:lnTo>
                    <a:pt x="9" y="627"/>
                  </a:lnTo>
                  <a:lnTo>
                    <a:pt x="12" y="619"/>
                  </a:lnTo>
                  <a:lnTo>
                    <a:pt x="15" y="610"/>
                  </a:lnTo>
                  <a:lnTo>
                    <a:pt x="21" y="601"/>
                  </a:lnTo>
                  <a:lnTo>
                    <a:pt x="24" y="592"/>
                  </a:lnTo>
                  <a:lnTo>
                    <a:pt x="30" y="583"/>
                  </a:lnTo>
                  <a:lnTo>
                    <a:pt x="36" y="575"/>
                  </a:lnTo>
                  <a:lnTo>
                    <a:pt x="39" y="566"/>
                  </a:lnTo>
                  <a:lnTo>
                    <a:pt x="39" y="557"/>
                  </a:lnTo>
                  <a:lnTo>
                    <a:pt x="45" y="548"/>
                  </a:lnTo>
                  <a:lnTo>
                    <a:pt x="48" y="539"/>
                  </a:lnTo>
                  <a:lnTo>
                    <a:pt x="54" y="531"/>
                  </a:lnTo>
                  <a:lnTo>
                    <a:pt x="60" y="522"/>
                  </a:lnTo>
                  <a:lnTo>
                    <a:pt x="66" y="513"/>
                  </a:lnTo>
                  <a:lnTo>
                    <a:pt x="72" y="504"/>
                  </a:lnTo>
                  <a:lnTo>
                    <a:pt x="75" y="495"/>
                  </a:lnTo>
                  <a:lnTo>
                    <a:pt x="81" y="487"/>
                  </a:lnTo>
                  <a:lnTo>
                    <a:pt x="90" y="475"/>
                  </a:lnTo>
                  <a:lnTo>
                    <a:pt x="96" y="466"/>
                  </a:lnTo>
                  <a:lnTo>
                    <a:pt x="102" y="457"/>
                  </a:lnTo>
                  <a:lnTo>
                    <a:pt x="108" y="449"/>
                  </a:lnTo>
                  <a:lnTo>
                    <a:pt x="114" y="440"/>
                  </a:lnTo>
                  <a:lnTo>
                    <a:pt x="123" y="434"/>
                  </a:lnTo>
                  <a:lnTo>
                    <a:pt x="129" y="425"/>
                  </a:lnTo>
                  <a:lnTo>
                    <a:pt x="132" y="416"/>
                  </a:lnTo>
                  <a:lnTo>
                    <a:pt x="138" y="407"/>
                  </a:lnTo>
                  <a:lnTo>
                    <a:pt x="144" y="399"/>
                  </a:lnTo>
                  <a:lnTo>
                    <a:pt x="153" y="393"/>
                  </a:lnTo>
                  <a:lnTo>
                    <a:pt x="156" y="384"/>
                  </a:lnTo>
                  <a:lnTo>
                    <a:pt x="162" y="375"/>
                  </a:lnTo>
                  <a:lnTo>
                    <a:pt x="171" y="369"/>
                  </a:lnTo>
                  <a:lnTo>
                    <a:pt x="177" y="361"/>
                  </a:lnTo>
                  <a:lnTo>
                    <a:pt x="186" y="355"/>
                  </a:lnTo>
                  <a:lnTo>
                    <a:pt x="192" y="346"/>
                  </a:lnTo>
                  <a:lnTo>
                    <a:pt x="201" y="337"/>
                  </a:lnTo>
                  <a:lnTo>
                    <a:pt x="210" y="331"/>
                  </a:lnTo>
                  <a:lnTo>
                    <a:pt x="219" y="322"/>
                  </a:lnTo>
                  <a:lnTo>
                    <a:pt x="228" y="317"/>
                  </a:lnTo>
                  <a:lnTo>
                    <a:pt x="237" y="311"/>
                  </a:lnTo>
                  <a:lnTo>
                    <a:pt x="240" y="302"/>
                  </a:lnTo>
                  <a:lnTo>
                    <a:pt x="249" y="293"/>
                  </a:lnTo>
                  <a:lnTo>
                    <a:pt x="252" y="284"/>
                  </a:lnTo>
                  <a:lnTo>
                    <a:pt x="255" y="276"/>
                  </a:lnTo>
                  <a:lnTo>
                    <a:pt x="264" y="273"/>
                  </a:lnTo>
                  <a:lnTo>
                    <a:pt x="270" y="264"/>
                  </a:lnTo>
                  <a:lnTo>
                    <a:pt x="279" y="261"/>
                  </a:lnTo>
                  <a:lnTo>
                    <a:pt x="288" y="255"/>
                  </a:lnTo>
                  <a:lnTo>
                    <a:pt x="297" y="249"/>
                  </a:lnTo>
                  <a:lnTo>
                    <a:pt x="303" y="240"/>
                  </a:lnTo>
                  <a:lnTo>
                    <a:pt x="312" y="237"/>
                  </a:lnTo>
                  <a:lnTo>
                    <a:pt x="321" y="232"/>
                  </a:lnTo>
                  <a:lnTo>
                    <a:pt x="330" y="229"/>
                  </a:lnTo>
                  <a:lnTo>
                    <a:pt x="338" y="223"/>
                  </a:lnTo>
                  <a:lnTo>
                    <a:pt x="347" y="217"/>
                  </a:lnTo>
                  <a:lnTo>
                    <a:pt x="356" y="211"/>
                  </a:lnTo>
                  <a:lnTo>
                    <a:pt x="365" y="202"/>
                  </a:lnTo>
                  <a:lnTo>
                    <a:pt x="371" y="193"/>
                  </a:lnTo>
                  <a:lnTo>
                    <a:pt x="380" y="188"/>
                  </a:lnTo>
                  <a:lnTo>
                    <a:pt x="389" y="182"/>
                  </a:lnTo>
                  <a:lnTo>
                    <a:pt x="398" y="179"/>
                  </a:lnTo>
                  <a:lnTo>
                    <a:pt x="407" y="173"/>
                  </a:lnTo>
                  <a:lnTo>
                    <a:pt x="416" y="167"/>
                  </a:lnTo>
                  <a:lnTo>
                    <a:pt x="425" y="161"/>
                  </a:lnTo>
                  <a:lnTo>
                    <a:pt x="431" y="152"/>
                  </a:lnTo>
                  <a:lnTo>
                    <a:pt x="440" y="150"/>
                  </a:lnTo>
                  <a:lnTo>
                    <a:pt x="449" y="144"/>
                  </a:lnTo>
                  <a:lnTo>
                    <a:pt x="455" y="135"/>
                  </a:lnTo>
                  <a:lnTo>
                    <a:pt x="464" y="135"/>
                  </a:lnTo>
                  <a:lnTo>
                    <a:pt x="473" y="129"/>
                  </a:lnTo>
                  <a:lnTo>
                    <a:pt x="482" y="123"/>
                  </a:lnTo>
                  <a:lnTo>
                    <a:pt x="491" y="120"/>
                  </a:lnTo>
                  <a:lnTo>
                    <a:pt x="500" y="117"/>
                  </a:lnTo>
                  <a:lnTo>
                    <a:pt x="509" y="111"/>
                  </a:lnTo>
                  <a:lnTo>
                    <a:pt x="518" y="108"/>
                  </a:lnTo>
                  <a:lnTo>
                    <a:pt x="527" y="103"/>
                  </a:lnTo>
                  <a:lnTo>
                    <a:pt x="536" y="100"/>
                  </a:lnTo>
                  <a:lnTo>
                    <a:pt x="545" y="97"/>
                  </a:lnTo>
                  <a:lnTo>
                    <a:pt x="554" y="94"/>
                  </a:lnTo>
                  <a:lnTo>
                    <a:pt x="563" y="91"/>
                  </a:lnTo>
                  <a:lnTo>
                    <a:pt x="572" y="88"/>
                  </a:lnTo>
                  <a:lnTo>
                    <a:pt x="581" y="88"/>
                  </a:lnTo>
                  <a:lnTo>
                    <a:pt x="590" y="82"/>
                  </a:lnTo>
                  <a:lnTo>
                    <a:pt x="599" y="76"/>
                  </a:lnTo>
                  <a:lnTo>
                    <a:pt x="608" y="73"/>
                  </a:lnTo>
                  <a:lnTo>
                    <a:pt x="617" y="67"/>
                  </a:lnTo>
                  <a:lnTo>
                    <a:pt x="626" y="64"/>
                  </a:lnTo>
                  <a:lnTo>
                    <a:pt x="635" y="62"/>
                  </a:lnTo>
                  <a:lnTo>
                    <a:pt x="644" y="62"/>
                  </a:lnTo>
                  <a:lnTo>
                    <a:pt x="656" y="56"/>
                  </a:lnTo>
                  <a:lnTo>
                    <a:pt x="665" y="53"/>
                  </a:lnTo>
                  <a:lnTo>
                    <a:pt x="674" y="50"/>
                  </a:lnTo>
                  <a:lnTo>
                    <a:pt x="683" y="47"/>
                  </a:lnTo>
                  <a:lnTo>
                    <a:pt x="692" y="47"/>
                  </a:lnTo>
                  <a:lnTo>
                    <a:pt x="716" y="44"/>
                  </a:lnTo>
                  <a:lnTo>
                    <a:pt x="725" y="44"/>
                  </a:lnTo>
                  <a:lnTo>
                    <a:pt x="737" y="41"/>
                  </a:lnTo>
                  <a:lnTo>
                    <a:pt x="746" y="35"/>
                  </a:lnTo>
                  <a:lnTo>
                    <a:pt x="755" y="32"/>
                  </a:lnTo>
                  <a:lnTo>
                    <a:pt x="764" y="29"/>
                  </a:lnTo>
                  <a:lnTo>
                    <a:pt x="773" y="29"/>
                  </a:lnTo>
                  <a:lnTo>
                    <a:pt x="782" y="26"/>
                  </a:lnTo>
                  <a:lnTo>
                    <a:pt x="791" y="21"/>
                  </a:lnTo>
                  <a:lnTo>
                    <a:pt x="800" y="18"/>
                  </a:lnTo>
                  <a:lnTo>
                    <a:pt x="809" y="18"/>
                  </a:lnTo>
                  <a:lnTo>
                    <a:pt x="818" y="18"/>
                  </a:lnTo>
                  <a:lnTo>
                    <a:pt x="842" y="21"/>
                  </a:lnTo>
                  <a:lnTo>
                    <a:pt x="854" y="21"/>
                  </a:lnTo>
                  <a:lnTo>
                    <a:pt x="860" y="12"/>
                  </a:lnTo>
                  <a:lnTo>
                    <a:pt x="869" y="6"/>
                  </a:lnTo>
                  <a:lnTo>
                    <a:pt x="878" y="3"/>
                  </a:lnTo>
                  <a:lnTo>
                    <a:pt x="887" y="9"/>
                  </a:lnTo>
                  <a:lnTo>
                    <a:pt x="896" y="6"/>
                  </a:lnTo>
                  <a:lnTo>
                    <a:pt x="905" y="6"/>
                  </a:lnTo>
                  <a:lnTo>
                    <a:pt x="914" y="6"/>
                  </a:lnTo>
                  <a:lnTo>
                    <a:pt x="923" y="3"/>
                  </a:lnTo>
                  <a:lnTo>
                    <a:pt x="932" y="3"/>
                  </a:lnTo>
                  <a:lnTo>
                    <a:pt x="941" y="0"/>
                  </a:lnTo>
                  <a:lnTo>
                    <a:pt x="950" y="0"/>
                  </a:lnTo>
                  <a:lnTo>
                    <a:pt x="959" y="3"/>
                  </a:lnTo>
                  <a:lnTo>
                    <a:pt x="968" y="6"/>
                  </a:lnTo>
                  <a:lnTo>
                    <a:pt x="977" y="6"/>
                  </a:lnTo>
                  <a:lnTo>
                    <a:pt x="986" y="6"/>
                  </a:lnTo>
                  <a:lnTo>
                    <a:pt x="998" y="6"/>
                  </a:lnTo>
                  <a:lnTo>
                    <a:pt x="1009" y="6"/>
                  </a:lnTo>
                  <a:lnTo>
                    <a:pt x="1018" y="6"/>
                  </a:lnTo>
                  <a:lnTo>
                    <a:pt x="1027" y="6"/>
                  </a:lnTo>
                  <a:lnTo>
                    <a:pt x="1036" y="6"/>
                  </a:lnTo>
                  <a:lnTo>
                    <a:pt x="1045" y="6"/>
                  </a:lnTo>
                  <a:lnTo>
                    <a:pt x="1054" y="6"/>
                  </a:lnTo>
                  <a:lnTo>
                    <a:pt x="1063" y="6"/>
                  </a:lnTo>
                  <a:lnTo>
                    <a:pt x="1072" y="6"/>
                  </a:lnTo>
                  <a:lnTo>
                    <a:pt x="1081" y="6"/>
                  </a:lnTo>
                  <a:lnTo>
                    <a:pt x="1090" y="6"/>
                  </a:lnTo>
                  <a:lnTo>
                    <a:pt x="1102" y="6"/>
                  </a:lnTo>
                  <a:lnTo>
                    <a:pt x="1120" y="9"/>
                  </a:lnTo>
                  <a:lnTo>
                    <a:pt x="1129" y="9"/>
                  </a:lnTo>
                  <a:lnTo>
                    <a:pt x="1138" y="12"/>
                  </a:lnTo>
                  <a:lnTo>
                    <a:pt x="1147" y="15"/>
                  </a:lnTo>
                  <a:lnTo>
                    <a:pt x="1156" y="18"/>
                  </a:lnTo>
                  <a:lnTo>
                    <a:pt x="1165" y="18"/>
                  </a:lnTo>
                  <a:lnTo>
                    <a:pt x="1174" y="21"/>
                  </a:lnTo>
                  <a:lnTo>
                    <a:pt x="1183" y="21"/>
                  </a:lnTo>
                  <a:lnTo>
                    <a:pt x="1192" y="21"/>
                  </a:lnTo>
                  <a:lnTo>
                    <a:pt x="1201" y="23"/>
                  </a:lnTo>
                  <a:lnTo>
                    <a:pt x="1210" y="26"/>
                  </a:lnTo>
                  <a:lnTo>
                    <a:pt x="1219" y="26"/>
                  </a:lnTo>
                  <a:lnTo>
                    <a:pt x="1228" y="29"/>
                  </a:lnTo>
                  <a:lnTo>
                    <a:pt x="1237" y="29"/>
                  </a:lnTo>
                  <a:lnTo>
                    <a:pt x="1246" y="32"/>
                  </a:lnTo>
                  <a:lnTo>
                    <a:pt x="1255" y="32"/>
                  </a:lnTo>
                  <a:lnTo>
                    <a:pt x="1264" y="38"/>
                  </a:lnTo>
                  <a:lnTo>
                    <a:pt x="1276" y="41"/>
                  </a:lnTo>
                  <a:lnTo>
                    <a:pt x="1285" y="41"/>
                  </a:lnTo>
                  <a:lnTo>
                    <a:pt x="1294" y="44"/>
                  </a:lnTo>
                  <a:lnTo>
                    <a:pt x="1303" y="47"/>
                  </a:lnTo>
                  <a:lnTo>
                    <a:pt x="1312" y="50"/>
                  </a:lnTo>
                  <a:lnTo>
                    <a:pt x="1321" y="50"/>
                  </a:lnTo>
                  <a:lnTo>
                    <a:pt x="1333" y="53"/>
                  </a:lnTo>
                  <a:lnTo>
                    <a:pt x="1342" y="53"/>
                  </a:lnTo>
                  <a:lnTo>
                    <a:pt x="1351" y="56"/>
                  </a:lnTo>
                  <a:lnTo>
                    <a:pt x="1360" y="62"/>
                  </a:lnTo>
                  <a:lnTo>
                    <a:pt x="1369" y="62"/>
                  </a:lnTo>
                  <a:lnTo>
                    <a:pt x="1378" y="64"/>
                  </a:lnTo>
                  <a:lnTo>
                    <a:pt x="1387" y="70"/>
                  </a:lnTo>
                  <a:lnTo>
                    <a:pt x="1396" y="73"/>
                  </a:lnTo>
                  <a:lnTo>
                    <a:pt x="1405" y="76"/>
                  </a:lnTo>
                  <a:lnTo>
                    <a:pt x="1414" y="82"/>
                  </a:lnTo>
                  <a:lnTo>
                    <a:pt x="1426" y="85"/>
                  </a:lnTo>
                  <a:lnTo>
                    <a:pt x="1438" y="88"/>
                  </a:lnTo>
                  <a:lnTo>
                    <a:pt x="1447" y="91"/>
                  </a:lnTo>
                  <a:lnTo>
                    <a:pt x="1456" y="97"/>
                  </a:lnTo>
                  <a:lnTo>
                    <a:pt x="1465" y="100"/>
                  </a:lnTo>
                  <a:lnTo>
                    <a:pt x="1474" y="103"/>
                  </a:lnTo>
                  <a:lnTo>
                    <a:pt x="1486" y="108"/>
                  </a:lnTo>
                  <a:lnTo>
                    <a:pt x="1495" y="111"/>
                  </a:lnTo>
                  <a:lnTo>
                    <a:pt x="1504" y="117"/>
                  </a:lnTo>
                  <a:lnTo>
                    <a:pt x="1513" y="120"/>
                  </a:lnTo>
                  <a:lnTo>
                    <a:pt x="1525" y="123"/>
                  </a:lnTo>
                  <a:lnTo>
                    <a:pt x="1534" y="126"/>
                  </a:lnTo>
                  <a:lnTo>
                    <a:pt x="1558" y="132"/>
                  </a:lnTo>
                  <a:lnTo>
                    <a:pt x="1576" y="132"/>
                  </a:lnTo>
                  <a:lnTo>
                    <a:pt x="1585" y="135"/>
                  </a:lnTo>
                  <a:lnTo>
                    <a:pt x="1594" y="138"/>
                  </a:lnTo>
                  <a:lnTo>
                    <a:pt x="1600" y="147"/>
                  </a:lnTo>
                  <a:lnTo>
                    <a:pt x="1603" y="155"/>
                  </a:lnTo>
                  <a:lnTo>
                    <a:pt x="1609" y="164"/>
                  </a:lnTo>
                  <a:lnTo>
                    <a:pt x="1618" y="173"/>
                  </a:lnTo>
                  <a:lnTo>
                    <a:pt x="1627" y="182"/>
                  </a:lnTo>
                  <a:lnTo>
                    <a:pt x="1636" y="191"/>
                  </a:lnTo>
                  <a:lnTo>
                    <a:pt x="1645" y="196"/>
                  </a:lnTo>
                  <a:lnTo>
                    <a:pt x="1654" y="205"/>
                  </a:lnTo>
                  <a:lnTo>
                    <a:pt x="1663" y="214"/>
                  </a:lnTo>
                  <a:lnTo>
                    <a:pt x="1671" y="217"/>
                  </a:lnTo>
                  <a:lnTo>
                    <a:pt x="1680" y="226"/>
                  </a:lnTo>
                  <a:lnTo>
                    <a:pt x="1689" y="229"/>
                  </a:lnTo>
                  <a:lnTo>
                    <a:pt x="1698" y="235"/>
                  </a:lnTo>
                  <a:lnTo>
                    <a:pt x="1710" y="240"/>
                  </a:lnTo>
                  <a:lnTo>
                    <a:pt x="1719" y="249"/>
                  </a:lnTo>
                  <a:lnTo>
                    <a:pt x="1728" y="255"/>
                  </a:lnTo>
                  <a:lnTo>
                    <a:pt x="1734" y="264"/>
                  </a:lnTo>
                  <a:lnTo>
                    <a:pt x="1743" y="267"/>
                  </a:lnTo>
                  <a:lnTo>
                    <a:pt x="1749" y="276"/>
                  </a:lnTo>
                  <a:lnTo>
                    <a:pt x="1758" y="281"/>
                  </a:lnTo>
                  <a:lnTo>
                    <a:pt x="1767" y="287"/>
                  </a:lnTo>
                  <a:lnTo>
                    <a:pt x="1776" y="296"/>
                  </a:lnTo>
                  <a:lnTo>
                    <a:pt x="1785" y="302"/>
                  </a:lnTo>
                  <a:lnTo>
                    <a:pt x="1794" y="311"/>
                  </a:lnTo>
                  <a:lnTo>
                    <a:pt x="1803" y="317"/>
                  </a:lnTo>
                  <a:lnTo>
                    <a:pt x="1812" y="325"/>
                  </a:lnTo>
                  <a:lnTo>
                    <a:pt x="1821" y="334"/>
                  </a:lnTo>
                  <a:lnTo>
                    <a:pt x="1827" y="343"/>
                  </a:lnTo>
                  <a:lnTo>
                    <a:pt x="1836" y="349"/>
                  </a:lnTo>
                  <a:lnTo>
                    <a:pt x="1842" y="358"/>
                  </a:lnTo>
                  <a:lnTo>
                    <a:pt x="1851" y="364"/>
                  </a:lnTo>
                  <a:lnTo>
                    <a:pt x="1857" y="372"/>
                  </a:lnTo>
                  <a:lnTo>
                    <a:pt x="1866" y="381"/>
                  </a:lnTo>
                  <a:lnTo>
                    <a:pt x="1872" y="390"/>
                  </a:lnTo>
                  <a:lnTo>
                    <a:pt x="1881" y="399"/>
                  </a:lnTo>
                  <a:lnTo>
                    <a:pt x="1890" y="407"/>
                  </a:lnTo>
                  <a:lnTo>
                    <a:pt x="1893" y="416"/>
                  </a:lnTo>
                  <a:lnTo>
                    <a:pt x="1899" y="425"/>
                  </a:lnTo>
                  <a:lnTo>
                    <a:pt x="1905" y="434"/>
                  </a:lnTo>
                  <a:lnTo>
                    <a:pt x="1914" y="443"/>
                  </a:lnTo>
                  <a:lnTo>
                    <a:pt x="1920" y="451"/>
                  </a:lnTo>
                  <a:lnTo>
                    <a:pt x="1926" y="460"/>
                  </a:lnTo>
                  <a:lnTo>
                    <a:pt x="1932" y="469"/>
                  </a:lnTo>
                  <a:lnTo>
                    <a:pt x="1938" y="478"/>
                  </a:lnTo>
                  <a:lnTo>
                    <a:pt x="1941" y="487"/>
                  </a:lnTo>
                  <a:lnTo>
                    <a:pt x="1947" y="495"/>
                  </a:lnTo>
                  <a:lnTo>
                    <a:pt x="1950" y="504"/>
                  </a:lnTo>
                  <a:lnTo>
                    <a:pt x="1956" y="513"/>
                  </a:lnTo>
                  <a:lnTo>
                    <a:pt x="1959" y="522"/>
                  </a:lnTo>
                  <a:lnTo>
                    <a:pt x="1962" y="531"/>
                  </a:lnTo>
                  <a:lnTo>
                    <a:pt x="1968" y="539"/>
                  </a:lnTo>
                  <a:lnTo>
                    <a:pt x="1974" y="548"/>
                  </a:lnTo>
                  <a:lnTo>
                    <a:pt x="1977" y="557"/>
                  </a:lnTo>
                  <a:lnTo>
                    <a:pt x="1983" y="569"/>
                  </a:lnTo>
                  <a:lnTo>
                    <a:pt x="1986" y="578"/>
                  </a:lnTo>
                  <a:lnTo>
                    <a:pt x="1989" y="586"/>
                  </a:lnTo>
                  <a:lnTo>
                    <a:pt x="1989" y="595"/>
                  </a:lnTo>
                  <a:lnTo>
                    <a:pt x="1992" y="604"/>
                  </a:lnTo>
                  <a:lnTo>
                    <a:pt x="1995" y="613"/>
                  </a:lnTo>
                  <a:lnTo>
                    <a:pt x="1998" y="621"/>
                  </a:lnTo>
                </a:path>
              </a:pathLst>
            </a:custGeom>
            <a:solidFill>
              <a:srgbClr val="fc0000"/>
            </a:solidFill>
            <a:ln cap="rnd" w="12600">
              <a:solidFill>
                <a:srgbClr val="f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05240" y="4471920"/>
              <a:ext cx="3125880" cy="1011240"/>
            </a:xfrm>
            <a:custGeom>
              <a:avLst/>
              <a:gdLst/>
              <a:ahLst/>
              <a:rect l="l" t="t" r="r" b="b"/>
              <a:pathLst>
                <a:path w="1969" h="637">
                  <a:moveTo>
                    <a:pt x="0" y="0"/>
                  </a:moveTo>
                  <a:lnTo>
                    <a:pt x="6" y="9"/>
                  </a:lnTo>
                  <a:lnTo>
                    <a:pt x="12" y="18"/>
                  </a:lnTo>
                  <a:lnTo>
                    <a:pt x="12" y="27"/>
                  </a:lnTo>
                  <a:lnTo>
                    <a:pt x="12" y="36"/>
                  </a:lnTo>
                  <a:lnTo>
                    <a:pt x="15" y="45"/>
                  </a:lnTo>
                  <a:lnTo>
                    <a:pt x="18" y="54"/>
                  </a:lnTo>
                  <a:lnTo>
                    <a:pt x="21" y="63"/>
                  </a:lnTo>
                  <a:lnTo>
                    <a:pt x="24" y="72"/>
                  </a:lnTo>
                  <a:lnTo>
                    <a:pt x="27" y="81"/>
                  </a:lnTo>
                  <a:lnTo>
                    <a:pt x="33" y="90"/>
                  </a:lnTo>
                  <a:lnTo>
                    <a:pt x="36" y="99"/>
                  </a:lnTo>
                  <a:lnTo>
                    <a:pt x="42" y="108"/>
                  </a:lnTo>
                  <a:lnTo>
                    <a:pt x="48" y="117"/>
                  </a:lnTo>
                  <a:lnTo>
                    <a:pt x="54" y="126"/>
                  </a:lnTo>
                  <a:lnTo>
                    <a:pt x="60" y="135"/>
                  </a:lnTo>
                  <a:lnTo>
                    <a:pt x="66" y="144"/>
                  </a:lnTo>
                  <a:lnTo>
                    <a:pt x="72" y="153"/>
                  </a:lnTo>
                  <a:lnTo>
                    <a:pt x="78" y="162"/>
                  </a:lnTo>
                  <a:lnTo>
                    <a:pt x="84" y="171"/>
                  </a:lnTo>
                  <a:lnTo>
                    <a:pt x="87" y="180"/>
                  </a:lnTo>
                  <a:lnTo>
                    <a:pt x="93" y="189"/>
                  </a:lnTo>
                  <a:lnTo>
                    <a:pt x="99" y="198"/>
                  </a:lnTo>
                  <a:lnTo>
                    <a:pt x="102" y="207"/>
                  </a:lnTo>
                  <a:lnTo>
                    <a:pt x="105" y="216"/>
                  </a:lnTo>
                  <a:lnTo>
                    <a:pt x="111" y="225"/>
                  </a:lnTo>
                  <a:lnTo>
                    <a:pt x="123" y="234"/>
                  </a:lnTo>
                  <a:lnTo>
                    <a:pt x="132" y="243"/>
                  </a:lnTo>
                  <a:lnTo>
                    <a:pt x="141" y="249"/>
                  </a:lnTo>
                  <a:lnTo>
                    <a:pt x="147" y="258"/>
                  </a:lnTo>
                  <a:lnTo>
                    <a:pt x="156" y="267"/>
                  </a:lnTo>
                  <a:lnTo>
                    <a:pt x="162" y="276"/>
                  </a:lnTo>
                  <a:lnTo>
                    <a:pt x="171" y="282"/>
                  </a:lnTo>
                  <a:lnTo>
                    <a:pt x="180" y="288"/>
                  </a:lnTo>
                  <a:lnTo>
                    <a:pt x="183" y="297"/>
                  </a:lnTo>
                  <a:lnTo>
                    <a:pt x="192" y="303"/>
                  </a:lnTo>
                  <a:lnTo>
                    <a:pt x="195" y="312"/>
                  </a:lnTo>
                  <a:lnTo>
                    <a:pt x="204" y="318"/>
                  </a:lnTo>
                  <a:lnTo>
                    <a:pt x="213" y="327"/>
                  </a:lnTo>
                  <a:lnTo>
                    <a:pt x="219" y="336"/>
                  </a:lnTo>
                  <a:lnTo>
                    <a:pt x="228" y="339"/>
                  </a:lnTo>
                  <a:lnTo>
                    <a:pt x="234" y="348"/>
                  </a:lnTo>
                  <a:lnTo>
                    <a:pt x="243" y="351"/>
                  </a:lnTo>
                  <a:lnTo>
                    <a:pt x="246" y="360"/>
                  </a:lnTo>
                  <a:lnTo>
                    <a:pt x="255" y="366"/>
                  </a:lnTo>
                  <a:lnTo>
                    <a:pt x="261" y="375"/>
                  </a:lnTo>
                  <a:lnTo>
                    <a:pt x="270" y="381"/>
                  </a:lnTo>
                  <a:lnTo>
                    <a:pt x="279" y="384"/>
                  </a:lnTo>
                  <a:lnTo>
                    <a:pt x="288" y="390"/>
                  </a:lnTo>
                  <a:lnTo>
                    <a:pt x="294" y="399"/>
                  </a:lnTo>
                  <a:lnTo>
                    <a:pt x="303" y="405"/>
                  </a:lnTo>
                  <a:lnTo>
                    <a:pt x="312" y="411"/>
                  </a:lnTo>
                  <a:lnTo>
                    <a:pt x="321" y="420"/>
                  </a:lnTo>
                  <a:lnTo>
                    <a:pt x="330" y="423"/>
                  </a:lnTo>
                  <a:lnTo>
                    <a:pt x="339" y="429"/>
                  </a:lnTo>
                  <a:lnTo>
                    <a:pt x="348" y="435"/>
                  </a:lnTo>
                  <a:lnTo>
                    <a:pt x="354" y="444"/>
                  </a:lnTo>
                  <a:lnTo>
                    <a:pt x="363" y="447"/>
                  </a:lnTo>
                  <a:lnTo>
                    <a:pt x="372" y="453"/>
                  </a:lnTo>
                  <a:lnTo>
                    <a:pt x="384" y="459"/>
                  </a:lnTo>
                  <a:lnTo>
                    <a:pt x="393" y="465"/>
                  </a:lnTo>
                  <a:lnTo>
                    <a:pt x="402" y="468"/>
                  </a:lnTo>
                  <a:lnTo>
                    <a:pt x="411" y="474"/>
                  </a:lnTo>
                  <a:lnTo>
                    <a:pt x="420" y="480"/>
                  </a:lnTo>
                  <a:lnTo>
                    <a:pt x="429" y="483"/>
                  </a:lnTo>
                  <a:lnTo>
                    <a:pt x="438" y="492"/>
                  </a:lnTo>
                  <a:lnTo>
                    <a:pt x="447" y="495"/>
                  </a:lnTo>
                  <a:lnTo>
                    <a:pt x="456" y="501"/>
                  </a:lnTo>
                  <a:lnTo>
                    <a:pt x="465" y="504"/>
                  </a:lnTo>
                  <a:lnTo>
                    <a:pt x="474" y="510"/>
                  </a:lnTo>
                  <a:lnTo>
                    <a:pt x="483" y="516"/>
                  </a:lnTo>
                  <a:lnTo>
                    <a:pt x="492" y="519"/>
                  </a:lnTo>
                  <a:lnTo>
                    <a:pt x="501" y="525"/>
                  </a:lnTo>
                  <a:lnTo>
                    <a:pt x="510" y="528"/>
                  </a:lnTo>
                  <a:lnTo>
                    <a:pt x="519" y="531"/>
                  </a:lnTo>
                  <a:lnTo>
                    <a:pt x="528" y="537"/>
                  </a:lnTo>
                  <a:lnTo>
                    <a:pt x="537" y="540"/>
                  </a:lnTo>
                  <a:lnTo>
                    <a:pt x="546" y="543"/>
                  </a:lnTo>
                  <a:lnTo>
                    <a:pt x="555" y="543"/>
                  </a:lnTo>
                  <a:lnTo>
                    <a:pt x="564" y="546"/>
                  </a:lnTo>
                  <a:lnTo>
                    <a:pt x="573" y="549"/>
                  </a:lnTo>
                  <a:lnTo>
                    <a:pt x="582" y="552"/>
                  </a:lnTo>
                  <a:lnTo>
                    <a:pt x="591" y="555"/>
                  </a:lnTo>
                  <a:lnTo>
                    <a:pt x="600" y="558"/>
                  </a:lnTo>
                  <a:lnTo>
                    <a:pt x="609" y="564"/>
                  </a:lnTo>
                  <a:lnTo>
                    <a:pt x="618" y="567"/>
                  </a:lnTo>
                  <a:lnTo>
                    <a:pt x="627" y="573"/>
                  </a:lnTo>
                  <a:lnTo>
                    <a:pt x="636" y="576"/>
                  </a:lnTo>
                  <a:lnTo>
                    <a:pt x="645" y="576"/>
                  </a:lnTo>
                  <a:lnTo>
                    <a:pt x="654" y="582"/>
                  </a:lnTo>
                  <a:lnTo>
                    <a:pt x="663" y="585"/>
                  </a:lnTo>
                  <a:lnTo>
                    <a:pt x="672" y="588"/>
                  </a:lnTo>
                  <a:lnTo>
                    <a:pt x="681" y="591"/>
                  </a:lnTo>
                  <a:lnTo>
                    <a:pt x="690" y="591"/>
                  </a:lnTo>
                  <a:lnTo>
                    <a:pt x="699" y="594"/>
                  </a:lnTo>
                  <a:lnTo>
                    <a:pt x="708" y="597"/>
                  </a:lnTo>
                  <a:lnTo>
                    <a:pt x="717" y="600"/>
                  </a:lnTo>
                  <a:lnTo>
                    <a:pt x="726" y="600"/>
                  </a:lnTo>
                  <a:lnTo>
                    <a:pt x="735" y="600"/>
                  </a:lnTo>
                  <a:lnTo>
                    <a:pt x="744" y="603"/>
                  </a:lnTo>
                  <a:lnTo>
                    <a:pt x="753" y="606"/>
                  </a:lnTo>
                  <a:lnTo>
                    <a:pt x="762" y="609"/>
                  </a:lnTo>
                  <a:lnTo>
                    <a:pt x="771" y="609"/>
                  </a:lnTo>
                  <a:lnTo>
                    <a:pt x="780" y="612"/>
                  </a:lnTo>
                  <a:lnTo>
                    <a:pt x="789" y="612"/>
                  </a:lnTo>
                  <a:lnTo>
                    <a:pt x="798" y="615"/>
                  </a:lnTo>
                  <a:lnTo>
                    <a:pt x="807" y="618"/>
                  </a:lnTo>
                  <a:lnTo>
                    <a:pt x="816" y="621"/>
                  </a:lnTo>
                  <a:lnTo>
                    <a:pt x="825" y="624"/>
                  </a:lnTo>
                  <a:lnTo>
                    <a:pt x="834" y="624"/>
                  </a:lnTo>
                  <a:lnTo>
                    <a:pt x="843" y="627"/>
                  </a:lnTo>
                  <a:lnTo>
                    <a:pt x="852" y="627"/>
                  </a:lnTo>
                  <a:lnTo>
                    <a:pt x="861" y="627"/>
                  </a:lnTo>
                  <a:lnTo>
                    <a:pt x="870" y="627"/>
                  </a:lnTo>
                  <a:lnTo>
                    <a:pt x="879" y="627"/>
                  </a:lnTo>
                  <a:lnTo>
                    <a:pt x="888" y="627"/>
                  </a:lnTo>
                  <a:lnTo>
                    <a:pt x="900" y="627"/>
                  </a:lnTo>
                  <a:lnTo>
                    <a:pt x="912" y="633"/>
                  </a:lnTo>
                  <a:lnTo>
                    <a:pt x="921" y="633"/>
                  </a:lnTo>
                  <a:lnTo>
                    <a:pt x="930" y="633"/>
                  </a:lnTo>
                  <a:lnTo>
                    <a:pt x="939" y="636"/>
                  </a:lnTo>
                  <a:lnTo>
                    <a:pt x="948" y="636"/>
                  </a:lnTo>
                  <a:lnTo>
                    <a:pt x="957" y="636"/>
                  </a:lnTo>
                  <a:lnTo>
                    <a:pt x="969" y="636"/>
                  </a:lnTo>
                  <a:lnTo>
                    <a:pt x="978" y="633"/>
                  </a:lnTo>
                  <a:lnTo>
                    <a:pt x="987" y="633"/>
                  </a:lnTo>
                  <a:lnTo>
                    <a:pt x="996" y="630"/>
                  </a:lnTo>
                  <a:lnTo>
                    <a:pt x="1005" y="630"/>
                  </a:lnTo>
                  <a:lnTo>
                    <a:pt x="1014" y="630"/>
                  </a:lnTo>
                  <a:lnTo>
                    <a:pt x="1023" y="627"/>
                  </a:lnTo>
                  <a:lnTo>
                    <a:pt x="1032" y="627"/>
                  </a:lnTo>
                  <a:lnTo>
                    <a:pt x="1044" y="630"/>
                  </a:lnTo>
                  <a:lnTo>
                    <a:pt x="1053" y="630"/>
                  </a:lnTo>
                  <a:lnTo>
                    <a:pt x="1062" y="630"/>
                  </a:lnTo>
                  <a:lnTo>
                    <a:pt x="1071" y="630"/>
                  </a:lnTo>
                  <a:lnTo>
                    <a:pt x="1080" y="630"/>
                  </a:lnTo>
                  <a:lnTo>
                    <a:pt x="1089" y="630"/>
                  </a:lnTo>
                  <a:lnTo>
                    <a:pt x="1098" y="627"/>
                  </a:lnTo>
                  <a:lnTo>
                    <a:pt x="1107" y="627"/>
                  </a:lnTo>
                  <a:lnTo>
                    <a:pt x="1116" y="627"/>
                  </a:lnTo>
                  <a:lnTo>
                    <a:pt x="1125" y="624"/>
                  </a:lnTo>
                  <a:lnTo>
                    <a:pt x="1134" y="624"/>
                  </a:lnTo>
                  <a:lnTo>
                    <a:pt x="1143" y="624"/>
                  </a:lnTo>
                  <a:lnTo>
                    <a:pt x="1152" y="618"/>
                  </a:lnTo>
                  <a:lnTo>
                    <a:pt x="1161" y="615"/>
                  </a:lnTo>
                  <a:lnTo>
                    <a:pt x="1170" y="612"/>
                  </a:lnTo>
                  <a:lnTo>
                    <a:pt x="1179" y="609"/>
                  </a:lnTo>
                  <a:lnTo>
                    <a:pt x="1188" y="609"/>
                  </a:lnTo>
                  <a:lnTo>
                    <a:pt x="1200" y="606"/>
                  </a:lnTo>
                  <a:lnTo>
                    <a:pt x="1209" y="603"/>
                  </a:lnTo>
                  <a:lnTo>
                    <a:pt x="1218" y="600"/>
                  </a:lnTo>
                  <a:lnTo>
                    <a:pt x="1227" y="600"/>
                  </a:lnTo>
                  <a:lnTo>
                    <a:pt x="1236" y="600"/>
                  </a:lnTo>
                  <a:lnTo>
                    <a:pt x="1245" y="600"/>
                  </a:lnTo>
                  <a:lnTo>
                    <a:pt x="1254" y="600"/>
                  </a:lnTo>
                  <a:lnTo>
                    <a:pt x="1263" y="597"/>
                  </a:lnTo>
                  <a:lnTo>
                    <a:pt x="1272" y="594"/>
                  </a:lnTo>
                  <a:lnTo>
                    <a:pt x="1281" y="591"/>
                  </a:lnTo>
                  <a:lnTo>
                    <a:pt x="1290" y="588"/>
                  </a:lnTo>
                  <a:lnTo>
                    <a:pt x="1299" y="585"/>
                  </a:lnTo>
                  <a:lnTo>
                    <a:pt x="1308" y="582"/>
                  </a:lnTo>
                  <a:lnTo>
                    <a:pt x="1317" y="579"/>
                  </a:lnTo>
                  <a:lnTo>
                    <a:pt x="1326" y="576"/>
                  </a:lnTo>
                  <a:lnTo>
                    <a:pt x="1335" y="573"/>
                  </a:lnTo>
                  <a:lnTo>
                    <a:pt x="1347" y="570"/>
                  </a:lnTo>
                  <a:lnTo>
                    <a:pt x="1356" y="564"/>
                  </a:lnTo>
                  <a:lnTo>
                    <a:pt x="1365" y="561"/>
                  </a:lnTo>
                  <a:lnTo>
                    <a:pt x="1374" y="555"/>
                  </a:lnTo>
                  <a:lnTo>
                    <a:pt x="1383" y="552"/>
                  </a:lnTo>
                  <a:lnTo>
                    <a:pt x="1392" y="549"/>
                  </a:lnTo>
                  <a:lnTo>
                    <a:pt x="1401" y="546"/>
                  </a:lnTo>
                  <a:lnTo>
                    <a:pt x="1410" y="546"/>
                  </a:lnTo>
                  <a:lnTo>
                    <a:pt x="1419" y="543"/>
                  </a:lnTo>
                  <a:lnTo>
                    <a:pt x="1428" y="540"/>
                  </a:lnTo>
                  <a:lnTo>
                    <a:pt x="1437" y="537"/>
                  </a:lnTo>
                  <a:lnTo>
                    <a:pt x="1446" y="531"/>
                  </a:lnTo>
                  <a:lnTo>
                    <a:pt x="1455" y="528"/>
                  </a:lnTo>
                  <a:lnTo>
                    <a:pt x="1464" y="522"/>
                  </a:lnTo>
                  <a:lnTo>
                    <a:pt x="1473" y="516"/>
                  </a:lnTo>
                  <a:lnTo>
                    <a:pt x="1482" y="513"/>
                  </a:lnTo>
                  <a:lnTo>
                    <a:pt x="1491" y="507"/>
                  </a:lnTo>
                  <a:lnTo>
                    <a:pt x="1500" y="504"/>
                  </a:lnTo>
                  <a:lnTo>
                    <a:pt x="1512" y="501"/>
                  </a:lnTo>
                  <a:lnTo>
                    <a:pt x="1524" y="495"/>
                  </a:lnTo>
                  <a:lnTo>
                    <a:pt x="1533" y="492"/>
                  </a:lnTo>
                  <a:lnTo>
                    <a:pt x="1542" y="483"/>
                  </a:lnTo>
                  <a:lnTo>
                    <a:pt x="1551" y="480"/>
                  </a:lnTo>
                  <a:lnTo>
                    <a:pt x="1560" y="477"/>
                  </a:lnTo>
                  <a:lnTo>
                    <a:pt x="1572" y="468"/>
                  </a:lnTo>
                  <a:lnTo>
                    <a:pt x="1581" y="465"/>
                  </a:lnTo>
                  <a:lnTo>
                    <a:pt x="1590" y="456"/>
                  </a:lnTo>
                  <a:lnTo>
                    <a:pt x="1599" y="453"/>
                  </a:lnTo>
                  <a:lnTo>
                    <a:pt x="1608" y="444"/>
                  </a:lnTo>
                  <a:lnTo>
                    <a:pt x="1617" y="441"/>
                  </a:lnTo>
                  <a:lnTo>
                    <a:pt x="1623" y="432"/>
                  </a:lnTo>
                  <a:lnTo>
                    <a:pt x="1632" y="426"/>
                  </a:lnTo>
                  <a:lnTo>
                    <a:pt x="1641" y="420"/>
                  </a:lnTo>
                  <a:lnTo>
                    <a:pt x="1650" y="411"/>
                  </a:lnTo>
                  <a:lnTo>
                    <a:pt x="1659" y="405"/>
                  </a:lnTo>
                  <a:lnTo>
                    <a:pt x="1668" y="396"/>
                  </a:lnTo>
                  <a:lnTo>
                    <a:pt x="1677" y="390"/>
                  </a:lnTo>
                  <a:lnTo>
                    <a:pt x="1686" y="384"/>
                  </a:lnTo>
                  <a:lnTo>
                    <a:pt x="1695" y="375"/>
                  </a:lnTo>
                  <a:lnTo>
                    <a:pt x="1704" y="369"/>
                  </a:lnTo>
                  <a:lnTo>
                    <a:pt x="1710" y="360"/>
                  </a:lnTo>
                  <a:lnTo>
                    <a:pt x="1719" y="360"/>
                  </a:lnTo>
                  <a:lnTo>
                    <a:pt x="1728" y="351"/>
                  </a:lnTo>
                  <a:lnTo>
                    <a:pt x="1737" y="348"/>
                  </a:lnTo>
                  <a:lnTo>
                    <a:pt x="1743" y="339"/>
                  </a:lnTo>
                  <a:lnTo>
                    <a:pt x="1752" y="333"/>
                  </a:lnTo>
                  <a:lnTo>
                    <a:pt x="1755" y="324"/>
                  </a:lnTo>
                  <a:lnTo>
                    <a:pt x="1764" y="324"/>
                  </a:lnTo>
                  <a:lnTo>
                    <a:pt x="1770" y="315"/>
                  </a:lnTo>
                  <a:lnTo>
                    <a:pt x="1779" y="309"/>
                  </a:lnTo>
                  <a:lnTo>
                    <a:pt x="1782" y="300"/>
                  </a:lnTo>
                  <a:lnTo>
                    <a:pt x="1791" y="294"/>
                  </a:lnTo>
                  <a:lnTo>
                    <a:pt x="1797" y="285"/>
                  </a:lnTo>
                  <a:lnTo>
                    <a:pt x="1806" y="276"/>
                  </a:lnTo>
                  <a:lnTo>
                    <a:pt x="1815" y="273"/>
                  </a:lnTo>
                  <a:lnTo>
                    <a:pt x="1818" y="264"/>
                  </a:lnTo>
                  <a:lnTo>
                    <a:pt x="1827" y="255"/>
                  </a:lnTo>
                  <a:lnTo>
                    <a:pt x="1833" y="246"/>
                  </a:lnTo>
                  <a:lnTo>
                    <a:pt x="1839" y="237"/>
                  </a:lnTo>
                  <a:lnTo>
                    <a:pt x="1845" y="228"/>
                  </a:lnTo>
                  <a:lnTo>
                    <a:pt x="1851" y="216"/>
                  </a:lnTo>
                  <a:lnTo>
                    <a:pt x="1857" y="207"/>
                  </a:lnTo>
                  <a:lnTo>
                    <a:pt x="1863" y="198"/>
                  </a:lnTo>
                  <a:lnTo>
                    <a:pt x="1872" y="192"/>
                  </a:lnTo>
                  <a:lnTo>
                    <a:pt x="1878" y="183"/>
                  </a:lnTo>
                  <a:lnTo>
                    <a:pt x="1887" y="174"/>
                  </a:lnTo>
                  <a:lnTo>
                    <a:pt x="1893" y="165"/>
                  </a:lnTo>
                  <a:lnTo>
                    <a:pt x="1899" y="156"/>
                  </a:lnTo>
                  <a:lnTo>
                    <a:pt x="1902" y="147"/>
                  </a:lnTo>
                  <a:lnTo>
                    <a:pt x="1908" y="138"/>
                  </a:lnTo>
                  <a:lnTo>
                    <a:pt x="1911" y="129"/>
                  </a:lnTo>
                  <a:lnTo>
                    <a:pt x="1914" y="120"/>
                  </a:lnTo>
                  <a:lnTo>
                    <a:pt x="1920" y="111"/>
                  </a:lnTo>
                  <a:lnTo>
                    <a:pt x="1926" y="99"/>
                  </a:lnTo>
                  <a:lnTo>
                    <a:pt x="1935" y="90"/>
                  </a:lnTo>
                  <a:lnTo>
                    <a:pt x="1938" y="81"/>
                  </a:lnTo>
                  <a:lnTo>
                    <a:pt x="1941" y="72"/>
                  </a:lnTo>
                  <a:lnTo>
                    <a:pt x="1944" y="63"/>
                  </a:lnTo>
                  <a:lnTo>
                    <a:pt x="1947" y="54"/>
                  </a:lnTo>
                  <a:lnTo>
                    <a:pt x="1953" y="45"/>
                  </a:lnTo>
                  <a:lnTo>
                    <a:pt x="1956" y="36"/>
                  </a:lnTo>
                  <a:lnTo>
                    <a:pt x="1959" y="27"/>
                  </a:lnTo>
                  <a:lnTo>
                    <a:pt x="1962" y="18"/>
                  </a:lnTo>
                  <a:lnTo>
                    <a:pt x="1965" y="9"/>
                  </a:lnTo>
                  <a:lnTo>
                    <a:pt x="1968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16320" y="2611440"/>
              <a:ext cx="3301920" cy="2863800"/>
            </a:xfrm>
            <a:prstGeom prst="ellipse">
              <a:avLst/>
            </a:prstGeom>
            <a:noFill/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مدل نیروی اصطکاک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62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جهت نیروی اصطکاک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متناسب با نیروی قائ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ودر جهت حرکت نسبی دو سطح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ا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صطکاک جنبشی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(ل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لغرشی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)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زرگی نیروی اصطکاک متناسب با بزرگی نیروی قائ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ا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صطکاک ایستایی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نیروی اصطکاک نیروهای واردشده بر جسم را خنثی می کند تا جسم حرکت نکند. بیشینه نیروی اصطکاک متناسب با نیروی قائ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صطکاک جنبشی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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ضریب اصطکاک جنبشی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j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o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92680" y="4883040"/>
            <a:ext cx="825480" cy="7495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94040" y="563868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89040" y="51814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74480" y="5638680"/>
            <a:ext cx="7369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54760" y="5257800"/>
            <a:ext cx="101592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71240" y="50832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25680" y="4778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3593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4292640"/>
            <a:ext cx="0" cy="711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5921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29000" y="43210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238880" y="44128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5360" y="49528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4080" y="48546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7400" y="4245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5769000"/>
            <a:ext cx="836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4640" y="3144960"/>
            <a:ext cx="2121120" cy="520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صطکاک ایستایی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ضریب اصطکاک ایستایی 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بیشینه نیروی اصطکاک ,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که بین اجسام می تواند بوجود آید را نشان می دهد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Symbol"/>
                <a:cs typeface="Symbol"/>
              </a:rPr>
              <a:t>نیروی</a:t>
            </a:r>
            <a:r>
              <a:rPr b="0" lang="fa-IR" sz="2000" spc="-1" strike="noStrike">
                <a:solidFill>
                  <a:srgbClr val="00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را افزایش می دهیم تا جسم شروع به حرکت کن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i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92680" y="4923000"/>
            <a:ext cx="825480" cy="74916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4040" y="567864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89040" y="522144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9040" y="567864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25680" y="481824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3989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33224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96124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29000" y="436104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238880" y="44524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5360" y="499284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4080" y="48942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7400" y="42847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06560" y="580860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716280"/>
            <a:ext cx="380880" cy="228600"/>
          </a:xfrm>
          <a:prstGeom prst="rightArrow">
            <a:avLst>
              <a:gd name="adj1" fmla="val 50000"/>
              <a:gd name="adj2" fmla="val 83315"/>
            </a:avLst>
          </a:prstGeom>
          <a:solidFill>
            <a:srgbClr val="00ffff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84960" y="3438360"/>
            <a:ext cx="1906560" cy="520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397320"/>
            <a:ext cx="1981440" cy="5680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47Z</dcterms:created>
  <dc:creator>Mats A. Selen</dc:creator>
  <dc:description>Atwood</dc:description>
  <cp:keywords/>
  <dc:language>en-US</dc:language>
  <cp:lastModifiedBy>janubi</cp:lastModifiedBy>
  <dcterms:modified xsi:type="dcterms:W3CDTF">2006-04-15T02:20:48Z</dcterms:modified>
  <cp:revision>74</cp:revision>
  <dc:subject>Manybody</dc:subject>
  <dc:title>Physics 106P: Lecture 9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