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06DF-78E8-451E-983C-A4CD8B49E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9236-9542-4F27-9CD9-53B7C01A9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B090-DBF1-4A33-815F-E1F1E98D4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CBBC-EAA8-4C9E-9A9B-D8AC3731F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F76B-4A1F-4AAA-8496-0AAA23A8F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4C78-DA77-48AF-8E23-9D6EF7149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AEAA-C937-45A1-AD8A-7170F2793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DA40-C803-497E-B89C-EB9A13913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0726-DB4C-464D-9144-150250227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C176-AEA3-4D8A-9691-81054D451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8A06-5432-46BA-9713-32B2F89E6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9272-3924-4F75-9B9C-0334D3B86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A176-A3E3-4F87-9C84-3346BA73F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0F6F-0F69-46BD-85B6-9DCD728B2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D66D-5EB0-4330-B4B2-82E52F02C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284F-3304-4C3E-A804-C8A26587A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2907-C1F6-492F-8D00-985F17AB2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B17C-2786-4FF7-989C-8DA309AED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1C92-FB36-4461-AFA3-4D36D0D45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6B1E-2594-4F1B-AB35-B471893E9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698F-1A0E-4827-942A-CC00816D5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0392-38F3-4B65-BF4C-1E8B68CCC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2631-8811-4EAD-B37B-7F1046ED1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E160-6ABD-46FF-A371-031557876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9039-E394-454E-937E-78B433AC7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5906-FA19-4E1E-87B2-72519D1A2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549C-4BB5-4437-9FC2-2EF57A50D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BB18-E070-4C34-A852-DD013EB81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563C-7FBA-41AF-BE52-2CCBEBC1A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41EA-B7D1-41B0-94F8-3C99C6502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DB88D-C4AC-485F-BCD8-91BF18E91F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5D01C-7514-4C81-AD75-F3D2DEBB02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725EA-9B09-4F32-AE4C-D8A5A5CA6F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7F444-4F9E-4D0E-B1EB-67370935AC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809F9-3EB3-4810-A14F-E7BA646B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F7F98-DB95-4697-8E6B-9EEF9C70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E8C7F-0598-402E-BA59-291D60FD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281B7-04EE-44D7-9969-B9A62481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50B6D-FA85-4819-AB63-0415F14C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5ED5C-71E6-4E14-949A-50ADB6DF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ACCF9-C5F5-4A73-9046-2335B15D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9081F-C8F0-42DA-9B5E-D3915E9DCA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17024-57CB-47AA-BB08-8695E8EE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C363F-65E3-4FC9-8B8E-EFA5364D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95745-A017-4EA9-8420-4C60FDE2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39AA1-D7C4-407A-B1FA-431E99C2A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299C4-E5C3-4578-AC73-E9C2EDA01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228DFA-01B6-48A9-B037-93F59D29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592251-41CF-4969-B070-82032720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72D898-F746-4967-91AF-5FDEF8E2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AC6E0F-BBCC-4801-9D57-9B6791F3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7F7827-5B22-461F-91A7-2EAC1357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47DF6-A0ED-4BDA-ADAE-682809EBEC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ED9BCB-7317-47FA-BA25-F77D0ADC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6AE4C2-6CD1-479C-97C7-BE61E4EF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146BEA-E90D-47C4-A327-8BEF3920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41F861-11F1-40AF-B63C-853F189B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81B8E4-E525-496D-B059-BB865F3F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A3E395-EE0F-410C-A89C-5136B43E9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1953A4-4510-4325-A3F8-ED567DFB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68007-5187-4720-876E-8095B4A63E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A1E9A-93A5-4005-9023-B978BF033A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B6B95-F621-459C-8B57-38ED85404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F4727-56CE-4ECB-A42F-D199C5CF87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52A31-8266-48BA-98BE-8728888C28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B5BA9-9FB3-44B0-BF79-DEFC5E8DA0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2910-2448-454E-950E-D9A03238E23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Hands-On Microsoft Windows Serv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5248-5D98-4377-B9FC-6DB8A126E89C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Hands-On Microsoft Windows Serv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E236-6137-4C4B-BC76-CC7B9D6849E7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4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12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Managing System Reliability and Availability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31" name="Picture 3" descr="Cengage_1.jpg"/>
          <p:cNvPicPr/>
          <p:nvPr/>
        </p:nvPicPr>
        <p:blipFill>
          <a:blip r:embed="rId1"/>
          <a:stretch/>
        </p:blipFill>
        <p:spPr>
          <a:xfrm>
            <a:off x="0" y="0"/>
            <a:ext cx="3666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6E80-516A-4C26-A517-1B077123F3D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Resolving Boot Probl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ome of the common causes of boot failures include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isk failure on the drive or drives containing the system and boot fil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corrupted partition tab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corrupted boot fi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corrupted master boot recor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disk read erro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 most cases, the first step is to power off the computer and try rebooting i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AE13-9367-4B8D-92ED-A7AFBE307DD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roubleshooting by Using Safe Mo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afe Mod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oots the server using the most generic default settings and only those services needed to boot a basic configur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fter you boot into Safe Mode, you have the opportunity to further troubleshoot the probl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17D0-E053-4897-907B-A4C152CBD9C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roubleshooting by Using Safe Mode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 access the Advanced Boot Options menu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boot the comput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ess F8 as soon as the computer boo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lect the option you want to use, such as Safe Mode, and press Ent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f you use Safe Mode, but are unable to troubleshoot the problem, or a failed driver message is displayed during the boot proces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 the Enable Boot Logging option so that you can create a log that you can later check for problem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1B11-4261-4496-B41E-381E77FFC52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858960" y="304920"/>
            <a:ext cx="7426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44EC-7E26-4EC8-A83E-E5F04E6F10B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roubleshooting by Using the Installation DVD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ndows Complete PC Restor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hen you create a VSS full backup using the Windows Server Backup too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This creates a backup of the data and program files and the system state data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System state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Includes the operating system plus extra components and information that reflect the currently configured state of the server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hen you back up the system state data, you also are backing up the system protected fil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569E-089B-404E-8B6D-97A75F201BB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roubleshooting by Using the Installation DVD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ndows Server 2008 offers the capability to perform a Windows Complete PC Restor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rom the Windows Server 2008 installation DV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ndows Memory Diagnostic Too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nother tool available from the Repair your computer option on the Windows Server 2008 installation DVD 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d to test the RAM in your comput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9F70-C688-4799-AF30-11DA4BD6FE1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838080" y="252360"/>
            <a:ext cx="746784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587B-B334-44F1-B13A-95F0BDAB83C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roubleshooting by Using the Installation DVD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1"/>
          <a:stretch/>
        </p:blipFill>
        <p:spPr>
          <a:xfrm>
            <a:off x="1428840" y="1905120"/>
            <a:ext cx="6286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A904-2614-4D33-86A4-BF76A0E0907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roubleshooting Connectivit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ne area that server and network administrators often troubleshoot is TCP/IP connectivit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oth command-line tools and graphical tools are available for troubleshooting Windows Server 2008 connectivit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EF77-C380-4B7D-BBC3-AE5C481B552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mmand-Line Tool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ype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ipconfig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to view a dialog box showing the adapter address (MAC or Ethernet), IP address, subnet mask, and other information for that comput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ype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ping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to poll the presence of another TCP/IP comput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netstat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is a quick way to verify that a workstation or server has established a successful TCP/IP connec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FCFB-6E56-4B70-B703-FE3C62D925CC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mplementing the SNMP Servic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mple Network Management Protocol (SNMP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d for network management on TCP/IP-based network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vides administrators with a way of centrally managing workstations, servers, hubs, and routers from a central computer running management softwar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NMP can be used for the following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figuring network devic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onitoring the performance of a network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ocating network problem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onitoring network usag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1025-8EC9-45FA-997A-6A4CE334BD8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mmand-Line Tool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876240" y="1609560"/>
            <a:ext cx="739152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99D4-D4B5-4ED3-83C4-947B0E403B3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mmand-Line Tool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08" name="Picture 6" descr=""/>
          <p:cNvPicPr/>
          <p:nvPr/>
        </p:nvPicPr>
        <p:blipFill>
          <a:blip r:embed="rId1"/>
          <a:stretch/>
        </p:blipFill>
        <p:spPr>
          <a:xfrm>
            <a:off x="876240" y="1752480"/>
            <a:ext cx="73915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D33A-9298-4836-BF7D-3B429B252B2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mmand-Line Tool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1"/>
          <a:stretch/>
        </p:blipFill>
        <p:spPr>
          <a:xfrm>
            <a:off x="880920" y="1847880"/>
            <a:ext cx="738216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DDB8-968F-442D-A3EE-596897731FB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Graphical Tool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can use a GUI (graphical user interface) tool for diagnosing and repairing network problem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Network and Sharing Cent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n provide a simple GUI representation of the network to show if network connectivity problems exist between your server and the network or the Interne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nother way to use the Network and Sharing Center is to have it diagnose a specific connection,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uch as the Local Area Connection from the Network Connections Window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135A-8DB3-45AC-B472-2952965D1A6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795240" y="457200"/>
            <a:ext cx="7553520" cy="56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A489-E2FD-401D-B99B-6EB8EFC83D5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1"/>
          <a:stretch/>
        </p:blipFill>
        <p:spPr>
          <a:xfrm>
            <a:off x="566640" y="228600"/>
            <a:ext cx="801072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9E2D-6415-4857-A7A9-25354FDA1D6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609480" y="254160"/>
            <a:ext cx="792504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E257-8A7B-4232-8D77-DD602AD0528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Remotely Administering a Server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 some organizations, it is important for server administrators to be able to remotely access a server in order to solve a probl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the Remote Desktop client to remotely access and manage the serv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nfigure Remote Desktop using Server Manag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r the System applet in Control Panel to access the System Properties dialog box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nfigure a strong password for the account from which you perform administr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F8F5-3B10-4E96-BF68-E634FC6A5E4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2133720" y="309600"/>
            <a:ext cx="487656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4431-2456-48D4-B950-028484DE432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Remote Server Administration Tool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Remote Server Administration Tool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able you to manage multiple servers from one Windows Server 2008 serv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Remote Server Administration Tools are offered through Server Manag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Remote Administration Tool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subset of the Remote Server Administration Tools automatically installed with the Web Service (IIS) ro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Remote Server Administration Tools enable you to manage roles and features that are installed on a serv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1529-EAA6-46FC-A5F4-6498BE027B51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mplementing the SNMP Service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NMP provides network management services through agents and management system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NMP management system (a computer running management software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nds and requests information from an SNMP ag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NMP agent (any computer or network device running SNMP agent software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sponds to the management system</a:t>
            </a:r>
            <a:r>
              <a:rPr b="0" lang="ja-JP" sz="2400" spc="-1" strike="noStrike">
                <a:solidFill>
                  <a:srgbClr val="222222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 request for inform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517D-A224-4617-89BB-5E14BBD8F0CA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mplementing the SNMP Service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icrosoft operating systems and components compatible with SNMP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indows Server 2008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indows Server 2003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indows 2000 Serv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indows 2000, XP, and Vis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INS serv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HCP serv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ternet Information Services serv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icrosoft RAS and IAS serv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D9A0-0E27-4522-B810-43C2667CAA9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General Problem-Solving Strategi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best approach to solving server and network problems is to develop effective troubleshooting strategi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 general strategies are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nderstanding how a server and the network interac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raining your users to help you solve problem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olving problems step by step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racking problems and solu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7DBB-D4D3-4843-9000-868B0A8EC2D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nderstanding How Servers and the Network Interac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ny server and network administrators create a diagram of the entire network or diagrams of different portions of a network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nd then update the diagrams each time an aspect of the network chang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CEC3-0D07-4D4D-9E98-60E31E06A3C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838080" y="290520"/>
            <a:ext cx="746784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0280-1123-463E-97A6-14E60B7AD70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nderstanding How Servers and the Network Interact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 network diagram should include the following element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rvers and any mainfram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orkstations and network print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ireless network devic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bled network devic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elecommunications link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ireless link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mote link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uilding loca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C126-0D3E-4A91-8478-CD0EBE3A4EA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raining Users to Hel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rain network users to be your partners in reporting problem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r example, they should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ve their work at the first sign of a problem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cord information about a problem as the problem is occurr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port any protocol information, such as error messages about a protocol or an addres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Quickly report a problem by telephone, or by voice mail if you cannot be reached immediatel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void sending e-mail about urgent problem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11-04-28T12:47:47Z</dcterms:modified>
  <cp:revision>693</cp:revision>
  <dc:subject/>
  <dc:title/>
</cp:coreProperties>
</file>