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E329-218A-4DF1-ABEC-B5BB19571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4BC-5EC7-4509-A0DE-C52BB32A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1D12-1A4B-45BA-A0BD-8B60FFAFC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95AD-4628-482E-A522-2EB2BA076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C778-0399-4105-9801-78BFEFA98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3D02-A8F2-44A1-829F-4C0365FA6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7B4D-1F4F-4C67-9CBA-4EAD8829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F450-6FD8-4EEC-A269-6BDCF0551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D768-FE8E-4085-B86C-A083821C0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7A05-2B3F-49E0-BA08-E962F8E72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5D61-BDE0-4DCC-88B4-394151A1A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6E6C-CAA0-4475-A3F1-915383E95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925D-1EBA-4749-83E9-CB94BE0E9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5BA1-9EE8-4636-8AA2-D9533F45C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7DE3-F692-45BD-9D3E-5571B034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2487-9F3D-4D87-9FCA-FB32BF653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56D4-D75C-4E86-8209-E56E57714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A11E-1095-4E84-9480-EBF9B2B57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15F5-E298-4944-AB9C-853871FE6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DE18-90AC-400C-903B-F4AC7E30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03D6-D0FB-42D5-A494-C1EB1CDE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1123-A88D-496C-9599-5CE521DE1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2D09-EF14-4078-83FE-89D47842C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B706-12DF-49AD-A4C7-AE01ACA96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17E9-A427-4018-8222-F8446E85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6B71-DA9D-4E91-A023-4F1403C3E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6C03-937C-46D2-8DA9-0352CE544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68B3-4A2B-4EC6-8D60-0B626BBB4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787E-EE8D-4F7D-9A51-AD7C819C1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B2E1-009C-49D5-8B90-F0B5B50D3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F822-34E2-4BC6-9063-B772E8249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B7CB-732E-428B-B442-0616C4008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2EAF-361B-4A0E-8B2F-C1A4792CF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D48F-B8E8-4ACE-BC46-164D5B458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29AB-2E6F-46B5-93F2-705E97A64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F152-2DA6-48F9-BE8B-02C1FEB54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AE59-E37E-4589-9E17-6872275E5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927D-5A30-4BAE-B2D5-667052276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4674-3279-4B10-AC23-2377EA863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EEAE-E365-4B3A-8A79-BA2E47C2F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0EAC-7FBE-4686-9A8C-492937079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FFDC-62CF-4F75-8D44-05811DB4C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4713-1F03-4F10-857E-7D2DB19DD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19649-47D3-4974-B482-093C0287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A75EA-4EEC-412D-9511-73E87EDA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6375E-E0A3-4EEF-8F09-A7931AB6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57273-4738-452A-8CC2-1BE16769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3F82F-D2E3-4E6F-82D6-9AF32C22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A427E-011D-4C72-8D86-E757D592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2C2C9-BD39-4928-8475-120A5702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537E-2CE9-4FC3-A064-964C77002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F4827-1ED8-4408-B23A-86FF6779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912FE-6D0B-4911-870A-32D2EFB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E6AB8-92A9-4E9E-B627-55780392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8AF60-9113-49A7-AE59-5CCA55AF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07BCC-D6D1-4D57-BB68-F7B89A1F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842F7-B3F5-49A2-9FAD-245234CA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246D1-3F41-4461-8BBF-824EA2E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D8E7A-C025-49A1-9871-FC6EA6B8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2F407-1618-469B-ABF9-41EAC752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09E97-3BA7-4258-AA42-6615E6E7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EB4E-6384-4003-BB93-4CC6AF225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A12A5-4D6D-489C-B314-C80585F8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58C36-9FD5-4896-96A8-A00B1491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D6C3E-3CB1-418D-B3C1-2535D0FA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5AEF1-88FD-417A-8DFA-4DD1147A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C26AD-5F25-424B-8F3A-E11F5222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807DC-EA0E-4A12-96EB-4342CA97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B0A49-3A80-4CFD-AE70-FD52940A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0AA4-38CE-4CEE-920C-255F89349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BC63-E17B-4B99-9FC0-32F886BA2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B445-7D58-42C7-9094-F5886BDC7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15E8-3311-44AA-95EA-7B5F3D56C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EC0A-91CD-4D76-9FCE-3AF63DCC6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5E20-674F-4887-8C21-78D1BAE34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D39-45BE-40EC-8837-C50778044C3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148D-5C47-48BC-8023-1A0873CC030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Hands-On Microsoft Windows Serv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5959-7FE7-4CB5-90A5-E07D27E9540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Introduction to Windows Server 2008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3" descr="Cengage_1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5CC4-26F2-4BC0-A97A-5BEB3480523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Enterprise Edi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icrosoft Metadirectory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acilitate multiple directory services to track and manage access to such resources as user accounts, shared folders, and shared prin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other option in Enterprise Edition is the ability to have unlimited numbers of users remotely access a 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75F7-0059-4A1D-A275-FC77B7BCDF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Web Server 2008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igned for hosting and deploying Web services and appli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orts multiple processors for scala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rticularly optimized to run Microsoft Internet Information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nded for small to large companies, or departments within an organization that develop and deploy a single Web si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not be used to manage directory resources via hosting Active Direct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64F5-29D4-4332-81AF-44173647AC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Datacenter Edi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igned for environments with mission-critical applications, very large databases, and information access requiring high availa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ffers support for clustering with up to 16 compu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SMP computers, offers support for 2 to 64 processo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ables hot-add memory for increased server availa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03C2-C8FE-44AB-A86D-EAE72BC1C7E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Datacenter Edi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Hot-add process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added to an empty processor slot while the system is ru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Hot-replace process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replace a processor in an SMP system without taking the system dow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FF61-D156-4F3C-9974-6CE5A2E8624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for Itanium-Based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maximum RAM supported by Windows Server 2008 for Itanium-Based Systems is 2 T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orts hot-add memory, hot-add processor, hot-replace processor, and SMP compu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orts server clustering for up to eight servers in one clus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nded for resource-intensive appli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D766-2FB1-490E-AD93-C63E7ECEB69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Versions Without Hyper-V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ollowing non-Hyper-V versions of Windows 2008 are availabl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Standard Edition without Hyper-V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Enterprise Edition without Hyper-V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Datacenter Edition without Hyper-V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purchase a version without Hyper-V, the cost savings is very smal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C9A2-1B08-4E37-9034-6D2AD51F263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Windows Server 2008 with Clien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client workstation operating system most compatible with Windows Server 2008 is Windows 7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lient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computer that accesses resources on another computer via a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Works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computer that has its own central processing unit (CPU) and can be used as a stand-alone or network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D328-8AB7-4F24-9202-59237E01BFD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Windows Server 2008 with Client System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overall goal of Microsoft is to achieve a lowe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total cost of ownership (TCO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CO is the full cost of owning a network, including hardware, software, training, maintenance, and user support cos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omai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grouping of network objects, such as computers, servers, and user accounts, that provides for easier manag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uters and users in a domain can be managed to determine what resources they can ac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EC79-D72B-4981-88DD-709DCCE8AB2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Windows Server 2008 with Client System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tages of using Windows Server 2008 and Windows 7 together include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w capabilities to recover from many types of network communications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wly written code for more efficient network commun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re network diagnostic capabil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w code for better use of the network communications protoc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of Windows PowerShell commands and scripts in both Windows Server 2008 and 7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6E5D-E01D-4061-B31D-46FD6E48D15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Windows Server 2008 with Client System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ctive Direct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base of computers, users, groups of users, shared printers, shared folders, and other network resour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supports UNIX and Linux clients using th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ubsystem for UNIX-based Applications (SUA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3FA1-B1AB-49E2-89C5-80A2EBA178C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key features of each Windows Server 2008 edi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 client systems that can be used with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important general features of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lan a Windows Server 2008 networking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 and implement networking protocols used by Windows Server 200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52D7-9105-4E90-AD52-8D0A0DD1EDC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Feat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eatures includ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rver Manag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hanced Web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Co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PowerShe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rtualiz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ultitasking and multithread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D055-4441-4238-8116-8C541A9E9C2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rver Manag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rver Mana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the server administrator to manage critical configuration features from inside one too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rver Manager is used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ew computer configuration information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hange properties of a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ew network conne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e Remote Deskt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e security, including the firewall and how to obtain upd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29AE-63C9-4C7F-83B8-5EDF54F56AC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rver Manager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rver Manager is used to: (continued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e a multitude of server roles, from a basic file server to advanced network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d and remove featur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un diagnostic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storage and backup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449E-78CD-470B-B1A0-DD5B40219EA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cur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Network Access Protection (NA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umbrella of security protection features that monitor and manage a server and its cli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P has the following capabiliti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dentifies clients and other computers on a network that do not comply with the security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mits access by noncompliant compu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cally updates or configures a noncompliant computer to match the security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inuously checks throughout the entire network and server connection sess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A6BF-BA56-4BA4-89D0-1E38E8CF3CA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curit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you install Windows Server 2008, add a feature, or install a Windows compon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 essential level of security is automatically implement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also comes with the Security Configuration Wizard (SCW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mplifies security configu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6F0B-0670-4D7C-8928-D84E690C1C7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curit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ther security features includ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le and folder permiss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curity poli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ryption of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ent audi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arious authentication metho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rver management and monitoring 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F41F-E8F5-4DDA-A5C0-FD2A36DB9D1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ustering and Clustering Too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Server 2008 offers tools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est a cluster to ensure it is set up to accomplish the tasks for which it is intend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igrate configuration settings from one cluster to anoth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Quickly configure a cluster and troubleshoot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up storage used in a clus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 better cluster storage performance and reli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cure a cluster and enable it to use new network capabil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D3D9-3088-4476-B734-A08026283AF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nhanced Web Ser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222222"/>
                </a:solidFill>
                <a:latin typeface="Arial"/>
              </a:rPr>
              <a:t>Microsoft </a:t>
            </a:r>
            <a:r>
              <a:rPr b="1" lang="fr-FR" sz="2600" spc="-1" strike="noStrike">
                <a:solidFill>
                  <a:srgbClr val="222222"/>
                </a:solidFill>
                <a:latin typeface="Arial"/>
              </a:rPr>
              <a:t>Internet Information Services (II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nsforms Windows Server 2008 into a versatile Web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IS has been redesigned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lude over 40 modu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tended to enable IIS to have a lower attack surfa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easier application of IIS patch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e it easier for network programmers to write network applications and configure applications for the Web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8A5A-02A5-4AF3-961D-92D4E78FC61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PowerShell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Windows PowerShel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command-line interface that offers a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he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 customized environment for executing commands and scrip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perform the following tasks with PowerShell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ork with files and fol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disk stora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network tas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up local and network printing op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tall, list, and remove software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2E19-D8DE-411A-9F94-2EC4CCBBDFF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PowerShell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perform the following tasks with PowerShell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iew information about the local computer, including user accou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services and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ck a computer or log off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 IIS Web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ndows PowerShell offers over 130 command-line tools, also 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mdle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EFFA-72B2-48BE-B990-AE68EA940D8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Platfor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Windows Server 2008 platforms are as follow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Standard Edi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Enterprise Edi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Web Server 2008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Datacenter Edi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for Itanium-Based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Standard Edition w/o Hyper-V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Enterprise Edition w/o Hyper-V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ndows Server 2008 Datacenter Edition w/o Hyper-V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7F59-D698-456F-AA0C-C2E342F4BAC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PowerShell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55760" y="1523880"/>
            <a:ext cx="8219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FA0E-D0DE-4822-9195-C1E4EB800A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Virtualiz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yper-V provides the ability to run two or more operating systems on a single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Hyper-V capabilities include the follow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tible with cluster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ble to handle up to a four-processor SMP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used with Windows and Linux operating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tible with different types of disk storage metho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fast migration from one computer to anoth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house 64-bit and 32-bit operating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F29-9589-40CC-A28A-A83EB0042F4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lanning a Windows Server 2008 Networking Model 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eer-to-peer network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cuses on spreading network resource administration among server and nonserver members of a net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rver-based network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entralizes the network administration on one or more serv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DF71-3ACD-4B18-AD45-63CB08DF6E6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eer-to-Peer Network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52956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3547-B22E-4A14-BDF0-F6DD1307443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eer-to-Peer Network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of the users is responsible for the security of their ow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lly designed for about 10 workstations or l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often experience slow response tim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cause this model is not optimized for multiple users accessing one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Workgrou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number of users who share drive and printer resour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4F15-F9A4-43BE-800C-F7E4A011296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rver-Based Network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r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ingle computer that provides extensive multiuser access to network resour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handle hundreds of users at o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ast response when delivering the shared resour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Less network congestion when multiple workstations access that resour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s only need to log on once to gain access to network resour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curity is strong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CD11-751A-4B41-9D4C-CFB642DBCEA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1523880" y="77760"/>
            <a:ext cx="609624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F375-0319-4B9D-8E22-45DE58614E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ementing TCP/IP in Windows Server 2008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mplementing TCP/IP involves two task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erifying it is enabl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ing i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C5E6-9C70-45B7-95FE-9CED29B73BB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208240" y="76320"/>
            <a:ext cx="4727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5334-5D4F-4007-9409-7CF9FAFDC12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Standard Edi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most basic server version on which the other versions are ba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igned to meet the everyday needs of small to large busin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vides file and print services, secure Internet connectivity, and centralized management of network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orts multiprocessor computers and multiprocessor cli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943F-61D5-4CC2-B458-6A526C1F140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Standard Edi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ymmetric multiprocessor (SMP)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multiprocessor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Hyper-V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Windows Server 2008 to offer a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virtualization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environ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tages of Hyper-V compared with Microsoft’s earlier Virtual Server 2005 R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run 32-bit and 64-bit operating systems at the same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run on SMP comput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access larger memory seg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20EB-DDF2-4718-86BA-8835FF4BC6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Enterprise Edi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igned to meet the everyday needs of networks with applications and Web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ing high-end servers and a high level of productiv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nded for midsized and large organizations that want the option to continue scaling their server operations upwar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also handle SMP compu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ables cluste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A335-1B3A-4AE8-A2C0-C3726E3FC9C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Enterprise Edi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luste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bility to increase the access to server resources and provide fail-safe serv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By linking two or more discrete computer systems so they appear to function as though they are on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creases computer speed to complete server tasks fast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vides more computing power for handling resource-hungry application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636F-DB46-477C-AB71-07927007C87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371600" y="65160"/>
            <a:ext cx="640080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nds-On Microsoft Windows Server 20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96F7-9A0F-43D7-984E-2BF9335A679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indows Server 2008 Enterprise Edi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Hot-add mem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ability to add RAM without shutting down the computer or operating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ault tolerant memory sync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ables memory to resynchronize after transient memory problems so there is no interruption to current computing activ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0-03-22T22:24:49Z</dcterms:modified>
  <cp:revision>696</cp:revision>
  <dc:subject/>
  <dc:title/>
</cp:coreProperties>
</file>