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314E-079B-4FB7-B6BE-58D3A6E0D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D6C5-9835-4FCD-A1EF-234AE3566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99B9-FC82-4B69-A014-7459C337E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EF70-BBBD-4710-90DC-317C63690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7B83-D65E-4C42-ACA1-E35B22132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81A0-DE01-4134-9F65-7287C4692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0099-6314-4254-ACE4-41005CCDF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9BB0-9DB2-4D8A-9F50-52D9C2FEC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122B-6F9F-4EB1-AA06-30DA51F87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45F8-24C4-4DCE-B102-679A439F2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5A71-DE2E-4A23-8C6F-98107616A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F952-F69F-444E-9FE6-ED38930C8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9D90-F9B8-4FD3-80F7-02532E6D6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77E4-9065-4E3F-859F-146710141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C01F-25CE-40DE-9934-A5C3EBC4E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CE01-42ED-40F0-A414-2330DE266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BC0D-B72C-4935-9408-4D1D2E37F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AFDC-C422-49B3-82D7-347C4EA14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5E58-608B-4606-A1D4-686518718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1587-E75A-4572-88AD-6634DB296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339E-1007-4BE3-8E18-73FAF4C86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3C70-AF42-4425-B920-25FE670D6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21A4-D447-4EE9-9EE5-29988A107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72C9-99A7-4340-B639-55C2FAF9D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BEF7-77E3-4299-B42E-0D693D8CE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7C1F-D7FC-4341-BEB9-8CEAC078D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02ADF-A939-4E51-A082-189AB5AC67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1D458-34D3-4478-B8AB-C8C54E221A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05D00-AF05-42DC-B6A9-0A10859293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C2858-0CFD-426F-B859-69F411A000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3D314-2316-4649-8E43-4D528E95F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52F16-551B-476C-AC71-44F031B2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C85EB7-25B6-46B4-96C4-B641302B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8C5E8-DB9B-4326-9E3A-7D10C110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57B0D1-797D-435D-98C8-B6AFDC63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32109-C810-461D-9753-19EFB340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C671E-1CA8-4F97-AC35-018019FC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9F5C7-A4BB-4533-AEE1-E3C4A6E2C2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C759B-D8C8-4948-8C06-9296EEA1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31809-FA40-430D-AF27-6C87791E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D9643-0990-4BBB-A095-1ABAED07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3BFC7-7B7B-4D91-9009-BB45EC91A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61C99-803C-4A06-8FFD-8883CF6B8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539104-9138-42B5-A6D6-6787A3289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CFDA6F-D26E-4DB6-9CD5-7CBD4F3E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879316-1DD1-4500-A040-B359C0F1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0497BD-3869-4404-8ACA-1611D555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CE6546-B656-4CF2-8E13-CEEC4245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505B1-AC1F-4A64-AD3A-B1BB7448EF4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473B19-2214-4722-9127-62F4C499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2A6615-774D-4F46-ACFA-B95E5669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B4AA57-B497-4060-B59A-1D3A74CB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9E9D4F-06B0-43EE-96CE-7964D8A0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D31E72-020E-4856-963F-EDA6A65B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8D4FC9-C517-4F26-8744-F2398A56A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3277C0-9BB8-4222-AC79-2CC01E1A2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6F403-09E6-4114-96A9-533F9193D8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B5818-B667-4415-B6A8-ABC1C1FF72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0BE51-CF54-48AC-995B-B80A2A1189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BD4DC-A228-46A1-8458-BD1EB2948E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E6DDB-B428-41ED-95C1-66719ADE1E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30BC0-D1BB-4031-8B28-FDF9B4FD7C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520" y="632412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120"/>
            <a:ext cx="2057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8120-ADFC-4D01-B1D4-1E07D0F16E2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Hands-On Microsoft Windows Serv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6E98-9199-4238-945D-29243F6E468B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Hands-On Microsoft Windows Serv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0C72-A860-4158-A664-F2B86431586B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1447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4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09120" y="44193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Chapter 6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Configuring Windows Server 2008 Printing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31" name="Picture 3" descr="Cengage_1.jpg"/>
          <p:cNvPicPr/>
          <p:nvPr/>
        </p:nvPicPr>
        <p:blipFill>
          <a:blip r:embed="rId1"/>
          <a:stretch/>
        </p:blipFill>
        <p:spPr>
          <a:xfrm>
            <a:off x="0" y="0"/>
            <a:ext cx="3666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7583-27DF-4447-AB0C-56677142085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nabling Printer Sharing on a Network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fter you install a printer on a network to be shared, turn on network printer shar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is step enables printer sharing through the Windows Firewall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9331-2685-4A41-A8E3-2369FBE84F5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e Printer Properti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inter properties are available by opening Control Panel, then clicking Printer in the Control Panel Home View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r the Printers applet in the Classic View to access the Printers window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ight click on the printer to access its propert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52DC-8928-4CE2-A368-231CDC25336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General Printer Specification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74" name="Picture 6" descr=""/>
          <p:cNvPicPr/>
          <p:nvPr/>
        </p:nvPicPr>
        <p:blipFill>
          <a:blip r:embed="rId1"/>
          <a:stretch/>
        </p:blipFill>
        <p:spPr>
          <a:xfrm>
            <a:off x="2133720" y="1143000"/>
            <a:ext cx="487656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EA00-907E-4B12-8F2F-5B2C7910D08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haring Printer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Sharing tab is used to enable or disable a printer for shar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s well as to specify the name of the share 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f you enable sharing, provide a name for the shared print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nd check List in the directory to publish the printer through Active Director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Additional Drivers button on a printer</a:t>
            </a:r>
            <a:r>
              <a:rPr b="0" lang="ja-JP" sz="2600" spc="-1" strike="noStrike">
                <a:solidFill>
                  <a:srgbClr val="222222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 properties Sharing tab is used to add new types of clien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E5FD-8B4E-4891-96F1-6C9D31C07BB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1752480" y="304920"/>
            <a:ext cx="563904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3E95-9AEE-4EDA-98CB-182537BB4AF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ort Specification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Ports tab has options to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pecify which server port, such as LPT1, is used for the print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et up bidirectional printing and printer pool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183E-8404-4726-85D9-320D519DE90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6" descr=""/>
          <p:cNvPicPr/>
          <p:nvPr/>
        </p:nvPicPr>
        <p:blipFill>
          <a:blip r:embed="rId1"/>
          <a:stretch/>
        </p:blipFill>
        <p:spPr>
          <a:xfrm>
            <a:off x="434880" y="533520"/>
            <a:ext cx="8269560" cy="54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FC46-B8B4-4E17-B243-9B95FEC184C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665360" y="76320"/>
            <a:ext cx="58132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C482-BCF6-419A-BFEA-C08EA5E2CF9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ort Specification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Printer pool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volves configuring two or more identical printers connected to one print serv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ll of the printers in a pool must be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identical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o that they use the same printer driver and handle print files in the same wa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Add Port button enables you to add a new por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Delete Port button is used to remove a port option from the list of por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46C7-5F0A-48E9-9A57-86769B2FF22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ort Specification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99" name="Picture 6" descr=""/>
          <p:cNvPicPr/>
          <p:nvPr/>
        </p:nvPicPr>
        <p:blipFill>
          <a:blip r:embed="rId1"/>
          <a:stretch/>
        </p:blipFill>
        <p:spPr>
          <a:xfrm>
            <a:off x="2066760" y="2009880"/>
            <a:ext cx="501048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04CC-2D6A-4C7A-9490-4BB42D9564C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nderstand how Windows Server 2008 printing work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stall the Print Services rol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e the Printers window to configure printing properti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stall local and shared print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nfigure printer properti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nfigure a nonlocal or Internet print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nage print job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e the Print Management too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AC66-0D4D-469C-B9F4-4B71E2D4569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rinter Scheduling and Advanced Option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Advanced tab allows you to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Have a printer available at all tim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Limit the time to a range of hou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You can set the priority higher to give a particular printer or printer pool priorit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ver other printers attached to the serv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1E4A-3D00-49C1-86D4-0D83B9200FB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rinter Scheduling and Advanced Option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Advanced tab provides the option to use spooled printing or to bypass the spool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orks best to spool print jobs so they are printed on a first-come, first-served basi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Enable background printing so the CPU can work on other task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Also helps ensure that jobs are printed together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F909-613E-4D16-85D2-AACDA35D3AD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Securit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o configure security for a printer, you must have Manage printers permissions for that print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e the Security tab to set up printer share permiss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e the Advanced button on the Security tab to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et up special printer permissions for a specific group or us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dd or remove a group or user for security acces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et up printer audit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ake ownership of a print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View the effective permissions for a user or group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19B6-677F-40D0-BFF8-1BFAAF1AF38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Picture 5" descr=""/>
          <p:cNvPicPr/>
          <p:nvPr/>
        </p:nvPicPr>
        <p:blipFill>
          <a:blip r:embed="rId1"/>
          <a:stretch/>
        </p:blipFill>
        <p:spPr>
          <a:xfrm>
            <a:off x="1752480" y="228600"/>
            <a:ext cx="5639040" cy="60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E457-168F-49B7-BF41-6716DC5CA75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the Print Management Tool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Print Management too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lso called the Print Management Console or PMC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entralizes shared printer control in one plac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31480" indent="-226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Enabling printer administrators and operators to manage the print functions of some or all of the shared printers on a network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ing the Print Management tool, you can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tart the Network Printer Installation Wizard to set up network printers for shar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View and manage installed print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View and manage printer drivers for installed print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1EE0-CBB4-4D2A-B2D3-C33736B3929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613640" cy="57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8DCE-6BA8-46B9-A131-48983B82EEE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n Overview of Windows Server 2008 Print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etwork printing process componen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Local print devic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Network print devic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int clie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int serv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int job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inter driv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Spool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rees the server CPU to handle other processing requests in addition to print reques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3B32-20C1-4D04-B544-6F52AFF66B3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ow Network Printing Work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inting process step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pplication client generates a print fi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pplication communicates with the Windows graphics device interface (GDI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hen the GDI is finished, the print file is formatted with control cod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remote print provider at the client makes a remote procedure call to the network print serv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network print server uses four processes to receive and process a print file: router, print provider, print processor, and print monito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1D74-B087-4E67-95B3-59CC35B427A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ow Network Printing Work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inting process steps (continued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Server service calls its router, the Print Spooler servic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hile the file is spooled, the print provider works with the print processor to ensure that the file is formatted to use the right data typ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print monitor pulls it from the spooler</a:t>
            </a:r>
            <a:r>
              <a:rPr b="0" lang="ja-JP" sz="2400" spc="-1" strike="noStrike">
                <a:solidFill>
                  <a:srgbClr val="222222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 disk storage and sends it off to the print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D21A-12C5-4C82-982F-59DCC189BD5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ow Internet Printing Work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ternet Information Services (IIS) must be installed and running in Windows Server 2008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client must connect to the Windows Server 2008 IIS using a Web brows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print process on the client is nearly the same as for network printing with a couple of exception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Browser sends the print file to the GDI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mote print provider at the client makes a remote procedure call to IIS using Internet Printing Protocol (IPP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179B-57C8-4B43-9E49-64ED1E47ACA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stalling the Print Services Rol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int Services rol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ables you to use the Print Management tool to manage shared print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lso enables you to track printing events through a log you can view using the Event View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rvices within the role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int Serv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ternet Print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B50E-9C2A-4EA4-B271-E400B22F250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stalling Local and Shared Printer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 Windows Server 2008, you can configure a printer that is attached to the server computer as a local print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nd then enable it as a shared print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hen you share a printer, the Windows Server 2008 server becomes a true print serv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BD3E-65CB-4A8D-BD8D-09E68A63A02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2:07:45Z</dcterms:created>
  <dc:creator/>
  <dc:description/>
  <dc:language>en-US</dc:language>
  <cp:lastModifiedBy/>
  <dcterms:modified xsi:type="dcterms:W3CDTF">2011-04-14T12:56:18Z</dcterms:modified>
  <cp:revision>693</cp:revision>
  <dc:subject/>
  <dc:title>Chapter 1</dc:title>
</cp:coreProperties>
</file>