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9A04-1A25-4834-AC5D-80C412F1A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9362-7549-4814-BE3D-3F70E3C37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E171-8019-456A-96A6-DD2E557DA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DD1E-CAFA-4B31-9CA5-C3B02D52A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3041-5593-4E16-9FC7-21DDF9713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72BD-3F68-462E-8F90-FF1A4DC55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5E09-F925-4C8F-B1C9-094294ECC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249-39BE-4E0C-BED8-9EA3404E9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C298-4D95-49C0-96EC-4B00AF2F5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225A-87CF-4C6D-8868-259DEEFB9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B32F-05DB-4D6F-AF6A-61E2F34CC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6D56-546E-4DA6-9637-7149E70EF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5799-DF8C-4845-A00A-2A1A6E6CE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EC73-875F-4577-AD16-DF95D048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DB16-B7EF-448E-AF96-674860F7E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6E9E-CC0A-4B50-BFC1-C2FC8DDFF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E79B-F856-4110-A31B-91704C37F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A61C-4E6D-4A33-85B6-37FA9323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A6FE-086F-4953-9351-79113756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E6BA-0C70-4757-A13D-D653FAD22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CD37-662E-4B40-942C-FCAA2F0BC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CEBA-BE92-4FE1-8E6A-A4A3584DC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9B18-D165-4FBD-8363-E58D357A1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3D44-D32B-40D0-85DA-8BD89D2B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FBD2-ABE8-4AF1-9B0C-27640380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02F6-A897-4FBA-8EEF-7FC4C37C3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9873-C378-4313-B54E-E0E5B0D40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CB6A-DB33-4714-A1E7-72368C5A3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67AA-F52E-45B3-A807-DFD31C87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9595-F947-4031-AA71-BC39DBBC0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96FB-1389-4323-88C3-DF4CF1344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EF63-F8E3-42AD-B08F-554B1C27B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CA9F-5847-4671-861A-0FA96E1B9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3977-9178-494A-B536-3CD6AFE3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32F4-AD13-468C-BD25-9C4A45CB1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C334-0E76-4FA5-B8B9-714E18E2A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AF79-D64D-4CAA-89A5-79AF63E39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09B8-041D-4119-870B-6D572E73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7E60-0674-45A0-AF3C-C92038E27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DBCB-D8F6-4BCB-B301-1415D329A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4BDF-D81D-468C-93C7-BA464C91E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92DF-CA11-4399-A0F1-A417BF208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2DE8-1CDE-45FF-91C6-AD7AC4593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9AE-4212-47A8-B9F2-05E4CFAE8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D147-21CA-4AB4-B62F-1DDA799F1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92AF-B7E7-4697-A721-6BF160FFD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FB56-746B-42F9-B459-F463E8D6D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FD59-D968-42B9-853D-DD4D9A247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2968-40C4-441E-BD1D-0DCC81DB5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EFDB-CE7A-401C-8D62-0DEB443DC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7332-005A-43E7-888F-924EAE0B2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B58D-A767-4C14-B6C0-D20BF314D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FD1AE-7B5A-42C4-96A4-DD78E4D6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8C1EE-68B6-4323-A2D9-30214CE9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6300A-B613-49DA-BA1D-8C76A925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BBE42-D475-4367-A633-EBA88EE8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9AA46-0FF4-46FD-97F6-6B90193E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0C986-2FE4-4075-8B79-E54D7808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18335-1C65-42FA-9619-9018A5F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80C9-7A7F-440B-9F52-71CC0247E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DD740-93DB-4DE5-A51A-FA5FCBA3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E6496-A65E-4EC4-997E-84848A75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85B15-87EE-4E38-81F5-06D54660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CF61C-EF5D-49FB-B999-C6B047A7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6F940-1B07-4EE5-892F-A8D82671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41DE5-D76C-4958-9686-9F8253D2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99B80-F9AB-4B66-B6D3-BE73D5A6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EEFDF-4C0B-4C1D-BF4D-09BBAD9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AA6C6-B51E-4898-9079-F40546A5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0CB01-51FB-4D66-956D-A6CC9468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75C8-4CAC-423C-A6DE-331B73AE8B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AD2FF-5682-4977-9DCC-AB957365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A499A-F982-431B-9E7D-A1E94E3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57267-E84D-41A6-938F-DA958305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E6BBE-E801-4154-985F-21708ACD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EF63C-13EE-4CD6-A43A-9210DB49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CE79B-92DE-447D-A095-09A95F07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BF6AF-4915-4EBD-A9C7-F9C07163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FF85-0F3A-4859-A96F-76978018E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CD03-7EE3-45AE-B78E-CBB328E6A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04B6-9333-41D1-BE41-E1259FC30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498A-A07B-4062-98E0-5B0DC10B7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74E6-31F8-48C0-9116-E15A7A6B9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E615-C028-4CBD-98EF-3F809ADF2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22D7-E431-448F-82C5-B29E3076F38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81EE-201F-4167-B5CD-BAD4CAC106B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6347-C811-42FD-B779-DD70CE0172B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2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Installing Windows Server 2008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2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1763-3946-448F-81E6-D428EA7B490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825480" y="444600"/>
            <a:ext cx="748044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F9B0-A925-4E17-B157-4D436AE6F90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nderstanding NTF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New Technology File System (NTF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native Windows Server file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TFS features includ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cal security through file and folder permiss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k quot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ryp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OSIX.1 supp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05D9-784F-4132-A11A-7AA41F9959E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nderstanding NTF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TFS features include (continued)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Journal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rge volume capac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ard lin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lf-heal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ortable operating system interface (POSIX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et of standards designed to enable portability of applications from one computer system to anoth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Journal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by a file system means that it tracks changes to files and keeps a record of these changes in a separate log fi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F685-1363-4609-A35E-24CF32C5781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nderstanding NTF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not install Windows Server 2008 on a FAT volu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heck to ensure that any File Allocation Table (FAT) volumes are first converted to NTF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6BE8-4555-4C5F-9A6B-4A1D1FC86B8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nderstanding NTF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762120" y="1633680"/>
            <a:ext cx="76197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811A-E661-4BC1-AC65-2F5A5F21F46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lanning User Licens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the Standard and Enterprise edi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currently can purchase your initial edition with five or 25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lient access licenses (CALs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the Datacenter and Itanium-Based edi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pay one flat cost per process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there is a virtual server set up for Windows Server 2008 Standard Edi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s may have one virtual access per C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Windows Server 2008 Datacenter Edi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workstation can have unlimited virtual accesses per processor licen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6EDB-2F76-4376-A521-C8B42943BFA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Domain or Workgroup Membershi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termine the type of network access for which your computer will be configur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specify a domain or workgroup on the Initial Configuration Tasks window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quirements for adding the computer to a domai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the DNS name of the domain you want to jo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must have a computer account in the domain you want to jo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domain controller and a DNS server must be online before you can join the dom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80A9-5A2E-425D-B9C6-6946FBE6880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Whether to Install Server Core or the Full Vers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scenarios for a Server Core installatio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r organization is medium or large in size and wants to dedicate one server to operate as a DHCP or combined DHCP and DNS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r organization offers many shared folders to users for their work and the organization wants to centralize all of the shared folders on one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server contains only centralized databases accessed by us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server holds critical files for the organization and needs to have the smallest attack surf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server is dedicated to one narrow ta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B3DF-1986-4246-B4EA-B261C403B33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Whether to Install Server Core or the Full Vers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mple scenarios for installing the full version ar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r organization is a small or medium-size business and does not plan to dedicate a server for a specific function, such as for DHC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prefer to work in a GUI environ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r organization needs to have GUI-based software on the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server administrator is relatively new to Windows Server 2008 and wants to use wizards for guid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server must have .NET Framework for the applications on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FF01-5534-4A33-991A-BE8A9533A1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dentifying Server Ro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Certificate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ur services are incorporated into this role, as shown in Table 2-2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Domain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entral to implementing Active Directory and creating one or more domai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Federation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d to manage security tokens and security services on a Windows Server 2008 Web-based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BB67-1D2C-4DEB-977E-9892C8A2A09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lan and make the appropriate preparations for installing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 the different installation methods used and install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t up Windows Server 2008 from the Initial Configuration Tasks window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ate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EFA2-F5B5-442A-9301-666FCA7F3B2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dentifying Server Rol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669960" y="2144880"/>
            <a:ext cx="77882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BA4-04C9-4332-894A-864E3C2BD0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dentifying Server Rol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Lightweight Directory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nded for servers that primarily manage applications for us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e Directory Rights Management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s security capabilities such as encryption, user authentication, and security certificates to help safeguard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pplication Server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laces the Windows Server 2008 server in the role of a computer that makes applications available to users on a network or over the Web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85F3-CC48-4A61-BD21-B6BA91E669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dentifying Server Rol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HCP Server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ole in which the server leases IP addresses to network cli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NS Server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NS maintains tables from which this service translates domain and computer names into IP addresses and vice vers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ax Server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rough the Fax Server role, you can manage all fax resources on a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271-1140-49CF-B622-28A44036A09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dentifying Server Rol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le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users to access and share files through one or more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yper-V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Windows Server 2008 to function as a virtual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twork Policy and Access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network is kept secure and healthy by having policies governing who can access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A1F8-A961-4691-9C7E-1D7B5674B0F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dentifying Server Rol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int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ludes a service to make a Windows Server 2008 server a formal Print Server that manages print jobs and network printers from one pl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erminal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 client computers to run services and software applications on the server instead of on the cli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DDI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the discovery of existing Web services and program resources that can be used over and over in different Web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7EBB-7A4C-479A-B507-13CA1FFFEC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dentifying Server Rol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eb Server (IIS)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Windows Server 2008 to provide an ever-expanding range of Web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Deployment Services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an organization to purchase multiple computers without operating systems and then install Windows Server 2008 on all of the compu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F40A-213F-480D-AAAC-530054F46F9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verview of Windows Server 2008 Installation Method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rimary installation methods are as follow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VD install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pgrade from Windows Server 2003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tallation for a virtual server using Hyper-V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Deployment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F90A-5DD0-4707-BCE4-824AE0EF21A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VD Install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start the installation from DVD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e sure the computer’s BIOS is set to boot first from the CD/DVD dri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ert the Windows Server 2008 installation DV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ower off the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urn on the computer, and if necessary, press the key combination to boot from the CD/DVD dri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llow the instructions for installing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D7A1-6EA7-4C4C-BBE2-2EE1F8EBEB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pgrading from Windows Server 2003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general steps to begin an upgrade are as follow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oot the computer to use its current operating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ert the Windows Server 2008 installation DV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f you see the Autoplay window, click the option to Run setup.exe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hen you see the Install Windows window, click Install now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llow the instructions for installing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857-C44A-43C1-B240-094CDC9239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DF97-DFE7-4851-ADB8-72697B770A4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and configure Windows Deployment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all service pac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oubleshoot installation probl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install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1C4E-1D21-4DE8-8596-C6D101B4990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ation for a Virtual Server Using Hyper-V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actual installation steps of Windows Server 2008 as a virtual server are nearly the same as those for a DVD instal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t first you need to go through the steps to set up a virtual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78C0-992C-4319-A649-F9B4E5FEEFB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Deployment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WDS role is designed to enable the installation of Windows operating systems, Windows 7and Windows Server 2008, on multiple compu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use WDS, it’s not necessary to stay at the computer during the operating system installation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installation DVD is not necessa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installation files are sent over a network from the Windows Server 2008 Windows Deployment Services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owever, you do need to have licenses for all of the operating systems you install through W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C877-9E88-4A8B-89E1-AB6E6DD511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erforming a DVD-Based Install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ity 2-4: Installing Windows Server 2008 from DV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ime Required: Approximately 30–60 minutes (depending on the speed of your computer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bjective: Install Windows Server 2008 from DV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34F1-16C0-4B3A-A2A1-1ECE5986ED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Initial Configuration Tasks Window for Setu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his window, you can do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Computer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pdate This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ize This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don’t need to complete all of the tasks at this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t you should complete some preliminary tasks right aw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nfiguring the computer information, plan to configure how to update the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3713-0A99-4FDD-8332-D843647424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530280" y="209520"/>
            <a:ext cx="80802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DBB0-AD68-4824-94EA-099B536AE50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Initial Configuration Tasks Window for Setu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tivity 2-5: Performing Initial Configuration Tas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ime Required: Approximately 15–20 minu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bjective: Use the Initial Configuration Tasks window to start configuring Windows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B1FB-50F6-4BEF-89F3-29B65553F30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rver Activ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Windows Server 2008 is install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cessary to activate the copy of the operating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need to activate your copy of Windows Server 2008 before the short activation period expi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else many functions of the operating system are disab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can be activated through the Internet or by telepho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ED36-EF1C-4D73-8FAD-950537CFAF1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Windows Deployment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talls Windows Server 2008 and Windows Vis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tains the ability to install Windows Server 2003 and Windows X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hances perform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updated boot forma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s image-based installation techniqu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utilize multicasting for network efficien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ffers a redesigned presentation for choosing which operating system to insta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FC2C-15E2-4A34-8C0C-DDA03638FFA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Windows Deployment Servic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Deployment Services operate in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eboot Execution Environment (PXE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target computer on which to install the operating system already has software to be PXE-enab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PXE-enabled client can connect to the network and communicate with a server (or boot from the server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out first having to boot from an operating system on the client’s hard di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97BC-8B31-4CD7-96EF-E406DCCC994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and Configuring Windows Deployment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quire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DNS server already configured on the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DHCP server already configured on the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ive Directory Domain Services already installed on a network server and the WDS server is part of the domain managed by Active Direct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TFS as the file system on the Windows Deployment Services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install the Windows Deployment Services role from either the Initial Configuration Tasks window or from Server Mana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54FA-7BEE-43F6-9A0E-8F054B76A50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paring for Install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einstallation task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dentify the hardware requirements and check hardware compati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 disk partitioning op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nderstand the file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 upgrade op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lan user licens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 domain or workgroup membershi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CE4E-1D13-4DC3-911E-78065B5F1F1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lements for an Unattended Install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set up for an unattended installation, it is necessary to do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ent-side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nattend file, unattend.xml, in the \WDSClientUnattend fol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e Windows Deployment Services to use the unattend.xml 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D748-5686-46AE-952C-B6A90CB7A3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lements for an Unattended Installa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1"/>
          <a:stretch/>
        </p:blipFill>
        <p:spPr>
          <a:xfrm>
            <a:off x="1033560" y="2637000"/>
            <a:ext cx="7067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0F1A-B8B3-44C7-AFE7-B2990FEC35B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1359000" y="228600"/>
            <a:ext cx="6426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07CF-9E10-4BCC-AC1E-FEFAAFA34F9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Windows Server Co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steps for installing Windows Server Core are nearly identical to the steps for a full instal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ntil you reach the end of the process when you need to log on to the newly installed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implement all or portions of the following server rol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ive Directory Domain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ive Directory Lightweight Directory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HCP and DNS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, Print and Web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EDEB-9E8C-4EC3-80A2-5F105F252D6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Windows Server Co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many of these roles, not all role services can be installed as in the full installation of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s is in keeping with the design concept of having a smaller attack surface to discourage attackers and malicious 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start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command to install a particular ro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the /uninstall option to uninstall a ro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t the command line, enter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help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view a listing of comman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31AC-8015-47E3-86A1-DB7B63C6EA3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and Managing Service Pack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rvice packs are designed to correct things such as security issu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 well as problems affecting stability, performance, or the operation of features included with the operating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uidelines when installing the latest service pac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wnload the latest service pack from Microsoft’s download si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view the documentation that comes with the service pac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E30C-BFAB-4B68-9715-AF86E5053C5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talling and Managing Service Pack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uidelines when installing the latest service packs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form a full backup before you do the service pack install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f the server is already available to clients, schedule when the service pack will be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ce the service pack is installed, document any problems that occurred and how you fixed them for future refere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install the latest service pack by using Windows Upd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3CBC-4051-4842-BF55-551CDF223FF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ninstalling Windows Server 2008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installing Windows Server 2008 is a relatively straightforward pro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d requires you to format the partition on which it has been instal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you are installing another operating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You are usually given an opportunity to format the hard drive for that operating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also use the FDISK and FORMAT utilitie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other option is to use the DISKPART ut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F89-BBBD-43D9-807A-2A9B0861F39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paring for Installa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einstallation tasks: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hoose a computer na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 whether to install Server Core or the full vers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dentify the server roles to impl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 the immediate prepar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EC9D-9FEA-490B-810D-CA655EA6F2F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dentifying Hardware Requirements and Determining Compatibi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st operating systems come with a list of minimum hardware require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ways better to exceed the minimum recommend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y how much will be determined by what role the Windows Server 2008 server will play on the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dundant array of inexpensive disks (RAI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array of multiple hard drives designed to extend the life of disk drives and to prevent data loss from a hard disk fail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D2A-417A-4C9C-8A9D-59F8A052AAF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dentifying Hardware Requirements and Determining Compatibilit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ardware compatibility tes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most up-to-date listing of compatible hardware (and software) is the Catalog of Tested Products on Microsoft’s Web si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ww.windowsservercatalog.co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mmended that you select hardware listed on the Catalog of Tested Products or labeled with the Certified for Windows Server 2008 log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ight still be necessary to upgrade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basic input/output system (BIOS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4E31-9563-427A-8773-237E7876FA2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Disk Partitioning Op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ing a parti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process in which a hard disk section or a complete hard disk is prepared for use by an operating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disk can be formatted after it is partition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cess divides the disk into small sections called tracks and sectors for the storage of files by a particular file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Windows Server 2008 installation program will detect how your hard disk is currently partition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you to install the operating system on an existing partition or create a new o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6120-4FFB-47EC-BF19-135ADB6F95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1520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0-03-25T12:38:08Z</dcterms:modified>
  <cp:revision>694</cp:revision>
  <dc:subject/>
  <dc:title>Hands-On Microsoft Windows Server 2008</dc:title>
</cp:coreProperties>
</file>