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4064-B792-4E2F-89E9-704B2F0F8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2F0C-A3DF-40F9-B7F7-0D1C40E8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E4E6-5F18-447B-8DA1-4743312C0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03D2-09A6-44E9-8E87-4B1D74BCB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564B-3E06-485F-AD1B-C563AFE4B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2BD3-8CA4-429C-B88B-8B3396242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3EDB-7E1C-44D7-A495-87AEEDCB0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6919-FDC4-4FAD-9C8F-5B305F5A7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BD89-7D52-4678-BA79-391F3E481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B88B-FCCA-48D4-8370-0994F6B2F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CEB6-E853-4C24-B3B1-BE5651CB0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CB1A-B0D5-455A-9F04-1FB8A94B2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A7A9-4ACD-485D-86F0-AE5DADDAB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CE23-6F8F-4637-A8A1-FB6C77838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5F36-C5D7-4BAD-A4F2-A3B0600DC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A054-797F-4E3B-B933-6ABB27DDF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3B58-170F-47F6-8A40-36A506763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5CC1-983C-4C48-9B7C-17A0790AF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B453-0B0B-4E97-87C0-AF1807588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279E-0F56-4AE1-A93D-A45BD3811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A206-4E7D-46C7-9850-6365C065F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C853-E77D-42D9-B1AF-26AA17CD1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7E33-AF3B-46A8-8CD3-6AAFC1DAE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C914-F58E-49B2-9138-2FB1BAC8F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643A-EC0E-4FD0-814C-4C2DD0EC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F7C7-25E6-4CF4-A8FB-E4D368EDD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3ABC-4C1C-4748-9640-785E73784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69EE-D4B5-4B16-B4AF-FEE3F1869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9C02-0148-466E-9B4D-5C2401F32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0DBC-EE86-4ABA-A83C-2D65E56D8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A0A4-BC04-4989-A155-B402303D0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5A2A-650F-4931-8C4E-C3D733DED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3F8C-79D7-4F07-8BBF-3BCD98A4B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67EC-BD82-48C6-9981-69FE17818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76E9-0925-4955-AAD8-C63BF052E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412A-21F4-4C59-865C-288AD7BD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3CD6-497E-4DBF-8A14-1E4B35529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E836-EDC9-47BB-B58D-A5EC04BFE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7721-6CEA-44CD-A219-0D79BC8C4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1431-C843-4913-B97A-7F550314A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515B-9283-418F-ADDA-F84C0CE67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4E1B-B4C1-403F-ACE3-B492ED329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75AD-90E8-429E-824B-457726346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9FCB-0C1E-431A-895F-FD29A4C47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DDE3-1258-4A3A-A853-3043C4D13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15D9-C9D6-49C0-9870-AD44D3F8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78BE-F153-43DA-8E80-5CF592529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7DAB-2316-45AD-85F1-CF8CE018A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8804-CB46-43C2-AE4A-B6EAEEFBD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074E-F386-4BF6-A4FB-4F0BE4A16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F3A0-B47A-4269-BCAA-AF19E57F1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76F2-D173-4C70-8FFB-BE0CF50EB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95A-6671-4C4F-8BD3-08854CF01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996A-C956-42C3-ABE3-D3E339F42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B3FD-0492-4C9F-9229-0B86A61DB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8495-7147-4AC0-8BED-080E4A874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1EA9-9C6A-44EC-B49E-A9E7A4CAA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FDA6-64A4-4A36-99AE-484827FEC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A2872-2ED4-41DC-8E9C-5A21C689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28B8C-4E92-4748-87C8-125EFAB8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A759A-46DC-47AD-915A-32132C7D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FC703-46F5-4F88-BE63-389EC13D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94FFF-483C-4CF6-BE3B-89F36029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260AB-0012-4F68-AC5D-D9EDFE29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76314-F94D-4799-A926-EA8E678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F9B4-7C73-49B3-ACF8-03AFFBB52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2B4C6-4E13-4679-9355-0A051D90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814A0-CD35-400F-B044-E25A1A10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01F38-259B-4D5E-A4D0-5983D42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75203-DCB6-4148-85E8-D9F93353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4953E-63C5-413E-8361-BFD1E822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7E52C-0368-4A8D-97CF-09DE0E1C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1416A-D57C-4835-AFC2-93F60BD5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5CBC2-F710-45DA-AC1B-E8E3F8E4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E072E-BEE6-4356-BBC0-D7DF257D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18B8A-E52D-4F2E-A355-FE7BB93C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BCAE-D1A8-46D5-A394-1D192E7B4A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7E050-C77B-443A-87DA-D49A7C9A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991B2-4F10-44D7-B698-0FC7C194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53BA8-D324-465E-AB17-54878CF0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9B60F-BAAB-4BE9-B681-DCFAAB0B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8B855-7245-43A4-9055-03A8211A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C9CA4-1841-4C38-82BC-D3AAB984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099B3-4164-4B9A-9B1D-228DBF1A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D7E7-50DF-4666-A875-B6C16E578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510F-C1A6-4D65-B4D8-8960CF83D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6147-D7D4-4A11-8CBC-30C2A5E54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D62C-B94A-4F2D-A250-AB113D930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D688-23D4-4F54-9DB7-F1C153F65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106A-04B0-40D3-92A9-503B2A7DB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E0F4-3973-4508-9610-0F260F54F90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11E9-D113-4300-A670-15810DFA8BD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6117-978F-4515-BDE7-38AAECCF169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4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Introduction to Active Directory and Account Manager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98AB-82F3-420A-A43A-B5B4565B05B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lobal Catalo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Global catalo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ores information about every object within a fore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ore a full replica of every object within its own domain and a partial replica of each object within every domain in the fore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first DC configured in a forest becomes the global catalog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global catalog server enables forest-wide searches of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85A2-F2AB-404A-8B30-A063E986051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lobal Catalo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global catalog serves the following purpos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thenticating users when they log 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ing lookup and access to all resources in all domai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ing replication of key Active Directory elem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Keeping a copy of the most used attributes for each object for quick ac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1264-C032-48F1-AC10-E3C8ABB93A8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amespa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uses Domain Name System (DN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re must be a DNS server on the network that Active Directory can ac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employs two kinds of namespaces: contiguous and disjoint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ABA3-73C0-416D-BFFE-8A81B49E070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tainers in Active Directo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has a treelike struc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hierarchical elements, or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ontainer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of Active Directory include forests, trees, domains, organizational units (OUs), and sit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4117-ABFA-4039-AAA3-CDD310DD5E7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ores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ores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sists of one or more Active Directory trees that are in a common relationshi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ests have the following characteristic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trees can use a disjointed namesp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 trees use the same schem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 trees use the same global catalo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594F-FDD9-4A62-B5A7-0A6F6C9CF2A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762120" y="1487520"/>
            <a:ext cx="7619760" cy="4761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orest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F9A7-4B21-4A1D-942A-63E7CE82B56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orest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Active Directory recognizes three types of forest functional level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2000 Native forest functional leve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3 forest functional leve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forest functional leve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9984-2235-4B8C-9C46-C079F1515A3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e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Tre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ains one or more domains that are in a common relationshi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ee has the following characteristic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omains are represented in a contiguous namespace and can be in a hierarch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wo-way trust relationships exist between parent domains and child domai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 domains in a single tree use the same schema for all types of common obje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 domains use the same global catalo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314D-D1A8-4A5C-B3B1-7E25B4E84A6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e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domains in a tree typically have a hierarchical struc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ch as a root domain at the top and other domains under the roo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y one domain can have access to the resources of all oth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D1AC-263D-4F00-9DD3-452372568AC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e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1047600" y="2109960"/>
            <a:ext cx="704880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9345-FCE1-4B70-9BA7-3BD5E52E393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 Active Directory basic concep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 and configure Active Direct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mplement Active Directory contain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e and manage user accou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and use security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cribe and implement new Active Directory fea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A491-3156-4F0C-A4EC-8055FC1EDC1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omai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omain functional level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fers to the Windows Server operating systems on domain controllers and the domain-specific functions they suppor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Active Directory recognizes three domain functional level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2000 domain functional leve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3 domain functional leve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domain functional leve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1D4C-B561-4527-B54A-B7EC658E421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rganizational Uni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Organizational unit (OU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OU is a grouping of related objects within a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Us allow the grouping of objects so that they can be administered using the same group poli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s can be nested within OU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E2D3-A232-4F2B-843E-CA17BCA39BF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rganizational Unit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plan to create OUs, keep three concerns in mind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icrosoft recommends that you limit OUs to 10 levels or few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ive Directory works more efficiently when OUs are set up horizontally instead of vertic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1F34-D6BC-4ED3-8F6D-5DBFA2AE86E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i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TCP/IP-based concept (container) within Active Directory that is linked to IP subne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site has the following function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flects one or more interconnected subne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flects th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hysical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pect of the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s used for DC replic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s used to enable a client to access the DC that is physically close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s composed of only two types of objects, servers and configuration obje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011B-2438-4D9A-8A47-E7C853BFE12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it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asons to define a si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 a client to access network servers using the most efficient physical rou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C replication is most efficient when Active Directory has information about which DCs are in which lo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advantage of creating a site is that it sets up redundant paths between DC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ths are used for replic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7AF3-DB31-4336-A788-73AD671B2E0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it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ridgehead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DC that is designated to have the role of exchanging replication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ly one bridgehead server is set up per si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0D9E-DF2F-481B-9633-635C88891C1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5029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B6CB-E357-436F-813A-C4161A2D0F7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tive Directory Guidelin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bove all, keep Active Directory as simple as possi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lan its structure before you implement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mplement the least number of domains possi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th one domain being the ideal and building from the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mplement only one domain on most small net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OUs to reflect the organization</a:t>
            </a:r>
            <a:r>
              <a:rPr b="0" lang="ja-JP" sz="26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 struc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e only the number of OUs that are absolutely necessa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10A1-8480-4BFE-BFE2-421A268DCE9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tive Directory Guidelin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o not build an Active Directory with more than 10 levels of OU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domains as partitions in forests to demarcate commonly associated accounts and resources governed by group and security polic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mplement multiple trees and forests only as necessa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sites in situations where there are multiple IP subnets and multiple geographic loc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5A60-4D12-4BA3-BD03-390B5DBD1E6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er Account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fault account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ministrator and Gue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s can be set up in two general environment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that are set up through a stand-alone server that does not have Active Directory instal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that are set up in a domain when Active Directory is instal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8FC-5229-4F12-A854-70153FD474F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tive Directory Basic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rectory service that houses information about all network resources such as servers, printers, user accounts, groups of user accounts, security policies, and other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rectory serv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sponsible for providing a central listing of resources and ways to quickly find and access specific resources and for providing a way to manage network resour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7051-8811-4CB3-A15D-1B19A041E84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ating Accounts When Active Directory Is Not Installed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1353960" y="1523880"/>
            <a:ext cx="64040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3596-BB77-4869-8040-49993617D98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424160" y="685800"/>
            <a:ext cx="6295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D358-FF0B-4A78-9C2D-270633DA265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2303640" y="152280"/>
            <a:ext cx="453672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C7EA-49E3-4523-A584-E51F2450D02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curity Group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of the best ways to manage accounts is by grouping accounts that have similar characteristic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cope of influenc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(or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cop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reach of a group for gaining access to resources in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ypes of group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omain loc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nivers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C87E-DB3C-4ED3-88E6-CA03A206713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curity Group Management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l of these groups can be used for security or distribution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curity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to enable access to resources on a stand-alone server or in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istribution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for e-mail or telephone lists, to provide quick, mass distribution of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4252-ACFD-4BF1-9E85-7925627F101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Local Grou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Local security gro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to manage resources on a stand-alone computer that is not part of a domain and on member servers in a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ead of installing Active Directory, you can divide accounts into local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group would be given different security access based on the resources at the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5F58-EA50-48ED-ABC2-8F3033725E9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Domain Local Grou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omain local security gro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when Active Directory is deploy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ypically used to manage resources in a domain and to give global groups from the same and other domains access to those resour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scope of a domain local group is the domain in which the group exis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typical purpose of a domain local group is to provide access to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grant access to servers, folders, shared folders, and printers to a domain local gro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AD53-FBE7-431E-A199-B306D509E56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Global Grou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Global security gro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tended to contain contain user accounts and other global groups from the domain in which it was creat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also be set up as a member of a domain local group in the same or another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global group can be converted to a universal group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 long as it is not nested in another global group or in a universal gro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17C8-9957-411B-8D60-F56761FBBA3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457200" y="1365120"/>
            <a:ext cx="8229600" cy="4883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Global Grou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9981-9848-437C-A2BB-014FCEAE075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Global Grou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739800" y="1341360"/>
            <a:ext cx="76420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946C-D1AD-4964-BFAA-D17148E5354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tive Directory Basic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uses Active Directory to manage accounts, groups, and many more network management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omain controllers (DC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rvers that have the AD DS server role instal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ain writable copies of information in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ember serv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rvers on a network managed by Active Directory that do not have Active Directory instal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18ED-644F-4986-A540-D50E0F88DB9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Universal Grou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Universal security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a means to span domains and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tr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iversal group membership can include user accounts from any domain, global groups from any domain, and other universal groups from any domai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iversal groups are offered to provide an easy means to acces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ny resource in a tre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among trees in a fore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9049-1741-467B-9FBE-4797C5EEFC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Universal Grou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uidelines to help simplify how you plan to use group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global groups to hold accounts as memb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domain local groups to provide access to resources in a specific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universal groups to provide extensive access to resour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0332-9A94-453D-BC64-6056857836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Universal Grou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838080" y="1414440"/>
            <a:ext cx="74678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A49D-2403-4572-A33F-125DF23C32A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perties of Grou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configure the properties of a specific group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y double-clicking that group in the Local Users and Groups tool for a stand-alone (nondomain) or member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in the Active Directory Users and Computers tool for DC servers in a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perties are configured using the following tab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ember Of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d B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5D3A-99AE-4609-A272-19FCDBB5348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User Profi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local user profil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s automatically created at the local computer when you log on with an account for the first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profile can be modified to consist of desktop settings that are customized for one or more clients who log on loc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CC24-1DB6-4E03-8A16-580D81D8704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User Profil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r profiles advant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ultiple users can use the same computer and maintain their own customized set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files can be stored on a network server so they are available to users regardless of the computer they use to log on (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roaming profile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files can be made mandatory so users have the same settings each time they log on (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mandatory profile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69EB-004F-4243-8A52-4C26599937A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User Profil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way to set up a profile is to first set up a generic account on the server with the desired desktop configu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n copy the Ntuser.dat file to the \Users\Default folder in Windows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create the roaming profile, set up a generic account and customize the deskt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t up those users to access a profile by opening th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rofile tab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each user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account properties and entering the path to that pro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EA67-80CF-43DC-93F4-757BC0D66D5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2220840" y="152280"/>
            <a:ext cx="4702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2E3C-AAA6-4B82-9114-8EF947510D7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</a:t>
            </a:r>
            <a:r>
              <a:rPr b="0" lang="ja-JP" sz="36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 New in Windows Server 2008 Active Directo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ve new features deserve particular mentio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start cap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ad-Only Domain Controll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ultiple password and account lockout policies in a single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ive Directory Lightweight Directory Services ro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5511-2E1D-4B4E-89BE-12B8E58619A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start Capabi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provides the option to stop Active Directory Domain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thout taking down the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your work is done on Active Directory, you simply restart Active Directory Domain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E97E-20EB-403E-9815-54F7EAFA612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tive Directory Basic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omai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ainer that holds information about all network resources that are grouped within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ery resource is called an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ultimaster replic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DC is equal to every other DC in that it contains the full range of information that composes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is built to make replication effici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E4F6-D154-4577-8750-FFD34E29149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558720" y="228600"/>
            <a:ext cx="8018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04D4-36CA-4DF5-97D6-37F748A7A06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ad-Only Domain Controll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ad-Only Domain Controller (RODC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cannot use it to update information in Active Directory and it does not replicate to regular DC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RODC can still function as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Key Distribution Center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for the Kerbero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uthentication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etho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purpose of having an RODC is for better security at branch loc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re physical security measures might not be as strong as at a central offi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RODC can also be configured as a DNS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7284-C259-4E0D-BBA5-1280C2225F4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ultiple Password and Account Lockout Policies in a Single Domai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set up multiple password and account lockout security require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d associate them with a security group or us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also associate them with an OU by creating a </a:t>
            </a:r>
            <a:r>
              <a:rPr b="0" lang="ja-JP" sz="2600" spc="-1" strike="noStrike">
                <a:solidFill>
                  <a:srgbClr val="222222"/>
                </a:solidFill>
                <a:latin typeface="Arial"/>
              </a:rPr>
              <a:t>‘‘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lobal shadow security group</a:t>
            </a:r>
            <a:r>
              <a:rPr b="0" lang="ja-JP" sz="2600" spc="-1" strike="noStrike">
                <a:solidFill>
                  <a:srgbClr val="222222"/>
                </a:solidFill>
                <a:latin typeface="Arial"/>
              </a:rPr>
              <a:t>’’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group that can be mapped to an OU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s process is called setting up 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‘‘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e-grained password policies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’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BC81-63A7-4A5E-91D0-BED03674225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tive Directory Lightweight Directory Services Rol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Lightweight Directory Services (AD LDS)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rgeted for servers that manage user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the applications to store configuration and vital data in a central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 LDS is more forgiving than AD 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f you make a mistake in a modification the mistake in most circumstances does not affect how users access their accounts and resources in a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 LDS is installed as a server role via Server Manag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or Lab 2, Refer to Activities: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4-1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4-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4-4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4-9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0280-A76B-4F53-AAD6-E1372F851D6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6BE8-E926-4023-ABF5-FDA28958FD3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901800" y="411120"/>
            <a:ext cx="73278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9C44-CEFD-4367-9B17-F21D116CAB4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chema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chem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fines the objects and the information pertaining to those objects that can be stored in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r accou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 class of object in Active Directory that is defined through schema elements unique to that cla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D581-460A-4F3B-BF1D-EE61BBB2FF2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523880" y="282600"/>
            <a:ext cx="609624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AB16-B2DF-4ED8-B863-D0F5BB8A0BE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990720" y="141120"/>
            <a:ext cx="716256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2:00:33Z</dcterms:created>
  <dc:creator/>
  <dc:description/>
  <dc:language>en-US</dc:language>
  <cp:lastModifiedBy/>
  <dcterms:modified xsi:type="dcterms:W3CDTF">2011-04-12T12:51:49Z</dcterms:modified>
  <cp:revision>694</cp:revision>
  <dc:subject/>
  <dc:title>Chapter 1</dc:title>
</cp:coreProperties>
</file>