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1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1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D3C6B-3D2A-437F-8D30-B954EBFD8A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6C82A-25BA-4DC2-A874-AB430A65A8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C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A6E13-C3D3-4DF7-96D7-FFF1912A6F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3430B-6ED6-47E0-8AE8-A0CCECCB3D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B58FB-8724-4CBD-BF97-62C0F60181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8593C-2D5B-4788-A040-56AA99EF2B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58BE4-4A95-4965-8AE0-E0735E5CC5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52581-9082-4E88-B67B-762599895E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96BF3-1CCB-4050-B82C-4DB0D19CAD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A6D9F-3C8A-447E-9E53-85C9D50648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FA9ED-8A15-4A8D-AAEA-D5AC944757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443D6-5643-45F6-A4D7-6D01874D20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AE631-06E6-4F5E-8597-505600283E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8E536-4DA7-4A4C-9760-95A6CB0946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8E621-134D-4E98-8945-CD72EFCDA4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9BA51-B136-4686-A4D8-042119DB87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648CD-9B79-4EC3-8BA2-B78AF392AD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F4DD5-4675-43EB-82E3-AD4598299E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5DD49-BBF8-404B-9B2E-D3A27E52F2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4E67D-A2FC-4C50-8680-F6155DB20C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4E612-56A0-4C41-A663-2B5B33CBD7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76A58-D42E-4AD9-AA97-8444B2094A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EF464-7E80-4D30-9542-452EF47E42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10FC0-A6FB-4641-8F79-511D9B12E9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FB523-353D-4FA5-B2C5-B06CB80E55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E718E-981A-4ADD-AFE6-C72D919EB0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C8A5B-BA97-453A-865C-27B98CEB81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C01EC-AE87-42BA-8AB6-15B29E1B22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6395D-8A66-4D9E-8A14-FF849980B4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4CB8B-AC2B-4B72-8637-8416575012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1751E-E7ED-44E7-BE35-5A36665311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707C2-997C-4023-907D-BA579014F1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9AABD-5FC9-4068-9533-6976F4A3C5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39DD7-18A8-428F-908B-56B14C2B1B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4A02B-2440-415E-ADA1-1056F823C1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EC172-26DB-4D99-BC63-3E0F6A7661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6A462-FE14-4F36-8182-30790E6F65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D566E-4067-465C-B67D-C43558FE3E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58EC5-9B6C-45F0-BC2C-3DCF84A54A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EF894-53EE-47D4-BE8E-EE92826CFC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F5107-ED90-41D9-BFEE-70BBC92FAE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8E0CF-77CD-47A1-92F2-8E09B62DCA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81B060-1556-4F84-B0E1-21290DFEB1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335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5C7477-4FCA-42C6-AB6E-5BF2C658D0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335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20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E59A98-40D1-4542-BAFE-B13FE89278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6448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9580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3352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6448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9580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29024C-F221-44B1-8AC6-311991F8E2F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5CFB8D-3EEF-4EDE-9D2F-345AC6700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13330B-8DE4-45DE-A195-76678CBA6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91C154-5B20-4A27-8A52-8FBAD290E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428C0D-5D4A-4A44-BF8A-5E26BFD46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A274B2-F72F-4D64-B420-3FEF027C9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533520" y="38052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A3FCBC-CBEC-418C-91F3-30DB80859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5335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F2B16C-53E2-41A4-8ACF-5220AA4EA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C18652-4534-4700-9705-037B3C2CBF8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20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7499D4-B749-430E-89E5-3529C131B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335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CCB1AF-94F7-46AD-AA57-901CA8670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335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08B95C-5831-42B4-BE13-5FFC3E738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335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20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C50C31-48D0-442C-B36C-3BE73D00B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6448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9580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3352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6448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9580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DC9D49-B3C7-4EB3-9565-3EC455AD8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1C15A89-1AB5-4AA9-A7D7-7B27777F5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8FBD54E-58C5-4CA3-B14E-513D69C77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59FC363-8BAC-4B39-A692-93EB9E585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444C094-0FCD-47EE-BBA3-85AFF3250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9047E91-9D9C-421E-8C3F-3273831C1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7AF2CF-CED1-485D-95F1-0934DCCCA15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533520" y="38052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3DBC41D-6F01-454A-95D1-4404AFC05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335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1012030-7EFB-4090-8FB4-2E8940CC3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20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07DD2DA-9D4C-4AEF-916E-E7263EC53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5335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A14160A-AFD6-4289-B840-A88A849FA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335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BDFFECD-3550-4BD9-BE52-29BEBCB5E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5335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20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36D08EC-3009-4FEE-B24D-815D810C5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6448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9580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53352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6448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9580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CD99285-CF68-4F27-9EFB-B1AFD3EDC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B562CA-1F75-4BE6-96CE-136F5007362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C9A4A9-1557-47FA-829E-B2B41B5A162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533520" y="38052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80D245-AA53-4913-B769-BE96B3DC9F4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5335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69D0FD-44CC-467C-85B4-608B3B1A40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20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915018-017B-4657-B932-F75310B4E9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335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6904FB-828E-47D7-AD0F-5CE22D4EF6C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533520" y="6324120"/>
            <a:ext cx="58672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2222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Hands-On Microsoft Windows Server 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324120"/>
            <a:ext cx="2057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2222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8B144-5C15-498D-959E-9D57B62EE3AF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2222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Times New Roman"/>
              </a:rPr>
              <a:t>Hands-On Microsoft Windows Server 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2222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D5342-64FB-4185-95DD-49E4B394AD7A}" type="slidenum">
              <a:rPr b="0" lang="en-US" sz="1400" spc="-1" strike="noStrike">
                <a:solidFill>
                  <a:srgbClr val="22222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2222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Times New Roman"/>
              </a:rPr>
              <a:t>Hands-On Microsoft Windows Server 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2222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95E39-D45D-461C-9C79-D1964C2740CF}" type="slidenum">
              <a:rPr b="0" lang="en-US" sz="1400" spc="-1" strike="noStrike">
                <a:solidFill>
                  <a:srgbClr val="22222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1447920"/>
            <a:ext cx="80010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2222"/>
                </a:solidFill>
                <a:latin typeface="Arial"/>
              </a:rPr>
              <a:t>Hands-On Microsoft Windows Server 2008</a:t>
            </a:r>
            <a:endParaRPr b="0" lang="en-US" sz="44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609120" y="4419360"/>
            <a:ext cx="807732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400" spc="-1" strike="noStrike">
                <a:solidFill>
                  <a:srgbClr val="222222"/>
                </a:solidFill>
                <a:latin typeface="Arial"/>
              </a:rPr>
              <a:t>Chapter 7</a:t>
            </a:r>
            <a:endParaRPr b="0" lang="en-US" sz="3400" spc="-1" strike="noStrike">
              <a:solidFill>
                <a:srgbClr val="222222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400" spc="-1" strike="noStrike">
                <a:solidFill>
                  <a:srgbClr val="222222"/>
                </a:solidFill>
                <a:latin typeface="Arial"/>
              </a:rPr>
              <a:t>Configuring and Managing Data Storage</a:t>
            </a:r>
            <a:endParaRPr b="0" lang="en-US" sz="3400" spc="-1" strike="noStrike">
              <a:solidFill>
                <a:srgbClr val="222222"/>
              </a:solidFill>
              <a:latin typeface="Arial"/>
            </a:endParaRPr>
          </a:p>
        </p:txBody>
      </p:sp>
      <p:pic>
        <p:nvPicPr>
          <p:cNvPr id="131" name="Picture 3" descr="Cengage_1.jpg"/>
          <p:cNvPicPr/>
          <p:nvPr/>
        </p:nvPicPr>
        <p:blipFill>
          <a:blip r:embed="rId1"/>
          <a:stretch/>
        </p:blipFill>
        <p:spPr>
          <a:xfrm>
            <a:off x="0" y="0"/>
            <a:ext cx="366696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Hands-On Microsoft Windows Server 200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A017B-992F-482F-95D4-5DFD424EEEF5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5" name="Picture 5" descr=""/>
          <p:cNvPicPr/>
          <p:nvPr/>
        </p:nvPicPr>
        <p:blipFill>
          <a:blip r:embed="rId1"/>
          <a:stretch/>
        </p:blipFill>
        <p:spPr>
          <a:xfrm>
            <a:off x="1241280" y="2209680"/>
            <a:ext cx="666144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Hands-On Microsoft Windows Server 200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FC496-42B8-41CA-BA10-EC3E05A522A0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Dynamic Disks (continued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22222"/>
                </a:solidFill>
                <a:latin typeface="Arial"/>
              </a:rPr>
              <a:t>Striped volume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Often referred to as RAID-0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Extend the life of hard disk drives by spreading data equally over two or more drive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Another advantage: increases disk performance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In Windows Server 2008, striping requires at least two disks and can be performed over as many as 32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Data can be lost when one or more disks in the striped volume fail because the system has no automated way to rebuild data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Hands-On Microsoft Windows Server 200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5741A-5730-4EB3-8325-CDDF2AF2C7F0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2" name="Picture 5" descr=""/>
          <p:cNvPicPr/>
          <p:nvPr/>
        </p:nvPicPr>
        <p:blipFill>
          <a:blip r:embed="rId1"/>
          <a:stretch/>
        </p:blipFill>
        <p:spPr>
          <a:xfrm>
            <a:off x="533520" y="2136600"/>
            <a:ext cx="8076960" cy="28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Hands-On Microsoft Windows Server 200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461C3-3AAD-4BB4-A875-ED58D93E90D9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Disk Management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Disk Management too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Provides a central location for viewing disk information and performing tasks such as creating and deleting partitions and volume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Hands-On Microsoft Windows Server 200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5B023-79E3-4228-A63E-115FF7C0F758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Mounting a Drive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Windows Server 2008 enables you to mount a drive as an alternative to giving it a drive letter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22222"/>
                </a:solidFill>
                <a:latin typeface="Arial"/>
              </a:rPr>
              <a:t>Mounted drive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One that appears as a folder and is accessed through a path like any other folder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You can mount a basic or dynamic disk drive, a CD/DVD drive, or a removable drive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Hands-On Microsoft Windows Server 200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E69EA-94E9-44B2-A243-3F6DC5C934C6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Introduction to Fault Tolerance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22222"/>
                </a:solidFill>
                <a:latin typeface="Arial"/>
              </a:rPr>
              <a:t>Fault tolerance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The ability of a system to gracefully recover from hardware or software failure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Windows Server 2008 provides a level of fault tolerance through software-level RAID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With fault tolerance, data is written to more than one drive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In the event one drive fails, data can still be accessed from one of the remaining drive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Hands-On Microsoft Windows Server 200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79CB3-F8D4-4C3C-8CFF-0552914C30F0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RAID Volumes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RAID is a set of standards for lengthening disk life, preventing data loss, and enabling relatively uninterrupted access to data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RAID level 0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Striping with no other redundancy features is RAID level 0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RAID level 1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Disk duplexing is the same as disk mirroring, with the exception that it places the backup disk on a different controller or adapter than is used by the main disk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Hands-On Microsoft Windows Server 200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A5991-48E7-4BAD-927F-068F7A3AAE91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1" name="Picture 5" descr=""/>
          <p:cNvPicPr/>
          <p:nvPr/>
        </p:nvPicPr>
        <p:blipFill>
          <a:blip r:embed="rId1"/>
          <a:stretch/>
        </p:blipFill>
        <p:spPr>
          <a:xfrm>
            <a:off x="1123920" y="457200"/>
            <a:ext cx="6896160" cy="254304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6" descr=""/>
          <p:cNvPicPr/>
          <p:nvPr/>
        </p:nvPicPr>
        <p:blipFill>
          <a:blip r:embed="rId2"/>
          <a:stretch/>
        </p:blipFill>
        <p:spPr>
          <a:xfrm>
            <a:off x="1486080" y="3352680"/>
            <a:ext cx="6172200" cy="26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Hands-On Microsoft Windows Server 200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DBCA7-6E6F-4874-8E6A-A98A1B8D69EE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RAID Volumes (continued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RAID level 2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Uses an array of disks whereby the data is striped across all disks in the array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RAID level 3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Uses disk striping and stores error-correcting information, but the information is only written to one disk in the array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RAID level 4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Stripes data and stores error-correcting information on all drive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Hands-On Microsoft Windows Server 200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9C871-08C4-4D0B-9398-13C0EED81D1D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RAID Volumes (continued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RAID level 5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Combines the best features of RAID, including striping, error correction, and checksum verification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Windows Server 2008 supports RAID levels 0, 1, and 5 for disk fault tolerance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Hands-On Microsoft Windows Server 200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EBCD9-167A-49B1-B7CE-79471BCFE657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Windows Server 2008 Storage Options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22222"/>
                </a:solidFill>
                <a:latin typeface="Arial"/>
              </a:rPr>
              <a:t>Basic disk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One that uses traditional disk management techniques and contains primary partitions, extended partitions, and logical drive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22222"/>
                </a:solidFill>
                <a:latin typeface="Arial"/>
              </a:rPr>
              <a:t>Dynamic disk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One that does not use traditional partitioning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Dynamic disk architecture provides more flexibility than basic disk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So there is virtually no restriction on the number of volumes that can be on one disk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Hands-On Microsoft Windows Server 200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42A8D-A4D6-42BE-A4FC-F23824DF0915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Using a Striped Volume (RAID-0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Reasons for using a RAID level 0 or a striped volume in Windows Server 2008 are to: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Reduce the wear on multiple disk drives by equally spreading the load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Increase disk performance compared with other methods for configuring dynamic disk volume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To create a striped volume, right-click the unallocated space for the volume and click New Striped Volume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Only </a:t>
            </a:r>
            <a:r>
              <a:rPr b="0" i="1" lang="en-US" sz="2600" spc="-1" strike="noStrike">
                <a:solidFill>
                  <a:srgbClr val="ff0000"/>
                </a:solidFill>
                <a:latin typeface="Arial"/>
              </a:rPr>
              <a:t>dynamic</a:t>
            </a: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 disks can be striped volume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Hands-On Microsoft Windows Server 200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70867-0262-41EE-96D4-4A2673704505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Using a Mirrored Volume (RAID-1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Disk mirroring involves creating a shadow copy of data on a backup disk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Only 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dynamic</a:t>
            </a: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 disks can be set up as a mirrored volume in Windows Server 2008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One of the most guaranteed forms of disk fault tolerance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Hands-On Microsoft Windows Server 200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20955-4392-426D-80BC-D936ADECE12E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Using a RAID-5 Volume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Fault tolerance is better for a RAID-5 volume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A RAID-5 volume requires a minimum of three disk drive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Parity information is distributed on each disk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If one disk fails, the information on that disk can be reconstructed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The parity used by Microsoft is Boolean (true/false, one/zero) logic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Hands-On Microsoft Windows Server 200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D7F85-11B6-4387-A43C-6ACFC707AC3D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5" name="Picture 6" descr=""/>
          <p:cNvPicPr/>
          <p:nvPr/>
        </p:nvPicPr>
        <p:blipFill>
          <a:blip r:embed="rId1"/>
          <a:stretch/>
        </p:blipFill>
        <p:spPr>
          <a:xfrm>
            <a:off x="919080" y="2166840"/>
            <a:ext cx="7305840" cy="25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Hands-On Microsoft Windows Server 200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CD483-56F5-4329-B902-CE68AC305FC5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Using a RAID-5 Volume (continued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The performance is not as fast as with a striped volume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Takes longer to write the data and calculate the parity block for each row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Accessing data through disk reads is as fast as a striped volume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Hands-On Microsoft Windows Server 200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C1984-BD1C-4A69-BBAB-4168C4B1271F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Software RAID vs. Hardware RAID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oftware RAID implements fault tolerance through the server</a:t>
            </a:r>
            <a:r>
              <a:rPr b="0" lang="ja-JP" sz="2600" spc="-1" strike="noStrike">
                <a:solidFill>
                  <a:srgbClr val="222222"/>
                </a:solidFill>
                <a:latin typeface="Arial"/>
              </a:rPr>
              <a:t>’</a:t>
            </a: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 operating system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22200" indent="-32220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Hardware RAID is implemented through the server hardware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Independent of the operating system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22200" indent="-32220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Advantages over software RAID: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Faster read and write response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The ability to place boot and system files on different RAID level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The ability to </a:t>
            </a:r>
            <a:r>
              <a:rPr b="0" lang="ja-JP" sz="2400" spc="-1" strike="noStrike">
                <a:solidFill>
                  <a:srgbClr val="222222"/>
                </a:solidFill>
                <a:latin typeface="Arial"/>
              </a:rPr>
              <a:t>‘‘</a:t>
            </a: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hot-swap</a:t>
            </a:r>
            <a:r>
              <a:rPr b="0" lang="ja-JP" sz="2400" spc="-1" strike="noStrike">
                <a:solidFill>
                  <a:srgbClr val="222222"/>
                </a:solidFill>
                <a:latin typeface="Arial"/>
              </a:rPr>
              <a:t>’’</a:t>
            </a: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 a failed disk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More setup options to retrieve damaged data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Hands-On Microsoft Windows Server 200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128C2-B52B-4B91-A973-AFC4A79D6728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Windows Server 2008 Storage Enhancements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For medium to large networks, Windows Server 2008 offers storage enhancements in two important realms: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Management of Storage Area Network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Using multiple paths to storage for fault tolerance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Hands-On Microsoft Windows Server 200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641AF-D85D-4612-BB1A-7EFB2B4D4E20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Storage Manager for SANs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torage Area Network (SAN)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A grouping of storage devices that forms a subnet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25800" indent="-32580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The storage devices are available to any server on the main network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Appear to the user as though they are attached to the server they are accessing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25800" indent="-32580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Typically, the subnet containing the storage devices uses Fibre Channel or iSCSI technology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25800" indent="-32580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torage Manager for SANs is used to manage the logical unit numbers for Small Computer System Interface drive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Hands-On Microsoft Windows Server 200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08659-904C-4A14-872D-4E12661267A5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Storage Manager for SANs (continued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22222"/>
                </a:solidFill>
                <a:latin typeface="Arial"/>
              </a:rPr>
              <a:t>Small Computer System Interface (SCSI)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A 32- or 64-bit computer adapter that transports data between one or more attached devices and the computer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22222"/>
                </a:solidFill>
                <a:latin typeface="Arial"/>
              </a:rPr>
              <a:t>Logical unit number (LUN)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A number that identifies a physical SCSI drive or logical SCSI target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Hands-On Microsoft Windows Server 200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C2E65-E787-4C02-947F-CDD1BBDF7CDA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Storage Manager for SANs (continued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22222"/>
                </a:solidFill>
                <a:latin typeface="Arial"/>
              </a:rPr>
              <a:t>Virtual Disk Service (VDS)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Used to enable management of disk volumes in SANs through one interface at a server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Hands-On Microsoft Windows Server 200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F629F-3C55-437E-8E26-D7A9284C68A6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Basic Disks (continued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Basic disks recognize primary and extended partition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32640" indent="-33264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Basic disks also can be configured for any of three RAID levels: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Disk striping (RAID level 0)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Disk mirroring (RAID level 1)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Disk striping with parity (RAID level 5)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32640" indent="-33264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22222"/>
                </a:solidFill>
                <a:latin typeface="Arial"/>
              </a:rPr>
              <a:t>RAID</a:t>
            </a: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 stands for redundant array of inexpensive (or independent) disk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A set of standards for lengthening disk life and preventing data los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Hands-On Microsoft Windows Server 200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634A0-6E98-47DA-AC03-8C689F284A4F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Multipath Input/Output Enhancements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22222"/>
                </a:solidFill>
                <a:latin typeface="Arial"/>
              </a:rPr>
              <a:t>Multipath I/O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Provides a means to establish multiple paths between a server and its disk storage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The first step in this process is to create the multiple paths between the storage and the server or server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For a SAN, creating multiple paths might involve establishing two or more network paths through two or more network switches to the SAN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The next step is to install Multipath I/O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A feature installed through Server Manager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Hands-On Microsoft Windows Server 200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CFB42-D30E-4409-8BC9-FCE6CFE51F39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Windows Server Backup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Windows Server Backup tool offers the ability to back up all server files or files that have changed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Hands-On Microsoft Windows Server 200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FC1AD-F5FB-4BA8-916F-1228ECC2AA88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Windows Server Backup (continued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Considerations for using Windows Server Backup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Tool only backs up NTFS volume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Tool does not back up to tape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If you have backup media made from Windows Server 2003 using Ntbackup.exe, you cannot restore from that media using the Windows Server Backup tool in Windows Server 2008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Hands-On Microsoft Windows Server 200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7DB41-2C2C-4200-A22E-C94C2BD18E69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Backup Options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22222"/>
                </a:solidFill>
                <a:latin typeface="Arial"/>
              </a:rPr>
              <a:t>Full backup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A backup of an entire system, including all system files, programs, and data file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Changes each file</a:t>
            </a:r>
            <a:r>
              <a:rPr b="0" lang="ja-JP" sz="2400" spc="-1" strike="noStrike">
                <a:solidFill>
                  <a:srgbClr val="222222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s archive attribute to show that it has been backed up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22222"/>
                </a:solidFill>
                <a:latin typeface="Arial"/>
              </a:rPr>
              <a:t>Incremental backup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Only backs up files that are new or that have been updated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Backs up only files that have the archive attribute marked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Hands-On Microsoft Windows Server 200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18AA5-EF48-4B86-B385-E471DE2027B1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Backup Options (continued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22222"/>
                </a:solidFill>
                <a:latin typeface="Arial"/>
              </a:rPr>
              <a:t>Custom backup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Enables you to configure backups differently for each volume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22222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22222"/>
                </a:solidFill>
                <a:latin typeface="Arial"/>
              </a:rPr>
              <a:t>Such as doing an incremental backup every time you back up the C drive and a full backup each time you back up the D drive</a:t>
            </a:r>
            <a:endParaRPr b="0" lang="en-US" sz="22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Hands-On Microsoft Windows Server 200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0EB18-AFBD-42AB-BB03-E3559603C8D7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Scheduling Backups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Windows Server Backup includes a scheduling capability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Can have the server automatically start backups after regular work hours or at a specific time of day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Hands-On Microsoft Windows Server 200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FADB3-3E27-41C4-85F5-2596E84B0125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6" name="Picture 2" descr=""/>
          <p:cNvPicPr/>
          <p:nvPr/>
        </p:nvPicPr>
        <p:blipFill>
          <a:blip r:embed="rId1"/>
          <a:stretch/>
        </p:blipFill>
        <p:spPr>
          <a:xfrm>
            <a:off x="1328760" y="304920"/>
            <a:ext cx="6486480" cy="59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Hands-On Microsoft Windows Server 200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83FE9-8A20-4B71-B5E2-B3608B594C35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9" name="Picture 2" descr=""/>
          <p:cNvPicPr/>
          <p:nvPr/>
        </p:nvPicPr>
        <p:blipFill>
          <a:blip r:embed="rId1"/>
          <a:stretch/>
        </p:blipFill>
        <p:spPr>
          <a:xfrm>
            <a:off x="1338120" y="304920"/>
            <a:ext cx="6467760" cy="592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Hands-On Microsoft Windows Server 200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0120D-87C7-4059-BA5D-8A36D5C33F6B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Configuring Backup Performance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Configuring the backup performance options enables you to specify which types of backups to perform: full, incremental, and custom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The default is to always perform full backup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Hands-On Microsoft Windows Server 200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4F863-7820-486C-8998-DDBB46B97ADB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6" name="Picture 2" descr=""/>
          <p:cNvPicPr/>
          <p:nvPr/>
        </p:nvPicPr>
        <p:blipFill>
          <a:blip r:embed="rId1"/>
          <a:stretch/>
        </p:blipFill>
        <p:spPr>
          <a:xfrm>
            <a:off x="1981080" y="533520"/>
            <a:ext cx="5181840" cy="558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Hands-On Microsoft Windows Server 200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16AA4-B087-45CC-A537-F9495ABCA13F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Basic Disks (continued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Primary and extended partitions on MBR disk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A primary partition is one from which you can boot an operating system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At least one primary partition must be marked as active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22222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22222"/>
                </a:solidFill>
                <a:latin typeface="Arial"/>
              </a:rPr>
              <a:t>Only one primary partition can be active at a given time</a:t>
            </a:r>
            <a:endParaRPr b="0" lang="en-US" sz="22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The active partition is the partition where your computer will look for the hardware-specific files to start the operating system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Hands-On Microsoft Windows Server 200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AD653-8F93-4A34-B579-F38506B8115D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Performing a Recovery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The Windows Server Backup tool enables you to recover any of the following: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File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Folder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Volume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Applications and application data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The backup catalog (of information in the backup)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The operating system (to the same computer or to another computer using identical hardware)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Hands-On Microsoft Windows Server 200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E8F70-9FA5-474E-B942-E7878C87A95E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Performing a Recovery (continued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Before you start, determine the following information: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Date of the backup from which to recover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Type of recovery, such as files and folders or application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What to recover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Where to recover, such as in the original location or another location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Hands-On Microsoft Windows Server 200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B9A3D-F81B-4063-8ABD-75680D4FF624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Basic Disks (continued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Primary and extended partitions on MBR disks (continued)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An extended partition is created from space that is not yet partitioned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The purpose of an extended partition is to enable you to exceed the four-partition limit of a basic disk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Only one extended partition can exist on a single basic disk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Hands-On Microsoft Windows Server 200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DB47F-8567-49DC-8C54-6F6A1ECB4C9B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0" name="Picture 6" descr=""/>
          <p:cNvPicPr/>
          <p:nvPr/>
        </p:nvPicPr>
        <p:blipFill>
          <a:blip r:embed="rId1"/>
          <a:stretch/>
        </p:blipFill>
        <p:spPr>
          <a:xfrm>
            <a:off x="647640" y="2104920"/>
            <a:ext cx="7848720" cy="29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Hands-On Microsoft Windows Server 200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A02AE-A9EE-4D2B-BBB7-90EAB192B590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07696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Basic Disks (continued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Volume and Stripe Set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22222"/>
                </a:solidFill>
                <a:latin typeface="Arial"/>
              </a:rPr>
              <a:t>Volume set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22222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22222"/>
                </a:solidFill>
                <a:latin typeface="Arial"/>
              </a:rPr>
              <a:t>Consists of two or more </a:t>
            </a:r>
            <a:r>
              <a:rPr b="0" i="1" lang="en-US" sz="2200" spc="-1" strike="noStrike">
                <a:solidFill>
                  <a:srgbClr val="222222"/>
                </a:solidFill>
                <a:latin typeface="Arial"/>
              </a:rPr>
              <a:t>partitions</a:t>
            </a:r>
            <a:r>
              <a:rPr b="0" lang="en-US" sz="2200" spc="-1" strike="noStrike">
                <a:solidFill>
                  <a:srgbClr val="222222"/>
                </a:solidFill>
                <a:latin typeface="Arial"/>
              </a:rPr>
              <a:t> that are combined to look like one volume with a </a:t>
            </a:r>
            <a:r>
              <a:rPr b="0" i="1" lang="en-US" sz="2200" spc="-1" strike="noStrike">
                <a:solidFill>
                  <a:srgbClr val="222222"/>
                </a:solidFill>
                <a:latin typeface="Arial"/>
              </a:rPr>
              <a:t>single drive letter</a:t>
            </a:r>
            <a:endParaRPr b="0" lang="en-US" sz="22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22222"/>
                </a:solidFill>
                <a:latin typeface="Arial"/>
              </a:rPr>
              <a:t>Stripe set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22222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22222"/>
                </a:solidFill>
                <a:latin typeface="Arial"/>
              </a:rPr>
              <a:t>Two or more </a:t>
            </a:r>
            <a:r>
              <a:rPr b="0" i="1" lang="en-US" sz="2200" spc="-1" strike="noStrike">
                <a:solidFill>
                  <a:srgbClr val="222222"/>
                </a:solidFill>
                <a:latin typeface="Arial"/>
              </a:rPr>
              <a:t>disks</a:t>
            </a:r>
            <a:r>
              <a:rPr b="0" lang="en-US" sz="2200" spc="-1" strike="noStrike">
                <a:solidFill>
                  <a:srgbClr val="222222"/>
                </a:solidFill>
                <a:latin typeface="Arial"/>
              </a:rPr>
              <a:t> that are combined like a volume set, but that are striped for RAID level 0 or RAID level 5</a:t>
            </a:r>
            <a:endParaRPr b="0" lang="en-US" sz="22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Hands-On Microsoft Windows Server 200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D8A7B-E2B2-4646-A3E6-E08E47AB146C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07696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Dynamic Disks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A dynamic disk does not use traditional partitioning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Makes it possible to set up a large number of volumes on one disk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Provides the ability to </a:t>
            </a:r>
            <a:r>
              <a:rPr b="0" i="1" lang="en-US" sz="2400" spc="-1" strike="noStrike">
                <a:solidFill>
                  <a:srgbClr val="222222"/>
                </a:solidFill>
                <a:latin typeface="Arial"/>
              </a:rPr>
              <a:t>extend</a:t>
            </a: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 volumes onto additional physical disk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The number of disks that can be incorporated into one spanned volume is limited to 32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Hands-On Microsoft Windows Server 200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97F2E-57C7-47A6-93C8-BCC034930D6D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Dynamic Disks (continued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22222"/>
                </a:solidFill>
                <a:latin typeface="Arial"/>
              </a:rPr>
              <a:t>Simple volume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A portion of a disk or an entire disk that is set up as a dynamic disk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Can be extended onto multiple sections of the same disk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22222"/>
                </a:solidFill>
                <a:latin typeface="Arial"/>
              </a:rPr>
              <a:t>Spanned volume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Stored on 2 to 32 dynamic disks that are treated as one volume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As you add new disks, the spanned volume can be extended to include each disk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7T23:29:22Z</dcterms:created>
  <dc:creator/>
  <dc:description/>
  <dc:language>en-US</dc:language>
  <cp:lastModifiedBy/>
  <dcterms:modified xsi:type="dcterms:W3CDTF">2011-04-19T12:40:36Z</dcterms:modified>
  <cp:revision>693</cp:revision>
  <dc:subject/>
  <dc:title/>
</cp:coreProperties>
</file>