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54B3-A8FD-426E-8619-C93B9378B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83A0-9A5B-48FF-9214-EA6CE8405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273C-6FE5-4A3C-9DAE-D0E136FAB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8546-0AE9-4834-88C0-D1562A686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173A-A29B-4D9E-B9E4-07927C904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D417-4CE8-433E-9036-9B8B9F552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22A0-FE3B-4D76-9353-1D4CC801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D4D-001F-46FB-9373-59DE75E8B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CD3E-3E20-42CA-ACDB-47A7E88CB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4BF1-8F86-4949-AA94-4D392A95F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DDDF-A042-4D7D-8CC6-A0AB15A6E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A61-99CB-4205-A0F3-6765D2BD9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FA8D-4A8D-4456-ADBA-BAB82D15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3529-C7E2-4F34-B059-1A32EB026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234E-F337-42BA-B7C5-C507AC442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D840-BC09-4C0B-BD8C-173482A83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F0D5-64DD-489D-8483-59E07B08F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6DDE-5F19-4C4C-9743-0D52E1FE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6D4A-77DD-47FE-AB52-28EAD41CF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EB9F-3A5A-49AC-9B78-477E9C6C2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F5E2-2462-4A9F-BD98-9CE65B665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4A39-9CD3-4FDB-8D5E-A11A37F20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3003-7E9B-4DAC-96AC-56C4BC900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8F09-19AC-49C5-BC29-033C03F10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DE83-68FD-47D9-86E5-D5B97C17E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618D1-FCE8-4CEB-8B5B-8537844B8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ABC51-418A-4CAF-A460-C8A52E938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5301E-90D0-44F3-8EEB-D88F78CF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8A36B-1781-43DB-8BDB-DC684403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1C932-4DFF-4A9F-8D23-9135DCDB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B4C84-5B8D-44EE-AF9E-9A5AE0AD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7D3DB-6454-4BE8-B6F4-BE64A075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92E99-9097-4706-B156-771F8D67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E0E08-A76A-40F9-A2D2-E32F3DF2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6D9A-6EC7-4270-9B03-3F4182F32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8D016-CFFD-4B80-8E4F-1A715DCF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454F3-CED7-4880-97D5-55C2F20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FE8B4-4F47-46BA-8742-81AC9F00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87B74-AC73-44AC-8806-DBF94B9B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BF175-0889-41C8-B880-45B4DBDD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264EA-73BA-4322-BEEC-EA8A3AF4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EE35C-E294-4D4E-919A-B84E569D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52D88-8928-42B7-A2C8-869ECF8D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F0128-688E-4822-8E56-CF2199E8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8ED2D-3755-4CD0-A354-0C02F4E7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F0F5-DF4D-4B0B-A776-656EE5A3FE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8BD99-31E4-4615-898B-BA975965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23AB1-44B9-44F6-A32E-0513D0D7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3FE1D-928E-4511-9989-553E9BBD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2035D-893B-4F47-A876-8BA7AA12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1C729-F317-473D-9BDF-339849AF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10294-4018-48F3-A012-471B6FC5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3C43D-9CE4-4110-BC8E-B18BE939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7A12-6DE8-4552-8422-7E173497B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7D75-C875-446C-AB73-E69AD378D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80A1-4DDF-448D-B2E0-CF5069A91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167C-B659-4D31-8AD6-7EEFFABE5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7BB0-5431-4299-B404-85A6B87F2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ECD3-17D6-4D45-B1E4-8A2B3CA65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169-756A-479F-9E9E-B967FEF87D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9AB6-7CEF-46A0-9838-5A305BDC8E9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C189-D993-400F-9586-0E8F808D472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3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onfiguring the Windows Server 2008 Environment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2A84-D024-4CD1-A4CD-6189B73CCE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the Operating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the operating system has been install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t can be configured to optimize performance and meet very specific require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3289-C660-434A-983C-D326F6E91C4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Performance Op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ing processor scheduling and Data Execution Preven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cessor schedul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lows you to configure how processor resources are allocated to progra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Data Execution Prevention (DE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onitors how programs use memory to ensure they are not causing memory probl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C28A-6D26-4CAF-91AD-2248BFF18BE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Performance Op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ing virtual mem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Virtual mem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isk storage used to expand the capacity of the physical RAM installed in the comput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rtual memory works through a technique called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ag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ereby blocks of information, called pages, are moved from RAM into virtual memory on disk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rea of disk that is allocated for this purpose is called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aging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7404-0B21-4476-87BB-DC4BB66857E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Environment Variab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vironment variab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to tell the operating system where to find certain programs and how to allocate memory to programs, and to control different progra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ystem environment variab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fined by the operating system and apply to any user logged onto th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User environment variab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defined on a per-user basis, such as specifying the path where application files are sto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B435-6E3D-4D0D-9203-8B48CE98A8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tartup and Recove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configure the following system startup opt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ich operating system to boot by default, if more than one operating system is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ow long to display a list of operating systems from which to bo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ow long to display a list of recovery options, if the computer needs to go into recovery mode after a system fail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C0ED-F494-4BE0-994D-315E6F78E62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tartup and Recove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he event of a system failure, you can configure these opt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riting information to the system log (hard configured so you cannot change this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ther to start automatically after a system fail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ow and where to write debugging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EFBB-8B2A-4F16-BC9E-94D4B00AD6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a Protoco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ight need to add other protocols to customize the server for your networ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icrosoft Virtual Network Switch Protoc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when the Hyper-V role is installed in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the use of a software virtual switch between the main operating system and the operating systems on virtual parti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duces the overhead in network communications when Hyper-V is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3DCA-4FB9-4249-9BD1-9F5BE53D1A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a Protocol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liable Multicast Protoc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for multimedia trans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s on top of IP and simplifies multicast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Because multicasting can be done even without routers to direct network traffic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898A-36FC-4ACF-A466-A192BEF8C1E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Security Configuration Wizard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curity Configuration Wizard (SCW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eps you through analyzing and configuring security settings on a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CW examines the roles a server pl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d then tries to adjust security to match these ro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9804-C019-4578-9366-F08101F2A0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Security Configuration Wizard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rough the SCW, you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able unnecessary services and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ose network communication ports and other communication resources that aren</a:t>
            </a:r>
            <a:r>
              <a:rPr b="0" lang="ja-JP" sz="2400" spc="-1" strike="noStrike">
                <a:solidFill>
                  <a:srgbClr val="222222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 in u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ine shared files and folders to help manage network access through access protoc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e firewall ru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04E4-AD29-4C6A-BA5B-F5863830553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Server Manager and ServerManagerCmd.exe to manage a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and remove server ro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server hard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e the operating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9390-CAF5-41D0-A31F-5B843708E5C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Security Configuration Wizard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CW has three component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UI interactive wizar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mand-line tool called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scwcm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Security Configuration Database (SCD) is a group of XML files that establish a security poli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C909-C0A6-43CB-8957-AFA1801048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D338-C45F-4A4F-927B-3B638F4DC1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Security Configuration Wizard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20800" y="2378160"/>
            <a:ext cx="74851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actice in Cla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tivities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1 (p90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2(p93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3(p95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5(p101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7(p104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8(p105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10(p108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11(p109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13(p113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15(p121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16(p123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17(p125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F8FF-8E7C-43B0-B363-D2AD1DAF90A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2779-EFAC-4059-AC4F-A48442C6DD8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 and configure the Regist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Security Configuration Wizard to harden a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and use Windows PowerShel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C255-CC8C-4225-BD00-019FA749161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Server Manag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rver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solidates administrative functions to make a server easier to mana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oles Summary fea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plays log information to alert you to warnings or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C6CB-F2EC-4332-8091-C0F5AE77B7B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657360" y="304920"/>
            <a:ext cx="78231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2B98-9107-431D-B238-490836F6FED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and Removing Server Ro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wo common roles for a Windows Server 2008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 Services ro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ocuses on sharing files from the server or using the server to coordinate and simplify file sharing through Distributed File System (DFS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nt Services ro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to manage network printing services and it can offer one or more network printers connected to the network through the server itself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3620-9567-4F0B-8273-CEAD3B31CDC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ServerManagerCmd.ex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rverManagerCmd.ex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mand-line tool for managing server ro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used to manage features that are to be added or remov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ment activ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all a role or fea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move a role or fea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ery to determine what roles and features are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DC12-8AF0-4DA0-A08A-C276D26AB1E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369720" y="2071800"/>
            <a:ext cx="8401320" cy="2714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ServerManagerCmd.ex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A887-C7D7-46B7-8DBE-B0112AE34F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figuring Server Hardware De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ardware devices can include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k dri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k controll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twork adap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D/DVD dri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Keyboar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ointing de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1-03-31T12:39:52Z</dcterms:modified>
  <cp:revision>694</cp:revision>
  <dc:subject/>
  <dc:title>Chapter 1</dc:title>
</cp:coreProperties>
</file>