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DB43-E752-42C9-8AEB-467510974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54A8-B9BF-4EF2-8DE8-CC59D37A9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2ED5-48D7-417D-9738-0C480F27C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4A44-E932-43F5-8002-CB4500338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5A89-9378-44BA-B03E-50C1825C8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8D9-34E9-49C6-93A1-9A7F779E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4F1E-F9EE-4D99-82FD-079D6090D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16DE-D073-4690-8B43-0B30A39CA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8DCE-DCAC-437C-B98A-ABAB8770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262B-A382-42BB-8183-3A5B70918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EB99-4E09-4589-9170-7C0E85CF4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F4C-9452-419D-AAA4-2CA74BF4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8975-4169-445E-B903-41A1B59D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A3DD-5C2E-4F4A-B1C0-40E49D53E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3E5C-F410-4DE3-957C-4CB5BE269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C44E-E2EC-488B-811F-46E0CDF82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C408-C8A5-4E64-AA28-AFE0F2D3D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714D-A992-4C09-B92E-4C253BCA2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01C4-4813-494A-8AFC-70413ECED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5AB8-2CFF-41FD-90FA-E6EF50C7D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53E4-DABE-4F99-AF0C-A71CB927A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2A1C-547A-4F4A-9D5F-58B28116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9572-D806-46F3-8EB5-313DD1E66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9521-A779-4A5A-BB7C-49CDEEB30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6843-3C49-423A-BCFA-A0B46705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2010-CBBC-477D-B683-371BC07E4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1016-21E5-4BD0-8C41-AD883A631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0ADF-99F5-4754-99B2-2A4F2532D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981A-5826-4E07-B620-803F0DAB0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EDC72-F120-489F-95C8-67AF28C6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59E43-5576-4334-9F18-CDC1AD2A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322FC-F302-4744-9B90-31CE3232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F0335-BEFD-44B3-BE08-68EEE908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D5372-B7BA-405F-A1CD-3D362E5E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28ED8-46F8-4FB2-9C86-F8AAA6F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29DE5-1C62-4829-8425-994B1DD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21C7-E6AD-4468-8314-9FC2748AF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BC400-0BC6-403F-BFA3-F96A33C9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254A6-7B02-4C47-8425-BBB22A8D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24D34-8931-4B24-A7A4-D8A465C7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3F1FE-7273-4DF4-B58F-2EFB20C3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857BF-2FB9-4701-B20A-38C267B9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D41A1-9F14-4D94-9060-955AF245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38873-1A7C-44F5-87AF-610EA841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C510A-50AE-48D0-B9C2-8B85CA01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3EC2A-51F4-423C-864A-4863C6D8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3F381-531E-4A24-B5DF-9F6C9B00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F94C-3464-4E0B-9297-5EA0A38CDC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1F6B5-75F6-4952-83CC-E5439B0E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1603F-600A-46AF-AE5A-14BCCA38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566B6-EAB9-4E12-9104-6BC8EC00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D0B09-9D94-40C0-B2F4-10565295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6E2B6-DC56-43E3-941D-D1802D3C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9DA3C-43A4-488A-A07F-38ADD166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C8F62-9647-4B73-9EAA-9D47514E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BD4F-1324-40AE-8DCE-27F83C2B7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E288-F6CC-4AF9-9E00-B5C291F72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D784-D3E7-4905-A232-D341D0F99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0AA8-6BF8-47A1-98B1-EAD144816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DFF4-4A30-4CE5-B2D0-8995A3606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4DFC-BA00-4948-A31A-C503B7A56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939E-0B99-43CF-94F5-4A88AFF96A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5753-67D7-4AEF-8F01-5E4FE20C72B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0929-2B38-48D4-8FF7-A8EE6CC1C2D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0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Securing Windows Server 2008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74F-4A4C-4508-B564-8067602CCA5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User Right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r rights enable an account or group to perform predefined tas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most basic right is the ability to access a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re advanced rights give privileges to create accounts and manage server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817C-52C5-4300-96C9-68A8F794B8B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ecurity Op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ver 78 specialized security options, with many new ones added for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configured in the security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category has specialized op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9814-58B9-47F6-B676-2B23F2F043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IP Security Polic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supports the implementation of IP security (IPsec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an IPsec communication begins between two compu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computers first exchange certificates to authenticate the receiver and sen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xt, data is encrypted at the NIC of the sending computer as it is formatted into an IP pack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Psec can provide security for all TCP/IP-based application and communications protoco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7284-6ACB-4CAF-99AE-3E84EE4808B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IP Security Polici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computer that is configured to use IPsec communication can function in any of three rol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ient (Respond Only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e Server (Require Security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er (Request Security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Psec security policies can be established through the Default Domain Poli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Psec security policies can also be configured through the IP Security Policies Management MMC snap-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26EC-402A-4364-A2B0-D82D0BFB7A5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tive Directory Rights Management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ctive Directory Rights Management Services (AD RM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erver role to complement the client applications that can take advantage of Rights Management Services safeguar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ights Management Services (RM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ity rights developed by Microsoft to provide security for documents, spreadsheets, e-mail, and other types of files created by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s security capabilities such as encryption, user authentication, and security certificates to help safeguard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3DE4-C40E-4048-B931-BE636A81FBF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tive Directory Rights Management Servic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l steps used in RMS secu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user creates a Word document, for exam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the process of protecting the document with RMS, Word encrypts the document using an AES key and an additional RSA k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D RMS server issues an identity license to the client who can access the docu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ient shows the AD RMS server its license to access the docu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D RMS server authenticates the client and determines the level of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DCD7-320B-4C5F-8633-E749C03858F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Security Using the Security Templates and Security and Configuration Analysis Snap-I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s snap-in enables you to set up security to govern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cal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ent log tracking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roup restri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ice access secur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gistry secur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 system secur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138C-2A35-4905-8CB9-3ECF3DB3E20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Client Security Using Policies in Windows Server 2008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stomizing settings used by clients offers several advant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hanced security and providing a consistent working environment in an organiz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settings are customized by configuring policies on the Windows Server 2008 servers that the clients ac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the client logs on to the server or the network, the policies are applied to the cli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2983-F0F5-4251-8418-3CE12785F0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ublishing and Assigning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ublishing application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(or software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olves setting up software through a group policy so that the application is available for users to install from a central application distribution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ch as through the Add/Remove Programs capability via the user</a:t>
            </a:r>
            <a:r>
              <a:rPr b="0" lang="ja-JP" sz="22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 desktop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ssigning appli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application is automatically represented on the user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deskt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s initially really a link to the central application distribution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F2C2-A20F-46B5-9748-6AD583BB88D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ciphe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Command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deploy NTFS you can use the Encrypt attribute to protect folders and fi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ing only the user who encrypts the folder or file to read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set the Encrypt attribute on a folder or file through working with that folder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 or file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 proper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other option that you learn in this section is to use the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cipher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command from the Command Prompt window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D03D-869B-4404-9BAC-CD2F5765C5C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 to Group Polic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Group policy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in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tandardize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working environment of clients and servers by setting policies in Active Direc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fining characteristics of group polic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roup policy can be set for a site, domain, OU, or local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roup policy cannot be set for non-OU folder contain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roup policy settings are stored in group policy obje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A7A-D5E5-400C-A12A-7D5E76BBA45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N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twork Address Translation (NAT) serves two important funct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an organization to automatically assign its own IP addresses on an internal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ithout having to set up many globally unique addresses for use over external network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tects computers on an internal network so that computers on external networks cannot identify their true IP addresses on the internal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7C2C-8359-424F-9796-49397DD95A3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NA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T uses a pool of private addresses for its internal networ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cause the internal addresses are not viewed by the outside wor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re is no need to have a large pool of IP addresses that can also be used over an external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ly one or a very small pool of globally unique IP addresses are needed for outside communi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T is also a good security technique because internal IP addresses are concealed from the outside wor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54BC-E60A-4F2A-8CE9-19E3CADAEBC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Firewal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ceptions are programs that you choose to allow through the firewall in both dire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considered as a group, the exceptions are a set of r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ceptions can be configured for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CP and UDP 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or only specified 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Pv4 and IPv6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or only specified network interfa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ices by providing the path to the ser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5B51-2449-4AC8-81AE-4CF8B30A9B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twork Access Prote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P can be used to keep a network healthy in the following way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dentifies clients and other computers on a network that do not comply with the security policies set through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s access by noncompliant compu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cally updates or configures a noncompliant computer to match the security policies required for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inuously checks throughout the entire network and server connection session to ensure that computers remain in compli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E934-D2D5-4EFE-8024-61CB9A66D5B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twork Access Protec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P can be used to ensure compliance with network security policies in the following area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Psec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P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HC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erminal Services Gatew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F9A6-BB4A-4C9F-B940-0A0C004465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 to Group Polic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fining characteristics of group policy: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POs can be local and nonloc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roup policy can be set up to affect user accounts and compu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group policy is updated, old policies are removed or updated for all cli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84F5-A070-42A0-BF66-A90973A7143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36480" y="380880"/>
            <a:ext cx="7871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6D0A-E2EE-41F8-BBDF-8355274330B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curing Windows Server 2008 Using Security Polic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urity policies are a subset of individual policie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in a larger group policy for a site, domain, OU, or local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urity policies includ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dit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 Righ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ity Op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P Security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AE02-BC0A-43DD-A5F6-6CD54EBEBD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stablishing Account Polic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 polic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ity measures set up in a group policy that applies to all accounts or to all accounts in a container when Active Directory is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word secu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option is to set a password expiration period, requiring users to change passwords at regular interv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me organizations require that all passwords have a minimum length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47F1-0AD6-4D77-BBB1-6D0DD4F02D0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 Lockou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operating system can employ account lockout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bar access to an account (including the true account owner) after a number of unsuccessful 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lockout can be set to release after a specified period of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by intervention from the server administra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common policy is to have lockout go into effect after five to 10 unsuccessful logon attemp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F8D7-260C-469C-8374-494CD2E482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 Lockou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Kerbero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ecu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olves the use of tickets that are exchanged between the client who requests logon and network services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nd the server or Active Directory that grants acces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hancements on Windows Server 2008 and Windows Vis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use of Advanced Encryption Standard (AES) encryp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Active Directory is installed, the account policies enable Kerbero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D0CB-2E6D-4EFD-8005-0A33C835F0E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stablishing Audit Polic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amples of events that an organization can audit are as follow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 logon (and logoff) ev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 manag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rectory service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gon (and logoff) events at the local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bject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olicy chan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vilege u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cess track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ystem ev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1:52:30Z</dcterms:created>
  <dc:creator/>
  <dc:description/>
  <dc:language>en-US</dc:language>
  <cp:lastModifiedBy/>
  <dcterms:modified xsi:type="dcterms:W3CDTF">2011-04-26T12:59:02Z</dcterms:modified>
  <cp:revision>693</cp:revision>
  <dc:subject/>
  <dc:title/>
</cp:coreProperties>
</file>