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496A-F155-4931-BDD6-E43C882C1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B7D0-F841-46A1-8266-43B2055FA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DE7A-65A0-4F75-B78E-46DDA5517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FCB1-B339-4EB9-A894-D02A585C3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214F-55CF-4F5B-93E4-63E447ADF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02B4-C373-4DCF-8C7E-35440EAFB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E075-C1D6-4E28-B1F3-66A36BC7B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67F8-54C5-4AF7-944A-0DC33D2DE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62F4-7BD0-4EF6-9B75-B440E8F7F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85F7-B6FE-44AA-ABEF-91C884434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C8AD-D20B-4474-9B9A-269E0C34D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9EBF-9DB5-45A5-BA01-B42CE59C0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6CE2-1F03-4DF6-AAEC-94C6742F9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4B4D-144A-4094-AB89-6AA0FA02B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188C-10B9-4FDB-8AA2-912F40A09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FBC4-50AF-411F-8D96-7E1C41380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23CC-E4FE-4C5C-9E6A-FE061E6CF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84A2-D74A-4016-9C2B-65FD874E7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D2B6-9BA4-4BD2-8EFD-038CDF015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4A42-6E8F-474F-BB8B-5E2EFC1A2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14EC-067F-4A02-B5BB-882DEFC44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5362-218B-4DEF-A391-4AD775D7C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BAA8-ED10-4F1B-B6A0-58B51A289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FBCF-7341-4F35-A26F-DD0525FE5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022E-06B6-4D02-9EF6-1DB78371B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A1EB-EAD4-4426-BDB7-49035D80C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9129-CD1C-4558-A3EA-5DEBD16DF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F837-30D1-4776-A7AE-02BA8E742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E9B1-7161-48CC-820F-3489A843B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432A9-2CA9-498A-BE16-BF2523E68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5F958-453C-4A76-B432-539DBB29B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B7F24-42CD-42AF-BD1C-B878EEEE0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C1346-7A3A-4E4A-819F-38B8BB40D3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00EB2-21E2-4277-8F5F-62E069AE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961CB-936A-4DED-9C67-2C88F4D7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A53DF-603C-4327-A794-E243E579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402E6-636E-4180-B30B-4C7A5C2F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9B98C-E23A-4AD9-8A97-E7EC629E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58159-9BAB-4FDF-884A-46116069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3F63A-A652-43A1-9676-5BEBA1B5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422E2-C96D-4280-8D75-DDE7FCF825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48B93-DCE4-4612-90BC-2A151C0D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1E87F-32E9-4B34-94B7-F1AAC8DA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319FE-F304-4C34-95FF-1EE33A10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C1CA1-0A7B-4A65-B98D-0FE73CF7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D4B0C-BC2F-4A05-B9A1-327E80A0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FB165-3ACB-474A-AB2B-350B2DD3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EA682-0699-4C32-8AC9-D1C7EAA6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969347-13D1-491D-A615-2CE59AAA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09689-B62D-413A-A335-F3336B4A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5E844B-66D6-4907-8386-51E25424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45BCE-4D87-4C33-B480-5BFEB0F5B7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8683C-90B2-4406-90CA-E4EE728B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1D2C0-0C65-45E5-B8FC-FD5D937E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8A14F4-E0BA-4C63-9E8E-551DD5F4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503220-2B5F-476B-9E54-1B07FF02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11B68-E090-474E-93EE-46750C1E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2EEE2-77A7-47BE-833F-32A9D2E1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08909-D7CE-4238-9C86-EF997E15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53253-87BD-4927-BE00-D4DCED770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4414F-62CF-4222-B5E0-9D69B69FE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5F7DD-43C5-4DA4-B996-CA6B35E2A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0EDD6-62B4-4EE1-8052-745F017A7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9F2E7-09F0-4165-AE7D-025C148FB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86A5C-8F15-4526-9FB1-9D5580F29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E575-1543-4C22-9BD0-F13AED633AA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543A-4E83-4E21-B408-1A296380ABC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7D73-B974-4863-847B-6BF28BDE8B3B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4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8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Managing Windows Server 2008 Network Services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31" name="Picture 3" descr="Cengage_1.jpg"/>
          <p:cNvPicPr/>
          <p:nvPr/>
        </p:nvPicPr>
        <p:blipFill>
          <a:blip r:embed="rId1"/>
          <a:stretch/>
        </p:blipFill>
        <p:spPr>
          <a:xfrm>
            <a:off x="0" y="0"/>
            <a:ext cx="3666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E835-91CB-4ECA-9B00-4691E4ADFFC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dditional DNS Server Rol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t is common to designate one DNS server to forward name resolution requests to a specific remote DNS ser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DNS server can function as a caching ser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caching server is used to provide fast queries because the results of each query are stored in RA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ne limitation of using caching servers is that it takes time for each one to build up a comprehensive set of resolved names to IP addres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C7C2-2528-4AEE-A460-DD54B83E8CF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1604880" y="380880"/>
            <a:ext cx="5934240" cy="57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D989-FAA5-482E-8A2F-D56BF608088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Microsoft WI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dows Internet Naming Service (WINS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d to register NetBIOS computer names and map them to IP addresses for any systems that use NetBIOS name resolu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S automatically registers network clients that use NetBIO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uilds a database that other network clients can query in order to locate a comput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S consists of two main parts: the WINS server and the WINS databas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3E61-DDDC-48F7-8998-BE034AEEF1B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Microsoft DHC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ynamic Host Configuration Protocol (DHCP)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s a Windows Server 2008 server with DHCP services to detect the presence of a new workstation 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ssign an IP address to that workst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DHCP server has a pre-assigned range of IP addresses that it can give to a new cli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icrosoft DHCP server can support the following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ynamic configuration of DNS server forward and reverse lookup zone recor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p to 1000 different scop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p to 10,000 DHCP cli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8EF3-1FAC-4621-AB9D-4EF3452C7DD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Microsoft DHCP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Windows Server 2008 server can be configured in the role of a DHCP server using Microsoft DHCP servi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DHCP server automatically updates the DNS server at the time it assigns an IP addres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ing dynamic DNS updates can significantly save time in creating DNS lookup zone recor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E756-5894-470F-8A2A-1D1AF43BBE7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Microsoft DHCP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Microsoft DHCP server can als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serve an IP address for a specific comput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pdate all computers on a network for a particular change in DHCP setting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vide DHCP services to multiple subnetwork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mit certain IP addresses from a scop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E7E4-5F66-49B3-B5EC-787D321C4C7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HCPv6 Suppor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dows Server 2008 and Windows Vista both enable a network to use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ynamic Host Configuration Protocol for IPv6 (DHCPv6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r networks that are working to implement IPv6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Microsoft implementation of DHCPv6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llows the official standard for DHCPv6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upports both stateful and stateless autoconfigur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3423-45ED-4DE4-A971-76171B9B9D3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Microsoft Internet Information Servic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icrosoft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Internet Information Services (IIS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oftware included with Windows Server 2008 that enables you to offer a complete Web sit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eb Server (IIS) role servi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orld Wide Web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le Transfer Protocol (FTP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imple Mail Transfer Protocol (SMTP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96B1-DEFB-401C-969A-33D0FA0D17E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Microsoft Internet Information Servic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dows Server 2008 is a good candidate for a Web server for several reas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ndows Server 2008</a:t>
            </a:r>
            <a:r>
              <a:rPr b="0" lang="ja-JP" sz="2400" spc="-1" strike="noStrike">
                <a:solidFill>
                  <a:srgbClr val="222222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 privileged-mode architecture and fault-tolerance capabilit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ndows Server 2008 is compatible with small and large databa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Users can log in to a database through the IIS Open Database Connectivity (ODBC) driver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atible with Microsoft Point-to-Point Encryption (MPPE) security, IP Security (IPsec), and the Secure Sockets Layer (SSL) encryption techniqu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98E4-DF3C-444D-B042-2DF0FA13B61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Microsoft Internet Information Servic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IS is newly designed for Windows Server 2008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roken into modules or features so that you can install only the features you ne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esents a smaller attack surface and makes IIS more effici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7F0C-5B55-41FC-8756-B780DAA730F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stall, configure, and troubleshoot D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mplement Microsoft WI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stall, configure, and troubleshoot DHC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stall, configure, and troubleshoot Microsoft Internet Information Servi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CE6C-33E7-49E5-9DEA-1F9DCBE79B4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22222"/>
                </a:solidFill>
                <a:latin typeface="Arial"/>
              </a:rPr>
              <a:t>Internet Information Services (IIS) Manager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rough this tool, you can do the following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nect to a Web server on your computer or remotely connect to a Web server, an application, or sit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ave connections to multiple Web servers, applications, and sit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nage a Web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nage ASP.NE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nage authorization for users and for specific Web server rol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B11C-9C7D-4EFD-9452-54EED579F66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22222"/>
                </a:solidFill>
                <a:latin typeface="Arial"/>
              </a:rPr>
              <a:t>Internet Information Services (IIS) Manager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rough this tool, you can do the following: (continued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nage Web server logg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ress Web server fil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nage code modules and worker proces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nage server certificat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roubleshoot a Web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9317-BF8A-4CD0-8AFB-D13C0FCCE4B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762120" y="237960"/>
            <a:ext cx="761976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98E5-0EE8-4F8D-B8FA-34D1C46EB82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reating a Virtual Directo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Virtual director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physical folder or a redirection to a Uniform Resource Locator (URL) that points to a fold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o that it can be accessed over the Internet, an intranet, or VPN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reason for creating a virtual directory is to provide a shortcut path to specific IIS server cont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en you set up a virtual directory, you give it an ali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name to identify it to a Web brows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00C2-7060-48D8-8A38-C570B70FB97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reating a Virtual Director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fter a virtual directory is created, you can modify its properties in IIS Manag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set up the virtual directory to be shar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o that users who need access to add contents to the directory can do this over the networ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D447-BEFA-4996-AFE8-C55448164BF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2394000" y="304920"/>
            <a:ext cx="4356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1AAC-9D2E-4878-A1C6-C1B90260303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ing and Configuring an IIS Web Server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Internet Information Services tool enables you to manage IIS components including the following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pplication poo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it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MTP e-mai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ertificat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pplication pools enable you to group similar Web applications into pools or groups for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tes is a folder used to manage multiple Web sites from one administrative Web ser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365D-73A0-42C5-B7F3-A2686CF2730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ing and Configuring an IIS Web Server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SMTP E-mail Page feature is used to manage Internet e-mail via e-mail progra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akes advantage of the application programming interface, system.net.mai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rough the certificates feature, you can configure and monitor certificate security that is used with other Web sit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70D7-33ED-4D57-831E-C17D6632380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Picture 6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46784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A6D2-0399-468B-ABA2-2E7D7FAED88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Microsoft D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omain Name System (DNS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TCP/IP application protocol that enables a DNS server to resolve (translate):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Domain and computer names to IP address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P addresses to domain and computer nam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NS servers provide the DNS namespace for an enterpris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ne of the requirements for using Active Directory on a Windows Server 2008 network is to have a DNS server on the network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DADC-480D-4740-B7C1-93D3DCA74B8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stalling DNS Servic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NS is installed as a server role in Windows Server 2008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installation steps for DNS are similar to those for DHC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oth are installed as Windows compon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48C1-5242-4F68-9C4B-DF210E9FA10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NS Zon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NS name resolution is enabled through the use of tables of inform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at link computer names and IP addres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tables are associated with partitions in a DNS server that are called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zon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tain resource recor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Forward lookup zon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zone that links computer names to IP addres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olds host name records called address recor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357D-991E-4B90-A443-AE5A5CBD07D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NS Zon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IP version 4, a host record is called a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host address (A) resource recor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n IPv6 record is called an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IPv6 host address (AAAA) resource recor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en you install DNS on a domain controller (DC) in a domai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forward lookup zone is automatically created for the domain with the DNS server</a:t>
            </a:r>
            <a:r>
              <a:rPr b="0" lang="ja-JP" sz="2400" spc="-1" strike="noStrike">
                <a:solidFill>
                  <a:srgbClr val="222222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 address record already enter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B1C6-BF90-40D4-8AD4-46B6B0D64E5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826920" y="304920"/>
            <a:ext cx="7479000" cy="59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E155-634D-4A4A-BBB2-ED4A788A2CC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the DNS Dynamic Update Protocol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icrosoft DNS is also called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ynamic DNS (DDNS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modern form of DNS that enables client computers and DHCP servers to automatically register IP addres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NS dynamic update protoco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s information in a DNS server to be automatically updated in coordination with DHC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E776-B39C-44EA-99A8-7F8CD8F43E5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NS Replica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Primary DNS ser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DNS server that is the main administrative server for a zone and thus is also the authoritative server for that zon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econdary DNS ser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tains a copy of the primary DNS server</a:t>
            </a:r>
            <a:r>
              <a:rPr b="0" lang="ja-JP" sz="2400" spc="-1" strike="noStrike">
                <a:solidFill>
                  <a:srgbClr val="222222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 zone database, but is not used for administration (is not authoritative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btains that copy through a zone transfer over the networ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1-04-19T12:52:32Z</dcterms:modified>
  <cp:revision>693</cp:revision>
  <dc:subject/>
  <dc:title/>
</cp:coreProperties>
</file>