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B4F0-38C3-46BD-BA8A-C6D2BF121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293D-9FFA-425F-BC3F-8E663D9C8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76F7-6A47-4A6C-8790-177353B40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CEFE-81CF-4C19-A16E-88C8389B7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D850-5513-4925-BD46-9B8B578F8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CC54-0948-4B44-AAE9-F02C77604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2A49-F0B8-4B8B-AD07-537B57C45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E5A5-E8EA-4C6E-A1CB-D56A64BF7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7BBF-A1E4-4EE3-886E-A9B93E7BD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4EBE-B047-4D3B-BEC9-F9A0A61D6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D456-0729-4291-B6C9-29617FCF2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9188-9795-4AF0-B8A3-E34C0CDED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5B2B-7917-4987-AAC9-8BE518A8F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27A4-9BF5-4FEC-9519-6BEC1659B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7434-F542-4EEC-B45D-93DF4C02D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EAC8-31F9-4C58-A993-F450469BA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23EF-256F-41E0-952D-1CBB71C9F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9588-8799-44D8-99D9-CA232E71A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E039-8BB6-4569-9AD3-E08184226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9401-6083-4029-A52B-02831A230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08F4-27FD-4419-95C9-807E5A925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69E2-2678-41BA-A366-4734C8C6C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8515-BEA9-4584-B5AD-56C697E5D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35FF-4A37-4B61-872F-C885A715C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2578-9AEC-40DD-A9BB-1433326BC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8AD4-281F-4708-9A68-69B913FC8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48BA-14BE-46BF-AC99-B71459F30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3123-0CDC-47D2-BE45-E57778ABB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7371-3E83-4C52-AE60-6ADF94C58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89AD-AF19-47DF-BD14-FA9D4515F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726C-3D88-43A6-8ED2-34185F6DA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6AFA-19AB-46BF-9DB9-9804633D4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C583-BA61-4DAD-BF50-91E2A623C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AF4C-2254-46CA-96F6-69B7599D8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F267-57B2-49F9-A027-F23F7D325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A6C8-0DF4-4504-8857-B3C52B730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2DA8-9C05-4680-9127-44D3F695D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B86D-67F0-46EE-AA11-9E0B3FFE8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4B94-B7FA-42A4-BE19-94D6E4E60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655E-A486-4726-BD9B-764818EB3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B4B05-B7FB-4440-8FD8-0359DFFF1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B4831-71E7-4CA5-9533-51CB03B52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BAD80-10EC-46F8-99E4-8D9FFFA74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D2724-2577-461B-903D-BEE4013CD2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467CE-4AB6-413D-8A15-2A57FBD1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0369D-4871-4FF8-AB28-4B5E4792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60664-AB43-44BF-A4C7-99CC2B68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9DB50-8656-45E6-92D5-725EA4E5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FDF34-21CD-48E7-908F-14E29C44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EB559-A196-42D7-A60F-8BBEE223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A0B3C-07FE-40AB-A2DF-4725636B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B6A97-F7F6-4845-B998-D81692FE15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B7917-DAB8-4D33-951B-361E738B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F2459-A0A6-4805-BEE9-A57B4CFC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43288-07AA-4461-B133-28155707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0DA95-1F6F-49DE-A82B-66C53223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7506A-BC2C-4B2E-816A-BB8C4356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148F88-3D7D-4B1F-B038-9116E713C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8C9D4D-521D-40AF-A38F-4B7BCE70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C4D870-61E3-4ED5-8C4B-8735D04D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1A360-AB22-4434-B845-37C6FF03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F850C9-82A6-4C00-8F9A-B93C340E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82FDA-7969-4516-B00D-3A6BAD07C5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AEB8A1-916D-4E55-AE8A-8D98AAE8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228ABD-6D2F-43DB-9F0B-F30804C7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298B0E-3336-414D-A0F5-2FDB6FEC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0FD40-8F7B-487D-9CDC-8169CE1E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5C295-E0CC-4804-8F55-090674F8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E5101-1406-4D2B-90AC-B8CE4EC8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58A1AD-FBB7-46AF-82C6-154B96AB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A08B7-678C-4EC5-A836-63AC72670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CA7E2-AD98-42D9-9600-856F0D888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5287E-C58A-4103-BCCB-DEF222E38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9093B-900E-491B-8384-3E8218ED5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6B686-7FCE-4432-9854-FDB4AF306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9017D-BB88-439B-8CD3-58409791E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E0B1-238C-4BDE-90CA-B17A7BA0F78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5F72-1798-4730-B858-9AD6C46EE149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F836-7ECB-4B33-AE93-DFAD2E9B0BB8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4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5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onfiguring, Managing, and Troubleshooting Resource Access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31" name="Picture 3" descr="Cengage_1.jpg"/>
          <p:cNvPicPr/>
          <p:nvPr/>
        </p:nvPicPr>
        <p:blipFill>
          <a:blip r:embed="rId1"/>
          <a:stretch/>
        </p:blipFill>
        <p:spPr>
          <a:xfrm>
            <a:off x="0" y="0"/>
            <a:ext cx="3666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7560-D143-43CB-AE4A-F3D1568975C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Folder and File Attribut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ress attribut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folder and its contents can be stored on the disk in compressed forma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18BF-B532-4F28-87F4-168E11C0ED8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Folder and File Attribut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ncrypt attribut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tects folders and files so that only the user who encrypts the folder or file is able to read i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 encrypted folder or file uses the Microsoft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Encrypting File System (EFS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Which sets up a unique, private encryption key associated with the </a:t>
            </a: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user account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that encrypted the folder or fil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A4B9-C019-438F-B03E-AE7703214AE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Folder and File Attribut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ncrypt attribute (continued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hen you move an encrypted file to another folder on the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same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puter (in NTFS), that file remains encrypted, even if you rename i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A56A-A7C1-490F-992A-95542607859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Folder and File Permiss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Permiss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trol access to an object, such as a folder or fi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en you configure a folder so that a domain local group has access to only read the contents of that fold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You are configuring permiss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t the same time, you are configuring that folder</a:t>
            </a:r>
            <a:r>
              <a:rPr b="0" lang="ja-JP" sz="2600" spc="-1" strike="noStrike">
                <a:solidFill>
                  <a:srgbClr val="222222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 discretionary access control list (DACL) of security descripto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C64F-6AA1-4837-81D0-2970A952439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41936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C5D0-D9F0-4312-AE2D-848648A098A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Folder and File Permission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f you need to customize permiss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You have the option to set up special permissions for a particular group or us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CA26-1258-4E92-BB69-29FBF2FD34B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1"/>
          <a:stretch/>
        </p:blipFill>
        <p:spPr>
          <a:xfrm>
            <a:off x="2286000" y="122400"/>
            <a:ext cx="457200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02D1-0793-44CA-A9EA-1276EB0C554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Folder and File Audit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Audit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s you to track activity on a folder or fi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B8EB-0106-4BAC-83E4-999B12A2351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Shared Folders and Shared Folder Permiss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folder can be set up as a shared folder for users to access over the network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figuring a shared folder is changed in Windows Server 2008 from previous vers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o help make the person offering the shared folder more aware of security op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first step for sharing a folder over the network is to turn on file sha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9024-3304-4FC8-852C-ECA09508FC0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2349360" y="152280"/>
            <a:ext cx="444528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1899-3AC3-4618-A6D2-0A35ECF2A67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t up security for folders and fi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figure shared folders and shared folder securit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stall and set up the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istributed File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figure disk quot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mplement UNIX compatibilit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530F-174E-4A2D-95CF-F1E6FC79C63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85E7-8141-4E57-95F5-231976770C5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Shared Folders and Shared Folder Permission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hare permissions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r an objec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iffer from the NTFS access permissions set through the Security tab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hare permission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ad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tributo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-own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wn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1991-2C1E-4A57-AB9A-BCC23522CE2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Shared Folders and Shared Folder Permission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can cache a folder to make the contents of a shared folder available offlin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y offline files that have been modified can be synchronized with the network versions of the fil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folder can be cached in three way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nly the files and programs that users specify will be available offlin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 files and programs that users open from the share will be automatically available offlin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les or programs from the share will not be available offlin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2BEA-9FD4-479D-A15A-6DE5B670575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ublishing a Shared Folder in Active Directo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publish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an objec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eans to make it available for users to access when they view Active Directory conte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Makes it easier to find when a user searches for that object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en you publish an object, you can publish it to be shared for domain-wide access or to be shared and managed through an organizational unit (OU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0FE2-3490-4ECF-A598-116E457B464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ementing a Distributed File Syste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istributed File System (DFS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s you to simplify access to the shared folders on a network by setting up folders to appear as though they are accessed from only one pla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f DFS is used in a domain, then shared folder contents can be replicated to one or more DCs or member serv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1092-3FB4-4602-A999-5BBA16CDCB9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ementing a Distributed File System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FS advantage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hared folders can be set up so that they appear in one hierarchy of fold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Enabling users to save time when searching for information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TFS access permissions fully apply to DFS on NTFS-formatted volum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ault tolerance is an option by replicating shared folders on multiple serv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cess to shared folders can be distributed across many servers (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load balancing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B4D9-4C20-43EC-815B-5F366612ACE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ementing a Distributed File System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FS reduces the number of calls to server administrators asking where to find a particular resour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nother advantage of DFS in a domain is that folders can be replicated automatically or manually through Microsoft File Replication Servi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3A7E-05C3-44E0-A1ED-05262CB8FD9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FS Model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tand-alone DFS mod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o Active Directory implementation is available to help manage the shared fold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is model provides only a single or flat level sha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omain-based DFS mod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akes full advantage of Active Directory and is available only to servers and workstations that are members of a domai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s a deep, root-based, hierarchical arrangement of shared folders that is published in Active Director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BA2C-3EA3-4D93-ADBC-D5CA570AD2D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FS Topolog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FS topolog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hierarchical structure of DFS in the domain-based mode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Namespace roo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main container (top-level folder) in Active Directory that holds links to shared folders that can be accessed from the roo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amespace serv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server that maintains the namespace roo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fter the namespace root is created, it is populated by shared folders for users to acces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8E88-CDAC-4967-839E-299806ACC87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FS Topolog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lders are established in a level hierarchy and appear to be in one server loc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though they can be on many serv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Replication grou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set of shared folders that is replicated or copied to one or more servers in a domai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8B8B-BE00-4DEA-B2E4-6E954A73EEF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ing Folder and File Securit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reating accounts and groups are the initial steps for sharing resour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next steps are to create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access control lists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(ACLs) to secure these objects and then to set them up for shar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iscretionary ACL (DACL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 ACL that is configured by a server administrator or owner of an objec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ystem control ACL (SACL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tains information used to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audit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access to an objec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98D1-1EAC-4525-BD9E-2C4BC3DA4F2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stalling DF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FS is installed as a service within the File Services ro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f the File Services role is already installed, but you don</a:t>
            </a:r>
            <a:r>
              <a:rPr b="0" lang="ja-JP" sz="2600" spc="-1" strike="noStrike">
                <a:solidFill>
                  <a:srgbClr val="222222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 see the DFS Management tool on the Administrative Tools menu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is means you didn</a:t>
            </a:r>
            <a:r>
              <a:rPr b="0" lang="ja-JP" sz="2400" spc="-1" strike="noStrike">
                <a:solidFill>
                  <a:srgbClr val="222222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 install Distributed File System when you installed the File Services ro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EFC9-B7FF-45FE-B9E7-7851B1E1002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755640" y="206280"/>
            <a:ext cx="762624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6687-A3C0-407C-9A7D-FB92EAEEF88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ing a Domain-Based Namespace Root Syste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reating a folder in a namespa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folder is simply a shared folder that you add to (or link to) the namespace roo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Folder targe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08440" indent="-2214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 path in the Universal Naming Convention (UNC) format 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Universal Naming Convention (UNC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08440" indent="-2214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 naming convention that designates network servers, computers, and shared resources e.g. \MYPC\system\shared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lients who access the namespace can see a list of folder targets ordered in a hierarch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A85A-204A-4A5A-AFFF-C715AA9C844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ing a Domain-Based Namespace Root System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uning a Namespa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uning options: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onfigure the order for referral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onfigure cache duration for a namespac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onfigure cache duration for a folder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onfigure namespace polling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onfigure folder targets as enabled or disabled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6F92-869C-412C-8BBB-F56298D612D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Picture 6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18184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C5D6-936B-4412-9B6F-9848EAA59E3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ing a Domain-Based Namespace Root System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leting a namespace roo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You can delete the namespace root via the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DFS Management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ool by clicking the namespace root and clicking Delet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0609-BB53-4C55-A6A6-59DA43E8972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Disk Quota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isk quotas advantage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eventing users from filling the disk capacit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couraging users to help manage disk spa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racking disk capacity needs on a per-user basis for future plann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Providing server administrators with information about when users are nearing or have reached their quota limi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isk quotas can be set on any local or shared volum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F374-D205-4360-9DC9-315EAC9CEC9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UNIX Interoperability in Windows Server 2008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ubsystem for UNIX-based Applications (SUA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vides interoperability between Windows Server 2008 and UNIX and Linux syst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A allows you t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un UNIX/Linux applications with few or no changes to the program source cod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un UNIX/Linux scrip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 popular UNIX/Linux shel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un most UNIX/Linux command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un the popular vi UNIX/Linux edito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4C34-E8E1-47E9-B456-325AC2E60AD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UNIX Interoperability in Windows Server 2008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erver for Network Information Servi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etwork Information Services (NIS) provides a naming system for shared resources on a UNIX/Linux networ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rough the NIS server, a user can access shared resources, such as a shared partition containing shared fil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rver for NIS also ensures the synchronization of account password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1660-505B-493B-9D69-4DA124782A2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UNIX Interoperability in Windows Server 2008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1"/>
          <a:stretch/>
        </p:blipFill>
        <p:spPr>
          <a:xfrm>
            <a:off x="533520" y="1776240"/>
            <a:ext cx="807696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34B0-B01C-406A-9788-F66CB90C292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Folder and File Attribut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ttributes are stored as header information with each folder and fi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ong with other characteristics including volume label, designation as a subfolder, date of creation, and time of cre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wo basic attributes remain in NTFS that are still compatible with F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ad-only and hidde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advanced attributes are archive, index, compress, and encryp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2417-F69F-42EF-9A3E-44047929951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361800" y="328680"/>
            <a:ext cx="840132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66C6-BADF-4F08-A4B8-9630E6CF392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Folder and File Attribut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rchive attribut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dicates that the folder or file needs to be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backed up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ecause it is new or chang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File server backup systems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n be set to detect files with the archive attribute to ensure those files are backed u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dex attribute vs. Windows Search Servi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NTFS index attribute is used to index the folder and file contents so that file properties can be quickly searched in Windows Server 2008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Through the </a:t>
            </a: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Indexing Servic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2544-9A4E-4827-ABD2-B97FEB585E6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Folder and File Attribut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dex attribute vs. Windows Search Service (continued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ndows Server 2008 offers a newer, faster search service called the Windows Search Servi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o use the Windows Search Service, you must install the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File Services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 role via Server Manag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ultimaster replic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ach DC is equal to every other DC in that it contains the full range of information that composes Active Director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tive Directory is built to make replication effici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AFA0-CEE8-49D4-B8E2-804B2C860AC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898560" y="304920"/>
            <a:ext cx="7331040" cy="58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E0C7-B2CC-4386-82B2-A0D2FB55E39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2050920" y="380880"/>
            <a:ext cx="50421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2:36:36Z</dcterms:created>
  <dc:creator/>
  <dc:description/>
  <dc:language>en-US</dc:language>
  <cp:lastModifiedBy/>
  <dcterms:modified xsi:type="dcterms:W3CDTF">2011-04-14T12:44:14Z</dcterms:modified>
  <cp:revision>694</cp:revision>
  <dc:subject/>
  <dc:title>Chapter 1</dc:title>
</cp:coreProperties>
</file>