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4619-78FB-4153-A88A-953E1571F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E48B-BDDA-4604-92C1-B5742723E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5E9A-7558-4FF4-BABE-8A4A4444D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A656-DBC1-4DF3-9205-3EDB43B4C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4F6D-15A3-4A2C-9B31-FD8132C6C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38FA-A290-4399-9600-4E98D4DBA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2611-1BFF-44C7-BF19-A85F72B2A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14A1-08BC-48B7-901A-7C856DA12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7CD7-96F4-4106-BDEA-568C826CB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535F-FF9E-4152-8910-FD0CDA9D4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3E28-3EB9-4A94-9A63-8176C9D7F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4906-32C3-41A3-BD23-23EA7D844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3227-E923-4BF4-8FD6-60A8C571F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E4E8-282A-4375-8CCD-57E7CE311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F862-1F0A-473A-8E14-A6913D375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64CF-48C5-436F-87FA-3A662A7B3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296F-3207-439E-A66B-44CA4F676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B50B-5780-4149-AE92-1B6EA19BD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D063-A8AE-4FD4-A7EC-53B9EB9F0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4188-544C-4B49-95BB-1EADD0160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6436-8698-4F70-89F4-806CF4223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EF95-18DD-4451-B41E-7C2D70DD5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BC69-8F77-41AE-8FB6-6E2AA9901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E0188-1249-47CD-A67F-C4E899B1E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76D39-C1BF-4B28-91A3-8A29ABE6F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C7F09-B475-4F8E-B1FE-A82E0217C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E8594-E64E-4E2A-B1B2-EA3DFA642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B779B-EAFC-4CA7-99C0-BAD3658F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D1232-153A-40F2-B40D-7E5E6074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A3F43-C2FA-44A0-BF70-68FA10B6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8BCFF-C5A9-4E66-95A9-996C5509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5B1A9-515F-40AA-80DD-EAD1CD8A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9CA92-5A58-4E2B-971E-1D112A0B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6E5F4-E3AF-4536-ABCD-625742F7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C98AD-0D3A-41A3-B30F-FEE2F101F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7A3E3-3320-41CD-8151-B18CA7C3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3F783-384B-488C-A386-BBE00917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04F32-6E59-420E-94B2-4C856D8E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B09D3-38EE-4B3D-A6E0-E893FAC1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F5A65-A6B7-45A6-8B74-99ABBA0E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7E45C-903D-45EA-8B02-58FC9038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52F66-3192-4A9F-AC65-895C8F01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4BA8C1-71CA-4B6E-BCB6-66312A15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4619B-84B8-44B5-9A33-911B61B1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20859-71BF-4F1D-8264-1FF8E0A7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DAE39-3065-47B5-BBB3-78188C83A2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C8E4A-A3B7-4E1B-8DD5-87711A05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D5616-7627-4FDC-9DF6-A6C45298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A33BA-D147-404D-99AA-E1D8DC3E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83CF8-ACCB-4F1B-8F4C-43C007E4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054DA-0FD0-4A5D-A891-EE187379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B6340-8D1D-4623-944D-EF2A51B2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86DA1-1AC5-4A84-8AFC-8061C38F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D6FAF-747C-4AF6-9772-2B2F48733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A1B00-AE68-4E91-A95C-94B503D7C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9D246-FCCF-480E-81F2-6B43F5D5B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276B6-E800-4A8C-A43E-9B4943DBA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B7207-352C-451F-87D9-45469596A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A6ABC-489D-4DB0-8D18-6451AA67F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4F8D-086D-403F-9FA1-E8588FE749B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6F37-FD2B-4454-A39D-DA65C3F2A1F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41FC-5FDE-4071-BB37-AD443136FDF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4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9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onfiguring Remote Access Service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1" name="Picture 3" descr="Cengage_1.jpg"/>
          <p:cNvPicPr/>
          <p:nvPr/>
        </p:nvPicPr>
        <p:blipFill>
          <a:blip r:embed="rId1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B4A8-6253-4485-AA87-09AE5BB6A16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VPN Properti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the VPN server is set up, you can further configure it from the Routing and Remote Access too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y right-clicking the VPN server in the tree and clicking Propert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206B-CAE9-414B-8FEE-1776CD6B9F7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2119320" y="152280"/>
            <a:ext cx="4905360" cy="610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63E5-FC26-4AA0-8D21-9FE7B359AAD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VPN Securit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set up VPN security through a remote access polic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Greatly reduces administrative overhead and offers more flexibility and control for authorizing connection attemp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lements of a remote access polic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ess permiss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di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tting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7AF2-A0CF-4F01-9D34-1A689A4B508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VPN Securit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stablishing a remote access polic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You can use the Routing and Remote Access tool to create and configure a remote access polic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 create a new remote access policy, right-click the Remote Access Logging &amp; Policies folder in the tree under the VPN or dial-up RAS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lick Launch NPS to launch the Network Policy Server tool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6B21-A5D5-4CD6-9F89-EF9F933D155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necting Through Terminal Servi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Terminal ser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clients to run services and software applications on Windows Server 2008 instead of at the cli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Which means nearly any type of operating system can access Windows Server 2008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Windows Server 2008 Terminal Services are used for two broad purpose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 support thin cli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 centralize program acc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5944-2392-4FF6-A8DE-754CFABF8A5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necting Through Terminal Servic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Terminal Services not only support thin cli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ut other types of client operating sys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you install Terminal Services, you can install different role services for specific purpo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5E77-2433-4D0C-AA89-9E0A7032A29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stalling Terminal Servi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you install the Terminal Services role, you also need to install the TS Licensing role servi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 manage the number of terminal server user licenses you have obtained from Microsof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TS Licensing role server can be installed when you install the Terminal Services ro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icenses can be purchased either per user account or by client devi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you install the Terminal Services role, you can choose to implement the new Network Level Authentication op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2B80-10FB-4E3E-A97A-222028B6FC2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stalling Terminal Servic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Network Level Authentication (NLA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authentication to take place before the Terminal Services connection is establish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Which thwarts would-be attacker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other element to consider before you install the Terminal Services role is who will be allowed to access the terminal ser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reate groups of user accounts in advance so that you can add these groups during the install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0087-1B6D-46E9-9E36-29937E0BC32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Terminal Servi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egin by using the Terminal Services Configuration tool to configure the remote connection properti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ly one connection is configured for each NIC in the server, which is used to handle multiple cli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F568-C930-4383-84A5-DB8E7C4ED8C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ing Terminal Servi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erminal Services Manager allows you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nitor the number of users connected to the terminal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dd additional terminal servers to monit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termine if a user session is activ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termine which programs are running in a user</a:t>
            </a:r>
            <a:r>
              <a:rPr b="0" lang="ja-JP" sz="24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 sess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sconnect a user</a:t>
            </a:r>
            <a:r>
              <a:rPr b="0" lang="ja-JP" sz="24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 session or log off a us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set a connection that is having trou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nd a message to a us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F89B-C31D-40D1-9099-9E4244AFE04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 to Remote Acce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outing and Remote Access Services (RRA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 routing and remote access through two means: virtual private networking and dial-up network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Virtual private network (VPN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ike a tunnel through a larger network that is restricted to designated member clients on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ial-up network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eans using a telecommunications line and a modem (or other telephony device) to dial into a network or specific computers on a networ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D298-EC2A-4730-A7F6-69AFB58ED83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Licens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you set up a terminal server, you must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tivate the Terminal Services licensing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figure the licensing by using the TS Licensing Manag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4126-AD97-475C-A634-D5D5B7D439C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essing a Terminal Server from a Cli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erminal Services client computers can log on using the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emote Desktop Connection (RDC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cli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general steps to start RDC in Windows Vista or Windows Server 2008 are as follow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lick Start, point to All Programs, and click Accessor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lick Remote Desktop Conne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ter the name of the computer to access and click Conne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 the username and password and proceed with the conne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93C8-271F-4187-8E5E-B23D9FE2833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stalling Applications on a Terminal Serve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you configure a terminal server, applications are installed to be compatible with this mod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r this reason, you might need to reinstall some applications that were installed before you installed the Terminal Services ro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76B7-1B6F-4F25-BBBE-18C26F37637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060560" y="247680"/>
            <a:ext cx="70167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19A0-F2D7-4F8C-9899-12A78C6BECF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1066680" y="95400"/>
            <a:ext cx="7010640" cy="61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3DBB-ADAE-4861-9539-68E6BAA300C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Remote Access Protocol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oint-to-Point Protocol (PPP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d more commonly than either version of SLIP for remote communications because it has more capabil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so supports more network protoco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you implement a Windows Server 2008 VPN server, one of three remote access protocols are used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oint-to-Point Tunneling Protoco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ayer Two Tunneling Protoco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cure Socket Tunneling Protoco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8DF7-3B47-49FA-95AA-B18C9916BE5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Remote Access Protocol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oint-to-Point Tunneling Protocol (PPTP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ffers PPP-based authentication techniqu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crypts data carried by PPTP through using Microsoft Point-to-Point Encryp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Layer Two Tunneling Protocol (L2TP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orks similarly to PPT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s Layer Two Forwarding that enables forwarding on the basis of MAC address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s IP Security for additional authentication and for data encryp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3428-52C5-409C-9E73-D518DF19293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Remote Access Protocol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ecure Socket Tunneling Protocol (SSTP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s PPP authentication techniqu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capsulates the data packet in the Hypertext Transfer Protocol (HTTP) used through Web commun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dditionally uses a Secure Sockets Layer channel for secure commun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CE5F-E55D-49BA-BF42-81CF65CA79C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a VPN Serve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General step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stalling the Network Policy and Access Services ro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figuring a Microsoft Windows Server 2008 server as a network</a:t>
            </a:r>
            <a:r>
              <a:rPr b="0" lang="ja-JP" sz="24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 VPN server, including configuring the right protocols to provide VPN access to cli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figuring a VPN server as a DHCP Relay Agent for TCP/IP commun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figuring the VPN server propert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figuring a remote access policy for secur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4F14-B24E-488B-ADC1-0A77947C1CA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a DHCP Relay Ag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HCP Relay Ag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roadcasts IP configuration information between the DHCP server on a network and the client acquiring an addr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use the </a:t>
            </a:r>
            <a:r>
              <a:rPr b="1" i="1" lang="en-US" sz="2600" spc="-1" strike="noStrike">
                <a:solidFill>
                  <a:srgbClr val="222222"/>
                </a:solidFill>
                <a:latin typeface="Arial"/>
              </a:rPr>
              <a:t>Routing and Remote Access tool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configure the VPN server as a DHCP Relay Ag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further configure the DHCP Relay Agent by specifying the maximum number of DHCP servers that can be reached through rout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1:30:40Z</dcterms:created>
  <dc:creator/>
  <dc:description/>
  <dc:language>en-US</dc:language>
  <cp:lastModifiedBy/>
  <dcterms:modified xsi:type="dcterms:W3CDTF">2011-04-26T12:56:16Z</dcterms:modified>
  <cp:revision>693</cp:revision>
  <dc:subject/>
  <dc:title/>
</cp:coreProperties>
</file>