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F32A-F5E5-4A5A-920A-882313A41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0333-0866-4472-A5B9-CF380A5B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547B-5289-4987-8B64-1B6CC9C76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8123-5314-4591-B7D5-7AFBCDAB11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BFE6E-A9E3-4F5E-84D6-ACEE1C42E7F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9D816-255F-4E96-910A-A87F778AC3B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571CA-5572-4030-864E-0984070481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0B24B-1665-49E3-8FFE-A445301179A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D8AF-344F-401B-BBE7-9C2EB4EBF8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BE239-1C43-41D8-8807-C2F3B54715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0F649-C0C4-4B1E-BBD5-275A87E581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70EBA-1A97-4B72-846C-8976EA88F50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C314A-84C7-4723-97F9-EC2FFC7CB01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C3B00-E2AC-4FE4-9AC6-C4C2A609A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641A-7F44-40C4-AD48-228D7AB751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35D41-0B81-4EE8-ADBB-7F971286AC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07091-DEA3-44D9-9B10-64368BA826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BA7F3-8621-4160-BEED-EC22F79B88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52D86-0AB4-46FD-A53F-5070DEE877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7415A-2F95-4777-BC83-6E3E491BA88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1E6D8-FEF9-479E-A775-E2FF32CF4B8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9F2187-1FD9-44AA-84E3-331A63D7DE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26CA9-F041-4E74-B5E2-0D3842320F1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030FF-2EB9-4A04-AF60-E5513E2D9A8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1713E-014F-4A54-AF5B-E0F33B486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436F-6157-4EE4-A94B-768FDA3274A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D1E8D-BC74-40A9-A662-F2D35C724D2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6BBF27-6C57-4777-9EF1-D23D223E2A7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A4561B-3039-4D1F-AF88-371EE2A060E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08408-F749-470E-983D-BAA2F94EDA0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44F8B9-B9B1-4330-A764-E36185AA05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311AC5-1E5C-410E-8853-FAB08129480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538EBD-0A92-4649-B32B-3EC7032FB47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515E4-18F5-4261-A6D9-6D81D6BA20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0C9ADB-B118-4E2E-A537-B93D1B3960B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013353-132D-4966-A633-9542C7E1A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779AD-8F4F-4732-B5ED-E2E18D74E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355DA5-601C-4CFE-92CF-7FCA1F6CEA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03EC03-8C7A-4963-AA5B-0BBDF818138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C3021D-1AF6-4093-862E-7DBEB424FEA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927C9-D4BE-43C1-8964-3D304FEED9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68F81-AA38-44AB-8262-26B000D6F3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52949-CEE2-4DE7-BBFB-F4BDB4828F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EE96A-F195-41A7-A6BA-107C66412BB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D27D-18E1-4B2C-8FD2-5FE99A14D93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ADE9-5775-4B93-8CB0-B5DD7ECFD3E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BDCEF-C79E-4079-969F-EC0B689C7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39FA1-79DF-4CFB-9F83-1FC01128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BAE3-618F-4345-B326-F3CCAE7E72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5A08-DAD1-4CC8-B9D6-2CF20903B5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79A4-E0C8-41E6-81EE-433AF4CD241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40954-1D71-4EEC-8696-F0D2DF7189F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09BCF-79DC-4A0F-B575-47ED0DDF9E2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4F2DA5-0519-4E37-A1A3-0FB040BE80A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1AA10-7131-46F5-AA89-6B0EC1D361C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DF0B53-81D6-4933-95BB-F823D54E65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EF2B4-1906-46AC-968C-C2B8A00780D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3017D3-9728-4988-B421-B85FF8CCE2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B8BBB-7760-463F-A714-3FABDD3B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68752-E2C2-47C9-93D5-ABAC5DFBF7E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69A63-B13D-42E7-A426-5EB768E3BA9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7499A-14B8-4614-9230-6E65AEBE8AC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77EBB-289E-46CE-ABD2-CF40E8F853D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C734F-C0C1-43E8-9409-B1A64BAF4F2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4F18EE-0535-455D-B131-042DAD30A43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5E0A91-FBDA-4770-80E5-7C1E18883D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704BA-F77E-4F75-B7FA-BC0F5EE9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BED9A-CCC8-47A6-BBF6-B22C3B27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F9A5F-161B-428B-8B09-5AF46FF4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95D00-E042-4568-BE57-8007619E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1E63-12B1-4C6F-A1F3-891A907B9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EDC65-1FCE-45F9-8FF1-3776DE7F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D44C1-7606-4604-87C8-A2405DF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634BE-D948-44B0-8BCE-0E9740DF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2B6E9-15CB-4258-A401-DE009C4C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655A-0A19-483A-B941-40E2FFBCC3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A68F-79A4-44C7-973C-AECCF699BB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6B47-C18A-41EC-99A3-351ABFB52B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A574-DE8B-4510-8984-414ABD4819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39F3-9E3D-419D-B152-7A94726653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6955-05D0-4B15-8CE6-A923B6127B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D0ED-7F14-4909-A470-B1E8310B5C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0134-1DE9-4E54-AEAF-CEE5183A8B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CFA0-C632-43A7-A11B-A3156566E2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4E7D-06EC-43F0-AD1A-DE6CB55BA9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32C3-881C-4FF2-A18A-30C8E7C82A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1751-157F-43E0-B25A-7BB0274567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104C-9312-460C-90F9-180E077795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2F54-76DC-4D5A-9260-D2007D317E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E455F-B29E-458A-BB2E-B0F6D8F9BA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D8765-100A-4472-87E9-E5AA9C4BF8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B72DB-1715-454E-8D80-DFE0DE319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9CF9-ECAE-4F0C-82A5-ECF1DB72C9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73192-92B4-421F-8A69-D38A25E78D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1267C-0CCD-4E9E-A2DC-E4A6893069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FA393-CB11-4529-8925-DA7392F470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FF698-E760-434F-BBA4-120451BEF4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BB7C2-5003-41D3-BB73-C2520D93FF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366A5-8F1D-4CD3-ACB7-9FE5F61008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92963-9F68-4D11-9B9E-5A18774402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E7820-8714-41CF-B752-FD87B4DA8C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A9269-67D3-4911-B34B-F24A5314932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DA2642-C6EE-47D2-8371-6D2A8F068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F7F5-99C3-4ACE-BD3A-587D1D535B8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A4490-EEF5-402D-BDEE-D8BDCC2290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D0CD4-21A5-44D2-8AA4-B13150F5E9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6B14B-227E-4089-AA81-E0EE6A7664D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BC568-B46D-4D3D-A29D-36E08E8B0E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3D0DA-56EF-4CD0-94C7-A8490CEA6C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8B41C-29DF-47BD-95EF-5BF9D6CFD5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65655-1846-43CA-8894-880302DB202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CB96A-7BC6-4452-BE5A-C00C051497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AAC099-55BF-40B4-BD8C-B8321B0591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D50FA-6009-4318-81B6-9D5942DC8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5698-CF55-41CA-ACAF-DE88A36CF8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6024F-E4B6-4449-A8D6-E33AEE136BC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46BC-60B0-437D-A0F6-253D8FCFD9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4E9CC-1146-49B7-90F3-190D031742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34396-34F9-4087-BCAF-BAF68F32A3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794F2-5E7A-4DBE-B984-39001DABB7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5C51-9F70-4B0B-8FE6-34399858A4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C9FEC-8EA5-41F0-BCE9-50AD8D2FEF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FB73-DA4A-4F3B-AC37-FF7116160DA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DE3E-1875-492B-8F12-7B8C5C7A2D8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3E169-1732-41EA-BE38-6EC7086EB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0C20-B914-4AF2-B167-B91B72C5A82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4B5E-4624-4A6B-895C-248850CF2C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BFF1-F536-46B5-9C99-2BBFF7A3FDC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5E9EA-8717-4B44-9F8A-1634A5AF52D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DE2AB-E056-4FCB-8351-5AFD8F261F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FC93E-6146-4343-9267-E523DB762A1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B08CF-3813-4023-8D9A-B97C5A1F35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F023F-0E91-4958-AD39-924308F7304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E7663-D698-492D-B065-8889E11C9D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A12C8-6628-446D-9F1B-F583493039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B6B53-24E0-4A88-8B2B-91C891C84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4E76-DBB2-4A31-824B-F4AE2158D6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29B0A-9F6D-4CD7-802D-E2719248C4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D9C6A-A589-41F8-8FF1-4503B69E5C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643DA-C4F6-4289-A156-E637829687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4ED90-A078-49FA-B278-1592CAA9A9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42479-3172-47CC-8122-6424D67376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C3DFAD-D490-4B39-9D12-BDA68FFAAE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87082D-8D59-43B5-B789-78E27C70AC4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87A425-5E95-468C-9184-E884897F53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366100-4BA1-43C4-BABC-828BBDC26B7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EF7B06-720B-467F-88BE-0FAF2AC1F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651F-7CE3-42DE-A133-660FC39609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01136A-C3A8-4E9C-A3C1-983CF223EC2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FBE152-6CD5-41AF-B7E3-43E69AAFE2A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D96230-9B8B-41E0-A511-B3721BDC9EC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8A0E40-ED12-4627-A2D8-CE356D64FA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165F4D-7A44-48CF-9988-2C0583BF683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937F4A-9C0A-4439-979F-7DACDF951C4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9D0C9-B4F7-43CA-988F-3C1FFFD726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037F-BEC3-4D40-ACD4-AD670036929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D73E8-9761-47C3-B053-30754B3560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627AA-C49E-46D9-941E-7C793AE6D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E3FC-54F7-4F07-8DCB-4117FFE6E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9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 Enterprise Administration (Exam #70-6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D2D5-4309-4059-BBC0-3F7B90F85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1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 Enterprise Administration (Exam #70-6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479-1C03-44BC-BE05-C3E197338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 Enterprise Administration (Exam #70-6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4FE7-5B14-4E11-8B9D-5F7D2FDE3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25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 Enterprise Administration (Exam #70-6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FB4F-710B-435E-8325-2D12BB89C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E3DB-49D5-40FE-8539-DAED9363C9CD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8887-B20F-476F-8079-99AA8CFDAAA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 Enterprise Administration (Exam #70-6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C02-542A-4A4F-AD65-43B9568B2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11E9-5A51-4723-86E9-EAD9BB94F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46E-5A96-40B8-AFA1-5DC615E63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, Server Administration (Exam #70-6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24F-4044-43F8-9B1C-F4C13E33A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, Server Administration (Exam #70-6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8046-3B6B-4CC3-99F7-9533913F6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5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42E9-A3EA-48D0-812D-90740CFAC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380520" y="6244920"/>
            <a:ext cx="441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ED10-58D9-4C89-AA71-67EF43C0A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MCITP Guide to Microsoft Windows Server 2008 Server Administration (Exam #70-646)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5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Managing System Reliability and Availability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529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king Problems and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log of all network problems and their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lp desk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information on computer systems, user questions, problem solutions, and other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of organization can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e information on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a change 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BC2E-2839-48F1-97A0-358338CC6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lving Boot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causes of boot fail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failure on drive or drives containing system and boo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ed parti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ed boo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upted master boo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read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ste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off the computer and try reb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ooting resets CPU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7971-A351-41F1-9FAA-8D54986C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ubleshooting by Using Safe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fe Mo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the server using the most generic default set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ervices needed to boot a basic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troubleshoo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access Advanced Boot Options men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oot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F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option you want to use (Safe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16F8-D5AC-413D-8F31-ED09312B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4ABB-5468-4ACC-A89E-491EEA74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191280" cy="54388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6"/>
          <p:cNvSpPr/>
          <p:nvPr/>
        </p:nvSpPr>
        <p:spPr>
          <a:xfrm>
            <a:off x="1828800" y="57913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5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Boot Options menu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ubleshooting by Using Safe Mode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Boot Logging op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log that you can later check fo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fe Mode with Command Prompt op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when you can solve a problem by executing a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s Restore Mode for Active Direc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 damaged files and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15-1: Booting into Safe M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Learn how to boot into Saf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31B3-6FAD-4325-9F4B-66E1A8BE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ubleshooting by Using the Installation DV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Server 2008 installation DVD provi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Complete PC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Memory Diagnostic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Complete PC Rest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SS full backup using Windows Server Backup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state d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operating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us extra components and information that reflect currently configured state of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48C2-8CBD-4B69-AEEF-977FC77B5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ubleshooting by Using the Installation DVD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Complete PC Restore (cont’d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ystem state data is backed up as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bad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reate a system state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store from system state back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badmin start systemstaterecover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full restore when you cannot get the server to b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dows Backup tool is un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F3D2-7332-409F-AB2F-5BE8B91BA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ubleshooting by Using the Installation DVD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Memory Diagnostic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air your comp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on the Windows Server 2008 installation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AM in your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15-2: Performing Memory Diagno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Learn how to test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3836-8C2A-48BE-A417-01404CED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ubleshooting by Using the Installation DVD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Command Pro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 disk problem or copy a critical file back to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in \Sources folder on Windows Server 2008 installation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15-3: Using the Command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: Learn how to access the command prompt from the Windows Server 2008 installation DV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061B-5915-46F5-AB2B-14C254C2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ubleshooting by Using the Installation DVD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838-AA9A-4AE7-B94A-874618CBA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72200" cy="398124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6"/>
          <p:cNvSpPr/>
          <p:nvPr/>
        </p:nvSpPr>
        <p:spPr>
          <a:xfrm>
            <a:off x="1752480" y="57150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5-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command prompt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466-482D-40CD-8AEB-22F7F107C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general problem-solving strate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lve boot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Emergency Management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ore Server Roles, Active Directory, and GP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gure shadow cop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620B-10BC-4FEF-BFF8-E482B7FF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2362320" y="5791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5-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 boot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7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280200" cy="4754520"/>
          </a:xfrm>
          <a:prstGeom prst="rect">
            <a:avLst/>
          </a:prstGeom>
          <a:ln w="0">
            <a:noFill/>
          </a:ln>
        </p:spPr>
      </p:pic>
      <p:sp>
        <p:nvSpPr>
          <p:cNvPr id="608" name="Tit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Tips for Fixing Boot Proble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94E8-9B80-4A89-A4EE-FEBDA4EC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1905120" y="56386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5-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 boot problems (cont’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7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32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1038-A3DD-4966-9D68-B7D898940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22800" cy="51814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6"/>
          <p:cNvSpPr/>
          <p:nvPr/>
        </p:nvSpPr>
        <p:spPr>
          <a:xfrm>
            <a:off x="914400" y="57913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5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 boot problems associated with Stop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Tips for Fixing Boot Problems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657D-DA0D-4227-87B2-BCB717DF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05720" cy="4073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8"/>
          <p:cNvSpPr/>
          <p:nvPr/>
        </p:nvSpPr>
        <p:spPr>
          <a:xfrm>
            <a:off x="1066680" y="5638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5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ubleshooting boot problems associated with Stop messages (cont’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ergency Managemen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ergency Management Services (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a terminal to a serial 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band”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need network or display dri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be enabled in the boot settings of comput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problem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379D-7AE0-43A8-87F8-193DF5681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ing Server Roles, Active Directory, and G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necessary to rest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26EA-8896-4AF7-867F-7BA2B8E9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ing Server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erver role corrupt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booting server into Advanced Boot Option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Known Good Configuration (advanced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on Advanced Boot Options me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 back to previous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790B-8762-4A99-8D58-115A85FC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ing Active Dire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Directory can become corru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ely restore Active Direc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Boot Options me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ers Directory Services Restore Mode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bad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ore system stat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nauthorit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 system st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34E7-ED1D-4E63-BA42-035C33A7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ing Active Directory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mbst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Directory objects that have been intentionally de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lagged as de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ed for a specific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mbstone life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stored by nonauthoritative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ained as Active Directory objects flagged as de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atative rest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store tomb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E716-36AF-4268-BF92-3F63C34E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oring a Group Policy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O can be restored after it has been de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Group Policy Management MMC snap-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steps for restoring a G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Group Policy Management MMC snap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Group Policy Objects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Manage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 to GPO storage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PO to restore and click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Manage Backups window and Group Policy Manage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E8FA-D62D-48A7-948B-C5AE63BFB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failover clust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nd configure Event Vie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ubleshoot network conne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tely administer a server using Remote Desk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tely administer multiple servers using Remote Server Administration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45F0-AD43-45DB-8989-F78B4B42C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ing Shadow Co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adow cop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copy made of a shared folder at regula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interv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00 AM and noon Monday through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configured for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gure shadow copies with Computer Management to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dministrative Tool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vert cap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 an entire volume to an earlier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4EA-FA9C-4E9E-B527-787412C67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ndancy through Clus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ilover cluster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multiple computers to appear to work as on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mputers in cluster take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one or more computers in the cluster fails or cannot be reac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ed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erver 2008 Enterprise and Datacenter E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6607-EC45-45CD-8D67-64E49100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ndancy through Clustering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olves using one of four quorum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and Disk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and File Share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jority: Disk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7674-B18D-4E43-A507-10E33164A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d Configuring Event Vie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View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s the event lo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information about all types of server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ided into three general categori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nd services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CE3-0670-41B5-9A57-42C6042E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3F3-627F-4DC0-B7C3-1E78F02C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51739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7"/>
          <p:cNvSpPr/>
          <p:nvPr/>
        </p:nvSpPr>
        <p:spPr>
          <a:xfrm>
            <a:off x="2743200" y="5486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-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tesy Course Technology/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d Configuring Event Viewer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s for reporting general operating system and software application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min lo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system administrator information about a specific problem and its ca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uggest how to solv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0ECE-34EC-4BCA-B24F-E785F5980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and Configuring Event Viewer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rational 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occurrences of specific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alytic lo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to how programs are opera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d by application or system 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bug lo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application developers to help trace program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D652-F2D1-4CF4-A5B3-81B43428A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ewing Lo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 events displayed in Event View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 indicates the seriousness of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log displays descriptive information about individual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 Event Viewer fro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Tool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C snap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Manage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0A45-D974-43AB-BAFA-376812A3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the Event Viewer Filter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ter op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a problem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ter events on the basis o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event was lo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category of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070-6442-491F-93DF-2C103C6B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the Event Viewer Filter Option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ter events on the basis of (cont’d.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f day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94AC-DC39-48DB-9702-FF131C6D1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Problem-Solving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effective troubleshooting strate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strate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how a server and the network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your users to help you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step by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problems an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BE1-DC9F-45B9-AD33-BDEA04153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Event 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 how you want logs maint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s for limiting lo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each log to prevent it from filling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write oldest events when log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log when it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log ma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s to save and clear individual logs also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15-4: Using Event Vie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Use Event Viewer to view system log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5E2-4C35-4466-9765-ED01F112A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Log Sub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 event log information from many computers onto one c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 and filter information from all serv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it in Event Viewer on one “collector compu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5F95-2CFD-479F-8B7B-31B66FEE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oubleshooting Conne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f duplicate IP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mmand-line tools and graphical tools for troubleshooting Windows Server 2008 conne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F4B1-257B-4079-924B-E91F500B9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and-Line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TCP/IP utilities have IP troubleshooting tools built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pconfi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P address of a Windows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t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 for presence of another TCP/IP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st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t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nformation about TCP and UDP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F7F9-1AC1-45DA-A8CA-4C098BF1F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and-Line Tools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8377-E220-4058-A4DD-472F17698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384336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6"/>
          <p:cNvSpPr/>
          <p:nvPr/>
        </p:nvSpPr>
        <p:spPr>
          <a:xfrm>
            <a:off x="914400" y="5486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15-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erver 2008, Windows 7, Vista, and XP diagnostic commands for TCP/IP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and-Line Tools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stat -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indication of the number of transmission errors and discarded packets detected at computer’s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15-5: Using TCP/IP Connectivity Troubleshooting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Learn how to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bt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7953-A051-4389-BB5E-48683CF2B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ical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 and Sharing Cent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e and then enabl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abling the connection (or reboo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s NIC and the TCP/IP conne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 GUI representation of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f network connectivity problems exist between your server and network or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Network and Sharing Center to diagnose a specific 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0849-0869-4169-B462-1DD74ED30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tely Administering a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te Desktop cli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ly access and manage server through dial-up line and via a RAS or VPN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gure Remote Desktop using System Properties dialog box fro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Ma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pplet in Control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sure you have configured a strong pass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01AD-8367-425B-B919-C96A1B0D8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tely Administering a Server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15-6: Configuring to Enable Remote Access through Remote Desk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Enable Access to Windows Server 2008 through Remot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C99C-F248-4C0A-9648-C5D8012EE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705480" cy="419076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6"/>
          <p:cNvSpPr/>
          <p:nvPr/>
        </p:nvSpPr>
        <p:spPr>
          <a:xfrm>
            <a:off x="4191120" y="5638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Arial"/>
              </a:rPr>
              <a:t>Figure 15-20 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ystem Properties dialog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tesy Course Technology/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te Server Administratio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 multiple servers from one Windows Server 2008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ed through Server Manager Remote Administration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s subset automatically installed with the Web Service (IIS)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stall Remote Server Administration Tools through Serve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remotely manage both Windows Server 2008 and Windows Server 2003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1CD8-3876-4D18-B808-A356F111D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How Servers and the Network Inte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 diagram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s and any main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s and network pr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d network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communications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7E75-884E-4DB8-BF33-01688332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te Server Administration Tools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Event Vie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logs on a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Reliability and Performance Monit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15-7: Using the Remote Server Administration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Learn how to use the Remote Server Administration Tools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EA2B-E2F3-45D8-A3D8-883744569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E4A7-349F-4DA2-81D4-DB10049F3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a problem-solving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and document server an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dvanced Boot Options menu to solve boot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installation DVD to recover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ore Active Directory with Directory Services Restore Mode 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ebad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over clustering provides high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 logs using Event Vie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ommand-line and graphical troubleshooting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mote Desktop to manage Windows Server 2008 server remo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mote Server Administration Tools to manage multiple servers from single c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596D-B71D-4A63-B39D-E9C4E8D1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How Servers and the Network Interact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A8C9-F944-44B0-9EB2-3446AC824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2666880" y="5638680"/>
            <a:ext cx="50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5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networ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tesy Course Technology/Cengage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3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ining User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users to be your partners in reporting probl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work at the first sign of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information about a problem as problem is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any protoco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report a problem by telephone, or by voice mail if you cannot be reach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ending e-mail about urgent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009D-0570-454A-BD37-AA7B3891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as much information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error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anyone else is experiencing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Windows Server 2008 event lo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Performance Monitor, Reliability Monitor, Data Collector Sets, Task Manager, Server Manager, and the Computer Management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for power interru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71FE-7B01-4070-827C-446783E6C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ing Problems Step by Step (cont’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the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possibl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best or most likely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the simplest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how solution will affect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monitoring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re are no furth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380880" y="6245280"/>
            <a:ext cx="4419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ITP Guide to Microsoft Windows Server 2008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Administration (Exam #70-64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4F2-27F6-4EF5-9ED7-416D977C9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1:56:01Z</dcterms:created>
  <dc:creator/>
  <dc:description/>
  <dc:language>en-US</dc:language>
  <cp:lastModifiedBy/>
  <dcterms:modified xsi:type="dcterms:W3CDTF">2010-05-24T16:22:37Z</dcterms:modified>
  <cp:revision>386</cp:revision>
  <dc:subject/>
  <dc:title/>
</cp:coreProperties>
</file>