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194-8376-4D93-A4CD-0C6D02EA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46E-BD94-4AC1-8E32-80D4C83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0F2-8A35-4D52-80B0-C0844052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2BC-315C-4F10-97C0-F3A7D2EC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A55-CD64-4F7A-9149-A2A09EDC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596-90C0-46B8-BAEE-0196C4FE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1D6-72AC-4AC7-9C4F-513329A9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86A-BAC8-409B-B57A-D9A483F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1C8-562D-49B0-AE8A-D2C3F3E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07F-1F1F-46F3-AAAA-80613A3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E60-1743-49C7-8800-6E3DB5C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142-65E4-4270-BE6B-BA22174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18E-4FD7-4462-A871-9C8DA6D5C87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به نام خدا</a:t>
            </a:r>
            <a:br>
              <a:rPr sz="3200"/>
            </a:br>
            <a:br>
              <a:rPr sz="3200"/>
            </a:br>
            <a:r>
              <a:rPr b="1" lang="fa-IR" sz="1600" spc="-1" strike="noStrike">
                <a:solidFill>
                  <a:srgbClr val="ffff66"/>
                </a:solidFill>
                <a:latin typeface="Arial"/>
                <a:cs typeface="2  Nazanin"/>
              </a:rPr>
              <a:t>سازمان زمين شناسي و اكتشاف معدني</a:t>
            </a:r>
            <a:br>
              <a:rPr sz="1600"/>
            </a:br>
            <a:r>
              <a:rPr b="1" lang="fa-IR" sz="1600" spc="-1" strike="noStrike">
                <a:solidFill>
                  <a:srgbClr val="ffff66"/>
                </a:solidFill>
                <a:latin typeface="Arial"/>
                <a:cs typeface="2  Nazanin"/>
              </a:rPr>
              <a:t>پژوهشكده علوم زمين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66"/>
                </a:solidFill>
                <a:latin typeface="Arial"/>
                <a:cs typeface="2  Nazanin"/>
              </a:rPr>
              <a:t>استاد مربوطه: دكتر فريدون رضاي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66"/>
                </a:solidFill>
                <a:latin typeface="Arial"/>
                <a:cs typeface="2  Nazanin"/>
              </a:rPr>
              <a:t>تهيه: سميه كيان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66"/>
                </a:solidFill>
                <a:latin typeface="Arial"/>
                <a:cs typeface="2  Nazanin"/>
              </a:rPr>
              <a:t>رشته: تكتوني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WordArt 8" descr=""/>
          <p:cNvPicPr/>
          <p:nvPr/>
        </p:nvPicPr>
        <p:blipFill>
          <a:blip r:embed="rId1"/>
          <a:stretch/>
        </p:blipFill>
        <p:spPr>
          <a:xfrm>
            <a:off x="1542960" y="2048040"/>
            <a:ext cx="59850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3049560" cy="192888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>
            <a:off x="3851280" y="476280"/>
            <a:ext cx="50472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4284720" y="2133720"/>
            <a:ext cx="216000" cy="14292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>
            <a:off x="3635280" y="549360"/>
            <a:ext cx="1224000" cy="20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932360" y="1700280"/>
            <a:ext cx="1584360" cy="792000"/>
          </a:xfrm>
          <a:prstGeom prst="wedgeEllipseCallout">
            <a:avLst>
              <a:gd name="adj1" fmla="val -53208"/>
              <a:gd name="adj2" fmla="val 68435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66"/>
                </a:solidFill>
                <a:latin typeface="Arial"/>
                <a:cs typeface="2  Nazanin"/>
              </a:rPr>
              <a:t>دوبار كليك مي كني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2050920" y="4653000"/>
            <a:ext cx="2160720" cy="64764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140360" y="3645000"/>
            <a:ext cx="2519280" cy="1008000"/>
          </a:xfrm>
          <a:prstGeom prst="wedgeRoundRectCallout">
            <a:avLst>
              <a:gd name="adj1" fmla="val -61027"/>
              <a:gd name="adj2" fmla="val 88476"/>
              <a:gd name="adj3" fmla="val 16667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66"/>
                </a:solidFill>
                <a:latin typeface="Arial"/>
                <a:cs typeface="2  Nazanin"/>
              </a:rPr>
              <a:t>مقدار 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  <a:ea typeface="2  Nazanin"/>
              </a:rPr>
              <a:t>x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2  Nazanin"/>
              </a:rPr>
              <a:t> , 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  <a:ea typeface="2  Nazanin"/>
              </a:rPr>
              <a:t>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1800" spc="-1" strike="noStrike">
                <a:solidFill>
                  <a:srgbClr val="ffff66"/>
                </a:solidFill>
                <a:latin typeface="Arial"/>
                <a:cs typeface="2  Nazanin"/>
              </a:rPr>
              <a:t>چهار گوش نقشه را وارد مي كنيم</a:t>
            </a:r>
            <a:r>
              <a:rPr b="1" lang="fa-IR" sz="1800" spc="-1" strike="noStrike">
                <a:solidFill>
                  <a:srgbClr val="ffff66"/>
                </a:solidFill>
                <a:latin typeface="Arial"/>
                <a:ea typeface="B Lotus"/>
              </a:rPr>
              <a:t> و بعد تيك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B Lotus"/>
              </a:rPr>
              <a:t>Auto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B Lotus"/>
              </a:rPr>
              <a:t>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  <a:ea typeface="B Lotus"/>
              </a:rPr>
              <a:t>adjust</a:t>
            </a:r>
            <a:r>
              <a:rPr b="0" lang="fa-IR" sz="1800" spc="-1" strike="noStrike">
                <a:solidFill>
                  <a:srgbClr val="ffff66"/>
                </a:solidFill>
                <a:latin typeface="Arial"/>
                <a:ea typeface="B Lotus"/>
              </a:rPr>
              <a:t> مجددا مي گذاري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-252360" y="620640"/>
            <a:ext cx="1590480" cy="2228760"/>
          </a:xfrm>
          <a:prstGeom prst="rect">
            <a:avLst/>
          </a:prstGeom>
          <a:ln w="0">
            <a:noFill/>
          </a:ln>
        </p:spPr>
      </p:pic>
      <p:sp>
        <p:nvSpPr>
          <p:cNvPr id="86" name="Line 6"/>
          <p:cNvSpPr/>
          <p:nvPr/>
        </p:nvSpPr>
        <p:spPr>
          <a:xfrm>
            <a:off x="0" y="476280"/>
            <a:ext cx="324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4000680" cy="260064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>
            <a:off x="1258920" y="981000"/>
            <a:ext cx="79200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4284720" y="2924280"/>
            <a:ext cx="1511280" cy="144144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3981600" cy="2619360"/>
          </a:xfrm>
          <a:prstGeom prst="rect">
            <a:avLst/>
          </a:prstGeom>
          <a:ln w="0">
            <a:noFill/>
          </a:ln>
        </p:spPr>
      </p:pic>
      <p:sp>
        <p:nvSpPr>
          <p:cNvPr id="91" name="Oval 11"/>
          <p:cNvSpPr/>
          <p:nvPr/>
        </p:nvSpPr>
        <p:spPr>
          <a:xfrm>
            <a:off x="3708360" y="3933720"/>
            <a:ext cx="1008000" cy="43200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ساخت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  <a:ea typeface="2  Nazanin"/>
              </a:rPr>
              <a:t>shape file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857160" y="1285920"/>
            <a:ext cx="4429080" cy="3081240"/>
          </a:xfrm>
          <a:prstGeom prst="rect">
            <a:avLst/>
          </a:prstGeom>
          <a:ln w="0">
            <a:noFill/>
          </a:ln>
        </p:spPr>
      </p:pic>
      <p:cxnSp>
        <p:nvCxnSpPr>
          <p:cNvPr id="95" name="Straight Arrow Connector 4"/>
          <p:cNvCxnSpPr/>
          <p:nvPr/>
        </p:nvCxnSpPr>
        <p:spPr>
          <a:xfrm flipH="1">
            <a:off x="3642480" y="713160"/>
            <a:ext cx="1072440" cy="7153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2357280" y="2643120"/>
            <a:ext cx="930600" cy="1524240"/>
          </a:xfrm>
          <a:prstGeom prst="rect">
            <a:avLst/>
          </a:prstGeom>
          <a:ln w="0">
            <a:noFill/>
          </a:ln>
        </p:spPr>
      </p:pic>
      <p:sp>
        <p:nvSpPr>
          <p:cNvPr id="97" name="Cloud Callout 9"/>
          <p:cNvSpPr/>
          <p:nvPr/>
        </p:nvSpPr>
        <p:spPr>
          <a:xfrm>
            <a:off x="3714840" y="1285920"/>
            <a:ext cx="1857240" cy="1143000"/>
          </a:xfrm>
          <a:prstGeom prst="cloudCallout">
            <a:avLst>
              <a:gd name="adj1" fmla="val -73319"/>
              <a:gd name="adj2" fmla="val 72587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66"/>
                </a:solidFill>
                <a:latin typeface="Arial"/>
                <a:cs typeface="B Lotus"/>
              </a:rPr>
              <a:t>كليك راست در صفحه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B Lotus"/>
              </a:rPr>
              <a:t>arc cata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 flipV="1">
            <a:off x="2286000" y="3429000"/>
            <a:ext cx="642960" cy="28584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3286080" y="3643200"/>
            <a:ext cx="13176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tretch/>
        </p:blipFill>
        <p:spPr>
          <a:xfrm>
            <a:off x="4643280" y="2908440"/>
            <a:ext cx="2928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71760" y="1428840"/>
            <a:ext cx="1400040" cy="373356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6"/>
          <p:cNvCxnSpPr/>
          <p:nvPr/>
        </p:nvCxnSpPr>
        <p:spPr>
          <a:xfrm>
            <a:off x="500040" y="1214280"/>
            <a:ext cx="1215360" cy="2865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3500280" y="2286000"/>
            <a:ext cx="3084840" cy="2714760"/>
          </a:xfrm>
          <a:prstGeom prst="rect">
            <a:avLst/>
          </a:prstGeom>
          <a:ln w="0">
            <a:noFill/>
          </a:ln>
        </p:spPr>
      </p:pic>
      <p:sp>
        <p:nvSpPr>
          <p:cNvPr id="105" name="Oval 8"/>
          <p:cNvSpPr/>
          <p:nvPr/>
        </p:nvSpPr>
        <p:spPr>
          <a:xfrm>
            <a:off x="3500280" y="3500280"/>
            <a:ext cx="928800" cy="35748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5072040" y="4714920"/>
            <a:ext cx="785880" cy="285840"/>
          </a:xfrm>
          <a:prstGeom prst="ellipse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Cloud Callout 3"/>
          <p:cNvSpPr/>
          <p:nvPr/>
        </p:nvSpPr>
        <p:spPr>
          <a:xfrm>
            <a:off x="1357200" y="785880"/>
            <a:ext cx="2928960" cy="1000080"/>
          </a:xfrm>
          <a:prstGeom prst="cloudCallout">
            <a:avLst>
              <a:gd name="adj1" fmla="val -71995"/>
              <a:gd name="adj2" fmla="val 70893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66"/>
                </a:solidFill>
                <a:latin typeface="Arial"/>
                <a:cs typeface="B Lotus"/>
              </a:rPr>
              <a:t>دوبار كليك چپ روي تصوير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B Lotus"/>
              </a:rPr>
              <a:t>shap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4876560" cy="437220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6"/>
          <p:cNvCxnSpPr/>
          <p:nvPr/>
        </p:nvCxnSpPr>
        <p:spPr>
          <a:xfrm>
            <a:off x="1143000" y="2500200"/>
            <a:ext cx="714960" cy="5724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1" name="Straight Arrow Connector 9"/>
          <p:cNvCxnSpPr/>
          <p:nvPr/>
        </p:nvCxnSpPr>
        <p:spPr>
          <a:xfrm>
            <a:off x="6572160" y="3286080"/>
            <a:ext cx="91512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Straight Arrow Connector 11"/>
          <p:cNvCxnSpPr/>
          <p:nvPr/>
        </p:nvCxnSpPr>
        <p:spPr>
          <a:xfrm flipH="1">
            <a:off x="5714280" y="3356640"/>
            <a:ext cx="857880" cy="286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 flipH="1">
            <a:off x="5785560" y="3714840"/>
            <a:ext cx="100116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H="1">
            <a:off x="5928480" y="5070960"/>
            <a:ext cx="786600" cy="21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20"/>
          <p:cNvCxnSpPr/>
          <p:nvPr/>
        </p:nvCxnSpPr>
        <p:spPr>
          <a:xfrm flipH="1">
            <a:off x="6000120" y="5356800"/>
            <a:ext cx="786600" cy="21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" name="Cloud Callout 23"/>
          <p:cNvSpPr/>
          <p:nvPr/>
        </p:nvSpPr>
        <p:spPr>
          <a:xfrm>
            <a:off x="1357200" y="785880"/>
            <a:ext cx="2928960" cy="1000080"/>
          </a:xfrm>
          <a:prstGeom prst="cloudCallout">
            <a:avLst>
              <a:gd name="adj1" fmla="val -61620"/>
              <a:gd name="adj2" fmla="val 5365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66"/>
                </a:solidFill>
                <a:latin typeface="Arial"/>
                <a:cs typeface="B Lotus"/>
              </a:rPr>
              <a:t>كليك  چپ روي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B Lotus"/>
              </a:rPr>
              <a:t>shap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1214280" y="1928880"/>
            <a:ext cx="2143440" cy="3905280"/>
          </a:xfrm>
          <a:prstGeom prst="rect">
            <a:avLst/>
          </a:prstGeom>
          <a:ln w="0">
            <a:noFill/>
          </a:ln>
        </p:spPr>
      </p:pic>
      <p:cxnSp>
        <p:nvCxnSpPr>
          <p:cNvPr id="118" name="Straight Arrow Connector 26"/>
          <p:cNvCxnSpPr/>
          <p:nvPr/>
        </p:nvCxnSpPr>
        <p:spPr>
          <a:xfrm flipH="1">
            <a:off x="1785240" y="1856160"/>
            <a:ext cx="857880" cy="358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9" name="Straight Arrow Connector 29"/>
          <p:cNvCxnSpPr/>
          <p:nvPr/>
        </p:nvCxnSpPr>
        <p:spPr>
          <a:xfrm flipH="1">
            <a:off x="2285280" y="2143080"/>
            <a:ext cx="786600" cy="357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" name="Straight Arrow Connector 32"/>
          <p:cNvCxnSpPr/>
          <p:nvPr/>
        </p:nvCxnSpPr>
        <p:spPr>
          <a:xfrm flipH="1">
            <a:off x="1928160" y="2643120"/>
            <a:ext cx="786600" cy="357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Straight Arrow Connector 35"/>
          <p:cNvCxnSpPr/>
          <p:nvPr/>
        </p:nvCxnSpPr>
        <p:spPr>
          <a:xfrm flipH="1">
            <a:off x="1999440" y="5357880"/>
            <a:ext cx="78660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800" spc="-1" strike="noStrike">
                <a:solidFill>
                  <a:srgbClr val="ffff66"/>
                </a:solidFill>
                <a:latin typeface="Arial"/>
                <a:ea typeface="B Lotus"/>
              </a:rPr>
              <a:t>            خروج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Oval 2"/>
          <p:cNvSpPr/>
          <p:nvPr/>
        </p:nvSpPr>
        <p:spPr>
          <a:xfrm>
            <a:off x="1928880" y="6286680"/>
            <a:ext cx="357120" cy="285480"/>
          </a:xfrm>
          <a:prstGeom prst="ellipse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1209600" cy="239076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4"/>
          <p:cNvCxnSpPr/>
          <p:nvPr/>
        </p:nvCxnSpPr>
        <p:spPr>
          <a:xfrm>
            <a:off x="999000" y="428760"/>
            <a:ext cx="143640" cy="357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9" name="Straight Arrow Connector 7"/>
          <p:cNvCxnSpPr/>
          <p:nvPr/>
        </p:nvCxnSpPr>
        <p:spPr>
          <a:xfrm flipH="1" flipV="1">
            <a:off x="1856520" y="785520"/>
            <a:ext cx="78660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traight Arrow Connector 10"/>
          <p:cNvCxnSpPr/>
          <p:nvPr/>
        </p:nvCxnSpPr>
        <p:spPr>
          <a:xfrm flipH="1" flipV="1">
            <a:off x="1714320" y="999360"/>
            <a:ext cx="100080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5072040" y="3000240"/>
            <a:ext cx="1019160" cy="20016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14"/>
          <p:cNvCxnSpPr/>
          <p:nvPr/>
        </p:nvCxnSpPr>
        <p:spPr>
          <a:xfrm flipH="1" flipV="1">
            <a:off x="1714320" y="1285560"/>
            <a:ext cx="78624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/>
          <p:nvPr/>
        </p:nvCxnSpPr>
        <p:spPr>
          <a:xfrm flipH="1" flipV="1">
            <a:off x="1713960" y="1499400"/>
            <a:ext cx="85788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4" name="Straight Arrow Connector 20"/>
          <p:cNvCxnSpPr/>
          <p:nvPr/>
        </p:nvCxnSpPr>
        <p:spPr>
          <a:xfrm flipH="1" flipV="1">
            <a:off x="1642680" y="1785600"/>
            <a:ext cx="71496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5" name="Picture 5" descr=""/>
          <p:cNvPicPr/>
          <p:nvPr/>
        </p:nvPicPr>
        <p:blipFill>
          <a:blip r:embed="rId4"/>
          <a:stretch/>
        </p:blipFill>
        <p:spPr>
          <a:xfrm>
            <a:off x="4357800" y="3429000"/>
            <a:ext cx="285480" cy="142884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23"/>
          <p:cNvCxnSpPr/>
          <p:nvPr/>
        </p:nvCxnSpPr>
        <p:spPr>
          <a:xfrm flipH="1" flipV="1">
            <a:off x="1785240" y="1999440"/>
            <a:ext cx="50076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4357800" y="2857680"/>
            <a:ext cx="376200" cy="3999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26"/>
          <p:cNvCxnSpPr/>
          <p:nvPr/>
        </p:nvCxnSpPr>
        <p:spPr>
          <a:xfrm flipH="1" flipV="1">
            <a:off x="1713960" y="2214360"/>
            <a:ext cx="57204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9" name="Picture 7" descr=""/>
          <p:cNvPicPr/>
          <p:nvPr/>
        </p:nvPicPr>
        <p:blipFill>
          <a:blip r:embed="rId6"/>
          <a:stretch/>
        </p:blipFill>
        <p:spPr>
          <a:xfrm>
            <a:off x="4929120" y="5072040"/>
            <a:ext cx="1343160" cy="200160"/>
          </a:xfrm>
          <a:prstGeom prst="rect">
            <a:avLst/>
          </a:prstGeom>
          <a:ln w="0">
            <a:noFill/>
          </a:ln>
        </p:spPr>
      </p:pic>
      <p:cxnSp>
        <p:nvCxnSpPr>
          <p:cNvPr id="140" name="Straight Arrow Connector 31"/>
          <p:cNvCxnSpPr/>
          <p:nvPr/>
        </p:nvCxnSpPr>
        <p:spPr>
          <a:xfrm flipH="1" flipV="1">
            <a:off x="1785240" y="2428560"/>
            <a:ext cx="500760" cy="21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41" name="Picture 8" descr=""/>
          <p:cNvPicPr/>
          <p:nvPr/>
        </p:nvPicPr>
        <p:blipFill>
          <a:blip r:embed="rId7"/>
          <a:stretch/>
        </p:blipFill>
        <p:spPr>
          <a:xfrm>
            <a:off x="4786200" y="4929120"/>
            <a:ext cx="1379520" cy="14292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34"/>
          <p:cNvCxnSpPr/>
          <p:nvPr/>
        </p:nvCxnSpPr>
        <p:spPr>
          <a:xfrm flipH="1" flipV="1">
            <a:off x="1643040" y="2642400"/>
            <a:ext cx="64332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43" name="Picture 9" descr=""/>
          <p:cNvPicPr/>
          <p:nvPr/>
        </p:nvPicPr>
        <p:blipFill>
          <a:blip r:embed="rId8"/>
          <a:stretch/>
        </p:blipFill>
        <p:spPr>
          <a:xfrm>
            <a:off x="0" y="571680"/>
            <a:ext cx="2247840" cy="421956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37"/>
          <p:cNvCxnSpPr/>
          <p:nvPr/>
        </p:nvCxnSpPr>
        <p:spPr>
          <a:xfrm>
            <a:off x="214200" y="428400"/>
            <a:ext cx="286560" cy="2862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هدف از كار با اين نرم افزار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تطبيق لايه ها از طريق نقاط هم مختصات با هم ، تا به اين ترتيب بتوان ميزان و محل آنومالي هاي موجود در منطقه مورد بررسي را تعيين كرد.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1500120" y="2286000"/>
            <a:ext cx="6357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6600" spc="-1" strike="noStrike">
                <a:solidFill>
                  <a:srgbClr val="ffff66"/>
                </a:solidFill>
                <a:latin typeface="Arial"/>
                <a:cs typeface="B Lotus"/>
              </a:rPr>
              <a:t>موفق و پيروز باشيد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785880" y="603360"/>
            <a:ext cx="7383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انواع سيستم هاي مختصات در </a:t>
            </a:r>
            <a:r>
              <a:rPr b="1" i="1" lang="en-US" sz="3200" spc="-1" strike="noStrike">
                <a:solidFill>
                  <a:srgbClr val="ffff66"/>
                </a:solidFill>
                <a:latin typeface="Arial"/>
                <a:ea typeface="2  Nazanin"/>
              </a:rPr>
              <a:t>ARC GIS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1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- سيستم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u t m</a:t>
            </a:r>
            <a:r>
              <a:rPr b="0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يا متريك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br>
              <a:rPr sz="2000"/>
            </a:b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2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- سيستم طول و عرض جغرافيايي  بر حسب درجه، دقيقه و ثانيه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4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723E-006 L -2.22222E-006 -0.33294 E">
                                      <p:cBhvr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انواع ديتاهاي ورودي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1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-ديتاي تصويري كه شامل نقشه هاي بدون مختصات كه عموما داراي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format: jpg, image, tif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هستند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، عكس هاي هوايي و نقشه هاي مختصات دار با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format: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dwx, jrd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كه با عنوان نقشه هاي رقومي شناخته مي شون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2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-داده هاي عددي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br>
              <a:rPr sz="2000"/>
            </a:b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3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-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polygon, polyline, point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كه به ترتيب براي مشخص كردن محدوده، خطوط و نقاط مورد استفاده قرار مي گيرد.</a:t>
            </a:r>
            <a:r>
              <a:rPr b="1" lang="fa-IR" sz="1800" spc="-1" strike="noStrike">
                <a:solidFill>
                  <a:srgbClr val="ffff66"/>
                </a:solidFill>
                <a:latin typeface="Arial"/>
                <a:ea typeface="2  Nazanin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r>
              <a:rPr b="0" lang="fa-IR" sz="2000" spc="-1" strike="noStrike">
                <a:solidFill>
                  <a:srgbClr val="ffffff"/>
                </a:solidFill>
                <a:latin typeface="Arial"/>
                <a:ea typeface="2  Za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4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ffff66"/>
                </a:solidFill>
                <a:latin typeface="Arial"/>
                <a:cs typeface="2  Nazanin"/>
              </a:rPr>
              <a:t>نحوه ورود داده ها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468648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6215040" y="333360"/>
            <a:ext cx="2604960" cy="1238400"/>
          </a:xfrm>
          <a:prstGeom prst="cloudCallout">
            <a:avLst>
              <a:gd name="adj1" fmla="val -56259"/>
              <a:gd name="adj2" fmla="val 92277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ورود داده ها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ترسيمي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2  Nazanin"/>
              </a:rPr>
              <a:t>  </a:t>
            </a: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و انواع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2  Nazanin"/>
              </a:rPr>
              <a:t>shape fi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>
            <a:off x="2340000" y="765000"/>
            <a:ext cx="1079640" cy="10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1466640" cy="32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2771640" y="1700280"/>
            <a:ext cx="2913120" cy="442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3600720" cy="24494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6227640" y="476280"/>
            <a:ext cx="2376720" cy="792000"/>
          </a:xfrm>
          <a:prstGeom prst="cloudCallout">
            <a:avLst>
              <a:gd name="adj1" fmla="val -62023"/>
              <a:gd name="adj2" fmla="val 107314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ورود داده هاي عدد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1620720" y="189000"/>
            <a:ext cx="716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5508720" y="2637000"/>
            <a:ext cx="71892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Arial"/>
                <a:ea typeface="2  Nazanin"/>
              </a:rPr>
              <a:t>Geo referencing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0" y="2060640"/>
            <a:ext cx="2028960" cy="412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2050920" y="2997360"/>
            <a:ext cx="2762280" cy="348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56000" y="5229360"/>
            <a:ext cx="1198440" cy="134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4211640" y="5029200"/>
            <a:ext cx="103824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6156360" y="0"/>
            <a:ext cx="2987640" cy="1557360"/>
          </a:xfrm>
          <a:prstGeom prst="cloudCallout">
            <a:avLst>
              <a:gd name="adj1" fmla="val -53083"/>
              <a:gd name="adj2" fmla="val 6478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مختصات دار كردن صفح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(برحسب درج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468360" y="907920"/>
            <a:ext cx="1582560" cy="505080"/>
          </a:xfrm>
          <a:prstGeom prst="wedgeEllipseCallout">
            <a:avLst>
              <a:gd name="adj1" fmla="val -56319"/>
              <a:gd name="adj2" fmla="val 16131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66"/>
                </a:solidFill>
                <a:latin typeface="Arial"/>
                <a:cs typeface="2  Nazanin"/>
              </a:rPr>
              <a:t>كليك راس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3132000" y="6524640"/>
            <a:ext cx="1224000" cy="333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6156360" y="0"/>
            <a:ext cx="2987640" cy="1557360"/>
          </a:xfrm>
          <a:prstGeom prst="cloudCallout">
            <a:avLst>
              <a:gd name="adj1" fmla="val -53717"/>
              <a:gd name="adj2" fmla="val 64578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cs typeface="2  Nazanin"/>
              </a:rPr>
              <a:t>مختصات كرد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66"/>
                </a:solidFill>
                <a:latin typeface="Arial"/>
                <a:ea typeface="2  Nazanin"/>
              </a:rPr>
              <a:t>(برحسب متري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1" descr=""/>
          <p:cNvPicPr/>
          <p:nvPr/>
        </p:nvPicPr>
        <p:blipFill>
          <a:blip r:embed="rId6"/>
          <a:stretch/>
        </p:blipFill>
        <p:spPr>
          <a:xfrm>
            <a:off x="2050920" y="2997360"/>
            <a:ext cx="2737080" cy="427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"/>
          <p:cNvPicPr/>
          <p:nvPr/>
        </p:nvPicPr>
        <p:blipFill>
          <a:blip r:embed="rId7"/>
          <a:stretch/>
        </p:blipFill>
        <p:spPr>
          <a:xfrm>
            <a:off x="3635280" y="5661000"/>
            <a:ext cx="2247840" cy="1666800"/>
          </a:xfrm>
          <a:prstGeom prst="rect">
            <a:avLst/>
          </a:prstGeom>
          <a:ln w="0">
            <a:noFill/>
          </a:ln>
        </p:spPr>
      </p:pic>
      <p:sp>
        <p:nvSpPr>
          <p:cNvPr id="74" name="Line 23"/>
          <p:cNvSpPr/>
          <p:nvPr/>
        </p:nvSpPr>
        <p:spPr>
          <a:xfrm flipV="1">
            <a:off x="2771640" y="6524280"/>
            <a:ext cx="1152720" cy="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4:53Z</dcterms:created>
  <dc:creator>Dear User!</dc:creator>
  <dc:description/>
  <dc:language>en-US</dc:language>
  <cp:lastModifiedBy>Elahe</cp:lastModifiedBy>
  <dcterms:modified xsi:type="dcterms:W3CDTF">2010-12-06T18:59:27Z</dcterms:modified>
  <cp:revision>36</cp:revision>
  <dc:subject/>
  <dc:title>به نام خدا  سازمان زمين شناسي و اكتشاف معدني پژوهشكده علوم زمين </dc:title>
</cp:coreProperties>
</file>