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7E39-DF29-4B3F-8864-F7B3259EC65C}" type="slidenum"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C4E4-F983-486C-BCE0-BB5235D0B5A2}" type="slidenum">
              <a:rPr b="0" lang="fa-IR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7A54-DB91-4CED-A380-12139AAB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39920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F5F5-BAC2-41D0-9DB7-82B816E2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3320" y="15238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39920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3320" y="39920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019D-E009-4102-9FAA-D221B56C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15238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6320" y="15238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39920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39920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6320" y="39920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5187-8B6A-4044-A70C-417B194D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14C6-A518-4FB4-A5D8-2728FD7E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DAE7-4444-497F-8B92-0953D318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113C-B388-4B1E-BDDC-DF1DB29E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3320" y="15238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A6F5-A26E-48E0-A169-AAD31FB2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8F96-1924-4D76-940A-D2C932C6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8763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7099-C088-4AF8-B7CC-42618578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3320" y="15238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040" y="39920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A3FC-97AC-4627-B1A7-5D67C466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DD1-9ED4-40BE-B98A-CA733492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3320" y="15238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3320" y="39920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3CE9-2C58-4C00-B2AB-E6458953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3320" y="15238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39920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6AFD-7610-440C-975F-D5C9F415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040" y="39920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DE94-9416-4343-AA82-FDCB05A4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3320" y="15238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920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3320" y="39920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3C85-D060-4189-B60C-1701B44D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5000" y="15238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6320" y="15238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040" y="39920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5000" y="39920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6320" y="39920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1B19-99DF-4D3D-93C6-A557C52F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CA2-C08D-41F8-8BC6-317963D5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3320" y="15238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9E96-725B-4E27-9C66-F97E4919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01D0-A206-426A-B8BC-AC5C313F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8763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B3B-FCF2-47D9-A5CB-C3A26ECA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3320" y="15238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39920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20DB-2CE4-4CA2-80DE-13037B59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3320" y="15238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3320" y="39920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B5E-E311-4F96-9CDC-6E7EF548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3320" y="15238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9920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8215-345C-47A6-9A6F-686F5DC1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400440"/>
            <a:ext cx="198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3440" y="6400440"/>
            <a:ext cx="267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6200" y="6400440"/>
            <a:ext cx="240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56DB-60D8-4512-BC58-249BB6C2238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0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040" y="6400440"/>
            <a:ext cx="198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03440" y="6400440"/>
            <a:ext cx="267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86200" y="6400440"/>
            <a:ext cx="240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61BB-9FE0-4964-8837-1D69E3B45824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15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Arial"/>
                <a:cs typeface="B Tabassom"/>
              </a:rPr>
              <a:t>کتابخانه ديجيتالي</a:t>
            </a:r>
            <a:r>
              <a:rPr b="0" lang="en-US" sz="4800" spc="-1" strike="noStrike">
                <a:solidFill>
                  <a:srgbClr val="ffffff"/>
                </a:solidFill>
                <a:latin typeface="AR JULIAN"/>
                <a:ea typeface="David Transparent"/>
              </a:rPr>
              <a:t>E-Library</a:t>
            </a:r>
            <a:r>
              <a:rPr b="0" lang="en-US" sz="4800" spc="-1" strike="noStrike">
                <a:solidFill>
                  <a:srgbClr val="ffffff"/>
                </a:solidFill>
                <a:latin typeface="AR JULIAN"/>
                <a:ea typeface="David Transparent"/>
              </a:rPr>
              <a:t>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13840" y="1071720"/>
            <a:ext cx="86439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d9d9d9"/>
                </a:solidFill>
                <a:latin typeface="Arial"/>
              </a:rPr>
              <a:t>مقدمه اي براي معرفي كتابخانه هاي ديجيتالي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d9d9d9"/>
                </a:solidFill>
                <a:latin typeface="Arial"/>
              </a:rPr>
              <a:t>استاد مربوطه: سركار خانم خوئيني - گردآورنده: هادي حيدري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1" name="Picture 4" descr="C:\Documents and Settings\Hadi\Desktop\im\libraremaingraphic.jpg"/>
          <p:cNvPicPr/>
          <p:nvPr/>
        </p:nvPicPr>
        <p:blipFill>
          <a:blip r:embed="rId1"/>
          <a:stretch/>
        </p:blipFill>
        <p:spPr>
          <a:xfrm>
            <a:off x="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:\Documents and Settings\Hadi\Desktop\caricatur- b.jpg"/>
          <p:cNvPicPr/>
          <p:nvPr/>
        </p:nvPicPr>
        <p:blipFill>
          <a:blip r:embed="rId2"/>
          <a:stretch/>
        </p:blipFill>
        <p:spPr>
          <a:xfrm>
            <a:off x="6861240" y="4564080"/>
            <a:ext cx="2265120" cy="227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C:\Documents and Settings\Hadi\Desktop\031505_Divinity_Library_57.jpg"/>
          <p:cNvPicPr/>
          <p:nvPr/>
        </p:nvPicPr>
        <p:blipFill>
          <a:blip r:embed="rId3"/>
          <a:stretch/>
        </p:blipFill>
        <p:spPr>
          <a:xfrm>
            <a:off x="2371680" y="4627440"/>
            <a:ext cx="2156040" cy="218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C:\Documents and Settings\Hadi\Desktop\trinity-college-library-dub.jpg"/>
          <p:cNvPicPr/>
          <p:nvPr/>
        </p:nvPicPr>
        <p:blipFill>
          <a:blip r:embed="rId4"/>
          <a:stretch/>
        </p:blipFill>
        <p:spPr>
          <a:xfrm>
            <a:off x="2368440" y="2314440"/>
            <a:ext cx="216540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Arial"/>
              </a:rPr>
              <a:t>نمونه اي از كتابخانه هاي ديجيتال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714680" y="1143000"/>
          <a:ext cx="6095880" cy="220680"/>
        </p:xfrm>
        <a:graphic>
          <a:graphicData uri="http://schemas.openxmlformats.org/drawingml/2006/table">
            <a:tbl>
              <a:tblPr/>
              <a:tblGrid>
                <a:gridCol w="2687400"/>
                <a:gridCol w="3408480"/>
              </a:tblGrid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marL="25560" algn="ctr" rtl="1">
                        <a:lnSpc>
                          <a:spcPct val="100000"/>
                        </a:lnSpc>
                        <a:spcBef>
                          <a:spcPts val="162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کتابخانه ملي جمهوري اسلامي ايران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nli.ir/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36" name="Picture 2" descr="C:\Documents and Settings\Hadi\Desktop\E-Book\Nli2.jpg"/>
          <p:cNvPicPr/>
          <p:nvPr/>
        </p:nvPicPr>
        <p:blipFill>
          <a:blip r:embed="rId1"/>
          <a:stretch/>
        </p:blipFill>
        <p:spPr>
          <a:xfrm>
            <a:off x="0" y="1477800"/>
            <a:ext cx="915192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714680" y="1143000"/>
          <a:ext cx="6095880" cy="220680"/>
        </p:xfrm>
        <a:graphic>
          <a:graphicData uri="http://schemas.openxmlformats.org/drawingml/2006/table">
            <a:tbl>
              <a:tblPr/>
              <a:tblGrid>
                <a:gridCol w="2687400"/>
                <a:gridCol w="3408480"/>
              </a:tblGrid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marL="25560" algn="ctr" rtl="1">
                        <a:lnSpc>
                          <a:spcPct val="100000"/>
                        </a:lnSpc>
                        <a:spcBef>
                          <a:spcPts val="162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کتابخانه ملي جمهوري اسلامي ايران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nli.ir/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Arial"/>
              </a:rPr>
              <a:t>نمونه اي از كتابخانه هاي ديجيتال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" descr="C:\Documents and Settings\Hadi\Desktop\E-Book\Nli3.jpg"/>
          <p:cNvPicPr/>
          <p:nvPr/>
        </p:nvPicPr>
        <p:blipFill>
          <a:blip r:embed="rId1"/>
          <a:stretch/>
        </p:blipFill>
        <p:spPr>
          <a:xfrm>
            <a:off x="0" y="1452600"/>
            <a:ext cx="91440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714680" y="1143000"/>
          <a:ext cx="6095880" cy="220680"/>
        </p:xfrm>
        <a:graphic>
          <a:graphicData uri="http://schemas.openxmlformats.org/drawingml/2006/table">
            <a:tbl>
              <a:tblPr/>
              <a:tblGrid>
                <a:gridCol w="2687400"/>
                <a:gridCol w="3408480"/>
              </a:tblGrid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marL="25560" algn="ctr" rtl="1">
                        <a:lnSpc>
                          <a:spcPct val="100000"/>
                        </a:lnSpc>
                        <a:spcBef>
                          <a:spcPts val="162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کتابخانه ملي جمهوري اسلامي ايران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nli.ir/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Arial"/>
              </a:rPr>
              <a:t>نمونه اي از كتابخانه هاي ديجيتال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" descr="C:\Documents and Settings\Hadi\Desktop\E-Book\Nli4.jpg"/>
          <p:cNvPicPr/>
          <p:nvPr/>
        </p:nvPicPr>
        <p:blipFill>
          <a:blip r:embed="rId1"/>
          <a:stretch/>
        </p:blipFill>
        <p:spPr>
          <a:xfrm>
            <a:off x="46080" y="1455840"/>
            <a:ext cx="908208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Arial"/>
              </a:rPr>
              <a:t>نمونه اي از كتابخانه هاي ديجيتال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C:\Documents and Settings\Hadi\Desktop\E-Book\Nli5.jpg"/>
          <p:cNvPicPr/>
          <p:nvPr/>
        </p:nvPicPr>
        <p:blipFill>
          <a:blip r:embed="rId1"/>
          <a:stretch/>
        </p:blipFill>
        <p:spPr>
          <a:xfrm>
            <a:off x="0" y="1457280"/>
            <a:ext cx="9126360" cy="539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1714680" y="1143000"/>
          <a:ext cx="6095880" cy="220680"/>
        </p:xfrm>
        <a:graphic>
          <a:graphicData uri="http://schemas.openxmlformats.org/drawingml/2006/table">
            <a:tbl>
              <a:tblPr/>
              <a:tblGrid>
                <a:gridCol w="2687400"/>
                <a:gridCol w="3408480"/>
              </a:tblGrid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marL="25560" algn="ctr" rtl="1">
                        <a:lnSpc>
                          <a:spcPct val="100000"/>
                        </a:lnSpc>
                        <a:spcBef>
                          <a:spcPts val="162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کتابخانه ملي جمهوري اسلامي ايران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nli.ir/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Arial"/>
              </a:rPr>
              <a:t>نمونه اي از كتابخانه هاي ديجيتال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43040" y="1143000"/>
          <a:ext cx="6095880" cy="220680"/>
        </p:xfrm>
        <a:graphic>
          <a:graphicData uri="http://schemas.openxmlformats.org/drawingml/2006/table">
            <a:tbl>
              <a:tblPr/>
              <a:tblGrid>
                <a:gridCol w="2687760"/>
                <a:gridCol w="3408120"/>
              </a:tblGrid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Arial"/>
                          <a:cs typeface="Times New Roman"/>
                        </a:rPr>
                        <a:t>كتابخانه بدلين دانشگاه آكسفورد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bodley.ox.ac.uk/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48" name="Picture 1" descr="C:\Documents and Settings\Hadi\Desktop\E-Book\Oxford.jpg"/>
          <p:cNvPicPr/>
          <p:nvPr/>
        </p:nvPicPr>
        <p:blipFill>
          <a:blip r:embed="rId1"/>
          <a:stretch/>
        </p:blipFill>
        <p:spPr>
          <a:xfrm>
            <a:off x="-7920" y="1450800"/>
            <a:ext cx="9151920" cy="54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Arial"/>
              </a:rPr>
              <a:t>نمونه اي از كتابخانه هاي ديجيتال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643040" y="1143000"/>
          <a:ext cx="6095880" cy="220680"/>
        </p:xfrm>
        <a:graphic>
          <a:graphicData uri="http://schemas.openxmlformats.org/drawingml/2006/table">
            <a:tbl>
              <a:tblPr/>
              <a:tblGrid>
                <a:gridCol w="2687760"/>
                <a:gridCol w="3408120"/>
              </a:tblGrid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Arial"/>
                          <a:cs typeface="Times New Roman"/>
                        </a:rPr>
                        <a:t>كتابخانه كنگره آمريكا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loc.gov/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1" name="Picture 1" descr="C:\Documents and Settings\Hadi\Desktop\E-Book\Conrgess Of Usa.jpg"/>
          <p:cNvPicPr/>
          <p:nvPr/>
        </p:nvPicPr>
        <p:blipFill>
          <a:blip r:embed="rId1"/>
          <a:stretch/>
        </p:blipFill>
        <p:spPr>
          <a:xfrm>
            <a:off x="7920" y="1469880"/>
            <a:ext cx="912816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Arial"/>
              </a:rPr>
              <a:t>نمونه اي از كتابخانه هاي ديجيتال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00120" y="1143000"/>
          <a:ext cx="6096240" cy="220680"/>
        </p:xfrm>
        <a:graphic>
          <a:graphicData uri="http://schemas.openxmlformats.org/drawingml/2006/table">
            <a:tbl>
              <a:tblPr/>
              <a:tblGrid>
                <a:gridCol w="2687760"/>
                <a:gridCol w="3408480"/>
              </a:tblGrid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کتابخانه مجازی ایران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irpdf.com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4" name="Picture 1" descr="C:\Documents and Settings\Hadi\Desktop\E-Book\Irpdf1.jpg"/>
          <p:cNvPicPr/>
          <p:nvPr/>
        </p:nvPicPr>
        <p:blipFill>
          <a:blip r:embed="rId1"/>
          <a:stretch/>
        </p:blipFill>
        <p:spPr>
          <a:xfrm>
            <a:off x="0" y="145260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Arial"/>
              </a:rPr>
              <a:t>نمونه اي از كتابخانه هاي ديجيتال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C:\Documents and Settings\Hadi\Desktop\E-Book\Irpdf2.jpg"/>
          <p:cNvPicPr/>
          <p:nvPr/>
        </p:nvPicPr>
        <p:blipFill>
          <a:blip r:embed="rId1"/>
          <a:stretch/>
        </p:blipFill>
        <p:spPr>
          <a:xfrm>
            <a:off x="17640" y="1457280"/>
            <a:ext cx="9126360" cy="539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1500120" y="1143000"/>
          <a:ext cx="6096240" cy="220680"/>
        </p:xfrm>
        <a:graphic>
          <a:graphicData uri="http://schemas.openxmlformats.org/drawingml/2006/table">
            <a:tbl>
              <a:tblPr/>
              <a:tblGrid>
                <a:gridCol w="2687760"/>
                <a:gridCol w="3408480"/>
              </a:tblGrid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کتابخانه مجازی ایران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irpdf.com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Arial"/>
              </a:rPr>
              <a:t>نمونه اي از كتابخانه هاي ديجيتال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500120" y="1143000"/>
          <a:ext cx="6096240" cy="220680"/>
        </p:xfrm>
        <a:graphic>
          <a:graphicData uri="http://schemas.openxmlformats.org/drawingml/2006/table">
            <a:tbl>
              <a:tblPr/>
              <a:tblGrid>
                <a:gridCol w="2687760"/>
                <a:gridCol w="3408480"/>
              </a:tblGrid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دانلود كتابهاي روز ايران و جهان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AryaBooks.com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60" name="Picture 3" descr="C:\Documents and Settings\Hadi\Desktop\E-Book\AryaBook.jpg"/>
          <p:cNvPicPr/>
          <p:nvPr/>
        </p:nvPicPr>
        <p:blipFill>
          <a:blip r:embed="rId1"/>
          <a:stretch/>
        </p:blipFill>
        <p:spPr>
          <a:xfrm>
            <a:off x="1440" y="1444680"/>
            <a:ext cx="914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Arial"/>
              </a:rPr>
              <a:t>نمونه اي از كتابخانه هاي ديجيتال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00120" y="1143000"/>
          <a:ext cx="6096240" cy="220680"/>
        </p:xfrm>
        <a:graphic>
          <a:graphicData uri="http://schemas.openxmlformats.org/drawingml/2006/table">
            <a:tbl>
              <a:tblPr/>
              <a:tblGrid>
                <a:gridCol w="2687760"/>
                <a:gridCol w="3408480"/>
              </a:tblGrid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کتابخانه </a:t>
                      </a:r>
                      <a:r>
                        <a:rPr b="0" lang="fa-IR" sz="10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الكترونيكي آفتاب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Aftab.ir/elibrary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63" name="Picture 3" descr="C:\Documents and Settings\Hadi\Desktop\E-Book\Aftab.jpg"/>
          <p:cNvPicPr/>
          <p:nvPr/>
        </p:nvPicPr>
        <p:blipFill>
          <a:blip r:embed="rId1"/>
          <a:stretch/>
        </p:blipFill>
        <p:spPr>
          <a:xfrm>
            <a:off x="-17640" y="1444680"/>
            <a:ext cx="915372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کتابخانه ديجيتالي چيست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85520" y="1571400"/>
            <a:ext cx="8358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Arial"/>
              </a:rPr>
              <a:t>كتابخانه </a:t>
            </a: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هاي</a:t>
            </a:r>
            <a:r>
              <a:rPr b="0" lang="ar-SA" sz="2800" spc="-1" strike="noStrike">
                <a:solidFill>
                  <a:srgbClr val="000066"/>
                </a:solidFill>
                <a:latin typeface="Arial"/>
              </a:rPr>
              <a:t> ديجيتالي سازمانهايي هستندكه درآن</a:t>
            </a: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66"/>
                </a:solidFill>
                <a:latin typeface="Arial"/>
              </a:rPr>
              <a:t>كاركنان متخصص</a:t>
            </a: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،</a:t>
            </a:r>
            <a:r>
              <a:rPr b="0" lang="ar-SA" sz="2800" spc="-1" strike="noStrike">
                <a:solidFill>
                  <a:srgbClr val="000066"/>
                </a:solidFill>
                <a:latin typeface="Arial"/>
              </a:rPr>
              <a:t> به انتخاب</a:t>
            </a: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 -</a:t>
            </a:r>
            <a:r>
              <a:rPr b="0" lang="ar-SA" sz="2800" spc="-1" strike="noStrike">
                <a:solidFill>
                  <a:srgbClr val="000066"/>
                </a:solidFill>
                <a:latin typeface="Arial"/>
              </a:rPr>
              <a:t> سازماندهي و كمك به دسترسي فكري به منابع اطلاعاتي مي پردازند و در آن فرايند تفسير، توزيع، حفاظت از يكپارچگي اطلاعات ديجيتالي و نيز اطمينان از وجود مجموعه اي از آثار ديجيتالي در مدت زمان طولاني مورد توجه قرار مي گيرد تا از اين طريق بتوان منابع ديجيتالي را</a:t>
            </a: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66"/>
                </a:solidFill>
                <a:latin typeface="Arial"/>
              </a:rPr>
              <a:t>براي استفاده يك جامعه يا مجموعه اي از جوامع</a:t>
            </a: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 به روشي اقتصادي و سريع </a:t>
            </a:r>
            <a:r>
              <a:rPr b="0" lang="ar-SA" sz="2800" spc="-1" strike="noStrike">
                <a:solidFill>
                  <a:srgbClr val="000066"/>
                </a:solidFill>
                <a:latin typeface="Arial"/>
              </a:rPr>
              <a:t>در</a:t>
            </a: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66"/>
                </a:solidFill>
                <a:latin typeface="Arial"/>
              </a:rPr>
              <a:t>دسترس قرار داد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7" name="Picture 4" descr="C:\Documents and Settings\Hadi\Desktop\im\libraremaingraphic.jpg"/>
          <p:cNvPicPr/>
          <p:nvPr/>
        </p:nvPicPr>
        <p:blipFill>
          <a:blip r:embed="rId1"/>
          <a:stretch/>
        </p:blipFill>
        <p:spPr>
          <a:xfrm>
            <a:off x="0" y="2266920"/>
            <a:ext cx="785880" cy="77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Documents and Settings\Hadi\Desktop\caricatur- b.jpg"/>
          <p:cNvPicPr/>
          <p:nvPr/>
        </p:nvPicPr>
        <p:blipFill>
          <a:blip r:embed="rId2"/>
          <a:stretch/>
        </p:blipFill>
        <p:spPr>
          <a:xfrm>
            <a:off x="46080" y="5398920"/>
            <a:ext cx="703080" cy="771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C:\Documents and Settings\Hadi\Desktop\trinity-college-library-dub.jpg"/>
          <p:cNvPicPr/>
          <p:nvPr/>
        </p:nvPicPr>
        <p:blipFill>
          <a:blip r:embed="rId3"/>
          <a:stretch/>
        </p:blipFill>
        <p:spPr>
          <a:xfrm>
            <a:off x="52560" y="4619520"/>
            <a:ext cx="67608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Arial"/>
              </a:rPr>
              <a:t>نمونه اي از كتابخانه هاي ديجيتال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00120" y="1143000"/>
          <a:ext cx="6096240" cy="220680"/>
        </p:xfrm>
        <a:graphic>
          <a:graphicData uri="http://schemas.openxmlformats.org/drawingml/2006/table">
            <a:tbl>
              <a:tblPr/>
              <a:tblGrid>
                <a:gridCol w="2687760"/>
                <a:gridCol w="3408480"/>
              </a:tblGrid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يكي از بزرگترين كتابخانه هاي ديجيتالي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ebooks.com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66" name="Picture 3" descr="C:\Documents and Settings\Hadi\Desktop\E-Book\Ebookcom1.jpg"/>
          <p:cNvPicPr/>
          <p:nvPr/>
        </p:nvPicPr>
        <p:blipFill>
          <a:blip r:embed="rId1"/>
          <a:stretch/>
        </p:blipFill>
        <p:spPr>
          <a:xfrm>
            <a:off x="7920" y="1452600"/>
            <a:ext cx="912816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Arial"/>
              </a:rPr>
              <a:t>نمونه اي از كتابخانه هاي ديجيتال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2" descr="C:\Documents and Settings\Hadi\Desktop\E-Book\Ebookcom2.jpg"/>
          <p:cNvPicPr/>
          <p:nvPr/>
        </p:nvPicPr>
        <p:blipFill>
          <a:blip r:embed="rId1"/>
          <a:stretch/>
        </p:blipFill>
        <p:spPr>
          <a:xfrm>
            <a:off x="19080" y="1454040"/>
            <a:ext cx="9124920" cy="539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1500120" y="1143000"/>
          <a:ext cx="6096240" cy="220680"/>
        </p:xfrm>
        <a:graphic>
          <a:graphicData uri="http://schemas.openxmlformats.org/drawingml/2006/table">
            <a:tbl>
              <a:tblPr/>
              <a:tblGrid>
                <a:gridCol w="2687760"/>
                <a:gridCol w="3408480"/>
              </a:tblGrid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يكي از بزرگترين كتابخانه هاي ديجيتالي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ebooks.com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Arial"/>
              </a:rPr>
              <a:t>چند كتابخانه الكترونيكي مهم ديگ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428840" y="1785960"/>
          <a:ext cx="7143840" cy="4572000"/>
        </p:xfrm>
        <a:graphic>
          <a:graphicData uri="http://schemas.openxmlformats.org/drawingml/2006/table">
            <a:tbl>
              <a:tblPr/>
              <a:tblGrid>
                <a:gridCol w="3147840"/>
                <a:gridCol w="3996000"/>
              </a:tblGrid>
              <a:tr h="253800">
                <a:tc>
                  <a:txBody>
                    <a:bodyPr lIns="0" rIns="0" tIns="0" bIns="0" anchor="ctr">
                      <a:noAutofit/>
                    </a:bodyPr>
                    <a:p>
                      <a:pPr marL="25560" algn="ctr" rtl="1">
                        <a:lnSpc>
                          <a:spcPct val="100000"/>
                        </a:lnSpc>
                        <a:spcBef>
                          <a:spcPts val="162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کتابخانه ملي جمهوري اسلامي ايران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nli.ir/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Arial"/>
                          <a:cs typeface="Times New Roman"/>
                        </a:rPr>
                        <a:t>كتابخانه بدلين دانشگاه آكسفورد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bodley.ox.ac.uk/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بريتيش لايبريري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bl.uk/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Arial"/>
                          <a:cs typeface="Times New Roman"/>
                        </a:rPr>
                        <a:t>كتابخانه كنگره آمريكا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loc.gov/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Arial"/>
                          <a:cs typeface="Times New Roman"/>
                        </a:rPr>
                        <a:t>كتابخانه ملي آلمان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deposit.ddb.de/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Arial"/>
                          <a:cs typeface="Times New Roman"/>
                        </a:rPr>
                        <a:t>كتابخانه ملي روسيه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rsl.ru/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Arial"/>
                          <a:cs typeface="Times New Roman"/>
                        </a:rPr>
                        <a:t>كتابخانه ملي فرانسه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bnf.fr/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Arial"/>
                          <a:cs typeface="Times New Roman"/>
                        </a:rPr>
                        <a:t>كتابخانه ملي كانادا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nlc-bnc.ca/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Arial"/>
                          <a:cs typeface="Times New Roman"/>
                        </a:rPr>
                        <a:t>كتابخانه دانشگاه سيدني استراليا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library.usyd.edu.au/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Arial"/>
                          <a:cs typeface="Times New Roman"/>
                        </a:rPr>
                        <a:t>مجموعه كتابخانه هاي كشور آمريكا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ala.org/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ETROPOLITAN</a:t>
                      </a: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Arial"/>
                          <a:cs typeface="Times New Roman"/>
                        </a:rPr>
                        <a:t>كتابخانه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mls.lib.ok.us/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ULSA</a:t>
                      </a: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Arial"/>
                          <a:cs typeface="Times New Roman"/>
                        </a:rPr>
                        <a:t>كتابخانه الكترونيكي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tulsalibrary.org/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IT</a:t>
                      </a: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Arial"/>
                          <a:cs typeface="Times New Roman"/>
                        </a:rPr>
                        <a:t>كتابخانه پيشرفته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libraries.mit.edu/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كتابخانه عمومي نيويورك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nypl.org/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كتابخانه بين المللي كانادا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nlc-bnc.ca/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كتابخانه الكترونيكي كتب شيعه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yasoob.com/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Arial"/>
                          <a:cs typeface="Times New Roman"/>
                        </a:rPr>
                        <a:t>كتابخانه مطالعات اسلامي دانشگاه مك‌گيل</a:t>
                      </a: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library.mcgil.ca/islamic/islam.htm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کتابخانه استکهلم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ssb.stockholm.se/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2" name="Picture 4" descr="C:\Documents and Settings\Hadi\Desktop\im\libraremaingraphic.jpg"/>
          <p:cNvPicPr/>
          <p:nvPr/>
        </p:nvPicPr>
        <p:blipFill>
          <a:blip r:embed="rId1"/>
          <a:stretch/>
        </p:blipFill>
        <p:spPr>
          <a:xfrm>
            <a:off x="0" y="2266920"/>
            <a:ext cx="785880" cy="77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:\Documents and Settings\Hadi\Desktop\trinity-college-library-dub.jpg"/>
          <p:cNvPicPr/>
          <p:nvPr/>
        </p:nvPicPr>
        <p:blipFill>
          <a:blip r:embed="rId2"/>
          <a:stretch/>
        </p:blipFill>
        <p:spPr>
          <a:xfrm>
            <a:off x="52560" y="4619520"/>
            <a:ext cx="676080" cy="763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C:\Documents and Settings\Hadi\Desktop\caricatur- b.jpg"/>
          <p:cNvPicPr/>
          <p:nvPr/>
        </p:nvPicPr>
        <p:blipFill>
          <a:blip r:embed="rId3"/>
          <a:stretch/>
        </p:blipFill>
        <p:spPr>
          <a:xfrm>
            <a:off x="46080" y="5398920"/>
            <a:ext cx="70308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نسل بندی کتابخانه ه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0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 rtl="1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Arial"/>
              </a:rPr>
              <a:t>نسل اول : کتابخانه های سنتی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ratitional librar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66"/>
                </a:solidFill>
                <a:latin typeface="Arial"/>
              </a:rPr>
              <a:t>در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66"/>
                </a:solidFill>
                <a:latin typeface="Arial"/>
              </a:rPr>
              <a:t>این کتابخانه ها،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66"/>
                </a:solidFill>
                <a:latin typeface="Arial"/>
              </a:rPr>
              <a:t>همه متون و مواد آموزشی و تحقیقی به صورت نسخه های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چاپي و يا</a:t>
            </a:r>
            <a:r>
              <a:rPr b="0" lang="ar-SA" sz="2000" spc="-1" strike="noStrike">
                <a:solidFill>
                  <a:srgbClr val="000066"/>
                </a:solidFill>
                <a:latin typeface="Arial"/>
              </a:rPr>
              <a:t> خطی در قرون گذشته بوده و انواع خدمات کتابداری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66"/>
                </a:solidFill>
                <a:latin typeface="Arial"/>
              </a:rPr>
              <a:t>به صورت دستی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انجام مي شد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 rtl="1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Arial"/>
              </a:rPr>
              <a:t>نسل دوم : کتابخانه های ماشینی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utomated librar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در اين كتابخانه ها، عليرغم چاپي بودن منابع، ايجاد نسخه ها، فهرستبندي و ساير خدمات توسط ماشين انجام ميشد، البته منابعي همچون نوار كاست، فيلم، ميكروفيلم و غيره نيز به منابع چاپي افزوده شد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 rtl="1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Arial"/>
              </a:rPr>
              <a:t>نسل سوم : کتابخانه های الکترونیکی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lectronic librar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در كتابخانه هاي الكترونيكي </a:t>
            </a:r>
            <a:r>
              <a:rPr b="0" lang="ar-SA" sz="2000" spc="-1" strike="noStrike">
                <a:solidFill>
                  <a:srgbClr val="000066"/>
                </a:solidFill>
                <a:latin typeface="Arial"/>
              </a:rPr>
              <a:t>مواد آموزشی عمدتا به صورت الکترونیکی وجود دارند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، </a:t>
            </a:r>
            <a:r>
              <a:rPr b="0" lang="ar-SA" sz="2000" spc="-1" strike="noStrike">
                <a:solidFill>
                  <a:srgbClr val="000066"/>
                </a:solidFill>
                <a:latin typeface="Arial"/>
              </a:rPr>
              <a:t>البته منابع چاپی نیز در کنار منابع الکترونیکی وجود دارد اما خدمات کتابخانه ای بیشتر به صورت الکترونیکی انجام می شود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2" name="Picture 4" descr="C:\Documents and Settings\Hadi\Desktop\im\libraremaingraphic.jpg"/>
          <p:cNvPicPr/>
          <p:nvPr/>
        </p:nvPicPr>
        <p:blipFill>
          <a:blip r:embed="rId1"/>
          <a:stretch/>
        </p:blipFill>
        <p:spPr>
          <a:xfrm>
            <a:off x="0" y="2266920"/>
            <a:ext cx="785880" cy="773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C:\Documents and Settings\Hadi\Desktop\trinity-college-library-dub.jpg"/>
          <p:cNvPicPr/>
          <p:nvPr/>
        </p:nvPicPr>
        <p:blipFill>
          <a:blip r:embed="rId2"/>
          <a:stretch/>
        </p:blipFill>
        <p:spPr>
          <a:xfrm>
            <a:off x="52560" y="4619520"/>
            <a:ext cx="676080" cy="763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Documents and Settings\Hadi\Desktop\caricatur- b.jpg"/>
          <p:cNvPicPr/>
          <p:nvPr/>
        </p:nvPicPr>
        <p:blipFill>
          <a:blip r:embed="rId3"/>
          <a:stretch/>
        </p:blipFill>
        <p:spPr>
          <a:xfrm>
            <a:off x="46080" y="5398920"/>
            <a:ext cx="70308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نسل بندی کتابخانه ه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0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Arial"/>
              </a:rPr>
              <a:t>نسل چهارم : کتابخانه های دیجیتال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gital librar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66"/>
                </a:solidFill>
                <a:latin typeface="Arial"/>
              </a:rPr>
              <a:t>این کتابخانه ها ، موسسات یا سازمان هایی هستند 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كه </a:t>
            </a:r>
            <a:r>
              <a:rPr b="0" lang="ar-SA" sz="2000" spc="-1" strike="noStrike">
                <a:solidFill>
                  <a:srgbClr val="000066"/>
                </a:solidFill>
                <a:latin typeface="Arial"/>
              </a:rPr>
              <a:t>منابع مختلف شامل منابع انسانی و تجهیزات مورد نیاز برای ارایه ی خدمات کتابخانه ای مثل فهرست نویسی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، </a:t>
            </a:r>
            <a:r>
              <a:rPr b="0" lang="ar-SA" sz="2000" spc="-1" strike="noStrike">
                <a:solidFill>
                  <a:srgbClr val="000066"/>
                </a:solidFill>
                <a:latin typeface="Arial"/>
              </a:rPr>
              <a:t>اطلاع رسانی، روابط بین کتابخانه ای، مواد آموزشی ، منابع کتابخانه ای و دیگر خدمات را با استفاده از شبکه های پرسرعت مهیا می ساز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ند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Arial"/>
              </a:rPr>
              <a:t>نسل پنجم : کتابخانه های مجازی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irtual librar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66"/>
                </a:solidFill>
                <a:latin typeface="Arial"/>
              </a:rPr>
              <a:t>کتابخانه های مجازی کتابخانه های بدون دیوار هستند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، </a:t>
            </a:r>
            <a:r>
              <a:rPr b="0" lang="ar-SA" sz="2000" spc="-1" strike="noStrike">
                <a:solidFill>
                  <a:srgbClr val="000066"/>
                </a:solidFill>
                <a:latin typeface="Arial"/>
              </a:rPr>
              <a:t>بدین معنی که منابع آن ها ، تنها بر روی وب موجود است و همه ی خدمات کتابخانه ای نیز در آن ها فقط و فقط از طریق وب انجام می پذیر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د، </a:t>
            </a:r>
            <a:r>
              <a:rPr b="0" lang="ar-SA" sz="2000" spc="-1" strike="noStrike">
                <a:solidFill>
                  <a:srgbClr val="000066"/>
                </a:solidFill>
                <a:latin typeface="Arial"/>
              </a:rPr>
              <a:t>منابع این نوع کتابخانه ها، از نوع کتاب های الکترونیکی بر روی شبکه است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، </a:t>
            </a:r>
            <a:r>
              <a:rPr b="0" lang="ar-SA" sz="2000" spc="-1" strike="noStrike">
                <a:solidFill>
                  <a:srgbClr val="000066"/>
                </a:solidFill>
                <a:latin typeface="Arial"/>
              </a:rPr>
              <a:t>محیط کاری نیز،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66"/>
                </a:solidFill>
                <a:latin typeface="Arial"/>
              </a:rPr>
              <a:t>محیط شبکه های بسیار سریع از نوع ماهواره ای یا فیبر نوری است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7" name="Picture 4" descr="C:\Documents and Settings\Hadi\Desktop\im\libraremaingraphic.jpg"/>
          <p:cNvPicPr/>
          <p:nvPr/>
        </p:nvPicPr>
        <p:blipFill>
          <a:blip r:embed="rId1"/>
          <a:stretch/>
        </p:blipFill>
        <p:spPr>
          <a:xfrm>
            <a:off x="0" y="2266920"/>
            <a:ext cx="785880" cy="773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C:\Documents and Settings\Hadi\Desktop\trinity-college-library-dub.jpg"/>
          <p:cNvPicPr/>
          <p:nvPr/>
        </p:nvPicPr>
        <p:blipFill>
          <a:blip r:embed="rId2"/>
          <a:stretch/>
        </p:blipFill>
        <p:spPr>
          <a:xfrm>
            <a:off x="52560" y="4619520"/>
            <a:ext cx="676080" cy="763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:\Documents and Settings\Hadi\Desktop\caricatur- b.jpg"/>
          <p:cNvPicPr/>
          <p:nvPr/>
        </p:nvPicPr>
        <p:blipFill>
          <a:blip r:embed="rId3"/>
          <a:stretch/>
        </p:blipFill>
        <p:spPr>
          <a:xfrm>
            <a:off x="46080" y="5398920"/>
            <a:ext cx="70308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عوامل زمينه ساز كتابخانه ديجيتالي</a:t>
            </a:r>
            <a:br>
              <a:rPr sz="4000"/>
            </a:b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شكل كتابخانه هاي سنتي در برآورده ساختن نيازهاي كاربران و اداره مجموعه خو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9720" y="1844640"/>
            <a:ext cx="769788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Arial"/>
              </a:rPr>
              <a:t>ناتواني در تهيه و خريد منابع جديد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Arial"/>
              </a:rPr>
              <a:t>ضعف حفاظت و نگهداري منابع قبلي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Arial"/>
              </a:rPr>
              <a:t>عدم سرعت عمل در پردازش، آماده سازي و اشاعه اطلاعات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Arial"/>
              </a:rPr>
              <a:t>ناكارآمدي و ايجاد ارتباط با ساير مراكز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2" name="Picture 6" descr="C:\Documents and Settings\Hadi\Desktop\caricatur- b.jpg"/>
          <p:cNvPicPr/>
          <p:nvPr/>
        </p:nvPicPr>
        <p:blipFill>
          <a:blip r:embed="rId1"/>
          <a:stretch/>
        </p:blipFill>
        <p:spPr>
          <a:xfrm>
            <a:off x="46080" y="5398920"/>
            <a:ext cx="703080" cy="771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Documents and Settings\Hadi\Desktop\im\libraremaingraphic.jpg"/>
          <p:cNvPicPr/>
          <p:nvPr/>
        </p:nvPicPr>
        <p:blipFill>
          <a:blip r:embed="rId2"/>
          <a:stretch/>
        </p:blipFill>
        <p:spPr>
          <a:xfrm>
            <a:off x="0" y="2266920"/>
            <a:ext cx="785880" cy="773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C:\Documents and Settings\Hadi\Desktop\trinity-college-library-dub.jpg"/>
          <p:cNvPicPr/>
          <p:nvPr/>
        </p:nvPicPr>
        <p:blipFill>
          <a:blip r:embed="rId3"/>
          <a:stretch/>
        </p:blipFill>
        <p:spPr>
          <a:xfrm>
            <a:off x="52560" y="4619520"/>
            <a:ext cx="67608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زاياي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تابخانه ديجيتالي در قبال نيازهاي كاربران و جامعه اطلاعات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0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66"/>
                </a:solidFill>
                <a:latin typeface="Arial"/>
              </a:rPr>
              <a:t>عدم نياز به تهيه و خريد چند نسخه از منبع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66"/>
                </a:solidFill>
                <a:latin typeface="Arial"/>
              </a:rPr>
              <a:t>عدم وجود امكان آسيب هايي مثل خط خوردگي،مفقود شدن ومشكلات صحافي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66"/>
                </a:solidFill>
                <a:latin typeface="Arial"/>
              </a:rPr>
              <a:t>دسترسي آسان به محتواي مواد ديجيتال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66"/>
                </a:solidFill>
                <a:latin typeface="Arial"/>
              </a:rPr>
              <a:t>امكان دسترسي به محتواي مواد ساير كتابخانه ها يا مراكز ديجيتالي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به </a:t>
            </a:r>
            <a:r>
              <a:rPr b="0" lang="ar-SA" sz="2400" spc="-1" strike="noStrike">
                <a:solidFill>
                  <a:srgbClr val="000066"/>
                </a:solidFill>
                <a:latin typeface="Arial"/>
              </a:rPr>
              <a:t>اشتراك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گذاري سريع و آسان</a:t>
            </a:r>
            <a:r>
              <a:rPr b="0" lang="ar-SA" sz="2400" spc="-1" strike="noStrike">
                <a:solidFill>
                  <a:srgbClr val="000066"/>
                </a:solidFill>
                <a:latin typeface="Arial"/>
              </a:rPr>
              <a:t> منابع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66"/>
                </a:solidFill>
                <a:latin typeface="Arial"/>
              </a:rPr>
              <a:t>كاهش زمان نشر، در نتيجه كاهش زمان اشاعه اطلاعات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66"/>
                </a:solidFill>
                <a:latin typeface="Arial"/>
              </a:rPr>
              <a:t>ايفاي نقش بارز در حفظ ميراث فرهنگي اقوام مختلف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66"/>
                </a:solidFill>
                <a:latin typeface="Arial"/>
              </a:rPr>
              <a:t>استفاده همزمان از یک منبع توسط افراد بی شمار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66"/>
                </a:solidFill>
                <a:latin typeface="Arial"/>
              </a:rPr>
              <a:t>سهولت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به روز</a:t>
            </a:r>
            <a:r>
              <a:rPr b="0" lang="ar-SA" sz="2400" spc="-1" strike="noStrike">
                <a:solidFill>
                  <a:srgbClr val="000066"/>
                </a:solidFill>
                <a:latin typeface="Arial"/>
              </a:rPr>
              <a:t> نگه داشتن اطلاعات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66"/>
                </a:solidFill>
                <a:latin typeface="Arial"/>
              </a:rPr>
              <a:t>امكانات بسيار قوي و وسيع جستجو و مرور(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owsing</a:t>
            </a:r>
            <a:r>
              <a:rPr b="0" lang="ar-SA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7" name="Picture 6" descr="C:\Documents and Settings\Hadi\Desktop\caricatur- b.jpg"/>
          <p:cNvPicPr/>
          <p:nvPr/>
        </p:nvPicPr>
        <p:blipFill>
          <a:blip r:embed="rId1"/>
          <a:stretch/>
        </p:blipFill>
        <p:spPr>
          <a:xfrm>
            <a:off x="46080" y="5398920"/>
            <a:ext cx="703080" cy="771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Documents and Settings\Hadi\Desktop\im\libraremaingraphic.jpg"/>
          <p:cNvPicPr/>
          <p:nvPr/>
        </p:nvPicPr>
        <p:blipFill>
          <a:blip r:embed="rId2"/>
          <a:stretch/>
        </p:blipFill>
        <p:spPr>
          <a:xfrm>
            <a:off x="0" y="2266920"/>
            <a:ext cx="785880" cy="773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C:\Documents and Settings\Hadi\Desktop\trinity-college-library-dub.jpg"/>
          <p:cNvPicPr/>
          <p:nvPr/>
        </p:nvPicPr>
        <p:blipFill>
          <a:blip r:embed="rId3"/>
          <a:stretch/>
        </p:blipFill>
        <p:spPr>
          <a:xfrm>
            <a:off x="52560" y="4619520"/>
            <a:ext cx="67608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Arial"/>
              </a:rPr>
              <a:t>شكل و قالب كتابهاي الكترونيك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040" y="1523880"/>
            <a:ext cx="8077320" cy="16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 rtl="1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كتابهاي الكترونيكي يا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-books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، صرفا نسخه هاي الكترونيكي مطالب مكتوب نيستند، بلكه مي توانند علاوه بر متن، صوت، تصوير، انيميشن و غيره را نيز شامل شوند، در جدول زير تعدادي از فرمت ها كه بيشتر مورد استفاده ي كتابخانه هاي الكترونيكي قرار ميگيرد آورده شده است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643040" y="3286080"/>
          <a:ext cx="6548400" cy="3292560"/>
        </p:xfrm>
        <a:graphic>
          <a:graphicData uri="http://schemas.openxmlformats.org/drawingml/2006/table">
            <a:tbl>
              <a:tblPr/>
              <a:tblGrid>
                <a:gridCol w="3273480"/>
                <a:gridCol w="327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d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dobe Read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اجرايي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icrosoft Read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c &amp; Pdb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Reader (Palm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p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lip view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oc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icrosoft Wo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tm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ternet Explor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x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tepa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t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ordpa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Picture 4" descr="C:\Documents and Settings\Hadi\Desktop\im\libraremaingraphic.jpg"/>
          <p:cNvPicPr/>
          <p:nvPr/>
        </p:nvPicPr>
        <p:blipFill>
          <a:blip r:embed="rId1"/>
          <a:stretch/>
        </p:blipFill>
        <p:spPr>
          <a:xfrm>
            <a:off x="0" y="2266920"/>
            <a:ext cx="785880" cy="773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C:\Documents and Settings\Hadi\Desktop\trinity-college-library-dub.jpg"/>
          <p:cNvPicPr/>
          <p:nvPr/>
        </p:nvPicPr>
        <p:blipFill>
          <a:blip r:embed="rId2"/>
          <a:stretch/>
        </p:blipFill>
        <p:spPr>
          <a:xfrm>
            <a:off x="52560" y="4619520"/>
            <a:ext cx="676080" cy="763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:\Documents and Settings\Hadi\Desktop\caricatur- b.jpg"/>
          <p:cNvPicPr/>
          <p:nvPr/>
        </p:nvPicPr>
        <p:blipFill>
          <a:blip r:embed="rId3"/>
          <a:stretch/>
        </p:blipFill>
        <p:spPr>
          <a:xfrm>
            <a:off x="46080" y="5398920"/>
            <a:ext cx="70308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اهداف کتابخانه ديجيتال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0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66"/>
                </a:solidFill>
                <a:latin typeface="Arial"/>
              </a:rPr>
              <a:t>گردآوري، ذخيره و سازماندهي اطلاعات و دانش به شكل ديجيتالي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66"/>
                </a:solidFill>
                <a:latin typeface="Arial"/>
              </a:rPr>
              <a:t>كمك به انتقال مقرون به صرفه و كارآمد اطلاعات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66"/>
                </a:solidFill>
                <a:latin typeface="Arial"/>
              </a:rPr>
              <a:t>تاثير قابل توجه در سرمايه گذاري روي ساختار رايانه اي و ارتباطي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66"/>
                </a:solidFill>
                <a:latin typeface="Arial"/>
              </a:rPr>
              <a:t>ارتباط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و </a:t>
            </a:r>
            <a:r>
              <a:rPr b="0" lang="ar-SA" sz="2400" spc="-1" strike="noStrike">
                <a:solidFill>
                  <a:srgbClr val="000066"/>
                </a:solidFill>
                <a:latin typeface="Arial"/>
              </a:rPr>
              <a:t>همكاري مابين جوامع پژوهشي،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66"/>
                </a:solidFill>
                <a:latin typeface="Arial"/>
              </a:rPr>
              <a:t>بازرگاني،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66"/>
                </a:solidFill>
                <a:latin typeface="Arial"/>
              </a:rPr>
              <a:t>حكومتي و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66"/>
                </a:solidFill>
                <a:latin typeface="Arial"/>
              </a:rPr>
              <a:t>آموزشي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66"/>
                </a:solidFill>
                <a:latin typeface="Arial"/>
              </a:rPr>
              <a:t>استفاده از فرصتهاي آموزشي مادام العمر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66"/>
                </a:solidFill>
                <a:latin typeface="Arial"/>
              </a:rPr>
              <a:t>دسترس پذير ساختن منابع كمياب و ناياب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66"/>
                </a:solidFill>
                <a:latin typeface="Arial"/>
              </a:rPr>
              <a:t>حفاظت از منابع آسيب پذير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8" name="Picture 6" descr="C:\Documents and Settings\Hadi\Desktop\caricatur- b.jpg"/>
          <p:cNvPicPr/>
          <p:nvPr/>
        </p:nvPicPr>
        <p:blipFill>
          <a:blip r:embed="rId1"/>
          <a:stretch/>
        </p:blipFill>
        <p:spPr>
          <a:xfrm>
            <a:off x="46080" y="5398920"/>
            <a:ext cx="703080" cy="771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Documents and Settings\Hadi\Desktop\im\libraremaingraphic.jpg"/>
          <p:cNvPicPr/>
          <p:nvPr/>
        </p:nvPicPr>
        <p:blipFill>
          <a:blip r:embed="rId2"/>
          <a:stretch/>
        </p:blipFill>
        <p:spPr>
          <a:xfrm>
            <a:off x="0" y="2266920"/>
            <a:ext cx="785880" cy="77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:\Documents and Settings\Hadi\Desktop\trinity-college-library-dub.jpg"/>
          <p:cNvPicPr/>
          <p:nvPr/>
        </p:nvPicPr>
        <p:blipFill>
          <a:blip r:embed="rId3"/>
          <a:stretch/>
        </p:blipFill>
        <p:spPr>
          <a:xfrm>
            <a:off x="52560" y="4619520"/>
            <a:ext cx="67608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Arial"/>
              </a:rPr>
              <a:t>نمونه اي از كتابخانه هاي ديجيتال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714680" y="1143000"/>
          <a:ext cx="6095880" cy="220680"/>
        </p:xfrm>
        <a:graphic>
          <a:graphicData uri="http://schemas.openxmlformats.org/drawingml/2006/table">
            <a:tbl>
              <a:tblPr/>
              <a:tblGrid>
                <a:gridCol w="2687400"/>
                <a:gridCol w="3408480"/>
              </a:tblGrid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marL="25560" algn="ctr" rtl="1">
                        <a:lnSpc>
                          <a:spcPct val="100000"/>
                        </a:lnSpc>
                        <a:spcBef>
                          <a:spcPts val="162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کتابخانه ملي جمهوري اسلامي ايران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ttp://www.nli.ir/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33" name="Picture 3" descr="C:\Documents and Settings\Hadi\Desktop\E-Book\Nli1.jpg"/>
          <p:cNvPicPr/>
          <p:nvPr/>
        </p:nvPicPr>
        <p:blipFill>
          <a:blip r:embed="rId1"/>
          <a:stretch/>
        </p:blipFill>
        <p:spPr>
          <a:xfrm>
            <a:off x="34920" y="1450800"/>
            <a:ext cx="914400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22:07:59Z</dcterms:created>
  <dc:creator>Hadi</dc:creator>
  <dc:description/>
  <dc:language>en-US</dc:language>
  <cp:lastModifiedBy>Hadi</cp:lastModifiedBy>
  <dcterms:modified xsi:type="dcterms:W3CDTF">2009-12-08T05:38:18Z</dcterms:modified>
  <cp:revision>37</cp:revision>
  <dc:subject/>
  <dc:title>کتابخانه ديجيتالي E-Library         </dc:title>
</cp:coreProperties>
</file>