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0.wmf" ContentType="image/x-wmf"/>
  <Override PartName="/ppt/media/image57.wmf" ContentType="image/x-wmf"/>
  <Override PartName="/ppt/media/image66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59.wmf" ContentType="image/x-wmf"/>
  <Override PartName="/ppt/media/image65.png" ContentType="image/png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wmf" ContentType="image/x-wmf"/>
  <Override PartName="/ppt/media/image15.wmf" ContentType="image/x-wmf"/>
  <Override PartName="/ppt/media/image40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49.wmf" ContentType="image/x-wmf"/>
  <Override PartName="/ppt/media/image30.wmf" ContentType="image/x-wmf"/>
  <Override PartName="/ppt/media/image31.wmf" ContentType="image/x-wmf"/>
  <Override PartName="/ppt/media/image37.wmf" ContentType="image/x-wmf"/>
  <Override PartName="/ppt/media/image61.wmf" ContentType="image/x-wmf"/>
  <Override PartName="/ppt/media/image39.png" ContentType="image/png"/>
  <Override PartName="/ppt/media/image42.wmf" ContentType="image/x-wmf"/>
  <Override PartName="/ppt/media/image7.png" ContentType="image/png"/>
  <Override PartName="/ppt/media/image4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C876-0A3D-455C-9FDC-61D5958A5E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灯片编号占位符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C7C7-1847-4790-BC00-33E727F4B3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B6B-04A4-470B-8DCA-241205F5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BA0-AB39-46F8-982C-DA1437D3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133-6154-4FF8-8AAB-03F014B5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044-7455-4854-B8B9-1D878968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8AE5-B06B-4F90-8CBC-A55C2714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182D-AB23-43EF-A771-2E8B7A35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4005-BC0B-4DC4-A483-737B29D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C3A8-D607-4079-BC94-6CBBAE75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8157-FE31-4228-BA4F-9AFC1469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45CD-6A98-4111-AA77-68C43C47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6B36-AD79-4398-AB84-53CA3D38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C3C-741C-44C8-8E64-FBFC8A3C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5097-9CD0-4409-9C7C-CEB7DC05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E92E-4476-4439-8802-FA206657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6607-CE05-4543-98F2-D98FDA18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8FA0-D40C-46D9-A0E7-AA51B507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907F-4BCF-4B25-A39E-190D63B4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44C-BDE6-4562-BF19-79C01FFB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29E-43DE-49DB-9685-834DDD3C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CDD-D214-42FB-BB42-C325AB39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5C0-9F24-4595-B4C6-DC98B850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BD4-C225-481B-96B3-9F3A9CA4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959-57AF-49B7-9A5B-87602578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0F5-1176-4BED-9F7A-E4398D6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7200" y="914400"/>
            <a:ext cx="76320" cy="1052640"/>
          </a:xfrm>
          <a:prstGeom prst="rect">
            <a:avLst/>
          </a:prstGeom>
          <a:gradFill rotWithShape="0">
            <a:gsLst>
              <a:gs pos="0">
                <a:srgbClr val="808000">
                  <a:alpha val="70196"/>
                </a:srgbClr>
              </a:gs>
              <a:gs pos="100000">
                <a:srgbClr val="d7d7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85800" y="228600"/>
            <a:ext cx="8226360" cy="123840"/>
          </a:xfrm>
          <a:prstGeom prst="rect">
            <a:avLst/>
          </a:prstGeom>
          <a:gradFill rotWithShape="0">
            <a:gsLst>
              <a:gs pos="0">
                <a:srgbClr val="808000">
                  <a:alpha val="80000"/>
                </a:srgbClr>
              </a:gs>
              <a:gs pos="100000">
                <a:srgbClr val="cfcf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8265-E737-45F2-A2E7-618BEC77EDCD}" type="datetime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00400" y="62434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75EE-701E-4B30-8699-D52EB75E645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457200" y="6172200"/>
            <a:ext cx="8458200" cy="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2">
            <a:lum contrast="18000"/>
          </a:blip>
          <a:srcRect l="31771" t="20233" r="8854" b="11786"/>
          <a:stretch/>
        </p:blipFill>
        <p:spPr>
          <a:xfrm>
            <a:off x="7467480" y="5964120"/>
            <a:ext cx="1447920" cy="5130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/>
          <p:cNvPicPr/>
          <p:nvPr/>
        </p:nvPicPr>
        <p:blipFill>
          <a:blip r:embed="rId3">
            <a:lum contrast="18000"/>
          </a:blip>
          <a:srcRect l="7013" t="12751" r="67993" b="5672"/>
          <a:stretch/>
        </p:blipFill>
        <p:spPr>
          <a:xfrm>
            <a:off x="114480" y="108000"/>
            <a:ext cx="723600" cy="730080"/>
          </a:xfrm>
          <a:prstGeom prst="rect">
            <a:avLst/>
          </a:prstGeom>
          <a:ln w="0">
            <a:noFill/>
          </a:ln>
        </p:spPr>
      </p:pic>
      <p:sp>
        <p:nvSpPr>
          <p:cNvPr id="10" name="Line 12"/>
          <p:cNvSpPr/>
          <p:nvPr/>
        </p:nvSpPr>
        <p:spPr>
          <a:xfrm>
            <a:off x="457200" y="6172200"/>
            <a:ext cx="8458200" cy="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>
            <a:lum contrast="18000"/>
          </a:blip>
          <a:srcRect l="31771" t="20233" r="8854" b="11786"/>
          <a:stretch/>
        </p:blipFill>
        <p:spPr>
          <a:xfrm>
            <a:off x="7467480" y="5964120"/>
            <a:ext cx="1447920" cy="5130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"/>
          <p:cNvPicPr/>
          <p:nvPr/>
        </p:nvPicPr>
        <p:blipFill>
          <a:blip r:embed="rId5">
            <a:lum contrast="18000"/>
          </a:blip>
          <a:srcRect l="7013" t="12751" r="67993" b="5672"/>
          <a:stretch/>
        </p:blipFill>
        <p:spPr>
          <a:xfrm>
            <a:off x="114480" y="108000"/>
            <a:ext cx="723600" cy="73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35040" y="2438280"/>
            <a:ext cx="82440" cy="1052640"/>
          </a:xfrm>
          <a:prstGeom prst="rect">
            <a:avLst/>
          </a:prstGeom>
          <a:gradFill rotWithShape="0">
            <a:gsLst>
              <a:gs pos="0">
                <a:srgbClr val="808000">
                  <a:alpha val="49019"/>
                </a:srgbClr>
              </a:gs>
              <a:gs pos="100000">
                <a:srgbClr val="7a7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0" name="Rectangle 3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>
                  <a:alpha val="4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04920" y="457200"/>
            <a:ext cx="3733560" cy="115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04920" y="457200"/>
            <a:ext cx="373356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369E-BB59-4047-8ACE-BC8B6B157BC0}" type="datetime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97180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316D-2915-4A7A-B33F-1DF4AF26E1FB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" Target="slide1.xml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7.wmf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" Target="slide1.xml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8792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Chapter 7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System Compensation</a:t>
            </a:r>
            <a:br>
              <a:rPr sz="3600"/>
            </a:b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(Linear Control System Desig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80880" y="914400"/>
            <a:ext cx="60962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MingLiU"/>
              </a:rPr>
              <a:t>Instructor: Dr. Cailian 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90720" y="914400"/>
            <a:ext cx="67816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mark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447840" indent="-447840" algn="just">
              <a:lnSpc>
                <a:spcPct val="140000"/>
              </a:lnSpc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cade compensation and feedback compensation are inside the feedback loop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447840" indent="-447840" algn="just">
              <a:lnSpc>
                <a:spcPct val="140000"/>
              </a:lnSpc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d-forward compensation and disturbance compensation are outside the feedback loop.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Frequency Response Based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556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ain ide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y inserting the compensator, the Bode diagram of the original system is altered to achieve performance requiremen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295280" y="3048120"/>
            <a:ext cx="7010640" cy="13374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riginal open-loop Bode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agram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ode diagram of compensator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teration of gain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pen-loop Bode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agram with compensation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1320840" y="457200"/>
            <a:ext cx="733896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a7e1"/>
              </a:gs>
              <a:gs pos="50000">
                <a:srgbClr val="ffffff"/>
              </a:gs>
              <a:gs pos="100000">
                <a:srgbClr val="eba7e1"/>
              </a:gs>
            </a:gsLst>
            <a:lin ang="5400000"/>
          </a:gra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7.1.3 Methods for Compensator Design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5800" y="44956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ot Locus Based Method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 idea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ing the compensator introduces new open-loop zeros and poles to change the closed-loop root locus to satisfy the requirement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Frequency response based compen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hase lead compen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hase lag compen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hase lead-lag compen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Fundmantal rule for control desig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I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523880" y="457200"/>
            <a:ext cx="647712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a7e1"/>
              </a:gs>
              <a:gs pos="50000">
                <a:srgbClr val="ffffff"/>
              </a:gs>
              <a:gs pos="100000">
                <a:srgbClr val="eba7e1"/>
              </a:gs>
            </a:gsLst>
            <a:lin ang="5400000"/>
          </a:gra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7.1.2 Cascade Compensation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762120" y="3505320"/>
            <a:ext cx="761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ach requirement relates to a different region of the frequency axis in the Bode diagram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ady-state err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magnitude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 frequenc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ient respon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ment relates to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ain crossover frequenc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usually occurs at higher frequencies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838080" y="380880"/>
            <a:ext cx="7925040" cy="55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ree design rules for cascade compensator: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is stable with satisfactory steady-state error, but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ynamic performance is not good enough. </a:t>
            </a:r>
            <a:endParaRPr b="1" lang="en-US" sz="2200" spc="-1" strike="noStrike">
              <a:solidFill>
                <a:srgbClr val="ffffff"/>
              </a:solidFill>
              <a:latin typeface="楷体_GB2312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 is used to change medium and high frequency parts to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nge crossover frequency and phase margi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200" spc="-1" strike="noStrike">
              <a:solidFill>
                <a:srgbClr val="ffffff"/>
              </a:solidFill>
              <a:latin typeface="楷体_GB2312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is stable with satisfactory transient performance, but 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ady-state error is larg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200" spc="-1" strike="noStrike">
              <a:solidFill>
                <a:srgbClr val="ffffff"/>
              </a:solidFill>
              <a:latin typeface="楷体_GB2312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 is used to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rease gain and change lower frequency par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keep medium and higher frequency parts unchanged. </a:t>
            </a:r>
            <a:endParaRPr b="1" lang="en-US" sz="2200" spc="-1" strike="noStrike">
              <a:solidFill>
                <a:srgbClr val="ffffff"/>
              </a:solidFill>
              <a:latin typeface="楷体_GB2312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If the steady-state and transient performance are either unsatisfactory, the compensator should be able to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rease gain of the lower frequency part and change the medium and higher frequency parts.</a:t>
            </a:r>
            <a:endParaRPr b="1" lang="en-US" sz="2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49672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Change of Bode Di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Object 6"/>
          <p:cNvGraphicFramePr/>
          <p:nvPr/>
        </p:nvGraphicFramePr>
        <p:xfrm>
          <a:off x="5886360" y="1523880"/>
          <a:ext cx="3257640" cy="29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6360" y="1523880"/>
                    <a:ext cx="3257640" cy="29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9"/>
          <p:cNvGraphicFramePr/>
          <p:nvPr/>
        </p:nvGraphicFramePr>
        <p:xfrm>
          <a:off x="3276720" y="1523880"/>
          <a:ext cx="2590560" cy="268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523880"/>
                    <a:ext cx="259056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11"/>
          <p:cNvSpPr/>
          <p:nvPr/>
        </p:nvSpPr>
        <p:spPr>
          <a:xfrm>
            <a:off x="533520" y="472428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a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of lower frequency part</a:t>
            </a:r>
            <a:endParaRPr b="1" lang="en-US" sz="20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685800" y="1523880"/>
          <a:ext cx="2362320" cy="267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23880"/>
                    <a:ext cx="236232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11"/>
          <p:cNvSpPr/>
          <p:nvPr/>
        </p:nvSpPr>
        <p:spPr>
          <a:xfrm>
            <a:off x="3048120" y="4724280"/>
            <a:ext cx="2514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b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of medium and higher frequency parts</a:t>
            </a:r>
            <a:endParaRPr b="1" lang="en-US" sz="2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6172200" y="4648320"/>
            <a:ext cx="2514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b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of lower, medium and higher frequency parts</a:t>
            </a:r>
            <a:endParaRPr b="1" lang="en-US" sz="20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4876920" y="1219320"/>
            <a:ext cx="3733200" cy="2227680"/>
            <a:chOff x="4876920" y="1219320"/>
            <a:chExt cx="3733200" cy="2227680"/>
          </a:xfrm>
        </p:grpSpPr>
        <p:sp>
          <p:nvSpPr>
            <p:cNvPr id="168" name="Rectangle 5"/>
            <p:cNvSpPr/>
            <p:nvPr/>
          </p:nvSpPr>
          <p:spPr>
            <a:xfrm>
              <a:off x="5105160" y="3048120"/>
              <a:ext cx="350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ssive Phase Lead Network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1" lang="en-US" sz="1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graphicFrame>
          <p:nvGraphicFramePr>
            <p:cNvPr id="169" name="Object 6"/>
            <p:cNvGraphicFramePr/>
            <p:nvPr/>
          </p:nvGraphicFramePr>
          <p:xfrm>
            <a:off x="4876920" y="1219320"/>
            <a:ext cx="3657240" cy="177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1219320"/>
                      <a:ext cx="3657240" cy="177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1" name="Text Box 15"/>
          <p:cNvSpPr/>
          <p:nvPr/>
        </p:nvSpPr>
        <p:spPr>
          <a:xfrm>
            <a:off x="838080" y="1828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. Transfer function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2226240" y="457200"/>
            <a:ext cx="547056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a7e1"/>
              </a:gs>
              <a:gs pos="50000">
                <a:srgbClr val="ffffff"/>
              </a:gs>
              <a:gs pos="100000">
                <a:srgbClr val="eba7e1"/>
              </a:gs>
            </a:gsLst>
            <a:lin ang="5400000"/>
          </a:gra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7.2 Phase Lead Compensation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173" name="Object 25"/>
          <p:cNvGraphicFramePr/>
          <p:nvPr/>
        </p:nvGraphicFramePr>
        <p:xfrm>
          <a:off x="851040" y="2438280"/>
          <a:ext cx="36334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1040" y="2438280"/>
                    <a:ext cx="36334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6"/>
          <p:cNvGraphicFramePr/>
          <p:nvPr/>
        </p:nvGraphicFramePr>
        <p:xfrm>
          <a:off x="762120" y="4495680"/>
          <a:ext cx="3816360" cy="90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495680"/>
                    <a:ext cx="3816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28"/>
          <p:cNvSpPr/>
          <p:nvPr/>
        </p:nvSpPr>
        <p:spPr>
          <a:xfrm>
            <a:off x="838080" y="3505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here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grpSp>
        <p:nvGrpSpPr>
          <p:cNvPr id="178" name="Group 29"/>
          <p:cNvGrpSpPr/>
          <p:nvPr/>
        </p:nvGrpSpPr>
        <p:grpSpPr>
          <a:xfrm>
            <a:off x="4952880" y="3429000"/>
            <a:ext cx="3352680" cy="2819520"/>
            <a:chOff x="4952880" y="3429000"/>
            <a:chExt cx="3352680" cy="2819520"/>
          </a:xfrm>
        </p:grpSpPr>
        <p:grpSp>
          <p:nvGrpSpPr>
            <p:cNvPr id="179" name="Group 30"/>
            <p:cNvGrpSpPr/>
            <p:nvPr/>
          </p:nvGrpSpPr>
          <p:grpSpPr>
            <a:xfrm>
              <a:off x="4952880" y="3429000"/>
              <a:ext cx="3352680" cy="2819520"/>
              <a:chOff x="4952880" y="3429000"/>
              <a:chExt cx="3352680" cy="2819520"/>
            </a:xfrm>
          </p:grpSpPr>
          <p:sp>
            <p:nvSpPr>
              <p:cNvPr id="180" name="Line 31"/>
              <p:cNvSpPr/>
              <p:nvPr/>
            </p:nvSpPr>
            <p:spPr>
              <a:xfrm>
                <a:off x="4952880" y="510552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楷体_GB2312"/>
                </a:endParaRPr>
              </a:p>
            </p:txBody>
          </p:sp>
          <p:sp>
            <p:nvSpPr>
              <p:cNvPr id="181" name="Line 32"/>
              <p:cNvSpPr/>
              <p:nvPr/>
            </p:nvSpPr>
            <p:spPr>
              <a:xfrm flipV="1">
                <a:off x="7315200" y="3429000"/>
                <a:ext cx="0" cy="28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楷体_GB2312"/>
                </a:endParaRPr>
              </a:p>
            </p:txBody>
          </p:sp>
        </p:grpSp>
        <p:sp>
          <p:nvSpPr>
            <p:cNvPr id="182" name="Oval 33"/>
            <p:cNvSpPr/>
            <p:nvPr/>
          </p:nvSpPr>
          <p:spPr>
            <a:xfrm>
              <a:off x="6705360" y="5029200"/>
              <a:ext cx="152640" cy="152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grpSp>
          <p:nvGrpSpPr>
            <p:cNvPr id="183" name="Group 34"/>
            <p:cNvGrpSpPr/>
            <p:nvPr/>
          </p:nvGrpSpPr>
          <p:grpSpPr>
            <a:xfrm>
              <a:off x="5943240" y="5029200"/>
              <a:ext cx="228960" cy="152640"/>
              <a:chOff x="5943240" y="5029200"/>
              <a:chExt cx="228960" cy="152640"/>
            </a:xfrm>
          </p:grpSpPr>
          <p:sp>
            <p:nvSpPr>
              <p:cNvPr id="184" name="Line 35"/>
              <p:cNvSpPr/>
              <p:nvPr/>
            </p:nvSpPr>
            <p:spPr>
              <a:xfrm>
                <a:off x="5943600" y="5029200"/>
                <a:ext cx="22860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楷体_GB2312"/>
                </a:endParaRPr>
              </a:p>
            </p:txBody>
          </p:sp>
          <p:sp>
            <p:nvSpPr>
              <p:cNvPr id="185" name="Line 36"/>
              <p:cNvSpPr/>
              <p:nvPr/>
            </p:nvSpPr>
            <p:spPr>
              <a:xfrm flipH="1">
                <a:off x="5943240" y="5029200"/>
                <a:ext cx="22860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楷体_GB2312"/>
                </a:endParaRPr>
              </a:p>
            </p:txBody>
          </p:sp>
        </p:grpSp>
      </p:grpSp>
      <p:graphicFrame>
        <p:nvGraphicFramePr>
          <p:cNvPr id="186" name="Object 37"/>
          <p:cNvGraphicFramePr/>
          <p:nvPr/>
        </p:nvGraphicFramePr>
        <p:xfrm>
          <a:off x="5881680" y="5181480"/>
          <a:ext cx="32868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81680" y="5181480"/>
                    <a:ext cx="328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38"/>
          <p:cNvGraphicFramePr/>
          <p:nvPr/>
        </p:nvGraphicFramePr>
        <p:xfrm>
          <a:off x="6564240" y="5181480"/>
          <a:ext cx="478080" cy="56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3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64240" y="5181480"/>
                    <a:ext cx="4780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905120" y="914400"/>
          <a:ext cx="563076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914400"/>
                    <a:ext cx="56307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566640" y="2249640"/>
          <a:ext cx="7631280" cy="82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6640" y="2249640"/>
                    <a:ext cx="763128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4"/>
          <p:cNvGrpSpPr/>
          <p:nvPr/>
        </p:nvGrpSpPr>
        <p:grpSpPr>
          <a:xfrm>
            <a:off x="4419720" y="2971800"/>
            <a:ext cx="3885480" cy="3048120"/>
            <a:chOff x="4419720" y="2971800"/>
            <a:chExt cx="3885480" cy="3048120"/>
          </a:xfrm>
        </p:grpSpPr>
        <p:sp>
          <p:nvSpPr>
            <p:cNvPr id="195" name="Line 5"/>
            <p:cNvSpPr/>
            <p:nvPr/>
          </p:nvSpPr>
          <p:spPr>
            <a:xfrm>
              <a:off x="5803560" y="3935520"/>
              <a:ext cx="0" cy="174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>
              <a:off x="6213240" y="3694680"/>
              <a:ext cx="0" cy="192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5380920" y="4237200"/>
              <a:ext cx="0" cy="138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grpSp>
          <p:nvGrpSpPr>
            <p:cNvPr id="198" name="Group 8"/>
            <p:cNvGrpSpPr/>
            <p:nvPr/>
          </p:nvGrpSpPr>
          <p:grpSpPr>
            <a:xfrm>
              <a:off x="4419720" y="2971800"/>
              <a:ext cx="3885480" cy="1385280"/>
              <a:chOff x="4419720" y="2971800"/>
              <a:chExt cx="3885480" cy="1385280"/>
            </a:xfrm>
          </p:grpSpPr>
          <p:grpSp>
            <p:nvGrpSpPr>
              <p:cNvPr id="199" name="Group 9"/>
              <p:cNvGrpSpPr/>
              <p:nvPr/>
            </p:nvGrpSpPr>
            <p:grpSpPr>
              <a:xfrm>
                <a:off x="4419720" y="2971800"/>
                <a:ext cx="3108240" cy="1385280"/>
                <a:chOff x="4419720" y="2971800"/>
                <a:chExt cx="3108240" cy="13852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00" name="Object 10"/>
                    <p:cNvSpPr txBox="1"/>
                    <p:nvPr/>
                  </p:nvSpPr>
                  <p:spPr>
                    <a:xfrm>
                      <a:off x="4865400" y="2971800"/>
                      <a:ext cx="617760" cy="392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L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01" name="Line 11"/>
                <p:cNvSpPr/>
                <p:nvPr/>
              </p:nvSpPr>
              <p:spPr>
                <a:xfrm>
                  <a:off x="4419720" y="4176720"/>
                  <a:ext cx="280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楷体_GB2312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 flipV="1">
                  <a:off x="4837680" y="3031200"/>
                  <a:ext cx="0" cy="132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楷体_GB2312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03" name="Object 13"/>
                    <p:cNvSpPr txBox="1"/>
                    <p:nvPr/>
                  </p:nvSpPr>
                  <p:spPr>
                    <a:xfrm>
                      <a:off x="7243200" y="4056480"/>
                      <a:ext cx="284760" cy="257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04" name="Line 14"/>
                <p:cNvSpPr/>
                <p:nvPr/>
              </p:nvSpPr>
              <p:spPr>
                <a:xfrm>
                  <a:off x="4479120" y="4176720"/>
                  <a:ext cx="8967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楷体_GB2312"/>
                  </a:endParaRPr>
                </a:p>
              </p:txBody>
            </p:sp>
            <p:sp>
              <p:nvSpPr>
                <p:cNvPr id="205" name="Line 15"/>
                <p:cNvSpPr/>
                <p:nvPr/>
              </p:nvSpPr>
              <p:spPr>
                <a:xfrm flipV="1">
                  <a:off x="5375880" y="3694320"/>
                  <a:ext cx="777240" cy="482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楷体_GB2312"/>
                  </a:endParaRPr>
                </a:p>
              </p:txBody>
            </p:sp>
            <p:sp>
              <p:nvSpPr>
                <p:cNvPr id="206" name="Line 16"/>
                <p:cNvSpPr/>
                <p:nvPr/>
              </p:nvSpPr>
              <p:spPr>
                <a:xfrm>
                  <a:off x="6153120" y="3694680"/>
                  <a:ext cx="1015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07" name="Group 17"/>
              <p:cNvGrpSpPr/>
              <p:nvPr/>
            </p:nvGrpSpPr>
            <p:grpSpPr>
              <a:xfrm>
                <a:off x="4599000" y="3303000"/>
                <a:ext cx="3706200" cy="873360"/>
                <a:chOff x="4599000" y="3303000"/>
                <a:chExt cx="3706200" cy="8733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08" name="Object 18"/>
                    <p:cNvSpPr txBox="1"/>
                    <p:nvPr/>
                  </p:nvSpPr>
                  <p:spPr>
                    <a:xfrm>
                      <a:off x="4599000" y="3634200"/>
                      <a:ext cx="1189080" cy="336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ec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09" name="Object 19"/>
                    <p:cNvSpPr txBox="1"/>
                    <p:nvPr/>
                  </p:nvSpPr>
                  <p:spPr>
                    <a:xfrm>
                      <a:off x="6272640" y="3303000"/>
                      <a:ext cx="904320" cy="391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10" name="Line 20"/>
                <p:cNvSpPr/>
                <p:nvPr/>
              </p:nvSpPr>
              <p:spPr>
                <a:xfrm>
                  <a:off x="5794560" y="3935520"/>
                  <a:ext cx="131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楷体_GB2312"/>
                  </a:endParaRPr>
                </a:p>
              </p:txBody>
            </p:sp>
            <p:sp>
              <p:nvSpPr>
                <p:cNvPr id="211" name="Line 21"/>
                <p:cNvSpPr/>
                <p:nvPr/>
              </p:nvSpPr>
              <p:spPr>
                <a:xfrm>
                  <a:off x="6870600" y="3935520"/>
                  <a:ext cx="0" cy="240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楷体_GB2312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12" name="Object 22"/>
                    <p:cNvSpPr txBox="1"/>
                    <p:nvPr/>
                  </p:nvSpPr>
                  <p:spPr>
                    <a:xfrm>
                      <a:off x="7194600" y="3634200"/>
                      <a:ext cx="1110600" cy="469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a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213" name="Object 23"/>
                <p:cNvSpPr txBox="1"/>
                <p:nvPr/>
              </p:nvSpPr>
              <p:spPr>
                <a:xfrm>
                  <a:off x="4897800" y="5683680"/>
                  <a:ext cx="67392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" name="Object 24"/>
                <p:cNvSpPr txBox="1"/>
                <p:nvPr/>
              </p:nvSpPr>
              <p:spPr>
                <a:xfrm>
                  <a:off x="5615280" y="5623200"/>
                  <a:ext cx="411120" cy="39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15" name="Group 25"/>
            <p:cNvGrpSpPr/>
            <p:nvPr/>
          </p:nvGrpSpPr>
          <p:grpSpPr>
            <a:xfrm>
              <a:off x="4419720" y="4297320"/>
              <a:ext cx="3108600" cy="1506240"/>
              <a:chOff x="4419720" y="4297320"/>
              <a:chExt cx="3108600" cy="1506240"/>
            </a:xfrm>
          </p:grpSpPr>
          <mc:AlternateContent>
            <mc:Choice xmlns:a14="http://schemas.microsoft.com/office/drawing/2010/main" Requires="a14">
              <p:sp>
                <p:nvSpPr>
                  <p:cNvPr id="216" name="Object 26"/>
                  <p:cNvSpPr txBox="1"/>
                  <p:nvPr/>
                </p:nvSpPr>
                <p:spPr>
                  <a:xfrm>
                    <a:off x="4865400" y="4297320"/>
                    <a:ext cx="617400" cy="39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7" name="Line 27"/>
              <p:cNvSpPr/>
              <p:nvPr/>
            </p:nvSpPr>
            <p:spPr>
              <a:xfrm>
                <a:off x="4419720" y="5623200"/>
                <a:ext cx="280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楷体_GB2312"/>
                </a:endParaRPr>
              </a:p>
            </p:txBody>
          </p:sp>
          <p:sp>
            <p:nvSpPr>
              <p:cNvPr id="218" name="Line 28"/>
              <p:cNvSpPr/>
              <p:nvPr/>
            </p:nvSpPr>
            <p:spPr>
              <a:xfrm flipV="1">
                <a:off x="4838040" y="4477680"/>
                <a:ext cx="0" cy="132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楷体_GB2312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9" name="Object 29"/>
                  <p:cNvSpPr txBox="1"/>
                  <p:nvPr/>
                </p:nvSpPr>
                <p:spPr>
                  <a:xfrm>
                    <a:off x="7243200" y="5502600"/>
                    <a:ext cx="285120" cy="25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20" name="Freeform 30"/>
            <p:cNvSpPr/>
            <p:nvPr/>
          </p:nvSpPr>
          <p:spPr>
            <a:xfrm>
              <a:off x="4838040" y="5311800"/>
              <a:ext cx="2032560" cy="311400"/>
            </a:xfrm>
            <a:custGeom>
              <a:avLst/>
              <a:gdLst>
                <a:gd name="textAreaLeft" fmla="*/ 0 w 2032560"/>
                <a:gd name="textAreaRight" fmla="*/ 2032920 w 203256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1632" h="248">
                  <a:moveTo>
                    <a:pt x="0" y="248"/>
                  </a:moveTo>
                  <a:cubicBezTo>
                    <a:pt x="116" y="240"/>
                    <a:pt x="232" y="232"/>
                    <a:pt x="336" y="200"/>
                  </a:cubicBezTo>
                  <a:cubicBezTo>
                    <a:pt x="440" y="168"/>
                    <a:pt x="552" y="88"/>
                    <a:pt x="624" y="56"/>
                  </a:cubicBezTo>
                  <a:cubicBezTo>
                    <a:pt x="696" y="24"/>
                    <a:pt x="728" y="16"/>
                    <a:pt x="768" y="8"/>
                  </a:cubicBezTo>
                  <a:cubicBezTo>
                    <a:pt x="808" y="0"/>
                    <a:pt x="816" y="0"/>
                    <a:pt x="864" y="8"/>
                  </a:cubicBezTo>
                  <a:cubicBezTo>
                    <a:pt x="912" y="16"/>
                    <a:pt x="984" y="32"/>
                    <a:pt x="1056" y="56"/>
                  </a:cubicBezTo>
                  <a:cubicBezTo>
                    <a:pt x="1128" y="80"/>
                    <a:pt x="1200" y="128"/>
                    <a:pt x="1296" y="152"/>
                  </a:cubicBezTo>
                  <a:cubicBezTo>
                    <a:pt x="1392" y="176"/>
                    <a:pt x="1568" y="192"/>
                    <a:pt x="1632" y="2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Object 31"/>
                <p:cNvSpPr txBox="1"/>
                <p:nvPr/>
              </p:nvSpPr>
              <p:spPr>
                <a:xfrm>
                  <a:off x="6056280" y="5683680"/>
                  <a:ext cx="51552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Group 32"/>
            <p:cNvGrpSpPr/>
            <p:nvPr/>
          </p:nvGrpSpPr>
          <p:grpSpPr>
            <a:xfrm>
              <a:off x="5735160" y="4960440"/>
              <a:ext cx="1726920" cy="662400"/>
              <a:chOff x="5735160" y="4960440"/>
              <a:chExt cx="1726920" cy="662400"/>
            </a:xfrm>
          </p:grpSpPr>
          <p:sp>
            <p:nvSpPr>
              <p:cNvPr id="223" name="Line 33"/>
              <p:cNvSpPr/>
              <p:nvPr/>
            </p:nvSpPr>
            <p:spPr>
              <a:xfrm>
                <a:off x="5735160" y="5321880"/>
                <a:ext cx="143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楷体_GB2312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6870600" y="5321880"/>
                <a:ext cx="0" cy="30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楷体_GB2312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5" name="Object 35"/>
                  <p:cNvSpPr txBox="1"/>
                  <p:nvPr/>
                </p:nvSpPr>
                <p:spPr>
                  <a:xfrm>
                    <a:off x="7049880" y="4960440"/>
                    <a:ext cx="412200" cy="39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aphicFrame>
        <p:nvGraphicFramePr>
          <p:cNvPr id="226" name="Object 36"/>
          <p:cNvGraphicFramePr/>
          <p:nvPr/>
        </p:nvGraphicFramePr>
        <p:xfrm>
          <a:off x="1066680" y="3200400"/>
          <a:ext cx="226692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200400"/>
                    <a:ext cx="22669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37"/>
          <p:cNvGraphicFramePr/>
          <p:nvPr/>
        </p:nvGraphicFramePr>
        <p:xfrm>
          <a:off x="914400" y="5410080"/>
          <a:ext cx="1387440" cy="36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5410080"/>
                    <a:ext cx="138744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Group 42"/>
          <p:cNvGrpSpPr/>
          <p:nvPr/>
        </p:nvGrpSpPr>
        <p:grpSpPr>
          <a:xfrm>
            <a:off x="609480" y="3886200"/>
            <a:ext cx="3200400" cy="459720"/>
            <a:chOff x="609480" y="3886200"/>
            <a:chExt cx="3200400" cy="459720"/>
          </a:xfrm>
        </p:grpSpPr>
        <p:sp>
          <p:nvSpPr>
            <p:cNvPr id="231" name="Text Box 39"/>
            <p:cNvSpPr/>
            <p:nvPr/>
          </p:nvSpPr>
          <p:spPr>
            <a:xfrm>
              <a:off x="60948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Determination of</a:t>
              </a:r>
              <a:endParaRPr b="1" lang="en-US" sz="24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graphicFrame>
          <p:nvGraphicFramePr>
            <p:cNvPr id="232" name="Object 40"/>
            <p:cNvGraphicFramePr/>
            <p:nvPr/>
          </p:nvGraphicFramePr>
          <p:xfrm>
            <a:off x="2971800" y="3962160"/>
            <a:ext cx="328320" cy="35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33" name="Object 4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71800" y="3962160"/>
                      <a:ext cx="32832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Box 40"/>
          <p:cNvSpPr/>
          <p:nvPr/>
        </p:nvSpPr>
        <p:spPr>
          <a:xfrm>
            <a:off x="838080" y="380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ing the transfer function by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235" name="Object 6"/>
          <p:cNvGraphicFramePr/>
          <p:nvPr/>
        </p:nvGraphicFramePr>
        <p:xfrm>
          <a:off x="762120" y="4419720"/>
          <a:ext cx="1806480" cy="87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4419720"/>
                    <a:ext cx="18064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椭圆 42"/>
          <p:cNvSpPr/>
          <p:nvPr/>
        </p:nvSpPr>
        <p:spPr>
          <a:xfrm>
            <a:off x="5638680" y="5638680"/>
            <a:ext cx="457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cxnSp>
        <p:nvCxnSpPr>
          <p:cNvPr id="238" name="直接箭头连接符 44"/>
          <p:cNvCxnSpPr>
            <a:stCxn id="237" idx="4"/>
          </p:cNvCxnSpPr>
          <p:nvPr/>
        </p:nvCxnSpPr>
        <p:spPr>
          <a:xfrm flipH="1">
            <a:off x="4190760" y="6095520"/>
            <a:ext cx="1676880" cy="10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9" name="TextBox 47"/>
          <p:cNvSpPr/>
          <p:nvPr/>
        </p:nvSpPr>
        <p:spPr>
          <a:xfrm>
            <a:off x="3048120" y="57150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Geometry mean</a:t>
            </a:r>
            <a:endParaRPr b="1" lang="en-US" sz="20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7631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Effect of phase lead compens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1600200" y="1066680"/>
          <a:ext cx="54720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547200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990720" y="721440"/>
            <a:ext cx="68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Example 7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.1: Given a unity-feedback system with the following open-loop transfer function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3124080" y="1676520"/>
                <a:ext cx="22100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Rectangle 4"/>
          <p:cNvSpPr/>
          <p:nvPr/>
        </p:nvSpPr>
        <p:spPr>
          <a:xfrm>
            <a:off x="914400" y="25628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Please design phase lead element to satisfy the following three requirements: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5257800" y="3276720"/>
                <a:ext cx="1522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7" name="Rectangle 6"/>
          <p:cNvSpPr/>
          <p:nvPr/>
        </p:nvSpPr>
        <p:spPr>
          <a:xfrm>
            <a:off x="1076760" y="388800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. phase margin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"/>
              <p:cNvSpPr txBox="1"/>
              <p:nvPr/>
            </p:nvSpPr>
            <p:spPr>
              <a:xfrm>
                <a:off x="3429000" y="3962520"/>
                <a:ext cx="1008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8"/>
          <p:cNvSpPr/>
          <p:nvPr/>
        </p:nvSpPr>
        <p:spPr>
          <a:xfrm>
            <a:off x="1075320" y="45738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. gain margin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9"/>
              <p:cNvSpPr txBox="1"/>
              <p:nvPr/>
            </p:nvSpPr>
            <p:spPr>
              <a:xfrm>
                <a:off x="3429000" y="4572000"/>
                <a:ext cx="1779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19"/>
          <p:cNvSpPr/>
          <p:nvPr/>
        </p:nvSpPr>
        <p:spPr>
          <a:xfrm>
            <a:off x="934560" y="501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0" y="38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10666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eady speed error constant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3"/>
          <p:cNvSpPr/>
          <p:nvPr/>
        </p:nvSpPr>
        <p:spPr>
          <a:xfrm>
            <a:off x="2908440" y="114300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6014880" y="1295280"/>
                <a:ext cx="25257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TextBox 10"/>
          <p:cNvSpPr/>
          <p:nvPr/>
        </p:nvSpPr>
        <p:spPr>
          <a:xfrm>
            <a:off x="5943600" y="533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mpensated system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6019920" y="2666880"/>
                <a:ext cx="2557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rad/s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4"/>
              <p:cNvSpPr txBox="1"/>
              <p:nvPr/>
            </p:nvSpPr>
            <p:spPr>
              <a:xfrm>
                <a:off x="914400" y="4800600"/>
                <a:ext cx="3254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TextBox 14"/>
          <p:cNvSpPr/>
          <p:nvPr/>
        </p:nvSpPr>
        <p:spPr>
          <a:xfrm>
            <a:off x="4114800" y="4724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1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"/>
              <p:cNvSpPr txBox="1"/>
              <p:nvPr/>
            </p:nvSpPr>
            <p:spPr>
              <a:xfrm>
                <a:off x="838080" y="5486400"/>
                <a:ext cx="3919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2" name="直接连接符 17"/>
          <p:cNvSpPr/>
          <p:nvPr/>
        </p:nvSpPr>
        <p:spPr>
          <a:xfrm>
            <a:off x="838080" y="5086440"/>
            <a:ext cx="396252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63" name="TextBox 20"/>
          <p:cNvSpPr/>
          <p:nvPr/>
        </p:nvSpPr>
        <p:spPr>
          <a:xfrm>
            <a:off x="5715000" y="4800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 margin: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~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日期占位符 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C7C3-F796-4AFE-BCF5-3E5D12AF339C}" type="datetime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26/7/29</a:t>
            </a:fld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20BE-F74F-4C90-A2BB-37FE9A5B085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1066680" y="6858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utline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838080" y="1905120"/>
            <a:ext cx="7696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Introduction to compensation design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Phase Lead Compensation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Phase Lag Compensation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Phase Lead-lag Compensation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PID Control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Object 4"/>
          <p:cNvGraphicFramePr/>
          <p:nvPr/>
        </p:nvGraphicFramePr>
        <p:xfrm>
          <a:off x="5651640" y="614520"/>
          <a:ext cx="64908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614520"/>
                    <a:ext cx="6490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5"/>
          <p:cNvGraphicFramePr/>
          <p:nvPr/>
        </p:nvGraphicFramePr>
        <p:xfrm>
          <a:off x="4932360" y="1268280"/>
          <a:ext cx="719280" cy="3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268280"/>
                    <a:ext cx="7192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5651640" y="1773360"/>
          <a:ext cx="57600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1773360"/>
                    <a:ext cx="5760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8"/>
          <p:cNvSpPr/>
          <p:nvPr/>
        </p:nvSpPr>
        <p:spPr>
          <a:xfrm>
            <a:off x="990720" y="990720"/>
            <a:ext cx="756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mark: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ase lead compensator not only takes extra phase margin of 3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uncompensated gain crossover frequency.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we also have to add the magnitude part of the compensator to the uncompensated magnitude, and the gain crossover frequency moves to a higher value. The ultimate phase margin is less than 3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mplies we need to conside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tra phase marg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etermine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6043680" cy="453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838080" y="304920"/>
                <a:ext cx="44751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914400" y="1523880"/>
                <a:ext cx="2179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直接连接符 4"/>
          <p:cNvSpPr/>
          <p:nvPr/>
        </p:nvSpPr>
        <p:spPr>
          <a:xfrm>
            <a:off x="6451560" y="2781360"/>
            <a:ext cx="0" cy="321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3886200" y="1219320"/>
                <a:ext cx="35258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rad/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α</m:t>
                            </m:r>
                          </m:e>
                        </m:rad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5"/>
              <p:cNvSpPr txBox="1"/>
              <p:nvPr/>
            </p:nvSpPr>
            <p:spPr>
              <a:xfrm>
                <a:off x="533520" y="2362320"/>
                <a:ext cx="342900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α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rad/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α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rad/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379440" y="4033800"/>
                <a:ext cx="381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TextBox 10"/>
          <p:cNvSpPr/>
          <p:nvPr/>
        </p:nvSpPr>
        <p:spPr>
          <a:xfrm>
            <a:off x="457200" y="4952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Compensator</a:t>
            </a:r>
            <a:endParaRPr b="1" lang="en-US" sz="20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762120" y="5334120"/>
                <a:ext cx="2151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mments on phase lead compen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slop around the gain crossover frequency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ncreas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 It improves the relative st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closed-loop resonance peak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reduc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Also, the overshoot is redu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ncre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the open-loop phase marg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open-loop (and usually the closed-loop) bandwidth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ncreas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It is beneficial for fast response. But it may cause problems if noise exists at the higher and unattenuated frequen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ak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o effe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 the steady-state perform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1117440" y="3352680"/>
            <a:ext cx="280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Determine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838080" y="1905120"/>
            <a:ext cx="784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Determine the uncompensated phase margin 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66760" y="541008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 Confirmation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584280" y="129528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Determine K to satisfy steady-state error constr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117440" y="4038480"/>
            <a:ext cx="342900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Calcula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ω</a:t>
            </a:r>
            <a:r>
              <a:rPr b="1" i="1" lang="en-US" sz="28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43000" y="472428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Deter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1066680" y="24382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estimate the phase margin        in order to satisfy the transient response performance constraint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1066680" y="685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ules to design phase lead compensation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5067360" y="2413080"/>
          <a:ext cx="5335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7360" y="2413080"/>
                    <a:ext cx="533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13"/>
          <p:cNvGraphicFramePr/>
          <p:nvPr/>
        </p:nvGraphicFramePr>
        <p:xfrm>
          <a:off x="3276720" y="350532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0532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日期占位符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A1A9-2BE9-4E8D-B097-7E4D4848F7CF}" type="datetime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26/7/29</a:t>
            </a:fld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94" name="灯片编号占位符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820B-9EDB-4097-8CC9-9485D97FE45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914400" y="1371600"/>
            <a:ext cx="7632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nstraints for application of lead compensation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：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 1: The system is stable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t is unstable, the phase need to compensate is too big. The noise takes severe effects on the system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 2: The phase cannot reduce very fast around the gain crossover frequency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ase lead compensation can only provide less than 6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tra phase margin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533520" y="167652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fer function: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pSp>
        <p:nvGrpSpPr>
          <p:cNvPr id="297" name="Group 7"/>
          <p:cNvGrpSpPr/>
          <p:nvPr/>
        </p:nvGrpSpPr>
        <p:grpSpPr>
          <a:xfrm>
            <a:off x="4038480" y="1219320"/>
            <a:ext cx="4584600" cy="2746080"/>
            <a:chOff x="4038480" y="1219320"/>
            <a:chExt cx="4584600" cy="2746080"/>
          </a:xfrm>
        </p:grpSpPr>
        <p:sp>
          <p:nvSpPr>
            <p:cNvPr id="298" name="Rectangle 8"/>
            <p:cNvSpPr/>
            <p:nvPr/>
          </p:nvSpPr>
          <p:spPr>
            <a:xfrm>
              <a:off x="4571640" y="3505680"/>
              <a:ext cx="405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ssive phase lag networ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1" lang="en-US" sz="24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graphicFrame>
          <p:nvGraphicFramePr>
            <p:cNvPr id="299" name="Object 4"/>
            <p:cNvGraphicFramePr/>
            <p:nvPr/>
          </p:nvGraphicFramePr>
          <p:xfrm>
            <a:off x="4038480" y="1219320"/>
            <a:ext cx="4495320" cy="22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8480" y="1219320"/>
                      <a:ext cx="4495320" cy="22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AutoShape 10"/>
          <p:cNvSpPr/>
          <p:nvPr/>
        </p:nvSpPr>
        <p:spPr>
          <a:xfrm>
            <a:off x="2275920" y="457200"/>
            <a:ext cx="526788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a7e1"/>
              </a:gs>
              <a:gs pos="50000">
                <a:srgbClr val="ffffff"/>
              </a:gs>
              <a:gs pos="100000">
                <a:srgbClr val="eba7e1"/>
              </a:gs>
            </a:gsLst>
            <a:lin ang="5400000"/>
          </a:gra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6.3 Phase Lag Compensation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302" name="Object 12"/>
          <p:cNvGraphicFramePr/>
          <p:nvPr/>
        </p:nvGraphicFramePr>
        <p:xfrm>
          <a:off x="685800" y="2133720"/>
          <a:ext cx="266688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133720"/>
                    <a:ext cx="26668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9"/>
          <p:cNvGraphicFramePr/>
          <p:nvPr/>
        </p:nvGraphicFramePr>
        <p:xfrm>
          <a:off x="533520" y="5257800"/>
          <a:ext cx="42163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257800"/>
                    <a:ext cx="4216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3922560" y="876240"/>
            <a:ext cx="4268520" cy="3009240"/>
            <a:chOff x="3922560" y="876240"/>
            <a:chExt cx="4268520" cy="3009240"/>
          </a:xfrm>
        </p:grpSpPr>
        <p:sp>
          <p:nvSpPr>
            <p:cNvPr id="307" name="Line 3"/>
            <p:cNvSpPr/>
            <p:nvPr/>
          </p:nvSpPr>
          <p:spPr>
            <a:xfrm>
              <a:off x="6645600" y="1682640"/>
              <a:ext cx="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grpSp>
          <p:nvGrpSpPr>
            <p:cNvPr id="308" name="Group 4"/>
            <p:cNvGrpSpPr/>
            <p:nvPr/>
          </p:nvGrpSpPr>
          <p:grpSpPr>
            <a:xfrm>
              <a:off x="3922560" y="876240"/>
              <a:ext cx="4268520" cy="3009240"/>
              <a:chOff x="3922560" y="876240"/>
              <a:chExt cx="4268520" cy="3009240"/>
            </a:xfrm>
          </p:grpSpPr>
          <mc:AlternateContent>
            <mc:Choice xmlns:a14="http://schemas.microsoft.com/office/drawing/2010/main" Requires="a14">
              <p:sp>
                <p:nvSpPr>
                  <p:cNvPr id="309" name="Object 5"/>
                  <p:cNvSpPr txBox="1"/>
                  <p:nvPr/>
                </p:nvSpPr>
                <p:spPr>
                  <a:xfrm>
                    <a:off x="4417920" y="876240"/>
                    <a:ext cx="686160" cy="40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10" name="Group 6"/>
              <p:cNvGrpSpPr/>
              <p:nvPr/>
            </p:nvGrpSpPr>
            <p:grpSpPr>
              <a:xfrm>
                <a:off x="3922560" y="1000080"/>
                <a:ext cx="4268520" cy="2885400"/>
                <a:chOff x="3922560" y="1000080"/>
                <a:chExt cx="4268520" cy="2885400"/>
              </a:xfrm>
            </p:grpSpPr>
            <p:sp>
              <p:nvSpPr>
                <p:cNvPr id="311" name="Line 7"/>
                <p:cNvSpPr/>
                <p:nvPr/>
              </p:nvSpPr>
              <p:spPr>
                <a:xfrm>
                  <a:off x="4985280" y="1744560"/>
                  <a:ext cx="0" cy="179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楷体_GB2312"/>
                  </a:endParaRPr>
                </a:p>
              </p:txBody>
            </p:sp>
            <p:sp>
              <p:nvSpPr>
                <p:cNvPr id="312" name="Line 8"/>
                <p:cNvSpPr/>
                <p:nvPr/>
              </p:nvSpPr>
              <p:spPr>
                <a:xfrm>
                  <a:off x="5848560" y="1682640"/>
                  <a:ext cx="0" cy="186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楷体_GB2312"/>
                  </a:endParaRPr>
                </a:p>
              </p:txBody>
            </p:sp>
            <p:sp>
              <p:nvSpPr>
                <p:cNvPr id="313" name="Line 9"/>
                <p:cNvSpPr/>
                <p:nvPr/>
              </p:nvSpPr>
              <p:spPr>
                <a:xfrm>
                  <a:off x="5383800" y="1682640"/>
                  <a:ext cx="0" cy="198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ff"/>
                    </a:solidFill>
                    <a:latin typeface="楷体_GB2312"/>
                  </a:endParaRPr>
                </a:p>
              </p:txBody>
            </p:sp>
            <p:grpSp>
              <p:nvGrpSpPr>
                <p:cNvPr id="314" name="Group 10"/>
                <p:cNvGrpSpPr/>
                <p:nvPr/>
              </p:nvGrpSpPr>
              <p:grpSpPr>
                <a:xfrm>
                  <a:off x="3922560" y="1000080"/>
                  <a:ext cx="4268520" cy="2885400"/>
                  <a:chOff x="3922560" y="1000080"/>
                  <a:chExt cx="4268520" cy="2885400"/>
                </a:xfrm>
              </p:grpSpPr>
              <p:grpSp>
                <p:nvGrpSpPr>
                  <p:cNvPr id="315" name="Group 11"/>
                  <p:cNvGrpSpPr/>
                  <p:nvPr/>
                </p:nvGrpSpPr>
                <p:grpSpPr>
                  <a:xfrm>
                    <a:off x="3922560" y="1000080"/>
                    <a:ext cx="4268520" cy="1658160"/>
                    <a:chOff x="3922560" y="1000080"/>
                    <a:chExt cx="4268520" cy="1658160"/>
                  </a:xfrm>
                </p:grpSpPr>
                <p:grpSp>
                  <p:nvGrpSpPr>
                    <p:cNvPr id="316" name="Group 12"/>
                    <p:cNvGrpSpPr/>
                    <p:nvPr/>
                  </p:nvGrpSpPr>
                  <p:grpSpPr>
                    <a:xfrm>
                      <a:off x="3922560" y="1000080"/>
                      <a:ext cx="3438000" cy="1365120"/>
                      <a:chOff x="3922560" y="1000080"/>
                      <a:chExt cx="3438000" cy="1365120"/>
                    </a:xfrm>
                  </p:grpSpPr>
                  <mc:AlternateContent>
                    <mc:Choice xmlns:a14="http://schemas.microsoft.com/office/drawing/2010/main" Requires="a14">
                      <p:sp>
                        <p:nvSpPr>
                          <p:cNvPr id="317" name="Object 13"/>
                          <p:cNvSpPr txBox="1"/>
                          <p:nvPr/>
                        </p:nvSpPr>
                        <p:spPr>
                          <a:xfrm>
                            <a:off x="7043760" y="1496520"/>
                            <a:ext cx="316800" cy="26496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r>
                                  <m:t xml:space="preserve">ω</m:t>
                                </m:r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p:grpSp>
                    <p:nvGrpSpPr>
                      <p:cNvPr id="318" name="Group 14"/>
                      <p:cNvGrpSpPr/>
                      <p:nvPr/>
                    </p:nvGrpSpPr>
                    <p:grpSpPr>
                      <a:xfrm>
                        <a:off x="3922560" y="1000080"/>
                        <a:ext cx="3121200" cy="1365120"/>
                        <a:chOff x="3922560" y="1000080"/>
                        <a:chExt cx="3121200" cy="1365120"/>
                      </a:xfrm>
                    </p:grpSpPr>
                    <p:sp>
                      <p:nvSpPr>
                        <p:cNvPr id="319" name="Line 15"/>
                        <p:cNvSpPr/>
                        <p:nvPr/>
                      </p:nvSpPr>
                      <p:spPr>
                        <a:xfrm>
                          <a:off x="3922560" y="1682640"/>
                          <a:ext cx="3121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1" lang="en-US" sz="2800" spc="-1" strike="noStrike">
                            <a:solidFill>
                              <a:srgbClr val="ffffff"/>
                            </a:solidFill>
                            <a:latin typeface="楷体_GB2312"/>
                          </a:endParaRPr>
                        </a:p>
                      </p:txBody>
                    </p:sp>
                    <p:sp>
                      <p:nvSpPr>
                        <p:cNvPr id="320" name="Line 16"/>
                        <p:cNvSpPr/>
                        <p:nvPr/>
                      </p:nvSpPr>
                      <p:spPr>
                        <a:xfrm flipV="1">
                          <a:off x="4387320" y="1000080"/>
                          <a:ext cx="0" cy="1365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1" lang="en-US" sz="2800" spc="-1" strike="noStrike">
                            <a:solidFill>
                              <a:srgbClr val="ffffff"/>
                            </a:solidFill>
                            <a:latin typeface="楷体_GB2312"/>
                          </a:endParaRPr>
                        </a:p>
                      </p:txBody>
                    </p:sp>
                    <p:grpSp>
                      <p:nvGrpSpPr>
                        <p:cNvPr id="321" name="Group 17"/>
                        <p:cNvGrpSpPr/>
                        <p:nvPr/>
                      </p:nvGrpSpPr>
                      <p:grpSpPr>
                        <a:xfrm>
                          <a:off x="3988800" y="1682640"/>
                          <a:ext cx="2988000" cy="496080"/>
                          <a:chOff x="3988800" y="1682640"/>
                          <a:chExt cx="2988000" cy="496080"/>
                        </a:xfrm>
                      </p:grpSpPr>
                      <p:sp>
                        <p:nvSpPr>
                          <p:cNvPr id="322" name="Line 18"/>
                          <p:cNvSpPr/>
                          <p:nvPr/>
                        </p:nvSpPr>
                        <p:spPr>
                          <a:xfrm>
                            <a:off x="3988800" y="1682640"/>
                            <a:ext cx="9961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ffffff"/>
                              </a:solidFill>
                              <a:latin typeface="楷体_GB2312"/>
                            </a:endParaRPr>
                          </a:p>
                        </p:txBody>
                      </p:sp>
                      <p:sp>
                        <p:nvSpPr>
                          <p:cNvPr id="323" name="Line 19"/>
                          <p:cNvSpPr/>
                          <p:nvPr/>
                        </p:nvSpPr>
                        <p:spPr>
                          <a:xfrm>
                            <a:off x="4984920" y="1682640"/>
                            <a:ext cx="862920" cy="49608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ffffff"/>
                              </a:solidFill>
                              <a:latin typeface="楷体_GB2312"/>
                            </a:endParaRPr>
                          </a:p>
                        </p:txBody>
                      </p:sp>
                      <p:sp>
                        <p:nvSpPr>
                          <p:cNvPr id="324" name="Line 20"/>
                          <p:cNvSpPr/>
                          <p:nvPr/>
                        </p:nvSpPr>
                        <p:spPr>
                          <a:xfrm>
                            <a:off x="5847840" y="2178720"/>
                            <a:ext cx="112896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ffffff"/>
                              </a:solidFill>
                              <a:latin typeface="楷体_GB2312"/>
                            </a:endParaRPr>
                          </a:p>
                        </p:txBody>
                      </p:sp>
                    </p:grpSp>
                  </p:grpSp>
                </p:grpSp>
                <mc:AlternateContent>
                  <mc:Choice xmlns:a14="http://schemas.microsoft.com/office/drawing/2010/main" Requires="a14">
                    <p:sp>
                      <p:nvSpPr>
                        <p:cNvPr id="325" name="Object 21"/>
                        <p:cNvSpPr txBox="1"/>
                        <p:nvPr/>
                      </p:nvSpPr>
                      <p:spPr>
                        <a:xfrm>
                          <a:off x="5105520" y="1141920"/>
                          <a:ext cx="1784880" cy="3736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c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26" name="Object 22"/>
                        <p:cNvSpPr txBox="1"/>
                        <p:nvPr/>
                      </p:nvSpPr>
                      <p:spPr>
                        <a:xfrm>
                          <a:off x="6684480" y="2228040"/>
                          <a:ext cx="1063800" cy="4302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  <m:r>
                                <m:t xml:space="preserve">β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327" name="Line 23"/>
                    <p:cNvSpPr/>
                    <p:nvPr/>
                  </p:nvSpPr>
                  <p:spPr>
                    <a:xfrm>
                      <a:off x="5450040" y="1930680"/>
                      <a:ext cx="1461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328" name="Object 24"/>
                        <p:cNvSpPr txBox="1"/>
                        <p:nvPr/>
                      </p:nvSpPr>
                      <p:spPr>
                        <a:xfrm>
                          <a:off x="7186680" y="1586880"/>
                          <a:ext cx="1004400" cy="4305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  <m:r>
                                <m:t xml:space="preserve">β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grpSp>
                <p:nvGrpSpPr>
                  <p:cNvPr id="329" name="Group 25"/>
                  <p:cNvGrpSpPr/>
                  <p:nvPr/>
                </p:nvGrpSpPr>
                <p:grpSpPr>
                  <a:xfrm>
                    <a:off x="3922560" y="2303280"/>
                    <a:ext cx="3570840" cy="1582200"/>
                    <a:chOff x="3922560" y="2303280"/>
                    <a:chExt cx="3570840" cy="1582200"/>
                  </a:xfrm>
                </p:grpSpPr>
                <p:grpSp>
                  <p:nvGrpSpPr>
                    <p:cNvPr id="330" name="Group 26"/>
                    <p:cNvGrpSpPr/>
                    <p:nvPr/>
                  </p:nvGrpSpPr>
                  <p:grpSpPr>
                    <a:xfrm>
                      <a:off x="3922560" y="2303280"/>
                      <a:ext cx="3570840" cy="1551240"/>
                      <a:chOff x="3922560" y="2303280"/>
                      <a:chExt cx="3570840" cy="1551240"/>
                    </a:xfrm>
                  </p:grpSpPr>
                  <mc:AlternateContent>
                    <mc:Choice xmlns:a14="http://schemas.microsoft.com/office/drawing/2010/main" Requires="a14">
                      <p:sp>
                        <p:nvSpPr>
                          <p:cNvPr id="331" name="Object 27"/>
                          <p:cNvSpPr txBox="1"/>
                          <p:nvPr/>
                        </p:nvSpPr>
                        <p:spPr>
                          <a:xfrm>
                            <a:off x="4417920" y="2303280"/>
                            <a:ext cx="686160" cy="40464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p:sp>
                    <p:nvSpPr>
                      <p:cNvPr id="332" name="Line 28"/>
                      <p:cNvSpPr/>
                      <p:nvPr/>
                    </p:nvSpPr>
                    <p:spPr>
                      <a:xfrm>
                        <a:off x="3922560" y="3358080"/>
                        <a:ext cx="3121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1" lang="en-US" sz="2800" spc="-1" strike="noStrike">
                          <a:solidFill>
                            <a:srgbClr val="ffffff"/>
                          </a:solidFill>
                          <a:latin typeface="楷体_GB2312"/>
                        </a:endParaRPr>
                      </a:p>
                    </p:txBody>
                  </p:sp>
                  <p:sp>
                    <p:nvSpPr>
                      <p:cNvPr id="333" name="Line 29"/>
                      <p:cNvSpPr/>
                      <p:nvPr/>
                    </p:nvSpPr>
                    <p:spPr>
                      <a:xfrm flipV="1">
                        <a:off x="4387320" y="2489400"/>
                        <a:ext cx="0" cy="1365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1" lang="en-US" sz="2800" spc="-1" strike="noStrike">
                          <a:solidFill>
                            <a:srgbClr val="ffffff"/>
                          </a:solidFill>
                          <a:latin typeface="楷体_GB2312"/>
                        </a:endParaRPr>
                      </a:p>
                    </p:txBody>
                  </p:sp>
                  <mc:AlternateContent>
                    <mc:Choice xmlns:a14="http://schemas.microsoft.com/office/drawing/2010/main" Requires="a14">
                      <p:sp>
                        <p:nvSpPr>
                          <p:cNvPr id="334" name="Object 30"/>
                          <p:cNvSpPr txBox="1"/>
                          <p:nvPr/>
                        </p:nvSpPr>
                        <p:spPr>
                          <a:xfrm>
                            <a:off x="7176960" y="3295800"/>
                            <a:ext cx="316440" cy="26496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r>
                                  <m:t xml:space="preserve">ω</m:t>
                                </m:r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</p:grpSp>
                <p:grpSp>
                  <p:nvGrpSpPr>
                    <p:cNvPr id="335" name="Group 31"/>
                    <p:cNvGrpSpPr/>
                    <p:nvPr/>
                  </p:nvGrpSpPr>
                  <p:grpSpPr>
                    <a:xfrm>
                      <a:off x="4254480" y="2945880"/>
                      <a:ext cx="2396160" cy="722160"/>
                      <a:chOff x="4254480" y="2945880"/>
                      <a:chExt cx="2396160" cy="722160"/>
                    </a:xfrm>
                  </p:grpSpPr>
                  <mc:AlternateContent>
                    <mc:Choice xmlns:a14="http://schemas.microsoft.com/office/drawing/2010/main" Requires="a14">
                      <p:sp>
                        <p:nvSpPr>
                          <p:cNvPr id="336" name="Object 32"/>
                          <p:cNvSpPr txBox="1"/>
                          <p:nvPr/>
                        </p:nvSpPr>
                        <p:spPr>
                          <a:xfrm>
                            <a:off x="4474080" y="3047760"/>
                            <a:ext cx="572760" cy="34632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mc:AlternateContent>
                    <mc:Choice xmlns:a14="http://schemas.microsoft.com/office/drawing/2010/main" Requires="a14">
                      <p:sp>
                        <p:nvSpPr>
                          <p:cNvPr id="337" name="Object 33"/>
                          <p:cNvSpPr txBox="1"/>
                          <p:nvPr/>
                        </p:nvSpPr>
                        <p:spPr>
                          <a:xfrm>
                            <a:off x="5325120" y="2985840"/>
                            <a:ext cx="456840" cy="40320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p:sp>
                    <p:nvSpPr>
                      <p:cNvPr id="338" name="Freeform 34"/>
                      <p:cNvSpPr/>
                      <p:nvPr/>
                    </p:nvSpPr>
                    <p:spPr>
                      <a:xfrm flipV="1">
                        <a:off x="4254480" y="3347640"/>
                        <a:ext cx="2257920" cy="320400"/>
                      </a:xfrm>
                      <a:custGeom>
                        <a:avLst/>
                        <a:gdLst>
                          <a:gd name="textAreaLeft" fmla="*/ 0 w 2257920"/>
                          <a:gd name="textAreaRight" fmla="*/ 2258280 w 2257920"/>
                          <a:gd name="textAreaTop" fmla="*/ 360 h 320400"/>
                          <a:gd name="textAreaBottom" fmla="*/ 321120 h 320400"/>
                        </a:gdLst>
                        <a:ahLst/>
                        <a:rect l="textAreaLeft" t="textAreaTop" r="textAreaRight" b="textAreaBottom"/>
                        <a:pathLst>
                          <a:path w="1632" h="248">
                            <a:moveTo>
                              <a:pt x="0" y="248"/>
                            </a:moveTo>
                            <a:cubicBezTo>
                              <a:pt x="116" y="240"/>
                              <a:pt x="232" y="232"/>
                              <a:pt x="336" y="200"/>
                            </a:cubicBezTo>
                            <a:cubicBezTo>
                              <a:pt x="440" y="168"/>
                              <a:pt x="552" y="88"/>
                              <a:pt x="624" y="56"/>
                            </a:cubicBezTo>
                            <a:cubicBezTo>
                              <a:pt x="696" y="24"/>
                              <a:pt x="728" y="16"/>
                              <a:pt x="768" y="8"/>
                            </a:cubicBezTo>
                            <a:cubicBezTo>
                              <a:pt x="808" y="0"/>
                              <a:pt x="816" y="0"/>
                              <a:pt x="864" y="8"/>
                            </a:cubicBezTo>
                            <a:cubicBezTo>
                              <a:pt x="912" y="16"/>
                              <a:pt x="984" y="32"/>
                              <a:pt x="1056" y="56"/>
                            </a:cubicBezTo>
                            <a:cubicBezTo>
                              <a:pt x="1128" y="80"/>
                              <a:pt x="1200" y="128"/>
                              <a:pt x="1296" y="152"/>
                            </a:cubicBezTo>
                            <a:cubicBezTo>
                              <a:pt x="1392" y="176"/>
                              <a:pt x="1568" y="192"/>
                              <a:pt x="1632" y="200"/>
                            </a:cubicBezTo>
                          </a:path>
                        </a:pathLst>
                      </a:custGeom>
                      <a:noFill/>
                      <a:ln w="28440">
                        <a:solidFill>
                          <a:srgbClr val="0000cc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1" lang="en-US" sz="2800" spc="-1" strike="noStrike">
                          <a:solidFill>
                            <a:srgbClr val="ffffff"/>
                          </a:solidFill>
                          <a:latin typeface="楷体_GB2312"/>
                        </a:endParaRPr>
                      </a:p>
                    </p:txBody>
                  </p:sp>
                  <mc:AlternateContent>
                    <mc:Choice xmlns:a14="http://schemas.microsoft.com/office/drawing/2010/main" Requires="a14">
                      <p:sp>
                        <p:nvSpPr>
                          <p:cNvPr id="339" name="Object 35"/>
                          <p:cNvSpPr txBox="1"/>
                          <p:nvPr/>
                        </p:nvSpPr>
                        <p:spPr>
                          <a:xfrm>
                            <a:off x="5791680" y="2945880"/>
                            <a:ext cx="858960" cy="42516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T</m:t>
                                    </m:r>
                                  </m:den>
                                </m:f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</p:grpSp>
                <p:grpSp>
                  <p:nvGrpSpPr>
                    <p:cNvPr id="340" name="Group 36"/>
                    <p:cNvGrpSpPr/>
                    <p:nvPr/>
                  </p:nvGrpSpPr>
                  <p:grpSpPr>
                    <a:xfrm>
                      <a:off x="4387320" y="3358440"/>
                      <a:ext cx="2986920" cy="527040"/>
                      <a:chOff x="4387320" y="3358440"/>
                      <a:chExt cx="2986920" cy="527040"/>
                    </a:xfrm>
                  </p:grpSpPr>
                  <p:sp>
                    <p:nvSpPr>
                      <p:cNvPr id="341" name="Line 37"/>
                      <p:cNvSpPr/>
                      <p:nvPr/>
                    </p:nvSpPr>
                    <p:spPr>
                      <a:xfrm>
                        <a:off x="6645240" y="3358440"/>
                        <a:ext cx="0" cy="309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1" lang="en-US" sz="2800" spc="-1" strike="noStrike">
                          <a:solidFill>
                            <a:srgbClr val="ffffff"/>
                          </a:solidFill>
                          <a:latin typeface="楷体_GB2312"/>
                        </a:endParaRPr>
                      </a:p>
                    </p:txBody>
                  </p:sp>
                  <mc:AlternateContent>
                    <mc:Choice xmlns:a14="http://schemas.microsoft.com/office/drawing/2010/main" Requires="a14">
                      <p:sp>
                        <p:nvSpPr>
                          <p:cNvPr id="342" name="Object 38"/>
                          <p:cNvSpPr txBox="1"/>
                          <p:nvPr/>
                        </p:nvSpPr>
                        <p:spPr>
                          <a:xfrm>
                            <a:off x="6772680" y="3482280"/>
                            <a:ext cx="601560" cy="403200"/>
                          </a:xfrm>
                          <a:prstGeom prst="rect">
                            <a:avLst/>
                          </a:prstGeom>
                        </p:spPr>
                        <p:txBody>
                          <a:bodyPr/>
                          <a:p>
                            <a14:m>
                              <m:oMath xmlns:m="http://schemas.openxmlformats.org/officeDocument/2006/math"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oMath>
                            </a14:m>
                          </a:p>
                        </p:txBody>
                      </p:sp>
                    </mc:Choice>
                    <mc:Fallback/>
                  </mc:AlternateContent>
                  <p:sp>
                    <p:nvSpPr>
                      <p:cNvPr id="343" name="Line 39"/>
                      <p:cNvSpPr/>
                      <p:nvPr/>
                    </p:nvSpPr>
                    <p:spPr>
                      <a:xfrm>
                        <a:off x="4387320" y="3668400"/>
                        <a:ext cx="2390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1" lang="en-US" sz="2800" spc="-1" strike="noStrike">
                          <a:solidFill>
                            <a:srgbClr val="ffffff"/>
                          </a:solidFill>
                          <a:latin typeface="楷体_GB2312"/>
                        </a:endParaRPr>
                      </a:p>
                    </p:txBody>
                  </p:sp>
                </p:grpSp>
              </p:grpSp>
            </p:grpSp>
          </p:grpSp>
        </p:grpSp>
      </p:grpSp>
      <p:graphicFrame>
        <p:nvGraphicFramePr>
          <p:cNvPr id="344" name="Object 40"/>
          <p:cNvGraphicFramePr/>
          <p:nvPr/>
        </p:nvGraphicFramePr>
        <p:xfrm>
          <a:off x="1905120" y="990720"/>
          <a:ext cx="177300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990720"/>
                    <a:ext cx="17730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41"/>
          <p:cNvGraphicFramePr/>
          <p:nvPr/>
        </p:nvGraphicFramePr>
        <p:xfrm>
          <a:off x="914400" y="2819520"/>
          <a:ext cx="262584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819520"/>
                    <a:ext cx="26258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42"/>
          <p:cNvSpPr/>
          <p:nvPr/>
        </p:nvSpPr>
        <p:spPr>
          <a:xfrm>
            <a:off x="914400" y="41911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ensator has no filtering effect on the low frequency signal, but filters high frequency noise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maller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wer the noise frequency where the noise can pass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349" name="Picture 46" descr="button1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43800" y="6324480"/>
            <a:ext cx="533520" cy="533520"/>
          </a:xfrm>
          <a:prstGeom prst="rect">
            <a:avLst/>
          </a:prstGeom>
          <a:ln w="0">
            <a:noFill/>
          </a:ln>
        </p:spPr>
      </p:pic>
      <p:cxnSp>
        <p:nvCxnSpPr>
          <p:cNvPr id="350" name="直接箭头连接符 44"/>
          <p:cNvCxnSpPr/>
          <p:nvPr/>
        </p:nvCxnSpPr>
        <p:spPr>
          <a:xfrm flipH="1">
            <a:off x="2882160" y="1929960"/>
            <a:ext cx="2515320" cy="1080"/>
          </a:xfrm>
          <a:prstGeom prst="straightConnector1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</p:cxnSp>
      <p:sp>
        <p:nvSpPr>
          <p:cNvPr id="351" name="TextBox 46"/>
          <p:cNvSpPr/>
          <p:nvPr/>
        </p:nvSpPr>
        <p:spPr>
          <a:xfrm>
            <a:off x="762120" y="2209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Maximum phase lag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914400" y="533520"/>
            <a:ext cx="8229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mments on phase lag compensation: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lag compensator is a low-pass filter. It changes the low-frequency part to reduce gain crossover frequency. The phase is of no consequence around the gain crossover frequency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ble to amplify the magnitude of low-frequency part, and thus reduce the steady-sate error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lope around gain crossover freuency is -20dB/dec.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nance peak is reduced, and the system is more stable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gain crossover frequency, and then reduce the bandwidth. The rising time is increased. The system response slows down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837720" y="5331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Rules for phase lag compensator desig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termi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o satisfy the steady-state err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raw bode diagram for umcompensa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nd the frequency 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ω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c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rom the uncompensated open-loop Bode diagram where the phase margin satisfy the performance requirem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lculate the magnitude at the frequency 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ω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c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termine 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termine the two break frequen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m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356" name="Object 6"/>
          <p:cNvGraphicFramePr/>
          <p:nvPr/>
        </p:nvGraphicFramePr>
        <p:xfrm>
          <a:off x="2268360" y="4005360"/>
          <a:ext cx="314640" cy="3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4005360"/>
                    <a:ext cx="3146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7"/>
          <p:cNvGraphicFramePr/>
          <p:nvPr/>
        </p:nvGraphicFramePr>
        <p:xfrm>
          <a:off x="2843280" y="3933720"/>
          <a:ext cx="172728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3933720"/>
                    <a:ext cx="17272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9"/>
          <p:cNvGraphicFramePr/>
          <p:nvPr/>
        </p:nvGraphicFramePr>
        <p:xfrm>
          <a:off x="2438280" y="4800600"/>
          <a:ext cx="2286000" cy="8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00600"/>
                    <a:ext cx="228600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0"/>
          <p:cNvGraphicFramePr/>
          <p:nvPr/>
        </p:nvGraphicFramePr>
        <p:xfrm>
          <a:off x="5105520" y="4876920"/>
          <a:ext cx="99036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4876920"/>
                    <a:ext cx="9903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1"/>
          <p:cNvGraphicFramePr/>
          <p:nvPr/>
        </p:nvGraphicFramePr>
        <p:xfrm>
          <a:off x="3657600" y="3657600"/>
          <a:ext cx="2133720" cy="58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3657600"/>
                    <a:ext cx="2133720" cy="587520"/>
                  </a:xfrm>
                  <a:prstGeom prst="rect">
                    <a:avLst/>
                  </a:prstGeom>
                  <a:ln w="3816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838080" y="5378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introduce the maximum phase lag around the gain crossover frequency       . So the break frequency is much less than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367" name="Object 3"/>
          <p:cNvGraphicFramePr/>
          <p:nvPr/>
        </p:nvGraphicFramePr>
        <p:xfrm>
          <a:off x="4267080" y="914400"/>
          <a:ext cx="39060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914400"/>
                    <a:ext cx="3906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5"/>
          <p:cNvGraphicFramePr/>
          <p:nvPr/>
        </p:nvGraphicFramePr>
        <p:xfrm>
          <a:off x="8001000" y="762120"/>
          <a:ext cx="40788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762120"/>
                    <a:ext cx="4078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7"/>
          <p:cNvGraphicFramePr/>
          <p:nvPr/>
        </p:nvGraphicFramePr>
        <p:xfrm>
          <a:off x="3200400" y="1295280"/>
          <a:ext cx="39204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295280"/>
                    <a:ext cx="3920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9"/>
          <p:cNvGraphicFramePr/>
          <p:nvPr/>
        </p:nvGraphicFramePr>
        <p:xfrm>
          <a:off x="3886200" y="1600200"/>
          <a:ext cx="146520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1600200"/>
                    <a:ext cx="1465200" cy="787320"/>
                  </a:xfrm>
                  <a:prstGeom prst="rect">
                    <a:avLst/>
                  </a:prstGeom>
                  <a:ln w="5724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5" name="Object 13"/>
          <p:cNvGraphicFramePr/>
          <p:nvPr/>
        </p:nvGraphicFramePr>
        <p:xfrm>
          <a:off x="2305080" y="2895480"/>
          <a:ext cx="5443560" cy="82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6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05080" y="2895480"/>
                    <a:ext cx="5443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Rectangle 14"/>
          <p:cNvSpPr/>
          <p:nvPr/>
        </p:nvSpPr>
        <p:spPr>
          <a:xfrm>
            <a:off x="771120" y="35802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Substitude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378" name="Object 15"/>
          <p:cNvGraphicFramePr/>
          <p:nvPr/>
        </p:nvGraphicFramePr>
        <p:xfrm>
          <a:off x="2286000" y="3505320"/>
          <a:ext cx="1031760" cy="67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9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3505320"/>
                    <a:ext cx="10317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17"/>
          <p:cNvGraphicFramePr/>
          <p:nvPr/>
        </p:nvGraphicFramePr>
        <p:xfrm>
          <a:off x="1219320" y="4267080"/>
          <a:ext cx="6345000" cy="137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1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9320" y="4267080"/>
                    <a:ext cx="6345000" cy="1370160"/>
                  </a:xfrm>
                  <a:prstGeom prst="rect">
                    <a:avLst/>
                  </a:prstGeom>
                  <a:ln w="5724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2" name="TextBox 16"/>
          <p:cNvSpPr/>
          <p:nvPr/>
        </p:nvSpPr>
        <p:spPr>
          <a:xfrm>
            <a:off x="838080" y="2514600"/>
            <a:ext cx="37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ase lag at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iven the control plant, the procedure of controller design to satisfy the requirement is called system compensation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990720" y="533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hat is system compensation?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990720" y="2362320"/>
            <a:ext cx="77724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hy to compensate?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losed-loop system has the function of self-tunning. By selecting a particular value of the gain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single performance requirement may be met.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 it possible to meet more than one performance requirement?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metimes, it is not possible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thing new has to be done to the system in order to make it perform as required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3"/>
          <p:cNvGrpSpPr/>
          <p:nvPr/>
        </p:nvGrpSpPr>
        <p:grpSpPr>
          <a:xfrm>
            <a:off x="1295280" y="380880"/>
            <a:ext cx="6631200" cy="5123160"/>
            <a:chOff x="1295280" y="380880"/>
            <a:chExt cx="6631200" cy="5123160"/>
          </a:xfrm>
        </p:grpSpPr>
        <p:pic>
          <p:nvPicPr>
            <p:cNvPr id="384" name="Picture 3" descr=""/>
            <p:cNvPicPr/>
            <p:nvPr/>
          </p:nvPicPr>
          <p:blipFill>
            <a:blip r:embed="rId1"/>
            <a:stretch/>
          </p:blipFill>
          <p:spPr>
            <a:xfrm>
              <a:off x="1295280" y="533520"/>
              <a:ext cx="6626520" cy="49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Line 7"/>
            <p:cNvSpPr/>
            <p:nvPr/>
          </p:nvSpPr>
          <p:spPr>
            <a:xfrm>
              <a:off x="2133720" y="914400"/>
              <a:ext cx="54007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sp>
          <p:nvSpPr>
            <p:cNvPr id="386" name="Rectangle 9"/>
            <p:cNvSpPr/>
            <p:nvPr/>
          </p:nvSpPr>
          <p:spPr>
            <a:xfrm>
              <a:off x="1904400" y="53352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01</a:t>
              </a:r>
              <a:endParaRPr b="1" lang="en-US" sz="20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sp>
          <p:nvSpPr>
            <p:cNvPr id="387" name="Rectangle 10"/>
            <p:cNvSpPr/>
            <p:nvPr/>
          </p:nvSpPr>
          <p:spPr>
            <a:xfrm>
              <a:off x="4606560" y="5047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1</a:t>
              </a:r>
              <a:endParaRPr b="1" lang="en-US" sz="20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sp>
          <p:nvSpPr>
            <p:cNvPr id="388" name="Rectangle 11"/>
            <p:cNvSpPr/>
            <p:nvPr/>
          </p:nvSpPr>
          <p:spPr>
            <a:xfrm>
              <a:off x="7101000" y="53352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0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graphicFrame>
          <p:nvGraphicFramePr>
            <p:cNvPr id="389" name="Object 16"/>
            <p:cNvGraphicFramePr/>
            <p:nvPr/>
          </p:nvGraphicFramePr>
          <p:xfrm>
            <a:off x="7315200" y="2743200"/>
            <a:ext cx="458640" cy="306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0" name="Object 1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15200" y="2743200"/>
                      <a:ext cx="458640" cy="30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1" name="Object 17"/>
                <p:cNvSpPr txBox="1"/>
                <p:nvPr/>
              </p:nvSpPr>
              <p:spPr>
                <a:xfrm>
                  <a:off x="7315200" y="4800600"/>
                  <a:ext cx="6112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Object 18"/>
                <p:cNvSpPr txBox="1"/>
                <p:nvPr/>
              </p:nvSpPr>
              <p:spPr>
                <a:xfrm>
                  <a:off x="7315200" y="990720"/>
                  <a:ext cx="5014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93" name="Object 20"/>
            <p:cNvGraphicFramePr/>
            <p:nvPr/>
          </p:nvGraphicFramePr>
          <p:xfrm>
            <a:off x="7467480" y="380880"/>
            <a:ext cx="343080" cy="457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94" name="Object 2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467480" y="380880"/>
                      <a:ext cx="3430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5" name="Rectangle 2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grpSp>
        <p:nvGrpSpPr>
          <p:cNvPr id="396" name="Group 24"/>
          <p:cNvGrpSpPr/>
          <p:nvPr/>
        </p:nvGrpSpPr>
        <p:grpSpPr>
          <a:xfrm>
            <a:off x="6553080" y="1752480"/>
            <a:ext cx="1955880" cy="514440"/>
            <a:chOff x="6553080" y="1752480"/>
            <a:chExt cx="1955880" cy="514440"/>
          </a:xfrm>
        </p:grpSpPr>
        <p:graphicFrame>
          <p:nvGraphicFramePr>
            <p:cNvPr id="397" name="Object 14"/>
            <p:cNvGraphicFramePr/>
            <p:nvPr/>
          </p:nvGraphicFramePr>
          <p:xfrm>
            <a:off x="7543800" y="1752480"/>
            <a:ext cx="965160" cy="514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98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43800" y="1752480"/>
                      <a:ext cx="965160" cy="5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9" name="Line 15"/>
            <p:cNvSpPr/>
            <p:nvPr/>
          </p:nvSpPr>
          <p:spPr>
            <a:xfrm flipH="1">
              <a:off x="6553080" y="2057400"/>
              <a:ext cx="9907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</p:grpSp>
      <p:sp>
        <p:nvSpPr>
          <p:cNvPr id="400" name="Rectangle 19"/>
          <p:cNvSpPr/>
          <p:nvPr/>
        </p:nvSpPr>
        <p:spPr>
          <a:xfrm>
            <a:off x="2124720" y="981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dB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pSp>
        <p:nvGrpSpPr>
          <p:cNvPr id="401" name="Group 25"/>
          <p:cNvGrpSpPr/>
          <p:nvPr/>
        </p:nvGrpSpPr>
        <p:grpSpPr>
          <a:xfrm>
            <a:off x="4419720" y="3200040"/>
            <a:ext cx="1301760" cy="660600"/>
            <a:chOff x="4419720" y="3200040"/>
            <a:chExt cx="1301760" cy="660600"/>
          </a:xfrm>
        </p:grpSpPr>
        <p:sp>
          <p:nvSpPr>
            <p:cNvPr id="402" name="Line 13"/>
            <p:cNvSpPr/>
            <p:nvPr/>
          </p:nvSpPr>
          <p:spPr>
            <a:xfrm flipH="1" flipV="1">
              <a:off x="4419720" y="3200040"/>
              <a:ext cx="28728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楷体_GB2312"/>
              </a:endParaRPr>
            </a:p>
          </p:txBody>
        </p:sp>
        <p:graphicFrame>
          <p:nvGraphicFramePr>
            <p:cNvPr id="403" name="Object 21"/>
            <p:cNvGraphicFramePr/>
            <p:nvPr/>
          </p:nvGraphicFramePr>
          <p:xfrm>
            <a:off x="4724280" y="3429000"/>
            <a:ext cx="997200" cy="431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04" name="Object 2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24280" y="3429000"/>
                      <a:ext cx="9972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5" name="Object 22"/>
          <p:cNvGraphicFramePr/>
          <p:nvPr/>
        </p:nvGraphicFramePr>
        <p:xfrm>
          <a:off x="3159000" y="5334120"/>
          <a:ext cx="3848400" cy="549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6" name="Object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59000" y="5334120"/>
                    <a:ext cx="38484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990720" y="4572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6.2: Given a unity-feedback controller with the following open-loop transfer function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838080" y="2057400"/>
            <a:ext cx="7315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design a cascade compensator to satisfy the following requireme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5"/>
              <p:cNvSpPr txBox="1"/>
              <p:nvPr/>
            </p:nvSpPr>
            <p:spPr>
              <a:xfrm>
                <a:off x="2063880" y="3187800"/>
                <a:ext cx="1141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6"/>
              <p:cNvSpPr txBox="1"/>
              <p:nvPr/>
            </p:nvSpPr>
            <p:spPr>
              <a:xfrm>
                <a:off x="3962520" y="3200400"/>
                <a:ext cx="892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≥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411" name="Object 7"/>
          <p:cNvGraphicFramePr/>
          <p:nvPr/>
        </p:nvGraphicFramePr>
        <p:xfrm>
          <a:off x="5257800" y="3200400"/>
          <a:ext cx="194616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200400"/>
                    <a:ext cx="19461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3" name="Object 8"/>
              <p:cNvSpPr txBox="1"/>
              <p:nvPr/>
            </p:nvSpPr>
            <p:spPr>
              <a:xfrm>
                <a:off x="1905120" y="3809880"/>
                <a:ext cx="250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12"/>
              <p:cNvSpPr txBox="1"/>
              <p:nvPr/>
            </p:nvSpPr>
            <p:spPr>
              <a:xfrm>
                <a:off x="3200400" y="1295280"/>
                <a:ext cx="2671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15" name="Picture 13" descr="button10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6748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15"/>
          <p:cNvSpPr/>
          <p:nvPr/>
        </p:nvSpPr>
        <p:spPr>
          <a:xfrm>
            <a:off x="990720" y="45720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ice: If the compensated system cannot satisfy the requirements, we need to further alter crossover frequency and phase of the lag compensator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417" name="Object 16"/>
          <p:cNvGraphicFramePr/>
          <p:nvPr/>
        </p:nvGraphicFramePr>
        <p:xfrm>
          <a:off x="6934320" y="5334120"/>
          <a:ext cx="115416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5334120"/>
                    <a:ext cx="1154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63C5-C43E-4E25-82FF-10E2EECB534D}" type="datetime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26/7/29</a:t>
            </a:fld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20" name="灯片编号占位符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B6BB-3690-4C7C-88D7-7F6C93413D9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21" name="TextBox 3"/>
          <p:cNvSpPr/>
          <p:nvPr/>
        </p:nvSpPr>
        <p:spPr>
          <a:xfrm>
            <a:off x="914400" y="457200"/>
            <a:ext cx="2590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5"/>
              <p:cNvSpPr txBox="1"/>
              <p:nvPr/>
            </p:nvSpPr>
            <p:spPr>
              <a:xfrm>
                <a:off x="1600200" y="914400"/>
                <a:ext cx="3313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TextBox 5"/>
          <p:cNvSpPr/>
          <p:nvPr/>
        </p:nvSpPr>
        <p:spPr>
          <a:xfrm>
            <a:off x="914400" y="15238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Draw the uncompensated Bode diagram  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6"/>
              <p:cNvSpPr txBox="1"/>
              <p:nvPr/>
            </p:nvSpPr>
            <p:spPr>
              <a:xfrm>
                <a:off x="1523880" y="2133720"/>
                <a:ext cx="1521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5" name="TextBox 7"/>
          <p:cNvSpPr/>
          <p:nvPr/>
        </p:nvSpPr>
        <p:spPr>
          <a:xfrm>
            <a:off x="1371600" y="28195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is unstable. The needed extra phase compensation is 83.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The phase lead compensation can not provide so big phase margin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: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two cascade phase lead compensation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ly phase lag compensation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26" name="TextBox 9"/>
          <p:cNvSpPr/>
          <p:nvPr/>
        </p:nvSpPr>
        <p:spPr>
          <a:xfrm>
            <a:off x="1066680" y="5334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For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5 rad/s,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27" name="矩形 10"/>
          <p:cNvSpPr/>
          <p:nvPr/>
        </p:nvSpPr>
        <p:spPr>
          <a:xfrm>
            <a:off x="5203440" y="5334120"/>
            <a:ext cx="168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t 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ω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c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5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日期占位符 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97BD-B2C8-433C-9FDC-E94D5D82F0C4}" type="datetime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26/7/29</a:t>
            </a:fld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29" name="灯片编号占位符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7603-465E-4E79-B6B6-986CE671208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30" name="TextBox 3"/>
          <p:cNvSpPr/>
          <p:nvPr/>
        </p:nvSpPr>
        <p:spPr>
          <a:xfrm>
            <a:off x="1219320" y="685800"/>
            <a:ext cx="487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ω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c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22dB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431" name="Object 11"/>
          <p:cNvGraphicFramePr/>
          <p:nvPr/>
        </p:nvGraphicFramePr>
        <p:xfrm>
          <a:off x="1600200" y="1447920"/>
          <a:ext cx="318456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3184560" cy="587160"/>
                  </a:xfrm>
                  <a:prstGeom prst="rect">
                    <a:avLst/>
                  </a:prstGeom>
                  <a:ln w="3816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Box 5"/>
          <p:cNvSpPr/>
          <p:nvPr/>
        </p:nvSpPr>
        <p:spPr>
          <a:xfrm>
            <a:off x="1295280" y="2438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434" name="Object 9"/>
          <p:cNvGraphicFramePr/>
          <p:nvPr/>
        </p:nvGraphicFramePr>
        <p:xfrm>
          <a:off x="1905120" y="2362320"/>
          <a:ext cx="26510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362320"/>
                    <a:ext cx="2651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4"/>
          <p:cNvGraphicFramePr/>
          <p:nvPr/>
        </p:nvGraphicFramePr>
        <p:xfrm>
          <a:off x="1752480" y="3505320"/>
          <a:ext cx="4408560" cy="85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3505320"/>
                    <a:ext cx="440856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TextBox 8"/>
          <p:cNvSpPr/>
          <p:nvPr/>
        </p:nvSpPr>
        <p:spPr>
          <a:xfrm>
            <a:off x="1371600" y="4343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2057400" y="4343400"/>
          <a:ext cx="21765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4343400"/>
                    <a:ext cx="21765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TextBox 10"/>
          <p:cNvSpPr/>
          <p:nvPr/>
        </p:nvSpPr>
        <p:spPr>
          <a:xfrm>
            <a:off x="1447920" y="53341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rmation: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6"/>
              <p:cNvSpPr txBox="1"/>
              <p:nvPr/>
            </p:nvSpPr>
            <p:spPr>
              <a:xfrm>
                <a:off x="3505320" y="5334120"/>
                <a:ext cx="5190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275000" cy="3206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307040" cy="32814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4"/>
          <p:cNvSpPr/>
          <p:nvPr/>
        </p:nvSpPr>
        <p:spPr>
          <a:xfrm>
            <a:off x="228600" y="4038480"/>
            <a:ext cx="877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pplicable for the following systems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：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ansient performance is satisfactory, but the steady-state performance is desired to be improved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requirement for noise attenuation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228600" y="56386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rawback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：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system response is slow down.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Comparison of phase lead and lag compen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8" name="Object 3"/>
          <p:cNvGraphicFramePr/>
          <p:nvPr/>
        </p:nvGraphicFramePr>
        <p:xfrm>
          <a:off x="609480" y="990720"/>
          <a:ext cx="8496360" cy="51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8496360" cy="51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360" y="60912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.Control system design and compen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esig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ed to design the whole controller to satisfy the system requirem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mpensatio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ly need to design part of the controller with known stru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. Three elements for compen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Original part of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Performance requ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Compensation de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2133360"/>
            <a:ext cx="838188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. Time domain criteri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ep respon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vershoot, settling time, rising time, steady-state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. Frequency domain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pen-loop frequency domain criteri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rossover frequency, phase margin, gain mar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losed-loop frequency domain criteria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aximum valu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resonant frequency,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914400" y="609480"/>
            <a:ext cx="75438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555599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1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troduction to Compensation Design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133720" y="1371600"/>
            <a:ext cx="54864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a7e1"/>
              </a:gs>
              <a:gs pos="50000">
                <a:srgbClr val="ffffff"/>
              </a:gs>
              <a:gs pos="100000">
                <a:srgbClr val="eba7e1"/>
              </a:gs>
            </a:gsLst>
            <a:lin ang="5400000"/>
          </a:gra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7.1.1 Performance Requirement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1066680" y="458640"/>
            <a:ext cx="7315200" cy="576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requency domain and time domain criteria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4572000" y="1143000"/>
          <a:ext cx="157320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15732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4"/>
          <p:cNvSpPr/>
          <p:nvPr/>
        </p:nvSpPr>
        <p:spPr>
          <a:xfrm>
            <a:off x="698040" y="190620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onant frequency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4572000" y="1905120"/>
                <a:ext cx="2160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Rectangle 6"/>
          <p:cNvSpPr/>
          <p:nvPr/>
        </p:nvSpPr>
        <p:spPr>
          <a:xfrm>
            <a:off x="708840" y="25131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ndwidth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4572000" y="2438280"/>
                <a:ext cx="396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Rectangle 8"/>
          <p:cNvSpPr/>
          <p:nvPr/>
        </p:nvSpPr>
        <p:spPr>
          <a:xfrm>
            <a:off x="705240" y="319896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ain crossover frequency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123" name="Object 9"/>
          <p:cNvGraphicFramePr/>
          <p:nvPr/>
        </p:nvGraphicFramePr>
        <p:xfrm>
          <a:off x="4648320" y="3048120"/>
          <a:ext cx="275112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048120"/>
                    <a:ext cx="27511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10"/>
          <p:cNvSpPr/>
          <p:nvPr/>
        </p:nvSpPr>
        <p:spPr>
          <a:xfrm>
            <a:off x="752400" y="388476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margin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126" name="Object 11"/>
          <p:cNvGraphicFramePr/>
          <p:nvPr/>
        </p:nvGraphicFramePr>
        <p:xfrm>
          <a:off x="4648320" y="3733920"/>
          <a:ext cx="27352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733920"/>
                    <a:ext cx="2735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13"/>
          <p:cNvSpPr/>
          <p:nvPr/>
        </p:nvSpPr>
        <p:spPr>
          <a:xfrm>
            <a:off x="609480" y="1219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onant peak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772560" y="487548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centage overshoo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130" name="Object 19"/>
          <p:cNvGraphicFramePr/>
          <p:nvPr/>
        </p:nvGraphicFramePr>
        <p:xfrm>
          <a:off x="4495680" y="4572000"/>
          <a:ext cx="2737080" cy="82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572000"/>
                    <a:ext cx="273708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20"/>
          <p:cNvSpPr/>
          <p:nvPr/>
        </p:nvSpPr>
        <p:spPr>
          <a:xfrm>
            <a:off x="768960" y="556128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ttling time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133" name="Object 21"/>
          <p:cNvGraphicFramePr/>
          <p:nvPr/>
        </p:nvGraphicFramePr>
        <p:xfrm>
          <a:off x="4572000" y="5334120"/>
          <a:ext cx="1773360" cy="84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5334120"/>
                    <a:ext cx="17733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22"/>
          <p:cNvSpPr/>
          <p:nvPr/>
        </p:nvSpPr>
        <p:spPr>
          <a:xfrm>
            <a:off x="3874320" y="367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cording to the way of compensation, the compensator can be classified into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838080" y="2971800"/>
          <a:ext cx="7315200" cy="24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315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AutoShape 4"/>
          <p:cNvSpPr/>
          <p:nvPr/>
        </p:nvSpPr>
        <p:spPr>
          <a:xfrm>
            <a:off x="1523880" y="609480"/>
            <a:ext cx="647712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a7e1"/>
              </a:gs>
              <a:gs pos="50000">
                <a:srgbClr val="ffffff"/>
              </a:gs>
              <a:gs pos="100000">
                <a:srgbClr val="eba7e1"/>
              </a:gs>
            </a:gsLst>
            <a:lin ang="5400000"/>
          </a:gra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7.1.2 Structure of Compensator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2"/>
          <p:cNvGraphicFramePr/>
          <p:nvPr/>
        </p:nvGraphicFramePr>
        <p:xfrm>
          <a:off x="1290600" y="457200"/>
          <a:ext cx="67896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457200"/>
                    <a:ext cx="67896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1066680" y="3200400"/>
          <a:ext cx="723924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200400"/>
                    <a:ext cx="72392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1523880" y="380880"/>
          <a:ext cx="709632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0880"/>
                    <a:ext cx="709632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4"/>
          <p:cNvGraphicFramePr/>
          <p:nvPr/>
        </p:nvGraphicFramePr>
        <p:xfrm>
          <a:off x="1523880" y="3352680"/>
          <a:ext cx="731520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352680"/>
                    <a:ext cx="7315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n</cp:lastModifiedBy>
  <dcterms:modified xsi:type="dcterms:W3CDTF">2012-12-19T15:16:16Z</dcterms:modified>
  <cp:revision>15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