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C693C-291E-4FCB-ACE4-EC885562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7766F-56CF-40AD-9605-5AE6DC59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690A6-9D77-4E05-8788-2FDF7A65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28910-DF66-42B9-851E-CAAEED9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0227-FCFC-422C-A7A5-39C7AC4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16B49-814B-42FD-81CD-B812078C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07F76-6214-4FEC-BCAE-2C4C453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2D4E4-D157-4720-A856-A1960A1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EC289-A0A5-43B9-8953-01D06901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6C920-FF73-486B-A9EB-B2AF8714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48913-99AD-43FA-B692-4A28A0FC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E5103-D4D4-4EF0-9B6B-227234E9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7B8BE-D24A-4788-9A7C-6FCCD110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C2CADE-1418-4415-84CD-C7B59750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BAD4D-6FA9-40C0-B80F-2B36C4A3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1F571-FEDB-4D66-95FF-1DEC596A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9B0BB-43F6-413D-B8FF-CE9E2A0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4CC02-6B26-4A4E-BC23-DCFA6190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32B69-2063-4C35-B373-03E3AEF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64743E-A7C7-4289-89D8-0DAF652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AF406-CF29-4898-8A87-B88194D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95B7D-7A98-4735-A90C-9A35EC1B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09B31-71A1-4340-8595-BCFFC816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4C9B3-FE8F-4D9E-BBC8-7D342930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452C2-506D-4928-9BEC-74512E21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14339-1A81-4268-B674-0B55466A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F078E-AADD-4B9E-ACA5-A6C5F29D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745F41-FBB6-4D97-B8BB-8B5200D5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39366-8506-4DFD-864C-72B4C4FD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256FF-A40F-4EB4-8C43-7578CE4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8A3BE-0B60-40DC-8A0D-5F00056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AAACE-36DB-4610-93F5-4B229D78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2562A-DFB3-413E-8139-58079BF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3FC73-15BD-4F90-90FC-92143851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6D98E-EB7E-449E-A58F-344734D5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A71C9-807B-4EA4-86BD-F003EE00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" name="Object 16"/>
          <p:cNvGraphicFramePr/>
          <p:nvPr/>
        </p:nvGraphicFramePr>
        <p:xfrm>
          <a:off x="8064360" y="620640"/>
          <a:ext cx="971640" cy="95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64360" y="620640"/>
                    <a:ext cx="97164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Rectangle 17"/>
          <p:cNvSpPr/>
          <p:nvPr/>
        </p:nvSpPr>
        <p:spPr>
          <a:xfrm>
            <a:off x="3708360" y="6381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617b"/>
                </a:solidFill>
                <a:latin typeface="Verdana"/>
              </a:rPr>
              <a:t>www.tpo.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" descr="3dflagsdotcom_iran_2fabl"/>
          <p:cNvPicPr/>
          <p:nvPr/>
        </p:nvPicPr>
        <p:blipFill>
          <a:blip r:embed="rId7"/>
          <a:stretch/>
        </p:blipFill>
        <p:spPr>
          <a:xfrm>
            <a:off x="76320" y="76320"/>
            <a:ext cx="434880" cy="296640"/>
          </a:xfrm>
          <a:prstGeom prst="rect">
            <a:avLst/>
          </a:prstGeom>
          <a:ln w="0">
            <a:noFill/>
          </a:ln>
        </p:spPr>
      </p:pic>
      <p:sp>
        <p:nvSpPr>
          <p:cNvPr id="16" name="Slide Number Placeholder 17"/>
          <p:cNvSpPr/>
          <p:nvPr/>
        </p:nvSpPr>
        <p:spPr>
          <a:xfrm>
            <a:off x="209520" y="62373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8C9D-0DC7-4078-B393-164CBEC3F4A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Freeform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Freeform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5F4-1CAB-4CC9-A714-8B31380C8C0B}" type="datetime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0060-4D1D-4DA3-A571-A339567E2C3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Freeform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FFA3-0484-4929-A759-8CF80D7BCAB8}" type="datetime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29E0-ED26-4143-93BA-DF673C8E8B1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04E3-67C8-468E-80C1-58B15DC54559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3AF0-E031-442B-AE43-EEDC0DFAE73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9"/>
          <p:cNvSpPr/>
          <p:nvPr/>
        </p:nvSpPr>
        <p:spPr>
          <a:xfrm>
            <a:off x="857160" y="5715000"/>
            <a:ext cx="3786120" cy="11746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تهيه</a:t>
            </a:r>
            <a:r>
              <a:rPr b="1" lang="ar-SA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و ارائه توسط 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الهه مکری –آقايان اردشير پور و عليزاده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زمستان 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93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28800" y="1785960"/>
            <a:ext cx="735804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tr"/>
              </a:rPr>
              <a:t>فصل ششم- مبانی سازمان و مدیری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tr"/>
              </a:rPr>
              <a:t>برنامه ریزی و مدیریت راهبردی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Titr"/>
              </a:rPr>
              <a:t>دکتر علی رضائی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استاد گرامی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جناب آقای دکتر حسن بیگ محمد لو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Tit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I:\zzz  tot\eliiiiiii\91 sokhanaan\mokri besm\009.JPG"/>
          <p:cNvPicPr/>
          <p:nvPr/>
        </p:nvPicPr>
        <p:blipFill>
          <a:blip r:embed="rId1"/>
          <a:stretch/>
        </p:blipFill>
        <p:spPr>
          <a:xfrm>
            <a:off x="2928960" y="285840"/>
            <a:ext cx="30240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2"/>
          <p:cNvSpPr/>
          <p:nvPr/>
        </p:nvSpPr>
        <p:spPr>
          <a:xfrm>
            <a:off x="285840" y="134676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928800" y="1595880"/>
            <a:ext cx="1857240" cy="199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جوامع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ما خود را متعهد می دانیم که شهروندانی دلسوز و حامی جامعه ای باشیم که در آن در سطح جهان فعالیت می کنیم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6643800" y="5257440"/>
            <a:ext cx="2143080" cy="12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صاحبان سهام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ما مصممیم تا به گونه ای عمل کنیم که بازگشت سرمایه به خوبی داشته باشیم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3643200" y="5257440"/>
            <a:ext cx="2000520" cy="12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مشتریان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ما متعهدیم که محصولات و خدمات خود را با کیفیت و ارزشی برتر ارائه دهیم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357120" y="5088240"/>
            <a:ext cx="2286000" cy="167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امین کنندگان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تامین کنندگان مواد اولیه را همکار خود می دانیم و هدف مشترک ما ارائه بالاترین کیفیت است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143000" y="549720"/>
            <a:ext cx="757224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رسالت نامه سازمان و ذینفعان خارجی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3714840" y="3717720"/>
            <a:ext cx="2143080" cy="77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رسالت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ایجاد ارزش برای ذینفعان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6429240" y="1625040"/>
            <a:ext cx="1714680" cy="16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کارکنان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ما به شخصیت همه افراد احترام می گذاریم و خلاقیت و بهره وری را تشویق می کنیم و به آنها پاداش می دهیم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44"/>
          <p:cNvCxnSpPr/>
          <p:nvPr/>
        </p:nvCxnSpPr>
        <p:spPr>
          <a:xfrm>
            <a:off x="2928600" y="2571840"/>
            <a:ext cx="33584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Straight Arrow Connector 46"/>
          <p:cNvCxnSpPr/>
          <p:nvPr/>
        </p:nvCxnSpPr>
        <p:spPr>
          <a:xfrm flipH="1">
            <a:off x="7286400" y="3357360"/>
            <a:ext cx="2160" cy="1788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Straight Arrow Connector 49"/>
          <p:cNvCxnSpPr/>
          <p:nvPr/>
        </p:nvCxnSpPr>
        <p:spPr>
          <a:xfrm flipH="1">
            <a:off x="1712160" y="3501720"/>
            <a:ext cx="2520" cy="1572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4" name="Straight Arrow Connector 51"/>
          <p:cNvCxnSpPr/>
          <p:nvPr/>
        </p:nvCxnSpPr>
        <p:spPr>
          <a:xfrm>
            <a:off x="5714640" y="58579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5" name="Straight Arrow Connector 55"/>
          <p:cNvCxnSpPr/>
          <p:nvPr/>
        </p:nvCxnSpPr>
        <p:spPr>
          <a:xfrm>
            <a:off x="2714400" y="5928840"/>
            <a:ext cx="85788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6" name="Straight Arrow Connector 60"/>
          <p:cNvCxnSpPr/>
          <p:nvPr/>
        </p:nvCxnSpPr>
        <p:spPr>
          <a:xfrm>
            <a:off x="2928960" y="3500280"/>
            <a:ext cx="643320" cy="215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Straight Arrow Connector 63"/>
          <p:cNvCxnSpPr/>
          <p:nvPr/>
        </p:nvCxnSpPr>
        <p:spPr>
          <a:xfrm flipH="1">
            <a:off x="2857320" y="4643280"/>
            <a:ext cx="71496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8" name="Straight Arrow Connector 66"/>
          <p:cNvCxnSpPr/>
          <p:nvPr/>
        </p:nvCxnSpPr>
        <p:spPr>
          <a:xfrm flipH="1">
            <a:off x="4714560" y="4573440"/>
            <a:ext cx="216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9" name="Straight Arrow Connector 68"/>
          <p:cNvCxnSpPr/>
          <p:nvPr/>
        </p:nvCxnSpPr>
        <p:spPr>
          <a:xfrm>
            <a:off x="6000840" y="4571640"/>
            <a:ext cx="6433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0" name="Straight Arrow Connector 71"/>
          <p:cNvCxnSpPr/>
          <p:nvPr/>
        </p:nvCxnSpPr>
        <p:spPr>
          <a:xfrm flipV="1">
            <a:off x="5928120" y="3285720"/>
            <a:ext cx="35820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2"/>
          <p:cNvSpPr/>
          <p:nvPr/>
        </p:nvSpPr>
        <p:spPr>
          <a:xfrm>
            <a:off x="1714680" y="1272240"/>
            <a:ext cx="650052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c9da92"/>
                </a:solidFill>
                <a:latin typeface="Arial"/>
                <a:ea typeface="Traffic"/>
              </a:rPr>
              <a:t>*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عریف مجموعه ای از هدفهای مشخص و معین برای دوره های زمانی خاص به گونه ای که دستیابی به آنها به تحقق رسالت سازمان بینجام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2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هدفهای خرد و کل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785880" y="4409640"/>
            <a:ext cx="7572240" cy="10695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ین اهداف به مثابه مبنای برنامه ریزی ، خط مشی گذاری و تعیین استانداردهای عملکرد مورد استفاده قرار می گیر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2"/>
          <p:cNvSpPr/>
          <p:nvPr/>
        </p:nvSpPr>
        <p:spPr>
          <a:xfrm>
            <a:off x="357120" y="651960"/>
            <a:ext cx="83581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”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ارزشها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”باورهای عمیق و پایدار نسبت به بایدها و نبایدها هستند و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” فرهنگ سازمانی ”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را شکل می ده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”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فرهنگ سازمانی ” ، سیستم ارزشی غالب برای کل سازمان است که بر ارزشهای مدیران و سایر اعضائ سازمان تاثیر عمده دارد و ”وحدت جهت ”را درکل سازمان ممکن می ساز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منافع استراتژیک حاصل از وجود فرهنگ مثبت و قوی عبارتند از</a:t>
            </a:r>
            <a:r>
              <a:rPr b="1" i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i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1)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ه شکل گیری هویت نهادی کمک کرده و به سازمان نوعی شخصیت می بخش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2)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ارزشهای مشترک به هدایت رفتار اعضائ سازمان و معنی دار شدن رفتار ها کمک می کن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14240" y="5401800"/>
            <a:ext cx="7786800" cy="12153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”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ررسی و مطالعه برای انطباق استراتژی ، فرهنگ و ارزشهای  سازمانی“  برای تدوین استراتژی گامی بسیار مهم بشمار می آید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1000080" y="26424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3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شناسایی ارزشهای محوری و فرهنگ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357120" y="2126520"/>
            <a:ext cx="8572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ین مرحله یعنی شناسایی قوتها و ضعفهای سازمان درمقایسه با سایر سازمانها بطوریکه ارزیابی دقیقی از منابع سازمانی به دست آید تا در امر تدوین و تنظیم استراتژی مورد استفاده قرار گی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642960" y="4503960"/>
            <a:ext cx="7786800" cy="184932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ر اساس ”</a:t>
            </a:r>
            <a:r>
              <a:rPr b="1" i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اصل همپایانی“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هر سیستم سازمانی ممکن است از چندین راه مختلف به اهداف خود دست یابد لیکن شناسایی قوتها و ضعفهای سازمان موجب می شود مدیران از میان طرق مختلف ” مناسب ترین ” راه را برای نیل به اهداف سازمان  باز یاب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4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شناسایی نقاط قوت و ضعف داخلی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2"/>
          <p:cNvSpPr/>
          <p:nvPr/>
        </p:nvSpPr>
        <p:spPr>
          <a:xfrm>
            <a:off x="428760" y="1052640"/>
            <a:ext cx="84294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میزان اثر بخشی استراتژیها و راهبردهای سازمان تحت تاثیر عوامل موجود در محیط داخلی و خارجی آن قرار دا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یکی از روشهای سودمند برای انتخاب راهبردهای مناسب استفاده از فن ” تحلیل قوت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–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ضعف  ، فرصت – تهدید“ است که یکی از ابزارهای مهم برنامه ریزی استراتژیک نیز بشمار می آید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57120" y="3278520"/>
            <a:ext cx="8501040" cy="379224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در این تحلیل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 u="sng">
                <a:solidFill>
                  <a:srgbClr val="dbf5f9"/>
                </a:solidFill>
                <a:uFillTx/>
                <a:latin typeface="Arial"/>
                <a:ea typeface="Traffic"/>
              </a:rPr>
              <a:t>” </a:t>
            </a:r>
            <a:r>
              <a:rPr b="1" lang="fa-IR" sz="16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قدرت نفوذ سازمان ” 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از طریق مقایسه فرصتهای محیطی با قوتهای سازمان معین می شود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متمرکز شدن هر تهدید محیطی بر یکی از ضعفها ی سازمان و جود یک </a:t>
            </a:r>
            <a:r>
              <a:rPr b="1" lang="fa-IR" sz="1600" spc="-1" strike="noStrike" u="sng">
                <a:solidFill>
                  <a:srgbClr val="dbf5f9"/>
                </a:solidFill>
                <a:uFillTx/>
                <a:latin typeface="Arial"/>
                <a:ea typeface="Traffic"/>
              </a:rPr>
              <a:t>” مساله ” 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را هشدار می ده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در بسیاری موارد تهدید های محیطی علیه قوتهای سازمان آن را در </a:t>
            </a:r>
            <a:r>
              <a:rPr b="1" lang="fa-IR" sz="1600" spc="-1" strike="noStrike" u="sng">
                <a:solidFill>
                  <a:srgbClr val="dbf5f9"/>
                </a:solidFill>
                <a:uFillTx/>
                <a:latin typeface="Arial"/>
                <a:ea typeface="Traffic"/>
              </a:rPr>
              <a:t>” محدودیت ” 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قرار می دهد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و تلاقی فرصتهای محیطی با ضعفهای سازمان دلالت بر وجود نوعی </a:t>
            </a:r>
            <a:r>
              <a:rPr b="1" lang="fa-IR" sz="1600" spc="-1" strike="noStrike" u="sng">
                <a:solidFill>
                  <a:srgbClr val="dbf5f9"/>
                </a:solidFill>
                <a:uFillTx/>
                <a:latin typeface="Arial"/>
                <a:ea typeface="Traffic"/>
              </a:rPr>
              <a:t>” آسیب پذیری ” 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در سازمان اس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5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شناسایی محیط از حیث فرصتها و تهدید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2"/>
          <p:cNvSpPr/>
          <p:nvPr/>
        </p:nvSpPr>
        <p:spPr>
          <a:xfrm>
            <a:off x="285840" y="134676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14240" y="1189080"/>
            <a:ext cx="1857600" cy="26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فرصتهای محیطی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قابلیت افزایش خطوط تولید</a:t>
            </a:r>
            <a:r>
              <a:rPr b="1" lang="fa-IR" sz="11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امکان ورود به بازارهای جدید</a:t>
            </a:r>
            <a:r>
              <a:rPr b="1" lang="fa-IR" sz="11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امکان دستیابی به فن آوریهای های موردنیاز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6643800" y="4359600"/>
            <a:ext cx="2143080" cy="218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ضعفهای سازمان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محدودیت خطوط تولید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فقدان بینش مدیریتی عمیق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بالابودن هزینه عملیات به دلیل وجود نیروی انسانی مازاد و  فرسودگی تجهیزات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ناتوانی در تامین سرمایه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ارائه تصویر ضعیف از سازمان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500040" y="4669200"/>
            <a:ext cx="2143080" cy="209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هدید های محیط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تغییر سلایق مشتریان و ارباب رجوع</a:t>
            </a:r>
            <a:r>
              <a:rPr b="1" lang="fa-IR" sz="11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احتمال ورود رقبای جدید</a:t>
            </a:r>
            <a:r>
              <a:rPr b="1" lang="fa-IR" sz="11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تغییر خط مشی ها و مقررات دولتی (در جهت مغایر با منافع سازمان )</a:t>
            </a:r>
            <a:r>
              <a:rPr b="1" lang="fa-IR" sz="11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1143000" y="549720"/>
            <a:ext cx="757224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جزیه و تحلیل قوت – ضعف ، فرصت و تهدی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6500880" y="1701000"/>
            <a:ext cx="1857240" cy="16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قوتهای سازمان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توان کاهش هزینه تولی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منابع مالی موجود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وفاداری مشتریا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امکانات جدید تولی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حق امتیاز های گوناگو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44"/>
          <p:cNvCxnSpPr/>
          <p:nvPr/>
        </p:nvCxnSpPr>
        <p:spPr>
          <a:xfrm>
            <a:off x="2857680" y="2428920"/>
            <a:ext cx="33580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0" name="Straight Arrow Connector 55"/>
          <p:cNvCxnSpPr/>
          <p:nvPr/>
        </p:nvCxnSpPr>
        <p:spPr>
          <a:xfrm>
            <a:off x="2714400" y="5928840"/>
            <a:ext cx="38581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1" name="Straight Arrow Connector 60"/>
          <p:cNvCxnSpPr/>
          <p:nvPr/>
        </p:nvCxnSpPr>
        <p:spPr>
          <a:xfrm>
            <a:off x="2785680" y="3428640"/>
            <a:ext cx="3715560" cy="1715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2" name="Straight Arrow Connector 63"/>
          <p:cNvCxnSpPr/>
          <p:nvPr/>
        </p:nvCxnSpPr>
        <p:spPr>
          <a:xfrm flipH="1">
            <a:off x="2785680" y="3499200"/>
            <a:ext cx="3643920" cy="1358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sp>
        <p:nvSpPr>
          <p:cNvPr id="313" name="Straight Connector 30"/>
          <p:cNvSpPr/>
          <p:nvPr/>
        </p:nvSpPr>
        <p:spPr>
          <a:xfrm flipH="1">
            <a:off x="3357360" y="1785960"/>
            <a:ext cx="2214360" cy="5072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6929280" y="1201680"/>
            <a:ext cx="1071720" cy="38592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سازم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1071720" y="1201680"/>
            <a:ext cx="1071360" cy="38592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حی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500280" y="2000880"/>
            <a:ext cx="171468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قدرت نفوذ سازم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3143160" y="3630600"/>
            <a:ext cx="107172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حدودیت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4857840" y="3498120"/>
            <a:ext cx="10713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آسیب پذیر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4284720" y="5504040"/>
            <a:ext cx="107136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سای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2"/>
          <p:cNvSpPr/>
          <p:nvPr/>
        </p:nvSpPr>
        <p:spPr>
          <a:xfrm>
            <a:off x="900000" y="3305880"/>
            <a:ext cx="7488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1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971640" y="1166760"/>
            <a:ext cx="7200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فنون مورد استفاده در تدوين راهبرد در كل سازمان عبارتند از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Arial"/>
                <a:ea typeface="Traffic"/>
              </a:rPr>
              <a:t>7S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دل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en-US" sz="1800" spc="-1" strike="noStrike">
                <a:solidFill>
                  <a:srgbClr val="dbf5f9"/>
                </a:solidFill>
                <a:latin typeface="Arial"/>
                <a:ea typeface="Traffic"/>
              </a:rPr>
              <a:t>BCG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اتريس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سبد سرمايه گذاري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ررسي تاثير راهبرد هاي بازار بر سود 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826920" y="4777920"/>
            <a:ext cx="7572600" cy="10695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نتخاب راهبرد بايد به گونه اي باشد كه استفاده از منابع موجود در جهت تحقق رسالت سازمان امكان پذير گرد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2"/>
          <p:cNvSpPr/>
          <p:nvPr/>
        </p:nvSpPr>
        <p:spPr>
          <a:xfrm>
            <a:off x="826920" y="1731600"/>
            <a:ext cx="74901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2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55640" y="1413000"/>
            <a:ext cx="76327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دل سبد سرمايه 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راي انتخاب بهترين تركيب سرمايه گذاري از ميان فرصتهاي بديل به كار مي ر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و به مديران در سرمايه گذاري منابع كمياب ، تركيب واحدهاي سازماني ،‌ تركيب خطوط توليد محصول ، ارزيابي راهبرد هاي كلان رشد ، ‌حفط وضع موجود و ثبات براي سازمان و واحدهاي فرعي كمك مي كن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826920" y="1731600"/>
            <a:ext cx="74901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3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9640" y="1413000"/>
            <a:ext cx="81360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دل ماتريس بي ، سي ، جي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گروه بوستون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يك روش متداول برنامه ريزي است كه توسط گروه مشاورين بوستون ارائه شد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در اين روش براي تدوين راهبرد ، با استفاده از برنامه ريزي سبد سرمايه گذاري ، فرصتهاي محيطي بر مبناي نرخ رشد و سهم بازار تحليل مي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در اين تحليل هر سازمان با يكي از چهار حالت ممكن زير روبرو خواهد ش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سهم زياد / رشد زيا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سهم زياد / رشد كم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سهم كم / رشد زيا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سهم كم / رشد كم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2"/>
          <p:cNvSpPr/>
          <p:nvPr/>
        </p:nvSpPr>
        <p:spPr>
          <a:xfrm>
            <a:off x="285840" y="155628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1143000" y="549720"/>
            <a:ext cx="757224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ماتریس گروه مشاوره بوست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4643280" y="1536480"/>
            <a:ext cx="3214800" cy="233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وضعیت ” سهم کم / رشد زیاد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راهبرد های قابل  توصیه ” رشد یا حفظ وضع موجود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به کار گیری منابع برای تغییر وضعیت در جهت مثبت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عقب نشینی در صورتیکه چشم انداز آینده مناسب نباش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traight Arrow Connector 16"/>
          <p:cNvCxnSpPr/>
          <p:nvPr/>
        </p:nvCxnSpPr>
        <p:spPr>
          <a:xfrm flipV="1">
            <a:off x="8214120" y="1856520"/>
            <a:ext cx="252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34" name="Straight Arrow Connector 24"/>
          <p:cNvCxnSpPr/>
          <p:nvPr/>
        </p:nvCxnSpPr>
        <p:spPr>
          <a:xfrm>
            <a:off x="8243640" y="4723920"/>
            <a:ext cx="1080" cy="57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35" name="Straight Arrow Connector 26"/>
          <p:cNvCxnSpPr/>
          <p:nvPr/>
        </p:nvCxnSpPr>
        <p:spPr>
          <a:xfrm>
            <a:off x="6372360" y="5950080"/>
            <a:ext cx="10720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36" name="Straight Arrow Connector 29"/>
          <p:cNvCxnSpPr/>
          <p:nvPr/>
        </p:nvCxnSpPr>
        <p:spPr>
          <a:xfrm flipH="1" flipV="1">
            <a:off x="2267640" y="6021000"/>
            <a:ext cx="1143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37" name="Rectangle 12"/>
          <p:cNvSpPr/>
          <p:nvPr/>
        </p:nvSpPr>
        <p:spPr>
          <a:xfrm>
            <a:off x="7929720" y="1429560"/>
            <a:ext cx="50004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زیا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1692360" y="5806080"/>
            <a:ext cx="50004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زیا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7451640" y="5734080"/>
            <a:ext cx="50004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ک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8028000" y="5361120"/>
            <a:ext cx="50004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ک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7929720" y="2711880"/>
            <a:ext cx="785520" cy="213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نرخ رشد بازار برای محصولات و خدم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492360" y="5792760"/>
            <a:ext cx="278604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سهم بازار محصولات و خدم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1071720" y="3637440"/>
            <a:ext cx="3214440" cy="18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وضعیت ” سهم زیاد / رشد کم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راهبرد های قابل  توصیه ” حفظ ثبات یا رشد متوسط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بهره گرفتن از مزایای حفظ نقدینگی ضمن حفظ حداقل سرمایه گذاری منابع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4643280" y="3759120"/>
            <a:ext cx="321480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وضعیت ” سهم کم / رشد کم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راهبرد های قابل  توصیه ” حفظ وضع موجود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فروش دارائیهای مازاد ، عدم سرمایه گذاری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کار کردن به صورت نقدی برای کمبود مناب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143000" y="1848240"/>
            <a:ext cx="321480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وضعیت ” سهم زیاد/ رشد زیاد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راهبرد های قابل  توصیه ” رشد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افزایش منابع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توسعه فعالیت بر مبنای پیش بینی اوضاع بازا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1143000" y="243000"/>
            <a:ext cx="69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تفکر راهبر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بر توان دیدن آینده و شناخت پویایی محیط و حضور اثر بخش سازمان یا واحد مورد نظر برای کسب موفقیت مستمر در طی زمان دلالت دارد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714240" y="3187800"/>
            <a:ext cx="79297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راهبرد </a:t>
            </a:r>
            <a:r>
              <a:rPr b="1" lang="fa-IR" sz="2800" spc="-1" strike="noStrike" u="sng">
                <a:solidFill>
                  <a:srgbClr val="dbf5f9"/>
                </a:solidFill>
                <a:uFillTx/>
                <a:latin typeface="Arial"/>
                <a:ea typeface="Titr"/>
              </a:rPr>
              <a:t> ( استراتژ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itr"/>
              </a:rPr>
              <a:t>یک برنامه جامع برای عمل است که جهت گیریهای عمده سازمان را معین می کند و رهنمودهایی برای تخصیص منابع در مسیر کسب هدفهای بلند مدت سازمانی ارائه می ده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826920" y="1731600"/>
            <a:ext cx="74901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39640" y="1413000"/>
            <a:ext cx="8136000" cy="35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بررسي تاثير راهبرد هاي بازار بر سود آو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جامع ترين مطالعه صورت گرفته در زمينه عوامل راهبردي تاكنون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”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ررسي تاثير راهبرد هاي بازار بر سود آوري و ايجاد پايگاه اطلاعاتي براي آن ” مي باش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در اين پروژه به صورت مستمر و در دامنه اي گسترده ، اطلاعات بيش از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1500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سازمان توليدي و خدماتي جمع آوري ش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900000" y="4947480"/>
            <a:ext cx="7572600" cy="126144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نتايج حاصل از اين مطالعه حاكي از اين است كه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نرخ بازگشت سرمايه 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بيشتر تحت تاثير عواملي نظير </a:t>
            </a:r>
            <a:r>
              <a:rPr b="1" i="1" lang="fa-IR" sz="16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سهم بازار ، شدت سرمايه گذاري و تنوع فعاليتهاي سازمان مادر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قرار دارد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2"/>
          <p:cNvSpPr/>
          <p:nvPr/>
        </p:nvSpPr>
        <p:spPr>
          <a:xfrm>
            <a:off x="826920" y="1731600"/>
            <a:ext cx="74901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6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39640" y="1197000"/>
            <a:ext cx="8136000" cy="59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و فرهنگ سازماني </a:t>
            </a: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7</a:t>
            </a: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S 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مدل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گروه مشاوران مك كين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اين گروه چار چوبي را با در نظر گرفتن هفت عامل براي ارزيابي سازمانها و تدوين استراتژي مناسب براي آنها ارائه كردن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اين هفت عامل عبارتند از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ساختار ، راهبرد ( استراتژي ) ، سيستمها ، كاركنان ، مهارتها ، سبك ، ارزشهاي 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پيترز و واترمن در كتاب ( در جستجوي كمال )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عمولاً موفقيت سازمانها را ناشي از سخت افزارها ( ساختار ، راهبرد ، سيستمها ) ميدانند در حاليكه نرم افزارها ( كاركنان، مهارتها ، سبك ، ارزشهاي مشترك) كه نقش حائز اهميتي  درموفقيت سازمانها دارند ناديده گرفته مي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2"/>
          <p:cNvSpPr/>
          <p:nvPr/>
        </p:nvSpPr>
        <p:spPr>
          <a:xfrm>
            <a:off x="539640" y="1499400"/>
            <a:ext cx="80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آرتور و پاسكال نيز مدعي هستند كه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اثيرعوامل نرم افزاري در موفقيت سازمانها در بلند مدت انكار ناپذير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bf5f9"/>
                </a:solidFill>
                <a:latin typeface="Arial"/>
                <a:ea typeface="Traffic"/>
              </a:rPr>
              <a:t>7S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فوايد مدل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*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به </a:t>
            </a:r>
            <a:r>
              <a:rPr b="1" lang="fa-IR" sz="20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مديران و تحليلگران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در شناخت فرهنگ سازماني كمك مي كن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به </a:t>
            </a:r>
            <a:r>
              <a:rPr b="1" lang="fa-IR" sz="20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تدوين كنندگان راهبرد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در مقايسه سازمان با ساير سازمانها از حيث هفت عامل و شناسايي نقاط ضعف و قوت كمك مي ك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به </a:t>
            </a:r>
            <a:r>
              <a:rPr b="1" lang="fa-IR" sz="20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مجريان راهب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با تغيير در ويژگيها ي سازمان و فرهنگ آن جهت اجراي موفقيت آميز راهبرد كمك مي كن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7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39640" y="1125360"/>
            <a:ext cx="813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و فرهنگ سازماني </a:t>
            </a: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7</a:t>
            </a: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S 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مدل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2"/>
          <p:cNvSpPr/>
          <p:nvPr/>
        </p:nvSpPr>
        <p:spPr>
          <a:xfrm>
            <a:off x="468360" y="1685880"/>
            <a:ext cx="828036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20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نكات مهم در تدوين راهبرد عبارتند از</a:t>
            </a:r>
            <a:r>
              <a:rPr b="1" lang="fa-IR" sz="2000" spc="-1" strike="noStrike" u="sng">
                <a:solidFill>
                  <a:srgbClr val="dbf5f9"/>
                </a:solidFill>
                <a:uFillTx/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هديد ناشي از ورود رقباي جديد به باز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قدرت چانه زني تامين كنندگان مواد اوليه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قدرت چانه زني مشتريان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هديد ناشي از جايگزين شدن محصولات يا خدمات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رقابت سازمانها و موسسات موجود در صنعت مورد نظر براي كسب موقعيت بر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7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539640" y="1052640"/>
            <a:ext cx="813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و فرهنگ سازماني </a:t>
            </a: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7</a:t>
            </a:r>
            <a:r>
              <a:rPr b="1" lang="en-US" sz="2800" spc="-1" strike="noStrike">
                <a:solidFill>
                  <a:srgbClr val="dbf5f9"/>
                </a:solidFill>
                <a:latin typeface="Arial"/>
                <a:ea typeface="Traffic"/>
              </a:rPr>
              <a:t>S 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مدل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900000" y="5044680"/>
            <a:ext cx="7572600" cy="165060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دشواري ايجاد تغيير در فرهنگ سازمان و زمان مورد نياز براي اين منظور را نبايد از نظر دور داشت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dbf5f9"/>
                </a:solidFill>
                <a:latin typeface="Arial"/>
                <a:cs typeface="Traffic"/>
              </a:rPr>
              <a:t>مدت زمان لازم براي تغيير فرهنگ سازماني بطور دقيق تاكنون معين نشده است</a:t>
            </a:r>
            <a:r>
              <a:rPr b="1" lang="fa-IR" sz="16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2"/>
          <p:cNvSpPr/>
          <p:nvPr/>
        </p:nvSpPr>
        <p:spPr>
          <a:xfrm>
            <a:off x="755640" y="133128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000080" y="186120"/>
            <a:ext cx="7572600" cy="10695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-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4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  ( عوامل هفتگانه  موثر بر رقابت در صنعت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39640" y="1268280"/>
            <a:ext cx="81360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دل ماتريس بي ، سي ، جي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گروه بوستون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826920" y="2421000"/>
          <a:ext cx="7472520" cy="3835440"/>
        </p:xfrm>
        <a:graphic>
          <a:graphicData uri="http://schemas.openxmlformats.org/drawingml/2006/table">
            <a:tbl>
              <a:tblPr/>
              <a:tblGrid>
                <a:gridCol w="5648400"/>
                <a:gridCol w="1176480"/>
                <a:gridCol w="64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توضي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عام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ردي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نظور مجموعه اي از ويژگيهاي سازماني است كه با ابعادي نظير متمركز ، پيچيدگي ،و رسميت سروكار دارد و برخي از آنها در نمودار سازماني نشان داده مي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ساخت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راي تحقق اهداف كلان سازمان و بر مبناي پيش بيني تحولات محيطي تنظيم مي شود و بر مبناي آن مسئوليتها و تعهداتي براي سازمان ايجاد مي شو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راهبر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فراگردهايي كه وروديهاي متنوعي را اخذ و به خروجيهاي گوناگون تبديل مي كنن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سيستم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تخصصان و نيروهاي گوناگون مورد نياز سازمان ، نظير مهندسان ، حسابداران ، فروشندگان و كارشنا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كاركنا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ويژگيها و توانمنديهاي برجسته سازمان و افراد آن، در مقايسه با رقب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هارت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گوهاي رفتاري و سبكهاي مديريتي ” مديران ارشد سازمان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سب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صول و مفاهيم ارزشي كه سازمان به آعضائ خود القائ مي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رزشهاي مشتر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285840" y="156132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1143000" y="549720"/>
            <a:ext cx="757224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عوامل پنجگانه موثر بر رقابت در صنع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6429240" y="3198240"/>
            <a:ext cx="2000520" cy="14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cs typeface="Traffic"/>
              </a:rPr>
              <a:t>تامین کنندگان مواد اولی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استفاده از قدرت چانه زنی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26"/>
          <p:cNvCxnSpPr/>
          <p:nvPr/>
        </p:nvCxnSpPr>
        <p:spPr>
          <a:xfrm>
            <a:off x="2857320" y="400068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29"/>
          <p:cNvCxnSpPr/>
          <p:nvPr/>
        </p:nvCxnSpPr>
        <p:spPr>
          <a:xfrm flipH="1" flipV="1">
            <a:off x="4285440" y="6500520"/>
            <a:ext cx="1143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69" name="Rectangle 12"/>
          <p:cNvSpPr/>
          <p:nvPr/>
        </p:nvSpPr>
        <p:spPr>
          <a:xfrm>
            <a:off x="3500280" y="2733480"/>
            <a:ext cx="2000520" cy="253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Traffic"/>
              </a:rPr>
              <a:t>سازمانهای رقی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raffic"/>
              </a:rPr>
              <a:t>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Traffic"/>
              </a:rPr>
              <a:t>رقابت در صنع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714240" y="3288600"/>
            <a:ext cx="2071800" cy="14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cs typeface="Traffic"/>
              </a:rPr>
              <a:t>مشتریان و خریدار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استفاده از قدرت چانه زنی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9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3071880" y="5039280"/>
            <a:ext cx="3214800" cy="17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رائه کنندگان محصولات جایگزی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تلاش برای ارائه محصولات و خدمات جدید به منزله جایگزین خدمات و محصولات موجود</a:t>
            </a:r>
            <a:r>
              <a:rPr b="1" lang="fa-IR" sz="10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2857680" y="1304640"/>
            <a:ext cx="3214440" cy="13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رقبای جدی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تلاش برای ورود به بازا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000" spc="-1" strike="noStrike">
                <a:solidFill>
                  <a:srgbClr val="000000"/>
                </a:solidFill>
                <a:latin typeface="Arial"/>
                <a:cs typeface="Traffic"/>
              </a:rPr>
              <a:t>توسعه فعالیت بر مبنای پیش بینی اوضاع بازا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20"/>
          <p:cNvCxnSpPr/>
          <p:nvPr/>
        </p:nvCxnSpPr>
        <p:spPr>
          <a:xfrm flipH="1">
            <a:off x="4427280" y="27860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Straight Arrow Connector 22"/>
          <p:cNvCxnSpPr/>
          <p:nvPr/>
        </p:nvCxnSpPr>
        <p:spPr>
          <a:xfrm flipV="1">
            <a:off x="4500720" y="48574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Straight Arrow Connector 25"/>
          <p:cNvCxnSpPr/>
          <p:nvPr/>
        </p:nvCxnSpPr>
        <p:spPr>
          <a:xfrm flipH="1" flipV="1">
            <a:off x="5571360" y="40003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826920" y="1731600"/>
            <a:ext cx="74901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928800" y="186120"/>
            <a:ext cx="7072200" cy="10695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در سطح </a:t>
            </a:r>
            <a:r>
              <a:rPr b="1" lang="fa-IR" sz="20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موسسه يا فعاليتهاي عمده سازمان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00040" y="4071960"/>
            <a:ext cx="83581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چهار راهبرد کلی سازمانها برای کسب مزیت رقابتی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1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تمایز ساختن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2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پیشتازی درصرفه جویی و کاهش هزینه ها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3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صرف هزینه به صورت متمرک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4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تمایز ساختن به صورت متمرکز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28760" y="2500200"/>
            <a:ext cx="835812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روش تدوين استراتژيهاي رقاب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ین رهیافت با تحلیل محیط رقابتی سازمان شروع می شود ، بنا براین می توان راهبردهایی را انتخاب کرد که مزیت رقابتی سازمان را در مقایسه با رقبایش افزایش دهد</a:t>
            </a:r>
            <a:r>
              <a:rPr b="0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857240" y="1214280"/>
            <a:ext cx="52866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وش تدوين استراتژيهاي رقابتي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وش تدوين استراتژيهاي انطباقي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چرخه حيات محص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"/>
          <p:cNvSpPr/>
          <p:nvPr/>
        </p:nvSpPr>
        <p:spPr>
          <a:xfrm>
            <a:off x="428760" y="156132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1143000" y="549720"/>
            <a:ext cx="757224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راهبرد هاي رقابتي عام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16"/>
          <p:cNvCxnSpPr/>
          <p:nvPr/>
        </p:nvCxnSpPr>
        <p:spPr>
          <a:xfrm flipV="1">
            <a:off x="8428680" y="2851920"/>
            <a:ext cx="306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4" name="Straight Arrow Connector 24"/>
          <p:cNvCxnSpPr/>
          <p:nvPr/>
        </p:nvCxnSpPr>
        <p:spPr>
          <a:xfrm>
            <a:off x="8429400" y="36428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Straight Arrow Connector 26"/>
          <p:cNvCxnSpPr/>
          <p:nvPr/>
        </p:nvCxnSpPr>
        <p:spPr>
          <a:xfrm>
            <a:off x="5143320" y="17143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Straight Arrow Connector 29"/>
          <p:cNvCxnSpPr/>
          <p:nvPr/>
        </p:nvCxnSpPr>
        <p:spPr>
          <a:xfrm flipH="1" flipV="1">
            <a:off x="2856960" y="1714320"/>
            <a:ext cx="78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7" name="Rectangle 12"/>
          <p:cNvSpPr/>
          <p:nvPr/>
        </p:nvSpPr>
        <p:spPr>
          <a:xfrm>
            <a:off x="8028000" y="2421720"/>
            <a:ext cx="865080" cy="3859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گسترده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714680" y="1355760"/>
            <a:ext cx="1147680" cy="67788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تمايز ساختن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5857920" y="1500840"/>
            <a:ext cx="1297080" cy="3859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كاهش هزين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8001000" y="4144680"/>
            <a:ext cx="863640" cy="3859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حد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7429680" y="3215520"/>
            <a:ext cx="1434960" cy="3859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قلمرو رقابت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3714840" y="1500840"/>
            <a:ext cx="1347840" cy="3859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زيت رقابت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928800" y="3878640"/>
            <a:ext cx="2900160" cy="8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متمايز ساختن به صورت متمرك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5000760" y="3878640"/>
            <a:ext cx="2786040" cy="8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صرف هزينه به صورت متمرك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1214280" y="2430000"/>
            <a:ext cx="232920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متمايز ساختن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5143680" y="2164320"/>
            <a:ext cx="2357280" cy="8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پيشتازي در صرفه جو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826920" y="1731600"/>
            <a:ext cx="74901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000080" y="90720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در سطح </a:t>
            </a:r>
            <a:r>
              <a:rPr b="1" lang="fa-IR" sz="20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موسسه يا فعاليتهاي عمده سازمان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28760" y="1714680"/>
            <a:ext cx="82864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وش تدوين استراتژيهاي انطباقي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سازمانها باید راهبردهایی را در مورد محصولات و بازار خود انتخاب کنند که با ماهیت محیط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خارجی آنها سازگار باش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اهبردهای چهار گانه در چارچوب مدل انطباقی عبارتند از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1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اهبرد پیشروی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2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اهبرد تدافعی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3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اهبرد تحلیلگر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4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اهبرد واکنش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755640" y="133128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نواع راهبرد انطباق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39640" y="1268280"/>
            <a:ext cx="813600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539640" y="1700280"/>
          <a:ext cx="8137800" cy="2987640"/>
        </p:xfrm>
        <a:graphic>
          <a:graphicData uri="http://schemas.openxmlformats.org/drawingml/2006/table">
            <a:tbl>
              <a:tblPr/>
              <a:tblGrid>
                <a:gridCol w="3084480"/>
                <a:gridCol w="1409760"/>
                <a:gridCol w="2592360"/>
                <a:gridCol w="10512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ويژگيهاي سازم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 مناسب براي 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وع محيط مناسب براي 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شر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فعاليتهاي آ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ا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 راهبر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خلاق ، نوآور ، ‌منعطف و غير متمرك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پويا و رو به رش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خاطره پذير است و مترصد نوآوري و رشد و كشف فرصت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پيشرو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ه شدت كنترلي ، متمركز ، كارآ در توليد ،‌كاهش دهنده هزينه سرب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نسبتاً پايد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ز تغيير اجتناب مي كند و در جستجوي ثبات و احتمالاً تحكيم مواضع موجود اس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دافع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ه شدت كنترلي ، منعطف ، كارآ در توليد و خلا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داراي تغييرات نسبتاً مت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ضمن تلاش محدود براي نو آوري به حفظ ثبات مي پرداز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حليلگر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نعطف در برابر نيازهاي جاري و فاقد ويژگيهاي ساختاري مشخ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هر نوع محيط 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وقعيت مقت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در برابر رخدادها به طور واكنشي عمل مي كند ، بدون آنكه يك راهبرد راهنما داشته باش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واكنش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2"/>
          <p:cNvSpPr/>
          <p:nvPr/>
        </p:nvSpPr>
        <p:spPr>
          <a:xfrm>
            <a:off x="1143000" y="257400"/>
            <a:ext cx="6912000" cy="19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راهبرد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ea typeface="Traffic"/>
              </a:rPr>
              <a:t> ،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الگوی تصمیم هایی است که در سازمان اتخاذ می شود و فعالیتها و نتایج را شکل می دهد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357120" y="2085840"/>
            <a:ext cx="84297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سطوح سه گانه راهبرد در سازمان</a:t>
            </a:r>
            <a:r>
              <a:rPr b="1" lang="fa-IR" sz="2800" spc="-1" strike="noStrike" u="sng">
                <a:solidFill>
                  <a:srgbClr val="dbf5f9"/>
                </a:solidFill>
                <a:uFillTx/>
                <a:latin typeface="Arial"/>
                <a:ea typeface="Traff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راهبرد سطح سازمان مادر ( جهت هایی که کل سازمان باید تعقیب کند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راهبرد سطح موسسه ( شیوه های عمده رقابت در هر یک از بخشها و فعالیتهای سازمان)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راهبرد سطح عملیاتی( نحوه فعالیت درهر ناحیه وظیفه ای سازمان در حمایت از راهبردهای سطح موسسه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ea typeface="Traffi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2"/>
          <p:cNvSpPr/>
          <p:nvPr/>
        </p:nvSpPr>
        <p:spPr>
          <a:xfrm>
            <a:off x="826920" y="1731600"/>
            <a:ext cx="74901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857160" y="6213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چرخه حیات محصول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571680" y="1428840"/>
            <a:ext cx="7929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چرخه حيات محصول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زنجیره ای از مراحل تولید الی توزیع و بازاریابی یک محصول یا خدمت را در طول حیات آن نشان می ده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چهار مرحله عمده چرخه حیات هر کالا عبارتند از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1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عرفی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2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رش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3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لوغ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4-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افول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1000080" y="5237280"/>
            <a:ext cx="7572600" cy="15573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در نظر گرفتن چرخه حیات محصول  اطلاعات بسیار سود مندی برای برخورد اقتضایی با تدوین راهبرد سطح موسسه فراهم می ساز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857160" y="6213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چرخه حیات محصول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179280" y="1428840"/>
            <a:ext cx="878544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95280" y="1916280"/>
          <a:ext cx="8317080" cy="3906720"/>
        </p:xfrm>
        <a:graphic>
          <a:graphicData uri="http://schemas.openxmlformats.org/drawingml/2006/table">
            <a:tbl>
              <a:tblPr/>
              <a:tblGrid>
                <a:gridCol w="1805040"/>
                <a:gridCol w="1774800"/>
                <a:gridCol w="1577880"/>
                <a:gridCol w="1596960"/>
                <a:gridCol w="15624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ناحیه ضر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هزینه ثاب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ف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لو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رشد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عرف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راحل چرخه حيات محص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عقب نشي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دفا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پيشرو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نفو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راهبرد هاي اساسي قابل استفاده در هر مرحله از چرخه ح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  <p:sp>
        <p:nvSpPr>
          <p:cNvPr id="413" name="Straight Connector 11"/>
          <p:cNvSpPr/>
          <p:nvPr/>
        </p:nvSpPr>
        <p:spPr>
          <a:xfrm flipV="1">
            <a:off x="500040" y="2428560"/>
            <a:ext cx="1440" cy="2143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13"/>
          <p:cNvSpPr/>
          <p:nvPr/>
        </p:nvSpPr>
        <p:spPr>
          <a:xfrm>
            <a:off x="500040" y="2428920"/>
            <a:ext cx="6643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5"/>
          <p:cNvSpPr/>
          <p:nvPr/>
        </p:nvSpPr>
        <p:spPr>
          <a:xfrm flipV="1">
            <a:off x="7143840" y="2428560"/>
            <a:ext cx="1440" cy="2144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7"/>
          <p:cNvSpPr/>
          <p:nvPr/>
        </p:nvSpPr>
        <p:spPr>
          <a:xfrm flipV="1">
            <a:off x="2214720" y="2428560"/>
            <a:ext cx="0" cy="2144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22"/>
          <p:cNvSpPr/>
          <p:nvPr/>
        </p:nvSpPr>
        <p:spPr>
          <a:xfrm flipV="1">
            <a:off x="3998160" y="2428560"/>
            <a:ext cx="1800" cy="2144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24"/>
          <p:cNvSpPr/>
          <p:nvPr/>
        </p:nvSpPr>
        <p:spPr>
          <a:xfrm flipV="1">
            <a:off x="5571360" y="2428560"/>
            <a:ext cx="1800" cy="2144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040" y="1743480"/>
            <a:ext cx="1478160" cy="77580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cs typeface="Traffic"/>
              </a:rPr>
              <a:t>پایان چرخه حی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5715000" y="1743480"/>
            <a:ext cx="1477800" cy="77580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cs typeface="Traffic"/>
              </a:rPr>
              <a:t>ابتدای چرخه حی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3714840" y="1759320"/>
            <a:ext cx="620640" cy="77580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cs typeface="Traffic"/>
              </a:rPr>
              <a:t>زمان</a:t>
            </a: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29"/>
          <p:cNvCxnSpPr/>
          <p:nvPr/>
        </p:nvCxnSpPr>
        <p:spPr>
          <a:xfrm>
            <a:off x="4428720" y="2142720"/>
            <a:ext cx="11437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23" name="Straight Arrow Connector 31"/>
          <p:cNvCxnSpPr/>
          <p:nvPr/>
        </p:nvCxnSpPr>
        <p:spPr>
          <a:xfrm flipH="1" flipV="1">
            <a:off x="2214360" y="2142360"/>
            <a:ext cx="13579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24" name="Rectangle 12"/>
          <p:cNvSpPr/>
          <p:nvPr/>
        </p:nvSpPr>
        <p:spPr>
          <a:xfrm>
            <a:off x="7143840" y="2416320"/>
            <a:ext cx="1477800" cy="38592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حداکثر فرو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7143840" y="2913120"/>
            <a:ext cx="1477800" cy="67788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یزان فروش ( سود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7215120" y="3845160"/>
            <a:ext cx="1478160" cy="38592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حداقل فرو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3214800" y="3643920"/>
            <a:ext cx="977760" cy="38592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ناحیه سود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500120" y="2568960"/>
            <a:ext cx="978120" cy="62964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منحنی فرو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2500200" y="2783160"/>
            <a:ext cx="978120" cy="62964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100" spc="-1" strike="noStrike">
                <a:solidFill>
                  <a:srgbClr val="000000"/>
                </a:solidFill>
                <a:latin typeface="Arial"/>
                <a:cs typeface="Traffic"/>
              </a:rPr>
              <a:t>منحنی سود</a:t>
            </a:r>
            <a:r>
              <a:rPr b="1" lang="fa-IR" sz="11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43"/>
          <p:cNvSpPr/>
          <p:nvPr/>
        </p:nvSpPr>
        <p:spPr>
          <a:xfrm>
            <a:off x="495360" y="2665440"/>
            <a:ext cx="6915240" cy="1581120"/>
          </a:xfrm>
          <a:custGeom>
            <a:avLst/>
            <a:gdLst/>
            <a:ahLst/>
            <a:rect l="l" t="t" r="r" b="b"/>
            <a:pathLst>
              <a:path w="6915150" h="1581150">
                <a:moveTo>
                  <a:pt x="0" y="1119717"/>
                </a:moveTo>
                <a:cubicBezTo>
                  <a:pt x="903816" y="559858"/>
                  <a:pt x="1807633" y="0"/>
                  <a:pt x="2654300" y="27517"/>
                </a:cubicBezTo>
                <a:cubicBezTo>
                  <a:pt x="3500967" y="55034"/>
                  <a:pt x="4413250" y="1032934"/>
                  <a:pt x="5080000" y="1284817"/>
                </a:cubicBezTo>
                <a:cubicBezTo>
                  <a:pt x="5746750" y="1536700"/>
                  <a:pt x="6394450" y="1496484"/>
                  <a:pt x="6654800" y="1538817"/>
                </a:cubicBezTo>
                <a:cubicBezTo>
                  <a:pt x="6915150" y="1581150"/>
                  <a:pt x="6778625" y="1559983"/>
                  <a:pt x="6642100" y="1538817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44"/>
          <p:cNvSpPr/>
          <p:nvPr/>
        </p:nvSpPr>
        <p:spPr>
          <a:xfrm>
            <a:off x="500040" y="3071880"/>
            <a:ext cx="6891480" cy="1573200"/>
          </a:xfrm>
          <a:custGeom>
            <a:avLst/>
            <a:gdLst/>
            <a:ahLst/>
            <a:rect l="l" t="t" r="r" b="b"/>
            <a:pathLst>
              <a:path w="6891867" h="1572683">
                <a:moveTo>
                  <a:pt x="0" y="1143000"/>
                </a:moveTo>
                <a:cubicBezTo>
                  <a:pt x="657225" y="571500"/>
                  <a:pt x="1314450" y="0"/>
                  <a:pt x="2159000" y="12700"/>
                </a:cubicBezTo>
                <a:cubicBezTo>
                  <a:pt x="3003550" y="25400"/>
                  <a:pt x="4322233" y="967317"/>
                  <a:pt x="5067300" y="1219200"/>
                </a:cubicBezTo>
                <a:cubicBezTo>
                  <a:pt x="5812367" y="1471083"/>
                  <a:pt x="6366933" y="1475317"/>
                  <a:pt x="6629400" y="1524000"/>
                </a:cubicBezTo>
                <a:cubicBezTo>
                  <a:pt x="6891867" y="1572683"/>
                  <a:pt x="6766983" y="1541991"/>
                  <a:pt x="6642100" y="1511300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5-Point Star 45"/>
          <p:cNvSpPr/>
          <p:nvPr/>
        </p:nvSpPr>
        <p:spPr>
          <a:xfrm>
            <a:off x="2357280" y="328608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5-Point Star 46"/>
          <p:cNvSpPr/>
          <p:nvPr/>
        </p:nvSpPr>
        <p:spPr>
          <a:xfrm>
            <a:off x="2000160" y="321480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8" h="214312">
                <a:moveTo>
                  <a:pt x="0" y="81860"/>
                </a:moveTo>
                <a:lnTo>
                  <a:pt x="158264" y="81860"/>
                </a:lnTo>
                <a:lnTo>
                  <a:pt x="207169" y="0"/>
                </a:lnTo>
                <a:lnTo>
                  <a:pt x="256074" y="81860"/>
                </a:lnTo>
                <a:lnTo>
                  <a:pt x="414338" y="81860"/>
                </a:lnTo>
                <a:lnTo>
                  <a:pt x="286299" y="132451"/>
                </a:lnTo>
                <a:lnTo>
                  <a:pt x="335207" y="214311"/>
                </a:lnTo>
                <a:lnTo>
                  <a:pt x="207169" y="163719"/>
                </a:lnTo>
                <a:lnTo>
                  <a:pt x="79131" y="214311"/>
                </a:lnTo>
                <a:lnTo>
                  <a:pt x="128039" y="13245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5-Point Star 47"/>
          <p:cNvSpPr/>
          <p:nvPr/>
        </p:nvSpPr>
        <p:spPr>
          <a:xfrm>
            <a:off x="1928880" y="3786120"/>
            <a:ext cx="414360" cy="214560"/>
          </a:xfrm>
          <a:custGeom>
            <a:avLst/>
            <a:gdLst>
              <a:gd name="textAreaLeft" fmla="*/ 127800 w 414360"/>
              <a:gd name="textAreaRight" fmla="*/ 286560 w 414360"/>
              <a:gd name="textAreaTop" fmla="*/ 82080 h 214560"/>
              <a:gd name="textAreaBottom" fmla="*/ 164160 h 214560"/>
            </a:gdLst>
            <a:ahLst/>
            <a:rect l="textAreaLeft" t="textAreaTop" r="textAreaRight" b="textAreaBottom"/>
            <a:pathLst>
              <a:path w="414337" h="214312">
                <a:moveTo>
                  <a:pt x="0" y="81860"/>
                </a:moveTo>
                <a:lnTo>
                  <a:pt x="158264" y="81860"/>
                </a:lnTo>
                <a:lnTo>
                  <a:pt x="207169" y="0"/>
                </a:lnTo>
                <a:lnTo>
                  <a:pt x="256073" y="81860"/>
                </a:lnTo>
                <a:lnTo>
                  <a:pt x="414337" y="81860"/>
                </a:lnTo>
                <a:lnTo>
                  <a:pt x="286298" y="132451"/>
                </a:lnTo>
                <a:lnTo>
                  <a:pt x="335206" y="214311"/>
                </a:lnTo>
                <a:lnTo>
                  <a:pt x="207169" y="163719"/>
                </a:lnTo>
                <a:lnTo>
                  <a:pt x="79131" y="214311"/>
                </a:lnTo>
                <a:lnTo>
                  <a:pt x="128039" y="13245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5-Point Star 48"/>
          <p:cNvSpPr/>
          <p:nvPr/>
        </p:nvSpPr>
        <p:spPr>
          <a:xfrm>
            <a:off x="1214280" y="357192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5-Point Star 49"/>
          <p:cNvSpPr/>
          <p:nvPr/>
        </p:nvSpPr>
        <p:spPr>
          <a:xfrm>
            <a:off x="2928960" y="328608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5-Point Star 50"/>
          <p:cNvSpPr/>
          <p:nvPr/>
        </p:nvSpPr>
        <p:spPr>
          <a:xfrm>
            <a:off x="3429000" y="3500280"/>
            <a:ext cx="414360" cy="214560"/>
          </a:xfrm>
          <a:custGeom>
            <a:avLst/>
            <a:gdLst>
              <a:gd name="textAreaLeft" fmla="*/ 127800 w 414360"/>
              <a:gd name="textAreaRight" fmla="*/ 286560 w 414360"/>
              <a:gd name="textAreaTop" fmla="*/ 82080 h 214560"/>
              <a:gd name="textAreaBottom" fmla="*/ 164160 h 214560"/>
            </a:gdLst>
            <a:ahLst/>
            <a:rect l="textAreaLeft" t="textAreaTop" r="textAreaRight" b="textAreaBottom"/>
            <a:pathLst>
              <a:path w="414338" h="214312">
                <a:moveTo>
                  <a:pt x="0" y="81860"/>
                </a:moveTo>
                <a:lnTo>
                  <a:pt x="158264" y="81860"/>
                </a:lnTo>
                <a:lnTo>
                  <a:pt x="207169" y="0"/>
                </a:lnTo>
                <a:lnTo>
                  <a:pt x="256074" y="81860"/>
                </a:lnTo>
                <a:lnTo>
                  <a:pt x="414338" y="81860"/>
                </a:lnTo>
                <a:lnTo>
                  <a:pt x="286299" y="132451"/>
                </a:lnTo>
                <a:lnTo>
                  <a:pt x="335207" y="214311"/>
                </a:lnTo>
                <a:lnTo>
                  <a:pt x="207169" y="163719"/>
                </a:lnTo>
                <a:lnTo>
                  <a:pt x="79131" y="214311"/>
                </a:lnTo>
                <a:lnTo>
                  <a:pt x="128039" y="13245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5-Point Star 51"/>
          <p:cNvSpPr/>
          <p:nvPr/>
        </p:nvSpPr>
        <p:spPr>
          <a:xfrm>
            <a:off x="4000680" y="4000680"/>
            <a:ext cx="414000" cy="214200"/>
          </a:xfrm>
          <a:custGeom>
            <a:avLst/>
            <a:gdLst>
              <a:gd name="textAreaLeft" fmla="*/ 127800 w 414000"/>
              <a:gd name="textAreaRight" fmla="*/ 286200 w 41400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8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4" y="81861"/>
                </a:lnTo>
                <a:lnTo>
                  <a:pt x="414338" y="81860"/>
                </a:lnTo>
                <a:lnTo>
                  <a:pt x="286299" y="132452"/>
                </a:lnTo>
                <a:lnTo>
                  <a:pt x="335207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5-Point Star 52"/>
          <p:cNvSpPr/>
          <p:nvPr/>
        </p:nvSpPr>
        <p:spPr>
          <a:xfrm>
            <a:off x="4000680" y="3714840"/>
            <a:ext cx="414000" cy="214200"/>
          </a:xfrm>
          <a:custGeom>
            <a:avLst/>
            <a:gdLst>
              <a:gd name="textAreaLeft" fmla="*/ 127800 w 414000"/>
              <a:gd name="textAreaRight" fmla="*/ 286200 w 41400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8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4" y="81861"/>
                </a:lnTo>
                <a:lnTo>
                  <a:pt x="414338" y="81860"/>
                </a:lnTo>
                <a:lnTo>
                  <a:pt x="286299" y="132452"/>
                </a:lnTo>
                <a:lnTo>
                  <a:pt x="335207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5-Point Star 53"/>
          <p:cNvSpPr/>
          <p:nvPr/>
        </p:nvSpPr>
        <p:spPr>
          <a:xfrm>
            <a:off x="4500720" y="400068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5-Point Star 54"/>
          <p:cNvSpPr/>
          <p:nvPr/>
        </p:nvSpPr>
        <p:spPr>
          <a:xfrm>
            <a:off x="3357720" y="400068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5-Point Star 55"/>
          <p:cNvSpPr/>
          <p:nvPr/>
        </p:nvSpPr>
        <p:spPr>
          <a:xfrm>
            <a:off x="2357280" y="392904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2">
                <a:moveTo>
                  <a:pt x="0" y="81860"/>
                </a:moveTo>
                <a:lnTo>
                  <a:pt x="158264" y="81860"/>
                </a:lnTo>
                <a:lnTo>
                  <a:pt x="207169" y="0"/>
                </a:lnTo>
                <a:lnTo>
                  <a:pt x="256073" y="81860"/>
                </a:lnTo>
                <a:lnTo>
                  <a:pt x="414337" y="81860"/>
                </a:lnTo>
                <a:lnTo>
                  <a:pt x="286298" y="132451"/>
                </a:lnTo>
                <a:lnTo>
                  <a:pt x="335206" y="214311"/>
                </a:lnTo>
                <a:lnTo>
                  <a:pt x="207169" y="163719"/>
                </a:lnTo>
                <a:lnTo>
                  <a:pt x="79131" y="214311"/>
                </a:lnTo>
                <a:lnTo>
                  <a:pt x="128039" y="13245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5-Point Star 56"/>
          <p:cNvSpPr/>
          <p:nvPr/>
        </p:nvSpPr>
        <p:spPr>
          <a:xfrm>
            <a:off x="2357280" y="357192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5-Point Star 57"/>
          <p:cNvSpPr/>
          <p:nvPr/>
        </p:nvSpPr>
        <p:spPr>
          <a:xfrm>
            <a:off x="2857680" y="3929040"/>
            <a:ext cx="414000" cy="214200"/>
          </a:xfrm>
          <a:custGeom>
            <a:avLst/>
            <a:gdLst>
              <a:gd name="textAreaLeft" fmla="*/ 127800 w 414000"/>
              <a:gd name="textAreaRight" fmla="*/ 286200 w 41400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8" h="214312">
                <a:moveTo>
                  <a:pt x="0" y="81860"/>
                </a:moveTo>
                <a:lnTo>
                  <a:pt x="158264" y="81860"/>
                </a:lnTo>
                <a:lnTo>
                  <a:pt x="207169" y="0"/>
                </a:lnTo>
                <a:lnTo>
                  <a:pt x="256074" y="81860"/>
                </a:lnTo>
                <a:lnTo>
                  <a:pt x="414338" y="81860"/>
                </a:lnTo>
                <a:lnTo>
                  <a:pt x="286299" y="132451"/>
                </a:lnTo>
                <a:lnTo>
                  <a:pt x="335207" y="214311"/>
                </a:lnTo>
                <a:lnTo>
                  <a:pt x="207169" y="163719"/>
                </a:lnTo>
                <a:lnTo>
                  <a:pt x="79131" y="214311"/>
                </a:lnTo>
                <a:lnTo>
                  <a:pt x="128039" y="13245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5-Point Star 58"/>
          <p:cNvSpPr/>
          <p:nvPr/>
        </p:nvSpPr>
        <p:spPr>
          <a:xfrm>
            <a:off x="2857680" y="3643200"/>
            <a:ext cx="414000" cy="214560"/>
          </a:xfrm>
          <a:custGeom>
            <a:avLst/>
            <a:gdLst>
              <a:gd name="textAreaLeft" fmla="*/ 127800 w 414000"/>
              <a:gd name="textAreaRight" fmla="*/ 286200 w 414000"/>
              <a:gd name="textAreaTop" fmla="*/ 82080 h 214560"/>
              <a:gd name="textAreaBottom" fmla="*/ 164160 h 214560"/>
            </a:gdLst>
            <a:ahLst/>
            <a:rect l="textAreaLeft" t="textAreaTop" r="textAreaRight" b="textAreaBottom"/>
            <a:pathLst>
              <a:path w="414338" h="214312">
                <a:moveTo>
                  <a:pt x="0" y="81860"/>
                </a:moveTo>
                <a:lnTo>
                  <a:pt x="158264" y="81860"/>
                </a:lnTo>
                <a:lnTo>
                  <a:pt x="207169" y="0"/>
                </a:lnTo>
                <a:lnTo>
                  <a:pt x="256074" y="81860"/>
                </a:lnTo>
                <a:lnTo>
                  <a:pt x="414338" y="81860"/>
                </a:lnTo>
                <a:lnTo>
                  <a:pt x="286299" y="132451"/>
                </a:lnTo>
                <a:lnTo>
                  <a:pt x="335207" y="214311"/>
                </a:lnTo>
                <a:lnTo>
                  <a:pt x="207169" y="163719"/>
                </a:lnTo>
                <a:lnTo>
                  <a:pt x="79131" y="214311"/>
                </a:lnTo>
                <a:lnTo>
                  <a:pt x="128039" y="13245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60"/>
          <p:cNvSpPr/>
          <p:nvPr/>
        </p:nvSpPr>
        <p:spPr>
          <a:xfrm>
            <a:off x="500040" y="4214880"/>
            <a:ext cx="66438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62"/>
          <p:cNvSpPr/>
          <p:nvPr/>
        </p:nvSpPr>
        <p:spPr>
          <a:xfrm>
            <a:off x="500040" y="4572000"/>
            <a:ext cx="6643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5-Point Star 63"/>
          <p:cNvSpPr/>
          <p:nvPr/>
        </p:nvSpPr>
        <p:spPr>
          <a:xfrm>
            <a:off x="1500120" y="385776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5-Point Star 64"/>
          <p:cNvSpPr/>
          <p:nvPr/>
        </p:nvSpPr>
        <p:spPr>
          <a:xfrm>
            <a:off x="1643040" y="3429000"/>
            <a:ext cx="414360" cy="214200"/>
          </a:xfrm>
          <a:custGeom>
            <a:avLst/>
            <a:gdLst>
              <a:gd name="textAreaLeft" fmla="*/ 127800 w 414360"/>
              <a:gd name="textAreaRight" fmla="*/ 286560 w 4143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414337" h="214313">
                <a:moveTo>
                  <a:pt x="0" y="81860"/>
                </a:moveTo>
                <a:lnTo>
                  <a:pt x="158264" y="81861"/>
                </a:lnTo>
                <a:lnTo>
                  <a:pt x="207169" y="0"/>
                </a:lnTo>
                <a:lnTo>
                  <a:pt x="256073" y="81861"/>
                </a:lnTo>
                <a:lnTo>
                  <a:pt x="414337" y="81860"/>
                </a:lnTo>
                <a:lnTo>
                  <a:pt x="286298" y="132452"/>
                </a:lnTo>
                <a:lnTo>
                  <a:pt x="335206" y="214312"/>
                </a:lnTo>
                <a:lnTo>
                  <a:pt x="207169" y="163719"/>
                </a:lnTo>
                <a:lnTo>
                  <a:pt x="79131" y="214312"/>
                </a:lnTo>
                <a:lnTo>
                  <a:pt x="128039" y="13245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857160" y="377280"/>
            <a:ext cx="7572600" cy="10695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قدامات راهبردي متناسب با هر مرحله از چرخه حيات محص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571680" y="1428840"/>
            <a:ext cx="832140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95280" y="1916280"/>
          <a:ext cx="8317080" cy="4541760"/>
        </p:xfrm>
        <a:graphic>
          <a:graphicData uri="http://schemas.openxmlformats.org/drawingml/2006/table">
            <a:tbl>
              <a:tblPr/>
              <a:tblGrid>
                <a:gridCol w="2147760"/>
                <a:gridCol w="1776600"/>
                <a:gridCol w="1708200"/>
                <a:gridCol w="1122120"/>
                <a:gridCol w="1562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اف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بلو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رشد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معرف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مراحل چرخه حيات محص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عقب نشين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دفا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پيشرو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نفو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راهبرد هاي اساسي قابل استفاده در هر مرحله از چرخه ح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كاهش توليد و بازاريابي در مقياس محد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كاهش هزينه توليد و بازاريابي براي جلوگيري از كاهش س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حقيق و توسعه براي نوآوري و رقابت در ارائه محصولات فع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يجاد و توسعه ارتباطات با تامين كنندگان مواد اوليه و جلب اعتماد آن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حقيق و توسعه در مورد محصولات ج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ررسي براي كاهش موجو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ررسي براي توسعه چرخه حيات محصول از طريق به هنگام سازي كيفيت محصول با معرفي مجدد آ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جستجو براي تعيين ميزان توليد اقتصا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رنامه ريزي مالي براي كنترل جريان نقدين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پيش بيني فروش و روندهاي اصلي ساز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فزايش وظايف و ماموريتهاي نيروي انساني ، كاهش هزينه هاي تبليغات ،‌رقابت از طريق كاهش هزينه توليد و كاهش قيمت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اكيد بر ارائه خدمات به مشت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طالعه رفتار رقب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فزايش عمليات توليد و بازاريا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وليد و آزمايشهاي بازاريا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رنامه ريزي براي خاتمه توليد محصول يا قطع خط تول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ررسي بخشهاي ناديده گرفته شده بازا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لاش براي افزايش وفاداري مشتري به محصول و جلب علايق و ترجيحات مشتري به مصرف محصول مورد نظ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پيش بيني ميزان رقاب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2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جمع آوري اطلاعات و آموزش نيروي انس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857160" y="6213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دوین راهبرد در سطح عملیاتی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500120" y="1428840"/>
            <a:ext cx="6858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راهبرد عملیاتی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، فعالیتهای مدیریت را در زمینه های تخصصی تولید ، بازار یابی ، منابع انسانی ، مالی ، مهندسی ، تحقیق و توسعه و نظایر آن هدایت می کند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857160" y="33552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تحلیل زنجیره ارزش اقتصادی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1714680" y="1428840"/>
            <a:ext cx="5786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428760" y="1000080"/>
            <a:ext cx="8286480" cy="69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ه منظور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شناسایی و ارزیابی منابع و تواناییهای ساز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شناسایی آن دسته از اجزا و خرده سیستمها که تولید ارزش اقتصادی می ک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ارزیابی هزینه ها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شناسایی ابزارهای گوناگون برای تسهیل اجرای راهبرد سطح موسسه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دستیابی به ”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itr"/>
              </a:rPr>
              <a:t>بازدهی بیش از متوسط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“ در صورتی ممکن می گردد که </a:t>
            </a:r>
            <a:r>
              <a:rPr b="1" lang="fa-IR" sz="1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ارزش اقتصادی ایجاد</a:t>
            </a:r>
            <a:r>
              <a:rPr b="1" lang="fa-IR" sz="1800" spc="-1" strike="noStrike" u="sng">
                <a:solidFill>
                  <a:srgbClr val="dbf5f9"/>
                </a:solidFill>
                <a:uFillTx/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شده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در سازمان بیش از </a:t>
            </a:r>
            <a:r>
              <a:rPr b="1" lang="fa-IR" sz="1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هزینه های ایجاد ارزش اقتصادی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باش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فعالیتهای مربوط به زنجیره ایجاد ارزش اقتصادی شامل دو مجموعه از فعالیتهاست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فعالیتهای اصلی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، مانند تولید محصول ، ارائه خدمت ، فروش ،توزیع ، ارائه خدمات پس از فروش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فعالیتهای پشتیبانی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، مانند فعالیتهای مربوط به استمرار فعالیتهای اصلی و حمایت از تداوم آن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2"/>
          <p:cNvSpPr/>
          <p:nvPr/>
        </p:nvSpPr>
        <p:spPr>
          <a:xfrm>
            <a:off x="285840" y="453600"/>
            <a:ext cx="84294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فراگرد مدیریت استراتژیک ( مراحل تدوین و اجرای راهبر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2484360" y="1540440"/>
            <a:ext cx="485784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امين زير ساختهاي سازماني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2484360" y="2043720"/>
            <a:ext cx="485784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مديريت منابع انساني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2484360" y="2548440"/>
            <a:ext cx="485784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وسعه فناوري موجود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2484360" y="3051720"/>
            <a:ext cx="485784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برنامه ريزي تهيه مواد اوليه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7740720" y="3766680"/>
            <a:ext cx="901800" cy="2039760"/>
          </a:xfrm>
          <a:prstGeom prst="rect">
            <a:avLst/>
          </a:prstGeom>
          <a:solidFill>
            <a:srgbClr val="cbe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فعاليتهاي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صلي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667640" y="1195560"/>
            <a:ext cx="903240" cy="2428920"/>
          </a:xfrm>
          <a:prstGeom prst="rect">
            <a:avLst/>
          </a:prstGeom>
          <a:solidFill>
            <a:srgbClr val="cbe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فعاليتهاي پشتيباني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2195640" y="4156560"/>
            <a:ext cx="1550880" cy="12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رائه خدمات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پس از فروش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2"/>
          <p:cNvSpPr/>
          <p:nvPr/>
        </p:nvSpPr>
        <p:spPr>
          <a:xfrm>
            <a:off x="6588000" y="4174920"/>
            <a:ext cx="1046160" cy="12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دارك ورودي ها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5651640" y="4229280"/>
            <a:ext cx="903240" cy="11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عملي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4716360" y="4156560"/>
            <a:ext cx="901800" cy="12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دارك خروجيها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2"/>
          <p:cNvSpPr/>
          <p:nvPr/>
        </p:nvSpPr>
        <p:spPr>
          <a:xfrm>
            <a:off x="3780000" y="4156560"/>
            <a:ext cx="903240" cy="12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بازاريابي و فرو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eft-Up Arrow 25"/>
          <p:cNvSpPr/>
          <p:nvPr/>
        </p:nvSpPr>
        <p:spPr>
          <a:xfrm rot="7551600">
            <a:off x="151560" y="2416680"/>
            <a:ext cx="3235320" cy="2176560"/>
          </a:xfrm>
          <a:custGeom>
            <a:avLst/>
            <a:gdLst>
              <a:gd name="textAreaLeft" fmla="*/ 0 w 3235320"/>
              <a:gd name="textAreaRight" fmla="*/ 2877480 w 3235320"/>
              <a:gd name="textAreaTop" fmla="*/ 1546560 h 2176560"/>
              <a:gd name="textAreaBottom" fmla="*/ 2090880 h 2176560"/>
            </a:gdLst>
            <a:ahLst/>
            <a:rect l="textAreaLeft" t="textAreaTop" r="textAreaRight" b="textAreaBottom"/>
            <a:pathLst>
              <a:path w="3235325" h="2176462">
                <a:moveTo>
                  <a:pt x="0" y="1818521"/>
                </a:moveTo>
                <a:lnTo>
                  <a:pt x="0" y="1460580"/>
                </a:lnTo>
                <a:lnTo>
                  <a:pt x="0" y="1546463"/>
                </a:lnTo>
                <a:lnTo>
                  <a:pt x="2605326" y="1546463"/>
                </a:lnTo>
                <a:lnTo>
                  <a:pt x="2605326" y="0"/>
                </a:lnTo>
                <a:lnTo>
                  <a:pt x="2519443" y="0"/>
                </a:lnTo>
                <a:lnTo>
                  <a:pt x="2877384" y="0"/>
                </a:lnTo>
                <a:lnTo>
                  <a:pt x="3235325" y="0"/>
                </a:lnTo>
                <a:lnTo>
                  <a:pt x="3149442" y="0"/>
                </a:lnTo>
                <a:lnTo>
                  <a:pt x="3149442" y="2090579"/>
                </a:lnTo>
                <a:lnTo>
                  <a:pt x="0" y="2090579"/>
                </a:lnTo>
                <a:lnTo>
                  <a:pt x="0" y="2176462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324000" y="2980440"/>
            <a:ext cx="147780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سود نه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324000" y="4222440"/>
            <a:ext cx="147780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سود نه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eft Arrow 29"/>
          <p:cNvSpPr/>
          <p:nvPr/>
        </p:nvSpPr>
        <p:spPr>
          <a:xfrm>
            <a:off x="6372360" y="4724280"/>
            <a:ext cx="360360" cy="14472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eft Arrow 30"/>
          <p:cNvSpPr/>
          <p:nvPr/>
        </p:nvSpPr>
        <p:spPr>
          <a:xfrm>
            <a:off x="5435640" y="4724280"/>
            <a:ext cx="288720" cy="144720"/>
          </a:xfrm>
          <a:prstGeom prst="leftArrow">
            <a:avLst>
              <a:gd name="adj1" fmla="val 50000"/>
              <a:gd name="adj2" fmla="val 498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eft Arrow 31"/>
          <p:cNvSpPr/>
          <p:nvPr/>
        </p:nvSpPr>
        <p:spPr>
          <a:xfrm>
            <a:off x="4427640" y="4724280"/>
            <a:ext cx="360360" cy="14472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eft Arrow 32"/>
          <p:cNvSpPr/>
          <p:nvPr/>
        </p:nvSpPr>
        <p:spPr>
          <a:xfrm>
            <a:off x="3564000" y="4724280"/>
            <a:ext cx="360360" cy="14472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857160" y="115200"/>
            <a:ext cx="7572600" cy="1166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بررسي قابليت ايجاد ارزش اقتصادي از طريق فعاليتهاي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عمده سازم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714680" y="1428840"/>
            <a:ext cx="5786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428760" y="1000080"/>
            <a:ext cx="82864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هدف اصلی از تحلیل زنجیره تولید ارزش در سازمان این است که با صرف هزینه کمتر ارزش بیشتری ایجاد شود و نوعی ارزش افزوده ایجاد شو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684360" y="2421000"/>
          <a:ext cx="8137440" cy="3510000"/>
        </p:xfrm>
        <a:graphic>
          <a:graphicData uri="http://schemas.openxmlformats.org/drawingml/2006/table">
            <a:tbl>
              <a:tblPr/>
              <a:tblGrid>
                <a:gridCol w="5694120"/>
                <a:gridCol w="1595520"/>
                <a:gridCol w="84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مونه فعاليت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وع فعاليت عمد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ردي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امين منابع و مواد اوليه ،‌مديريت مواد ،‌انبار داري و كنترل موجودي براي ”دريافت ، ذخيره سازي و توزيع ” ورودي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دارك ورودي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فعاليتهاي ضروري براي تبديل وروديها به محصولات نهايي ،‌توليد ،‌بسته بندي ،‌تكميل و تعمير تجهيز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عمليات تبد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جمع آوري ، ذخيره سازي و توزيع فيزيكي محصول نهايي ، انبار داري محصولات ساخته شده ،‌ كنترل موجودي و رسيدگي به سفارش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ديريت و كنترل خروجي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جلب نظر مشتري و وفاداري او به محصولات ، از طريق تبليغات مناسب ، انتخاب مسيرهاي مطلوب براي توزيع ، بازاريابي موثر و انتخاب نيروهاي ماهر براي فروش و حمايت و پرورش آن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بازار يابي و فرو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لاش براي ارتقائ ارزش يا حفظ ارزش يك محصول فروخته شده از طريق نصب ، تعمير، آموزش نحوه استفاده ، تنظيم و ارتقائ كيفيت و بهبود قابليت محصو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خدمات پس از فرو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857160" y="115200"/>
            <a:ext cx="7572600" cy="1166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بررسي قابليت ايجاد ارزش اقتصادي از طريق فعاليتهاي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پشتيباني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714680" y="1428840"/>
            <a:ext cx="5786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428760" y="1000080"/>
            <a:ext cx="828648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84360" y="2421000"/>
          <a:ext cx="8137440" cy="3419280"/>
        </p:xfrm>
        <a:graphic>
          <a:graphicData uri="http://schemas.openxmlformats.org/drawingml/2006/table">
            <a:tbl>
              <a:tblPr/>
              <a:tblGrid>
                <a:gridCol w="5694120"/>
                <a:gridCol w="1595520"/>
                <a:gridCol w="84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مونه فعاليت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وع فعاليت عمد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ردي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خريد وروديهاي مورد نياز براي توليد محصولات سازمان شامل اقلام مصرفي ( نظير مواد اوليه و لوازم كار) و اقلام غير مصرفي ( نظير داراييهاي ثابت ، ماشين آلات ، تجهيزات آزمايشگاهي ، تجهيزات اداري و ساختمان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هيه مواد اولي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لاش براي بهبود فراگرد ساخت و توليد محصول از طريق توسعه تجهيزات ، پردازش ، تجديد طراحي ، انجام تحقيقات بنيادي و اصلاح رويه هاي خدمت رسان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وسعه فناور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نجام فعاليتهاي كارمند يابي نظير استحدام ، آموزش ، پرورش و جبران خدمات نيروهاي انساني سازم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ديريت منابع انسا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صلاح رويه ها ي مديريت عمومي از طريق ” برنامه ريزي ، كنترل امور مالي ، حسابداري امور حقوقي و ارتباطات دولتي” و شناسايي ” فرصتها و تهديدهاي محيطي و منابع و تواناييها ي داخلي ” و تشويق شايستگيها و توسعه قابليتها و ظرفيتهاي كار در سازم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صلاح رويه ها و سيستمهاي مديريت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"/>
          <p:cNvSpPr/>
          <p:nvPr/>
        </p:nvSpPr>
        <p:spPr>
          <a:xfrm>
            <a:off x="857160" y="33552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جرای راهب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1714680" y="1428840"/>
            <a:ext cx="5786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28760" y="1000080"/>
            <a:ext cx="828648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پس از تدوین راهبرد باید برای اجرای ” صحیح ” آن اقدام کر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بهترین راهبردها نیز در صورتی که بطور صحیح اجرایی نشوند فاقد ارزش عملی خواهند ب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اجرای اثر بخش هر راهبرد مستلزم تعهد کامل همه مدیران به هدایت واحدهای سازمانی تحت امر خود برای حمایت از راهبرد مذکور است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*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در این راستا باید تمامی سیستمهای مدیریتی بسیج شده همه منابع سازمان را در این مسیر به کار گیر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857160" y="4834440"/>
            <a:ext cx="7572600" cy="20451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بنا بر این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جرای راهبرد با کلیه فراگردهای مدیریتی یعنی برنامه ریزی ، سازماندهی ، هدایت ، بسیج منابع ، کنترل عملکردها و برنامه ها سروکار دا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857160" y="33552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دامهای برنامه ریزی راهبردی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714680" y="1428840"/>
            <a:ext cx="5786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28760" y="1000080"/>
            <a:ext cx="828648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دو دسته عمده از موانعی که در مسیر برنامه ریزی راهبردی وجود دار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1)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نارساییهای جوهری : که در نتیجه عدم توجه کافی به عوامل عمده برنامه ریزی راهبردی نظیر تحلیل ” رسالت و مقصد سازمان“ ، ” ارزشهای محوری و فرهنگ سازمان ” ، ” قوتها و ضعفهای سازمانی ” و ” فرصتها و تهدید های محیطی ” بوجود می آین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2)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نارساییهای فراگردی : بر مدیریت ضعیف مراحل گوناگون برنامه ریزی راهبردی دلالت دارد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857160" y="4909680"/>
            <a:ext cx="7572600" cy="10695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مدیران برای کاهش مخاطره های ناشی از نارساییهای مذکور باید کار را با یک ” راهبرد خوب ” شروع کنن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2"/>
          <p:cNvSpPr/>
          <p:nvPr/>
        </p:nvSpPr>
        <p:spPr>
          <a:xfrm>
            <a:off x="285840" y="53316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5796000" y="2044080"/>
            <a:ext cx="2892240" cy="12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راهبرد سطح سازمان ماد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7e9632"/>
                </a:solidFill>
                <a:latin typeface="Arial"/>
                <a:cs typeface="Traffic"/>
              </a:rPr>
              <a:t>جهت هايي كه كل سازمان بايد تعقيب كن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5796000" y="3266640"/>
            <a:ext cx="2892240" cy="155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راهبرد سطح موسسه / فعاليتهاي عموم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7e9632"/>
                </a:solidFill>
                <a:latin typeface="Arial"/>
                <a:cs typeface="Traffic"/>
              </a:rPr>
              <a:t>شيوه هاي عمده رقابت در هر يك از بخشها و فعاليتهاي اصلي سازمان</a:t>
            </a:r>
            <a:r>
              <a:rPr b="1" lang="fa-IR" sz="1200" spc="-1" strike="noStrike">
                <a:solidFill>
                  <a:srgbClr val="7e9632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796000" y="4778640"/>
            <a:ext cx="2892240" cy="155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راهبرد سطح عملياتي/ وظيفه ا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7e9632"/>
                </a:solidFill>
                <a:latin typeface="Arial"/>
                <a:cs typeface="Traffic"/>
              </a:rPr>
              <a:t>نحوه فعاليت در هر ناحيه وظيفه اي سازمان در حمايت از راهبردهاي سطح موسسه</a:t>
            </a:r>
            <a:r>
              <a:rPr b="1" lang="fa-IR" sz="1200" spc="-1" strike="noStrike">
                <a:solidFill>
                  <a:srgbClr val="7e9632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eft Arrow 7"/>
          <p:cNvSpPr/>
          <p:nvPr/>
        </p:nvSpPr>
        <p:spPr>
          <a:xfrm>
            <a:off x="5076720" y="2492280"/>
            <a:ext cx="647640" cy="3603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eft Arrow 8"/>
          <p:cNvSpPr/>
          <p:nvPr/>
        </p:nvSpPr>
        <p:spPr>
          <a:xfrm>
            <a:off x="5076720" y="3860640"/>
            <a:ext cx="647640" cy="3603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eft Arrow 9"/>
          <p:cNvSpPr/>
          <p:nvPr/>
        </p:nvSpPr>
        <p:spPr>
          <a:xfrm>
            <a:off x="5076720" y="5373720"/>
            <a:ext cx="647640" cy="35892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2000160" y="2061360"/>
            <a:ext cx="114300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سازم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857240" y="3574080"/>
            <a:ext cx="110664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بخش 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2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رایانه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42960" y="3574080"/>
            <a:ext cx="110664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بخش 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3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چاپگ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786120" y="5056200"/>
            <a:ext cx="110664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تحقیق و توسع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2571840" y="5056200"/>
            <a:ext cx="1106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منابع انسانی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142920" y="5202360"/>
            <a:ext cx="110628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بازاریابی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1357200" y="5056200"/>
            <a:ext cx="110664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ساخت و تولید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71880" y="3574080"/>
            <a:ext cx="1106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بخش  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1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نرم افزا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6"/>
          <p:cNvSpPr/>
          <p:nvPr/>
        </p:nvSpPr>
        <p:spPr>
          <a:xfrm flipH="1">
            <a:off x="2569680" y="2449440"/>
            <a:ext cx="1800" cy="1123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30"/>
          <p:cNvSpPr/>
          <p:nvPr/>
        </p:nvSpPr>
        <p:spPr>
          <a:xfrm flipH="1" flipV="1">
            <a:off x="1285560" y="3214800"/>
            <a:ext cx="24289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34"/>
          <p:cNvSpPr/>
          <p:nvPr/>
        </p:nvSpPr>
        <p:spPr>
          <a:xfrm flipH="1">
            <a:off x="3712680" y="3214800"/>
            <a:ext cx="180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36"/>
          <p:cNvSpPr/>
          <p:nvPr/>
        </p:nvSpPr>
        <p:spPr>
          <a:xfrm flipH="1">
            <a:off x="1283760" y="3214800"/>
            <a:ext cx="180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8"/>
          <p:cNvSpPr/>
          <p:nvPr/>
        </p:nvSpPr>
        <p:spPr>
          <a:xfrm flipH="1" flipV="1">
            <a:off x="713880" y="4928760"/>
            <a:ext cx="364356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40"/>
          <p:cNvSpPr/>
          <p:nvPr/>
        </p:nvSpPr>
        <p:spPr>
          <a:xfrm>
            <a:off x="2409120" y="4254480"/>
            <a:ext cx="19080" cy="746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42"/>
          <p:cNvSpPr/>
          <p:nvPr/>
        </p:nvSpPr>
        <p:spPr>
          <a:xfrm flipH="1">
            <a:off x="4355640" y="4930920"/>
            <a:ext cx="1800" cy="214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4"/>
          <p:cNvSpPr/>
          <p:nvPr/>
        </p:nvSpPr>
        <p:spPr>
          <a:xfrm flipH="1">
            <a:off x="3069720" y="4930920"/>
            <a:ext cx="1800" cy="214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46"/>
          <p:cNvSpPr/>
          <p:nvPr/>
        </p:nvSpPr>
        <p:spPr>
          <a:xfrm flipH="1">
            <a:off x="1855800" y="4930920"/>
            <a:ext cx="1440" cy="214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48"/>
          <p:cNvSpPr/>
          <p:nvPr/>
        </p:nvSpPr>
        <p:spPr>
          <a:xfrm flipH="1">
            <a:off x="712800" y="4930920"/>
            <a:ext cx="1440" cy="214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143000" y="764280"/>
            <a:ext cx="757224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سطوح سه گانه راهبرد در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642960" y="5349240"/>
            <a:ext cx="7489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826920" y="499320"/>
            <a:ext cx="7572600" cy="10695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فهرستی از سوالهای قابل استفاده برای کنترل و ارزیابی یک راهب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571680" y="1428840"/>
            <a:ext cx="79293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714680" y="1428840"/>
            <a:ext cx="5786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428760" y="1413000"/>
            <a:ext cx="828648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ct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 algn="r">
              <a:lnSpc>
                <a:spcPct val="160000"/>
              </a:lnSpc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332000" y="1989000"/>
          <a:ext cx="6697440" cy="2967120"/>
        </p:xfrm>
        <a:graphic>
          <a:graphicData uri="http://schemas.openxmlformats.org/drawingml/2006/table">
            <a:tbl>
              <a:tblPr/>
              <a:tblGrid>
                <a:gridCol w="5994360"/>
                <a:gridCol w="703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شرح موارد كنتر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ردي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آيا اين راهبرد با رسالت و مقصد سازمان سازگاري دارد 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آيا با در نظر گرفتن قوتها و ضعفهاي سازمان ، اين راهبرد عملي است 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آيا اين راهبرد با توجه به فرصتها وتهديدها تدوين شده است 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آيا راهبرد انتخابي ، يك مزيت رقابتي پايدار براي سازمان ايجاد مي كند 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آيا ميزان مخاطره ناشي از اجراي راهبرد مورد نظر ، معقول است 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آيا در تدوين اين راهبرد افق زماني مناسب در نظر گرفته شده است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آيا اين راهبرد از انعطاف كافي برخوردار است 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928800" y="6111000"/>
            <a:ext cx="6912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tr"/>
              </a:rPr>
              <a:t>پایان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Titr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D:\tabiaat - 695\DSC04026.JPG"/>
          <p:cNvPicPr/>
          <p:nvPr/>
        </p:nvPicPr>
        <p:blipFill>
          <a:blip r:embed="rId1"/>
          <a:stretch/>
        </p:blipFill>
        <p:spPr>
          <a:xfrm>
            <a:off x="785880" y="1071720"/>
            <a:ext cx="7715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2"/>
          <p:cNvSpPr/>
          <p:nvPr/>
        </p:nvSpPr>
        <p:spPr>
          <a:xfrm>
            <a:off x="1143000" y="491400"/>
            <a:ext cx="69120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dbf5f9"/>
                </a:solidFill>
                <a:uFillTx/>
                <a:latin typeface="Arial"/>
                <a:cs typeface="Traffic"/>
              </a:rPr>
              <a:t>فراگرد برنامه ریزی راهبردی </a:t>
            </a:r>
            <a:r>
              <a:rPr b="1" lang="fa-IR" sz="2800" spc="-1" strike="noStrike">
                <a:solidFill>
                  <a:srgbClr val="dbf5f9"/>
                </a:solidFill>
                <a:latin typeface="Arial"/>
                <a:cs typeface="Traffic"/>
              </a:rPr>
              <a:t>،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مشتمل است بر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هدفهای کلان سازمان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انتخاب گزینه ها و روشهای مناسب برای تحقق آ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*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تخصیص منابع لازم برای دستیابی به آن اهداف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857160" y="4379760"/>
            <a:ext cx="7572600" cy="15573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هدف از برنامه ریزی استراتژیک ، کمک به سازمانها برای کسب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”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مزیت رقابتی ” است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2"/>
          <p:cNvSpPr/>
          <p:nvPr/>
        </p:nvSpPr>
        <p:spPr>
          <a:xfrm>
            <a:off x="285840" y="53316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928960" y="1501560"/>
            <a:ext cx="485784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دوین رسالت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2928960" y="2287080"/>
            <a:ext cx="485784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عریف هدفهای خرد و ک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928960" y="2735640"/>
            <a:ext cx="4857840" cy="8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رزیابی منابع سازمانی و فرصتها و مخاطرات محیط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2928960" y="3644640"/>
            <a:ext cx="485784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دوین استراتژ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2857680" y="4358880"/>
            <a:ext cx="492912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جرای استراتژی از طریق برنامه های عملیات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857680" y="5073120"/>
            <a:ext cx="4929120" cy="4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رزیابی و انتخاب استراتژیهای بدیل یا اصلاحی</a:t>
            </a:r>
            <a:r>
              <a:rPr b="1" lang="fa-IR" sz="1200" spc="-1" strike="noStrike">
                <a:solidFill>
                  <a:srgbClr val="000000"/>
                </a:solidFill>
                <a:latin typeface="Arial"/>
                <a:cs typeface="Traffic"/>
              </a:rPr>
              <a:t>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37"/>
          <p:cNvSpPr/>
          <p:nvPr/>
        </p:nvSpPr>
        <p:spPr>
          <a:xfrm flipH="1">
            <a:off x="1641600" y="1643040"/>
            <a:ext cx="1440" cy="37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45"/>
          <p:cNvCxnSpPr/>
          <p:nvPr/>
        </p:nvCxnSpPr>
        <p:spPr>
          <a:xfrm>
            <a:off x="1643040" y="2428920"/>
            <a:ext cx="1215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traight Arrow Connector 49"/>
          <p:cNvCxnSpPr/>
          <p:nvPr/>
        </p:nvCxnSpPr>
        <p:spPr>
          <a:xfrm>
            <a:off x="1643040" y="3142800"/>
            <a:ext cx="1215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Straight Arrow Connector 51"/>
          <p:cNvCxnSpPr/>
          <p:nvPr/>
        </p:nvCxnSpPr>
        <p:spPr>
          <a:xfrm>
            <a:off x="1643040" y="3857760"/>
            <a:ext cx="1215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Straight Arrow Connector 53"/>
          <p:cNvCxnSpPr/>
          <p:nvPr/>
        </p:nvCxnSpPr>
        <p:spPr>
          <a:xfrm>
            <a:off x="1642680" y="457200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57"/>
          <p:cNvCxnSpPr/>
          <p:nvPr/>
        </p:nvCxnSpPr>
        <p:spPr>
          <a:xfrm>
            <a:off x="1643040" y="164304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Straight Arrow Connector 59"/>
          <p:cNvCxnSpPr>
            <a:stCxn id="234" idx="2"/>
            <a:endCxn id="235" idx="0"/>
          </p:cNvCxnSpPr>
          <p:nvPr/>
        </p:nvCxnSpPr>
        <p:spPr>
          <a:xfrm flipH="1">
            <a:off x="5357520" y="1987200"/>
            <a:ext cx="216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Straight Arrow Connector 62"/>
          <p:cNvCxnSpPr>
            <a:stCxn id="235" idx="2"/>
            <a:endCxn id="236" idx="0"/>
          </p:cNvCxnSpPr>
          <p:nvPr/>
        </p:nvCxnSpPr>
        <p:spPr>
          <a:xfrm flipH="1">
            <a:off x="5357520" y="2773440"/>
            <a:ext cx="216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Straight Arrow Connector 65"/>
          <p:cNvCxnSpPr>
            <a:stCxn id="236" idx="2"/>
            <a:endCxn id="237" idx="0"/>
          </p:cNvCxnSpPr>
          <p:nvPr/>
        </p:nvCxnSpPr>
        <p:spPr>
          <a:xfrm flipH="1">
            <a:off x="5357520" y="341604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76"/>
          <p:cNvCxnSpPr>
            <a:stCxn id="238" idx="2"/>
            <a:endCxn id="239" idx="0"/>
          </p:cNvCxnSpPr>
          <p:nvPr/>
        </p:nvCxnSpPr>
        <p:spPr>
          <a:xfrm flipH="1">
            <a:off x="5320440" y="4844520"/>
            <a:ext cx="2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Straight Connector 87"/>
          <p:cNvSpPr/>
          <p:nvPr/>
        </p:nvSpPr>
        <p:spPr>
          <a:xfrm>
            <a:off x="1643040" y="5357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928800" y="692640"/>
            <a:ext cx="757224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فراگرد برنامه ریزی راهبردی ( گامه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25"/>
          <p:cNvCxnSpPr/>
          <p:nvPr/>
        </p:nvCxnSpPr>
        <p:spPr>
          <a:xfrm flipH="1">
            <a:off x="5285520" y="4071600"/>
            <a:ext cx="2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2"/>
          <p:cNvSpPr/>
          <p:nvPr/>
        </p:nvSpPr>
        <p:spPr>
          <a:xfrm>
            <a:off x="285840" y="533160"/>
            <a:ext cx="8429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1643040" y="2003400"/>
            <a:ext cx="4857840" cy="8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شناسایی رسالت ، هدفهای کلان و راهبردهای کنونی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85920" y="2576880"/>
            <a:ext cx="5429160" cy="12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حلیل مقصد و هدفهای کلان سازمان ، ارزشها و فرهنگ سازمان ، قوتها و ضعفهای داخلی و فرصتها و تهدید های محیطی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Traff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1643040" y="3576960"/>
            <a:ext cx="4857840" cy="12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تجدید نظر در رسالت و هدفهای کلان سازمان و انتخاب راهبردهای جدید در سطح سازمان مادر، موسسه و عملی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857160" y="4736160"/>
            <a:ext cx="6215040" cy="8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جرای برنامه های راهبردی ، بسیج منابع و مدیریت اصلاح سیستمها و روش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1500120" y="5574960"/>
            <a:ext cx="4929120" cy="8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Traffic"/>
              </a:rPr>
              <a:t>ارزیابی نتایج و تجدید نظر در فراگرد مدیریت راهبرد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ight Brace 40"/>
          <p:cNvSpPr/>
          <p:nvPr/>
        </p:nvSpPr>
        <p:spPr>
          <a:xfrm>
            <a:off x="7000920" y="2286000"/>
            <a:ext cx="571320" cy="207180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2071800"/>
              <a:gd name="textAreaBottom" fmla="*/ 20570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9"/>
                  <a:pt x="10800" y="497"/>
                </a:cubicBezTo>
                <a:lnTo>
                  <a:pt x="10800" y="10303"/>
                </a:lnTo>
                <a:cubicBezTo>
                  <a:pt x="10800" y="10552"/>
                  <a:pt x="16200" y="10800"/>
                  <a:pt x="21600" y="10800"/>
                </a:cubicBezTo>
                <a:cubicBezTo>
                  <a:pt x="16200" y="10800"/>
                  <a:pt x="10800" y="11049"/>
                  <a:pt x="10800" y="11297"/>
                </a:cubicBezTo>
                <a:lnTo>
                  <a:pt x="10800" y="21103"/>
                </a:lnTo>
                <a:cubicBezTo>
                  <a:pt x="10800" y="2135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ight Brace 41"/>
          <p:cNvSpPr/>
          <p:nvPr/>
        </p:nvSpPr>
        <p:spPr>
          <a:xfrm>
            <a:off x="7072200" y="4714920"/>
            <a:ext cx="500040" cy="14288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840"/>
              <a:gd name="textAreaBottom" fmla="*/ 14158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43"/>
          <p:cNvSpPr/>
          <p:nvPr/>
        </p:nvSpPr>
        <p:spPr>
          <a:xfrm flipH="1">
            <a:off x="712800" y="1643040"/>
            <a:ext cx="1440" cy="3573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48"/>
          <p:cNvCxnSpPr/>
          <p:nvPr/>
        </p:nvCxnSpPr>
        <p:spPr>
          <a:xfrm>
            <a:off x="713880" y="1643040"/>
            <a:ext cx="7153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3" name="Rectangle 12"/>
          <p:cNvSpPr/>
          <p:nvPr/>
        </p:nvSpPr>
        <p:spPr>
          <a:xfrm>
            <a:off x="7572240" y="5045400"/>
            <a:ext cx="1214640" cy="77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cs typeface="Traffic"/>
              </a:rPr>
              <a:t>اجرای راهبر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7715160" y="2902320"/>
            <a:ext cx="1143000" cy="77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cs typeface="Traffic"/>
              </a:rPr>
              <a:t>تنظیم راهبر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9"/>
          <p:cNvSpPr/>
          <p:nvPr/>
        </p:nvSpPr>
        <p:spPr>
          <a:xfrm>
            <a:off x="714240" y="1643040"/>
            <a:ext cx="0" cy="4714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81"/>
          <p:cNvSpPr/>
          <p:nvPr/>
        </p:nvSpPr>
        <p:spPr>
          <a:xfrm>
            <a:off x="714240" y="6286680"/>
            <a:ext cx="7858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1000080" y="188280"/>
            <a:ext cx="7572600" cy="6789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فراگرد مدیریت استراتژیک ( مراحل تدوین و اجرای راهبر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785880" y="128592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هدایت برنامه های راهبردی و حصول اطمینان از اجرای خوب آنها برای کسب اطمینان از موفقیت سازمان در بلند مدت دلالت دار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2"/>
          <p:cNvSpPr/>
          <p:nvPr/>
        </p:nvSpPr>
        <p:spPr>
          <a:xfrm>
            <a:off x="714240" y="600480"/>
            <a:ext cx="785844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راهبردهای سازمان باید بر مبنای شناخت کافی از موارد ذیل تدوین و اجرا شو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1)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رسالت و مقصود سازمان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2)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تدوین هدفهای خرد و کل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3)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ارزشهای محوری و فرهنگ 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4)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نقاط قوت و ضعف داخلی 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5) 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فرصتها و تهدید های محیط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2"/>
          <p:cNvSpPr/>
          <p:nvPr/>
        </p:nvSpPr>
        <p:spPr>
          <a:xfrm>
            <a:off x="285840" y="-360"/>
            <a:ext cx="857232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bf5f9"/>
                </a:solidFill>
                <a:latin typeface="Arial"/>
                <a:cs typeface="Traffic"/>
              </a:rPr>
              <a:t>رسالت هر سازمان</a:t>
            </a:r>
            <a:r>
              <a:rPr b="1" lang="fa-IR" sz="24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                     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-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در واقع علت اصلی تشکیل و دلیل تاسیس آن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                    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-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مقصد اصلی و منحصربفردی است که نوع ، قلمرو عملیات ،                                                  محصول و بازار سازمان را  از دیگر سازمانها متمایز </a:t>
            </a:r>
            <a:r>
              <a:rPr b="1" lang="fa-IR" sz="1800" spc="-1" strike="noStrike">
                <a:solidFill>
                  <a:srgbClr val="dbf5f9"/>
                </a:solidFill>
                <a:latin typeface="Arial"/>
                <a:cs typeface="Traffic"/>
              </a:rPr>
              <a:t>می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ساز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رسالت نامه هر سازمان بیان کننده سه موضوع  مهم است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1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سازمان در چه زمینه ای فعالیت خواهد ک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2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ارباب رجوع یا مشتریانش چه کسانی خواهند بو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3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چه نوع خدمت یا محصولی را  ارائه خواهد د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785880" y="5094360"/>
            <a:ext cx="7572240" cy="15573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مهمترین شاخص برای ارزیابی ” رسالت نامه ” ،آن است که بررسی شود مطالب آن تا چه حد منافع ذینفعان را در بر دارد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1000080" y="407160"/>
            <a:ext cx="7572600" cy="581760"/>
          </a:xfrm>
          <a:prstGeom prst="rect">
            <a:avLst/>
          </a:prstGeom>
          <a:solidFill>
            <a:srgbClr val="a5c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bf5f9"/>
                </a:solidFill>
                <a:latin typeface="Arial"/>
                <a:ea typeface="Traffic"/>
              </a:rPr>
              <a:t>1) </a:t>
            </a:r>
            <a:r>
              <a:rPr b="1" lang="fa-IR" sz="2000" spc="-1" strike="noStrike">
                <a:solidFill>
                  <a:srgbClr val="dbf5f9"/>
                </a:solidFill>
                <a:latin typeface="Arial"/>
                <a:cs typeface="Traffic"/>
              </a:rPr>
              <a:t>شناسایی رسالت و مقصود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8:31:54Z</dcterms:created>
  <dc:creator>413k02</dc:creator>
  <dc:description/>
  <dc:language>en-US</dc:language>
  <cp:lastModifiedBy>444</cp:lastModifiedBy>
  <dcterms:modified xsi:type="dcterms:W3CDTF">2014-12-15T05:16:08Z</dcterms:modified>
  <cp:revision>376</cp:revision>
  <dc:subject/>
  <dc:title>Slide 1</dc:title>
</cp:coreProperties>
</file>